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9269413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270000" cy="698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01796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5252760" y="0"/>
            <a:ext cx="401796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2889000" y="523800"/>
            <a:ext cx="3492360" cy="261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525276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3A0BFC1-75DC-4314-81A0-A243A97BE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of these are not even implemented in re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not easy to implement multi-level power leve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2.11 proposes 8 levels: only one is implemented (to our knowledg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tooth: proposes 3 levels only one is implem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ing to modify everything is utopic defacto-standards/architectures (TCP/IP) are very difficult to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structure networ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: Reduce infrastructure cos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Ad Hoc has limited application, pure infrastructure can be expensive (specially over high frequency bands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is reasonable: RF transceiver can cover areas from few meters to 20 miles (at different data rates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al: respond rapidly to network variations (topology, link quality, …) and minimize resource consumption. This is the general framework for all wireless networks. How does clustering answer this ne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usters try to impose a control structure on the network of mobile no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ta come from the Pmax/Pmin or SN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remember the gain we had using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ops. In a two dimensional space if we want to have h hops =&gt; N = h^2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s: [Baker 1981, Ephremides 1987, Gerla 1995, Lin 1997, Raj?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s do not use connectivity flexi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-interface nodes may allow to have two cluster of nodes operating over different frequencies (reducing collisions) an multi-interface node operating as a gate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s at all lay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layer needs info on status of the channel to nodes to decide on one or multiple hop trans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ding is good but only if you use it when necessary. Otherwise you have useless redunda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r on we will see how we can adapt by implicitly estimating the chan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4130640"/>
            <a:ext cx="8305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198108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413064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413064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267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1981080"/>
            <a:ext cx="267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1981080"/>
            <a:ext cx="267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4130640"/>
            <a:ext cx="267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4130640"/>
            <a:ext cx="267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4130640"/>
            <a:ext cx="267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05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1981080"/>
            <a:ext cx="405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1981080"/>
            <a:ext cx="405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413064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05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198108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413064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198108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4130640"/>
            <a:ext cx="8305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9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3525-W02 – Wireless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77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 Hoc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EE3C0-9433-4B74-879B-2B266E5F09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447920"/>
            <a:ext cx="815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noubir@ccs.neu.edu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1980720"/>
            <a:ext cx="80773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ireless Multihop Ad Hoc Network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evara Noub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noubir@ccs.neu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5029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blems of Multi-Hop Rou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ting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maintain up-to-date information on the network topology? Routing messages over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determine number of h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estimate buffers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er de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sk of congestion on n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ac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ving sub-problems independen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roving TCP to be wireless a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uting in multi-hop wireless ad hoc networks: DSDV, DSR, AODV, TORA, FS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 power or resource aware. Single hop whenever possible (no interaction with the MAC of higher laye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agmenting packets according to the channel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apting coding/modulation scheme to the chan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apting transmission power to dest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is a need for a global approac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bine: transmission power, coding, and frag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 rout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 medium access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133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gineering perspective: what minimal subset of functionalities do we need to implement to achieve near optimal performanc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minimal set of coding/modulation schemes? What power levels do we nee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outing Protocols: DSD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632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tination-Sequenced Distance Vect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node maintains a routing table listing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next-hop, metric, SeqNum&gt;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avored route is changed if a new route with higher SeqNum is received, or if the new route has equal SeqNum and lower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s send advertisement with evenly increased Seq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node detects a broken link he sends an advertisement wit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ric and SeqNum=PrevSeqNum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mping fluctu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uctuations are due to out-of-order arrival of route advertis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osed solution: maintain a settling time estimation for ro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ute with a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tric are advertised without de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ynamic Source Routing 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lt;draft-ietf-manet-dsr-05.txt:2001&gt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lit routing into discovering a path and maintaining a 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over a 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if a path for sending packets to a certain destination is needed and no path is currently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ing a 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while the path is in use, one has to make sure that it can be used continuous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periodic updates need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ynamic Source Routing 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h disco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adcast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oute Reque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cket with destination address and unique 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station receives a broadcast pa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the station is the receiver (i.e., has the correct destination address) then return the packet to the sender (path was collected in the packet):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oute Rep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the packet has already been received earlier (identified via ID) then discard the pa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wise, append own address and broadcast pack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er receives packet with the current path (address li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 broadcasting if maximum diameter of the network is kn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ching of address lists (i.e. paths) from passing packets (overhear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ions can use the cached information for path discovery (own paths or paths for other host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ynamic Source Routing I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ing pa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sending a p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it for a layer 2 acknowledgement (if applica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sten into the medium to detect if other stations forward the packet (if possi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est an explicit acknowled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station encounters problems it can inform the sender of a packet or look-up a new path lo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outing Protocols: DSR and FS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Source Routing has two mechanis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ute Discover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oute Reque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acket is flooded through the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oute repl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sent back to the 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timization: cache of source routes (learned or overhear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ute Maintenan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 discovery of a broken link (e.g., nodes moved out of range), a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oute Err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sent to the source =&gt; use an alternate cached route or reru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oute Disco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sheye State Rout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tains link state information with a frequency that depends on the fisheye scope di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des do not need to have a very precise information on far away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rameters of IEEE802.11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EE802.11 has three mechanisms that can be used to improve performance under dynamic chann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gmentation (also used to avoid collis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coding/modulation schemes (8 sche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power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coding/modulation schemes will be available with 802.11a products over 5G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ly parameters are statically configu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 rot="3663000">
            <a:off x="5905080" y="3800160"/>
            <a:ext cx="380880" cy="762120"/>
          </a:xfrm>
          <a:prstGeom prst="upDownArrow">
            <a:avLst>
              <a:gd name="adj1" fmla="val 50000"/>
              <a:gd name="adj2" fmla="val 39834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rot="1747200">
            <a:off x="3695760" y="3519360"/>
            <a:ext cx="380880" cy="843120"/>
          </a:xfrm>
          <a:prstGeom prst="upDownArrow">
            <a:avLst>
              <a:gd name="adj1" fmla="val 38880"/>
              <a:gd name="adj2" fmla="val 63784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18572400">
            <a:off x="4630680" y="3330720"/>
            <a:ext cx="380880" cy="1279440"/>
          </a:xfrm>
          <a:prstGeom prst="upDownArrow">
            <a:avLst>
              <a:gd name="adj1" fmla="val 50000"/>
              <a:gd name="adj2" fmla="val 66872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rot="17997600">
            <a:off x="7021440" y="3741480"/>
            <a:ext cx="380880" cy="914400"/>
          </a:xfrm>
          <a:prstGeom prst="upDownArrow">
            <a:avLst>
              <a:gd name="adj1" fmla="val 50000"/>
              <a:gd name="adj2" fmla="val 47793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7315200" y="1218960"/>
            <a:ext cx="380880" cy="1752480"/>
          </a:xfrm>
          <a:prstGeom prst="upDownArrow">
            <a:avLst>
              <a:gd name="adj1" fmla="val 50000"/>
              <a:gd name="adj2" fmla="val 91596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ference-Based Rou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991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ing based on assumptions about interference between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447920" y="3076560"/>
            <a:ext cx="533160" cy="53352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429000" y="4295880"/>
            <a:ext cx="533520" cy="53316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09880" y="3076560"/>
            <a:ext cx="533520" cy="53352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324480" y="3533760"/>
            <a:ext cx="533520" cy="53352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505320" y="2085840"/>
            <a:ext cx="533160" cy="53352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15000" y="2238480"/>
            <a:ext cx="533520" cy="53316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0120" y="2695680"/>
            <a:ext cx="533160" cy="53316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4295880"/>
            <a:ext cx="533520" cy="53316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257800" y="4295880"/>
            <a:ext cx="533520" cy="53316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800600" y="5362560"/>
            <a:ext cx="533520" cy="53352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600200" y="4524480"/>
            <a:ext cx="533520" cy="53316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400800" y="5286240"/>
            <a:ext cx="533520" cy="53352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276720" y="5514840"/>
            <a:ext cx="533160" cy="53352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5" name=""/>
          <p:cNvCxnSpPr>
            <a:stCxn id="272" idx="6"/>
            <a:endCxn id="274" idx="2"/>
          </p:cNvCxnSpPr>
          <p:nvPr/>
        </p:nvCxnSpPr>
        <p:spPr>
          <a:xfrm>
            <a:off x="1981080" y="3342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286" name=""/>
          <p:cNvGrpSpPr/>
          <p:nvPr/>
        </p:nvGrpSpPr>
        <p:grpSpPr>
          <a:xfrm>
            <a:off x="1069920" y="5638680"/>
            <a:ext cx="2244240" cy="580680"/>
            <a:chOff x="1069920" y="5638680"/>
            <a:chExt cx="2244240" cy="580680"/>
          </a:xfrm>
        </p:grpSpPr>
        <p:sp>
          <p:nvSpPr>
            <p:cNvPr id="287" name=""/>
            <p:cNvSpPr/>
            <p:nvPr/>
          </p:nvSpPr>
          <p:spPr>
            <a:xfrm>
              <a:off x="1142640" y="57913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069920" y="5638680"/>
              <a:ext cx="2244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eighb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i.e. within radio rang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89" name=""/>
          <p:cNvCxnSpPr>
            <a:stCxn id="276" idx="4"/>
            <a:endCxn id="274" idx="1"/>
          </p:cNvCxnSpPr>
          <p:nvPr/>
        </p:nvCxnSpPr>
        <p:spPr>
          <a:xfrm>
            <a:off x="3771720" y="2619360"/>
            <a:ext cx="116280" cy="535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0" name=""/>
          <p:cNvCxnSpPr>
            <a:stCxn id="274" idx="7"/>
            <a:endCxn id="277" idx="3"/>
          </p:cNvCxnSpPr>
          <p:nvPr/>
        </p:nvCxnSpPr>
        <p:spPr>
          <a:xfrm flipV="1">
            <a:off x="4265640" y="2693160"/>
            <a:ext cx="152784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1" name=""/>
          <p:cNvCxnSpPr>
            <a:stCxn id="274" idx="6"/>
            <a:endCxn id="275" idx="2"/>
          </p:cNvCxnSpPr>
          <p:nvPr/>
        </p:nvCxnSpPr>
        <p:spPr>
          <a:xfrm>
            <a:off x="4343040" y="3343320"/>
            <a:ext cx="1981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2" name=""/>
          <p:cNvCxnSpPr>
            <a:stCxn id="277" idx="6"/>
            <a:endCxn id="278" idx="1"/>
          </p:cNvCxnSpPr>
          <p:nvPr/>
        </p:nvCxnSpPr>
        <p:spPr>
          <a:xfrm>
            <a:off x="6248520" y="2504880"/>
            <a:ext cx="1450080" cy="268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3" name=""/>
          <p:cNvCxnSpPr>
            <a:stCxn id="276" idx="6"/>
            <a:endCxn id="277" idx="2"/>
          </p:cNvCxnSpPr>
          <p:nvPr/>
        </p:nvCxnSpPr>
        <p:spPr>
          <a:xfrm>
            <a:off x="4038120" y="2352600"/>
            <a:ext cx="167724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4" name=""/>
          <p:cNvCxnSpPr>
            <a:stCxn id="282" idx="6"/>
            <a:endCxn id="273" idx="2"/>
          </p:cNvCxnSpPr>
          <p:nvPr/>
        </p:nvCxnSpPr>
        <p:spPr>
          <a:xfrm flipV="1">
            <a:off x="2133720" y="4561920"/>
            <a:ext cx="12960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5" name=""/>
          <p:cNvCxnSpPr>
            <a:stCxn id="282" idx="5"/>
            <a:endCxn id="284" idx="1"/>
          </p:cNvCxnSpPr>
          <p:nvPr/>
        </p:nvCxnSpPr>
        <p:spPr>
          <a:xfrm>
            <a:off x="2055600" y="4979880"/>
            <a:ext cx="1299240" cy="61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6" name=""/>
          <p:cNvCxnSpPr>
            <a:stCxn id="284" idx="6"/>
            <a:endCxn id="281" idx="2"/>
          </p:cNvCxnSpPr>
          <p:nvPr/>
        </p:nvCxnSpPr>
        <p:spPr>
          <a:xfrm flipV="1">
            <a:off x="3809880" y="5628600"/>
            <a:ext cx="99144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"/>
          <p:cNvCxnSpPr>
            <a:stCxn id="273" idx="6"/>
            <a:endCxn id="280" idx="2"/>
          </p:cNvCxnSpPr>
          <p:nvPr/>
        </p:nvCxnSpPr>
        <p:spPr>
          <a:xfrm>
            <a:off x="3962520" y="4562280"/>
            <a:ext cx="1296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8" name=""/>
          <p:cNvCxnSpPr>
            <a:stCxn id="281" idx="6"/>
            <a:endCxn id="283" idx="2"/>
          </p:cNvCxnSpPr>
          <p:nvPr/>
        </p:nvCxnSpPr>
        <p:spPr>
          <a:xfrm flipV="1">
            <a:off x="5333760" y="5553000"/>
            <a:ext cx="106740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9" name=""/>
          <p:cNvCxnSpPr>
            <a:stCxn id="280" idx="6"/>
            <a:endCxn id="279" idx="2"/>
          </p:cNvCxnSpPr>
          <p:nvPr/>
        </p:nvCxnSpPr>
        <p:spPr>
          <a:xfrm>
            <a:off x="5791320" y="4562280"/>
            <a:ext cx="1676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0" name=""/>
          <p:cNvCxnSpPr>
            <a:stCxn id="272" idx="7"/>
            <a:endCxn id="276" idx="2"/>
          </p:cNvCxnSpPr>
          <p:nvPr/>
        </p:nvCxnSpPr>
        <p:spPr>
          <a:xfrm flipV="1">
            <a:off x="1903320" y="2351880"/>
            <a:ext cx="1602720" cy="80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1" name=""/>
          <p:cNvCxnSpPr>
            <a:stCxn id="283" idx="7"/>
            <a:endCxn id="279" idx="3"/>
          </p:cNvCxnSpPr>
          <p:nvPr/>
        </p:nvCxnSpPr>
        <p:spPr>
          <a:xfrm flipV="1">
            <a:off x="6856200" y="4750920"/>
            <a:ext cx="689400" cy="61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2" name=""/>
          <p:cNvCxnSpPr>
            <a:stCxn id="273" idx="0"/>
            <a:endCxn id="274" idx="4"/>
          </p:cNvCxnSpPr>
          <p:nvPr/>
        </p:nvCxnSpPr>
        <p:spPr>
          <a:xfrm flipV="1">
            <a:off x="3695760" y="3609360"/>
            <a:ext cx="38160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3" name=""/>
          <p:cNvCxnSpPr>
            <a:stCxn id="274" idx="5"/>
            <a:endCxn id="280" idx="1"/>
          </p:cNvCxnSpPr>
          <p:nvPr/>
        </p:nvCxnSpPr>
        <p:spPr>
          <a:xfrm>
            <a:off x="4265640" y="3531960"/>
            <a:ext cx="1070640" cy="84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4" name=""/>
          <p:cNvCxnSpPr>
            <a:stCxn id="280" idx="7"/>
            <a:endCxn id="275" idx="3"/>
          </p:cNvCxnSpPr>
          <p:nvPr/>
        </p:nvCxnSpPr>
        <p:spPr>
          <a:xfrm flipV="1">
            <a:off x="5713200" y="3988800"/>
            <a:ext cx="689400" cy="384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5" name=""/>
          <p:cNvCxnSpPr>
            <a:stCxn id="275" idx="5"/>
            <a:endCxn id="279" idx="1"/>
          </p:cNvCxnSpPr>
          <p:nvPr/>
        </p:nvCxnSpPr>
        <p:spPr>
          <a:xfrm>
            <a:off x="6779880" y="3989160"/>
            <a:ext cx="765720" cy="384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6" name=""/>
          <p:cNvCxnSpPr>
            <a:stCxn id="284" idx="0"/>
            <a:endCxn id="273" idx="4"/>
          </p:cNvCxnSpPr>
          <p:nvPr/>
        </p:nvCxnSpPr>
        <p:spPr>
          <a:xfrm flipV="1">
            <a:off x="3543120" y="4828320"/>
            <a:ext cx="15300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7" name=""/>
          <p:cNvCxnSpPr>
            <a:stCxn id="280" idx="3"/>
            <a:endCxn id="281" idx="0"/>
          </p:cNvCxnSpPr>
          <p:nvPr/>
        </p:nvCxnSpPr>
        <p:spPr>
          <a:xfrm flipH="1">
            <a:off x="5066640" y="4751280"/>
            <a:ext cx="268920" cy="61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8" name=""/>
          <p:cNvCxnSpPr>
            <a:stCxn id="282" idx="0"/>
            <a:endCxn id="272" idx="4"/>
          </p:cNvCxnSpPr>
          <p:nvPr/>
        </p:nvCxnSpPr>
        <p:spPr>
          <a:xfrm flipH="1" flipV="1">
            <a:off x="1713960" y="3609720"/>
            <a:ext cx="15300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9" name=""/>
          <p:cNvCxnSpPr>
            <a:stCxn id="280" idx="5"/>
            <a:endCxn id="283" idx="1"/>
          </p:cNvCxnSpPr>
          <p:nvPr/>
        </p:nvCxnSpPr>
        <p:spPr>
          <a:xfrm>
            <a:off x="5713200" y="4751280"/>
            <a:ext cx="765720" cy="61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0" name=""/>
          <p:cNvCxnSpPr>
            <a:stCxn id="277" idx="5"/>
            <a:endCxn id="275" idx="0"/>
          </p:cNvCxnSpPr>
          <p:nvPr/>
        </p:nvCxnSpPr>
        <p:spPr>
          <a:xfrm>
            <a:off x="6170760" y="2693520"/>
            <a:ext cx="421200" cy="84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11" name=""/>
          <p:cNvSpPr/>
          <p:nvPr/>
        </p:nvSpPr>
        <p:spPr>
          <a:xfrm>
            <a:off x="1828800" y="2952720"/>
            <a:ext cx="5854680" cy="730440"/>
          </a:xfrm>
          <a:custGeom>
            <a:avLst/>
            <a:gdLst/>
            <a:ahLst/>
            <a:rect l="l" t="t" r="r" b="b"/>
            <a:pathLst>
              <a:path w="3688" h="460">
                <a:moveTo>
                  <a:pt x="0" y="174"/>
                </a:moveTo>
                <a:cubicBezTo>
                  <a:pt x="225" y="168"/>
                  <a:pt x="854" y="91"/>
                  <a:pt x="1352" y="135"/>
                </a:cubicBezTo>
                <a:cubicBezTo>
                  <a:pt x="1850" y="179"/>
                  <a:pt x="2597" y="460"/>
                  <a:pt x="2986" y="437"/>
                </a:cubicBezTo>
                <a:cubicBezTo>
                  <a:pt x="3375" y="414"/>
                  <a:pt x="3542" y="91"/>
                  <a:pt x="3688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981080" y="4448160"/>
            <a:ext cx="5639040" cy="266760"/>
          </a:xfrm>
          <a:custGeom>
            <a:avLst/>
            <a:gdLst/>
            <a:ahLst/>
            <a:rect l="l" t="t" r="r" b="b"/>
            <a:pathLst>
              <a:path w="3552" h="168">
                <a:moveTo>
                  <a:pt x="0" y="168"/>
                </a:moveTo>
                <a:cubicBezTo>
                  <a:pt x="364" y="108"/>
                  <a:pt x="728" y="48"/>
                  <a:pt x="1104" y="24"/>
                </a:cubicBezTo>
                <a:cubicBezTo>
                  <a:pt x="1480" y="0"/>
                  <a:pt x="1848" y="24"/>
                  <a:pt x="2256" y="24"/>
                </a:cubicBezTo>
                <a:cubicBezTo>
                  <a:pt x="2664" y="24"/>
                  <a:pt x="3108" y="24"/>
                  <a:pt x="3552" y="24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905120" y="4753080"/>
            <a:ext cx="5790960" cy="1269720"/>
          </a:xfrm>
          <a:custGeom>
            <a:avLst/>
            <a:gdLst/>
            <a:ahLst/>
            <a:rect l="l" t="t" r="r" b="b"/>
            <a:pathLst>
              <a:path w="3648" h="800">
                <a:moveTo>
                  <a:pt x="0" y="144"/>
                </a:moveTo>
                <a:cubicBezTo>
                  <a:pt x="336" y="392"/>
                  <a:pt x="672" y="640"/>
                  <a:pt x="1008" y="720"/>
                </a:cubicBezTo>
                <a:cubicBezTo>
                  <a:pt x="1344" y="800"/>
                  <a:pt x="1680" y="648"/>
                  <a:pt x="2016" y="624"/>
                </a:cubicBezTo>
                <a:cubicBezTo>
                  <a:pt x="2352" y="600"/>
                  <a:pt x="2752" y="680"/>
                  <a:pt x="3024" y="576"/>
                </a:cubicBezTo>
                <a:cubicBezTo>
                  <a:pt x="3296" y="472"/>
                  <a:pt x="3472" y="236"/>
                  <a:pt x="3648" y="0"/>
                </a:cubicBezTo>
              </a:path>
            </a:pathLst>
          </a:custGeom>
          <a:noFill/>
          <a:ln w="38160">
            <a:solidFill>
              <a:srgbClr val="0000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52480" y="2217600"/>
            <a:ext cx="6108840" cy="897120"/>
          </a:xfrm>
          <a:custGeom>
            <a:avLst/>
            <a:gdLst/>
            <a:ahLst/>
            <a:rect l="l" t="t" r="r" b="b"/>
            <a:pathLst>
              <a:path w="3848" h="565">
                <a:moveTo>
                  <a:pt x="0" y="565"/>
                </a:moveTo>
                <a:cubicBezTo>
                  <a:pt x="184" y="361"/>
                  <a:pt x="370" y="170"/>
                  <a:pt x="720" y="85"/>
                </a:cubicBezTo>
                <a:cubicBezTo>
                  <a:pt x="1070" y="0"/>
                  <a:pt x="1635" y="47"/>
                  <a:pt x="2099" y="56"/>
                </a:cubicBezTo>
                <a:cubicBezTo>
                  <a:pt x="2563" y="65"/>
                  <a:pt x="3211" y="94"/>
                  <a:pt x="3502" y="138"/>
                </a:cubicBezTo>
                <a:cubicBezTo>
                  <a:pt x="3793" y="182"/>
                  <a:pt x="3776" y="283"/>
                  <a:pt x="3848" y="321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278" idx="3"/>
            <a:endCxn id="275" idx="6"/>
          </p:cNvCxnSpPr>
          <p:nvPr/>
        </p:nvCxnSpPr>
        <p:spPr>
          <a:xfrm flipH="1">
            <a:off x="6857280" y="3151080"/>
            <a:ext cx="840600" cy="65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s for interference based rou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st Interference Routing (LI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culate the cost of a path based on the number of stations that can receive a trans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-Min Residual Capacity Routing (MMRC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culate the cost of a path based on a probability function of successful transmissions and inter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st Resistance Routing (LR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culate the cost of a path based on interference, jamming and other transmi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R is very simple to implement, only information from direct neighbors is necess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rastructure vs. Ad Hoc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ireless Networ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rastructure network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or several Access-Points (AP) connected to the wired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 nodes communicate through the 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 hoc networ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 nodes communicate directly with each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-hop ad hoc networks: all nodes can also act as ro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brid (nodes relay packets from AP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increase capacity, reduce power consumption, and guarantee a minimum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uster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48769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-198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920" indent="-165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ce channel conten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920" indent="-165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 routing backbone to reduce network diam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920" indent="-165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stract network state to reduce its quantity and its vari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-198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ous approaches to clus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920" indent="-165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ed in the 70s with Packet Radio Network (PRNet) sponsored by DAR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35728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4494240" y="2460600"/>
          <a:ext cx="3963960" cy="37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4240" y="2460600"/>
                    <a:ext cx="3963960" cy="37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oretical Resul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acity of a wireless network [Gupta &amp; Kumar 2000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dentical randomly located nodes each capable of transmit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 can only achieve a throughpu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timally placed nodes with an optimal traffic pattern and an optimal transmission power can only achie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982800" y="3429000"/>
                <a:ext cx="214128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bit/se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1066680" y="5105520"/>
                <a:ext cx="27352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(</m:t>
                    </m:r>
                    <m:r>
                      <m:t xml:space="preserve">W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</m:e>
                    </m:rad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bi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meters</m:t>
                    </m:r>
                    <m:r>
                      <m:rPr>
                        <m:lit/>
                        <m:nor/>
                      </m:rPr>
                      <m:t xml:space="preserve">/se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ustering for Transmission Manag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5345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educe cont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uster = clusterhead + gateways + ordinary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usterhead: schedules traffic, allocates resources (tokens, emits busy tone, etc.). Similar to the master in a Bluetooth picon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teways: interconnect clus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inary nodes are 1-hop away from a clusterhead and 2-hops away from other members in the clu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nectivity disco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ction of clusterh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ree on Gatew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ustering for Transmission Management (Cont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51920" y="14479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usterhead ele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/distributed algorith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de identifier/degree b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ncip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ntralized: (1) elect the highest ID node and create a corresponding cluster, repeat step (1) with nodes not already members of a clu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ributed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ode elects itself as cluster head if it has the highest ID among its neighb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therwise elect a neighbor that is not member of another clu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s to disjoint clus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connected to &gt; 1 cluster =&gt; gateway candi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num_hops (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 &amp; num_hops(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2 =&gt;G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-- G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multiple candidates to connect two clusters, choose GW with highest 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ustering for Transmission Management (Cont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algorithms do not adjust to mobility. They recompute the clu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nt algorithm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e clusterhead status when two clusterheads become neighb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Gerla-Lin 1995, 1997]: cluster mainten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t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clusterhead congestion and improve robustness, routing is done over the flat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ustering for Backbone Form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reless multiphop networks have high end-to-end del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k-layer ARQ, MAC delay, FEC/spreading, tx/rx switching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ustering can reduce the end-to-end delay by allowing faster forwarding through the clusterheads backb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ach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-Term Digital Radio Network (NTDR) [Zavgren 1997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rtual Subnet Architecture [Sharony 1996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ear-Term Digital Radio Network (NTDR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support mobile tactical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chitecture: clusterheads = gateways+single-hop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ca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2-hop packets go through the clusterheads backb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frequencies: intra-cluster band + inter-cluster b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usterhead ele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usterheads send a beacon (organization, members, TxPwrL, PL to nod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des elect themselves if: (1) do not receive a beacon, (2) receives beacons with different partition nu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ing multiple clusterhead cre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it a random amount of time before self-election as cluster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ter self-election, immediately issue beac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iminate superfluous clusterheads without partitioning  the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TDR (Cont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uster affiliation criter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de and clusterhead are in the same orga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path loss (conserves energ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ing cluster has a small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celing affili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usterhead relinquishes its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ken link (or low quality lin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membership change all clusterheads are upd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a link state protocol: Dijkstra’s Shortest Path First algorit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istance metric: minimize interference experienced by pack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not scale for high mobility networks because of flooding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rtual Subnet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-425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fault-tolerant connectivity and load balan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chite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79400" indent="-353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joint cluster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hysical subnet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79400" indent="-353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ysical subnets are clustered in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irtual subne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79400" indent="-353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rtual subnets ideally span all physical subn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79400" indent="-353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rtual subnets and neighboring subnets operate over different frequenc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79400" indent="-353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des addresses: location dependent addresses (physical subnet, virtual subnet) + location independent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affiliation to a physical/virtual subnet, the node advertises its new address to the physical/virtual sub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etermine the location dependent address of a no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79400" indent="-353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e an address query to the physical subnet. Use the virtual subnets membership information of the physical sub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79400" indent="-353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unsuccessful distribute the address query to the virtual sub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rtual Subnet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ing strateg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 rout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ward the packet to a nod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hat is both in the source physical subnet and destination virtual sub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ward the packet through the virtual subnet to reach the physical subnet of the dest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-path routing (under high mobility): randomly distribute the routes over the space of possible ro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ward the packet through a virtual subnet represented by a node in the source physical subnet,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ward the packet through the physical subnet of a node in the virtual subnet of the sour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+Q-1 possible pa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914400" y="1600200"/>
          <a:ext cx="7165800" cy="450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00200"/>
                    <a:ext cx="7165800" cy="45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ustering for Routing Efficienc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si-hierarchical ro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node learns the next node to use to reach all level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usters within it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1) ancestral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ces the amount of routing information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distance-vector and link-state approac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imized forwarding tables and optimal rou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mber of level-i clusters in each level-(i+1) 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l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lev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asi-hierarchical routing routes -&gt; optimum (under ideal assump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ct hierarchical ro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node learns the nex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evel-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uster to use in order to reach eac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evel-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uster within it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evel-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1 clu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node learns which level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usters lie on the boundary of its level-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1) clu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 page 109 (A Prototypical Sche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uilding a Clustering Hierarch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imizing the amount of routing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imize connectivity within each clu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ize high-intensity traffic within one clu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imizing the number of intercluster li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imizing the stability of intercluster li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imizing the difference between the hierarchical route and the optimal ro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constrai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per/lower limit of the number of chil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per limit on the diameter of each clu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ant number of chil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mitations of Current Clustering Algorith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clustering algorithms do not consider the flexibility/constraints of radio frequency commun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nectivity is not rigid but can be controlled through power-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er consume more energy then ordinary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 between MAC, power-control and co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ding generates more time interference (collisions?), high power generates more space interference (SNI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brid networks require to consider fairness more serious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des in the vicinity of the AP would experience more traffic than nodes on the periph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320" y="15238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ed radio spectr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oadcast Medium (collis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ed power available at the n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ed storage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nection QoS requirements (e.g., delay, packet lo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reliable network connectivity (depends on the chann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amic topology (i.e., mobility of nodes, dens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provide a full cove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enforce fair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7631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of various coding/modulation sche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of packets frag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of various transmission power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of smart antennas and MIMO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of multiple RF interfaces (multiple IF character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ustering and backbone 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ning of the fixed nodes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ckets scheduling sche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 adaptiv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daptivity and Cooper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8915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cal networking stacks have only minimum interaction between adjacent lay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-hop wireless ad hoc networks require more cooperation between layer bec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nel variation and network topology changes affect the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uting versus single hop communication considerably affects the medium access control (MAC)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isions versus channel fading affects both the physical layer and the M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ttery power has implications on all lay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3848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876920" y="1295280"/>
          <a:ext cx="3781440" cy="271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1295280"/>
                    <a:ext cx="3781440" cy="27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daptive Co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½ rate convolutional code (K=5) versus uncoded commun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nel with two states: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6.8 dB or 11.3 dB (AWGN), L=200 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estimate the channel and adapt to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iate between congestions and a bad channel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of Hybrid-ARQ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04920" y="2666880"/>
            <a:ext cx="7648200" cy="1924200"/>
            <a:chOff x="304920" y="2666880"/>
            <a:chExt cx="7648200" cy="1924200"/>
          </a:xfrm>
        </p:grpSpPr>
        <p:grpSp>
          <p:nvGrpSpPr>
            <p:cNvPr id="72" name=""/>
            <p:cNvGrpSpPr/>
            <p:nvPr/>
          </p:nvGrpSpPr>
          <p:grpSpPr>
            <a:xfrm>
              <a:off x="310320" y="2669760"/>
              <a:ext cx="7636680" cy="1917720"/>
              <a:chOff x="310320" y="2669760"/>
              <a:chExt cx="7636680" cy="1917720"/>
            </a:xfrm>
          </p:grpSpPr>
          <p:grpSp>
            <p:nvGrpSpPr>
              <p:cNvPr id="73" name=""/>
              <p:cNvGrpSpPr/>
              <p:nvPr/>
            </p:nvGrpSpPr>
            <p:grpSpPr>
              <a:xfrm>
                <a:off x="310320" y="2669760"/>
                <a:ext cx="897840" cy="839160"/>
                <a:chOff x="310320" y="2669760"/>
                <a:chExt cx="897840" cy="83916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389160" y="2669760"/>
                  <a:ext cx="740160" cy="83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r>
                    <a:rPr b="1" i="1" lang="en-US" sz="1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/</a:t>
                  </a:r>
                  <a:r>
                    <a:rPr b="1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310320" y="2669760"/>
                  <a:ext cx="897840" cy="83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1208520" y="2669760"/>
                <a:ext cx="1603440" cy="419400"/>
                <a:chOff x="1208520" y="2669760"/>
                <a:chExt cx="1603440" cy="41940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1287360" y="2669760"/>
                  <a:ext cx="1445400" cy="41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1208520" y="2669760"/>
                  <a:ext cx="1603440" cy="41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2812320" y="2669760"/>
                <a:ext cx="1805400" cy="419400"/>
                <a:chOff x="2812320" y="2669760"/>
                <a:chExt cx="1805400" cy="41940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2891160" y="2669760"/>
                  <a:ext cx="1647360" cy="41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2812320" y="2669760"/>
                  <a:ext cx="1805400" cy="41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4618440" y="2669760"/>
                <a:ext cx="1570320" cy="419400"/>
                <a:chOff x="4618440" y="2669760"/>
                <a:chExt cx="1570320" cy="41940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4696920" y="2669760"/>
                  <a:ext cx="1412640" cy="41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b_Transmit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4618440" y="2669760"/>
                  <a:ext cx="1570320" cy="41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6189120" y="2669760"/>
                <a:ext cx="1757520" cy="419400"/>
                <a:chOff x="6189120" y="2669760"/>
                <a:chExt cx="1757520" cy="41940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6267960" y="2669760"/>
                  <a:ext cx="1599840" cy="41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otal_Tx_Byte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6189120" y="2669760"/>
                  <a:ext cx="1757520" cy="41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1208520" y="3089160"/>
                <a:ext cx="819000" cy="419400"/>
                <a:chOff x="1208520" y="3089160"/>
                <a:chExt cx="819000" cy="41940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1287360" y="3089160"/>
                  <a:ext cx="660960" cy="41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C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1208520" y="3089160"/>
                  <a:ext cx="819000" cy="41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2027880" y="3089160"/>
                <a:ext cx="784080" cy="419400"/>
                <a:chOff x="2027880" y="3089160"/>
                <a:chExt cx="784080" cy="41940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2106720" y="3089160"/>
                  <a:ext cx="626040" cy="41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½ CC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2027880" y="3089160"/>
                  <a:ext cx="784080" cy="41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2812320" y="3089160"/>
                <a:ext cx="919800" cy="419400"/>
                <a:chOff x="2812320" y="3089160"/>
                <a:chExt cx="919800" cy="41940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2891160" y="3089160"/>
                  <a:ext cx="762120" cy="41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C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2812320" y="3089160"/>
                  <a:ext cx="919800" cy="41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3732840" y="3089160"/>
                <a:ext cx="885240" cy="419400"/>
                <a:chOff x="3732840" y="3089160"/>
                <a:chExt cx="885240" cy="41940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3811680" y="3089160"/>
                  <a:ext cx="727200" cy="41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½ CC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3732840" y="3089160"/>
                  <a:ext cx="885240" cy="41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4618440" y="3089160"/>
                <a:ext cx="752760" cy="419400"/>
                <a:chOff x="4618440" y="3089160"/>
                <a:chExt cx="752760" cy="41940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4696920" y="3089160"/>
                  <a:ext cx="595080" cy="41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C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4618440" y="3089160"/>
                  <a:ext cx="752760" cy="41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5371920" y="3089160"/>
                <a:ext cx="816840" cy="419400"/>
                <a:chOff x="5371920" y="3089160"/>
                <a:chExt cx="816840" cy="41940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5450400" y="3089160"/>
                  <a:ext cx="659160" cy="41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½ CC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5371920" y="3089160"/>
                  <a:ext cx="816840" cy="41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6189120" y="3089160"/>
                <a:ext cx="932760" cy="419400"/>
                <a:chOff x="6189120" y="3089160"/>
                <a:chExt cx="932760" cy="41940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6267960" y="3089160"/>
                  <a:ext cx="775080" cy="41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C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6189120" y="3089160"/>
                  <a:ext cx="932760" cy="41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7122600" y="3089160"/>
                <a:ext cx="824400" cy="419400"/>
                <a:chOff x="7122600" y="3089160"/>
                <a:chExt cx="824400" cy="41940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7201440" y="3089160"/>
                  <a:ext cx="666720" cy="41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½ CC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7122600" y="3089160"/>
                  <a:ext cx="824400" cy="41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310320" y="3508920"/>
                <a:ext cx="897840" cy="539280"/>
                <a:chOff x="310320" y="3508920"/>
                <a:chExt cx="897840" cy="53928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389160" y="3508920"/>
                  <a:ext cx="74016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.8dB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310320" y="3508920"/>
                  <a:ext cx="89784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1208520" y="3508920"/>
                <a:ext cx="819000" cy="539280"/>
                <a:chOff x="1208520" y="3508920"/>
                <a:chExt cx="819000" cy="53928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1287360" y="3508920"/>
                  <a:ext cx="66096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</a:t>
                  </a:r>
                  <a:r>
                    <a:rPr b="1" lang="en-US" sz="14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1208520" y="3508920"/>
                  <a:ext cx="81900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2027880" y="3508920"/>
                <a:ext cx="784080" cy="539280"/>
                <a:chOff x="2027880" y="3508920"/>
                <a:chExt cx="784080" cy="53928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106720" y="3508920"/>
                  <a:ext cx="62604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</a:t>
                  </a:r>
                  <a:r>
                    <a:rPr b="1" lang="en-US" sz="14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027880" y="3508920"/>
                  <a:ext cx="78408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2812320" y="3508920"/>
                <a:ext cx="919800" cy="539280"/>
                <a:chOff x="2812320" y="3508920"/>
                <a:chExt cx="919800" cy="53928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2891160" y="3508920"/>
                  <a:ext cx="76212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2812320" y="3508920"/>
                  <a:ext cx="91980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3732840" y="3508920"/>
                <a:ext cx="885240" cy="539280"/>
                <a:chOff x="3732840" y="3508920"/>
                <a:chExt cx="885240" cy="53928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3811680" y="3508920"/>
                  <a:ext cx="72720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.6 10</a:t>
                  </a:r>
                  <a:r>
                    <a:rPr b="1" lang="en-US" sz="14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3732840" y="3508920"/>
                  <a:ext cx="88524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4618440" y="3508920"/>
                <a:ext cx="752760" cy="539280"/>
                <a:chOff x="4618440" y="3508920"/>
                <a:chExt cx="752760" cy="53928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4696920" y="3508920"/>
                  <a:ext cx="59508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4618440" y="3508920"/>
                  <a:ext cx="75276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5371920" y="3508920"/>
                <a:ext cx="816840" cy="539280"/>
                <a:chOff x="5371920" y="3508920"/>
                <a:chExt cx="816840" cy="53928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5450400" y="3508920"/>
                  <a:ext cx="65916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~ 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5371920" y="3508920"/>
                  <a:ext cx="81684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6189120" y="3508920"/>
                <a:ext cx="932760" cy="539280"/>
                <a:chOff x="6189120" y="3508920"/>
                <a:chExt cx="932760" cy="53928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6267960" y="3508920"/>
                  <a:ext cx="77508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*2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6189120" y="3508920"/>
                  <a:ext cx="93276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7122600" y="3508920"/>
                <a:ext cx="824400" cy="539280"/>
                <a:chOff x="7122600" y="3508920"/>
                <a:chExt cx="824400" cy="53928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7201440" y="3508920"/>
                  <a:ext cx="66672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*2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7122600" y="3508920"/>
                  <a:ext cx="82440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310320" y="4048200"/>
                <a:ext cx="897840" cy="539280"/>
                <a:chOff x="310320" y="4048200"/>
                <a:chExt cx="897840" cy="53928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389160" y="4048200"/>
                  <a:ext cx="74016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.3dB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10320" y="4048200"/>
                  <a:ext cx="89784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1208520" y="4048200"/>
                <a:ext cx="819000" cy="539280"/>
                <a:chOff x="1208520" y="4048200"/>
                <a:chExt cx="819000" cy="53928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1287360" y="4048200"/>
                  <a:ext cx="66096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</a:t>
                  </a:r>
                  <a:r>
                    <a:rPr b="1" lang="en-US" sz="14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208520" y="4048200"/>
                  <a:ext cx="81900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2027880" y="4048200"/>
                <a:ext cx="784080" cy="539280"/>
                <a:chOff x="2027880" y="4048200"/>
                <a:chExt cx="784080" cy="53928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2106720" y="4048200"/>
                  <a:ext cx="62604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~ 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027880" y="4048200"/>
                  <a:ext cx="78408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2812320" y="4048200"/>
                <a:ext cx="919800" cy="539280"/>
                <a:chOff x="2812320" y="4048200"/>
                <a:chExt cx="919800" cy="5392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2891160" y="4048200"/>
                  <a:ext cx="76212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.6 10</a:t>
                  </a:r>
                  <a:r>
                    <a:rPr b="1" lang="en-US" sz="14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2812320" y="4048200"/>
                  <a:ext cx="91980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3732840" y="4048200"/>
                <a:ext cx="885240" cy="539280"/>
                <a:chOff x="3732840" y="4048200"/>
                <a:chExt cx="885240" cy="53928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3811680" y="4048200"/>
                  <a:ext cx="72720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~ 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3732840" y="4048200"/>
                  <a:ext cx="88524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4618440" y="4048200"/>
                <a:ext cx="752760" cy="539280"/>
                <a:chOff x="4618440" y="4048200"/>
                <a:chExt cx="752760" cy="53928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4696920" y="4048200"/>
                  <a:ext cx="59508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~ 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4618440" y="4048200"/>
                  <a:ext cx="75276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5371920" y="4048200"/>
                <a:ext cx="816840" cy="539280"/>
                <a:chOff x="5371920" y="4048200"/>
                <a:chExt cx="816840" cy="53928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5450400" y="4048200"/>
                  <a:ext cx="65916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~ 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371920" y="4048200"/>
                  <a:ext cx="81684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6189120" y="4048200"/>
                <a:ext cx="932760" cy="539280"/>
                <a:chOff x="6189120" y="4048200"/>
                <a:chExt cx="932760" cy="53928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6267960" y="4048200"/>
                  <a:ext cx="77508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189120" y="4048200"/>
                  <a:ext cx="93276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7122600" y="4048200"/>
                <a:ext cx="824400" cy="539280"/>
                <a:chOff x="7122600" y="4048200"/>
                <a:chExt cx="824400" cy="53928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7201440" y="4048200"/>
                  <a:ext cx="66672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*2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7122600" y="4048200"/>
                  <a:ext cx="82440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6" name=""/>
            <p:cNvSpPr/>
            <p:nvPr/>
          </p:nvSpPr>
          <p:spPr>
            <a:xfrm>
              <a:off x="304920" y="2666880"/>
              <a:ext cx="7648200" cy="1924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daptive Fragm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transmit a frame of length 200 Bytes, we can fragment into 4 frames of length 50 Bytes (+ 10 Bytes overhe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estimate the channel and adapt to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457200" y="3048120"/>
            <a:ext cx="7924320" cy="2133360"/>
            <a:chOff x="457200" y="3048120"/>
            <a:chExt cx="7924320" cy="2133360"/>
          </a:xfrm>
        </p:grpSpPr>
        <p:grpSp>
          <p:nvGrpSpPr>
            <p:cNvPr id="170" name=""/>
            <p:cNvGrpSpPr/>
            <p:nvPr/>
          </p:nvGrpSpPr>
          <p:grpSpPr>
            <a:xfrm>
              <a:off x="463680" y="3051360"/>
              <a:ext cx="7909920" cy="2126160"/>
              <a:chOff x="463680" y="3051360"/>
              <a:chExt cx="7909920" cy="2126160"/>
            </a:xfrm>
          </p:grpSpPr>
          <p:grpSp>
            <p:nvGrpSpPr>
              <p:cNvPr id="171" name=""/>
              <p:cNvGrpSpPr/>
              <p:nvPr/>
            </p:nvGrpSpPr>
            <p:grpSpPr>
              <a:xfrm>
                <a:off x="463680" y="3051360"/>
                <a:ext cx="1048320" cy="1195560"/>
                <a:chOff x="463680" y="3051360"/>
                <a:chExt cx="1048320" cy="119556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563040" y="3051360"/>
                  <a:ext cx="848880" cy="11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463680" y="3051360"/>
                  <a:ext cx="1048320" cy="119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1512360" y="3051360"/>
                <a:ext cx="2231280" cy="597600"/>
                <a:chOff x="1512360" y="3051360"/>
                <a:chExt cx="2231280" cy="5976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1611360" y="3051360"/>
                  <a:ext cx="2032200" cy="59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1512360" y="3051360"/>
                  <a:ext cx="2231280" cy="59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3744000" y="3051360"/>
                <a:ext cx="2314080" cy="597600"/>
                <a:chOff x="3744000" y="3051360"/>
                <a:chExt cx="2314080" cy="59760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3843000" y="3051360"/>
                  <a:ext cx="2115720" cy="59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b_Transmi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3744000" y="3051360"/>
                  <a:ext cx="2314080" cy="59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6058800" y="3051360"/>
                <a:ext cx="2314800" cy="597600"/>
                <a:chOff x="6058800" y="3051360"/>
                <a:chExt cx="2314800" cy="5976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6158520" y="3051360"/>
                  <a:ext cx="2115360" cy="59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otal_Tx_Byte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incl. overhead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6058800" y="3051360"/>
                  <a:ext cx="2314800" cy="59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1512360" y="3648960"/>
                <a:ext cx="1114920" cy="597600"/>
                <a:chOff x="1512360" y="3648960"/>
                <a:chExt cx="1114920" cy="59760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1611360" y="3648960"/>
                  <a:ext cx="916200" cy="59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=60B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512360" y="3648960"/>
                  <a:ext cx="1114920" cy="59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2628000" y="3648960"/>
                <a:ext cx="1115640" cy="597600"/>
                <a:chOff x="2628000" y="3648960"/>
                <a:chExt cx="1115640" cy="59760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2727720" y="3648960"/>
                  <a:ext cx="916200" cy="59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=200B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2628000" y="3648960"/>
                  <a:ext cx="1115640" cy="59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3744000" y="3648960"/>
                <a:ext cx="1031760" cy="597600"/>
                <a:chOff x="3744000" y="3648960"/>
                <a:chExt cx="1031760" cy="59760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3843000" y="3648960"/>
                  <a:ext cx="833400" cy="59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=60B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744000" y="3648960"/>
                  <a:ext cx="1031760" cy="59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4776120" y="3648960"/>
                <a:ext cx="1281960" cy="597600"/>
                <a:chOff x="4776120" y="3648960"/>
                <a:chExt cx="1281960" cy="59760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4875480" y="3648960"/>
                  <a:ext cx="1083240" cy="59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=200B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776120" y="3648960"/>
                  <a:ext cx="1281960" cy="59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6058800" y="3648960"/>
                <a:ext cx="1115640" cy="597600"/>
                <a:chOff x="6058800" y="3648960"/>
                <a:chExt cx="1115640" cy="59760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6158520" y="3648960"/>
                  <a:ext cx="916200" cy="59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=60B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6058800" y="3648960"/>
                  <a:ext cx="1115640" cy="59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7174800" y="3648960"/>
                <a:ext cx="1198440" cy="597600"/>
                <a:chOff x="7174800" y="3648960"/>
                <a:chExt cx="1198440" cy="59760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7273800" y="3648960"/>
                  <a:ext cx="999720" cy="59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=200B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7174800" y="3648960"/>
                  <a:ext cx="1198440" cy="59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463680" y="4246920"/>
                <a:ext cx="1048320" cy="465480"/>
                <a:chOff x="463680" y="4246920"/>
                <a:chExt cx="1048320" cy="46548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563040" y="4246920"/>
                  <a:ext cx="848880" cy="46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463680" y="4246920"/>
                  <a:ext cx="1048320" cy="46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1512360" y="4246920"/>
                <a:ext cx="1114920" cy="465480"/>
                <a:chOff x="1512360" y="4246920"/>
                <a:chExt cx="1114920" cy="46548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1611360" y="4246920"/>
                  <a:ext cx="916200" cy="46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3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512360" y="4246920"/>
                  <a:ext cx="1114920" cy="46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2628000" y="4246920"/>
                <a:ext cx="1115640" cy="465480"/>
                <a:chOff x="2628000" y="4246920"/>
                <a:chExt cx="1115640" cy="46548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2727720" y="4246920"/>
                  <a:ext cx="916200" cy="46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2628000" y="4246920"/>
                  <a:ext cx="1115640" cy="46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3744000" y="4246920"/>
                <a:ext cx="1031760" cy="465480"/>
                <a:chOff x="3744000" y="4246920"/>
                <a:chExt cx="1031760" cy="46548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3843000" y="4246920"/>
                  <a:ext cx="833400" cy="46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.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3744000" y="4246920"/>
                  <a:ext cx="1031760" cy="46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4776120" y="4246920"/>
                <a:ext cx="1281960" cy="465480"/>
                <a:chOff x="4776120" y="4246920"/>
                <a:chExt cx="1281960" cy="46548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4875480" y="4246920"/>
                  <a:ext cx="1083240" cy="46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776120" y="4246920"/>
                  <a:ext cx="1281960" cy="46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6058800" y="4246920"/>
                <a:ext cx="1115640" cy="465480"/>
                <a:chOff x="6058800" y="4246920"/>
                <a:chExt cx="1115640" cy="46548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6158520" y="4246920"/>
                  <a:ext cx="916200" cy="46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8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6058800" y="4246920"/>
                  <a:ext cx="1115640" cy="46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7174800" y="4246920"/>
                <a:ext cx="1198440" cy="465480"/>
                <a:chOff x="7174800" y="4246920"/>
                <a:chExt cx="1198440" cy="46548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7273800" y="4246920"/>
                  <a:ext cx="999720" cy="46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174800" y="4246920"/>
                  <a:ext cx="1198440" cy="46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463680" y="4712400"/>
                <a:ext cx="1048320" cy="465120"/>
                <a:chOff x="463680" y="4712400"/>
                <a:chExt cx="1048320" cy="4651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563040" y="4712400"/>
                  <a:ext cx="848880" cy="46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463680" y="4712400"/>
                  <a:ext cx="1048320" cy="46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1512360" y="4712400"/>
                <a:ext cx="1114920" cy="465120"/>
                <a:chOff x="1512360" y="4712400"/>
                <a:chExt cx="1114920" cy="46512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1611360" y="4712400"/>
                  <a:ext cx="916200" cy="46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~ 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1512360" y="4712400"/>
                  <a:ext cx="1114920" cy="46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2628000" y="4712400"/>
                <a:ext cx="1115640" cy="465120"/>
                <a:chOff x="2628000" y="4712400"/>
                <a:chExt cx="1115640" cy="4651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2727720" y="4712400"/>
                  <a:ext cx="916200" cy="46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~ 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2628000" y="4712400"/>
                  <a:ext cx="1115640" cy="46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3744000" y="4712400"/>
                <a:ext cx="1031760" cy="465120"/>
                <a:chOff x="3744000" y="4712400"/>
                <a:chExt cx="1031760" cy="46512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3843000" y="4712400"/>
                  <a:ext cx="833400" cy="46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~ 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744000" y="4712400"/>
                  <a:ext cx="1031760" cy="46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4776120" y="4712400"/>
                <a:ext cx="1281960" cy="465120"/>
                <a:chOff x="4776120" y="4712400"/>
                <a:chExt cx="1281960" cy="46512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4875480" y="4712400"/>
                  <a:ext cx="1083240" cy="46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~ 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776120" y="4712400"/>
                  <a:ext cx="1281960" cy="46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6058800" y="4712400"/>
                <a:ext cx="1115640" cy="465120"/>
                <a:chOff x="6058800" y="4712400"/>
                <a:chExt cx="1115640" cy="46512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6158520" y="4712400"/>
                  <a:ext cx="916200" cy="46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6058800" y="4712400"/>
                  <a:ext cx="1115640" cy="46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7174800" y="4712400"/>
                <a:ext cx="1198440" cy="465120"/>
                <a:chOff x="7174800" y="4712400"/>
                <a:chExt cx="1198440" cy="46512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7273800" y="4712400"/>
                  <a:ext cx="999720" cy="46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7174800" y="4712400"/>
                  <a:ext cx="1198440" cy="46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3" name=""/>
            <p:cNvSpPr/>
            <p:nvPr/>
          </p:nvSpPr>
          <p:spPr>
            <a:xfrm>
              <a:off x="457200" y="3048120"/>
              <a:ext cx="7924320" cy="21333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ultiple Power Lev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5345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ulti-hop transmission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ops) and reducing the transmission power according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s capacity (factor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es overall power con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y a factor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symmetric enviro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 power node can encod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ransmit it at low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ful nodes can decode u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r transmission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39544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5181480" y="2052720"/>
          <a:ext cx="4002120" cy="404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2052720"/>
                    <a:ext cx="4002120" cy="40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4T13:54:47Z</dcterms:created>
  <dc:creator>TestUser</dc:creator>
  <dc:description/>
  <dc:language>en-US</dc:language>
  <cp:lastModifiedBy>Guevara Noubir</cp:lastModifiedBy>
  <dcterms:modified xsi:type="dcterms:W3CDTF">2002-03-07T22:46:06Z</dcterms:modified>
  <cp:revision>838</cp:revision>
  <dc:subject/>
  <dc:title>Computer Networks: Theory, Modeling, and Analysis</dc:title>
</cp:coreProperties>
</file>