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E76C-5C9E-42D4-84B6-D10F63DBB2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for Puc = 10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if errors are not happening in bursts: if always 2 bits i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ay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ed-Solomon Codes are a special case of BCH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396540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42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3276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5112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3276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5112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E72-43AC-4C24-AA85-5C30BF56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C02-7DBC-4582-80D1-7D8C942C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A5A-DDDB-4012-AFFA-DF3BEA67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B28-EB09-4EEE-BD3E-DDFC8BE9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193-79C6-4063-9131-BE3E0979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6D8-3947-4A15-BD82-E453F895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77D-BFF4-409A-AC90-5971511B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42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0C4-BA64-4ACA-BCD0-719EAF43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07BF-E1EF-4117-9751-3476BF49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040" y="396540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57F3-EBE7-4AAD-9144-EFC9D1E7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42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D34-7098-4ED0-ADEA-A4087938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3276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5112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04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3276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5112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F0B-C305-4D56-9971-67983C12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42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289080" y="632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5760" y="6450120"/>
            <a:ext cx="483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3525: Wireless Networks, Coding and Erro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076960" y="635652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BD96-196B-4EE4-AC82-AC99AFA93EF6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AE30-D599-4401-A1E2-0F474FCC59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hyperlink" Target="mailto:noubir@ccs.neu.edu" TargetMode="External"/><Relationship Id="rId3" Type="http://schemas.openxmlformats.org/officeDocument/2006/relationships/hyperlink" Target="mailto:noubir@ccs.neu.edu" TargetMode="External"/><Relationship Id="rId4" Type="http://schemas.openxmlformats.org/officeDocument/2006/relationships/hyperlink" Target="mailto:noubir@ccs.neu.edu" TargetMode="External"/><Relationship Id="rId5" Type="http://schemas.openxmlformats.org/officeDocument/2006/relationships/hyperlink" Target="mailto:noubir@ccs.neu.edu" TargetMode="External"/><Relationship Id="rId6" Type="http://schemas.openxmlformats.org/officeDocument/2006/relationships/hyperlink" Target="mailto:noubir@ccs.neu.edu" TargetMode="External"/><Relationship Id="rId7" Type="http://schemas.openxmlformats.org/officeDocument/2006/relationships/hyperlink" Target="mailto:noubir@ccs.neu.edu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ding and Erro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80520" y="36576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 Noub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noubir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ccs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neu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ed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hapter 8, “Wireless Communications and Networks”, William Stallings, Prentice H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Modulo 2 Arithme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have no remainder, start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s quotient  and remain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mainder as 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9000" y="2286000"/>
                <a:ext cx="28195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124080" y="3962520"/>
                <a:ext cx="3276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D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76720" y="5638680"/>
                <a:ext cx="27813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Modulo 2 Arithme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no remaind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ing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mainder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xactly divisible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819520" y="2133720"/>
                <a:ext cx="449568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D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590920" y="3962520"/>
                <a:ext cx="5040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Polynom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values expressed as polynom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binary coeffic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048120" y="2971800"/>
                <a:ext cx="41148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Polynom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ly used versions of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–1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–16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 – CCIT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 – 3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Digital Log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ing circuit consisting o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OR g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OR g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 of a gate corresponds to the presence of a term in the divisor polynomi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ift regi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of 1-bit storag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, equal to the length of the F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gital Logic CR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2100240"/>
            <a:ext cx="85345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ireless Transmission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detection requires retrans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tion inadequate for wireless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rate on wireless link can be high, results in a large number of re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propagation delay compared to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 Error Correction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error correction (FEC) encoder maps each k-bit block into an n-bit block code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word is transmitted; analog for wireles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ing signal is demodul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passed through an FEC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Error Correctio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95280" y="1285920"/>
            <a:ext cx="58676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EC Decoder Outco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rrors pre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word produced by decoder matches original code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er detects and corrects bit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er detects but cannot correct bit errors; reports uncorrectable err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er detects no bit errors, though errors are pre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ping with Data Transmission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detection c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s the presence of an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repeat request (ARQ) protoc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of data with error is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r retransmits that block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correction codes, or forward correction codes (FE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to detect and correc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 Code Princi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ming distance – for 2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it binary sequences, the number of different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11011;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10001; d(v1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cy – ratio of redundant bits to data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rate – ratio of data bits to total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ock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amming distanc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a Block code is the minimum distance between two code 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ror Dete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ror Corre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CodeSpheres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39084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590920" y="4800600"/>
                <a:ext cx="660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ing gain is the amount of additional SNR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would be required to provide the same BER performance for an uncod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code is capable of correcting 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os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err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U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BER of the channel without coding, then the probability that a bit is in error using coding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362320" y="5410080"/>
                <a:ext cx="35161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mming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to correct single bit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of (n, k) block error-correcting codes with parame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length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data bi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check bi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distanc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error-correcting (SEC)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 double-error-detecting (SEC-DED)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of Binary Block Code (7, 4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two different code words are different on at least three different coordinates. This code has Hamming distance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00200" y="2182680"/>
          <a:ext cx="6626160" cy="322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82680"/>
                    <a:ext cx="66261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5228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last 4 bits of the code word are the same as th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is a systematic 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ther 3 bits are redundancy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mming Code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ing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bits 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heck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ing: compares receive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its with calculate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its using X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ndrome 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drome range is between 0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it of syndrome indicates a match (0) or conflict (1) in that bit 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ear Blo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 code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de words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ne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c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de words form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imensional subspace of the vector space of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tuples over the field GF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l Meaning: linear combinations of codewords are also code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near code is completely specified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dependent codewords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generator matr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coder needs only to store the matrix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Linear code (7, 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ncod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 1 0 1)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257800" y="4800600"/>
                <a:ext cx="296532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ity-Check Matrix (H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or matrix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with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inearly independent rows), there exists 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x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trix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wit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linearly independent rows)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arity check matr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ch that: any vector in the row space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orthogonal to any row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ny vector that is orthogonal to all the rows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in the row space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binations of the rows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m an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-dimensional subspace. It is the null space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, 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code generat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It is called the dual space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not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hav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v w 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666880" y="4343400"/>
                <a:ext cx="27939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G</m:t>
                    </m:r>
                    <m:r>
                      <m:t xml:space="preserve">⇔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H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atic 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40472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inear block code is called systematic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code words can be divided into two parts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ssage par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), and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dundancy checking par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-k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atic code generator matrix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-k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2220840" y="2718000"/>
            <a:ext cx="1600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undant Checking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21040" y="2716200"/>
            <a:ext cx="1600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           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08920" y="327600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-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g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4120" y="327600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g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866960" y="4532400"/>
                <a:ext cx="42289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eqArr>
                                        <m:e>
                                          <m:sSub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,0</m:t>
                                              </m:r>
                                            </m:sub>
                                          </m:sSub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>
                                      <m:eqAr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>
                                      <m:eqAr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/>
                                    <m:e>
                                      <m:eqArr>
                                        <m:e>
                                          <m:sSub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</m:t>
                                              </m:r>
                                              <m:r>
                                                <m:t xml:space="preserve">,</m:t>
                                              </m:r>
                                              <m:r>
                                                <m:t xml:space="preserve">n</m:t>
                                              </m:r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groupChr>
                          </m:e>
                          <m:lim>
                            <m:r>
                              <m:t xml:space="preserve">P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arity matrix</m:t>
                            </m:r>
                          </m:lim>
                        </m:limLow>
                        <m:r>
                          <m:t xml:space="preserve">|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x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dentity matrix</m:t>
                            </m:r>
                          </m:lim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mming Codes (2</a:t>
            </a:r>
            <a:r>
              <a:rPr b="0" i="1" lang="en-US" sz="4400" spc="-1" strike="noStrike" baseline="30000">
                <a:solidFill>
                  <a:srgbClr val="333399"/>
                </a:solidFill>
                <a:latin typeface="Tahoma"/>
              </a:rPr>
              <a:t>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1, 2</a:t>
            </a:r>
            <a:r>
              <a:rPr b="0" i="1" lang="en-US" sz="4400" spc="-1" strike="noStrike" baseline="30000">
                <a:solidFill>
                  <a:srgbClr val="333399"/>
                </a:solidFill>
                <a:latin typeface="Tahoma"/>
              </a:rPr>
              <a:t>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m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of Hamming codes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2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length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information bits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parity check bits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 distance: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r-correcting capability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-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ity check matrix of a Hamming code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identity matrix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ists of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columns which are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uples of weight 2 or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83000" y="4813200"/>
                <a:ext cx="3352680" cy="13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Detection Prob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Probability of single bit error (B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Probability that a frame arrives with no bit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While using error detection, the probability that a frame arrives with one or more undetected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While using error detection, the probability that a frame arrives with one or more detected bit errors but no undetected bit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imum Distance of Block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inimum distanc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block code is the minimum distance between any two code wor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min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, 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t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, w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min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 + 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t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, w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min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t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(be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ector sub-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Minimum Distance of Hamming Cod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yclic Block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linear c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yclic 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every cyclic shift of a code vector i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lso a code v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words can be represented as polynomials of degre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For a cyclic code all codewords are multiple of some polynomia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modul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vide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called the generator polynom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mming codes, Golay Codes, BCH codes, RS c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CH codes were independently discovered by Hocquenghem (1959) and by Bose and Chaudhuri (196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ed-Solomon codes (non-binary BCH codes) were independently introduced by Reed-Solom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yclic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encoded and decoded using linear feedback shift registers (LFS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yclic codes, a valid codewor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shifted right one bit, is also a valid codewor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s fixed-length in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produces fixed-length check cod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rast, CRC error-detecting code accepts arbitrary length input for fixed-length check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yclic Block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54476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yclic Hamming code of length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2 is generated by a primitive polynomi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of degre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mming code (31, 2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1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lay Cod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yclic code (23, 1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 distance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or polynomials: eith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5181480"/>
                <a:ext cx="3772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CH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ositive pair of integer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CH code has parame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length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check bi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dista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 combination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fewer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ility in choice of paramet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length, code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se Chaudhuri and Hocquenghem (BCH)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960" y="1504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any positive integer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2) an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&lt;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, there exists a BCH co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length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ity bits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um distance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2t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tor polynomial is th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lowest-degree polynomial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ver GF(2) such that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…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re its roots.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s the primitive root of unity in the extension field GF(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h a BCH code is capable of correcting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tor polynomial is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LCM{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, …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(becaus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i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re conjugates), th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LCM{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, …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ce any minimal polynomial has degre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r less, then degree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- 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of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t mos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1, then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 primitive polynomial and we have a Hamming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ed-Solomon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 of nonbinary BCH c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processed in chunk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s, called symb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S code has paramete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lengt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 per symb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lengt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 symbols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)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engt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check cod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istanc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 Interleav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written to and read from memory in different or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bits and corresponding check bits are interspersed with bits from oth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receiver, data are deinterleaved to recover original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urst error that may occur is spread out over a number of blocks, making error correction 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 Interleav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39152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nvolutional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s redundant bits continuous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checking and correcting carried ou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process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at a tim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produc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for ever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put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onstraint fa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nerally very sm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output of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de depends 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block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put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block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put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Detection Prob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no error de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 Number of bits per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76720" y="2209680"/>
                <a:ext cx="3200400" cy="254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nvolutional Enco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85800" y="1562040"/>
            <a:ext cx="72388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llis diagram – expanded encoder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erbi code – error correction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s received sequence with all possible transmitted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chooses path through trellis whose coded sequence differs from received sequence in the fewest number of pl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valid path is selected as the correct path, the decoder can recover the input data bits from the output code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63280" y="152280"/>
            <a:ext cx="8661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presentations of Convolutional Cod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llis represent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966960" y="288288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6528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6372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62040" y="342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6372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2040" y="3967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6048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588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2" idx="6"/>
            <a:endCxn id="213" idx="2"/>
          </p:cNvCxnSpPr>
          <p:nvPr/>
        </p:nvCxnSpPr>
        <p:spPr>
          <a:xfrm flipV="1">
            <a:off x="1055520" y="292500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2" idx="4"/>
            <a:endCxn id="215" idx="1"/>
          </p:cNvCxnSpPr>
          <p:nvPr/>
        </p:nvCxnSpPr>
        <p:spPr>
          <a:xfrm>
            <a:off x="1010880" y="297180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22" name=""/>
          <p:cNvSpPr/>
          <p:nvPr/>
        </p:nvSpPr>
        <p:spPr>
          <a:xfrm>
            <a:off x="220824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065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500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0368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0500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0368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17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0044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2" idx="6"/>
            <a:endCxn id="223" idx="2"/>
          </p:cNvCxnSpPr>
          <p:nvPr/>
        </p:nvCxnSpPr>
        <p:spPr>
          <a:xfrm flipV="1">
            <a:off x="2296800" y="29329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22" idx="4"/>
            <a:endCxn id="225" idx="1"/>
          </p:cNvCxnSpPr>
          <p:nvPr/>
        </p:nvCxnSpPr>
        <p:spPr>
          <a:xfrm>
            <a:off x="2252520" y="2979720"/>
            <a:ext cx="56448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2" name=""/>
          <p:cNvCxnSpPr>
            <a:stCxn id="213" idx="6"/>
            <a:endCxn id="222" idx="2"/>
          </p:cNvCxnSpPr>
          <p:nvPr/>
        </p:nvCxnSpPr>
        <p:spPr>
          <a:xfrm>
            <a:off x="165384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213" idx="5"/>
            <a:endCxn id="224" idx="1"/>
          </p:cNvCxnSpPr>
          <p:nvPr/>
        </p:nvCxnSpPr>
        <p:spPr>
          <a:xfrm>
            <a:off x="1641600" y="2957400"/>
            <a:ext cx="57636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4" name=""/>
          <p:cNvCxnSpPr>
            <a:stCxn id="215" idx="5"/>
            <a:endCxn id="226" idx="1"/>
          </p:cNvCxnSpPr>
          <p:nvPr/>
        </p:nvCxnSpPr>
        <p:spPr>
          <a:xfrm>
            <a:off x="1638000" y="3498480"/>
            <a:ext cx="57996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15" idx="5"/>
            <a:endCxn id="228" idx="1"/>
          </p:cNvCxnSpPr>
          <p:nvPr/>
        </p:nvCxnSpPr>
        <p:spPr>
          <a:xfrm>
            <a:off x="1638000" y="3498840"/>
            <a:ext cx="577080" cy="1032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6" name=""/>
          <p:cNvCxnSpPr>
            <a:stCxn id="224" idx="5"/>
            <a:endCxn id="227" idx="2"/>
          </p:cNvCxnSpPr>
          <p:nvPr/>
        </p:nvCxnSpPr>
        <p:spPr>
          <a:xfrm>
            <a:off x="228096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4" idx="5"/>
            <a:endCxn id="229" idx="1"/>
          </p:cNvCxnSpPr>
          <p:nvPr/>
        </p:nvCxnSpPr>
        <p:spPr>
          <a:xfrm>
            <a:off x="228096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8" name=""/>
          <p:cNvCxnSpPr>
            <a:stCxn id="226" idx="7"/>
            <a:endCxn id="223" idx="3"/>
          </p:cNvCxnSpPr>
          <p:nvPr/>
        </p:nvCxnSpPr>
        <p:spPr>
          <a:xfrm flipV="1">
            <a:off x="228096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28" idx="6"/>
            <a:endCxn id="227" idx="3"/>
          </p:cNvCxnSpPr>
          <p:nvPr/>
        </p:nvCxnSpPr>
        <p:spPr>
          <a:xfrm flipV="1">
            <a:off x="2290680" y="40510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28" idx="6"/>
            <a:endCxn id="229" idx="2"/>
          </p:cNvCxnSpPr>
          <p:nvPr/>
        </p:nvCxnSpPr>
        <p:spPr>
          <a:xfrm flipV="1">
            <a:off x="2290680" y="45601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1" name=""/>
          <p:cNvCxnSpPr>
            <a:stCxn id="226" idx="6"/>
            <a:endCxn id="225" idx="2"/>
          </p:cNvCxnSpPr>
          <p:nvPr/>
        </p:nvCxnSpPr>
        <p:spPr>
          <a:xfrm flipV="1">
            <a:off x="229392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42" name=""/>
          <p:cNvSpPr/>
          <p:nvPr/>
        </p:nvSpPr>
        <p:spPr>
          <a:xfrm>
            <a:off x="281160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0992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0836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066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0836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066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0512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34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2" idx="6"/>
            <a:endCxn id="243" idx="2"/>
          </p:cNvCxnSpPr>
          <p:nvPr/>
        </p:nvCxnSpPr>
        <p:spPr>
          <a:xfrm flipV="1">
            <a:off x="290016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2" idx="4"/>
            <a:endCxn id="245" idx="1"/>
          </p:cNvCxnSpPr>
          <p:nvPr/>
        </p:nvCxnSpPr>
        <p:spPr>
          <a:xfrm>
            <a:off x="285588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2" name=""/>
          <p:cNvCxnSpPr>
            <a:stCxn id="244" idx="5"/>
            <a:endCxn id="247" idx="2"/>
          </p:cNvCxnSpPr>
          <p:nvPr/>
        </p:nvCxnSpPr>
        <p:spPr>
          <a:xfrm>
            <a:off x="28839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4" idx="5"/>
            <a:endCxn id="249" idx="1"/>
          </p:cNvCxnSpPr>
          <p:nvPr/>
        </p:nvCxnSpPr>
        <p:spPr>
          <a:xfrm>
            <a:off x="2884320" y="3495600"/>
            <a:ext cx="53280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4" name=""/>
          <p:cNvCxnSpPr>
            <a:stCxn id="246" idx="7"/>
            <a:endCxn id="243" idx="3"/>
          </p:cNvCxnSpPr>
          <p:nvPr/>
        </p:nvCxnSpPr>
        <p:spPr>
          <a:xfrm flipV="1">
            <a:off x="28839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8" idx="6"/>
            <a:endCxn id="247" idx="3"/>
          </p:cNvCxnSpPr>
          <p:nvPr/>
        </p:nvCxnSpPr>
        <p:spPr>
          <a:xfrm flipV="1">
            <a:off x="289404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" name=""/>
          <p:cNvCxnSpPr>
            <a:stCxn id="248" idx="6"/>
            <a:endCxn id="249" idx="2"/>
          </p:cNvCxnSpPr>
          <p:nvPr/>
        </p:nvCxnSpPr>
        <p:spPr>
          <a:xfrm flipV="1">
            <a:off x="2893680" y="45478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7" name=""/>
          <p:cNvCxnSpPr>
            <a:stCxn id="246" idx="6"/>
            <a:endCxn id="245" idx="2"/>
          </p:cNvCxnSpPr>
          <p:nvPr/>
        </p:nvCxnSpPr>
        <p:spPr>
          <a:xfrm flipV="1">
            <a:off x="28969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58" name=""/>
          <p:cNvSpPr/>
          <p:nvPr/>
        </p:nvSpPr>
        <p:spPr>
          <a:xfrm>
            <a:off x="341640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1472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1316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11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1316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0992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45036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6"/>
            <a:endCxn id="259" idx="2"/>
          </p:cNvCxnSpPr>
          <p:nvPr/>
        </p:nvCxnSpPr>
        <p:spPr>
          <a:xfrm flipV="1">
            <a:off x="350496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58" idx="4"/>
            <a:endCxn id="261" idx="1"/>
          </p:cNvCxnSpPr>
          <p:nvPr/>
        </p:nvCxnSpPr>
        <p:spPr>
          <a:xfrm>
            <a:off x="346068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8" name=""/>
          <p:cNvCxnSpPr>
            <a:stCxn id="260" idx="5"/>
            <a:endCxn id="263" idx="2"/>
          </p:cNvCxnSpPr>
          <p:nvPr/>
        </p:nvCxnSpPr>
        <p:spPr>
          <a:xfrm>
            <a:off x="3489480" y="349560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" name=""/>
          <p:cNvCxnSpPr>
            <a:stCxn id="260" idx="5"/>
            <a:endCxn id="265" idx="1"/>
          </p:cNvCxnSpPr>
          <p:nvPr/>
        </p:nvCxnSpPr>
        <p:spPr>
          <a:xfrm>
            <a:off x="348912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0" name=""/>
          <p:cNvCxnSpPr>
            <a:stCxn id="262" idx="7"/>
            <a:endCxn id="259" idx="3"/>
          </p:cNvCxnSpPr>
          <p:nvPr/>
        </p:nvCxnSpPr>
        <p:spPr>
          <a:xfrm flipV="1">
            <a:off x="3489480" y="2952360"/>
            <a:ext cx="53856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64" idx="6"/>
            <a:endCxn id="263" idx="3"/>
          </p:cNvCxnSpPr>
          <p:nvPr/>
        </p:nvCxnSpPr>
        <p:spPr>
          <a:xfrm flipV="1">
            <a:off x="349884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64" idx="6"/>
            <a:endCxn id="265" idx="2"/>
          </p:cNvCxnSpPr>
          <p:nvPr/>
        </p:nvCxnSpPr>
        <p:spPr>
          <a:xfrm flipV="1">
            <a:off x="349884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3" name=""/>
          <p:cNvCxnSpPr>
            <a:stCxn id="262" idx="6"/>
            <a:endCxn id="261" idx="2"/>
          </p:cNvCxnSpPr>
          <p:nvPr/>
        </p:nvCxnSpPr>
        <p:spPr>
          <a:xfrm flipV="1">
            <a:off x="35017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74" name=""/>
          <p:cNvSpPr/>
          <p:nvPr/>
        </p:nvSpPr>
        <p:spPr>
          <a:xfrm>
            <a:off x="4008600" y="2878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0692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0536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036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0536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036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0212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004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4" idx="6"/>
            <a:endCxn id="275" idx="2"/>
          </p:cNvCxnSpPr>
          <p:nvPr/>
        </p:nvCxnSpPr>
        <p:spPr>
          <a:xfrm flipV="1">
            <a:off x="40971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stCxn id="274" idx="4"/>
            <a:endCxn id="277" idx="1"/>
          </p:cNvCxnSpPr>
          <p:nvPr/>
        </p:nvCxnSpPr>
        <p:spPr>
          <a:xfrm>
            <a:off x="40525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4" name=""/>
          <p:cNvCxnSpPr>
            <a:stCxn id="276" idx="5"/>
            <a:endCxn id="279" idx="2"/>
          </p:cNvCxnSpPr>
          <p:nvPr/>
        </p:nvCxnSpPr>
        <p:spPr>
          <a:xfrm>
            <a:off x="40809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76" idx="5"/>
            <a:endCxn id="281" idx="1"/>
          </p:cNvCxnSpPr>
          <p:nvPr/>
        </p:nvCxnSpPr>
        <p:spPr>
          <a:xfrm>
            <a:off x="4081320" y="3495600"/>
            <a:ext cx="53280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6" name=""/>
          <p:cNvCxnSpPr>
            <a:stCxn id="278" idx="7"/>
            <a:endCxn id="275" idx="3"/>
          </p:cNvCxnSpPr>
          <p:nvPr/>
        </p:nvCxnSpPr>
        <p:spPr>
          <a:xfrm flipV="1">
            <a:off x="40809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80" idx="6"/>
            <a:endCxn id="279" idx="3"/>
          </p:cNvCxnSpPr>
          <p:nvPr/>
        </p:nvCxnSpPr>
        <p:spPr>
          <a:xfrm flipV="1">
            <a:off x="4090680" y="403812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80" idx="6"/>
            <a:endCxn id="281" idx="2"/>
          </p:cNvCxnSpPr>
          <p:nvPr/>
        </p:nvCxnSpPr>
        <p:spPr>
          <a:xfrm flipV="1">
            <a:off x="4090680" y="45478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9" name=""/>
          <p:cNvCxnSpPr>
            <a:stCxn id="278" idx="6"/>
            <a:endCxn id="277" idx="2"/>
          </p:cNvCxnSpPr>
          <p:nvPr/>
        </p:nvCxnSpPr>
        <p:spPr>
          <a:xfrm flipV="1">
            <a:off x="40939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0" name=""/>
          <p:cNvSpPr/>
          <p:nvPr/>
        </p:nvSpPr>
        <p:spPr>
          <a:xfrm>
            <a:off x="461484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13520" y="287496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116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1028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116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1028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083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0704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90" idx="6"/>
            <a:endCxn id="291" idx="2"/>
          </p:cNvCxnSpPr>
          <p:nvPr/>
        </p:nvCxnSpPr>
        <p:spPr>
          <a:xfrm flipV="1">
            <a:off x="470376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90" idx="4"/>
            <a:endCxn id="293" idx="1"/>
          </p:cNvCxnSpPr>
          <p:nvPr/>
        </p:nvCxnSpPr>
        <p:spPr>
          <a:xfrm>
            <a:off x="465912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0" name=""/>
          <p:cNvCxnSpPr>
            <a:stCxn id="292" idx="5"/>
            <a:endCxn id="295" idx="2"/>
          </p:cNvCxnSpPr>
          <p:nvPr/>
        </p:nvCxnSpPr>
        <p:spPr>
          <a:xfrm>
            <a:off x="468756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92" idx="5"/>
            <a:endCxn id="297" idx="1"/>
          </p:cNvCxnSpPr>
          <p:nvPr/>
        </p:nvCxnSpPr>
        <p:spPr>
          <a:xfrm>
            <a:off x="4687560" y="349380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2" name=""/>
          <p:cNvCxnSpPr>
            <a:stCxn id="294" idx="7"/>
            <a:endCxn id="291" idx="3"/>
          </p:cNvCxnSpPr>
          <p:nvPr/>
        </p:nvCxnSpPr>
        <p:spPr>
          <a:xfrm flipV="1">
            <a:off x="468756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96" idx="6"/>
            <a:endCxn id="295" idx="3"/>
          </p:cNvCxnSpPr>
          <p:nvPr/>
        </p:nvCxnSpPr>
        <p:spPr>
          <a:xfrm flipV="1">
            <a:off x="4697280" y="40366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296" idx="6"/>
            <a:endCxn id="297" idx="2"/>
          </p:cNvCxnSpPr>
          <p:nvPr/>
        </p:nvCxnSpPr>
        <p:spPr>
          <a:xfrm flipV="1">
            <a:off x="4697280" y="45457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5" name=""/>
          <p:cNvCxnSpPr>
            <a:stCxn id="294" idx="6"/>
            <a:endCxn id="293" idx="2"/>
          </p:cNvCxnSpPr>
          <p:nvPr/>
        </p:nvCxnSpPr>
        <p:spPr>
          <a:xfrm flipV="1">
            <a:off x="4700520" y="34603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06" name=""/>
          <p:cNvSpPr/>
          <p:nvPr/>
        </p:nvSpPr>
        <p:spPr>
          <a:xfrm>
            <a:off x="111240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2032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647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726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694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917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1732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06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742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0624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552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6340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5548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6656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871360" y="2687760"/>
            <a:ext cx="592560" cy="2100960"/>
            <a:chOff x="2871360" y="2687760"/>
            <a:chExt cx="592560" cy="2100960"/>
          </a:xfrm>
        </p:grpSpPr>
        <p:sp>
          <p:nvSpPr>
            <p:cNvPr id="321" name=""/>
            <p:cNvSpPr/>
            <p:nvPr/>
          </p:nvSpPr>
          <p:spPr>
            <a:xfrm>
              <a:off x="29217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854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790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106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600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678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599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7136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79400" y="2684520"/>
            <a:ext cx="592560" cy="2100960"/>
            <a:chOff x="3479400" y="2684520"/>
            <a:chExt cx="592560" cy="2100960"/>
          </a:xfrm>
        </p:grpSpPr>
        <p:sp>
          <p:nvSpPr>
            <p:cNvPr id="330" name=""/>
            <p:cNvSpPr/>
            <p:nvPr/>
          </p:nvSpPr>
          <p:spPr>
            <a:xfrm>
              <a:off x="35298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934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871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187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680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758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679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7940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76280" y="2692440"/>
            <a:ext cx="592560" cy="2100960"/>
            <a:chOff x="4076280" y="2692440"/>
            <a:chExt cx="592560" cy="2100960"/>
          </a:xfrm>
        </p:grpSpPr>
        <p:sp>
          <p:nvSpPr>
            <p:cNvPr id="339" name=""/>
            <p:cNvSpPr/>
            <p:nvPr/>
          </p:nvSpPr>
          <p:spPr>
            <a:xfrm>
              <a:off x="41266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903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840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156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649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727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648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7628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684320" y="2689200"/>
            <a:ext cx="592560" cy="2100960"/>
            <a:chOff x="4684320" y="2689200"/>
            <a:chExt cx="592560" cy="2100960"/>
          </a:xfrm>
        </p:grpSpPr>
        <p:sp>
          <p:nvSpPr>
            <p:cNvPr id="348" name=""/>
            <p:cNvSpPr/>
            <p:nvPr/>
          </p:nvSpPr>
          <p:spPr>
            <a:xfrm>
              <a:off x="4734720" y="268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98360" y="2963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92040" y="3695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23640" y="3924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72960" y="3481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80800" y="328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772880" y="445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84320" y="4219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22612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2288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2288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1964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3404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323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23080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29480" y="341316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3080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29480" y="395748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275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2624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0" idx="6"/>
            <a:endCxn id="361" idx="2"/>
          </p:cNvCxnSpPr>
          <p:nvPr/>
        </p:nvCxnSpPr>
        <p:spPr>
          <a:xfrm flipV="1">
            <a:off x="5322600" y="29160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0" idx="4"/>
            <a:endCxn id="363" idx="1"/>
          </p:cNvCxnSpPr>
          <p:nvPr/>
        </p:nvCxnSpPr>
        <p:spPr>
          <a:xfrm>
            <a:off x="5278320" y="29620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0" name=""/>
          <p:cNvCxnSpPr>
            <a:stCxn id="362" idx="5"/>
            <a:endCxn id="365" idx="2"/>
          </p:cNvCxnSpPr>
          <p:nvPr/>
        </p:nvCxnSpPr>
        <p:spPr>
          <a:xfrm>
            <a:off x="530676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2" idx="5"/>
            <a:endCxn id="367" idx="1"/>
          </p:cNvCxnSpPr>
          <p:nvPr/>
        </p:nvCxnSpPr>
        <p:spPr>
          <a:xfrm>
            <a:off x="530676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2" name=""/>
          <p:cNvCxnSpPr>
            <a:stCxn id="364" idx="7"/>
            <a:endCxn id="361" idx="3"/>
          </p:cNvCxnSpPr>
          <p:nvPr/>
        </p:nvCxnSpPr>
        <p:spPr>
          <a:xfrm flipV="1">
            <a:off x="530676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66" idx="6"/>
            <a:endCxn id="365" idx="3"/>
          </p:cNvCxnSpPr>
          <p:nvPr/>
        </p:nvCxnSpPr>
        <p:spPr>
          <a:xfrm flipV="1">
            <a:off x="5316480" y="40334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66" idx="6"/>
            <a:endCxn id="367" idx="2"/>
          </p:cNvCxnSpPr>
          <p:nvPr/>
        </p:nvCxnSpPr>
        <p:spPr>
          <a:xfrm flipV="1">
            <a:off x="5316480" y="45432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5" name=""/>
          <p:cNvCxnSpPr>
            <a:stCxn id="364" idx="6"/>
            <a:endCxn id="363" idx="2"/>
          </p:cNvCxnSpPr>
          <p:nvPr/>
        </p:nvCxnSpPr>
        <p:spPr>
          <a:xfrm flipV="1">
            <a:off x="531972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376" name=""/>
          <p:cNvGrpSpPr/>
          <p:nvPr/>
        </p:nvGrpSpPr>
        <p:grpSpPr>
          <a:xfrm>
            <a:off x="5303160" y="2685960"/>
            <a:ext cx="592920" cy="2100960"/>
            <a:chOff x="5303160" y="2685960"/>
            <a:chExt cx="592920" cy="2100960"/>
          </a:xfrm>
        </p:grpSpPr>
        <p:sp>
          <p:nvSpPr>
            <p:cNvPr id="377" name=""/>
            <p:cNvSpPr/>
            <p:nvPr/>
          </p:nvSpPr>
          <p:spPr>
            <a:xfrm>
              <a:off x="53539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175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112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428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921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000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920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031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410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728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0728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0404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endCxn id="385" idx="2"/>
          </p:cNvCxnSpPr>
          <p:nvPr/>
        </p:nvCxnSpPr>
        <p:spPr>
          <a:xfrm flipV="1">
            <a:off x="5900400" y="29160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endCxn id="386" idx="1"/>
          </p:cNvCxnSpPr>
          <p:nvPr/>
        </p:nvCxnSpPr>
        <p:spPr>
          <a:xfrm>
            <a:off x="5856120" y="29620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91" name=""/>
          <p:cNvCxnSpPr>
            <a:endCxn id="387" idx="2"/>
          </p:cNvCxnSpPr>
          <p:nvPr/>
        </p:nvCxnSpPr>
        <p:spPr>
          <a:xfrm>
            <a:off x="588456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"/>
          <p:cNvCxnSpPr>
            <a:endCxn id="388" idx="1"/>
          </p:cNvCxnSpPr>
          <p:nvPr/>
        </p:nvCxnSpPr>
        <p:spPr>
          <a:xfrm>
            <a:off x="588456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93" name=""/>
          <p:cNvCxnSpPr>
            <a:endCxn id="385" idx="3"/>
          </p:cNvCxnSpPr>
          <p:nvPr/>
        </p:nvCxnSpPr>
        <p:spPr>
          <a:xfrm flipV="1">
            <a:off x="588456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4" name=""/>
          <p:cNvCxnSpPr>
            <a:endCxn id="387" idx="3"/>
          </p:cNvCxnSpPr>
          <p:nvPr/>
        </p:nvCxnSpPr>
        <p:spPr>
          <a:xfrm flipV="1">
            <a:off x="5894280" y="40334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5" name=""/>
          <p:cNvCxnSpPr>
            <a:endCxn id="388" idx="2"/>
          </p:cNvCxnSpPr>
          <p:nvPr/>
        </p:nvCxnSpPr>
        <p:spPr>
          <a:xfrm flipV="1">
            <a:off x="5894280" y="45432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96" name=""/>
          <p:cNvCxnSpPr>
            <a:endCxn id="386" idx="2"/>
          </p:cNvCxnSpPr>
          <p:nvPr/>
        </p:nvCxnSpPr>
        <p:spPr>
          <a:xfrm flipV="1">
            <a:off x="589752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397" name=""/>
          <p:cNvGrpSpPr/>
          <p:nvPr/>
        </p:nvGrpSpPr>
        <p:grpSpPr>
          <a:xfrm>
            <a:off x="5881320" y="2685960"/>
            <a:ext cx="592560" cy="2100960"/>
            <a:chOff x="5881320" y="2685960"/>
            <a:chExt cx="592560" cy="2100960"/>
          </a:xfrm>
        </p:grpSpPr>
        <p:sp>
          <p:nvSpPr>
            <p:cNvPr id="398" name=""/>
            <p:cNvSpPr/>
            <p:nvPr/>
          </p:nvSpPr>
          <p:spPr>
            <a:xfrm>
              <a:off x="59317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953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890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206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699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778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698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8132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642312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1988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1664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3104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293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2780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261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2780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261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2456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2324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"/>
          <p:cNvCxnSpPr>
            <a:stCxn id="410" idx="6"/>
            <a:endCxn id="411" idx="2"/>
          </p:cNvCxnSpPr>
          <p:nvPr/>
        </p:nvCxnSpPr>
        <p:spPr>
          <a:xfrm flipV="1">
            <a:off x="6519600" y="291276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410" idx="4"/>
            <a:endCxn id="413" idx="1"/>
          </p:cNvCxnSpPr>
          <p:nvPr/>
        </p:nvCxnSpPr>
        <p:spPr>
          <a:xfrm>
            <a:off x="6475320" y="295884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20" name=""/>
          <p:cNvCxnSpPr>
            <a:stCxn id="412" idx="5"/>
            <a:endCxn id="415" idx="2"/>
          </p:cNvCxnSpPr>
          <p:nvPr/>
        </p:nvCxnSpPr>
        <p:spPr>
          <a:xfrm>
            <a:off x="6504120" y="348768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412" idx="5"/>
            <a:endCxn id="417" idx="1"/>
          </p:cNvCxnSpPr>
          <p:nvPr/>
        </p:nvCxnSpPr>
        <p:spPr>
          <a:xfrm>
            <a:off x="650376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22" name=""/>
          <p:cNvCxnSpPr>
            <a:stCxn id="414" idx="7"/>
            <a:endCxn id="411" idx="3"/>
          </p:cNvCxnSpPr>
          <p:nvPr/>
        </p:nvCxnSpPr>
        <p:spPr>
          <a:xfrm flipV="1">
            <a:off x="650376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416" idx="6"/>
            <a:endCxn id="415" idx="3"/>
          </p:cNvCxnSpPr>
          <p:nvPr/>
        </p:nvCxnSpPr>
        <p:spPr>
          <a:xfrm flipV="1">
            <a:off x="651348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4" name=""/>
          <p:cNvCxnSpPr>
            <a:stCxn id="416" idx="6"/>
            <a:endCxn id="417" idx="2"/>
          </p:cNvCxnSpPr>
          <p:nvPr/>
        </p:nvCxnSpPr>
        <p:spPr>
          <a:xfrm flipV="1">
            <a:off x="651348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25" name=""/>
          <p:cNvCxnSpPr>
            <a:stCxn id="414" idx="6"/>
            <a:endCxn id="413" idx="2"/>
          </p:cNvCxnSpPr>
          <p:nvPr/>
        </p:nvCxnSpPr>
        <p:spPr>
          <a:xfrm flipV="1">
            <a:off x="6516360" y="345420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426" name=""/>
          <p:cNvGrpSpPr/>
          <p:nvPr/>
        </p:nvGrpSpPr>
        <p:grpSpPr>
          <a:xfrm>
            <a:off x="6500160" y="2682720"/>
            <a:ext cx="592920" cy="2100960"/>
            <a:chOff x="6500160" y="2682720"/>
            <a:chExt cx="592920" cy="2100960"/>
          </a:xfrm>
        </p:grpSpPr>
        <p:sp>
          <p:nvSpPr>
            <p:cNvPr id="427" name=""/>
            <p:cNvSpPr/>
            <p:nvPr/>
          </p:nvSpPr>
          <p:spPr>
            <a:xfrm>
              <a:off x="655092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1456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0824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3984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8916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9700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8908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001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76341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31280" y="34020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31280" y="394668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804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endCxn id="435" idx="2"/>
          </p:cNvCxnSpPr>
          <p:nvPr/>
        </p:nvCxnSpPr>
        <p:spPr>
          <a:xfrm flipV="1">
            <a:off x="7124400" y="29048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0" name=""/>
          <p:cNvCxnSpPr>
            <a:endCxn id="436" idx="1"/>
          </p:cNvCxnSpPr>
          <p:nvPr/>
        </p:nvCxnSpPr>
        <p:spPr>
          <a:xfrm>
            <a:off x="7080120" y="295092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41" name=""/>
          <p:cNvCxnSpPr>
            <a:endCxn id="437" idx="2"/>
          </p:cNvCxnSpPr>
          <p:nvPr/>
        </p:nvCxnSpPr>
        <p:spPr>
          <a:xfrm>
            <a:off x="710856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endCxn id="438" idx="1"/>
          </p:cNvCxnSpPr>
          <p:nvPr/>
        </p:nvCxnSpPr>
        <p:spPr>
          <a:xfrm>
            <a:off x="710856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43" name=""/>
          <p:cNvCxnSpPr>
            <a:endCxn id="435" idx="3"/>
          </p:cNvCxnSpPr>
          <p:nvPr/>
        </p:nvCxnSpPr>
        <p:spPr>
          <a:xfrm flipV="1">
            <a:off x="710856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endCxn id="437" idx="3"/>
          </p:cNvCxnSpPr>
          <p:nvPr/>
        </p:nvCxnSpPr>
        <p:spPr>
          <a:xfrm flipV="1">
            <a:off x="7118280" y="40222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"/>
          <p:cNvCxnSpPr>
            <a:endCxn id="438" idx="2"/>
          </p:cNvCxnSpPr>
          <p:nvPr/>
        </p:nvCxnSpPr>
        <p:spPr>
          <a:xfrm flipV="1">
            <a:off x="7118280" y="45320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46" name=""/>
          <p:cNvCxnSpPr>
            <a:endCxn id="436" idx="2"/>
          </p:cNvCxnSpPr>
          <p:nvPr/>
        </p:nvCxnSpPr>
        <p:spPr>
          <a:xfrm flipV="1">
            <a:off x="712152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447" name=""/>
          <p:cNvGrpSpPr/>
          <p:nvPr/>
        </p:nvGrpSpPr>
        <p:grpSpPr>
          <a:xfrm>
            <a:off x="7105320" y="2674800"/>
            <a:ext cx="592560" cy="2100960"/>
            <a:chOff x="7105320" y="2674800"/>
            <a:chExt cx="592560" cy="2100960"/>
          </a:xfrm>
        </p:grpSpPr>
        <p:sp>
          <p:nvSpPr>
            <p:cNvPr id="448" name=""/>
            <p:cNvSpPr/>
            <p:nvPr/>
          </p:nvSpPr>
          <p:spPr>
            <a:xfrm>
              <a:off x="7155720" y="2674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19360" y="2949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3040" y="3681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44640" y="3909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93960" y="3466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01800" y="326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93880" y="443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05320" y="4205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764712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4388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4388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4064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5504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25336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5180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2501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5180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2501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4856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47240" y="4484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0" idx="6"/>
            <a:endCxn id="461" idx="2"/>
          </p:cNvCxnSpPr>
          <p:nvPr/>
        </p:nvCxnSpPr>
        <p:spPr>
          <a:xfrm flipV="1">
            <a:off x="774360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0" idx="4"/>
            <a:endCxn id="463" idx="1"/>
          </p:cNvCxnSpPr>
          <p:nvPr/>
        </p:nvCxnSpPr>
        <p:spPr>
          <a:xfrm>
            <a:off x="769932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0" name=""/>
          <p:cNvCxnSpPr>
            <a:stCxn id="462" idx="5"/>
            <a:endCxn id="465" idx="2"/>
          </p:cNvCxnSpPr>
          <p:nvPr/>
        </p:nvCxnSpPr>
        <p:spPr>
          <a:xfrm>
            <a:off x="7728120" y="347652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62" idx="5"/>
            <a:endCxn id="467" idx="1"/>
          </p:cNvCxnSpPr>
          <p:nvPr/>
        </p:nvCxnSpPr>
        <p:spPr>
          <a:xfrm>
            <a:off x="772776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2" name=""/>
          <p:cNvCxnSpPr>
            <a:stCxn id="464" idx="7"/>
            <a:endCxn id="461" idx="3"/>
          </p:cNvCxnSpPr>
          <p:nvPr/>
        </p:nvCxnSpPr>
        <p:spPr>
          <a:xfrm flipV="1">
            <a:off x="7728120" y="2933280"/>
            <a:ext cx="53856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6" idx="6"/>
            <a:endCxn id="465" idx="3"/>
          </p:cNvCxnSpPr>
          <p:nvPr/>
        </p:nvCxnSpPr>
        <p:spPr>
          <a:xfrm flipV="1">
            <a:off x="773748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66" idx="6"/>
            <a:endCxn id="467" idx="2"/>
          </p:cNvCxnSpPr>
          <p:nvPr/>
        </p:nvCxnSpPr>
        <p:spPr>
          <a:xfrm flipV="1">
            <a:off x="773748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5" name=""/>
          <p:cNvCxnSpPr>
            <a:stCxn id="464" idx="6"/>
            <a:endCxn id="463" idx="2"/>
          </p:cNvCxnSpPr>
          <p:nvPr/>
        </p:nvCxnSpPr>
        <p:spPr>
          <a:xfrm flipV="1">
            <a:off x="7740360" y="344304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476" name=""/>
          <p:cNvGrpSpPr/>
          <p:nvPr/>
        </p:nvGrpSpPr>
        <p:grpSpPr>
          <a:xfrm>
            <a:off x="7724160" y="2671920"/>
            <a:ext cx="592920" cy="2100960"/>
            <a:chOff x="7724160" y="2671920"/>
            <a:chExt cx="592920" cy="2100960"/>
          </a:xfrm>
        </p:grpSpPr>
        <p:sp>
          <p:nvSpPr>
            <p:cNvPr id="477" name=""/>
            <p:cNvSpPr/>
            <p:nvPr/>
          </p:nvSpPr>
          <p:spPr>
            <a:xfrm>
              <a:off x="777492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3856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93224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6384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1316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82100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1308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241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22716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9160" y="1600200"/>
            <a:ext cx="886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ci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s a measure of similarity (distance) between the received signal and all potential trellis pa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tate keeps only one “more likely”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sta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 the distance/weight of the branches leading to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ep only the best bran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ll surviving paths at tim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ss through some stat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im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-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 commit to S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-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11011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8" name=""/>
          <p:cNvCxnSpPr>
            <a:stCxn id="490" idx="6"/>
            <a:endCxn id="491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90" idx="4"/>
            <a:endCxn id="493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00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0" idx="6"/>
            <a:endCxn id="501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0" idx="4"/>
            <a:endCxn id="503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10" name=""/>
          <p:cNvCxnSpPr>
            <a:stCxn id="491" idx="6"/>
            <a:endCxn id="500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91" idx="5"/>
            <a:endCxn id="502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12" name=""/>
          <p:cNvCxnSpPr>
            <a:stCxn id="493" idx="5"/>
            <a:endCxn id="504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stCxn id="493" idx="5"/>
            <a:endCxn id="506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14" name=""/>
          <p:cNvCxnSpPr>
            <a:stCxn id="502" idx="5"/>
            <a:endCxn id="505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502" idx="5"/>
            <a:endCxn id="507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16" name=""/>
          <p:cNvCxnSpPr>
            <a:stCxn id="504" idx="7"/>
            <a:endCxn id="501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06" idx="6"/>
            <a:endCxn id="505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06" idx="6"/>
            <a:endCxn id="507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19" name=""/>
          <p:cNvCxnSpPr>
            <a:stCxn id="504" idx="6"/>
            <a:endCxn id="503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20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stCxn id="520" idx="6"/>
            <a:endCxn id="521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9" name=""/>
          <p:cNvCxnSpPr>
            <a:stCxn id="520" idx="4"/>
            <a:endCxn id="523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30" name=""/>
          <p:cNvCxnSpPr>
            <a:stCxn id="522" idx="5"/>
            <a:endCxn id="525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stCxn id="522" idx="5"/>
            <a:endCxn id="527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32" name=""/>
          <p:cNvCxnSpPr>
            <a:stCxn id="524" idx="7"/>
            <a:endCxn id="521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6" idx="6"/>
            <a:endCxn id="525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6" idx="6"/>
            <a:endCxn id="527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35" name=""/>
          <p:cNvCxnSpPr>
            <a:stCxn id="524" idx="6"/>
            <a:endCxn id="523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36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36" idx="6"/>
            <a:endCxn id="537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6" idx="4"/>
            <a:endCxn id="539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46" name=""/>
          <p:cNvCxnSpPr>
            <a:stCxn id="538" idx="5"/>
            <a:endCxn id="541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38" idx="5"/>
            <a:endCxn id="543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48" name=""/>
          <p:cNvCxnSpPr>
            <a:stCxn id="540" idx="7"/>
            <a:endCxn id="537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42" idx="6"/>
            <a:endCxn id="541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2" idx="6"/>
            <a:endCxn id="543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51" name=""/>
          <p:cNvCxnSpPr>
            <a:stCxn id="540" idx="6"/>
            <a:endCxn id="539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52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52" idx="6"/>
            <a:endCxn id="553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2" idx="4"/>
            <a:endCxn id="555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62" name=""/>
          <p:cNvCxnSpPr>
            <a:stCxn id="554" idx="5"/>
            <a:endCxn id="557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54" idx="5"/>
            <a:endCxn id="559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64" name=""/>
          <p:cNvCxnSpPr>
            <a:stCxn id="556" idx="7"/>
            <a:endCxn id="553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58" idx="6"/>
            <a:endCxn id="557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8" idx="6"/>
            <a:endCxn id="559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67" name=""/>
          <p:cNvCxnSpPr>
            <a:stCxn id="556" idx="6"/>
            <a:endCxn id="555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68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"/>
          <p:cNvCxnSpPr>
            <a:stCxn id="568" idx="6"/>
            <a:endCxn id="569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68" idx="4"/>
            <a:endCxn id="571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78" name=""/>
          <p:cNvCxnSpPr>
            <a:stCxn id="570" idx="5"/>
            <a:endCxn id="573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9" name=""/>
          <p:cNvCxnSpPr>
            <a:stCxn id="570" idx="5"/>
            <a:endCxn id="575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80" name=""/>
          <p:cNvCxnSpPr>
            <a:stCxn id="572" idx="7"/>
            <a:endCxn id="569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74" idx="6"/>
            <a:endCxn id="573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74" idx="6"/>
            <a:endCxn id="575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83" name=""/>
          <p:cNvCxnSpPr>
            <a:stCxn id="572" idx="6"/>
            <a:endCxn id="571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84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599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534840" y="2684520"/>
            <a:ext cx="592920" cy="2100960"/>
            <a:chOff x="3534840" y="2684520"/>
            <a:chExt cx="592920" cy="2100960"/>
          </a:xfrm>
        </p:grpSpPr>
        <p:sp>
          <p:nvSpPr>
            <p:cNvPr id="608" name=""/>
            <p:cNvSpPr/>
            <p:nvPr/>
          </p:nvSpPr>
          <p:spPr>
            <a:xfrm>
              <a:off x="35856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5492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429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745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238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316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237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53484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131720" y="2692440"/>
            <a:ext cx="592920" cy="2100960"/>
            <a:chOff x="4131720" y="2692440"/>
            <a:chExt cx="592920" cy="2100960"/>
          </a:xfrm>
        </p:grpSpPr>
        <p:sp>
          <p:nvSpPr>
            <p:cNvPr id="617" name=""/>
            <p:cNvSpPr/>
            <p:nvPr/>
          </p:nvSpPr>
          <p:spPr>
            <a:xfrm>
              <a:off x="41824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461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398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714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207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285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206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3172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4739760" y="2689200"/>
            <a:ext cx="592920" cy="2100960"/>
            <a:chOff x="4739760" y="2689200"/>
            <a:chExt cx="592920" cy="2100960"/>
          </a:xfrm>
        </p:grpSpPr>
        <p:sp>
          <p:nvSpPr>
            <p:cNvPr id="626" name=""/>
            <p:cNvSpPr/>
            <p:nvPr/>
          </p:nvSpPr>
          <p:spPr>
            <a:xfrm>
              <a:off x="4790520" y="268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54160" y="2963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947840" y="3695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79440" y="3924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928760" y="3481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36600" y="328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28680" y="445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39760" y="4219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6" name=""/>
          <p:cNvCxnSpPr>
            <a:stCxn id="638" idx="6"/>
            <a:endCxn id="639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7" name=""/>
          <p:cNvCxnSpPr>
            <a:stCxn id="638" idx="4"/>
            <a:endCxn id="641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48" name=""/>
          <p:cNvCxnSpPr>
            <a:stCxn id="640" idx="5"/>
            <a:endCxn id="643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>
            <a:stCxn id="640" idx="5"/>
            <a:endCxn id="645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50" name=""/>
          <p:cNvCxnSpPr>
            <a:stCxn id="642" idx="7"/>
            <a:endCxn id="639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44" idx="6"/>
            <a:endCxn id="643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2" name=""/>
          <p:cNvCxnSpPr>
            <a:stCxn id="644" idx="6"/>
            <a:endCxn id="645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53" name=""/>
          <p:cNvCxnSpPr>
            <a:stCxn id="642" idx="6"/>
            <a:endCxn id="641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655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7" name=""/>
          <p:cNvCxnSpPr>
            <a:endCxn id="663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endCxn id="664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69" name=""/>
          <p:cNvCxnSpPr>
            <a:endCxn id="665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endCxn id="666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71" name=""/>
          <p:cNvCxnSpPr>
            <a:endCxn id="663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endCxn id="665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endCxn id="666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74" name=""/>
          <p:cNvCxnSpPr>
            <a:endCxn id="664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675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676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88" idx="6"/>
            <a:endCxn id="689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688" idx="4"/>
            <a:endCxn id="691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98" name=""/>
          <p:cNvCxnSpPr>
            <a:stCxn id="690" idx="5"/>
            <a:endCxn id="693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9" name=""/>
          <p:cNvCxnSpPr>
            <a:stCxn id="690" idx="5"/>
            <a:endCxn id="695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00" name=""/>
          <p:cNvCxnSpPr>
            <a:stCxn id="692" idx="7"/>
            <a:endCxn id="689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1" name=""/>
          <p:cNvCxnSpPr>
            <a:stCxn id="694" idx="6"/>
            <a:endCxn id="693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2" name=""/>
          <p:cNvCxnSpPr>
            <a:stCxn id="694" idx="6"/>
            <a:endCxn id="695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03" name=""/>
          <p:cNvCxnSpPr>
            <a:stCxn id="692" idx="6"/>
            <a:endCxn id="691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04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705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7" name=""/>
          <p:cNvCxnSpPr>
            <a:endCxn id="713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8" name=""/>
          <p:cNvCxnSpPr>
            <a:endCxn id="714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19" name=""/>
          <p:cNvCxnSpPr>
            <a:endCxn id="715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0" name=""/>
          <p:cNvCxnSpPr>
            <a:endCxn id="716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21" name=""/>
          <p:cNvCxnSpPr>
            <a:endCxn id="713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2" name=""/>
          <p:cNvCxnSpPr>
            <a:endCxn id="715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3" name=""/>
          <p:cNvCxnSpPr>
            <a:endCxn id="716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24" name=""/>
          <p:cNvCxnSpPr>
            <a:endCxn id="714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25" name=""/>
          <p:cNvGrpSpPr/>
          <p:nvPr/>
        </p:nvGrpSpPr>
        <p:grpSpPr>
          <a:xfrm>
            <a:off x="7160760" y="2674800"/>
            <a:ext cx="592560" cy="2100960"/>
            <a:chOff x="7160760" y="2674800"/>
            <a:chExt cx="592560" cy="2100960"/>
          </a:xfrm>
        </p:grpSpPr>
        <p:sp>
          <p:nvSpPr>
            <p:cNvPr id="726" name=""/>
            <p:cNvSpPr/>
            <p:nvPr/>
          </p:nvSpPr>
          <p:spPr>
            <a:xfrm>
              <a:off x="7211160" y="2674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74800" y="2949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68480" y="3681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00080" y="3909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49400" y="3466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57240" y="326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49320" y="443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60760" y="4205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6" name=""/>
          <p:cNvCxnSpPr>
            <a:stCxn id="738" idx="6"/>
            <a:endCxn id="739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7" name=""/>
          <p:cNvCxnSpPr>
            <a:stCxn id="738" idx="4"/>
            <a:endCxn id="741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48" name=""/>
          <p:cNvCxnSpPr>
            <a:stCxn id="740" idx="5"/>
            <a:endCxn id="743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0" idx="5"/>
            <a:endCxn id="745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50" name=""/>
          <p:cNvCxnSpPr>
            <a:stCxn id="742" idx="7"/>
            <a:endCxn id="739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1" name=""/>
          <p:cNvCxnSpPr>
            <a:stCxn id="744" idx="6"/>
            <a:endCxn id="743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2" name=""/>
          <p:cNvCxnSpPr>
            <a:stCxn id="744" idx="6"/>
            <a:endCxn id="745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53" name=""/>
          <p:cNvCxnSpPr>
            <a:stCxn id="742" idx="6"/>
            <a:endCxn id="741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755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154160" y="1865160"/>
            <a:ext cx="69818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   01   01    01    01    01    00    01    01   00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1     0      1      1      0      1      1      0     1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utomatic Repeat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sm used in data link control and transport protoc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es on use of an error detection code (such as CR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low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s that transmitting entity does not overwhelm a receiving entity with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s with flow control mechanism allow multiple PDUs in transit at the same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Us arrive in same order they’re 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ding-window flow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r maintains list (window) of sequence numbers allowed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maintains list allowed to rece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low Contro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s for breaking up a block of data before transmit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uffer size of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nsmission of PDU due to error requires smaller amounts of data to b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shared medium, larger PDUs occupy medium for extended period, causing delays at other sending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low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69343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sms to detect and correct transmission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erro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PDU : a PDU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aged PDU : PDU arrives with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Detectio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given frame, an error-detecting code (check bits) is calculated from data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bits are appended to data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s incoming frame into data bits and check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s check bits from received data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s calculated check bits against received check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ed error occurs if mism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ntrol Requir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detects errors and discards PD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returns acknowledgment of  received, error-free PD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nsmission after time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retransmits unacknowledged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acknowledgement and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returns negative acknowledgment to PDUs in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Detectio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556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rity Che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ity bit appended to a block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p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bit ensures an even number of 1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d p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ensures an odd number of 1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, 7-bit character [1110001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parity [11100010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 parity [11100011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yclic Redundancy Check (CR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block, transmitter generates a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bit frame check sequence (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fram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 is exactly divisible by predetermin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s incoming frame by predetermin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remainder, assumes no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Modulo 2 Arithme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sive-OR (XOR)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frame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block of data; the fir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-bit FCS; the la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i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atter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 bits; this is the predetermined divi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uot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mai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uevara Noubir</cp:lastModifiedBy>
  <dcterms:modified xsi:type="dcterms:W3CDTF">2002-01-25T13:54:58Z</dcterms:modified>
  <cp:revision>86</cp:revision>
  <dc:subject/>
  <dc:title>Wireless Communications and Networks</dc:title>
</cp:coreProperties>
</file>