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772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200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628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8F4-A6C2-400E-9966-7DD5914E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992-5A3A-40DC-984C-B4761F8E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BBE-5F52-4321-A003-5326979B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991-D066-4A87-9EF9-F91457D8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A97-19BA-455C-A16C-2F69692F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E0F-2327-44AB-A3B3-1247A4F0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D3E-7B0A-4EA2-B546-4E895A1B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355-026C-49F4-B5D8-B927BE24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C75-8E6D-481E-8384-3D9A7916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C13-9FFE-432D-849C-436A23EC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62C-919A-4DB1-9826-22A1371A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200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628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7F7-E59E-4DEA-979C-45F23E91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-72360" y="6477120"/>
            <a:ext cx="61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3525 – Wireless Network (W02): Cellular Wireless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221320" y="649116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D722-1F6F-4339-B3DF-73B4996C32B9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B770-EA0E-413A-B146-0A081421EE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Wireless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apter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ditional Functions in an MTSO Controll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b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dr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to/from fixed and remote mobile subscr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Radio Propagation Eff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str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strong enough between base station and mobile unit to maintain signal quality at the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not be so strong as to create too much cochannel interference with channels in another cell using the same frequency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opagation effects may disrupt the signal and cause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Performance Metr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blocking probability – probability of a new call being bloc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dropping probability – probability that a call is terminated due to a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completion probability – probability that an admitted call is not dropped before it termin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unsuccessful handoff – probability that a handoff is executed while the reception conditions are inadeq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Performance Metr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blocking probability – probability that a handoff cannot be successfully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probability – probability that a handoff occurs before cal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handoff – number of handoffs per un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ion duration – duration of time during a handoff in which a mobile is not connected to either base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delay – distance the mobile moves from the point at which the handoff should occur to the point at which it does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Strategies Used to Determine Insta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hyster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hysteresis and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on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owe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ssues making it desirable to include dynamic power control in a cellu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power must be sufficiently above the background noise for effectiv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minimize power in the transmitted signal from the mob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cochannel interference, alleviate health concerns, save battery 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S systems using CDMA, it’s desirable to equalize the received power level from all mobile units at the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Powe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-loop pow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solely on mobi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edback from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s accurate as closed-loop, but can react quicker to fluctuations in signal strengt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loop pow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s signal strength in reverse channel based on metric of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 makes power adjustment decision and communicates to mobile on contro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raffic 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available channels would equal number of subscribers active at on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not feasible to have capacity handle all possible 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multaneous user capacity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cri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onblock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lock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ing System Performance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that call request is block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city is needed to achieve a certain upper bound on probability of block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verage del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city is needed to achieve a certain average del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raffic Intens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presented to a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ean rate of calls attempted per un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 holding time per successful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verage number of calls arriving during average hold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3886200" y="2362320"/>
                <a:ext cx="16002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Network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low-power transmitters (100 W or l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s divided into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d by its own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d by base station consisting of transmitter, receiver, and 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 of frequencies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set up such that antennas of all neighbors are equidistant (hexagonal patt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city in Cellul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 Probability (Grade Of Service)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rlang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lls arrival rate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lls average duration (service time: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41640" y="2438280"/>
                <a:ext cx="289080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OS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that Determine the Nature of the Traffic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ner in which blocked calls are hand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calls delayed (LCD) – blocked calls put in a queue awaiting a fre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ed calls rejected and dro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calls cleared (LCC) – user waits before another attem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calls held (LCH) – user repeatedly attempts c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traffic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number of users is assumed to be finite or in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irst-Generation An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Mobile Phone Service (AM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North America, two 25-MHz bands allocated to AM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transmission from base to mobile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transmission from mobile unit to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and split in two to encourage competition (12.5MHz per opera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s of 30 KHz: 21 CtrlCh (FSK), 395 TrafficChannels (FM voice) per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reuse exploited (R =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S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initiates call by keying in phone number and presses send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verifies number and authorizes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issues message to user’s cell phone indicating send and receive traffic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sends ringing signal to called p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answers; MTSO establishes circuit and initiates bill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party hangs up; MTSO releases circuit, frees channels, completes bi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fferences Between First and Second Generation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traffic channels – first-generation systems are almost purely analog; second-generation systems are 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– all second generation systems provide encryption to prevent eavesdro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 and correction – second-generation digital traffic allows for detection and correction, giving clear voice 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access – second-generation systems allow channels to be dynamically shared by a number of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Wireless T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ogical channels (number of time slots in TDMA frame):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cell radius (R): 35 k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: region around 900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vehicle spe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250 km/h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coding delay: approx. 20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elay spread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: Not to exceed 200 kHz (25 kHz per channe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eps in Design of TDMA Timesl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344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Network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304920" y="1208160"/>
            <a:ext cx="79246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the GSM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SM is a PLMN (Public Land Mobile Net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providers setup mobile networks following the GSM standard within each cou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 (mobile s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 (base s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C (mobile switching cen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R (location regis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S (radio subsystem): covers all radio asp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SS (network and switching subsystem): call forwarding, handover, swit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S (operation subsystem): management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0920" y="1905120"/>
            <a:ext cx="6932520" cy="3962160"/>
            <a:chOff x="610920" y="1905120"/>
            <a:chExt cx="6932520" cy="3962160"/>
          </a:xfrm>
        </p:grpSpPr>
        <p:sp>
          <p:nvSpPr>
            <p:cNvPr id="878" name=""/>
            <p:cNvSpPr/>
            <p:nvPr/>
          </p:nvSpPr>
          <p:spPr>
            <a:xfrm>
              <a:off x="610920" y="2508480"/>
              <a:ext cx="102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th 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908640" y="1905120"/>
              <a:ext cx="6634800" cy="3962160"/>
              <a:chOff x="908640" y="1905120"/>
              <a:chExt cx="6634800" cy="3962160"/>
            </a:xfrm>
          </p:grpSpPr>
          <p:sp>
            <p:nvSpPr>
              <p:cNvPr id="880" name=""/>
              <p:cNvSpPr/>
              <p:nvPr/>
            </p:nvSpPr>
            <p:spPr>
              <a:xfrm>
                <a:off x="1815120" y="2023200"/>
                <a:ext cx="3617640" cy="153756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890240" y="427032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96200" y="480276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960640" y="427032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925440" y="480276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925440" y="373824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493240" y="2082240"/>
                <a:ext cx="1748520" cy="1005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fixed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7" name=""/>
              <p:cNvCxnSpPr>
                <a:stCxn id="886" idx="6"/>
              </p:cNvCxnSpPr>
              <p:nvPr/>
            </p:nvCxnSpPr>
            <p:spPr>
              <a:xfrm flipV="1">
                <a:off x="7241760" y="2554920"/>
                <a:ext cx="302040" cy="3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8" name=""/>
              <p:cNvCxnSpPr>
                <a:stCxn id="886" idx="5"/>
              </p:cNvCxnSpPr>
              <p:nvPr/>
            </p:nvCxnSpPr>
            <p:spPr>
              <a:xfrm>
                <a:off x="6985080" y="2940840"/>
                <a:ext cx="497880" cy="87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9" name=""/>
              <p:cNvCxnSpPr>
                <a:stCxn id="886" idx="7"/>
              </p:cNvCxnSpPr>
              <p:nvPr/>
            </p:nvCxnSpPr>
            <p:spPr>
              <a:xfrm flipV="1">
                <a:off x="6985440" y="2140920"/>
                <a:ext cx="437760" cy="87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90" name=""/>
              <p:cNvSpPr/>
              <p:nvPr/>
            </p:nvSpPr>
            <p:spPr>
              <a:xfrm>
                <a:off x="2176920" y="4092840"/>
                <a:ext cx="663120" cy="354600"/>
              </a:xfrm>
              <a:prstGeom prst="rect">
                <a:avLst/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252040" y="3738240"/>
                <a:ext cx="663120" cy="354600"/>
              </a:xfrm>
              <a:prstGeom prst="rect">
                <a:avLst/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2" name=""/>
              <p:cNvCxnSpPr>
                <a:stCxn id="890" idx="2"/>
                <a:endCxn id="893" idx="0"/>
              </p:cNvCxnSpPr>
              <p:nvPr/>
            </p:nvCxnSpPr>
            <p:spPr>
              <a:xfrm>
                <a:off x="2508480" y="4447440"/>
                <a:ext cx="39600" cy="1312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4" name=""/>
              <p:cNvCxnSpPr>
                <a:stCxn id="890" idx="2"/>
                <a:endCxn id="895" idx="0"/>
              </p:cNvCxnSpPr>
              <p:nvPr/>
            </p:nvCxnSpPr>
            <p:spPr>
              <a:xfrm>
                <a:off x="2508120" y="4447440"/>
                <a:ext cx="100368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6" name=""/>
              <p:cNvCxnSpPr>
                <a:stCxn id="890" idx="2"/>
              </p:cNvCxnSpPr>
              <p:nvPr/>
            </p:nvCxnSpPr>
            <p:spPr>
              <a:xfrm flipH="1">
                <a:off x="1874520" y="4447800"/>
                <a:ext cx="633960" cy="47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7" name=""/>
              <p:cNvCxnSpPr>
                <a:stCxn id="891" idx="1"/>
                <a:endCxn id="898" idx="0"/>
              </p:cNvCxnSpPr>
              <p:nvPr/>
            </p:nvCxnSpPr>
            <p:spPr>
              <a:xfrm flipH="1">
                <a:off x="4541400" y="3915000"/>
                <a:ext cx="710280" cy="78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9" name=""/>
              <p:cNvCxnSpPr>
                <a:stCxn id="891" idx="2"/>
                <a:endCxn id="900" idx="0"/>
              </p:cNvCxnSpPr>
              <p:nvPr/>
            </p:nvCxnSpPr>
            <p:spPr>
              <a:xfrm>
                <a:off x="5583600" y="4092840"/>
                <a:ext cx="48240" cy="1100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1" name=""/>
              <p:cNvCxnSpPr>
                <a:stCxn id="902" idx="2"/>
                <a:endCxn id="890" idx="0"/>
              </p:cNvCxnSpPr>
              <p:nvPr/>
            </p:nvCxnSpPr>
            <p:spPr>
              <a:xfrm flipH="1">
                <a:off x="2508120" y="3382920"/>
                <a:ext cx="422640" cy="710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2" name=""/>
              <p:cNvSpPr/>
              <p:nvPr/>
            </p:nvSpPr>
            <p:spPr>
              <a:xfrm>
                <a:off x="2598840" y="302832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649040" y="302832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46040" y="231876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G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5" name=""/>
              <p:cNvCxnSpPr>
                <a:stCxn id="904" idx="2"/>
                <a:endCxn id="902" idx="0"/>
              </p:cNvCxnSpPr>
              <p:nvPr/>
            </p:nvCxnSpPr>
            <p:spPr>
              <a:xfrm flipH="1">
                <a:off x="2930040" y="2673360"/>
                <a:ext cx="144756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6" name=""/>
              <p:cNvCxnSpPr>
                <a:stCxn id="904" idx="3"/>
                <a:endCxn id="886" idx="2"/>
              </p:cNvCxnSpPr>
              <p:nvPr/>
            </p:nvCxnSpPr>
            <p:spPr>
              <a:xfrm>
                <a:off x="4709520" y="2496240"/>
                <a:ext cx="784080" cy="89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7" name=""/>
              <p:cNvCxnSpPr>
                <a:stCxn id="904" idx="2"/>
                <a:endCxn id="903" idx="0"/>
              </p:cNvCxnSpPr>
              <p:nvPr/>
            </p:nvCxnSpPr>
            <p:spPr>
              <a:xfrm>
                <a:off x="4377960" y="2673360"/>
                <a:ext cx="60336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8" name=""/>
              <p:cNvSpPr/>
              <p:nvPr/>
            </p:nvSpPr>
            <p:spPr>
              <a:xfrm>
                <a:off x="1573920" y="1905120"/>
                <a:ext cx="964800" cy="4726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OMC, EIR, 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AU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9" name=""/>
              <p:cNvCxnSpPr>
                <a:stCxn id="910" idx="3"/>
                <a:endCxn id="902" idx="0"/>
              </p:cNvCxnSpPr>
              <p:nvPr/>
            </p:nvCxnSpPr>
            <p:spPr>
              <a:xfrm flipH="1">
                <a:off x="2930400" y="2614320"/>
                <a:ext cx="90720" cy="414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1" name=""/>
              <p:cNvCxnSpPr>
                <a:stCxn id="910" idx="3"/>
                <a:endCxn id="903" idx="0"/>
              </p:cNvCxnSpPr>
              <p:nvPr/>
            </p:nvCxnSpPr>
            <p:spPr>
              <a:xfrm>
                <a:off x="3020760" y="2614320"/>
                <a:ext cx="1960200" cy="414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2" name=""/>
              <p:cNvCxnSpPr>
                <a:stCxn id="904" idx="1"/>
                <a:endCxn id="910" idx="3"/>
              </p:cNvCxnSpPr>
              <p:nvPr/>
            </p:nvCxnSpPr>
            <p:spPr>
              <a:xfrm flipH="1">
                <a:off x="3020400" y="2495880"/>
                <a:ext cx="1025640" cy="11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3" name=""/>
              <p:cNvCxnSpPr>
                <a:stCxn id="902" idx="1"/>
                <a:endCxn id="914" idx="4"/>
              </p:cNvCxnSpPr>
              <p:nvPr/>
            </p:nvCxnSpPr>
            <p:spPr>
              <a:xfrm flipH="1" flipV="1">
                <a:off x="2356920" y="3146040"/>
                <a:ext cx="241560" cy="59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4" name=""/>
              <p:cNvSpPr/>
              <p:nvPr/>
            </p:nvSpPr>
            <p:spPr>
              <a:xfrm>
                <a:off x="1875240" y="2910240"/>
                <a:ext cx="482400" cy="47268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779560" y="2141280"/>
                <a:ext cx="482400" cy="47304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H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2109240" y="4729320"/>
                <a:ext cx="999720" cy="1027800"/>
                <a:chOff x="2109240" y="4729320"/>
                <a:chExt cx="999720" cy="1027800"/>
              </a:xfrm>
            </p:grpSpPr>
            <p:grpSp>
              <p:nvGrpSpPr>
                <p:cNvPr id="916" name=""/>
                <p:cNvGrpSpPr/>
                <p:nvPr/>
              </p:nvGrpSpPr>
              <p:grpSpPr>
                <a:xfrm>
                  <a:off x="2547360" y="5242320"/>
                  <a:ext cx="194040" cy="514800"/>
                  <a:chOff x="2547360" y="5242320"/>
                  <a:chExt cx="194040" cy="514800"/>
                </a:xfrm>
              </p:grpSpPr>
              <p:grpSp>
                <p:nvGrpSpPr>
                  <p:cNvPr id="917" name=""/>
                  <p:cNvGrpSpPr/>
                  <p:nvPr/>
                </p:nvGrpSpPr>
                <p:grpSpPr>
                  <a:xfrm>
                    <a:off x="2548440" y="5419440"/>
                    <a:ext cx="192960" cy="337680"/>
                    <a:chOff x="2548440" y="5419440"/>
                    <a:chExt cx="192960" cy="337680"/>
                  </a:xfrm>
                </p:grpSpPr>
                <p:grpSp>
                  <p:nvGrpSpPr>
                    <p:cNvPr id="918" name=""/>
                    <p:cNvGrpSpPr/>
                    <p:nvPr/>
                  </p:nvGrpSpPr>
                  <p:grpSpPr>
                    <a:xfrm>
                      <a:off x="2548440" y="5428080"/>
                      <a:ext cx="123840" cy="326880"/>
                      <a:chOff x="2548440" y="5428080"/>
                      <a:chExt cx="123840" cy="326880"/>
                    </a:xfrm>
                  </p:grpSpPr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2598480" y="542916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 flipV="1">
                        <a:off x="2583360" y="543132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1" name=""/>
                      <p:cNvSpPr/>
                      <p:nvPr/>
                    </p:nvSpPr>
                    <p:spPr>
                      <a:xfrm>
                        <a:off x="2582280" y="550044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 flipV="1">
                        <a:off x="2548440" y="564408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2563200" y="564444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 flipV="1">
                        <a:off x="2562120" y="550116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>
                        <a:off x="2598480" y="542808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26" name=""/>
                    <p:cNvSpPr/>
                    <p:nvPr/>
                  </p:nvSpPr>
                  <p:spPr>
                    <a:xfrm flipV="1">
                      <a:off x="2670120" y="562212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2652480" y="550404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flipV="1">
                      <a:off x="2651400" y="542052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 flipV="1">
                      <a:off x="2643840" y="541944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2645280" y="543060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flipV="1">
                      <a:off x="2664000" y="549072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2664000" y="564444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3" name=""/>
                  <p:cNvGrpSpPr/>
                  <p:nvPr/>
                </p:nvGrpSpPr>
                <p:grpSpPr>
                  <a:xfrm>
                    <a:off x="2547360" y="5259600"/>
                    <a:ext cx="190080" cy="496080"/>
                    <a:chOff x="2547360" y="5259600"/>
                    <a:chExt cx="190080" cy="496080"/>
                  </a:xfrm>
                </p:grpSpPr>
                <p:sp>
                  <p:nvSpPr>
                    <p:cNvPr id="934" name=""/>
                    <p:cNvSpPr/>
                    <p:nvPr/>
                  </p:nvSpPr>
                  <p:spPr>
                    <a:xfrm flipV="1">
                      <a:off x="2547360" y="525960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2622240" y="527184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flipV="1">
                      <a:off x="2671200" y="571320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2632320" y="526932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2547360" y="575208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9" name=""/>
                  <p:cNvSpPr/>
                  <p:nvPr/>
                </p:nvSpPr>
                <p:spPr>
                  <a:xfrm>
                    <a:off x="2602440" y="524232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109240" y="4729320"/>
                  <a:ext cx="999720" cy="992520"/>
                  <a:chOff x="2109240" y="4729320"/>
                  <a:chExt cx="999720" cy="99252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 rot="3712200">
                    <a:off x="2245320" y="485316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rot="3712200">
                    <a:off x="2391120" y="501480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3712200">
                    <a:off x="2499120" y="514584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4" name=""/>
              <p:cNvGrpSpPr/>
              <p:nvPr/>
            </p:nvGrpSpPr>
            <p:grpSpPr>
              <a:xfrm>
                <a:off x="3074040" y="4197240"/>
                <a:ext cx="999720" cy="1027800"/>
                <a:chOff x="3074040" y="4197240"/>
                <a:chExt cx="999720" cy="1027800"/>
              </a:xfrm>
            </p:grpSpPr>
            <p:grpSp>
              <p:nvGrpSpPr>
                <p:cNvPr id="945" name=""/>
                <p:cNvGrpSpPr/>
                <p:nvPr/>
              </p:nvGrpSpPr>
              <p:grpSpPr>
                <a:xfrm>
                  <a:off x="3512160" y="4710240"/>
                  <a:ext cx="194040" cy="514800"/>
                  <a:chOff x="3512160" y="4710240"/>
                  <a:chExt cx="194040" cy="514800"/>
                </a:xfrm>
              </p:grpSpPr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3513240" y="4887360"/>
                    <a:ext cx="192960" cy="337680"/>
                    <a:chOff x="3513240" y="4887360"/>
                    <a:chExt cx="192960" cy="337680"/>
                  </a:xfrm>
                </p:grpSpPr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3513240" y="4896000"/>
                      <a:ext cx="123840" cy="326880"/>
                      <a:chOff x="3513240" y="4896000"/>
                      <a:chExt cx="123840" cy="32688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3563280" y="489708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 flipV="1">
                        <a:off x="3548160" y="489924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3547080" y="496836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 flipV="1">
                        <a:off x="3513240" y="511200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>
                        <a:off x="3528000" y="511236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 flipV="1">
                        <a:off x="3526920" y="496908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4" name=""/>
                      <p:cNvSpPr/>
                      <p:nvPr/>
                    </p:nvSpPr>
                    <p:spPr>
                      <a:xfrm>
                        <a:off x="3563280" y="489600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55" name=""/>
                    <p:cNvSpPr/>
                    <p:nvPr/>
                  </p:nvSpPr>
                  <p:spPr>
                    <a:xfrm flipV="1">
                      <a:off x="3634920" y="509004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3617280" y="497196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 flipV="1">
                      <a:off x="3616200" y="488844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V="1">
                      <a:off x="3608640" y="488736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3610080" y="489852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flipV="1">
                      <a:off x="3628800" y="495864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3628800" y="511236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3512160" y="4727520"/>
                    <a:ext cx="190080" cy="496080"/>
                    <a:chOff x="3512160" y="4727520"/>
                    <a:chExt cx="190080" cy="49608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V="1">
                      <a:off x="3512160" y="472752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587040" y="473976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V="1">
                      <a:off x="3636000" y="518112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597120" y="473724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3512160" y="522000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8" name=""/>
                  <p:cNvSpPr/>
                  <p:nvPr/>
                </p:nvSpPr>
                <p:spPr>
                  <a:xfrm>
                    <a:off x="3567240" y="471024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3074040" y="4197240"/>
                  <a:ext cx="999720" cy="992520"/>
                  <a:chOff x="3074040" y="4197240"/>
                  <a:chExt cx="999720" cy="99252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 rot="3712200">
                    <a:off x="3210120" y="432108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rot="3712200">
                    <a:off x="3355920" y="448272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3712200">
                    <a:off x="3463920" y="461376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3" name=""/>
              <p:cNvGrpSpPr/>
              <p:nvPr/>
            </p:nvGrpSpPr>
            <p:grpSpPr>
              <a:xfrm>
                <a:off x="5003640" y="4197240"/>
                <a:ext cx="999720" cy="1027800"/>
                <a:chOff x="5003640" y="4197240"/>
                <a:chExt cx="999720" cy="1027800"/>
              </a:xfrm>
            </p:grpSpPr>
            <p:grpSp>
              <p:nvGrpSpPr>
                <p:cNvPr id="974" name=""/>
                <p:cNvGrpSpPr/>
                <p:nvPr/>
              </p:nvGrpSpPr>
              <p:grpSpPr>
                <a:xfrm>
                  <a:off x="5441760" y="4710240"/>
                  <a:ext cx="194040" cy="514800"/>
                  <a:chOff x="5441760" y="4710240"/>
                  <a:chExt cx="194040" cy="514800"/>
                </a:xfrm>
              </p:grpSpPr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5442840" y="4887360"/>
                    <a:ext cx="192960" cy="337680"/>
                    <a:chOff x="5442840" y="4887360"/>
                    <a:chExt cx="192960" cy="337680"/>
                  </a:xfrm>
                </p:grpSpPr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5442840" y="4896000"/>
                      <a:ext cx="123840" cy="326880"/>
                      <a:chOff x="5442840" y="4896000"/>
                      <a:chExt cx="123840" cy="326880"/>
                    </a:xfrm>
                  </p:grpSpPr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5492880" y="489708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 flipV="1">
                        <a:off x="5477760" y="489924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5476680" y="496836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0" name=""/>
                      <p:cNvSpPr/>
                      <p:nvPr/>
                    </p:nvSpPr>
                    <p:spPr>
                      <a:xfrm flipV="1">
                        <a:off x="5442840" y="511200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5457600" y="511236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2" name=""/>
                      <p:cNvSpPr/>
                      <p:nvPr/>
                    </p:nvSpPr>
                    <p:spPr>
                      <a:xfrm flipV="1">
                        <a:off x="5456520" y="496908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5492880" y="489600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84" name=""/>
                    <p:cNvSpPr/>
                    <p:nvPr/>
                  </p:nvSpPr>
                  <p:spPr>
                    <a:xfrm flipV="1">
                      <a:off x="5564520" y="509004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5546880" y="497196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V="1">
                      <a:off x="5545800" y="488844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flipV="1">
                      <a:off x="5538240" y="488736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5539680" y="489852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V="1">
                      <a:off x="5558400" y="495864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5558400" y="511236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5441760" y="4727520"/>
                    <a:ext cx="190080" cy="496080"/>
                    <a:chOff x="5441760" y="4727520"/>
                    <a:chExt cx="190080" cy="49608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flipV="1">
                      <a:off x="5441760" y="472752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5516640" y="473976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flipV="1">
                      <a:off x="5565600" y="518112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5526720" y="473724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5441760" y="522000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"/>
                  <p:cNvSpPr/>
                  <p:nvPr/>
                </p:nvSpPr>
                <p:spPr>
                  <a:xfrm>
                    <a:off x="5496840" y="471024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5003640" y="4197240"/>
                  <a:ext cx="999720" cy="992520"/>
                  <a:chOff x="5003640" y="4197240"/>
                  <a:chExt cx="999720" cy="99252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rot="3712200">
                    <a:off x="5139720" y="432108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rot="3712200">
                    <a:off x="5285520" y="448272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rot="3712200">
                    <a:off x="5393520" y="461376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2" name=""/>
              <p:cNvGrpSpPr/>
              <p:nvPr/>
            </p:nvGrpSpPr>
            <p:grpSpPr>
              <a:xfrm>
                <a:off x="3978720" y="4788720"/>
                <a:ext cx="999720" cy="1027800"/>
                <a:chOff x="3978720" y="4788720"/>
                <a:chExt cx="999720" cy="1027800"/>
              </a:xfrm>
            </p:grpSpPr>
            <p:grpSp>
              <p:nvGrpSpPr>
                <p:cNvPr id="1003" name=""/>
                <p:cNvGrpSpPr/>
                <p:nvPr/>
              </p:nvGrpSpPr>
              <p:grpSpPr>
                <a:xfrm>
                  <a:off x="4416840" y="5301720"/>
                  <a:ext cx="194040" cy="514800"/>
                  <a:chOff x="4416840" y="5301720"/>
                  <a:chExt cx="194040" cy="514800"/>
                </a:xfrm>
              </p:grpSpPr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4417920" y="5478840"/>
                    <a:ext cx="192960" cy="337680"/>
                    <a:chOff x="4417920" y="5478840"/>
                    <a:chExt cx="192960" cy="337680"/>
                  </a:xfrm>
                </p:grpSpPr>
                <p:grpSp>
                  <p:nvGrpSpPr>
                    <p:cNvPr id="1005" name=""/>
                    <p:cNvGrpSpPr/>
                    <p:nvPr/>
                  </p:nvGrpSpPr>
                  <p:grpSpPr>
                    <a:xfrm>
                      <a:off x="4417920" y="5487480"/>
                      <a:ext cx="123840" cy="326880"/>
                      <a:chOff x="4417920" y="5487480"/>
                      <a:chExt cx="123840" cy="326880"/>
                    </a:xfrm>
                  </p:grpSpPr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4467960" y="548856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7" name=""/>
                      <p:cNvSpPr/>
                      <p:nvPr/>
                    </p:nvSpPr>
                    <p:spPr>
                      <a:xfrm flipV="1">
                        <a:off x="4452840" y="549072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4451760" y="555984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 flipV="1">
                        <a:off x="4417920" y="570348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0" name=""/>
                      <p:cNvSpPr/>
                      <p:nvPr/>
                    </p:nvSpPr>
                    <p:spPr>
                      <a:xfrm>
                        <a:off x="4432680" y="570384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1" name=""/>
                      <p:cNvSpPr/>
                      <p:nvPr/>
                    </p:nvSpPr>
                    <p:spPr>
                      <a:xfrm flipV="1">
                        <a:off x="4431600" y="556056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4467960" y="548748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3" name=""/>
                    <p:cNvSpPr/>
                    <p:nvPr/>
                  </p:nvSpPr>
                  <p:spPr>
                    <a:xfrm flipV="1">
                      <a:off x="4539600" y="568152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4521960" y="556344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V="1">
                      <a:off x="4520880" y="547992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flipV="1">
                      <a:off x="4513320" y="547884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4514760" y="549000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V="1">
                      <a:off x="4533480" y="555012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4533480" y="570384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4416840" y="5319000"/>
                    <a:ext cx="190080" cy="496080"/>
                    <a:chOff x="4416840" y="5319000"/>
                    <a:chExt cx="190080" cy="496080"/>
                  </a:xfrm>
                </p:grpSpPr>
                <p:sp>
                  <p:nvSpPr>
                    <p:cNvPr id="1021" name=""/>
                    <p:cNvSpPr/>
                    <p:nvPr/>
                  </p:nvSpPr>
                  <p:spPr>
                    <a:xfrm flipV="1">
                      <a:off x="4416840" y="531900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4491720" y="533124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flipV="1">
                      <a:off x="4540680" y="577260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4501800" y="532872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4416840" y="581148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6" name=""/>
                  <p:cNvSpPr/>
                  <p:nvPr/>
                </p:nvSpPr>
                <p:spPr>
                  <a:xfrm>
                    <a:off x="4471920" y="530172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3978720" y="4788720"/>
                  <a:ext cx="999720" cy="992520"/>
                  <a:chOff x="3978720" y="4788720"/>
                  <a:chExt cx="999720" cy="99252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rot="3712200">
                    <a:off x="4114800" y="491256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rot="3712200">
                    <a:off x="4260600" y="507420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rot="3712200">
                    <a:off x="4368600" y="520524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1" name=""/>
              <p:cNvGrpSpPr/>
              <p:nvPr/>
            </p:nvGrpSpPr>
            <p:grpSpPr>
              <a:xfrm>
                <a:off x="3978720" y="3664800"/>
                <a:ext cx="999720" cy="1027800"/>
                <a:chOff x="3978720" y="3664800"/>
                <a:chExt cx="999720" cy="10278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4416840" y="4177800"/>
                  <a:ext cx="194040" cy="514800"/>
                  <a:chOff x="4416840" y="4177800"/>
                  <a:chExt cx="194040" cy="514800"/>
                </a:xfrm>
              </p:grpSpPr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4417920" y="4354920"/>
                    <a:ext cx="192960" cy="337680"/>
                    <a:chOff x="4417920" y="4354920"/>
                    <a:chExt cx="192960" cy="337680"/>
                  </a:xfrm>
                </p:grpSpPr>
                <p:grpSp>
                  <p:nvGrpSpPr>
                    <p:cNvPr id="1034" name=""/>
                    <p:cNvGrpSpPr/>
                    <p:nvPr/>
                  </p:nvGrpSpPr>
                  <p:grpSpPr>
                    <a:xfrm>
                      <a:off x="4417920" y="4363560"/>
                      <a:ext cx="123840" cy="326880"/>
                      <a:chOff x="4417920" y="4363560"/>
                      <a:chExt cx="123840" cy="326880"/>
                    </a:xfrm>
                  </p:grpSpPr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4467960" y="436464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 flipV="1">
                        <a:off x="4452840" y="436680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4451760" y="443592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" name=""/>
                      <p:cNvSpPr/>
                      <p:nvPr/>
                    </p:nvSpPr>
                    <p:spPr>
                      <a:xfrm flipV="1">
                        <a:off x="4417920" y="457956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" name=""/>
                      <p:cNvSpPr/>
                      <p:nvPr/>
                    </p:nvSpPr>
                    <p:spPr>
                      <a:xfrm>
                        <a:off x="4432680" y="457992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" name=""/>
                      <p:cNvSpPr/>
                      <p:nvPr/>
                    </p:nvSpPr>
                    <p:spPr>
                      <a:xfrm flipV="1">
                        <a:off x="4431600" y="443664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1" name=""/>
                      <p:cNvSpPr/>
                      <p:nvPr/>
                    </p:nvSpPr>
                    <p:spPr>
                      <a:xfrm>
                        <a:off x="4467960" y="436356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42" name=""/>
                    <p:cNvSpPr/>
                    <p:nvPr/>
                  </p:nvSpPr>
                  <p:spPr>
                    <a:xfrm flipV="1">
                      <a:off x="4539600" y="455760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4521960" y="443952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flipV="1">
                      <a:off x="4520880" y="435600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flipV="1">
                      <a:off x="4513320" y="435492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4514760" y="436608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V="1">
                      <a:off x="4533480" y="442620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4533480" y="457992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4416840" y="4195080"/>
                    <a:ext cx="190080" cy="496080"/>
                    <a:chOff x="4416840" y="4195080"/>
                    <a:chExt cx="190080" cy="49608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 flipV="1">
                      <a:off x="4416840" y="419508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4491720" y="420732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flipV="1">
                      <a:off x="4540680" y="464868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4501800" y="420480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4416840" y="468756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5" name=""/>
                  <p:cNvSpPr/>
                  <p:nvPr/>
                </p:nvSpPr>
                <p:spPr>
                  <a:xfrm>
                    <a:off x="4471920" y="417780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3978720" y="3664800"/>
                  <a:ext cx="999720" cy="992520"/>
                  <a:chOff x="3978720" y="3664800"/>
                  <a:chExt cx="999720" cy="99252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 rot="3712200">
                    <a:off x="4114800" y="378864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rot="3712200">
                    <a:off x="4260600" y="395028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rot="3712200">
                    <a:off x="4368600" y="408132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1060" name=""/>
              <p:cNvCxnSpPr>
                <a:stCxn id="903" idx="2"/>
                <a:endCxn id="891" idx="0"/>
              </p:cNvCxnSpPr>
              <p:nvPr/>
            </p:nvCxnSpPr>
            <p:spPr>
              <a:xfrm>
                <a:off x="4980240" y="3382920"/>
                <a:ext cx="60372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1" name=""/>
              <p:cNvSpPr/>
              <p:nvPr/>
            </p:nvSpPr>
            <p:spPr>
              <a:xfrm>
                <a:off x="908640" y="46436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R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392840" y="3679200"/>
                <a:ext cx="180720" cy="2187720"/>
              </a:xfrm>
              <a:custGeom>
                <a:avLst/>
                <a:gdLst>
                  <a:gd name="textAreaLeft" fmla="*/ 115560 w 180720"/>
                  <a:gd name="textAreaRight" fmla="*/ 181080 w 180720"/>
                  <a:gd name="textAreaTop" fmla="*/ 56880 h 2187720"/>
                  <a:gd name="textAreaBottom" fmla="*/ 2130840 h 218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392840" y="1905120"/>
                <a:ext cx="180720" cy="1655640"/>
              </a:xfrm>
              <a:custGeom>
                <a:avLst/>
                <a:gdLst>
                  <a:gd name="textAreaLeft" fmla="*/ 115560 w 180720"/>
                  <a:gd name="textAreaRight" fmla="*/ 181080 w 180720"/>
                  <a:gd name="textAreaTop" fmla="*/ 42840 h 1655640"/>
                  <a:gd name="textAreaBottom" fmla="*/ 1612800 h 165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64" name=""/>
              <p:cNvCxnSpPr>
                <a:stCxn id="903" idx="1"/>
                <a:endCxn id="1065" idx="4"/>
              </p:cNvCxnSpPr>
              <p:nvPr/>
            </p:nvCxnSpPr>
            <p:spPr>
              <a:xfrm flipH="1">
                <a:off x="4407480" y="3205800"/>
                <a:ext cx="241920" cy="59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5" name=""/>
              <p:cNvSpPr/>
              <p:nvPr/>
            </p:nvSpPr>
            <p:spPr>
              <a:xfrm>
                <a:off x="3925440" y="3028320"/>
                <a:ext cx="482040" cy="47304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Re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t cells assigned different frequencies to avoid interference or 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is to reuse frequency in nearby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to 50 frequencies assigned to each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power controlled to limit power at that frequency escaping to adjace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ssue is to determine how many cells must intervene between two cells using the same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elements and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1601640" y="1752480"/>
            <a:ext cx="3877920" cy="4267080"/>
            <a:chOff x="1601640" y="1752480"/>
            <a:chExt cx="3877920" cy="4267080"/>
          </a:xfrm>
        </p:grpSpPr>
        <p:sp>
          <p:nvSpPr>
            <p:cNvPr id="1068" name=""/>
            <p:cNvSpPr/>
            <p:nvPr/>
          </p:nvSpPr>
          <p:spPr>
            <a:xfrm>
              <a:off x="3619080" y="2623680"/>
              <a:ext cx="1334160" cy="1099080"/>
            </a:xfrm>
            <a:prstGeom prst="hexagon">
              <a:avLst>
                <a:gd name="adj" fmla="val 30347"/>
                <a:gd name="vf" fmla="val 115470"/>
              </a:avLst>
            </a:prstGeom>
            <a:solidFill>
              <a:srgbClr val="01ff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16840" y="2075400"/>
              <a:ext cx="1334160" cy="1099080"/>
            </a:xfrm>
            <a:prstGeom prst="hexagon">
              <a:avLst>
                <a:gd name="adj" fmla="val 30347"/>
                <a:gd name="vf" fmla="val 115470"/>
              </a:avLst>
            </a:prstGeom>
            <a:solidFill>
              <a:srgbClr val="01ff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89400" y="1752480"/>
              <a:ext cx="2541600" cy="2456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02000" y="47912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934360" y="2269440"/>
              <a:ext cx="254160" cy="25848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79320" y="2269440"/>
              <a:ext cx="253800" cy="25848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2994480" y="2658240"/>
              <a:ext cx="387720" cy="1267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25160" y="291600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489400" y="3950640"/>
              <a:ext cx="31788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8440" y="505008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68880" y="524376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79320" y="569628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M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 rot="5400000">
              <a:off x="3184920" y="2658240"/>
              <a:ext cx="387720" cy="1267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41800" y="343332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506400" y="395064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71000" y="4467960"/>
              <a:ext cx="31788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8440" y="446796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5" name=""/>
            <p:cNvCxnSpPr>
              <a:stCxn id="1075" idx="2"/>
              <a:endCxn id="1082" idx="0"/>
            </p:cNvCxnSpPr>
            <p:nvPr/>
          </p:nvCxnSpPr>
          <p:spPr>
            <a:xfrm>
              <a:off x="3283560" y="3110040"/>
              <a:ext cx="381960" cy="84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6" name=""/>
            <p:cNvCxnSpPr>
              <a:stCxn id="1081" idx="2"/>
              <a:endCxn id="1082" idx="3"/>
            </p:cNvCxnSpPr>
            <p:nvPr/>
          </p:nvCxnSpPr>
          <p:spPr>
            <a:xfrm flipH="1">
              <a:off x="3823560" y="3627000"/>
              <a:ext cx="477360" cy="42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7" name=""/>
            <p:cNvCxnSpPr>
              <a:stCxn id="1082" idx="2"/>
              <a:endCxn id="1083" idx="0"/>
            </p:cNvCxnSpPr>
            <p:nvPr/>
          </p:nvCxnSpPr>
          <p:spPr>
            <a:xfrm flipH="1">
              <a:off x="3029760" y="4144320"/>
              <a:ext cx="635760" cy="324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8" name=""/>
            <p:cNvCxnSpPr>
              <a:stCxn id="1076" idx="3"/>
              <a:endCxn id="1083" idx="0"/>
            </p:cNvCxnSpPr>
            <p:nvPr/>
          </p:nvCxnSpPr>
          <p:spPr>
            <a:xfrm>
              <a:off x="2807280" y="4047120"/>
              <a:ext cx="222840" cy="420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9" name=""/>
            <p:cNvCxnSpPr>
              <a:stCxn id="1076" idx="0"/>
            </p:cNvCxnSpPr>
            <p:nvPr/>
          </p:nvCxnSpPr>
          <p:spPr>
            <a:xfrm flipH="1" flipV="1">
              <a:off x="2488680" y="3626640"/>
              <a:ext cx="159480" cy="32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90" name=""/>
            <p:cNvSpPr/>
            <p:nvPr/>
          </p:nvSpPr>
          <p:spPr>
            <a:xfrm flipH="1" rot="5400000">
              <a:off x="4170600" y="3207600"/>
              <a:ext cx="322920" cy="1267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1" name=""/>
            <p:cNvCxnSpPr>
              <a:stCxn id="1084" idx="0"/>
            </p:cNvCxnSpPr>
            <p:nvPr/>
          </p:nvCxnSpPr>
          <p:spPr>
            <a:xfrm flipV="1">
              <a:off x="4236840" y="4020480"/>
              <a:ext cx="519480" cy="447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92" name=""/>
            <p:cNvSpPr/>
            <p:nvPr/>
          </p:nvSpPr>
          <p:spPr>
            <a:xfrm flipH="1">
              <a:off x="2362680" y="3821400"/>
              <a:ext cx="292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55960" y="3690720"/>
              <a:ext cx="3589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34360" y="2722320"/>
              <a:ext cx="6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626560" y="2591280"/>
              <a:ext cx="333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362680" y="5631840"/>
              <a:ext cx="339840" cy="28008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34360" y="4985280"/>
              <a:ext cx="339840" cy="28008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426040" y="4791240"/>
              <a:ext cx="339840" cy="2786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33480" y="4791240"/>
              <a:ext cx="340200" cy="2786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362680" y="4273920"/>
              <a:ext cx="292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35160" y="41432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2" name=""/>
            <p:cNvCxnSpPr>
              <a:stCxn id="1084" idx="1"/>
              <a:endCxn id="1083" idx="3"/>
            </p:cNvCxnSpPr>
            <p:nvPr/>
          </p:nvCxnSpPr>
          <p:spPr>
            <a:xfrm flipH="1">
              <a:off x="3188520" y="4564440"/>
              <a:ext cx="889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3" name=""/>
            <p:cNvCxnSpPr>
              <a:stCxn id="1084" idx="2"/>
              <a:endCxn id="1077" idx="0"/>
            </p:cNvCxnSpPr>
            <p:nvPr/>
          </p:nvCxnSpPr>
          <p:spPr>
            <a:xfrm>
              <a:off x="4236840" y="4661640"/>
              <a:ext cx="1080" cy="388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4" name=""/>
            <p:cNvCxnSpPr>
              <a:stCxn id="1083" idx="1"/>
              <a:endCxn id="1098" idx="1"/>
            </p:cNvCxnSpPr>
            <p:nvPr/>
          </p:nvCxnSpPr>
          <p:spPr>
            <a:xfrm flipH="1">
              <a:off x="2596680" y="4564800"/>
              <a:ext cx="274320" cy="2268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05" name=""/>
            <p:cNvSpPr/>
            <p:nvPr/>
          </p:nvSpPr>
          <p:spPr>
            <a:xfrm>
              <a:off x="4175280" y="2203560"/>
              <a:ext cx="43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43800" y="51804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D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90000" y="498528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SDN, PS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65720" y="291456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000960" y="20743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adio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016880" y="259128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adio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68880" y="2851560"/>
              <a:ext cx="254160" cy="25848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2" name=""/>
            <p:cNvCxnSpPr>
              <a:stCxn id="1082" idx="1"/>
            </p:cNvCxnSpPr>
            <p:nvPr/>
          </p:nvCxnSpPr>
          <p:spPr>
            <a:xfrm flipH="1" flipV="1">
              <a:off x="3251880" y="3691440"/>
              <a:ext cx="254880" cy="35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13" name=""/>
            <p:cNvSpPr/>
            <p:nvPr/>
          </p:nvSpPr>
          <p:spPr>
            <a:xfrm>
              <a:off x="1981440" y="1752480"/>
              <a:ext cx="126720" cy="2521440"/>
            </a:xfrm>
            <a:custGeom>
              <a:avLst/>
              <a:gdLst>
                <a:gd name="textAreaLeft" fmla="*/ 81000 w 126720"/>
                <a:gd name="textAreaRight" fmla="*/ 127080 w 126720"/>
                <a:gd name="textAreaTop" fmla="*/ 65520 h 2521440"/>
                <a:gd name="textAreaBottom" fmla="*/ 2455920 h 252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981440" y="4273920"/>
              <a:ext cx="126720" cy="1227960"/>
            </a:xfrm>
            <a:custGeom>
              <a:avLst/>
              <a:gdLst>
                <a:gd name="textAreaLeft" fmla="*/ 81000 w 126720"/>
                <a:gd name="textAreaRight" fmla="*/ 127080 w 126720"/>
                <a:gd name="textAreaTop" fmla="*/ 31680 h 1227960"/>
                <a:gd name="textAreaBottom" fmla="*/ 1196280 h 122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5" name=""/>
            <p:cNvCxnSpPr>
              <a:stCxn id="1077" idx="3"/>
              <a:endCxn id="1107" idx="1"/>
            </p:cNvCxnSpPr>
            <p:nvPr/>
          </p:nvCxnSpPr>
          <p:spPr>
            <a:xfrm flipV="1">
              <a:off x="4395600" y="5088600"/>
              <a:ext cx="191160" cy="5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16" name=""/>
            <p:cNvCxnSpPr>
              <a:stCxn id="1078" idx="3"/>
              <a:endCxn id="1106" idx="1"/>
            </p:cNvCxnSpPr>
            <p:nvPr/>
          </p:nvCxnSpPr>
          <p:spPr>
            <a:xfrm flipV="1">
              <a:off x="4586760" y="5282640"/>
              <a:ext cx="254880" cy="5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17" name=""/>
            <p:cNvSpPr/>
            <p:nvPr/>
          </p:nvSpPr>
          <p:spPr>
            <a:xfrm>
              <a:off x="2934360" y="569628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U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8" name=""/>
            <p:cNvCxnSpPr>
              <a:stCxn id="1079" idx="0"/>
              <a:endCxn id="1082" idx="2"/>
            </p:cNvCxnSpPr>
            <p:nvPr/>
          </p:nvCxnSpPr>
          <p:spPr>
            <a:xfrm flipH="1" flipV="1" rot="5400000">
              <a:off x="2825280" y="4856400"/>
              <a:ext cx="1552320" cy="127440"/>
            </a:xfrm>
            <a:prstGeom prst="curvedConnector5">
              <a:avLst>
                <a:gd name="adj1" fmla="val 64231"/>
                <a:gd name="adj2" fmla="val 49858"/>
                <a:gd name="adj3" fmla="val 64231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19" name=""/>
            <p:cNvSpPr/>
            <p:nvPr/>
          </p:nvSpPr>
          <p:spPr>
            <a:xfrm>
              <a:off x="1981440" y="5502240"/>
              <a:ext cx="126720" cy="517320"/>
            </a:xfrm>
            <a:custGeom>
              <a:avLst/>
              <a:gdLst>
                <a:gd name="textAreaLeft" fmla="*/ 81000 w 126720"/>
                <a:gd name="textAreaRight" fmla="*/ 127080 w 126720"/>
                <a:gd name="textAreaTop" fmla="*/ 13320 h 517320"/>
                <a:gd name="textAreaBottom" fmla="*/ 50400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01640" y="56318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1" name=""/>
            <p:cNvCxnSpPr>
              <a:stCxn id="1084" idx="0"/>
            </p:cNvCxnSpPr>
            <p:nvPr/>
          </p:nvCxnSpPr>
          <p:spPr>
            <a:xfrm flipV="1">
              <a:off x="4236840" y="4057560"/>
              <a:ext cx="937800" cy="41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22" name=""/>
            <p:cNvCxnSpPr>
              <a:stCxn id="1084" idx="1"/>
              <a:endCxn id="1099" idx="1"/>
            </p:cNvCxnSpPr>
            <p:nvPr/>
          </p:nvCxnSpPr>
          <p:spPr>
            <a:xfrm flipH="1">
              <a:off x="3803400" y="4564800"/>
              <a:ext cx="274680" cy="2268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3" name=""/>
            <p:cNvCxnSpPr>
              <a:stCxn id="1083" idx="2"/>
              <a:endCxn id="1097" idx="1"/>
            </p:cNvCxnSpPr>
            <p:nvPr/>
          </p:nvCxnSpPr>
          <p:spPr>
            <a:xfrm>
              <a:off x="3029760" y="4661640"/>
              <a:ext cx="75960" cy="3236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4" name=""/>
            <p:cNvCxnSpPr>
              <a:stCxn id="1083" idx="2"/>
              <a:endCxn id="1096" idx="1"/>
            </p:cNvCxnSpPr>
            <p:nvPr/>
          </p:nvCxnSpPr>
          <p:spPr>
            <a:xfrm flipH="1">
              <a:off x="2532600" y="4662000"/>
              <a:ext cx="497160" cy="9705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5" name=""/>
            <p:cNvCxnSpPr>
              <a:stCxn id="1097" idx="3"/>
              <a:endCxn id="1117" idx="0"/>
            </p:cNvCxnSpPr>
            <p:nvPr/>
          </p:nvCxnSpPr>
          <p:spPr>
            <a:xfrm flipH="1">
              <a:off x="3092760" y="5265000"/>
              <a:ext cx="12600" cy="4316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6" name=""/>
            <p:cNvCxnSpPr>
              <a:stCxn id="1084" idx="2"/>
              <a:endCxn id="1079" idx="0"/>
            </p:cNvCxnSpPr>
            <p:nvPr/>
          </p:nvCxnSpPr>
          <p:spPr>
            <a:xfrm flipH="1">
              <a:off x="3537360" y="4661640"/>
              <a:ext cx="699480" cy="10350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7" name=""/>
            <p:cNvCxnSpPr>
              <a:stCxn id="1083" idx="2"/>
              <a:endCxn id="1079" idx="0"/>
            </p:cNvCxnSpPr>
            <p:nvPr/>
          </p:nvCxnSpPr>
          <p:spPr>
            <a:xfrm flipH="1" rot="16200000">
              <a:off x="2765880" y="4924800"/>
              <a:ext cx="1035000" cy="508680"/>
            </a:xfrm>
            <a:prstGeom prst="curvedConnector5">
              <a:avLst>
                <a:gd name="adj1" fmla="val 26931"/>
                <a:gd name="adj2" fmla="val 50000"/>
                <a:gd name="adj3" fmla="val 26931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8" name=""/>
            <p:cNvCxnSpPr>
              <a:stCxn id="1079" idx="0"/>
              <a:endCxn id="1076" idx="3"/>
            </p:cNvCxnSpPr>
            <p:nvPr/>
          </p:nvCxnSpPr>
          <p:spPr>
            <a:xfrm flipV="1" rot="16200000">
              <a:off x="2347920" y="4505760"/>
              <a:ext cx="1649160" cy="731160"/>
            </a:xfrm>
            <a:prstGeom prst="curvedConnector2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9" name=""/>
            <p:cNvCxnSpPr>
              <a:stCxn id="1077" idx="2"/>
              <a:endCxn id="1079" idx="0"/>
            </p:cNvCxnSpPr>
            <p:nvPr/>
          </p:nvCxnSpPr>
          <p:spPr>
            <a:xfrm flipH="1">
              <a:off x="3537360" y="5243760"/>
              <a:ext cx="699480" cy="4528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30" name=""/>
            <p:cNvSpPr/>
            <p:nvPr/>
          </p:nvSpPr>
          <p:spPr>
            <a:xfrm>
              <a:off x="4589640" y="4791240"/>
              <a:ext cx="67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1" name=""/>
            <p:cNvCxnSpPr>
              <a:stCxn id="1130" idx="1"/>
              <a:endCxn id="1077" idx="3"/>
            </p:cNvCxnSpPr>
            <p:nvPr/>
          </p:nvCxnSpPr>
          <p:spPr>
            <a:xfrm flipH="1">
              <a:off x="4395240" y="4894560"/>
              <a:ext cx="191160" cy="2523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32" name=""/>
            <p:cNvSpPr/>
            <p:nvPr/>
          </p:nvSpPr>
          <p:spPr>
            <a:xfrm flipH="1">
              <a:off x="3379320" y="5502240"/>
              <a:ext cx="76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42800" y="537300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1768320" y="1828800"/>
            <a:ext cx="4784400" cy="4887000"/>
            <a:chOff x="1768320" y="1828800"/>
            <a:chExt cx="4784400" cy="4887000"/>
          </a:xfrm>
        </p:grpSpPr>
        <p:sp>
          <p:nvSpPr>
            <p:cNvPr id="1135" name=""/>
            <p:cNvSpPr/>
            <p:nvPr/>
          </p:nvSpPr>
          <p:spPr>
            <a:xfrm>
              <a:off x="3313080" y="1872720"/>
              <a:ext cx="0" cy="4178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579040" y="2955600"/>
              <a:ext cx="5241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90840" y="3256920"/>
              <a:ext cx="52308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77640" y="5413680"/>
              <a:ext cx="29484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13640" y="5577840"/>
              <a:ext cx="46980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887480" y="1828800"/>
              <a:ext cx="10486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2165760" y="3039480"/>
              <a:ext cx="189000" cy="3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2165400" y="3039480"/>
              <a:ext cx="18900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2172240" y="2744280"/>
              <a:ext cx="24048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68840" y="3080880"/>
              <a:ext cx="67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373120" y="3481920"/>
              <a:ext cx="26784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373120" y="3683520"/>
              <a:ext cx="26784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08360" y="2414880"/>
              <a:ext cx="3920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44040" y="2414880"/>
              <a:ext cx="3920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974240" y="3353760"/>
              <a:ext cx="393480" cy="19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46000" y="3554640"/>
              <a:ext cx="3920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974240" y="3689280"/>
              <a:ext cx="393480" cy="19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73360" y="4830120"/>
              <a:ext cx="1332360" cy="994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165760" y="4716360"/>
              <a:ext cx="189000" cy="3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2165400" y="4716360"/>
              <a:ext cx="189000" cy="19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172240" y="4420800"/>
              <a:ext cx="24048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73120" y="5159880"/>
              <a:ext cx="2678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373120" y="5361120"/>
              <a:ext cx="2678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974240" y="5032080"/>
              <a:ext cx="3934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46000" y="5231160"/>
              <a:ext cx="3920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974240" y="5366880"/>
              <a:ext cx="3934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2440440" y="3481920"/>
              <a:ext cx="133200" cy="200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043800" y="3080880"/>
              <a:ext cx="459360" cy="60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043800" y="5293440"/>
              <a:ext cx="459360" cy="20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177000" y="5159880"/>
              <a:ext cx="0" cy="267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110760" y="3080880"/>
              <a:ext cx="39204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flipV="1">
              <a:off x="2908800" y="4421160"/>
              <a:ext cx="592920" cy="107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68320" y="2276280"/>
              <a:ext cx="28202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186880" y="1872720"/>
              <a:ext cx="0" cy="4178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495600" y="1828800"/>
              <a:ext cx="15537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 and switching 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512520" y="2951640"/>
              <a:ext cx="3934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12520" y="5366880"/>
              <a:ext cx="3934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10520" y="3148200"/>
              <a:ext cx="0" cy="221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441240" y="2276280"/>
              <a:ext cx="28202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34760" y="1828800"/>
              <a:ext cx="13179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artner 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710520" y="2478240"/>
              <a:ext cx="0" cy="46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710520" y="5560920"/>
              <a:ext cx="0" cy="49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80720" y="5565960"/>
              <a:ext cx="39492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911400" y="5427720"/>
              <a:ext cx="174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516200" y="5964480"/>
              <a:ext cx="11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594760" y="5225760"/>
              <a:ext cx="657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594760" y="5761440"/>
              <a:ext cx="7264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P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S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80720" y="3623040"/>
              <a:ext cx="461880" cy="132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76760" y="3148200"/>
              <a:ext cx="66960" cy="669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776760" y="4690440"/>
              <a:ext cx="66960" cy="671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6200000">
              <a:off x="3756960" y="4050000"/>
              <a:ext cx="53784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22120" y="3421440"/>
              <a:ext cx="393480" cy="19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653360" y="3488400"/>
              <a:ext cx="394920" cy="19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87120" y="3554640"/>
              <a:ext cx="39240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21600" y="3623040"/>
              <a:ext cx="392040" cy="19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722120" y="4024080"/>
              <a:ext cx="393480" cy="19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53360" y="4091400"/>
              <a:ext cx="39492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87120" y="4158720"/>
              <a:ext cx="39240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21600" y="4226040"/>
              <a:ext cx="392040" cy="19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653360" y="4762800"/>
              <a:ext cx="394920" cy="19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87120" y="4830120"/>
              <a:ext cx="39240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521600" y="4896000"/>
              <a:ext cx="392040" cy="19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52840" y="4963320"/>
              <a:ext cx="39492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79240" y="5696640"/>
              <a:ext cx="336600" cy="26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4246920" y="3749760"/>
              <a:ext cx="269280" cy="267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46920" y="4287960"/>
              <a:ext cx="269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80680" y="4757760"/>
              <a:ext cx="266400" cy="334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044960" y="2745720"/>
              <a:ext cx="201960" cy="871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46920" y="2746080"/>
              <a:ext cx="141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594760" y="2544120"/>
              <a:ext cx="5914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syste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rchitecture: radio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Mobile St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Base Station Subsystem)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ing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T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Base Transceiver Station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S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Base Station Controller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ing several transceiv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 radio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 standardized, open interfa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kbit/s user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tandardized, open interfa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4 kbit/s user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914400" y="1752480"/>
            <a:ext cx="3276720" cy="4228920"/>
            <a:chOff x="914400" y="1752480"/>
            <a:chExt cx="3276720" cy="4228920"/>
          </a:xfrm>
        </p:grpSpPr>
        <p:sp>
          <p:nvSpPr>
            <p:cNvPr id="1209" name=""/>
            <p:cNvSpPr/>
            <p:nvPr/>
          </p:nvSpPr>
          <p:spPr>
            <a:xfrm>
              <a:off x="2336040" y="1846440"/>
              <a:ext cx="0" cy="41349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662480" y="2856600"/>
              <a:ext cx="481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78600" y="3138480"/>
              <a:ext cx="483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22200" y="4653000"/>
              <a:ext cx="27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326240" y="5307840"/>
              <a:ext cx="5151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24920" y="1752480"/>
              <a:ext cx="939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61320" y="1752480"/>
              <a:ext cx="1729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 and switching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1279800" y="2936160"/>
              <a:ext cx="17496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1279800" y="2936160"/>
              <a:ext cx="1749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1286280" y="2659680"/>
              <a:ext cx="22140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99800" y="2974320"/>
              <a:ext cx="618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470600" y="3350160"/>
              <a:ext cx="24732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470600" y="3537720"/>
              <a:ext cx="2473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42920" y="2352960"/>
              <a:ext cx="36072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537560" y="2352960"/>
              <a:ext cx="36072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104840" y="3229920"/>
              <a:ext cx="36036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22960" y="3417840"/>
              <a:ext cx="36072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53200" y="3384000"/>
              <a:ext cx="480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1160" y="3417840"/>
              <a:ext cx="36180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104840" y="3543120"/>
              <a:ext cx="36036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19440" y="4608360"/>
              <a:ext cx="1226160" cy="9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279800" y="4502880"/>
              <a:ext cx="17496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79800" y="4502880"/>
              <a:ext cx="17496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1286280" y="4225680"/>
              <a:ext cx="22140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470600" y="4916520"/>
              <a:ext cx="24732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1470600" y="5104080"/>
              <a:ext cx="2473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04840" y="4796280"/>
              <a:ext cx="36036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722960" y="4984560"/>
              <a:ext cx="36072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104840" y="5109480"/>
              <a:ext cx="36036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1532520" y="3350160"/>
              <a:ext cx="123480" cy="18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89080" y="3538080"/>
              <a:ext cx="6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89080" y="5041800"/>
              <a:ext cx="6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53200" y="4887720"/>
              <a:ext cx="480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11160" y="4921560"/>
              <a:ext cx="36180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892600" y="3600720"/>
              <a:ext cx="0" cy="131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2212560" y="49161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2150280" y="3036600"/>
              <a:ext cx="5562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1965240" y="4227120"/>
              <a:ext cx="741600" cy="75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14400" y="2222280"/>
              <a:ext cx="25966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rchitecture: network and switching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4290840" y="1697040"/>
            <a:ext cx="47768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obile Services Switching Cen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W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rworking F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grated Services Digital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ublic Switched Telephon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cke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rcui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me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Visitor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I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quipment Identity R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914400" y="1600200"/>
            <a:ext cx="3200040" cy="4381920"/>
            <a:chOff x="914400" y="1600200"/>
            <a:chExt cx="3200040" cy="4381920"/>
          </a:xfrm>
        </p:grpSpPr>
        <p:sp>
          <p:nvSpPr>
            <p:cNvPr id="1251" name=""/>
            <p:cNvSpPr/>
            <p:nvPr/>
          </p:nvSpPr>
          <p:spPr>
            <a:xfrm>
              <a:off x="2853720" y="1684440"/>
              <a:ext cx="0" cy="42976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287000" y="1600200"/>
              <a:ext cx="1299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95040" y="273168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995040" y="507600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2840" y="2921760"/>
              <a:ext cx="0" cy="214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14400" y="2075040"/>
              <a:ext cx="31330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95840" y="1600200"/>
              <a:ext cx="121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ixed partn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1212840" y="2270520"/>
              <a:ext cx="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212840" y="5266080"/>
              <a:ext cx="0" cy="58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93480" y="527112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436400" y="5135760"/>
              <a:ext cx="19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08160" y="5656680"/>
              <a:ext cx="126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07680" y="4940280"/>
              <a:ext cx="731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07680" y="546156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P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S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293480" y="3382920"/>
              <a:ext cx="509400" cy="1291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287000" y="2921760"/>
              <a:ext cx="74520" cy="65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1287000" y="4419000"/>
              <a:ext cx="74520" cy="65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1277640" y="3760920"/>
              <a:ext cx="619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337840" y="318744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263320" y="325260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88800" y="331776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13920" y="338292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37840" y="377352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263320" y="383868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88800" y="390384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113920" y="396900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263320" y="448992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188800" y="455508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920" y="461988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039760" y="468504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734840" y="5396040"/>
              <a:ext cx="37296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1809360" y="3507840"/>
              <a:ext cx="298440" cy="259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809360" y="402876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34840" y="4484520"/>
              <a:ext cx="298440" cy="325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1585800" y="2531160"/>
              <a:ext cx="22356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809360" y="2531160"/>
              <a:ext cx="156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307680" y="2335680"/>
              <a:ext cx="657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o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adio Subsystem (RSS) comprises the cellular mobile network up to the 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 Station Subsystem (BS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 Transceiver Station (BTS): radio components including sender, receiver, antenna - if directed antennas are used one BTS can cover several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 Station Controller (BSC): switching between BTSs, controlling BTSs, managing of network resources, mapping of radio channels (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nto terrestrial channels (A interfa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SS = BSC + sum(BTS) + interconn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bile Stations (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S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station communicates across Um interface (air interface) with base station transceiver in same cell as mobile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equipment (ME) – physical terminal, such as a telephone or P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includes radio transceiver, digital signal processors and subscriber identity module (S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M subscriber units are generic until SIM is inse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s roam, not necessarily the subscriber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e Station Subsystem (B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S consists of base station controller and one or more base transceiver stations (B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TS defines a single 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radio antenna, radio transceiver and a link to a base station controller (BS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C reserves radio frequencies, manages handoff of mobile unit from one cell to another within BSS, and controls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etwork Subsystem (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provides link between cellular network and public switched telecommunications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 handoffs between cells in different B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es users and validates ac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worldwide roaming of mobile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element of NS is the mobile switching center (MS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Switching Center (MSC) Data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location register (HLR) database – stores information about each subscriber that belongs to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tor location register (VLR) database – maintains information about subscribers currently physically in the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center database (AuC) – used for authentication activities, holds encryption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identity register database (EIR) – keeps track of the type of equipment that exists at the mobile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DMA Format – Time Slot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l bits – allow synchronization of transmissions from mobile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ed bits – encryp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ling bit - indicates whether block contains data or is "stole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sequence – used to adapt parameters of receiver to the current path propagation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signal selected in case of multipath propa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d bits – used to avoid overlapping with other bur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llular Conce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592160"/>
            <a:ext cx="91440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ral small cells instead of a single transmitter=&gt; frequency reuse: better efficien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ed Channel Allocation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uster of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 an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sqrt(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ell radius a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istance at which a frequency can be reused with acceptable interferenc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747160" y="1415520"/>
            <a:ext cx="5376240" cy="3074400"/>
            <a:chOff x="2747160" y="1415520"/>
            <a:chExt cx="5376240" cy="3074400"/>
          </a:xfrm>
        </p:grpSpPr>
        <p:grpSp>
          <p:nvGrpSpPr>
            <p:cNvPr id="107" name=""/>
            <p:cNvGrpSpPr/>
            <p:nvPr/>
          </p:nvGrpSpPr>
          <p:grpSpPr>
            <a:xfrm>
              <a:off x="4039920" y="3923280"/>
              <a:ext cx="886320" cy="554040"/>
              <a:chOff x="4039920" y="3923280"/>
              <a:chExt cx="886320" cy="554040"/>
            </a:xfrm>
          </p:grpSpPr>
          <p:sp>
            <p:nvSpPr>
              <p:cNvPr id="108" name=""/>
              <p:cNvSpPr/>
              <p:nvPr/>
            </p:nvSpPr>
            <p:spPr>
              <a:xfrm>
                <a:off x="4295160" y="3923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86880" y="4477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680000" y="3926520"/>
                <a:ext cx="246240" cy="547200"/>
                <a:chOff x="4680000" y="3926520"/>
                <a:chExt cx="246240" cy="547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680000" y="3926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4680000" y="4200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039920" y="3929400"/>
                <a:ext cx="246240" cy="547200"/>
                <a:chOff x="4039920" y="3929400"/>
                <a:chExt cx="246240" cy="54720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4040280" y="3929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flipV="1">
                  <a:off x="4039920" y="4203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" name=""/>
            <p:cNvGrpSpPr/>
            <p:nvPr/>
          </p:nvGrpSpPr>
          <p:grpSpPr>
            <a:xfrm>
              <a:off x="4677120" y="3642120"/>
              <a:ext cx="886320" cy="553680"/>
              <a:chOff x="4677120" y="3642120"/>
              <a:chExt cx="886320" cy="553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932360" y="36421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24080" y="4195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5317200" y="3645360"/>
                <a:ext cx="246240" cy="547200"/>
                <a:chOff x="5317200" y="3645360"/>
                <a:chExt cx="246240" cy="5472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317200" y="3645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5317200" y="3919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77120" y="3648240"/>
                <a:ext cx="246240" cy="547200"/>
                <a:chOff x="4677120" y="3648240"/>
                <a:chExt cx="246240" cy="54720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4677480" y="3648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4677120" y="3922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4035960" y="3371400"/>
              <a:ext cx="886680" cy="554040"/>
              <a:chOff x="4035960" y="3371400"/>
              <a:chExt cx="886680" cy="554040"/>
            </a:xfrm>
          </p:grpSpPr>
          <p:sp>
            <p:nvSpPr>
              <p:cNvPr id="126" name=""/>
              <p:cNvSpPr/>
              <p:nvPr/>
            </p:nvSpPr>
            <p:spPr>
              <a:xfrm>
                <a:off x="4291200" y="3371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83280" y="39254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4676400" y="3374640"/>
                <a:ext cx="246240" cy="547200"/>
                <a:chOff x="4676400" y="3374640"/>
                <a:chExt cx="246240" cy="547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676400" y="3374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4676400" y="3648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035960" y="3377520"/>
                <a:ext cx="246240" cy="547200"/>
                <a:chOff x="4035960" y="3377520"/>
                <a:chExt cx="246240" cy="54720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4036320" y="3377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4035960" y="3651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673520" y="3090240"/>
              <a:ext cx="886320" cy="554040"/>
              <a:chOff x="4673520" y="3090240"/>
              <a:chExt cx="886320" cy="554040"/>
            </a:xfrm>
          </p:grpSpPr>
          <p:sp>
            <p:nvSpPr>
              <p:cNvPr id="135" name=""/>
              <p:cNvSpPr/>
              <p:nvPr/>
            </p:nvSpPr>
            <p:spPr>
              <a:xfrm>
                <a:off x="4928760" y="30902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20480" y="3644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313600" y="3093480"/>
                <a:ext cx="246240" cy="547200"/>
                <a:chOff x="5313600" y="3093480"/>
                <a:chExt cx="246240" cy="54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313600" y="3093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5313600" y="3367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673520" y="3096360"/>
                <a:ext cx="246240" cy="547200"/>
                <a:chOff x="4673520" y="3096360"/>
                <a:chExt cx="246240" cy="547200"/>
              </a:xfrm>
            </p:grpSpPr>
            <p:sp>
              <p:nvSpPr>
                <p:cNvPr id="141" name=""/>
                <p:cNvSpPr/>
                <p:nvPr/>
              </p:nvSpPr>
              <p:spPr>
                <a:xfrm flipH="1">
                  <a:off x="4673880" y="3096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4673520" y="3370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2757600" y="3935880"/>
              <a:ext cx="886680" cy="554040"/>
              <a:chOff x="2757600" y="3935880"/>
              <a:chExt cx="886680" cy="554040"/>
            </a:xfrm>
          </p:grpSpPr>
          <p:sp>
            <p:nvSpPr>
              <p:cNvPr id="144" name=""/>
              <p:cNvSpPr/>
              <p:nvPr/>
            </p:nvSpPr>
            <p:spPr>
              <a:xfrm>
                <a:off x="3012840" y="3935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04920" y="44899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398040" y="3939120"/>
                <a:ext cx="246240" cy="547200"/>
                <a:chOff x="3398040" y="3939120"/>
                <a:chExt cx="246240" cy="5472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98040" y="3939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3398040" y="4213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757600" y="3942000"/>
                <a:ext cx="246240" cy="547200"/>
                <a:chOff x="2757600" y="3942000"/>
                <a:chExt cx="246240" cy="547200"/>
              </a:xfrm>
            </p:grpSpPr>
            <p:sp>
              <p:nvSpPr>
                <p:cNvPr id="150" name=""/>
                <p:cNvSpPr/>
                <p:nvPr/>
              </p:nvSpPr>
              <p:spPr>
                <a:xfrm flipH="1">
                  <a:off x="2757960" y="3942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2757600" y="4215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3395160" y="3654720"/>
              <a:ext cx="886320" cy="553680"/>
              <a:chOff x="3395160" y="3654720"/>
              <a:chExt cx="886320" cy="553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650400" y="36547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42120" y="4208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4035240" y="3657960"/>
                <a:ext cx="246240" cy="547200"/>
                <a:chOff x="4035240" y="3657960"/>
                <a:chExt cx="246240" cy="5472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035240" y="36579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4035240" y="39319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95160" y="3660840"/>
                <a:ext cx="246240" cy="547200"/>
                <a:chOff x="3395160" y="3660840"/>
                <a:chExt cx="246240" cy="54720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3395520" y="3660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3395160" y="3934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2754000" y="3383640"/>
              <a:ext cx="886680" cy="554040"/>
              <a:chOff x="2754000" y="3383640"/>
              <a:chExt cx="886680" cy="554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009240" y="33836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01320" y="39376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394440" y="3386880"/>
                <a:ext cx="246240" cy="547200"/>
                <a:chOff x="3394440" y="3386880"/>
                <a:chExt cx="246240" cy="547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394440" y="3386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3394440" y="3660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754000" y="3389760"/>
                <a:ext cx="246240" cy="547200"/>
                <a:chOff x="2754000" y="3389760"/>
                <a:chExt cx="246240" cy="54720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2754360" y="3389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2754000" y="3663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3391200" y="3102480"/>
              <a:ext cx="886680" cy="553680"/>
              <a:chOff x="3391200" y="3102480"/>
              <a:chExt cx="886680" cy="553680"/>
            </a:xfrm>
          </p:grpSpPr>
          <p:sp>
            <p:nvSpPr>
              <p:cNvPr id="171" name=""/>
              <p:cNvSpPr/>
              <p:nvPr/>
            </p:nvSpPr>
            <p:spPr>
              <a:xfrm>
                <a:off x="3646440" y="31024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8520" y="36561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031640" y="3105720"/>
                <a:ext cx="246240" cy="547200"/>
                <a:chOff x="4031640" y="3105720"/>
                <a:chExt cx="246240" cy="547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31640" y="3105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4031640" y="3379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391200" y="3108600"/>
                <a:ext cx="246240" cy="547200"/>
                <a:chOff x="3391200" y="3108600"/>
                <a:chExt cx="246240" cy="54720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3391560" y="3108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391200" y="3382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4035960" y="2822400"/>
              <a:ext cx="886680" cy="553680"/>
              <a:chOff x="4035960" y="2822400"/>
              <a:chExt cx="886680" cy="553680"/>
            </a:xfrm>
          </p:grpSpPr>
          <p:sp>
            <p:nvSpPr>
              <p:cNvPr id="180" name=""/>
              <p:cNvSpPr/>
              <p:nvPr/>
            </p:nvSpPr>
            <p:spPr>
              <a:xfrm>
                <a:off x="4291200" y="2822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83280" y="33760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4676400" y="2825640"/>
                <a:ext cx="246240" cy="547200"/>
                <a:chOff x="4676400" y="2825640"/>
                <a:chExt cx="246240" cy="547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676400" y="2825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4676400" y="3099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035960" y="2828520"/>
                <a:ext cx="246240" cy="547200"/>
                <a:chOff x="4035960" y="2828520"/>
                <a:chExt cx="246240" cy="5472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036320" y="2828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4035960" y="3102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4673520" y="2541240"/>
              <a:ext cx="886320" cy="554040"/>
              <a:chOff x="4673520" y="2541240"/>
              <a:chExt cx="886320" cy="554040"/>
            </a:xfrm>
          </p:grpSpPr>
          <p:sp>
            <p:nvSpPr>
              <p:cNvPr id="189" name=""/>
              <p:cNvSpPr/>
              <p:nvPr/>
            </p:nvSpPr>
            <p:spPr>
              <a:xfrm>
                <a:off x="4928760" y="25412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20480" y="3095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313600" y="2544480"/>
                <a:ext cx="246240" cy="547200"/>
                <a:chOff x="5313600" y="2544480"/>
                <a:chExt cx="246240" cy="547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313600" y="2544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5313600" y="2818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673520" y="2547360"/>
                <a:ext cx="246240" cy="547200"/>
                <a:chOff x="4673520" y="2547360"/>
                <a:chExt cx="246240" cy="5472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4673880" y="2547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4673520" y="2821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4032360" y="2270160"/>
              <a:ext cx="886680" cy="554040"/>
              <a:chOff x="4032360" y="2270160"/>
              <a:chExt cx="886680" cy="554040"/>
            </a:xfrm>
          </p:grpSpPr>
          <p:sp>
            <p:nvSpPr>
              <p:cNvPr id="198" name=""/>
              <p:cNvSpPr/>
              <p:nvPr/>
            </p:nvSpPr>
            <p:spPr>
              <a:xfrm>
                <a:off x="4287600" y="22701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79680" y="28242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672800" y="2273400"/>
                <a:ext cx="246240" cy="547200"/>
                <a:chOff x="4672800" y="2273400"/>
                <a:chExt cx="246240" cy="54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72800" y="2273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4672800" y="2547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032360" y="2276280"/>
                <a:ext cx="246240" cy="547200"/>
                <a:chOff x="4032360" y="2276280"/>
                <a:chExt cx="246240" cy="547200"/>
              </a:xfrm>
            </p:grpSpPr>
            <p:sp>
              <p:nvSpPr>
                <p:cNvPr id="204" name=""/>
                <p:cNvSpPr/>
                <p:nvPr/>
              </p:nvSpPr>
              <p:spPr>
                <a:xfrm flipH="1">
                  <a:off x="4032720" y="2276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4032360" y="2550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669560" y="1989360"/>
              <a:ext cx="886680" cy="553680"/>
              <a:chOff x="4669560" y="1989360"/>
              <a:chExt cx="886680" cy="553680"/>
            </a:xfrm>
          </p:grpSpPr>
          <p:sp>
            <p:nvSpPr>
              <p:cNvPr id="207" name=""/>
              <p:cNvSpPr/>
              <p:nvPr/>
            </p:nvSpPr>
            <p:spPr>
              <a:xfrm>
                <a:off x="4924800" y="1989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16880" y="25430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310000" y="1992600"/>
                <a:ext cx="246240" cy="547200"/>
                <a:chOff x="5310000" y="1992600"/>
                <a:chExt cx="246240" cy="547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310000" y="1992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5310000" y="2266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669560" y="1995480"/>
                <a:ext cx="246240" cy="547200"/>
                <a:chOff x="4669560" y="1995480"/>
                <a:chExt cx="246240" cy="54720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4669920" y="1995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>
                  <a:off x="4669560" y="2269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" name=""/>
            <p:cNvGrpSpPr/>
            <p:nvPr/>
          </p:nvGrpSpPr>
          <p:grpSpPr>
            <a:xfrm>
              <a:off x="2754000" y="2835000"/>
              <a:ext cx="886680" cy="553680"/>
              <a:chOff x="2754000" y="2835000"/>
              <a:chExt cx="886680" cy="553680"/>
            </a:xfrm>
          </p:grpSpPr>
          <p:sp>
            <p:nvSpPr>
              <p:cNvPr id="216" name=""/>
              <p:cNvSpPr/>
              <p:nvPr/>
            </p:nvSpPr>
            <p:spPr>
              <a:xfrm>
                <a:off x="3009240" y="28350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01320" y="33886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394440" y="2838240"/>
                <a:ext cx="246240" cy="547200"/>
                <a:chOff x="3394440" y="2838240"/>
                <a:chExt cx="246240" cy="54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394440" y="2838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3394440" y="3112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754000" y="2841120"/>
                <a:ext cx="246240" cy="547200"/>
                <a:chOff x="2754000" y="2841120"/>
                <a:chExt cx="246240" cy="547200"/>
              </a:xfrm>
            </p:grpSpPr>
            <p:sp>
              <p:nvSpPr>
                <p:cNvPr id="222" name=""/>
                <p:cNvSpPr/>
                <p:nvPr/>
              </p:nvSpPr>
              <p:spPr>
                <a:xfrm flipH="1">
                  <a:off x="2754360" y="2841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2754000" y="3115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391200" y="2553480"/>
              <a:ext cx="886680" cy="554040"/>
              <a:chOff x="3391200" y="2553480"/>
              <a:chExt cx="886680" cy="554040"/>
            </a:xfrm>
          </p:grpSpPr>
          <p:sp>
            <p:nvSpPr>
              <p:cNvPr id="225" name=""/>
              <p:cNvSpPr/>
              <p:nvPr/>
            </p:nvSpPr>
            <p:spPr>
              <a:xfrm>
                <a:off x="3646440" y="25534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38520" y="31075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031640" y="2556720"/>
                <a:ext cx="246240" cy="547200"/>
                <a:chOff x="4031640" y="2556720"/>
                <a:chExt cx="246240" cy="547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31640" y="2556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4031640" y="2830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391200" y="2559600"/>
                <a:ext cx="246240" cy="547200"/>
                <a:chOff x="3391200" y="2559600"/>
                <a:chExt cx="246240" cy="54720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3391560" y="2559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>
                  <a:off x="3391200" y="2833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2750400" y="2282760"/>
              <a:ext cx="886320" cy="554040"/>
              <a:chOff x="2750400" y="2282760"/>
              <a:chExt cx="886320" cy="554040"/>
            </a:xfrm>
          </p:grpSpPr>
          <p:sp>
            <p:nvSpPr>
              <p:cNvPr id="234" name=""/>
              <p:cNvSpPr/>
              <p:nvPr/>
            </p:nvSpPr>
            <p:spPr>
              <a:xfrm>
                <a:off x="3005640" y="2282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97360" y="2836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390480" y="2286000"/>
                <a:ext cx="246240" cy="547200"/>
                <a:chOff x="3390480" y="2286000"/>
                <a:chExt cx="246240" cy="547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390480" y="2286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3390480" y="2559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750400" y="2288880"/>
                <a:ext cx="246240" cy="547200"/>
                <a:chOff x="2750400" y="2288880"/>
                <a:chExt cx="246240" cy="5472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750760" y="2288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2750400" y="2562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3387600" y="2001600"/>
              <a:ext cx="886680" cy="554040"/>
              <a:chOff x="3387600" y="2001600"/>
              <a:chExt cx="886680" cy="554040"/>
            </a:xfrm>
          </p:grpSpPr>
          <p:sp>
            <p:nvSpPr>
              <p:cNvPr id="243" name=""/>
              <p:cNvSpPr/>
              <p:nvPr/>
            </p:nvSpPr>
            <p:spPr>
              <a:xfrm>
                <a:off x="3642840" y="20016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34920" y="25556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4028040" y="2004840"/>
                <a:ext cx="246240" cy="547200"/>
                <a:chOff x="4028040" y="2004840"/>
                <a:chExt cx="246240" cy="547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028040" y="2004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4028040" y="2278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387600" y="2007720"/>
                <a:ext cx="246240" cy="547200"/>
                <a:chOff x="3387600" y="2007720"/>
                <a:chExt cx="246240" cy="547200"/>
              </a:xfrm>
            </p:grpSpPr>
            <p:sp>
              <p:nvSpPr>
                <p:cNvPr id="249" name=""/>
                <p:cNvSpPr/>
                <p:nvPr/>
              </p:nvSpPr>
              <p:spPr>
                <a:xfrm flipH="1">
                  <a:off x="3387960" y="2007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3387600" y="2281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99880" y="3901680"/>
              <a:ext cx="886320" cy="553680"/>
              <a:chOff x="6599880" y="3901680"/>
              <a:chExt cx="886320" cy="553680"/>
            </a:xfrm>
          </p:grpSpPr>
          <p:sp>
            <p:nvSpPr>
              <p:cNvPr id="252" name=""/>
              <p:cNvSpPr/>
              <p:nvPr/>
            </p:nvSpPr>
            <p:spPr>
              <a:xfrm>
                <a:off x="6855120" y="39016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46840" y="4455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239960" y="3904920"/>
                <a:ext cx="246240" cy="547200"/>
                <a:chOff x="7239960" y="3904920"/>
                <a:chExt cx="246240" cy="547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9960" y="3904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239960" y="4178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599880" y="3907800"/>
                <a:ext cx="246240" cy="547200"/>
                <a:chOff x="6599880" y="3907800"/>
                <a:chExt cx="246240" cy="5472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>
                  <a:off x="6600240" y="3907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6599880" y="4181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7237080" y="3620520"/>
              <a:ext cx="886320" cy="554040"/>
              <a:chOff x="7237080" y="3620520"/>
              <a:chExt cx="886320" cy="5540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92320" y="3620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84040" y="4174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7877160" y="3623760"/>
                <a:ext cx="246240" cy="547200"/>
                <a:chOff x="7877160" y="3623760"/>
                <a:chExt cx="246240" cy="5472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877160" y="3623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7877160" y="3897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237080" y="3626640"/>
                <a:ext cx="246240" cy="547200"/>
                <a:chOff x="7237080" y="3626640"/>
                <a:chExt cx="246240" cy="547200"/>
              </a:xfrm>
            </p:grpSpPr>
            <p:sp>
              <p:nvSpPr>
                <p:cNvPr id="267" name=""/>
                <p:cNvSpPr/>
                <p:nvPr/>
              </p:nvSpPr>
              <p:spPr>
                <a:xfrm flipH="1">
                  <a:off x="7237440" y="3626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7237080" y="3900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6595920" y="3349800"/>
              <a:ext cx="886680" cy="553680"/>
              <a:chOff x="6595920" y="3349800"/>
              <a:chExt cx="886680" cy="553680"/>
            </a:xfrm>
          </p:grpSpPr>
          <p:sp>
            <p:nvSpPr>
              <p:cNvPr id="270" name=""/>
              <p:cNvSpPr/>
              <p:nvPr/>
            </p:nvSpPr>
            <p:spPr>
              <a:xfrm>
                <a:off x="6851160" y="3349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43240" y="39034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7236360" y="3353040"/>
                <a:ext cx="246240" cy="547200"/>
                <a:chOff x="7236360" y="3353040"/>
                <a:chExt cx="246240" cy="54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236360" y="3353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7236360" y="3627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595920" y="3355920"/>
                <a:ext cx="246240" cy="547200"/>
                <a:chOff x="6595920" y="3355920"/>
                <a:chExt cx="246240" cy="547200"/>
              </a:xfrm>
            </p:grpSpPr>
            <p:sp>
              <p:nvSpPr>
                <p:cNvPr id="276" name=""/>
                <p:cNvSpPr/>
                <p:nvPr/>
              </p:nvSpPr>
              <p:spPr>
                <a:xfrm flipH="1">
                  <a:off x="6596280" y="3355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>
                  <a:off x="6595920" y="3629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7233480" y="3068280"/>
              <a:ext cx="886320" cy="554040"/>
              <a:chOff x="7233480" y="3068280"/>
              <a:chExt cx="886320" cy="554040"/>
            </a:xfrm>
          </p:grpSpPr>
          <p:sp>
            <p:nvSpPr>
              <p:cNvPr id="279" name=""/>
              <p:cNvSpPr/>
              <p:nvPr/>
            </p:nvSpPr>
            <p:spPr>
              <a:xfrm>
                <a:off x="7488720" y="3068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80440" y="3622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7873560" y="3071520"/>
                <a:ext cx="246240" cy="547200"/>
                <a:chOff x="7873560" y="3071520"/>
                <a:chExt cx="246240" cy="5472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873560" y="3071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7873560" y="3345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233480" y="3074400"/>
                <a:ext cx="246240" cy="547200"/>
                <a:chOff x="7233480" y="3074400"/>
                <a:chExt cx="246240" cy="547200"/>
              </a:xfrm>
            </p:grpSpPr>
            <p:sp>
              <p:nvSpPr>
                <p:cNvPr id="285" name=""/>
                <p:cNvSpPr/>
                <p:nvPr/>
              </p:nvSpPr>
              <p:spPr>
                <a:xfrm flipH="1">
                  <a:off x="7233840" y="3074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>
                  <a:off x="7233480" y="3348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5317560" y="3913920"/>
              <a:ext cx="886680" cy="554040"/>
              <a:chOff x="5317560" y="3913920"/>
              <a:chExt cx="886680" cy="554040"/>
            </a:xfrm>
          </p:grpSpPr>
          <p:sp>
            <p:nvSpPr>
              <p:cNvPr id="288" name=""/>
              <p:cNvSpPr/>
              <p:nvPr/>
            </p:nvSpPr>
            <p:spPr>
              <a:xfrm>
                <a:off x="5572800" y="3913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64880" y="44679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958000" y="3917160"/>
                <a:ext cx="246240" cy="547200"/>
                <a:chOff x="5958000" y="3917160"/>
                <a:chExt cx="246240" cy="547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958000" y="3917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5958000" y="4191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317560" y="3920040"/>
                <a:ext cx="246240" cy="547200"/>
                <a:chOff x="5317560" y="3920040"/>
                <a:chExt cx="246240" cy="547200"/>
              </a:xfrm>
            </p:grpSpPr>
            <p:sp>
              <p:nvSpPr>
                <p:cNvPr id="294" name=""/>
                <p:cNvSpPr/>
                <p:nvPr/>
              </p:nvSpPr>
              <p:spPr>
                <a:xfrm flipH="1">
                  <a:off x="5317920" y="3920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5317560" y="4194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5955120" y="3632760"/>
              <a:ext cx="886320" cy="554040"/>
              <a:chOff x="5955120" y="3632760"/>
              <a:chExt cx="886320" cy="554040"/>
            </a:xfrm>
          </p:grpSpPr>
          <p:sp>
            <p:nvSpPr>
              <p:cNvPr id="297" name=""/>
              <p:cNvSpPr/>
              <p:nvPr/>
            </p:nvSpPr>
            <p:spPr>
              <a:xfrm>
                <a:off x="6210360" y="3632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02080" y="4186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6595200" y="3636000"/>
                <a:ext cx="246240" cy="547200"/>
                <a:chOff x="6595200" y="3636000"/>
                <a:chExt cx="246240" cy="5472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95200" y="3636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595200" y="3909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955120" y="3638880"/>
                <a:ext cx="246240" cy="547200"/>
                <a:chOff x="5955120" y="3638880"/>
                <a:chExt cx="246240" cy="547200"/>
              </a:xfrm>
            </p:grpSpPr>
            <p:sp>
              <p:nvSpPr>
                <p:cNvPr id="303" name=""/>
                <p:cNvSpPr/>
                <p:nvPr/>
              </p:nvSpPr>
              <p:spPr>
                <a:xfrm flipH="1">
                  <a:off x="5955480" y="3638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>
                  <a:off x="5955120" y="3912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5314320" y="3362040"/>
              <a:ext cx="886680" cy="553680"/>
              <a:chOff x="5314320" y="3362040"/>
              <a:chExt cx="886680" cy="553680"/>
            </a:xfrm>
          </p:grpSpPr>
          <p:sp>
            <p:nvSpPr>
              <p:cNvPr id="306" name=""/>
              <p:cNvSpPr/>
              <p:nvPr/>
            </p:nvSpPr>
            <p:spPr>
              <a:xfrm>
                <a:off x="5569560" y="33620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561640" y="39157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5954760" y="3365280"/>
                <a:ext cx="246240" cy="547200"/>
                <a:chOff x="5954760" y="3365280"/>
                <a:chExt cx="246240" cy="547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954760" y="3365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5954760" y="3639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314320" y="3368160"/>
                <a:ext cx="246240" cy="547200"/>
                <a:chOff x="5314320" y="3368160"/>
                <a:chExt cx="246240" cy="547200"/>
              </a:xfrm>
            </p:grpSpPr>
            <p:sp>
              <p:nvSpPr>
                <p:cNvPr id="312" name=""/>
                <p:cNvSpPr/>
                <p:nvPr/>
              </p:nvSpPr>
              <p:spPr>
                <a:xfrm flipH="1">
                  <a:off x="5314680" y="3368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>
                  <a:off x="5314320" y="3642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5951520" y="3080880"/>
              <a:ext cx="886320" cy="554040"/>
              <a:chOff x="5951520" y="3080880"/>
              <a:chExt cx="886320" cy="554040"/>
            </a:xfrm>
          </p:grpSpPr>
          <p:sp>
            <p:nvSpPr>
              <p:cNvPr id="315" name=""/>
              <p:cNvSpPr/>
              <p:nvPr/>
            </p:nvSpPr>
            <p:spPr>
              <a:xfrm>
                <a:off x="6206760" y="3080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8480" y="3634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6591600" y="3084120"/>
                <a:ext cx="246240" cy="547200"/>
                <a:chOff x="6591600" y="3084120"/>
                <a:chExt cx="246240" cy="5472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591600" y="3084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6591600" y="3358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951520" y="3087000"/>
                <a:ext cx="246240" cy="547200"/>
                <a:chOff x="5951520" y="3087000"/>
                <a:chExt cx="246240" cy="547200"/>
              </a:xfrm>
            </p:grpSpPr>
            <p:sp>
              <p:nvSpPr>
                <p:cNvPr id="321" name=""/>
                <p:cNvSpPr/>
                <p:nvPr/>
              </p:nvSpPr>
              <p:spPr>
                <a:xfrm flipH="1">
                  <a:off x="5951880" y="3087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5951520" y="3360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6595920" y="2800800"/>
              <a:ext cx="886680" cy="554040"/>
              <a:chOff x="6595920" y="2800800"/>
              <a:chExt cx="886680" cy="554040"/>
            </a:xfrm>
          </p:grpSpPr>
          <p:sp>
            <p:nvSpPr>
              <p:cNvPr id="324" name=""/>
              <p:cNvSpPr/>
              <p:nvPr/>
            </p:nvSpPr>
            <p:spPr>
              <a:xfrm>
                <a:off x="6851160" y="2800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43240" y="33548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236360" y="2804040"/>
                <a:ext cx="246240" cy="547200"/>
                <a:chOff x="7236360" y="2804040"/>
                <a:chExt cx="246240" cy="5472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236360" y="2804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7236360" y="3078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595920" y="2806920"/>
                <a:ext cx="246240" cy="547200"/>
                <a:chOff x="6595920" y="2806920"/>
                <a:chExt cx="246240" cy="547200"/>
              </a:xfrm>
            </p:grpSpPr>
            <p:sp>
              <p:nvSpPr>
                <p:cNvPr id="330" name=""/>
                <p:cNvSpPr/>
                <p:nvPr/>
              </p:nvSpPr>
              <p:spPr>
                <a:xfrm flipH="1">
                  <a:off x="6596280" y="2806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6595920" y="3080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7233480" y="2519640"/>
              <a:ext cx="886320" cy="553680"/>
              <a:chOff x="7233480" y="2519640"/>
              <a:chExt cx="886320" cy="553680"/>
            </a:xfrm>
          </p:grpSpPr>
          <p:sp>
            <p:nvSpPr>
              <p:cNvPr id="333" name=""/>
              <p:cNvSpPr/>
              <p:nvPr/>
            </p:nvSpPr>
            <p:spPr>
              <a:xfrm>
                <a:off x="7488720" y="25196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80440" y="3073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7873560" y="2522880"/>
                <a:ext cx="246240" cy="547200"/>
                <a:chOff x="7873560" y="2522880"/>
                <a:chExt cx="246240" cy="5472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873560" y="2522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873560" y="2796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233480" y="2525760"/>
                <a:ext cx="246240" cy="547200"/>
                <a:chOff x="7233480" y="2525760"/>
                <a:chExt cx="246240" cy="54720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7233840" y="2525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>
                  <a:off x="7233480" y="2799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6592320" y="2248560"/>
              <a:ext cx="886680" cy="554040"/>
              <a:chOff x="6592320" y="2248560"/>
              <a:chExt cx="886680" cy="554040"/>
            </a:xfrm>
          </p:grpSpPr>
          <p:sp>
            <p:nvSpPr>
              <p:cNvPr id="342" name=""/>
              <p:cNvSpPr/>
              <p:nvPr/>
            </p:nvSpPr>
            <p:spPr>
              <a:xfrm>
                <a:off x="6847560" y="2248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39640" y="28026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232760" y="2251800"/>
                <a:ext cx="246240" cy="547200"/>
                <a:chOff x="7232760" y="2251800"/>
                <a:chExt cx="246240" cy="5472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7232760" y="2251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7232760" y="2525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592320" y="2254680"/>
                <a:ext cx="246240" cy="547200"/>
                <a:chOff x="6592320" y="2254680"/>
                <a:chExt cx="246240" cy="5472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6592680" y="22546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6592320" y="25286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7229520" y="1967400"/>
              <a:ext cx="886680" cy="554040"/>
              <a:chOff x="7229520" y="1967400"/>
              <a:chExt cx="886680" cy="554040"/>
            </a:xfrm>
          </p:grpSpPr>
          <p:sp>
            <p:nvSpPr>
              <p:cNvPr id="351" name=""/>
              <p:cNvSpPr/>
              <p:nvPr/>
            </p:nvSpPr>
            <p:spPr>
              <a:xfrm>
                <a:off x="7484760" y="1967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76840" y="25214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7869960" y="1970640"/>
                <a:ext cx="246240" cy="547200"/>
                <a:chOff x="7869960" y="1970640"/>
                <a:chExt cx="246240" cy="5472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869960" y="1970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7869960" y="2244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229520" y="1973520"/>
                <a:ext cx="246240" cy="547200"/>
                <a:chOff x="7229520" y="1973520"/>
                <a:chExt cx="246240" cy="547200"/>
              </a:xfrm>
            </p:grpSpPr>
            <p:sp>
              <p:nvSpPr>
                <p:cNvPr id="357" name=""/>
                <p:cNvSpPr/>
                <p:nvPr/>
              </p:nvSpPr>
              <p:spPr>
                <a:xfrm flipH="1">
                  <a:off x="7229880" y="1973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7229520" y="2247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5314320" y="2813040"/>
              <a:ext cx="886680" cy="554040"/>
              <a:chOff x="5314320" y="2813040"/>
              <a:chExt cx="886680" cy="554040"/>
            </a:xfrm>
          </p:grpSpPr>
          <p:sp>
            <p:nvSpPr>
              <p:cNvPr id="360" name=""/>
              <p:cNvSpPr/>
              <p:nvPr/>
            </p:nvSpPr>
            <p:spPr>
              <a:xfrm>
                <a:off x="5569560" y="28130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61640" y="33670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5954760" y="2816280"/>
                <a:ext cx="246240" cy="547200"/>
                <a:chOff x="5954760" y="2816280"/>
                <a:chExt cx="246240" cy="5472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954760" y="2816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954760" y="3090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314320" y="2819160"/>
                <a:ext cx="246240" cy="547200"/>
                <a:chOff x="5314320" y="2819160"/>
                <a:chExt cx="246240" cy="547200"/>
              </a:xfrm>
            </p:grpSpPr>
            <p:sp>
              <p:nvSpPr>
                <p:cNvPr id="366" name=""/>
                <p:cNvSpPr/>
                <p:nvPr/>
              </p:nvSpPr>
              <p:spPr>
                <a:xfrm flipH="1">
                  <a:off x="5314680" y="2819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5314320" y="3093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5951520" y="2531880"/>
              <a:ext cx="886320" cy="553680"/>
              <a:chOff x="5951520" y="2531880"/>
              <a:chExt cx="886320" cy="553680"/>
            </a:xfrm>
          </p:grpSpPr>
          <p:sp>
            <p:nvSpPr>
              <p:cNvPr id="369" name=""/>
              <p:cNvSpPr/>
              <p:nvPr/>
            </p:nvSpPr>
            <p:spPr>
              <a:xfrm>
                <a:off x="6206760" y="2531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98480" y="3085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6591600" y="2535120"/>
                <a:ext cx="246240" cy="547200"/>
                <a:chOff x="6591600" y="2535120"/>
                <a:chExt cx="246240" cy="5472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591600" y="2535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6591600" y="2809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951520" y="2538000"/>
                <a:ext cx="246240" cy="547200"/>
                <a:chOff x="5951520" y="2538000"/>
                <a:chExt cx="246240" cy="547200"/>
              </a:xfrm>
            </p:grpSpPr>
            <p:sp>
              <p:nvSpPr>
                <p:cNvPr id="375" name=""/>
                <p:cNvSpPr/>
                <p:nvPr/>
              </p:nvSpPr>
              <p:spPr>
                <a:xfrm flipH="1">
                  <a:off x="5951880" y="2538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5951520" y="2811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5310720" y="2260800"/>
              <a:ext cx="886680" cy="554040"/>
              <a:chOff x="5310720" y="2260800"/>
              <a:chExt cx="886680" cy="554040"/>
            </a:xfrm>
          </p:grpSpPr>
          <p:sp>
            <p:nvSpPr>
              <p:cNvPr id="378" name=""/>
              <p:cNvSpPr/>
              <p:nvPr/>
            </p:nvSpPr>
            <p:spPr>
              <a:xfrm>
                <a:off x="5565960" y="2260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58040" y="28148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5951160" y="2264040"/>
                <a:ext cx="246240" cy="547200"/>
                <a:chOff x="5951160" y="2264040"/>
                <a:chExt cx="246240" cy="5472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951160" y="2264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5951160" y="2538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5310720" y="2266920"/>
                <a:ext cx="246240" cy="547200"/>
                <a:chOff x="5310720" y="2266920"/>
                <a:chExt cx="246240" cy="547200"/>
              </a:xfrm>
            </p:grpSpPr>
            <p:sp>
              <p:nvSpPr>
                <p:cNvPr id="384" name=""/>
                <p:cNvSpPr/>
                <p:nvPr/>
              </p:nvSpPr>
              <p:spPr>
                <a:xfrm flipH="1">
                  <a:off x="5311080" y="2266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5310720" y="2540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6" name=""/>
            <p:cNvGrpSpPr/>
            <p:nvPr/>
          </p:nvGrpSpPr>
          <p:grpSpPr>
            <a:xfrm>
              <a:off x="5947920" y="1980000"/>
              <a:ext cx="886680" cy="554040"/>
              <a:chOff x="5947920" y="1980000"/>
              <a:chExt cx="886680" cy="554040"/>
            </a:xfrm>
          </p:grpSpPr>
          <p:sp>
            <p:nvSpPr>
              <p:cNvPr id="387" name=""/>
              <p:cNvSpPr/>
              <p:nvPr/>
            </p:nvSpPr>
            <p:spPr>
              <a:xfrm>
                <a:off x="6203160" y="19800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95240" y="25340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6588360" y="1983240"/>
                <a:ext cx="246240" cy="547200"/>
                <a:chOff x="6588360" y="1983240"/>
                <a:chExt cx="246240" cy="5472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588360" y="1983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588360" y="2257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947920" y="1986120"/>
                <a:ext cx="246240" cy="547200"/>
                <a:chOff x="5947920" y="1986120"/>
                <a:chExt cx="246240" cy="547200"/>
              </a:xfrm>
            </p:grpSpPr>
            <p:sp>
              <p:nvSpPr>
                <p:cNvPr id="393" name=""/>
                <p:cNvSpPr/>
                <p:nvPr/>
              </p:nvSpPr>
              <p:spPr>
                <a:xfrm flipH="1">
                  <a:off x="5948280" y="1986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5947920" y="2260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4028760" y="1718280"/>
              <a:ext cx="886320" cy="554040"/>
              <a:chOff x="4028760" y="1718280"/>
              <a:chExt cx="886320" cy="554040"/>
            </a:xfrm>
          </p:grpSpPr>
          <p:sp>
            <p:nvSpPr>
              <p:cNvPr id="396" name=""/>
              <p:cNvSpPr/>
              <p:nvPr/>
            </p:nvSpPr>
            <p:spPr>
              <a:xfrm>
                <a:off x="4284000" y="1718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75720" y="2272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4668840" y="1721520"/>
                <a:ext cx="246240" cy="547200"/>
                <a:chOff x="4668840" y="1721520"/>
                <a:chExt cx="246240" cy="5472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668840" y="1721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4668840" y="1995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4028760" y="1724400"/>
                <a:ext cx="246240" cy="547200"/>
                <a:chOff x="4028760" y="1724400"/>
                <a:chExt cx="246240" cy="547200"/>
              </a:xfrm>
            </p:grpSpPr>
            <p:sp>
              <p:nvSpPr>
                <p:cNvPr id="402" name=""/>
                <p:cNvSpPr/>
                <p:nvPr/>
              </p:nvSpPr>
              <p:spPr>
                <a:xfrm flipH="1">
                  <a:off x="4029120" y="1724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>
                  <a:off x="4028760" y="1998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4665960" y="1437120"/>
              <a:ext cx="886680" cy="553680"/>
              <a:chOff x="4665960" y="1437120"/>
              <a:chExt cx="886680" cy="553680"/>
            </a:xfrm>
          </p:grpSpPr>
          <p:sp>
            <p:nvSpPr>
              <p:cNvPr id="405" name=""/>
              <p:cNvSpPr/>
              <p:nvPr/>
            </p:nvSpPr>
            <p:spPr>
              <a:xfrm>
                <a:off x="4921200" y="14371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13280" y="19908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5306400" y="1440360"/>
                <a:ext cx="246240" cy="547200"/>
                <a:chOff x="5306400" y="1440360"/>
                <a:chExt cx="246240" cy="547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306400" y="1440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5306400" y="1714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665960" y="1443240"/>
                <a:ext cx="246240" cy="547200"/>
                <a:chOff x="4665960" y="1443240"/>
                <a:chExt cx="246240" cy="547200"/>
              </a:xfrm>
            </p:grpSpPr>
            <p:sp>
              <p:nvSpPr>
                <p:cNvPr id="411" name=""/>
                <p:cNvSpPr/>
                <p:nvPr/>
              </p:nvSpPr>
              <p:spPr>
                <a:xfrm flipH="1">
                  <a:off x="4666320" y="1443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>
                  <a:off x="4665960" y="1717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2747160" y="1730520"/>
              <a:ext cx="886320" cy="554040"/>
              <a:chOff x="2747160" y="1730520"/>
              <a:chExt cx="886320" cy="554040"/>
            </a:xfrm>
          </p:grpSpPr>
          <p:sp>
            <p:nvSpPr>
              <p:cNvPr id="414" name=""/>
              <p:cNvSpPr/>
              <p:nvPr/>
            </p:nvSpPr>
            <p:spPr>
              <a:xfrm>
                <a:off x="3002400" y="1730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94120" y="2284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3387240" y="1733760"/>
                <a:ext cx="246240" cy="547200"/>
                <a:chOff x="3387240" y="1733760"/>
                <a:chExt cx="246240" cy="5472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387240" y="1733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3387240" y="2007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747160" y="1736640"/>
                <a:ext cx="246240" cy="547200"/>
                <a:chOff x="2747160" y="1736640"/>
                <a:chExt cx="246240" cy="547200"/>
              </a:xfrm>
            </p:grpSpPr>
            <p:sp>
              <p:nvSpPr>
                <p:cNvPr id="420" name=""/>
                <p:cNvSpPr/>
                <p:nvPr/>
              </p:nvSpPr>
              <p:spPr>
                <a:xfrm flipH="1">
                  <a:off x="2747520" y="1736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>
                  <a:off x="2747160" y="2010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3384360" y="1449720"/>
              <a:ext cx="886680" cy="553680"/>
              <a:chOff x="3384360" y="1449720"/>
              <a:chExt cx="886680" cy="553680"/>
            </a:xfrm>
          </p:grpSpPr>
          <p:sp>
            <p:nvSpPr>
              <p:cNvPr id="423" name=""/>
              <p:cNvSpPr/>
              <p:nvPr/>
            </p:nvSpPr>
            <p:spPr>
              <a:xfrm>
                <a:off x="3639600" y="14497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31680" y="20034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4024800" y="1452960"/>
                <a:ext cx="246240" cy="547200"/>
                <a:chOff x="4024800" y="1452960"/>
                <a:chExt cx="246240" cy="547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024800" y="14529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4800" y="17269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384360" y="1455840"/>
                <a:ext cx="246240" cy="547200"/>
                <a:chOff x="3384360" y="1455840"/>
                <a:chExt cx="246240" cy="54720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3384720" y="1455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3384360" y="1729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6588720" y="1696680"/>
              <a:ext cx="886320" cy="553680"/>
              <a:chOff x="6588720" y="1696680"/>
              <a:chExt cx="886320" cy="553680"/>
            </a:xfrm>
          </p:grpSpPr>
          <p:sp>
            <p:nvSpPr>
              <p:cNvPr id="432" name=""/>
              <p:cNvSpPr/>
              <p:nvPr/>
            </p:nvSpPr>
            <p:spPr>
              <a:xfrm>
                <a:off x="6843960" y="16966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835680" y="2250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7228800" y="1699920"/>
                <a:ext cx="246240" cy="547200"/>
                <a:chOff x="7228800" y="1699920"/>
                <a:chExt cx="246240" cy="5472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228800" y="1699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7228800" y="1973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588720" y="1702800"/>
                <a:ext cx="246240" cy="547200"/>
                <a:chOff x="6588720" y="1702800"/>
                <a:chExt cx="246240" cy="547200"/>
              </a:xfrm>
            </p:grpSpPr>
            <p:sp>
              <p:nvSpPr>
                <p:cNvPr id="438" name=""/>
                <p:cNvSpPr/>
                <p:nvPr/>
              </p:nvSpPr>
              <p:spPr>
                <a:xfrm flipH="1">
                  <a:off x="6589080" y="1702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6588720" y="1976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7225920" y="1415520"/>
              <a:ext cx="886680" cy="554040"/>
              <a:chOff x="7225920" y="1415520"/>
              <a:chExt cx="886680" cy="554040"/>
            </a:xfrm>
          </p:grpSpPr>
          <p:sp>
            <p:nvSpPr>
              <p:cNvPr id="441" name=""/>
              <p:cNvSpPr/>
              <p:nvPr/>
            </p:nvSpPr>
            <p:spPr>
              <a:xfrm>
                <a:off x="7481160" y="1415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73240" y="19695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7866360" y="1418760"/>
                <a:ext cx="246240" cy="547200"/>
                <a:chOff x="7866360" y="1418760"/>
                <a:chExt cx="246240" cy="5472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866360" y="1418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7866360" y="1692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225920" y="1421640"/>
                <a:ext cx="246240" cy="547200"/>
                <a:chOff x="7225920" y="1421640"/>
                <a:chExt cx="246240" cy="54720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7226280" y="1421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7225920" y="1695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" name=""/>
            <p:cNvGrpSpPr/>
            <p:nvPr/>
          </p:nvGrpSpPr>
          <p:grpSpPr>
            <a:xfrm>
              <a:off x="5307120" y="1708920"/>
              <a:ext cx="886320" cy="553680"/>
              <a:chOff x="5307120" y="1708920"/>
              <a:chExt cx="886320" cy="553680"/>
            </a:xfrm>
          </p:grpSpPr>
          <p:sp>
            <p:nvSpPr>
              <p:cNvPr id="450" name=""/>
              <p:cNvSpPr/>
              <p:nvPr/>
            </p:nvSpPr>
            <p:spPr>
              <a:xfrm>
                <a:off x="5562360" y="1708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54080" y="22626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5947200" y="1712160"/>
                <a:ext cx="246240" cy="547200"/>
                <a:chOff x="5947200" y="1712160"/>
                <a:chExt cx="246240" cy="5472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947200" y="1712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5947200" y="1986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307120" y="1715040"/>
                <a:ext cx="246240" cy="547200"/>
                <a:chOff x="5307120" y="1715040"/>
                <a:chExt cx="246240" cy="54720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5307480" y="1715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5307120" y="1989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5944320" y="1427760"/>
              <a:ext cx="886680" cy="554040"/>
              <a:chOff x="5944320" y="1427760"/>
              <a:chExt cx="886680" cy="554040"/>
            </a:xfrm>
          </p:grpSpPr>
          <p:sp>
            <p:nvSpPr>
              <p:cNvPr id="459" name=""/>
              <p:cNvSpPr/>
              <p:nvPr/>
            </p:nvSpPr>
            <p:spPr>
              <a:xfrm>
                <a:off x="6199560" y="1427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1640" y="19818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6584760" y="1431000"/>
                <a:ext cx="246240" cy="547200"/>
                <a:chOff x="6584760" y="1431000"/>
                <a:chExt cx="246240" cy="5472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584760" y="1431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6584760" y="1704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944320" y="1433880"/>
                <a:ext cx="246240" cy="547200"/>
                <a:chOff x="5944320" y="1433880"/>
                <a:chExt cx="246240" cy="547200"/>
              </a:xfrm>
            </p:grpSpPr>
            <p:sp>
              <p:nvSpPr>
                <p:cNvPr id="465" name=""/>
                <p:cNvSpPr/>
                <p:nvPr/>
              </p:nvSpPr>
              <p:spPr>
                <a:xfrm flipH="1">
                  <a:off x="5944680" y="1433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5944320" y="1707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Speech Signal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1219320" y="1733400"/>
            <a:ext cx="56386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Signaling 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914400" y="1368360"/>
            <a:ext cx="73152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unctions Provided by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above the link layer of the GSM signaling protocol architecture provide specific fun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resour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application part (M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S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572000" y="2819520"/>
            <a:ext cx="1676520" cy="838080"/>
          </a:xfrm>
          <a:custGeom>
            <a:avLst/>
            <a:gdLst/>
            <a:ahLst/>
            <a:rect l="l" t="t" r="r" b="b"/>
            <a:pathLst>
              <a:path w="1056" h="528">
                <a:moveTo>
                  <a:pt x="1056" y="0"/>
                </a:moveTo>
                <a:lnTo>
                  <a:pt x="0" y="0"/>
                </a:lnTo>
                <a:lnTo>
                  <a:pt x="528" y="528"/>
                </a:lnTo>
                <a:lnTo>
                  <a:pt x="528" y="288"/>
                </a:lnTo>
                <a:lnTo>
                  <a:pt x="1056" y="0"/>
                </a:lnTo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protocol layers for sign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>
            <a:off x="114300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3000" y="289548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70572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43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143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438280" y="365760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4382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7672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76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438280" y="320040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3276720" y="3200400"/>
            <a:ext cx="83808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438280" y="3200400"/>
            <a:ext cx="1676520" cy="45720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1" name=""/>
          <p:cNvCxnSpPr>
            <a:stCxn id="1313" idx="2"/>
            <a:endCxn id="1315" idx="2"/>
          </p:cNvCxnSpPr>
          <p:nvPr/>
        </p:nvCxnSpPr>
        <p:spPr>
          <a:xfrm flipH="1" rot="16200000">
            <a:off x="2208240" y="3772440"/>
            <a:ext cx="2160" cy="12963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2" name=""/>
          <p:cNvSpPr/>
          <p:nvPr/>
        </p:nvSpPr>
        <p:spPr>
          <a:xfrm>
            <a:off x="670572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5" name=""/>
          <p:cNvCxnSpPr>
            <a:stCxn id="1317" idx="2"/>
            <a:endCxn id="1324" idx="2"/>
          </p:cNvCxnSpPr>
          <p:nvPr/>
        </p:nvCxnSpPr>
        <p:spPr>
          <a:xfrm flipH="1" rot="16200000">
            <a:off x="434268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6" name=""/>
          <p:cNvSpPr/>
          <p:nvPr/>
        </p:nvSpPr>
        <p:spPr>
          <a:xfrm>
            <a:off x="4572000" y="2819520"/>
            <a:ext cx="838080" cy="8380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11680" y="480060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/64 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209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434340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991880" y="13716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130280" y="1371600"/>
            <a:ext cx="46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32592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410080" y="3276720"/>
            <a:ext cx="83844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4100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647712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05720" y="3276720"/>
            <a:ext cx="83808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2"/>
            <a:endCxn id="1337" idx="2"/>
          </p:cNvCxnSpPr>
          <p:nvPr/>
        </p:nvCxnSpPr>
        <p:spPr>
          <a:xfrm flipH="1" rot="16200000">
            <a:off x="647640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39" name=""/>
          <p:cNvSpPr/>
          <p:nvPr/>
        </p:nvSpPr>
        <p:spPr>
          <a:xfrm>
            <a:off x="6022440" y="48006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kbit/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48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357200" y="16606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04956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06240" y="1676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83120" y="1676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5409360" y="281952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70572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Terminat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4697280" y="3187800"/>
            <a:ext cx="1365480" cy="763560"/>
            <a:chOff x="4697280" y="3187800"/>
            <a:chExt cx="1365480" cy="763560"/>
          </a:xfrm>
        </p:grpSpPr>
        <p:graphicFrame>
          <p:nvGraphicFramePr>
            <p:cNvPr id="1348" name=""/>
            <p:cNvGraphicFramePr/>
            <p:nvPr/>
          </p:nvGraphicFramePr>
          <p:xfrm>
            <a:off x="4697280" y="3187800"/>
            <a:ext cx="136548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7280" y="3187800"/>
                      <a:ext cx="136548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0" name=""/>
            <p:cNvSpPr/>
            <p:nvPr/>
          </p:nvSpPr>
          <p:spPr>
            <a:xfrm>
              <a:off x="5002200" y="3416400"/>
              <a:ext cx="669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782880" y="3352680"/>
            <a:ext cx="696960" cy="444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297480" y="341640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297480" y="242568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364520" y="242568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381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211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068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364520" y="341640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8355600" y="4493160"/>
            <a:ext cx="609120" cy="606960"/>
            <a:chOff x="8355600" y="4493160"/>
            <a:chExt cx="609120" cy="606960"/>
          </a:xfrm>
        </p:grpSpPr>
        <p:sp>
          <p:nvSpPr>
            <p:cNvPr id="1360" name=""/>
            <p:cNvSpPr/>
            <p:nvPr/>
          </p:nvSpPr>
          <p:spPr>
            <a:xfrm rot="5400000">
              <a:off x="8356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5400000">
              <a:off x="8429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5400000">
              <a:off x="8504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7288200" y="5702400"/>
            <a:ext cx="4636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4" name=""/>
          <p:cNvCxnSpPr>
            <a:endCxn id="1351" idx="3"/>
          </p:cNvCxnSpPr>
          <p:nvPr/>
        </p:nvCxnSpPr>
        <p:spPr>
          <a:xfrm flipH="1">
            <a:off x="4479480" y="3570120"/>
            <a:ext cx="2181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65" name=""/>
          <p:cNvCxnSpPr>
            <a:endCxn id="1352" idx="1"/>
          </p:cNvCxnSpPr>
          <p:nvPr/>
        </p:nvCxnSpPr>
        <p:spPr>
          <a:xfrm>
            <a:off x="6062760" y="3570120"/>
            <a:ext cx="235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6" name=""/>
          <p:cNvCxnSpPr>
            <a:stCxn id="1358" idx="2"/>
            <a:endCxn id="1357" idx="0"/>
          </p:cNvCxnSpPr>
          <p:nvPr/>
        </p:nvCxnSpPr>
        <p:spPr>
          <a:xfrm flipH="1">
            <a:off x="6346080" y="3733560"/>
            <a:ext cx="132300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67" name=""/>
          <p:cNvCxnSpPr>
            <a:stCxn id="1358" idx="2"/>
            <a:endCxn id="1355" idx="0"/>
          </p:cNvCxnSpPr>
          <p:nvPr/>
        </p:nvCxnSpPr>
        <p:spPr>
          <a:xfrm>
            <a:off x="7669080" y="3733560"/>
            <a:ext cx="99144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68" name=""/>
          <p:cNvCxnSpPr>
            <a:stCxn id="1358" idx="2"/>
            <a:endCxn id="1356" idx="0"/>
          </p:cNvCxnSpPr>
          <p:nvPr/>
        </p:nvCxnSpPr>
        <p:spPr>
          <a:xfrm flipH="1">
            <a:off x="7489440" y="3733560"/>
            <a:ext cx="18000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9" name=""/>
          <p:cNvCxnSpPr>
            <a:stCxn id="1354" idx="2"/>
            <a:endCxn id="1358" idx="0"/>
          </p:cNvCxnSpPr>
          <p:nvPr/>
        </p:nvCxnSpPr>
        <p:spPr>
          <a:xfrm>
            <a:off x="7668720" y="27302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0" name=""/>
          <p:cNvCxnSpPr>
            <a:stCxn id="1352" idx="3"/>
            <a:endCxn id="1358" idx="1"/>
          </p:cNvCxnSpPr>
          <p:nvPr/>
        </p:nvCxnSpPr>
        <p:spPr>
          <a:xfrm>
            <a:off x="6982920" y="357480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1" name=""/>
          <p:cNvCxnSpPr>
            <a:stCxn id="1352" idx="0"/>
            <a:endCxn id="1353" idx="2"/>
          </p:cNvCxnSpPr>
          <p:nvPr/>
        </p:nvCxnSpPr>
        <p:spPr>
          <a:xfrm flipV="1">
            <a:off x="6640200" y="2742840"/>
            <a:ext cx="1080" cy="673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2" name=""/>
          <p:cNvCxnSpPr>
            <a:stCxn id="1353" idx="3"/>
            <a:endCxn id="1354" idx="1"/>
          </p:cNvCxnSpPr>
          <p:nvPr/>
        </p:nvCxnSpPr>
        <p:spPr>
          <a:xfrm flipV="1">
            <a:off x="6982920" y="2577600"/>
            <a:ext cx="381960" cy="7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grpSp>
        <p:nvGrpSpPr>
          <p:cNvPr id="1373" name=""/>
          <p:cNvGrpSpPr/>
          <p:nvPr/>
        </p:nvGrpSpPr>
        <p:grpSpPr>
          <a:xfrm>
            <a:off x="7212600" y="4493160"/>
            <a:ext cx="609120" cy="606960"/>
            <a:chOff x="7212600" y="4493160"/>
            <a:chExt cx="609120" cy="606960"/>
          </a:xfrm>
        </p:grpSpPr>
        <p:sp>
          <p:nvSpPr>
            <p:cNvPr id="1374" name=""/>
            <p:cNvSpPr/>
            <p:nvPr/>
          </p:nvSpPr>
          <p:spPr>
            <a:xfrm rot="5400000">
              <a:off x="7213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5400000">
              <a:off x="7286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5400000">
              <a:off x="7361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069600" y="4493160"/>
            <a:ext cx="609120" cy="606960"/>
            <a:chOff x="6069600" y="4493160"/>
            <a:chExt cx="609120" cy="606960"/>
          </a:xfrm>
        </p:grpSpPr>
        <p:sp>
          <p:nvSpPr>
            <p:cNvPr id="1378" name=""/>
            <p:cNvSpPr/>
            <p:nvPr/>
          </p:nvSpPr>
          <p:spPr>
            <a:xfrm rot="5400000">
              <a:off x="6070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5400000">
              <a:off x="6143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5400000">
              <a:off x="6218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1" name=""/>
          <p:cNvCxnSpPr>
            <a:stCxn id="1363" idx="0"/>
          </p:cNvCxnSpPr>
          <p:nvPr/>
        </p:nvCxnSpPr>
        <p:spPr>
          <a:xfrm flipV="1">
            <a:off x="7519680" y="5101560"/>
            <a:ext cx="1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2" name=""/>
          <p:cNvSpPr/>
          <p:nvPr/>
        </p:nvSpPr>
        <p:spPr>
          <a:xfrm>
            <a:off x="4470480" y="356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994360" y="356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37560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61400" y="227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061400" y="257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60420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85080" y="326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6596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67088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60384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137360" y="5168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18240" y="5168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1824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18240" y="4102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213320" y="3949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12772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146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289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432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89640" y="295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670520" y="295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18240" y="5397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4920" y="1552320"/>
            <a:ext cx="3978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 calling a GSM subscr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: forwarding call to G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: signal call setup to HL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, 5: request MSRN from VL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: forward responsib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MSC to G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: forward call 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, 9: get current status of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 11: paging of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 13: MS 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, 15: security ch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, 17: set up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Originat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4876920" y="2819520"/>
            <a:ext cx="1365120" cy="763560"/>
            <a:chOff x="4876920" y="2819520"/>
            <a:chExt cx="1365120" cy="763560"/>
          </a:xfrm>
        </p:grpSpPr>
        <p:graphicFrame>
          <p:nvGraphicFramePr>
            <p:cNvPr id="1407" name=""/>
            <p:cNvGraphicFramePr/>
            <p:nvPr/>
          </p:nvGraphicFramePr>
          <p:xfrm>
            <a:off x="4876920" y="2819520"/>
            <a:ext cx="136512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819520"/>
                      <a:ext cx="136512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9" name=""/>
            <p:cNvSpPr/>
            <p:nvPr/>
          </p:nvSpPr>
          <p:spPr>
            <a:xfrm>
              <a:off x="5181480" y="304812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6477120" y="304812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543800" y="20574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43800" y="403848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304812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77120" y="4038480"/>
            <a:ext cx="46332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endCxn id="1410" idx="1"/>
          </p:cNvCxnSpPr>
          <p:nvPr/>
        </p:nvCxnSpPr>
        <p:spPr>
          <a:xfrm>
            <a:off x="6241680" y="3201840"/>
            <a:ext cx="235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6" name=""/>
          <p:cNvCxnSpPr>
            <a:stCxn id="1413" idx="2"/>
            <a:endCxn id="1412" idx="0"/>
          </p:cNvCxnSpPr>
          <p:nvPr/>
        </p:nvCxnSpPr>
        <p:spPr>
          <a:xfrm>
            <a:off x="7848360" y="3365280"/>
            <a:ext cx="108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7" name=""/>
          <p:cNvCxnSpPr>
            <a:stCxn id="1411" idx="2"/>
            <a:endCxn id="1413" idx="0"/>
          </p:cNvCxnSpPr>
          <p:nvPr/>
        </p:nvCxnSpPr>
        <p:spPr>
          <a:xfrm>
            <a:off x="7848360" y="23619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18" name=""/>
          <p:cNvCxnSpPr>
            <a:stCxn id="1410" idx="3"/>
            <a:endCxn id="1413" idx="1"/>
          </p:cNvCxnSpPr>
          <p:nvPr/>
        </p:nvCxnSpPr>
        <p:spPr>
          <a:xfrm>
            <a:off x="7162920" y="3206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9" name=""/>
          <p:cNvCxnSpPr>
            <a:stCxn id="1414" idx="3"/>
            <a:endCxn id="1412" idx="1"/>
          </p:cNvCxnSpPr>
          <p:nvPr/>
        </p:nvCxnSpPr>
        <p:spPr>
          <a:xfrm>
            <a:off x="6940440" y="4196880"/>
            <a:ext cx="60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0" name=""/>
          <p:cNvSpPr/>
          <p:nvPr/>
        </p:nvSpPr>
        <p:spPr>
          <a:xfrm>
            <a:off x="7088400" y="388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560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17400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16436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54560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85016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85016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011720" y="419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17400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16436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78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2: connec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4: security che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8: check resources (free circu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-10: set up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976280" y="1552320"/>
            <a:ext cx="3978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C/MO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1595160" y="1371600"/>
            <a:ext cx="5573880" cy="5105160"/>
            <a:chOff x="1595160" y="1371600"/>
            <a:chExt cx="5573880" cy="5105160"/>
          </a:xfrm>
        </p:grpSpPr>
        <p:sp>
          <p:nvSpPr>
            <p:cNvPr id="1434" name=""/>
            <p:cNvSpPr/>
            <p:nvPr/>
          </p:nvSpPr>
          <p:spPr>
            <a:xfrm>
              <a:off x="3614400" y="13716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82160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95160" y="13716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21600" y="1946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92520" y="165888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88980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600" y="2234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891800" y="194652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1600" y="25218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891440" y="223452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821600" y="2809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892160" y="2521800"/>
              <a:ext cx="15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821600" y="3097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889280" y="280944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821600" y="33847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88920" y="309744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21600" y="3672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891800" y="338472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821600" y="3960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891800" y="367236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21600" y="42476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894680" y="39603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21600" y="4535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92880" y="42476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821600" y="4823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91080" y="453528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21600" y="51105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91080" y="48243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821600" y="5398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94680" y="511056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21600" y="5686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894320" y="539820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821600" y="59734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891080" y="568620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21600" y="6261120"/>
              <a:ext cx="20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889280" y="59734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642360" y="13716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4992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623840" y="13716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91848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49920" y="2234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20840" y="194652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849920" y="25218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920120" y="223452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849920" y="2809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20480" y="2521800"/>
              <a:ext cx="139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849920" y="3097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18320" y="280944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849920" y="33847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918320" y="309744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49920" y="3672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921560" y="338472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49920" y="3960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21200" y="367236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49920" y="42476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24080" y="39603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49920" y="4535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21920" y="42476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49920" y="4823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20840" y="453528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49920" y="51105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19760" y="48243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49920" y="5398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24080" y="511056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849920" y="5686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23000" y="539820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49920" y="59734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919760" y="568620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849920" y="6261120"/>
              <a:ext cx="20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918680" y="59734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87960" y="137160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91160" y="13716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 types of hand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7" name=""/>
          <p:cNvSpPr/>
          <p:nvPr/>
        </p:nvSpPr>
        <p:spPr>
          <a:xfrm>
            <a:off x="4610160" y="43434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829480" y="43434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61016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829480" y="36576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39084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39084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61016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8294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1718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6" name=""/>
          <p:cNvCxnSpPr>
            <a:stCxn id="1507" idx="3"/>
            <a:endCxn id="1508" idx="1"/>
          </p:cNvCxnSpPr>
          <p:nvPr/>
        </p:nvCxnSpPr>
        <p:spPr>
          <a:xfrm>
            <a:off x="5372280" y="453348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7" name=""/>
          <p:cNvCxnSpPr>
            <a:stCxn id="1507" idx="0"/>
            <a:endCxn id="1509" idx="2"/>
          </p:cNvCxnSpPr>
          <p:nvPr/>
        </p:nvCxnSpPr>
        <p:spPr>
          <a:xfrm flipV="1">
            <a:off x="499068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8" name=""/>
          <p:cNvCxnSpPr>
            <a:stCxn id="1507" idx="1"/>
            <a:endCxn id="1511" idx="2"/>
          </p:cNvCxnSpPr>
          <p:nvPr/>
        </p:nvCxnSpPr>
        <p:spPr>
          <a:xfrm rot="10800000">
            <a:off x="3771360" y="40377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9" name=""/>
          <p:cNvCxnSpPr>
            <a:stCxn id="1511" idx="1"/>
            <a:endCxn id="1515" idx="2"/>
          </p:cNvCxnSpPr>
          <p:nvPr/>
        </p:nvCxnSpPr>
        <p:spPr>
          <a:xfrm rot="10800000">
            <a:off x="2552040" y="33519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0" name=""/>
          <p:cNvCxnSpPr>
            <a:stCxn id="1511" idx="0"/>
            <a:endCxn id="1512" idx="2"/>
          </p:cNvCxnSpPr>
          <p:nvPr/>
        </p:nvCxnSpPr>
        <p:spPr>
          <a:xfrm flipV="1">
            <a:off x="377172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1" name=""/>
          <p:cNvCxnSpPr>
            <a:stCxn id="1509" idx="0"/>
            <a:endCxn id="1513" idx="2"/>
          </p:cNvCxnSpPr>
          <p:nvPr/>
        </p:nvCxnSpPr>
        <p:spPr>
          <a:xfrm flipV="1">
            <a:off x="499068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2" name=""/>
          <p:cNvCxnSpPr>
            <a:stCxn id="1510" idx="0"/>
            <a:endCxn id="1514" idx="2"/>
          </p:cNvCxnSpPr>
          <p:nvPr/>
        </p:nvCxnSpPr>
        <p:spPr>
          <a:xfrm flipV="1">
            <a:off x="621000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3" name=""/>
          <p:cNvCxnSpPr>
            <a:stCxn id="1508" idx="0"/>
            <a:endCxn id="1510" idx="2"/>
          </p:cNvCxnSpPr>
          <p:nvPr/>
        </p:nvCxnSpPr>
        <p:spPr>
          <a:xfrm flipV="1">
            <a:off x="621000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4" name=""/>
          <p:cNvCxnSpPr>
            <a:stCxn id="1508" idx="3"/>
          </p:cNvCxnSpPr>
          <p:nvPr/>
        </p:nvCxnSpPr>
        <p:spPr>
          <a:xfrm>
            <a:off x="6591240" y="4533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5" name=""/>
          <p:cNvSpPr/>
          <p:nvPr/>
        </p:nvSpPr>
        <p:spPr>
          <a:xfrm>
            <a:off x="19810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20040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41972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6386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9" name=""/>
          <p:cNvCxnSpPr>
            <a:stCxn id="1515" idx="0"/>
          </p:cNvCxnSpPr>
          <p:nvPr/>
        </p:nvCxnSpPr>
        <p:spPr>
          <a:xfrm flipH="1" flipV="1">
            <a:off x="25459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0" name=""/>
          <p:cNvCxnSpPr>
            <a:stCxn id="1512" idx="0"/>
          </p:cNvCxnSpPr>
          <p:nvPr/>
        </p:nvCxnSpPr>
        <p:spPr>
          <a:xfrm flipH="1" flipV="1">
            <a:off x="376524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1" name=""/>
          <p:cNvCxnSpPr>
            <a:stCxn id="1513" idx="0"/>
          </p:cNvCxnSpPr>
          <p:nvPr/>
        </p:nvCxnSpPr>
        <p:spPr>
          <a:xfrm flipH="1" flipV="1">
            <a:off x="4984200" y="2250720"/>
            <a:ext cx="684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2" name=""/>
          <p:cNvCxnSpPr>
            <a:stCxn id="1514" idx="0"/>
          </p:cNvCxnSpPr>
          <p:nvPr/>
        </p:nvCxnSpPr>
        <p:spPr>
          <a:xfrm flipH="1" flipV="1">
            <a:off x="62035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3" name=""/>
          <p:cNvSpPr/>
          <p:nvPr/>
        </p:nvSpPr>
        <p:spPr>
          <a:xfrm>
            <a:off x="22096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42900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64832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8672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7" name=""/>
          <p:cNvCxnSpPr>
            <a:stCxn id="1533" idx="0"/>
            <a:endCxn id="1534" idx="0"/>
          </p:cNvCxnSpPr>
          <p:nvPr/>
        </p:nvCxnSpPr>
        <p:spPr>
          <a:xfrm flipH="1" rot="16200000">
            <a:off x="3009240" y="1219680"/>
            <a:ext cx="216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8" name=""/>
          <p:cNvCxnSpPr>
            <a:stCxn id="1533" idx="0"/>
            <a:endCxn id="1535" idx="0"/>
          </p:cNvCxnSpPr>
          <p:nvPr/>
        </p:nvCxnSpPr>
        <p:spPr>
          <a:xfrm flipH="1" rot="16200000">
            <a:off x="3618720" y="610200"/>
            <a:ext cx="2160" cy="2439000"/>
          </a:xfrm>
          <a:prstGeom prst="curvedConnector5">
            <a:avLst>
              <a:gd name="adj1" fmla="val -22100000"/>
              <a:gd name="adj2" fmla="val 50000"/>
              <a:gd name="adj3" fmla="val -22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9" name=""/>
          <p:cNvCxnSpPr>
            <a:stCxn id="1533" idx="0"/>
            <a:endCxn id="1536" idx="0"/>
          </p:cNvCxnSpPr>
          <p:nvPr/>
        </p:nvCxnSpPr>
        <p:spPr>
          <a:xfrm flipH="1" rot="16200000">
            <a:off x="4228560" y="360"/>
            <a:ext cx="2160" cy="3658320"/>
          </a:xfrm>
          <a:prstGeom prst="curvedConnector5">
            <a:avLst>
              <a:gd name="adj1" fmla="val -29100000"/>
              <a:gd name="adj2" fmla="val 49995"/>
              <a:gd name="adj3" fmla="val -29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40" name=""/>
          <p:cNvCxnSpPr>
            <a:stCxn id="1533" idx="0"/>
            <a:endCxn id="1533" idx="2"/>
          </p:cNvCxnSpPr>
          <p:nvPr/>
        </p:nvCxnSpPr>
        <p:spPr>
          <a:xfrm rot="5400000">
            <a:off x="2209320" y="1827720"/>
            <a:ext cx="191160" cy="191520"/>
          </a:xfrm>
          <a:prstGeom prst="curvedConnector5">
            <a:avLst>
              <a:gd name="adj1" fmla="val -120000"/>
              <a:gd name="adj2" fmla="val 109981"/>
              <a:gd name="adj3" fmla="val -12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41" name=""/>
          <p:cNvSpPr/>
          <p:nvPr/>
        </p:nvSpPr>
        <p:spPr>
          <a:xfrm>
            <a:off x="1906560" y="129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5067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726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94540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ver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22860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64008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6765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13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286000" y="4800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81952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48640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3" name=""/>
          <p:cNvCxnSpPr>
            <a:stCxn id="1551" idx="6"/>
            <a:endCxn id="1552" idx="2"/>
          </p:cNvCxnSpPr>
          <p:nvPr/>
        </p:nvCxnSpPr>
        <p:spPr>
          <a:xfrm>
            <a:off x="3200400" y="4533480"/>
            <a:ext cx="2286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54" name=""/>
          <p:cNvSpPr/>
          <p:nvPr/>
        </p:nvSpPr>
        <p:spPr>
          <a:xfrm>
            <a:off x="243828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251460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4952880" y="3809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956120" y="380988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_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438280" y="2514600"/>
            <a:ext cx="358164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2590920" y="2514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28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16600" y="48006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355720" y="4800600"/>
            <a:ext cx="79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ver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4" name=""/>
          <p:cNvSpPr/>
          <p:nvPr/>
        </p:nvSpPr>
        <p:spPr>
          <a:xfrm>
            <a:off x="22860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4008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11680" y="44956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914400" y="4800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59840" y="1932120"/>
            <a:ext cx="6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039360" y="1932120"/>
            <a:ext cx="73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914400" y="510552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6576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284200" y="220968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314160" y="1932120"/>
            <a:ext cx="68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0292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96440" y="480060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789800" y="19051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9144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6320" y="1932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914400" y="2666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912600" y="213372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895480" y="281952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5760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732840" y="304812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7724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421760" y="1932120"/>
            <a:ext cx="717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0292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104080" y="31240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638680" y="350532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0080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397560" y="373392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0080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19440" y="403848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0292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025960" y="411480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65760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733200" y="419112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28600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361600" y="426708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91440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990000" y="43434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40080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476040" y="51055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0292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104440" y="518148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65760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655440" y="525780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83840" y="5334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83480" y="56386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6576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655080" y="571500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97400" y="5458680"/>
            <a:ext cx="1220040" cy="850680"/>
            <a:chOff x="2597400" y="5458680"/>
            <a:chExt cx="1220040" cy="850680"/>
          </a:xfrm>
        </p:grpSpPr>
        <p:sp>
          <p:nvSpPr>
            <p:cNvPr id="469" name=""/>
            <p:cNvSpPr/>
            <p:nvPr/>
          </p:nvSpPr>
          <p:spPr>
            <a:xfrm>
              <a:off x="2959920" y="545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49480" y="63093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438720" y="5463360"/>
              <a:ext cx="378720" cy="841320"/>
              <a:chOff x="3438720" y="5463360"/>
              <a:chExt cx="378720" cy="841320"/>
            </a:xfrm>
          </p:grpSpPr>
          <p:sp>
            <p:nvSpPr>
              <p:cNvPr id="472" name=""/>
              <p:cNvSpPr/>
              <p:nvPr/>
            </p:nvSpPr>
            <p:spPr>
              <a:xfrm>
                <a:off x="3438720" y="5463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3439440" y="5884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597400" y="5467680"/>
              <a:ext cx="378720" cy="841320"/>
              <a:chOff x="2597400" y="5467680"/>
              <a:chExt cx="378720" cy="841320"/>
            </a:xfrm>
          </p:grpSpPr>
          <p:sp>
            <p:nvSpPr>
              <p:cNvPr id="475" name=""/>
              <p:cNvSpPr/>
              <p:nvPr/>
            </p:nvSpPr>
            <p:spPr>
              <a:xfrm flipH="1">
                <a:off x="2598120" y="546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2597400" y="588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3435480" y="5027040"/>
            <a:ext cx="1220040" cy="850680"/>
            <a:chOff x="3435480" y="5027040"/>
            <a:chExt cx="1220040" cy="850680"/>
          </a:xfrm>
        </p:grpSpPr>
        <p:sp>
          <p:nvSpPr>
            <p:cNvPr id="478" name=""/>
            <p:cNvSpPr/>
            <p:nvPr/>
          </p:nvSpPr>
          <p:spPr>
            <a:xfrm>
              <a:off x="3798000" y="5027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87560" y="58777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4276800" y="5031720"/>
              <a:ext cx="378720" cy="841320"/>
              <a:chOff x="4276800" y="5031720"/>
              <a:chExt cx="378720" cy="841320"/>
            </a:xfrm>
          </p:grpSpPr>
          <p:sp>
            <p:nvSpPr>
              <p:cNvPr id="481" name=""/>
              <p:cNvSpPr/>
              <p:nvPr/>
            </p:nvSpPr>
            <p:spPr>
              <a:xfrm>
                <a:off x="4276800" y="5031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277520" y="545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435480" y="5036040"/>
              <a:ext cx="378720" cy="841320"/>
              <a:chOff x="3435480" y="5036040"/>
              <a:chExt cx="378720" cy="841320"/>
            </a:xfrm>
          </p:grpSpPr>
          <p:sp>
            <p:nvSpPr>
              <p:cNvPr id="484" name=""/>
              <p:cNvSpPr/>
              <p:nvPr/>
            </p:nvSpPr>
            <p:spPr>
              <a:xfrm flipH="1">
                <a:off x="3436200" y="5036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3435480" y="5457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2592720" y="4611240"/>
            <a:ext cx="1219680" cy="850320"/>
            <a:chOff x="2592720" y="4611240"/>
            <a:chExt cx="1219680" cy="850320"/>
          </a:xfrm>
        </p:grpSpPr>
        <p:sp>
          <p:nvSpPr>
            <p:cNvPr id="487" name=""/>
            <p:cNvSpPr/>
            <p:nvPr/>
          </p:nvSpPr>
          <p:spPr>
            <a:xfrm>
              <a:off x="2955240" y="4611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44440" y="5461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434040" y="4615920"/>
              <a:ext cx="378360" cy="840240"/>
              <a:chOff x="3434040" y="4615920"/>
              <a:chExt cx="378360" cy="840240"/>
            </a:xfrm>
          </p:grpSpPr>
          <p:sp>
            <p:nvSpPr>
              <p:cNvPr id="490" name=""/>
              <p:cNvSpPr/>
              <p:nvPr/>
            </p:nvSpPr>
            <p:spPr>
              <a:xfrm>
                <a:off x="3434040" y="4615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434760" y="5036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592720" y="4620240"/>
              <a:ext cx="378360" cy="840240"/>
              <a:chOff x="2592720" y="4620240"/>
              <a:chExt cx="378360" cy="84024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2593440" y="462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2592720" y="504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3430800" y="4179240"/>
            <a:ext cx="1220040" cy="850680"/>
            <a:chOff x="3430800" y="4179240"/>
            <a:chExt cx="1220040" cy="850680"/>
          </a:xfrm>
        </p:grpSpPr>
        <p:sp>
          <p:nvSpPr>
            <p:cNvPr id="496" name=""/>
            <p:cNvSpPr/>
            <p:nvPr/>
          </p:nvSpPr>
          <p:spPr>
            <a:xfrm>
              <a:off x="3793320" y="41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82880" y="50299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272120" y="4183920"/>
              <a:ext cx="378720" cy="841320"/>
              <a:chOff x="4272120" y="4183920"/>
              <a:chExt cx="378720" cy="841320"/>
            </a:xfrm>
          </p:grpSpPr>
          <p:sp>
            <p:nvSpPr>
              <p:cNvPr id="499" name=""/>
              <p:cNvSpPr/>
              <p:nvPr/>
            </p:nvSpPr>
            <p:spPr>
              <a:xfrm>
                <a:off x="4272120" y="41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4272840" y="46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3430800" y="4188240"/>
              <a:ext cx="378720" cy="841320"/>
              <a:chOff x="3430800" y="4188240"/>
              <a:chExt cx="378720" cy="84132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3431520" y="41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>
                <a:off x="3430800" y="46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11520" y="5477760"/>
            <a:ext cx="1220040" cy="850680"/>
            <a:chOff x="911520" y="5477760"/>
            <a:chExt cx="1220040" cy="850680"/>
          </a:xfrm>
        </p:grpSpPr>
        <p:sp>
          <p:nvSpPr>
            <p:cNvPr id="505" name=""/>
            <p:cNvSpPr/>
            <p:nvPr/>
          </p:nvSpPr>
          <p:spPr>
            <a:xfrm>
              <a:off x="1274040" y="547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63600" y="6328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752840" y="5482440"/>
              <a:ext cx="378720" cy="841320"/>
              <a:chOff x="1752840" y="5482440"/>
              <a:chExt cx="378720" cy="841320"/>
            </a:xfrm>
          </p:grpSpPr>
          <p:sp>
            <p:nvSpPr>
              <p:cNvPr id="508" name=""/>
              <p:cNvSpPr/>
              <p:nvPr/>
            </p:nvSpPr>
            <p:spPr>
              <a:xfrm>
                <a:off x="1752840" y="5482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53560" y="5904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1520" y="5486760"/>
              <a:ext cx="378720" cy="841320"/>
              <a:chOff x="911520" y="5486760"/>
              <a:chExt cx="378720" cy="841320"/>
            </a:xfrm>
          </p:grpSpPr>
          <p:sp>
            <p:nvSpPr>
              <p:cNvPr id="511" name=""/>
              <p:cNvSpPr/>
              <p:nvPr/>
            </p:nvSpPr>
            <p:spPr>
              <a:xfrm flipH="1">
                <a:off x="912240" y="548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911520" y="590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1749600" y="5046120"/>
            <a:ext cx="1220040" cy="850680"/>
            <a:chOff x="1749600" y="5046120"/>
            <a:chExt cx="1220040" cy="850680"/>
          </a:xfrm>
        </p:grpSpPr>
        <p:sp>
          <p:nvSpPr>
            <p:cNvPr id="514" name=""/>
            <p:cNvSpPr/>
            <p:nvPr/>
          </p:nvSpPr>
          <p:spPr>
            <a:xfrm>
              <a:off x="2112120" y="5046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01680" y="5896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590920" y="5050800"/>
              <a:ext cx="378720" cy="841320"/>
              <a:chOff x="2590920" y="5050800"/>
              <a:chExt cx="378720" cy="841320"/>
            </a:xfrm>
          </p:grpSpPr>
          <p:sp>
            <p:nvSpPr>
              <p:cNvPr id="517" name=""/>
              <p:cNvSpPr/>
              <p:nvPr/>
            </p:nvSpPr>
            <p:spPr>
              <a:xfrm>
                <a:off x="2590920" y="5050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2591640" y="5472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1749600" y="5055120"/>
              <a:ext cx="378720" cy="841320"/>
              <a:chOff x="1749600" y="5055120"/>
              <a:chExt cx="378720" cy="841320"/>
            </a:xfrm>
          </p:grpSpPr>
          <p:sp>
            <p:nvSpPr>
              <p:cNvPr id="520" name=""/>
              <p:cNvSpPr/>
              <p:nvPr/>
            </p:nvSpPr>
            <p:spPr>
              <a:xfrm flipH="1">
                <a:off x="1750320" y="5055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1749600" y="5476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2" name=""/>
          <p:cNvGrpSpPr/>
          <p:nvPr/>
        </p:nvGrpSpPr>
        <p:grpSpPr>
          <a:xfrm>
            <a:off x="906840" y="4630320"/>
            <a:ext cx="1219680" cy="850320"/>
            <a:chOff x="906840" y="4630320"/>
            <a:chExt cx="1219680" cy="850320"/>
          </a:xfrm>
        </p:grpSpPr>
        <p:sp>
          <p:nvSpPr>
            <p:cNvPr id="523" name=""/>
            <p:cNvSpPr/>
            <p:nvPr/>
          </p:nvSpPr>
          <p:spPr>
            <a:xfrm>
              <a:off x="1269360" y="4630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58560" y="5480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748160" y="4635000"/>
              <a:ext cx="378360" cy="840240"/>
              <a:chOff x="1748160" y="4635000"/>
              <a:chExt cx="378360" cy="840240"/>
            </a:xfrm>
          </p:grpSpPr>
          <p:sp>
            <p:nvSpPr>
              <p:cNvPr id="526" name=""/>
              <p:cNvSpPr/>
              <p:nvPr/>
            </p:nvSpPr>
            <p:spPr>
              <a:xfrm>
                <a:off x="1748160" y="4635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1748880" y="5055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906840" y="4639320"/>
              <a:ext cx="378360" cy="840240"/>
              <a:chOff x="906840" y="4639320"/>
              <a:chExt cx="378360" cy="84024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907560" y="4639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906840" y="5060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1744920" y="4198320"/>
            <a:ext cx="1220040" cy="850680"/>
            <a:chOff x="1744920" y="4198320"/>
            <a:chExt cx="1220040" cy="850680"/>
          </a:xfrm>
        </p:grpSpPr>
        <p:sp>
          <p:nvSpPr>
            <p:cNvPr id="532" name=""/>
            <p:cNvSpPr/>
            <p:nvPr/>
          </p:nvSpPr>
          <p:spPr>
            <a:xfrm>
              <a:off x="2107440" y="4198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97000" y="5049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586240" y="4203000"/>
              <a:ext cx="378720" cy="841320"/>
              <a:chOff x="2586240" y="4203000"/>
              <a:chExt cx="378720" cy="841320"/>
            </a:xfrm>
          </p:grpSpPr>
          <p:sp>
            <p:nvSpPr>
              <p:cNvPr id="535" name=""/>
              <p:cNvSpPr/>
              <p:nvPr/>
            </p:nvSpPr>
            <p:spPr>
              <a:xfrm>
                <a:off x="2586240" y="420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586960" y="4624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744920" y="4207320"/>
              <a:ext cx="378720" cy="841320"/>
              <a:chOff x="1744920" y="4207320"/>
              <a:chExt cx="378720" cy="84132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745640" y="420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1744920" y="4628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2592720" y="3768120"/>
            <a:ext cx="1219680" cy="850680"/>
            <a:chOff x="2592720" y="3768120"/>
            <a:chExt cx="1219680" cy="850680"/>
          </a:xfrm>
        </p:grpSpPr>
        <p:sp>
          <p:nvSpPr>
            <p:cNvPr id="541" name=""/>
            <p:cNvSpPr/>
            <p:nvPr/>
          </p:nvSpPr>
          <p:spPr>
            <a:xfrm>
              <a:off x="2955240" y="3768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44440" y="46188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3433680" y="3772800"/>
              <a:ext cx="378720" cy="841320"/>
              <a:chOff x="3433680" y="3772800"/>
              <a:chExt cx="378720" cy="841320"/>
            </a:xfrm>
          </p:grpSpPr>
          <p:sp>
            <p:nvSpPr>
              <p:cNvPr id="544" name=""/>
              <p:cNvSpPr/>
              <p:nvPr/>
            </p:nvSpPr>
            <p:spPr>
              <a:xfrm>
                <a:off x="3433680" y="3772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434400" y="4194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2592720" y="3777120"/>
              <a:ext cx="378720" cy="841320"/>
              <a:chOff x="2592720" y="3777120"/>
              <a:chExt cx="378720" cy="84132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2593440" y="377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2592720" y="4198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3430800" y="3336480"/>
            <a:ext cx="1220040" cy="850320"/>
            <a:chOff x="3430800" y="3336480"/>
            <a:chExt cx="1220040" cy="850320"/>
          </a:xfrm>
        </p:grpSpPr>
        <p:sp>
          <p:nvSpPr>
            <p:cNvPr id="550" name=""/>
            <p:cNvSpPr/>
            <p:nvPr/>
          </p:nvSpPr>
          <p:spPr>
            <a:xfrm>
              <a:off x="3793320" y="333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82880" y="4186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272480" y="3341160"/>
              <a:ext cx="378360" cy="840240"/>
              <a:chOff x="4272480" y="3341160"/>
              <a:chExt cx="378360" cy="840240"/>
            </a:xfrm>
          </p:grpSpPr>
          <p:sp>
            <p:nvSpPr>
              <p:cNvPr id="553" name=""/>
              <p:cNvSpPr/>
              <p:nvPr/>
            </p:nvSpPr>
            <p:spPr>
              <a:xfrm>
                <a:off x="4272480" y="3341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4273200" y="3762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30800" y="3345480"/>
              <a:ext cx="378360" cy="840240"/>
              <a:chOff x="3430800" y="3345480"/>
              <a:chExt cx="378360" cy="84024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3431520" y="3345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3430800" y="3766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2588040" y="2920320"/>
            <a:ext cx="1219680" cy="850680"/>
            <a:chOff x="2588040" y="2920320"/>
            <a:chExt cx="1219680" cy="850680"/>
          </a:xfrm>
        </p:grpSpPr>
        <p:sp>
          <p:nvSpPr>
            <p:cNvPr id="559" name=""/>
            <p:cNvSpPr/>
            <p:nvPr/>
          </p:nvSpPr>
          <p:spPr>
            <a:xfrm>
              <a:off x="2950560" y="2920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39760" y="3771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429000" y="2925000"/>
              <a:ext cx="378720" cy="841320"/>
              <a:chOff x="3429000" y="2925000"/>
              <a:chExt cx="378720" cy="841320"/>
            </a:xfrm>
          </p:grpSpPr>
          <p:sp>
            <p:nvSpPr>
              <p:cNvPr id="562" name=""/>
              <p:cNvSpPr/>
              <p:nvPr/>
            </p:nvSpPr>
            <p:spPr>
              <a:xfrm>
                <a:off x="3429000" y="292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3429720" y="3346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588040" y="2929320"/>
              <a:ext cx="378720" cy="841320"/>
              <a:chOff x="2588040" y="2929320"/>
              <a:chExt cx="378720" cy="841320"/>
            </a:xfrm>
          </p:grpSpPr>
          <p:sp>
            <p:nvSpPr>
              <p:cNvPr id="565" name=""/>
              <p:cNvSpPr/>
              <p:nvPr/>
            </p:nvSpPr>
            <p:spPr>
              <a:xfrm flipH="1">
                <a:off x="2588760" y="292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2588040" y="3350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3426120" y="2488680"/>
            <a:ext cx="1220040" cy="850320"/>
            <a:chOff x="3426120" y="2488680"/>
            <a:chExt cx="1220040" cy="850320"/>
          </a:xfrm>
        </p:grpSpPr>
        <p:sp>
          <p:nvSpPr>
            <p:cNvPr id="568" name=""/>
            <p:cNvSpPr/>
            <p:nvPr/>
          </p:nvSpPr>
          <p:spPr>
            <a:xfrm>
              <a:off x="3788640" y="248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8200" y="3339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267800" y="2493360"/>
              <a:ext cx="378360" cy="840240"/>
              <a:chOff x="4267800" y="2493360"/>
              <a:chExt cx="378360" cy="840240"/>
            </a:xfrm>
          </p:grpSpPr>
          <p:sp>
            <p:nvSpPr>
              <p:cNvPr id="571" name=""/>
              <p:cNvSpPr/>
              <p:nvPr/>
            </p:nvSpPr>
            <p:spPr>
              <a:xfrm>
                <a:off x="4267800" y="24933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4268520" y="2914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426120" y="2497680"/>
              <a:ext cx="378360" cy="840240"/>
              <a:chOff x="3426120" y="2497680"/>
              <a:chExt cx="378360" cy="84024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3426840" y="2497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426120" y="2918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906840" y="3787200"/>
            <a:ext cx="1219680" cy="850680"/>
            <a:chOff x="906840" y="3787200"/>
            <a:chExt cx="1219680" cy="850680"/>
          </a:xfrm>
        </p:grpSpPr>
        <p:sp>
          <p:nvSpPr>
            <p:cNvPr id="577" name=""/>
            <p:cNvSpPr/>
            <p:nvPr/>
          </p:nvSpPr>
          <p:spPr>
            <a:xfrm>
              <a:off x="1269360" y="3787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58560" y="4637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1747800" y="3791880"/>
              <a:ext cx="378720" cy="841320"/>
              <a:chOff x="1747800" y="3791880"/>
              <a:chExt cx="378720" cy="841320"/>
            </a:xfrm>
          </p:grpSpPr>
          <p:sp>
            <p:nvSpPr>
              <p:cNvPr id="580" name=""/>
              <p:cNvSpPr/>
              <p:nvPr/>
            </p:nvSpPr>
            <p:spPr>
              <a:xfrm>
                <a:off x="1747800" y="3791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1748520" y="421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906840" y="3796200"/>
              <a:ext cx="378720" cy="841320"/>
              <a:chOff x="906840" y="3796200"/>
              <a:chExt cx="378720" cy="8413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907560" y="3796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906840" y="421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1744920" y="3355560"/>
            <a:ext cx="1220040" cy="850320"/>
            <a:chOff x="1744920" y="3355560"/>
            <a:chExt cx="1220040" cy="850320"/>
          </a:xfrm>
        </p:grpSpPr>
        <p:sp>
          <p:nvSpPr>
            <p:cNvPr id="586" name=""/>
            <p:cNvSpPr/>
            <p:nvPr/>
          </p:nvSpPr>
          <p:spPr>
            <a:xfrm>
              <a:off x="2107440" y="3355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7000" y="420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2586600" y="3360240"/>
              <a:ext cx="378360" cy="840240"/>
              <a:chOff x="2586600" y="3360240"/>
              <a:chExt cx="378360" cy="840240"/>
            </a:xfrm>
          </p:grpSpPr>
          <p:sp>
            <p:nvSpPr>
              <p:cNvPr id="589" name=""/>
              <p:cNvSpPr/>
              <p:nvPr/>
            </p:nvSpPr>
            <p:spPr>
              <a:xfrm>
                <a:off x="2586600" y="336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587320" y="378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744920" y="3364560"/>
              <a:ext cx="378360" cy="840240"/>
              <a:chOff x="1744920" y="3364560"/>
              <a:chExt cx="378360" cy="84024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1745640" y="3364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1744920" y="378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901800" y="2939400"/>
            <a:ext cx="1220040" cy="850680"/>
            <a:chOff x="901800" y="2939400"/>
            <a:chExt cx="1220040" cy="850680"/>
          </a:xfrm>
        </p:grpSpPr>
        <p:sp>
          <p:nvSpPr>
            <p:cNvPr id="595" name=""/>
            <p:cNvSpPr/>
            <p:nvPr/>
          </p:nvSpPr>
          <p:spPr>
            <a:xfrm>
              <a:off x="1264320" y="2939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3880" y="3790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1743120" y="2944080"/>
              <a:ext cx="378720" cy="841320"/>
              <a:chOff x="1743120" y="2944080"/>
              <a:chExt cx="378720" cy="841320"/>
            </a:xfrm>
          </p:grpSpPr>
          <p:sp>
            <p:nvSpPr>
              <p:cNvPr id="598" name=""/>
              <p:cNvSpPr/>
              <p:nvPr/>
            </p:nvSpPr>
            <p:spPr>
              <a:xfrm>
                <a:off x="1743120" y="2944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743840" y="3365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01800" y="2948400"/>
              <a:ext cx="378720" cy="841320"/>
              <a:chOff x="901800" y="2948400"/>
              <a:chExt cx="378720" cy="841320"/>
            </a:xfrm>
          </p:grpSpPr>
          <p:sp>
            <p:nvSpPr>
              <p:cNvPr id="601" name=""/>
              <p:cNvSpPr/>
              <p:nvPr/>
            </p:nvSpPr>
            <p:spPr>
              <a:xfrm flipH="1">
                <a:off x="902520" y="294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901800" y="336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1740240" y="2507760"/>
            <a:ext cx="1219680" cy="850320"/>
            <a:chOff x="1740240" y="2507760"/>
            <a:chExt cx="1219680" cy="850320"/>
          </a:xfrm>
        </p:grpSpPr>
        <p:sp>
          <p:nvSpPr>
            <p:cNvPr id="604" name=""/>
            <p:cNvSpPr/>
            <p:nvPr/>
          </p:nvSpPr>
          <p:spPr>
            <a:xfrm>
              <a:off x="2102760" y="250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91960" y="335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581560" y="2512440"/>
              <a:ext cx="378360" cy="840240"/>
              <a:chOff x="2581560" y="2512440"/>
              <a:chExt cx="378360" cy="840240"/>
            </a:xfrm>
          </p:grpSpPr>
          <p:sp>
            <p:nvSpPr>
              <p:cNvPr id="607" name=""/>
              <p:cNvSpPr/>
              <p:nvPr/>
            </p:nvSpPr>
            <p:spPr>
              <a:xfrm>
                <a:off x="2581560" y="2512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582280" y="2933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740240" y="2516760"/>
              <a:ext cx="378360" cy="840240"/>
              <a:chOff x="1740240" y="2516760"/>
              <a:chExt cx="378360" cy="840240"/>
            </a:xfrm>
          </p:grpSpPr>
          <p:sp>
            <p:nvSpPr>
              <p:cNvPr id="610" name=""/>
              <p:cNvSpPr/>
              <p:nvPr/>
            </p:nvSpPr>
            <p:spPr>
              <a:xfrm flipH="1">
                <a:off x="1740960" y="2516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1740240" y="293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5964480" y="5425560"/>
            <a:ext cx="1220040" cy="850320"/>
            <a:chOff x="5964480" y="5425560"/>
            <a:chExt cx="1220040" cy="850320"/>
          </a:xfrm>
        </p:grpSpPr>
        <p:sp>
          <p:nvSpPr>
            <p:cNvPr id="613" name=""/>
            <p:cNvSpPr/>
            <p:nvPr/>
          </p:nvSpPr>
          <p:spPr>
            <a:xfrm>
              <a:off x="6327000" y="5425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16560" y="627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6806160" y="5430240"/>
              <a:ext cx="378360" cy="840240"/>
              <a:chOff x="6806160" y="5430240"/>
              <a:chExt cx="378360" cy="840240"/>
            </a:xfrm>
          </p:grpSpPr>
          <p:sp>
            <p:nvSpPr>
              <p:cNvPr id="616" name=""/>
              <p:cNvSpPr/>
              <p:nvPr/>
            </p:nvSpPr>
            <p:spPr>
              <a:xfrm>
                <a:off x="6806160" y="543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806880" y="585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964480" y="5434560"/>
              <a:ext cx="378360" cy="840240"/>
              <a:chOff x="5964480" y="5434560"/>
              <a:chExt cx="378360" cy="840240"/>
            </a:xfrm>
          </p:grpSpPr>
          <p:sp>
            <p:nvSpPr>
              <p:cNvPr id="619" name=""/>
              <p:cNvSpPr/>
              <p:nvPr/>
            </p:nvSpPr>
            <p:spPr>
              <a:xfrm flipH="1">
                <a:off x="5965200" y="5434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5964480" y="585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6802560" y="4993560"/>
            <a:ext cx="1220040" cy="850680"/>
            <a:chOff x="6802560" y="4993560"/>
            <a:chExt cx="1220040" cy="850680"/>
          </a:xfrm>
        </p:grpSpPr>
        <p:sp>
          <p:nvSpPr>
            <p:cNvPr id="622" name=""/>
            <p:cNvSpPr/>
            <p:nvPr/>
          </p:nvSpPr>
          <p:spPr>
            <a:xfrm>
              <a:off x="7165080" y="4993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54640" y="5844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7643880" y="4998240"/>
              <a:ext cx="378720" cy="841320"/>
              <a:chOff x="7643880" y="4998240"/>
              <a:chExt cx="378720" cy="841320"/>
            </a:xfrm>
          </p:grpSpPr>
          <p:sp>
            <p:nvSpPr>
              <p:cNvPr id="625" name=""/>
              <p:cNvSpPr/>
              <p:nvPr/>
            </p:nvSpPr>
            <p:spPr>
              <a:xfrm>
                <a:off x="7643880" y="499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644600" y="541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6802560" y="5002560"/>
              <a:ext cx="378720" cy="841320"/>
              <a:chOff x="6802560" y="5002560"/>
              <a:chExt cx="378720" cy="841320"/>
            </a:xfrm>
          </p:grpSpPr>
          <p:sp>
            <p:nvSpPr>
              <p:cNvPr id="628" name=""/>
              <p:cNvSpPr/>
              <p:nvPr/>
            </p:nvSpPr>
            <p:spPr>
              <a:xfrm flipH="1">
                <a:off x="6803280" y="5002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6802560" y="5424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5959800" y="4577760"/>
            <a:ext cx="1219680" cy="850680"/>
            <a:chOff x="5959800" y="4577760"/>
            <a:chExt cx="1219680" cy="850680"/>
          </a:xfrm>
        </p:grpSpPr>
        <p:sp>
          <p:nvSpPr>
            <p:cNvPr id="631" name=""/>
            <p:cNvSpPr/>
            <p:nvPr/>
          </p:nvSpPr>
          <p:spPr>
            <a:xfrm>
              <a:off x="6322320" y="457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11520" y="5428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800760" y="4582440"/>
              <a:ext cx="378720" cy="841320"/>
              <a:chOff x="6800760" y="4582440"/>
              <a:chExt cx="378720" cy="841320"/>
            </a:xfrm>
          </p:grpSpPr>
          <p:sp>
            <p:nvSpPr>
              <p:cNvPr id="634" name=""/>
              <p:cNvSpPr/>
              <p:nvPr/>
            </p:nvSpPr>
            <p:spPr>
              <a:xfrm>
                <a:off x="6800760" y="4582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801480" y="5004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5959800" y="4586760"/>
              <a:ext cx="378720" cy="841320"/>
              <a:chOff x="5959800" y="4586760"/>
              <a:chExt cx="378720" cy="841320"/>
            </a:xfrm>
          </p:grpSpPr>
          <p:sp>
            <p:nvSpPr>
              <p:cNvPr id="637" name=""/>
              <p:cNvSpPr/>
              <p:nvPr/>
            </p:nvSpPr>
            <p:spPr>
              <a:xfrm flipH="1">
                <a:off x="5960520" y="458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5959800" y="500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6797880" y="4146120"/>
            <a:ext cx="1220040" cy="850320"/>
            <a:chOff x="6797880" y="4146120"/>
            <a:chExt cx="1220040" cy="850320"/>
          </a:xfrm>
        </p:grpSpPr>
        <p:sp>
          <p:nvSpPr>
            <p:cNvPr id="640" name=""/>
            <p:cNvSpPr/>
            <p:nvPr/>
          </p:nvSpPr>
          <p:spPr>
            <a:xfrm>
              <a:off x="7160400" y="4146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49960" y="4996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639560" y="4150800"/>
              <a:ext cx="378360" cy="840240"/>
              <a:chOff x="7639560" y="4150800"/>
              <a:chExt cx="378360" cy="840240"/>
            </a:xfrm>
          </p:grpSpPr>
          <p:sp>
            <p:nvSpPr>
              <p:cNvPr id="643" name=""/>
              <p:cNvSpPr/>
              <p:nvPr/>
            </p:nvSpPr>
            <p:spPr>
              <a:xfrm>
                <a:off x="7639560" y="4150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7640280" y="4571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797880" y="4155120"/>
              <a:ext cx="378360" cy="840240"/>
              <a:chOff x="6797880" y="4155120"/>
              <a:chExt cx="378360" cy="840240"/>
            </a:xfrm>
          </p:grpSpPr>
          <p:sp>
            <p:nvSpPr>
              <p:cNvPr id="646" name=""/>
              <p:cNvSpPr/>
              <p:nvPr/>
            </p:nvSpPr>
            <p:spPr>
              <a:xfrm flipH="1">
                <a:off x="6798600" y="4155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6797880" y="4575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4278600" y="5444640"/>
            <a:ext cx="1220040" cy="850320"/>
            <a:chOff x="4278600" y="5444640"/>
            <a:chExt cx="1220040" cy="850320"/>
          </a:xfrm>
        </p:grpSpPr>
        <p:sp>
          <p:nvSpPr>
            <p:cNvPr id="649" name=""/>
            <p:cNvSpPr/>
            <p:nvPr/>
          </p:nvSpPr>
          <p:spPr>
            <a:xfrm>
              <a:off x="4641120" y="5444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30680" y="62949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120280" y="5449320"/>
              <a:ext cx="378360" cy="840240"/>
              <a:chOff x="5120280" y="5449320"/>
              <a:chExt cx="378360" cy="840240"/>
            </a:xfrm>
          </p:grpSpPr>
          <p:sp>
            <p:nvSpPr>
              <p:cNvPr id="652" name=""/>
              <p:cNvSpPr/>
              <p:nvPr/>
            </p:nvSpPr>
            <p:spPr>
              <a:xfrm>
                <a:off x="5120280" y="5449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121000" y="5870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78600" y="5453640"/>
              <a:ext cx="378360" cy="840240"/>
              <a:chOff x="4278600" y="5453640"/>
              <a:chExt cx="378360" cy="840240"/>
            </a:xfrm>
          </p:grpSpPr>
          <p:sp>
            <p:nvSpPr>
              <p:cNvPr id="655" name=""/>
              <p:cNvSpPr/>
              <p:nvPr/>
            </p:nvSpPr>
            <p:spPr>
              <a:xfrm flipH="1">
                <a:off x="4279320" y="5453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4278600" y="5874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7" name=""/>
          <p:cNvGrpSpPr/>
          <p:nvPr/>
        </p:nvGrpSpPr>
        <p:grpSpPr>
          <a:xfrm>
            <a:off x="5116680" y="5012640"/>
            <a:ext cx="1220040" cy="850680"/>
            <a:chOff x="5116680" y="5012640"/>
            <a:chExt cx="1220040" cy="850680"/>
          </a:xfrm>
        </p:grpSpPr>
        <p:sp>
          <p:nvSpPr>
            <p:cNvPr id="658" name=""/>
            <p:cNvSpPr/>
            <p:nvPr/>
          </p:nvSpPr>
          <p:spPr>
            <a:xfrm>
              <a:off x="5479200" y="5012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68760" y="58633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958000" y="5017320"/>
              <a:ext cx="378720" cy="841320"/>
              <a:chOff x="5958000" y="5017320"/>
              <a:chExt cx="378720" cy="841320"/>
            </a:xfrm>
          </p:grpSpPr>
          <p:sp>
            <p:nvSpPr>
              <p:cNvPr id="661" name=""/>
              <p:cNvSpPr/>
              <p:nvPr/>
            </p:nvSpPr>
            <p:spPr>
              <a:xfrm>
                <a:off x="5958000" y="501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958720" y="5438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116680" y="5021640"/>
              <a:ext cx="378720" cy="841320"/>
              <a:chOff x="5116680" y="5021640"/>
              <a:chExt cx="378720" cy="84132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5117400" y="5021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flipV="1">
                <a:off x="5116680" y="5443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" name=""/>
          <p:cNvGrpSpPr/>
          <p:nvPr/>
        </p:nvGrpSpPr>
        <p:grpSpPr>
          <a:xfrm>
            <a:off x="4273920" y="4596840"/>
            <a:ext cx="1219680" cy="850680"/>
            <a:chOff x="4273920" y="4596840"/>
            <a:chExt cx="1219680" cy="850680"/>
          </a:xfrm>
        </p:grpSpPr>
        <p:sp>
          <p:nvSpPr>
            <p:cNvPr id="667" name=""/>
            <p:cNvSpPr/>
            <p:nvPr/>
          </p:nvSpPr>
          <p:spPr>
            <a:xfrm>
              <a:off x="4636440" y="4596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25640" y="5447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5114880" y="4601520"/>
              <a:ext cx="378720" cy="841320"/>
              <a:chOff x="5114880" y="4601520"/>
              <a:chExt cx="378720" cy="84132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4880" y="460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115600" y="5023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273920" y="4605840"/>
              <a:ext cx="378720" cy="841320"/>
              <a:chOff x="4273920" y="4605840"/>
              <a:chExt cx="378720" cy="8413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4274640" y="4605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4273920" y="5027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5112000" y="4164840"/>
            <a:ext cx="1220040" cy="850680"/>
            <a:chOff x="5112000" y="4164840"/>
            <a:chExt cx="1220040" cy="850680"/>
          </a:xfrm>
        </p:grpSpPr>
        <p:sp>
          <p:nvSpPr>
            <p:cNvPr id="676" name=""/>
            <p:cNvSpPr/>
            <p:nvPr/>
          </p:nvSpPr>
          <p:spPr>
            <a:xfrm>
              <a:off x="5474520" y="4164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64080" y="5015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5953320" y="4169520"/>
              <a:ext cx="378720" cy="841320"/>
              <a:chOff x="5953320" y="4169520"/>
              <a:chExt cx="378720" cy="841320"/>
            </a:xfrm>
          </p:grpSpPr>
          <p:sp>
            <p:nvSpPr>
              <p:cNvPr id="679" name=""/>
              <p:cNvSpPr/>
              <p:nvPr/>
            </p:nvSpPr>
            <p:spPr>
              <a:xfrm>
                <a:off x="5953320" y="4169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5954040" y="459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112000" y="4173840"/>
              <a:ext cx="378720" cy="841320"/>
              <a:chOff x="5112000" y="4173840"/>
              <a:chExt cx="378720" cy="841320"/>
            </a:xfrm>
          </p:grpSpPr>
          <p:sp>
            <p:nvSpPr>
              <p:cNvPr id="682" name=""/>
              <p:cNvSpPr/>
              <p:nvPr/>
            </p:nvSpPr>
            <p:spPr>
              <a:xfrm flipH="1">
                <a:off x="5112720" y="4173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>
                <a:off x="5112000" y="4595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5959800" y="3734640"/>
            <a:ext cx="1219680" cy="850680"/>
            <a:chOff x="5959800" y="3734640"/>
            <a:chExt cx="1219680" cy="850680"/>
          </a:xfrm>
        </p:grpSpPr>
        <p:sp>
          <p:nvSpPr>
            <p:cNvPr id="685" name=""/>
            <p:cNvSpPr/>
            <p:nvPr/>
          </p:nvSpPr>
          <p:spPr>
            <a:xfrm>
              <a:off x="6322320" y="3734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11520" y="4585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800760" y="3739320"/>
              <a:ext cx="378720" cy="841320"/>
              <a:chOff x="6800760" y="3739320"/>
              <a:chExt cx="378720" cy="841320"/>
            </a:xfrm>
          </p:grpSpPr>
          <p:sp>
            <p:nvSpPr>
              <p:cNvPr id="688" name=""/>
              <p:cNvSpPr/>
              <p:nvPr/>
            </p:nvSpPr>
            <p:spPr>
              <a:xfrm>
                <a:off x="6800760" y="373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801480" y="4160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959800" y="3743640"/>
              <a:ext cx="378720" cy="841320"/>
              <a:chOff x="5959800" y="3743640"/>
              <a:chExt cx="378720" cy="841320"/>
            </a:xfrm>
          </p:grpSpPr>
          <p:sp>
            <p:nvSpPr>
              <p:cNvPr id="691" name=""/>
              <p:cNvSpPr/>
              <p:nvPr/>
            </p:nvSpPr>
            <p:spPr>
              <a:xfrm flipH="1">
                <a:off x="5960520" y="374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5959800" y="4165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6797880" y="3303000"/>
            <a:ext cx="1220040" cy="850680"/>
            <a:chOff x="6797880" y="3303000"/>
            <a:chExt cx="1220040" cy="850680"/>
          </a:xfrm>
        </p:grpSpPr>
        <p:sp>
          <p:nvSpPr>
            <p:cNvPr id="694" name=""/>
            <p:cNvSpPr/>
            <p:nvPr/>
          </p:nvSpPr>
          <p:spPr>
            <a:xfrm>
              <a:off x="7160400" y="3303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49960" y="41536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7639200" y="3307680"/>
              <a:ext cx="378720" cy="841320"/>
              <a:chOff x="7639200" y="3307680"/>
              <a:chExt cx="378720" cy="841320"/>
            </a:xfrm>
          </p:grpSpPr>
          <p:sp>
            <p:nvSpPr>
              <p:cNvPr id="697" name=""/>
              <p:cNvSpPr/>
              <p:nvPr/>
            </p:nvSpPr>
            <p:spPr>
              <a:xfrm>
                <a:off x="7639200" y="330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639920" y="372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797880" y="3312000"/>
              <a:ext cx="378720" cy="841320"/>
              <a:chOff x="6797880" y="3312000"/>
              <a:chExt cx="378720" cy="841320"/>
            </a:xfrm>
          </p:grpSpPr>
          <p:sp>
            <p:nvSpPr>
              <p:cNvPr id="700" name=""/>
              <p:cNvSpPr/>
              <p:nvPr/>
            </p:nvSpPr>
            <p:spPr>
              <a:xfrm flipH="1">
                <a:off x="6798600" y="3312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6797880" y="3733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5955120" y="2887200"/>
            <a:ext cx="1219680" cy="850320"/>
            <a:chOff x="5955120" y="2887200"/>
            <a:chExt cx="1219680" cy="850320"/>
          </a:xfrm>
        </p:grpSpPr>
        <p:sp>
          <p:nvSpPr>
            <p:cNvPr id="703" name=""/>
            <p:cNvSpPr/>
            <p:nvPr/>
          </p:nvSpPr>
          <p:spPr>
            <a:xfrm>
              <a:off x="6317640" y="2887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06840" y="3737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796440" y="2891880"/>
              <a:ext cx="378360" cy="840240"/>
              <a:chOff x="6796440" y="2891880"/>
              <a:chExt cx="378360" cy="840240"/>
            </a:xfrm>
          </p:grpSpPr>
          <p:sp>
            <p:nvSpPr>
              <p:cNvPr id="706" name=""/>
              <p:cNvSpPr/>
              <p:nvPr/>
            </p:nvSpPr>
            <p:spPr>
              <a:xfrm>
                <a:off x="6796440" y="2891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797160" y="3312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5955120" y="2896200"/>
              <a:ext cx="378360" cy="840240"/>
              <a:chOff x="5955120" y="2896200"/>
              <a:chExt cx="378360" cy="840240"/>
            </a:xfrm>
          </p:grpSpPr>
          <p:sp>
            <p:nvSpPr>
              <p:cNvPr id="709" name=""/>
              <p:cNvSpPr/>
              <p:nvPr/>
            </p:nvSpPr>
            <p:spPr>
              <a:xfrm flipH="1">
                <a:off x="5955840" y="2896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5955120" y="3317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1" name=""/>
          <p:cNvGrpSpPr/>
          <p:nvPr/>
        </p:nvGrpSpPr>
        <p:grpSpPr>
          <a:xfrm>
            <a:off x="6793200" y="2455200"/>
            <a:ext cx="1220040" cy="850680"/>
            <a:chOff x="6793200" y="2455200"/>
            <a:chExt cx="1220040" cy="850680"/>
          </a:xfrm>
        </p:grpSpPr>
        <p:sp>
          <p:nvSpPr>
            <p:cNvPr id="712" name=""/>
            <p:cNvSpPr/>
            <p:nvPr/>
          </p:nvSpPr>
          <p:spPr>
            <a:xfrm>
              <a:off x="7155720" y="2455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45280" y="330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7634520" y="2459880"/>
              <a:ext cx="378720" cy="841320"/>
              <a:chOff x="7634520" y="2459880"/>
              <a:chExt cx="378720" cy="841320"/>
            </a:xfrm>
          </p:grpSpPr>
          <p:sp>
            <p:nvSpPr>
              <p:cNvPr id="715" name=""/>
              <p:cNvSpPr/>
              <p:nvPr/>
            </p:nvSpPr>
            <p:spPr>
              <a:xfrm>
                <a:off x="7634520" y="245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635240" y="288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6793200" y="2464200"/>
              <a:ext cx="378720" cy="841320"/>
              <a:chOff x="6793200" y="2464200"/>
              <a:chExt cx="378720" cy="841320"/>
            </a:xfrm>
          </p:grpSpPr>
          <p:sp>
            <p:nvSpPr>
              <p:cNvPr id="718" name=""/>
              <p:cNvSpPr/>
              <p:nvPr/>
            </p:nvSpPr>
            <p:spPr>
              <a:xfrm flipH="1">
                <a:off x="6793920" y="246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6793200" y="288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4273920" y="3753720"/>
            <a:ext cx="1219680" cy="850680"/>
            <a:chOff x="4273920" y="3753720"/>
            <a:chExt cx="1219680" cy="850680"/>
          </a:xfrm>
        </p:grpSpPr>
        <p:sp>
          <p:nvSpPr>
            <p:cNvPr id="721" name=""/>
            <p:cNvSpPr/>
            <p:nvPr/>
          </p:nvSpPr>
          <p:spPr>
            <a:xfrm>
              <a:off x="4636440" y="3753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25640" y="4604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114880" y="3758400"/>
              <a:ext cx="378720" cy="841320"/>
              <a:chOff x="5114880" y="3758400"/>
              <a:chExt cx="378720" cy="841320"/>
            </a:xfrm>
          </p:grpSpPr>
          <p:sp>
            <p:nvSpPr>
              <p:cNvPr id="724" name=""/>
              <p:cNvSpPr/>
              <p:nvPr/>
            </p:nvSpPr>
            <p:spPr>
              <a:xfrm>
                <a:off x="5114880" y="375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15600" y="417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4273920" y="3762720"/>
              <a:ext cx="378720" cy="841320"/>
              <a:chOff x="4273920" y="3762720"/>
              <a:chExt cx="378720" cy="8413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4274640" y="376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4273920" y="4184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5112000" y="3322080"/>
            <a:ext cx="1220040" cy="850680"/>
            <a:chOff x="5112000" y="3322080"/>
            <a:chExt cx="1220040" cy="850680"/>
          </a:xfrm>
        </p:grpSpPr>
        <p:sp>
          <p:nvSpPr>
            <p:cNvPr id="730" name=""/>
            <p:cNvSpPr/>
            <p:nvPr/>
          </p:nvSpPr>
          <p:spPr>
            <a:xfrm>
              <a:off x="5474520" y="3322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64080" y="41727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953320" y="3326760"/>
              <a:ext cx="378720" cy="841320"/>
              <a:chOff x="5953320" y="3326760"/>
              <a:chExt cx="378720" cy="841320"/>
            </a:xfrm>
          </p:grpSpPr>
          <p:sp>
            <p:nvSpPr>
              <p:cNvPr id="733" name=""/>
              <p:cNvSpPr/>
              <p:nvPr/>
            </p:nvSpPr>
            <p:spPr>
              <a:xfrm>
                <a:off x="5953320" y="332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54040" y="374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5112000" y="3331080"/>
              <a:ext cx="378720" cy="841320"/>
              <a:chOff x="5112000" y="3331080"/>
              <a:chExt cx="378720" cy="841320"/>
            </a:xfrm>
          </p:grpSpPr>
          <p:sp>
            <p:nvSpPr>
              <p:cNvPr id="736" name=""/>
              <p:cNvSpPr/>
              <p:nvPr/>
            </p:nvSpPr>
            <p:spPr>
              <a:xfrm flipH="1">
                <a:off x="5112720" y="333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5112000" y="375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4269240" y="2906280"/>
            <a:ext cx="1219680" cy="850320"/>
            <a:chOff x="4269240" y="2906280"/>
            <a:chExt cx="1219680" cy="850320"/>
          </a:xfrm>
        </p:grpSpPr>
        <p:sp>
          <p:nvSpPr>
            <p:cNvPr id="739" name=""/>
            <p:cNvSpPr/>
            <p:nvPr/>
          </p:nvSpPr>
          <p:spPr>
            <a:xfrm>
              <a:off x="4631760" y="2906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20960" y="3756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5110560" y="2910960"/>
              <a:ext cx="378360" cy="840240"/>
              <a:chOff x="5110560" y="2910960"/>
              <a:chExt cx="378360" cy="840240"/>
            </a:xfrm>
          </p:grpSpPr>
          <p:sp>
            <p:nvSpPr>
              <p:cNvPr id="742" name=""/>
              <p:cNvSpPr/>
              <p:nvPr/>
            </p:nvSpPr>
            <p:spPr>
              <a:xfrm>
                <a:off x="5110560" y="2910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111280" y="3331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4269240" y="2915280"/>
              <a:ext cx="378360" cy="840240"/>
              <a:chOff x="4269240" y="2915280"/>
              <a:chExt cx="378360" cy="840240"/>
            </a:xfrm>
          </p:grpSpPr>
          <p:sp>
            <p:nvSpPr>
              <p:cNvPr id="745" name=""/>
              <p:cNvSpPr/>
              <p:nvPr/>
            </p:nvSpPr>
            <p:spPr>
              <a:xfrm flipH="1">
                <a:off x="4269960" y="2915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4269240" y="3336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7" name=""/>
          <p:cNvGrpSpPr/>
          <p:nvPr/>
        </p:nvGrpSpPr>
        <p:grpSpPr>
          <a:xfrm>
            <a:off x="5107320" y="2474280"/>
            <a:ext cx="1219680" cy="850680"/>
            <a:chOff x="5107320" y="2474280"/>
            <a:chExt cx="1219680" cy="850680"/>
          </a:xfrm>
        </p:grpSpPr>
        <p:sp>
          <p:nvSpPr>
            <p:cNvPr id="748" name=""/>
            <p:cNvSpPr/>
            <p:nvPr/>
          </p:nvSpPr>
          <p:spPr>
            <a:xfrm>
              <a:off x="5469840" y="2474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59040" y="3324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5948280" y="2478960"/>
              <a:ext cx="378720" cy="841320"/>
              <a:chOff x="5948280" y="2478960"/>
              <a:chExt cx="378720" cy="841320"/>
            </a:xfrm>
          </p:grpSpPr>
          <p:sp>
            <p:nvSpPr>
              <p:cNvPr id="751" name=""/>
              <p:cNvSpPr/>
              <p:nvPr/>
            </p:nvSpPr>
            <p:spPr>
              <a:xfrm>
                <a:off x="5948280" y="247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949000" y="2900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5107320" y="2483280"/>
              <a:ext cx="378720" cy="841320"/>
              <a:chOff x="5107320" y="2483280"/>
              <a:chExt cx="378720" cy="841320"/>
            </a:xfrm>
          </p:grpSpPr>
          <p:sp>
            <p:nvSpPr>
              <p:cNvPr id="754" name=""/>
              <p:cNvSpPr/>
              <p:nvPr/>
            </p:nvSpPr>
            <p:spPr>
              <a:xfrm flipH="1">
                <a:off x="5108040" y="248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>
                <a:off x="5107320" y="2904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2583000" y="2072520"/>
            <a:ext cx="1220040" cy="850680"/>
            <a:chOff x="2583000" y="2072520"/>
            <a:chExt cx="1220040" cy="850680"/>
          </a:xfrm>
        </p:grpSpPr>
        <p:sp>
          <p:nvSpPr>
            <p:cNvPr id="757" name=""/>
            <p:cNvSpPr/>
            <p:nvPr/>
          </p:nvSpPr>
          <p:spPr>
            <a:xfrm>
              <a:off x="2945520" y="2072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35080" y="2923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3424320" y="2077200"/>
              <a:ext cx="378720" cy="841320"/>
              <a:chOff x="3424320" y="2077200"/>
              <a:chExt cx="378720" cy="841320"/>
            </a:xfrm>
          </p:grpSpPr>
          <p:sp>
            <p:nvSpPr>
              <p:cNvPr id="760" name=""/>
              <p:cNvSpPr/>
              <p:nvPr/>
            </p:nvSpPr>
            <p:spPr>
              <a:xfrm>
                <a:off x="3424320" y="2077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3425040" y="2498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583000" y="2081520"/>
              <a:ext cx="378720" cy="841320"/>
              <a:chOff x="2583000" y="2081520"/>
              <a:chExt cx="378720" cy="84132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583720" y="208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>
                <a:off x="2583000" y="2503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" name=""/>
          <p:cNvGrpSpPr/>
          <p:nvPr/>
        </p:nvGrpSpPr>
        <p:grpSpPr>
          <a:xfrm>
            <a:off x="3421440" y="1640880"/>
            <a:ext cx="1219680" cy="850680"/>
            <a:chOff x="3421440" y="1640880"/>
            <a:chExt cx="1219680" cy="850680"/>
          </a:xfrm>
        </p:grpSpPr>
        <p:sp>
          <p:nvSpPr>
            <p:cNvPr id="766" name=""/>
            <p:cNvSpPr/>
            <p:nvPr/>
          </p:nvSpPr>
          <p:spPr>
            <a:xfrm>
              <a:off x="3783960" y="1640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73160" y="2491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4262400" y="1645560"/>
              <a:ext cx="378720" cy="841320"/>
              <a:chOff x="4262400" y="1645560"/>
              <a:chExt cx="378720" cy="841320"/>
            </a:xfrm>
          </p:grpSpPr>
          <p:sp>
            <p:nvSpPr>
              <p:cNvPr id="769" name=""/>
              <p:cNvSpPr/>
              <p:nvPr/>
            </p:nvSpPr>
            <p:spPr>
              <a:xfrm>
                <a:off x="4262400" y="1645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263120" y="206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3421440" y="1649880"/>
              <a:ext cx="378720" cy="841320"/>
              <a:chOff x="3421440" y="1649880"/>
              <a:chExt cx="378720" cy="84132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3422160" y="164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421440" y="207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897120" y="2091600"/>
            <a:ext cx="1220040" cy="850680"/>
            <a:chOff x="897120" y="2091600"/>
            <a:chExt cx="1220040" cy="850680"/>
          </a:xfrm>
        </p:grpSpPr>
        <p:sp>
          <p:nvSpPr>
            <p:cNvPr id="775" name=""/>
            <p:cNvSpPr/>
            <p:nvPr/>
          </p:nvSpPr>
          <p:spPr>
            <a:xfrm>
              <a:off x="1259640" y="2091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249200" y="29422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1738440" y="2096280"/>
              <a:ext cx="378720" cy="841320"/>
              <a:chOff x="1738440" y="2096280"/>
              <a:chExt cx="378720" cy="841320"/>
            </a:xfrm>
          </p:grpSpPr>
          <p:sp>
            <p:nvSpPr>
              <p:cNvPr id="778" name=""/>
              <p:cNvSpPr/>
              <p:nvPr/>
            </p:nvSpPr>
            <p:spPr>
              <a:xfrm>
                <a:off x="1738440" y="2096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1739160" y="2517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897120" y="2100600"/>
              <a:ext cx="378720" cy="841320"/>
              <a:chOff x="897120" y="2100600"/>
              <a:chExt cx="378720" cy="841320"/>
            </a:xfrm>
          </p:grpSpPr>
          <p:sp>
            <p:nvSpPr>
              <p:cNvPr id="781" name=""/>
              <p:cNvSpPr/>
              <p:nvPr/>
            </p:nvSpPr>
            <p:spPr>
              <a:xfrm flipH="1">
                <a:off x="897840" y="2100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897120" y="2522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1735560" y="1659960"/>
            <a:ext cx="1219680" cy="850680"/>
            <a:chOff x="1735560" y="1659960"/>
            <a:chExt cx="1219680" cy="850680"/>
          </a:xfrm>
        </p:grpSpPr>
        <p:sp>
          <p:nvSpPr>
            <p:cNvPr id="784" name=""/>
            <p:cNvSpPr/>
            <p:nvPr/>
          </p:nvSpPr>
          <p:spPr>
            <a:xfrm>
              <a:off x="2098080" y="1659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087280" y="2510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76520" y="1664640"/>
              <a:ext cx="378720" cy="841320"/>
              <a:chOff x="2576520" y="1664640"/>
              <a:chExt cx="378720" cy="841320"/>
            </a:xfrm>
          </p:grpSpPr>
          <p:sp>
            <p:nvSpPr>
              <p:cNvPr id="787" name=""/>
              <p:cNvSpPr/>
              <p:nvPr/>
            </p:nvSpPr>
            <p:spPr>
              <a:xfrm>
                <a:off x="2576520" y="1664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2577240" y="2086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1735560" y="1668960"/>
              <a:ext cx="378720" cy="841320"/>
              <a:chOff x="1735560" y="1668960"/>
              <a:chExt cx="378720" cy="841320"/>
            </a:xfrm>
          </p:grpSpPr>
          <p:sp>
            <p:nvSpPr>
              <p:cNvPr id="790" name=""/>
              <p:cNvSpPr/>
              <p:nvPr/>
            </p:nvSpPr>
            <p:spPr>
              <a:xfrm flipH="1">
                <a:off x="1736280" y="166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 flipV="1">
                <a:off x="1735560" y="2090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5950080" y="2039400"/>
            <a:ext cx="1220040" cy="850680"/>
            <a:chOff x="5950080" y="2039400"/>
            <a:chExt cx="1220040" cy="850680"/>
          </a:xfrm>
        </p:grpSpPr>
        <p:sp>
          <p:nvSpPr>
            <p:cNvPr id="793" name=""/>
            <p:cNvSpPr/>
            <p:nvPr/>
          </p:nvSpPr>
          <p:spPr>
            <a:xfrm>
              <a:off x="6312600" y="2039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02160" y="2890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6791400" y="2044080"/>
              <a:ext cx="378720" cy="841320"/>
              <a:chOff x="6791400" y="2044080"/>
              <a:chExt cx="378720" cy="841320"/>
            </a:xfrm>
          </p:grpSpPr>
          <p:sp>
            <p:nvSpPr>
              <p:cNvPr id="796" name=""/>
              <p:cNvSpPr/>
              <p:nvPr/>
            </p:nvSpPr>
            <p:spPr>
              <a:xfrm>
                <a:off x="6791400" y="2044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792120" y="2465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950080" y="2048400"/>
              <a:ext cx="378720" cy="841320"/>
              <a:chOff x="5950080" y="2048400"/>
              <a:chExt cx="378720" cy="841320"/>
            </a:xfrm>
          </p:grpSpPr>
          <p:sp>
            <p:nvSpPr>
              <p:cNvPr id="799" name=""/>
              <p:cNvSpPr/>
              <p:nvPr/>
            </p:nvSpPr>
            <p:spPr>
              <a:xfrm flipH="1">
                <a:off x="5950800" y="204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 flipV="1">
                <a:off x="5950080" y="246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"/>
          <p:cNvGrpSpPr/>
          <p:nvPr/>
        </p:nvGrpSpPr>
        <p:grpSpPr>
          <a:xfrm>
            <a:off x="6788520" y="1607400"/>
            <a:ext cx="1219680" cy="850680"/>
            <a:chOff x="6788520" y="1607400"/>
            <a:chExt cx="1219680" cy="850680"/>
          </a:xfrm>
        </p:grpSpPr>
        <p:sp>
          <p:nvSpPr>
            <p:cNvPr id="802" name=""/>
            <p:cNvSpPr/>
            <p:nvPr/>
          </p:nvSpPr>
          <p:spPr>
            <a:xfrm>
              <a:off x="7151040" y="1607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40240" y="245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7629480" y="1612080"/>
              <a:ext cx="378720" cy="841320"/>
              <a:chOff x="7629480" y="1612080"/>
              <a:chExt cx="378720" cy="841320"/>
            </a:xfrm>
          </p:grpSpPr>
          <p:sp>
            <p:nvSpPr>
              <p:cNvPr id="805" name=""/>
              <p:cNvSpPr/>
              <p:nvPr/>
            </p:nvSpPr>
            <p:spPr>
              <a:xfrm>
                <a:off x="7629480" y="1612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7630200" y="203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788520" y="1616400"/>
              <a:ext cx="378720" cy="841320"/>
              <a:chOff x="6788520" y="1616400"/>
              <a:chExt cx="378720" cy="841320"/>
            </a:xfrm>
          </p:grpSpPr>
          <p:sp>
            <p:nvSpPr>
              <p:cNvPr id="808" name=""/>
              <p:cNvSpPr/>
              <p:nvPr/>
            </p:nvSpPr>
            <p:spPr>
              <a:xfrm flipH="1">
                <a:off x="6789240" y="161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6788520" y="2037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"/>
          <p:cNvGrpSpPr/>
          <p:nvPr/>
        </p:nvGrpSpPr>
        <p:grpSpPr>
          <a:xfrm>
            <a:off x="4264200" y="2058480"/>
            <a:ext cx="1220040" cy="850320"/>
            <a:chOff x="4264200" y="2058480"/>
            <a:chExt cx="1220040" cy="850320"/>
          </a:xfrm>
        </p:grpSpPr>
        <p:sp>
          <p:nvSpPr>
            <p:cNvPr id="811" name=""/>
            <p:cNvSpPr/>
            <p:nvPr/>
          </p:nvSpPr>
          <p:spPr>
            <a:xfrm>
              <a:off x="4626720" y="2058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616280" y="2908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5105880" y="2063160"/>
              <a:ext cx="378360" cy="840240"/>
              <a:chOff x="5105880" y="2063160"/>
              <a:chExt cx="378360" cy="840240"/>
            </a:xfrm>
          </p:grpSpPr>
          <p:sp>
            <p:nvSpPr>
              <p:cNvPr id="814" name=""/>
              <p:cNvSpPr/>
              <p:nvPr/>
            </p:nvSpPr>
            <p:spPr>
              <a:xfrm>
                <a:off x="5105880" y="2063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5106600" y="2484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264200" y="2067480"/>
              <a:ext cx="378360" cy="840240"/>
              <a:chOff x="4264200" y="2067480"/>
              <a:chExt cx="378360" cy="840240"/>
            </a:xfrm>
          </p:grpSpPr>
          <p:sp>
            <p:nvSpPr>
              <p:cNvPr id="817" name=""/>
              <p:cNvSpPr/>
              <p:nvPr/>
            </p:nvSpPr>
            <p:spPr>
              <a:xfrm flipH="1">
                <a:off x="4264920" y="2067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4264200" y="2488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"/>
          <p:cNvGrpSpPr/>
          <p:nvPr/>
        </p:nvGrpSpPr>
        <p:grpSpPr>
          <a:xfrm>
            <a:off x="5102640" y="1626480"/>
            <a:ext cx="1219680" cy="850680"/>
            <a:chOff x="5102640" y="1626480"/>
            <a:chExt cx="1219680" cy="850680"/>
          </a:xfrm>
        </p:grpSpPr>
        <p:sp>
          <p:nvSpPr>
            <p:cNvPr id="820" name=""/>
            <p:cNvSpPr/>
            <p:nvPr/>
          </p:nvSpPr>
          <p:spPr>
            <a:xfrm>
              <a:off x="5465160" y="162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54360" y="2477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5943600" y="1631160"/>
              <a:ext cx="378720" cy="841320"/>
              <a:chOff x="5943600" y="1631160"/>
              <a:chExt cx="378720" cy="841320"/>
            </a:xfrm>
          </p:grpSpPr>
          <p:sp>
            <p:nvSpPr>
              <p:cNvPr id="823" name=""/>
              <p:cNvSpPr/>
              <p:nvPr/>
            </p:nvSpPr>
            <p:spPr>
              <a:xfrm>
                <a:off x="5943600" y="1631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944320" y="205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5102640" y="1635480"/>
              <a:ext cx="378720" cy="841320"/>
              <a:chOff x="5102640" y="1635480"/>
              <a:chExt cx="378720" cy="841320"/>
            </a:xfrm>
          </p:grpSpPr>
          <p:sp>
            <p:nvSpPr>
              <p:cNvPr id="826" name=""/>
              <p:cNvSpPr/>
              <p:nvPr/>
            </p:nvSpPr>
            <p:spPr>
              <a:xfrm flipH="1">
                <a:off x="5103360" y="163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flipV="1">
                <a:off x="5102640" y="20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in G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 control/authent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IM (Subscriber Identity Module): secret PIN (personal identification numb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M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twork: challenge response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ce and signaling encrypted on the wireless link (after successful authenticatio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onym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orary identity TMS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emporary Mobile Subscriber Identi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ly assigned at each new location update (LU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crypted transmis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algorithms specified in G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3 for authentication (“secret”, open interfa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5 for encryption (standardiz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8 for key generation (“secret”, open interfa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"/>
          <p:cNvSpPr/>
          <p:nvPr/>
        </p:nvSpPr>
        <p:spPr>
          <a:xfrm>
            <a:off x="7010280" y="3809880"/>
            <a:ext cx="1752840" cy="18288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ret”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 and A8 available via th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providers can use stronger mechani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- authent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6188040" y="1477800"/>
            <a:ext cx="405000" cy="487440"/>
            <a:chOff x="6188040" y="1477800"/>
            <a:chExt cx="405000" cy="487440"/>
          </a:xfrm>
        </p:grpSpPr>
        <p:sp>
          <p:nvSpPr>
            <p:cNvPr id="1619" name=""/>
            <p:cNvSpPr/>
            <p:nvPr/>
          </p:nvSpPr>
          <p:spPr>
            <a:xfrm>
              <a:off x="6188040" y="147780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0" name=""/>
            <p:cNvGrpSpPr/>
            <p:nvPr/>
          </p:nvGrpSpPr>
          <p:grpSpPr>
            <a:xfrm>
              <a:off x="6216480" y="1611360"/>
              <a:ext cx="339840" cy="110880"/>
              <a:chOff x="6216480" y="1611360"/>
              <a:chExt cx="339840" cy="110880"/>
            </a:xfrm>
          </p:grpSpPr>
          <p:sp>
            <p:nvSpPr>
              <p:cNvPr id="1621" name=""/>
              <p:cNvSpPr/>
              <p:nvPr/>
            </p:nvSpPr>
            <p:spPr>
              <a:xfrm>
                <a:off x="6518160" y="1703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216480" y="167616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275520" y="1616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259680" y="161136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6253200" y="1589040"/>
              <a:ext cx="233280" cy="225360"/>
              <a:chOff x="6253200" y="1589040"/>
              <a:chExt cx="233280" cy="225360"/>
            </a:xfrm>
          </p:grpSpPr>
          <p:sp>
            <p:nvSpPr>
              <p:cNvPr id="1626" name=""/>
              <p:cNvSpPr/>
              <p:nvPr/>
            </p:nvSpPr>
            <p:spPr>
              <a:xfrm>
                <a:off x="6269040" y="163008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53200" y="16873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07200" y="158904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9" name=""/>
          <p:cNvGrpSpPr/>
          <p:nvPr/>
        </p:nvGrpSpPr>
        <p:grpSpPr>
          <a:xfrm>
            <a:off x="6311880" y="1335240"/>
            <a:ext cx="344520" cy="680400"/>
            <a:chOff x="6311880" y="1335240"/>
            <a:chExt cx="344520" cy="680400"/>
          </a:xfrm>
        </p:grpSpPr>
        <p:sp>
          <p:nvSpPr>
            <p:cNvPr id="1630" name=""/>
            <p:cNvSpPr/>
            <p:nvPr/>
          </p:nvSpPr>
          <p:spPr>
            <a:xfrm>
              <a:off x="6335640" y="1822320"/>
              <a:ext cx="314280" cy="15516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445080" y="1906560"/>
              <a:ext cx="211320" cy="10908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11880" y="1335240"/>
              <a:ext cx="303120" cy="60768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32480" y="1346040"/>
              <a:ext cx="190440" cy="26964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34200" y="1527120"/>
              <a:ext cx="249120" cy="35208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473880" y="1403280"/>
              <a:ext cx="128520" cy="147240"/>
              <a:chOff x="6473880" y="1403280"/>
              <a:chExt cx="128520" cy="147240"/>
            </a:xfrm>
          </p:grpSpPr>
          <p:sp>
            <p:nvSpPr>
              <p:cNvPr id="1636" name=""/>
              <p:cNvSpPr/>
              <p:nvPr/>
            </p:nvSpPr>
            <p:spPr>
              <a:xfrm>
                <a:off x="6473880" y="1403280"/>
                <a:ext cx="128520" cy="14724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7" name=""/>
              <p:cNvGrpSpPr/>
              <p:nvPr/>
            </p:nvGrpSpPr>
            <p:grpSpPr>
              <a:xfrm>
                <a:off x="6505560" y="1428120"/>
                <a:ext cx="69840" cy="96120"/>
                <a:chOff x="6505560" y="1428120"/>
                <a:chExt cx="69840" cy="961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6537240" y="147060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6561000" y="148176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6505560" y="149760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6529320" y="150732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6554880" y="1516680"/>
                  <a:ext cx="61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6519960" y="148176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6543720" y="149292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6518160" y="142812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6543720" y="143748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6567480" y="144864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510240" y="146268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6526080" y="144864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6551640" y="145800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1" name=""/>
            <p:cNvGrpSpPr/>
            <p:nvPr/>
          </p:nvGrpSpPr>
          <p:grpSpPr>
            <a:xfrm>
              <a:off x="6373800" y="1579320"/>
              <a:ext cx="168120" cy="273960"/>
              <a:chOff x="6373800" y="1579320"/>
              <a:chExt cx="168120" cy="273960"/>
            </a:xfrm>
          </p:grpSpPr>
          <p:sp>
            <p:nvSpPr>
              <p:cNvPr id="1652" name=""/>
              <p:cNvSpPr/>
              <p:nvPr/>
            </p:nvSpPr>
            <p:spPr>
              <a:xfrm>
                <a:off x="6458040" y="181404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424560" y="157932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465960" y="15966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507000" y="161568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413400" y="1620360"/>
                <a:ext cx="3492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456240" y="16362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97640" y="1655280"/>
                <a:ext cx="334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402240" y="165852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445080" y="16758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486480" y="169488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392880" y="1699560"/>
                <a:ext cx="3348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435720" y="1715760"/>
                <a:ext cx="334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5320" y="17344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383160" y="1739520"/>
                <a:ext cx="352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424560" y="17568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65960" y="177444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373800" y="1779120"/>
                <a:ext cx="3492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416640" y="179496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0" name=""/>
          <p:cNvGrpSpPr/>
          <p:nvPr/>
        </p:nvGrpSpPr>
        <p:grpSpPr>
          <a:xfrm>
            <a:off x="6208560" y="1477800"/>
            <a:ext cx="198720" cy="227160"/>
            <a:chOff x="6208560" y="1477800"/>
            <a:chExt cx="198720" cy="227160"/>
          </a:xfrm>
        </p:grpSpPr>
        <p:grpSp>
          <p:nvGrpSpPr>
            <p:cNvPr id="1671" name=""/>
            <p:cNvGrpSpPr/>
            <p:nvPr/>
          </p:nvGrpSpPr>
          <p:grpSpPr>
            <a:xfrm>
              <a:off x="6272280" y="1549440"/>
              <a:ext cx="96840" cy="102960"/>
              <a:chOff x="6272280" y="1549440"/>
              <a:chExt cx="96840" cy="102960"/>
            </a:xfrm>
          </p:grpSpPr>
          <p:sp>
            <p:nvSpPr>
              <p:cNvPr id="1672" name=""/>
              <p:cNvSpPr/>
              <p:nvPr/>
            </p:nvSpPr>
            <p:spPr>
              <a:xfrm>
                <a:off x="6272280" y="154944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272280" y="154944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6323040" y="1503360"/>
              <a:ext cx="71280" cy="81000"/>
              <a:chOff x="6323040" y="1503360"/>
              <a:chExt cx="71280" cy="81000"/>
            </a:xfrm>
          </p:grpSpPr>
          <p:sp>
            <p:nvSpPr>
              <p:cNvPr id="1675" name=""/>
              <p:cNvSpPr/>
              <p:nvPr/>
            </p:nvSpPr>
            <p:spPr>
              <a:xfrm>
                <a:off x="6323040" y="150336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323040" y="150336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6208560" y="1616040"/>
              <a:ext cx="152640" cy="88920"/>
              <a:chOff x="6208560" y="1616040"/>
              <a:chExt cx="152640" cy="88920"/>
            </a:xfrm>
          </p:grpSpPr>
          <p:sp>
            <p:nvSpPr>
              <p:cNvPr id="1678" name=""/>
              <p:cNvSpPr/>
              <p:nvPr/>
            </p:nvSpPr>
            <p:spPr>
              <a:xfrm>
                <a:off x="6208560" y="161604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208560" y="161604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6323040" y="1477800"/>
              <a:ext cx="84240" cy="5400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2482920" y="15238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2843280" y="1449360"/>
            <a:ext cx="183960" cy="493200"/>
            <a:chOff x="2843280" y="1449360"/>
            <a:chExt cx="183960" cy="493200"/>
          </a:xfrm>
        </p:grpSpPr>
        <p:grpSp>
          <p:nvGrpSpPr>
            <p:cNvPr id="1683" name=""/>
            <p:cNvGrpSpPr/>
            <p:nvPr/>
          </p:nvGrpSpPr>
          <p:grpSpPr>
            <a:xfrm>
              <a:off x="2846520" y="1619280"/>
              <a:ext cx="180720" cy="323280"/>
              <a:chOff x="2846520" y="1619280"/>
              <a:chExt cx="180720" cy="323280"/>
            </a:xfrm>
          </p:grpSpPr>
          <p:grpSp>
            <p:nvGrpSpPr>
              <p:cNvPr id="1684" name=""/>
              <p:cNvGrpSpPr/>
              <p:nvPr/>
            </p:nvGrpSpPr>
            <p:grpSpPr>
              <a:xfrm>
                <a:off x="2846520" y="1628640"/>
                <a:ext cx="115920" cy="311040"/>
                <a:chOff x="2846520" y="1628640"/>
                <a:chExt cx="115920" cy="31104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2892600" y="162864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2879640" y="1631520"/>
                  <a:ext cx="5256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878200" y="169704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V="1">
                  <a:off x="2846520" y="1833120"/>
                  <a:ext cx="10620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860560" y="1834920"/>
                  <a:ext cx="10188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2859120" y="169668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894040" y="162864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2" name=""/>
              <p:cNvSpPr/>
              <p:nvPr/>
            </p:nvSpPr>
            <p:spPr>
              <a:xfrm flipV="1">
                <a:off x="2960640" y="181404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943360" y="1699920"/>
                <a:ext cx="6012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2943360" y="1620720"/>
                <a:ext cx="1404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2935440" y="1619280"/>
                <a:ext cx="2520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936880" y="1628640"/>
                <a:ext cx="3816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2954160" y="1687320"/>
                <a:ext cx="1620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955960" y="1834920"/>
                <a:ext cx="7128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2843280" y="1465200"/>
              <a:ext cx="177840" cy="474480"/>
              <a:chOff x="2843280" y="1465200"/>
              <a:chExt cx="177840" cy="474480"/>
            </a:xfrm>
          </p:grpSpPr>
          <p:sp>
            <p:nvSpPr>
              <p:cNvPr id="1700" name=""/>
              <p:cNvSpPr/>
              <p:nvPr/>
            </p:nvSpPr>
            <p:spPr>
              <a:xfrm flipV="1">
                <a:off x="2843280" y="146520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916360" y="1479600"/>
                <a:ext cx="4428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2960640" y="1900080"/>
                <a:ext cx="6048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924280" y="147456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44720" y="1936800"/>
                <a:ext cx="117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>
              <a:off x="2897280" y="144936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884320" y="1145520"/>
            <a:ext cx="812520" cy="721080"/>
            <a:chOff x="2884320" y="1145520"/>
            <a:chExt cx="812520" cy="721080"/>
          </a:xfrm>
        </p:grpSpPr>
        <p:grpSp>
          <p:nvGrpSpPr>
            <p:cNvPr id="1707" name=""/>
            <p:cNvGrpSpPr/>
            <p:nvPr/>
          </p:nvGrpSpPr>
          <p:grpSpPr>
            <a:xfrm>
              <a:off x="3165120" y="1145520"/>
              <a:ext cx="531720" cy="721080"/>
              <a:chOff x="3165120" y="1145520"/>
              <a:chExt cx="531720" cy="721080"/>
            </a:xfrm>
          </p:grpSpPr>
          <p:sp>
            <p:nvSpPr>
              <p:cNvPr id="1708" name=""/>
              <p:cNvSpPr/>
              <p:nvPr/>
            </p:nvSpPr>
            <p:spPr>
              <a:xfrm>
                <a:off x="3259440" y="1145520"/>
                <a:ext cx="43740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227760" y="1190880"/>
                <a:ext cx="37692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165120" y="1244520"/>
                <a:ext cx="35244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2989080" y="1279440"/>
              <a:ext cx="447480" cy="479520"/>
              <a:chOff x="2989080" y="1279440"/>
              <a:chExt cx="447480" cy="479520"/>
            </a:xfrm>
          </p:grpSpPr>
          <p:sp>
            <p:nvSpPr>
              <p:cNvPr id="1712" name=""/>
              <p:cNvSpPr/>
              <p:nvPr/>
            </p:nvSpPr>
            <p:spPr>
              <a:xfrm>
                <a:off x="3069000" y="1279440"/>
                <a:ext cx="36756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41280" y="1309320"/>
                <a:ext cx="32076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989080" y="1346400"/>
                <a:ext cx="29844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2951640" y="1377000"/>
              <a:ext cx="26892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914560" y="139644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84320" y="142992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07000" y="1461240"/>
              <a:ext cx="11988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1676520" y="4952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676520" y="2743200"/>
            <a:ext cx="2057400" cy="16765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209680" y="373392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9718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4382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667960" y="281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214000" y="28195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70028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9728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70504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906560" y="441972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486400" y="2743200"/>
            <a:ext cx="2057400" cy="31240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124080"/>
              <a:gd name="textAreaBottom" fmla="*/ 3023640 h 3124080"/>
            </a:gdLst>
            <a:ahLst/>
            <a:rect l="textAreaLeft" t="textAreaTop" r="textAreaRight" b="textAreaBottom"/>
            <a:pathLst>
              <a:path w="21600" h="32797">
                <a:moveTo>
                  <a:pt x="3600" y="0"/>
                </a:moveTo>
                <a:arcTo wR="3600" hR="3600" stAng="16200000" swAng="-5400000"/>
                <a:lnTo>
                  <a:pt x="0" y="29197"/>
                </a:lnTo>
                <a:arcTo wR="3600" hR="3600" stAng="10800000" swAng="-5400000"/>
                <a:lnTo>
                  <a:pt x="18000" y="32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019920" y="373392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7816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485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792040" y="281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633720" y="28195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51052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70752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515280" y="4267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717160" y="44197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  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3526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905120" y="5181480"/>
            <a:ext cx="1638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=? 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172560" y="53020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3580920" y="5454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252320" y="26510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440" y="5149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268880" y="54100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11120" y="22096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250680" y="21337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39520" y="3352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95160" y="5257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622280" y="41148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39040" y="6095880"/>
            <a:ext cx="573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ndividual subscriber authentication 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ES: signed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- key generation and encry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6188040" y="1630440"/>
            <a:ext cx="405000" cy="487440"/>
            <a:chOff x="6188040" y="1630440"/>
            <a:chExt cx="405000" cy="487440"/>
          </a:xfrm>
        </p:grpSpPr>
        <p:sp>
          <p:nvSpPr>
            <p:cNvPr id="1755" name=""/>
            <p:cNvSpPr/>
            <p:nvPr/>
          </p:nvSpPr>
          <p:spPr>
            <a:xfrm>
              <a:off x="6188040" y="163044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6216480" y="1764000"/>
              <a:ext cx="339840" cy="110880"/>
              <a:chOff x="6216480" y="1764000"/>
              <a:chExt cx="339840" cy="110880"/>
            </a:xfrm>
          </p:grpSpPr>
          <p:sp>
            <p:nvSpPr>
              <p:cNvPr id="1757" name=""/>
              <p:cNvSpPr/>
              <p:nvPr/>
            </p:nvSpPr>
            <p:spPr>
              <a:xfrm>
                <a:off x="6518160" y="1855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216480" y="182880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275520" y="17686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59680" y="176400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6253200" y="1741680"/>
              <a:ext cx="233280" cy="225360"/>
              <a:chOff x="6253200" y="1741680"/>
              <a:chExt cx="233280" cy="225360"/>
            </a:xfrm>
          </p:grpSpPr>
          <p:sp>
            <p:nvSpPr>
              <p:cNvPr id="1762" name=""/>
              <p:cNvSpPr/>
              <p:nvPr/>
            </p:nvSpPr>
            <p:spPr>
              <a:xfrm>
                <a:off x="6269040" y="178272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253200" y="183996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307200" y="174168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6311880" y="1487520"/>
            <a:ext cx="344520" cy="681120"/>
            <a:chOff x="6311880" y="1487520"/>
            <a:chExt cx="344520" cy="681120"/>
          </a:xfrm>
        </p:grpSpPr>
        <p:sp>
          <p:nvSpPr>
            <p:cNvPr id="1766" name=""/>
            <p:cNvSpPr/>
            <p:nvPr/>
          </p:nvSpPr>
          <p:spPr>
            <a:xfrm>
              <a:off x="6335640" y="1974960"/>
              <a:ext cx="314280" cy="15552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45080" y="2059200"/>
              <a:ext cx="211320" cy="10944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311880" y="1487520"/>
              <a:ext cx="303120" cy="60804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432480" y="1498680"/>
              <a:ext cx="190440" cy="27000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34200" y="1679760"/>
              <a:ext cx="249120" cy="35244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473880" y="1555920"/>
              <a:ext cx="128520" cy="147600"/>
              <a:chOff x="6473880" y="1555920"/>
              <a:chExt cx="128520" cy="147600"/>
            </a:xfrm>
          </p:grpSpPr>
          <p:sp>
            <p:nvSpPr>
              <p:cNvPr id="1772" name=""/>
              <p:cNvSpPr/>
              <p:nvPr/>
            </p:nvSpPr>
            <p:spPr>
              <a:xfrm>
                <a:off x="6473880" y="1555920"/>
                <a:ext cx="128520" cy="14760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6505560" y="1581120"/>
                <a:ext cx="69840" cy="96840"/>
                <a:chOff x="6505560" y="1581120"/>
                <a:chExt cx="69840" cy="9684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6537240" y="1623960"/>
                  <a:ext cx="6480" cy="8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6561000" y="163512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6505560" y="165096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6529320" y="166068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6554880" y="1670040"/>
                  <a:ext cx="61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6519960" y="163512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6543720" y="16462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6518160" y="15811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543720" y="15908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6567480" y="16020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6510240" y="16160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6526080" y="16020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6551640" y="161136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7" name=""/>
            <p:cNvGrpSpPr/>
            <p:nvPr/>
          </p:nvGrpSpPr>
          <p:grpSpPr>
            <a:xfrm>
              <a:off x="6373800" y="1731960"/>
              <a:ext cx="168120" cy="274680"/>
              <a:chOff x="6373800" y="1731960"/>
              <a:chExt cx="168120" cy="274680"/>
            </a:xfrm>
          </p:grpSpPr>
          <p:sp>
            <p:nvSpPr>
              <p:cNvPr id="1788" name=""/>
              <p:cNvSpPr/>
              <p:nvPr/>
            </p:nvSpPr>
            <p:spPr>
              <a:xfrm>
                <a:off x="6458040" y="19670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424560" y="1731960"/>
                <a:ext cx="3348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465960" y="17496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507000" y="17686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413400" y="177336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456240" y="17892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497640" y="180828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402240" y="18115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445080" y="182880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486480" y="18478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92880" y="1852560"/>
                <a:ext cx="3348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435720" y="186876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475320" y="188748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383160" y="1892520"/>
                <a:ext cx="352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24560" y="19098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65960" y="19274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73800" y="193212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416640" y="19479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6" name=""/>
          <p:cNvGrpSpPr/>
          <p:nvPr/>
        </p:nvGrpSpPr>
        <p:grpSpPr>
          <a:xfrm>
            <a:off x="6208560" y="1630440"/>
            <a:ext cx="198720" cy="226440"/>
            <a:chOff x="6208560" y="1630440"/>
            <a:chExt cx="198720" cy="226440"/>
          </a:xfrm>
        </p:grpSpPr>
        <p:grpSp>
          <p:nvGrpSpPr>
            <p:cNvPr id="1807" name=""/>
            <p:cNvGrpSpPr/>
            <p:nvPr/>
          </p:nvGrpSpPr>
          <p:grpSpPr>
            <a:xfrm>
              <a:off x="6272280" y="1701720"/>
              <a:ext cx="96840" cy="102600"/>
              <a:chOff x="6272280" y="1701720"/>
              <a:chExt cx="96840" cy="102600"/>
            </a:xfrm>
          </p:grpSpPr>
          <p:sp>
            <p:nvSpPr>
              <p:cNvPr id="1808" name=""/>
              <p:cNvSpPr/>
              <p:nvPr/>
            </p:nvSpPr>
            <p:spPr>
              <a:xfrm>
                <a:off x="6272280" y="1701720"/>
                <a:ext cx="96840" cy="10260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272280" y="1701720"/>
                <a:ext cx="96840" cy="10260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6323040" y="1655640"/>
              <a:ext cx="71280" cy="80640"/>
              <a:chOff x="6323040" y="1655640"/>
              <a:chExt cx="71280" cy="80640"/>
            </a:xfrm>
          </p:grpSpPr>
          <p:sp>
            <p:nvSpPr>
              <p:cNvPr id="1811" name=""/>
              <p:cNvSpPr/>
              <p:nvPr/>
            </p:nvSpPr>
            <p:spPr>
              <a:xfrm>
                <a:off x="6323040" y="1655640"/>
                <a:ext cx="71280" cy="8064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323040" y="1655640"/>
                <a:ext cx="71280" cy="8064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6208560" y="1768320"/>
              <a:ext cx="152640" cy="88560"/>
              <a:chOff x="6208560" y="1768320"/>
              <a:chExt cx="152640" cy="88560"/>
            </a:xfrm>
          </p:grpSpPr>
          <p:sp>
            <p:nvSpPr>
              <p:cNvPr id="1814" name=""/>
              <p:cNvSpPr/>
              <p:nvPr/>
            </p:nvSpPr>
            <p:spPr>
              <a:xfrm>
                <a:off x="6208560" y="1768320"/>
                <a:ext cx="152640" cy="8856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208560" y="1768320"/>
                <a:ext cx="152640" cy="8856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6" name=""/>
            <p:cNvSpPr/>
            <p:nvPr/>
          </p:nvSpPr>
          <p:spPr>
            <a:xfrm>
              <a:off x="6323040" y="1630440"/>
              <a:ext cx="84240" cy="5364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2209680" y="16765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2570040" y="1601640"/>
            <a:ext cx="184320" cy="493200"/>
            <a:chOff x="2570040" y="1601640"/>
            <a:chExt cx="184320" cy="493200"/>
          </a:xfrm>
        </p:grpSpPr>
        <p:grpSp>
          <p:nvGrpSpPr>
            <p:cNvPr id="1819" name=""/>
            <p:cNvGrpSpPr/>
            <p:nvPr/>
          </p:nvGrpSpPr>
          <p:grpSpPr>
            <a:xfrm>
              <a:off x="2573280" y="1771560"/>
              <a:ext cx="181080" cy="323280"/>
              <a:chOff x="2573280" y="1771560"/>
              <a:chExt cx="181080" cy="32328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2573280" y="1780920"/>
                <a:ext cx="115920" cy="311040"/>
                <a:chOff x="2573280" y="1780920"/>
                <a:chExt cx="115920" cy="3110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2619360" y="178092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 flipV="1">
                  <a:off x="2606760" y="1783800"/>
                  <a:ext cx="5220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604960" y="184932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V="1">
                  <a:off x="2573280" y="1985400"/>
                  <a:ext cx="10656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587680" y="1987200"/>
                  <a:ext cx="10152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V="1">
                  <a:off x="2585880" y="184896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2620800" y="178092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8" name=""/>
              <p:cNvSpPr/>
              <p:nvPr/>
            </p:nvSpPr>
            <p:spPr>
              <a:xfrm flipV="1">
                <a:off x="2687760" y="196632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670120" y="1852200"/>
                <a:ext cx="6048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2670120" y="1773000"/>
                <a:ext cx="1440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62200" y="1771560"/>
                <a:ext cx="2556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664000" y="1780920"/>
                <a:ext cx="3780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2681280" y="1839600"/>
                <a:ext cx="1584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682720" y="1987200"/>
                <a:ext cx="7164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2570040" y="1617480"/>
              <a:ext cx="177840" cy="474480"/>
              <a:chOff x="2570040" y="1617480"/>
              <a:chExt cx="177840" cy="474480"/>
            </a:xfrm>
          </p:grpSpPr>
          <p:sp>
            <p:nvSpPr>
              <p:cNvPr id="1836" name=""/>
              <p:cNvSpPr/>
              <p:nvPr/>
            </p:nvSpPr>
            <p:spPr>
              <a:xfrm flipV="1">
                <a:off x="2570040" y="161748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643120" y="1631880"/>
                <a:ext cx="4464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2687760" y="2052360"/>
                <a:ext cx="6012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651040" y="162684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571840" y="2089080"/>
                <a:ext cx="117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>
              <a:off x="2624040" y="160164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2611440" y="1298160"/>
            <a:ext cx="812520" cy="721080"/>
            <a:chOff x="2611440" y="1298160"/>
            <a:chExt cx="812520" cy="721080"/>
          </a:xfrm>
        </p:grpSpPr>
        <p:grpSp>
          <p:nvGrpSpPr>
            <p:cNvPr id="1843" name=""/>
            <p:cNvGrpSpPr/>
            <p:nvPr/>
          </p:nvGrpSpPr>
          <p:grpSpPr>
            <a:xfrm>
              <a:off x="2892600" y="1298160"/>
              <a:ext cx="531360" cy="721080"/>
              <a:chOff x="2892600" y="1298160"/>
              <a:chExt cx="531360" cy="721080"/>
            </a:xfrm>
          </p:grpSpPr>
          <p:sp>
            <p:nvSpPr>
              <p:cNvPr id="1844" name=""/>
              <p:cNvSpPr/>
              <p:nvPr/>
            </p:nvSpPr>
            <p:spPr>
              <a:xfrm>
                <a:off x="2985840" y="1298160"/>
                <a:ext cx="43812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954160" y="1343520"/>
                <a:ext cx="37764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892600" y="1397160"/>
                <a:ext cx="35172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2716920" y="1432080"/>
              <a:ext cx="446760" cy="479520"/>
              <a:chOff x="2716920" y="1432080"/>
              <a:chExt cx="446760" cy="479520"/>
            </a:xfrm>
          </p:grpSpPr>
          <p:sp>
            <p:nvSpPr>
              <p:cNvPr id="1848" name=""/>
              <p:cNvSpPr/>
              <p:nvPr/>
            </p:nvSpPr>
            <p:spPr>
              <a:xfrm>
                <a:off x="2795400" y="1432080"/>
                <a:ext cx="36828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769120" y="1461960"/>
                <a:ext cx="31968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716920" y="1499040"/>
                <a:ext cx="29736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2678040" y="1529640"/>
              <a:ext cx="26964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41680" y="154908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11440" y="158256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633400" y="1613880"/>
              <a:ext cx="12060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1676520" y="54864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676520" y="2895480"/>
            <a:ext cx="2057400" cy="16765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209680" y="388620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9718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4382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66796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14000" y="297180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0028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9728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40048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752480" y="4676760"/>
            <a:ext cx="914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86400" y="2895480"/>
            <a:ext cx="2057400" cy="198144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7816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2485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79204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633720" y="297180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51052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70752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352680" y="312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172560" y="54547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252320" y="28036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040280" y="5486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712160" y="2330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 (B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869440" y="22860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with 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65080" y="33368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95160" y="5607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7622280" y="333684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486400" y="54864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981760" y="595296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486400" y="4876920"/>
            <a:ext cx="806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21036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171880" y="595296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3276720" y="60674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276720" y="62960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773840" y="57150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669040" y="548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5909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402960" y="548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40080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0560" y="464832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ervices in GSM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transmission standardized with only 9.6 kbit/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ced coding allows 14,4 kbit/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enough for Internet and multimedia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SCSD (High-Speed Circuit Switched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ready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ndling of several time-slots to get hig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UR (Air Interface User Ra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, 57.6 kbit/s using 4 slots, 14.4 eac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: ready to use, constant quality, si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dvantage: channels blocked for voice transmi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1523880" y="4638600"/>
          <a:ext cx="6526440" cy="20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638600"/>
                    <a:ext cx="652644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ervices in GSM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free slots only if data packets ready to se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, 115 kbit/s using 8 slots temporaril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ization 1998, introduced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: one step towards 3G, more flex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dvantage: more investment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 network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SN (GPRS Support Nodes): GGSN and SGS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GSN (Gateway GS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working unit between GPRS and PDN (Packet Data Networ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GSN (Serving GS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ports the MS (location, billing, securi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 (GPRS Regis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addres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PRS quality of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03" name=""/>
          <p:cNvGraphicFramePr/>
          <p:nvPr/>
        </p:nvGraphicFramePr>
        <p:xfrm>
          <a:off x="793800" y="1928880"/>
          <a:ext cx="7669080" cy="201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928880"/>
                    <a:ext cx="76690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5" name=""/>
          <p:cNvGraphicFramePr/>
          <p:nvPr/>
        </p:nvGraphicFramePr>
        <p:xfrm>
          <a:off x="609480" y="4191120"/>
          <a:ext cx="7923240" cy="1904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191120"/>
                    <a:ext cx="79232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-95 (CdmaOne): [TIA/EIA IS-95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-95: standard for the radio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-41: standard for the network p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es of 800MHz and 1900MHz b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DS-CDMA technology (1.2288 Mchips/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 link (downlink): ½ convolutional code, interleaved, 64 chips spreading sequence (Walsh-Hadamard functi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lot channel (code 0), synchronization channel (code 32), 7 paging channels, upto 63 traffic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erse link (uplink): 1/3 convolutional code, interleaved, 6 bits are mapped into a Walsh-Hadamard sequence, spreading using a User-BaseStation specific code (with perio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1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 power control (open-loop, fast closed loo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vantages of CDMA Cell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frequency-dependent transmission impairments have less effect 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ath resistance – chipping codes used for CDMA exhibit low cross correlation and low autocor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– privacy is inherent since spread spectrum is obtained by use of noise-like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ceful degradation – system only gradually degrades as more users access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rawbacks of CDMA Cell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jamming – arriving transmissions from multiple users not aligned on chip boundaries unless users are perfectly synchro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-far problem – signals closer to the receiver are received with less attenuation than signals farther a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handoff – requires that the mobile acquires the new cell before it relinquishes the old; this is more complex than hard handoff used in FDMA and TDMA sc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Wireless C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KE receiver – when multiple versions of a signal arrive more than one chip interval apart, RAKE receiver attempts to recover signals from multiple paths and combine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achieves better performance than simply recovering dominant signal and treating remaining signals a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Handoff – mobile station temporarily connected to more than one base station simultaneous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roaches to Cope with Increasing Capa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new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borrowing – frequencies are taken from adjacent cells by conges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splitting – cells in areas of high usage can be split into smaller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sectoring – cells are divided into a number of wedge-shaped sectors, each with their own set of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cells – antennas move to buildings, hills, and lamp p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inciple of RAKE Rece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380880" y="1406520"/>
            <a:ext cx="64771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Channels Supported by Forward 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(channel 0) - allows the mobile unit to acquire timing information, provides phase reference and provides means for signal strength compari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ation (channel 32) - used by mobile station to obtain identification information about cellul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(channels 1 to 7) - contain messages for one or more mobil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(channels 8 to 31 and 33 to 63) – the forward channel supports 55 traffic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Traffic Channel Processing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is encoded at a rate of 8550 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bits added for error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ransmitted in 2-ms blocks with forward error correction provided by a convolutional enco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terleaved in blocks to reduce effects of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its are scrambled, serving as a privacy m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Traffic Channel Processing Step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control information inserted into traffic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-SS function spreads the 19.2 kbps to a rate of 1.2288 Mbps using one row of 64 x 64 Walsh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bit stream modulated onto the carrier using QPSK modulation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U’s View of Third-Generatio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quality comparable to the public switched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4 kbps data rate available to users in high-speed motor vehicles over larg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4 kbps available to pedestrians standing or moving slowly over small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2.048 Mbps for offic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al / asymmetrical data transmission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both packet switched and circuit switched data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U’s View of Third-Generatio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ptive interface to the Internet to reflect efficiently the common asymmetry between inbound and outbound traf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use of the available spectrum in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 wide variety of mobile 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 to allow the introduction of new services and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lternative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– limit channel usage to 5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p rate – depends on desired data rate, need for error control, and bandwidth limitations; 3 Mcps or more is reason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rate – advantage is that the system can flexibly support multiple simultaneous applications from a given user and can efficiently use available capacity by only providing the capacity required for each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System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Systems 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Station (BS) – includes an antenna, a controller, and a 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telecommunications switching office (MTSO) – connects calls between mobile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hannels available between mobile unit and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channels – used to exchange information having to do with setting up and maintaining c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channels – carry voice or data connection between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eps in an MTSO Controlled Call between Mobile Us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unit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-originated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ccep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3-07T20:55:03Z</dcterms:modified>
  <cp:revision>81</cp:revision>
  <dc:subject/>
  <dc:title>Wireless Communications and Networks</dc:title>
</cp:coreProperties>
</file>