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7548-6B76-4C87-AD80-B8422DADB1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mod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a digital sequence of information bits into an analog signal suitable for transmission over the communication medium (chann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during which the amplitude, frequency, or the phase of a carrier changes in accordance with the information to be trans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ation associates eac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its to a signal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 chosen among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nd transmission versus carrier modulation transm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nd: signal within [0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] (e.g., c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ier modulation: signal within 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modulation sche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modulation, Phase modulation, Frequency mod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leaver transform non awgn into aw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ma^2 = 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384588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9680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200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628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200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628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63D5-858E-4364-A6A8-C8C5B604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7362-A900-4150-9853-7032E950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F23-76B2-4752-94EE-F51B3D11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E99-0511-49DC-93D6-397711C2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847-C855-49DF-B082-B79B62A4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11FE-A9DE-447E-85BB-825288B7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D72-7004-4CA0-8AA2-364334A6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9680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E20-3E92-4EB7-8F32-68B0BD3D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D57D-7D54-4BBC-85D5-7CF2F2CE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384588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9ED7-62FA-4ABD-8717-BF93C75E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9680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D527-F6AE-4B91-BB9A-F53EF678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8200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2628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772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8200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2628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5587-A580-4D8C-90E2-9AB99434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555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55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586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98560" y="6354720"/>
            <a:ext cx="68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3525 Wireless Networks: Signal Encoding – Spread Spectr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976880" y="6400800"/>
            <a:ext cx="1303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BA67-2AD9-4DB1-8DE2-0B744C2131A6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DA7C-B5B5-4C94-9E5C-C1ED95FF29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ignal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. Noub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bir@ccs.neu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mplitude-Shift Key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ceptible to sudden gai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fficient modul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voice-grade lines, used up to 1200 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transmit digital data over optical fi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inary Frequency-Shift Keying (B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binary digits represented by two different frequencies near the carrier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offset from carrier frequenc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equal but opposite amou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503440" y="3429000"/>
                <a:ext cx="170172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limLow>
                          <m:e>
                            <m:limUpp>
                              <m:e/>
                              <m:lim/>
                            </m:limUpp>
                          </m:e>
                          <m:lim/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900600" y="3497400"/>
                <a:ext cx="1828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886200" y="3954600"/>
                <a:ext cx="18590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267600" y="3527280"/>
                <a:ext cx="1239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262560" y="3954600"/>
                <a:ext cx="13320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inary Frequency-Shift Keying (B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susceptible to error than A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voice-grade lines, used up to 1200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high-frequency (3 to 30 MHz) radio trans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at higher frequencies on LANs that use coaxial c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le Frequency-Shift Keying (M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than two frequencies ar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bandwidth efficient but more susceptible to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1 – M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he carrier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he difference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number of different signal elements = 2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number of bits per signal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743200" y="3276720"/>
                <a:ext cx="3106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172200" y="3352680"/>
                <a:ext cx="17384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le Frequency-Shift Keying (M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tch data rate of input bit stream, each output signal element is held f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the bit period (data rate = 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one signal element encod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le Frequency-Shift Keying (M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bandwidth requir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frequency separation required 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modulator requires a bandwidth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le Frequency-Shift Keying (M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899172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hase-Shift Keying (P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level PSK (BPS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two phases to represent binary dig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209680" y="2895480"/>
                <a:ext cx="170208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limLow>
                          <m:e>
                            <m:limUpp>
                              <m:e/>
                              <m:lim/>
                            </m:limUpp>
                          </m:e>
                          <m:lim/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505320" y="2971800"/>
                <a:ext cx="1858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505320" y="3429000"/>
                <a:ext cx="24177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943600" y="2994120"/>
                <a:ext cx="1239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943600" y="3429000"/>
                <a:ext cx="1332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941560" y="4245120"/>
                <a:ext cx="998640" cy="11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limLow>
                          <m:e>
                            <m:limUpp>
                              <m:e/>
                              <m:lim/>
                            </m:limUpp>
                          </m:e>
                          <m:lim/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505320" y="4267080"/>
                <a:ext cx="1858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505320" y="4800600"/>
                <a:ext cx="21063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943600" y="4289400"/>
                <a:ext cx="1239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943600" y="4800600"/>
                <a:ext cx="1332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hase-Shift Keying (P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l PSK (DPS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shift with reference to previous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0 – signal burst of same phase as previous signal bu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1 – signal burst of opposite phase to previous signal bu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hase-Shift Keying (P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3237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-level PSK (QPS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element represents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05120" y="2428920"/>
                <a:ext cx="2438280" cy="35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limLow>
                          <m:e>
                            <m:limUpp>
                              <m:e/>
                              <m:lim>
                                <m:limLow>
                                  <m:e>
                                    <m:limUpp>
                                      <m:e/>
                                      <m:lim/>
                                    </m:limUpp>
                                  </m:e>
                                  <m:lim/>
                                </m:limLow>
                              </m:lim>
                            </m:limUpp>
                          </m:e>
                          <m:lim>
                            <m:limLow>
                              <m:e>
                                <m:limUpp>
                                  <m:e/>
                                  <m:lim/>
                                </m:limUpp>
                              </m:e>
                              <m:lim/>
                            </m:limLow>
                          </m:lim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962520" y="2276640"/>
                <a:ext cx="24382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467480" y="2581200"/>
                <a:ext cx="403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962520" y="3191040"/>
                <a:ext cx="26668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62520" y="4181400"/>
                <a:ext cx="2666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962520" y="5095800"/>
                <a:ext cx="26668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467480" y="3481560"/>
                <a:ext cx="46512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467480" y="4395960"/>
                <a:ext cx="4953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7467480" y="5234040"/>
                <a:ext cx="435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asons for Choosing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data, digital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ment less complex and expensive than digital-to-analog modulatio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 data, digital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s use of modern digital transmission and switching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hase-Shift Keying (P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leve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ultiple phase angles with each angle having more than one amplitude, multiple signals elements can be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odulation rate, bau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data rate, b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number of different signal elements =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number of bits per signal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429000" y="3048120"/>
                <a:ext cx="26668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 of modulated signal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, P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1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&lt; r &lt; 1; related to how signal is fi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 of modulated signal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umber of bits encoded per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umber of different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657600" y="2133720"/>
                <a:ext cx="434340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657600" y="3352680"/>
                <a:ext cx="274320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Quadrature Amplitu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AM is a combination of ASK and P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different signals sent simultaneously on the same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286000" y="3429000"/>
                <a:ext cx="58737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Quadrature Amplitu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858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tive White Gaussian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previously seen, noise has several 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mal noise source is the motion of electrons in amplifiers and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statistics were determined using quantum mechani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flat for all frequencies up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generally call it: Additive White Gaussian Noise (AWG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probability density function (pdf) (zero mean noise voltage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809880" y="5486400"/>
                <a:ext cx="27147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t Error Rate [Sklar1988]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 for coherently detected BPSK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 for coherently detected BFSK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198520" y="2014560"/>
                <a:ext cx="384192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738440" y="4352760"/>
                <a:ext cx="373680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asons for Analog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tion of digital 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only analog transmission facilities are available, digital to analog conversion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tion of analog 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igher frequency may be needed for effectiv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tion permits 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ic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 data to analog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tude modulation (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e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modulation (F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modulation (P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mplitu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035080" y="2357280"/>
                <a:ext cx="51260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plitude Mod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arr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(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nput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modulation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io of amplitude of input signal to carr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k.a double sideband transmitted carrier (DSB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asons for Choosing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data, analog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transmission media will only propagate analog signal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optical fiber and 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 data, analog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 data in electrical form can be transmitted easily and chea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e with voice transmission over voice-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ectrum of AM sig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58676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mplitu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ted pow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otal transmitted power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ransmitted power in carr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048120" y="2133720"/>
                <a:ext cx="297180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ingle Sideband (SSB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t of AM is single sideband (SS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s only one side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other sideband and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half the bandwidth i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power i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ressed carrier can’t be used for synchronization purpo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gl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e mod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mod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is proportional to modulatin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hase modulation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971800" y="2209680"/>
                <a:ext cx="4114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09880" y="4495680"/>
                <a:ext cx="221292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gl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mod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ve of the phase is proportional to modulatin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requency modulation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3505320"/>
                <a:ext cx="2351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gl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d to AM, FM and PM result in a signal whose bandwidt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lso centered at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has a magnitude that is much diffe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 modulation includes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which produces a wide range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FM and PM require greater bandwidth than 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gl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son’s r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mula for FM beco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733920" y="2590920"/>
                <a:ext cx="23763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733920" y="5486400"/>
                <a:ext cx="2441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ΔF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819520" y="3048120"/>
                <a:ext cx="449712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ΔF</m:t>
                                  </m:r>
                                </m:num>
                                <m:den>
                                  <m:r>
                                    <m:t xml:space="preserve">B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πB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m>
                      <m:mr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for PM</m:t>
                          </m:r>
                        </m:e>
                      </m:mr>
                      <m:mr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for F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ic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 data to digital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se code modulation (PC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ta modulation (D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alog Data to Digital Sig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nalog data have been converted to digital signals, the digital dat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ansmitted using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encoded as a digital signal using a code other than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converted to an analog signal, using previously discussed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ulse Co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sampling theor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nalog sample is assigned a binary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 samples are referred to as pulse amplitude modulation (PAM) s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gital signal consists of block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ts, where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it number is the amplitude of a PCM pu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ignal Encoding Crite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etermines how successful a receiver will be in interpreting an incoming sign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rease in data rate increases bit erro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rease in SNR decreases bit erro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rease in bandwidth allows an increase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ulse Co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5715000" cy="4849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0" y="6435720"/>
            <a:ext cx="44956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ulse Co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quantizing the PAM pulse, original signal is only approxi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s to quantizing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-to-noise ratio for quantizing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each additional bit increases SNR by 6 dB, or a factor of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828800" y="3809880"/>
                <a:ext cx="66294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elta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 input is approximated by staircase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s up or down by one quantization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t each sampling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t stream approximates derivative of analog signal (rather than amplitu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is generated if function goes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otherw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elta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6629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elta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important parame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of step assigned to each binary digit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ing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racy improved by increasing sampling 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is increases the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 of DM over PCM is the simplicity of its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asons for Growth of Digital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th in popularity of digital techniques for sending analog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rs are used instead of ampl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dditiv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DM is used instead of 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ntermodulation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to digital signaling allows use of more efficient digital switching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is fed into a channel encod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s analog signal with narrow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is further modulated using sequence of digi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ing code or spread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d by pseudonoise, or pseudo-random number gen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 of modulation is to increase bandwidth of signal to be transmit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receiving end, digit sequence is used to demodulate the spread spectrum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is fed into a channel decoder to recov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actors Used to Compar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ncoding Sche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lack of high-frequency components, less bandwidth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dc component, ac coupling via transformer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function of a channel is worse near band ed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e of determining beginning and end of each bit 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be gained from apparent waste of spectru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ity from various kinds of noise and multipath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for hiding and encrypting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users can independently use the same higher bandwidth with very little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quency Hoping Spread Spectrum (FHS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is broadcast over seemingly random series of radio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umber of channels allocated for the FH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th of each channel corresponds to bandwidth of input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hops from frequency to frequency at fixed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ter operates in one channel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 are transmitted using some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ach successive interval, a new carrier frequency is se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quency Hoping 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 sequence dictated by spreading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, hopping between frequencies in synchronization with transmitter, picks up mes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vesdroppers hear only unintelligible bl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s to jam signal on one frequency succeed only at knocking out a few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quency Hoping 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305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HSS Using MF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FSK signal is translated to a new frequency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s by modulating the MFSK signal with the FHSS carrier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data rat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tion of a bi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tion of signal elemen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-frequency-hop spread spect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fast-frequency-hop spread spect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HSS Performance Consid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number of frequencies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in a system that is quite resistant to j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mmer must jam all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fixed power, this reduces the jamming power in any one frequency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rect Sequence Spread Spectrum (DSS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it in original signal is represented by multiple bits in the transmitted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ing code spreads signal across a wider frequency ba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 is in direct proportion to number of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technique combines digital information stream with the spreading code bit stream using exclusive-OR (Figure 7.6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rect Sequence Spread Spectrum (DSS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05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SSS Using BP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BPSK signal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os(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takes values +1, -1] to 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os(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mplitud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arri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) = discrete function [+1, -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receiver, incoming signal multipli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 incoming signal is reco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SSS Using BP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41044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actors Used to Compar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ncoding Sche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in the presence of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igher the signal rate to achieve a given data rate, the greater the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de-Division Multiple Access (CDM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Principles of CD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ate of data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each bit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ps are a user-specific fixed patter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p data rate of new channel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DMA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 and code is a sequence of 1s and -1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‘1’ bit, A sends code as chip patter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1, c2, c3, c4, c5, c6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‘0’ bit, A sends complement of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-c1, -c2, -c3, -c4, -c5, -c6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knows sender’s code and performs electronic decod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1, d2, d3, d4, d5, d6&gt; = received chip patte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, c2, c3, c4, c5, c6&gt; = sender’s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447920" y="4495680"/>
                <a:ext cx="7238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DMA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238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A code = &lt;1, –1, –1, 1, –1, 1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nd a 1 bit = &lt;1, –1, –1, 1, –1, 1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nd a 0 bit = &lt;–1, 1, 1, –1, 1, –1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B code = &lt;1, 1, –1, – 1, 1, 1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nd a 1 bit = &lt;1, 1, –1, –1, 1, 1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 receiving with A’s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’s code) x (received chip patter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A ‘1’ bit: 6 -&gt;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A ‘0’ bit: -6 -&gt;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B ‘1’ bit: 0 -&gt; unwanted signal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DMA for Direct Sequence 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553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ategories of Spreading 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ing Sequence Categor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 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gonal c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FH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 sequences most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SSS systems not employing CD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 sequences most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SSS CDMA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 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gonal c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N 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 generator produces periodic sequence that appears to be 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 Sequen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d by an algorithm using initial s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isn’t statistically random but will pass many test of random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s referred to as pseudorandom numbers or pseudonoise 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ess algorithm and seed are known, the sequence is impractical to predi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mportant PN Proper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lation proper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predic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ar Feedback Shift Register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80880" y="2103480"/>
            <a:ext cx="87631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operties of M-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1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s and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ze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2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window of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lid along output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=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) shifts,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uple appears once, except for the all zeros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tains one run of ones,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run of zeros,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run of ones and one run of zeros,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runs of ones and two runs of zeros,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ones and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of zeros, length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operties of M-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y 4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eriodic autocorrelation of a ±1         m-sequence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286000" y="3276720"/>
                <a:ext cx="5486400" cy="16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          </m:t>
                          </m:r>
                          <m:r>
                            <m:t xml:space="preserve">τ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0,N, 2N,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  <m:mr>
                        <m:e>
                          <m:m>
                            <m:mr>
                              <m:e/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therwise</m:t>
                                </m:r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ic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data to analog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tude-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 difference of carri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-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difference near carri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-shift keying (P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of carrier signal shif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l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cept of determining how much similarity one set of data has with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between –1 and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The second sequence matches the first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There is no relation at all between the two sequ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 The two sequences are mirror im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 correl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arison between two sequences from different sources rather than a shifted copy of a sequence with its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dvantages of Cross Corre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ross correlation between an m-sequence and noise is 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perty is useful to the receiver in filtering out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ross correlation between two different m-sequences is 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perty is useful for CDMA applic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a receiver to discriminate among spread spectrum signals generated by different m-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old 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ld sequences constructed by the XOR of two m-sequences with the same clo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s have well-defined cross correlation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simple circuitry needed to generate large number of unique c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following example (Figure 7.16a) two shift registers generate the two m-sequences and these are then bitwise X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old 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096240" cy="35701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752480" y="5486400"/>
            <a:ext cx="38862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rthogonal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thogonal cod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airwise cross correlations are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- and variable-length codes used in CDMA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DMA application, each mobile user uses one sequence in the set as a spread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zero cross correlation among all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sh c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Length Orthogonal c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Walsh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of Walsh codes of leng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 the n rows of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sh matri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dimension of the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row is orthogonal to every other row and to the logical not of every other r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ight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correlation between different shifts of Walsh sequences is not z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987720" y="2819520"/>
                <a:ext cx="307332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ical Multiple Spreading 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 data rate by an orthogonal code (channelization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mutual orthogonality among all users in the sam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spread result by a PN sequence (scrambling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mutual randomness (low cross correlation) between users in differen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ic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01992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mplitude-Shift Key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binary digit represented by presence of carrier, at constant amplitu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binary digit represented by absence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the carrier signal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(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793960" y="3505320"/>
                <a:ext cx="1701720" cy="11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limLow>
                          <m:e>
                            <m:limUpp>
                              <m:e/>
                              <m:lim/>
                            </m:limUpp>
                          </m:e>
                          <m:lim/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176720" y="3559320"/>
                <a:ext cx="18590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1440" y="4076640"/>
                <a:ext cx="3096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558120" y="3603600"/>
                <a:ext cx="1239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553080" y="4030560"/>
                <a:ext cx="1332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6T21:48:38Z</dcterms:created>
  <dc:creator>Thomas Fronckowiak Jr.</dc:creator>
  <dc:description/>
  <dc:language>en-US</dc:language>
  <cp:lastModifiedBy>Guevara Noubir</cp:lastModifiedBy>
  <dcterms:modified xsi:type="dcterms:W3CDTF">2002-01-24T22:15:43Z</dcterms:modified>
  <cp:revision>63</cp:revision>
  <dc:subject/>
  <dc:title>Wireless Communications and Networks</dc:title>
</cp:coreProperties>
</file>