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70F10B-D97F-4F9D-AB6B-06C0E40D37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nduced on ear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with water and a running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2.734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distance between two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1 = 100m, h2 = 0 =&gt; 41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2 = 10m =&gt; h1 = 46.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 = 290K =&gt; N0 = 4 10^-21W/H = -204dbW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 a + 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fa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leigh: no distinct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ian: LOS + 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wer in dominant path/power in the scattered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b/N0 required to achieve  6bps/H =&gt; (1/6)(2^6-1) = 10.5 = 10.21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 that propagates without moving it’s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don’t need matter to propa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waves: from 30KHz to 3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ic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is it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parabolic reflective antenna with a diameter of 2m operating at 12GHz. What is the effective area and antenna 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pi r^2 = 3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 = 0.56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bda = c/f = 0.0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7A/l^2 =&gt; G = 35.186 = 45.46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B81-8E0A-4C4A-BE85-2FA4943F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B98-7A0D-4837-B4C2-8264698C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411-4397-4E87-A685-89A76609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A8F-E1B1-498A-AB40-20B11A1E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1EB-4E99-476A-A6C5-DC1CADD6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8F1-2766-4636-948F-0CBB7FE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13C-9209-4DFE-A9A9-48A2E68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A3E-B588-4D92-B080-D8442D4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21B-F40D-4D18-92F0-DF854E2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723-93A1-4DBE-AAB4-A1F259C3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FEF-49D8-4E83-90D3-541E845D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992-5786-424D-A714-F835B8F3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34640" y="628164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3525, Winter 2002: lecture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47720" y="637380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F798-0C03-4647-B86B-B67D828D8001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D56E-9684-449E-9072-23EA013106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ireless Communications and Networks, William Stallings, Prentice 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0400" y="32004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tion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of Sight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ding in Mobile Environment and Compen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 (Pathlo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61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09480" y="236232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4572000" y="2286000"/>
            <a:ext cx="4074840" cy="2125800"/>
            <a:chOff x="4572000" y="2286000"/>
            <a:chExt cx="4074840" cy="2125800"/>
          </a:xfrm>
        </p:grpSpPr>
        <p:grpSp>
          <p:nvGrpSpPr>
            <p:cNvPr id="187" name=""/>
            <p:cNvGrpSpPr/>
            <p:nvPr/>
          </p:nvGrpSpPr>
          <p:grpSpPr>
            <a:xfrm>
              <a:off x="4577040" y="2288160"/>
              <a:ext cx="4063320" cy="2121120"/>
              <a:chOff x="4577040" y="2288160"/>
              <a:chExt cx="4063320" cy="21211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77040" y="2288160"/>
                <a:ext cx="2126520" cy="302760"/>
                <a:chOff x="4577040" y="2288160"/>
                <a:chExt cx="2126520" cy="30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77040" y="2288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4577040" y="2288160"/>
                  <a:ext cx="2126160" cy="302760"/>
                  <a:chOff x="4577040" y="2288160"/>
                  <a:chExt cx="2126160" cy="302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655520" y="2288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577040" y="2288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703920" y="2288160"/>
                <a:ext cx="1936440" cy="302760"/>
                <a:chOff x="6703920" y="2288160"/>
                <a:chExt cx="1936440" cy="302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82400" y="2288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03920" y="2288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577040" y="2590920"/>
                <a:ext cx="2126520" cy="302760"/>
                <a:chOff x="4577040" y="2590920"/>
                <a:chExt cx="2126520" cy="302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577040" y="25909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4577040" y="2590920"/>
                  <a:ext cx="2126160" cy="302760"/>
                  <a:chOff x="4577040" y="2590920"/>
                  <a:chExt cx="2126160" cy="3027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55520" y="25909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577040" y="25909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6703920" y="2590920"/>
                <a:ext cx="1936440" cy="302760"/>
                <a:chOff x="6703920" y="2590920"/>
                <a:chExt cx="1936440" cy="30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782400" y="25909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03920" y="25909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77040" y="2894040"/>
                <a:ext cx="2126520" cy="302760"/>
                <a:chOff x="4577040" y="2894040"/>
                <a:chExt cx="2126520" cy="302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77040" y="289404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577040" y="2894040"/>
                  <a:ext cx="2126160" cy="302760"/>
                  <a:chOff x="4577040" y="2894040"/>
                  <a:chExt cx="2126160" cy="3027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655520" y="289404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577040" y="289404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" name=""/>
              <p:cNvGrpSpPr/>
              <p:nvPr/>
            </p:nvGrpSpPr>
            <p:grpSpPr>
              <a:xfrm>
                <a:off x="6703920" y="2894040"/>
                <a:ext cx="1936440" cy="302760"/>
                <a:chOff x="6703920" y="2894040"/>
                <a:chExt cx="1936440" cy="302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782400" y="289404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703920" y="289404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577040" y="3197160"/>
                <a:ext cx="2126520" cy="302760"/>
                <a:chOff x="4577040" y="3197160"/>
                <a:chExt cx="2126520" cy="3027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77040" y="3197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577040" y="3197160"/>
                  <a:ext cx="2126160" cy="302760"/>
                  <a:chOff x="4577040" y="3197160"/>
                  <a:chExt cx="2126160" cy="3027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655520" y="3197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577040" y="3197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6703920" y="3197160"/>
                <a:ext cx="1936440" cy="302760"/>
                <a:chOff x="6703920" y="3197160"/>
                <a:chExt cx="1936440" cy="302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82400" y="3197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3920" y="3197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77040" y="3500280"/>
                <a:ext cx="2126520" cy="303120"/>
                <a:chOff x="4577040" y="3500280"/>
                <a:chExt cx="2126520" cy="303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77040" y="350028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577040" y="3500280"/>
                  <a:ext cx="2126160" cy="303120"/>
                  <a:chOff x="4577040" y="3500280"/>
                  <a:chExt cx="2126160" cy="3031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655520" y="350028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577040" y="350028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6703920" y="3500280"/>
                <a:ext cx="1936440" cy="303120"/>
                <a:chOff x="6703920" y="3500280"/>
                <a:chExt cx="1936440" cy="303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782400" y="350028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03920" y="350028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577040" y="3803400"/>
                <a:ext cx="2126520" cy="302760"/>
                <a:chOff x="4577040" y="3803400"/>
                <a:chExt cx="2126520" cy="302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577040" y="38034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4577040" y="3803400"/>
                  <a:ext cx="2126160" cy="302760"/>
                  <a:chOff x="4577040" y="3803400"/>
                  <a:chExt cx="2126160" cy="302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4655520" y="38034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577040" y="38034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" name=""/>
              <p:cNvGrpSpPr/>
              <p:nvPr/>
            </p:nvGrpSpPr>
            <p:grpSpPr>
              <a:xfrm>
                <a:off x="6703920" y="3803400"/>
                <a:ext cx="1936440" cy="302760"/>
                <a:chOff x="6703920" y="3803400"/>
                <a:chExt cx="1936440" cy="3027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782400" y="38034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03920" y="38034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77040" y="4106520"/>
                <a:ext cx="2126520" cy="302760"/>
                <a:chOff x="4577040" y="4106520"/>
                <a:chExt cx="2126520" cy="3027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77040" y="41065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4577040" y="4106520"/>
                  <a:ext cx="2126160" cy="302760"/>
                  <a:chOff x="4577040" y="4106520"/>
                  <a:chExt cx="2126160" cy="302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4655520" y="41065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577040" y="41065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6703920" y="4106520"/>
                <a:ext cx="1936440" cy="302760"/>
                <a:chOff x="6703920" y="4106520"/>
                <a:chExt cx="1936440" cy="3027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82400" y="41065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03920" y="41065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4572000" y="228600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5334120"/>
                <a:ext cx="4087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876920" y="5257800"/>
                <a:ext cx="3024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of Out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" y="2230560"/>
                <a:ext cx="8432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320040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3809880"/>
                <a:ext cx="6298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429000" y="4648320"/>
                <a:ext cx="3127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h Loss Mode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-COST Extension of Okumura-Hata to PCS (f&gt;1500MHz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dB (medium and suburban), 3dB (metropolit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fish and Berton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ffect of diffraction on rooft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2920" y="251460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for In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80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(same floor with soft or hard parti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enuation factor model (average path lo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52320"/>
            <a:ext cx="8421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ding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52320"/>
            <a:ext cx="8269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151000" y="4910040"/>
                <a:ext cx="249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19720" y="5334120"/>
                <a:ext cx="15508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52320"/>
            <a:ext cx="849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`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s of Radio-waves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526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52680"/>
            <a:ext cx="79642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 reference antenna (isotropic radiato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 in space radiating with equal power in all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with equal power are located on a sphere with the antenna in th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tennas exhibit directive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s: omnidirectional (dipole) or directional (pencil be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antenn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ole (or Hertzian dipole) of leng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4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al antennas may be more usefu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over a highway, valley, satellite b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bolic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wrDirection/AllRadiatedP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8650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ive are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-wave dipole: 1.6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ower gain vs. istropic 1.6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bolic: 0.56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wer gain vs. istropic 7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733920" y="198108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17T15:42:39Z</dcterms:modified>
  <cp:revision>80</cp:revision>
  <dc:subject/>
  <dc:title>Wireless Communications and Networks</dc:title>
</cp:coreProperties>
</file>