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5432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5275440" y="-360"/>
            <a:ext cx="405432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883960" y="506160"/>
            <a:ext cx="3459240" cy="25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1217520" y="3270240"/>
            <a:ext cx="679464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0" y="6538680"/>
            <a:ext cx="4054320" cy="3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5275440" y="6538680"/>
            <a:ext cx="4054320" cy="3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9E4C3-CFBA-4308-9FFD-C59CCED15C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5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for Puc = 10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f errors are not happening in bursts: if always 2 bits i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ay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7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ed-Solomon Codes are a special case of BCH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3276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5112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3276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5112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29E-5E85-4724-87A8-859EECAA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197-8F53-4FA2-B669-7A4E8B73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F94-6D42-4122-81F8-26C8703F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F6A-AB55-40D3-822D-3C0D3037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18E-C169-4402-8EF3-B0275879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A27-3B96-4F8F-BCAB-DFC71362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BAA-15D1-4A30-AD83-680B037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2FC-022D-4144-AACB-EB8D7BA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605-17D2-40D5-9DD2-18CECAAF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5BA-062A-4233-ACB4-E8A859FD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564-B939-4362-AC13-92E89162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3276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5112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04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3276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5112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C3E-3620-4601-A47D-B3E3846C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289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5760" y="6450120"/>
            <a:ext cx="48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3525: Wireless Networks, Coding and Err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76960" y="635652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EB68-F027-4539-8DEE-496D4C012D2A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7FC5-CE55-41E1-842C-C7D3AA1820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hyperlink" Target="mailto:noubir@ccs.neu.edu" TargetMode="External"/><Relationship Id="rId4" Type="http://schemas.openxmlformats.org/officeDocument/2006/relationships/hyperlink" Target="mailto:noubir@ccs.neu.edu" TargetMode="External"/><Relationship Id="rId5" Type="http://schemas.openxmlformats.org/officeDocument/2006/relationships/hyperlink" Target="mailto:noubir@ccs.neu.edu" TargetMode="External"/><Relationship Id="rId6" Type="http://schemas.openxmlformats.org/officeDocument/2006/relationships/hyperlink" Target="mailto:noubir@ccs.neu.edu" TargetMode="External"/><Relationship Id="rId7" Type="http://schemas.openxmlformats.org/officeDocument/2006/relationships/hyperlink" Target="mailto:noubir@ccs.neu.edu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ding and Err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520" y="36576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noubir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cc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neu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ed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pter 8, “Wireless Communications and Networks”, William Stallings, Prentice H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have no remainder, start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s quotient  and remai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mainder as 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2057400"/>
                <a:ext cx="28195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124080" y="3962520"/>
                <a:ext cx="3276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76720" y="5638680"/>
                <a:ext cx="2781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no remain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in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mainder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act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2133720"/>
                <a:ext cx="44956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90920" y="3962520"/>
                <a:ext cx="5040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 = 10100011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k = 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= 1101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-k=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= 011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values expressed as polynom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binary coeffic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048120" y="2971800"/>
                <a:ext cx="4114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ly used versions o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–1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–1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– CCIT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– 3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Digital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ng circuit consisting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OR g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of a gate corresponds to the presence of a term in the divisor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ift regi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of 1-bit storag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, equal to the length of the F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gital Logic CR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2100240"/>
            <a:ext cx="85345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ireless Transmission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detection requires re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on inadequate for wireles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rate on wireless link can be high, results in a large number of re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propagation delay compared to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Error Correction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error correction (FEC) encoder maps each k-bit block into an n-bit block code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word is transmitted; analog for wireles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signal is demodul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passed through an FEC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1285920"/>
            <a:ext cx="58676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ping with Data Transmission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detection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s the presence of an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repeat request (ARQ)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of data with error is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retransmits that block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rrection codes, or forward correction codes (FE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detect and correc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EC Decoder 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rrors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word produced by decoder matches original code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and corrects bit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but cannot correct bit errors; reports uncorrectable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no bit errors, though errors are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Code Princ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ming distance – for 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binary sequences, the number of different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11011;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10001; d(v1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– ratio of redundant bits to data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rate – ratio of data bits to total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amming distanc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Block code is the minimum distance between two code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Det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Corr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CodeSpheres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39084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590920" y="4800600"/>
                <a:ext cx="66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ing gain is the amount of additional SNR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would be required to provide the same BER performance for an uncod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code is capable of correcting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s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ER of the channel without coding, then the probability that a bit is in error using coding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5410080"/>
                <a:ext cx="35161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F6" descr=""/>
          <p:cNvPicPr/>
          <p:nvPr/>
        </p:nvPicPr>
        <p:blipFill>
          <a:blip r:embed="rId1"/>
          <a:stretch/>
        </p:blipFill>
        <p:spPr>
          <a:xfrm>
            <a:off x="1981080" y="1712880"/>
            <a:ext cx="49784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mming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correct single bit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of (n, k) block error-correcting codes with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ata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heck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error-correcting (SEC)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double-error-detecting (SEC-DED)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Binary Block Code (7, 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two different code words are different on at least three different coordinates. This code has Hamming distance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00200" y="2182680"/>
          <a:ext cx="662616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82680"/>
                    <a:ext cx="66261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28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last 4 bits of the code word are the same as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a systematic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ther 3 bits are redundancy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19000" y="582444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itial BER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mming Code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bits 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heck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ing: compares receiv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its with calculat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its using X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drome 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drome range is between 0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it of syndrome indicates a match (0) or conflict (1) in that bit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ear Blo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2680"/>
            <a:ext cx="8650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lock code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de word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inea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f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de words form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subspace of the vector space of al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uples over the field GF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l Meaning: linear combinations of codewords are also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near code is completely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pendent codewords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generator matri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coder needs only to store the matrix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Linear code (7, 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encod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 1 0 1)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334120" y="4191120"/>
                <a:ext cx="296532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ity-Check Matrix (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or matri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early independent rows), there exists a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tri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with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inearly independent rows)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rity check matri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: any vector in the row spac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orthogonal to any row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y vector that is orthogonal to all the row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n the row spac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binations of the row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 a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-dimensional subspace. It is the null spac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, 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de generated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It is called the dual spac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not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w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71800" y="3505320"/>
                <a:ext cx="2793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G</m:t>
                    </m:r>
                    <m:r>
                      <m:t xml:space="preserve">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b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bability of single bit error (B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bability that a frame arrives with no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While using error detection, the probability that a frame arrives with one or more undetected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While using error detection, the probability that a frame arrives with one or more detected bit errors but no undetected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atic 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40472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near block code is called systematic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code words can be divided into two parts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ssage par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), an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dundancy checking p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atic code generator matrix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-k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20840" y="27180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ndant Check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21040" y="27162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          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08920" y="327600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4120" y="3276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8120" y="4294080"/>
                <a:ext cx="483876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,0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/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n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t xml:space="preserve">P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ity matrix</m:t>
                            </m:r>
                          </m:lim>
                        </m:limLow>
                        <m:r>
                          <m:t xml:space="preserve">|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x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dentity matrix</m:t>
                            </m:r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amming Codes (2</a:t>
            </a:r>
            <a:r>
              <a:rPr b="0" i="1" lang="en-US" sz="4000" spc="-1" strike="noStrike" baseline="30000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1, 2</a:t>
            </a:r>
            <a:r>
              <a:rPr b="0" i="1" lang="en-US" sz="4000" spc="-1" strike="noStrike" baseline="30000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m-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of Hamming codes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length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information bi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parity check bi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distance: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-correcting capability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-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ity check matrix of a Hamming code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ident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columns which are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uples of weight 2 or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583000" y="5086440"/>
                <a:ext cx="33526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inimum Distance of Block Co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imum distanc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block code is the minimum distance between any two code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+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(be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ector sub-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Minimum Distance of Hamming Cod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clic Linear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linear c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yclic 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every cyclic shift of a code vector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a code v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words can be represented as polynomials of degre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For a cyclic code all codewords are multiple of some polynomi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modul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vid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called the generator polynom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mming codes, Golay Codes, BCH codes, RS c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CH codes were independently discovered by Hocquenghem (1959) and by Bose and Chaudhuri (196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ed-Solomon codes (non-binary BCH codes) were independently introduced by Reed-Solom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yclic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encoded and decoded using linear feedback shift registers (LFS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yclic codes, a valid codewor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hifted right one bit, is also a valid codewor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fixed-lengt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produces fixed-length check cod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CRC error-detecting code accepts arbitrary length input for fixed-length check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clic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54476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yclic Hamming code of length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 is generated by a primitive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of degre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mming code (31, 2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1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ay Cod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clic code (23, 1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distance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or polynomials: eith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752480" y="5181480"/>
                <a:ext cx="3772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CH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ositive pair of 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CH code has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heck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ta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combination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in choice of paramet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, cod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se Chaudhuri and Hocquenghem (BCH)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960" y="1504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ny positive intege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2) an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&lt;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 there exists a BCH co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length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ity bits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um distan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2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tor polynomial is th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owest-degree polynomial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ver GF(2) such that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its roots.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the primitive root of unity in the extension field GF(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h a BCH code is capable of correcting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tor polynomial i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LCM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(becau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i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conjugates), th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LCM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any minimal polynomial has degre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less, then degree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- 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t mos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, 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rimitive polynomial and we have a Hamming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ed-Solomon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 of nonbinary BCH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ocessed in chunk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, called symb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S code has paramet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per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symbols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check cod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Interlea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written to and read from memory in different or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s and corresponding check bits are interspersed with bits from oth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ceiver, data are deinterleaved to recover original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rst error that may occur is spread out over a number of blocks, making error correction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b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no error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Number of bits per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2619360"/>
                <a:ext cx="32004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Interlea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39152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volutional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redundant bits continuous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checking and correcting carried ou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proces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at a ti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produc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for eve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onstraint fa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lly very sm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output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block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block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volutional Enco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72388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llis diagram – expanded encoder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code – error correction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received sequence with all possible transmitted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chooses path through trellis whose coded sequence differs from received sequence in the fewest number of pl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valid path is selected as the correct path, the decoder can recover the input data bits from the output code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152280"/>
            <a:ext cx="8661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presentations of Convolutional Co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llis represen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966960" y="28828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6528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372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62040" y="342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6372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2040" y="3967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048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88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8" idx="6"/>
            <a:endCxn id="219" idx="2"/>
          </p:cNvCxnSpPr>
          <p:nvPr/>
        </p:nvCxnSpPr>
        <p:spPr>
          <a:xfrm flipV="1">
            <a:off x="1055520" y="292500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18" idx="4"/>
            <a:endCxn id="221" idx="1"/>
          </p:cNvCxnSpPr>
          <p:nvPr/>
        </p:nvCxnSpPr>
        <p:spPr>
          <a:xfrm>
            <a:off x="1010880" y="297180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8" name=""/>
          <p:cNvSpPr/>
          <p:nvPr/>
        </p:nvSpPr>
        <p:spPr>
          <a:xfrm>
            <a:off x="220824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065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500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0368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500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0368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17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0044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8" idx="6"/>
            <a:endCxn id="229" idx="2"/>
          </p:cNvCxnSpPr>
          <p:nvPr/>
        </p:nvCxnSpPr>
        <p:spPr>
          <a:xfrm flipV="1">
            <a:off x="2296800" y="29329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8" idx="4"/>
            <a:endCxn id="231" idx="1"/>
          </p:cNvCxnSpPr>
          <p:nvPr/>
        </p:nvCxnSpPr>
        <p:spPr>
          <a:xfrm>
            <a:off x="2252520" y="297972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8" name=""/>
          <p:cNvCxnSpPr>
            <a:stCxn id="219" idx="6"/>
            <a:endCxn id="228" idx="2"/>
          </p:cNvCxnSpPr>
          <p:nvPr/>
        </p:nvCxnSpPr>
        <p:spPr>
          <a:xfrm>
            <a:off x="165384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9" idx="5"/>
            <a:endCxn id="230" idx="1"/>
          </p:cNvCxnSpPr>
          <p:nvPr/>
        </p:nvCxnSpPr>
        <p:spPr>
          <a:xfrm>
            <a:off x="1641600" y="2957400"/>
            <a:ext cx="57636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0" name=""/>
          <p:cNvCxnSpPr>
            <a:stCxn id="221" idx="5"/>
            <a:endCxn id="232" idx="1"/>
          </p:cNvCxnSpPr>
          <p:nvPr/>
        </p:nvCxnSpPr>
        <p:spPr>
          <a:xfrm>
            <a:off x="1638000" y="3498480"/>
            <a:ext cx="57996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21" idx="5"/>
            <a:endCxn id="234" idx="1"/>
          </p:cNvCxnSpPr>
          <p:nvPr/>
        </p:nvCxnSpPr>
        <p:spPr>
          <a:xfrm>
            <a:off x="163800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2" name=""/>
          <p:cNvCxnSpPr>
            <a:stCxn id="230" idx="5"/>
            <a:endCxn id="233" idx="2"/>
          </p:cNvCxnSpPr>
          <p:nvPr/>
        </p:nvCxnSpPr>
        <p:spPr>
          <a:xfrm>
            <a:off x="228096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0" idx="5"/>
            <a:endCxn id="235" idx="1"/>
          </p:cNvCxnSpPr>
          <p:nvPr/>
        </p:nvCxnSpPr>
        <p:spPr>
          <a:xfrm>
            <a:off x="228096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4" name=""/>
          <p:cNvCxnSpPr>
            <a:stCxn id="232" idx="7"/>
            <a:endCxn id="229" idx="3"/>
          </p:cNvCxnSpPr>
          <p:nvPr/>
        </p:nvCxnSpPr>
        <p:spPr>
          <a:xfrm flipV="1">
            <a:off x="228096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4" idx="6"/>
            <a:endCxn id="233" idx="3"/>
          </p:cNvCxnSpPr>
          <p:nvPr/>
        </p:nvCxnSpPr>
        <p:spPr>
          <a:xfrm flipV="1">
            <a:off x="2290680" y="40510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4" idx="6"/>
            <a:endCxn id="235" idx="2"/>
          </p:cNvCxnSpPr>
          <p:nvPr/>
        </p:nvCxnSpPr>
        <p:spPr>
          <a:xfrm flipV="1">
            <a:off x="2290680" y="45601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7" name=""/>
          <p:cNvCxnSpPr>
            <a:stCxn id="232" idx="6"/>
            <a:endCxn id="231" idx="2"/>
          </p:cNvCxnSpPr>
          <p:nvPr/>
        </p:nvCxnSpPr>
        <p:spPr>
          <a:xfrm flipV="1">
            <a:off x="229392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8" name=""/>
          <p:cNvSpPr/>
          <p:nvPr/>
        </p:nvSpPr>
        <p:spPr>
          <a:xfrm>
            <a:off x="281160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99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083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066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083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066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51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034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8" idx="6"/>
            <a:endCxn id="249" idx="2"/>
          </p:cNvCxnSpPr>
          <p:nvPr/>
        </p:nvCxnSpPr>
        <p:spPr>
          <a:xfrm flipV="1">
            <a:off x="29001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48" idx="4"/>
            <a:endCxn id="251" idx="1"/>
          </p:cNvCxnSpPr>
          <p:nvPr/>
        </p:nvCxnSpPr>
        <p:spPr>
          <a:xfrm>
            <a:off x="28558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8" name=""/>
          <p:cNvCxnSpPr>
            <a:stCxn id="250" idx="5"/>
            <a:endCxn id="253" idx="2"/>
          </p:cNvCxnSpPr>
          <p:nvPr/>
        </p:nvCxnSpPr>
        <p:spPr>
          <a:xfrm>
            <a:off x="2883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0" idx="5"/>
            <a:endCxn id="255" idx="1"/>
          </p:cNvCxnSpPr>
          <p:nvPr/>
        </p:nvCxnSpPr>
        <p:spPr>
          <a:xfrm>
            <a:off x="2884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0" name=""/>
          <p:cNvCxnSpPr>
            <a:stCxn id="252" idx="7"/>
            <a:endCxn id="249" idx="3"/>
          </p:cNvCxnSpPr>
          <p:nvPr/>
        </p:nvCxnSpPr>
        <p:spPr>
          <a:xfrm flipV="1">
            <a:off x="2883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4" idx="6"/>
            <a:endCxn id="253" idx="3"/>
          </p:cNvCxnSpPr>
          <p:nvPr/>
        </p:nvCxnSpPr>
        <p:spPr>
          <a:xfrm flipV="1">
            <a:off x="28940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6"/>
            <a:endCxn id="255" idx="2"/>
          </p:cNvCxnSpPr>
          <p:nvPr/>
        </p:nvCxnSpPr>
        <p:spPr>
          <a:xfrm flipV="1">
            <a:off x="2893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3" name=""/>
          <p:cNvCxnSpPr>
            <a:stCxn id="252" idx="6"/>
            <a:endCxn id="251" idx="2"/>
          </p:cNvCxnSpPr>
          <p:nvPr/>
        </p:nvCxnSpPr>
        <p:spPr>
          <a:xfrm flipV="1">
            <a:off x="2896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64" name=""/>
          <p:cNvSpPr/>
          <p:nvPr/>
        </p:nvSpPr>
        <p:spPr>
          <a:xfrm>
            <a:off x="341640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47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131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11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31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11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099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08600" y="45036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64" idx="6"/>
            <a:endCxn id="265" idx="2"/>
          </p:cNvCxnSpPr>
          <p:nvPr/>
        </p:nvCxnSpPr>
        <p:spPr>
          <a:xfrm flipV="1">
            <a:off x="35049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64" idx="4"/>
            <a:endCxn id="267" idx="1"/>
          </p:cNvCxnSpPr>
          <p:nvPr/>
        </p:nvCxnSpPr>
        <p:spPr>
          <a:xfrm>
            <a:off x="34606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4" name=""/>
          <p:cNvCxnSpPr>
            <a:stCxn id="266" idx="5"/>
            <a:endCxn id="269" idx="2"/>
          </p:cNvCxnSpPr>
          <p:nvPr/>
        </p:nvCxnSpPr>
        <p:spPr>
          <a:xfrm>
            <a:off x="3489480" y="349560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66" idx="5"/>
            <a:endCxn id="271" idx="1"/>
          </p:cNvCxnSpPr>
          <p:nvPr/>
        </p:nvCxnSpPr>
        <p:spPr>
          <a:xfrm>
            <a:off x="348912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6" name=""/>
          <p:cNvCxnSpPr>
            <a:stCxn id="268" idx="7"/>
            <a:endCxn id="265" idx="3"/>
          </p:cNvCxnSpPr>
          <p:nvPr/>
        </p:nvCxnSpPr>
        <p:spPr>
          <a:xfrm flipV="1">
            <a:off x="3489480" y="295236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0" idx="6"/>
            <a:endCxn id="269" idx="3"/>
          </p:cNvCxnSpPr>
          <p:nvPr/>
        </p:nvCxnSpPr>
        <p:spPr>
          <a:xfrm flipV="1">
            <a:off x="34988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0" idx="6"/>
            <a:endCxn id="271" idx="2"/>
          </p:cNvCxnSpPr>
          <p:nvPr/>
        </p:nvCxnSpPr>
        <p:spPr>
          <a:xfrm flipV="1">
            <a:off x="349884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9" name=""/>
          <p:cNvCxnSpPr>
            <a:stCxn id="268" idx="6"/>
            <a:endCxn id="267" idx="2"/>
          </p:cNvCxnSpPr>
          <p:nvPr/>
        </p:nvCxnSpPr>
        <p:spPr>
          <a:xfrm flipV="1">
            <a:off x="35017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4008600" y="2878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069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053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036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036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021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004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0" idx="6"/>
            <a:endCxn id="281" idx="2"/>
          </p:cNvCxnSpPr>
          <p:nvPr/>
        </p:nvCxnSpPr>
        <p:spPr>
          <a:xfrm flipV="1">
            <a:off x="40971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0" idx="4"/>
            <a:endCxn id="283" idx="1"/>
          </p:cNvCxnSpPr>
          <p:nvPr/>
        </p:nvCxnSpPr>
        <p:spPr>
          <a:xfrm>
            <a:off x="40525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0" name=""/>
          <p:cNvCxnSpPr>
            <a:stCxn id="282" idx="5"/>
            <a:endCxn id="285" idx="2"/>
          </p:cNvCxnSpPr>
          <p:nvPr/>
        </p:nvCxnSpPr>
        <p:spPr>
          <a:xfrm>
            <a:off x="4080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82" idx="5"/>
            <a:endCxn id="287" idx="1"/>
          </p:cNvCxnSpPr>
          <p:nvPr/>
        </p:nvCxnSpPr>
        <p:spPr>
          <a:xfrm>
            <a:off x="4081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2" name=""/>
          <p:cNvCxnSpPr>
            <a:stCxn id="284" idx="7"/>
            <a:endCxn id="281" idx="3"/>
          </p:cNvCxnSpPr>
          <p:nvPr/>
        </p:nvCxnSpPr>
        <p:spPr>
          <a:xfrm flipV="1">
            <a:off x="4080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6" idx="6"/>
            <a:endCxn id="285" idx="3"/>
          </p:cNvCxnSpPr>
          <p:nvPr/>
        </p:nvCxnSpPr>
        <p:spPr>
          <a:xfrm flipV="1">
            <a:off x="4090680" y="403812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286" idx="6"/>
            <a:endCxn id="287" idx="2"/>
          </p:cNvCxnSpPr>
          <p:nvPr/>
        </p:nvCxnSpPr>
        <p:spPr>
          <a:xfrm flipV="1">
            <a:off x="4090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5" name=""/>
          <p:cNvCxnSpPr>
            <a:stCxn id="284" idx="6"/>
            <a:endCxn id="283" idx="2"/>
          </p:cNvCxnSpPr>
          <p:nvPr/>
        </p:nvCxnSpPr>
        <p:spPr>
          <a:xfrm flipV="1">
            <a:off x="4093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6" name=""/>
          <p:cNvSpPr/>
          <p:nvPr/>
        </p:nvSpPr>
        <p:spPr>
          <a:xfrm>
            <a:off x="461484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13520" y="287496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116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1028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116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1028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083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0704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96" idx="6"/>
            <a:endCxn id="297" idx="2"/>
          </p:cNvCxnSpPr>
          <p:nvPr/>
        </p:nvCxnSpPr>
        <p:spPr>
          <a:xfrm flipV="1">
            <a:off x="470376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6" idx="4"/>
            <a:endCxn id="299" idx="1"/>
          </p:cNvCxnSpPr>
          <p:nvPr/>
        </p:nvCxnSpPr>
        <p:spPr>
          <a:xfrm>
            <a:off x="465912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6" name=""/>
          <p:cNvCxnSpPr>
            <a:stCxn id="298" idx="5"/>
            <a:endCxn id="301" idx="2"/>
          </p:cNvCxnSpPr>
          <p:nvPr/>
        </p:nvCxnSpPr>
        <p:spPr>
          <a:xfrm>
            <a:off x="468756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8" idx="5"/>
            <a:endCxn id="303" idx="1"/>
          </p:cNvCxnSpPr>
          <p:nvPr/>
        </p:nvCxnSpPr>
        <p:spPr>
          <a:xfrm>
            <a:off x="4687560" y="349380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8" name=""/>
          <p:cNvCxnSpPr>
            <a:stCxn id="300" idx="7"/>
            <a:endCxn id="297" idx="3"/>
          </p:cNvCxnSpPr>
          <p:nvPr/>
        </p:nvCxnSpPr>
        <p:spPr>
          <a:xfrm flipV="1">
            <a:off x="468756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6"/>
            <a:endCxn id="301" idx="3"/>
          </p:cNvCxnSpPr>
          <p:nvPr/>
        </p:nvCxnSpPr>
        <p:spPr>
          <a:xfrm flipV="1">
            <a:off x="4697280" y="40366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2" idx="6"/>
            <a:endCxn id="303" idx="2"/>
          </p:cNvCxnSpPr>
          <p:nvPr/>
        </p:nvCxnSpPr>
        <p:spPr>
          <a:xfrm flipV="1">
            <a:off x="4697280" y="45457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1" name=""/>
          <p:cNvCxnSpPr>
            <a:stCxn id="300" idx="6"/>
            <a:endCxn id="299" idx="2"/>
          </p:cNvCxnSpPr>
          <p:nvPr/>
        </p:nvCxnSpPr>
        <p:spPr>
          <a:xfrm flipV="1">
            <a:off x="4700520" y="34603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2" name=""/>
          <p:cNvSpPr/>
          <p:nvPr/>
        </p:nvSpPr>
        <p:spPr>
          <a:xfrm>
            <a:off x="111240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2032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47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726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694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917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1732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06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742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624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552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340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5548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665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871360" y="2687760"/>
            <a:ext cx="592560" cy="2100960"/>
            <a:chOff x="2871360" y="2687760"/>
            <a:chExt cx="592560" cy="2100960"/>
          </a:xfrm>
        </p:grpSpPr>
        <p:sp>
          <p:nvSpPr>
            <p:cNvPr id="327" name=""/>
            <p:cNvSpPr/>
            <p:nvPr/>
          </p:nvSpPr>
          <p:spPr>
            <a:xfrm>
              <a:off x="29217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854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0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06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600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678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599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7136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479400" y="2684520"/>
            <a:ext cx="592560" cy="2100960"/>
            <a:chOff x="3479400" y="2684520"/>
            <a:chExt cx="592560" cy="2100960"/>
          </a:xfrm>
        </p:grpSpPr>
        <p:sp>
          <p:nvSpPr>
            <p:cNvPr id="336" name=""/>
            <p:cNvSpPr/>
            <p:nvPr/>
          </p:nvSpPr>
          <p:spPr>
            <a:xfrm>
              <a:off x="35298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934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71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87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680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758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679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7940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076280" y="2692440"/>
            <a:ext cx="592560" cy="2100960"/>
            <a:chOff x="4076280" y="2692440"/>
            <a:chExt cx="592560" cy="2100960"/>
          </a:xfrm>
        </p:grpSpPr>
        <p:sp>
          <p:nvSpPr>
            <p:cNvPr id="345" name=""/>
            <p:cNvSpPr/>
            <p:nvPr/>
          </p:nvSpPr>
          <p:spPr>
            <a:xfrm>
              <a:off x="41266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903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840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56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49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27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648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7628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684320" y="2689200"/>
            <a:ext cx="592560" cy="2100960"/>
            <a:chOff x="4684320" y="2689200"/>
            <a:chExt cx="592560" cy="2100960"/>
          </a:xfrm>
        </p:grpSpPr>
        <p:sp>
          <p:nvSpPr>
            <p:cNvPr id="354" name=""/>
            <p:cNvSpPr/>
            <p:nvPr/>
          </p:nvSpPr>
          <p:spPr>
            <a:xfrm>
              <a:off x="47347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983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20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236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729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808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728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8432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522612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2288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2288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1964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3404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323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3080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29480" y="341316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3080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29480" y="39574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275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2624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6" idx="6"/>
            <a:endCxn id="367" idx="2"/>
          </p:cNvCxnSpPr>
          <p:nvPr/>
        </p:nvCxnSpPr>
        <p:spPr>
          <a:xfrm flipV="1">
            <a:off x="53226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6" idx="4"/>
            <a:endCxn id="369" idx="1"/>
          </p:cNvCxnSpPr>
          <p:nvPr/>
        </p:nvCxnSpPr>
        <p:spPr>
          <a:xfrm>
            <a:off x="52783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6" name=""/>
          <p:cNvCxnSpPr>
            <a:stCxn id="368" idx="5"/>
            <a:endCxn id="371" idx="2"/>
          </p:cNvCxnSpPr>
          <p:nvPr/>
        </p:nvCxnSpPr>
        <p:spPr>
          <a:xfrm>
            <a:off x="53067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5"/>
            <a:endCxn id="373" idx="1"/>
          </p:cNvCxnSpPr>
          <p:nvPr/>
        </p:nvCxnSpPr>
        <p:spPr>
          <a:xfrm>
            <a:off x="53067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8" name=""/>
          <p:cNvCxnSpPr>
            <a:stCxn id="370" idx="7"/>
            <a:endCxn id="367" idx="3"/>
          </p:cNvCxnSpPr>
          <p:nvPr/>
        </p:nvCxnSpPr>
        <p:spPr>
          <a:xfrm flipV="1">
            <a:off x="53067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6"/>
            <a:endCxn id="371" idx="3"/>
          </p:cNvCxnSpPr>
          <p:nvPr/>
        </p:nvCxnSpPr>
        <p:spPr>
          <a:xfrm flipV="1">
            <a:off x="53164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2" idx="6"/>
            <a:endCxn id="373" idx="2"/>
          </p:cNvCxnSpPr>
          <p:nvPr/>
        </p:nvCxnSpPr>
        <p:spPr>
          <a:xfrm flipV="1">
            <a:off x="53164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81" name=""/>
          <p:cNvCxnSpPr>
            <a:stCxn id="370" idx="6"/>
            <a:endCxn id="369" idx="2"/>
          </p:cNvCxnSpPr>
          <p:nvPr/>
        </p:nvCxnSpPr>
        <p:spPr>
          <a:xfrm flipV="1">
            <a:off x="53197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82" name=""/>
          <p:cNvGrpSpPr/>
          <p:nvPr/>
        </p:nvGrpSpPr>
        <p:grpSpPr>
          <a:xfrm>
            <a:off x="5303160" y="2685960"/>
            <a:ext cx="592920" cy="2100960"/>
            <a:chOff x="5303160" y="2685960"/>
            <a:chExt cx="592920" cy="2100960"/>
          </a:xfrm>
        </p:grpSpPr>
        <p:sp>
          <p:nvSpPr>
            <p:cNvPr id="383" name=""/>
            <p:cNvSpPr/>
            <p:nvPr/>
          </p:nvSpPr>
          <p:spPr>
            <a:xfrm>
              <a:off x="53539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175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112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428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921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000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920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031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410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728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0728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0404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endCxn id="391" idx="2"/>
          </p:cNvCxnSpPr>
          <p:nvPr/>
        </p:nvCxnSpPr>
        <p:spPr>
          <a:xfrm flipV="1">
            <a:off x="59004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endCxn id="392" idx="1"/>
          </p:cNvCxnSpPr>
          <p:nvPr/>
        </p:nvCxnSpPr>
        <p:spPr>
          <a:xfrm>
            <a:off x="58561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7" name=""/>
          <p:cNvCxnSpPr>
            <a:endCxn id="393" idx="2"/>
          </p:cNvCxnSpPr>
          <p:nvPr/>
        </p:nvCxnSpPr>
        <p:spPr>
          <a:xfrm>
            <a:off x="58845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endCxn id="394" idx="1"/>
          </p:cNvCxnSpPr>
          <p:nvPr/>
        </p:nvCxnSpPr>
        <p:spPr>
          <a:xfrm>
            <a:off x="58845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9" name=""/>
          <p:cNvCxnSpPr>
            <a:endCxn id="391" idx="3"/>
          </p:cNvCxnSpPr>
          <p:nvPr/>
        </p:nvCxnSpPr>
        <p:spPr>
          <a:xfrm flipV="1">
            <a:off x="58845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endCxn id="393" idx="3"/>
          </p:cNvCxnSpPr>
          <p:nvPr/>
        </p:nvCxnSpPr>
        <p:spPr>
          <a:xfrm flipV="1">
            <a:off x="58942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" name=""/>
          <p:cNvCxnSpPr>
            <a:endCxn id="394" idx="2"/>
          </p:cNvCxnSpPr>
          <p:nvPr/>
        </p:nvCxnSpPr>
        <p:spPr>
          <a:xfrm flipV="1">
            <a:off x="58942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02" name=""/>
          <p:cNvCxnSpPr>
            <a:endCxn id="392" idx="2"/>
          </p:cNvCxnSpPr>
          <p:nvPr/>
        </p:nvCxnSpPr>
        <p:spPr>
          <a:xfrm flipV="1">
            <a:off x="58975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03" name=""/>
          <p:cNvGrpSpPr/>
          <p:nvPr/>
        </p:nvGrpSpPr>
        <p:grpSpPr>
          <a:xfrm>
            <a:off x="5881320" y="2685960"/>
            <a:ext cx="592560" cy="2100960"/>
            <a:chOff x="5881320" y="2685960"/>
            <a:chExt cx="592560" cy="2100960"/>
          </a:xfrm>
        </p:grpSpPr>
        <p:sp>
          <p:nvSpPr>
            <p:cNvPr id="404" name=""/>
            <p:cNvSpPr/>
            <p:nvPr/>
          </p:nvSpPr>
          <p:spPr>
            <a:xfrm>
              <a:off x="59317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953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90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06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99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78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698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8132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42312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1988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1664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3104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293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2780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261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2780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261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2456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324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6"/>
            <a:endCxn id="417" idx="2"/>
          </p:cNvCxnSpPr>
          <p:nvPr/>
        </p:nvCxnSpPr>
        <p:spPr>
          <a:xfrm flipV="1">
            <a:off x="6519600" y="291276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16" idx="4"/>
            <a:endCxn id="419" idx="1"/>
          </p:cNvCxnSpPr>
          <p:nvPr/>
        </p:nvCxnSpPr>
        <p:spPr>
          <a:xfrm>
            <a:off x="6475320" y="295884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6" name=""/>
          <p:cNvCxnSpPr>
            <a:stCxn id="418" idx="5"/>
            <a:endCxn id="421" idx="2"/>
          </p:cNvCxnSpPr>
          <p:nvPr/>
        </p:nvCxnSpPr>
        <p:spPr>
          <a:xfrm>
            <a:off x="6504120" y="348768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18" idx="5"/>
            <a:endCxn id="423" idx="1"/>
          </p:cNvCxnSpPr>
          <p:nvPr/>
        </p:nvCxnSpPr>
        <p:spPr>
          <a:xfrm>
            <a:off x="650376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8" name=""/>
          <p:cNvCxnSpPr>
            <a:stCxn id="420" idx="7"/>
            <a:endCxn id="417" idx="3"/>
          </p:cNvCxnSpPr>
          <p:nvPr/>
        </p:nvCxnSpPr>
        <p:spPr>
          <a:xfrm flipV="1">
            <a:off x="650376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2" idx="6"/>
            <a:endCxn id="421" idx="3"/>
          </p:cNvCxnSpPr>
          <p:nvPr/>
        </p:nvCxnSpPr>
        <p:spPr>
          <a:xfrm flipV="1">
            <a:off x="651348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2" idx="6"/>
            <a:endCxn id="423" idx="2"/>
          </p:cNvCxnSpPr>
          <p:nvPr/>
        </p:nvCxnSpPr>
        <p:spPr>
          <a:xfrm flipV="1">
            <a:off x="651348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31" name=""/>
          <p:cNvCxnSpPr>
            <a:stCxn id="420" idx="6"/>
            <a:endCxn id="419" idx="2"/>
          </p:cNvCxnSpPr>
          <p:nvPr/>
        </p:nvCxnSpPr>
        <p:spPr>
          <a:xfrm flipV="1">
            <a:off x="6516360" y="345420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6500160" y="2682720"/>
            <a:ext cx="592920" cy="2100960"/>
            <a:chOff x="6500160" y="2682720"/>
            <a:chExt cx="592920" cy="2100960"/>
          </a:xfrm>
        </p:grpSpPr>
        <p:sp>
          <p:nvSpPr>
            <p:cNvPr id="433" name=""/>
            <p:cNvSpPr/>
            <p:nvPr/>
          </p:nvSpPr>
          <p:spPr>
            <a:xfrm>
              <a:off x="655092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1456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824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3984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916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9700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8908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001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76341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31280" y="34020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31280" y="39466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804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endCxn id="441" idx="2"/>
          </p:cNvCxnSpPr>
          <p:nvPr/>
        </p:nvCxnSpPr>
        <p:spPr>
          <a:xfrm flipV="1">
            <a:off x="7124400" y="29048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endCxn id="442" idx="1"/>
          </p:cNvCxnSpPr>
          <p:nvPr/>
        </p:nvCxnSpPr>
        <p:spPr>
          <a:xfrm>
            <a:off x="7080120" y="295092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7" name=""/>
          <p:cNvCxnSpPr>
            <a:endCxn id="443" idx="2"/>
          </p:cNvCxnSpPr>
          <p:nvPr/>
        </p:nvCxnSpPr>
        <p:spPr>
          <a:xfrm>
            <a:off x="710856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endCxn id="444" idx="1"/>
          </p:cNvCxnSpPr>
          <p:nvPr/>
        </p:nvCxnSpPr>
        <p:spPr>
          <a:xfrm>
            <a:off x="710856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9" name=""/>
          <p:cNvCxnSpPr>
            <a:endCxn id="441" idx="3"/>
          </p:cNvCxnSpPr>
          <p:nvPr/>
        </p:nvCxnSpPr>
        <p:spPr>
          <a:xfrm flipV="1">
            <a:off x="710856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3" idx="3"/>
          </p:cNvCxnSpPr>
          <p:nvPr/>
        </p:nvCxnSpPr>
        <p:spPr>
          <a:xfrm flipV="1">
            <a:off x="7118280" y="40222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endCxn id="444" idx="2"/>
          </p:cNvCxnSpPr>
          <p:nvPr/>
        </p:nvCxnSpPr>
        <p:spPr>
          <a:xfrm flipV="1">
            <a:off x="7118280" y="45320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52" name=""/>
          <p:cNvCxnSpPr>
            <a:endCxn id="442" idx="2"/>
          </p:cNvCxnSpPr>
          <p:nvPr/>
        </p:nvCxnSpPr>
        <p:spPr>
          <a:xfrm flipV="1">
            <a:off x="712152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53" name=""/>
          <p:cNvGrpSpPr/>
          <p:nvPr/>
        </p:nvGrpSpPr>
        <p:grpSpPr>
          <a:xfrm>
            <a:off x="7105320" y="2674800"/>
            <a:ext cx="592560" cy="2100960"/>
            <a:chOff x="7105320" y="2674800"/>
            <a:chExt cx="592560" cy="2100960"/>
          </a:xfrm>
        </p:grpSpPr>
        <p:sp>
          <p:nvSpPr>
            <p:cNvPr id="454" name=""/>
            <p:cNvSpPr/>
            <p:nvPr/>
          </p:nvSpPr>
          <p:spPr>
            <a:xfrm>
              <a:off x="715572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1936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1304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4464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396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0180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9388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0532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764712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4388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4388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4064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5504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5180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501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5180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501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4856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47240" y="4484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6" idx="6"/>
            <a:endCxn id="467" idx="2"/>
          </p:cNvCxnSpPr>
          <p:nvPr/>
        </p:nvCxnSpPr>
        <p:spPr>
          <a:xfrm flipV="1">
            <a:off x="774360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66" idx="4"/>
            <a:endCxn id="469" idx="1"/>
          </p:cNvCxnSpPr>
          <p:nvPr/>
        </p:nvCxnSpPr>
        <p:spPr>
          <a:xfrm>
            <a:off x="769932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6" name=""/>
          <p:cNvCxnSpPr>
            <a:stCxn id="468" idx="5"/>
            <a:endCxn id="471" idx="2"/>
          </p:cNvCxnSpPr>
          <p:nvPr/>
        </p:nvCxnSpPr>
        <p:spPr>
          <a:xfrm>
            <a:off x="7728120" y="347652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8" idx="5"/>
            <a:endCxn id="473" idx="1"/>
          </p:cNvCxnSpPr>
          <p:nvPr/>
        </p:nvCxnSpPr>
        <p:spPr>
          <a:xfrm>
            <a:off x="772776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8" name=""/>
          <p:cNvCxnSpPr>
            <a:stCxn id="470" idx="7"/>
            <a:endCxn id="467" idx="3"/>
          </p:cNvCxnSpPr>
          <p:nvPr/>
        </p:nvCxnSpPr>
        <p:spPr>
          <a:xfrm flipV="1">
            <a:off x="7728120" y="293328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6"/>
            <a:endCxn id="471" idx="3"/>
          </p:cNvCxnSpPr>
          <p:nvPr/>
        </p:nvCxnSpPr>
        <p:spPr>
          <a:xfrm flipV="1">
            <a:off x="773748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2" idx="6"/>
            <a:endCxn id="473" idx="2"/>
          </p:cNvCxnSpPr>
          <p:nvPr/>
        </p:nvCxnSpPr>
        <p:spPr>
          <a:xfrm flipV="1">
            <a:off x="773748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81" name=""/>
          <p:cNvCxnSpPr>
            <a:stCxn id="470" idx="6"/>
            <a:endCxn id="469" idx="2"/>
          </p:cNvCxnSpPr>
          <p:nvPr/>
        </p:nvCxnSpPr>
        <p:spPr>
          <a:xfrm flipV="1">
            <a:off x="7740360" y="344304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82" name=""/>
          <p:cNvGrpSpPr/>
          <p:nvPr/>
        </p:nvGrpSpPr>
        <p:grpSpPr>
          <a:xfrm>
            <a:off x="7724160" y="2671920"/>
            <a:ext cx="592920" cy="2100960"/>
            <a:chOff x="7724160" y="2671920"/>
            <a:chExt cx="592920" cy="2100960"/>
          </a:xfrm>
        </p:grpSpPr>
        <p:sp>
          <p:nvSpPr>
            <p:cNvPr id="483" name=""/>
            <p:cNvSpPr/>
            <p:nvPr/>
          </p:nvSpPr>
          <p:spPr>
            <a:xfrm>
              <a:off x="777492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3856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3224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86384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1316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2100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1308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241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2716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9160" y="1600200"/>
            <a:ext cx="88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s a measure of similarity (distance) between the received signal and all potential trellis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tate keeps only one “more likely”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sta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the distance/weight of the branches leading to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only the best bran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surviving paths at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ss through some stat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 commit to S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6" idx="6"/>
            <a:endCxn id="497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6" idx="4"/>
            <a:endCxn id="499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506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06" idx="6"/>
            <a:endCxn id="507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6" idx="4"/>
            <a:endCxn id="509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6" name=""/>
          <p:cNvCxnSpPr>
            <a:stCxn id="497" idx="6"/>
            <a:endCxn id="506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97" idx="5"/>
            <a:endCxn id="508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8" name=""/>
          <p:cNvCxnSpPr>
            <a:stCxn id="499" idx="5"/>
            <a:endCxn id="510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499" idx="5"/>
            <a:endCxn id="512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520" name=""/>
          <p:cNvCxnSpPr>
            <a:stCxn id="508" idx="5"/>
            <a:endCxn id="511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8" idx="5"/>
            <a:endCxn id="513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2" name=""/>
          <p:cNvCxnSpPr>
            <a:stCxn id="510" idx="7"/>
            <a:endCxn id="507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3" name=""/>
          <p:cNvCxnSpPr>
            <a:stCxn id="512" idx="6"/>
            <a:endCxn id="511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524" name=""/>
          <p:cNvCxnSpPr>
            <a:stCxn id="512" idx="6"/>
            <a:endCxn id="513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5" name=""/>
          <p:cNvCxnSpPr>
            <a:stCxn id="510" idx="6"/>
            <a:endCxn id="509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26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26" idx="6"/>
            <a:endCxn id="527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6" idx="4"/>
            <a:endCxn id="529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6" name=""/>
          <p:cNvCxnSpPr>
            <a:stCxn id="528" idx="5"/>
            <a:endCxn id="531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8" idx="5"/>
            <a:endCxn id="533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8" name=""/>
          <p:cNvCxnSpPr>
            <a:stCxn id="530" idx="7"/>
            <a:endCxn id="527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2" idx="6"/>
            <a:endCxn id="531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2" idx="6"/>
            <a:endCxn id="533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1" name=""/>
          <p:cNvCxnSpPr>
            <a:stCxn id="530" idx="6"/>
            <a:endCxn id="529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542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42" idx="6"/>
            <a:endCxn id="543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2" idx="4"/>
            <a:endCxn id="545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2" name=""/>
          <p:cNvCxnSpPr>
            <a:stCxn id="544" idx="5"/>
            <a:endCxn id="547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"/>
          <p:cNvCxnSpPr>
            <a:stCxn id="544" idx="5"/>
            <a:endCxn id="549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554" name=""/>
          <p:cNvCxnSpPr>
            <a:stCxn id="546" idx="7"/>
            <a:endCxn id="543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"/>
          <p:cNvCxnSpPr>
            <a:stCxn id="548" idx="6"/>
            <a:endCxn id="547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6" name=""/>
          <p:cNvCxnSpPr>
            <a:stCxn id="548" idx="6"/>
            <a:endCxn id="549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7" name=""/>
          <p:cNvCxnSpPr>
            <a:stCxn id="546" idx="6"/>
            <a:endCxn id="545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58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58" idx="6"/>
            <a:endCxn id="559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4"/>
            <a:endCxn id="561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68" name=""/>
          <p:cNvCxnSpPr>
            <a:stCxn id="560" idx="5"/>
            <a:endCxn id="563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60" idx="5"/>
            <a:endCxn id="565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0" name=""/>
          <p:cNvCxnSpPr>
            <a:stCxn id="562" idx="7"/>
            <a:endCxn id="559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4" idx="6"/>
            <a:endCxn id="563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572" name=""/>
          <p:cNvCxnSpPr>
            <a:stCxn id="564" idx="6"/>
            <a:endCxn id="565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3" name=""/>
          <p:cNvCxnSpPr>
            <a:stCxn id="562" idx="6"/>
            <a:endCxn id="561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74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4" idx="6"/>
            <a:endCxn id="575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4" idx="4"/>
            <a:endCxn id="577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4" name=""/>
          <p:cNvCxnSpPr>
            <a:stCxn id="576" idx="5"/>
            <a:endCxn id="579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6" idx="5"/>
            <a:endCxn id="581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6" name=""/>
          <p:cNvCxnSpPr>
            <a:stCxn id="578" idx="7"/>
            <a:endCxn id="575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7" name=""/>
          <p:cNvCxnSpPr>
            <a:stCxn id="580" idx="6"/>
            <a:endCxn id="579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"/>
          <p:cNvCxnSpPr>
            <a:stCxn id="580" idx="6"/>
            <a:endCxn id="581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9" name=""/>
          <p:cNvCxnSpPr>
            <a:stCxn id="578" idx="6"/>
            <a:endCxn id="577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590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605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614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623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"/>
          <p:cNvCxnSpPr>
            <a:stCxn id="643" idx="6"/>
            <a:endCxn id="644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>
            <a:stCxn id="643" idx="4"/>
            <a:endCxn id="646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3" name=""/>
          <p:cNvCxnSpPr>
            <a:stCxn id="645" idx="5"/>
            <a:endCxn id="648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45" idx="5"/>
            <a:endCxn id="650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655" name=""/>
          <p:cNvCxnSpPr>
            <a:stCxn id="647" idx="7"/>
            <a:endCxn id="644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49" idx="6"/>
            <a:endCxn id="648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49" idx="6"/>
            <a:endCxn id="650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8" name=""/>
          <p:cNvCxnSpPr>
            <a:stCxn id="647" idx="6"/>
            <a:endCxn id="646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660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endCxn id="668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endCxn id="669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4" name=""/>
          <p:cNvCxnSpPr>
            <a:endCxn id="670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endCxn id="671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6" name=""/>
          <p:cNvCxnSpPr>
            <a:endCxn id="668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endCxn id="670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678" name=""/>
          <p:cNvCxnSpPr>
            <a:endCxn id="671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9" name=""/>
          <p:cNvCxnSpPr>
            <a:endCxn id="669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680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681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3" idx="6"/>
            <a:endCxn id="694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693" idx="4"/>
            <a:endCxn id="696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3" name=""/>
          <p:cNvCxnSpPr>
            <a:stCxn id="695" idx="5"/>
            <a:endCxn id="698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695" idx="5"/>
            <a:endCxn id="700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5" name=""/>
          <p:cNvCxnSpPr>
            <a:stCxn id="697" idx="7"/>
            <a:endCxn id="694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6" name=""/>
          <p:cNvCxnSpPr>
            <a:stCxn id="699" idx="6"/>
            <a:endCxn id="698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7" name=""/>
          <p:cNvCxnSpPr>
            <a:stCxn id="699" idx="6"/>
            <a:endCxn id="700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8" name=""/>
          <p:cNvCxnSpPr>
            <a:stCxn id="697" idx="6"/>
            <a:endCxn id="696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grpSp>
        <p:nvGrpSpPr>
          <p:cNvPr id="709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710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endCxn id="718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"/>
          <p:cNvCxnSpPr>
            <a:endCxn id="719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4" name=""/>
          <p:cNvCxnSpPr>
            <a:endCxn id="720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5" name=""/>
          <p:cNvCxnSpPr>
            <a:endCxn id="721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6" name=""/>
          <p:cNvCxnSpPr>
            <a:endCxn id="718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endCxn id="720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endCxn id="721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9" name=""/>
          <p:cNvCxnSpPr>
            <a:endCxn id="719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730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"/>
          <p:cNvCxnSpPr>
            <a:stCxn id="742" idx="6"/>
            <a:endCxn id="743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2" idx="4"/>
            <a:endCxn id="745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"/>
          <p:cNvCxnSpPr>
            <a:stCxn id="744" idx="5"/>
            <a:endCxn id="747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4" idx="5"/>
            <a:endCxn id="749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"/>
          <p:cNvCxnSpPr>
            <a:stCxn id="746" idx="7"/>
            <a:endCxn id="743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6"/>
            <a:endCxn id="747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6" name=""/>
          <p:cNvCxnSpPr>
            <a:stCxn id="748" idx="6"/>
            <a:endCxn id="749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7" name=""/>
          <p:cNvCxnSpPr>
            <a:stCxn id="746" idx="6"/>
            <a:endCxn id="745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58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759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4160" y="1865160"/>
            <a:ext cx="69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     0      1      1      0      1      1      0     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71" idx="6"/>
            <a:endCxn id="772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780" name=""/>
          <p:cNvCxnSpPr>
            <a:stCxn id="771" idx="4"/>
            <a:endCxn id="774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781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1" idx="6"/>
            <a:endCxn id="782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0" name=""/>
          <p:cNvCxnSpPr>
            <a:stCxn id="781" idx="4"/>
            <a:endCxn id="784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91" name=""/>
          <p:cNvCxnSpPr>
            <a:stCxn id="772" idx="6"/>
            <a:endCxn id="781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792" name=""/>
          <p:cNvCxnSpPr>
            <a:stCxn id="772" idx="5"/>
            <a:endCxn id="783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793" name=""/>
          <p:cNvCxnSpPr>
            <a:stCxn id="774" idx="5"/>
            <a:endCxn id="785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794" name=""/>
          <p:cNvCxnSpPr>
            <a:stCxn id="774" idx="5"/>
            <a:endCxn id="787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795" name=""/>
          <p:cNvCxnSpPr>
            <a:stCxn id="783" idx="5"/>
            <a:endCxn id="786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83" idx="5"/>
            <a:endCxn id="788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97" name=""/>
          <p:cNvCxnSpPr>
            <a:stCxn id="785" idx="7"/>
            <a:endCxn id="782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8" name=""/>
          <p:cNvCxnSpPr>
            <a:stCxn id="787" idx="6"/>
            <a:endCxn id="786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9" name=""/>
          <p:cNvCxnSpPr>
            <a:stCxn id="787" idx="6"/>
            <a:endCxn id="788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00" name=""/>
          <p:cNvCxnSpPr>
            <a:stCxn id="785" idx="6"/>
            <a:endCxn id="784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01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>
            <a:stCxn id="801" idx="6"/>
            <a:endCxn id="802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801" idx="4"/>
            <a:endCxn id="804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11" name=""/>
          <p:cNvCxnSpPr>
            <a:stCxn id="803" idx="5"/>
            <a:endCxn id="806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2" name=""/>
          <p:cNvCxnSpPr>
            <a:stCxn id="803" idx="5"/>
            <a:endCxn id="808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13" name=""/>
          <p:cNvCxnSpPr>
            <a:stCxn id="805" idx="7"/>
            <a:endCxn id="802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07" idx="6"/>
            <a:endCxn id="806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stCxn id="807" idx="6"/>
            <a:endCxn id="808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16" name=""/>
          <p:cNvCxnSpPr>
            <a:stCxn id="805" idx="6"/>
            <a:endCxn id="804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17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"/>
          <p:cNvCxnSpPr>
            <a:stCxn id="817" idx="6"/>
            <a:endCxn id="818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7" idx="4"/>
            <a:endCxn id="820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7" name=""/>
          <p:cNvCxnSpPr>
            <a:stCxn id="819" idx="5"/>
            <a:endCxn id="822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8" name=""/>
          <p:cNvCxnSpPr>
            <a:stCxn id="819" idx="5"/>
            <a:endCxn id="824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9" name=""/>
          <p:cNvCxnSpPr>
            <a:stCxn id="821" idx="7"/>
            <a:endCxn id="818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0" name=""/>
          <p:cNvCxnSpPr>
            <a:stCxn id="823" idx="6"/>
            <a:endCxn id="822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23" idx="6"/>
            <a:endCxn id="824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32" name=""/>
          <p:cNvCxnSpPr>
            <a:stCxn id="821" idx="6"/>
            <a:endCxn id="820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33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1" name=""/>
          <p:cNvCxnSpPr>
            <a:stCxn id="833" idx="6"/>
            <a:endCxn id="834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33" idx="4"/>
            <a:endCxn id="836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43" name=""/>
          <p:cNvCxnSpPr>
            <a:stCxn id="835" idx="5"/>
            <a:endCxn id="838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35" idx="5"/>
            <a:endCxn id="840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45" name=""/>
          <p:cNvCxnSpPr>
            <a:stCxn id="837" idx="7"/>
            <a:endCxn id="834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9" idx="6"/>
            <a:endCxn id="838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9" idx="6"/>
            <a:endCxn id="840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48" name=""/>
          <p:cNvCxnSpPr>
            <a:stCxn id="837" idx="6"/>
            <a:endCxn id="836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49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49" idx="6"/>
            <a:endCxn id="850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8" name=""/>
          <p:cNvCxnSpPr>
            <a:stCxn id="849" idx="4"/>
            <a:endCxn id="852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59" name=""/>
          <p:cNvCxnSpPr>
            <a:stCxn id="851" idx="5"/>
            <a:endCxn id="854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0" name=""/>
          <p:cNvCxnSpPr>
            <a:stCxn id="851" idx="5"/>
            <a:endCxn id="856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61" name=""/>
          <p:cNvCxnSpPr>
            <a:stCxn id="853" idx="7"/>
            <a:endCxn id="850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2" name=""/>
          <p:cNvCxnSpPr>
            <a:stCxn id="855" idx="6"/>
            <a:endCxn id="854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3" name=""/>
          <p:cNvCxnSpPr>
            <a:stCxn id="855" idx="6"/>
            <a:endCxn id="856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64" name=""/>
          <p:cNvCxnSpPr>
            <a:stCxn id="853" idx="6"/>
            <a:endCxn id="852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65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880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889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898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6" name=""/>
          <p:cNvCxnSpPr>
            <a:stCxn id="918" idx="6"/>
            <a:endCxn id="919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7" name=""/>
          <p:cNvCxnSpPr>
            <a:stCxn id="918" idx="4"/>
            <a:endCxn id="921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28" name=""/>
          <p:cNvCxnSpPr>
            <a:stCxn id="920" idx="5"/>
            <a:endCxn id="923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9" name=""/>
          <p:cNvCxnSpPr>
            <a:stCxn id="920" idx="5"/>
            <a:endCxn id="925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30" name=""/>
          <p:cNvCxnSpPr>
            <a:stCxn id="922" idx="7"/>
            <a:endCxn id="919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4" idx="6"/>
            <a:endCxn id="923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2" name=""/>
          <p:cNvCxnSpPr>
            <a:stCxn id="924" idx="6"/>
            <a:endCxn id="925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33" name=""/>
          <p:cNvCxnSpPr>
            <a:stCxn id="922" idx="6"/>
            <a:endCxn id="921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934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935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7" name=""/>
          <p:cNvCxnSpPr>
            <a:endCxn id="943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8" name=""/>
          <p:cNvCxnSpPr>
            <a:endCxn id="944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49" name=""/>
          <p:cNvCxnSpPr>
            <a:endCxn id="945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0" name=""/>
          <p:cNvCxnSpPr>
            <a:endCxn id="946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51" name=""/>
          <p:cNvCxnSpPr>
            <a:endCxn id="943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endCxn id="945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endCxn id="946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54" name=""/>
          <p:cNvCxnSpPr>
            <a:endCxn id="944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955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956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8" idx="6"/>
            <a:endCxn id="969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7" name=""/>
          <p:cNvCxnSpPr>
            <a:stCxn id="968" idx="4"/>
            <a:endCxn id="971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78" name=""/>
          <p:cNvCxnSpPr>
            <a:stCxn id="970" idx="5"/>
            <a:endCxn id="973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70" idx="5"/>
            <a:endCxn id="975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80" name=""/>
          <p:cNvCxnSpPr>
            <a:stCxn id="972" idx="7"/>
            <a:endCxn id="969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1" name=""/>
          <p:cNvCxnSpPr>
            <a:stCxn id="974" idx="6"/>
            <a:endCxn id="973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2" name=""/>
          <p:cNvCxnSpPr>
            <a:stCxn id="974" idx="6"/>
            <a:endCxn id="975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83" name=""/>
          <p:cNvCxnSpPr>
            <a:stCxn id="972" idx="6"/>
            <a:endCxn id="971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984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985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7" name=""/>
          <p:cNvCxnSpPr>
            <a:endCxn id="993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8" name=""/>
          <p:cNvCxnSpPr>
            <a:endCxn id="994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99" name=""/>
          <p:cNvCxnSpPr>
            <a:endCxn id="995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0" name=""/>
          <p:cNvCxnSpPr>
            <a:endCxn id="996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01" name=""/>
          <p:cNvCxnSpPr>
            <a:endCxn id="993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2" name=""/>
          <p:cNvCxnSpPr>
            <a:endCxn id="995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3" name=""/>
          <p:cNvCxnSpPr>
            <a:endCxn id="996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04" name=""/>
          <p:cNvCxnSpPr>
            <a:endCxn id="994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005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5" name=""/>
          <p:cNvCxnSpPr>
            <a:stCxn id="1017" idx="6"/>
            <a:endCxn id="1018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1017" idx="4"/>
            <a:endCxn id="1020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27" name=""/>
          <p:cNvCxnSpPr>
            <a:stCxn id="1019" idx="5"/>
            <a:endCxn id="1022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8" name=""/>
          <p:cNvCxnSpPr>
            <a:stCxn id="1019" idx="5"/>
            <a:endCxn id="1024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29" name=""/>
          <p:cNvCxnSpPr>
            <a:stCxn id="1021" idx="7"/>
            <a:endCxn id="1018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0" name=""/>
          <p:cNvCxnSpPr>
            <a:stCxn id="1023" idx="6"/>
            <a:endCxn id="1022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1" name=""/>
          <p:cNvCxnSpPr>
            <a:stCxn id="1023" idx="6"/>
            <a:endCxn id="1024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32" name=""/>
          <p:cNvCxnSpPr>
            <a:stCxn id="1021" idx="6"/>
            <a:endCxn id="1020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033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1034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0" name=""/>
          <p:cNvCxnSpPr>
            <a:stCxn id="1052" idx="6"/>
            <a:endCxn id="1053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61" name=""/>
          <p:cNvCxnSpPr>
            <a:stCxn id="1052" idx="4"/>
            <a:endCxn id="1055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062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0" name=""/>
          <p:cNvCxnSpPr>
            <a:stCxn id="1062" idx="6"/>
            <a:endCxn id="1063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1" name=""/>
          <p:cNvCxnSpPr>
            <a:stCxn id="1062" idx="4"/>
            <a:endCxn id="1065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72" name=""/>
          <p:cNvCxnSpPr>
            <a:stCxn id="1053" idx="6"/>
            <a:endCxn id="1062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73" name=""/>
          <p:cNvCxnSpPr>
            <a:stCxn id="1053" idx="5"/>
            <a:endCxn id="1064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074" name=""/>
          <p:cNvCxnSpPr>
            <a:stCxn id="1055" idx="5"/>
            <a:endCxn id="1066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75" name=""/>
          <p:cNvCxnSpPr>
            <a:stCxn id="1055" idx="5"/>
            <a:endCxn id="1068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076" name=""/>
          <p:cNvCxnSpPr>
            <a:stCxn id="1064" idx="5"/>
            <a:endCxn id="1067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64" idx="5"/>
            <a:endCxn id="1069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78" name=""/>
          <p:cNvCxnSpPr>
            <a:stCxn id="1066" idx="7"/>
            <a:endCxn id="1063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79" name=""/>
          <p:cNvCxnSpPr>
            <a:stCxn id="1068" idx="6"/>
            <a:endCxn id="1067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80" name=""/>
          <p:cNvCxnSpPr>
            <a:stCxn id="1068" idx="6"/>
            <a:endCxn id="1069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081" name=""/>
          <p:cNvCxnSpPr>
            <a:stCxn id="1066" idx="6"/>
            <a:endCxn id="1065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082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"/>
          <p:cNvCxnSpPr>
            <a:stCxn id="1082" idx="6"/>
            <a:endCxn id="1083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82" idx="4"/>
            <a:endCxn id="1085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92" name=""/>
          <p:cNvCxnSpPr>
            <a:stCxn id="1084" idx="5"/>
            <a:endCxn id="1087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3" name=""/>
          <p:cNvCxnSpPr>
            <a:stCxn id="1084" idx="5"/>
            <a:endCxn id="1089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94" name=""/>
          <p:cNvCxnSpPr>
            <a:stCxn id="1086" idx="7"/>
            <a:endCxn id="1083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5" name=""/>
          <p:cNvCxnSpPr>
            <a:stCxn id="1088" idx="6"/>
            <a:endCxn id="1087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6" name=""/>
          <p:cNvCxnSpPr>
            <a:stCxn id="1088" idx="6"/>
            <a:endCxn id="1089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97" name=""/>
          <p:cNvCxnSpPr>
            <a:stCxn id="1086" idx="6"/>
            <a:endCxn id="1085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098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6" name=""/>
          <p:cNvCxnSpPr>
            <a:stCxn id="1098" idx="6"/>
            <a:endCxn id="1099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098" idx="4"/>
            <a:endCxn id="1101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08" name=""/>
          <p:cNvCxnSpPr>
            <a:stCxn id="1100" idx="5"/>
            <a:endCxn id="1103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0" idx="5"/>
            <a:endCxn id="1105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10" name=""/>
          <p:cNvCxnSpPr>
            <a:stCxn id="1102" idx="7"/>
            <a:endCxn id="1099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4" idx="6"/>
            <a:endCxn id="1103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4" idx="6"/>
            <a:endCxn id="1105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13" name=""/>
          <p:cNvCxnSpPr>
            <a:stCxn id="1102" idx="6"/>
            <a:endCxn id="1101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14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2" name=""/>
          <p:cNvCxnSpPr>
            <a:stCxn id="1114" idx="6"/>
            <a:endCxn id="1115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3" name=""/>
          <p:cNvCxnSpPr>
            <a:stCxn id="1114" idx="4"/>
            <a:endCxn id="1117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24" name=""/>
          <p:cNvCxnSpPr>
            <a:stCxn id="1116" idx="5"/>
            <a:endCxn id="1119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5" name=""/>
          <p:cNvCxnSpPr>
            <a:stCxn id="1116" idx="5"/>
            <a:endCxn id="1121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26" name=""/>
          <p:cNvCxnSpPr>
            <a:stCxn id="1118" idx="7"/>
            <a:endCxn id="1115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0" idx="6"/>
            <a:endCxn id="1119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0" idx="6"/>
            <a:endCxn id="1121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29" name=""/>
          <p:cNvCxnSpPr>
            <a:stCxn id="1118" idx="6"/>
            <a:endCxn id="1117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30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8" name=""/>
          <p:cNvCxnSpPr>
            <a:stCxn id="1130" idx="6"/>
            <a:endCxn id="1131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30" idx="4"/>
            <a:endCxn id="1133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40" name=""/>
          <p:cNvCxnSpPr>
            <a:stCxn id="1132" idx="5"/>
            <a:endCxn id="1135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1" name=""/>
          <p:cNvCxnSpPr>
            <a:stCxn id="1132" idx="5"/>
            <a:endCxn id="1137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42" name=""/>
          <p:cNvCxnSpPr>
            <a:stCxn id="1134" idx="7"/>
            <a:endCxn id="1131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3" name=""/>
          <p:cNvCxnSpPr>
            <a:stCxn id="1136" idx="6"/>
            <a:endCxn id="1135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36" idx="6"/>
            <a:endCxn id="1137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45" name=""/>
          <p:cNvCxnSpPr>
            <a:stCxn id="1134" idx="6"/>
            <a:endCxn id="1133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46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1161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1170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1179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7" name=""/>
          <p:cNvCxnSpPr>
            <a:stCxn id="1199" idx="6"/>
            <a:endCxn id="1200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8" name=""/>
          <p:cNvCxnSpPr>
            <a:stCxn id="1199" idx="4"/>
            <a:endCxn id="1202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09" name=""/>
          <p:cNvCxnSpPr>
            <a:stCxn id="1201" idx="5"/>
            <a:endCxn id="1204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0" name=""/>
          <p:cNvCxnSpPr>
            <a:stCxn id="1201" idx="5"/>
            <a:endCxn id="1206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11" name=""/>
          <p:cNvCxnSpPr>
            <a:stCxn id="1203" idx="7"/>
            <a:endCxn id="1200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5" idx="6"/>
            <a:endCxn id="1204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5" idx="6"/>
            <a:endCxn id="1206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14" name=""/>
          <p:cNvCxnSpPr>
            <a:stCxn id="1203" idx="6"/>
            <a:endCxn id="1202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215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1216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8" name=""/>
          <p:cNvCxnSpPr>
            <a:endCxn id="1224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9" name=""/>
          <p:cNvCxnSpPr>
            <a:endCxn id="1225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30" name=""/>
          <p:cNvCxnSpPr>
            <a:endCxn id="1226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endCxn id="1227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32" name=""/>
          <p:cNvCxnSpPr>
            <a:endCxn id="1224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endCxn id="1226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endCxn id="1227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35" name=""/>
          <p:cNvCxnSpPr>
            <a:endCxn id="1225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236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1237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7" name=""/>
          <p:cNvCxnSpPr>
            <a:stCxn id="1249" idx="6"/>
            <a:endCxn id="1250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8" name=""/>
          <p:cNvCxnSpPr>
            <a:stCxn id="1249" idx="4"/>
            <a:endCxn id="1252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59" name=""/>
          <p:cNvCxnSpPr>
            <a:stCxn id="1251" idx="5"/>
            <a:endCxn id="1254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0" name=""/>
          <p:cNvCxnSpPr>
            <a:stCxn id="1251" idx="5"/>
            <a:endCxn id="1256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61" name=""/>
          <p:cNvCxnSpPr>
            <a:stCxn id="1253" idx="7"/>
            <a:endCxn id="1250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"/>
          <p:cNvCxnSpPr>
            <a:stCxn id="1255" idx="6"/>
            <a:endCxn id="1254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55" idx="6"/>
            <a:endCxn id="1256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64" name=""/>
          <p:cNvCxnSpPr>
            <a:stCxn id="1253" idx="6"/>
            <a:endCxn id="1252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265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1266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8" name=""/>
          <p:cNvCxnSpPr>
            <a:endCxn id="1274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9" name=""/>
          <p:cNvCxnSpPr>
            <a:endCxn id="1275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80" name=""/>
          <p:cNvCxnSpPr>
            <a:endCxn id="1276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endCxn id="1277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82" name=""/>
          <p:cNvCxnSpPr>
            <a:endCxn id="1274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endCxn id="1276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4" name=""/>
          <p:cNvCxnSpPr>
            <a:endCxn id="1277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85" name=""/>
          <p:cNvCxnSpPr>
            <a:endCxn id="1275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286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6" name=""/>
          <p:cNvCxnSpPr>
            <a:stCxn id="1298" idx="6"/>
            <a:endCxn id="1299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298" idx="4"/>
            <a:endCxn id="1301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08" name=""/>
          <p:cNvCxnSpPr>
            <a:stCxn id="1300" idx="5"/>
            <a:endCxn id="1303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0" idx="5"/>
            <a:endCxn id="1305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10" name=""/>
          <p:cNvCxnSpPr>
            <a:stCxn id="1302" idx="7"/>
            <a:endCxn id="1299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4" idx="6"/>
            <a:endCxn id="1303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304" idx="6"/>
            <a:endCxn id="1305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13" name=""/>
          <p:cNvCxnSpPr>
            <a:stCxn id="1302" idx="6"/>
            <a:endCxn id="1301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314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1315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5" name=""/>
          <p:cNvCxnSpPr>
            <a:stCxn id="1337" idx="6"/>
            <a:endCxn id="1338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6" name=""/>
          <p:cNvCxnSpPr>
            <a:stCxn id="1337" idx="4"/>
            <a:endCxn id="1340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347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5" name=""/>
          <p:cNvCxnSpPr>
            <a:stCxn id="1347" idx="6"/>
            <a:endCxn id="1348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6" name=""/>
          <p:cNvCxnSpPr>
            <a:stCxn id="1347" idx="4"/>
            <a:endCxn id="1350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57" name=""/>
          <p:cNvCxnSpPr>
            <a:stCxn id="1338" idx="6"/>
            <a:endCxn id="1347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8" name=""/>
          <p:cNvCxnSpPr>
            <a:stCxn id="1338" idx="5"/>
            <a:endCxn id="1349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59" name=""/>
          <p:cNvCxnSpPr>
            <a:stCxn id="1340" idx="5"/>
            <a:endCxn id="1351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60" name=""/>
          <p:cNvCxnSpPr>
            <a:stCxn id="1340" idx="5"/>
            <a:endCxn id="1353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361" name=""/>
          <p:cNvCxnSpPr>
            <a:stCxn id="1349" idx="5"/>
            <a:endCxn id="1352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2" name=""/>
          <p:cNvCxnSpPr>
            <a:stCxn id="1349" idx="5"/>
            <a:endCxn id="1354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63" name=""/>
          <p:cNvCxnSpPr>
            <a:stCxn id="1351" idx="7"/>
            <a:endCxn id="1348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64" name=""/>
          <p:cNvCxnSpPr>
            <a:stCxn id="1353" idx="6"/>
            <a:endCxn id="1352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65" name=""/>
          <p:cNvCxnSpPr>
            <a:stCxn id="1353" idx="6"/>
            <a:endCxn id="1354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366" name=""/>
          <p:cNvCxnSpPr>
            <a:stCxn id="1351" idx="6"/>
            <a:endCxn id="1350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367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5" name=""/>
          <p:cNvCxnSpPr>
            <a:stCxn id="1367" idx="6"/>
            <a:endCxn id="1368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6" name=""/>
          <p:cNvCxnSpPr>
            <a:stCxn id="1367" idx="4"/>
            <a:endCxn id="1370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77" name=""/>
          <p:cNvCxnSpPr>
            <a:stCxn id="1369" idx="5"/>
            <a:endCxn id="1372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8" name=""/>
          <p:cNvCxnSpPr>
            <a:stCxn id="1369" idx="5"/>
            <a:endCxn id="1374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379" name=""/>
          <p:cNvCxnSpPr>
            <a:stCxn id="1371" idx="7"/>
            <a:endCxn id="1368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80" name=""/>
          <p:cNvCxnSpPr>
            <a:stCxn id="1373" idx="6"/>
            <a:endCxn id="1372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81" name=""/>
          <p:cNvCxnSpPr>
            <a:stCxn id="1373" idx="6"/>
            <a:endCxn id="1374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82" name=""/>
          <p:cNvCxnSpPr>
            <a:stCxn id="1371" idx="6"/>
            <a:endCxn id="1370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383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1" name=""/>
          <p:cNvCxnSpPr>
            <a:stCxn id="1383" idx="6"/>
            <a:endCxn id="1384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2" name=""/>
          <p:cNvCxnSpPr>
            <a:stCxn id="1383" idx="4"/>
            <a:endCxn id="1386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93" name=""/>
          <p:cNvCxnSpPr>
            <a:stCxn id="1385" idx="5"/>
            <a:endCxn id="1388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85" idx="5"/>
            <a:endCxn id="1390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95" name=""/>
          <p:cNvCxnSpPr>
            <a:stCxn id="1387" idx="7"/>
            <a:endCxn id="1384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89" idx="6"/>
            <a:endCxn id="1388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89" idx="6"/>
            <a:endCxn id="1390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98" name=""/>
          <p:cNvCxnSpPr>
            <a:stCxn id="1387" idx="6"/>
            <a:endCxn id="1386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399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7" name=""/>
          <p:cNvCxnSpPr>
            <a:stCxn id="1399" idx="6"/>
            <a:endCxn id="1400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8" name=""/>
          <p:cNvCxnSpPr>
            <a:stCxn id="1399" idx="4"/>
            <a:endCxn id="1402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09" name=""/>
          <p:cNvCxnSpPr>
            <a:stCxn id="1401" idx="5"/>
            <a:endCxn id="1404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0" name=""/>
          <p:cNvCxnSpPr>
            <a:stCxn id="1401" idx="5"/>
            <a:endCxn id="1406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11" name=""/>
          <p:cNvCxnSpPr>
            <a:stCxn id="1403" idx="7"/>
            <a:endCxn id="1400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2" name=""/>
          <p:cNvCxnSpPr>
            <a:stCxn id="1405" idx="6"/>
            <a:endCxn id="1404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3" name=""/>
          <p:cNvCxnSpPr>
            <a:stCxn id="1405" idx="6"/>
            <a:endCxn id="1406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14" name=""/>
          <p:cNvCxnSpPr>
            <a:stCxn id="1403" idx="6"/>
            <a:endCxn id="1402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15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3" name=""/>
          <p:cNvCxnSpPr>
            <a:stCxn id="1415" idx="6"/>
            <a:endCxn id="1416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4" name=""/>
          <p:cNvCxnSpPr>
            <a:stCxn id="1415" idx="4"/>
            <a:endCxn id="1418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5" name=""/>
          <p:cNvCxnSpPr>
            <a:stCxn id="1417" idx="5"/>
            <a:endCxn id="1420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6" name=""/>
          <p:cNvCxnSpPr>
            <a:stCxn id="1417" idx="5"/>
            <a:endCxn id="1422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7" name=""/>
          <p:cNvCxnSpPr>
            <a:stCxn id="1419" idx="7"/>
            <a:endCxn id="1416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8" name=""/>
          <p:cNvCxnSpPr>
            <a:stCxn id="1421" idx="6"/>
            <a:endCxn id="1420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9" name=""/>
          <p:cNvCxnSpPr>
            <a:stCxn id="1421" idx="6"/>
            <a:endCxn id="1422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30" name=""/>
          <p:cNvCxnSpPr>
            <a:stCxn id="1419" idx="6"/>
            <a:endCxn id="1418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1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1446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1455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1464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2" name=""/>
          <p:cNvCxnSpPr>
            <a:stCxn id="1484" idx="6"/>
            <a:endCxn id="1485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3" name=""/>
          <p:cNvCxnSpPr>
            <a:stCxn id="1484" idx="4"/>
            <a:endCxn id="1487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94" name=""/>
          <p:cNvCxnSpPr>
            <a:stCxn id="1486" idx="5"/>
            <a:endCxn id="1489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5" name=""/>
          <p:cNvCxnSpPr>
            <a:stCxn id="1486" idx="5"/>
            <a:endCxn id="1491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96" name=""/>
          <p:cNvCxnSpPr>
            <a:stCxn id="1488" idx="7"/>
            <a:endCxn id="1485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7" name=""/>
          <p:cNvCxnSpPr>
            <a:stCxn id="1490" idx="6"/>
            <a:endCxn id="1489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8" name=""/>
          <p:cNvCxnSpPr>
            <a:stCxn id="1490" idx="6"/>
            <a:endCxn id="1491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99" name=""/>
          <p:cNvCxnSpPr>
            <a:stCxn id="1488" idx="6"/>
            <a:endCxn id="1487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500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1501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3" name=""/>
          <p:cNvCxnSpPr>
            <a:endCxn id="1509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4" name=""/>
          <p:cNvCxnSpPr>
            <a:endCxn id="1510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15" name=""/>
          <p:cNvCxnSpPr>
            <a:endCxn id="1511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6" name=""/>
          <p:cNvCxnSpPr>
            <a:endCxn id="1512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17" name=""/>
          <p:cNvCxnSpPr>
            <a:endCxn id="1509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8" name=""/>
          <p:cNvCxnSpPr>
            <a:endCxn id="1511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9" name=""/>
          <p:cNvCxnSpPr>
            <a:endCxn id="1512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20" name=""/>
          <p:cNvCxnSpPr>
            <a:endCxn id="1510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521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1522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2" name=""/>
          <p:cNvCxnSpPr>
            <a:stCxn id="1534" idx="6"/>
            <a:endCxn id="1535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3" name=""/>
          <p:cNvCxnSpPr>
            <a:stCxn id="1534" idx="4"/>
            <a:endCxn id="1537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4" name=""/>
          <p:cNvCxnSpPr>
            <a:stCxn id="1536" idx="5"/>
            <a:endCxn id="1539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5" name=""/>
          <p:cNvCxnSpPr>
            <a:stCxn id="1536" idx="5"/>
            <a:endCxn id="1541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6" name=""/>
          <p:cNvCxnSpPr>
            <a:stCxn id="1538" idx="7"/>
            <a:endCxn id="1535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7" name=""/>
          <p:cNvCxnSpPr>
            <a:stCxn id="1540" idx="6"/>
            <a:endCxn id="1539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8" name=""/>
          <p:cNvCxnSpPr>
            <a:stCxn id="1540" idx="6"/>
            <a:endCxn id="1541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9" name=""/>
          <p:cNvCxnSpPr>
            <a:stCxn id="1538" idx="6"/>
            <a:endCxn id="1537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550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1551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9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endCxn id="1559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endCxn id="1560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65" name=""/>
          <p:cNvCxnSpPr>
            <a:endCxn id="1561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6" name=""/>
          <p:cNvCxnSpPr>
            <a:endCxn id="1562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67" name=""/>
          <p:cNvCxnSpPr>
            <a:endCxn id="1559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8" name=""/>
          <p:cNvCxnSpPr>
            <a:endCxn id="1561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9" name=""/>
          <p:cNvCxnSpPr>
            <a:endCxn id="1562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70" name=""/>
          <p:cNvCxnSpPr>
            <a:endCxn id="1560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571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83" idx="6"/>
            <a:endCxn id="1584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2" name=""/>
          <p:cNvCxnSpPr>
            <a:stCxn id="1583" idx="4"/>
            <a:endCxn id="1586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93" name=""/>
          <p:cNvCxnSpPr>
            <a:stCxn id="1585" idx="5"/>
            <a:endCxn id="1588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4" name=""/>
          <p:cNvCxnSpPr>
            <a:stCxn id="1585" idx="5"/>
            <a:endCxn id="1590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95" name=""/>
          <p:cNvCxnSpPr>
            <a:stCxn id="1587" idx="7"/>
            <a:endCxn id="1584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6" name=""/>
          <p:cNvCxnSpPr>
            <a:stCxn id="1589" idx="6"/>
            <a:endCxn id="1588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7" name=""/>
          <p:cNvCxnSpPr>
            <a:stCxn id="1589" idx="6"/>
            <a:endCxn id="1590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98" name=""/>
          <p:cNvCxnSpPr>
            <a:stCxn id="1587" idx="6"/>
            <a:endCxn id="1586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599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1600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frame, an error-detecting code (check bits) is calculated from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bits are appended to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incoming frame into data bits and check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s check bits from received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s calculated check bits against received check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ed error occurs if mis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"/>
          <p:cNvCxnSpPr>
            <a:stCxn id="1626" idx="6"/>
            <a:endCxn id="1627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5" name=""/>
          <p:cNvCxnSpPr>
            <a:stCxn id="1626" idx="4"/>
            <a:endCxn id="1629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636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4" name=""/>
          <p:cNvCxnSpPr>
            <a:stCxn id="1636" idx="6"/>
            <a:endCxn id="1637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5" name=""/>
          <p:cNvCxnSpPr>
            <a:stCxn id="1636" idx="4"/>
            <a:endCxn id="1639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46" name=""/>
          <p:cNvCxnSpPr>
            <a:stCxn id="1627" idx="6"/>
            <a:endCxn id="1636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7" name=""/>
          <p:cNvCxnSpPr>
            <a:stCxn id="1627" idx="5"/>
            <a:endCxn id="1638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48" name=""/>
          <p:cNvCxnSpPr>
            <a:stCxn id="1629" idx="5"/>
            <a:endCxn id="1640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49" name=""/>
          <p:cNvCxnSpPr>
            <a:stCxn id="1629" idx="5"/>
            <a:endCxn id="1642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50" name=""/>
          <p:cNvCxnSpPr>
            <a:stCxn id="1638" idx="5"/>
            <a:endCxn id="1641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1" name=""/>
          <p:cNvCxnSpPr>
            <a:stCxn id="1638" idx="5"/>
            <a:endCxn id="1643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52" name=""/>
          <p:cNvCxnSpPr>
            <a:stCxn id="1640" idx="7"/>
            <a:endCxn id="1637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53" name=""/>
          <p:cNvCxnSpPr>
            <a:stCxn id="1642" idx="6"/>
            <a:endCxn id="1641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54" name=""/>
          <p:cNvCxnSpPr>
            <a:stCxn id="1642" idx="6"/>
            <a:endCxn id="1643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55" name=""/>
          <p:cNvCxnSpPr>
            <a:stCxn id="1640" idx="6"/>
            <a:endCxn id="1639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656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"/>
          <p:cNvCxnSpPr>
            <a:stCxn id="1656" idx="6"/>
            <a:endCxn id="1657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5" name=""/>
          <p:cNvCxnSpPr>
            <a:stCxn id="1656" idx="4"/>
            <a:endCxn id="1659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66" name=""/>
          <p:cNvCxnSpPr>
            <a:stCxn id="1658" idx="5"/>
            <a:endCxn id="1661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7" name=""/>
          <p:cNvCxnSpPr>
            <a:stCxn id="1658" idx="5"/>
            <a:endCxn id="1663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68" name=""/>
          <p:cNvCxnSpPr>
            <a:stCxn id="1660" idx="7"/>
            <a:endCxn id="1657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69" name=""/>
          <p:cNvCxnSpPr>
            <a:stCxn id="1662" idx="6"/>
            <a:endCxn id="1661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70" name=""/>
          <p:cNvCxnSpPr>
            <a:stCxn id="1662" idx="6"/>
            <a:endCxn id="1663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71" name=""/>
          <p:cNvCxnSpPr>
            <a:stCxn id="1660" idx="6"/>
            <a:endCxn id="1659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672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0" name=""/>
          <p:cNvCxnSpPr>
            <a:stCxn id="1672" idx="6"/>
            <a:endCxn id="1673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81" name=""/>
          <p:cNvCxnSpPr>
            <a:stCxn id="1672" idx="4"/>
            <a:endCxn id="1675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82" name=""/>
          <p:cNvCxnSpPr>
            <a:stCxn id="1674" idx="5"/>
            <a:endCxn id="1677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83" name=""/>
          <p:cNvCxnSpPr>
            <a:stCxn id="1674" idx="5"/>
            <a:endCxn id="1679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84" name=""/>
          <p:cNvCxnSpPr>
            <a:stCxn id="1676" idx="7"/>
            <a:endCxn id="1673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5" name=""/>
          <p:cNvCxnSpPr>
            <a:stCxn id="1678" idx="6"/>
            <a:endCxn id="1677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6" name=""/>
          <p:cNvCxnSpPr>
            <a:stCxn id="1678" idx="6"/>
            <a:endCxn id="1679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87" name=""/>
          <p:cNvCxnSpPr>
            <a:stCxn id="1676" idx="6"/>
            <a:endCxn id="1675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88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6" name=""/>
          <p:cNvCxnSpPr>
            <a:stCxn id="1688" idx="6"/>
            <a:endCxn id="1689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7" name=""/>
          <p:cNvCxnSpPr>
            <a:stCxn id="1688" idx="4"/>
            <a:endCxn id="1691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98" name=""/>
          <p:cNvCxnSpPr>
            <a:stCxn id="1690" idx="5"/>
            <a:endCxn id="1693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9" name=""/>
          <p:cNvCxnSpPr>
            <a:stCxn id="1690" idx="5"/>
            <a:endCxn id="1695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00" name=""/>
          <p:cNvCxnSpPr>
            <a:stCxn id="1692" idx="7"/>
            <a:endCxn id="1689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1" name=""/>
          <p:cNvCxnSpPr>
            <a:stCxn id="1694" idx="6"/>
            <a:endCxn id="1693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2" name=""/>
          <p:cNvCxnSpPr>
            <a:stCxn id="1694" idx="6"/>
            <a:endCxn id="1695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03" name=""/>
          <p:cNvCxnSpPr>
            <a:stCxn id="1692" idx="6"/>
            <a:endCxn id="1691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704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2" name=""/>
          <p:cNvCxnSpPr>
            <a:stCxn id="1704" idx="6"/>
            <a:endCxn id="1705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3" name=""/>
          <p:cNvCxnSpPr>
            <a:stCxn id="1704" idx="4"/>
            <a:endCxn id="1707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14" name=""/>
          <p:cNvCxnSpPr>
            <a:stCxn id="1706" idx="5"/>
            <a:endCxn id="1709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5" name=""/>
          <p:cNvCxnSpPr>
            <a:stCxn id="1706" idx="5"/>
            <a:endCxn id="1711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16" name=""/>
          <p:cNvCxnSpPr>
            <a:stCxn id="1708" idx="7"/>
            <a:endCxn id="1705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7" name=""/>
          <p:cNvCxnSpPr>
            <a:stCxn id="1710" idx="6"/>
            <a:endCxn id="1709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8" name=""/>
          <p:cNvCxnSpPr>
            <a:stCxn id="1710" idx="6"/>
            <a:endCxn id="1711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19" name=""/>
          <p:cNvCxnSpPr>
            <a:stCxn id="1708" idx="6"/>
            <a:endCxn id="1707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720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1735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1752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0" name=""/>
          <p:cNvCxnSpPr>
            <a:stCxn id="1772" idx="6"/>
            <a:endCxn id="1773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2" idx="4"/>
            <a:endCxn id="1775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82" name=""/>
          <p:cNvCxnSpPr>
            <a:stCxn id="1774" idx="5"/>
            <a:endCxn id="1777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4" idx="5"/>
            <a:endCxn id="1779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84" name=""/>
          <p:cNvCxnSpPr>
            <a:stCxn id="1776" idx="7"/>
            <a:endCxn id="1773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5" name=""/>
          <p:cNvCxnSpPr>
            <a:stCxn id="1778" idx="6"/>
            <a:endCxn id="1777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6" name=""/>
          <p:cNvCxnSpPr>
            <a:stCxn id="1778" idx="6"/>
            <a:endCxn id="1779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87" name=""/>
          <p:cNvCxnSpPr>
            <a:stCxn id="1776" idx="6"/>
            <a:endCxn id="1775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788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1789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1" name=""/>
          <p:cNvCxnSpPr>
            <a:endCxn id="1797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2" name=""/>
          <p:cNvCxnSpPr>
            <a:endCxn id="1798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03" name=""/>
          <p:cNvCxnSpPr>
            <a:endCxn id="1799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endCxn id="1800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05" name=""/>
          <p:cNvCxnSpPr>
            <a:endCxn id="1797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endCxn id="1799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endCxn id="1800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08" name=""/>
          <p:cNvCxnSpPr>
            <a:endCxn id="1798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809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1810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0" name=""/>
          <p:cNvCxnSpPr>
            <a:stCxn id="1822" idx="6"/>
            <a:endCxn id="1823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1" name=""/>
          <p:cNvCxnSpPr>
            <a:stCxn id="1822" idx="4"/>
            <a:endCxn id="1825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32" name=""/>
          <p:cNvCxnSpPr>
            <a:stCxn id="1824" idx="5"/>
            <a:endCxn id="1827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3" name=""/>
          <p:cNvCxnSpPr>
            <a:stCxn id="1824" idx="5"/>
            <a:endCxn id="1829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34" name=""/>
          <p:cNvCxnSpPr>
            <a:stCxn id="1826" idx="7"/>
            <a:endCxn id="1823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8" idx="6"/>
            <a:endCxn id="1827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28" idx="6"/>
            <a:endCxn id="1829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37" name=""/>
          <p:cNvCxnSpPr>
            <a:stCxn id="1826" idx="6"/>
            <a:endCxn id="1825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838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1839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1" name=""/>
          <p:cNvCxnSpPr>
            <a:endCxn id="1847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2" name=""/>
          <p:cNvCxnSpPr>
            <a:endCxn id="1848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53" name=""/>
          <p:cNvCxnSpPr>
            <a:endCxn id="1849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endCxn id="1850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55" name=""/>
          <p:cNvCxnSpPr>
            <a:endCxn id="1847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endCxn id="1849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7" name=""/>
          <p:cNvCxnSpPr>
            <a:endCxn id="1850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58" name=""/>
          <p:cNvCxnSpPr>
            <a:endCxn id="1848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859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9" name=""/>
          <p:cNvCxnSpPr>
            <a:stCxn id="1871" idx="6"/>
            <a:endCxn id="1872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1" idx="4"/>
            <a:endCxn id="1874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81" name=""/>
          <p:cNvCxnSpPr>
            <a:stCxn id="1873" idx="5"/>
            <a:endCxn id="1876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3" idx="5"/>
            <a:endCxn id="1878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83" name=""/>
          <p:cNvCxnSpPr>
            <a:stCxn id="1875" idx="7"/>
            <a:endCxn id="1872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7" idx="6"/>
            <a:endCxn id="1876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77" idx="6"/>
            <a:endCxn id="1878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86" name=""/>
          <p:cNvCxnSpPr>
            <a:stCxn id="1875" idx="6"/>
            <a:endCxn id="1874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887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1888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6" name=""/>
          <p:cNvCxnSpPr>
            <a:stCxn id="1918" idx="6"/>
            <a:endCxn id="1919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7" name=""/>
          <p:cNvCxnSpPr>
            <a:stCxn id="1918" idx="4"/>
            <a:endCxn id="1921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928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6" name=""/>
          <p:cNvCxnSpPr>
            <a:stCxn id="1928" idx="6"/>
            <a:endCxn id="1929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7" name=""/>
          <p:cNvCxnSpPr>
            <a:stCxn id="1928" idx="4"/>
            <a:endCxn id="1931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38" name=""/>
          <p:cNvCxnSpPr>
            <a:stCxn id="1919" idx="6"/>
            <a:endCxn id="1928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9" name=""/>
          <p:cNvCxnSpPr>
            <a:stCxn id="1919" idx="5"/>
            <a:endCxn id="1930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40" name=""/>
          <p:cNvCxnSpPr>
            <a:stCxn id="1921" idx="5"/>
            <a:endCxn id="1932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21" idx="5"/>
            <a:endCxn id="1934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42" name=""/>
          <p:cNvCxnSpPr>
            <a:stCxn id="1930" idx="5"/>
            <a:endCxn id="1933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30" idx="5"/>
            <a:endCxn id="1935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44" name=""/>
          <p:cNvCxnSpPr>
            <a:stCxn id="1932" idx="7"/>
            <a:endCxn id="1929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34" idx="6"/>
            <a:endCxn id="1933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46" name=""/>
          <p:cNvCxnSpPr>
            <a:stCxn id="1934" idx="6"/>
            <a:endCxn id="1935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47" name=""/>
          <p:cNvCxnSpPr>
            <a:stCxn id="1932" idx="6"/>
            <a:endCxn id="1931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948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6" name=""/>
          <p:cNvCxnSpPr>
            <a:stCxn id="1948" idx="6"/>
            <a:endCxn id="1949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948" idx="4"/>
            <a:endCxn id="1951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58" name=""/>
          <p:cNvCxnSpPr>
            <a:stCxn id="1950" idx="5"/>
            <a:endCxn id="1953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950" idx="5"/>
            <a:endCxn id="1955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60" name=""/>
          <p:cNvCxnSpPr>
            <a:stCxn id="1952" idx="7"/>
            <a:endCxn id="1949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61" name=""/>
          <p:cNvCxnSpPr>
            <a:stCxn id="1954" idx="6"/>
            <a:endCxn id="1953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954" idx="6"/>
            <a:endCxn id="1955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63" name=""/>
          <p:cNvCxnSpPr>
            <a:stCxn id="1952" idx="6"/>
            <a:endCxn id="1951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964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2" name=""/>
          <p:cNvCxnSpPr>
            <a:stCxn id="1964" idx="6"/>
            <a:endCxn id="1965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73" name=""/>
          <p:cNvCxnSpPr>
            <a:stCxn id="1964" idx="4"/>
            <a:endCxn id="1967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74" name=""/>
          <p:cNvCxnSpPr>
            <a:stCxn id="1966" idx="5"/>
            <a:endCxn id="1969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75" name=""/>
          <p:cNvCxnSpPr>
            <a:stCxn id="1966" idx="5"/>
            <a:endCxn id="1971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76" name=""/>
          <p:cNvCxnSpPr>
            <a:stCxn id="1968" idx="7"/>
            <a:endCxn id="1965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7" name=""/>
          <p:cNvCxnSpPr>
            <a:stCxn id="1970" idx="6"/>
            <a:endCxn id="1969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0" idx="6"/>
            <a:endCxn id="1971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79" name=""/>
          <p:cNvCxnSpPr>
            <a:stCxn id="1968" idx="6"/>
            <a:endCxn id="1967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980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8" name=""/>
          <p:cNvCxnSpPr>
            <a:stCxn id="1980" idx="6"/>
            <a:endCxn id="1981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89" name=""/>
          <p:cNvCxnSpPr>
            <a:stCxn id="1980" idx="4"/>
            <a:endCxn id="1983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90" name=""/>
          <p:cNvCxnSpPr>
            <a:stCxn id="1982" idx="5"/>
            <a:endCxn id="1985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2" idx="5"/>
            <a:endCxn id="1987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92" name=""/>
          <p:cNvCxnSpPr>
            <a:stCxn id="1984" idx="7"/>
            <a:endCxn id="1981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3" name=""/>
          <p:cNvCxnSpPr>
            <a:stCxn id="1986" idx="6"/>
            <a:endCxn id="1985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94" name=""/>
          <p:cNvCxnSpPr>
            <a:stCxn id="1986" idx="6"/>
            <a:endCxn id="1987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95" name=""/>
          <p:cNvCxnSpPr>
            <a:stCxn id="1984" idx="6"/>
            <a:endCxn id="1983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996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4" name=""/>
          <p:cNvCxnSpPr>
            <a:stCxn id="1996" idx="6"/>
            <a:endCxn id="1997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5" name=""/>
          <p:cNvCxnSpPr>
            <a:stCxn id="1996" idx="4"/>
            <a:endCxn id="1999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06" name=""/>
          <p:cNvCxnSpPr>
            <a:stCxn id="1998" idx="5"/>
            <a:endCxn id="2001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1998" idx="5"/>
            <a:endCxn id="2003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08" name=""/>
          <p:cNvCxnSpPr>
            <a:stCxn id="2000" idx="7"/>
            <a:endCxn id="1997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2" idx="6"/>
            <a:endCxn id="2001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0" name=""/>
          <p:cNvCxnSpPr>
            <a:stCxn id="2002" idx="6"/>
            <a:endCxn id="2003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11" name=""/>
          <p:cNvCxnSpPr>
            <a:stCxn id="2000" idx="6"/>
            <a:endCxn id="1999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12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2027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5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1" name=""/>
          <p:cNvCxnSpPr>
            <a:stCxn id="2063" idx="6"/>
            <a:endCxn id="2064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2" name=""/>
          <p:cNvCxnSpPr>
            <a:stCxn id="2063" idx="4"/>
            <a:endCxn id="2066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73" name=""/>
          <p:cNvCxnSpPr>
            <a:stCxn id="2065" idx="5"/>
            <a:endCxn id="2068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4" name=""/>
          <p:cNvCxnSpPr>
            <a:stCxn id="2065" idx="5"/>
            <a:endCxn id="2070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75" name=""/>
          <p:cNvCxnSpPr>
            <a:stCxn id="2067" idx="7"/>
            <a:endCxn id="2064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6" name=""/>
          <p:cNvCxnSpPr>
            <a:stCxn id="2069" idx="6"/>
            <a:endCxn id="2068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7" name=""/>
          <p:cNvCxnSpPr>
            <a:stCxn id="2069" idx="6"/>
            <a:endCxn id="2070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78" name=""/>
          <p:cNvCxnSpPr>
            <a:stCxn id="2067" idx="6"/>
            <a:endCxn id="2066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079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2080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2" name=""/>
          <p:cNvCxnSpPr>
            <a:endCxn id="2088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3" name=""/>
          <p:cNvCxnSpPr>
            <a:endCxn id="2089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94" name=""/>
          <p:cNvCxnSpPr>
            <a:endCxn id="2090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5" name=""/>
          <p:cNvCxnSpPr>
            <a:endCxn id="2091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96" name=""/>
          <p:cNvCxnSpPr>
            <a:endCxn id="2088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7" name=""/>
          <p:cNvCxnSpPr>
            <a:endCxn id="2090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8" name=""/>
          <p:cNvCxnSpPr>
            <a:endCxn id="2091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99" name=""/>
          <p:cNvCxnSpPr>
            <a:endCxn id="2089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100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2101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1" name=""/>
          <p:cNvCxnSpPr>
            <a:stCxn id="2113" idx="6"/>
            <a:endCxn id="2114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2" name=""/>
          <p:cNvCxnSpPr>
            <a:stCxn id="2113" idx="4"/>
            <a:endCxn id="2116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23" name=""/>
          <p:cNvCxnSpPr>
            <a:stCxn id="2115" idx="5"/>
            <a:endCxn id="2118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4" name=""/>
          <p:cNvCxnSpPr>
            <a:stCxn id="2115" idx="5"/>
            <a:endCxn id="2120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25" name=""/>
          <p:cNvCxnSpPr>
            <a:stCxn id="2117" idx="7"/>
            <a:endCxn id="2114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19" idx="6"/>
            <a:endCxn id="2118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7" name=""/>
          <p:cNvCxnSpPr>
            <a:stCxn id="2119" idx="6"/>
            <a:endCxn id="2120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28" name=""/>
          <p:cNvCxnSpPr>
            <a:stCxn id="2117" idx="6"/>
            <a:endCxn id="2116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129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2130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8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2" name=""/>
          <p:cNvCxnSpPr>
            <a:endCxn id="2138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3" name=""/>
          <p:cNvCxnSpPr>
            <a:endCxn id="2139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44" name=""/>
          <p:cNvCxnSpPr>
            <a:endCxn id="2140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5" name=""/>
          <p:cNvCxnSpPr>
            <a:endCxn id="2141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46" name=""/>
          <p:cNvCxnSpPr>
            <a:endCxn id="2138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7" name=""/>
          <p:cNvCxnSpPr>
            <a:endCxn id="2140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8" name=""/>
          <p:cNvCxnSpPr>
            <a:endCxn id="2141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49" name=""/>
          <p:cNvCxnSpPr>
            <a:endCxn id="2139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150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0" name=""/>
          <p:cNvCxnSpPr>
            <a:stCxn id="2162" idx="6"/>
            <a:endCxn id="2163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1" name=""/>
          <p:cNvCxnSpPr>
            <a:stCxn id="2162" idx="4"/>
            <a:endCxn id="2165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72" name=""/>
          <p:cNvCxnSpPr>
            <a:stCxn id="2164" idx="5"/>
            <a:endCxn id="2167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3" name=""/>
          <p:cNvCxnSpPr>
            <a:stCxn id="2164" idx="5"/>
            <a:endCxn id="2169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74" name=""/>
          <p:cNvCxnSpPr>
            <a:stCxn id="2166" idx="7"/>
            <a:endCxn id="2163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5" name=""/>
          <p:cNvCxnSpPr>
            <a:stCxn id="2168" idx="6"/>
            <a:endCxn id="2167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6" name=""/>
          <p:cNvCxnSpPr>
            <a:stCxn id="2168" idx="6"/>
            <a:endCxn id="2169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77" name=""/>
          <p:cNvCxnSpPr>
            <a:stCxn id="2166" idx="6"/>
            <a:endCxn id="2165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178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2179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7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1" name=""/>
          <p:cNvCxnSpPr>
            <a:stCxn id="2213" idx="6"/>
            <a:endCxn id="2214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2" name=""/>
          <p:cNvCxnSpPr>
            <a:stCxn id="2213" idx="4"/>
            <a:endCxn id="2216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223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1" name=""/>
          <p:cNvCxnSpPr>
            <a:stCxn id="2223" idx="6"/>
            <a:endCxn id="2224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2" name=""/>
          <p:cNvCxnSpPr>
            <a:stCxn id="2223" idx="4"/>
            <a:endCxn id="2226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33" name=""/>
          <p:cNvCxnSpPr>
            <a:stCxn id="2214" idx="6"/>
            <a:endCxn id="2223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4" name=""/>
          <p:cNvCxnSpPr>
            <a:stCxn id="2214" idx="5"/>
            <a:endCxn id="2225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35" name=""/>
          <p:cNvCxnSpPr>
            <a:stCxn id="2216" idx="5"/>
            <a:endCxn id="2227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6" name=""/>
          <p:cNvCxnSpPr>
            <a:stCxn id="2216" idx="5"/>
            <a:endCxn id="2229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37" name=""/>
          <p:cNvCxnSpPr>
            <a:stCxn id="2225" idx="5"/>
            <a:endCxn id="2228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8" name=""/>
          <p:cNvCxnSpPr>
            <a:stCxn id="2225" idx="5"/>
            <a:endCxn id="2230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39" name=""/>
          <p:cNvCxnSpPr>
            <a:stCxn id="2227" idx="7"/>
            <a:endCxn id="2224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0" name=""/>
          <p:cNvCxnSpPr>
            <a:stCxn id="2229" idx="6"/>
            <a:endCxn id="2228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41" name=""/>
          <p:cNvCxnSpPr>
            <a:stCxn id="2229" idx="6"/>
            <a:endCxn id="2230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42" name=""/>
          <p:cNvCxnSpPr>
            <a:stCxn id="2227" idx="6"/>
            <a:endCxn id="2226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43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1" name=""/>
          <p:cNvCxnSpPr>
            <a:stCxn id="2243" idx="6"/>
            <a:endCxn id="2244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2" name=""/>
          <p:cNvCxnSpPr>
            <a:stCxn id="2243" idx="4"/>
            <a:endCxn id="2246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53" name=""/>
          <p:cNvCxnSpPr>
            <a:stCxn id="2245" idx="5"/>
            <a:endCxn id="2248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4" name=""/>
          <p:cNvCxnSpPr>
            <a:stCxn id="2245" idx="5"/>
            <a:endCxn id="2250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55" name=""/>
          <p:cNvCxnSpPr>
            <a:stCxn id="2247" idx="7"/>
            <a:endCxn id="2244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56" name=""/>
          <p:cNvCxnSpPr>
            <a:stCxn id="2249" idx="6"/>
            <a:endCxn id="2248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7" name=""/>
          <p:cNvCxnSpPr>
            <a:stCxn id="2249" idx="6"/>
            <a:endCxn id="2250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58" name=""/>
          <p:cNvCxnSpPr>
            <a:stCxn id="2247" idx="6"/>
            <a:endCxn id="2246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259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7" name=""/>
          <p:cNvCxnSpPr>
            <a:stCxn id="2259" idx="6"/>
            <a:endCxn id="2260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68" name=""/>
          <p:cNvCxnSpPr>
            <a:stCxn id="2259" idx="4"/>
            <a:endCxn id="2262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69" name=""/>
          <p:cNvCxnSpPr>
            <a:stCxn id="2261" idx="5"/>
            <a:endCxn id="2264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70" name=""/>
          <p:cNvCxnSpPr>
            <a:stCxn id="2261" idx="5"/>
            <a:endCxn id="2266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71" name=""/>
          <p:cNvCxnSpPr>
            <a:stCxn id="2263" idx="7"/>
            <a:endCxn id="2260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2" name=""/>
          <p:cNvCxnSpPr>
            <a:stCxn id="2265" idx="6"/>
            <a:endCxn id="2264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3" name=""/>
          <p:cNvCxnSpPr>
            <a:stCxn id="2265" idx="6"/>
            <a:endCxn id="2266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74" name=""/>
          <p:cNvCxnSpPr>
            <a:stCxn id="2263" idx="6"/>
            <a:endCxn id="2262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75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3" name=""/>
          <p:cNvCxnSpPr>
            <a:stCxn id="2275" idx="6"/>
            <a:endCxn id="2276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84" name=""/>
          <p:cNvCxnSpPr>
            <a:stCxn id="2275" idx="4"/>
            <a:endCxn id="2278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85" name=""/>
          <p:cNvCxnSpPr>
            <a:stCxn id="2277" idx="5"/>
            <a:endCxn id="2280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6" name=""/>
          <p:cNvCxnSpPr>
            <a:stCxn id="2277" idx="5"/>
            <a:endCxn id="2282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87" name=""/>
          <p:cNvCxnSpPr>
            <a:stCxn id="2279" idx="7"/>
            <a:endCxn id="2276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8" name=""/>
          <p:cNvCxnSpPr>
            <a:stCxn id="2281" idx="6"/>
            <a:endCxn id="2280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89" name=""/>
          <p:cNvCxnSpPr>
            <a:stCxn id="2281" idx="6"/>
            <a:endCxn id="2282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90" name=""/>
          <p:cNvCxnSpPr>
            <a:stCxn id="2279" idx="6"/>
            <a:endCxn id="2278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91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9" name=""/>
          <p:cNvCxnSpPr>
            <a:stCxn id="2291" idx="6"/>
            <a:endCxn id="2292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300" name=""/>
          <p:cNvCxnSpPr>
            <a:stCxn id="2291" idx="4"/>
            <a:endCxn id="2294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01" name=""/>
          <p:cNvCxnSpPr>
            <a:stCxn id="2293" idx="5"/>
            <a:endCxn id="2296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2" name=""/>
          <p:cNvCxnSpPr>
            <a:stCxn id="2293" idx="5"/>
            <a:endCxn id="2298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03" name=""/>
          <p:cNvCxnSpPr>
            <a:stCxn id="2295" idx="7"/>
            <a:endCxn id="2292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4" name=""/>
          <p:cNvCxnSpPr>
            <a:stCxn id="2297" idx="6"/>
            <a:endCxn id="2296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305" name=""/>
          <p:cNvCxnSpPr>
            <a:stCxn id="2297" idx="6"/>
            <a:endCxn id="2298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306" name=""/>
          <p:cNvCxnSpPr>
            <a:stCxn id="2295" idx="6"/>
            <a:endCxn id="2294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307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1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2322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6" name=""/>
          <p:cNvCxnSpPr>
            <a:stCxn id="2358" idx="6"/>
            <a:endCxn id="2359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7" name=""/>
          <p:cNvCxnSpPr>
            <a:stCxn id="2358" idx="4"/>
            <a:endCxn id="2361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68" name=""/>
          <p:cNvCxnSpPr>
            <a:stCxn id="2360" idx="5"/>
            <a:endCxn id="2363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9" name=""/>
          <p:cNvCxnSpPr>
            <a:stCxn id="2360" idx="5"/>
            <a:endCxn id="2365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70" name=""/>
          <p:cNvCxnSpPr>
            <a:stCxn id="2362" idx="7"/>
            <a:endCxn id="2359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1" name=""/>
          <p:cNvCxnSpPr>
            <a:stCxn id="2364" idx="6"/>
            <a:endCxn id="2363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2" name=""/>
          <p:cNvCxnSpPr>
            <a:stCxn id="2364" idx="6"/>
            <a:endCxn id="2365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73" name=""/>
          <p:cNvCxnSpPr>
            <a:stCxn id="2362" idx="6"/>
            <a:endCxn id="2361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374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2375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7" name=""/>
          <p:cNvCxnSpPr>
            <a:endCxn id="2383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8" name=""/>
          <p:cNvCxnSpPr>
            <a:endCxn id="2384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89" name=""/>
          <p:cNvCxnSpPr>
            <a:endCxn id="2385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0" name=""/>
          <p:cNvCxnSpPr>
            <a:endCxn id="2386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91" name=""/>
          <p:cNvCxnSpPr>
            <a:endCxn id="2383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2" name=""/>
          <p:cNvCxnSpPr>
            <a:endCxn id="2385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3" name=""/>
          <p:cNvCxnSpPr>
            <a:endCxn id="2386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94" name=""/>
          <p:cNvCxnSpPr>
            <a:endCxn id="2384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395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2396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6" name=""/>
          <p:cNvCxnSpPr>
            <a:stCxn id="2408" idx="6"/>
            <a:endCxn id="2409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7" name=""/>
          <p:cNvCxnSpPr>
            <a:stCxn id="2408" idx="4"/>
            <a:endCxn id="2411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18" name=""/>
          <p:cNvCxnSpPr>
            <a:stCxn id="2410" idx="5"/>
            <a:endCxn id="2413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9" name=""/>
          <p:cNvCxnSpPr>
            <a:stCxn id="2410" idx="5"/>
            <a:endCxn id="2415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20" name=""/>
          <p:cNvCxnSpPr>
            <a:stCxn id="2412" idx="7"/>
            <a:endCxn id="2409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1" name=""/>
          <p:cNvCxnSpPr>
            <a:stCxn id="2414" idx="6"/>
            <a:endCxn id="2413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2" name=""/>
          <p:cNvCxnSpPr>
            <a:stCxn id="2414" idx="6"/>
            <a:endCxn id="2415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23" name=""/>
          <p:cNvCxnSpPr>
            <a:stCxn id="2412" idx="6"/>
            <a:endCxn id="2411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424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2425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3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7" name=""/>
          <p:cNvCxnSpPr>
            <a:endCxn id="2433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8" name=""/>
          <p:cNvCxnSpPr>
            <a:endCxn id="2434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39" name=""/>
          <p:cNvCxnSpPr>
            <a:endCxn id="2435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0" name=""/>
          <p:cNvCxnSpPr>
            <a:endCxn id="2436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41" name=""/>
          <p:cNvCxnSpPr>
            <a:endCxn id="2433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2" name=""/>
          <p:cNvCxnSpPr>
            <a:endCxn id="2435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3" name=""/>
          <p:cNvCxnSpPr>
            <a:endCxn id="2436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44" name=""/>
          <p:cNvCxnSpPr>
            <a:endCxn id="2434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45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5" name=""/>
          <p:cNvCxnSpPr>
            <a:stCxn id="2457" idx="6"/>
            <a:endCxn id="2458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6" name=""/>
          <p:cNvCxnSpPr>
            <a:stCxn id="2457" idx="4"/>
            <a:endCxn id="2460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7" name=""/>
          <p:cNvCxnSpPr>
            <a:stCxn id="2459" idx="5"/>
            <a:endCxn id="2462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8" name=""/>
          <p:cNvCxnSpPr>
            <a:stCxn id="2459" idx="5"/>
            <a:endCxn id="2464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9" name=""/>
          <p:cNvCxnSpPr>
            <a:stCxn id="2461" idx="7"/>
            <a:endCxn id="2458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0" name=""/>
          <p:cNvCxnSpPr>
            <a:stCxn id="2463" idx="6"/>
            <a:endCxn id="2462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1" name=""/>
          <p:cNvCxnSpPr>
            <a:stCxn id="2463" idx="6"/>
            <a:endCxn id="2464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72" name=""/>
          <p:cNvCxnSpPr>
            <a:stCxn id="2461" idx="6"/>
            <a:endCxn id="2460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473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2474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2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2045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2045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2045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2045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2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2" idx="6"/>
            <a:endCxn id="2513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2" idx="4"/>
            <a:endCxn id="2515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522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0" name=""/>
          <p:cNvCxnSpPr>
            <a:stCxn id="2522" idx="6"/>
            <a:endCxn id="2523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1" name=""/>
          <p:cNvCxnSpPr>
            <a:stCxn id="2522" idx="4"/>
            <a:endCxn id="2525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32" name=""/>
          <p:cNvCxnSpPr>
            <a:stCxn id="2513" idx="6"/>
            <a:endCxn id="2522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3" name=""/>
          <p:cNvCxnSpPr>
            <a:stCxn id="2513" idx="5"/>
            <a:endCxn id="2524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34" name=""/>
          <p:cNvCxnSpPr>
            <a:stCxn id="2515" idx="5"/>
            <a:endCxn id="2526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5" name=""/>
          <p:cNvCxnSpPr>
            <a:stCxn id="2515" idx="5"/>
            <a:endCxn id="2528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36" name=""/>
          <p:cNvCxnSpPr>
            <a:stCxn id="2524" idx="5"/>
            <a:endCxn id="2527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7" name=""/>
          <p:cNvCxnSpPr>
            <a:stCxn id="2524" idx="5"/>
            <a:endCxn id="2529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38" name=""/>
          <p:cNvCxnSpPr>
            <a:stCxn id="2526" idx="7"/>
            <a:endCxn id="2523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9" name=""/>
          <p:cNvCxnSpPr>
            <a:stCxn id="2528" idx="6"/>
            <a:endCxn id="2527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40" name=""/>
          <p:cNvCxnSpPr>
            <a:stCxn id="2528" idx="6"/>
            <a:endCxn id="2529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41" name=""/>
          <p:cNvCxnSpPr>
            <a:stCxn id="2526" idx="6"/>
            <a:endCxn id="2525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42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0" name=""/>
          <p:cNvCxnSpPr>
            <a:stCxn id="2542" idx="6"/>
            <a:endCxn id="2543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1" name=""/>
          <p:cNvCxnSpPr>
            <a:stCxn id="2542" idx="4"/>
            <a:endCxn id="2545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52" name=""/>
          <p:cNvCxnSpPr>
            <a:stCxn id="2544" idx="5"/>
            <a:endCxn id="2547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3" name=""/>
          <p:cNvCxnSpPr>
            <a:stCxn id="2544" idx="5"/>
            <a:endCxn id="2549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54" name=""/>
          <p:cNvCxnSpPr>
            <a:stCxn id="2546" idx="7"/>
            <a:endCxn id="2543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55" name=""/>
          <p:cNvCxnSpPr>
            <a:stCxn id="2548" idx="6"/>
            <a:endCxn id="2547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6" name=""/>
          <p:cNvCxnSpPr>
            <a:stCxn id="2548" idx="6"/>
            <a:endCxn id="2549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57" name=""/>
          <p:cNvCxnSpPr>
            <a:stCxn id="2546" idx="6"/>
            <a:endCxn id="2545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558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6" name=""/>
          <p:cNvCxnSpPr>
            <a:stCxn id="2558" idx="6"/>
            <a:endCxn id="2559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67" name=""/>
          <p:cNvCxnSpPr>
            <a:stCxn id="2558" idx="4"/>
            <a:endCxn id="2561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68" name=""/>
          <p:cNvCxnSpPr>
            <a:stCxn id="2560" idx="5"/>
            <a:endCxn id="2563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69" name=""/>
          <p:cNvCxnSpPr>
            <a:stCxn id="2560" idx="5"/>
            <a:endCxn id="2565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70" name=""/>
          <p:cNvCxnSpPr>
            <a:stCxn id="2562" idx="7"/>
            <a:endCxn id="2559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1" name=""/>
          <p:cNvCxnSpPr>
            <a:stCxn id="2564" idx="6"/>
            <a:endCxn id="2563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2" name=""/>
          <p:cNvCxnSpPr>
            <a:stCxn id="2564" idx="6"/>
            <a:endCxn id="2565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73" name=""/>
          <p:cNvCxnSpPr>
            <a:stCxn id="2562" idx="6"/>
            <a:endCxn id="2561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74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2" name=""/>
          <p:cNvCxnSpPr>
            <a:stCxn id="2574" idx="6"/>
            <a:endCxn id="2575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83" name=""/>
          <p:cNvCxnSpPr>
            <a:stCxn id="2574" idx="4"/>
            <a:endCxn id="2577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84" name=""/>
          <p:cNvCxnSpPr>
            <a:stCxn id="2576" idx="5"/>
            <a:endCxn id="2579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5" name=""/>
          <p:cNvCxnSpPr>
            <a:stCxn id="2576" idx="5"/>
            <a:endCxn id="2581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86" name=""/>
          <p:cNvCxnSpPr>
            <a:stCxn id="2578" idx="7"/>
            <a:endCxn id="2575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7" name=""/>
          <p:cNvCxnSpPr>
            <a:stCxn id="2580" idx="6"/>
            <a:endCxn id="2579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88" name=""/>
          <p:cNvCxnSpPr>
            <a:stCxn id="2580" idx="6"/>
            <a:endCxn id="2581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89" name=""/>
          <p:cNvCxnSpPr>
            <a:stCxn id="2578" idx="6"/>
            <a:endCxn id="2577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90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8" name=""/>
          <p:cNvCxnSpPr>
            <a:stCxn id="2590" idx="6"/>
            <a:endCxn id="2591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99" name=""/>
          <p:cNvCxnSpPr>
            <a:stCxn id="2590" idx="4"/>
            <a:endCxn id="2593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00" name=""/>
          <p:cNvCxnSpPr>
            <a:stCxn id="2592" idx="5"/>
            <a:endCxn id="2595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1" name=""/>
          <p:cNvCxnSpPr>
            <a:stCxn id="2592" idx="5"/>
            <a:endCxn id="2597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02" name=""/>
          <p:cNvCxnSpPr>
            <a:stCxn id="2594" idx="7"/>
            <a:endCxn id="2591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3" name=""/>
          <p:cNvCxnSpPr>
            <a:stCxn id="2596" idx="6"/>
            <a:endCxn id="2595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04" name=""/>
          <p:cNvCxnSpPr>
            <a:stCxn id="2596" idx="6"/>
            <a:endCxn id="2597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605" name=""/>
          <p:cNvCxnSpPr>
            <a:stCxn id="2594" idx="6"/>
            <a:endCxn id="2593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606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2621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5" name=""/>
          <p:cNvCxnSpPr>
            <a:stCxn id="2657" idx="6"/>
            <a:endCxn id="2658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66" name=""/>
          <p:cNvCxnSpPr>
            <a:stCxn id="2657" idx="4"/>
            <a:endCxn id="2667" idx="2"/>
          </p:cNvCxnSpPr>
          <p:nvPr/>
        </p:nvCxnSpPr>
        <p:spPr>
          <a:xfrm>
            <a:off x="5334120" y="2962440"/>
            <a:ext cx="598680" cy="5436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668" name=""/>
          <p:cNvCxnSpPr>
            <a:stCxn id="2659" idx="5"/>
            <a:endCxn id="2662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69" name=""/>
          <p:cNvCxnSpPr>
            <a:stCxn id="2659" idx="5"/>
            <a:endCxn id="2664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670" name=""/>
          <p:cNvCxnSpPr>
            <a:stCxn id="2661" idx="7"/>
            <a:endCxn id="2658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1" name=""/>
          <p:cNvCxnSpPr>
            <a:stCxn id="2663" idx="6"/>
            <a:endCxn id="2662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2" name=""/>
          <p:cNvCxnSpPr>
            <a:stCxn id="2663" idx="6"/>
            <a:endCxn id="2664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73" name=""/>
          <p:cNvCxnSpPr>
            <a:stCxn id="2661" idx="6"/>
            <a:endCxn id="2660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674" name=""/>
          <p:cNvSpPr/>
          <p:nvPr/>
        </p:nvSpPr>
        <p:spPr>
          <a:xfrm>
            <a:off x="54097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3733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56668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4986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5479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4558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4478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53589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6" name=""/>
          <p:cNvCxnSpPr>
            <a:endCxn id="2682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7" name=""/>
          <p:cNvCxnSpPr>
            <a:endCxn id="2683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88" name=""/>
          <p:cNvCxnSpPr>
            <a:endCxn id="2684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9" name=""/>
          <p:cNvCxnSpPr>
            <a:endCxn id="2685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90" name=""/>
          <p:cNvCxnSpPr>
            <a:endCxn id="2682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1" name=""/>
          <p:cNvCxnSpPr>
            <a:endCxn id="2684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2" name=""/>
          <p:cNvCxnSpPr>
            <a:endCxn id="2685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93" name=""/>
          <p:cNvCxnSpPr>
            <a:endCxn id="2683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694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2695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3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5" name=""/>
          <p:cNvCxnSpPr>
            <a:stCxn id="2707" idx="6"/>
            <a:endCxn id="2708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6" name=""/>
          <p:cNvCxnSpPr>
            <a:stCxn id="2707" idx="4"/>
            <a:endCxn id="2710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17" name=""/>
          <p:cNvCxnSpPr>
            <a:stCxn id="2709" idx="5"/>
            <a:endCxn id="2712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8" name=""/>
          <p:cNvCxnSpPr>
            <a:stCxn id="2709" idx="5"/>
            <a:endCxn id="2714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19" name=""/>
          <p:cNvCxnSpPr>
            <a:stCxn id="2711" idx="7"/>
            <a:endCxn id="2708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0" name=""/>
          <p:cNvCxnSpPr>
            <a:stCxn id="2713" idx="6"/>
            <a:endCxn id="2712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1" name=""/>
          <p:cNvCxnSpPr>
            <a:stCxn id="2713" idx="6"/>
            <a:endCxn id="2714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22" name=""/>
          <p:cNvCxnSpPr>
            <a:stCxn id="2711" idx="6"/>
            <a:endCxn id="2710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723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2724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2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6" name=""/>
          <p:cNvCxnSpPr>
            <a:endCxn id="2732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7" name=""/>
          <p:cNvCxnSpPr>
            <a:endCxn id="2733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38" name=""/>
          <p:cNvCxnSpPr>
            <a:endCxn id="2734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9" name=""/>
          <p:cNvCxnSpPr>
            <a:endCxn id="2735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40" name=""/>
          <p:cNvCxnSpPr>
            <a:endCxn id="2732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1" name=""/>
          <p:cNvCxnSpPr>
            <a:endCxn id="2734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2" name=""/>
          <p:cNvCxnSpPr>
            <a:endCxn id="2735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43" name=""/>
          <p:cNvCxnSpPr>
            <a:endCxn id="2733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744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4" name=""/>
          <p:cNvCxnSpPr>
            <a:stCxn id="2756" idx="6"/>
            <a:endCxn id="2757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5" name=""/>
          <p:cNvCxnSpPr>
            <a:stCxn id="2756" idx="4"/>
            <a:endCxn id="2759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66" name=""/>
          <p:cNvCxnSpPr>
            <a:stCxn id="2758" idx="5"/>
            <a:endCxn id="2761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7" name=""/>
          <p:cNvCxnSpPr>
            <a:stCxn id="2758" idx="5"/>
            <a:endCxn id="2763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68" name=""/>
          <p:cNvCxnSpPr>
            <a:stCxn id="2760" idx="7"/>
            <a:endCxn id="2757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9" name=""/>
          <p:cNvCxnSpPr>
            <a:stCxn id="2762" idx="6"/>
            <a:endCxn id="2761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0" name=""/>
          <p:cNvCxnSpPr>
            <a:stCxn id="2762" idx="6"/>
            <a:endCxn id="2763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71" name=""/>
          <p:cNvCxnSpPr>
            <a:stCxn id="2760" idx="6"/>
            <a:endCxn id="2759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772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2773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2045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2045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52045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2045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790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790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790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5790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4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2" name=""/>
          <p:cNvCxnSpPr>
            <a:stCxn id="2814" idx="6"/>
            <a:endCxn id="2815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3" name=""/>
          <p:cNvCxnSpPr>
            <a:stCxn id="2814" idx="4"/>
            <a:endCxn id="2817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824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2" name=""/>
          <p:cNvCxnSpPr>
            <a:stCxn id="2824" idx="6"/>
            <a:endCxn id="2825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3" name=""/>
          <p:cNvCxnSpPr>
            <a:stCxn id="2824" idx="4"/>
            <a:endCxn id="2827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34" name=""/>
          <p:cNvCxnSpPr>
            <a:stCxn id="2815" idx="6"/>
            <a:endCxn id="2824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5" name=""/>
          <p:cNvCxnSpPr>
            <a:stCxn id="2815" idx="5"/>
            <a:endCxn id="2826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36" name=""/>
          <p:cNvCxnSpPr>
            <a:stCxn id="2817" idx="5"/>
            <a:endCxn id="2828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7" name=""/>
          <p:cNvCxnSpPr>
            <a:stCxn id="2817" idx="5"/>
            <a:endCxn id="2830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38" name=""/>
          <p:cNvCxnSpPr>
            <a:stCxn id="2826" idx="5"/>
            <a:endCxn id="2829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9" name=""/>
          <p:cNvCxnSpPr>
            <a:stCxn id="2826" idx="5"/>
            <a:endCxn id="2831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40" name=""/>
          <p:cNvCxnSpPr>
            <a:stCxn id="2828" idx="7"/>
            <a:endCxn id="2825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1" name=""/>
          <p:cNvCxnSpPr>
            <a:stCxn id="2830" idx="6"/>
            <a:endCxn id="2829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42" name=""/>
          <p:cNvCxnSpPr>
            <a:stCxn id="2830" idx="6"/>
            <a:endCxn id="2831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43" name=""/>
          <p:cNvCxnSpPr>
            <a:stCxn id="2828" idx="6"/>
            <a:endCxn id="2827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844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2" name=""/>
          <p:cNvCxnSpPr>
            <a:stCxn id="2844" idx="6"/>
            <a:endCxn id="2845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3" name=""/>
          <p:cNvCxnSpPr>
            <a:stCxn id="2844" idx="4"/>
            <a:endCxn id="2847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54" name=""/>
          <p:cNvCxnSpPr>
            <a:stCxn id="2846" idx="5"/>
            <a:endCxn id="2849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5" name=""/>
          <p:cNvCxnSpPr>
            <a:stCxn id="2846" idx="5"/>
            <a:endCxn id="2851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56" name=""/>
          <p:cNvCxnSpPr>
            <a:stCxn id="2848" idx="7"/>
            <a:endCxn id="2845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57" name=""/>
          <p:cNvCxnSpPr>
            <a:stCxn id="2850" idx="6"/>
            <a:endCxn id="2849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8" name=""/>
          <p:cNvCxnSpPr>
            <a:stCxn id="2850" idx="6"/>
            <a:endCxn id="2851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59" name=""/>
          <p:cNvCxnSpPr>
            <a:stCxn id="2848" idx="6"/>
            <a:endCxn id="2847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860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8" name=""/>
          <p:cNvCxnSpPr>
            <a:stCxn id="2860" idx="6"/>
            <a:endCxn id="2861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69" name=""/>
          <p:cNvCxnSpPr>
            <a:stCxn id="2860" idx="4"/>
            <a:endCxn id="2863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70" name=""/>
          <p:cNvCxnSpPr>
            <a:stCxn id="2862" idx="5"/>
            <a:endCxn id="2865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71" name=""/>
          <p:cNvCxnSpPr>
            <a:stCxn id="2862" idx="5"/>
            <a:endCxn id="2867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72" name=""/>
          <p:cNvCxnSpPr>
            <a:stCxn id="2864" idx="7"/>
            <a:endCxn id="2861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3" name=""/>
          <p:cNvCxnSpPr>
            <a:stCxn id="2866" idx="6"/>
            <a:endCxn id="2865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4" name=""/>
          <p:cNvCxnSpPr>
            <a:stCxn id="2866" idx="6"/>
            <a:endCxn id="2867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75" name=""/>
          <p:cNvCxnSpPr>
            <a:stCxn id="2864" idx="6"/>
            <a:endCxn id="2863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876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4" name=""/>
          <p:cNvCxnSpPr>
            <a:stCxn id="2876" idx="6"/>
            <a:endCxn id="2877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85" name=""/>
          <p:cNvCxnSpPr>
            <a:stCxn id="2876" idx="4"/>
            <a:endCxn id="2879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86" name=""/>
          <p:cNvCxnSpPr>
            <a:stCxn id="2878" idx="5"/>
            <a:endCxn id="2881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7" name=""/>
          <p:cNvCxnSpPr>
            <a:stCxn id="2878" idx="5"/>
            <a:endCxn id="2883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88" name=""/>
          <p:cNvCxnSpPr>
            <a:stCxn id="2880" idx="7"/>
            <a:endCxn id="2877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9" name=""/>
          <p:cNvCxnSpPr>
            <a:stCxn id="2882" idx="6"/>
            <a:endCxn id="2881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90" name=""/>
          <p:cNvCxnSpPr>
            <a:stCxn id="2882" idx="6"/>
            <a:endCxn id="2883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91" name=""/>
          <p:cNvCxnSpPr>
            <a:stCxn id="2880" idx="6"/>
            <a:endCxn id="2879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892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0" name=""/>
          <p:cNvCxnSpPr>
            <a:stCxn id="2892" idx="6"/>
            <a:endCxn id="2893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01" name=""/>
          <p:cNvCxnSpPr>
            <a:stCxn id="2892" idx="4"/>
            <a:endCxn id="2895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02" name=""/>
          <p:cNvCxnSpPr>
            <a:stCxn id="2894" idx="5"/>
            <a:endCxn id="2897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3" name=""/>
          <p:cNvCxnSpPr>
            <a:stCxn id="2894" idx="5"/>
            <a:endCxn id="2899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04" name=""/>
          <p:cNvCxnSpPr>
            <a:stCxn id="2896" idx="7"/>
            <a:endCxn id="2893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5" name=""/>
          <p:cNvCxnSpPr>
            <a:stCxn id="2898" idx="6"/>
            <a:endCxn id="2897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06" name=""/>
          <p:cNvCxnSpPr>
            <a:stCxn id="2898" idx="6"/>
            <a:endCxn id="2899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07" name=""/>
          <p:cNvCxnSpPr>
            <a:stCxn id="2896" idx="6"/>
            <a:endCxn id="2895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908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2923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1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7" name=""/>
          <p:cNvCxnSpPr>
            <a:stCxn id="2959" idx="6"/>
            <a:endCxn id="2960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68" name=""/>
          <p:cNvCxnSpPr>
            <a:stCxn id="2959" idx="4"/>
            <a:endCxn id="2969" idx="2"/>
          </p:cNvCxnSpPr>
          <p:nvPr/>
        </p:nvCxnSpPr>
        <p:spPr>
          <a:xfrm>
            <a:off x="5334120" y="2962440"/>
            <a:ext cx="598680" cy="5436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70" name=""/>
          <p:cNvCxnSpPr>
            <a:stCxn id="2961" idx="5"/>
            <a:endCxn id="2964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71" name=""/>
          <p:cNvCxnSpPr>
            <a:stCxn id="2961" idx="5"/>
            <a:endCxn id="2966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72" name=""/>
          <p:cNvCxnSpPr>
            <a:stCxn id="2963" idx="7"/>
            <a:endCxn id="2960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3" name=""/>
          <p:cNvCxnSpPr>
            <a:stCxn id="2965" idx="6"/>
            <a:endCxn id="2964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4" name=""/>
          <p:cNvCxnSpPr>
            <a:stCxn id="2965" idx="6"/>
            <a:endCxn id="2966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75" name=""/>
          <p:cNvCxnSpPr>
            <a:stCxn id="2963" idx="6"/>
            <a:endCxn id="2962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76" name=""/>
          <p:cNvSpPr/>
          <p:nvPr/>
        </p:nvSpPr>
        <p:spPr>
          <a:xfrm>
            <a:off x="54097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53733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556668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54986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55479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4558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4478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53589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8" name=""/>
          <p:cNvCxnSpPr>
            <a:endCxn id="2984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9" name=""/>
          <p:cNvCxnSpPr>
            <a:endCxn id="2985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90" name=""/>
          <p:cNvCxnSpPr>
            <a:endCxn id="2986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1" name=""/>
          <p:cNvCxnSpPr>
            <a:endCxn id="2987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92" name=""/>
          <p:cNvCxnSpPr>
            <a:endCxn id="2984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93" name=""/>
          <p:cNvCxnSpPr>
            <a:endCxn id="2986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94" name=""/>
          <p:cNvCxnSpPr>
            <a:endCxn id="2987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95" name=""/>
          <p:cNvCxnSpPr>
            <a:endCxn id="2985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996" name=""/>
          <p:cNvSpPr/>
          <p:nvPr/>
        </p:nvSpPr>
        <p:spPr>
          <a:xfrm>
            <a:off x="59875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9511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14484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60764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1257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0336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60256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59367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6" name=""/>
          <p:cNvCxnSpPr>
            <a:stCxn id="3008" idx="6"/>
            <a:endCxn id="3009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7" name=""/>
          <p:cNvCxnSpPr>
            <a:stCxn id="3008" idx="4"/>
            <a:endCxn id="3011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18" name=""/>
          <p:cNvCxnSpPr>
            <a:stCxn id="3010" idx="5"/>
            <a:endCxn id="3013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9" name=""/>
          <p:cNvCxnSpPr>
            <a:stCxn id="3010" idx="5"/>
            <a:endCxn id="3015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20" name=""/>
          <p:cNvCxnSpPr>
            <a:stCxn id="3012" idx="7"/>
            <a:endCxn id="3009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1" name=""/>
          <p:cNvCxnSpPr>
            <a:stCxn id="3014" idx="6"/>
            <a:endCxn id="3013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2" name=""/>
          <p:cNvCxnSpPr>
            <a:stCxn id="3014" idx="6"/>
            <a:endCxn id="3015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23" name=""/>
          <p:cNvCxnSpPr>
            <a:stCxn id="3012" idx="6"/>
            <a:endCxn id="3011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024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3025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3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7" name=""/>
          <p:cNvCxnSpPr>
            <a:endCxn id="3033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8" name=""/>
          <p:cNvCxnSpPr>
            <a:endCxn id="3034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39" name=""/>
          <p:cNvCxnSpPr>
            <a:endCxn id="3035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0" name=""/>
          <p:cNvCxnSpPr>
            <a:endCxn id="3036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41" name=""/>
          <p:cNvCxnSpPr>
            <a:endCxn id="3033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2" name=""/>
          <p:cNvCxnSpPr>
            <a:endCxn id="3035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3" name=""/>
          <p:cNvCxnSpPr>
            <a:endCxn id="3036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44" name=""/>
          <p:cNvCxnSpPr>
            <a:endCxn id="3034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045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5" name=""/>
          <p:cNvCxnSpPr>
            <a:stCxn id="3057" idx="6"/>
            <a:endCxn id="3058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6" name=""/>
          <p:cNvCxnSpPr>
            <a:stCxn id="3057" idx="4"/>
            <a:endCxn id="3060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67" name=""/>
          <p:cNvCxnSpPr>
            <a:stCxn id="3059" idx="5"/>
            <a:endCxn id="3062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8" name=""/>
          <p:cNvCxnSpPr>
            <a:stCxn id="3059" idx="5"/>
            <a:endCxn id="3064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69" name=""/>
          <p:cNvCxnSpPr>
            <a:stCxn id="3061" idx="7"/>
            <a:endCxn id="3058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0" name=""/>
          <p:cNvCxnSpPr>
            <a:stCxn id="3063" idx="6"/>
            <a:endCxn id="3062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1" name=""/>
          <p:cNvCxnSpPr>
            <a:stCxn id="3063" idx="6"/>
            <a:endCxn id="3064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72" name=""/>
          <p:cNvCxnSpPr>
            <a:stCxn id="3061" idx="6"/>
            <a:endCxn id="3060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073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3074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52045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2045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52045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2045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5790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790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5790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790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632376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632376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632376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632376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9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7" name=""/>
          <p:cNvCxnSpPr>
            <a:stCxn id="3119" idx="6"/>
            <a:endCxn id="3120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8" name=""/>
          <p:cNvCxnSpPr>
            <a:stCxn id="3119" idx="4"/>
            <a:endCxn id="3122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3129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7" name=""/>
          <p:cNvCxnSpPr>
            <a:stCxn id="3129" idx="6"/>
            <a:endCxn id="3130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8" name=""/>
          <p:cNvCxnSpPr>
            <a:stCxn id="3129" idx="4"/>
            <a:endCxn id="3132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39" name=""/>
          <p:cNvCxnSpPr>
            <a:stCxn id="3120" idx="6"/>
            <a:endCxn id="3129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0" name=""/>
          <p:cNvCxnSpPr>
            <a:stCxn id="3120" idx="5"/>
            <a:endCxn id="3131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41" name=""/>
          <p:cNvCxnSpPr>
            <a:stCxn id="3122" idx="5"/>
            <a:endCxn id="3133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2" name=""/>
          <p:cNvCxnSpPr>
            <a:stCxn id="3122" idx="5"/>
            <a:endCxn id="3135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3143" name=""/>
          <p:cNvCxnSpPr>
            <a:stCxn id="3131" idx="5"/>
            <a:endCxn id="3134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4" name=""/>
          <p:cNvCxnSpPr>
            <a:stCxn id="3131" idx="5"/>
            <a:endCxn id="3136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45" name=""/>
          <p:cNvCxnSpPr>
            <a:stCxn id="3133" idx="7"/>
            <a:endCxn id="3130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6" name=""/>
          <p:cNvCxnSpPr>
            <a:stCxn id="3135" idx="6"/>
            <a:endCxn id="3134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147" name=""/>
          <p:cNvCxnSpPr>
            <a:stCxn id="3135" idx="6"/>
            <a:endCxn id="3136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48" name=""/>
          <p:cNvCxnSpPr>
            <a:stCxn id="3133" idx="6"/>
            <a:endCxn id="3132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49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7" name=""/>
          <p:cNvCxnSpPr>
            <a:stCxn id="3149" idx="6"/>
            <a:endCxn id="3150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8" name=""/>
          <p:cNvCxnSpPr>
            <a:stCxn id="3149" idx="4"/>
            <a:endCxn id="3152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59" name=""/>
          <p:cNvCxnSpPr>
            <a:stCxn id="3151" idx="5"/>
            <a:endCxn id="3154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0" name=""/>
          <p:cNvCxnSpPr>
            <a:stCxn id="3151" idx="5"/>
            <a:endCxn id="3156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61" name=""/>
          <p:cNvCxnSpPr>
            <a:stCxn id="3153" idx="7"/>
            <a:endCxn id="3150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2" name=""/>
          <p:cNvCxnSpPr>
            <a:stCxn id="3155" idx="6"/>
            <a:endCxn id="3154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3" name=""/>
          <p:cNvCxnSpPr>
            <a:stCxn id="3155" idx="6"/>
            <a:endCxn id="3156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64" name=""/>
          <p:cNvCxnSpPr>
            <a:stCxn id="3153" idx="6"/>
            <a:endCxn id="3152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3165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3" name=""/>
          <p:cNvCxnSpPr>
            <a:stCxn id="3165" idx="6"/>
            <a:endCxn id="3166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4" name=""/>
          <p:cNvCxnSpPr>
            <a:stCxn id="3165" idx="4"/>
            <a:endCxn id="3168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75" name=""/>
          <p:cNvCxnSpPr>
            <a:stCxn id="3167" idx="5"/>
            <a:endCxn id="3170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6" name=""/>
          <p:cNvCxnSpPr>
            <a:stCxn id="3167" idx="5"/>
            <a:endCxn id="3172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3177" name=""/>
          <p:cNvCxnSpPr>
            <a:stCxn id="3169" idx="7"/>
            <a:endCxn id="3166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8" name=""/>
          <p:cNvCxnSpPr>
            <a:stCxn id="3171" idx="6"/>
            <a:endCxn id="3170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9" name=""/>
          <p:cNvCxnSpPr>
            <a:stCxn id="3171" idx="6"/>
            <a:endCxn id="3172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80" name=""/>
          <p:cNvCxnSpPr>
            <a:stCxn id="3169" idx="6"/>
            <a:endCxn id="3168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81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9" name=""/>
          <p:cNvCxnSpPr>
            <a:stCxn id="3181" idx="6"/>
            <a:endCxn id="3182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0" name=""/>
          <p:cNvCxnSpPr>
            <a:stCxn id="3181" idx="4"/>
            <a:endCxn id="3184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91" name=""/>
          <p:cNvCxnSpPr>
            <a:stCxn id="3183" idx="5"/>
            <a:endCxn id="3186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2" name=""/>
          <p:cNvCxnSpPr>
            <a:stCxn id="3183" idx="5"/>
            <a:endCxn id="3188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93" name=""/>
          <p:cNvCxnSpPr>
            <a:stCxn id="3185" idx="7"/>
            <a:endCxn id="3182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4" name=""/>
          <p:cNvCxnSpPr>
            <a:stCxn id="3187" idx="6"/>
            <a:endCxn id="3186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195" name=""/>
          <p:cNvCxnSpPr>
            <a:stCxn id="3187" idx="6"/>
            <a:endCxn id="3188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96" name=""/>
          <p:cNvCxnSpPr>
            <a:stCxn id="3185" idx="6"/>
            <a:endCxn id="3184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97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5" name=""/>
          <p:cNvCxnSpPr>
            <a:stCxn id="3197" idx="6"/>
            <a:endCxn id="3198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6" name=""/>
          <p:cNvCxnSpPr>
            <a:stCxn id="3197" idx="4"/>
            <a:endCxn id="3200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07" name=""/>
          <p:cNvCxnSpPr>
            <a:stCxn id="3199" idx="5"/>
            <a:endCxn id="3202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8" name=""/>
          <p:cNvCxnSpPr>
            <a:stCxn id="3199" idx="5"/>
            <a:endCxn id="3204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09" name=""/>
          <p:cNvCxnSpPr>
            <a:stCxn id="3201" idx="7"/>
            <a:endCxn id="3198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0" name=""/>
          <p:cNvCxnSpPr>
            <a:stCxn id="3203" idx="6"/>
            <a:endCxn id="3202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1" name=""/>
          <p:cNvCxnSpPr>
            <a:stCxn id="3203" idx="6"/>
            <a:endCxn id="3204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12" name=""/>
          <p:cNvCxnSpPr>
            <a:stCxn id="3201" idx="6"/>
            <a:endCxn id="3200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3213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7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3228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6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2" name=""/>
          <p:cNvCxnSpPr>
            <a:stCxn id="3264" idx="6"/>
            <a:endCxn id="3265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3" name=""/>
          <p:cNvCxnSpPr>
            <a:stCxn id="3264" idx="4"/>
            <a:endCxn id="3274" idx="2"/>
          </p:cNvCxnSpPr>
          <p:nvPr/>
        </p:nvCxnSpPr>
        <p:spPr>
          <a:xfrm>
            <a:off x="5334120" y="2962440"/>
            <a:ext cx="598680" cy="5436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75" name=""/>
          <p:cNvCxnSpPr>
            <a:stCxn id="3266" idx="5"/>
            <a:endCxn id="3269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276" name=""/>
          <p:cNvCxnSpPr>
            <a:stCxn id="3266" idx="5"/>
            <a:endCxn id="3271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3277" name=""/>
          <p:cNvCxnSpPr>
            <a:stCxn id="3268" idx="7"/>
            <a:endCxn id="3265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8" name=""/>
          <p:cNvCxnSpPr>
            <a:stCxn id="3270" idx="6"/>
            <a:endCxn id="3269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9" name=""/>
          <p:cNvCxnSpPr>
            <a:stCxn id="3270" idx="6"/>
            <a:endCxn id="3271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80" name=""/>
          <p:cNvCxnSpPr>
            <a:stCxn id="3268" idx="6"/>
            <a:endCxn id="3267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281" name=""/>
          <p:cNvSpPr/>
          <p:nvPr/>
        </p:nvSpPr>
        <p:spPr>
          <a:xfrm>
            <a:off x="54097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3733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56668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54986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5479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54558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4478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53589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3" name=""/>
          <p:cNvCxnSpPr>
            <a:endCxn id="3289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4" name=""/>
          <p:cNvCxnSpPr>
            <a:endCxn id="3290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95" name=""/>
          <p:cNvCxnSpPr>
            <a:endCxn id="3291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6" name=""/>
          <p:cNvCxnSpPr>
            <a:endCxn id="3292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97" name=""/>
          <p:cNvCxnSpPr>
            <a:endCxn id="3289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298" name=""/>
          <p:cNvCxnSpPr>
            <a:endCxn id="3291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299" name=""/>
          <p:cNvCxnSpPr>
            <a:endCxn id="3292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3300" name=""/>
          <p:cNvCxnSpPr>
            <a:endCxn id="3290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3301" name=""/>
          <p:cNvSpPr/>
          <p:nvPr/>
        </p:nvSpPr>
        <p:spPr>
          <a:xfrm>
            <a:off x="59875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9511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614484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60764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61257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60336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60256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9367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1" name=""/>
          <p:cNvCxnSpPr>
            <a:stCxn id="3313" idx="6"/>
            <a:endCxn id="3314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2" name=""/>
          <p:cNvCxnSpPr>
            <a:stCxn id="3313" idx="4"/>
            <a:endCxn id="3316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23" name=""/>
          <p:cNvCxnSpPr>
            <a:stCxn id="3315" idx="5"/>
            <a:endCxn id="3318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4" name=""/>
          <p:cNvCxnSpPr>
            <a:stCxn id="3315" idx="5"/>
            <a:endCxn id="3320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25" name=""/>
          <p:cNvCxnSpPr>
            <a:stCxn id="3317" idx="7"/>
            <a:endCxn id="3314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6" name=""/>
          <p:cNvCxnSpPr>
            <a:stCxn id="3319" idx="6"/>
            <a:endCxn id="3318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7" name=""/>
          <p:cNvCxnSpPr>
            <a:stCxn id="3319" idx="6"/>
            <a:endCxn id="3320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28" name=""/>
          <p:cNvCxnSpPr>
            <a:stCxn id="3317" idx="6"/>
            <a:endCxn id="3316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329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3330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8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2" name=""/>
          <p:cNvCxnSpPr>
            <a:endCxn id="3338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3" name=""/>
          <p:cNvCxnSpPr>
            <a:endCxn id="3339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44" name=""/>
          <p:cNvCxnSpPr>
            <a:endCxn id="3340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5" name=""/>
          <p:cNvCxnSpPr>
            <a:endCxn id="3341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46" name=""/>
          <p:cNvCxnSpPr>
            <a:endCxn id="3338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7" name=""/>
          <p:cNvCxnSpPr>
            <a:endCxn id="3340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8" name=""/>
          <p:cNvCxnSpPr>
            <a:endCxn id="3341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49" name=""/>
          <p:cNvCxnSpPr>
            <a:endCxn id="3339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350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0" name=""/>
          <p:cNvCxnSpPr>
            <a:stCxn id="3362" idx="6"/>
            <a:endCxn id="3363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1" name=""/>
          <p:cNvCxnSpPr>
            <a:stCxn id="3362" idx="4"/>
            <a:endCxn id="3365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72" name=""/>
          <p:cNvCxnSpPr>
            <a:stCxn id="3364" idx="5"/>
            <a:endCxn id="3367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3" name=""/>
          <p:cNvCxnSpPr>
            <a:stCxn id="3364" idx="5"/>
            <a:endCxn id="3369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74" name=""/>
          <p:cNvCxnSpPr>
            <a:stCxn id="3366" idx="7"/>
            <a:endCxn id="3363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5" name=""/>
          <p:cNvCxnSpPr>
            <a:stCxn id="3368" idx="6"/>
            <a:endCxn id="3367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6" name=""/>
          <p:cNvCxnSpPr>
            <a:stCxn id="3368" idx="6"/>
            <a:endCxn id="3369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77" name=""/>
          <p:cNvCxnSpPr>
            <a:stCxn id="3366" idx="6"/>
            <a:endCxn id="3365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378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3379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7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52045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52045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2045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52045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790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5790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5790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790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632376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632376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632376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632376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utomatic Repeat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 used in data link control and transport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es on use of an error detection code (such as CR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s that transmitting entity does not overwhelm a receiving entity with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with flow control mechanism allow multiple PDUs in transit at the sam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Us arrive in same order they’re 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ding-window 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maintains list (window) of sequence numbers allowed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aintains list allowed to rece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breaking up a block of data before transmit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uffer size of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of PDU due to error requires smaller amounts of data to b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hared medium, larger PDUs occupy medium for extended period, causing delays at other sending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2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9343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556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s to detect and correct transmission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err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PDU : a PDU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d PDU : PDU arrives with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ntrol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detects errors and discards PD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turns acknowledgment of  received, error-free PD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after time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retransmits unacknowledged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cknowledgement and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turns negative acknowledgment to PDUs in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rity Che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ity bit appended to a block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p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bit ensures an even number of 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p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ensures an odd number of 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, 7-bit character [111000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parity [1110001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 parity [1110001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yclic Redundancy Check (CR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block, transmitter generates 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bit frame check sequence (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fram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 is exactly divisible by predetermin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s incoming frame by predetermin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emainder, assumes no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ve-OR (XOR)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frame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block of data;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bit FCS; the la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atter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bits; this is the predetermined divi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uot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ma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. Noubir</cp:lastModifiedBy>
  <dcterms:modified xsi:type="dcterms:W3CDTF">2003-04-28T19:44:46Z</dcterms:modified>
  <cp:revision>99</cp:revision>
  <dc:subject/>
  <dc:title>Wireless Communications and Networks</dc:title>
</cp:coreProperties>
</file>