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92240" y="525240"/>
            <a:ext cx="3498840" cy="26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526104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A8BDCE-5B98-4B08-B216-9A5D0066EC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nduced on ear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with water and a running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2.734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distance between two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1 = 100m, h2 = 0 =&gt; 41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2 = 10m =&gt; h1 = 46.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 = 290K =&gt; N0 = 4 10^-21W/H = -204dbW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 a + cos b = 2cos (a+b)/2 cos (a-b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fa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leigh: no distinct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ian: LOS + 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wer in dominant path/power in the scattered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b/N0 required to achieve  6bps/H =&gt; (1/6)(2^6-1) = 10.5 = 10.21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 that propagates without moving it’s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don’t need matter to propa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waves: from 30KHz to 3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ic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is it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parabolic reflective antenna with a diameter of 2m operating at 12GHz. What is the effective area and antenna 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pi r^2 = 3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 = 0.56pi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bda = c/f = 0.0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7A/l^2 =&gt; G = 35.186 = 45.46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DA4-13BC-421D-A5A6-3F4F174F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6C1-9140-40FB-BCF8-DE22C39D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105-BDE5-4139-B524-85E9FDE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AFF-FFF3-466F-8583-BC0D7951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F59-0558-439A-8607-D748E8C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E18-7D4A-4ABF-A888-C8132BC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3F1-B8FB-4317-A3B4-DF5CBAE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3CF-EAAB-4B60-87EE-3B99294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7C3-BF0E-421D-8F09-65AF773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980-8FC6-45CE-89DC-A5F43CAD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427-F477-49D8-A928-6BCF877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B0D-A395-4462-97AA-EBC36B51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9600" y="6281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3525, Spring 2003: lecture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47720" y="637380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C51-63C0-4132-8FC7-45ECC0664B18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4B3-959A-4927-95D9-5A2AC7AE1D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ireless Communications and Networks, William Stallings, Prentice 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1080" y="5029200"/>
            <a:ext cx="65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ed currents slows the wave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below 3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 (earth diameter 12734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00400" y="32004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 = 100m, h2 = 0 =&gt; 41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2 = 10m =&gt; h1 = 46.2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tion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of Sight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ding in Mobile Environment and Compen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 (Pathlo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320"/>
            <a:ext cx="8040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ss (dB) when distance is doubl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61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 fading (due to multipath, no L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ian fading (LOS + Rayleigh fad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09480" y="236232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572000" y="2286000"/>
            <a:ext cx="4074840" cy="2125800"/>
            <a:chOff x="4572000" y="2286000"/>
            <a:chExt cx="4074840" cy="2125800"/>
          </a:xfrm>
        </p:grpSpPr>
        <p:grpSp>
          <p:nvGrpSpPr>
            <p:cNvPr id="188" name=""/>
            <p:cNvGrpSpPr/>
            <p:nvPr/>
          </p:nvGrpSpPr>
          <p:grpSpPr>
            <a:xfrm>
              <a:off x="4577040" y="2288160"/>
              <a:ext cx="4063320" cy="2121120"/>
              <a:chOff x="4577040" y="2288160"/>
              <a:chExt cx="4063320" cy="21211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577040" y="2288160"/>
                <a:ext cx="2126520" cy="302760"/>
                <a:chOff x="4577040" y="2288160"/>
                <a:chExt cx="2126520" cy="30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577040" y="2288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4577040" y="2288160"/>
                  <a:ext cx="2126160" cy="302760"/>
                  <a:chOff x="4577040" y="2288160"/>
                  <a:chExt cx="2126160" cy="3027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655520" y="2288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577040" y="2288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6703920" y="2288160"/>
                <a:ext cx="1936440" cy="302760"/>
                <a:chOff x="6703920" y="2288160"/>
                <a:chExt cx="1936440" cy="30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782400" y="2288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03920" y="2288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577040" y="2590920"/>
                <a:ext cx="2126520" cy="302760"/>
                <a:chOff x="4577040" y="2590920"/>
                <a:chExt cx="2126520" cy="302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77040" y="25909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4577040" y="2590920"/>
                  <a:ext cx="2126160" cy="302760"/>
                  <a:chOff x="4577040" y="2590920"/>
                  <a:chExt cx="2126160" cy="302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4655520" y="25909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577040" y="25909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6703920" y="2590920"/>
                <a:ext cx="1936440" cy="302760"/>
                <a:chOff x="6703920" y="2590920"/>
                <a:chExt cx="1936440" cy="302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82400" y="25909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703920" y="25909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577040" y="2894040"/>
                <a:ext cx="2126520" cy="302760"/>
                <a:chOff x="4577040" y="2894040"/>
                <a:chExt cx="2126520" cy="302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577040" y="289404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4577040" y="2894040"/>
                  <a:ext cx="2126160" cy="302760"/>
                  <a:chOff x="4577040" y="2894040"/>
                  <a:chExt cx="2126160" cy="3027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655520" y="289404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577040" y="289404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6703920" y="2894040"/>
                <a:ext cx="1936440" cy="302760"/>
                <a:chOff x="6703920" y="2894040"/>
                <a:chExt cx="1936440" cy="302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82400" y="289404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703920" y="289404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77040" y="3197160"/>
                <a:ext cx="2126520" cy="302760"/>
                <a:chOff x="4577040" y="3197160"/>
                <a:chExt cx="2126520" cy="302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77040" y="3197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4577040" y="3197160"/>
                  <a:ext cx="2126160" cy="302760"/>
                  <a:chOff x="4577040" y="3197160"/>
                  <a:chExt cx="2126160" cy="3027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655520" y="3197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577040" y="3197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6703920" y="3197160"/>
                <a:ext cx="1936440" cy="302760"/>
                <a:chOff x="6703920" y="3197160"/>
                <a:chExt cx="1936440" cy="3027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782400" y="3197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03920" y="3197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77040" y="3500280"/>
                <a:ext cx="2126520" cy="303120"/>
                <a:chOff x="4577040" y="3500280"/>
                <a:chExt cx="2126520" cy="303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77040" y="350028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577040" y="3500280"/>
                  <a:ext cx="2126160" cy="303120"/>
                  <a:chOff x="4577040" y="3500280"/>
                  <a:chExt cx="2126160" cy="303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655520" y="350028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577040" y="350028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6703920" y="3500280"/>
                <a:ext cx="1936440" cy="303120"/>
                <a:chOff x="6703920" y="3500280"/>
                <a:chExt cx="1936440" cy="303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782400" y="350028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03920" y="350028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77040" y="3803400"/>
                <a:ext cx="2126520" cy="302760"/>
                <a:chOff x="4577040" y="3803400"/>
                <a:chExt cx="2126520" cy="302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577040" y="38034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4577040" y="3803400"/>
                  <a:ext cx="2126160" cy="302760"/>
                  <a:chOff x="4577040" y="3803400"/>
                  <a:chExt cx="2126160" cy="3027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655520" y="38034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577040" y="38034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6703920" y="3803400"/>
                <a:ext cx="1936440" cy="302760"/>
                <a:chOff x="6703920" y="3803400"/>
                <a:chExt cx="1936440" cy="302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782400" y="38034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03920" y="38034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577040" y="4106520"/>
                <a:ext cx="2126520" cy="302760"/>
                <a:chOff x="4577040" y="4106520"/>
                <a:chExt cx="2126520" cy="302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577040" y="41065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4577040" y="4106520"/>
                  <a:ext cx="2126160" cy="302760"/>
                  <a:chOff x="4577040" y="4106520"/>
                  <a:chExt cx="2126160" cy="302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655520" y="41065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577040" y="41065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6703920" y="4106520"/>
                <a:ext cx="1936440" cy="302760"/>
                <a:chOff x="6703920" y="4106520"/>
                <a:chExt cx="1936440" cy="302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782400" y="41065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03920" y="41065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4572000" y="228600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5334120"/>
                <a:ext cx="4087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5257800"/>
                <a:ext cx="3024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of Out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" y="2230560"/>
                <a:ext cx="8432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09680" y="320040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133720" y="3809880"/>
                <a:ext cx="6298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4648320"/>
                <a:ext cx="3127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h Loss Mode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-COST Extension of Okumura-Hata to PCS (f&gt;1500MHz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dB (medium and suburban), 3dB (metropolit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fish and Berton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ffect of diffraction on rooft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2920" y="251460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for In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80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(same floor with soft or hard parti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enuation factor model (average path loss): SF: single floor, FAF: floor attnuation factor, MF: multiple flo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552320"/>
            <a:ext cx="8421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ding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52320"/>
            <a:ext cx="8269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151000" y="4910040"/>
                <a:ext cx="249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19720" y="5334120"/>
                <a:ext cx="15508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52320"/>
            <a:ext cx="849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s of Radio-waves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526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antenna to each point on the radiation pattern is proportional to the power radiated from the antenna in that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52680"/>
            <a:ext cx="79642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 reference antenna (isotropic radiato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 in space radiating with equal power in all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with equal power are located on a sphere with the antenna in th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tennas exhibit directive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s: omnidirectional (dipole) or directional (pencil be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antenn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ole (or Hertzian dipole) of leng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4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al antennas may be more usefu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over a highway, valley, satellite b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bolic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2680"/>
            <a:ext cx="8650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ive are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-wave dipole: 1.6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gain vs. istropic 1.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bolic: 0.56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fac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gain vs. istropic 7A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Parabolic antenna of diameter 2m @ 12GHz 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32160" y="1981080"/>
                <a:ext cx="331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3-31T23:50:33Z</dcterms:modified>
  <cp:revision>99</cp:revision>
  <dc:subject/>
  <dc:title>Wireless Communications and Networks</dc:title>
</cp:coreProperties>
</file>