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27320" cy="343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5268600" y="-360"/>
            <a:ext cx="4027320" cy="343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6515280"/>
            <a:ext cx="4027320" cy="342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5268600" y="6515280"/>
            <a:ext cx="4027320" cy="342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B2B6E50-10DE-4FE9-96E5-E30593D0E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35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 of digital over analo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37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y from pereira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39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nification, teletraff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41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pplicatio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-conversion after the mod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ing before the up-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43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ting: On-Demand routes with cac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 modif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45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PCS and WL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47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ity of BS is much higher than in W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control 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29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31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wirless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 signals, Infra-red, radio, visible light receivers (human receiv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e VLF and LF signals used for? subma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ware = 1GHz-300GHz (relation to microwave ov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33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uation: is it good or bad? Reuse but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7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3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1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7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3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2003, COM35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ure 1, </a:t>
            </a:r>
            <a:fld id="{EFD514B7-C84D-476B-8999-C09CF84D5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4479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oubir@ccs.neu.edu" TargetMode="External"/><Relationship Id="rId2" Type="http://schemas.openxmlformats.org/officeDocument/2006/relationships/hyperlink" Target="mailto:noubir@ccs.neu.edu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gsm.org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ireless Network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10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vara Noub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ge of Computer and Information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theastern Univer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oubir@ccs.neu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volution of Some Wireless Syste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3414600" y="1523880"/>
            <a:ext cx="0" cy="403884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352520" y="1447920"/>
            <a:ext cx="1386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llular ph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6310440" y="1523880"/>
            <a:ext cx="0" cy="403884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567240" y="1447920"/>
            <a:ext cx="146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6310440" y="1463760"/>
            <a:ext cx="1125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reless 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265400" y="4162320"/>
            <a:ext cx="501480" cy="4701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357200" y="4924440"/>
            <a:ext cx="77148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4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S 1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810160" y="5769000"/>
            <a:ext cx="131292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?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/IMT-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410800" y="2828880"/>
            <a:ext cx="5691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7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489480" y="2104920"/>
            <a:ext cx="93168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4023360" y="4162320"/>
            <a:ext cx="956160" cy="6400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4251960" y="5229360"/>
            <a:ext cx="64224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8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410800" y="3419640"/>
            <a:ext cx="56916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9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395680" y="4010040"/>
            <a:ext cx="59940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6469560" y="3565440"/>
            <a:ext cx="91512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x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6382800" y="4467240"/>
            <a:ext cx="1088640" cy="6400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5/96/97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EE 802.1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ER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6393240" y="5533920"/>
            <a:ext cx="106596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?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BS, W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489480" y="2943360"/>
            <a:ext cx="93960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8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128600" y="5533920"/>
            <a:ext cx="723960" cy="333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1128600" y="5915160"/>
            <a:ext cx="723960" cy="3333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3" name=""/>
          <p:cNvCxnSpPr>
            <a:stCxn id="2425" idx="2"/>
            <a:endCxn id="2426" idx="0"/>
          </p:cNvCxnSpPr>
          <p:nvPr/>
        </p:nvCxnSpPr>
        <p:spPr>
          <a:xfrm>
            <a:off x="5695560" y="3876840"/>
            <a:ext cx="1080" cy="133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4" name=""/>
          <p:cNvCxnSpPr>
            <a:stCxn id="2426" idx="2"/>
            <a:endCxn id="2429" idx="1"/>
          </p:cNvCxnSpPr>
          <p:nvPr/>
        </p:nvCxnSpPr>
        <p:spPr>
          <a:xfrm flipH="1" rot="16200000">
            <a:off x="5396760" y="4766040"/>
            <a:ext cx="1296000" cy="6976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5" name=""/>
          <p:cNvCxnSpPr>
            <a:stCxn id="2426" idx="2"/>
            <a:endCxn id="2420" idx="3"/>
          </p:cNvCxnSpPr>
          <p:nvPr/>
        </p:nvCxnSpPr>
        <p:spPr>
          <a:xfrm rot="5400000">
            <a:off x="4142880" y="4444920"/>
            <a:ext cx="1531080" cy="15753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6" name=""/>
          <p:cNvCxnSpPr>
            <a:stCxn id="2428" idx="2"/>
            <a:endCxn id="2429" idx="0"/>
          </p:cNvCxnSpPr>
          <p:nvPr/>
        </p:nvCxnSpPr>
        <p:spPr>
          <a:xfrm flipH="1">
            <a:off x="6926040" y="5106960"/>
            <a:ext cx="2160" cy="427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7" name=""/>
          <p:cNvCxnSpPr>
            <a:stCxn id="2427" idx="2"/>
            <a:endCxn id="2428" idx="0"/>
          </p:cNvCxnSpPr>
          <p:nvPr/>
        </p:nvCxnSpPr>
        <p:spPr>
          <a:xfrm>
            <a:off x="6927480" y="4022280"/>
            <a:ext cx="1080" cy="445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8" name=""/>
          <p:cNvCxnSpPr>
            <a:stCxn id="2424" idx="2"/>
            <a:endCxn id="2420" idx="3"/>
          </p:cNvCxnSpPr>
          <p:nvPr/>
        </p:nvCxnSpPr>
        <p:spPr>
          <a:xfrm flipH="1">
            <a:off x="4120920" y="5686560"/>
            <a:ext cx="452880" cy="311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9" name=""/>
          <p:cNvCxnSpPr>
            <a:stCxn id="2430" idx="2"/>
            <a:endCxn id="2420" idx="0"/>
          </p:cNvCxnSpPr>
          <p:nvPr/>
        </p:nvCxnSpPr>
        <p:spPr>
          <a:xfrm flipH="1">
            <a:off x="3466440" y="3400200"/>
            <a:ext cx="492840" cy="2369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40" name=""/>
          <p:cNvCxnSpPr>
            <a:stCxn id="2423" idx="2"/>
            <a:endCxn id="2420" idx="0"/>
          </p:cNvCxnSpPr>
          <p:nvPr/>
        </p:nvCxnSpPr>
        <p:spPr>
          <a:xfrm flipH="1">
            <a:off x="3466440" y="4802040"/>
            <a:ext cx="1035720" cy="967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41" name=""/>
          <p:cNvCxnSpPr>
            <a:stCxn id="2419" idx="3"/>
            <a:endCxn id="2420" idx="1"/>
          </p:cNvCxnSpPr>
          <p:nvPr/>
        </p:nvCxnSpPr>
        <p:spPr>
          <a:xfrm>
            <a:off x="2128320" y="5159520"/>
            <a:ext cx="68364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42" name=""/>
          <p:cNvCxnSpPr>
            <a:stCxn id="2422" idx="2"/>
            <a:endCxn id="2430" idx="0"/>
          </p:cNvCxnSpPr>
          <p:nvPr/>
        </p:nvCxnSpPr>
        <p:spPr>
          <a:xfrm>
            <a:off x="3955680" y="2561760"/>
            <a:ext cx="3960" cy="381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43" name=""/>
          <p:cNvCxnSpPr>
            <a:stCxn id="2444" idx="2"/>
            <a:endCxn id="2418" idx="0"/>
          </p:cNvCxnSpPr>
          <p:nvPr/>
        </p:nvCxnSpPr>
        <p:spPr>
          <a:xfrm>
            <a:off x="1515600" y="3095280"/>
            <a:ext cx="1080" cy="1067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45" name=""/>
          <p:cNvSpPr/>
          <p:nvPr/>
        </p:nvSpPr>
        <p:spPr>
          <a:xfrm>
            <a:off x="5091120" y="1523880"/>
            <a:ext cx="0" cy="403884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2500200" y="3400560"/>
            <a:ext cx="73044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-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1662120" y="3400560"/>
            <a:ext cx="73008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1052640" y="1800360"/>
            <a:ext cx="92700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T 4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052640" y="2638440"/>
            <a:ext cx="92700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T 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5410800" y="1647720"/>
            <a:ext cx="5691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0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5410800" y="2238480"/>
            <a:ext cx="5691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4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2043000" y="2409840"/>
            <a:ext cx="9273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2" name=""/>
          <p:cNvCxnSpPr>
            <a:stCxn id="2448" idx="2"/>
            <a:endCxn id="2444" idx="0"/>
          </p:cNvCxnSpPr>
          <p:nvPr/>
        </p:nvCxnSpPr>
        <p:spPr>
          <a:xfrm>
            <a:off x="1515600" y="2257560"/>
            <a:ext cx="108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3" name=""/>
          <p:cNvCxnSpPr>
            <a:stCxn id="2451" idx="2"/>
            <a:endCxn id="2446" idx="0"/>
          </p:cNvCxnSpPr>
          <p:nvPr/>
        </p:nvCxnSpPr>
        <p:spPr>
          <a:xfrm>
            <a:off x="2506320" y="2867040"/>
            <a:ext cx="359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4" name=""/>
          <p:cNvCxnSpPr>
            <a:stCxn id="2446" idx="2"/>
            <a:endCxn id="2420" idx="0"/>
          </p:cNvCxnSpPr>
          <p:nvPr/>
        </p:nvCxnSpPr>
        <p:spPr>
          <a:xfrm>
            <a:off x="2865240" y="3870360"/>
            <a:ext cx="602280" cy="1899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5" name=""/>
          <p:cNvCxnSpPr>
            <a:stCxn id="2456" idx="2"/>
            <a:endCxn id="2420" idx="0"/>
          </p:cNvCxnSpPr>
          <p:nvPr/>
        </p:nvCxnSpPr>
        <p:spPr>
          <a:xfrm>
            <a:off x="2637000" y="5013000"/>
            <a:ext cx="830880" cy="756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7" name=""/>
          <p:cNvCxnSpPr>
            <a:stCxn id="2447" idx="2"/>
            <a:endCxn id="2420" idx="1"/>
          </p:cNvCxnSpPr>
          <p:nvPr/>
        </p:nvCxnSpPr>
        <p:spPr>
          <a:xfrm>
            <a:off x="2026800" y="3870000"/>
            <a:ext cx="785160" cy="2127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56" name=""/>
          <p:cNvSpPr/>
          <p:nvPr/>
        </p:nvSpPr>
        <p:spPr>
          <a:xfrm>
            <a:off x="2271600" y="4543560"/>
            <a:ext cx="73044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8" name=""/>
          <p:cNvCxnSpPr>
            <a:stCxn id="2449" idx="2"/>
            <a:endCxn id="2450" idx="0"/>
          </p:cNvCxnSpPr>
          <p:nvPr/>
        </p:nvCxnSpPr>
        <p:spPr>
          <a:xfrm>
            <a:off x="5695560" y="2104560"/>
            <a:ext cx="1080" cy="134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9" name=""/>
          <p:cNvCxnSpPr>
            <a:stCxn id="2421" idx="2"/>
            <a:endCxn id="2425" idx="0"/>
          </p:cNvCxnSpPr>
          <p:nvPr/>
        </p:nvCxnSpPr>
        <p:spPr>
          <a:xfrm>
            <a:off x="5695560" y="3285720"/>
            <a:ext cx="1080" cy="134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60" name=""/>
          <p:cNvCxnSpPr>
            <a:stCxn id="2450" idx="2"/>
            <a:endCxn id="2421" idx="0"/>
          </p:cNvCxnSpPr>
          <p:nvPr/>
        </p:nvCxnSpPr>
        <p:spPr>
          <a:xfrm>
            <a:off x="5695560" y="2695680"/>
            <a:ext cx="1080" cy="133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61" name=""/>
          <p:cNvCxnSpPr>
            <a:stCxn id="2418" idx="2"/>
            <a:endCxn id="2419" idx="0"/>
          </p:cNvCxnSpPr>
          <p:nvPr/>
        </p:nvCxnSpPr>
        <p:spPr>
          <a:xfrm>
            <a:off x="1515600" y="4632120"/>
            <a:ext cx="2278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ireless “Standards”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463" name="" descr=""/>
          <p:cNvPicPr/>
          <p:nvPr/>
        </p:nvPicPr>
        <p:blipFill>
          <a:blip r:embed="rId1"/>
          <a:stretch/>
        </p:blipFill>
        <p:spPr>
          <a:xfrm>
            <a:off x="1047600" y="1655640"/>
            <a:ext cx="64422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rdless Telephones (1970s- 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105840" y="1447560"/>
            <a:ext cx="858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ved from analog to digit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transmission power: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W (limited radio ran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transmission delay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Channel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-Asi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-2 (864-868MHz,  bitrate 72Kpbs), DECT (1880-1990MHz, 1.2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: several products based on spread-spectrum or very low power transmission systems over the ISM frequency bands (900MHz, 2.4G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pan: PHS (1895-1907MHz, upto 384K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ervices on cordless phon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ePoint (CT-2, PHS), WPABX (D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ations: reduced coverage, inefficient hando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ation with cellular phones: GSM-DECT dual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ellular Mobile Radio Systems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Past/Prese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423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-way voice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mo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er coverage, vehicular speed handof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ing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e transmission power: ~2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data rate: &lt;10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RTT: ~200ms (due to interleaving, FEC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s/Produ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 Standard for Mobile (GSM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~825M subscribers (Europe, Asia, U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ons: HSCSD (in practice 28Kbps UL/28Kbps), GPRS (50K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panese of Personal Digital Cellular (JDC or PD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: IS-54/IS-136/DAMPS, GSM/GPRS (TDMA), IS-95/1x/1xEV-DO (CD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ellular Mobile Radio Systems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Future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106200" y="1447560"/>
            <a:ext cx="8732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Generation PCS initiated by ITU’s call for proposals (IMT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nce of wireless PCS into a uniqu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t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data rates: 144Kbps (high mobility), 384Kbps (low mobility), and up-to 2Mbps for ind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QoS connections (data-rate, delay, F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likely: thre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CD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SI proposal (FRAMES European project) [www.3GPP.org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B proposal (Jap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A2000 is an enhancement of Qualcomm’s IS-95 [www.3GPP2.org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: convergence of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neration PCS (TD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M, D-AMPS, IS-54, IS-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2471" name=""/>
          <p:cNvGraphicFramePr/>
          <p:nvPr/>
        </p:nvGraphicFramePr>
        <p:xfrm>
          <a:off x="536400" y="1143000"/>
          <a:ext cx="7537680" cy="49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143000"/>
                    <a:ext cx="753768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ide-Area Wireless Data Syste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mobility (vehicular/pedestrian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de range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DIS (USA: Motorola), RAM (Ericsson): low data rate &lt;8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ricom (76Kbp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number of inexpensive base statio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ed through wireless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ase stations has small co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loyed in San Francisco Bay area, Washington D.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 frequency hopping, Pwr &lt;1W over 902-928MHz ISM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area wireless data systems did not succeed to attract enough use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ireless Local Area Network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-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data-rate: 1Mbps-54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pus/building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/standa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802.11, Hiperlan 1/2, Bluetooth, HomeRF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air Plus, AirLan, Freeport, Intersect, LAWN, WILAN, RadioPort, ArLAN, Radio Link, Range LAN 1-2, Netware, Free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e over ISM frequency B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GHz, 900MHz, 5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ther Wireless Syste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ing/Messa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lution: from 1 bits info, to two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d with CT-2 (Phone point), GSM (Short Message Service: S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ber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email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-Based Mobile 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ellation of satellites (LE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o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idium (Motorola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s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desic (Lockheed Martin, Microsoft, Motoro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General Issu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main focus in this course is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ily on WLAN, IP stacks over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ily on 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fferences between PCS and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d for high bit-rate data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 Protocols ori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-scale mobility, small area co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unlicensed ISM frequency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ly 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neration) designed for voic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bit-rate data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scale mobility and coverage (high-speed, big cel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e over licensed frequency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urse Outlin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view of Wireless Systems: terminology, types of systems, issu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Technology: Antenna and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Spectrum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ing and Error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LANs: IEEE802.11, Hiperlan1/2, Blue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Network layer: Mobile-IP, Ad Hoc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Transport Layer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 Telecommunic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mmon Components of Wireless Syste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nn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ducer that transforms an electric signal into an electro-magnetic signal and recipro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-Frequency Front-E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-Amp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-B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dulation, Forward Erro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Access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DMA, TDMA, CDM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E view vs. CS 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522360" y="2168640"/>
            <a:ext cx="1306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533520" y="274320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533520" y="351144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541440" y="4267080"/>
            <a:ext cx="1287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4419720" y="4984920"/>
            <a:ext cx="14475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-Amp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4495680" y="2133720"/>
            <a:ext cx="1306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multi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4495680" y="2708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495680" y="347652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4419720" y="4232160"/>
            <a:ext cx="14475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modulator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al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3" name=""/>
          <p:cNvCxnSpPr>
            <a:stCxn id="2484" idx="2"/>
            <a:endCxn id="2485" idx="0"/>
          </p:cNvCxnSpPr>
          <p:nvPr/>
        </p:nvCxnSpPr>
        <p:spPr>
          <a:xfrm>
            <a:off x="1176120" y="2482560"/>
            <a:ext cx="540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4" name=""/>
          <p:cNvCxnSpPr>
            <a:stCxn id="2485" idx="2"/>
            <a:endCxn id="2486" idx="0"/>
          </p:cNvCxnSpPr>
          <p:nvPr/>
        </p:nvCxnSpPr>
        <p:spPr>
          <a:xfrm>
            <a:off x="1180800" y="3270240"/>
            <a:ext cx="108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5" name=""/>
          <p:cNvCxnSpPr>
            <a:stCxn id="2486" idx="2"/>
            <a:endCxn id="2487" idx="0"/>
          </p:cNvCxnSpPr>
          <p:nvPr/>
        </p:nvCxnSpPr>
        <p:spPr>
          <a:xfrm>
            <a:off x="1180800" y="4038120"/>
            <a:ext cx="5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6" name=""/>
          <p:cNvCxnSpPr>
            <a:stCxn id="2490" idx="0"/>
            <a:endCxn id="2489" idx="2"/>
          </p:cNvCxnSpPr>
          <p:nvPr/>
        </p:nvCxnSpPr>
        <p:spPr>
          <a:xfrm flipV="1">
            <a:off x="5143320" y="2447280"/>
            <a:ext cx="684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7" name=""/>
          <p:cNvCxnSpPr>
            <a:stCxn id="2491" idx="0"/>
            <a:endCxn id="2490" idx="2"/>
          </p:cNvCxnSpPr>
          <p:nvPr/>
        </p:nvCxnSpPr>
        <p:spPr>
          <a:xfrm flipV="1">
            <a:off x="5143320" y="3234960"/>
            <a:ext cx="108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8" name=""/>
          <p:cNvCxnSpPr>
            <a:stCxn id="2492" idx="0"/>
            <a:endCxn id="2491" idx="2"/>
          </p:cNvCxnSpPr>
          <p:nvPr/>
        </p:nvCxnSpPr>
        <p:spPr>
          <a:xfrm flipV="1">
            <a:off x="5143320" y="40028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9" name=""/>
          <p:cNvSpPr/>
          <p:nvPr/>
        </p:nvSpPr>
        <p:spPr>
          <a:xfrm>
            <a:off x="457200" y="4807080"/>
            <a:ext cx="14590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-Amp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0" name=""/>
          <p:cNvCxnSpPr>
            <a:stCxn id="2501" idx="1"/>
            <a:endCxn id="2487" idx="3"/>
          </p:cNvCxnSpPr>
          <p:nvPr/>
        </p:nvCxnSpPr>
        <p:spPr>
          <a:xfrm flipH="1">
            <a:off x="1828080" y="4419360"/>
            <a:ext cx="3056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2" name=""/>
          <p:cNvCxnSpPr>
            <a:stCxn id="2487" idx="2"/>
            <a:endCxn id="2499" idx="0"/>
          </p:cNvCxnSpPr>
          <p:nvPr/>
        </p:nvCxnSpPr>
        <p:spPr>
          <a:xfrm>
            <a:off x="1185840" y="4581000"/>
            <a:ext cx="2160" cy="22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03" name=""/>
          <p:cNvGrpSpPr/>
          <p:nvPr/>
        </p:nvGrpSpPr>
        <p:grpSpPr>
          <a:xfrm>
            <a:off x="1981080" y="4800600"/>
            <a:ext cx="304200" cy="228600"/>
            <a:chOff x="1981080" y="4800600"/>
            <a:chExt cx="304200" cy="228600"/>
          </a:xfrm>
        </p:grpSpPr>
        <p:sp>
          <p:nvSpPr>
            <p:cNvPr id="2504" name=""/>
            <p:cNvSpPr/>
            <p:nvPr/>
          </p:nvSpPr>
          <p:spPr>
            <a:xfrm>
              <a:off x="1981080" y="480060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2133360" y="48006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H="1">
              <a:off x="2133000" y="480060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07" name=""/>
          <p:cNvCxnSpPr>
            <a:stCxn id="2499" idx="3"/>
            <a:endCxn id="2505" idx="0"/>
          </p:cNvCxnSpPr>
          <p:nvPr/>
        </p:nvCxnSpPr>
        <p:spPr>
          <a:xfrm flipV="1">
            <a:off x="1916280" y="5041440"/>
            <a:ext cx="218160" cy="2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8" name=""/>
          <p:cNvCxnSpPr>
            <a:stCxn id="2509" idx="2"/>
            <a:endCxn id="2484" idx="0"/>
          </p:cNvCxnSpPr>
          <p:nvPr/>
        </p:nvCxnSpPr>
        <p:spPr>
          <a:xfrm>
            <a:off x="661680" y="1905120"/>
            <a:ext cx="51516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9" name=""/>
          <p:cNvSpPr/>
          <p:nvPr/>
        </p:nvSpPr>
        <p:spPr>
          <a:xfrm>
            <a:off x="81720" y="1587600"/>
            <a:ext cx="11592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3314880" y="1523880"/>
            <a:ext cx="1485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1" name=""/>
          <p:cNvGrpSpPr/>
          <p:nvPr/>
        </p:nvGrpSpPr>
        <p:grpSpPr>
          <a:xfrm>
            <a:off x="4038840" y="4917960"/>
            <a:ext cx="304200" cy="228600"/>
            <a:chOff x="4038840" y="4917960"/>
            <a:chExt cx="304200" cy="228600"/>
          </a:xfrm>
        </p:grpSpPr>
        <p:sp>
          <p:nvSpPr>
            <p:cNvPr id="2512" name=""/>
            <p:cNvSpPr/>
            <p:nvPr/>
          </p:nvSpPr>
          <p:spPr>
            <a:xfrm flipH="1">
              <a:off x="4190760" y="49179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190760" y="491796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038840" y="49179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15" name=""/>
          <p:cNvCxnSpPr>
            <a:stCxn id="2488" idx="1"/>
            <a:endCxn id="2513" idx="0"/>
          </p:cNvCxnSpPr>
          <p:nvPr/>
        </p:nvCxnSpPr>
        <p:spPr>
          <a:xfrm flipH="1" flipV="1">
            <a:off x="4190400" y="5157360"/>
            <a:ext cx="229320" cy="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6" name=""/>
          <p:cNvCxnSpPr>
            <a:stCxn id="2488" idx="0"/>
            <a:endCxn id="2492" idx="2"/>
          </p:cNvCxnSpPr>
          <p:nvPr/>
        </p:nvCxnSpPr>
        <p:spPr>
          <a:xfrm flipV="1">
            <a:off x="5143320" y="4758480"/>
            <a:ext cx="1080" cy="22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7" name=""/>
          <p:cNvSpPr/>
          <p:nvPr/>
        </p:nvSpPr>
        <p:spPr>
          <a:xfrm>
            <a:off x="5181480" y="1523880"/>
            <a:ext cx="1600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8" name=""/>
          <p:cNvCxnSpPr>
            <a:stCxn id="2489" idx="0"/>
            <a:endCxn id="2510" idx="2"/>
          </p:cNvCxnSpPr>
          <p:nvPr/>
        </p:nvCxnSpPr>
        <p:spPr>
          <a:xfrm flipH="1" flipV="1">
            <a:off x="4057200" y="1837440"/>
            <a:ext cx="109296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9" name=""/>
          <p:cNvCxnSpPr>
            <a:stCxn id="2489" idx="0"/>
            <a:endCxn id="2517" idx="2"/>
          </p:cNvCxnSpPr>
          <p:nvPr/>
        </p:nvCxnSpPr>
        <p:spPr>
          <a:xfrm flipV="1">
            <a:off x="5149440" y="1837440"/>
            <a:ext cx="83268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1" name=""/>
          <p:cNvSpPr/>
          <p:nvPr/>
        </p:nvSpPr>
        <p:spPr>
          <a:xfrm>
            <a:off x="2137320" y="4267080"/>
            <a:ext cx="915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rrier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0" name=""/>
          <p:cNvCxnSpPr>
            <a:stCxn id="2521" idx="3"/>
            <a:endCxn id="2492" idx="1"/>
          </p:cNvCxnSpPr>
          <p:nvPr/>
        </p:nvCxnSpPr>
        <p:spPr>
          <a:xfrm flipV="1">
            <a:off x="4081320" y="4495320"/>
            <a:ext cx="33912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1" name=""/>
          <p:cNvSpPr/>
          <p:nvPr/>
        </p:nvSpPr>
        <p:spPr>
          <a:xfrm>
            <a:off x="3048120" y="4384800"/>
            <a:ext cx="1033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rrier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2" name=""/>
          <p:cNvCxnSpPr>
            <a:stCxn id="2523" idx="2"/>
            <a:endCxn id="2484" idx="0"/>
          </p:cNvCxnSpPr>
          <p:nvPr/>
        </p:nvCxnSpPr>
        <p:spPr>
          <a:xfrm flipH="1">
            <a:off x="1176480" y="1917360"/>
            <a:ext cx="70524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3" name=""/>
          <p:cNvSpPr/>
          <p:nvPr/>
        </p:nvSpPr>
        <p:spPr>
          <a:xfrm>
            <a:off x="1295280" y="1600200"/>
            <a:ext cx="11700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80880" y="55627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ical Engineer vie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ores issues of routing, reliable transport, various applications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SO view vs. IETF 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2437200" y="1447920"/>
            <a:ext cx="43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Network Engineer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380880" y="426708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383400" y="3886200"/>
            <a:ext cx="2049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Link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380880" y="29718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80880" y="34290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380880" y="25146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80880" y="16002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380880" y="20574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763200" y="4724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I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3809880" y="4267080"/>
            <a:ext cx="2971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3811680" y="3886200"/>
            <a:ext cx="2967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Link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5105520" y="3429000"/>
            <a:ext cx="1676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809880" y="3429000"/>
            <a:ext cx="762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63392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5105520" y="297180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019920" y="297180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6019920" y="251460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5105520" y="190512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477120" y="1905120"/>
            <a:ext cx="990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5945040" y="182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584280" y="545148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coordination between higher layers and physical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LAN Architectur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olo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Terminal (MT) or Mobile Station (MS) to denote and mobile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oint (AP) or Base-Station (BS) to denote the central entity that coordinates and wirelessly connects the mobiles to the wir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WL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structure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 WLA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: peer-to-peer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hop: nodes act both as terminals and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ssues in WLA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to resist to the wireless link limitations?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ultiple error control coding sche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um Access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ordination of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aling with wireless limitations (medium sensing and collisions detec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to maintain the routing tables in the context of highly mobile nodes (multi-hop routing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or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CP is optimized for congestion avoidance how to extend to error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to satisfy the application requirements (delay, throughput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can the application adapt to the channe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 conserva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-consumption, bandwidth optim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ning for infrastructure networks (location identification, tele-traffic analys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f-configuration for multi-hop ad hoc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CS Architectur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247320" y="1647720"/>
            <a:ext cx="853452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S: 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C: Mobile Switching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LR: Visitor Location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LR: Home Location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STN: Public Switched Telepho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TS: Plain Old Telephon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3" name=""/>
          <p:cNvGrpSpPr/>
          <p:nvPr/>
        </p:nvGrpSpPr>
        <p:grpSpPr>
          <a:xfrm>
            <a:off x="230400" y="4658760"/>
            <a:ext cx="1220040" cy="850680"/>
            <a:chOff x="230400" y="4658760"/>
            <a:chExt cx="1220040" cy="850680"/>
          </a:xfrm>
        </p:grpSpPr>
        <p:sp>
          <p:nvSpPr>
            <p:cNvPr id="2554" name=""/>
            <p:cNvSpPr/>
            <p:nvPr/>
          </p:nvSpPr>
          <p:spPr>
            <a:xfrm>
              <a:off x="592920" y="4658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82480" y="55094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6" name=""/>
            <p:cNvGrpSpPr/>
            <p:nvPr/>
          </p:nvGrpSpPr>
          <p:grpSpPr>
            <a:xfrm>
              <a:off x="1071720" y="4663440"/>
              <a:ext cx="378720" cy="841320"/>
              <a:chOff x="1071720" y="4663440"/>
              <a:chExt cx="378720" cy="841320"/>
            </a:xfrm>
          </p:grpSpPr>
          <p:sp>
            <p:nvSpPr>
              <p:cNvPr id="2557" name=""/>
              <p:cNvSpPr/>
              <p:nvPr/>
            </p:nvSpPr>
            <p:spPr>
              <a:xfrm>
                <a:off x="1071720" y="4663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1072440" y="5085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9" name=""/>
            <p:cNvGrpSpPr/>
            <p:nvPr/>
          </p:nvGrpSpPr>
          <p:grpSpPr>
            <a:xfrm>
              <a:off x="230400" y="4667760"/>
              <a:ext cx="378720" cy="841320"/>
              <a:chOff x="230400" y="4667760"/>
              <a:chExt cx="378720" cy="841320"/>
            </a:xfrm>
          </p:grpSpPr>
          <p:sp>
            <p:nvSpPr>
              <p:cNvPr id="2560" name=""/>
              <p:cNvSpPr/>
              <p:nvPr/>
            </p:nvSpPr>
            <p:spPr>
              <a:xfrm flipH="1">
                <a:off x="231120" y="4667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230400" y="5089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2" name=""/>
          <p:cNvGrpSpPr/>
          <p:nvPr/>
        </p:nvGrpSpPr>
        <p:grpSpPr>
          <a:xfrm>
            <a:off x="1073520" y="4226760"/>
            <a:ext cx="1219680" cy="850680"/>
            <a:chOff x="1073520" y="4226760"/>
            <a:chExt cx="1219680" cy="850680"/>
          </a:xfrm>
        </p:grpSpPr>
        <p:sp>
          <p:nvSpPr>
            <p:cNvPr id="2563" name=""/>
            <p:cNvSpPr/>
            <p:nvPr/>
          </p:nvSpPr>
          <p:spPr>
            <a:xfrm>
              <a:off x="1436040" y="4226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1425240" y="50774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5" name=""/>
            <p:cNvGrpSpPr/>
            <p:nvPr/>
          </p:nvGrpSpPr>
          <p:grpSpPr>
            <a:xfrm>
              <a:off x="1914480" y="4231440"/>
              <a:ext cx="378720" cy="841320"/>
              <a:chOff x="1914480" y="4231440"/>
              <a:chExt cx="378720" cy="841320"/>
            </a:xfrm>
          </p:grpSpPr>
          <p:sp>
            <p:nvSpPr>
              <p:cNvPr id="2566" name=""/>
              <p:cNvSpPr/>
              <p:nvPr/>
            </p:nvSpPr>
            <p:spPr>
              <a:xfrm>
                <a:off x="1914480" y="4231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V="1">
                <a:off x="1915200" y="4653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8" name=""/>
            <p:cNvGrpSpPr/>
            <p:nvPr/>
          </p:nvGrpSpPr>
          <p:grpSpPr>
            <a:xfrm>
              <a:off x="1073520" y="4235760"/>
              <a:ext cx="378720" cy="841320"/>
              <a:chOff x="1073520" y="4235760"/>
              <a:chExt cx="378720" cy="841320"/>
            </a:xfrm>
          </p:grpSpPr>
          <p:sp>
            <p:nvSpPr>
              <p:cNvPr id="2569" name=""/>
              <p:cNvSpPr/>
              <p:nvPr/>
            </p:nvSpPr>
            <p:spPr>
              <a:xfrm flipH="1">
                <a:off x="1074240" y="4235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H="1" flipV="1">
                <a:off x="1073520" y="4657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1" name=""/>
          <p:cNvGrpSpPr/>
          <p:nvPr/>
        </p:nvGrpSpPr>
        <p:grpSpPr>
          <a:xfrm>
            <a:off x="1070280" y="5079240"/>
            <a:ext cx="1219680" cy="850680"/>
            <a:chOff x="1070280" y="5079240"/>
            <a:chExt cx="1219680" cy="850680"/>
          </a:xfrm>
        </p:grpSpPr>
        <p:sp>
          <p:nvSpPr>
            <p:cNvPr id="2572" name=""/>
            <p:cNvSpPr/>
            <p:nvPr/>
          </p:nvSpPr>
          <p:spPr>
            <a:xfrm>
              <a:off x="1432800" y="50792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422000" y="59299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4" name=""/>
            <p:cNvGrpSpPr/>
            <p:nvPr/>
          </p:nvGrpSpPr>
          <p:grpSpPr>
            <a:xfrm>
              <a:off x="1911240" y="5083920"/>
              <a:ext cx="378720" cy="841320"/>
              <a:chOff x="1911240" y="5083920"/>
              <a:chExt cx="378720" cy="841320"/>
            </a:xfrm>
          </p:grpSpPr>
          <p:sp>
            <p:nvSpPr>
              <p:cNvPr id="2575" name=""/>
              <p:cNvSpPr/>
              <p:nvPr/>
            </p:nvSpPr>
            <p:spPr>
              <a:xfrm>
                <a:off x="1911240" y="5083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V="1">
                <a:off x="1911960" y="55054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7" name=""/>
            <p:cNvGrpSpPr/>
            <p:nvPr/>
          </p:nvGrpSpPr>
          <p:grpSpPr>
            <a:xfrm>
              <a:off x="1070280" y="5088240"/>
              <a:ext cx="378720" cy="841320"/>
              <a:chOff x="1070280" y="5088240"/>
              <a:chExt cx="378720" cy="841320"/>
            </a:xfrm>
          </p:grpSpPr>
          <p:sp>
            <p:nvSpPr>
              <p:cNvPr id="2578" name=""/>
              <p:cNvSpPr/>
              <p:nvPr/>
            </p:nvSpPr>
            <p:spPr>
              <a:xfrm flipH="1">
                <a:off x="1071000" y="5088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H="1" flipV="1">
                <a:off x="1070280" y="5509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0" name=""/>
          <p:cNvGrpSpPr/>
          <p:nvPr/>
        </p:nvGrpSpPr>
        <p:grpSpPr>
          <a:xfrm>
            <a:off x="1911600" y="4642920"/>
            <a:ext cx="1220040" cy="850320"/>
            <a:chOff x="1911600" y="4642920"/>
            <a:chExt cx="1220040" cy="850320"/>
          </a:xfrm>
        </p:grpSpPr>
        <p:sp>
          <p:nvSpPr>
            <p:cNvPr id="2581" name=""/>
            <p:cNvSpPr/>
            <p:nvPr/>
          </p:nvSpPr>
          <p:spPr>
            <a:xfrm>
              <a:off x="2274120" y="46429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263680" y="54932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3" name=""/>
            <p:cNvGrpSpPr/>
            <p:nvPr/>
          </p:nvGrpSpPr>
          <p:grpSpPr>
            <a:xfrm>
              <a:off x="2753280" y="4647600"/>
              <a:ext cx="378360" cy="840240"/>
              <a:chOff x="2753280" y="4647600"/>
              <a:chExt cx="378360" cy="840240"/>
            </a:xfrm>
          </p:grpSpPr>
          <p:sp>
            <p:nvSpPr>
              <p:cNvPr id="2584" name=""/>
              <p:cNvSpPr/>
              <p:nvPr/>
            </p:nvSpPr>
            <p:spPr>
              <a:xfrm>
                <a:off x="2753280" y="46476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V="1">
                <a:off x="2754000" y="50684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6" name=""/>
            <p:cNvGrpSpPr/>
            <p:nvPr/>
          </p:nvGrpSpPr>
          <p:grpSpPr>
            <a:xfrm>
              <a:off x="1911600" y="4651920"/>
              <a:ext cx="378360" cy="840240"/>
              <a:chOff x="1911600" y="4651920"/>
              <a:chExt cx="378360" cy="840240"/>
            </a:xfrm>
          </p:grpSpPr>
          <p:sp>
            <p:nvSpPr>
              <p:cNvPr id="2587" name=""/>
              <p:cNvSpPr/>
              <p:nvPr/>
            </p:nvSpPr>
            <p:spPr>
              <a:xfrm flipH="1">
                <a:off x="1912320" y="46519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 flipV="1">
                <a:off x="1911600" y="50727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9" name=""/>
          <p:cNvGrpSpPr/>
          <p:nvPr/>
        </p:nvGrpSpPr>
        <p:grpSpPr>
          <a:xfrm>
            <a:off x="1541520" y="5229360"/>
            <a:ext cx="228240" cy="424800"/>
            <a:chOff x="1541520" y="5229360"/>
            <a:chExt cx="228240" cy="424800"/>
          </a:xfrm>
        </p:grpSpPr>
        <p:sp>
          <p:nvSpPr>
            <p:cNvPr id="2590" name=""/>
            <p:cNvSpPr/>
            <p:nvPr/>
          </p:nvSpPr>
          <p:spPr>
            <a:xfrm flipH="1">
              <a:off x="1541520" y="522936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648800" y="52354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 flipV="1">
              <a:off x="1541520" y="54954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H="1" flipV="1">
              <a:off x="1590120" y="55018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4" name=""/>
          <p:cNvGrpSpPr/>
          <p:nvPr/>
        </p:nvGrpSpPr>
        <p:grpSpPr>
          <a:xfrm>
            <a:off x="2394000" y="4759200"/>
            <a:ext cx="228240" cy="425160"/>
            <a:chOff x="2394000" y="4759200"/>
            <a:chExt cx="228240" cy="425160"/>
          </a:xfrm>
        </p:grpSpPr>
        <p:sp>
          <p:nvSpPr>
            <p:cNvPr id="2595" name=""/>
            <p:cNvSpPr/>
            <p:nvPr/>
          </p:nvSpPr>
          <p:spPr>
            <a:xfrm flipH="1">
              <a:off x="2394000" y="475920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501280" y="476532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V="1">
              <a:off x="2394000" y="50256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H="1" flipV="1">
              <a:off x="2442600" y="503172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9" name=""/>
          <p:cNvGrpSpPr/>
          <p:nvPr/>
        </p:nvGrpSpPr>
        <p:grpSpPr>
          <a:xfrm>
            <a:off x="1546200" y="4322880"/>
            <a:ext cx="228240" cy="424800"/>
            <a:chOff x="1546200" y="4322880"/>
            <a:chExt cx="228240" cy="424800"/>
          </a:xfrm>
        </p:grpSpPr>
        <p:sp>
          <p:nvSpPr>
            <p:cNvPr id="2600" name=""/>
            <p:cNvSpPr/>
            <p:nvPr/>
          </p:nvSpPr>
          <p:spPr>
            <a:xfrm flipH="1">
              <a:off x="1546200" y="43228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653480" y="432900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V="1">
              <a:off x="1546200" y="458892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H="1" flipV="1">
              <a:off x="1594800" y="45954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4" name=""/>
          <p:cNvGrpSpPr/>
          <p:nvPr/>
        </p:nvGrpSpPr>
        <p:grpSpPr>
          <a:xfrm>
            <a:off x="701640" y="4834080"/>
            <a:ext cx="228240" cy="424800"/>
            <a:chOff x="701640" y="4834080"/>
            <a:chExt cx="228240" cy="424800"/>
          </a:xfrm>
        </p:grpSpPr>
        <p:sp>
          <p:nvSpPr>
            <p:cNvPr id="2605" name=""/>
            <p:cNvSpPr/>
            <p:nvPr/>
          </p:nvSpPr>
          <p:spPr>
            <a:xfrm flipH="1">
              <a:off x="701640" y="48340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808920" y="484020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 flipV="1">
              <a:off x="701640" y="510012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H="1" flipV="1">
              <a:off x="750240" y="51066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9" name=""/>
          <p:cNvGrpSpPr/>
          <p:nvPr/>
        </p:nvGrpSpPr>
        <p:grpSpPr>
          <a:xfrm>
            <a:off x="950760" y="4857480"/>
            <a:ext cx="214560" cy="403200"/>
            <a:chOff x="950760" y="4857480"/>
            <a:chExt cx="214560" cy="403200"/>
          </a:xfrm>
        </p:grpSpPr>
        <p:sp>
          <p:nvSpPr>
            <p:cNvPr id="2610" name=""/>
            <p:cNvSpPr/>
            <p:nvPr/>
          </p:nvSpPr>
          <p:spPr>
            <a:xfrm>
              <a:off x="950760" y="4930920"/>
              <a:ext cx="214560" cy="32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1" name=""/>
            <p:cNvGrpSpPr/>
            <p:nvPr/>
          </p:nvGrpSpPr>
          <p:grpSpPr>
            <a:xfrm>
              <a:off x="961560" y="5049720"/>
              <a:ext cx="187560" cy="186120"/>
              <a:chOff x="961560" y="5049720"/>
              <a:chExt cx="187560" cy="186120"/>
            </a:xfrm>
          </p:grpSpPr>
          <p:sp>
            <p:nvSpPr>
              <p:cNvPr id="2612" name=""/>
              <p:cNvSpPr/>
              <p:nvPr/>
            </p:nvSpPr>
            <p:spPr>
              <a:xfrm>
                <a:off x="961560" y="50515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1028160" y="50497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1095120" y="5054040"/>
                <a:ext cx="49680" cy="4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965880" y="51177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032480" y="51159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1099440" y="512028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964080" y="51840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1030680" y="51822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1097640" y="51865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1" name=""/>
            <p:cNvSpPr/>
            <p:nvPr/>
          </p:nvSpPr>
          <p:spPr>
            <a:xfrm>
              <a:off x="1105560" y="4873680"/>
              <a:ext cx="2952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H="1">
              <a:off x="1131120" y="4871880"/>
              <a:ext cx="29880" cy="6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V="1">
              <a:off x="1128600" y="48574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4" name=""/>
          <p:cNvSpPr/>
          <p:nvPr/>
        </p:nvSpPr>
        <p:spPr>
          <a:xfrm flipV="1">
            <a:off x="985680" y="5272200"/>
            <a:ext cx="1590840" cy="23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2387520" y="3871800"/>
            <a:ext cx="711360" cy="41616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2389320" y="3892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1704960" y="3506760"/>
            <a:ext cx="71136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1714680" y="3684600"/>
            <a:ext cx="71100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1713240" y="3598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723960" y="4084560"/>
            <a:ext cx="1698480" cy="1009800"/>
          </a:xfrm>
          <a:custGeom>
            <a:avLst/>
            <a:gdLst/>
            <a:ahLst/>
            <a:rect l="l" t="t" r="r" b="b"/>
            <a:pathLst>
              <a:path w="1070" h="636">
                <a:moveTo>
                  <a:pt x="0" y="636"/>
                </a:moveTo>
                <a:cubicBezTo>
                  <a:pt x="84" y="555"/>
                  <a:pt x="324" y="256"/>
                  <a:pt x="502" y="150"/>
                </a:cubicBezTo>
                <a:cubicBezTo>
                  <a:pt x="680" y="44"/>
                  <a:pt x="952" y="31"/>
                  <a:pt x="10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1662120" y="4237200"/>
            <a:ext cx="912960" cy="406080"/>
          </a:xfrm>
          <a:custGeom>
            <a:avLst/>
            <a:gdLst/>
            <a:ahLst/>
            <a:rect l="l" t="t" r="r" b="b"/>
            <a:pathLst>
              <a:path w="575" h="256">
                <a:moveTo>
                  <a:pt x="0" y="256"/>
                </a:moveTo>
                <a:cubicBezTo>
                  <a:pt x="51" y="229"/>
                  <a:pt x="211" y="134"/>
                  <a:pt x="307" y="91"/>
                </a:cubicBezTo>
                <a:cubicBezTo>
                  <a:pt x="403" y="48"/>
                  <a:pt x="519" y="19"/>
                  <a:pt x="5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1638360" y="4264200"/>
            <a:ext cx="1033560" cy="1269720"/>
          </a:xfrm>
          <a:custGeom>
            <a:avLst/>
            <a:gdLst/>
            <a:ahLst/>
            <a:rect l="l" t="t" r="r" b="b"/>
            <a:pathLst>
              <a:path w="651" h="800">
                <a:moveTo>
                  <a:pt x="0" y="800"/>
                </a:moveTo>
                <a:cubicBezTo>
                  <a:pt x="70" y="696"/>
                  <a:pt x="310" y="303"/>
                  <a:pt x="418" y="170"/>
                </a:cubicBezTo>
                <a:cubicBezTo>
                  <a:pt x="526" y="37"/>
                  <a:pt x="603" y="35"/>
                  <a:pt x="65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2529000" y="4275000"/>
            <a:ext cx="344520" cy="855720"/>
          </a:xfrm>
          <a:custGeom>
            <a:avLst/>
            <a:gdLst/>
            <a:ahLst/>
            <a:rect l="l" t="t" r="r" b="b"/>
            <a:pathLst>
              <a:path w="217" h="539">
                <a:moveTo>
                  <a:pt x="0" y="539"/>
                </a:moveTo>
                <a:cubicBezTo>
                  <a:pt x="31" y="484"/>
                  <a:pt x="157" y="299"/>
                  <a:pt x="187" y="209"/>
                </a:cubicBezTo>
                <a:cubicBezTo>
                  <a:pt x="217" y="119"/>
                  <a:pt x="181" y="44"/>
                  <a:pt x="1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4" name=""/>
          <p:cNvGrpSpPr/>
          <p:nvPr/>
        </p:nvGrpSpPr>
        <p:grpSpPr>
          <a:xfrm>
            <a:off x="4361040" y="4752360"/>
            <a:ext cx="1220040" cy="850680"/>
            <a:chOff x="4361040" y="4752360"/>
            <a:chExt cx="1220040" cy="850680"/>
          </a:xfrm>
        </p:grpSpPr>
        <p:sp>
          <p:nvSpPr>
            <p:cNvPr id="2635" name=""/>
            <p:cNvSpPr/>
            <p:nvPr/>
          </p:nvSpPr>
          <p:spPr>
            <a:xfrm>
              <a:off x="4723560" y="47523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713120" y="56030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7" name=""/>
            <p:cNvGrpSpPr/>
            <p:nvPr/>
          </p:nvGrpSpPr>
          <p:grpSpPr>
            <a:xfrm>
              <a:off x="5202360" y="4757040"/>
              <a:ext cx="378720" cy="841320"/>
              <a:chOff x="5202360" y="4757040"/>
              <a:chExt cx="378720" cy="841320"/>
            </a:xfrm>
          </p:grpSpPr>
          <p:sp>
            <p:nvSpPr>
              <p:cNvPr id="2638" name=""/>
              <p:cNvSpPr/>
              <p:nvPr/>
            </p:nvSpPr>
            <p:spPr>
              <a:xfrm>
                <a:off x="5202360" y="47570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V="1">
                <a:off x="5203080" y="51786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0" name=""/>
            <p:cNvGrpSpPr/>
            <p:nvPr/>
          </p:nvGrpSpPr>
          <p:grpSpPr>
            <a:xfrm>
              <a:off x="4361040" y="4761360"/>
              <a:ext cx="378720" cy="841320"/>
              <a:chOff x="4361040" y="4761360"/>
              <a:chExt cx="378720" cy="841320"/>
            </a:xfrm>
          </p:grpSpPr>
          <p:sp>
            <p:nvSpPr>
              <p:cNvPr id="2641" name=""/>
              <p:cNvSpPr/>
              <p:nvPr/>
            </p:nvSpPr>
            <p:spPr>
              <a:xfrm flipH="1">
                <a:off x="4361760" y="4761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4361040" y="5182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3" name=""/>
          <p:cNvGrpSpPr/>
          <p:nvPr/>
        </p:nvGrpSpPr>
        <p:grpSpPr>
          <a:xfrm>
            <a:off x="5204160" y="4320720"/>
            <a:ext cx="1219680" cy="850320"/>
            <a:chOff x="5204160" y="4320720"/>
            <a:chExt cx="1219680" cy="850320"/>
          </a:xfrm>
        </p:grpSpPr>
        <p:sp>
          <p:nvSpPr>
            <p:cNvPr id="2644" name=""/>
            <p:cNvSpPr/>
            <p:nvPr/>
          </p:nvSpPr>
          <p:spPr>
            <a:xfrm>
              <a:off x="5566680" y="43207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5555880" y="51710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6" name=""/>
            <p:cNvGrpSpPr/>
            <p:nvPr/>
          </p:nvGrpSpPr>
          <p:grpSpPr>
            <a:xfrm>
              <a:off x="6045480" y="4325400"/>
              <a:ext cx="378360" cy="840240"/>
              <a:chOff x="6045480" y="4325400"/>
              <a:chExt cx="378360" cy="840240"/>
            </a:xfrm>
          </p:grpSpPr>
          <p:sp>
            <p:nvSpPr>
              <p:cNvPr id="2647" name=""/>
              <p:cNvSpPr/>
              <p:nvPr/>
            </p:nvSpPr>
            <p:spPr>
              <a:xfrm>
                <a:off x="6045480" y="43254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flipV="1">
                <a:off x="6046200" y="47462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9" name=""/>
            <p:cNvGrpSpPr/>
            <p:nvPr/>
          </p:nvGrpSpPr>
          <p:grpSpPr>
            <a:xfrm>
              <a:off x="5204160" y="4329720"/>
              <a:ext cx="378360" cy="840240"/>
              <a:chOff x="5204160" y="4329720"/>
              <a:chExt cx="378360" cy="840240"/>
            </a:xfrm>
          </p:grpSpPr>
          <p:sp>
            <p:nvSpPr>
              <p:cNvPr id="2650" name=""/>
              <p:cNvSpPr/>
              <p:nvPr/>
            </p:nvSpPr>
            <p:spPr>
              <a:xfrm flipH="1">
                <a:off x="5204880" y="43297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 flipH="1" flipV="1">
                <a:off x="5204160" y="47505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2" name=""/>
          <p:cNvGrpSpPr/>
          <p:nvPr/>
        </p:nvGrpSpPr>
        <p:grpSpPr>
          <a:xfrm>
            <a:off x="5200920" y="5173200"/>
            <a:ext cx="1220040" cy="850320"/>
            <a:chOff x="5200920" y="5173200"/>
            <a:chExt cx="1220040" cy="850320"/>
          </a:xfrm>
        </p:grpSpPr>
        <p:sp>
          <p:nvSpPr>
            <p:cNvPr id="2653" name=""/>
            <p:cNvSpPr/>
            <p:nvPr/>
          </p:nvSpPr>
          <p:spPr>
            <a:xfrm>
              <a:off x="5563440" y="51732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553000" y="60235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5" name=""/>
            <p:cNvGrpSpPr/>
            <p:nvPr/>
          </p:nvGrpSpPr>
          <p:grpSpPr>
            <a:xfrm>
              <a:off x="6042600" y="5177880"/>
              <a:ext cx="378360" cy="840240"/>
              <a:chOff x="6042600" y="5177880"/>
              <a:chExt cx="378360" cy="840240"/>
            </a:xfrm>
          </p:grpSpPr>
          <p:sp>
            <p:nvSpPr>
              <p:cNvPr id="2656" name=""/>
              <p:cNvSpPr/>
              <p:nvPr/>
            </p:nvSpPr>
            <p:spPr>
              <a:xfrm>
                <a:off x="6042600" y="51778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V="1">
                <a:off x="6043320" y="55987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8" name=""/>
            <p:cNvGrpSpPr/>
            <p:nvPr/>
          </p:nvGrpSpPr>
          <p:grpSpPr>
            <a:xfrm>
              <a:off x="5200920" y="5182200"/>
              <a:ext cx="378360" cy="840240"/>
              <a:chOff x="5200920" y="5182200"/>
              <a:chExt cx="378360" cy="840240"/>
            </a:xfrm>
          </p:grpSpPr>
          <p:sp>
            <p:nvSpPr>
              <p:cNvPr id="2659" name=""/>
              <p:cNvSpPr/>
              <p:nvPr/>
            </p:nvSpPr>
            <p:spPr>
              <a:xfrm flipH="1">
                <a:off x="5201640" y="51822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H="1" flipV="1">
                <a:off x="5200920" y="56030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1" name=""/>
          <p:cNvGrpSpPr/>
          <p:nvPr/>
        </p:nvGrpSpPr>
        <p:grpSpPr>
          <a:xfrm>
            <a:off x="6042240" y="4736520"/>
            <a:ext cx="1220040" cy="850680"/>
            <a:chOff x="6042240" y="4736520"/>
            <a:chExt cx="1220040" cy="850680"/>
          </a:xfrm>
        </p:grpSpPr>
        <p:sp>
          <p:nvSpPr>
            <p:cNvPr id="2662" name=""/>
            <p:cNvSpPr/>
            <p:nvPr/>
          </p:nvSpPr>
          <p:spPr>
            <a:xfrm>
              <a:off x="6404760" y="4736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394320" y="55872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4" name=""/>
            <p:cNvGrpSpPr/>
            <p:nvPr/>
          </p:nvGrpSpPr>
          <p:grpSpPr>
            <a:xfrm>
              <a:off x="6883560" y="4741200"/>
              <a:ext cx="378720" cy="841320"/>
              <a:chOff x="6883560" y="4741200"/>
              <a:chExt cx="378720" cy="841320"/>
            </a:xfrm>
          </p:grpSpPr>
          <p:sp>
            <p:nvSpPr>
              <p:cNvPr id="2665" name=""/>
              <p:cNvSpPr/>
              <p:nvPr/>
            </p:nvSpPr>
            <p:spPr>
              <a:xfrm>
                <a:off x="6883560" y="4741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 flipV="1">
                <a:off x="6884280" y="5162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7" name=""/>
            <p:cNvGrpSpPr/>
            <p:nvPr/>
          </p:nvGrpSpPr>
          <p:grpSpPr>
            <a:xfrm>
              <a:off x="6042240" y="4745520"/>
              <a:ext cx="378720" cy="841320"/>
              <a:chOff x="6042240" y="4745520"/>
              <a:chExt cx="378720" cy="841320"/>
            </a:xfrm>
          </p:grpSpPr>
          <p:sp>
            <p:nvSpPr>
              <p:cNvPr id="2668" name=""/>
              <p:cNvSpPr/>
              <p:nvPr/>
            </p:nvSpPr>
            <p:spPr>
              <a:xfrm flipH="1">
                <a:off x="6042960" y="4745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 flipV="1">
                <a:off x="6042240" y="5167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0" name=""/>
          <p:cNvGrpSpPr/>
          <p:nvPr/>
        </p:nvGrpSpPr>
        <p:grpSpPr>
          <a:xfrm>
            <a:off x="5672160" y="5322960"/>
            <a:ext cx="228240" cy="425160"/>
            <a:chOff x="5672160" y="5322960"/>
            <a:chExt cx="228240" cy="425160"/>
          </a:xfrm>
        </p:grpSpPr>
        <p:sp>
          <p:nvSpPr>
            <p:cNvPr id="2671" name=""/>
            <p:cNvSpPr/>
            <p:nvPr/>
          </p:nvSpPr>
          <p:spPr>
            <a:xfrm flipH="1">
              <a:off x="5672160" y="532296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5779440" y="532908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V="1">
              <a:off x="5672160" y="558936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H="1" flipV="1">
              <a:off x="5720760" y="55954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5" name=""/>
          <p:cNvGrpSpPr/>
          <p:nvPr/>
        </p:nvGrpSpPr>
        <p:grpSpPr>
          <a:xfrm>
            <a:off x="6524640" y="4853160"/>
            <a:ext cx="228240" cy="424800"/>
            <a:chOff x="6524640" y="4853160"/>
            <a:chExt cx="228240" cy="424800"/>
          </a:xfrm>
        </p:grpSpPr>
        <p:sp>
          <p:nvSpPr>
            <p:cNvPr id="2676" name=""/>
            <p:cNvSpPr/>
            <p:nvPr/>
          </p:nvSpPr>
          <p:spPr>
            <a:xfrm flipH="1">
              <a:off x="6524640" y="485316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631920" y="48592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V="1">
              <a:off x="6524640" y="51192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H="1" flipV="1">
              <a:off x="6573240" y="51256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0" name=""/>
          <p:cNvGrpSpPr/>
          <p:nvPr/>
        </p:nvGrpSpPr>
        <p:grpSpPr>
          <a:xfrm>
            <a:off x="5676840" y="4416480"/>
            <a:ext cx="228240" cy="425160"/>
            <a:chOff x="5676840" y="4416480"/>
            <a:chExt cx="228240" cy="425160"/>
          </a:xfrm>
        </p:grpSpPr>
        <p:sp>
          <p:nvSpPr>
            <p:cNvPr id="2681" name=""/>
            <p:cNvSpPr/>
            <p:nvPr/>
          </p:nvSpPr>
          <p:spPr>
            <a:xfrm flipH="1">
              <a:off x="5676840" y="441648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784120" y="442260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 flipV="1">
              <a:off x="5676840" y="46828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H="1" flipV="1">
              <a:off x="5725440" y="46890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4832280" y="4927680"/>
            <a:ext cx="228240" cy="425160"/>
            <a:chOff x="4832280" y="4927680"/>
            <a:chExt cx="228240" cy="425160"/>
          </a:xfrm>
        </p:grpSpPr>
        <p:sp>
          <p:nvSpPr>
            <p:cNvPr id="2686" name=""/>
            <p:cNvSpPr/>
            <p:nvPr/>
          </p:nvSpPr>
          <p:spPr>
            <a:xfrm flipH="1">
              <a:off x="4832280" y="492768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939560" y="493380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flipV="1">
              <a:off x="4832280" y="51940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 flipV="1">
              <a:off x="4880880" y="52002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5081760" y="4951080"/>
            <a:ext cx="214200" cy="403200"/>
            <a:chOff x="5081760" y="4951080"/>
            <a:chExt cx="214200" cy="403200"/>
          </a:xfrm>
        </p:grpSpPr>
        <p:sp>
          <p:nvSpPr>
            <p:cNvPr id="2691" name=""/>
            <p:cNvSpPr/>
            <p:nvPr/>
          </p:nvSpPr>
          <p:spPr>
            <a:xfrm>
              <a:off x="5081760" y="5024520"/>
              <a:ext cx="214200" cy="32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2" name=""/>
            <p:cNvGrpSpPr/>
            <p:nvPr/>
          </p:nvGrpSpPr>
          <p:grpSpPr>
            <a:xfrm>
              <a:off x="5092560" y="5143320"/>
              <a:ext cx="187200" cy="186120"/>
              <a:chOff x="5092560" y="5143320"/>
              <a:chExt cx="187200" cy="186120"/>
            </a:xfrm>
          </p:grpSpPr>
          <p:sp>
            <p:nvSpPr>
              <p:cNvPr id="2693" name=""/>
              <p:cNvSpPr/>
              <p:nvPr/>
            </p:nvSpPr>
            <p:spPr>
              <a:xfrm>
                <a:off x="5092560" y="5145120"/>
                <a:ext cx="4932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5159160" y="51433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5225760" y="5147640"/>
                <a:ext cx="49680" cy="4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5096880" y="52113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5163480" y="52095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5230080" y="521388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5095080" y="52776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5161680" y="52758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5228280" y="52801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2" name=""/>
            <p:cNvSpPr/>
            <p:nvPr/>
          </p:nvSpPr>
          <p:spPr>
            <a:xfrm>
              <a:off x="5236560" y="4967280"/>
              <a:ext cx="2952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5261760" y="4965480"/>
              <a:ext cx="29880" cy="6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V="1">
              <a:off x="5259240" y="49510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5" name=""/>
          <p:cNvSpPr/>
          <p:nvPr/>
        </p:nvSpPr>
        <p:spPr>
          <a:xfrm flipV="1">
            <a:off x="5116680" y="5365800"/>
            <a:ext cx="1590480" cy="23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6518160" y="3965400"/>
            <a:ext cx="711360" cy="41616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6519960" y="39862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5835600" y="3600360"/>
            <a:ext cx="711360" cy="41616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5845320" y="3778200"/>
            <a:ext cx="71100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5843880" y="36925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4854600" y="4178160"/>
            <a:ext cx="1698480" cy="1009800"/>
          </a:xfrm>
          <a:custGeom>
            <a:avLst/>
            <a:gdLst/>
            <a:ahLst/>
            <a:rect l="l" t="t" r="r" b="b"/>
            <a:pathLst>
              <a:path w="1070" h="636">
                <a:moveTo>
                  <a:pt x="0" y="636"/>
                </a:moveTo>
                <a:cubicBezTo>
                  <a:pt x="84" y="555"/>
                  <a:pt x="324" y="256"/>
                  <a:pt x="502" y="150"/>
                </a:cubicBezTo>
                <a:cubicBezTo>
                  <a:pt x="680" y="44"/>
                  <a:pt x="952" y="31"/>
                  <a:pt x="10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5792760" y="4330800"/>
            <a:ext cx="912960" cy="406440"/>
          </a:xfrm>
          <a:custGeom>
            <a:avLst/>
            <a:gdLst/>
            <a:ahLst/>
            <a:rect l="l" t="t" r="r" b="b"/>
            <a:pathLst>
              <a:path w="575" h="256">
                <a:moveTo>
                  <a:pt x="0" y="256"/>
                </a:moveTo>
                <a:cubicBezTo>
                  <a:pt x="51" y="229"/>
                  <a:pt x="211" y="134"/>
                  <a:pt x="307" y="91"/>
                </a:cubicBezTo>
                <a:cubicBezTo>
                  <a:pt x="403" y="48"/>
                  <a:pt x="519" y="19"/>
                  <a:pt x="5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5769000" y="4357800"/>
            <a:ext cx="1033560" cy="1269720"/>
          </a:xfrm>
          <a:custGeom>
            <a:avLst/>
            <a:gdLst/>
            <a:ahLst/>
            <a:rect l="l" t="t" r="r" b="b"/>
            <a:pathLst>
              <a:path w="651" h="800">
                <a:moveTo>
                  <a:pt x="0" y="800"/>
                </a:moveTo>
                <a:cubicBezTo>
                  <a:pt x="70" y="696"/>
                  <a:pt x="310" y="303"/>
                  <a:pt x="418" y="170"/>
                </a:cubicBezTo>
                <a:cubicBezTo>
                  <a:pt x="526" y="37"/>
                  <a:pt x="603" y="35"/>
                  <a:pt x="65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6659640" y="4368960"/>
            <a:ext cx="344520" cy="855360"/>
          </a:xfrm>
          <a:custGeom>
            <a:avLst/>
            <a:gdLst/>
            <a:ahLst/>
            <a:rect l="l" t="t" r="r" b="b"/>
            <a:pathLst>
              <a:path w="217" h="539">
                <a:moveTo>
                  <a:pt x="0" y="539"/>
                </a:moveTo>
                <a:cubicBezTo>
                  <a:pt x="31" y="484"/>
                  <a:pt x="157" y="299"/>
                  <a:pt x="187" y="209"/>
                </a:cubicBezTo>
                <a:cubicBezTo>
                  <a:pt x="217" y="119"/>
                  <a:pt x="181" y="44"/>
                  <a:pt x="1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5762520" y="1995480"/>
            <a:ext cx="71136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5772240" y="2173320"/>
            <a:ext cx="71100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5770800" y="208764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5103720" y="1541520"/>
            <a:ext cx="2371680" cy="1716120"/>
          </a:xfrm>
          <a:custGeom>
            <a:avLst/>
            <a:gdLst/>
            <a:ahLst/>
            <a:rect l="l" t="t" r="r" b="b"/>
            <a:pathLst>
              <a:path w="1494" h="1081">
                <a:moveTo>
                  <a:pt x="278" y="884"/>
                </a:moveTo>
                <a:cubicBezTo>
                  <a:pt x="319" y="975"/>
                  <a:pt x="453" y="1077"/>
                  <a:pt x="555" y="1079"/>
                </a:cubicBezTo>
                <a:cubicBezTo>
                  <a:pt x="657" y="1081"/>
                  <a:pt x="784" y="920"/>
                  <a:pt x="892" y="899"/>
                </a:cubicBezTo>
                <a:cubicBezTo>
                  <a:pt x="1000" y="878"/>
                  <a:pt x="1115" y="966"/>
                  <a:pt x="1206" y="951"/>
                </a:cubicBezTo>
                <a:cubicBezTo>
                  <a:pt x="1297" y="936"/>
                  <a:pt x="1413" y="881"/>
                  <a:pt x="1438" y="809"/>
                </a:cubicBezTo>
                <a:cubicBezTo>
                  <a:pt x="1463" y="737"/>
                  <a:pt x="1356" y="639"/>
                  <a:pt x="1356" y="518"/>
                </a:cubicBezTo>
                <a:cubicBezTo>
                  <a:pt x="1356" y="397"/>
                  <a:pt x="1494" y="168"/>
                  <a:pt x="1438" y="84"/>
                </a:cubicBezTo>
                <a:cubicBezTo>
                  <a:pt x="1382" y="0"/>
                  <a:pt x="1154" y="4"/>
                  <a:pt x="1019" y="16"/>
                </a:cubicBezTo>
                <a:cubicBezTo>
                  <a:pt x="884" y="28"/>
                  <a:pt x="783" y="141"/>
                  <a:pt x="630" y="159"/>
                </a:cubicBezTo>
                <a:cubicBezTo>
                  <a:pt x="477" y="177"/>
                  <a:pt x="198" y="89"/>
                  <a:pt x="99" y="121"/>
                </a:cubicBezTo>
                <a:cubicBezTo>
                  <a:pt x="0" y="153"/>
                  <a:pt x="4" y="284"/>
                  <a:pt x="39" y="353"/>
                </a:cubicBezTo>
                <a:cubicBezTo>
                  <a:pt x="74" y="422"/>
                  <a:pt x="267" y="446"/>
                  <a:pt x="308" y="533"/>
                </a:cubicBezTo>
                <a:cubicBezTo>
                  <a:pt x="349" y="620"/>
                  <a:pt x="237" y="793"/>
                  <a:pt x="278" y="884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6394320" y="249876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 flipV="1">
            <a:off x="3016080" y="2777760"/>
            <a:ext cx="250524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 flipH="1" flipV="1">
            <a:off x="6435360" y="2968200"/>
            <a:ext cx="428760" cy="99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ssues in PC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151920" y="158904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structure plann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base 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 planning and manag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, timeslots,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 (FCA), Dynamic (DCA), Hybrid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over (or handoff) typ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ft/hard/seamless (data flow), backward/forward (control f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e controlled (DECT, PACS), network controlled (AMPS, CT-2), mobile assisted (GSM, IS-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a-system handover, inter-system hand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ssion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a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ireless Syst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LAN: IEEE802.11, Bluetooth (more for short-range low bit-rate interconn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day: GSM (= DCS1800, PCS1900 , GPRS), Cdma (= IS-95), DAMPS (= TDMA, IS-136, IS-5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ing deployed: WCDMA (UMTS = 3GPP), Cdma2000 (=3GPP2: 1xEV-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me Trends in Wireless Network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archite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802.11b/a/g leading to hotsp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ular for full coverage, voice, and 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brid wireless networks: multihop and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hot physical layer technologies resea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tra Wide Band (UWB) derived from radar technology for low interference-low power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P cellular networ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rion, Airvana (CDMA 2000 1xEV-DO)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xistence of technolog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Defined Radio, single chip multiple radio technologies (Qual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ireless Communication Syste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Information Systems: “Anytime, Anywhere, Anyfor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: Ubiquitous Computing/Informatio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in continuous grow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-60% annual growth of 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subscrib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1: over 700M mobile ph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3: 1.160 billion wireless subscribers (source www.gsm.o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0% growth in wireless data from 1995-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diversity of standards and product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using 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3360" y="1592280"/>
            <a:ext cx="7828560" cy="4693320"/>
            <a:chOff x="603360" y="1592280"/>
            <a:chExt cx="7828560" cy="4693320"/>
          </a:xfrm>
        </p:grpSpPr>
        <p:grpSp>
          <p:nvGrpSpPr>
            <p:cNvPr id="58" name=""/>
            <p:cNvGrpSpPr/>
            <p:nvPr/>
          </p:nvGrpSpPr>
          <p:grpSpPr>
            <a:xfrm>
              <a:off x="2685240" y="4260240"/>
              <a:ext cx="37800" cy="110520"/>
              <a:chOff x="2685240" y="4260240"/>
              <a:chExt cx="37800" cy="110520"/>
            </a:xfrm>
          </p:grpSpPr>
          <p:sp>
            <p:nvSpPr>
              <p:cNvPr id="59" name=""/>
              <p:cNvSpPr/>
              <p:nvPr/>
            </p:nvSpPr>
            <p:spPr>
              <a:xfrm>
                <a:off x="2693520" y="4260240"/>
                <a:ext cx="22320" cy="110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685240" y="426276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685240" y="427140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685240" y="427968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685240" y="4287960"/>
                <a:ext cx="3780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685240" y="429660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685240" y="4304880"/>
                <a:ext cx="3780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685240" y="431316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685240" y="432144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85240" y="433008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240" y="433836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85240" y="434520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685240" y="4353840"/>
                <a:ext cx="3780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85240" y="436212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603360" y="2037600"/>
              <a:ext cx="7413840" cy="4154760"/>
            </a:xfrm>
            <a:custGeom>
              <a:avLst/>
              <a:gdLst/>
              <a:ahLst/>
              <a:rect l="l" t="t" r="r" b="b"/>
              <a:pathLst>
                <a:path w="5088" h="3132">
                  <a:moveTo>
                    <a:pt x="0" y="3120"/>
                  </a:moveTo>
                  <a:lnTo>
                    <a:pt x="2448" y="3132"/>
                  </a:lnTo>
                  <a:lnTo>
                    <a:pt x="5088" y="0"/>
                  </a:lnTo>
                  <a:lnTo>
                    <a:pt x="4512" y="0"/>
                  </a:lnTo>
                  <a:lnTo>
                    <a:pt x="0" y="312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4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8235000">
              <a:off x="5160600" y="3049560"/>
              <a:ext cx="928080" cy="646920"/>
            </a:xfrm>
            <a:custGeom>
              <a:avLst/>
              <a:gdLst>
                <a:gd name="textAreaLeft" fmla="*/ 0 w 928080"/>
                <a:gd name="textAreaRight" fmla="*/ 928440 w 928080"/>
                <a:gd name="textAreaTop" fmla="*/ 0 h 646920"/>
                <a:gd name="textAreaBottom" fmla="*/ 647280 h 64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5100" y="4334"/>
                  </a:lnTo>
                  <a:lnTo>
                    <a:pt x="13000" y="4334"/>
                  </a:lnTo>
                  <a:lnTo>
                    <a:pt x="13000" y="8600"/>
                  </a:lnTo>
                  <a:lnTo>
                    <a:pt x="17266" y="8600"/>
                  </a:lnTo>
                  <a:lnTo>
                    <a:pt x="17266" y="6500"/>
                  </a:lnTo>
                  <a:lnTo>
                    <a:pt x="21600" y="10800"/>
                  </a:lnTo>
                  <a:lnTo>
                    <a:pt x="17266" y="15100"/>
                  </a:lnTo>
                  <a:lnTo>
                    <a:pt x="17266" y="13000"/>
                  </a:lnTo>
                  <a:lnTo>
                    <a:pt x="4334" y="13000"/>
                  </a:lnTo>
                  <a:lnTo>
                    <a:pt x="4334" y="15100"/>
                  </a:lnTo>
                  <a:lnTo>
                    <a:pt x="0" y="10800"/>
                  </a:lnTo>
                  <a:lnTo>
                    <a:pt x="4334" y="6500"/>
                  </a:lnTo>
                  <a:lnTo>
                    <a:pt x="4334" y="8600"/>
                  </a:lnTo>
                  <a:lnTo>
                    <a:pt x="8600" y="8600"/>
                  </a:lnTo>
                  <a:lnTo>
                    <a:pt x="8600" y="4334"/>
                  </a:lnTo>
                  <a:lnTo>
                    <a:pt x="6500" y="4334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9077600">
              <a:off x="5145840" y="308232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d h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5578200" y="3301560"/>
              <a:ext cx="864720" cy="872640"/>
              <a:chOff x="5578200" y="3301560"/>
              <a:chExt cx="864720" cy="87264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5608440" y="3331080"/>
                <a:ext cx="834480" cy="843120"/>
                <a:chOff x="5608440" y="3331080"/>
                <a:chExt cx="834480" cy="843120"/>
              </a:xfrm>
            </p:grpSpPr>
            <p:sp>
              <p:nvSpPr>
                <p:cNvPr id="78" name=""/>
                <p:cNvSpPr/>
                <p:nvPr/>
              </p:nvSpPr>
              <p:spPr>
                <a:xfrm rot="18900000">
                  <a:off x="5795280" y="4007160"/>
                  <a:ext cx="102240" cy="14400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rot="18900000">
                  <a:off x="5653080" y="3942000"/>
                  <a:ext cx="174960" cy="19944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rot="19619400">
                  <a:off x="6291360" y="3536280"/>
                  <a:ext cx="37440" cy="5400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rot="19619400">
                  <a:off x="6302880" y="35409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rot="19619400">
                  <a:off x="6378840" y="3582000"/>
                  <a:ext cx="54000" cy="5256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rot="19619400">
                  <a:off x="5971680" y="3828240"/>
                  <a:ext cx="105840" cy="1472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9619400">
                  <a:off x="6006600" y="3876840"/>
                  <a:ext cx="37080" cy="5004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9619400">
                  <a:off x="6203160" y="3593880"/>
                  <a:ext cx="105840" cy="1472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9619400">
                  <a:off x="6238080" y="3642120"/>
                  <a:ext cx="37440" cy="5076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900000">
                  <a:off x="5658840" y="3520440"/>
                  <a:ext cx="675000" cy="33696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9619400">
                  <a:off x="6260040" y="3487680"/>
                  <a:ext cx="16920" cy="424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9619400">
                  <a:off x="5859360" y="3980520"/>
                  <a:ext cx="34200" cy="3996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9619400">
                  <a:off x="6278760" y="3546720"/>
                  <a:ext cx="40320" cy="4140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rot="18900000">
                  <a:off x="5703840" y="3532320"/>
                  <a:ext cx="592560" cy="29412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rot="19619400">
                  <a:off x="5899680" y="3578040"/>
                  <a:ext cx="110880" cy="8316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rot="19619400">
                  <a:off x="5835960" y="3656520"/>
                  <a:ext cx="81720" cy="8928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5578200" y="3301560"/>
                <a:ext cx="347760" cy="420120"/>
                <a:chOff x="5578200" y="3301560"/>
                <a:chExt cx="347760" cy="420120"/>
              </a:xfrm>
            </p:grpSpPr>
            <p:sp>
              <p:nvSpPr>
                <p:cNvPr id="95" name=""/>
                <p:cNvSpPr/>
                <p:nvPr/>
              </p:nvSpPr>
              <p:spPr>
                <a:xfrm flipH="1" rot="17685000">
                  <a:off x="5734080" y="3393720"/>
                  <a:ext cx="78480" cy="1040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 rot="17685000">
                  <a:off x="5686200" y="3508920"/>
                  <a:ext cx="50400" cy="8136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17685000">
                  <a:off x="5731200" y="3342960"/>
                  <a:ext cx="126720" cy="16956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17685000">
                  <a:off x="5636520" y="3512520"/>
                  <a:ext cx="111240" cy="11304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 rot="17685000">
                  <a:off x="5823000" y="3299760"/>
                  <a:ext cx="45000" cy="10656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rot="17685000">
                  <a:off x="5613120" y="3578400"/>
                  <a:ext cx="96840" cy="13932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 rot="17685000">
                  <a:off x="5826600" y="3536280"/>
                  <a:ext cx="32760" cy="8424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 rot="17685000">
                  <a:off x="5783760" y="3510000"/>
                  <a:ext cx="16920" cy="4248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 rot="17685000">
                  <a:off x="5755320" y="3488040"/>
                  <a:ext cx="14400" cy="2412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 rot="17685000">
                  <a:off x="5734440" y="3473280"/>
                  <a:ext cx="20160" cy="1584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 rot="17685000">
                  <a:off x="5749560" y="3375720"/>
                  <a:ext cx="77760" cy="10584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 rot="17685000">
                  <a:off x="5701680" y="3491280"/>
                  <a:ext cx="50400" cy="8208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rot="17685000">
                  <a:off x="5747400" y="3325680"/>
                  <a:ext cx="127080" cy="17064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 rot="17685000">
                  <a:off x="5652720" y="3495600"/>
                  <a:ext cx="110880" cy="11340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 rot="17685000">
                  <a:off x="5845680" y="3290760"/>
                  <a:ext cx="45000" cy="10620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 rot="17685000">
                  <a:off x="5629680" y="3562200"/>
                  <a:ext cx="96480" cy="13932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111" name=""/>
            <p:cNvCxnSpPr/>
            <p:nvPr/>
          </p:nvCxnSpPr>
          <p:spPr>
            <a:xfrm flipH="1" flipV="1">
              <a:off x="1336680" y="3501000"/>
              <a:ext cx="945000" cy="61812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12" name=""/>
            <p:cNvCxnSpPr>
              <a:stCxn id="113" idx="0"/>
              <a:endCxn id="114" idx="0"/>
            </p:cNvCxnSpPr>
            <p:nvPr/>
          </p:nvCxnSpPr>
          <p:spPr>
            <a:xfrm>
              <a:off x="1058040" y="3094920"/>
              <a:ext cx="740880" cy="23652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15" name=""/>
            <p:cNvCxnSpPr>
              <a:endCxn id="114" idx="1"/>
            </p:cNvCxnSpPr>
            <p:nvPr/>
          </p:nvCxnSpPr>
          <p:spPr>
            <a:xfrm flipV="1">
              <a:off x="1337040" y="3330720"/>
              <a:ext cx="461160" cy="16956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16" name=""/>
            <p:cNvCxnSpPr>
              <a:stCxn id="117" idx="0"/>
            </p:cNvCxnSpPr>
            <p:nvPr/>
          </p:nvCxnSpPr>
          <p:spPr>
            <a:xfrm flipV="1">
              <a:off x="871200" y="4353840"/>
              <a:ext cx="1658880" cy="135000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18" name=""/>
            <p:cNvCxnSpPr>
              <a:endCxn id="119" idx="0"/>
            </p:cNvCxnSpPr>
            <p:nvPr/>
          </p:nvCxnSpPr>
          <p:spPr>
            <a:xfrm flipV="1">
              <a:off x="2775600" y="2949120"/>
              <a:ext cx="1763640" cy="117108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20" name=""/>
            <p:cNvCxnSpPr>
              <a:stCxn id="121" idx="0"/>
              <a:endCxn id="122" idx="0"/>
            </p:cNvCxnSpPr>
            <p:nvPr/>
          </p:nvCxnSpPr>
          <p:spPr>
            <a:xfrm flipV="1">
              <a:off x="4662360" y="2399040"/>
              <a:ext cx="1328040" cy="41256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23" name=""/>
            <p:cNvCxnSpPr>
              <a:stCxn id="124" idx="0"/>
              <a:endCxn id="125" idx="0"/>
            </p:cNvCxnSpPr>
            <p:nvPr/>
          </p:nvCxnSpPr>
          <p:spPr>
            <a:xfrm flipV="1">
              <a:off x="2068920" y="2882520"/>
              <a:ext cx="2022840" cy="39744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grpSp>
          <p:nvGrpSpPr>
            <p:cNvPr id="126" name=""/>
            <p:cNvGrpSpPr/>
            <p:nvPr/>
          </p:nvGrpSpPr>
          <p:grpSpPr>
            <a:xfrm>
              <a:off x="672840" y="5031360"/>
              <a:ext cx="204120" cy="716760"/>
              <a:chOff x="672840" y="5031360"/>
              <a:chExt cx="204120" cy="71676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674640" y="5279040"/>
                <a:ext cx="202320" cy="469080"/>
                <a:chOff x="674640" y="5279040"/>
                <a:chExt cx="202320" cy="46908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674640" y="5290560"/>
                  <a:ext cx="130320" cy="453960"/>
                  <a:chOff x="674640" y="5290560"/>
                  <a:chExt cx="130320" cy="45396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727560" y="5290560"/>
                    <a:ext cx="46440" cy="3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V="1">
                    <a:off x="712080" y="5293440"/>
                    <a:ext cx="59400" cy="9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12080" y="5389200"/>
                    <a:ext cx="81720" cy="203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V="1">
                    <a:off x="674640" y="5587200"/>
                    <a:ext cx="117360" cy="154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92640" y="5590800"/>
                    <a:ext cx="112320" cy="153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V="1">
                    <a:off x="690120" y="5388840"/>
                    <a:ext cx="90720" cy="20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27560" y="5290560"/>
                    <a:ext cx="52920" cy="104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" name=""/>
                <p:cNvSpPr/>
                <p:nvPr/>
              </p:nvSpPr>
              <p:spPr>
                <a:xfrm flipV="1">
                  <a:off x="801360" y="5558760"/>
                  <a:ext cx="48600" cy="189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83360" y="5392800"/>
                  <a:ext cx="66960" cy="16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783360" y="5279040"/>
                  <a:ext cx="15480" cy="116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76880" y="5279400"/>
                  <a:ext cx="26640" cy="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76880" y="5290560"/>
                  <a:ext cx="42120" cy="8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797040" y="5375160"/>
                  <a:ext cx="1728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97040" y="5587920"/>
                  <a:ext cx="7992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72840" y="5054040"/>
                <a:ext cx="199440" cy="688320"/>
                <a:chOff x="672840" y="5054040"/>
                <a:chExt cx="199440" cy="688320"/>
              </a:xfrm>
            </p:grpSpPr>
            <p:sp>
              <p:nvSpPr>
                <p:cNvPr id="144" name=""/>
                <p:cNvSpPr/>
                <p:nvPr/>
              </p:nvSpPr>
              <p:spPr>
                <a:xfrm flipV="1">
                  <a:off x="672840" y="5054040"/>
                  <a:ext cx="77400" cy="68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52760" y="5072040"/>
                  <a:ext cx="48600" cy="670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803520" y="5684400"/>
                  <a:ext cx="68760" cy="5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63920" y="5068800"/>
                  <a:ext cx="106200" cy="62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4640" y="5736600"/>
                  <a:ext cx="1306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732600" y="5031360"/>
                <a:ext cx="55440" cy="8136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709560" y="4511160"/>
              <a:ext cx="906480" cy="1046520"/>
              <a:chOff x="709560" y="4511160"/>
              <a:chExt cx="906480" cy="10465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023480" y="4511160"/>
                <a:ext cx="592560" cy="1046520"/>
                <a:chOff x="1023480" y="4511160"/>
                <a:chExt cx="592560" cy="10465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128960" y="4511160"/>
                  <a:ext cx="487080" cy="1046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092240" y="4579920"/>
                  <a:ext cx="420840" cy="899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023480" y="4654800"/>
                  <a:ext cx="393480" cy="757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826200" y="4704840"/>
                <a:ext cx="500760" cy="694080"/>
                <a:chOff x="826200" y="4704840"/>
                <a:chExt cx="500760" cy="6940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915480" y="4704840"/>
                  <a:ext cx="411480" cy="694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5600" y="4753080"/>
                  <a:ext cx="353880" cy="59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26200" y="4802760"/>
                  <a:ext cx="330120" cy="502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785880" y="4844880"/>
                <a:ext cx="299160" cy="43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42680" y="4877280"/>
                <a:ext cx="259560" cy="37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09560" y="4924440"/>
                <a:ext cx="222840" cy="29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3680" y="4969080"/>
                <a:ext cx="13428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 flipH="1">
              <a:off x="672840" y="2483280"/>
              <a:ext cx="678960" cy="636840"/>
            </a:xfrm>
            <a:custGeom>
              <a:avLst/>
              <a:gdLst/>
              <a:ahLst/>
              <a:rect l="l" t="t" r="r" b="b"/>
              <a:pathLst>
                <a:path w="1368" h="1409">
                  <a:moveTo>
                    <a:pt x="938" y="888"/>
                  </a:moveTo>
                  <a:lnTo>
                    <a:pt x="938" y="994"/>
                  </a:lnTo>
                  <a:lnTo>
                    <a:pt x="901" y="995"/>
                  </a:lnTo>
                  <a:lnTo>
                    <a:pt x="901" y="933"/>
                  </a:lnTo>
                  <a:lnTo>
                    <a:pt x="762" y="939"/>
                  </a:lnTo>
                  <a:lnTo>
                    <a:pt x="748" y="989"/>
                  </a:lnTo>
                  <a:lnTo>
                    <a:pt x="741" y="1015"/>
                  </a:lnTo>
                  <a:lnTo>
                    <a:pt x="794" y="1133"/>
                  </a:lnTo>
                  <a:lnTo>
                    <a:pt x="901" y="1021"/>
                  </a:lnTo>
                  <a:lnTo>
                    <a:pt x="901" y="1052"/>
                  </a:lnTo>
                  <a:lnTo>
                    <a:pt x="805" y="1153"/>
                  </a:lnTo>
                  <a:lnTo>
                    <a:pt x="901" y="1365"/>
                  </a:lnTo>
                  <a:lnTo>
                    <a:pt x="878" y="1362"/>
                  </a:lnTo>
                  <a:lnTo>
                    <a:pt x="790" y="1167"/>
                  </a:lnTo>
                  <a:lnTo>
                    <a:pt x="663" y="1300"/>
                  </a:lnTo>
                  <a:lnTo>
                    <a:pt x="673" y="1260"/>
                  </a:lnTo>
                  <a:lnTo>
                    <a:pt x="779" y="1147"/>
                  </a:lnTo>
                  <a:lnTo>
                    <a:pt x="779" y="1147"/>
                  </a:lnTo>
                  <a:lnTo>
                    <a:pt x="733" y="1046"/>
                  </a:lnTo>
                  <a:lnTo>
                    <a:pt x="673" y="1260"/>
                  </a:lnTo>
                  <a:lnTo>
                    <a:pt x="663" y="1300"/>
                  </a:lnTo>
                  <a:lnTo>
                    <a:pt x="658" y="1323"/>
                  </a:lnTo>
                  <a:lnTo>
                    <a:pt x="878" y="1362"/>
                  </a:lnTo>
                  <a:lnTo>
                    <a:pt x="901" y="1365"/>
                  </a:lnTo>
                  <a:lnTo>
                    <a:pt x="901" y="1052"/>
                  </a:lnTo>
                  <a:lnTo>
                    <a:pt x="901" y="1021"/>
                  </a:lnTo>
                  <a:lnTo>
                    <a:pt x="741" y="1015"/>
                  </a:lnTo>
                  <a:lnTo>
                    <a:pt x="748" y="989"/>
                  </a:lnTo>
                  <a:lnTo>
                    <a:pt x="901" y="995"/>
                  </a:lnTo>
                  <a:lnTo>
                    <a:pt x="938" y="994"/>
                  </a:lnTo>
                  <a:lnTo>
                    <a:pt x="1100" y="971"/>
                  </a:lnTo>
                  <a:lnTo>
                    <a:pt x="1116" y="997"/>
                  </a:lnTo>
                  <a:lnTo>
                    <a:pt x="941" y="1021"/>
                  </a:lnTo>
                  <a:lnTo>
                    <a:pt x="940" y="1046"/>
                  </a:lnTo>
                  <a:lnTo>
                    <a:pt x="938" y="1337"/>
                  </a:lnTo>
                  <a:lnTo>
                    <a:pt x="950" y="1357"/>
                  </a:lnTo>
                  <a:lnTo>
                    <a:pt x="1305" y="1254"/>
                  </a:lnTo>
                  <a:lnTo>
                    <a:pt x="1368" y="1277"/>
                  </a:lnTo>
                  <a:lnTo>
                    <a:pt x="911" y="1409"/>
                  </a:lnTo>
                  <a:lnTo>
                    <a:pt x="592" y="1355"/>
                  </a:lnTo>
                  <a:lnTo>
                    <a:pt x="721" y="928"/>
                  </a:lnTo>
                  <a:lnTo>
                    <a:pt x="676" y="874"/>
                  </a:lnTo>
                  <a:lnTo>
                    <a:pt x="432" y="810"/>
                  </a:lnTo>
                  <a:lnTo>
                    <a:pt x="389" y="816"/>
                  </a:lnTo>
                  <a:lnTo>
                    <a:pt x="346" y="819"/>
                  </a:lnTo>
                  <a:lnTo>
                    <a:pt x="306" y="821"/>
                  </a:lnTo>
                  <a:lnTo>
                    <a:pt x="268" y="821"/>
                  </a:lnTo>
                  <a:lnTo>
                    <a:pt x="233" y="819"/>
                  </a:lnTo>
                  <a:lnTo>
                    <a:pt x="199" y="816"/>
                  </a:lnTo>
                  <a:lnTo>
                    <a:pt x="167" y="812"/>
                  </a:lnTo>
                  <a:lnTo>
                    <a:pt x="138" y="805"/>
                  </a:lnTo>
                  <a:lnTo>
                    <a:pt x="110" y="798"/>
                  </a:lnTo>
                  <a:lnTo>
                    <a:pt x="87" y="790"/>
                  </a:lnTo>
                  <a:lnTo>
                    <a:pt x="66" y="782"/>
                  </a:lnTo>
                  <a:lnTo>
                    <a:pt x="48" y="775"/>
                  </a:lnTo>
                  <a:lnTo>
                    <a:pt x="32" y="766"/>
                  </a:lnTo>
                  <a:lnTo>
                    <a:pt x="20" y="758"/>
                  </a:lnTo>
                  <a:lnTo>
                    <a:pt x="11" y="750"/>
                  </a:lnTo>
                  <a:lnTo>
                    <a:pt x="6" y="743"/>
                  </a:lnTo>
                  <a:lnTo>
                    <a:pt x="0" y="729"/>
                  </a:lnTo>
                  <a:lnTo>
                    <a:pt x="2" y="712"/>
                  </a:lnTo>
                  <a:lnTo>
                    <a:pt x="6" y="692"/>
                  </a:lnTo>
                  <a:lnTo>
                    <a:pt x="17" y="669"/>
                  </a:lnTo>
                  <a:lnTo>
                    <a:pt x="32" y="643"/>
                  </a:lnTo>
                  <a:lnTo>
                    <a:pt x="52" y="615"/>
                  </a:lnTo>
                  <a:lnTo>
                    <a:pt x="77" y="585"/>
                  </a:lnTo>
                  <a:lnTo>
                    <a:pt x="104" y="554"/>
                  </a:lnTo>
                  <a:lnTo>
                    <a:pt x="136" y="520"/>
                  </a:lnTo>
                  <a:lnTo>
                    <a:pt x="173" y="487"/>
                  </a:lnTo>
                  <a:lnTo>
                    <a:pt x="211" y="452"/>
                  </a:lnTo>
                  <a:lnTo>
                    <a:pt x="254" y="415"/>
                  </a:lnTo>
                  <a:lnTo>
                    <a:pt x="299" y="380"/>
                  </a:lnTo>
                  <a:lnTo>
                    <a:pt x="346" y="343"/>
                  </a:lnTo>
                  <a:lnTo>
                    <a:pt x="396" y="306"/>
                  </a:lnTo>
                  <a:lnTo>
                    <a:pt x="449" y="271"/>
                  </a:lnTo>
                  <a:lnTo>
                    <a:pt x="384" y="176"/>
                  </a:lnTo>
                  <a:lnTo>
                    <a:pt x="519" y="85"/>
                  </a:lnTo>
                  <a:lnTo>
                    <a:pt x="592" y="182"/>
                  </a:lnTo>
                  <a:lnTo>
                    <a:pt x="646" y="153"/>
                  </a:lnTo>
                  <a:lnTo>
                    <a:pt x="698" y="127"/>
                  </a:lnTo>
                  <a:lnTo>
                    <a:pt x="747" y="102"/>
                  </a:lnTo>
                  <a:lnTo>
                    <a:pt x="796" y="81"/>
                  </a:lnTo>
                  <a:lnTo>
                    <a:pt x="842" y="62"/>
                  </a:lnTo>
                  <a:lnTo>
                    <a:pt x="886" y="46"/>
                  </a:lnTo>
                  <a:lnTo>
                    <a:pt x="929" y="32"/>
                  </a:lnTo>
                  <a:lnTo>
                    <a:pt x="967" y="21"/>
                  </a:lnTo>
                  <a:lnTo>
                    <a:pt x="1004" y="12"/>
                  </a:lnTo>
                  <a:lnTo>
                    <a:pt x="1038" y="6"/>
                  </a:lnTo>
                  <a:lnTo>
                    <a:pt x="1067" y="1"/>
                  </a:lnTo>
                  <a:lnTo>
                    <a:pt x="1093" y="0"/>
                  </a:lnTo>
                  <a:lnTo>
                    <a:pt x="1116" y="0"/>
                  </a:lnTo>
                  <a:lnTo>
                    <a:pt x="1134" y="3"/>
                  </a:lnTo>
                  <a:lnTo>
                    <a:pt x="1148" y="7"/>
                  </a:lnTo>
                  <a:lnTo>
                    <a:pt x="1157" y="15"/>
                  </a:lnTo>
                  <a:lnTo>
                    <a:pt x="1177" y="53"/>
                  </a:lnTo>
                  <a:lnTo>
                    <a:pt x="1184" y="101"/>
                  </a:lnTo>
                  <a:lnTo>
                    <a:pt x="1181" y="156"/>
                  </a:lnTo>
                  <a:lnTo>
                    <a:pt x="1168" y="216"/>
                  </a:lnTo>
                  <a:lnTo>
                    <a:pt x="1145" y="278"/>
                  </a:lnTo>
                  <a:lnTo>
                    <a:pt x="1116" y="341"/>
                  </a:lnTo>
                  <a:lnTo>
                    <a:pt x="1080" y="401"/>
                  </a:lnTo>
                  <a:lnTo>
                    <a:pt x="1041" y="456"/>
                  </a:lnTo>
                  <a:lnTo>
                    <a:pt x="1018" y="778"/>
                  </a:lnTo>
                  <a:lnTo>
                    <a:pt x="1368" y="1277"/>
                  </a:lnTo>
                  <a:lnTo>
                    <a:pt x="1305" y="1254"/>
                  </a:lnTo>
                  <a:lnTo>
                    <a:pt x="1079" y="1127"/>
                  </a:lnTo>
                  <a:lnTo>
                    <a:pt x="1093" y="1103"/>
                  </a:lnTo>
                  <a:lnTo>
                    <a:pt x="1259" y="1199"/>
                  </a:lnTo>
                  <a:lnTo>
                    <a:pt x="1134" y="1018"/>
                  </a:lnTo>
                  <a:lnTo>
                    <a:pt x="1093" y="1103"/>
                  </a:lnTo>
                  <a:lnTo>
                    <a:pt x="1079" y="1127"/>
                  </a:lnTo>
                  <a:lnTo>
                    <a:pt x="950" y="1357"/>
                  </a:lnTo>
                  <a:lnTo>
                    <a:pt x="938" y="1337"/>
                  </a:lnTo>
                  <a:lnTo>
                    <a:pt x="1059" y="1113"/>
                  </a:lnTo>
                  <a:lnTo>
                    <a:pt x="940" y="1046"/>
                  </a:lnTo>
                  <a:lnTo>
                    <a:pt x="941" y="1021"/>
                  </a:lnTo>
                  <a:lnTo>
                    <a:pt x="1071" y="1090"/>
                  </a:lnTo>
                  <a:lnTo>
                    <a:pt x="1116" y="997"/>
                  </a:lnTo>
                  <a:lnTo>
                    <a:pt x="1100" y="971"/>
                  </a:lnTo>
                  <a:lnTo>
                    <a:pt x="993" y="815"/>
                  </a:lnTo>
                  <a:lnTo>
                    <a:pt x="938" y="88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862560" y="2719440"/>
              <a:ext cx="155520" cy="149400"/>
            </a:xfrm>
            <a:custGeom>
              <a:avLst/>
              <a:gdLst/>
              <a:ahLst/>
              <a:rect l="l" t="t" r="r" b="b"/>
              <a:pathLst>
                <a:path w="314" h="333">
                  <a:moveTo>
                    <a:pt x="240" y="333"/>
                  </a:moveTo>
                  <a:lnTo>
                    <a:pt x="199" y="284"/>
                  </a:lnTo>
                  <a:lnTo>
                    <a:pt x="0" y="218"/>
                  </a:lnTo>
                  <a:lnTo>
                    <a:pt x="15" y="212"/>
                  </a:lnTo>
                  <a:lnTo>
                    <a:pt x="30" y="204"/>
                  </a:lnTo>
                  <a:lnTo>
                    <a:pt x="46" y="197"/>
                  </a:lnTo>
                  <a:lnTo>
                    <a:pt x="63" y="189"/>
                  </a:lnTo>
                  <a:lnTo>
                    <a:pt x="78" y="181"/>
                  </a:lnTo>
                  <a:lnTo>
                    <a:pt x="93" y="174"/>
                  </a:lnTo>
                  <a:lnTo>
                    <a:pt x="109" y="164"/>
                  </a:lnTo>
                  <a:lnTo>
                    <a:pt x="124" y="155"/>
                  </a:lnTo>
                  <a:lnTo>
                    <a:pt x="148" y="140"/>
                  </a:lnTo>
                  <a:lnTo>
                    <a:pt x="173" y="123"/>
                  </a:lnTo>
                  <a:lnTo>
                    <a:pt x="197" y="106"/>
                  </a:lnTo>
                  <a:lnTo>
                    <a:pt x="222" y="86"/>
                  </a:lnTo>
                  <a:lnTo>
                    <a:pt x="245" y="66"/>
                  </a:lnTo>
                  <a:lnTo>
                    <a:pt x="268" y="46"/>
                  </a:lnTo>
                  <a:lnTo>
                    <a:pt x="291" y="23"/>
                  </a:lnTo>
                  <a:lnTo>
                    <a:pt x="314" y="0"/>
                  </a:lnTo>
                  <a:lnTo>
                    <a:pt x="298" y="255"/>
                  </a:lnTo>
                  <a:lnTo>
                    <a:pt x="240" y="333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815760" y="2604960"/>
              <a:ext cx="435600" cy="230040"/>
            </a:xfrm>
            <a:custGeom>
              <a:avLst/>
              <a:gdLst/>
              <a:ahLst/>
              <a:rect l="l" t="t" r="r" b="b"/>
              <a:pathLst>
                <a:path w="876" h="510">
                  <a:moveTo>
                    <a:pt x="870" y="2"/>
                  </a:moveTo>
                  <a:lnTo>
                    <a:pt x="855" y="17"/>
                  </a:lnTo>
                  <a:lnTo>
                    <a:pt x="840" y="34"/>
                  </a:lnTo>
                  <a:lnTo>
                    <a:pt x="823" y="51"/>
                  </a:lnTo>
                  <a:lnTo>
                    <a:pt x="804" y="68"/>
                  </a:lnTo>
                  <a:lnTo>
                    <a:pt x="786" y="84"/>
                  </a:lnTo>
                  <a:lnTo>
                    <a:pt x="768" y="101"/>
                  </a:lnTo>
                  <a:lnTo>
                    <a:pt x="748" y="118"/>
                  </a:lnTo>
                  <a:lnTo>
                    <a:pt x="726" y="137"/>
                  </a:lnTo>
                  <a:lnTo>
                    <a:pt x="703" y="153"/>
                  </a:lnTo>
                  <a:lnTo>
                    <a:pt x="681" y="172"/>
                  </a:lnTo>
                  <a:lnTo>
                    <a:pt x="658" y="190"/>
                  </a:lnTo>
                  <a:lnTo>
                    <a:pt x="632" y="207"/>
                  </a:lnTo>
                  <a:lnTo>
                    <a:pt x="606" y="225"/>
                  </a:lnTo>
                  <a:lnTo>
                    <a:pt x="580" y="244"/>
                  </a:lnTo>
                  <a:lnTo>
                    <a:pt x="551" y="261"/>
                  </a:lnTo>
                  <a:lnTo>
                    <a:pt x="521" y="279"/>
                  </a:lnTo>
                  <a:lnTo>
                    <a:pt x="498" y="293"/>
                  </a:lnTo>
                  <a:lnTo>
                    <a:pt x="474" y="307"/>
                  </a:lnTo>
                  <a:lnTo>
                    <a:pt x="451" y="319"/>
                  </a:lnTo>
                  <a:lnTo>
                    <a:pt x="428" y="331"/>
                  </a:lnTo>
                  <a:lnTo>
                    <a:pt x="404" y="345"/>
                  </a:lnTo>
                  <a:lnTo>
                    <a:pt x="381" y="357"/>
                  </a:lnTo>
                  <a:lnTo>
                    <a:pt x="358" y="368"/>
                  </a:lnTo>
                  <a:lnTo>
                    <a:pt x="335" y="380"/>
                  </a:lnTo>
                  <a:lnTo>
                    <a:pt x="312" y="391"/>
                  </a:lnTo>
                  <a:lnTo>
                    <a:pt x="289" y="402"/>
                  </a:lnTo>
                  <a:lnTo>
                    <a:pt x="266" y="412"/>
                  </a:lnTo>
                  <a:lnTo>
                    <a:pt x="243" y="421"/>
                  </a:lnTo>
                  <a:lnTo>
                    <a:pt x="222" y="431"/>
                  </a:lnTo>
                  <a:lnTo>
                    <a:pt x="199" y="440"/>
                  </a:lnTo>
                  <a:lnTo>
                    <a:pt x="177" y="449"/>
                  </a:lnTo>
                  <a:lnTo>
                    <a:pt x="156" y="457"/>
                  </a:lnTo>
                  <a:lnTo>
                    <a:pt x="134" y="464"/>
                  </a:lnTo>
                  <a:lnTo>
                    <a:pt x="114" y="472"/>
                  </a:lnTo>
                  <a:lnTo>
                    <a:pt x="95" y="480"/>
                  </a:lnTo>
                  <a:lnTo>
                    <a:pt x="75" y="486"/>
                  </a:lnTo>
                  <a:lnTo>
                    <a:pt x="55" y="492"/>
                  </a:lnTo>
                  <a:lnTo>
                    <a:pt x="36" y="497"/>
                  </a:lnTo>
                  <a:lnTo>
                    <a:pt x="18" y="501"/>
                  </a:lnTo>
                  <a:lnTo>
                    <a:pt x="0" y="506"/>
                  </a:lnTo>
                  <a:lnTo>
                    <a:pt x="29" y="509"/>
                  </a:lnTo>
                  <a:lnTo>
                    <a:pt x="58" y="510"/>
                  </a:lnTo>
                  <a:lnTo>
                    <a:pt x="87" y="510"/>
                  </a:lnTo>
                  <a:lnTo>
                    <a:pt x="118" y="510"/>
                  </a:lnTo>
                  <a:lnTo>
                    <a:pt x="145" y="509"/>
                  </a:lnTo>
                  <a:lnTo>
                    <a:pt x="174" y="506"/>
                  </a:lnTo>
                  <a:lnTo>
                    <a:pt x="203" y="503"/>
                  </a:lnTo>
                  <a:lnTo>
                    <a:pt x="232" y="498"/>
                  </a:lnTo>
                  <a:lnTo>
                    <a:pt x="260" y="492"/>
                  </a:lnTo>
                  <a:lnTo>
                    <a:pt x="287" y="486"/>
                  </a:lnTo>
                  <a:lnTo>
                    <a:pt x="313" y="480"/>
                  </a:lnTo>
                  <a:lnTo>
                    <a:pt x="341" y="472"/>
                  </a:lnTo>
                  <a:lnTo>
                    <a:pt x="367" y="463"/>
                  </a:lnTo>
                  <a:lnTo>
                    <a:pt x="391" y="455"/>
                  </a:lnTo>
                  <a:lnTo>
                    <a:pt x="416" y="444"/>
                  </a:lnTo>
                  <a:lnTo>
                    <a:pt x="440" y="435"/>
                  </a:lnTo>
                  <a:lnTo>
                    <a:pt x="460" y="428"/>
                  </a:lnTo>
                  <a:lnTo>
                    <a:pt x="479" y="418"/>
                  </a:lnTo>
                  <a:lnTo>
                    <a:pt x="498" y="409"/>
                  </a:lnTo>
                  <a:lnTo>
                    <a:pt x="515" y="400"/>
                  </a:lnTo>
                  <a:lnTo>
                    <a:pt x="532" y="391"/>
                  </a:lnTo>
                  <a:lnTo>
                    <a:pt x="549" y="382"/>
                  </a:lnTo>
                  <a:lnTo>
                    <a:pt x="564" y="372"/>
                  </a:lnTo>
                  <a:lnTo>
                    <a:pt x="580" y="363"/>
                  </a:lnTo>
                  <a:lnTo>
                    <a:pt x="607" y="345"/>
                  </a:lnTo>
                  <a:lnTo>
                    <a:pt x="633" y="325"/>
                  </a:lnTo>
                  <a:lnTo>
                    <a:pt x="659" y="305"/>
                  </a:lnTo>
                  <a:lnTo>
                    <a:pt x="685" y="285"/>
                  </a:lnTo>
                  <a:lnTo>
                    <a:pt x="708" y="264"/>
                  </a:lnTo>
                  <a:lnTo>
                    <a:pt x="731" y="242"/>
                  </a:lnTo>
                  <a:lnTo>
                    <a:pt x="754" y="219"/>
                  </a:lnTo>
                  <a:lnTo>
                    <a:pt x="774" y="196"/>
                  </a:lnTo>
                  <a:lnTo>
                    <a:pt x="792" y="173"/>
                  </a:lnTo>
                  <a:lnTo>
                    <a:pt x="811" y="149"/>
                  </a:lnTo>
                  <a:lnTo>
                    <a:pt x="826" y="124"/>
                  </a:lnTo>
                  <a:lnTo>
                    <a:pt x="840" y="100"/>
                  </a:lnTo>
                  <a:lnTo>
                    <a:pt x="852" y="75"/>
                  </a:lnTo>
                  <a:lnTo>
                    <a:pt x="863" y="51"/>
                  </a:lnTo>
                  <a:lnTo>
                    <a:pt x="870" y="25"/>
                  </a:lnTo>
                  <a:lnTo>
                    <a:pt x="876" y="0"/>
                  </a:lnTo>
                  <a:lnTo>
                    <a:pt x="870" y="2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123920" y="2625840"/>
              <a:ext cx="207000" cy="194040"/>
            </a:xfrm>
            <a:custGeom>
              <a:avLst/>
              <a:gdLst/>
              <a:ahLst/>
              <a:rect l="l" t="t" r="r" b="b"/>
              <a:pathLst>
                <a:path w="418" h="430">
                  <a:moveTo>
                    <a:pt x="418" y="0"/>
                  </a:moveTo>
                  <a:lnTo>
                    <a:pt x="381" y="26"/>
                  </a:lnTo>
                  <a:lnTo>
                    <a:pt x="343" y="55"/>
                  </a:lnTo>
                  <a:lnTo>
                    <a:pt x="306" y="84"/>
                  </a:lnTo>
                  <a:lnTo>
                    <a:pt x="268" y="115"/>
                  </a:lnTo>
                  <a:lnTo>
                    <a:pt x="231" y="145"/>
                  </a:lnTo>
                  <a:lnTo>
                    <a:pt x="196" y="176"/>
                  </a:lnTo>
                  <a:lnTo>
                    <a:pt x="161" y="206"/>
                  </a:lnTo>
                  <a:lnTo>
                    <a:pt x="129" y="236"/>
                  </a:lnTo>
                  <a:lnTo>
                    <a:pt x="99" y="265"/>
                  </a:lnTo>
                  <a:lnTo>
                    <a:pt x="73" y="291"/>
                  </a:lnTo>
                  <a:lnTo>
                    <a:pt x="49" y="317"/>
                  </a:lnTo>
                  <a:lnTo>
                    <a:pt x="31" y="340"/>
                  </a:lnTo>
                  <a:lnTo>
                    <a:pt x="15" y="361"/>
                  </a:lnTo>
                  <a:lnTo>
                    <a:pt x="5" y="380"/>
                  </a:lnTo>
                  <a:lnTo>
                    <a:pt x="0" y="395"/>
                  </a:lnTo>
                  <a:lnTo>
                    <a:pt x="0" y="406"/>
                  </a:lnTo>
                  <a:lnTo>
                    <a:pt x="6" y="415"/>
                  </a:lnTo>
                  <a:lnTo>
                    <a:pt x="15" y="422"/>
                  </a:lnTo>
                  <a:lnTo>
                    <a:pt x="28" y="427"/>
                  </a:lnTo>
                  <a:lnTo>
                    <a:pt x="43" y="430"/>
                  </a:lnTo>
                  <a:lnTo>
                    <a:pt x="61" y="430"/>
                  </a:lnTo>
                  <a:lnTo>
                    <a:pt x="83" y="429"/>
                  </a:lnTo>
                  <a:lnTo>
                    <a:pt x="106" y="426"/>
                  </a:lnTo>
                  <a:lnTo>
                    <a:pt x="130" y="421"/>
                  </a:lnTo>
                  <a:lnTo>
                    <a:pt x="156" y="415"/>
                  </a:lnTo>
                  <a:lnTo>
                    <a:pt x="185" y="407"/>
                  </a:lnTo>
                  <a:lnTo>
                    <a:pt x="214" y="400"/>
                  </a:lnTo>
                  <a:lnTo>
                    <a:pt x="245" y="389"/>
                  </a:lnTo>
                  <a:lnTo>
                    <a:pt x="277" y="378"/>
                  </a:lnTo>
                  <a:lnTo>
                    <a:pt x="309" y="367"/>
                  </a:lnTo>
                  <a:lnTo>
                    <a:pt x="341" y="354"/>
                  </a:lnTo>
                  <a:lnTo>
                    <a:pt x="373" y="341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097640" y="2646720"/>
              <a:ext cx="39240" cy="125640"/>
            </a:xfrm>
            <a:custGeom>
              <a:avLst/>
              <a:gdLst/>
              <a:ahLst/>
              <a:rect l="l" t="t" r="r" b="b"/>
              <a:pathLst>
                <a:path w="61" h="282">
                  <a:moveTo>
                    <a:pt x="61" y="254"/>
                  </a:moveTo>
                  <a:lnTo>
                    <a:pt x="53" y="257"/>
                  </a:lnTo>
                  <a:lnTo>
                    <a:pt x="45" y="261"/>
                  </a:lnTo>
                  <a:lnTo>
                    <a:pt x="38" y="265"/>
                  </a:lnTo>
                  <a:lnTo>
                    <a:pt x="30" y="268"/>
                  </a:lnTo>
                  <a:lnTo>
                    <a:pt x="23" y="271"/>
                  </a:lnTo>
                  <a:lnTo>
                    <a:pt x="15" y="274"/>
                  </a:lnTo>
                  <a:lnTo>
                    <a:pt x="7" y="279"/>
                  </a:lnTo>
                  <a:lnTo>
                    <a:pt x="0" y="282"/>
                  </a:lnTo>
                  <a:lnTo>
                    <a:pt x="32" y="0"/>
                  </a:lnTo>
                  <a:lnTo>
                    <a:pt x="61" y="254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998640" y="2700000"/>
              <a:ext cx="39240" cy="2088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7" y="29"/>
                  </a:moveTo>
                  <a:lnTo>
                    <a:pt x="46" y="30"/>
                  </a:lnTo>
                  <a:lnTo>
                    <a:pt x="43" y="33"/>
                  </a:lnTo>
                  <a:lnTo>
                    <a:pt x="39" y="35"/>
                  </a:lnTo>
                  <a:lnTo>
                    <a:pt x="36" y="38"/>
                  </a:lnTo>
                  <a:lnTo>
                    <a:pt x="32" y="39"/>
                  </a:lnTo>
                  <a:lnTo>
                    <a:pt x="29" y="42"/>
                  </a:lnTo>
                  <a:lnTo>
                    <a:pt x="24" y="44"/>
                  </a:lnTo>
                  <a:lnTo>
                    <a:pt x="20" y="47"/>
                  </a:lnTo>
                  <a:lnTo>
                    <a:pt x="0" y="15"/>
                  </a:lnTo>
                  <a:lnTo>
                    <a:pt x="29" y="0"/>
                  </a:lnTo>
                  <a:lnTo>
                    <a:pt x="47" y="29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8720" y="2595240"/>
              <a:ext cx="177480" cy="159120"/>
            </a:xfrm>
            <a:custGeom>
              <a:avLst/>
              <a:gdLst/>
              <a:ahLst/>
              <a:rect l="l" t="t" r="r" b="b"/>
              <a:pathLst>
                <a:path w="358" h="349">
                  <a:moveTo>
                    <a:pt x="141" y="292"/>
                  </a:moveTo>
                  <a:lnTo>
                    <a:pt x="129" y="299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91" y="320"/>
                  </a:lnTo>
                  <a:lnTo>
                    <a:pt x="77" y="326"/>
                  </a:lnTo>
                  <a:lnTo>
                    <a:pt x="61" y="334"/>
                  </a:lnTo>
                  <a:lnTo>
                    <a:pt x="46" y="341"/>
                  </a:lnTo>
                  <a:lnTo>
                    <a:pt x="31" y="349"/>
                  </a:lnTo>
                  <a:lnTo>
                    <a:pt x="0" y="44"/>
                  </a:lnTo>
                  <a:lnTo>
                    <a:pt x="69" y="0"/>
                  </a:lnTo>
                  <a:lnTo>
                    <a:pt x="358" y="145"/>
                  </a:lnTo>
                  <a:lnTo>
                    <a:pt x="340" y="159"/>
                  </a:lnTo>
                  <a:lnTo>
                    <a:pt x="320" y="173"/>
                  </a:lnTo>
                  <a:lnTo>
                    <a:pt x="302" y="187"/>
                  </a:lnTo>
                  <a:lnTo>
                    <a:pt x="283" y="199"/>
                  </a:lnTo>
                  <a:lnTo>
                    <a:pt x="267" y="213"/>
                  </a:lnTo>
                  <a:lnTo>
                    <a:pt x="250" y="223"/>
                  </a:lnTo>
                  <a:lnTo>
                    <a:pt x="233" y="234"/>
                  </a:lnTo>
                  <a:lnTo>
                    <a:pt x="218" y="245"/>
                  </a:lnTo>
                  <a:lnTo>
                    <a:pt x="185" y="193"/>
                  </a:lnTo>
                  <a:lnTo>
                    <a:pt x="110" y="237"/>
                  </a:lnTo>
                  <a:lnTo>
                    <a:pt x="141" y="292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783000" y="2501280"/>
              <a:ext cx="269640" cy="150840"/>
            </a:xfrm>
            <a:custGeom>
              <a:avLst/>
              <a:gdLst/>
              <a:ahLst/>
              <a:rect l="l" t="t" r="r" b="b"/>
              <a:pathLst>
                <a:path w="541" h="331">
                  <a:moveTo>
                    <a:pt x="298" y="331"/>
                  </a:moveTo>
                  <a:lnTo>
                    <a:pt x="313" y="319"/>
                  </a:lnTo>
                  <a:lnTo>
                    <a:pt x="327" y="306"/>
                  </a:lnTo>
                  <a:lnTo>
                    <a:pt x="342" y="294"/>
                  </a:lnTo>
                  <a:lnTo>
                    <a:pt x="358" y="282"/>
                  </a:lnTo>
                  <a:lnTo>
                    <a:pt x="371" y="270"/>
                  </a:lnTo>
                  <a:lnTo>
                    <a:pt x="385" y="257"/>
                  </a:lnTo>
                  <a:lnTo>
                    <a:pt x="399" y="245"/>
                  </a:lnTo>
                  <a:lnTo>
                    <a:pt x="413" y="233"/>
                  </a:lnTo>
                  <a:lnTo>
                    <a:pt x="446" y="201"/>
                  </a:lnTo>
                  <a:lnTo>
                    <a:pt x="475" y="170"/>
                  </a:lnTo>
                  <a:lnTo>
                    <a:pt x="500" y="139"/>
                  </a:lnTo>
                  <a:lnTo>
                    <a:pt x="520" y="110"/>
                  </a:lnTo>
                  <a:lnTo>
                    <a:pt x="533" y="83"/>
                  </a:lnTo>
                  <a:lnTo>
                    <a:pt x="541" y="57"/>
                  </a:lnTo>
                  <a:lnTo>
                    <a:pt x="541" y="34"/>
                  </a:lnTo>
                  <a:lnTo>
                    <a:pt x="533" y="14"/>
                  </a:lnTo>
                  <a:lnTo>
                    <a:pt x="529" y="9"/>
                  </a:lnTo>
                  <a:lnTo>
                    <a:pt x="523" y="5"/>
                  </a:lnTo>
                  <a:lnTo>
                    <a:pt x="514" y="3"/>
                  </a:lnTo>
                  <a:lnTo>
                    <a:pt x="503" y="2"/>
                  </a:lnTo>
                  <a:lnTo>
                    <a:pt x="492" y="0"/>
                  </a:lnTo>
                  <a:lnTo>
                    <a:pt x="478" y="0"/>
                  </a:lnTo>
                  <a:lnTo>
                    <a:pt x="463" y="2"/>
                  </a:lnTo>
                  <a:lnTo>
                    <a:pt x="448" y="5"/>
                  </a:lnTo>
                  <a:lnTo>
                    <a:pt x="429" y="8"/>
                  </a:lnTo>
                  <a:lnTo>
                    <a:pt x="411" y="11"/>
                  </a:lnTo>
                  <a:lnTo>
                    <a:pt x="391" y="17"/>
                  </a:lnTo>
                  <a:lnTo>
                    <a:pt x="371" y="21"/>
                  </a:lnTo>
                  <a:lnTo>
                    <a:pt x="350" y="29"/>
                  </a:lnTo>
                  <a:lnTo>
                    <a:pt x="327" y="35"/>
                  </a:lnTo>
                  <a:lnTo>
                    <a:pt x="304" y="43"/>
                  </a:lnTo>
                  <a:lnTo>
                    <a:pt x="281" y="52"/>
                  </a:lnTo>
                  <a:lnTo>
                    <a:pt x="264" y="58"/>
                  </a:lnTo>
                  <a:lnTo>
                    <a:pt x="247" y="64"/>
                  </a:lnTo>
                  <a:lnTo>
                    <a:pt x="229" y="72"/>
                  </a:lnTo>
                  <a:lnTo>
                    <a:pt x="212" y="78"/>
                  </a:lnTo>
                  <a:lnTo>
                    <a:pt x="194" y="86"/>
                  </a:lnTo>
                  <a:lnTo>
                    <a:pt x="177" y="93"/>
                  </a:lnTo>
                  <a:lnTo>
                    <a:pt x="159" y="101"/>
                  </a:lnTo>
                  <a:lnTo>
                    <a:pt x="140" y="109"/>
                  </a:lnTo>
                  <a:lnTo>
                    <a:pt x="123" y="118"/>
                  </a:lnTo>
                  <a:lnTo>
                    <a:pt x="105" y="126"/>
                  </a:lnTo>
                  <a:lnTo>
                    <a:pt x="87" y="135"/>
                  </a:lnTo>
                  <a:lnTo>
                    <a:pt x="70" y="144"/>
                  </a:lnTo>
                  <a:lnTo>
                    <a:pt x="52" y="153"/>
                  </a:lnTo>
                  <a:lnTo>
                    <a:pt x="35" y="162"/>
                  </a:lnTo>
                  <a:lnTo>
                    <a:pt x="16" y="172"/>
                  </a:lnTo>
                  <a:lnTo>
                    <a:pt x="0" y="181"/>
                  </a:lnTo>
                  <a:lnTo>
                    <a:pt x="298" y="331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073160" y="2547720"/>
              <a:ext cx="57960" cy="48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45" y="110"/>
                  </a:moveTo>
                  <a:lnTo>
                    <a:pt x="0" y="46"/>
                  </a:lnTo>
                  <a:lnTo>
                    <a:pt x="71" y="0"/>
                  </a:lnTo>
                  <a:lnTo>
                    <a:pt x="120" y="64"/>
                  </a:lnTo>
                  <a:lnTo>
                    <a:pt x="45" y="110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033200" y="2776680"/>
              <a:ext cx="218160" cy="58320"/>
            </a:xfrm>
            <a:custGeom>
              <a:avLst/>
              <a:gdLst/>
              <a:ahLst/>
              <a:rect l="l" t="t" r="r" b="b"/>
              <a:pathLst>
                <a:path w="440" h="130">
                  <a:moveTo>
                    <a:pt x="440" y="55"/>
                  </a:moveTo>
                  <a:lnTo>
                    <a:pt x="416" y="64"/>
                  </a:lnTo>
                  <a:lnTo>
                    <a:pt x="391" y="75"/>
                  </a:lnTo>
                  <a:lnTo>
                    <a:pt x="367" y="83"/>
                  </a:lnTo>
                  <a:lnTo>
                    <a:pt x="341" y="92"/>
                  </a:lnTo>
                  <a:lnTo>
                    <a:pt x="313" y="100"/>
                  </a:lnTo>
                  <a:lnTo>
                    <a:pt x="287" y="106"/>
                  </a:lnTo>
                  <a:lnTo>
                    <a:pt x="260" y="112"/>
                  </a:lnTo>
                  <a:lnTo>
                    <a:pt x="232" y="118"/>
                  </a:lnTo>
                  <a:lnTo>
                    <a:pt x="203" y="123"/>
                  </a:lnTo>
                  <a:lnTo>
                    <a:pt x="174" y="126"/>
                  </a:lnTo>
                  <a:lnTo>
                    <a:pt x="145" y="129"/>
                  </a:lnTo>
                  <a:lnTo>
                    <a:pt x="118" y="130"/>
                  </a:lnTo>
                  <a:lnTo>
                    <a:pt x="87" y="130"/>
                  </a:lnTo>
                  <a:lnTo>
                    <a:pt x="58" y="130"/>
                  </a:lnTo>
                  <a:lnTo>
                    <a:pt x="29" y="129"/>
                  </a:lnTo>
                  <a:lnTo>
                    <a:pt x="0" y="126"/>
                  </a:lnTo>
                  <a:lnTo>
                    <a:pt x="18" y="121"/>
                  </a:lnTo>
                  <a:lnTo>
                    <a:pt x="36" y="117"/>
                  </a:lnTo>
                  <a:lnTo>
                    <a:pt x="55" y="112"/>
                  </a:lnTo>
                  <a:lnTo>
                    <a:pt x="75" y="106"/>
                  </a:lnTo>
                  <a:lnTo>
                    <a:pt x="95" y="100"/>
                  </a:lnTo>
                  <a:lnTo>
                    <a:pt x="114" y="92"/>
                  </a:lnTo>
                  <a:lnTo>
                    <a:pt x="134" y="84"/>
                  </a:lnTo>
                  <a:lnTo>
                    <a:pt x="156" y="77"/>
                  </a:lnTo>
                  <a:lnTo>
                    <a:pt x="177" y="69"/>
                  </a:lnTo>
                  <a:lnTo>
                    <a:pt x="199" y="60"/>
                  </a:lnTo>
                  <a:lnTo>
                    <a:pt x="222" y="51"/>
                  </a:lnTo>
                  <a:lnTo>
                    <a:pt x="243" y="41"/>
                  </a:lnTo>
                  <a:lnTo>
                    <a:pt x="266" y="32"/>
                  </a:lnTo>
                  <a:lnTo>
                    <a:pt x="289" y="22"/>
                  </a:lnTo>
                  <a:lnTo>
                    <a:pt x="312" y="11"/>
                  </a:lnTo>
                  <a:lnTo>
                    <a:pt x="335" y="0"/>
                  </a:lnTo>
                  <a:lnTo>
                    <a:pt x="335" y="3"/>
                  </a:lnTo>
                  <a:lnTo>
                    <a:pt x="338" y="11"/>
                  </a:lnTo>
                  <a:lnTo>
                    <a:pt x="341" y="20"/>
                  </a:lnTo>
                  <a:lnTo>
                    <a:pt x="350" y="32"/>
                  </a:lnTo>
                  <a:lnTo>
                    <a:pt x="362" y="43"/>
                  </a:lnTo>
                  <a:lnTo>
                    <a:pt x="381" y="51"/>
                  </a:lnTo>
                  <a:lnTo>
                    <a:pt x="407" y="55"/>
                  </a:lnTo>
                  <a:lnTo>
                    <a:pt x="440" y="5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83720" y="2501280"/>
              <a:ext cx="129600" cy="104760"/>
            </a:xfrm>
            <a:custGeom>
              <a:avLst/>
              <a:gdLst/>
              <a:ahLst/>
              <a:rect l="l" t="t" r="r" b="b"/>
              <a:pathLst>
                <a:path w="260" h="233">
                  <a:moveTo>
                    <a:pt x="132" y="233"/>
                  </a:moveTo>
                  <a:lnTo>
                    <a:pt x="165" y="201"/>
                  </a:lnTo>
                  <a:lnTo>
                    <a:pt x="194" y="170"/>
                  </a:lnTo>
                  <a:lnTo>
                    <a:pt x="219" y="139"/>
                  </a:lnTo>
                  <a:lnTo>
                    <a:pt x="239" y="110"/>
                  </a:lnTo>
                  <a:lnTo>
                    <a:pt x="252" y="83"/>
                  </a:lnTo>
                  <a:lnTo>
                    <a:pt x="260" y="57"/>
                  </a:lnTo>
                  <a:lnTo>
                    <a:pt x="260" y="34"/>
                  </a:lnTo>
                  <a:lnTo>
                    <a:pt x="252" y="14"/>
                  </a:lnTo>
                  <a:lnTo>
                    <a:pt x="248" y="9"/>
                  </a:lnTo>
                  <a:lnTo>
                    <a:pt x="242" y="5"/>
                  </a:lnTo>
                  <a:lnTo>
                    <a:pt x="233" y="3"/>
                  </a:lnTo>
                  <a:lnTo>
                    <a:pt x="222" y="2"/>
                  </a:lnTo>
                  <a:lnTo>
                    <a:pt x="211" y="0"/>
                  </a:lnTo>
                  <a:lnTo>
                    <a:pt x="197" y="0"/>
                  </a:lnTo>
                  <a:lnTo>
                    <a:pt x="182" y="2"/>
                  </a:lnTo>
                  <a:lnTo>
                    <a:pt x="167" y="5"/>
                  </a:lnTo>
                  <a:lnTo>
                    <a:pt x="148" y="8"/>
                  </a:lnTo>
                  <a:lnTo>
                    <a:pt x="130" y="11"/>
                  </a:lnTo>
                  <a:lnTo>
                    <a:pt x="110" y="17"/>
                  </a:lnTo>
                  <a:lnTo>
                    <a:pt x="90" y="21"/>
                  </a:lnTo>
                  <a:lnTo>
                    <a:pt x="69" y="29"/>
                  </a:lnTo>
                  <a:lnTo>
                    <a:pt x="46" y="35"/>
                  </a:lnTo>
                  <a:lnTo>
                    <a:pt x="23" y="43"/>
                  </a:lnTo>
                  <a:lnTo>
                    <a:pt x="0" y="52"/>
                  </a:lnTo>
                  <a:lnTo>
                    <a:pt x="34" y="54"/>
                  </a:lnTo>
                  <a:lnTo>
                    <a:pt x="66" y="63"/>
                  </a:lnTo>
                  <a:lnTo>
                    <a:pt x="93" y="80"/>
                  </a:lnTo>
                  <a:lnTo>
                    <a:pt x="118" y="103"/>
                  </a:lnTo>
                  <a:lnTo>
                    <a:pt x="135" y="130"/>
                  </a:lnTo>
                  <a:lnTo>
                    <a:pt x="144" y="162"/>
                  </a:lnTo>
                  <a:lnTo>
                    <a:pt x="142" y="198"/>
                  </a:lnTo>
                  <a:lnTo>
                    <a:pt x="132" y="23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28520" y="3512880"/>
              <a:ext cx="435600" cy="430200"/>
            </a:xfrm>
            <a:custGeom>
              <a:avLst/>
              <a:gdLst/>
              <a:ahLst/>
              <a:rect l="l" t="t" r="r" b="b"/>
              <a:pathLst>
                <a:path w="898" h="973">
                  <a:moveTo>
                    <a:pt x="28" y="243"/>
                  </a:moveTo>
                  <a:lnTo>
                    <a:pt x="41" y="227"/>
                  </a:lnTo>
                  <a:lnTo>
                    <a:pt x="58" y="211"/>
                  </a:lnTo>
                  <a:lnTo>
                    <a:pt x="77" y="194"/>
                  </a:lnTo>
                  <a:lnTo>
                    <a:pt x="99" y="175"/>
                  </a:lnTo>
                  <a:lnTo>
                    <a:pt x="123" y="158"/>
                  </a:lnTo>
                  <a:lnTo>
                    <a:pt x="146" y="140"/>
                  </a:lnTo>
                  <a:lnTo>
                    <a:pt x="171" y="123"/>
                  </a:lnTo>
                  <a:lnTo>
                    <a:pt x="194" y="105"/>
                  </a:lnTo>
                  <a:lnTo>
                    <a:pt x="218" y="91"/>
                  </a:lnTo>
                  <a:lnTo>
                    <a:pt x="239" y="76"/>
                  </a:lnTo>
                  <a:lnTo>
                    <a:pt x="260" y="63"/>
                  </a:lnTo>
                  <a:lnTo>
                    <a:pt x="277" y="51"/>
                  </a:lnTo>
                  <a:lnTo>
                    <a:pt x="294" y="43"/>
                  </a:lnTo>
                  <a:lnTo>
                    <a:pt x="304" y="35"/>
                  </a:lnTo>
                  <a:lnTo>
                    <a:pt x="311" y="31"/>
                  </a:lnTo>
                  <a:lnTo>
                    <a:pt x="314" y="29"/>
                  </a:lnTo>
                  <a:lnTo>
                    <a:pt x="323" y="27"/>
                  </a:lnTo>
                  <a:lnTo>
                    <a:pt x="336" y="24"/>
                  </a:lnTo>
                  <a:lnTo>
                    <a:pt x="355" y="21"/>
                  </a:lnTo>
                  <a:lnTo>
                    <a:pt x="377" y="18"/>
                  </a:lnTo>
                  <a:lnTo>
                    <a:pt x="402" y="13"/>
                  </a:lnTo>
                  <a:lnTo>
                    <a:pt x="431" y="10"/>
                  </a:lnTo>
                  <a:lnTo>
                    <a:pt x="460" y="8"/>
                  </a:lnTo>
                  <a:lnTo>
                    <a:pt x="492" y="5"/>
                  </a:lnTo>
                  <a:lnTo>
                    <a:pt x="526" y="2"/>
                  </a:lnTo>
                  <a:lnTo>
                    <a:pt x="558" y="0"/>
                  </a:lnTo>
                  <a:lnTo>
                    <a:pt x="590" y="0"/>
                  </a:lnTo>
                  <a:lnTo>
                    <a:pt x="622" y="0"/>
                  </a:lnTo>
                  <a:lnTo>
                    <a:pt x="651" y="3"/>
                  </a:lnTo>
                  <a:lnTo>
                    <a:pt x="679" y="6"/>
                  </a:lnTo>
                  <a:lnTo>
                    <a:pt x="704" y="10"/>
                  </a:lnTo>
                  <a:lnTo>
                    <a:pt x="726" y="18"/>
                  </a:lnTo>
                  <a:lnTo>
                    <a:pt x="738" y="45"/>
                  </a:lnTo>
                  <a:lnTo>
                    <a:pt x="755" y="95"/>
                  </a:lnTo>
                  <a:lnTo>
                    <a:pt x="777" y="158"/>
                  </a:lnTo>
                  <a:lnTo>
                    <a:pt x="800" y="227"/>
                  </a:lnTo>
                  <a:lnTo>
                    <a:pt x="821" y="300"/>
                  </a:lnTo>
                  <a:lnTo>
                    <a:pt x="838" y="367"/>
                  </a:lnTo>
                  <a:lnTo>
                    <a:pt x="848" y="423"/>
                  </a:lnTo>
                  <a:lnTo>
                    <a:pt x="850" y="459"/>
                  </a:lnTo>
                  <a:lnTo>
                    <a:pt x="844" y="487"/>
                  </a:lnTo>
                  <a:lnTo>
                    <a:pt x="835" y="520"/>
                  </a:lnTo>
                  <a:lnTo>
                    <a:pt x="825" y="558"/>
                  </a:lnTo>
                  <a:lnTo>
                    <a:pt x="812" y="596"/>
                  </a:lnTo>
                  <a:lnTo>
                    <a:pt x="830" y="597"/>
                  </a:lnTo>
                  <a:lnTo>
                    <a:pt x="847" y="600"/>
                  </a:lnTo>
                  <a:lnTo>
                    <a:pt x="862" y="603"/>
                  </a:lnTo>
                  <a:lnTo>
                    <a:pt x="875" y="605"/>
                  </a:lnTo>
                  <a:lnTo>
                    <a:pt x="886" y="609"/>
                  </a:lnTo>
                  <a:lnTo>
                    <a:pt x="894" y="612"/>
                  </a:lnTo>
                  <a:lnTo>
                    <a:pt x="898" y="615"/>
                  </a:lnTo>
                  <a:lnTo>
                    <a:pt x="898" y="619"/>
                  </a:lnTo>
                  <a:lnTo>
                    <a:pt x="889" y="641"/>
                  </a:lnTo>
                  <a:lnTo>
                    <a:pt x="878" y="673"/>
                  </a:lnTo>
                  <a:lnTo>
                    <a:pt x="865" y="711"/>
                  </a:lnTo>
                  <a:lnTo>
                    <a:pt x="850" y="753"/>
                  </a:lnTo>
                  <a:lnTo>
                    <a:pt x="831" y="797"/>
                  </a:lnTo>
                  <a:lnTo>
                    <a:pt x="811" y="839"/>
                  </a:lnTo>
                  <a:lnTo>
                    <a:pt x="786" y="877"/>
                  </a:lnTo>
                  <a:lnTo>
                    <a:pt x="758" y="909"/>
                  </a:lnTo>
                  <a:lnTo>
                    <a:pt x="735" y="919"/>
                  </a:lnTo>
                  <a:lnTo>
                    <a:pt x="700" y="928"/>
                  </a:lnTo>
                  <a:lnTo>
                    <a:pt x="656" y="936"/>
                  </a:lnTo>
                  <a:lnTo>
                    <a:pt x="605" y="944"/>
                  </a:lnTo>
                  <a:lnTo>
                    <a:pt x="548" y="951"/>
                  </a:lnTo>
                  <a:lnTo>
                    <a:pt x="486" y="957"/>
                  </a:lnTo>
                  <a:lnTo>
                    <a:pt x="422" y="963"/>
                  </a:lnTo>
                  <a:lnTo>
                    <a:pt x="358" y="966"/>
                  </a:lnTo>
                  <a:lnTo>
                    <a:pt x="294" y="970"/>
                  </a:lnTo>
                  <a:lnTo>
                    <a:pt x="231" y="971"/>
                  </a:lnTo>
                  <a:lnTo>
                    <a:pt x="174" y="973"/>
                  </a:lnTo>
                  <a:lnTo>
                    <a:pt x="121" y="973"/>
                  </a:lnTo>
                  <a:lnTo>
                    <a:pt x="76" y="971"/>
                  </a:lnTo>
                  <a:lnTo>
                    <a:pt x="39" y="969"/>
                  </a:lnTo>
                  <a:lnTo>
                    <a:pt x="13" y="966"/>
                  </a:lnTo>
                  <a:lnTo>
                    <a:pt x="0" y="961"/>
                  </a:lnTo>
                  <a:lnTo>
                    <a:pt x="7" y="935"/>
                  </a:lnTo>
                  <a:lnTo>
                    <a:pt x="22" y="909"/>
                  </a:lnTo>
                  <a:lnTo>
                    <a:pt x="41" y="886"/>
                  </a:lnTo>
                  <a:lnTo>
                    <a:pt x="63" y="862"/>
                  </a:lnTo>
                  <a:lnTo>
                    <a:pt x="85" y="840"/>
                  </a:lnTo>
                  <a:lnTo>
                    <a:pt x="107" y="817"/>
                  </a:lnTo>
                  <a:lnTo>
                    <a:pt x="126" y="794"/>
                  </a:lnTo>
                  <a:lnTo>
                    <a:pt x="140" y="769"/>
                  </a:lnTo>
                  <a:lnTo>
                    <a:pt x="104" y="725"/>
                  </a:lnTo>
                  <a:lnTo>
                    <a:pt x="72" y="663"/>
                  </a:lnTo>
                  <a:lnTo>
                    <a:pt x="42" y="589"/>
                  </a:lnTo>
                  <a:lnTo>
                    <a:pt x="19" y="508"/>
                  </a:lnTo>
                  <a:lnTo>
                    <a:pt x="4" y="427"/>
                  </a:lnTo>
                  <a:lnTo>
                    <a:pt x="0" y="351"/>
                  </a:lnTo>
                  <a:lnTo>
                    <a:pt x="7" y="289"/>
                  </a:lnTo>
                  <a:lnTo>
                    <a:pt x="28" y="243"/>
                  </a:lnTo>
                  <a:close/>
                </a:path>
              </a:pathLst>
            </a:custGeom>
            <a:solidFill>
              <a:srgbClr val="7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28520" y="3593880"/>
              <a:ext cx="372960" cy="258480"/>
            </a:xfrm>
            <a:custGeom>
              <a:avLst/>
              <a:gdLst/>
              <a:ahLst/>
              <a:rect l="l" t="t" r="r" b="b"/>
              <a:pathLst>
                <a:path w="767" h="585">
                  <a:moveTo>
                    <a:pt x="28" y="59"/>
                  </a:moveTo>
                  <a:lnTo>
                    <a:pt x="7" y="105"/>
                  </a:lnTo>
                  <a:lnTo>
                    <a:pt x="0" y="167"/>
                  </a:lnTo>
                  <a:lnTo>
                    <a:pt x="4" y="243"/>
                  </a:lnTo>
                  <a:lnTo>
                    <a:pt x="19" y="324"/>
                  </a:lnTo>
                  <a:lnTo>
                    <a:pt x="42" y="405"/>
                  </a:lnTo>
                  <a:lnTo>
                    <a:pt x="72" y="479"/>
                  </a:lnTo>
                  <a:lnTo>
                    <a:pt x="104" y="541"/>
                  </a:lnTo>
                  <a:lnTo>
                    <a:pt x="140" y="585"/>
                  </a:lnTo>
                  <a:lnTo>
                    <a:pt x="169" y="584"/>
                  </a:lnTo>
                  <a:lnTo>
                    <a:pt x="202" y="582"/>
                  </a:lnTo>
                  <a:lnTo>
                    <a:pt x="238" y="579"/>
                  </a:lnTo>
                  <a:lnTo>
                    <a:pt x="279" y="576"/>
                  </a:lnTo>
                  <a:lnTo>
                    <a:pt x="320" y="573"/>
                  </a:lnTo>
                  <a:lnTo>
                    <a:pt x="364" y="569"/>
                  </a:lnTo>
                  <a:lnTo>
                    <a:pt x="409" y="565"/>
                  </a:lnTo>
                  <a:lnTo>
                    <a:pt x="453" y="560"/>
                  </a:lnTo>
                  <a:lnTo>
                    <a:pt x="498" y="554"/>
                  </a:lnTo>
                  <a:lnTo>
                    <a:pt x="540" y="549"/>
                  </a:lnTo>
                  <a:lnTo>
                    <a:pt x="583" y="541"/>
                  </a:lnTo>
                  <a:lnTo>
                    <a:pt x="621" y="533"/>
                  </a:lnTo>
                  <a:lnTo>
                    <a:pt x="657" y="524"/>
                  </a:lnTo>
                  <a:lnTo>
                    <a:pt x="689" y="515"/>
                  </a:lnTo>
                  <a:lnTo>
                    <a:pt x="717" y="505"/>
                  </a:lnTo>
                  <a:lnTo>
                    <a:pt x="739" y="493"/>
                  </a:lnTo>
                  <a:lnTo>
                    <a:pt x="752" y="445"/>
                  </a:lnTo>
                  <a:lnTo>
                    <a:pt x="761" y="383"/>
                  </a:lnTo>
                  <a:lnTo>
                    <a:pt x="767" y="313"/>
                  </a:lnTo>
                  <a:lnTo>
                    <a:pt x="765" y="239"/>
                  </a:lnTo>
                  <a:lnTo>
                    <a:pt x="754" y="167"/>
                  </a:lnTo>
                  <a:lnTo>
                    <a:pt x="733" y="102"/>
                  </a:lnTo>
                  <a:lnTo>
                    <a:pt x="701" y="49"/>
                  </a:lnTo>
                  <a:lnTo>
                    <a:pt x="654" y="14"/>
                  </a:lnTo>
                  <a:lnTo>
                    <a:pt x="627" y="8"/>
                  </a:lnTo>
                  <a:lnTo>
                    <a:pt x="594" y="4"/>
                  </a:lnTo>
                  <a:lnTo>
                    <a:pt x="558" y="1"/>
                  </a:lnTo>
                  <a:lnTo>
                    <a:pt x="518" y="0"/>
                  </a:lnTo>
                  <a:lnTo>
                    <a:pt x="475" y="0"/>
                  </a:lnTo>
                  <a:lnTo>
                    <a:pt x="431" y="3"/>
                  </a:lnTo>
                  <a:lnTo>
                    <a:pt x="384" y="4"/>
                  </a:lnTo>
                  <a:lnTo>
                    <a:pt x="337" y="8"/>
                  </a:lnTo>
                  <a:lnTo>
                    <a:pt x="289" y="13"/>
                  </a:lnTo>
                  <a:lnTo>
                    <a:pt x="244" y="19"/>
                  </a:lnTo>
                  <a:lnTo>
                    <a:pt x="199" y="24"/>
                  </a:lnTo>
                  <a:lnTo>
                    <a:pt x="158" y="32"/>
                  </a:lnTo>
                  <a:lnTo>
                    <a:pt x="118" y="38"/>
                  </a:lnTo>
                  <a:lnTo>
                    <a:pt x="83" y="45"/>
                  </a:lnTo>
                  <a:lnTo>
                    <a:pt x="53" y="52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24200" y="3616200"/>
              <a:ext cx="366840" cy="250200"/>
            </a:xfrm>
            <a:custGeom>
              <a:avLst/>
              <a:gdLst/>
              <a:ahLst/>
              <a:rect l="l" t="t" r="r" b="b"/>
              <a:pathLst>
                <a:path w="756" h="565">
                  <a:moveTo>
                    <a:pt x="25" y="42"/>
                  </a:moveTo>
                  <a:lnTo>
                    <a:pt x="7" y="85"/>
                  </a:lnTo>
                  <a:lnTo>
                    <a:pt x="0" y="147"/>
                  </a:lnTo>
                  <a:lnTo>
                    <a:pt x="1" y="221"/>
                  </a:lnTo>
                  <a:lnTo>
                    <a:pt x="10" y="303"/>
                  </a:lnTo>
                  <a:lnTo>
                    <a:pt x="26" y="385"/>
                  </a:lnTo>
                  <a:lnTo>
                    <a:pt x="49" y="459"/>
                  </a:lnTo>
                  <a:lnTo>
                    <a:pt x="79" y="521"/>
                  </a:lnTo>
                  <a:lnTo>
                    <a:pt x="112" y="565"/>
                  </a:lnTo>
                  <a:lnTo>
                    <a:pt x="141" y="564"/>
                  </a:lnTo>
                  <a:lnTo>
                    <a:pt x="175" y="562"/>
                  </a:lnTo>
                  <a:lnTo>
                    <a:pt x="213" y="562"/>
                  </a:lnTo>
                  <a:lnTo>
                    <a:pt x="252" y="561"/>
                  </a:lnTo>
                  <a:lnTo>
                    <a:pt x="296" y="559"/>
                  </a:lnTo>
                  <a:lnTo>
                    <a:pt x="341" y="558"/>
                  </a:lnTo>
                  <a:lnTo>
                    <a:pt x="388" y="555"/>
                  </a:lnTo>
                  <a:lnTo>
                    <a:pt x="434" y="553"/>
                  </a:lnTo>
                  <a:lnTo>
                    <a:pt x="480" y="549"/>
                  </a:lnTo>
                  <a:lnTo>
                    <a:pt x="526" y="546"/>
                  </a:lnTo>
                  <a:lnTo>
                    <a:pt x="568" y="540"/>
                  </a:lnTo>
                  <a:lnTo>
                    <a:pt x="609" y="535"/>
                  </a:lnTo>
                  <a:lnTo>
                    <a:pt x="645" y="527"/>
                  </a:lnTo>
                  <a:lnTo>
                    <a:pt x="677" y="518"/>
                  </a:lnTo>
                  <a:lnTo>
                    <a:pt x="707" y="510"/>
                  </a:lnTo>
                  <a:lnTo>
                    <a:pt x="729" y="498"/>
                  </a:lnTo>
                  <a:lnTo>
                    <a:pt x="742" y="450"/>
                  </a:lnTo>
                  <a:lnTo>
                    <a:pt x="750" y="389"/>
                  </a:lnTo>
                  <a:lnTo>
                    <a:pt x="756" y="318"/>
                  </a:lnTo>
                  <a:lnTo>
                    <a:pt x="755" y="243"/>
                  </a:lnTo>
                  <a:lnTo>
                    <a:pt x="743" y="172"/>
                  </a:lnTo>
                  <a:lnTo>
                    <a:pt x="723" y="106"/>
                  </a:lnTo>
                  <a:lnTo>
                    <a:pt x="691" y="54"/>
                  </a:lnTo>
                  <a:lnTo>
                    <a:pt x="644" y="19"/>
                  </a:lnTo>
                  <a:lnTo>
                    <a:pt x="616" y="13"/>
                  </a:lnTo>
                  <a:lnTo>
                    <a:pt x="584" y="7"/>
                  </a:lnTo>
                  <a:lnTo>
                    <a:pt x="547" y="5"/>
                  </a:lnTo>
                  <a:lnTo>
                    <a:pt x="508" y="2"/>
                  </a:lnTo>
                  <a:lnTo>
                    <a:pt x="466" y="0"/>
                  </a:lnTo>
                  <a:lnTo>
                    <a:pt x="420" y="0"/>
                  </a:lnTo>
                  <a:lnTo>
                    <a:pt x="375" y="0"/>
                  </a:lnTo>
                  <a:lnTo>
                    <a:pt x="328" y="2"/>
                  </a:lnTo>
                  <a:lnTo>
                    <a:pt x="283" y="5"/>
                  </a:lnTo>
                  <a:lnTo>
                    <a:pt x="238" y="9"/>
                  </a:lnTo>
                  <a:lnTo>
                    <a:pt x="194" y="13"/>
                  </a:lnTo>
                  <a:lnTo>
                    <a:pt x="152" y="18"/>
                  </a:lnTo>
                  <a:lnTo>
                    <a:pt x="114" y="23"/>
                  </a:lnTo>
                  <a:lnTo>
                    <a:pt x="79" y="29"/>
                  </a:lnTo>
                  <a:lnTo>
                    <a:pt x="49" y="35"/>
                  </a:lnTo>
                  <a:lnTo>
                    <a:pt x="25" y="4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78200" y="3641400"/>
              <a:ext cx="268200" cy="167400"/>
            </a:xfrm>
            <a:custGeom>
              <a:avLst/>
              <a:gdLst/>
              <a:ahLst/>
              <a:rect l="l" t="t" r="r" b="b"/>
              <a:pathLst>
                <a:path w="552" h="378">
                  <a:moveTo>
                    <a:pt x="10" y="37"/>
                  </a:moveTo>
                  <a:lnTo>
                    <a:pt x="3" y="60"/>
                  </a:lnTo>
                  <a:lnTo>
                    <a:pt x="0" y="95"/>
                  </a:lnTo>
                  <a:lnTo>
                    <a:pt x="2" y="140"/>
                  </a:lnTo>
                  <a:lnTo>
                    <a:pt x="8" y="190"/>
                  </a:lnTo>
                  <a:lnTo>
                    <a:pt x="15" y="241"/>
                  </a:lnTo>
                  <a:lnTo>
                    <a:pt x="26" y="286"/>
                  </a:lnTo>
                  <a:lnTo>
                    <a:pt x="41" y="324"/>
                  </a:lnTo>
                  <a:lnTo>
                    <a:pt x="56" y="348"/>
                  </a:lnTo>
                  <a:lnTo>
                    <a:pt x="73" y="357"/>
                  </a:lnTo>
                  <a:lnTo>
                    <a:pt x="95" y="364"/>
                  </a:lnTo>
                  <a:lnTo>
                    <a:pt x="123" y="370"/>
                  </a:lnTo>
                  <a:lnTo>
                    <a:pt x="152" y="375"/>
                  </a:lnTo>
                  <a:lnTo>
                    <a:pt x="184" y="376"/>
                  </a:lnTo>
                  <a:lnTo>
                    <a:pt x="219" y="378"/>
                  </a:lnTo>
                  <a:lnTo>
                    <a:pt x="256" y="378"/>
                  </a:lnTo>
                  <a:lnTo>
                    <a:pt x="294" y="376"/>
                  </a:lnTo>
                  <a:lnTo>
                    <a:pt x="330" y="373"/>
                  </a:lnTo>
                  <a:lnTo>
                    <a:pt x="368" y="370"/>
                  </a:lnTo>
                  <a:lnTo>
                    <a:pt x="403" y="366"/>
                  </a:lnTo>
                  <a:lnTo>
                    <a:pt x="438" y="362"/>
                  </a:lnTo>
                  <a:lnTo>
                    <a:pt x="470" y="357"/>
                  </a:lnTo>
                  <a:lnTo>
                    <a:pt x="498" y="351"/>
                  </a:lnTo>
                  <a:lnTo>
                    <a:pt x="525" y="346"/>
                  </a:lnTo>
                  <a:lnTo>
                    <a:pt x="545" y="340"/>
                  </a:lnTo>
                  <a:lnTo>
                    <a:pt x="549" y="308"/>
                  </a:lnTo>
                  <a:lnTo>
                    <a:pt x="552" y="264"/>
                  </a:lnTo>
                  <a:lnTo>
                    <a:pt x="552" y="213"/>
                  </a:lnTo>
                  <a:lnTo>
                    <a:pt x="548" y="158"/>
                  </a:lnTo>
                  <a:lnTo>
                    <a:pt x="541" y="105"/>
                  </a:lnTo>
                  <a:lnTo>
                    <a:pt x="527" y="60"/>
                  </a:lnTo>
                  <a:lnTo>
                    <a:pt x="510" y="27"/>
                  </a:lnTo>
                  <a:lnTo>
                    <a:pt x="485" y="9"/>
                  </a:lnTo>
                  <a:lnTo>
                    <a:pt x="466" y="8"/>
                  </a:lnTo>
                  <a:lnTo>
                    <a:pt x="443" y="8"/>
                  </a:lnTo>
                  <a:lnTo>
                    <a:pt x="415" y="6"/>
                  </a:lnTo>
                  <a:lnTo>
                    <a:pt x="384" y="3"/>
                  </a:lnTo>
                  <a:lnTo>
                    <a:pt x="351" y="2"/>
                  </a:lnTo>
                  <a:lnTo>
                    <a:pt x="316" y="2"/>
                  </a:lnTo>
                  <a:lnTo>
                    <a:pt x="279" y="0"/>
                  </a:lnTo>
                  <a:lnTo>
                    <a:pt x="243" y="0"/>
                  </a:lnTo>
                  <a:lnTo>
                    <a:pt x="206" y="0"/>
                  </a:lnTo>
                  <a:lnTo>
                    <a:pt x="170" y="2"/>
                  </a:lnTo>
                  <a:lnTo>
                    <a:pt x="136" y="3"/>
                  </a:lnTo>
                  <a:lnTo>
                    <a:pt x="104" y="8"/>
                  </a:lnTo>
                  <a:lnTo>
                    <a:pt x="75" y="12"/>
                  </a:lnTo>
                  <a:lnTo>
                    <a:pt x="48" y="19"/>
                  </a:lnTo>
                  <a:lnTo>
                    <a:pt x="26" y="27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60560" y="3656880"/>
              <a:ext cx="268200" cy="167400"/>
            </a:xfrm>
            <a:custGeom>
              <a:avLst/>
              <a:gdLst/>
              <a:ahLst/>
              <a:rect l="l" t="t" r="r" b="b"/>
              <a:pathLst>
                <a:path w="552" h="377">
                  <a:moveTo>
                    <a:pt x="10" y="36"/>
                  </a:moveTo>
                  <a:lnTo>
                    <a:pt x="3" y="60"/>
                  </a:lnTo>
                  <a:lnTo>
                    <a:pt x="0" y="96"/>
                  </a:lnTo>
                  <a:lnTo>
                    <a:pt x="1" y="141"/>
                  </a:lnTo>
                  <a:lnTo>
                    <a:pt x="7" y="191"/>
                  </a:lnTo>
                  <a:lnTo>
                    <a:pt x="14" y="240"/>
                  </a:lnTo>
                  <a:lnTo>
                    <a:pt x="26" y="287"/>
                  </a:lnTo>
                  <a:lnTo>
                    <a:pt x="41" y="323"/>
                  </a:lnTo>
                  <a:lnTo>
                    <a:pt x="55" y="348"/>
                  </a:lnTo>
                  <a:lnTo>
                    <a:pt x="73" y="357"/>
                  </a:lnTo>
                  <a:lnTo>
                    <a:pt x="95" y="364"/>
                  </a:lnTo>
                  <a:lnTo>
                    <a:pt x="122" y="370"/>
                  </a:lnTo>
                  <a:lnTo>
                    <a:pt x="152" y="374"/>
                  </a:lnTo>
                  <a:lnTo>
                    <a:pt x="184" y="376"/>
                  </a:lnTo>
                  <a:lnTo>
                    <a:pt x="219" y="377"/>
                  </a:lnTo>
                  <a:lnTo>
                    <a:pt x="255" y="377"/>
                  </a:lnTo>
                  <a:lnTo>
                    <a:pt x="293" y="376"/>
                  </a:lnTo>
                  <a:lnTo>
                    <a:pt x="330" y="373"/>
                  </a:lnTo>
                  <a:lnTo>
                    <a:pt x="368" y="370"/>
                  </a:lnTo>
                  <a:lnTo>
                    <a:pt x="403" y="365"/>
                  </a:lnTo>
                  <a:lnTo>
                    <a:pt x="438" y="361"/>
                  </a:lnTo>
                  <a:lnTo>
                    <a:pt x="470" y="357"/>
                  </a:lnTo>
                  <a:lnTo>
                    <a:pt x="498" y="351"/>
                  </a:lnTo>
                  <a:lnTo>
                    <a:pt x="524" y="345"/>
                  </a:lnTo>
                  <a:lnTo>
                    <a:pt x="544" y="339"/>
                  </a:lnTo>
                  <a:lnTo>
                    <a:pt x="549" y="307"/>
                  </a:lnTo>
                  <a:lnTo>
                    <a:pt x="552" y="263"/>
                  </a:lnTo>
                  <a:lnTo>
                    <a:pt x="552" y="212"/>
                  </a:lnTo>
                  <a:lnTo>
                    <a:pt x="547" y="157"/>
                  </a:lnTo>
                  <a:lnTo>
                    <a:pt x="540" y="105"/>
                  </a:lnTo>
                  <a:lnTo>
                    <a:pt x="527" y="60"/>
                  </a:lnTo>
                  <a:lnTo>
                    <a:pt x="509" y="26"/>
                  </a:lnTo>
                  <a:lnTo>
                    <a:pt x="485" y="9"/>
                  </a:lnTo>
                  <a:lnTo>
                    <a:pt x="466" y="9"/>
                  </a:lnTo>
                  <a:lnTo>
                    <a:pt x="442" y="7"/>
                  </a:lnTo>
                  <a:lnTo>
                    <a:pt x="414" y="6"/>
                  </a:lnTo>
                  <a:lnTo>
                    <a:pt x="384" y="4"/>
                  </a:lnTo>
                  <a:lnTo>
                    <a:pt x="350" y="3"/>
                  </a:lnTo>
                  <a:lnTo>
                    <a:pt x="315" y="1"/>
                  </a:lnTo>
                  <a:lnTo>
                    <a:pt x="279" y="0"/>
                  </a:lnTo>
                  <a:lnTo>
                    <a:pt x="242" y="0"/>
                  </a:lnTo>
                  <a:lnTo>
                    <a:pt x="206" y="0"/>
                  </a:lnTo>
                  <a:lnTo>
                    <a:pt x="169" y="1"/>
                  </a:lnTo>
                  <a:lnTo>
                    <a:pt x="136" y="4"/>
                  </a:lnTo>
                  <a:lnTo>
                    <a:pt x="103" y="7"/>
                  </a:lnTo>
                  <a:lnTo>
                    <a:pt x="74" y="12"/>
                  </a:lnTo>
                  <a:lnTo>
                    <a:pt x="48" y="19"/>
                  </a:lnTo>
                  <a:lnTo>
                    <a:pt x="26" y="2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006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85400" y="3874680"/>
              <a:ext cx="249120" cy="41760"/>
            </a:xfrm>
            <a:custGeom>
              <a:avLst/>
              <a:gdLst/>
              <a:ahLst/>
              <a:rect l="l" t="t" r="r" b="b"/>
              <a:pathLst>
                <a:path w="514" h="92">
                  <a:moveTo>
                    <a:pt x="47" y="4"/>
                  </a:moveTo>
                  <a:lnTo>
                    <a:pt x="39" y="10"/>
                  </a:lnTo>
                  <a:lnTo>
                    <a:pt x="32" y="17"/>
                  </a:lnTo>
                  <a:lnTo>
                    <a:pt x="25" y="25"/>
                  </a:lnTo>
                  <a:lnTo>
                    <a:pt x="17" y="33"/>
                  </a:lnTo>
                  <a:lnTo>
                    <a:pt x="10" y="42"/>
                  </a:lnTo>
                  <a:lnTo>
                    <a:pt x="4" y="50"/>
                  </a:lnTo>
                  <a:lnTo>
                    <a:pt x="1" y="55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7" y="82"/>
                  </a:lnTo>
                  <a:lnTo>
                    <a:pt x="16" y="87"/>
                  </a:lnTo>
                  <a:lnTo>
                    <a:pt x="26" y="90"/>
                  </a:lnTo>
                  <a:lnTo>
                    <a:pt x="36" y="92"/>
                  </a:lnTo>
                  <a:lnTo>
                    <a:pt x="48" y="90"/>
                  </a:lnTo>
                  <a:lnTo>
                    <a:pt x="58" y="90"/>
                  </a:lnTo>
                  <a:lnTo>
                    <a:pt x="67" y="89"/>
                  </a:lnTo>
                  <a:lnTo>
                    <a:pt x="95" y="86"/>
                  </a:lnTo>
                  <a:lnTo>
                    <a:pt x="124" y="82"/>
                  </a:lnTo>
                  <a:lnTo>
                    <a:pt x="152" y="77"/>
                  </a:lnTo>
                  <a:lnTo>
                    <a:pt x="181" y="73"/>
                  </a:lnTo>
                  <a:lnTo>
                    <a:pt x="209" y="68"/>
                  </a:lnTo>
                  <a:lnTo>
                    <a:pt x="236" y="64"/>
                  </a:lnTo>
                  <a:lnTo>
                    <a:pt x="266" y="60"/>
                  </a:lnTo>
                  <a:lnTo>
                    <a:pt x="293" y="55"/>
                  </a:lnTo>
                  <a:lnTo>
                    <a:pt x="320" y="52"/>
                  </a:lnTo>
                  <a:lnTo>
                    <a:pt x="344" y="50"/>
                  </a:lnTo>
                  <a:lnTo>
                    <a:pt x="371" y="48"/>
                  </a:lnTo>
                  <a:lnTo>
                    <a:pt x="397" y="47"/>
                  </a:lnTo>
                  <a:lnTo>
                    <a:pt x="422" y="45"/>
                  </a:lnTo>
                  <a:lnTo>
                    <a:pt x="448" y="44"/>
                  </a:lnTo>
                  <a:lnTo>
                    <a:pt x="473" y="42"/>
                  </a:lnTo>
                  <a:lnTo>
                    <a:pt x="499" y="39"/>
                  </a:lnTo>
                  <a:lnTo>
                    <a:pt x="505" y="38"/>
                  </a:lnTo>
                  <a:lnTo>
                    <a:pt x="510" y="35"/>
                  </a:lnTo>
                  <a:lnTo>
                    <a:pt x="512" y="32"/>
                  </a:lnTo>
                  <a:lnTo>
                    <a:pt x="514" y="28"/>
                  </a:lnTo>
                  <a:lnTo>
                    <a:pt x="512" y="22"/>
                  </a:lnTo>
                  <a:lnTo>
                    <a:pt x="510" y="17"/>
                  </a:lnTo>
                  <a:lnTo>
                    <a:pt x="507" y="15"/>
                  </a:lnTo>
                  <a:lnTo>
                    <a:pt x="501" y="13"/>
                  </a:lnTo>
                  <a:lnTo>
                    <a:pt x="470" y="13"/>
                  </a:lnTo>
                  <a:lnTo>
                    <a:pt x="436" y="13"/>
                  </a:lnTo>
                  <a:lnTo>
                    <a:pt x="400" y="15"/>
                  </a:lnTo>
                  <a:lnTo>
                    <a:pt x="362" y="17"/>
                  </a:lnTo>
                  <a:lnTo>
                    <a:pt x="323" y="20"/>
                  </a:lnTo>
                  <a:lnTo>
                    <a:pt x="285" y="23"/>
                  </a:lnTo>
                  <a:lnTo>
                    <a:pt x="245" y="28"/>
                  </a:lnTo>
                  <a:lnTo>
                    <a:pt x="209" y="32"/>
                  </a:lnTo>
                  <a:lnTo>
                    <a:pt x="174" y="36"/>
                  </a:lnTo>
                  <a:lnTo>
                    <a:pt x="140" y="41"/>
                  </a:lnTo>
                  <a:lnTo>
                    <a:pt x="111" y="44"/>
                  </a:lnTo>
                  <a:lnTo>
                    <a:pt x="85" y="48"/>
                  </a:lnTo>
                  <a:lnTo>
                    <a:pt x="63" y="51"/>
                  </a:lnTo>
                  <a:lnTo>
                    <a:pt x="47" y="54"/>
                  </a:lnTo>
                  <a:lnTo>
                    <a:pt x="36" y="55"/>
                  </a:lnTo>
                  <a:lnTo>
                    <a:pt x="33" y="55"/>
                  </a:lnTo>
                  <a:lnTo>
                    <a:pt x="38" y="47"/>
                  </a:lnTo>
                  <a:lnTo>
                    <a:pt x="44" y="38"/>
                  </a:lnTo>
                  <a:lnTo>
                    <a:pt x="48" y="29"/>
                  </a:lnTo>
                  <a:lnTo>
                    <a:pt x="55" y="20"/>
                  </a:lnTo>
                  <a:lnTo>
                    <a:pt x="61" y="12"/>
                  </a:lnTo>
                  <a:lnTo>
                    <a:pt x="61" y="3"/>
                  </a:lnTo>
                  <a:lnTo>
                    <a:pt x="57" y="0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04480" y="3769920"/>
              <a:ext cx="43560" cy="28080"/>
            </a:xfrm>
            <a:custGeom>
              <a:avLst/>
              <a:gdLst/>
              <a:ahLst/>
              <a:rect l="l" t="t" r="r" b="b"/>
              <a:pathLst>
                <a:path w="89" h="62">
                  <a:moveTo>
                    <a:pt x="76" y="61"/>
                  </a:moveTo>
                  <a:lnTo>
                    <a:pt x="81" y="62"/>
                  </a:lnTo>
                  <a:lnTo>
                    <a:pt x="85" y="61"/>
                  </a:lnTo>
                  <a:lnTo>
                    <a:pt x="88" y="59"/>
                  </a:lnTo>
                  <a:lnTo>
                    <a:pt x="89" y="55"/>
                  </a:lnTo>
                  <a:lnTo>
                    <a:pt x="89" y="52"/>
                  </a:lnTo>
                  <a:lnTo>
                    <a:pt x="89" y="48"/>
                  </a:lnTo>
                  <a:lnTo>
                    <a:pt x="86" y="45"/>
                  </a:lnTo>
                  <a:lnTo>
                    <a:pt x="83" y="43"/>
                  </a:lnTo>
                  <a:lnTo>
                    <a:pt x="72" y="38"/>
                  </a:lnTo>
                  <a:lnTo>
                    <a:pt x="60" y="29"/>
                  </a:lnTo>
                  <a:lnTo>
                    <a:pt x="47" y="22"/>
                  </a:lnTo>
                  <a:lnTo>
                    <a:pt x="35" y="13"/>
                  </a:lnTo>
                  <a:lnTo>
                    <a:pt x="24" y="6"/>
                  </a:lnTo>
                  <a:lnTo>
                    <a:pt x="13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6"/>
                  </a:lnTo>
                  <a:lnTo>
                    <a:pt x="5" y="13"/>
                  </a:lnTo>
                  <a:lnTo>
                    <a:pt x="13" y="20"/>
                  </a:lnTo>
                  <a:lnTo>
                    <a:pt x="25" y="29"/>
                  </a:lnTo>
                  <a:lnTo>
                    <a:pt x="38" y="38"/>
                  </a:lnTo>
                  <a:lnTo>
                    <a:pt x="51" y="46"/>
                  </a:lnTo>
                  <a:lnTo>
                    <a:pt x="65" y="55"/>
                  </a:lnTo>
                  <a:lnTo>
                    <a:pt x="7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30400" y="3763080"/>
              <a:ext cx="46440" cy="28080"/>
            </a:xfrm>
            <a:custGeom>
              <a:avLst/>
              <a:gdLst/>
              <a:ahLst/>
              <a:rect l="l" t="t" r="r" b="b"/>
              <a:pathLst>
                <a:path w="96" h="64">
                  <a:moveTo>
                    <a:pt x="85" y="62"/>
                  </a:moveTo>
                  <a:lnTo>
                    <a:pt x="87" y="64"/>
                  </a:lnTo>
                  <a:lnTo>
                    <a:pt x="90" y="64"/>
                  </a:lnTo>
                  <a:lnTo>
                    <a:pt x="93" y="62"/>
                  </a:lnTo>
                  <a:lnTo>
                    <a:pt x="95" y="59"/>
                  </a:lnTo>
                  <a:lnTo>
                    <a:pt x="96" y="56"/>
                  </a:lnTo>
                  <a:lnTo>
                    <a:pt x="96" y="52"/>
                  </a:lnTo>
                  <a:lnTo>
                    <a:pt x="95" y="49"/>
                  </a:lnTo>
                  <a:lnTo>
                    <a:pt x="92" y="48"/>
                  </a:lnTo>
                  <a:lnTo>
                    <a:pt x="80" y="40"/>
                  </a:lnTo>
                  <a:lnTo>
                    <a:pt x="66" y="32"/>
                  </a:lnTo>
                  <a:lnTo>
                    <a:pt x="52" y="22"/>
                  </a:lnTo>
                  <a:lnTo>
                    <a:pt x="38" y="13"/>
                  </a:lnTo>
                  <a:lnTo>
                    <a:pt x="25" y="7"/>
                  </a:lnTo>
                  <a:lnTo>
                    <a:pt x="13" y="1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6" y="13"/>
                  </a:lnTo>
                  <a:lnTo>
                    <a:pt x="14" y="22"/>
                  </a:lnTo>
                  <a:lnTo>
                    <a:pt x="28" y="30"/>
                  </a:lnTo>
                  <a:lnTo>
                    <a:pt x="41" y="39"/>
                  </a:lnTo>
                  <a:lnTo>
                    <a:pt x="57" y="48"/>
                  </a:lnTo>
                  <a:lnTo>
                    <a:pt x="71" y="56"/>
                  </a:lnTo>
                  <a:lnTo>
                    <a:pt x="85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30400" y="3722400"/>
              <a:ext cx="100440" cy="76680"/>
            </a:xfrm>
            <a:custGeom>
              <a:avLst/>
              <a:gdLst/>
              <a:ahLst/>
              <a:rect l="l" t="t" r="r" b="b"/>
              <a:pathLst>
                <a:path w="206" h="172">
                  <a:moveTo>
                    <a:pt x="190" y="168"/>
                  </a:moveTo>
                  <a:lnTo>
                    <a:pt x="193" y="171"/>
                  </a:lnTo>
                  <a:lnTo>
                    <a:pt x="196" y="172"/>
                  </a:lnTo>
                  <a:lnTo>
                    <a:pt x="199" y="172"/>
                  </a:lnTo>
                  <a:lnTo>
                    <a:pt x="202" y="171"/>
                  </a:lnTo>
                  <a:lnTo>
                    <a:pt x="205" y="168"/>
                  </a:lnTo>
                  <a:lnTo>
                    <a:pt x="206" y="165"/>
                  </a:lnTo>
                  <a:lnTo>
                    <a:pt x="206" y="161"/>
                  </a:lnTo>
                  <a:lnTo>
                    <a:pt x="205" y="158"/>
                  </a:lnTo>
                  <a:lnTo>
                    <a:pt x="200" y="147"/>
                  </a:lnTo>
                  <a:lnTo>
                    <a:pt x="195" y="139"/>
                  </a:lnTo>
                  <a:lnTo>
                    <a:pt x="187" y="130"/>
                  </a:lnTo>
                  <a:lnTo>
                    <a:pt x="178" y="123"/>
                  </a:lnTo>
                  <a:lnTo>
                    <a:pt x="154" y="105"/>
                  </a:lnTo>
                  <a:lnTo>
                    <a:pt x="127" y="85"/>
                  </a:lnTo>
                  <a:lnTo>
                    <a:pt x="98" y="63"/>
                  </a:lnTo>
                  <a:lnTo>
                    <a:pt x="70" y="43"/>
                  </a:lnTo>
                  <a:lnTo>
                    <a:pt x="46" y="24"/>
                  </a:lnTo>
                  <a:lnTo>
                    <a:pt x="24" y="11"/>
                  </a:lnTo>
                  <a:lnTo>
                    <a:pt x="9" y="2"/>
                  </a:lnTo>
                  <a:lnTo>
                    <a:pt x="0" y="0"/>
                  </a:lnTo>
                  <a:lnTo>
                    <a:pt x="3" y="8"/>
                  </a:lnTo>
                  <a:lnTo>
                    <a:pt x="18" y="22"/>
                  </a:lnTo>
                  <a:lnTo>
                    <a:pt x="40" y="41"/>
                  </a:lnTo>
                  <a:lnTo>
                    <a:pt x="69" y="64"/>
                  </a:lnTo>
                  <a:lnTo>
                    <a:pt x="101" y="91"/>
                  </a:lnTo>
                  <a:lnTo>
                    <a:pt x="133" y="118"/>
                  </a:lnTo>
                  <a:lnTo>
                    <a:pt x="164" y="145"/>
                  </a:lnTo>
                  <a:lnTo>
                    <a:pt x="190" y="1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01600" y="3864960"/>
              <a:ext cx="249120" cy="37440"/>
            </a:xfrm>
            <a:custGeom>
              <a:avLst/>
              <a:gdLst/>
              <a:ahLst/>
              <a:rect l="l" t="t" r="r" b="b"/>
              <a:pathLst>
                <a:path w="513" h="89">
                  <a:moveTo>
                    <a:pt x="47" y="2"/>
                  </a:moveTo>
                  <a:lnTo>
                    <a:pt x="41" y="5"/>
                  </a:lnTo>
                  <a:lnTo>
                    <a:pt x="35" y="12"/>
                  </a:lnTo>
                  <a:lnTo>
                    <a:pt x="27" y="19"/>
                  </a:lnTo>
                  <a:lnTo>
                    <a:pt x="19" y="28"/>
                  </a:lnTo>
                  <a:lnTo>
                    <a:pt x="12" y="37"/>
                  </a:lnTo>
                  <a:lnTo>
                    <a:pt x="6" y="45"/>
                  </a:lnTo>
                  <a:lnTo>
                    <a:pt x="2" y="53"/>
                  </a:lnTo>
                  <a:lnTo>
                    <a:pt x="0" y="58"/>
                  </a:lnTo>
                  <a:lnTo>
                    <a:pt x="2" y="72"/>
                  </a:lnTo>
                  <a:lnTo>
                    <a:pt x="8" y="80"/>
                  </a:lnTo>
                  <a:lnTo>
                    <a:pt x="16" y="86"/>
                  </a:lnTo>
                  <a:lnTo>
                    <a:pt x="25" y="88"/>
                  </a:lnTo>
                  <a:lnTo>
                    <a:pt x="37" y="89"/>
                  </a:lnTo>
                  <a:lnTo>
                    <a:pt x="47" y="88"/>
                  </a:lnTo>
                  <a:lnTo>
                    <a:pt x="59" y="88"/>
                  </a:lnTo>
                  <a:lnTo>
                    <a:pt x="68" y="86"/>
                  </a:lnTo>
                  <a:lnTo>
                    <a:pt x="95" y="83"/>
                  </a:lnTo>
                  <a:lnTo>
                    <a:pt x="125" y="79"/>
                  </a:lnTo>
                  <a:lnTo>
                    <a:pt x="152" y="75"/>
                  </a:lnTo>
                  <a:lnTo>
                    <a:pt x="181" y="70"/>
                  </a:lnTo>
                  <a:lnTo>
                    <a:pt x="209" y="66"/>
                  </a:lnTo>
                  <a:lnTo>
                    <a:pt x="237" y="61"/>
                  </a:lnTo>
                  <a:lnTo>
                    <a:pt x="266" y="57"/>
                  </a:lnTo>
                  <a:lnTo>
                    <a:pt x="294" y="54"/>
                  </a:lnTo>
                  <a:lnTo>
                    <a:pt x="320" y="51"/>
                  </a:lnTo>
                  <a:lnTo>
                    <a:pt x="345" y="48"/>
                  </a:lnTo>
                  <a:lnTo>
                    <a:pt x="371" y="47"/>
                  </a:lnTo>
                  <a:lnTo>
                    <a:pt x="398" y="45"/>
                  </a:lnTo>
                  <a:lnTo>
                    <a:pt x="422" y="42"/>
                  </a:lnTo>
                  <a:lnTo>
                    <a:pt x="449" y="41"/>
                  </a:lnTo>
                  <a:lnTo>
                    <a:pt x="474" y="40"/>
                  </a:lnTo>
                  <a:lnTo>
                    <a:pt x="500" y="37"/>
                  </a:lnTo>
                  <a:lnTo>
                    <a:pt x="506" y="35"/>
                  </a:lnTo>
                  <a:lnTo>
                    <a:pt x="509" y="34"/>
                  </a:lnTo>
                  <a:lnTo>
                    <a:pt x="512" y="29"/>
                  </a:lnTo>
                  <a:lnTo>
                    <a:pt x="513" y="25"/>
                  </a:lnTo>
                  <a:lnTo>
                    <a:pt x="512" y="19"/>
                  </a:lnTo>
                  <a:lnTo>
                    <a:pt x="510" y="16"/>
                  </a:lnTo>
                  <a:lnTo>
                    <a:pt x="506" y="13"/>
                  </a:lnTo>
                  <a:lnTo>
                    <a:pt x="501" y="12"/>
                  </a:lnTo>
                  <a:lnTo>
                    <a:pt x="472" y="10"/>
                  </a:lnTo>
                  <a:lnTo>
                    <a:pt x="443" y="12"/>
                  </a:lnTo>
                  <a:lnTo>
                    <a:pt x="414" y="12"/>
                  </a:lnTo>
                  <a:lnTo>
                    <a:pt x="384" y="13"/>
                  </a:lnTo>
                  <a:lnTo>
                    <a:pt x="355" y="16"/>
                  </a:lnTo>
                  <a:lnTo>
                    <a:pt x="326" y="19"/>
                  </a:lnTo>
                  <a:lnTo>
                    <a:pt x="297" y="24"/>
                  </a:lnTo>
                  <a:lnTo>
                    <a:pt x="268" y="26"/>
                  </a:lnTo>
                  <a:lnTo>
                    <a:pt x="238" y="31"/>
                  </a:lnTo>
                  <a:lnTo>
                    <a:pt x="211" y="35"/>
                  </a:lnTo>
                  <a:lnTo>
                    <a:pt x="181" y="40"/>
                  </a:lnTo>
                  <a:lnTo>
                    <a:pt x="152" y="44"/>
                  </a:lnTo>
                  <a:lnTo>
                    <a:pt x="123" y="48"/>
                  </a:lnTo>
                  <a:lnTo>
                    <a:pt x="95" y="53"/>
                  </a:lnTo>
                  <a:lnTo>
                    <a:pt x="66" y="56"/>
                  </a:lnTo>
                  <a:lnTo>
                    <a:pt x="37" y="58"/>
                  </a:lnTo>
                  <a:lnTo>
                    <a:pt x="34" y="53"/>
                  </a:lnTo>
                  <a:lnTo>
                    <a:pt x="38" y="44"/>
                  </a:lnTo>
                  <a:lnTo>
                    <a:pt x="44" y="37"/>
                  </a:lnTo>
                  <a:lnTo>
                    <a:pt x="49" y="29"/>
                  </a:lnTo>
                  <a:lnTo>
                    <a:pt x="56" y="19"/>
                  </a:lnTo>
                  <a:lnTo>
                    <a:pt x="60" y="9"/>
                  </a:lnTo>
                  <a:lnTo>
                    <a:pt x="59" y="2"/>
                  </a:lnTo>
                  <a:lnTo>
                    <a:pt x="54" y="0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19880" y="3772800"/>
              <a:ext cx="454680" cy="176040"/>
            </a:xfrm>
            <a:custGeom>
              <a:avLst/>
              <a:gdLst/>
              <a:ahLst/>
              <a:rect l="l" t="t" r="r" b="b"/>
              <a:pathLst>
                <a:path w="935" h="397">
                  <a:moveTo>
                    <a:pt x="3" y="349"/>
                  </a:moveTo>
                  <a:lnTo>
                    <a:pt x="2" y="354"/>
                  </a:lnTo>
                  <a:lnTo>
                    <a:pt x="0" y="364"/>
                  </a:lnTo>
                  <a:lnTo>
                    <a:pt x="0" y="374"/>
                  </a:lnTo>
                  <a:lnTo>
                    <a:pt x="3" y="383"/>
                  </a:lnTo>
                  <a:lnTo>
                    <a:pt x="11" y="389"/>
                  </a:lnTo>
                  <a:lnTo>
                    <a:pt x="19" y="392"/>
                  </a:lnTo>
                  <a:lnTo>
                    <a:pt x="28" y="395"/>
                  </a:lnTo>
                  <a:lnTo>
                    <a:pt x="31" y="396"/>
                  </a:lnTo>
                  <a:lnTo>
                    <a:pt x="59" y="397"/>
                  </a:lnTo>
                  <a:lnTo>
                    <a:pt x="88" y="397"/>
                  </a:lnTo>
                  <a:lnTo>
                    <a:pt x="116" y="397"/>
                  </a:lnTo>
                  <a:lnTo>
                    <a:pt x="144" y="397"/>
                  </a:lnTo>
                  <a:lnTo>
                    <a:pt x="173" y="396"/>
                  </a:lnTo>
                  <a:lnTo>
                    <a:pt x="201" y="395"/>
                  </a:lnTo>
                  <a:lnTo>
                    <a:pt x="228" y="393"/>
                  </a:lnTo>
                  <a:lnTo>
                    <a:pt x="256" y="392"/>
                  </a:lnTo>
                  <a:lnTo>
                    <a:pt x="284" y="390"/>
                  </a:lnTo>
                  <a:lnTo>
                    <a:pt x="312" y="387"/>
                  </a:lnTo>
                  <a:lnTo>
                    <a:pt x="339" y="386"/>
                  </a:lnTo>
                  <a:lnTo>
                    <a:pt x="367" y="383"/>
                  </a:lnTo>
                  <a:lnTo>
                    <a:pt x="395" y="381"/>
                  </a:lnTo>
                  <a:lnTo>
                    <a:pt x="424" y="380"/>
                  </a:lnTo>
                  <a:lnTo>
                    <a:pt x="452" y="379"/>
                  </a:lnTo>
                  <a:lnTo>
                    <a:pt x="479" y="377"/>
                  </a:lnTo>
                  <a:lnTo>
                    <a:pt x="506" y="376"/>
                  </a:lnTo>
                  <a:lnTo>
                    <a:pt x="534" y="374"/>
                  </a:lnTo>
                  <a:lnTo>
                    <a:pt x="560" y="373"/>
                  </a:lnTo>
                  <a:lnTo>
                    <a:pt x="588" y="370"/>
                  </a:lnTo>
                  <a:lnTo>
                    <a:pt x="614" y="367"/>
                  </a:lnTo>
                  <a:lnTo>
                    <a:pt x="640" y="364"/>
                  </a:lnTo>
                  <a:lnTo>
                    <a:pt x="668" y="360"/>
                  </a:lnTo>
                  <a:lnTo>
                    <a:pt x="694" y="355"/>
                  </a:lnTo>
                  <a:lnTo>
                    <a:pt x="712" y="352"/>
                  </a:lnTo>
                  <a:lnTo>
                    <a:pt x="729" y="348"/>
                  </a:lnTo>
                  <a:lnTo>
                    <a:pt x="748" y="342"/>
                  </a:lnTo>
                  <a:lnTo>
                    <a:pt x="766" y="336"/>
                  </a:lnTo>
                  <a:lnTo>
                    <a:pt x="782" y="329"/>
                  </a:lnTo>
                  <a:lnTo>
                    <a:pt x="796" y="319"/>
                  </a:lnTo>
                  <a:lnTo>
                    <a:pt x="811" y="306"/>
                  </a:lnTo>
                  <a:lnTo>
                    <a:pt x="823" y="291"/>
                  </a:lnTo>
                  <a:lnTo>
                    <a:pt x="827" y="280"/>
                  </a:lnTo>
                  <a:lnTo>
                    <a:pt x="840" y="249"/>
                  </a:lnTo>
                  <a:lnTo>
                    <a:pt x="859" y="205"/>
                  </a:lnTo>
                  <a:lnTo>
                    <a:pt x="880" y="154"/>
                  </a:lnTo>
                  <a:lnTo>
                    <a:pt x="902" y="103"/>
                  </a:lnTo>
                  <a:lnTo>
                    <a:pt x="919" y="60"/>
                  </a:lnTo>
                  <a:lnTo>
                    <a:pt x="931" y="26"/>
                  </a:lnTo>
                  <a:lnTo>
                    <a:pt x="935" y="13"/>
                  </a:lnTo>
                  <a:lnTo>
                    <a:pt x="932" y="12"/>
                  </a:lnTo>
                  <a:lnTo>
                    <a:pt x="923" y="7"/>
                  </a:lnTo>
                  <a:lnTo>
                    <a:pt x="913" y="3"/>
                  </a:lnTo>
                  <a:lnTo>
                    <a:pt x="903" y="0"/>
                  </a:lnTo>
                  <a:lnTo>
                    <a:pt x="897" y="1"/>
                  </a:lnTo>
                  <a:lnTo>
                    <a:pt x="894" y="4"/>
                  </a:lnTo>
                  <a:lnTo>
                    <a:pt x="891" y="10"/>
                  </a:lnTo>
                  <a:lnTo>
                    <a:pt x="890" y="15"/>
                  </a:lnTo>
                  <a:lnTo>
                    <a:pt x="891" y="19"/>
                  </a:lnTo>
                  <a:lnTo>
                    <a:pt x="894" y="22"/>
                  </a:lnTo>
                  <a:lnTo>
                    <a:pt x="899" y="23"/>
                  </a:lnTo>
                  <a:lnTo>
                    <a:pt x="903" y="22"/>
                  </a:lnTo>
                  <a:lnTo>
                    <a:pt x="899" y="38"/>
                  </a:lnTo>
                  <a:lnTo>
                    <a:pt x="894" y="48"/>
                  </a:lnTo>
                  <a:lnTo>
                    <a:pt x="885" y="73"/>
                  </a:lnTo>
                  <a:lnTo>
                    <a:pt x="871" y="109"/>
                  </a:lnTo>
                  <a:lnTo>
                    <a:pt x="853" y="151"/>
                  </a:lnTo>
                  <a:lnTo>
                    <a:pt x="836" y="197"/>
                  </a:lnTo>
                  <a:lnTo>
                    <a:pt x="820" y="236"/>
                  </a:lnTo>
                  <a:lnTo>
                    <a:pt x="805" y="268"/>
                  </a:lnTo>
                  <a:lnTo>
                    <a:pt x="796" y="287"/>
                  </a:lnTo>
                  <a:lnTo>
                    <a:pt x="792" y="293"/>
                  </a:lnTo>
                  <a:lnTo>
                    <a:pt x="783" y="297"/>
                  </a:lnTo>
                  <a:lnTo>
                    <a:pt x="772" y="303"/>
                  </a:lnTo>
                  <a:lnTo>
                    <a:pt x="756" y="307"/>
                  </a:lnTo>
                  <a:lnTo>
                    <a:pt x="738" y="313"/>
                  </a:lnTo>
                  <a:lnTo>
                    <a:pt x="719" y="317"/>
                  </a:lnTo>
                  <a:lnTo>
                    <a:pt x="697" y="322"/>
                  </a:lnTo>
                  <a:lnTo>
                    <a:pt x="675" y="326"/>
                  </a:lnTo>
                  <a:lnTo>
                    <a:pt x="652" y="330"/>
                  </a:lnTo>
                  <a:lnTo>
                    <a:pt x="627" y="335"/>
                  </a:lnTo>
                  <a:lnTo>
                    <a:pt x="602" y="338"/>
                  </a:lnTo>
                  <a:lnTo>
                    <a:pt x="577" y="341"/>
                  </a:lnTo>
                  <a:lnTo>
                    <a:pt x="552" y="344"/>
                  </a:lnTo>
                  <a:lnTo>
                    <a:pt x="529" y="346"/>
                  </a:lnTo>
                  <a:lnTo>
                    <a:pt x="507" y="348"/>
                  </a:lnTo>
                  <a:lnTo>
                    <a:pt x="487" y="349"/>
                  </a:lnTo>
                  <a:lnTo>
                    <a:pt x="459" y="351"/>
                  </a:lnTo>
                  <a:lnTo>
                    <a:pt x="433" y="354"/>
                  </a:lnTo>
                  <a:lnTo>
                    <a:pt x="405" y="355"/>
                  </a:lnTo>
                  <a:lnTo>
                    <a:pt x="379" y="358"/>
                  </a:lnTo>
                  <a:lnTo>
                    <a:pt x="352" y="360"/>
                  </a:lnTo>
                  <a:lnTo>
                    <a:pt x="326" y="362"/>
                  </a:lnTo>
                  <a:lnTo>
                    <a:pt x="300" y="365"/>
                  </a:lnTo>
                  <a:lnTo>
                    <a:pt x="272" y="367"/>
                  </a:lnTo>
                  <a:lnTo>
                    <a:pt x="246" y="370"/>
                  </a:lnTo>
                  <a:lnTo>
                    <a:pt x="220" y="371"/>
                  </a:lnTo>
                  <a:lnTo>
                    <a:pt x="193" y="373"/>
                  </a:lnTo>
                  <a:lnTo>
                    <a:pt x="165" y="374"/>
                  </a:lnTo>
                  <a:lnTo>
                    <a:pt x="139" y="374"/>
                  </a:lnTo>
                  <a:lnTo>
                    <a:pt x="113" y="376"/>
                  </a:lnTo>
                  <a:lnTo>
                    <a:pt x="85" y="376"/>
                  </a:lnTo>
                  <a:lnTo>
                    <a:pt x="57" y="374"/>
                  </a:lnTo>
                  <a:lnTo>
                    <a:pt x="54" y="374"/>
                  </a:lnTo>
                  <a:lnTo>
                    <a:pt x="47" y="374"/>
                  </a:lnTo>
                  <a:lnTo>
                    <a:pt x="38" y="373"/>
                  </a:lnTo>
                  <a:lnTo>
                    <a:pt x="30" y="370"/>
                  </a:lnTo>
                  <a:lnTo>
                    <a:pt x="24" y="365"/>
                  </a:lnTo>
                  <a:lnTo>
                    <a:pt x="24" y="358"/>
                  </a:lnTo>
                  <a:lnTo>
                    <a:pt x="27" y="351"/>
                  </a:lnTo>
                  <a:lnTo>
                    <a:pt x="33" y="342"/>
                  </a:lnTo>
                  <a:lnTo>
                    <a:pt x="38" y="333"/>
                  </a:lnTo>
                  <a:lnTo>
                    <a:pt x="47" y="325"/>
                  </a:lnTo>
                  <a:lnTo>
                    <a:pt x="54" y="316"/>
                  </a:lnTo>
                  <a:lnTo>
                    <a:pt x="60" y="310"/>
                  </a:lnTo>
                  <a:lnTo>
                    <a:pt x="65" y="304"/>
                  </a:lnTo>
                  <a:lnTo>
                    <a:pt x="69" y="298"/>
                  </a:lnTo>
                  <a:lnTo>
                    <a:pt x="73" y="293"/>
                  </a:lnTo>
                  <a:lnTo>
                    <a:pt x="79" y="288"/>
                  </a:lnTo>
                  <a:lnTo>
                    <a:pt x="87" y="280"/>
                  </a:lnTo>
                  <a:lnTo>
                    <a:pt x="88" y="271"/>
                  </a:lnTo>
                  <a:lnTo>
                    <a:pt x="85" y="266"/>
                  </a:lnTo>
                  <a:lnTo>
                    <a:pt x="73" y="266"/>
                  </a:lnTo>
                  <a:lnTo>
                    <a:pt x="72" y="269"/>
                  </a:lnTo>
                  <a:lnTo>
                    <a:pt x="66" y="277"/>
                  </a:lnTo>
                  <a:lnTo>
                    <a:pt x="57" y="287"/>
                  </a:lnTo>
                  <a:lnTo>
                    <a:pt x="47" y="298"/>
                  </a:lnTo>
                  <a:lnTo>
                    <a:pt x="36" y="313"/>
                  </a:lnTo>
                  <a:lnTo>
                    <a:pt x="24" y="326"/>
                  </a:lnTo>
                  <a:lnTo>
                    <a:pt x="14" y="339"/>
                  </a:lnTo>
                  <a:lnTo>
                    <a:pt x="3" y="3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49480" y="3607920"/>
              <a:ext cx="243360" cy="241560"/>
            </a:xfrm>
            <a:custGeom>
              <a:avLst/>
              <a:gdLst/>
              <a:ahLst/>
              <a:rect l="l" t="t" r="r" b="b"/>
              <a:pathLst>
                <a:path w="503" h="545">
                  <a:moveTo>
                    <a:pt x="0" y="38"/>
                  </a:moveTo>
                  <a:lnTo>
                    <a:pt x="3" y="42"/>
                  </a:lnTo>
                  <a:lnTo>
                    <a:pt x="12" y="44"/>
                  </a:lnTo>
                  <a:lnTo>
                    <a:pt x="25" y="44"/>
                  </a:lnTo>
                  <a:lnTo>
                    <a:pt x="43" y="42"/>
                  </a:lnTo>
                  <a:lnTo>
                    <a:pt x="66" y="40"/>
                  </a:lnTo>
                  <a:lnTo>
                    <a:pt x="91" y="37"/>
                  </a:lnTo>
                  <a:lnTo>
                    <a:pt x="120" y="34"/>
                  </a:lnTo>
                  <a:lnTo>
                    <a:pt x="151" y="31"/>
                  </a:lnTo>
                  <a:lnTo>
                    <a:pt x="183" y="28"/>
                  </a:lnTo>
                  <a:lnTo>
                    <a:pt x="216" y="25"/>
                  </a:lnTo>
                  <a:lnTo>
                    <a:pt x="250" y="25"/>
                  </a:lnTo>
                  <a:lnTo>
                    <a:pt x="284" y="26"/>
                  </a:lnTo>
                  <a:lnTo>
                    <a:pt x="316" y="29"/>
                  </a:lnTo>
                  <a:lnTo>
                    <a:pt x="348" y="35"/>
                  </a:lnTo>
                  <a:lnTo>
                    <a:pt x="377" y="42"/>
                  </a:lnTo>
                  <a:lnTo>
                    <a:pt x="403" y="54"/>
                  </a:lnTo>
                  <a:lnTo>
                    <a:pt x="433" y="109"/>
                  </a:lnTo>
                  <a:lnTo>
                    <a:pt x="453" y="166"/>
                  </a:lnTo>
                  <a:lnTo>
                    <a:pt x="465" y="226"/>
                  </a:lnTo>
                  <a:lnTo>
                    <a:pt x="471" y="286"/>
                  </a:lnTo>
                  <a:lnTo>
                    <a:pt x="471" y="347"/>
                  </a:lnTo>
                  <a:lnTo>
                    <a:pt x="466" y="408"/>
                  </a:lnTo>
                  <a:lnTo>
                    <a:pt x="456" y="468"/>
                  </a:lnTo>
                  <a:lnTo>
                    <a:pt x="444" y="527"/>
                  </a:lnTo>
                  <a:lnTo>
                    <a:pt x="444" y="532"/>
                  </a:lnTo>
                  <a:lnTo>
                    <a:pt x="446" y="537"/>
                  </a:lnTo>
                  <a:lnTo>
                    <a:pt x="449" y="542"/>
                  </a:lnTo>
                  <a:lnTo>
                    <a:pt x="453" y="545"/>
                  </a:lnTo>
                  <a:lnTo>
                    <a:pt x="457" y="545"/>
                  </a:lnTo>
                  <a:lnTo>
                    <a:pt x="462" y="543"/>
                  </a:lnTo>
                  <a:lnTo>
                    <a:pt x="466" y="542"/>
                  </a:lnTo>
                  <a:lnTo>
                    <a:pt x="469" y="537"/>
                  </a:lnTo>
                  <a:lnTo>
                    <a:pt x="488" y="460"/>
                  </a:lnTo>
                  <a:lnTo>
                    <a:pt x="500" y="382"/>
                  </a:lnTo>
                  <a:lnTo>
                    <a:pt x="503" y="305"/>
                  </a:lnTo>
                  <a:lnTo>
                    <a:pt x="498" y="226"/>
                  </a:lnTo>
                  <a:lnTo>
                    <a:pt x="495" y="198"/>
                  </a:lnTo>
                  <a:lnTo>
                    <a:pt x="491" y="171"/>
                  </a:lnTo>
                  <a:lnTo>
                    <a:pt x="485" y="143"/>
                  </a:lnTo>
                  <a:lnTo>
                    <a:pt x="476" y="115"/>
                  </a:lnTo>
                  <a:lnTo>
                    <a:pt x="466" y="89"/>
                  </a:lnTo>
                  <a:lnTo>
                    <a:pt x="453" y="64"/>
                  </a:lnTo>
                  <a:lnTo>
                    <a:pt x="437" y="41"/>
                  </a:lnTo>
                  <a:lnTo>
                    <a:pt x="416" y="21"/>
                  </a:lnTo>
                  <a:lnTo>
                    <a:pt x="399" y="15"/>
                  </a:lnTo>
                  <a:lnTo>
                    <a:pt x="381" y="10"/>
                  </a:lnTo>
                  <a:lnTo>
                    <a:pt x="362" y="6"/>
                  </a:lnTo>
                  <a:lnTo>
                    <a:pt x="345" y="3"/>
                  </a:lnTo>
                  <a:lnTo>
                    <a:pt x="326" y="2"/>
                  </a:lnTo>
                  <a:lnTo>
                    <a:pt x="308" y="0"/>
                  </a:lnTo>
                  <a:lnTo>
                    <a:pt x="289" y="0"/>
                  </a:lnTo>
                  <a:lnTo>
                    <a:pt x="272" y="0"/>
                  </a:lnTo>
                  <a:lnTo>
                    <a:pt x="253" y="2"/>
                  </a:lnTo>
                  <a:lnTo>
                    <a:pt x="232" y="2"/>
                  </a:lnTo>
                  <a:lnTo>
                    <a:pt x="212" y="3"/>
                  </a:lnTo>
                  <a:lnTo>
                    <a:pt x="190" y="6"/>
                  </a:lnTo>
                  <a:lnTo>
                    <a:pt x="167" y="8"/>
                  </a:lnTo>
                  <a:lnTo>
                    <a:pt x="145" y="9"/>
                  </a:lnTo>
                  <a:lnTo>
                    <a:pt x="123" y="12"/>
                  </a:lnTo>
                  <a:lnTo>
                    <a:pt x="101" y="15"/>
                  </a:lnTo>
                  <a:lnTo>
                    <a:pt x="81" y="16"/>
                  </a:lnTo>
                  <a:lnTo>
                    <a:pt x="62" y="19"/>
                  </a:lnTo>
                  <a:lnTo>
                    <a:pt x="44" y="22"/>
                  </a:lnTo>
                  <a:lnTo>
                    <a:pt x="29" y="25"/>
                  </a:lnTo>
                  <a:lnTo>
                    <a:pt x="18" y="28"/>
                  </a:lnTo>
                  <a:lnTo>
                    <a:pt x="9" y="32"/>
                  </a:lnTo>
                  <a:lnTo>
                    <a:pt x="3" y="3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51920" y="3655440"/>
              <a:ext cx="272160" cy="177120"/>
            </a:xfrm>
            <a:custGeom>
              <a:avLst/>
              <a:gdLst/>
              <a:ahLst/>
              <a:rect l="l" t="t" r="r" b="b"/>
              <a:pathLst>
                <a:path w="562" h="403">
                  <a:moveTo>
                    <a:pt x="279" y="377"/>
                  </a:moveTo>
                  <a:lnTo>
                    <a:pt x="260" y="378"/>
                  </a:lnTo>
                  <a:lnTo>
                    <a:pt x="235" y="378"/>
                  </a:lnTo>
                  <a:lnTo>
                    <a:pt x="206" y="377"/>
                  </a:lnTo>
                  <a:lnTo>
                    <a:pt x="174" y="374"/>
                  </a:lnTo>
                  <a:lnTo>
                    <a:pt x="142" y="367"/>
                  </a:lnTo>
                  <a:lnTo>
                    <a:pt x="111" y="356"/>
                  </a:lnTo>
                  <a:lnTo>
                    <a:pt x="83" y="339"/>
                  </a:lnTo>
                  <a:lnTo>
                    <a:pt x="63" y="317"/>
                  </a:lnTo>
                  <a:lnTo>
                    <a:pt x="50" y="257"/>
                  </a:lnTo>
                  <a:lnTo>
                    <a:pt x="41" y="199"/>
                  </a:lnTo>
                  <a:lnTo>
                    <a:pt x="32" y="139"/>
                  </a:lnTo>
                  <a:lnTo>
                    <a:pt x="26" y="80"/>
                  </a:lnTo>
                  <a:lnTo>
                    <a:pt x="29" y="69"/>
                  </a:lnTo>
                  <a:lnTo>
                    <a:pt x="35" y="62"/>
                  </a:lnTo>
                  <a:lnTo>
                    <a:pt x="43" y="56"/>
                  </a:lnTo>
                  <a:lnTo>
                    <a:pt x="50" y="52"/>
                  </a:lnTo>
                  <a:lnTo>
                    <a:pt x="59" y="48"/>
                  </a:lnTo>
                  <a:lnTo>
                    <a:pt x="67" y="45"/>
                  </a:lnTo>
                  <a:lnTo>
                    <a:pt x="78" y="43"/>
                  </a:lnTo>
                  <a:lnTo>
                    <a:pt x="86" y="42"/>
                  </a:lnTo>
                  <a:lnTo>
                    <a:pt x="95" y="40"/>
                  </a:lnTo>
                  <a:lnTo>
                    <a:pt x="117" y="40"/>
                  </a:lnTo>
                  <a:lnTo>
                    <a:pt x="137" y="39"/>
                  </a:lnTo>
                  <a:lnTo>
                    <a:pt x="159" y="37"/>
                  </a:lnTo>
                  <a:lnTo>
                    <a:pt x="180" y="36"/>
                  </a:lnTo>
                  <a:lnTo>
                    <a:pt x="200" y="35"/>
                  </a:lnTo>
                  <a:lnTo>
                    <a:pt x="222" y="35"/>
                  </a:lnTo>
                  <a:lnTo>
                    <a:pt x="243" y="33"/>
                  </a:lnTo>
                  <a:lnTo>
                    <a:pt x="265" y="32"/>
                  </a:lnTo>
                  <a:lnTo>
                    <a:pt x="285" y="30"/>
                  </a:lnTo>
                  <a:lnTo>
                    <a:pt x="305" y="29"/>
                  </a:lnTo>
                  <a:lnTo>
                    <a:pt x="327" y="29"/>
                  </a:lnTo>
                  <a:lnTo>
                    <a:pt x="348" y="29"/>
                  </a:lnTo>
                  <a:lnTo>
                    <a:pt x="370" y="29"/>
                  </a:lnTo>
                  <a:lnTo>
                    <a:pt x="392" y="29"/>
                  </a:lnTo>
                  <a:lnTo>
                    <a:pt x="412" y="29"/>
                  </a:lnTo>
                  <a:lnTo>
                    <a:pt x="434" y="30"/>
                  </a:lnTo>
                  <a:lnTo>
                    <a:pt x="440" y="30"/>
                  </a:lnTo>
                  <a:lnTo>
                    <a:pt x="446" y="29"/>
                  </a:lnTo>
                  <a:lnTo>
                    <a:pt x="451" y="26"/>
                  </a:lnTo>
                  <a:lnTo>
                    <a:pt x="456" y="21"/>
                  </a:lnTo>
                  <a:lnTo>
                    <a:pt x="460" y="20"/>
                  </a:lnTo>
                  <a:lnTo>
                    <a:pt x="462" y="16"/>
                  </a:lnTo>
                  <a:lnTo>
                    <a:pt x="463" y="11"/>
                  </a:lnTo>
                  <a:lnTo>
                    <a:pt x="462" y="7"/>
                  </a:lnTo>
                  <a:lnTo>
                    <a:pt x="460" y="3"/>
                  </a:lnTo>
                  <a:lnTo>
                    <a:pt x="456" y="1"/>
                  </a:lnTo>
                  <a:lnTo>
                    <a:pt x="451" y="0"/>
                  </a:lnTo>
                  <a:lnTo>
                    <a:pt x="447" y="1"/>
                  </a:lnTo>
                  <a:lnTo>
                    <a:pt x="425" y="1"/>
                  </a:lnTo>
                  <a:lnTo>
                    <a:pt x="403" y="1"/>
                  </a:lnTo>
                  <a:lnTo>
                    <a:pt x="381" y="1"/>
                  </a:lnTo>
                  <a:lnTo>
                    <a:pt x="359" y="3"/>
                  </a:lnTo>
                  <a:lnTo>
                    <a:pt x="338" y="3"/>
                  </a:lnTo>
                  <a:lnTo>
                    <a:pt x="316" y="3"/>
                  </a:lnTo>
                  <a:lnTo>
                    <a:pt x="294" y="4"/>
                  </a:lnTo>
                  <a:lnTo>
                    <a:pt x="272" y="4"/>
                  </a:lnTo>
                  <a:lnTo>
                    <a:pt x="250" y="5"/>
                  </a:lnTo>
                  <a:lnTo>
                    <a:pt x="228" y="5"/>
                  </a:lnTo>
                  <a:lnTo>
                    <a:pt x="206" y="7"/>
                  </a:lnTo>
                  <a:lnTo>
                    <a:pt x="184" y="8"/>
                  </a:lnTo>
                  <a:lnTo>
                    <a:pt x="162" y="8"/>
                  </a:lnTo>
                  <a:lnTo>
                    <a:pt x="140" y="10"/>
                  </a:lnTo>
                  <a:lnTo>
                    <a:pt x="118" y="11"/>
                  </a:lnTo>
                  <a:lnTo>
                    <a:pt x="97" y="13"/>
                  </a:lnTo>
                  <a:lnTo>
                    <a:pt x="83" y="14"/>
                  </a:lnTo>
                  <a:lnTo>
                    <a:pt x="69" y="16"/>
                  </a:lnTo>
                  <a:lnTo>
                    <a:pt x="54" y="19"/>
                  </a:lnTo>
                  <a:lnTo>
                    <a:pt x="41" y="23"/>
                  </a:lnTo>
                  <a:lnTo>
                    <a:pt x="28" y="29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3" y="58"/>
                  </a:lnTo>
                  <a:lnTo>
                    <a:pt x="0" y="77"/>
                  </a:lnTo>
                  <a:lnTo>
                    <a:pt x="0" y="104"/>
                  </a:lnTo>
                  <a:lnTo>
                    <a:pt x="3" y="139"/>
                  </a:lnTo>
                  <a:lnTo>
                    <a:pt x="7" y="179"/>
                  </a:lnTo>
                  <a:lnTo>
                    <a:pt x="13" y="221"/>
                  </a:lnTo>
                  <a:lnTo>
                    <a:pt x="22" y="263"/>
                  </a:lnTo>
                  <a:lnTo>
                    <a:pt x="32" y="301"/>
                  </a:lnTo>
                  <a:lnTo>
                    <a:pt x="44" y="334"/>
                  </a:lnTo>
                  <a:lnTo>
                    <a:pt x="51" y="348"/>
                  </a:lnTo>
                  <a:lnTo>
                    <a:pt x="60" y="359"/>
                  </a:lnTo>
                  <a:lnTo>
                    <a:pt x="70" y="369"/>
                  </a:lnTo>
                  <a:lnTo>
                    <a:pt x="83" y="375"/>
                  </a:lnTo>
                  <a:lnTo>
                    <a:pt x="107" y="383"/>
                  </a:lnTo>
                  <a:lnTo>
                    <a:pt x="130" y="388"/>
                  </a:lnTo>
                  <a:lnTo>
                    <a:pt x="154" y="393"/>
                  </a:lnTo>
                  <a:lnTo>
                    <a:pt x="177" y="396"/>
                  </a:lnTo>
                  <a:lnTo>
                    <a:pt x="200" y="399"/>
                  </a:lnTo>
                  <a:lnTo>
                    <a:pt x="224" y="400"/>
                  </a:lnTo>
                  <a:lnTo>
                    <a:pt x="248" y="401"/>
                  </a:lnTo>
                  <a:lnTo>
                    <a:pt x="272" y="403"/>
                  </a:lnTo>
                  <a:lnTo>
                    <a:pt x="292" y="403"/>
                  </a:lnTo>
                  <a:lnTo>
                    <a:pt x="313" y="400"/>
                  </a:lnTo>
                  <a:lnTo>
                    <a:pt x="333" y="397"/>
                  </a:lnTo>
                  <a:lnTo>
                    <a:pt x="352" y="393"/>
                  </a:lnTo>
                  <a:lnTo>
                    <a:pt x="373" y="387"/>
                  </a:lnTo>
                  <a:lnTo>
                    <a:pt x="393" y="383"/>
                  </a:lnTo>
                  <a:lnTo>
                    <a:pt x="412" y="380"/>
                  </a:lnTo>
                  <a:lnTo>
                    <a:pt x="432" y="378"/>
                  </a:lnTo>
                  <a:lnTo>
                    <a:pt x="449" y="378"/>
                  </a:lnTo>
                  <a:lnTo>
                    <a:pt x="469" y="377"/>
                  </a:lnTo>
                  <a:lnTo>
                    <a:pt x="491" y="374"/>
                  </a:lnTo>
                  <a:lnTo>
                    <a:pt x="511" y="371"/>
                  </a:lnTo>
                  <a:lnTo>
                    <a:pt x="532" y="368"/>
                  </a:lnTo>
                  <a:lnTo>
                    <a:pt x="548" y="362"/>
                  </a:lnTo>
                  <a:lnTo>
                    <a:pt x="558" y="355"/>
                  </a:lnTo>
                  <a:lnTo>
                    <a:pt x="562" y="346"/>
                  </a:lnTo>
                  <a:lnTo>
                    <a:pt x="554" y="343"/>
                  </a:lnTo>
                  <a:lnTo>
                    <a:pt x="542" y="342"/>
                  </a:lnTo>
                  <a:lnTo>
                    <a:pt x="526" y="342"/>
                  </a:lnTo>
                  <a:lnTo>
                    <a:pt x="508" y="342"/>
                  </a:lnTo>
                  <a:lnTo>
                    <a:pt x="488" y="343"/>
                  </a:lnTo>
                  <a:lnTo>
                    <a:pt x="468" y="346"/>
                  </a:lnTo>
                  <a:lnTo>
                    <a:pt x="444" y="349"/>
                  </a:lnTo>
                  <a:lnTo>
                    <a:pt x="422" y="352"/>
                  </a:lnTo>
                  <a:lnTo>
                    <a:pt x="399" y="356"/>
                  </a:lnTo>
                  <a:lnTo>
                    <a:pt x="377" y="361"/>
                  </a:lnTo>
                  <a:lnTo>
                    <a:pt x="355" y="364"/>
                  </a:lnTo>
                  <a:lnTo>
                    <a:pt x="335" y="368"/>
                  </a:lnTo>
                  <a:lnTo>
                    <a:pt x="317" y="371"/>
                  </a:lnTo>
                  <a:lnTo>
                    <a:pt x="301" y="374"/>
                  </a:lnTo>
                  <a:lnTo>
                    <a:pt x="288" y="375"/>
                  </a:lnTo>
                  <a:lnTo>
                    <a:pt x="279" y="3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8160" y="3660840"/>
              <a:ext cx="39240" cy="120240"/>
            </a:xfrm>
            <a:custGeom>
              <a:avLst/>
              <a:gdLst/>
              <a:ahLst/>
              <a:rect l="l" t="t" r="r" b="b"/>
              <a:pathLst>
                <a:path w="77" h="268">
                  <a:moveTo>
                    <a:pt x="6" y="26"/>
                  </a:moveTo>
                  <a:lnTo>
                    <a:pt x="25" y="51"/>
                  </a:lnTo>
                  <a:lnTo>
                    <a:pt x="36" y="79"/>
                  </a:lnTo>
                  <a:lnTo>
                    <a:pt x="42" y="108"/>
                  </a:lnTo>
                  <a:lnTo>
                    <a:pt x="45" y="137"/>
                  </a:lnTo>
                  <a:lnTo>
                    <a:pt x="47" y="168"/>
                  </a:lnTo>
                  <a:lnTo>
                    <a:pt x="47" y="198"/>
                  </a:lnTo>
                  <a:lnTo>
                    <a:pt x="48" y="227"/>
                  </a:lnTo>
                  <a:lnTo>
                    <a:pt x="53" y="255"/>
                  </a:lnTo>
                  <a:lnTo>
                    <a:pt x="54" y="261"/>
                  </a:lnTo>
                  <a:lnTo>
                    <a:pt x="57" y="264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0" y="267"/>
                  </a:lnTo>
                  <a:lnTo>
                    <a:pt x="74" y="262"/>
                  </a:lnTo>
                  <a:lnTo>
                    <a:pt x="76" y="259"/>
                  </a:lnTo>
                  <a:lnTo>
                    <a:pt x="77" y="253"/>
                  </a:lnTo>
                  <a:lnTo>
                    <a:pt x="74" y="221"/>
                  </a:lnTo>
                  <a:lnTo>
                    <a:pt x="74" y="186"/>
                  </a:lnTo>
                  <a:lnTo>
                    <a:pt x="74" y="150"/>
                  </a:lnTo>
                  <a:lnTo>
                    <a:pt x="73" y="115"/>
                  </a:lnTo>
                  <a:lnTo>
                    <a:pt x="69" y="80"/>
                  </a:lnTo>
                  <a:lnTo>
                    <a:pt x="58" y="48"/>
                  </a:lnTo>
                  <a:lnTo>
                    <a:pt x="41" y="22"/>
                  </a:lnTo>
                  <a:lnTo>
                    <a:pt x="15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3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94400" y="3772800"/>
              <a:ext cx="43560" cy="27720"/>
            </a:xfrm>
            <a:custGeom>
              <a:avLst/>
              <a:gdLst/>
              <a:ahLst/>
              <a:rect l="l" t="t" r="r" b="b"/>
              <a:pathLst>
                <a:path w="91" h="63">
                  <a:moveTo>
                    <a:pt x="76" y="63"/>
                  </a:moveTo>
                  <a:lnTo>
                    <a:pt x="81" y="63"/>
                  </a:lnTo>
                  <a:lnTo>
                    <a:pt x="85" y="61"/>
                  </a:lnTo>
                  <a:lnTo>
                    <a:pt x="88" y="60"/>
                  </a:lnTo>
                  <a:lnTo>
                    <a:pt x="89" y="57"/>
                  </a:lnTo>
                  <a:lnTo>
                    <a:pt x="91" y="52"/>
                  </a:lnTo>
                  <a:lnTo>
                    <a:pt x="89" y="48"/>
                  </a:lnTo>
                  <a:lnTo>
                    <a:pt x="88" y="45"/>
                  </a:lnTo>
                  <a:lnTo>
                    <a:pt x="84" y="44"/>
                  </a:lnTo>
                  <a:lnTo>
                    <a:pt x="72" y="38"/>
                  </a:lnTo>
                  <a:lnTo>
                    <a:pt x="60" y="31"/>
                  </a:lnTo>
                  <a:lnTo>
                    <a:pt x="47" y="22"/>
                  </a:lnTo>
                  <a:lnTo>
                    <a:pt x="35" y="13"/>
                  </a:lnTo>
                  <a:lnTo>
                    <a:pt x="24" y="7"/>
                  </a:lnTo>
                  <a:lnTo>
                    <a:pt x="13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6"/>
                  </a:lnTo>
                  <a:lnTo>
                    <a:pt x="5" y="13"/>
                  </a:lnTo>
                  <a:lnTo>
                    <a:pt x="13" y="22"/>
                  </a:lnTo>
                  <a:lnTo>
                    <a:pt x="25" y="31"/>
                  </a:lnTo>
                  <a:lnTo>
                    <a:pt x="38" y="39"/>
                  </a:lnTo>
                  <a:lnTo>
                    <a:pt x="51" y="48"/>
                  </a:lnTo>
                  <a:lnTo>
                    <a:pt x="65" y="57"/>
                  </a:lnTo>
                  <a:lnTo>
                    <a:pt x="7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16000" y="3764520"/>
              <a:ext cx="46440" cy="28800"/>
            </a:xfrm>
            <a:custGeom>
              <a:avLst/>
              <a:gdLst/>
              <a:ahLst/>
              <a:rect l="l" t="t" r="r" b="b"/>
              <a:pathLst>
                <a:path w="96" h="66">
                  <a:moveTo>
                    <a:pt x="84" y="65"/>
                  </a:moveTo>
                  <a:lnTo>
                    <a:pt x="87" y="66"/>
                  </a:lnTo>
                  <a:lnTo>
                    <a:pt x="90" y="66"/>
                  </a:lnTo>
                  <a:lnTo>
                    <a:pt x="93" y="65"/>
                  </a:lnTo>
                  <a:lnTo>
                    <a:pt x="95" y="62"/>
                  </a:lnTo>
                  <a:lnTo>
                    <a:pt x="96" y="59"/>
                  </a:lnTo>
                  <a:lnTo>
                    <a:pt x="96" y="54"/>
                  </a:lnTo>
                  <a:lnTo>
                    <a:pt x="95" y="51"/>
                  </a:lnTo>
                  <a:lnTo>
                    <a:pt x="92" y="50"/>
                  </a:lnTo>
                  <a:lnTo>
                    <a:pt x="80" y="43"/>
                  </a:lnTo>
                  <a:lnTo>
                    <a:pt x="65" y="34"/>
                  </a:lnTo>
                  <a:lnTo>
                    <a:pt x="52" y="24"/>
                  </a:lnTo>
                  <a:lnTo>
                    <a:pt x="38" y="15"/>
                  </a:lnTo>
                  <a:lnTo>
                    <a:pt x="24" y="8"/>
                  </a:lnTo>
                  <a:lnTo>
                    <a:pt x="13" y="3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5" y="14"/>
                  </a:lnTo>
                  <a:lnTo>
                    <a:pt x="14" y="22"/>
                  </a:lnTo>
                  <a:lnTo>
                    <a:pt x="27" y="31"/>
                  </a:lnTo>
                  <a:lnTo>
                    <a:pt x="41" y="41"/>
                  </a:lnTo>
                  <a:lnTo>
                    <a:pt x="57" y="50"/>
                  </a:lnTo>
                  <a:lnTo>
                    <a:pt x="71" y="59"/>
                  </a:lnTo>
                  <a:lnTo>
                    <a:pt x="8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13120" y="3731040"/>
              <a:ext cx="100440" cy="75240"/>
            </a:xfrm>
            <a:custGeom>
              <a:avLst/>
              <a:gdLst/>
              <a:ahLst/>
              <a:rect l="l" t="t" r="r" b="b"/>
              <a:pathLst>
                <a:path w="206" h="172">
                  <a:moveTo>
                    <a:pt x="190" y="168"/>
                  </a:moveTo>
                  <a:lnTo>
                    <a:pt x="193" y="171"/>
                  </a:lnTo>
                  <a:lnTo>
                    <a:pt x="195" y="172"/>
                  </a:lnTo>
                  <a:lnTo>
                    <a:pt x="200" y="172"/>
                  </a:lnTo>
                  <a:lnTo>
                    <a:pt x="203" y="171"/>
                  </a:lnTo>
                  <a:lnTo>
                    <a:pt x="204" y="168"/>
                  </a:lnTo>
                  <a:lnTo>
                    <a:pt x="206" y="165"/>
                  </a:lnTo>
                  <a:lnTo>
                    <a:pt x="206" y="161"/>
                  </a:lnTo>
                  <a:lnTo>
                    <a:pt x="204" y="158"/>
                  </a:lnTo>
                  <a:lnTo>
                    <a:pt x="200" y="147"/>
                  </a:lnTo>
                  <a:lnTo>
                    <a:pt x="194" y="137"/>
                  </a:lnTo>
                  <a:lnTo>
                    <a:pt x="188" y="130"/>
                  </a:lnTo>
                  <a:lnTo>
                    <a:pt x="179" y="123"/>
                  </a:lnTo>
                  <a:lnTo>
                    <a:pt x="155" y="105"/>
                  </a:lnTo>
                  <a:lnTo>
                    <a:pt x="127" y="83"/>
                  </a:lnTo>
                  <a:lnTo>
                    <a:pt x="98" y="63"/>
                  </a:lnTo>
                  <a:lnTo>
                    <a:pt x="70" y="41"/>
                  </a:lnTo>
                  <a:lnTo>
                    <a:pt x="45" y="24"/>
                  </a:lnTo>
                  <a:lnTo>
                    <a:pt x="23" y="9"/>
                  </a:lnTo>
                  <a:lnTo>
                    <a:pt x="9" y="2"/>
                  </a:lnTo>
                  <a:lnTo>
                    <a:pt x="0" y="0"/>
                  </a:lnTo>
                  <a:lnTo>
                    <a:pt x="3" y="8"/>
                  </a:lnTo>
                  <a:lnTo>
                    <a:pt x="17" y="22"/>
                  </a:lnTo>
                  <a:lnTo>
                    <a:pt x="41" y="41"/>
                  </a:lnTo>
                  <a:lnTo>
                    <a:pt x="68" y="64"/>
                  </a:lnTo>
                  <a:lnTo>
                    <a:pt x="101" y="91"/>
                  </a:lnTo>
                  <a:lnTo>
                    <a:pt x="134" y="118"/>
                  </a:lnTo>
                  <a:lnTo>
                    <a:pt x="163" y="145"/>
                  </a:lnTo>
                  <a:lnTo>
                    <a:pt x="19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88520" y="3539520"/>
              <a:ext cx="57960" cy="256680"/>
            </a:xfrm>
            <a:custGeom>
              <a:avLst/>
              <a:gdLst/>
              <a:ahLst/>
              <a:rect l="l" t="t" r="r" b="b"/>
              <a:pathLst>
                <a:path w="122" h="584">
                  <a:moveTo>
                    <a:pt x="37" y="584"/>
                  </a:moveTo>
                  <a:lnTo>
                    <a:pt x="57" y="562"/>
                  </a:lnTo>
                  <a:lnTo>
                    <a:pt x="73" y="543"/>
                  </a:lnTo>
                  <a:lnTo>
                    <a:pt x="85" y="523"/>
                  </a:lnTo>
                  <a:lnTo>
                    <a:pt x="95" y="504"/>
                  </a:lnTo>
                  <a:lnTo>
                    <a:pt x="101" y="483"/>
                  </a:lnTo>
                  <a:lnTo>
                    <a:pt x="107" y="462"/>
                  </a:lnTo>
                  <a:lnTo>
                    <a:pt x="113" y="437"/>
                  </a:lnTo>
                  <a:lnTo>
                    <a:pt x="119" y="408"/>
                  </a:lnTo>
                  <a:lnTo>
                    <a:pt x="120" y="400"/>
                  </a:lnTo>
                  <a:lnTo>
                    <a:pt x="122" y="395"/>
                  </a:lnTo>
                  <a:lnTo>
                    <a:pt x="122" y="387"/>
                  </a:lnTo>
                  <a:lnTo>
                    <a:pt x="120" y="381"/>
                  </a:lnTo>
                  <a:lnTo>
                    <a:pt x="111" y="344"/>
                  </a:lnTo>
                  <a:lnTo>
                    <a:pt x="101" y="297"/>
                  </a:lnTo>
                  <a:lnTo>
                    <a:pt x="91" y="245"/>
                  </a:lnTo>
                  <a:lnTo>
                    <a:pt x="78" y="191"/>
                  </a:lnTo>
                  <a:lnTo>
                    <a:pt x="65" y="137"/>
                  </a:lnTo>
                  <a:lnTo>
                    <a:pt x="50" y="86"/>
                  </a:lnTo>
                  <a:lnTo>
                    <a:pt x="37" y="42"/>
                  </a:lnTo>
                  <a:lnTo>
                    <a:pt x="22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2" y="7"/>
                  </a:lnTo>
                  <a:lnTo>
                    <a:pt x="0" y="10"/>
                  </a:lnTo>
                  <a:lnTo>
                    <a:pt x="2" y="15"/>
                  </a:lnTo>
                  <a:lnTo>
                    <a:pt x="16" y="47"/>
                  </a:lnTo>
                  <a:lnTo>
                    <a:pt x="33" y="93"/>
                  </a:lnTo>
                  <a:lnTo>
                    <a:pt x="49" y="150"/>
                  </a:lnTo>
                  <a:lnTo>
                    <a:pt x="65" y="211"/>
                  </a:lnTo>
                  <a:lnTo>
                    <a:pt x="78" y="272"/>
                  </a:lnTo>
                  <a:lnTo>
                    <a:pt x="90" y="326"/>
                  </a:lnTo>
                  <a:lnTo>
                    <a:pt x="98" y="370"/>
                  </a:lnTo>
                  <a:lnTo>
                    <a:pt x="101" y="397"/>
                  </a:lnTo>
                  <a:lnTo>
                    <a:pt x="98" y="418"/>
                  </a:lnTo>
                  <a:lnTo>
                    <a:pt x="94" y="435"/>
                  </a:lnTo>
                  <a:lnTo>
                    <a:pt x="91" y="451"/>
                  </a:lnTo>
                  <a:lnTo>
                    <a:pt x="87" y="467"/>
                  </a:lnTo>
                  <a:lnTo>
                    <a:pt x="81" y="483"/>
                  </a:lnTo>
                  <a:lnTo>
                    <a:pt x="73" y="501"/>
                  </a:lnTo>
                  <a:lnTo>
                    <a:pt x="65" y="520"/>
                  </a:lnTo>
                  <a:lnTo>
                    <a:pt x="53" y="540"/>
                  </a:lnTo>
                  <a:lnTo>
                    <a:pt x="53" y="536"/>
                  </a:lnTo>
                  <a:lnTo>
                    <a:pt x="54" y="518"/>
                  </a:lnTo>
                  <a:lnTo>
                    <a:pt x="53" y="502"/>
                  </a:lnTo>
                  <a:lnTo>
                    <a:pt x="43" y="495"/>
                  </a:lnTo>
                  <a:lnTo>
                    <a:pt x="35" y="510"/>
                  </a:lnTo>
                  <a:lnTo>
                    <a:pt x="34" y="540"/>
                  </a:lnTo>
                  <a:lnTo>
                    <a:pt x="35" y="571"/>
                  </a:lnTo>
                  <a:lnTo>
                    <a:pt x="37" y="5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54800" y="3540960"/>
              <a:ext cx="99000" cy="65520"/>
            </a:xfrm>
            <a:custGeom>
              <a:avLst/>
              <a:gdLst/>
              <a:ahLst/>
              <a:rect l="l" t="t" r="r" b="b"/>
              <a:pathLst>
                <a:path w="203" h="149">
                  <a:moveTo>
                    <a:pt x="203" y="0"/>
                  </a:moveTo>
                  <a:lnTo>
                    <a:pt x="184" y="5"/>
                  </a:lnTo>
                  <a:lnTo>
                    <a:pt x="155" y="19"/>
                  </a:lnTo>
                  <a:lnTo>
                    <a:pt x="120" y="43"/>
                  </a:lnTo>
                  <a:lnTo>
                    <a:pt x="82" y="69"/>
                  </a:lnTo>
                  <a:lnTo>
                    <a:pt x="48" y="96"/>
                  </a:lnTo>
                  <a:lnTo>
                    <a:pt x="19" y="121"/>
                  </a:lnTo>
                  <a:lnTo>
                    <a:pt x="3" y="140"/>
                  </a:lnTo>
                  <a:lnTo>
                    <a:pt x="0" y="149"/>
                  </a:lnTo>
                  <a:lnTo>
                    <a:pt x="19" y="143"/>
                  </a:lnTo>
                  <a:lnTo>
                    <a:pt x="42" y="131"/>
                  </a:lnTo>
                  <a:lnTo>
                    <a:pt x="72" y="114"/>
                  </a:lnTo>
                  <a:lnTo>
                    <a:pt x="102" y="92"/>
                  </a:lnTo>
                  <a:lnTo>
                    <a:pt x="133" y="69"/>
                  </a:lnTo>
                  <a:lnTo>
                    <a:pt x="161" y="45"/>
                  </a:lnTo>
                  <a:lnTo>
                    <a:pt x="185" y="2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72880" y="3508920"/>
              <a:ext cx="213840" cy="64080"/>
            </a:xfrm>
            <a:custGeom>
              <a:avLst/>
              <a:gdLst/>
              <a:ahLst/>
              <a:rect l="l" t="t" r="r" b="b"/>
              <a:pathLst>
                <a:path w="441" h="145">
                  <a:moveTo>
                    <a:pt x="441" y="24"/>
                  </a:moveTo>
                  <a:lnTo>
                    <a:pt x="437" y="18"/>
                  </a:lnTo>
                  <a:lnTo>
                    <a:pt x="425" y="13"/>
                  </a:lnTo>
                  <a:lnTo>
                    <a:pt x="406" y="8"/>
                  </a:lnTo>
                  <a:lnTo>
                    <a:pt x="381" y="4"/>
                  </a:lnTo>
                  <a:lnTo>
                    <a:pt x="352" y="2"/>
                  </a:lnTo>
                  <a:lnTo>
                    <a:pt x="318" y="1"/>
                  </a:lnTo>
                  <a:lnTo>
                    <a:pt x="282" y="0"/>
                  </a:lnTo>
                  <a:lnTo>
                    <a:pt x="244" y="0"/>
                  </a:lnTo>
                  <a:lnTo>
                    <a:pt x="206" y="1"/>
                  </a:lnTo>
                  <a:lnTo>
                    <a:pt x="168" y="2"/>
                  </a:lnTo>
                  <a:lnTo>
                    <a:pt x="131" y="5"/>
                  </a:lnTo>
                  <a:lnTo>
                    <a:pt x="96" y="8"/>
                  </a:lnTo>
                  <a:lnTo>
                    <a:pt x="66" y="11"/>
                  </a:lnTo>
                  <a:lnTo>
                    <a:pt x="41" y="16"/>
                  </a:lnTo>
                  <a:lnTo>
                    <a:pt x="20" y="20"/>
                  </a:lnTo>
                  <a:lnTo>
                    <a:pt x="7" y="26"/>
                  </a:lnTo>
                  <a:lnTo>
                    <a:pt x="3" y="30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6" y="46"/>
                  </a:lnTo>
                  <a:lnTo>
                    <a:pt x="10" y="49"/>
                  </a:lnTo>
                  <a:lnTo>
                    <a:pt x="15" y="49"/>
                  </a:lnTo>
                  <a:lnTo>
                    <a:pt x="19" y="48"/>
                  </a:lnTo>
                  <a:lnTo>
                    <a:pt x="28" y="45"/>
                  </a:lnTo>
                  <a:lnTo>
                    <a:pt x="41" y="42"/>
                  </a:lnTo>
                  <a:lnTo>
                    <a:pt x="58" y="37"/>
                  </a:lnTo>
                  <a:lnTo>
                    <a:pt x="80" y="35"/>
                  </a:lnTo>
                  <a:lnTo>
                    <a:pt x="105" y="30"/>
                  </a:lnTo>
                  <a:lnTo>
                    <a:pt x="133" y="27"/>
                  </a:lnTo>
                  <a:lnTo>
                    <a:pt x="162" y="24"/>
                  </a:lnTo>
                  <a:lnTo>
                    <a:pt x="194" y="21"/>
                  </a:lnTo>
                  <a:lnTo>
                    <a:pt x="226" y="18"/>
                  </a:lnTo>
                  <a:lnTo>
                    <a:pt x="257" y="17"/>
                  </a:lnTo>
                  <a:lnTo>
                    <a:pt x="289" y="16"/>
                  </a:lnTo>
                  <a:lnTo>
                    <a:pt x="320" y="16"/>
                  </a:lnTo>
                  <a:lnTo>
                    <a:pt x="347" y="17"/>
                  </a:lnTo>
                  <a:lnTo>
                    <a:pt x="374" y="20"/>
                  </a:lnTo>
                  <a:lnTo>
                    <a:pt x="396" y="24"/>
                  </a:lnTo>
                  <a:lnTo>
                    <a:pt x="415" y="30"/>
                  </a:lnTo>
                  <a:lnTo>
                    <a:pt x="412" y="35"/>
                  </a:lnTo>
                  <a:lnTo>
                    <a:pt x="403" y="48"/>
                  </a:lnTo>
                  <a:lnTo>
                    <a:pt x="390" y="65"/>
                  </a:lnTo>
                  <a:lnTo>
                    <a:pt x="377" y="85"/>
                  </a:lnTo>
                  <a:lnTo>
                    <a:pt x="362" y="106"/>
                  </a:lnTo>
                  <a:lnTo>
                    <a:pt x="352" y="125"/>
                  </a:lnTo>
                  <a:lnTo>
                    <a:pt x="346" y="138"/>
                  </a:lnTo>
                  <a:lnTo>
                    <a:pt x="346" y="145"/>
                  </a:lnTo>
                  <a:lnTo>
                    <a:pt x="353" y="144"/>
                  </a:lnTo>
                  <a:lnTo>
                    <a:pt x="365" y="135"/>
                  </a:lnTo>
                  <a:lnTo>
                    <a:pt x="380" y="120"/>
                  </a:lnTo>
                  <a:lnTo>
                    <a:pt x="396" y="101"/>
                  </a:lnTo>
                  <a:lnTo>
                    <a:pt x="412" y="81"/>
                  </a:lnTo>
                  <a:lnTo>
                    <a:pt x="426" y="61"/>
                  </a:lnTo>
                  <a:lnTo>
                    <a:pt x="437" y="40"/>
                  </a:lnTo>
                  <a:lnTo>
                    <a:pt x="44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13760" y="3617640"/>
              <a:ext cx="321840" cy="255600"/>
            </a:xfrm>
            <a:custGeom>
              <a:avLst/>
              <a:gdLst/>
              <a:ahLst/>
              <a:rect l="l" t="t" r="r" b="b"/>
              <a:pathLst>
                <a:path w="665" h="578">
                  <a:moveTo>
                    <a:pt x="54" y="14"/>
                  </a:moveTo>
                  <a:lnTo>
                    <a:pt x="31" y="33"/>
                  </a:lnTo>
                  <a:lnTo>
                    <a:pt x="15" y="56"/>
                  </a:lnTo>
                  <a:lnTo>
                    <a:pt x="6" y="81"/>
                  </a:lnTo>
                  <a:lnTo>
                    <a:pt x="2" y="110"/>
                  </a:lnTo>
                  <a:lnTo>
                    <a:pt x="0" y="139"/>
                  </a:lnTo>
                  <a:lnTo>
                    <a:pt x="0" y="169"/>
                  </a:lnTo>
                  <a:lnTo>
                    <a:pt x="3" y="198"/>
                  </a:lnTo>
                  <a:lnTo>
                    <a:pt x="5" y="225"/>
                  </a:lnTo>
                  <a:lnTo>
                    <a:pt x="13" y="265"/>
                  </a:lnTo>
                  <a:lnTo>
                    <a:pt x="24" y="302"/>
                  </a:lnTo>
                  <a:lnTo>
                    <a:pt x="32" y="340"/>
                  </a:lnTo>
                  <a:lnTo>
                    <a:pt x="43" y="378"/>
                  </a:lnTo>
                  <a:lnTo>
                    <a:pt x="53" y="417"/>
                  </a:lnTo>
                  <a:lnTo>
                    <a:pt x="63" y="455"/>
                  </a:lnTo>
                  <a:lnTo>
                    <a:pt x="73" y="496"/>
                  </a:lnTo>
                  <a:lnTo>
                    <a:pt x="85" y="535"/>
                  </a:lnTo>
                  <a:lnTo>
                    <a:pt x="91" y="547"/>
                  </a:lnTo>
                  <a:lnTo>
                    <a:pt x="101" y="557"/>
                  </a:lnTo>
                  <a:lnTo>
                    <a:pt x="113" y="566"/>
                  </a:lnTo>
                  <a:lnTo>
                    <a:pt x="127" y="570"/>
                  </a:lnTo>
                  <a:lnTo>
                    <a:pt x="158" y="575"/>
                  </a:lnTo>
                  <a:lnTo>
                    <a:pt x="190" y="578"/>
                  </a:lnTo>
                  <a:lnTo>
                    <a:pt x="224" y="578"/>
                  </a:lnTo>
                  <a:lnTo>
                    <a:pt x="257" y="578"/>
                  </a:lnTo>
                  <a:lnTo>
                    <a:pt x="291" y="576"/>
                  </a:lnTo>
                  <a:lnTo>
                    <a:pt x="326" y="575"/>
                  </a:lnTo>
                  <a:lnTo>
                    <a:pt x="360" y="570"/>
                  </a:lnTo>
                  <a:lnTo>
                    <a:pt x="395" y="566"/>
                  </a:lnTo>
                  <a:lnTo>
                    <a:pt x="430" y="562"/>
                  </a:lnTo>
                  <a:lnTo>
                    <a:pt x="463" y="557"/>
                  </a:lnTo>
                  <a:lnTo>
                    <a:pt x="498" y="551"/>
                  </a:lnTo>
                  <a:lnTo>
                    <a:pt x="530" y="546"/>
                  </a:lnTo>
                  <a:lnTo>
                    <a:pt x="564" y="541"/>
                  </a:lnTo>
                  <a:lnTo>
                    <a:pt x="596" y="535"/>
                  </a:lnTo>
                  <a:lnTo>
                    <a:pt x="627" y="531"/>
                  </a:lnTo>
                  <a:lnTo>
                    <a:pt x="658" y="527"/>
                  </a:lnTo>
                  <a:lnTo>
                    <a:pt x="662" y="525"/>
                  </a:lnTo>
                  <a:lnTo>
                    <a:pt x="663" y="522"/>
                  </a:lnTo>
                  <a:lnTo>
                    <a:pt x="665" y="519"/>
                  </a:lnTo>
                  <a:lnTo>
                    <a:pt x="665" y="515"/>
                  </a:lnTo>
                  <a:lnTo>
                    <a:pt x="663" y="511"/>
                  </a:lnTo>
                  <a:lnTo>
                    <a:pt x="662" y="508"/>
                  </a:lnTo>
                  <a:lnTo>
                    <a:pt x="658" y="506"/>
                  </a:lnTo>
                  <a:lnTo>
                    <a:pt x="653" y="506"/>
                  </a:lnTo>
                  <a:lnTo>
                    <a:pt x="622" y="508"/>
                  </a:lnTo>
                  <a:lnTo>
                    <a:pt x="592" y="509"/>
                  </a:lnTo>
                  <a:lnTo>
                    <a:pt x="558" y="514"/>
                  </a:lnTo>
                  <a:lnTo>
                    <a:pt x="526" y="518"/>
                  </a:lnTo>
                  <a:lnTo>
                    <a:pt x="491" y="522"/>
                  </a:lnTo>
                  <a:lnTo>
                    <a:pt x="457" y="528"/>
                  </a:lnTo>
                  <a:lnTo>
                    <a:pt x="422" y="534"/>
                  </a:lnTo>
                  <a:lnTo>
                    <a:pt x="389" y="538"/>
                  </a:lnTo>
                  <a:lnTo>
                    <a:pt x="354" y="543"/>
                  </a:lnTo>
                  <a:lnTo>
                    <a:pt x="319" y="547"/>
                  </a:lnTo>
                  <a:lnTo>
                    <a:pt x="285" y="550"/>
                  </a:lnTo>
                  <a:lnTo>
                    <a:pt x="250" y="551"/>
                  </a:lnTo>
                  <a:lnTo>
                    <a:pt x="218" y="551"/>
                  </a:lnTo>
                  <a:lnTo>
                    <a:pt x="184" y="549"/>
                  </a:lnTo>
                  <a:lnTo>
                    <a:pt x="154" y="546"/>
                  </a:lnTo>
                  <a:lnTo>
                    <a:pt x="123" y="538"/>
                  </a:lnTo>
                  <a:lnTo>
                    <a:pt x="119" y="537"/>
                  </a:lnTo>
                  <a:lnTo>
                    <a:pt x="116" y="533"/>
                  </a:lnTo>
                  <a:lnTo>
                    <a:pt x="113" y="530"/>
                  </a:lnTo>
                  <a:lnTo>
                    <a:pt x="111" y="525"/>
                  </a:lnTo>
                  <a:lnTo>
                    <a:pt x="101" y="486"/>
                  </a:lnTo>
                  <a:lnTo>
                    <a:pt x="91" y="448"/>
                  </a:lnTo>
                  <a:lnTo>
                    <a:pt x="79" y="410"/>
                  </a:lnTo>
                  <a:lnTo>
                    <a:pt x="69" y="374"/>
                  </a:lnTo>
                  <a:lnTo>
                    <a:pt x="60" y="336"/>
                  </a:lnTo>
                  <a:lnTo>
                    <a:pt x="51" y="300"/>
                  </a:lnTo>
                  <a:lnTo>
                    <a:pt x="43" y="262"/>
                  </a:lnTo>
                  <a:lnTo>
                    <a:pt x="35" y="224"/>
                  </a:lnTo>
                  <a:lnTo>
                    <a:pt x="31" y="185"/>
                  </a:lnTo>
                  <a:lnTo>
                    <a:pt x="30" y="144"/>
                  </a:lnTo>
                  <a:lnTo>
                    <a:pt x="31" y="104"/>
                  </a:lnTo>
                  <a:lnTo>
                    <a:pt x="38" y="65"/>
                  </a:lnTo>
                  <a:lnTo>
                    <a:pt x="56" y="49"/>
                  </a:lnTo>
                  <a:lnTo>
                    <a:pt x="78" y="39"/>
                  </a:lnTo>
                  <a:lnTo>
                    <a:pt x="103" y="33"/>
                  </a:lnTo>
                  <a:lnTo>
                    <a:pt x="129" y="29"/>
                  </a:lnTo>
                  <a:lnTo>
                    <a:pt x="155" y="27"/>
                  </a:lnTo>
                  <a:lnTo>
                    <a:pt x="180" y="23"/>
                  </a:lnTo>
                  <a:lnTo>
                    <a:pt x="202" y="17"/>
                  </a:lnTo>
                  <a:lnTo>
                    <a:pt x="219" y="7"/>
                  </a:lnTo>
                  <a:lnTo>
                    <a:pt x="215" y="3"/>
                  </a:lnTo>
                  <a:lnTo>
                    <a:pt x="202" y="0"/>
                  </a:lnTo>
                  <a:lnTo>
                    <a:pt x="181" y="0"/>
                  </a:lnTo>
                  <a:lnTo>
                    <a:pt x="157" y="1"/>
                  </a:lnTo>
                  <a:lnTo>
                    <a:pt x="130" y="4"/>
                  </a:lnTo>
                  <a:lnTo>
                    <a:pt x="103" y="8"/>
                  </a:lnTo>
                  <a:lnTo>
                    <a:pt x="76" y="11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33840" y="3613680"/>
              <a:ext cx="50760" cy="193680"/>
            </a:xfrm>
            <a:custGeom>
              <a:avLst/>
              <a:gdLst/>
              <a:ahLst/>
              <a:rect l="l" t="t" r="r" b="b"/>
              <a:pathLst>
                <a:path w="103" h="438">
                  <a:moveTo>
                    <a:pt x="26" y="62"/>
                  </a:moveTo>
                  <a:lnTo>
                    <a:pt x="13" y="106"/>
                  </a:lnTo>
                  <a:lnTo>
                    <a:pt x="4" y="153"/>
                  </a:lnTo>
                  <a:lnTo>
                    <a:pt x="0" y="199"/>
                  </a:lnTo>
                  <a:lnTo>
                    <a:pt x="0" y="247"/>
                  </a:lnTo>
                  <a:lnTo>
                    <a:pt x="4" y="294"/>
                  </a:lnTo>
                  <a:lnTo>
                    <a:pt x="13" y="341"/>
                  </a:lnTo>
                  <a:lnTo>
                    <a:pt x="26" y="386"/>
                  </a:lnTo>
                  <a:lnTo>
                    <a:pt x="44" y="429"/>
                  </a:lnTo>
                  <a:lnTo>
                    <a:pt x="46" y="434"/>
                  </a:lnTo>
                  <a:lnTo>
                    <a:pt x="51" y="437"/>
                  </a:lnTo>
                  <a:lnTo>
                    <a:pt x="55" y="438"/>
                  </a:lnTo>
                  <a:lnTo>
                    <a:pt x="61" y="437"/>
                  </a:lnTo>
                  <a:lnTo>
                    <a:pt x="65" y="434"/>
                  </a:lnTo>
                  <a:lnTo>
                    <a:pt x="68" y="429"/>
                  </a:lnTo>
                  <a:lnTo>
                    <a:pt x="68" y="424"/>
                  </a:lnTo>
                  <a:lnTo>
                    <a:pt x="67" y="419"/>
                  </a:lnTo>
                  <a:lnTo>
                    <a:pt x="55" y="370"/>
                  </a:lnTo>
                  <a:lnTo>
                    <a:pt x="42" y="314"/>
                  </a:lnTo>
                  <a:lnTo>
                    <a:pt x="33" y="258"/>
                  </a:lnTo>
                  <a:lnTo>
                    <a:pt x="29" y="201"/>
                  </a:lnTo>
                  <a:lnTo>
                    <a:pt x="30" y="145"/>
                  </a:lnTo>
                  <a:lnTo>
                    <a:pt x="42" y="93"/>
                  </a:lnTo>
                  <a:lnTo>
                    <a:pt x="65" y="45"/>
                  </a:lnTo>
                  <a:lnTo>
                    <a:pt x="103" y="3"/>
                  </a:lnTo>
                  <a:lnTo>
                    <a:pt x="93" y="0"/>
                  </a:lnTo>
                  <a:lnTo>
                    <a:pt x="83" y="1"/>
                  </a:lnTo>
                  <a:lnTo>
                    <a:pt x="71" y="7"/>
                  </a:lnTo>
                  <a:lnTo>
                    <a:pt x="60" y="16"/>
                  </a:lnTo>
                  <a:lnTo>
                    <a:pt x="49" y="26"/>
                  </a:lnTo>
                  <a:lnTo>
                    <a:pt x="39" y="39"/>
                  </a:lnTo>
                  <a:lnTo>
                    <a:pt x="32" y="51"/>
                  </a:lnTo>
                  <a:lnTo>
                    <a:pt x="2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85600" y="3637440"/>
              <a:ext cx="39240" cy="128160"/>
            </a:xfrm>
            <a:custGeom>
              <a:avLst/>
              <a:gdLst/>
              <a:ahLst/>
              <a:rect l="l" t="t" r="r" b="b"/>
              <a:pathLst>
                <a:path w="67" h="291">
                  <a:moveTo>
                    <a:pt x="15" y="281"/>
                  </a:moveTo>
                  <a:lnTo>
                    <a:pt x="19" y="287"/>
                  </a:lnTo>
                  <a:lnTo>
                    <a:pt x="25" y="290"/>
                  </a:lnTo>
                  <a:lnTo>
                    <a:pt x="32" y="291"/>
                  </a:lnTo>
                  <a:lnTo>
                    <a:pt x="39" y="290"/>
                  </a:lnTo>
                  <a:lnTo>
                    <a:pt x="45" y="286"/>
                  </a:lnTo>
                  <a:lnTo>
                    <a:pt x="48" y="280"/>
                  </a:lnTo>
                  <a:lnTo>
                    <a:pt x="50" y="272"/>
                  </a:lnTo>
                  <a:lnTo>
                    <a:pt x="48" y="265"/>
                  </a:lnTo>
                  <a:lnTo>
                    <a:pt x="41" y="230"/>
                  </a:lnTo>
                  <a:lnTo>
                    <a:pt x="39" y="189"/>
                  </a:lnTo>
                  <a:lnTo>
                    <a:pt x="44" y="147"/>
                  </a:lnTo>
                  <a:lnTo>
                    <a:pt x="50" y="104"/>
                  </a:lnTo>
                  <a:lnTo>
                    <a:pt x="57" y="64"/>
                  </a:lnTo>
                  <a:lnTo>
                    <a:pt x="64" y="31"/>
                  </a:lnTo>
                  <a:lnTo>
                    <a:pt x="67" y="9"/>
                  </a:lnTo>
                  <a:lnTo>
                    <a:pt x="64" y="0"/>
                  </a:lnTo>
                  <a:lnTo>
                    <a:pt x="51" y="15"/>
                  </a:lnTo>
                  <a:lnTo>
                    <a:pt x="36" y="41"/>
                  </a:lnTo>
                  <a:lnTo>
                    <a:pt x="23" y="76"/>
                  </a:lnTo>
                  <a:lnTo>
                    <a:pt x="12" y="117"/>
                  </a:lnTo>
                  <a:lnTo>
                    <a:pt x="4" y="160"/>
                  </a:lnTo>
                  <a:lnTo>
                    <a:pt x="0" y="204"/>
                  </a:lnTo>
                  <a:lnTo>
                    <a:pt x="4" y="245"/>
                  </a:lnTo>
                  <a:lnTo>
                    <a:pt x="15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55480" y="3547800"/>
              <a:ext cx="84240" cy="182880"/>
            </a:xfrm>
            <a:custGeom>
              <a:avLst/>
              <a:gdLst/>
              <a:ahLst/>
              <a:rect l="l" t="t" r="r" b="b"/>
              <a:pathLst>
                <a:path w="176" h="413">
                  <a:moveTo>
                    <a:pt x="0" y="6"/>
                  </a:moveTo>
                  <a:lnTo>
                    <a:pt x="17" y="25"/>
                  </a:lnTo>
                  <a:lnTo>
                    <a:pt x="35" y="45"/>
                  </a:lnTo>
                  <a:lnTo>
                    <a:pt x="51" y="65"/>
                  </a:lnTo>
                  <a:lnTo>
                    <a:pt x="67" y="87"/>
                  </a:lnTo>
                  <a:lnTo>
                    <a:pt x="81" y="109"/>
                  </a:lnTo>
                  <a:lnTo>
                    <a:pt x="96" y="131"/>
                  </a:lnTo>
                  <a:lnTo>
                    <a:pt x="108" y="154"/>
                  </a:lnTo>
                  <a:lnTo>
                    <a:pt x="119" y="178"/>
                  </a:lnTo>
                  <a:lnTo>
                    <a:pt x="138" y="231"/>
                  </a:lnTo>
                  <a:lnTo>
                    <a:pt x="149" y="285"/>
                  </a:lnTo>
                  <a:lnTo>
                    <a:pt x="150" y="342"/>
                  </a:lnTo>
                  <a:lnTo>
                    <a:pt x="143" y="400"/>
                  </a:lnTo>
                  <a:lnTo>
                    <a:pt x="143" y="406"/>
                  </a:lnTo>
                  <a:lnTo>
                    <a:pt x="144" y="409"/>
                  </a:lnTo>
                  <a:lnTo>
                    <a:pt x="149" y="412"/>
                  </a:lnTo>
                  <a:lnTo>
                    <a:pt x="153" y="413"/>
                  </a:lnTo>
                  <a:lnTo>
                    <a:pt x="157" y="413"/>
                  </a:lnTo>
                  <a:lnTo>
                    <a:pt x="162" y="412"/>
                  </a:lnTo>
                  <a:lnTo>
                    <a:pt x="165" y="409"/>
                  </a:lnTo>
                  <a:lnTo>
                    <a:pt x="166" y="405"/>
                  </a:lnTo>
                  <a:lnTo>
                    <a:pt x="176" y="346"/>
                  </a:lnTo>
                  <a:lnTo>
                    <a:pt x="176" y="290"/>
                  </a:lnTo>
                  <a:lnTo>
                    <a:pt x="165" y="234"/>
                  </a:lnTo>
                  <a:lnTo>
                    <a:pt x="146" y="182"/>
                  </a:lnTo>
                  <a:lnTo>
                    <a:pt x="119" y="131"/>
                  </a:lnTo>
                  <a:lnTo>
                    <a:pt x="86" y="83"/>
                  </a:lnTo>
                  <a:lnTo>
                    <a:pt x="48" y="39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32880" y="3566160"/>
              <a:ext cx="39240" cy="72360"/>
            </a:xfrm>
            <a:custGeom>
              <a:avLst/>
              <a:gdLst/>
              <a:ahLst/>
              <a:rect l="l" t="t" r="r" b="b"/>
              <a:pathLst>
                <a:path w="78" h="165">
                  <a:moveTo>
                    <a:pt x="53" y="154"/>
                  </a:moveTo>
                  <a:lnTo>
                    <a:pt x="54" y="159"/>
                  </a:lnTo>
                  <a:lnTo>
                    <a:pt x="57" y="163"/>
                  </a:lnTo>
                  <a:lnTo>
                    <a:pt x="60" y="165"/>
                  </a:lnTo>
                  <a:lnTo>
                    <a:pt x="66" y="165"/>
                  </a:lnTo>
                  <a:lnTo>
                    <a:pt x="70" y="163"/>
                  </a:lnTo>
                  <a:lnTo>
                    <a:pt x="75" y="160"/>
                  </a:lnTo>
                  <a:lnTo>
                    <a:pt x="76" y="157"/>
                  </a:lnTo>
                  <a:lnTo>
                    <a:pt x="78" y="152"/>
                  </a:lnTo>
                  <a:lnTo>
                    <a:pt x="75" y="127"/>
                  </a:lnTo>
                  <a:lnTo>
                    <a:pt x="66" y="101"/>
                  </a:lnTo>
                  <a:lnTo>
                    <a:pt x="56" y="74"/>
                  </a:lnTo>
                  <a:lnTo>
                    <a:pt x="43" y="50"/>
                  </a:lnTo>
                  <a:lnTo>
                    <a:pt x="30" y="28"/>
                  </a:lnTo>
                  <a:lnTo>
                    <a:pt x="1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10"/>
                  </a:lnTo>
                  <a:lnTo>
                    <a:pt x="11" y="25"/>
                  </a:lnTo>
                  <a:lnTo>
                    <a:pt x="19" y="44"/>
                  </a:lnTo>
                  <a:lnTo>
                    <a:pt x="30" y="64"/>
                  </a:lnTo>
                  <a:lnTo>
                    <a:pt x="38" y="86"/>
                  </a:lnTo>
                  <a:lnTo>
                    <a:pt x="47" y="109"/>
                  </a:lnTo>
                  <a:lnTo>
                    <a:pt x="51" y="133"/>
                  </a:lnTo>
                  <a:lnTo>
                    <a:pt x="53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0520" y="3930840"/>
              <a:ext cx="627840" cy="185400"/>
            </a:xfrm>
            <a:custGeom>
              <a:avLst/>
              <a:gdLst/>
              <a:ahLst/>
              <a:rect l="l" t="t" r="r" b="b"/>
              <a:pathLst>
                <a:path w="1291" h="419">
                  <a:moveTo>
                    <a:pt x="1291" y="0"/>
                  </a:moveTo>
                  <a:lnTo>
                    <a:pt x="1273" y="5"/>
                  </a:lnTo>
                  <a:lnTo>
                    <a:pt x="1251" y="11"/>
                  </a:lnTo>
                  <a:lnTo>
                    <a:pt x="1228" y="17"/>
                  </a:lnTo>
                  <a:lnTo>
                    <a:pt x="1203" y="23"/>
                  </a:lnTo>
                  <a:lnTo>
                    <a:pt x="1174" y="29"/>
                  </a:lnTo>
                  <a:lnTo>
                    <a:pt x="1143" y="35"/>
                  </a:lnTo>
                  <a:lnTo>
                    <a:pt x="1111" y="40"/>
                  </a:lnTo>
                  <a:lnTo>
                    <a:pt x="1077" y="46"/>
                  </a:lnTo>
                  <a:lnTo>
                    <a:pt x="1041" y="52"/>
                  </a:lnTo>
                  <a:lnTo>
                    <a:pt x="1003" y="56"/>
                  </a:lnTo>
                  <a:lnTo>
                    <a:pt x="965" y="62"/>
                  </a:lnTo>
                  <a:lnTo>
                    <a:pt x="924" y="68"/>
                  </a:lnTo>
                  <a:lnTo>
                    <a:pt x="883" y="72"/>
                  </a:lnTo>
                  <a:lnTo>
                    <a:pt x="842" y="78"/>
                  </a:lnTo>
                  <a:lnTo>
                    <a:pt x="798" y="83"/>
                  </a:lnTo>
                  <a:lnTo>
                    <a:pt x="756" y="87"/>
                  </a:lnTo>
                  <a:lnTo>
                    <a:pt x="712" y="91"/>
                  </a:lnTo>
                  <a:lnTo>
                    <a:pt x="668" y="96"/>
                  </a:lnTo>
                  <a:lnTo>
                    <a:pt x="625" y="100"/>
                  </a:lnTo>
                  <a:lnTo>
                    <a:pt x="581" y="105"/>
                  </a:lnTo>
                  <a:lnTo>
                    <a:pt x="538" y="107"/>
                  </a:lnTo>
                  <a:lnTo>
                    <a:pt x="496" y="112"/>
                  </a:lnTo>
                  <a:lnTo>
                    <a:pt x="454" y="115"/>
                  </a:lnTo>
                  <a:lnTo>
                    <a:pt x="411" y="118"/>
                  </a:lnTo>
                  <a:lnTo>
                    <a:pt x="372" y="121"/>
                  </a:lnTo>
                  <a:lnTo>
                    <a:pt x="332" y="123"/>
                  </a:lnTo>
                  <a:lnTo>
                    <a:pt x="293" y="126"/>
                  </a:lnTo>
                  <a:lnTo>
                    <a:pt x="257" y="129"/>
                  </a:lnTo>
                  <a:lnTo>
                    <a:pt x="221" y="131"/>
                  </a:lnTo>
                  <a:lnTo>
                    <a:pt x="189" y="132"/>
                  </a:lnTo>
                  <a:lnTo>
                    <a:pt x="157" y="134"/>
                  </a:lnTo>
                  <a:lnTo>
                    <a:pt x="128" y="135"/>
                  </a:lnTo>
                  <a:lnTo>
                    <a:pt x="112" y="158"/>
                  </a:lnTo>
                  <a:lnTo>
                    <a:pt x="89" y="193"/>
                  </a:lnTo>
                  <a:lnTo>
                    <a:pt x="64" y="237"/>
                  </a:lnTo>
                  <a:lnTo>
                    <a:pt x="39" y="284"/>
                  </a:lnTo>
                  <a:lnTo>
                    <a:pt x="17" y="330"/>
                  </a:lnTo>
                  <a:lnTo>
                    <a:pt x="4" y="371"/>
                  </a:lnTo>
                  <a:lnTo>
                    <a:pt x="0" y="402"/>
                  </a:lnTo>
                  <a:lnTo>
                    <a:pt x="8" y="419"/>
                  </a:lnTo>
                  <a:lnTo>
                    <a:pt x="18" y="416"/>
                  </a:lnTo>
                  <a:lnTo>
                    <a:pt x="33" y="412"/>
                  </a:lnTo>
                  <a:lnTo>
                    <a:pt x="51" y="409"/>
                  </a:lnTo>
                  <a:lnTo>
                    <a:pt x="74" y="403"/>
                  </a:lnTo>
                  <a:lnTo>
                    <a:pt x="100" y="399"/>
                  </a:lnTo>
                  <a:lnTo>
                    <a:pt x="129" y="394"/>
                  </a:lnTo>
                  <a:lnTo>
                    <a:pt x="162" y="388"/>
                  </a:lnTo>
                  <a:lnTo>
                    <a:pt x="197" y="383"/>
                  </a:lnTo>
                  <a:lnTo>
                    <a:pt x="235" y="377"/>
                  </a:lnTo>
                  <a:lnTo>
                    <a:pt x="274" y="371"/>
                  </a:lnTo>
                  <a:lnTo>
                    <a:pt x="315" y="365"/>
                  </a:lnTo>
                  <a:lnTo>
                    <a:pt x="359" y="359"/>
                  </a:lnTo>
                  <a:lnTo>
                    <a:pt x="404" y="355"/>
                  </a:lnTo>
                  <a:lnTo>
                    <a:pt x="449" y="349"/>
                  </a:lnTo>
                  <a:lnTo>
                    <a:pt x="496" y="343"/>
                  </a:lnTo>
                  <a:lnTo>
                    <a:pt x="544" y="339"/>
                  </a:lnTo>
                  <a:lnTo>
                    <a:pt x="591" y="335"/>
                  </a:lnTo>
                  <a:lnTo>
                    <a:pt x="639" y="330"/>
                  </a:lnTo>
                  <a:lnTo>
                    <a:pt x="686" y="326"/>
                  </a:lnTo>
                  <a:lnTo>
                    <a:pt x="733" y="323"/>
                  </a:lnTo>
                  <a:lnTo>
                    <a:pt x="779" y="320"/>
                  </a:lnTo>
                  <a:lnTo>
                    <a:pt x="825" y="319"/>
                  </a:lnTo>
                  <a:lnTo>
                    <a:pt x="867" y="317"/>
                  </a:lnTo>
                  <a:lnTo>
                    <a:pt x="909" y="317"/>
                  </a:lnTo>
                  <a:lnTo>
                    <a:pt x="949" y="317"/>
                  </a:lnTo>
                  <a:lnTo>
                    <a:pt x="987" y="317"/>
                  </a:lnTo>
                  <a:lnTo>
                    <a:pt x="1022" y="320"/>
                  </a:lnTo>
                  <a:lnTo>
                    <a:pt x="1055" y="323"/>
                  </a:lnTo>
                  <a:lnTo>
                    <a:pt x="1085" y="326"/>
                  </a:lnTo>
                  <a:lnTo>
                    <a:pt x="1111" y="332"/>
                  </a:lnTo>
                  <a:lnTo>
                    <a:pt x="1133" y="337"/>
                  </a:lnTo>
                  <a:lnTo>
                    <a:pt x="1152" y="345"/>
                  </a:lnTo>
                  <a:lnTo>
                    <a:pt x="1166" y="308"/>
                  </a:lnTo>
                  <a:lnTo>
                    <a:pt x="1182" y="262"/>
                  </a:lnTo>
                  <a:lnTo>
                    <a:pt x="1200" y="211"/>
                  </a:lnTo>
                  <a:lnTo>
                    <a:pt x="1218" y="157"/>
                  </a:lnTo>
                  <a:lnTo>
                    <a:pt x="1235" y="105"/>
                  </a:lnTo>
                  <a:lnTo>
                    <a:pt x="1253" y="58"/>
                  </a:lnTo>
                  <a:lnTo>
                    <a:pt x="1272" y="22"/>
                  </a:lnTo>
                  <a:lnTo>
                    <a:pt x="1291" y="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36720" y="3929400"/>
              <a:ext cx="556560" cy="190080"/>
            </a:xfrm>
            <a:custGeom>
              <a:avLst/>
              <a:gdLst/>
              <a:ahLst/>
              <a:rect l="l" t="t" r="r" b="b"/>
              <a:pathLst>
                <a:path w="1148" h="431">
                  <a:moveTo>
                    <a:pt x="1074" y="5"/>
                  </a:moveTo>
                  <a:lnTo>
                    <a:pt x="1079" y="2"/>
                  </a:lnTo>
                  <a:lnTo>
                    <a:pt x="1085" y="0"/>
                  </a:lnTo>
                  <a:lnTo>
                    <a:pt x="1090" y="0"/>
                  </a:lnTo>
                  <a:lnTo>
                    <a:pt x="1095" y="2"/>
                  </a:lnTo>
                  <a:lnTo>
                    <a:pt x="1148" y="101"/>
                  </a:lnTo>
                  <a:lnTo>
                    <a:pt x="1142" y="110"/>
                  </a:lnTo>
                  <a:lnTo>
                    <a:pt x="1128" y="131"/>
                  </a:lnTo>
                  <a:lnTo>
                    <a:pt x="1106" y="166"/>
                  </a:lnTo>
                  <a:lnTo>
                    <a:pt x="1079" y="207"/>
                  </a:lnTo>
                  <a:lnTo>
                    <a:pt x="1053" y="254"/>
                  </a:lnTo>
                  <a:lnTo>
                    <a:pt x="1028" y="300"/>
                  </a:lnTo>
                  <a:lnTo>
                    <a:pt x="1006" y="344"/>
                  </a:lnTo>
                  <a:lnTo>
                    <a:pt x="993" y="382"/>
                  </a:lnTo>
                  <a:lnTo>
                    <a:pt x="983" y="383"/>
                  </a:lnTo>
                  <a:lnTo>
                    <a:pt x="968" y="385"/>
                  </a:lnTo>
                  <a:lnTo>
                    <a:pt x="951" y="388"/>
                  </a:lnTo>
                  <a:lnTo>
                    <a:pt x="929" y="389"/>
                  </a:lnTo>
                  <a:lnTo>
                    <a:pt x="903" y="391"/>
                  </a:lnTo>
                  <a:lnTo>
                    <a:pt x="873" y="393"/>
                  </a:lnTo>
                  <a:lnTo>
                    <a:pt x="843" y="395"/>
                  </a:lnTo>
                  <a:lnTo>
                    <a:pt x="809" y="396"/>
                  </a:lnTo>
                  <a:lnTo>
                    <a:pt x="773" y="398"/>
                  </a:lnTo>
                  <a:lnTo>
                    <a:pt x="733" y="401"/>
                  </a:lnTo>
                  <a:lnTo>
                    <a:pt x="694" y="402"/>
                  </a:lnTo>
                  <a:lnTo>
                    <a:pt x="653" y="404"/>
                  </a:lnTo>
                  <a:lnTo>
                    <a:pt x="611" y="405"/>
                  </a:lnTo>
                  <a:lnTo>
                    <a:pt x="567" y="408"/>
                  </a:lnTo>
                  <a:lnTo>
                    <a:pt x="524" y="409"/>
                  </a:lnTo>
                  <a:lnTo>
                    <a:pt x="481" y="411"/>
                  </a:lnTo>
                  <a:lnTo>
                    <a:pt x="437" y="412"/>
                  </a:lnTo>
                  <a:lnTo>
                    <a:pt x="393" y="414"/>
                  </a:lnTo>
                  <a:lnTo>
                    <a:pt x="351" y="415"/>
                  </a:lnTo>
                  <a:lnTo>
                    <a:pt x="310" y="417"/>
                  </a:lnTo>
                  <a:lnTo>
                    <a:pt x="270" y="420"/>
                  </a:lnTo>
                  <a:lnTo>
                    <a:pt x="231" y="421"/>
                  </a:lnTo>
                  <a:lnTo>
                    <a:pt x="194" y="421"/>
                  </a:lnTo>
                  <a:lnTo>
                    <a:pt x="161" y="423"/>
                  </a:lnTo>
                  <a:lnTo>
                    <a:pt x="129" y="424"/>
                  </a:lnTo>
                  <a:lnTo>
                    <a:pt x="99" y="425"/>
                  </a:lnTo>
                  <a:lnTo>
                    <a:pt x="73" y="427"/>
                  </a:lnTo>
                  <a:lnTo>
                    <a:pt x="51" y="428"/>
                  </a:lnTo>
                  <a:lnTo>
                    <a:pt x="32" y="428"/>
                  </a:lnTo>
                  <a:lnTo>
                    <a:pt x="16" y="430"/>
                  </a:lnTo>
                  <a:lnTo>
                    <a:pt x="6" y="430"/>
                  </a:lnTo>
                  <a:lnTo>
                    <a:pt x="0" y="431"/>
                  </a:lnTo>
                  <a:lnTo>
                    <a:pt x="23" y="423"/>
                  </a:lnTo>
                  <a:lnTo>
                    <a:pt x="59" y="414"/>
                  </a:lnTo>
                  <a:lnTo>
                    <a:pt x="104" y="404"/>
                  </a:lnTo>
                  <a:lnTo>
                    <a:pt x="158" y="395"/>
                  </a:lnTo>
                  <a:lnTo>
                    <a:pt x="219" y="385"/>
                  </a:lnTo>
                  <a:lnTo>
                    <a:pt x="286" y="376"/>
                  </a:lnTo>
                  <a:lnTo>
                    <a:pt x="358" y="369"/>
                  </a:lnTo>
                  <a:lnTo>
                    <a:pt x="432" y="361"/>
                  </a:lnTo>
                  <a:lnTo>
                    <a:pt x="507" y="354"/>
                  </a:lnTo>
                  <a:lnTo>
                    <a:pt x="581" y="350"/>
                  </a:lnTo>
                  <a:lnTo>
                    <a:pt x="654" y="345"/>
                  </a:lnTo>
                  <a:lnTo>
                    <a:pt x="724" y="342"/>
                  </a:lnTo>
                  <a:lnTo>
                    <a:pt x="789" y="341"/>
                  </a:lnTo>
                  <a:lnTo>
                    <a:pt x="846" y="342"/>
                  </a:lnTo>
                  <a:lnTo>
                    <a:pt x="895" y="345"/>
                  </a:lnTo>
                  <a:lnTo>
                    <a:pt x="935" y="350"/>
                  </a:lnTo>
                  <a:lnTo>
                    <a:pt x="949" y="313"/>
                  </a:lnTo>
                  <a:lnTo>
                    <a:pt x="965" y="267"/>
                  </a:lnTo>
                  <a:lnTo>
                    <a:pt x="983" y="216"/>
                  </a:lnTo>
                  <a:lnTo>
                    <a:pt x="1001" y="162"/>
                  </a:lnTo>
                  <a:lnTo>
                    <a:pt x="1018" y="110"/>
                  </a:lnTo>
                  <a:lnTo>
                    <a:pt x="1036" y="63"/>
                  </a:lnTo>
                  <a:lnTo>
                    <a:pt x="1055" y="27"/>
                  </a:lnTo>
                  <a:lnTo>
                    <a:pt x="1074" y="5"/>
                  </a:lnTo>
                  <a:close/>
                </a:path>
              </a:pathLst>
            </a:custGeom>
            <a:solidFill>
              <a:srgbClr val="7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03280" y="3933360"/>
              <a:ext cx="43560" cy="96480"/>
            </a:xfrm>
            <a:custGeom>
              <a:avLst/>
              <a:gdLst/>
              <a:ahLst/>
              <a:rect l="l" t="t" r="r" b="b"/>
              <a:pathLst>
                <a:path w="90" h="220">
                  <a:moveTo>
                    <a:pt x="0" y="212"/>
                  </a:moveTo>
                  <a:lnTo>
                    <a:pt x="0" y="215"/>
                  </a:lnTo>
                  <a:lnTo>
                    <a:pt x="1" y="217"/>
                  </a:lnTo>
                  <a:lnTo>
                    <a:pt x="4" y="219"/>
                  </a:lnTo>
                  <a:lnTo>
                    <a:pt x="7" y="220"/>
                  </a:lnTo>
                  <a:lnTo>
                    <a:pt x="10" y="220"/>
                  </a:lnTo>
                  <a:lnTo>
                    <a:pt x="13" y="219"/>
                  </a:lnTo>
                  <a:lnTo>
                    <a:pt x="16" y="216"/>
                  </a:lnTo>
                  <a:lnTo>
                    <a:pt x="17" y="213"/>
                  </a:lnTo>
                  <a:lnTo>
                    <a:pt x="24" y="182"/>
                  </a:lnTo>
                  <a:lnTo>
                    <a:pt x="36" y="149"/>
                  </a:lnTo>
                  <a:lnTo>
                    <a:pt x="49" y="114"/>
                  </a:lnTo>
                  <a:lnTo>
                    <a:pt x="62" y="81"/>
                  </a:lnTo>
                  <a:lnTo>
                    <a:pt x="74" y="50"/>
                  </a:lnTo>
                  <a:lnTo>
                    <a:pt x="84" y="25"/>
                  </a:lnTo>
                  <a:lnTo>
                    <a:pt x="90" y="8"/>
                  </a:lnTo>
                  <a:lnTo>
                    <a:pt x="89" y="0"/>
                  </a:lnTo>
                  <a:lnTo>
                    <a:pt x="81" y="11"/>
                  </a:lnTo>
                  <a:lnTo>
                    <a:pt x="71" y="28"/>
                  </a:lnTo>
                  <a:lnTo>
                    <a:pt x="57" y="53"/>
                  </a:lnTo>
                  <a:lnTo>
                    <a:pt x="42" y="82"/>
                  </a:lnTo>
                  <a:lnTo>
                    <a:pt x="29" y="114"/>
                  </a:lnTo>
                  <a:lnTo>
                    <a:pt x="16" y="148"/>
                  </a:lnTo>
                  <a:lnTo>
                    <a:pt x="5" y="181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28080" y="400608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8"/>
                  </a:moveTo>
                  <a:lnTo>
                    <a:pt x="7" y="42"/>
                  </a:lnTo>
                  <a:lnTo>
                    <a:pt x="13" y="45"/>
                  </a:lnTo>
                  <a:lnTo>
                    <a:pt x="20" y="45"/>
                  </a:lnTo>
                  <a:lnTo>
                    <a:pt x="29" y="45"/>
                  </a:lnTo>
                  <a:lnTo>
                    <a:pt x="38" y="44"/>
                  </a:lnTo>
                  <a:lnTo>
                    <a:pt x="47" y="42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3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58" y="1"/>
                  </a:lnTo>
                  <a:lnTo>
                    <a:pt x="44" y="0"/>
                  </a:lnTo>
                  <a:lnTo>
                    <a:pt x="20" y="1"/>
                  </a:lnTo>
                  <a:lnTo>
                    <a:pt x="12" y="6"/>
                  </a:lnTo>
                  <a:lnTo>
                    <a:pt x="4" y="15"/>
                  </a:lnTo>
                  <a:lnTo>
                    <a:pt x="0" y="26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77400" y="400320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3" y="37"/>
                  </a:moveTo>
                  <a:lnTo>
                    <a:pt x="8" y="41"/>
                  </a:lnTo>
                  <a:lnTo>
                    <a:pt x="13" y="44"/>
                  </a:lnTo>
                  <a:lnTo>
                    <a:pt x="21" y="44"/>
                  </a:lnTo>
                  <a:lnTo>
                    <a:pt x="29" y="44"/>
                  </a:lnTo>
                  <a:lnTo>
                    <a:pt x="38" y="42"/>
                  </a:lnTo>
                  <a:lnTo>
                    <a:pt x="47" y="41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7"/>
                  </a:lnTo>
                  <a:lnTo>
                    <a:pt x="70" y="29"/>
                  </a:lnTo>
                  <a:lnTo>
                    <a:pt x="73" y="22"/>
                  </a:lnTo>
                  <a:lnTo>
                    <a:pt x="73" y="18"/>
                  </a:lnTo>
                  <a:lnTo>
                    <a:pt x="73" y="15"/>
                  </a:lnTo>
                  <a:lnTo>
                    <a:pt x="75" y="12"/>
                  </a:lnTo>
                  <a:lnTo>
                    <a:pt x="76" y="9"/>
                  </a:lnTo>
                  <a:lnTo>
                    <a:pt x="73" y="5"/>
                  </a:lnTo>
                  <a:lnTo>
                    <a:pt x="69" y="2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21" y="2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0" y="25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24200" y="400176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8"/>
                  </a:moveTo>
                  <a:lnTo>
                    <a:pt x="7" y="43"/>
                  </a:lnTo>
                  <a:lnTo>
                    <a:pt x="14" y="45"/>
                  </a:lnTo>
                  <a:lnTo>
                    <a:pt x="22" y="45"/>
                  </a:lnTo>
                  <a:lnTo>
                    <a:pt x="30" y="45"/>
                  </a:lnTo>
                  <a:lnTo>
                    <a:pt x="39" y="44"/>
                  </a:lnTo>
                  <a:lnTo>
                    <a:pt x="48" y="43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4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2"/>
                  </a:lnTo>
                  <a:lnTo>
                    <a:pt x="44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6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79640" y="400320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8"/>
                  </a:moveTo>
                  <a:lnTo>
                    <a:pt x="7" y="42"/>
                  </a:lnTo>
                  <a:lnTo>
                    <a:pt x="14" y="45"/>
                  </a:lnTo>
                  <a:lnTo>
                    <a:pt x="22" y="45"/>
                  </a:lnTo>
                  <a:lnTo>
                    <a:pt x="30" y="45"/>
                  </a:lnTo>
                  <a:lnTo>
                    <a:pt x="39" y="43"/>
                  </a:lnTo>
                  <a:lnTo>
                    <a:pt x="48" y="42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8"/>
                  </a:lnTo>
                  <a:lnTo>
                    <a:pt x="70" y="30"/>
                  </a:lnTo>
                  <a:lnTo>
                    <a:pt x="73" y="22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0840" y="400068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3" y="38"/>
                  </a:moveTo>
                  <a:lnTo>
                    <a:pt x="7" y="43"/>
                  </a:lnTo>
                  <a:lnTo>
                    <a:pt x="13" y="46"/>
                  </a:lnTo>
                  <a:lnTo>
                    <a:pt x="21" y="46"/>
                  </a:lnTo>
                  <a:lnTo>
                    <a:pt x="29" y="46"/>
                  </a:lnTo>
                  <a:lnTo>
                    <a:pt x="38" y="44"/>
                  </a:lnTo>
                  <a:lnTo>
                    <a:pt x="47" y="43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4"/>
                  </a:lnTo>
                  <a:lnTo>
                    <a:pt x="73" y="18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11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59" y="2"/>
                  </a:lnTo>
                  <a:lnTo>
                    <a:pt x="44" y="0"/>
                  </a:lnTo>
                  <a:lnTo>
                    <a:pt x="21" y="2"/>
                  </a:lnTo>
                  <a:lnTo>
                    <a:pt x="12" y="6"/>
                  </a:lnTo>
                  <a:lnTo>
                    <a:pt x="5" y="15"/>
                  </a:lnTo>
                  <a:lnTo>
                    <a:pt x="0" y="2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88720" y="399240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2" y="38"/>
                  </a:moveTo>
                  <a:lnTo>
                    <a:pt x="7" y="42"/>
                  </a:lnTo>
                  <a:lnTo>
                    <a:pt x="14" y="45"/>
                  </a:lnTo>
                  <a:lnTo>
                    <a:pt x="21" y="45"/>
                  </a:lnTo>
                  <a:lnTo>
                    <a:pt x="30" y="45"/>
                  </a:lnTo>
                  <a:lnTo>
                    <a:pt x="39" y="44"/>
                  </a:lnTo>
                  <a:lnTo>
                    <a:pt x="48" y="42"/>
                  </a:lnTo>
                  <a:lnTo>
                    <a:pt x="57" y="42"/>
                  </a:lnTo>
                  <a:lnTo>
                    <a:pt x="64" y="42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3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6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36960" y="399492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3" y="36"/>
                  </a:moveTo>
                  <a:lnTo>
                    <a:pt x="8" y="41"/>
                  </a:lnTo>
                  <a:lnTo>
                    <a:pt x="15" y="43"/>
                  </a:lnTo>
                  <a:lnTo>
                    <a:pt x="22" y="43"/>
                  </a:lnTo>
                  <a:lnTo>
                    <a:pt x="31" y="43"/>
                  </a:lnTo>
                  <a:lnTo>
                    <a:pt x="40" y="42"/>
                  </a:lnTo>
                  <a:lnTo>
                    <a:pt x="49" y="41"/>
                  </a:lnTo>
                  <a:lnTo>
                    <a:pt x="57" y="41"/>
                  </a:lnTo>
                  <a:lnTo>
                    <a:pt x="65" y="41"/>
                  </a:lnTo>
                  <a:lnTo>
                    <a:pt x="68" y="36"/>
                  </a:lnTo>
                  <a:lnTo>
                    <a:pt x="70" y="29"/>
                  </a:lnTo>
                  <a:lnTo>
                    <a:pt x="73" y="22"/>
                  </a:lnTo>
                  <a:lnTo>
                    <a:pt x="75" y="17"/>
                  </a:lnTo>
                  <a:lnTo>
                    <a:pt x="75" y="14"/>
                  </a:lnTo>
                  <a:lnTo>
                    <a:pt x="76" y="11"/>
                  </a:lnTo>
                  <a:lnTo>
                    <a:pt x="76" y="9"/>
                  </a:lnTo>
                  <a:lnTo>
                    <a:pt x="75" y="4"/>
                  </a:lnTo>
                  <a:lnTo>
                    <a:pt x="69" y="1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21" y="1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0" y="25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90960" y="3985200"/>
              <a:ext cx="39240" cy="1800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3" y="36"/>
                  </a:moveTo>
                  <a:lnTo>
                    <a:pt x="7" y="40"/>
                  </a:lnTo>
                  <a:lnTo>
                    <a:pt x="13" y="43"/>
                  </a:lnTo>
                  <a:lnTo>
                    <a:pt x="20" y="43"/>
                  </a:lnTo>
                  <a:lnTo>
                    <a:pt x="29" y="43"/>
                  </a:lnTo>
                  <a:lnTo>
                    <a:pt x="38" y="42"/>
                  </a:lnTo>
                  <a:lnTo>
                    <a:pt x="47" y="40"/>
                  </a:lnTo>
                  <a:lnTo>
                    <a:pt x="55" y="40"/>
                  </a:lnTo>
                  <a:lnTo>
                    <a:pt x="63" y="40"/>
                  </a:lnTo>
                  <a:lnTo>
                    <a:pt x="66" y="36"/>
                  </a:lnTo>
                  <a:lnTo>
                    <a:pt x="69" y="29"/>
                  </a:lnTo>
                  <a:lnTo>
                    <a:pt x="71" y="21"/>
                  </a:lnTo>
                  <a:lnTo>
                    <a:pt x="73" y="17"/>
                  </a:lnTo>
                  <a:lnTo>
                    <a:pt x="73" y="14"/>
                  </a:lnTo>
                  <a:lnTo>
                    <a:pt x="74" y="11"/>
                  </a:lnTo>
                  <a:lnTo>
                    <a:pt x="74" y="8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19" y="1"/>
                  </a:lnTo>
                  <a:lnTo>
                    <a:pt x="12" y="5"/>
                  </a:lnTo>
                  <a:lnTo>
                    <a:pt x="4" y="13"/>
                  </a:lnTo>
                  <a:lnTo>
                    <a:pt x="0" y="24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0720" y="398520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2" y="37"/>
                  </a:moveTo>
                  <a:lnTo>
                    <a:pt x="7" y="41"/>
                  </a:lnTo>
                  <a:lnTo>
                    <a:pt x="14" y="44"/>
                  </a:lnTo>
                  <a:lnTo>
                    <a:pt x="21" y="44"/>
                  </a:lnTo>
                  <a:lnTo>
                    <a:pt x="30" y="44"/>
                  </a:lnTo>
                  <a:lnTo>
                    <a:pt x="39" y="43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7"/>
                  </a:lnTo>
                  <a:lnTo>
                    <a:pt x="70" y="30"/>
                  </a:lnTo>
                  <a:lnTo>
                    <a:pt x="73" y="22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6" y="12"/>
                  </a:lnTo>
                  <a:lnTo>
                    <a:pt x="76" y="9"/>
                  </a:lnTo>
                  <a:lnTo>
                    <a:pt x="74" y="5"/>
                  </a:lnTo>
                  <a:lnTo>
                    <a:pt x="68" y="2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4"/>
                  </a:lnTo>
                  <a:lnTo>
                    <a:pt x="0" y="25"/>
                  </a:lnTo>
                  <a:lnTo>
                    <a:pt x="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09680" y="402156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6"/>
                  </a:moveTo>
                  <a:lnTo>
                    <a:pt x="8" y="40"/>
                  </a:lnTo>
                  <a:lnTo>
                    <a:pt x="15" y="43"/>
                  </a:lnTo>
                  <a:lnTo>
                    <a:pt x="22" y="45"/>
                  </a:lnTo>
                  <a:lnTo>
                    <a:pt x="31" y="43"/>
                  </a:lnTo>
                  <a:lnTo>
                    <a:pt x="40" y="43"/>
                  </a:lnTo>
                  <a:lnTo>
                    <a:pt x="49" y="42"/>
                  </a:lnTo>
                  <a:lnTo>
                    <a:pt x="56" y="40"/>
                  </a:lnTo>
                  <a:lnTo>
                    <a:pt x="63" y="40"/>
                  </a:lnTo>
                  <a:lnTo>
                    <a:pt x="67" y="37"/>
                  </a:lnTo>
                  <a:lnTo>
                    <a:pt x="70" y="30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10"/>
                  </a:lnTo>
                  <a:lnTo>
                    <a:pt x="73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4" y="0"/>
                  </a:lnTo>
                  <a:lnTo>
                    <a:pt x="21" y="1"/>
                  </a:lnTo>
                  <a:lnTo>
                    <a:pt x="12" y="5"/>
                  </a:lnTo>
                  <a:lnTo>
                    <a:pt x="5" y="14"/>
                  </a:lnTo>
                  <a:lnTo>
                    <a:pt x="0" y="24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51360" y="4028400"/>
              <a:ext cx="39240" cy="20880"/>
            </a:xfrm>
            <a:custGeom>
              <a:avLst/>
              <a:gdLst/>
              <a:ahLst/>
              <a:rect l="l" t="t" r="r" b="b"/>
              <a:pathLst>
                <a:path w="75" h="45">
                  <a:moveTo>
                    <a:pt x="2" y="36"/>
                  </a:moveTo>
                  <a:lnTo>
                    <a:pt x="7" y="41"/>
                  </a:lnTo>
                  <a:lnTo>
                    <a:pt x="13" y="44"/>
                  </a:lnTo>
                  <a:lnTo>
                    <a:pt x="20" y="45"/>
                  </a:lnTo>
                  <a:lnTo>
                    <a:pt x="29" y="44"/>
                  </a:lnTo>
                  <a:lnTo>
                    <a:pt x="38" y="44"/>
                  </a:lnTo>
                  <a:lnTo>
                    <a:pt x="46" y="42"/>
                  </a:lnTo>
                  <a:lnTo>
                    <a:pt x="55" y="41"/>
                  </a:lnTo>
                  <a:lnTo>
                    <a:pt x="62" y="41"/>
                  </a:lnTo>
                  <a:lnTo>
                    <a:pt x="65" y="38"/>
                  </a:lnTo>
                  <a:lnTo>
                    <a:pt x="68" y="32"/>
                  </a:lnTo>
                  <a:lnTo>
                    <a:pt x="71" y="25"/>
                  </a:lnTo>
                  <a:lnTo>
                    <a:pt x="73" y="17"/>
                  </a:lnTo>
                  <a:lnTo>
                    <a:pt x="74" y="16"/>
                  </a:lnTo>
                  <a:lnTo>
                    <a:pt x="75" y="13"/>
                  </a:lnTo>
                  <a:lnTo>
                    <a:pt x="75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06360" y="4028400"/>
              <a:ext cx="39240" cy="22320"/>
            </a:xfrm>
            <a:custGeom>
              <a:avLst/>
              <a:gdLst/>
              <a:ahLst/>
              <a:rect l="l" t="t" r="r" b="b"/>
              <a:pathLst>
                <a:path w="75" h="46">
                  <a:moveTo>
                    <a:pt x="2" y="37"/>
                  </a:moveTo>
                  <a:lnTo>
                    <a:pt x="7" y="43"/>
                  </a:lnTo>
                  <a:lnTo>
                    <a:pt x="14" y="44"/>
                  </a:lnTo>
                  <a:lnTo>
                    <a:pt x="21" y="46"/>
                  </a:lnTo>
                  <a:lnTo>
                    <a:pt x="30" y="46"/>
                  </a:lnTo>
                  <a:lnTo>
                    <a:pt x="39" y="44"/>
                  </a:lnTo>
                  <a:lnTo>
                    <a:pt x="48" y="43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2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5" y="14"/>
                  </a:lnTo>
                  <a:lnTo>
                    <a:pt x="75" y="11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2"/>
                  </a:lnTo>
                  <a:lnTo>
                    <a:pt x="43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34720" y="403704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6"/>
                  </a:moveTo>
                  <a:lnTo>
                    <a:pt x="7" y="41"/>
                  </a:lnTo>
                  <a:lnTo>
                    <a:pt x="13" y="44"/>
                  </a:lnTo>
                  <a:lnTo>
                    <a:pt x="20" y="45"/>
                  </a:lnTo>
                  <a:lnTo>
                    <a:pt x="29" y="44"/>
                  </a:lnTo>
                  <a:lnTo>
                    <a:pt x="38" y="44"/>
                  </a:lnTo>
                  <a:lnTo>
                    <a:pt x="46" y="42"/>
                  </a:lnTo>
                  <a:lnTo>
                    <a:pt x="55" y="41"/>
                  </a:lnTo>
                  <a:lnTo>
                    <a:pt x="62" y="41"/>
                  </a:lnTo>
                  <a:lnTo>
                    <a:pt x="67" y="38"/>
                  </a:lnTo>
                  <a:lnTo>
                    <a:pt x="70" y="30"/>
                  </a:lnTo>
                  <a:lnTo>
                    <a:pt x="73" y="22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4" y="13"/>
                  </a:lnTo>
                  <a:lnTo>
                    <a:pt x="76" y="9"/>
                  </a:lnTo>
                  <a:lnTo>
                    <a:pt x="73" y="6"/>
                  </a:lnTo>
                  <a:lnTo>
                    <a:pt x="68" y="3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3"/>
                  </a:lnTo>
                  <a:lnTo>
                    <a:pt x="0" y="25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79640" y="404244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7"/>
                  </a:moveTo>
                  <a:lnTo>
                    <a:pt x="7" y="42"/>
                  </a:lnTo>
                  <a:lnTo>
                    <a:pt x="13" y="45"/>
                  </a:lnTo>
                  <a:lnTo>
                    <a:pt x="20" y="45"/>
                  </a:lnTo>
                  <a:lnTo>
                    <a:pt x="29" y="45"/>
                  </a:lnTo>
                  <a:lnTo>
                    <a:pt x="38" y="43"/>
                  </a:lnTo>
                  <a:lnTo>
                    <a:pt x="46" y="42"/>
                  </a:lnTo>
                  <a:lnTo>
                    <a:pt x="55" y="40"/>
                  </a:lnTo>
                  <a:lnTo>
                    <a:pt x="62" y="40"/>
                  </a:lnTo>
                  <a:lnTo>
                    <a:pt x="67" y="37"/>
                  </a:lnTo>
                  <a:lnTo>
                    <a:pt x="70" y="30"/>
                  </a:lnTo>
                  <a:lnTo>
                    <a:pt x="73" y="23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4" y="13"/>
                  </a:lnTo>
                  <a:lnTo>
                    <a:pt x="76" y="10"/>
                  </a:lnTo>
                  <a:lnTo>
                    <a:pt x="73" y="5"/>
                  </a:lnTo>
                  <a:lnTo>
                    <a:pt x="68" y="2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5"/>
                  </a:lnTo>
                  <a:lnTo>
                    <a:pt x="4" y="14"/>
                  </a:lnTo>
                  <a:lnTo>
                    <a:pt x="0" y="26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21320" y="404100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6"/>
                  </a:moveTo>
                  <a:lnTo>
                    <a:pt x="7" y="40"/>
                  </a:lnTo>
                  <a:lnTo>
                    <a:pt x="15" y="43"/>
                  </a:lnTo>
                  <a:lnTo>
                    <a:pt x="22" y="45"/>
                  </a:lnTo>
                  <a:lnTo>
                    <a:pt x="31" y="43"/>
                  </a:lnTo>
                  <a:lnTo>
                    <a:pt x="39" y="43"/>
                  </a:lnTo>
                  <a:lnTo>
                    <a:pt x="48" y="42"/>
                  </a:lnTo>
                  <a:lnTo>
                    <a:pt x="57" y="40"/>
                  </a:lnTo>
                  <a:lnTo>
                    <a:pt x="64" y="40"/>
                  </a:lnTo>
                  <a:lnTo>
                    <a:pt x="67" y="38"/>
                  </a:lnTo>
                  <a:lnTo>
                    <a:pt x="70" y="30"/>
                  </a:lnTo>
                  <a:lnTo>
                    <a:pt x="73" y="21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5"/>
                  </a:lnTo>
                  <a:lnTo>
                    <a:pt x="69" y="3"/>
                  </a:lnTo>
                  <a:lnTo>
                    <a:pt x="58" y="1"/>
                  </a:lnTo>
                  <a:lnTo>
                    <a:pt x="44" y="0"/>
                  </a:lnTo>
                  <a:lnTo>
                    <a:pt x="20" y="1"/>
                  </a:lnTo>
                  <a:lnTo>
                    <a:pt x="12" y="5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70200" y="4041000"/>
              <a:ext cx="39240" cy="1800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3" y="37"/>
                  </a:moveTo>
                  <a:lnTo>
                    <a:pt x="7" y="41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30" y="44"/>
                  </a:lnTo>
                  <a:lnTo>
                    <a:pt x="39" y="42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7"/>
                  </a:lnTo>
                  <a:lnTo>
                    <a:pt x="70" y="29"/>
                  </a:lnTo>
                  <a:lnTo>
                    <a:pt x="73" y="22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9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3"/>
                  </a:lnTo>
                  <a:lnTo>
                    <a:pt x="0" y="25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19440" y="404820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7"/>
                  </a:moveTo>
                  <a:lnTo>
                    <a:pt x="7" y="41"/>
                  </a:lnTo>
                  <a:lnTo>
                    <a:pt x="13" y="44"/>
                  </a:lnTo>
                  <a:lnTo>
                    <a:pt x="21" y="45"/>
                  </a:lnTo>
                  <a:lnTo>
                    <a:pt x="29" y="44"/>
                  </a:lnTo>
                  <a:lnTo>
                    <a:pt x="38" y="44"/>
                  </a:lnTo>
                  <a:lnTo>
                    <a:pt x="47" y="42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2"/>
                  </a:lnTo>
                  <a:lnTo>
                    <a:pt x="73" y="18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9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1" y="2"/>
                  </a:lnTo>
                  <a:lnTo>
                    <a:pt x="12" y="6"/>
                  </a:lnTo>
                  <a:lnTo>
                    <a:pt x="4" y="13"/>
                  </a:lnTo>
                  <a:lnTo>
                    <a:pt x="0" y="25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4840" y="4071960"/>
              <a:ext cx="555120" cy="48600"/>
            </a:xfrm>
            <a:custGeom>
              <a:avLst/>
              <a:gdLst/>
              <a:ahLst/>
              <a:rect l="l" t="t" r="r" b="b"/>
              <a:pathLst>
                <a:path w="1144" h="112">
                  <a:moveTo>
                    <a:pt x="209" y="109"/>
                  </a:moveTo>
                  <a:lnTo>
                    <a:pt x="232" y="101"/>
                  </a:lnTo>
                  <a:lnTo>
                    <a:pt x="268" y="92"/>
                  </a:lnTo>
                  <a:lnTo>
                    <a:pt x="313" y="82"/>
                  </a:lnTo>
                  <a:lnTo>
                    <a:pt x="367" y="73"/>
                  </a:lnTo>
                  <a:lnTo>
                    <a:pt x="428" y="63"/>
                  </a:lnTo>
                  <a:lnTo>
                    <a:pt x="495" y="54"/>
                  </a:lnTo>
                  <a:lnTo>
                    <a:pt x="567" y="47"/>
                  </a:lnTo>
                  <a:lnTo>
                    <a:pt x="641" y="39"/>
                  </a:lnTo>
                  <a:lnTo>
                    <a:pt x="716" y="32"/>
                  </a:lnTo>
                  <a:lnTo>
                    <a:pt x="790" y="28"/>
                  </a:lnTo>
                  <a:lnTo>
                    <a:pt x="863" y="23"/>
                  </a:lnTo>
                  <a:lnTo>
                    <a:pt x="933" y="20"/>
                  </a:lnTo>
                  <a:lnTo>
                    <a:pt x="998" y="19"/>
                  </a:lnTo>
                  <a:lnTo>
                    <a:pt x="1055" y="20"/>
                  </a:lnTo>
                  <a:lnTo>
                    <a:pt x="1104" y="23"/>
                  </a:lnTo>
                  <a:lnTo>
                    <a:pt x="1144" y="28"/>
                  </a:lnTo>
                  <a:lnTo>
                    <a:pt x="1125" y="20"/>
                  </a:lnTo>
                  <a:lnTo>
                    <a:pt x="1103" y="15"/>
                  </a:lnTo>
                  <a:lnTo>
                    <a:pt x="1077" y="9"/>
                  </a:lnTo>
                  <a:lnTo>
                    <a:pt x="1047" y="6"/>
                  </a:lnTo>
                  <a:lnTo>
                    <a:pt x="1014" y="3"/>
                  </a:lnTo>
                  <a:lnTo>
                    <a:pt x="979" y="0"/>
                  </a:lnTo>
                  <a:lnTo>
                    <a:pt x="941" y="0"/>
                  </a:lnTo>
                  <a:lnTo>
                    <a:pt x="901" y="0"/>
                  </a:lnTo>
                  <a:lnTo>
                    <a:pt x="859" y="0"/>
                  </a:lnTo>
                  <a:lnTo>
                    <a:pt x="817" y="2"/>
                  </a:lnTo>
                  <a:lnTo>
                    <a:pt x="771" y="3"/>
                  </a:lnTo>
                  <a:lnTo>
                    <a:pt x="725" y="6"/>
                  </a:lnTo>
                  <a:lnTo>
                    <a:pt x="678" y="9"/>
                  </a:lnTo>
                  <a:lnTo>
                    <a:pt x="631" y="13"/>
                  </a:lnTo>
                  <a:lnTo>
                    <a:pt x="583" y="18"/>
                  </a:lnTo>
                  <a:lnTo>
                    <a:pt x="536" y="22"/>
                  </a:lnTo>
                  <a:lnTo>
                    <a:pt x="488" y="26"/>
                  </a:lnTo>
                  <a:lnTo>
                    <a:pt x="441" y="32"/>
                  </a:lnTo>
                  <a:lnTo>
                    <a:pt x="396" y="38"/>
                  </a:lnTo>
                  <a:lnTo>
                    <a:pt x="351" y="42"/>
                  </a:lnTo>
                  <a:lnTo>
                    <a:pt x="307" y="48"/>
                  </a:lnTo>
                  <a:lnTo>
                    <a:pt x="266" y="54"/>
                  </a:lnTo>
                  <a:lnTo>
                    <a:pt x="227" y="60"/>
                  </a:lnTo>
                  <a:lnTo>
                    <a:pt x="189" y="66"/>
                  </a:lnTo>
                  <a:lnTo>
                    <a:pt x="154" y="71"/>
                  </a:lnTo>
                  <a:lnTo>
                    <a:pt x="121" y="77"/>
                  </a:lnTo>
                  <a:lnTo>
                    <a:pt x="92" y="82"/>
                  </a:lnTo>
                  <a:lnTo>
                    <a:pt x="66" y="86"/>
                  </a:lnTo>
                  <a:lnTo>
                    <a:pt x="43" y="92"/>
                  </a:lnTo>
                  <a:lnTo>
                    <a:pt x="25" y="95"/>
                  </a:lnTo>
                  <a:lnTo>
                    <a:pt x="10" y="99"/>
                  </a:lnTo>
                  <a:lnTo>
                    <a:pt x="0" y="102"/>
                  </a:lnTo>
                  <a:lnTo>
                    <a:pt x="59" y="98"/>
                  </a:lnTo>
                  <a:lnTo>
                    <a:pt x="103" y="98"/>
                  </a:lnTo>
                  <a:lnTo>
                    <a:pt x="135" y="99"/>
                  </a:lnTo>
                  <a:lnTo>
                    <a:pt x="158" y="103"/>
                  </a:lnTo>
                  <a:lnTo>
                    <a:pt x="174" y="108"/>
                  </a:lnTo>
                  <a:lnTo>
                    <a:pt x="186" y="111"/>
                  </a:lnTo>
                  <a:lnTo>
                    <a:pt x="197" y="112"/>
                  </a:lnTo>
                  <a:lnTo>
                    <a:pt x="209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9240" y="3996360"/>
              <a:ext cx="39240" cy="64080"/>
            </a:xfrm>
            <a:custGeom>
              <a:avLst/>
              <a:gdLst/>
              <a:ahLst/>
              <a:rect l="l" t="t" r="r" b="b"/>
              <a:pathLst>
                <a:path w="76" h="149">
                  <a:moveTo>
                    <a:pt x="0" y="139"/>
                  </a:moveTo>
                  <a:lnTo>
                    <a:pt x="0" y="143"/>
                  </a:lnTo>
                  <a:lnTo>
                    <a:pt x="2" y="146"/>
                  </a:lnTo>
                  <a:lnTo>
                    <a:pt x="5" y="147"/>
                  </a:lnTo>
                  <a:lnTo>
                    <a:pt x="8" y="149"/>
                  </a:lnTo>
                  <a:lnTo>
                    <a:pt x="11" y="149"/>
                  </a:lnTo>
                  <a:lnTo>
                    <a:pt x="14" y="147"/>
                  </a:lnTo>
                  <a:lnTo>
                    <a:pt x="17" y="144"/>
                  </a:lnTo>
                  <a:lnTo>
                    <a:pt x="18" y="142"/>
                  </a:lnTo>
                  <a:lnTo>
                    <a:pt x="24" y="121"/>
                  </a:lnTo>
                  <a:lnTo>
                    <a:pt x="34" y="99"/>
                  </a:lnTo>
                  <a:lnTo>
                    <a:pt x="44" y="76"/>
                  </a:lnTo>
                  <a:lnTo>
                    <a:pt x="56" y="53"/>
                  </a:lnTo>
                  <a:lnTo>
                    <a:pt x="65" y="34"/>
                  </a:lnTo>
                  <a:lnTo>
                    <a:pt x="72" y="16"/>
                  </a:lnTo>
                  <a:lnTo>
                    <a:pt x="76" y="5"/>
                  </a:lnTo>
                  <a:lnTo>
                    <a:pt x="74" y="0"/>
                  </a:lnTo>
                  <a:lnTo>
                    <a:pt x="66" y="8"/>
                  </a:lnTo>
                  <a:lnTo>
                    <a:pt x="57" y="19"/>
                  </a:lnTo>
                  <a:lnTo>
                    <a:pt x="46" y="35"/>
                  </a:lnTo>
                  <a:lnTo>
                    <a:pt x="34" y="54"/>
                  </a:lnTo>
                  <a:lnTo>
                    <a:pt x="22" y="75"/>
                  </a:lnTo>
                  <a:lnTo>
                    <a:pt x="14" y="96"/>
                  </a:lnTo>
                  <a:lnTo>
                    <a:pt x="5" y="118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97120" y="4069080"/>
              <a:ext cx="511200" cy="39240"/>
            </a:xfrm>
            <a:custGeom>
              <a:avLst/>
              <a:gdLst/>
              <a:ahLst/>
              <a:rect l="l" t="t" r="r" b="b"/>
              <a:pathLst>
                <a:path w="1054" h="90">
                  <a:moveTo>
                    <a:pt x="470" y="48"/>
                  </a:moveTo>
                  <a:lnTo>
                    <a:pt x="507" y="46"/>
                  </a:lnTo>
                  <a:lnTo>
                    <a:pt x="542" y="45"/>
                  </a:lnTo>
                  <a:lnTo>
                    <a:pt x="578" y="43"/>
                  </a:lnTo>
                  <a:lnTo>
                    <a:pt x="613" y="42"/>
                  </a:lnTo>
                  <a:lnTo>
                    <a:pt x="650" y="41"/>
                  </a:lnTo>
                  <a:lnTo>
                    <a:pt x="685" y="39"/>
                  </a:lnTo>
                  <a:lnTo>
                    <a:pt x="721" y="38"/>
                  </a:lnTo>
                  <a:lnTo>
                    <a:pt x="756" y="36"/>
                  </a:lnTo>
                  <a:lnTo>
                    <a:pt x="791" y="35"/>
                  </a:lnTo>
                  <a:lnTo>
                    <a:pt x="828" y="35"/>
                  </a:lnTo>
                  <a:lnTo>
                    <a:pt x="863" y="35"/>
                  </a:lnTo>
                  <a:lnTo>
                    <a:pt x="899" y="35"/>
                  </a:lnTo>
                  <a:lnTo>
                    <a:pt x="934" y="36"/>
                  </a:lnTo>
                  <a:lnTo>
                    <a:pt x="971" y="39"/>
                  </a:lnTo>
                  <a:lnTo>
                    <a:pt x="1006" y="42"/>
                  </a:lnTo>
                  <a:lnTo>
                    <a:pt x="1043" y="46"/>
                  </a:lnTo>
                  <a:lnTo>
                    <a:pt x="1047" y="46"/>
                  </a:lnTo>
                  <a:lnTo>
                    <a:pt x="1051" y="43"/>
                  </a:lnTo>
                  <a:lnTo>
                    <a:pt x="1053" y="42"/>
                  </a:lnTo>
                  <a:lnTo>
                    <a:pt x="1054" y="38"/>
                  </a:lnTo>
                  <a:lnTo>
                    <a:pt x="1053" y="33"/>
                  </a:lnTo>
                  <a:lnTo>
                    <a:pt x="1050" y="27"/>
                  </a:lnTo>
                  <a:lnTo>
                    <a:pt x="1045" y="23"/>
                  </a:lnTo>
                  <a:lnTo>
                    <a:pt x="1044" y="22"/>
                  </a:lnTo>
                  <a:lnTo>
                    <a:pt x="1009" y="14"/>
                  </a:lnTo>
                  <a:lnTo>
                    <a:pt x="972" y="10"/>
                  </a:lnTo>
                  <a:lnTo>
                    <a:pt x="937" y="6"/>
                  </a:lnTo>
                  <a:lnTo>
                    <a:pt x="901" y="3"/>
                  </a:lnTo>
                  <a:lnTo>
                    <a:pt x="866" y="1"/>
                  </a:lnTo>
                  <a:lnTo>
                    <a:pt x="829" y="0"/>
                  </a:lnTo>
                  <a:lnTo>
                    <a:pt x="793" y="0"/>
                  </a:lnTo>
                  <a:lnTo>
                    <a:pt x="758" y="1"/>
                  </a:lnTo>
                  <a:lnTo>
                    <a:pt x="721" y="3"/>
                  </a:lnTo>
                  <a:lnTo>
                    <a:pt x="685" y="4"/>
                  </a:lnTo>
                  <a:lnTo>
                    <a:pt x="650" y="7"/>
                  </a:lnTo>
                  <a:lnTo>
                    <a:pt x="613" y="9"/>
                  </a:lnTo>
                  <a:lnTo>
                    <a:pt x="577" y="11"/>
                  </a:lnTo>
                  <a:lnTo>
                    <a:pt x="540" y="14"/>
                  </a:lnTo>
                  <a:lnTo>
                    <a:pt x="505" y="17"/>
                  </a:lnTo>
                  <a:lnTo>
                    <a:pt x="469" y="19"/>
                  </a:lnTo>
                  <a:lnTo>
                    <a:pt x="439" y="20"/>
                  </a:lnTo>
                  <a:lnTo>
                    <a:pt x="410" y="20"/>
                  </a:lnTo>
                  <a:lnTo>
                    <a:pt x="381" y="22"/>
                  </a:lnTo>
                  <a:lnTo>
                    <a:pt x="352" y="23"/>
                  </a:lnTo>
                  <a:lnTo>
                    <a:pt x="321" y="25"/>
                  </a:lnTo>
                  <a:lnTo>
                    <a:pt x="292" y="26"/>
                  </a:lnTo>
                  <a:lnTo>
                    <a:pt x="263" y="29"/>
                  </a:lnTo>
                  <a:lnTo>
                    <a:pt x="233" y="32"/>
                  </a:lnTo>
                  <a:lnTo>
                    <a:pt x="204" y="35"/>
                  </a:lnTo>
                  <a:lnTo>
                    <a:pt x="175" y="38"/>
                  </a:lnTo>
                  <a:lnTo>
                    <a:pt x="146" y="42"/>
                  </a:lnTo>
                  <a:lnTo>
                    <a:pt x="117" y="48"/>
                  </a:lnTo>
                  <a:lnTo>
                    <a:pt x="89" y="52"/>
                  </a:lnTo>
                  <a:lnTo>
                    <a:pt x="60" y="59"/>
                  </a:lnTo>
                  <a:lnTo>
                    <a:pt x="30" y="67"/>
                  </a:lnTo>
                  <a:lnTo>
                    <a:pt x="3" y="76"/>
                  </a:lnTo>
                  <a:lnTo>
                    <a:pt x="0" y="83"/>
                  </a:lnTo>
                  <a:lnTo>
                    <a:pt x="3" y="87"/>
                  </a:lnTo>
                  <a:lnTo>
                    <a:pt x="9" y="90"/>
                  </a:lnTo>
                  <a:lnTo>
                    <a:pt x="11" y="90"/>
                  </a:lnTo>
                  <a:lnTo>
                    <a:pt x="14" y="90"/>
                  </a:lnTo>
                  <a:lnTo>
                    <a:pt x="25" y="89"/>
                  </a:lnTo>
                  <a:lnTo>
                    <a:pt x="41" y="86"/>
                  </a:lnTo>
                  <a:lnTo>
                    <a:pt x="61" y="84"/>
                  </a:lnTo>
                  <a:lnTo>
                    <a:pt x="87" y="81"/>
                  </a:lnTo>
                  <a:lnTo>
                    <a:pt x="117" y="77"/>
                  </a:lnTo>
                  <a:lnTo>
                    <a:pt x="149" y="74"/>
                  </a:lnTo>
                  <a:lnTo>
                    <a:pt x="184" y="70"/>
                  </a:lnTo>
                  <a:lnTo>
                    <a:pt x="220" y="67"/>
                  </a:lnTo>
                  <a:lnTo>
                    <a:pt x="258" y="62"/>
                  </a:lnTo>
                  <a:lnTo>
                    <a:pt x="296" y="59"/>
                  </a:lnTo>
                  <a:lnTo>
                    <a:pt x="334" y="55"/>
                  </a:lnTo>
                  <a:lnTo>
                    <a:pt x="371" y="52"/>
                  </a:lnTo>
                  <a:lnTo>
                    <a:pt x="406" y="51"/>
                  </a:lnTo>
                  <a:lnTo>
                    <a:pt x="439" y="49"/>
                  </a:lnTo>
                  <a:lnTo>
                    <a:pt x="47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05800" y="3945960"/>
              <a:ext cx="43920" cy="97560"/>
            </a:xfrm>
            <a:custGeom>
              <a:avLst/>
              <a:gdLst/>
              <a:ahLst/>
              <a:rect l="l" t="t" r="r" b="b"/>
              <a:pathLst>
                <a:path w="89" h="219">
                  <a:moveTo>
                    <a:pt x="0" y="211"/>
                  </a:moveTo>
                  <a:lnTo>
                    <a:pt x="0" y="214"/>
                  </a:lnTo>
                  <a:lnTo>
                    <a:pt x="2" y="217"/>
                  </a:lnTo>
                  <a:lnTo>
                    <a:pt x="5" y="218"/>
                  </a:lnTo>
                  <a:lnTo>
                    <a:pt x="8" y="219"/>
                  </a:lnTo>
                  <a:lnTo>
                    <a:pt x="11" y="219"/>
                  </a:lnTo>
                  <a:lnTo>
                    <a:pt x="14" y="218"/>
                  </a:lnTo>
                  <a:lnTo>
                    <a:pt x="15" y="215"/>
                  </a:lnTo>
                  <a:lnTo>
                    <a:pt x="16" y="212"/>
                  </a:lnTo>
                  <a:lnTo>
                    <a:pt x="24" y="183"/>
                  </a:lnTo>
                  <a:lnTo>
                    <a:pt x="34" y="151"/>
                  </a:lnTo>
                  <a:lnTo>
                    <a:pt x="46" y="118"/>
                  </a:lnTo>
                  <a:lnTo>
                    <a:pt x="59" y="86"/>
                  </a:lnTo>
                  <a:lnTo>
                    <a:pt x="70" y="56"/>
                  </a:lnTo>
                  <a:lnTo>
                    <a:pt x="81" y="30"/>
                  </a:lnTo>
                  <a:lnTo>
                    <a:pt x="87" y="11"/>
                  </a:lnTo>
                  <a:lnTo>
                    <a:pt x="89" y="0"/>
                  </a:lnTo>
                  <a:lnTo>
                    <a:pt x="72" y="14"/>
                  </a:lnTo>
                  <a:lnTo>
                    <a:pt x="56" y="35"/>
                  </a:lnTo>
                  <a:lnTo>
                    <a:pt x="43" y="59"/>
                  </a:lnTo>
                  <a:lnTo>
                    <a:pt x="30" y="87"/>
                  </a:lnTo>
                  <a:lnTo>
                    <a:pt x="19" y="119"/>
                  </a:lnTo>
                  <a:lnTo>
                    <a:pt x="11" y="150"/>
                  </a:lnTo>
                  <a:lnTo>
                    <a:pt x="5" y="182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10440" y="4093920"/>
              <a:ext cx="478080" cy="33480"/>
            </a:xfrm>
            <a:custGeom>
              <a:avLst/>
              <a:gdLst/>
              <a:ahLst/>
              <a:rect l="l" t="t" r="r" b="b"/>
              <a:pathLst>
                <a:path w="984" h="74">
                  <a:moveTo>
                    <a:pt x="974" y="26"/>
                  </a:moveTo>
                  <a:lnTo>
                    <a:pt x="983" y="19"/>
                  </a:lnTo>
                  <a:lnTo>
                    <a:pt x="984" y="12"/>
                  </a:lnTo>
                  <a:lnTo>
                    <a:pt x="979" y="6"/>
                  </a:lnTo>
                  <a:lnTo>
                    <a:pt x="967" y="3"/>
                  </a:lnTo>
                  <a:lnTo>
                    <a:pt x="938" y="3"/>
                  </a:lnTo>
                  <a:lnTo>
                    <a:pt x="908" y="4"/>
                  </a:lnTo>
                  <a:lnTo>
                    <a:pt x="878" y="3"/>
                  </a:lnTo>
                  <a:lnTo>
                    <a:pt x="847" y="3"/>
                  </a:lnTo>
                  <a:lnTo>
                    <a:pt x="816" y="3"/>
                  </a:lnTo>
                  <a:lnTo>
                    <a:pt x="784" y="1"/>
                  </a:lnTo>
                  <a:lnTo>
                    <a:pt x="754" y="1"/>
                  </a:lnTo>
                  <a:lnTo>
                    <a:pt x="722" y="0"/>
                  </a:lnTo>
                  <a:lnTo>
                    <a:pt x="689" y="0"/>
                  </a:lnTo>
                  <a:lnTo>
                    <a:pt x="659" y="0"/>
                  </a:lnTo>
                  <a:lnTo>
                    <a:pt x="627" y="0"/>
                  </a:lnTo>
                  <a:lnTo>
                    <a:pt x="596" y="0"/>
                  </a:lnTo>
                  <a:lnTo>
                    <a:pt x="565" y="1"/>
                  </a:lnTo>
                  <a:lnTo>
                    <a:pt x="535" y="3"/>
                  </a:lnTo>
                  <a:lnTo>
                    <a:pt x="505" y="4"/>
                  </a:lnTo>
                  <a:lnTo>
                    <a:pt x="476" y="7"/>
                  </a:lnTo>
                  <a:lnTo>
                    <a:pt x="444" y="10"/>
                  </a:lnTo>
                  <a:lnTo>
                    <a:pt x="410" y="13"/>
                  </a:lnTo>
                  <a:lnTo>
                    <a:pt x="374" y="16"/>
                  </a:lnTo>
                  <a:lnTo>
                    <a:pt x="336" y="19"/>
                  </a:lnTo>
                  <a:lnTo>
                    <a:pt x="298" y="20"/>
                  </a:lnTo>
                  <a:lnTo>
                    <a:pt x="259" y="23"/>
                  </a:lnTo>
                  <a:lnTo>
                    <a:pt x="221" y="26"/>
                  </a:lnTo>
                  <a:lnTo>
                    <a:pt x="183" y="29"/>
                  </a:lnTo>
                  <a:lnTo>
                    <a:pt x="148" y="34"/>
                  </a:lnTo>
                  <a:lnTo>
                    <a:pt x="114" y="36"/>
                  </a:lnTo>
                  <a:lnTo>
                    <a:pt x="83" y="41"/>
                  </a:lnTo>
                  <a:lnTo>
                    <a:pt x="57" y="45"/>
                  </a:lnTo>
                  <a:lnTo>
                    <a:pt x="35" y="51"/>
                  </a:lnTo>
                  <a:lnTo>
                    <a:pt x="18" y="57"/>
                  </a:lnTo>
                  <a:lnTo>
                    <a:pt x="6" y="64"/>
                  </a:lnTo>
                  <a:lnTo>
                    <a:pt x="0" y="71"/>
                  </a:lnTo>
                  <a:lnTo>
                    <a:pt x="4" y="73"/>
                  </a:lnTo>
                  <a:lnTo>
                    <a:pt x="13" y="73"/>
                  </a:lnTo>
                  <a:lnTo>
                    <a:pt x="28" y="74"/>
                  </a:lnTo>
                  <a:lnTo>
                    <a:pt x="45" y="74"/>
                  </a:lnTo>
                  <a:lnTo>
                    <a:pt x="69" y="74"/>
                  </a:lnTo>
                  <a:lnTo>
                    <a:pt x="94" y="74"/>
                  </a:lnTo>
                  <a:lnTo>
                    <a:pt x="123" y="73"/>
                  </a:lnTo>
                  <a:lnTo>
                    <a:pt x="155" y="73"/>
                  </a:lnTo>
                  <a:lnTo>
                    <a:pt x="190" y="71"/>
                  </a:lnTo>
                  <a:lnTo>
                    <a:pt x="226" y="70"/>
                  </a:lnTo>
                  <a:lnTo>
                    <a:pt x="266" y="70"/>
                  </a:lnTo>
                  <a:lnTo>
                    <a:pt x="307" y="67"/>
                  </a:lnTo>
                  <a:lnTo>
                    <a:pt x="348" y="66"/>
                  </a:lnTo>
                  <a:lnTo>
                    <a:pt x="391" y="64"/>
                  </a:lnTo>
                  <a:lnTo>
                    <a:pt x="435" y="63"/>
                  </a:lnTo>
                  <a:lnTo>
                    <a:pt x="479" y="60"/>
                  </a:lnTo>
                  <a:lnTo>
                    <a:pt x="523" y="58"/>
                  </a:lnTo>
                  <a:lnTo>
                    <a:pt x="567" y="55"/>
                  </a:lnTo>
                  <a:lnTo>
                    <a:pt x="611" y="54"/>
                  </a:lnTo>
                  <a:lnTo>
                    <a:pt x="653" y="51"/>
                  </a:lnTo>
                  <a:lnTo>
                    <a:pt x="694" y="50"/>
                  </a:lnTo>
                  <a:lnTo>
                    <a:pt x="733" y="47"/>
                  </a:lnTo>
                  <a:lnTo>
                    <a:pt x="771" y="44"/>
                  </a:lnTo>
                  <a:lnTo>
                    <a:pt x="808" y="42"/>
                  </a:lnTo>
                  <a:lnTo>
                    <a:pt x="840" y="39"/>
                  </a:lnTo>
                  <a:lnTo>
                    <a:pt x="871" y="38"/>
                  </a:lnTo>
                  <a:lnTo>
                    <a:pt x="897" y="35"/>
                  </a:lnTo>
                  <a:lnTo>
                    <a:pt x="922" y="34"/>
                  </a:lnTo>
                  <a:lnTo>
                    <a:pt x="941" y="32"/>
                  </a:lnTo>
                  <a:lnTo>
                    <a:pt x="957" y="29"/>
                  </a:lnTo>
                  <a:lnTo>
                    <a:pt x="968" y="28"/>
                  </a:lnTo>
                  <a:lnTo>
                    <a:pt x="97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23760" y="4013280"/>
              <a:ext cx="39240" cy="190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3" y="35"/>
                  </a:moveTo>
                  <a:lnTo>
                    <a:pt x="7" y="39"/>
                  </a:lnTo>
                  <a:lnTo>
                    <a:pt x="14" y="42"/>
                  </a:lnTo>
                  <a:lnTo>
                    <a:pt x="22" y="44"/>
                  </a:lnTo>
                  <a:lnTo>
                    <a:pt x="30" y="42"/>
                  </a:lnTo>
                  <a:lnTo>
                    <a:pt x="39" y="42"/>
                  </a:lnTo>
                  <a:lnTo>
                    <a:pt x="48" y="41"/>
                  </a:lnTo>
                  <a:lnTo>
                    <a:pt x="57" y="39"/>
                  </a:lnTo>
                  <a:lnTo>
                    <a:pt x="64" y="39"/>
                  </a:lnTo>
                  <a:lnTo>
                    <a:pt x="66" y="39"/>
                  </a:lnTo>
                  <a:lnTo>
                    <a:pt x="68" y="38"/>
                  </a:lnTo>
                  <a:lnTo>
                    <a:pt x="68" y="35"/>
                  </a:lnTo>
                  <a:lnTo>
                    <a:pt x="68" y="32"/>
                  </a:lnTo>
                  <a:lnTo>
                    <a:pt x="68" y="31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1" y="28"/>
                  </a:lnTo>
                  <a:lnTo>
                    <a:pt x="42" y="29"/>
                  </a:lnTo>
                  <a:lnTo>
                    <a:pt x="29" y="26"/>
                  </a:lnTo>
                  <a:lnTo>
                    <a:pt x="22" y="22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3"/>
                  </a:lnTo>
                  <a:lnTo>
                    <a:pt x="17" y="7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74520" y="4008600"/>
              <a:ext cx="39240" cy="1944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2" y="35"/>
                  </a:moveTo>
                  <a:lnTo>
                    <a:pt x="5" y="41"/>
                  </a:lnTo>
                  <a:lnTo>
                    <a:pt x="11" y="42"/>
                  </a:lnTo>
                  <a:lnTo>
                    <a:pt x="17" y="44"/>
                  </a:lnTo>
                  <a:lnTo>
                    <a:pt x="23" y="44"/>
                  </a:lnTo>
                  <a:lnTo>
                    <a:pt x="30" y="42"/>
                  </a:lnTo>
                  <a:lnTo>
                    <a:pt x="36" y="41"/>
                  </a:lnTo>
                  <a:lnTo>
                    <a:pt x="42" y="41"/>
                  </a:lnTo>
                  <a:lnTo>
                    <a:pt x="48" y="41"/>
                  </a:lnTo>
                  <a:lnTo>
                    <a:pt x="49" y="41"/>
                  </a:lnTo>
                  <a:lnTo>
                    <a:pt x="51" y="39"/>
                  </a:lnTo>
                  <a:lnTo>
                    <a:pt x="52" y="36"/>
                  </a:lnTo>
                  <a:lnTo>
                    <a:pt x="52" y="33"/>
                  </a:lnTo>
                  <a:lnTo>
                    <a:pt x="52" y="32"/>
                  </a:lnTo>
                  <a:lnTo>
                    <a:pt x="51" y="29"/>
                  </a:lnTo>
                  <a:lnTo>
                    <a:pt x="48" y="29"/>
                  </a:lnTo>
                  <a:lnTo>
                    <a:pt x="46" y="29"/>
                  </a:lnTo>
                  <a:lnTo>
                    <a:pt x="32" y="30"/>
                  </a:lnTo>
                  <a:lnTo>
                    <a:pt x="21" y="29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2"/>
                  </a:lnTo>
                  <a:lnTo>
                    <a:pt x="10" y="14"/>
                  </a:lnTo>
                  <a:lnTo>
                    <a:pt x="11" y="7"/>
                  </a:lnTo>
                  <a:lnTo>
                    <a:pt x="16" y="0"/>
                  </a:lnTo>
                  <a:lnTo>
                    <a:pt x="8" y="0"/>
                  </a:lnTo>
                  <a:lnTo>
                    <a:pt x="2" y="9"/>
                  </a:lnTo>
                  <a:lnTo>
                    <a:pt x="0" y="22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19880" y="4006080"/>
              <a:ext cx="39240" cy="20880"/>
            </a:xfrm>
            <a:custGeom>
              <a:avLst/>
              <a:gdLst/>
              <a:ahLst/>
              <a:rect l="l" t="t" r="r" b="b"/>
              <a:pathLst>
                <a:path w="67" h="46">
                  <a:moveTo>
                    <a:pt x="4" y="38"/>
                  </a:moveTo>
                  <a:lnTo>
                    <a:pt x="9" y="43"/>
                  </a:lnTo>
                  <a:lnTo>
                    <a:pt x="15" y="46"/>
                  </a:lnTo>
                  <a:lnTo>
                    <a:pt x="22" y="46"/>
                  </a:lnTo>
                  <a:lnTo>
                    <a:pt x="31" y="46"/>
                  </a:lnTo>
                  <a:lnTo>
                    <a:pt x="38" y="44"/>
                  </a:lnTo>
                  <a:lnTo>
                    <a:pt x="47" y="43"/>
                  </a:lnTo>
                  <a:lnTo>
                    <a:pt x="54" y="43"/>
                  </a:lnTo>
                  <a:lnTo>
                    <a:pt x="61" y="43"/>
                  </a:lnTo>
                  <a:lnTo>
                    <a:pt x="64" y="41"/>
                  </a:lnTo>
                  <a:lnTo>
                    <a:pt x="66" y="40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7" y="34"/>
                  </a:lnTo>
                  <a:lnTo>
                    <a:pt x="64" y="31"/>
                  </a:lnTo>
                  <a:lnTo>
                    <a:pt x="63" y="30"/>
                  </a:lnTo>
                  <a:lnTo>
                    <a:pt x="60" y="30"/>
                  </a:lnTo>
                  <a:lnTo>
                    <a:pt x="50" y="33"/>
                  </a:lnTo>
                  <a:lnTo>
                    <a:pt x="41" y="34"/>
                  </a:lnTo>
                  <a:lnTo>
                    <a:pt x="32" y="34"/>
                  </a:lnTo>
                  <a:lnTo>
                    <a:pt x="26" y="33"/>
                  </a:lnTo>
                  <a:lnTo>
                    <a:pt x="20" y="33"/>
                  </a:lnTo>
                  <a:lnTo>
                    <a:pt x="16" y="31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27"/>
                  </a:lnTo>
                  <a:lnTo>
                    <a:pt x="13" y="18"/>
                  </a:lnTo>
                  <a:lnTo>
                    <a:pt x="15" y="9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4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74960" y="4007520"/>
              <a:ext cx="39240" cy="19440"/>
            </a:xfrm>
            <a:custGeom>
              <a:avLst/>
              <a:gdLst/>
              <a:ahLst/>
              <a:rect l="l" t="t" r="r" b="b"/>
              <a:pathLst>
                <a:path w="69" h="45">
                  <a:moveTo>
                    <a:pt x="3" y="38"/>
                  </a:moveTo>
                  <a:lnTo>
                    <a:pt x="8" y="42"/>
                  </a:lnTo>
                  <a:lnTo>
                    <a:pt x="15" y="45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4"/>
                  </a:lnTo>
                  <a:lnTo>
                    <a:pt x="49" y="42"/>
                  </a:lnTo>
                  <a:lnTo>
                    <a:pt x="57" y="42"/>
                  </a:lnTo>
                  <a:lnTo>
                    <a:pt x="65" y="42"/>
                  </a:lnTo>
                  <a:lnTo>
                    <a:pt x="66" y="41"/>
                  </a:lnTo>
                  <a:lnTo>
                    <a:pt x="69" y="39"/>
                  </a:lnTo>
                  <a:lnTo>
                    <a:pt x="69" y="36"/>
                  </a:lnTo>
                  <a:lnTo>
                    <a:pt x="69" y="35"/>
                  </a:lnTo>
                  <a:lnTo>
                    <a:pt x="69" y="32"/>
                  </a:lnTo>
                  <a:lnTo>
                    <a:pt x="68" y="29"/>
                  </a:lnTo>
                  <a:lnTo>
                    <a:pt x="65" y="29"/>
                  </a:lnTo>
                  <a:lnTo>
                    <a:pt x="62" y="29"/>
                  </a:lnTo>
                  <a:lnTo>
                    <a:pt x="51" y="31"/>
                  </a:lnTo>
                  <a:lnTo>
                    <a:pt x="41" y="32"/>
                  </a:lnTo>
                  <a:lnTo>
                    <a:pt x="34" y="32"/>
                  </a:lnTo>
                  <a:lnTo>
                    <a:pt x="28" y="31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5" y="25"/>
                  </a:lnTo>
                  <a:lnTo>
                    <a:pt x="14" y="16"/>
                  </a:lnTo>
                  <a:lnTo>
                    <a:pt x="15" y="7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34720" y="4004640"/>
              <a:ext cx="39240" cy="1944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4" y="38"/>
                  </a:moveTo>
                  <a:lnTo>
                    <a:pt x="9" y="42"/>
                  </a:lnTo>
                  <a:lnTo>
                    <a:pt x="15" y="45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39" y="44"/>
                  </a:lnTo>
                  <a:lnTo>
                    <a:pt x="48" y="42"/>
                  </a:lnTo>
                  <a:lnTo>
                    <a:pt x="56" y="42"/>
                  </a:lnTo>
                  <a:lnTo>
                    <a:pt x="63" y="42"/>
                  </a:lnTo>
                  <a:lnTo>
                    <a:pt x="64" y="41"/>
                  </a:lnTo>
                  <a:lnTo>
                    <a:pt x="66" y="39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7" y="34"/>
                  </a:lnTo>
                  <a:lnTo>
                    <a:pt x="64" y="31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41" y="34"/>
                  </a:lnTo>
                  <a:lnTo>
                    <a:pt x="29" y="32"/>
                  </a:lnTo>
                  <a:lnTo>
                    <a:pt x="22" y="31"/>
                  </a:lnTo>
                  <a:lnTo>
                    <a:pt x="20" y="29"/>
                  </a:lnTo>
                  <a:lnTo>
                    <a:pt x="19" y="26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86200" y="3997800"/>
              <a:ext cx="39240" cy="18360"/>
            </a:xfrm>
            <a:custGeom>
              <a:avLst/>
              <a:gdLst/>
              <a:ahLst/>
              <a:rect l="l" t="t" r="r" b="b"/>
              <a:pathLst>
                <a:path w="70" h="42">
                  <a:moveTo>
                    <a:pt x="4" y="35"/>
                  </a:moveTo>
                  <a:lnTo>
                    <a:pt x="8" y="39"/>
                  </a:lnTo>
                  <a:lnTo>
                    <a:pt x="14" y="42"/>
                  </a:lnTo>
                  <a:lnTo>
                    <a:pt x="22" y="42"/>
                  </a:lnTo>
                  <a:lnTo>
                    <a:pt x="30" y="42"/>
                  </a:lnTo>
                  <a:lnTo>
                    <a:pt x="39" y="41"/>
                  </a:lnTo>
                  <a:lnTo>
                    <a:pt x="48" y="39"/>
                  </a:lnTo>
                  <a:lnTo>
                    <a:pt x="57" y="39"/>
                  </a:lnTo>
                  <a:lnTo>
                    <a:pt x="64" y="39"/>
                  </a:lnTo>
                  <a:lnTo>
                    <a:pt x="67" y="38"/>
                  </a:lnTo>
                  <a:lnTo>
                    <a:pt x="70" y="37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67" y="28"/>
                  </a:lnTo>
                  <a:lnTo>
                    <a:pt x="65" y="26"/>
                  </a:lnTo>
                  <a:lnTo>
                    <a:pt x="63" y="26"/>
                  </a:lnTo>
                  <a:lnTo>
                    <a:pt x="51" y="29"/>
                  </a:lnTo>
                  <a:lnTo>
                    <a:pt x="42" y="31"/>
                  </a:lnTo>
                  <a:lnTo>
                    <a:pt x="32" y="31"/>
                  </a:lnTo>
                  <a:lnTo>
                    <a:pt x="25" y="29"/>
                  </a:lnTo>
                  <a:lnTo>
                    <a:pt x="19" y="29"/>
                  </a:lnTo>
                  <a:lnTo>
                    <a:pt x="14" y="28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10" y="23"/>
                  </a:lnTo>
                  <a:lnTo>
                    <a:pt x="11" y="15"/>
                  </a:lnTo>
                  <a:lnTo>
                    <a:pt x="14" y="6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34080" y="3999240"/>
              <a:ext cx="39240" cy="20880"/>
            </a:xfrm>
            <a:custGeom>
              <a:avLst/>
              <a:gdLst/>
              <a:ahLst/>
              <a:rect l="l" t="t" r="r" b="b"/>
              <a:pathLst>
                <a:path w="70" h="44">
                  <a:moveTo>
                    <a:pt x="4" y="35"/>
                  </a:moveTo>
                  <a:lnTo>
                    <a:pt x="8" y="40"/>
                  </a:lnTo>
                  <a:lnTo>
                    <a:pt x="14" y="43"/>
                  </a:lnTo>
                  <a:lnTo>
                    <a:pt x="21" y="44"/>
                  </a:lnTo>
                  <a:lnTo>
                    <a:pt x="30" y="43"/>
                  </a:lnTo>
                  <a:lnTo>
                    <a:pt x="39" y="43"/>
                  </a:lnTo>
                  <a:lnTo>
                    <a:pt x="48" y="41"/>
                  </a:lnTo>
                  <a:lnTo>
                    <a:pt x="56" y="40"/>
                  </a:lnTo>
                  <a:lnTo>
                    <a:pt x="64" y="40"/>
                  </a:lnTo>
                  <a:lnTo>
                    <a:pt x="67" y="40"/>
                  </a:lnTo>
                  <a:lnTo>
                    <a:pt x="70" y="38"/>
                  </a:lnTo>
                  <a:lnTo>
                    <a:pt x="70" y="35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8"/>
                  </a:lnTo>
                  <a:lnTo>
                    <a:pt x="51" y="30"/>
                  </a:lnTo>
                  <a:lnTo>
                    <a:pt x="42" y="31"/>
                  </a:lnTo>
                  <a:lnTo>
                    <a:pt x="32" y="31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4" y="28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10" y="24"/>
                  </a:lnTo>
                  <a:lnTo>
                    <a:pt x="11" y="16"/>
                  </a:lnTo>
                  <a:lnTo>
                    <a:pt x="14" y="8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2" y="9"/>
                  </a:lnTo>
                  <a:lnTo>
                    <a:pt x="0" y="22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86640" y="3983760"/>
              <a:ext cx="42120" cy="2772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4" y="52"/>
                  </a:moveTo>
                  <a:lnTo>
                    <a:pt x="10" y="60"/>
                  </a:lnTo>
                  <a:lnTo>
                    <a:pt x="19" y="63"/>
                  </a:lnTo>
                  <a:lnTo>
                    <a:pt x="27" y="64"/>
                  </a:lnTo>
                  <a:lnTo>
                    <a:pt x="38" y="63"/>
                  </a:lnTo>
                  <a:lnTo>
                    <a:pt x="49" y="61"/>
                  </a:lnTo>
                  <a:lnTo>
                    <a:pt x="59" y="60"/>
                  </a:lnTo>
                  <a:lnTo>
                    <a:pt x="71" y="60"/>
                  </a:lnTo>
                  <a:lnTo>
                    <a:pt x="80" y="60"/>
                  </a:lnTo>
                  <a:lnTo>
                    <a:pt x="83" y="58"/>
                  </a:lnTo>
                  <a:lnTo>
                    <a:pt x="86" y="55"/>
                  </a:lnTo>
                  <a:lnTo>
                    <a:pt x="86" y="52"/>
                  </a:lnTo>
                  <a:lnTo>
                    <a:pt x="86" y="50"/>
                  </a:lnTo>
                  <a:lnTo>
                    <a:pt x="84" y="45"/>
                  </a:lnTo>
                  <a:lnTo>
                    <a:pt x="83" y="42"/>
                  </a:lnTo>
                  <a:lnTo>
                    <a:pt x="80" y="41"/>
                  </a:lnTo>
                  <a:lnTo>
                    <a:pt x="77" y="41"/>
                  </a:lnTo>
                  <a:lnTo>
                    <a:pt x="64" y="44"/>
                  </a:lnTo>
                  <a:lnTo>
                    <a:pt x="51" y="45"/>
                  </a:lnTo>
                  <a:lnTo>
                    <a:pt x="39" y="45"/>
                  </a:lnTo>
                  <a:lnTo>
                    <a:pt x="30" y="44"/>
                  </a:lnTo>
                  <a:lnTo>
                    <a:pt x="21" y="42"/>
                  </a:lnTo>
                  <a:lnTo>
                    <a:pt x="16" y="39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11" y="34"/>
                  </a:lnTo>
                  <a:lnTo>
                    <a:pt x="13" y="23"/>
                  </a:lnTo>
                  <a:lnTo>
                    <a:pt x="17" y="10"/>
                  </a:lnTo>
                  <a:lnTo>
                    <a:pt x="26" y="2"/>
                  </a:lnTo>
                  <a:lnTo>
                    <a:pt x="13" y="0"/>
                  </a:lnTo>
                  <a:lnTo>
                    <a:pt x="2" y="13"/>
                  </a:lnTo>
                  <a:lnTo>
                    <a:pt x="0" y="34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47840" y="3989520"/>
              <a:ext cx="39240" cy="1908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3" y="38"/>
                  </a:moveTo>
                  <a:lnTo>
                    <a:pt x="7" y="42"/>
                  </a:lnTo>
                  <a:lnTo>
                    <a:pt x="14" y="45"/>
                  </a:lnTo>
                  <a:lnTo>
                    <a:pt x="22" y="45"/>
                  </a:lnTo>
                  <a:lnTo>
                    <a:pt x="29" y="45"/>
                  </a:lnTo>
                  <a:lnTo>
                    <a:pt x="38" y="44"/>
                  </a:lnTo>
                  <a:lnTo>
                    <a:pt x="46" y="42"/>
                  </a:lnTo>
                  <a:lnTo>
                    <a:pt x="54" y="42"/>
                  </a:lnTo>
                  <a:lnTo>
                    <a:pt x="61" y="42"/>
                  </a:lnTo>
                  <a:lnTo>
                    <a:pt x="63" y="41"/>
                  </a:lnTo>
                  <a:lnTo>
                    <a:pt x="65" y="39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5" y="34"/>
                  </a:lnTo>
                  <a:lnTo>
                    <a:pt x="64" y="31"/>
                  </a:lnTo>
                  <a:lnTo>
                    <a:pt x="61" y="29"/>
                  </a:lnTo>
                  <a:lnTo>
                    <a:pt x="60" y="29"/>
                  </a:lnTo>
                  <a:lnTo>
                    <a:pt x="48" y="32"/>
                  </a:lnTo>
                  <a:lnTo>
                    <a:pt x="39" y="32"/>
                  </a:lnTo>
                  <a:lnTo>
                    <a:pt x="30" y="32"/>
                  </a:lnTo>
                  <a:lnTo>
                    <a:pt x="23" y="32"/>
                  </a:lnTo>
                  <a:lnTo>
                    <a:pt x="17" y="31"/>
                  </a:lnTo>
                  <a:lnTo>
                    <a:pt x="13" y="29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1" y="18"/>
                  </a:lnTo>
                  <a:lnTo>
                    <a:pt x="16" y="9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07160" y="4024440"/>
              <a:ext cx="39240" cy="208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5" y="35"/>
                  </a:moveTo>
                  <a:lnTo>
                    <a:pt x="9" y="40"/>
                  </a:lnTo>
                  <a:lnTo>
                    <a:pt x="15" y="42"/>
                  </a:lnTo>
                  <a:lnTo>
                    <a:pt x="22" y="44"/>
                  </a:lnTo>
                  <a:lnTo>
                    <a:pt x="31" y="42"/>
                  </a:lnTo>
                  <a:lnTo>
                    <a:pt x="40" y="42"/>
                  </a:lnTo>
                  <a:lnTo>
                    <a:pt x="49" y="41"/>
                  </a:lnTo>
                  <a:lnTo>
                    <a:pt x="57" y="40"/>
                  </a:lnTo>
                  <a:lnTo>
                    <a:pt x="65" y="40"/>
                  </a:lnTo>
                  <a:lnTo>
                    <a:pt x="68" y="40"/>
                  </a:lnTo>
                  <a:lnTo>
                    <a:pt x="69" y="38"/>
                  </a:lnTo>
                  <a:lnTo>
                    <a:pt x="71" y="35"/>
                  </a:lnTo>
                  <a:lnTo>
                    <a:pt x="71" y="32"/>
                  </a:lnTo>
                  <a:lnTo>
                    <a:pt x="71" y="31"/>
                  </a:lnTo>
                  <a:lnTo>
                    <a:pt x="68" y="29"/>
                  </a:lnTo>
                  <a:lnTo>
                    <a:pt x="66" y="28"/>
                  </a:lnTo>
                  <a:lnTo>
                    <a:pt x="63" y="28"/>
                  </a:lnTo>
                  <a:lnTo>
                    <a:pt x="53" y="28"/>
                  </a:lnTo>
                  <a:lnTo>
                    <a:pt x="43" y="28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19" y="28"/>
                  </a:lnTo>
                  <a:lnTo>
                    <a:pt x="15" y="26"/>
                  </a:lnTo>
                  <a:lnTo>
                    <a:pt x="12" y="26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2" y="16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48480" y="4032360"/>
              <a:ext cx="39240" cy="18360"/>
            </a:xfrm>
            <a:custGeom>
              <a:avLst/>
              <a:gdLst/>
              <a:ahLst/>
              <a:rect l="l" t="t" r="r" b="b"/>
              <a:pathLst>
                <a:path w="68" h="43">
                  <a:moveTo>
                    <a:pt x="3" y="35"/>
                  </a:moveTo>
                  <a:lnTo>
                    <a:pt x="7" y="40"/>
                  </a:lnTo>
                  <a:lnTo>
                    <a:pt x="14" y="42"/>
                  </a:lnTo>
                  <a:lnTo>
                    <a:pt x="22" y="43"/>
                  </a:lnTo>
                  <a:lnTo>
                    <a:pt x="30" y="43"/>
                  </a:lnTo>
                  <a:lnTo>
                    <a:pt x="39" y="42"/>
                  </a:lnTo>
                  <a:lnTo>
                    <a:pt x="48" y="40"/>
                  </a:lnTo>
                  <a:lnTo>
                    <a:pt x="57" y="39"/>
                  </a:lnTo>
                  <a:lnTo>
                    <a:pt x="64" y="39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68" y="35"/>
                  </a:lnTo>
                  <a:lnTo>
                    <a:pt x="68" y="33"/>
                  </a:lnTo>
                  <a:lnTo>
                    <a:pt x="68" y="30"/>
                  </a:lnTo>
                  <a:lnTo>
                    <a:pt x="67" y="29"/>
                  </a:lnTo>
                  <a:lnTo>
                    <a:pt x="64" y="27"/>
                  </a:lnTo>
                  <a:lnTo>
                    <a:pt x="61" y="27"/>
                  </a:lnTo>
                  <a:lnTo>
                    <a:pt x="51" y="27"/>
                  </a:lnTo>
                  <a:lnTo>
                    <a:pt x="41" y="27"/>
                  </a:lnTo>
                  <a:lnTo>
                    <a:pt x="32" y="27"/>
                  </a:lnTo>
                  <a:lnTo>
                    <a:pt x="25" y="27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10" y="16"/>
                  </a:lnTo>
                  <a:lnTo>
                    <a:pt x="13" y="7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3" y="8"/>
                  </a:lnTo>
                  <a:lnTo>
                    <a:pt x="0" y="22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03120" y="4032360"/>
              <a:ext cx="39600" cy="2088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3" y="38"/>
                  </a:moveTo>
                  <a:lnTo>
                    <a:pt x="8" y="44"/>
                  </a:lnTo>
                  <a:lnTo>
                    <a:pt x="15" y="45"/>
                  </a:lnTo>
                  <a:lnTo>
                    <a:pt x="22" y="47"/>
                  </a:lnTo>
                  <a:lnTo>
                    <a:pt x="29" y="47"/>
                  </a:lnTo>
                  <a:lnTo>
                    <a:pt x="38" y="45"/>
                  </a:lnTo>
                  <a:lnTo>
                    <a:pt x="47" y="44"/>
                  </a:lnTo>
                  <a:lnTo>
                    <a:pt x="54" y="42"/>
                  </a:lnTo>
                  <a:lnTo>
                    <a:pt x="62" y="42"/>
                  </a:lnTo>
                  <a:lnTo>
                    <a:pt x="63" y="42"/>
                  </a:lnTo>
                  <a:lnTo>
                    <a:pt x="66" y="41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6" y="34"/>
                  </a:lnTo>
                  <a:lnTo>
                    <a:pt x="65" y="31"/>
                  </a:lnTo>
                  <a:lnTo>
                    <a:pt x="62" y="31"/>
                  </a:lnTo>
                  <a:lnTo>
                    <a:pt x="60" y="31"/>
                  </a:lnTo>
                  <a:lnTo>
                    <a:pt x="50" y="32"/>
                  </a:lnTo>
                  <a:lnTo>
                    <a:pt x="40" y="32"/>
                  </a:lnTo>
                  <a:lnTo>
                    <a:pt x="31" y="32"/>
                  </a:lnTo>
                  <a:lnTo>
                    <a:pt x="24" y="31"/>
                  </a:lnTo>
                  <a:lnTo>
                    <a:pt x="18" y="31"/>
                  </a:lnTo>
                  <a:lnTo>
                    <a:pt x="13" y="29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10" y="18"/>
                  </a:lnTo>
                  <a:lnTo>
                    <a:pt x="13" y="9"/>
                  </a:lnTo>
                  <a:lnTo>
                    <a:pt x="21" y="2"/>
                  </a:lnTo>
                  <a:lnTo>
                    <a:pt x="10" y="0"/>
                  </a:lnTo>
                  <a:lnTo>
                    <a:pt x="3" y="10"/>
                  </a:lnTo>
                  <a:lnTo>
                    <a:pt x="0" y="23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31840" y="4038120"/>
              <a:ext cx="39240" cy="2088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3" y="41"/>
                  </a:moveTo>
                  <a:lnTo>
                    <a:pt x="8" y="47"/>
                  </a:lnTo>
                  <a:lnTo>
                    <a:pt x="13" y="48"/>
                  </a:lnTo>
                  <a:lnTo>
                    <a:pt x="19" y="50"/>
                  </a:lnTo>
                  <a:lnTo>
                    <a:pt x="28" y="50"/>
                  </a:lnTo>
                  <a:lnTo>
                    <a:pt x="35" y="48"/>
                  </a:lnTo>
                  <a:lnTo>
                    <a:pt x="43" y="47"/>
                  </a:lnTo>
                  <a:lnTo>
                    <a:pt x="50" y="46"/>
                  </a:lnTo>
                  <a:lnTo>
                    <a:pt x="57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1"/>
                  </a:lnTo>
                  <a:lnTo>
                    <a:pt x="63" y="38"/>
                  </a:lnTo>
                  <a:lnTo>
                    <a:pt x="62" y="35"/>
                  </a:lnTo>
                  <a:lnTo>
                    <a:pt x="60" y="34"/>
                  </a:lnTo>
                  <a:lnTo>
                    <a:pt x="57" y="32"/>
                  </a:lnTo>
                  <a:lnTo>
                    <a:pt x="56" y="32"/>
                  </a:lnTo>
                  <a:lnTo>
                    <a:pt x="45" y="35"/>
                  </a:lnTo>
                  <a:lnTo>
                    <a:pt x="37" y="35"/>
                  </a:lnTo>
                  <a:lnTo>
                    <a:pt x="29" y="37"/>
                  </a:lnTo>
                  <a:lnTo>
                    <a:pt x="24" y="37"/>
                  </a:lnTo>
                  <a:lnTo>
                    <a:pt x="18" y="37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2" y="31"/>
                  </a:lnTo>
                  <a:lnTo>
                    <a:pt x="10" y="21"/>
                  </a:lnTo>
                  <a:lnTo>
                    <a:pt x="12" y="11"/>
                  </a:lnTo>
                  <a:lnTo>
                    <a:pt x="18" y="2"/>
                  </a:lnTo>
                  <a:lnTo>
                    <a:pt x="9" y="0"/>
                  </a:lnTo>
                  <a:lnTo>
                    <a:pt x="2" y="11"/>
                  </a:lnTo>
                  <a:lnTo>
                    <a:pt x="0" y="25"/>
                  </a:lnTo>
                  <a:lnTo>
                    <a:pt x="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74960" y="4045320"/>
              <a:ext cx="39240" cy="19440"/>
            </a:xfrm>
            <a:custGeom>
              <a:avLst/>
              <a:gdLst/>
              <a:ahLst/>
              <a:rect l="l" t="t" r="r" b="b"/>
              <a:pathLst>
                <a:path w="70" h="44">
                  <a:moveTo>
                    <a:pt x="4" y="37"/>
                  </a:moveTo>
                  <a:lnTo>
                    <a:pt x="9" y="41"/>
                  </a:lnTo>
                  <a:lnTo>
                    <a:pt x="15" y="44"/>
                  </a:lnTo>
                  <a:lnTo>
                    <a:pt x="22" y="44"/>
                  </a:lnTo>
                  <a:lnTo>
                    <a:pt x="31" y="44"/>
                  </a:lnTo>
                  <a:lnTo>
                    <a:pt x="39" y="43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40"/>
                  </a:lnTo>
                  <a:lnTo>
                    <a:pt x="69" y="38"/>
                  </a:lnTo>
                  <a:lnTo>
                    <a:pt x="70" y="35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67" y="30"/>
                  </a:lnTo>
                  <a:lnTo>
                    <a:pt x="66" y="28"/>
                  </a:lnTo>
                  <a:lnTo>
                    <a:pt x="63" y="28"/>
                  </a:lnTo>
                  <a:lnTo>
                    <a:pt x="51" y="30"/>
                  </a:lnTo>
                  <a:lnTo>
                    <a:pt x="42" y="31"/>
                  </a:lnTo>
                  <a:lnTo>
                    <a:pt x="32" y="31"/>
                  </a:lnTo>
                  <a:lnTo>
                    <a:pt x="25" y="30"/>
                  </a:lnTo>
                  <a:lnTo>
                    <a:pt x="19" y="30"/>
                  </a:lnTo>
                  <a:lnTo>
                    <a:pt x="15" y="28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10" y="24"/>
                  </a:lnTo>
                  <a:lnTo>
                    <a:pt x="12" y="16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3" y="9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17000" y="4043880"/>
              <a:ext cx="40680" cy="20880"/>
            </a:xfrm>
            <a:custGeom>
              <a:avLst/>
              <a:gdLst/>
              <a:ahLst/>
              <a:rect l="l" t="t" r="r" b="b"/>
              <a:pathLst>
                <a:path w="83" h="50">
                  <a:moveTo>
                    <a:pt x="4" y="41"/>
                  </a:moveTo>
                  <a:lnTo>
                    <a:pt x="10" y="45"/>
                  </a:lnTo>
                  <a:lnTo>
                    <a:pt x="17" y="48"/>
                  </a:lnTo>
                  <a:lnTo>
                    <a:pt x="26" y="50"/>
                  </a:lnTo>
                  <a:lnTo>
                    <a:pt x="36" y="48"/>
                  </a:lnTo>
                  <a:lnTo>
                    <a:pt x="48" y="47"/>
                  </a:lnTo>
                  <a:lnTo>
                    <a:pt x="58" y="45"/>
                  </a:lnTo>
                  <a:lnTo>
                    <a:pt x="68" y="45"/>
                  </a:lnTo>
                  <a:lnTo>
                    <a:pt x="77" y="45"/>
                  </a:lnTo>
                  <a:lnTo>
                    <a:pt x="80" y="44"/>
                  </a:lnTo>
                  <a:lnTo>
                    <a:pt x="83" y="42"/>
                  </a:lnTo>
                  <a:lnTo>
                    <a:pt x="83" y="39"/>
                  </a:lnTo>
                  <a:lnTo>
                    <a:pt x="83" y="36"/>
                  </a:lnTo>
                  <a:lnTo>
                    <a:pt x="81" y="34"/>
                  </a:lnTo>
                  <a:lnTo>
                    <a:pt x="80" y="32"/>
                  </a:lnTo>
                  <a:lnTo>
                    <a:pt x="77" y="31"/>
                  </a:lnTo>
                  <a:lnTo>
                    <a:pt x="74" y="31"/>
                  </a:lnTo>
                  <a:lnTo>
                    <a:pt x="61" y="34"/>
                  </a:lnTo>
                  <a:lnTo>
                    <a:pt x="49" y="34"/>
                  </a:lnTo>
                  <a:lnTo>
                    <a:pt x="38" y="34"/>
                  </a:lnTo>
                  <a:lnTo>
                    <a:pt x="29" y="34"/>
                  </a:lnTo>
                  <a:lnTo>
                    <a:pt x="22" y="32"/>
                  </a:lnTo>
                  <a:lnTo>
                    <a:pt x="16" y="31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3" y="17"/>
                  </a:lnTo>
                  <a:lnTo>
                    <a:pt x="16" y="7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4" y="9"/>
                  </a:lnTo>
                  <a:lnTo>
                    <a:pt x="0" y="25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65880" y="4048200"/>
              <a:ext cx="39240" cy="16560"/>
            </a:xfrm>
            <a:custGeom>
              <a:avLst/>
              <a:gdLst/>
              <a:ahLst/>
              <a:rect l="l" t="t" r="r" b="b"/>
              <a:pathLst>
                <a:path w="58" h="41">
                  <a:moveTo>
                    <a:pt x="3" y="33"/>
                  </a:moveTo>
                  <a:lnTo>
                    <a:pt x="7" y="38"/>
                  </a:lnTo>
                  <a:lnTo>
                    <a:pt x="13" y="39"/>
                  </a:lnTo>
                  <a:lnTo>
                    <a:pt x="19" y="41"/>
                  </a:lnTo>
                  <a:lnTo>
                    <a:pt x="26" y="39"/>
                  </a:lnTo>
                  <a:lnTo>
                    <a:pt x="34" y="39"/>
                  </a:lnTo>
                  <a:lnTo>
                    <a:pt x="41" y="38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5" y="36"/>
                  </a:lnTo>
                  <a:lnTo>
                    <a:pt x="57" y="35"/>
                  </a:lnTo>
                  <a:lnTo>
                    <a:pt x="58" y="32"/>
                  </a:lnTo>
                  <a:lnTo>
                    <a:pt x="58" y="30"/>
                  </a:lnTo>
                  <a:lnTo>
                    <a:pt x="58" y="29"/>
                  </a:lnTo>
                  <a:lnTo>
                    <a:pt x="57" y="26"/>
                  </a:lnTo>
                  <a:lnTo>
                    <a:pt x="54" y="26"/>
                  </a:lnTo>
                  <a:lnTo>
                    <a:pt x="53" y="26"/>
                  </a:lnTo>
                  <a:lnTo>
                    <a:pt x="44" y="27"/>
                  </a:lnTo>
                  <a:lnTo>
                    <a:pt x="35" y="29"/>
                  </a:lnTo>
                  <a:lnTo>
                    <a:pt x="28" y="27"/>
                  </a:lnTo>
                  <a:lnTo>
                    <a:pt x="20" y="27"/>
                  </a:lnTo>
                  <a:lnTo>
                    <a:pt x="16" y="26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9" y="22"/>
                  </a:lnTo>
                  <a:lnTo>
                    <a:pt x="9" y="14"/>
                  </a:lnTo>
                  <a:lnTo>
                    <a:pt x="12" y="7"/>
                  </a:lnTo>
                  <a:lnTo>
                    <a:pt x="18" y="1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20"/>
                  </a:lnTo>
                  <a:lnTo>
                    <a:pt x="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6560" y="4050720"/>
              <a:ext cx="39240" cy="20880"/>
            </a:xfrm>
            <a:custGeom>
              <a:avLst/>
              <a:gdLst/>
              <a:ahLst/>
              <a:rect l="l" t="t" r="r" b="b"/>
              <a:pathLst>
                <a:path w="70" h="45">
                  <a:moveTo>
                    <a:pt x="5" y="38"/>
                  </a:moveTo>
                  <a:lnTo>
                    <a:pt x="9" y="42"/>
                  </a:lnTo>
                  <a:lnTo>
                    <a:pt x="15" y="45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4"/>
                  </a:lnTo>
                  <a:lnTo>
                    <a:pt x="48" y="42"/>
                  </a:lnTo>
                  <a:lnTo>
                    <a:pt x="57" y="42"/>
                  </a:lnTo>
                  <a:lnTo>
                    <a:pt x="64" y="42"/>
                  </a:lnTo>
                  <a:lnTo>
                    <a:pt x="67" y="41"/>
                  </a:lnTo>
                  <a:lnTo>
                    <a:pt x="69" y="39"/>
                  </a:lnTo>
                  <a:lnTo>
                    <a:pt x="70" y="36"/>
                  </a:lnTo>
                  <a:lnTo>
                    <a:pt x="70" y="35"/>
                  </a:lnTo>
                  <a:lnTo>
                    <a:pt x="70" y="33"/>
                  </a:lnTo>
                  <a:lnTo>
                    <a:pt x="67" y="31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51" y="32"/>
                  </a:lnTo>
                  <a:lnTo>
                    <a:pt x="43" y="32"/>
                  </a:lnTo>
                  <a:lnTo>
                    <a:pt x="32" y="32"/>
                  </a:lnTo>
                  <a:lnTo>
                    <a:pt x="25" y="32"/>
                  </a:lnTo>
                  <a:lnTo>
                    <a:pt x="19" y="31"/>
                  </a:lnTo>
                  <a:lnTo>
                    <a:pt x="15" y="29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12" y="16"/>
                  </a:lnTo>
                  <a:lnTo>
                    <a:pt x="15" y="7"/>
                  </a:lnTo>
                  <a:lnTo>
                    <a:pt x="22" y="1"/>
                  </a:lnTo>
                  <a:lnTo>
                    <a:pt x="12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23440" y="3929400"/>
              <a:ext cx="72720" cy="143640"/>
            </a:xfrm>
            <a:custGeom>
              <a:avLst/>
              <a:gdLst/>
              <a:ahLst/>
              <a:rect l="l" t="t" r="r" b="b"/>
              <a:pathLst>
                <a:path w="149" h="324">
                  <a:moveTo>
                    <a:pt x="130" y="86"/>
                  </a:moveTo>
                  <a:lnTo>
                    <a:pt x="119" y="96"/>
                  </a:lnTo>
                  <a:lnTo>
                    <a:pt x="109" y="107"/>
                  </a:lnTo>
                  <a:lnTo>
                    <a:pt x="100" y="120"/>
                  </a:lnTo>
                  <a:lnTo>
                    <a:pt x="91" y="131"/>
                  </a:lnTo>
                  <a:lnTo>
                    <a:pt x="76" y="152"/>
                  </a:lnTo>
                  <a:lnTo>
                    <a:pt x="63" y="174"/>
                  </a:lnTo>
                  <a:lnTo>
                    <a:pt x="50" y="195"/>
                  </a:lnTo>
                  <a:lnTo>
                    <a:pt x="40" y="216"/>
                  </a:lnTo>
                  <a:lnTo>
                    <a:pt x="28" y="239"/>
                  </a:lnTo>
                  <a:lnTo>
                    <a:pt x="18" y="261"/>
                  </a:lnTo>
                  <a:lnTo>
                    <a:pt x="9" y="283"/>
                  </a:lnTo>
                  <a:lnTo>
                    <a:pt x="0" y="306"/>
                  </a:lnTo>
                  <a:lnTo>
                    <a:pt x="0" y="312"/>
                  </a:lnTo>
                  <a:lnTo>
                    <a:pt x="3" y="318"/>
                  </a:lnTo>
                  <a:lnTo>
                    <a:pt x="8" y="322"/>
                  </a:lnTo>
                  <a:lnTo>
                    <a:pt x="12" y="324"/>
                  </a:lnTo>
                  <a:lnTo>
                    <a:pt x="18" y="324"/>
                  </a:lnTo>
                  <a:lnTo>
                    <a:pt x="22" y="321"/>
                  </a:lnTo>
                  <a:lnTo>
                    <a:pt x="25" y="316"/>
                  </a:lnTo>
                  <a:lnTo>
                    <a:pt x="28" y="312"/>
                  </a:lnTo>
                  <a:lnTo>
                    <a:pt x="31" y="306"/>
                  </a:lnTo>
                  <a:lnTo>
                    <a:pt x="38" y="293"/>
                  </a:lnTo>
                  <a:lnTo>
                    <a:pt x="46" y="277"/>
                  </a:lnTo>
                  <a:lnTo>
                    <a:pt x="52" y="262"/>
                  </a:lnTo>
                  <a:lnTo>
                    <a:pt x="62" y="238"/>
                  </a:lnTo>
                  <a:lnTo>
                    <a:pt x="75" y="211"/>
                  </a:lnTo>
                  <a:lnTo>
                    <a:pt x="91" y="185"/>
                  </a:lnTo>
                  <a:lnTo>
                    <a:pt x="107" y="159"/>
                  </a:lnTo>
                  <a:lnTo>
                    <a:pt x="122" y="136"/>
                  </a:lnTo>
                  <a:lnTo>
                    <a:pt x="133" y="118"/>
                  </a:lnTo>
                  <a:lnTo>
                    <a:pt x="142" y="105"/>
                  </a:lnTo>
                  <a:lnTo>
                    <a:pt x="145" y="101"/>
                  </a:lnTo>
                  <a:lnTo>
                    <a:pt x="148" y="98"/>
                  </a:lnTo>
                  <a:lnTo>
                    <a:pt x="149" y="95"/>
                  </a:lnTo>
                  <a:lnTo>
                    <a:pt x="149" y="92"/>
                  </a:lnTo>
                  <a:lnTo>
                    <a:pt x="148" y="89"/>
                  </a:lnTo>
                  <a:lnTo>
                    <a:pt x="144" y="79"/>
                  </a:lnTo>
                  <a:lnTo>
                    <a:pt x="133" y="56"/>
                  </a:lnTo>
                  <a:lnTo>
                    <a:pt x="120" y="27"/>
                  </a:lnTo>
                  <a:lnTo>
                    <a:pt x="109" y="0"/>
                  </a:lnTo>
                  <a:lnTo>
                    <a:pt x="100" y="15"/>
                  </a:lnTo>
                  <a:lnTo>
                    <a:pt x="98" y="29"/>
                  </a:lnTo>
                  <a:lnTo>
                    <a:pt x="101" y="44"/>
                  </a:lnTo>
                  <a:lnTo>
                    <a:pt x="107" y="57"/>
                  </a:lnTo>
                  <a:lnTo>
                    <a:pt x="114" y="69"/>
                  </a:lnTo>
                  <a:lnTo>
                    <a:pt x="123" y="77"/>
                  </a:lnTo>
                  <a:lnTo>
                    <a:pt x="128" y="85"/>
                  </a:lnTo>
                  <a:lnTo>
                    <a:pt x="13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82720" y="3918240"/>
              <a:ext cx="587160" cy="73800"/>
            </a:xfrm>
            <a:custGeom>
              <a:avLst/>
              <a:gdLst/>
              <a:ahLst/>
              <a:rect l="l" t="t" r="r" b="b"/>
              <a:pathLst>
                <a:path w="1207" h="167">
                  <a:moveTo>
                    <a:pt x="655" y="129"/>
                  </a:moveTo>
                  <a:lnTo>
                    <a:pt x="692" y="126"/>
                  </a:lnTo>
                  <a:lnTo>
                    <a:pt x="731" y="123"/>
                  </a:lnTo>
                  <a:lnTo>
                    <a:pt x="774" y="119"/>
                  </a:lnTo>
                  <a:lnTo>
                    <a:pt x="816" y="113"/>
                  </a:lnTo>
                  <a:lnTo>
                    <a:pt x="860" y="106"/>
                  </a:lnTo>
                  <a:lnTo>
                    <a:pt x="904" y="99"/>
                  </a:lnTo>
                  <a:lnTo>
                    <a:pt x="947" y="91"/>
                  </a:lnTo>
                  <a:lnTo>
                    <a:pt x="990" y="84"/>
                  </a:lnTo>
                  <a:lnTo>
                    <a:pt x="1029" y="75"/>
                  </a:lnTo>
                  <a:lnTo>
                    <a:pt x="1067" y="67"/>
                  </a:lnTo>
                  <a:lnTo>
                    <a:pt x="1102" y="59"/>
                  </a:lnTo>
                  <a:lnTo>
                    <a:pt x="1133" y="51"/>
                  </a:lnTo>
                  <a:lnTo>
                    <a:pt x="1159" y="43"/>
                  </a:lnTo>
                  <a:lnTo>
                    <a:pt x="1180" y="37"/>
                  </a:lnTo>
                  <a:lnTo>
                    <a:pt x="1196" y="32"/>
                  </a:lnTo>
                  <a:lnTo>
                    <a:pt x="1204" y="26"/>
                  </a:lnTo>
                  <a:lnTo>
                    <a:pt x="1207" y="20"/>
                  </a:lnTo>
                  <a:lnTo>
                    <a:pt x="1207" y="14"/>
                  </a:lnTo>
                  <a:lnTo>
                    <a:pt x="1203" y="7"/>
                  </a:lnTo>
                  <a:lnTo>
                    <a:pt x="1194" y="0"/>
                  </a:lnTo>
                  <a:lnTo>
                    <a:pt x="1190" y="1"/>
                  </a:lnTo>
                  <a:lnTo>
                    <a:pt x="1183" y="2"/>
                  </a:lnTo>
                  <a:lnTo>
                    <a:pt x="1172" y="5"/>
                  </a:lnTo>
                  <a:lnTo>
                    <a:pt x="1161" y="10"/>
                  </a:lnTo>
                  <a:lnTo>
                    <a:pt x="1146" y="16"/>
                  </a:lnTo>
                  <a:lnTo>
                    <a:pt x="1130" y="20"/>
                  </a:lnTo>
                  <a:lnTo>
                    <a:pt x="1112" y="26"/>
                  </a:lnTo>
                  <a:lnTo>
                    <a:pt x="1095" y="33"/>
                  </a:lnTo>
                  <a:lnTo>
                    <a:pt x="1076" y="39"/>
                  </a:lnTo>
                  <a:lnTo>
                    <a:pt x="1055" y="45"/>
                  </a:lnTo>
                  <a:lnTo>
                    <a:pt x="1035" y="52"/>
                  </a:lnTo>
                  <a:lnTo>
                    <a:pt x="1015" y="56"/>
                  </a:lnTo>
                  <a:lnTo>
                    <a:pt x="996" y="62"/>
                  </a:lnTo>
                  <a:lnTo>
                    <a:pt x="977" y="67"/>
                  </a:lnTo>
                  <a:lnTo>
                    <a:pt x="958" y="69"/>
                  </a:lnTo>
                  <a:lnTo>
                    <a:pt x="940" y="72"/>
                  </a:lnTo>
                  <a:lnTo>
                    <a:pt x="918" y="75"/>
                  </a:lnTo>
                  <a:lnTo>
                    <a:pt x="889" y="78"/>
                  </a:lnTo>
                  <a:lnTo>
                    <a:pt x="854" y="83"/>
                  </a:lnTo>
                  <a:lnTo>
                    <a:pt x="813" y="85"/>
                  </a:lnTo>
                  <a:lnTo>
                    <a:pt x="768" y="90"/>
                  </a:lnTo>
                  <a:lnTo>
                    <a:pt x="720" y="94"/>
                  </a:lnTo>
                  <a:lnTo>
                    <a:pt x="670" y="100"/>
                  </a:lnTo>
                  <a:lnTo>
                    <a:pt x="617" y="104"/>
                  </a:lnTo>
                  <a:lnTo>
                    <a:pt x="566" y="109"/>
                  </a:lnTo>
                  <a:lnTo>
                    <a:pt x="514" y="115"/>
                  </a:lnTo>
                  <a:lnTo>
                    <a:pt x="464" y="119"/>
                  </a:lnTo>
                  <a:lnTo>
                    <a:pt x="416" y="123"/>
                  </a:lnTo>
                  <a:lnTo>
                    <a:pt x="372" y="128"/>
                  </a:lnTo>
                  <a:lnTo>
                    <a:pt x="333" y="132"/>
                  </a:lnTo>
                  <a:lnTo>
                    <a:pt x="299" y="136"/>
                  </a:lnTo>
                  <a:lnTo>
                    <a:pt x="271" y="139"/>
                  </a:lnTo>
                  <a:lnTo>
                    <a:pt x="254" y="141"/>
                  </a:lnTo>
                  <a:lnTo>
                    <a:pt x="233" y="144"/>
                  </a:lnTo>
                  <a:lnTo>
                    <a:pt x="213" y="145"/>
                  </a:lnTo>
                  <a:lnTo>
                    <a:pt x="191" y="145"/>
                  </a:lnTo>
                  <a:lnTo>
                    <a:pt x="169" y="147"/>
                  </a:lnTo>
                  <a:lnTo>
                    <a:pt x="147" y="148"/>
                  </a:lnTo>
                  <a:lnTo>
                    <a:pt x="125" y="150"/>
                  </a:lnTo>
                  <a:lnTo>
                    <a:pt x="103" y="150"/>
                  </a:lnTo>
                  <a:lnTo>
                    <a:pt x="83" y="151"/>
                  </a:lnTo>
                  <a:lnTo>
                    <a:pt x="64" y="151"/>
                  </a:lnTo>
                  <a:lnTo>
                    <a:pt x="46" y="152"/>
                  </a:lnTo>
                  <a:lnTo>
                    <a:pt x="32" y="154"/>
                  </a:lnTo>
                  <a:lnTo>
                    <a:pt x="19" y="155"/>
                  </a:lnTo>
                  <a:lnTo>
                    <a:pt x="8" y="157"/>
                  </a:lnTo>
                  <a:lnTo>
                    <a:pt x="3" y="158"/>
                  </a:lnTo>
                  <a:lnTo>
                    <a:pt x="0" y="161"/>
                  </a:lnTo>
                  <a:lnTo>
                    <a:pt x="13" y="164"/>
                  </a:lnTo>
                  <a:lnTo>
                    <a:pt x="33" y="167"/>
                  </a:lnTo>
                  <a:lnTo>
                    <a:pt x="59" y="167"/>
                  </a:lnTo>
                  <a:lnTo>
                    <a:pt x="92" y="167"/>
                  </a:lnTo>
                  <a:lnTo>
                    <a:pt x="130" y="166"/>
                  </a:lnTo>
                  <a:lnTo>
                    <a:pt x="170" y="163"/>
                  </a:lnTo>
                  <a:lnTo>
                    <a:pt x="216" y="161"/>
                  </a:lnTo>
                  <a:lnTo>
                    <a:pt x="264" y="157"/>
                  </a:lnTo>
                  <a:lnTo>
                    <a:pt x="314" y="154"/>
                  </a:lnTo>
                  <a:lnTo>
                    <a:pt x="365" y="150"/>
                  </a:lnTo>
                  <a:lnTo>
                    <a:pt x="416" y="145"/>
                  </a:lnTo>
                  <a:lnTo>
                    <a:pt x="467" y="141"/>
                  </a:lnTo>
                  <a:lnTo>
                    <a:pt x="518" y="138"/>
                  </a:lnTo>
                  <a:lnTo>
                    <a:pt x="566" y="135"/>
                  </a:lnTo>
                  <a:lnTo>
                    <a:pt x="613" y="132"/>
                  </a:lnTo>
                  <a:lnTo>
                    <a:pt x="655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5600" y="3993480"/>
              <a:ext cx="168840" cy="16056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0" y="51"/>
                  </a:moveTo>
                  <a:lnTo>
                    <a:pt x="16" y="41"/>
                  </a:lnTo>
                  <a:lnTo>
                    <a:pt x="36" y="32"/>
                  </a:lnTo>
                  <a:lnTo>
                    <a:pt x="63" y="24"/>
                  </a:lnTo>
                  <a:lnTo>
                    <a:pt x="92" y="16"/>
                  </a:lnTo>
                  <a:lnTo>
                    <a:pt x="122" y="11"/>
                  </a:lnTo>
                  <a:lnTo>
                    <a:pt x="156" y="5"/>
                  </a:lnTo>
                  <a:lnTo>
                    <a:pt x="188" y="2"/>
                  </a:lnTo>
                  <a:lnTo>
                    <a:pt x="220" y="0"/>
                  </a:lnTo>
                  <a:lnTo>
                    <a:pt x="238" y="28"/>
                  </a:lnTo>
                  <a:lnTo>
                    <a:pt x="257" y="60"/>
                  </a:lnTo>
                  <a:lnTo>
                    <a:pt x="276" y="97"/>
                  </a:lnTo>
                  <a:lnTo>
                    <a:pt x="295" y="136"/>
                  </a:lnTo>
                  <a:lnTo>
                    <a:pt x="312" y="175"/>
                  </a:lnTo>
                  <a:lnTo>
                    <a:pt x="327" y="214"/>
                  </a:lnTo>
                  <a:lnTo>
                    <a:pt x="339" y="252"/>
                  </a:lnTo>
                  <a:lnTo>
                    <a:pt x="347" y="287"/>
                  </a:lnTo>
                  <a:lnTo>
                    <a:pt x="324" y="292"/>
                  </a:lnTo>
                  <a:lnTo>
                    <a:pt x="299" y="300"/>
                  </a:lnTo>
                  <a:lnTo>
                    <a:pt x="270" y="312"/>
                  </a:lnTo>
                  <a:lnTo>
                    <a:pt x="242" y="325"/>
                  </a:lnTo>
                  <a:lnTo>
                    <a:pt x="213" y="337"/>
                  </a:lnTo>
                  <a:lnTo>
                    <a:pt x="187" y="348"/>
                  </a:lnTo>
                  <a:lnTo>
                    <a:pt x="163" y="359"/>
                  </a:lnTo>
                  <a:lnTo>
                    <a:pt x="143" y="364"/>
                  </a:lnTo>
                  <a:lnTo>
                    <a:pt x="130" y="344"/>
                  </a:lnTo>
                  <a:lnTo>
                    <a:pt x="112" y="306"/>
                  </a:lnTo>
                  <a:lnTo>
                    <a:pt x="95" y="258"/>
                  </a:lnTo>
                  <a:lnTo>
                    <a:pt x="74" y="206"/>
                  </a:lnTo>
                  <a:lnTo>
                    <a:pt x="54" y="152"/>
                  </a:lnTo>
                  <a:lnTo>
                    <a:pt x="33" y="105"/>
                  </a:lnTo>
                  <a:lnTo>
                    <a:pt x="16" y="7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7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34760" y="4001760"/>
              <a:ext cx="66960" cy="52920"/>
            </a:xfrm>
            <a:custGeom>
              <a:avLst/>
              <a:gdLst/>
              <a:ahLst/>
              <a:rect l="l" t="t" r="r" b="b"/>
              <a:pathLst>
                <a:path w="140" h="120">
                  <a:moveTo>
                    <a:pt x="13" y="120"/>
                  </a:moveTo>
                  <a:lnTo>
                    <a:pt x="29" y="118"/>
                  </a:lnTo>
                  <a:lnTo>
                    <a:pt x="47" y="114"/>
                  </a:lnTo>
                  <a:lnTo>
                    <a:pt x="64" y="107"/>
                  </a:lnTo>
                  <a:lnTo>
                    <a:pt x="83" y="98"/>
                  </a:lnTo>
                  <a:lnTo>
                    <a:pt x="101" y="89"/>
                  </a:lnTo>
                  <a:lnTo>
                    <a:pt x="117" y="79"/>
                  </a:lnTo>
                  <a:lnTo>
                    <a:pt x="130" y="70"/>
                  </a:lnTo>
                  <a:lnTo>
                    <a:pt x="140" y="63"/>
                  </a:lnTo>
                  <a:lnTo>
                    <a:pt x="140" y="54"/>
                  </a:lnTo>
                  <a:lnTo>
                    <a:pt x="139" y="44"/>
                  </a:lnTo>
                  <a:lnTo>
                    <a:pt x="135" y="32"/>
                  </a:lnTo>
                  <a:lnTo>
                    <a:pt x="127" y="22"/>
                  </a:lnTo>
                  <a:lnTo>
                    <a:pt x="120" y="13"/>
                  </a:lnTo>
                  <a:lnTo>
                    <a:pt x="111" y="6"/>
                  </a:lnTo>
                  <a:lnTo>
                    <a:pt x="104" y="2"/>
                  </a:lnTo>
                  <a:lnTo>
                    <a:pt x="95" y="0"/>
                  </a:lnTo>
                  <a:lnTo>
                    <a:pt x="82" y="5"/>
                  </a:lnTo>
                  <a:lnTo>
                    <a:pt x="70" y="10"/>
                  </a:lnTo>
                  <a:lnTo>
                    <a:pt x="62" y="15"/>
                  </a:lnTo>
                  <a:lnTo>
                    <a:pt x="60" y="19"/>
                  </a:lnTo>
                  <a:lnTo>
                    <a:pt x="63" y="22"/>
                  </a:lnTo>
                  <a:lnTo>
                    <a:pt x="66" y="24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6" y="22"/>
                  </a:lnTo>
                  <a:lnTo>
                    <a:pt x="83" y="19"/>
                  </a:lnTo>
                  <a:lnTo>
                    <a:pt x="89" y="16"/>
                  </a:lnTo>
                  <a:lnTo>
                    <a:pt x="92" y="15"/>
                  </a:lnTo>
                  <a:lnTo>
                    <a:pt x="97" y="19"/>
                  </a:lnTo>
                  <a:lnTo>
                    <a:pt x="105" y="31"/>
                  </a:lnTo>
                  <a:lnTo>
                    <a:pt x="113" y="47"/>
                  </a:lnTo>
                  <a:lnTo>
                    <a:pt x="111" y="63"/>
                  </a:lnTo>
                  <a:lnTo>
                    <a:pt x="101" y="67"/>
                  </a:lnTo>
                  <a:lnTo>
                    <a:pt x="88" y="73"/>
                  </a:lnTo>
                  <a:lnTo>
                    <a:pt x="73" y="77"/>
                  </a:lnTo>
                  <a:lnTo>
                    <a:pt x="57" y="83"/>
                  </a:lnTo>
                  <a:lnTo>
                    <a:pt x="41" y="89"/>
                  </a:lnTo>
                  <a:lnTo>
                    <a:pt x="29" y="92"/>
                  </a:lnTo>
                  <a:lnTo>
                    <a:pt x="21" y="95"/>
                  </a:lnTo>
                  <a:lnTo>
                    <a:pt x="16" y="96"/>
                  </a:lnTo>
                  <a:lnTo>
                    <a:pt x="16" y="95"/>
                  </a:lnTo>
                  <a:lnTo>
                    <a:pt x="16" y="89"/>
                  </a:lnTo>
                  <a:lnTo>
                    <a:pt x="13" y="85"/>
                  </a:lnTo>
                  <a:lnTo>
                    <a:pt x="7" y="83"/>
                  </a:lnTo>
                  <a:lnTo>
                    <a:pt x="0" y="96"/>
                  </a:lnTo>
                  <a:lnTo>
                    <a:pt x="3" y="108"/>
                  </a:lnTo>
                  <a:lnTo>
                    <a:pt x="9" y="117"/>
                  </a:lnTo>
                  <a:lnTo>
                    <a:pt x="13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52600" y="3853800"/>
              <a:ext cx="365400" cy="131400"/>
            </a:xfrm>
            <a:custGeom>
              <a:avLst/>
              <a:gdLst/>
              <a:ahLst/>
              <a:rect l="l" t="t" r="r" b="b"/>
              <a:pathLst>
                <a:path w="753" h="296">
                  <a:moveTo>
                    <a:pt x="48" y="271"/>
                  </a:moveTo>
                  <a:lnTo>
                    <a:pt x="67" y="260"/>
                  </a:lnTo>
                  <a:lnTo>
                    <a:pt x="85" y="248"/>
                  </a:lnTo>
                  <a:lnTo>
                    <a:pt x="102" y="235"/>
                  </a:lnTo>
                  <a:lnTo>
                    <a:pt x="121" y="223"/>
                  </a:lnTo>
                  <a:lnTo>
                    <a:pt x="139" y="210"/>
                  </a:lnTo>
                  <a:lnTo>
                    <a:pt x="156" y="198"/>
                  </a:lnTo>
                  <a:lnTo>
                    <a:pt x="174" y="185"/>
                  </a:lnTo>
                  <a:lnTo>
                    <a:pt x="191" y="174"/>
                  </a:lnTo>
                  <a:lnTo>
                    <a:pt x="209" y="161"/>
                  </a:lnTo>
                  <a:lnTo>
                    <a:pt x="228" y="149"/>
                  </a:lnTo>
                  <a:lnTo>
                    <a:pt x="245" y="137"/>
                  </a:lnTo>
                  <a:lnTo>
                    <a:pt x="264" y="127"/>
                  </a:lnTo>
                  <a:lnTo>
                    <a:pt x="282" y="115"/>
                  </a:lnTo>
                  <a:lnTo>
                    <a:pt x="301" y="105"/>
                  </a:lnTo>
                  <a:lnTo>
                    <a:pt x="320" y="95"/>
                  </a:lnTo>
                  <a:lnTo>
                    <a:pt x="340" y="86"/>
                  </a:lnTo>
                  <a:lnTo>
                    <a:pt x="355" y="80"/>
                  </a:lnTo>
                  <a:lnTo>
                    <a:pt x="369" y="73"/>
                  </a:lnTo>
                  <a:lnTo>
                    <a:pt x="384" y="67"/>
                  </a:lnTo>
                  <a:lnTo>
                    <a:pt x="399" y="62"/>
                  </a:lnTo>
                  <a:lnTo>
                    <a:pt x="413" y="56"/>
                  </a:lnTo>
                  <a:lnTo>
                    <a:pt x="428" y="51"/>
                  </a:lnTo>
                  <a:lnTo>
                    <a:pt x="442" y="46"/>
                  </a:lnTo>
                  <a:lnTo>
                    <a:pt x="458" y="41"/>
                  </a:lnTo>
                  <a:lnTo>
                    <a:pt x="473" y="38"/>
                  </a:lnTo>
                  <a:lnTo>
                    <a:pt x="488" y="34"/>
                  </a:lnTo>
                  <a:lnTo>
                    <a:pt x="502" y="31"/>
                  </a:lnTo>
                  <a:lnTo>
                    <a:pt x="518" y="28"/>
                  </a:lnTo>
                  <a:lnTo>
                    <a:pt x="533" y="25"/>
                  </a:lnTo>
                  <a:lnTo>
                    <a:pt x="549" y="24"/>
                  </a:lnTo>
                  <a:lnTo>
                    <a:pt x="564" y="22"/>
                  </a:lnTo>
                  <a:lnTo>
                    <a:pt x="580" y="22"/>
                  </a:lnTo>
                  <a:lnTo>
                    <a:pt x="600" y="22"/>
                  </a:lnTo>
                  <a:lnTo>
                    <a:pt x="621" y="22"/>
                  </a:lnTo>
                  <a:lnTo>
                    <a:pt x="642" y="25"/>
                  </a:lnTo>
                  <a:lnTo>
                    <a:pt x="663" y="30"/>
                  </a:lnTo>
                  <a:lnTo>
                    <a:pt x="683" y="37"/>
                  </a:lnTo>
                  <a:lnTo>
                    <a:pt x="701" y="47"/>
                  </a:lnTo>
                  <a:lnTo>
                    <a:pt x="717" y="62"/>
                  </a:lnTo>
                  <a:lnTo>
                    <a:pt x="730" y="79"/>
                  </a:lnTo>
                  <a:lnTo>
                    <a:pt x="729" y="95"/>
                  </a:lnTo>
                  <a:lnTo>
                    <a:pt x="720" y="110"/>
                  </a:lnTo>
                  <a:lnTo>
                    <a:pt x="710" y="121"/>
                  </a:lnTo>
                  <a:lnTo>
                    <a:pt x="698" y="130"/>
                  </a:lnTo>
                  <a:lnTo>
                    <a:pt x="685" y="139"/>
                  </a:lnTo>
                  <a:lnTo>
                    <a:pt x="669" y="145"/>
                  </a:lnTo>
                  <a:lnTo>
                    <a:pt x="654" y="150"/>
                  </a:lnTo>
                  <a:lnTo>
                    <a:pt x="638" y="156"/>
                  </a:lnTo>
                  <a:lnTo>
                    <a:pt x="622" y="161"/>
                  </a:lnTo>
                  <a:lnTo>
                    <a:pt x="596" y="168"/>
                  </a:lnTo>
                  <a:lnTo>
                    <a:pt x="569" y="174"/>
                  </a:lnTo>
                  <a:lnTo>
                    <a:pt x="543" y="178"/>
                  </a:lnTo>
                  <a:lnTo>
                    <a:pt x="517" y="182"/>
                  </a:lnTo>
                  <a:lnTo>
                    <a:pt x="491" y="188"/>
                  </a:lnTo>
                  <a:lnTo>
                    <a:pt x="464" y="194"/>
                  </a:lnTo>
                  <a:lnTo>
                    <a:pt x="438" y="203"/>
                  </a:lnTo>
                  <a:lnTo>
                    <a:pt x="413" y="213"/>
                  </a:lnTo>
                  <a:lnTo>
                    <a:pt x="401" y="219"/>
                  </a:lnTo>
                  <a:lnTo>
                    <a:pt x="385" y="228"/>
                  </a:lnTo>
                  <a:lnTo>
                    <a:pt x="368" y="238"/>
                  </a:lnTo>
                  <a:lnTo>
                    <a:pt x="352" y="249"/>
                  </a:lnTo>
                  <a:lnTo>
                    <a:pt x="342" y="261"/>
                  </a:lnTo>
                  <a:lnTo>
                    <a:pt x="339" y="273"/>
                  </a:lnTo>
                  <a:lnTo>
                    <a:pt x="347" y="283"/>
                  </a:lnTo>
                  <a:lnTo>
                    <a:pt x="369" y="290"/>
                  </a:lnTo>
                  <a:lnTo>
                    <a:pt x="378" y="292"/>
                  </a:lnTo>
                  <a:lnTo>
                    <a:pt x="387" y="293"/>
                  </a:lnTo>
                  <a:lnTo>
                    <a:pt x="393" y="295"/>
                  </a:lnTo>
                  <a:lnTo>
                    <a:pt x="400" y="295"/>
                  </a:lnTo>
                  <a:lnTo>
                    <a:pt x="406" y="296"/>
                  </a:lnTo>
                  <a:lnTo>
                    <a:pt x="412" y="296"/>
                  </a:lnTo>
                  <a:lnTo>
                    <a:pt x="418" y="296"/>
                  </a:lnTo>
                  <a:lnTo>
                    <a:pt x="423" y="296"/>
                  </a:lnTo>
                  <a:lnTo>
                    <a:pt x="429" y="295"/>
                  </a:lnTo>
                  <a:lnTo>
                    <a:pt x="432" y="292"/>
                  </a:lnTo>
                  <a:lnTo>
                    <a:pt x="435" y="289"/>
                  </a:lnTo>
                  <a:lnTo>
                    <a:pt x="437" y="283"/>
                  </a:lnTo>
                  <a:lnTo>
                    <a:pt x="435" y="279"/>
                  </a:lnTo>
                  <a:lnTo>
                    <a:pt x="431" y="276"/>
                  </a:lnTo>
                  <a:lnTo>
                    <a:pt x="425" y="273"/>
                  </a:lnTo>
                  <a:lnTo>
                    <a:pt x="423" y="273"/>
                  </a:lnTo>
                  <a:lnTo>
                    <a:pt x="418" y="273"/>
                  </a:lnTo>
                  <a:lnTo>
                    <a:pt x="412" y="273"/>
                  </a:lnTo>
                  <a:lnTo>
                    <a:pt x="404" y="273"/>
                  </a:lnTo>
                  <a:lnTo>
                    <a:pt x="397" y="273"/>
                  </a:lnTo>
                  <a:lnTo>
                    <a:pt x="390" y="273"/>
                  </a:lnTo>
                  <a:lnTo>
                    <a:pt x="384" y="271"/>
                  </a:lnTo>
                  <a:lnTo>
                    <a:pt x="380" y="267"/>
                  </a:lnTo>
                  <a:lnTo>
                    <a:pt x="378" y="261"/>
                  </a:lnTo>
                  <a:lnTo>
                    <a:pt x="388" y="245"/>
                  </a:lnTo>
                  <a:lnTo>
                    <a:pt x="401" y="233"/>
                  </a:lnTo>
                  <a:lnTo>
                    <a:pt x="416" y="223"/>
                  </a:lnTo>
                  <a:lnTo>
                    <a:pt x="435" y="214"/>
                  </a:lnTo>
                  <a:lnTo>
                    <a:pt x="456" y="207"/>
                  </a:lnTo>
                  <a:lnTo>
                    <a:pt x="477" y="203"/>
                  </a:lnTo>
                  <a:lnTo>
                    <a:pt x="501" y="198"/>
                  </a:lnTo>
                  <a:lnTo>
                    <a:pt x="526" y="194"/>
                  </a:lnTo>
                  <a:lnTo>
                    <a:pt x="552" y="191"/>
                  </a:lnTo>
                  <a:lnTo>
                    <a:pt x="578" y="187"/>
                  </a:lnTo>
                  <a:lnTo>
                    <a:pt x="603" y="182"/>
                  </a:lnTo>
                  <a:lnTo>
                    <a:pt x="629" y="177"/>
                  </a:lnTo>
                  <a:lnTo>
                    <a:pt x="654" y="169"/>
                  </a:lnTo>
                  <a:lnTo>
                    <a:pt x="679" y="161"/>
                  </a:lnTo>
                  <a:lnTo>
                    <a:pt x="702" y="150"/>
                  </a:lnTo>
                  <a:lnTo>
                    <a:pt x="724" y="137"/>
                  </a:lnTo>
                  <a:lnTo>
                    <a:pt x="739" y="126"/>
                  </a:lnTo>
                  <a:lnTo>
                    <a:pt x="748" y="114"/>
                  </a:lnTo>
                  <a:lnTo>
                    <a:pt x="752" y="102"/>
                  </a:lnTo>
                  <a:lnTo>
                    <a:pt x="753" y="92"/>
                  </a:lnTo>
                  <a:lnTo>
                    <a:pt x="752" y="82"/>
                  </a:lnTo>
                  <a:lnTo>
                    <a:pt x="751" y="75"/>
                  </a:lnTo>
                  <a:lnTo>
                    <a:pt x="749" y="70"/>
                  </a:lnTo>
                  <a:lnTo>
                    <a:pt x="748" y="69"/>
                  </a:lnTo>
                  <a:lnTo>
                    <a:pt x="733" y="48"/>
                  </a:lnTo>
                  <a:lnTo>
                    <a:pt x="715" y="32"/>
                  </a:lnTo>
                  <a:lnTo>
                    <a:pt x="695" y="21"/>
                  </a:lnTo>
                  <a:lnTo>
                    <a:pt x="673" y="12"/>
                  </a:lnTo>
                  <a:lnTo>
                    <a:pt x="648" y="5"/>
                  </a:lnTo>
                  <a:lnTo>
                    <a:pt x="625" y="2"/>
                  </a:lnTo>
                  <a:lnTo>
                    <a:pt x="600" y="0"/>
                  </a:lnTo>
                  <a:lnTo>
                    <a:pt x="577" y="0"/>
                  </a:lnTo>
                  <a:lnTo>
                    <a:pt x="549" y="2"/>
                  </a:lnTo>
                  <a:lnTo>
                    <a:pt x="523" y="6"/>
                  </a:lnTo>
                  <a:lnTo>
                    <a:pt x="496" y="11"/>
                  </a:lnTo>
                  <a:lnTo>
                    <a:pt x="469" y="16"/>
                  </a:lnTo>
                  <a:lnTo>
                    <a:pt x="442" y="24"/>
                  </a:lnTo>
                  <a:lnTo>
                    <a:pt x="416" y="32"/>
                  </a:lnTo>
                  <a:lnTo>
                    <a:pt x="391" y="43"/>
                  </a:lnTo>
                  <a:lnTo>
                    <a:pt x="365" y="53"/>
                  </a:lnTo>
                  <a:lnTo>
                    <a:pt x="343" y="63"/>
                  </a:lnTo>
                  <a:lnTo>
                    <a:pt x="321" y="73"/>
                  </a:lnTo>
                  <a:lnTo>
                    <a:pt x="299" y="83"/>
                  </a:lnTo>
                  <a:lnTo>
                    <a:pt x="279" y="95"/>
                  </a:lnTo>
                  <a:lnTo>
                    <a:pt x="258" y="107"/>
                  </a:lnTo>
                  <a:lnTo>
                    <a:pt x="238" y="120"/>
                  </a:lnTo>
                  <a:lnTo>
                    <a:pt x="219" y="133"/>
                  </a:lnTo>
                  <a:lnTo>
                    <a:pt x="198" y="146"/>
                  </a:lnTo>
                  <a:lnTo>
                    <a:pt x="179" y="159"/>
                  </a:lnTo>
                  <a:lnTo>
                    <a:pt x="161" y="172"/>
                  </a:lnTo>
                  <a:lnTo>
                    <a:pt x="140" y="187"/>
                  </a:lnTo>
                  <a:lnTo>
                    <a:pt x="121" y="201"/>
                  </a:lnTo>
                  <a:lnTo>
                    <a:pt x="102" y="216"/>
                  </a:lnTo>
                  <a:lnTo>
                    <a:pt x="82" y="230"/>
                  </a:lnTo>
                  <a:lnTo>
                    <a:pt x="63" y="246"/>
                  </a:lnTo>
                  <a:lnTo>
                    <a:pt x="42" y="261"/>
                  </a:lnTo>
                  <a:lnTo>
                    <a:pt x="32" y="268"/>
                  </a:lnTo>
                  <a:lnTo>
                    <a:pt x="22" y="274"/>
                  </a:lnTo>
                  <a:lnTo>
                    <a:pt x="12" y="280"/>
                  </a:lnTo>
                  <a:lnTo>
                    <a:pt x="0" y="286"/>
                  </a:lnTo>
                  <a:lnTo>
                    <a:pt x="3" y="289"/>
                  </a:lnTo>
                  <a:lnTo>
                    <a:pt x="7" y="289"/>
                  </a:lnTo>
                  <a:lnTo>
                    <a:pt x="14" y="289"/>
                  </a:lnTo>
                  <a:lnTo>
                    <a:pt x="20" y="286"/>
                  </a:lnTo>
                  <a:lnTo>
                    <a:pt x="28" y="283"/>
                  </a:lnTo>
                  <a:lnTo>
                    <a:pt x="35" y="279"/>
                  </a:lnTo>
                  <a:lnTo>
                    <a:pt x="42" y="276"/>
                  </a:lnTo>
                  <a:lnTo>
                    <a:pt x="48" y="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02720" y="3983760"/>
              <a:ext cx="116640" cy="30600"/>
            </a:xfrm>
            <a:custGeom>
              <a:avLst/>
              <a:gdLst/>
              <a:ahLst/>
              <a:rect l="l" t="t" r="r" b="b"/>
              <a:pathLst>
                <a:path w="238" h="69">
                  <a:moveTo>
                    <a:pt x="10" y="69"/>
                  </a:moveTo>
                  <a:lnTo>
                    <a:pt x="39" y="62"/>
                  </a:lnTo>
                  <a:lnTo>
                    <a:pt x="71" y="55"/>
                  </a:lnTo>
                  <a:lnTo>
                    <a:pt x="105" y="48"/>
                  </a:lnTo>
                  <a:lnTo>
                    <a:pt x="137" y="39"/>
                  </a:lnTo>
                  <a:lnTo>
                    <a:pt x="168" y="32"/>
                  </a:lnTo>
                  <a:lnTo>
                    <a:pt x="196" y="24"/>
                  </a:lnTo>
                  <a:lnTo>
                    <a:pt x="219" y="17"/>
                  </a:lnTo>
                  <a:lnTo>
                    <a:pt x="237" y="10"/>
                  </a:lnTo>
                  <a:lnTo>
                    <a:pt x="238" y="7"/>
                  </a:lnTo>
                  <a:lnTo>
                    <a:pt x="235" y="4"/>
                  </a:lnTo>
                  <a:lnTo>
                    <a:pt x="231" y="1"/>
                  </a:lnTo>
                  <a:lnTo>
                    <a:pt x="225" y="0"/>
                  </a:lnTo>
                  <a:lnTo>
                    <a:pt x="200" y="1"/>
                  </a:lnTo>
                  <a:lnTo>
                    <a:pt x="174" y="5"/>
                  </a:lnTo>
                  <a:lnTo>
                    <a:pt x="149" y="10"/>
                  </a:lnTo>
                  <a:lnTo>
                    <a:pt x="124" y="17"/>
                  </a:lnTo>
                  <a:lnTo>
                    <a:pt x="99" y="24"/>
                  </a:lnTo>
                  <a:lnTo>
                    <a:pt x="74" y="32"/>
                  </a:lnTo>
                  <a:lnTo>
                    <a:pt x="50" y="40"/>
                  </a:lnTo>
                  <a:lnTo>
                    <a:pt x="25" y="49"/>
                  </a:lnTo>
                  <a:lnTo>
                    <a:pt x="17" y="53"/>
                  </a:lnTo>
                  <a:lnTo>
                    <a:pt x="9" y="61"/>
                  </a:lnTo>
                  <a:lnTo>
                    <a:pt x="3" y="65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4" y="69"/>
                  </a:lnTo>
                  <a:lnTo>
                    <a:pt x="7" y="69"/>
                  </a:lnTo>
                  <a:lnTo>
                    <a:pt x="1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04160" y="4016160"/>
              <a:ext cx="65520" cy="139680"/>
            </a:xfrm>
            <a:custGeom>
              <a:avLst/>
              <a:gdLst/>
              <a:ahLst/>
              <a:rect l="l" t="t" r="r" b="b"/>
              <a:pathLst>
                <a:path w="135" h="319">
                  <a:moveTo>
                    <a:pt x="62" y="139"/>
                  </a:moveTo>
                  <a:lnTo>
                    <a:pt x="69" y="161"/>
                  </a:lnTo>
                  <a:lnTo>
                    <a:pt x="75" y="182"/>
                  </a:lnTo>
                  <a:lnTo>
                    <a:pt x="79" y="204"/>
                  </a:lnTo>
                  <a:lnTo>
                    <a:pt x="84" y="226"/>
                  </a:lnTo>
                  <a:lnTo>
                    <a:pt x="89" y="248"/>
                  </a:lnTo>
                  <a:lnTo>
                    <a:pt x="95" y="270"/>
                  </a:lnTo>
                  <a:lnTo>
                    <a:pt x="103" y="292"/>
                  </a:lnTo>
                  <a:lnTo>
                    <a:pt x="111" y="312"/>
                  </a:lnTo>
                  <a:lnTo>
                    <a:pt x="114" y="316"/>
                  </a:lnTo>
                  <a:lnTo>
                    <a:pt x="117" y="318"/>
                  </a:lnTo>
                  <a:lnTo>
                    <a:pt x="122" y="319"/>
                  </a:lnTo>
                  <a:lnTo>
                    <a:pt x="127" y="319"/>
                  </a:lnTo>
                  <a:lnTo>
                    <a:pt x="132" y="316"/>
                  </a:lnTo>
                  <a:lnTo>
                    <a:pt x="133" y="312"/>
                  </a:lnTo>
                  <a:lnTo>
                    <a:pt x="135" y="308"/>
                  </a:lnTo>
                  <a:lnTo>
                    <a:pt x="133" y="303"/>
                  </a:lnTo>
                  <a:lnTo>
                    <a:pt x="126" y="281"/>
                  </a:lnTo>
                  <a:lnTo>
                    <a:pt x="120" y="260"/>
                  </a:lnTo>
                  <a:lnTo>
                    <a:pt x="114" y="238"/>
                  </a:lnTo>
                  <a:lnTo>
                    <a:pt x="110" y="216"/>
                  </a:lnTo>
                  <a:lnTo>
                    <a:pt x="104" y="194"/>
                  </a:lnTo>
                  <a:lnTo>
                    <a:pt x="98" y="172"/>
                  </a:lnTo>
                  <a:lnTo>
                    <a:pt x="91" y="150"/>
                  </a:lnTo>
                  <a:lnTo>
                    <a:pt x="84" y="129"/>
                  </a:lnTo>
                  <a:lnTo>
                    <a:pt x="76" y="110"/>
                  </a:lnTo>
                  <a:lnTo>
                    <a:pt x="68" y="91"/>
                  </a:lnTo>
                  <a:lnTo>
                    <a:pt x="57" y="70"/>
                  </a:lnTo>
                  <a:lnTo>
                    <a:pt x="46" y="51"/>
                  </a:lnTo>
                  <a:lnTo>
                    <a:pt x="35" y="32"/>
                  </a:lnTo>
                  <a:lnTo>
                    <a:pt x="24" y="18"/>
                  </a:lnTo>
                  <a:lnTo>
                    <a:pt x="14" y="6"/>
                  </a:lnTo>
                  <a:lnTo>
                    <a:pt x="5" y="0"/>
                  </a:lnTo>
                  <a:lnTo>
                    <a:pt x="0" y="6"/>
                  </a:lnTo>
                  <a:lnTo>
                    <a:pt x="3" y="18"/>
                  </a:lnTo>
                  <a:lnTo>
                    <a:pt x="9" y="34"/>
                  </a:lnTo>
                  <a:lnTo>
                    <a:pt x="19" y="54"/>
                  </a:lnTo>
                  <a:lnTo>
                    <a:pt x="31" y="75"/>
                  </a:lnTo>
                  <a:lnTo>
                    <a:pt x="43" y="98"/>
                  </a:lnTo>
                  <a:lnTo>
                    <a:pt x="54" y="120"/>
                  </a:lnTo>
                  <a:lnTo>
                    <a:pt x="62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10360" y="3993480"/>
              <a:ext cx="68400" cy="115920"/>
            </a:xfrm>
            <a:custGeom>
              <a:avLst/>
              <a:gdLst/>
              <a:ahLst/>
              <a:rect l="l" t="t" r="r" b="b"/>
              <a:pathLst>
                <a:path w="140" h="264">
                  <a:moveTo>
                    <a:pt x="15" y="50"/>
                  </a:moveTo>
                  <a:lnTo>
                    <a:pt x="28" y="76"/>
                  </a:lnTo>
                  <a:lnTo>
                    <a:pt x="41" y="101"/>
                  </a:lnTo>
                  <a:lnTo>
                    <a:pt x="55" y="127"/>
                  </a:lnTo>
                  <a:lnTo>
                    <a:pt x="69" y="152"/>
                  </a:lnTo>
                  <a:lnTo>
                    <a:pt x="82" y="178"/>
                  </a:lnTo>
                  <a:lnTo>
                    <a:pt x="95" y="203"/>
                  </a:lnTo>
                  <a:lnTo>
                    <a:pt x="107" y="230"/>
                  </a:lnTo>
                  <a:lnTo>
                    <a:pt x="117" y="257"/>
                  </a:lnTo>
                  <a:lnTo>
                    <a:pt x="120" y="261"/>
                  </a:lnTo>
                  <a:lnTo>
                    <a:pt x="123" y="263"/>
                  </a:lnTo>
                  <a:lnTo>
                    <a:pt x="127" y="264"/>
                  </a:lnTo>
                  <a:lnTo>
                    <a:pt x="133" y="264"/>
                  </a:lnTo>
                  <a:lnTo>
                    <a:pt x="137" y="261"/>
                  </a:lnTo>
                  <a:lnTo>
                    <a:pt x="139" y="257"/>
                  </a:lnTo>
                  <a:lnTo>
                    <a:pt x="140" y="252"/>
                  </a:lnTo>
                  <a:lnTo>
                    <a:pt x="139" y="248"/>
                  </a:lnTo>
                  <a:lnTo>
                    <a:pt x="127" y="212"/>
                  </a:lnTo>
                  <a:lnTo>
                    <a:pt x="109" y="172"/>
                  </a:lnTo>
                  <a:lnTo>
                    <a:pt x="89" y="131"/>
                  </a:lnTo>
                  <a:lnTo>
                    <a:pt x="67" y="94"/>
                  </a:lnTo>
                  <a:lnTo>
                    <a:pt x="47" y="59"/>
                  </a:lnTo>
                  <a:lnTo>
                    <a:pt x="28" y="31"/>
                  </a:lnTo>
                  <a:lnTo>
                    <a:pt x="13" y="11"/>
                  </a:lnTo>
                  <a:lnTo>
                    <a:pt x="4" y="0"/>
                  </a:lnTo>
                  <a:lnTo>
                    <a:pt x="0" y="5"/>
                  </a:lnTo>
                  <a:lnTo>
                    <a:pt x="1" y="18"/>
                  </a:lnTo>
                  <a:lnTo>
                    <a:pt x="9" y="35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98840" y="4115160"/>
              <a:ext cx="82800" cy="36000"/>
            </a:xfrm>
            <a:custGeom>
              <a:avLst/>
              <a:gdLst/>
              <a:ahLst/>
              <a:rect l="l" t="t" r="r" b="b"/>
              <a:pathLst>
                <a:path w="171" h="80">
                  <a:moveTo>
                    <a:pt x="159" y="26"/>
                  </a:moveTo>
                  <a:lnTo>
                    <a:pt x="163" y="25"/>
                  </a:lnTo>
                  <a:lnTo>
                    <a:pt x="168" y="22"/>
                  </a:lnTo>
                  <a:lnTo>
                    <a:pt x="169" y="18"/>
                  </a:lnTo>
                  <a:lnTo>
                    <a:pt x="171" y="13"/>
                  </a:lnTo>
                  <a:lnTo>
                    <a:pt x="169" y="9"/>
                  </a:lnTo>
                  <a:lnTo>
                    <a:pt x="168" y="4"/>
                  </a:lnTo>
                  <a:lnTo>
                    <a:pt x="163" y="3"/>
                  </a:lnTo>
                  <a:lnTo>
                    <a:pt x="157" y="2"/>
                  </a:lnTo>
                  <a:lnTo>
                    <a:pt x="137" y="0"/>
                  </a:lnTo>
                  <a:lnTo>
                    <a:pt x="115" y="4"/>
                  </a:lnTo>
                  <a:lnTo>
                    <a:pt x="92" y="13"/>
                  </a:lnTo>
                  <a:lnTo>
                    <a:pt x="70" y="25"/>
                  </a:lnTo>
                  <a:lnTo>
                    <a:pt x="49" y="38"/>
                  </a:lnTo>
                  <a:lnTo>
                    <a:pt x="30" y="52"/>
                  </a:lnTo>
                  <a:lnTo>
                    <a:pt x="13" y="66"/>
                  </a:lnTo>
                  <a:lnTo>
                    <a:pt x="0" y="77"/>
                  </a:lnTo>
                  <a:lnTo>
                    <a:pt x="7" y="80"/>
                  </a:lnTo>
                  <a:lnTo>
                    <a:pt x="20" y="77"/>
                  </a:lnTo>
                  <a:lnTo>
                    <a:pt x="39" y="70"/>
                  </a:lnTo>
                  <a:lnTo>
                    <a:pt x="61" y="58"/>
                  </a:lnTo>
                  <a:lnTo>
                    <a:pt x="86" y="47"/>
                  </a:lnTo>
                  <a:lnTo>
                    <a:pt x="111" y="36"/>
                  </a:lnTo>
                  <a:lnTo>
                    <a:pt x="135" y="29"/>
                  </a:lnTo>
                  <a:lnTo>
                    <a:pt x="15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46280" y="4004640"/>
              <a:ext cx="69840" cy="5148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5" y="119"/>
                  </a:moveTo>
                  <a:lnTo>
                    <a:pt x="31" y="118"/>
                  </a:lnTo>
                  <a:lnTo>
                    <a:pt x="47" y="113"/>
                  </a:lnTo>
                  <a:lnTo>
                    <a:pt x="66" y="106"/>
                  </a:lnTo>
                  <a:lnTo>
                    <a:pt x="84" y="97"/>
                  </a:lnTo>
                  <a:lnTo>
                    <a:pt x="101" y="88"/>
                  </a:lnTo>
                  <a:lnTo>
                    <a:pt x="117" y="78"/>
                  </a:lnTo>
                  <a:lnTo>
                    <a:pt x="132" y="70"/>
                  </a:lnTo>
                  <a:lnTo>
                    <a:pt x="142" y="62"/>
                  </a:lnTo>
                  <a:lnTo>
                    <a:pt x="142" y="54"/>
                  </a:lnTo>
                  <a:lnTo>
                    <a:pt x="141" y="43"/>
                  </a:lnTo>
                  <a:lnTo>
                    <a:pt x="135" y="32"/>
                  </a:lnTo>
                  <a:lnTo>
                    <a:pt x="129" y="21"/>
                  </a:lnTo>
                  <a:lnTo>
                    <a:pt x="120" y="13"/>
                  </a:lnTo>
                  <a:lnTo>
                    <a:pt x="111" y="5"/>
                  </a:lnTo>
                  <a:lnTo>
                    <a:pt x="104" y="1"/>
                  </a:lnTo>
                  <a:lnTo>
                    <a:pt x="97" y="0"/>
                  </a:lnTo>
                  <a:lnTo>
                    <a:pt x="82" y="4"/>
                  </a:lnTo>
                  <a:lnTo>
                    <a:pt x="71" y="10"/>
                  </a:lnTo>
                  <a:lnTo>
                    <a:pt x="63" y="14"/>
                  </a:lnTo>
                  <a:lnTo>
                    <a:pt x="60" y="19"/>
                  </a:lnTo>
                  <a:lnTo>
                    <a:pt x="63" y="21"/>
                  </a:lnTo>
                  <a:lnTo>
                    <a:pt x="68" y="23"/>
                  </a:lnTo>
                  <a:lnTo>
                    <a:pt x="71" y="23"/>
                  </a:lnTo>
                  <a:lnTo>
                    <a:pt x="72" y="23"/>
                  </a:lnTo>
                  <a:lnTo>
                    <a:pt x="76" y="21"/>
                  </a:lnTo>
                  <a:lnTo>
                    <a:pt x="84" y="19"/>
                  </a:lnTo>
                  <a:lnTo>
                    <a:pt x="90" y="16"/>
                  </a:lnTo>
                  <a:lnTo>
                    <a:pt x="92" y="14"/>
                  </a:lnTo>
                  <a:lnTo>
                    <a:pt x="97" y="19"/>
                  </a:lnTo>
                  <a:lnTo>
                    <a:pt x="106" y="30"/>
                  </a:lnTo>
                  <a:lnTo>
                    <a:pt x="113" y="46"/>
                  </a:lnTo>
                  <a:lnTo>
                    <a:pt x="113" y="62"/>
                  </a:lnTo>
                  <a:lnTo>
                    <a:pt x="103" y="67"/>
                  </a:lnTo>
                  <a:lnTo>
                    <a:pt x="90" y="72"/>
                  </a:lnTo>
                  <a:lnTo>
                    <a:pt x="75" y="77"/>
                  </a:lnTo>
                  <a:lnTo>
                    <a:pt x="59" y="83"/>
                  </a:lnTo>
                  <a:lnTo>
                    <a:pt x="43" y="88"/>
                  </a:lnTo>
                  <a:lnTo>
                    <a:pt x="31" y="91"/>
                  </a:lnTo>
                  <a:lnTo>
                    <a:pt x="22" y="94"/>
                  </a:lnTo>
                  <a:lnTo>
                    <a:pt x="18" y="96"/>
                  </a:lnTo>
                  <a:lnTo>
                    <a:pt x="17" y="94"/>
                  </a:lnTo>
                  <a:lnTo>
                    <a:pt x="15" y="88"/>
                  </a:lnTo>
                  <a:lnTo>
                    <a:pt x="12" y="84"/>
                  </a:lnTo>
                  <a:lnTo>
                    <a:pt x="9" y="83"/>
                  </a:lnTo>
                  <a:lnTo>
                    <a:pt x="0" y="96"/>
                  </a:lnTo>
                  <a:lnTo>
                    <a:pt x="3" y="107"/>
                  </a:lnTo>
                  <a:lnTo>
                    <a:pt x="11" y="116"/>
                  </a:lnTo>
                  <a:lnTo>
                    <a:pt x="15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83440" y="4050720"/>
              <a:ext cx="50760" cy="107280"/>
            </a:xfrm>
            <a:custGeom>
              <a:avLst/>
              <a:gdLst/>
              <a:ahLst/>
              <a:rect l="l" t="t" r="r" b="b"/>
              <a:pathLst>
                <a:path w="103" h="246">
                  <a:moveTo>
                    <a:pt x="18" y="1"/>
                  </a:moveTo>
                  <a:lnTo>
                    <a:pt x="24" y="28"/>
                  </a:lnTo>
                  <a:lnTo>
                    <a:pt x="31" y="58"/>
                  </a:lnTo>
                  <a:lnTo>
                    <a:pt x="38" y="90"/>
                  </a:lnTo>
                  <a:lnTo>
                    <a:pt x="47" y="121"/>
                  </a:lnTo>
                  <a:lnTo>
                    <a:pt x="54" y="150"/>
                  </a:lnTo>
                  <a:lnTo>
                    <a:pt x="60" y="173"/>
                  </a:lnTo>
                  <a:lnTo>
                    <a:pt x="65" y="188"/>
                  </a:lnTo>
                  <a:lnTo>
                    <a:pt x="66" y="194"/>
                  </a:lnTo>
                  <a:lnTo>
                    <a:pt x="65" y="194"/>
                  </a:lnTo>
                  <a:lnTo>
                    <a:pt x="59" y="195"/>
                  </a:lnTo>
                  <a:lnTo>
                    <a:pt x="53" y="197"/>
                  </a:lnTo>
                  <a:lnTo>
                    <a:pt x="44" y="198"/>
                  </a:lnTo>
                  <a:lnTo>
                    <a:pt x="35" y="201"/>
                  </a:lnTo>
                  <a:lnTo>
                    <a:pt x="27" y="204"/>
                  </a:lnTo>
                  <a:lnTo>
                    <a:pt x="18" y="208"/>
                  </a:lnTo>
                  <a:lnTo>
                    <a:pt x="12" y="213"/>
                  </a:lnTo>
                  <a:lnTo>
                    <a:pt x="6" y="216"/>
                  </a:lnTo>
                  <a:lnTo>
                    <a:pt x="2" y="221"/>
                  </a:lnTo>
                  <a:lnTo>
                    <a:pt x="0" y="227"/>
                  </a:lnTo>
                  <a:lnTo>
                    <a:pt x="0" y="234"/>
                  </a:lnTo>
                  <a:lnTo>
                    <a:pt x="3" y="240"/>
                  </a:lnTo>
                  <a:lnTo>
                    <a:pt x="9" y="245"/>
                  </a:lnTo>
                  <a:lnTo>
                    <a:pt x="15" y="246"/>
                  </a:lnTo>
                  <a:lnTo>
                    <a:pt x="22" y="246"/>
                  </a:lnTo>
                  <a:lnTo>
                    <a:pt x="27" y="246"/>
                  </a:lnTo>
                  <a:lnTo>
                    <a:pt x="35" y="245"/>
                  </a:lnTo>
                  <a:lnTo>
                    <a:pt x="47" y="242"/>
                  </a:lnTo>
                  <a:lnTo>
                    <a:pt x="60" y="239"/>
                  </a:lnTo>
                  <a:lnTo>
                    <a:pt x="73" y="234"/>
                  </a:lnTo>
                  <a:lnTo>
                    <a:pt x="85" y="229"/>
                  </a:lnTo>
                  <a:lnTo>
                    <a:pt x="95" y="221"/>
                  </a:lnTo>
                  <a:lnTo>
                    <a:pt x="101" y="213"/>
                  </a:lnTo>
                  <a:lnTo>
                    <a:pt x="103" y="188"/>
                  </a:lnTo>
                  <a:lnTo>
                    <a:pt x="94" y="159"/>
                  </a:lnTo>
                  <a:lnTo>
                    <a:pt x="81" y="134"/>
                  </a:lnTo>
                  <a:lnTo>
                    <a:pt x="73" y="115"/>
                  </a:lnTo>
                  <a:lnTo>
                    <a:pt x="69" y="99"/>
                  </a:lnTo>
                  <a:lnTo>
                    <a:pt x="63" y="84"/>
                  </a:lnTo>
                  <a:lnTo>
                    <a:pt x="57" y="70"/>
                  </a:lnTo>
                  <a:lnTo>
                    <a:pt x="51" y="55"/>
                  </a:lnTo>
                  <a:lnTo>
                    <a:pt x="46" y="42"/>
                  </a:lnTo>
                  <a:lnTo>
                    <a:pt x="38" y="28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43200" y="4093920"/>
              <a:ext cx="39240" cy="40320"/>
            </a:xfrm>
            <a:custGeom>
              <a:avLst/>
              <a:gdLst/>
              <a:ahLst/>
              <a:rect l="l" t="t" r="r" b="b"/>
              <a:pathLst>
                <a:path w="37" h="93">
                  <a:moveTo>
                    <a:pt x="16" y="87"/>
                  </a:moveTo>
                  <a:lnTo>
                    <a:pt x="18" y="90"/>
                  </a:lnTo>
                  <a:lnTo>
                    <a:pt x="20" y="91"/>
                  </a:lnTo>
                  <a:lnTo>
                    <a:pt x="25" y="93"/>
                  </a:lnTo>
                  <a:lnTo>
                    <a:pt x="28" y="93"/>
                  </a:lnTo>
                  <a:lnTo>
                    <a:pt x="32" y="91"/>
                  </a:lnTo>
                  <a:lnTo>
                    <a:pt x="35" y="88"/>
                  </a:lnTo>
                  <a:lnTo>
                    <a:pt x="37" y="84"/>
                  </a:lnTo>
                  <a:lnTo>
                    <a:pt x="37" y="81"/>
                  </a:lnTo>
                  <a:lnTo>
                    <a:pt x="29" y="56"/>
                  </a:lnTo>
                  <a:lnTo>
                    <a:pt x="20" y="29"/>
                  </a:lnTo>
                  <a:lnTo>
                    <a:pt x="10" y="7"/>
                  </a:lnTo>
                  <a:lnTo>
                    <a:pt x="1" y="0"/>
                  </a:lnTo>
                  <a:lnTo>
                    <a:pt x="0" y="16"/>
                  </a:lnTo>
                  <a:lnTo>
                    <a:pt x="3" y="39"/>
                  </a:lnTo>
                  <a:lnTo>
                    <a:pt x="9" y="64"/>
                  </a:lnTo>
                  <a:lnTo>
                    <a:pt x="1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181040" y="2054520"/>
              <a:ext cx="713520" cy="353160"/>
              <a:chOff x="4181040" y="2054520"/>
              <a:chExt cx="713520" cy="353160"/>
            </a:xfrm>
          </p:grpSpPr>
          <p:sp>
            <p:nvSpPr>
              <p:cNvPr id="253" name=""/>
              <p:cNvSpPr/>
              <p:nvPr/>
            </p:nvSpPr>
            <p:spPr>
              <a:xfrm flipH="1" rot="20624400">
                <a:off x="4568040" y="2116080"/>
                <a:ext cx="123120" cy="12276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624400">
                <a:off x="4404960" y="2167560"/>
                <a:ext cx="78840" cy="957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20624400">
                <a:off x="4570920" y="2080080"/>
                <a:ext cx="199080" cy="20088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624400">
                <a:off x="4314960" y="2149920"/>
                <a:ext cx="174600" cy="13356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624400">
                <a:off x="4774680" y="2095200"/>
                <a:ext cx="70920" cy="12636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624400">
                <a:off x="4200480" y="2178000"/>
                <a:ext cx="151920" cy="1645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20624400">
                <a:off x="4505400" y="2302920"/>
                <a:ext cx="51480" cy="9936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rot="20624400">
                <a:off x="4529520" y="2243520"/>
                <a:ext cx="26640" cy="500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rot="20624400">
                <a:off x="4541040" y="2202120"/>
                <a:ext cx="23040" cy="2880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20624400">
                <a:off x="4542840" y="2175120"/>
                <a:ext cx="31680" cy="1872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20624400">
                <a:off x="4604040" y="2113560"/>
                <a:ext cx="122400" cy="12492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624400">
                <a:off x="4440240" y="2165400"/>
                <a:ext cx="78840" cy="9720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624400">
                <a:off x="4606920" y="2078280"/>
                <a:ext cx="199080" cy="20124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20624400">
                <a:off x="4350960" y="2148840"/>
                <a:ext cx="173880" cy="13392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624400">
                <a:off x="4807080" y="2106000"/>
                <a:ext cx="70920" cy="12564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624400">
                <a:off x="4236480" y="2176920"/>
                <a:ext cx="151560" cy="1645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 rot="497400">
              <a:off x="4343400" y="2385000"/>
              <a:ext cx="437040" cy="401040"/>
            </a:xfrm>
            <a:custGeom>
              <a:avLst/>
              <a:gdLst/>
              <a:ahLst/>
              <a:rect l="l" t="t" r="r" b="b"/>
              <a:pathLst>
                <a:path w="1096" h="1155">
                  <a:moveTo>
                    <a:pt x="34" y="288"/>
                  </a:moveTo>
                  <a:lnTo>
                    <a:pt x="50" y="269"/>
                  </a:lnTo>
                  <a:lnTo>
                    <a:pt x="72" y="250"/>
                  </a:lnTo>
                  <a:lnTo>
                    <a:pt x="95" y="230"/>
                  </a:lnTo>
                  <a:lnTo>
                    <a:pt x="122" y="207"/>
                  </a:lnTo>
                  <a:lnTo>
                    <a:pt x="150" y="186"/>
                  </a:lnTo>
                  <a:lnTo>
                    <a:pt x="178" y="166"/>
                  </a:lnTo>
                  <a:lnTo>
                    <a:pt x="209" y="145"/>
                  </a:lnTo>
                  <a:lnTo>
                    <a:pt x="237" y="124"/>
                  </a:lnTo>
                  <a:lnTo>
                    <a:pt x="266" y="107"/>
                  </a:lnTo>
                  <a:lnTo>
                    <a:pt x="292" y="90"/>
                  </a:lnTo>
                  <a:lnTo>
                    <a:pt x="317" y="74"/>
                  </a:lnTo>
                  <a:lnTo>
                    <a:pt x="339" y="60"/>
                  </a:lnTo>
                  <a:lnTo>
                    <a:pt x="358" y="50"/>
                  </a:lnTo>
                  <a:lnTo>
                    <a:pt x="371" y="41"/>
                  </a:lnTo>
                  <a:lnTo>
                    <a:pt x="380" y="36"/>
                  </a:lnTo>
                  <a:lnTo>
                    <a:pt x="383" y="34"/>
                  </a:lnTo>
                  <a:lnTo>
                    <a:pt x="394" y="31"/>
                  </a:lnTo>
                  <a:lnTo>
                    <a:pt x="410" y="27"/>
                  </a:lnTo>
                  <a:lnTo>
                    <a:pt x="433" y="24"/>
                  </a:lnTo>
                  <a:lnTo>
                    <a:pt x="460" y="20"/>
                  </a:lnTo>
                  <a:lnTo>
                    <a:pt x="490" y="15"/>
                  </a:lnTo>
                  <a:lnTo>
                    <a:pt x="526" y="12"/>
                  </a:lnTo>
                  <a:lnTo>
                    <a:pt x="561" y="8"/>
                  </a:lnTo>
                  <a:lnTo>
                    <a:pt x="601" y="5"/>
                  </a:lnTo>
                  <a:lnTo>
                    <a:pt x="642" y="1"/>
                  </a:lnTo>
                  <a:lnTo>
                    <a:pt x="681" y="0"/>
                  </a:lnTo>
                  <a:lnTo>
                    <a:pt x="720" y="0"/>
                  </a:lnTo>
                  <a:lnTo>
                    <a:pt x="759" y="0"/>
                  </a:lnTo>
                  <a:lnTo>
                    <a:pt x="795" y="3"/>
                  </a:lnTo>
                  <a:lnTo>
                    <a:pt x="829" y="7"/>
                  </a:lnTo>
                  <a:lnTo>
                    <a:pt x="859" y="12"/>
                  </a:lnTo>
                  <a:lnTo>
                    <a:pt x="886" y="20"/>
                  </a:lnTo>
                  <a:lnTo>
                    <a:pt x="900" y="53"/>
                  </a:lnTo>
                  <a:lnTo>
                    <a:pt x="921" y="112"/>
                  </a:lnTo>
                  <a:lnTo>
                    <a:pt x="948" y="186"/>
                  </a:lnTo>
                  <a:lnTo>
                    <a:pt x="976" y="269"/>
                  </a:lnTo>
                  <a:lnTo>
                    <a:pt x="1001" y="356"/>
                  </a:lnTo>
                  <a:lnTo>
                    <a:pt x="1023" y="435"/>
                  </a:lnTo>
                  <a:lnTo>
                    <a:pt x="1035" y="501"/>
                  </a:lnTo>
                  <a:lnTo>
                    <a:pt x="1037" y="544"/>
                  </a:lnTo>
                  <a:lnTo>
                    <a:pt x="1030" y="577"/>
                  </a:lnTo>
                  <a:lnTo>
                    <a:pt x="1019" y="617"/>
                  </a:lnTo>
                  <a:lnTo>
                    <a:pt x="1007" y="662"/>
                  </a:lnTo>
                  <a:lnTo>
                    <a:pt x="991" y="707"/>
                  </a:lnTo>
                  <a:lnTo>
                    <a:pt x="1012" y="709"/>
                  </a:lnTo>
                  <a:lnTo>
                    <a:pt x="1033" y="712"/>
                  </a:lnTo>
                  <a:lnTo>
                    <a:pt x="1051" y="715"/>
                  </a:lnTo>
                  <a:lnTo>
                    <a:pt x="1067" y="717"/>
                  </a:lnTo>
                  <a:lnTo>
                    <a:pt x="1081" y="722"/>
                  </a:lnTo>
                  <a:lnTo>
                    <a:pt x="1090" y="726"/>
                  </a:lnTo>
                  <a:lnTo>
                    <a:pt x="1096" y="729"/>
                  </a:lnTo>
                  <a:lnTo>
                    <a:pt x="1096" y="734"/>
                  </a:lnTo>
                  <a:lnTo>
                    <a:pt x="1085" y="760"/>
                  </a:lnTo>
                  <a:lnTo>
                    <a:pt x="1071" y="798"/>
                  </a:lnTo>
                  <a:lnTo>
                    <a:pt x="1055" y="843"/>
                  </a:lnTo>
                  <a:lnTo>
                    <a:pt x="1037" y="894"/>
                  </a:lnTo>
                  <a:lnTo>
                    <a:pt x="1014" y="945"/>
                  </a:lnTo>
                  <a:lnTo>
                    <a:pt x="989" y="996"/>
                  </a:lnTo>
                  <a:lnTo>
                    <a:pt x="959" y="1040"/>
                  </a:lnTo>
                  <a:lnTo>
                    <a:pt x="925" y="1079"/>
                  </a:lnTo>
                  <a:lnTo>
                    <a:pt x="896" y="1091"/>
                  </a:lnTo>
                  <a:lnTo>
                    <a:pt x="853" y="1101"/>
                  </a:lnTo>
                  <a:lnTo>
                    <a:pt x="800" y="1111"/>
                  </a:lnTo>
                  <a:lnTo>
                    <a:pt x="738" y="1120"/>
                  </a:lnTo>
                  <a:lnTo>
                    <a:pt x="668" y="1129"/>
                  </a:lnTo>
                  <a:lnTo>
                    <a:pt x="593" y="1136"/>
                  </a:lnTo>
                  <a:lnTo>
                    <a:pt x="515" y="1143"/>
                  </a:lnTo>
                  <a:lnTo>
                    <a:pt x="437" y="1146"/>
                  </a:lnTo>
                  <a:lnTo>
                    <a:pt x="358" y="1151"/>
                  </a:lnTo>
                  <a:lnTo>
                    <a:pt x="282" y="1153"/>
                  </a:lnTo>
                  <a:lnTo>
                    <a:pt x="212" y="1155"/>
                  </a:lnTo>
                  <a:lnTo>
                    <a:pt x="148" y="1155"/>
                  </a:lnTo>
                  <a:lnTo>
                    <a:pt x="93" y="1153"/>
                  </a:lnTo>
                  <a:lnTo>
                    <a:pt x="48" y="1149"/>
                  </a:lnTo>
                  <a:lnTo>
                    <a:pt x="16" y="1146"/>
                  </a:lnTo>
                  <a:lnTo>
                    <a:pt x="0" y="1141"/>
                  </a:lnTo>
                  <a:lnTo>
                    <a:pt x="9" y="1110"/>
                  </a:lnTo>
                  <a:lnTo>
                    <a:pt x="27" y="1079"/>
                  </a:lnTo>
                  <a:lnTo>
                    <a:pt x="50" y="1051"/>
                  </a:lnTo>
                  <a:lnTo>
                    <a:pt x="77" y="1023"/>
                  </a:lnTo>
                  <a:lnTo>
                    <a:pt x="104" y="997"/>
                  </a:lnTo>
                  <a:lnTo>
                    <a:pt x="130" y="970"/>
                  </a:lnTo>
                  <a:lnTo>
                    <a:pt x="154" y="942"/>
                  </a:lnTo>
                  <a:lnTo>
                    <a:pt x="171" y="913"/>
                  </a:lnTo>
                  <a:lnTo>
                    <a:pt x="127" y="861"/>
                  </a:lnTo>
                  <a:lnTo>
                    <a:pt x="88" y="786"/>
                  </a:lnTo>
                  <a:lnTo>
                    <a:pt x="52" y="698"/>
                  </a:lnTo>
                  <a:lnTo>
                    <a:pt x="24" y="603"/>
                  </a:lnTo>
                  <a:lnTo>
                    <a:pt x="6" y="506"/>
                  </a:lnTo>
                  <a:lnTo>
                    <a:pt x="0" y="416"/>
                  </a:lnTo>
                  <a:lnTo>
                    <a:pt x="9" y="342"/>
                  </a:lnTo>
                  <a:lnTo>
                    <a:pt x="34" y="288"/>
                  </a:lnTo>
                  <a:close/>
                </a:path>
              </a:pathLst>
            </a:custGeom>
            <a:solidFill>
              <a:srgbClr val="8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497400">
              <a:off x="4345200" y="2456640"/>
              <a:ext cx="372960" cy="241560"/>
            </a:xfrm>
            <a:custGeom>
              <a:avLst/>
              <a:gdLst/>
              <a:ahLst/>
              <a:rect l="l" t="t" r="r" b="b"/>
              <a:pathLst>
                <a:path w="935" h="695">
                  <a:moveTo>
                    <a:pt x="34" y="70"/>
                  </a:moveTo>
                  <a:lnTo>
                    <a:pt x="9" y="124"/>
                  </a:lnTo>
                  <a:lnTo>
                    <a:pt x="0" y="198"/>
                  </a:lnTo>
                  <a:lnTo>
                    <a:pt x="6" y="288"/>
                  </a:lnTo>
                  <a:lnTo>
                    <a:pt x="24" y="385"/>
                  </a:lnTo>
                  <a:lnTo>
                    <a:pt x="52" y="480"/>
                  </a:lnTo>
                  <a:lnTo>
                    <a:pt x="88" y="568"/>
                  </a:lnTo>
                  <a:lnTo>
                    <a:pt x="127" y="643"/>
                  </a:lnTo>
                  <a:lnTo>
                    <a:pt x="171" y="695"/>
                  </a:lnTo>
                  <a:lnTo>
                    <a:pt x="207" y="693"/>
                  </a:lnTo>
                  <a:lnTo>
                    <a:pt x="246" y="691"/>
                  </a:lnTo>
                  <a:lnTo>
                    <a:pt x="291" y="688"/>
                  </a:lnTo>
                  <a:lnTo>
                    <a:pt x="341" y="684"/>
                  </a:lnTo>
                  <a:lnTo>
                    <a:pt x="390" y="681"/>
                  </a:lnTo>
                  <a:lnTo>
                    <a:pt x="444" y="676"/>
                  </a:lnTo>
                  <a:lnTo>
                    <a:pt x="499" y="670"/>
                  </a:lnTo>
                  <a:lnTo>
                    <a:pt x="552" y="665"/>
                  </a:lnTo>
                  <a:lnTo>
                    <a:pt x="608" y="658"/>
                  </a:lnTo>
                  <a:lnTo>
                    <a:pt x="659" y="651"/>
                  </a:lnTo>
                  <a:lnTo>
                    <a:pt x="711" y="643"/>
                  </a:lnTo>
                  <a:lnTo>
                    <a:pt x="757" y="632"/>
                  </a:lnTo>
                  <a:lnTo>
                    <a:pt x="802" y="622"/>
                  </a:lnTo>
                  <a:lnTo>
                    <a:pt x="841" y="612"/>
                  </a:lnTo>
                  <a:lnTo>
                    <a:pt x="875" y="599"/>
                  </a:lnTo>
                  <a:lnTo>
                    <a:pt x="902" y="586"/>
                  </a:lnTo>
                  <a:lnTo>
                    <a:pt x="918" y="529"/>
                  </a:lnTo>
                  <a:lnTo>
                    <a:pt x="928" y="454"/>
                  </a:lnTo>
                  <a:lnTo>
                    <a:pt x="935" y="371"/>
                  </a:lnTo>
                  <a:lnTo>
                    <a:pt x="934" y="283"/>
                  </a:lnTo>
                  <a:lnTo>
                    <a:pt x="919" y="198"/>
                  </a:lnTo>
                  <a:lnTo>
                    <a:pt x="894" y="121"/>
                  </a:lnTo>
                  <a:lnTo>
                    <a:pt x="855" y="58"/>
                  </a:lnTo>
                  <a:lnTo>
                    <a:pt x="798" y="17"/>
                  </a:lnTo>
                  <a:lnTo>
                    <a:pt x="764" y="10"/>
                  </a:lnTo>
                  <a:lnTo>
                    <a:pt x="725" y="5"/>
                  </a:lnTo>
                  <a:lnTo>
                    <a:pt x="681" y="1"/>
                  </a:lnTo>
                  <a:lnTo>
                    <a:pt x="633" y="0"/>
                  </a:lnTo>
                  <a:lnTo>
                    <a:pt x="579" y="0"/>
                  </a:lnTo>
                  <a:lnTo>
                    <a:pt x="526" y="3"/>
                  </a:lnTo>
                  <a:lnTo>
                    <a:pt x="469" y="5"/>
                  </a:lnTo>
                  <a:lnTo>
                    <a:pt x="412" y="10"/>
                  </a:lnTo>
                  <a:lnTo>
                    <a:pt x="353" y="15"/>
                  </a:lnTo>
                  <a:lnTo>
                    <a:pt x="298" y="22"/>
                  </a:lnTo>
                  <a:lnTo>
                    <a:pt x="243" y="29"/>
                  </a:lnTo>
                  <a:lnTo>
                    <a:pt x="193" y="38"/>
                  </a:lnTo>
                  <a:lnTo>
                    <a:pt x="145" y="44"/>
                  </a:lnTo>
                  <a:lnTo>
                    <a:pt x="102" y="53"/>
                  </a:lnTo>
                  <a:lnTo>
                    <a:pt x="65" y="62"/>
                  </a:lnTo>
                  <a:lnTo>
                    <a:pt x="34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497400">
              <a:off x="4338000" y="2476440"/>
              <a:ext cx="366840" cy="232920"/>
            </a:xfrm>
            <a:custGeom>
              <a:avLst/>
              <a:gdLst/>
              <a:ahLst/>
              <a:rect l="l" t="t" r="r" b="b"/>
              <a:pathLst>
                <a:path w="922" h="671">
                  <a:moveTo>
                    <a:pt x="30" y="50"/>
                  </a:moveTo>
                  <a:lnTo>
                    <a:pt x="9" y="100"/>
                  </a:lnTo>
                  <a:lnTo>
                    <a:pt x="0" y="174"/>
                  </a:lnTo>
                  <a:lnTo>
                    <a:pt x="2" y="263"/>
                  </a:lnTo>
                  <a:lnTo>
                    <a:pt x="12" y="359"/>
                  </a:lnTo>
                  <a:lnTo>
                    <a:pt x="32" y="456"/>
                  </a:lnTo>
                  <a:lnTo>
                    <a:pt x="60" y="544"/>
                  </a:lnTo>
                  <a:lnTo>
                    <a:pt x="96" y="619"/>
                  </a:lnTo>
                  <a:lnTo>
                    <a:pt x="137" y="671"/>
                  </a:lnTo>
                  <a:lnTo>
                    <a:pt x="173" y="669"/>
                  </a:lnTo>
                  <a:lnTo>
                    <a:pt x="214" y="667"/>
                  </a:lnTo>
                  <a:lnTo>
                    <a:pt x="260" y="667"/>
                  </a:lnTo>
                  <a:lnTo>
                    <a:pt x="308" y="665"/>
                  </a:lnTo>
                  <a:lnTo>
                    <a:pt x="361" y="664"/>
                  </a:lnTo>
                  <a:lnTo>
                    <a:pt x="417" y="662"/>
                  </a:lnTo>
                  <a:lnTo>
                    <a:pt x="474" y="658"/>
                  </a:lnTo>
                  <a:lnTo>
                    <a:pt x="529" y="657"/>
                  </a:lnTo>
                  <a:lnTo>
                    <a:pt x="586" y="652"/>
                  </a:lnTo>
                  <a:lnTo>
                    <a:pt x="641" y="648"/>
                  </a:lnTo>
                  <a:lnTo>
                    <a:pt x="693" y="641"/>
                  </a:lnTo>
                  <a:lnTo>
                    <a:pt x="743" y="634"/>
                  </a:lnTo>
                  <a:lnTo>
                    <a:pt x="787" y="626"/>
                  </a:lnTo>
                  <a:lnTo>
                    <a:pt x="826" y="615"/>
                  </a:lnTo>
                  <a:lnTo>
                    <a:pt x="862" y="605"/>
                  </a:lnTo>
                  <a:lnTo>
                    <a:pt x="889" y="591"/>
                  </a:lnTo>
                  <a:lnTo>
                    <a:pt x="905" y="534"/>
                  </a:lnTo>
                  <a:lnTo>
                    <a:pt x="915" y="461"/>
                  </a:lnTo>
                  <a:lnTo>
                    <a:pt x="922" y="377"/>
                  </a:lnTo>
                  <a:lnTo>
                    <a:pt x="921" y="288"/>
                  </a:lnTo>
                  <a:lnTo>
                    <a:pt x="906" y="204"/>
                  </a:lnTo>
                  <a:lnTo>
                    <a:pt x="881" y="126"/>
                  </a:lnTo>
                  <a:lnTo>
                    <a:pt x="842" y="64"/>
                  </a:lnTo>
                  <a:lnTo>
                    <a:pt x="785" y="22"/>
                  </a:lnTo>
                  <a:lnTo>
                    <a:pt x="751" y="15"/>
                  </a:lnTo>
                  <a:lnTo>
                    <a:pt x="712" y="8"/>
                  </a:lnTo>
                  <a:lnTo>
                    <a:pt x="668" y="5"/>
                  </a:lnTo>
                  <a:lnTo>
                    <a:pt x="620" y="1"/>
                  </a:lnTo>
                  <a:lnTo>
                    <a:pt x="568" y="0"/>
                  </a:lnTo>
                  <a:lnTo>
                    <a:pt x="513" y="0"/>
                  </a:lnTo>
                  <a:lnTo>
                    <a:pt x="458" y="0"/>
                  </a:lnTo>
                  <a:lnTo>
                    <a:pt x="401" y="1"/>
                  </a:lnTo>
                  <a:lnTo>
                    <a:pt x="345" y="5"/>
                  </a:lnTo>
                  <a:lnTo>
                    <a:pt x="290" y="10"/>
                  </a:lnTo>
                  <a:lnTo>
                    <a:pt x="237" y="15"/>
                  </a:lnTo>
                  <a:lnTo>
                    <a:pt x="185" y="21"/>
                  </a:lnTo>
                  <a:lnTo>
                    <a:pt x="139" y="27"/>
                  </a:lnTo>
                  <a:lnTo>
                    <a:pt x="96" y="34"/>
                  </a:lnTo>
                  <a:lnTo>
                    <a:pt x="60" y="41"/>
                  </a:lnTo>
                  <a:lnTo>
                    <a:pt x="30" y="50"/>
                  </a:lnTo>
                  <a:close/>
                </a:path>
              </a:pathLst>
            </a:custGeom>
            <a:solidFill>
              <a:srgbClr val="c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497400">
              <a:off x="4394880" y="2500200"/>
              <a:ext cx="267840" cy="154800"/>
            </a:xfrm>
            <a:custGeom>
              <a:avLst/>
              <a:gdLst/>
              <a:ahLst/>
              <a:rect l="l" t="t" r="r" b="b"/>
              <a:pathLst>
                <a:path w="673" h="448">
                  <a:moveTo>
                    <a:pt x="13" y="44"/>
                  </a:moveTo>
                  <a:lnTo>
                    <a:pt x="4" y="71"/>
                  </a:lnTo>
                  <a:lnTo>
                    <a:pt x="0" y="113"/>
                  </a:lnTo>
                  <a:lnTo>
                    <a:pt x="2" y="166"/>
                  </a:lnTo>
                  <a:lnTo>
                    <a:pt x="9" y="225"/>
                  </a:lnTo>
                  <a:lnTo>
                    <a:pt x="18" y="286"/>
                  </a:lnTo>
                  <a:lnTo>
                    <a:pt x="32" y="339"/>
                  </a:lnTo>
                  <a:lnTo>
                    <a:pt x="50" y="384"/>
                  </a:lnTo>
                  <a:lnTo>
                    <a:pt x="68" y="414"/>
                  </a:lnTo>
                  <a:lnTo>
                    <a:pt x="89" y="424"/>
                  </a:lnTo>
                  <a:lnTo>
                    <a:pt x="116" y="433"/>
                  </a:lnTo>
                  <a:lnTo>
                    <a:pt x="150" y="440"/>
                  </a:lnTo>
                  <a:lnTo>
                    <a:pt x="185" y="445"/>
                  </a:lnTo>
                  <a:lnTo>
                    <a:pt x="224" y="447"/>
                  </a:lnTo>
                  <a:lnTo>
                    <a:pt x="267" y="448"/>
                  </a:lnTo>
                  <a:lnTo>
                    <a:pt x="312" y="448"/>
                  </a:lnTo>
                  <a:lnTo>
                    <a:pt x="358" y="447"/>
                  </a:lnTo>
                  <a:lnTo>
                    <a:pt x="403" y="443"/>
                  </a:lnTo>
                  <a:lnTo>
                    <a:pt x="449" y="440"/>
                  </a:lnTo>
                  <a:lnTo>
                    <a:pt x="492" y="434"/>
                  </a:lnTo>
                  <a:lnTo>
                    <a:pt x="534" y="429"/>
                  </a:lnTo>
                  <a:lnTo>
                    <a:pt x="574" y="424"/>
                  </a:lnTo>
                  <a:lnTo>
                    <a:pt x="607" y="417"/>
                  </a:lnTo>
                  <a:lnTo>
                    <a:pt x="639" y="410"/>
                  </a:lnTo>
                  <a:lnTo>
                    <a:pt x="664" y="403"/>
                  </a:lnTo>
                  <a:lnTo>
                    <a:pt x="670" y="365"/>
                  </a:lnTo>
                  <a:lnTo>
                    <a:pt x="673" y="313"/>
                  </a:lnTo>
                  <a:lnTo>
                    <a:pt x="673" y="253"/>
                  </a:lnTo>
                  <a:lnTo>
                    <a:pt x="668" y="187"/>
                  </a:lnTo>
                  <a:lnTo>
                    <a:pt x="659" y="125"/>
                  </a:lnTo>
                  <a:lnTo>
                    <a:pt x="643" y="71"/>
                  </a:lnTo>
                  <a:lnTo>
                    <a:pt x="622" y="32"/>
                  </a:lnTo>
                  <a:lnTo>
                    <a:pt x="591" y="11"/>
                  </a:lnTo>
                  <a:lnTo>
                    <a:pt x="568" y="9"/>
                  </a:lnTo>
                  <a:lnTo>
                    <a:pt x="540" y="9"/>
                  </a:lnTo>
                  <a:lnTo>
                    <a:pt x="506" y="7"/>
                  </a:lnTo>
                  <a:lnTo>
                    <a:pt x="468" y="4"/>
                  </a:lnTo>
                  <a:lnTo>
                    <a:pt x="427" y="2"/>
                  </a:lnTo>
                  <a:lnTo>
                    <a:pt x="385" y="2"/>
                  </a:lnTo>
                  <a:lnTo>
                    <a:pt x="340" y="0"/>
                  </a:lnTo>
                  <a:lnTo>
                    <a:pt x="296" y="0"/>
                  </a:lnTo>
                  <a:lnTo>
                    <a:pt x="251" y="0"/>
                  </a:lnTo>
                  <a:lnTo>
                    <a:pt x="207" y="2"/>
                  </a:lnTo>
                  <a:lnTo>
                    <a:pt x="166" y="4"/>
                  </a:lnTo>
                  <a:lnTo>
                    <a:pt x="127" y="9"/>
                  </a:lnTo>
                  <a:lnTo>
                    <a:pt x="91" y="14"/>
                  </a:lnTo>
                  <a:lnTo>
                    <a:pt x="59" y="23"/>
                  </a:lnTo>
                  <a:lnTo>
                    <a:pt x="32" y="3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497400">
              <a:off x="4374360" y="2513880"/>
              <a:ext cx="267840" cy="155160"/>
            </a:xfrm>
            <a:custGeom>
              <a:avLst/>
              <a:gdLst/>
              <a:ahLst/>
              <a:rect l="l" t="t" r="r" b="b"/>
              <a:pathLst>
                <a:path w="673" h="447">
                  <a:moveTo>
                    <a:pt x="12" y="43"/>
                  </a:moveTo>
                  <a:lnTo>
                    <a:pt x="3" y="71"/>
                  </a:lnTo>
                  <a:lnTo>
                    <a:pt x="0" y="114"/>
                  </a:lnTo>
                  <a:lnTo>
                    <a:pt x="1" y="167"/>
                  </a:lnTo>
                  <a:lnTo>
                    <a:pt x="8" y="226"/>
                  </a:lnTo>
                  <a:lnTo>
                    <a:pt x="17" y="285"/>
                  </a:lnTo>
                  <a:lnTo>
                    <a:pt x="32" y="340"/>
                  </a:lnTo>
                  <a:lnTo>
                    <a:pt x="49" y="384"/>
                  </a:lnTo>
                  <a:lnTo>
                    <a:pt x="67" y="413"/>
                  </a:lnTo>
                  <a:lnTo>
                    <a:pt x="89" y="423"/>
                  </a:lnTo>
                  <a:lnTo>
                    <a:pt x="115" y="432"/>
                  </a:lnTo>
                  <a:lnTo>
                    <a:pt x="149" y="439"/>
                  </a:lnTo>
                  <a:lnTo>
                    <a:pt x="185" y="444"/>
                  </a:lnTo>
                  <a:lnTo>
                    <a:pt x="224" y="446"/>
                  </a:lnTo>
                  <a:lnTo>
                    <a:pt x="267" y="447"/>
                  </a:lnTo>
                  <a:lnTo>
                    <a:pt x="311" y="447"/>
                  </a:lnTo>
                  <a:lnTo>
                    <a:pt x="358" y="446"/>
                  </a:lnTo>
                  <a:lnTo>
                    <a:pt x="402" y="442"/>
                  </a:lnTo>
                  <a:lnTo>
                    <a:pt x="448" y="439"/>
                  </a:lnTo>
                  <a:lnTo>
                    <a:pt x="491" y="434"/>
                  </a:lnTo>
                  <a:lnTo>
                    <a:pt x="534" y="428"/>
                  </a:lnTo>
                  <a:lnTo>
                    <a:pt x="573" y="423"/>
                  </a:lnTo>
                  <a:lnTo>
                    <a:pt x="607" y="416"/>
                  </a:lnTo>
                  <a:lnTo>
                    <a:pt x="639" y="409"/>
                  </a:lnTo>
                  <a:lnTo>
                    <a:pt x="664" y="403"/>
                  </a:lnTo>
                  <a:lnTo>
                    <a:pt x="669" y="364"/>
                  </a:lnTo>
                  <a:lnTo>
                    <a:pt x="673" y="313"/>
                  </a:lnTo>
                  <a:lnTo>
                    <a:pt x="673" y="252"/>
                  </a:lnTo>
                  <a:lnTo>
                    <a:pt x="667" y="186"/>
                  </a:lnTo>
                  <a:lnTo>
                    <a:pt x="658" y="124"/>
                  </a:lnTo>
                  <a:lnTo>
                    <a:pt x="642" y="71"/>
                  </a:lnTo>
                  <a:lnTo>
                    <a:pt x="621" y="31"/>
                  </a:lnTo>
                  <a:lnTo>
                    <a:pt x="591" y="10"/>
                  </a:lnTo>
                  <a:lnTo>
                    <a:pt x="568" y="10"/>
                  </a:lnTo>
                  <a:lnTo>
                    <a:pt x="539" y="8"/>
                  </a:lnTo>
                  <a:lnTo>
                    <a:pt x="505" y="7"/>
                  </a:lnTo>
                  <a:lnTo>
                    <a:pt x="468" y="5"/>
                  </a:lnTo>
                  <a:lnTo>
                    <a:pt x="427" y="3"/>
                  </a:lnTo>
                  <a:lnTo>
                    <a:pt x="384" y="1"/>
                  </a:lnTo>
                  <a:lnTo>
                    <a:pt x="340" y="0"/>
                  </a:lnTo>
                  <a:lnTo>
                    <a:pt x="295" y="0"/>
                  </a:lnTo>
                  <a:lnTo>
                    <a:pt x="251" y="0"/>
                  </a:lnTo>
                  <a:lnTo>
                    <a:pt x="206" y="1"/>
                  </a:lnTo>
                  <a:lnTo>
                    <a:pt x="165" y="5"/>
                  </a:lnTo>
                  <a:lnTo>
                    <a:pt x="126" y="8"/>
                  </a:lnTo>
                  <a:lnTo>
                    <a:pt x="90" y="14"/>
                  </a:lnTo>
                  <a:lnTo>
                    <a:pt x="58" y="22"/>
                  </a:lnTo>
                  <a:lnTo>
                    <a:pt x="32" y="31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1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497400">
              <a:off x="4375080" y="2718000"/>
              <a:ext cx="249480" cy="37440"/>
            </a:xfrm>
            <a:custGeom>
              <a:avLst/>
              <a:gdLst/>
              <a:ahLst/>
              <a:rect l="l" t="t" r="r" b="b"/>
              <a:pathLst>
                <a:path w="627" h="109">
                  <a:moveTo>
                    <a:pt x="57" y="5"/>
                  </a:moveTo>
                  <a:lnTo>
                    <a:pt x="48" y="12"/>
                  </a:lnTo>
                  <a:lnTo>
                    <a:pt x="39" y="21"/>
                  </a:lnTo>
                  <a:lnTo>
                    <a:pt x="30" y="29"/>
                  </a:lnTo>
                  <a:lnTo>
                    <a:pt x="21" y="40"/>
                  </a:lnTo>
                  <a:lnTo>
                    <a:pt x="12" y="50"/>
                  </a:lnTo>
                  <a:lnTo>
                    <a:pt x="5" y="59"/>
                  </a:lnTo>
                  <a:lnTo>
                    <a:pt x="2" y="66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9" y="97"/>
                  </a:lnTo>
                  <a:lnTo>
                    <a:pt x="19" y="104"/>
                  </a:lnTo>
                  <a:lnTo>
                    <a:pt x="32" y="107"/>
                  </a:lnTo>
                  <a:lnTo>
                    <a:pt x="44" y="109"/>
                  </a:lnTo>
                  <a:lnTo>
                    <a:pt x="59" y="107"/>
                  </a:lnTo>
                  <a:lnTo>
                    <a:pt x="71" y="107"/>
                  </a:lnTo>
                  <a:lnTo>
                    <a:pt x="82" y="106"/>
                  </a:lnTo>
                  <a:lnTo>
                    <a:pt x="116" y="102"/>
                  </a:lnTo>
                  <a:lnTo>
                    <a:pt x="151" y="97"/>
                  </a:lnTo>
                  <a:lnTo>
                    <a:pt x="185" y="92"/>
                  </a:lnTo>
                  <a:lnTo>
                    <a:pt x="221" y="87"/>
                  </a:lnTo>
                  <a:lnTo>
                    <a:pt x="255" y="81"/>
                  </a:lnTo>
                  <a:lnTo>
                    <a:pt x="288" y="76"/>
                  </a:lnTo>
                  <a:lnTo>
                    <a:pt x="324" y="71"/>
                  </a:lnTo>
                  <a:lnTo>
                    <a:pt x="358" y="66"/>
                  </a:lnTo>
                  <a:lnTo>
                    <a:pt x="390" y="62"/>
                  </a:lnTo>
                  <a:lnTo>
                    <a:pt x="420" y="59"/>
                  </a:lnTo>
                  <a:lnTo>
                    <a:pt x="452" y="57"/>
                  </a:lnTo>
                  <a:lnTo>
                    <a:pt x="484" y="55"/>
                  </a:lnTo>
                  <a:lnTo>
                    <a:pt x="515" y="54"/>
                  </a:lnTo>
                  <a:lnTo>
                    <a:pt x="547" y="52"/>
                  </a:lnTo>
                  <a:lnTo>
                    <a:pt x="577" y="50"/>
                  </a:lnTo>
                  <a:lnTo>
                    <a:pt x="609" y="47"/>
                  </a:lnTo>
                  <a:lnTo>
                    <a:pt x="616" y="45"/>
                  </a:lnTo>
                  <a:lnTo>
                    <a:pt x="621" y="42"/>
                  </a:lnTo>
                  <a:lnTo>
                    <a:pt x="625" y="38"/>
                  </a:lnTo>
                  <a:lnTo>
                    <a:pt x="627" y="33"/>
                  </a:lnTo>
                  <a:lnTo>
                    <a:pt x="625" y="26"/>
                  </a:lnTo>
                  <a:lnTo>
                    <a:pt x="621" y="21"/>
                  </a:lnTo>
                  <a:lnTo>
                    <a:pt x="618" y="17"/>
                  </a:lnTo>
                  <a:lnTo>
                    <a:pt x="611" y="16"/>
                  </a:lnTo>
                  <a:lnTo>
                    <a:pt x="573" y="16"/>
                  </a:lnTo>
                  <a:lnTo>
                    <a:pt x="532" y="16"/>
                  </a:lnTo>
                  <a:lnTo>
                    <a:pt x="488" y="17"/>
                  </a:lnTo>
                  <a:lnTo>
                    <a:pt x="442" y="21"/>
                  </a:lnTo>
                  <a:lnTo>
                    <a:pt x="393" y="24"/>
                  </a:lnTo>
                  <a:lnTo>
                    <a:pt x="347" y="28"/>
                  </a:lnTo>
                  <a:lnTo>
                    <a:pt x="299" y="33"/>
                  </a:lnTo>
                  <a:lnTo>
                    <a:pt x="255" y="38"/>
                  </a:lnTo>
                  <a:lnTo>
                    <a:pt x="212" y="43"/>
                  </a:lnTo>
                  <a:lnTo>
                    <a:pt x="171" y="48"/>
                  </a:lnTo>
                  <a:lnTo>
                    <a:pt x="135" y="52"/>
                  </a:lnTo>
                  <a:lnTo>
                    <a:pt x="103" y="57"/>
                  </a:lnTo>
                  <a:lnTo>
                    <a:pt x="76" y="61"/>
                  </a:lnTo>
                  <a:lnTo>
                    <a:pt x="57" y="64"/>
                  </a:lnTo>
                  <a:lnTo>
                    <a:pt x="44" y="66"/>
                  </a:lnTo>
                  <a:lnTo>
                    <a:pt x="41" y="66"/>
                  </a:lnTo>
                  <a:lnTo>
                    <a:pt x="46" y="55"/>
                  </a:lnTo>
                  <a:lnTo>
                    <a:pt x="53" y="45"/>
                  </a:lnTo>
                  <a:lnTo>
                    <a:pt x="59" y="35"/>
                  </a:lnTo>
                  <a:lnTo>
                    <a:pt x="68" y="24"/>
                  </a:lnTo>
                  <a:lnTo>
                    <a:pt x="75" y="14"/>
                  </a:lnTo>
                  <a:lnTo>
                    <a:pt x="75" y="4"/>
                  </a:lnTo>
                  <a:lnTo>
                    <a:pt x="69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497400">
              <a:off x="4412160" y="2610360"/>
              <a:ext cx="42120" cy="2628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93" y="73"/>
                  </a:moveTo>
                  <a:lnTo>
                    <a:pt x="98" y="75"/>
                  </a:lnTo>
                  <a:lnTo>
                    <a:pt x="103" y="73"/>
                  </a:lnTo>
                  <a:lnTo>
                    <a:pt x="107" y="71"/>
                  </a:lnTo>
                  <a:lnTo>
                    <a:pt x="109" y="66"/>
                  </a:lnTo>
                  <a:lnTo>
                    <a:pt x="109" y="62"/>
                  </a:lnTo>
                  <a:lnTo>
                    <a:pt x="109" y="57"/>
                  </a:lnTo>
                  <a:lnTo>
                    <a:pt x="105" y="54"/>
                  </a:lnTo>
                  <a:lnTo>
                    <a:pt x="101" y="52"/>
                  </a:lnTo>
                  <a:lnTo>
                    <a:pt x="87" y="45"/>
                  </a:lnTo>
                  <a:lnTo>
                    <a:pt x="73" y="35"/>
                  </a:lnTo>
                  <a:lnTo>
                    <a:pt x="57" y="26"/>
                  </a:lnTo>
                  <a:lnTo>
                    <a:pt x="43" y="16"/>
                  </a:lnTo>
                  <a:lnTo>
                    <a:pt x="28" y="7"/>
                  </a:lnTo>
                  <a:lnTo>
                    <a:pt x="16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5" y="16"/>
                  </a:lnTo>
                  <a:lnTo>
                    <a:pt x="16" y="24"/>
                  </a:lnTo>
                  <a:lnTo>
                    <a:pt x="30" y="35"/>
                  </a:lnTo>
                  <a:lnTo>
                    <a:pt x="46" y="45"/>
                  </a:lnTo>
                  <a:lnTo>
                    <a:pt x="62" y="56"/>
                  </a:lnTo>
                  <a:lnTo>
                    <a:pt x="78" y="66"/>
                  </a:lnTo>
                  <a:lnTo>
                    <a:pt x="9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497400">
              <a:off x="4438440" y="2606040"/>
              <a:ext cx="46440" cy="26280"/>
            </a:xfrm>
            <a:custGeom>
              <a:avLst/>
              <a:gdLst/>
              <a:ahLst/>
              <a:rect l="l" t="t" r="r" b="b"/>
              <a:pathLst>
                <a:path w="118" h="76">
                  <a:moveTo>
                    <a:pt x="103" y="75"/>
                  </a:moveTo>
                  <a:lnTo>
                    <a:pt x="107" y="76"/>
                  </a:lnTo>
                  <a:lnTo>
                    <a:pt x="110" y="76"/>
                  </a:lnTo>
                  <a:lnTo>
                    <a:pt x="114" y="75"/>
                  </a:lnTo>
                  <a:lnTo>
                    <a:pt x="116" y="71"/>
                  </a:lnTo>
                  <a:lnTo>
                    <a:pt x="118" y="68"/>
                  </a:lnTo>
                  <a:lnTo>
                    <a:pt x="118" y="62"/>
                  </a:lnTo>
                  <a:lnTo>
                    <a:pt x="116" y="59"/>
                  </a:lnTo>
                  <a:lnTo>
                    <a:pt x="112" y="57"/>
                  </a:lnTo>
                  <a:lnTo>
                    <a:pt x="98" y="49"/>
                  </a:lnTo>
                  <a:lnTo>
                    <a:pt x="80" y="38"/>
                  </a:lnTo>
                  <a:lnTo>
                    <a:pt x="64" y="26"/>
                  </a:lnTo>
                  <a:lnTo>
                    <a:pt x="46" y="16"/>
                  </a:lnTo>
                  <a:lnTo>
                    <a:pt x="30" y="9"/>
                  </a:lnTo>
                  <a:lnTo>
                    <a:pt x="16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7" y="16"/>
                  </a:lnTo>
                  <a:lnTo>
                    <a:pt x="18" y="26"/>
                  </a:lnTo>
                  <a:lnTo>
                    <a:pt x="34" y="37"/>
                  </a:lnTo>
                  <a:lnTo>
                    <a:pt x="50" y="47"/>
                  </a:lnTo>
                  <a:lnTo>
                    <a:pt x="70" y="57"/>
                  </a:lnTo>
                  <a:lnTo>
                    <a:pt x="87" y="68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497400">
              <a:off x="4442760" y="2572200"/>
              <a:ext cx="99000" cy="71280"/>
            </a:xfrm>
            <a:custGeom>
              <a:avLst/>
              <a:gdLst/>
              <a:ahLst/>
              <a:rect l="l" t="t" r="r" b="b"/>
              <a:pathLst>
                <a:path w="251" h="204">
                  <a:moveTo>
                    <a:pt x="231" y="199"/>
                  </a:moveTo>
                  <a:lnTo>
                    <a:pt x="235" y="202"/>
                  </a:lnTo>
                  <a:lnTo>
                    <a:pt x="239" y="204"/>
                  </a:lnTo>
                  <a:lnTo>
                    <a:pt x="242" y="204"/>
                  </a:lnTo>
                  <a:lnTo>
                    <a:pt x="246" y="202"/>
                  </a:lnTo>
                  <a:lnTo>
                    <a:pt x="249" y="199"/>
                  </a:lnTo>
                  <a:lnTo>
                    <a:pt x="251" y="195"/>
                  </a:lnTo>
                  <a:lnTo>
                    <a:pt x="251" y="190"/>
                  </a:lnTo>
                  <a:lnTo>
                    <a:pt x="249" y="187"/>
                  </a:lnTo>
                  <a:lnTo>
                    <a:pt x="244" y="175"/>
                  </a:lnTo>
                  <a:lnTo>
                    <a:pt x="237" y="164"/>
                  </a:lnTo>
                  <a:lnTo>
                    <a:pt x="228" y="154"/>
                  </a:lnTo>
                  <a:lnTo>
                    <a:pt x="217" y="145"/>
                  </a:lnTo>
                  <a:lnTo>
                    <a:pt x="187" y="125"/>
                  </a:lnTo>
                  <a:lnTo>
                    <a:pt x="155" y="100"/>
                  </a:lnTo>
                  <a:lnTo>
                    <a:pt x="119" y="74"/>
                  </a:lnTo>
                  <a:lnTo>
                    <a:pt x="85" y="50"/>
                  </a:lnTo>
                  <a:lnTo>
                    <a:pt x="55" y="28"/>
                  </a:lnTo>
                  <a:lnTo>
                    <a:pt x="28" y="12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9"/>
                  </a:lnTo>
                  <a:lnTo>
                    <a:pt x="21" y="26"/>
                  </a:lnTo>
                  <a:lnTo>
                    <a:pt x="48" y="48"/>
                  </a:lnTo>
                  <a:lnTo>
                    <a:pt x="84" y="76"/>
                  </a:lnTo>
                  <a:lnTo>
                    <a:pt x="123" y="107"/>
                  </a:lnTo>
                  <a:lnTo>
                    <a:pt x="162" y="140"/>
                  </a:lnTo>
                  <a:lnTo>
                    <a:pt x="199" y="171"/>
                  </a:lnTo>
                  <a:lnTo>
                    <a:pt x="231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497400">
              <a:off x="4392720" y="2709360"/>
              <a:ext cx="249120" cy="37800"/>
            </a:xfrm>
            <a:custGeom>
              <a:avLst/>
              <a:gdLst/>
              <a:ahLst/>
              <a:rect l="l" t="t" r="r" b="b"/>
              <a:pathLst>
                <a:path w="625" h="105">
                  <a:moveTo>
                    <a:pt x="57" y="1"/>
                  </a:moveTo>
                  <a:lnTo>
                    <a:pt x="50" y="5"/>
                  </a:lnTo>
                  <a:lnTo>
                    <a:pt x="43" y="14"/>
                  </a:lnTo>
                  <a:lnTo>
                    <a:pt x="32" y="22"/>
                  </a:lnTo>
                  <a:lnTo>
                    <a:pt x="23" y="33"/>
                  </a:lnTo>
                  <a:lnTo>
                    <a:pt x="14" y="43"/>
                  </a:lnTo>
                  <a:lnTo>
                    <a:pt x="7" y="53"/>
                  </a:lnTo>
                  <a:lnTo>
                    <a:pt x="2" y="62"/>
                  </a:lnTo>
                  <a:lnTo>
                    <a:pt x="0" y="69"/>
                  </a:lnTo>
                  <a:lnTo>
                    <a:pt x="2" y="84"/>
                  </a:lnTo>
                  <a:lnTo>
                    <a:pt x="9" y="95"/>
                  </a:lnTo>
                  <a:lnTo>
                    <a:pt x="19" y="102"/>
                  </a:lnTo>
                  <a:lnTo>
                    <a:pt x="30" y="103"/>
                  </a:lnTo>
                  <a:lnTo>
                    <a:pt x="44" y="105"/>
                  </a:lnTo>
                  <a:lnTo>
                    <a:pt x="57" y="103"/>
                  </a:lnTo>
                  <a:lnTo>
                    <a:pt x="71" y="103"/>
                  </a:lnTo>
                  <a:lnTo>
                    <a:pt x="82" y="102"/>
                  </a:lnTo>
                  <a:lnTo>
                    <a:pt x="116" y="98"/>
                  </a:lnTo>
                  <a:lnTo>
                    <a:pt x="151" y="93"/>
                  </a:lnTo>
                  <a:lnTo>
                    <a:pt x="185" y="88"/>
                  </a:lnTo>
                  <a:lnTo>
                    <a:pt x="221" y="83"/>
                  </a:lnTo>
                  <a:lnTo>
                    <a:pt x="255" y="77"/>
                  </a:lnTo>
                  <a:lnTo>
                    <a:pt x="288" y="72"/>
                  </a:lnTo>
                  <a:lnTo>
                    <a:pt x="324" y="67"/>
                  </a:lnTo>
                  <a:lnTo>
                    <a:pt x="358" y="64"/>
                  </a:lnTo>
                  <a:lnTo>
                    <a:pt x="390" y="60"/>
                  </a:lnTo>
                  <a:lnTo>
                    <a:pt x="420" y="57"/>
                  </a:lnTo>
                  <a:lnTo>
                    <a:pt x="452" y="55"/>
                  </a:lnTo>
                  <a:lnTo>
                    <a:pt x="484" y="53"/>
                  </a:lnTo>
                  <a:lnTo>
                    <a:pt x="515" y="50"/>
                  </a:lnTo>
                  <a:lnTo>
                    <a:pt x="547" y="48"/>
                  </a:lnTo>
                  <a:lnTo>
                    <a:pt x="577" y="46"/>
                  </a:lnTo>
                  <a:lnTo>
                    <a:pt x="609" y="43"/>
                  </a:lnTo>
                  <a:lnTo>
                    <a:pt x="616" y="41"/>
                  </a:lnTo>
                  <a:lnTo>
                    <a:pt x="620" y="39"/>
                  </a:lnTo>
                  <a:lnTo>
                    <a:pt x="623" y="34"/>
                  </a:lnTo>
                  <a:lnTo>
                    <a:pt x="625" y="29"/>
                  </a:lnTo>
                  <a:lnTo>
                    <a:pt x="623" y="22"/>
                  </a:lnTo>
                  <a:lnTo>
                    <a:pt x="621" y="19"/>
                  </a:lnTo>
                  <a:lnTo>
                    <a:pt x="616" y="15"/>
                  </a:lnTo>
                  <a:lnTo>
                    <a:pt x="611" y="14"/>
                  </a:lnTo>
                  <a:lnTo>
                    <a:pt x="575" y="12"/>
                  </a:lnTo>
                  <a:lnTo>
                    <a:pt x="539" y="14"/>
                  </a:lnTo>
                  <a:lnTo>
                    <a:pt x="504" y="14"/>
                  </a:lnTo>
                  <a:lnTo>
                    <a:pt x="468" y="15"/>
                  </a:lnTo>
                  <a:lnTo>
                    <a:pt x="433" y="19"/>
                  </a:lnTo>
                  <a:lnTo>
                    <a:pt x="397" y="22"/>
                  </a:lnTo>
                  <a:lnTo>
                    <a:pt x="361" y="27"/>
                  </a:lnTo>
                  <a:lnTo>
                    <a:pt x="326" y="31"/>
                  </a:lnTo>
                  <a:lnTo>
                    <a:pt x="290" y="36"/>
                  </a:lnTo>
                  <a:lnTo>
                    <a:pt x="256" y="41"/>
                  </a:lnTo>
                  <a:lnTo>
                    <a:pt x="221" y="46"/>
                  </a:lnTo>
                  <a:lnTo>
                    <a:pt x="185" y="52"/>
                  </a:lnTo>
                  <a:lnTo>
                    <a:pt x="149" y="57"/>
                  </a:lnTo>
                  <a:lnTo>
                    <a:pt x="116" y="62"/>
                  </a:lnTo>
                  <a:lnTo>
                    <a:pt x="80" y="65"/>
                  </a:lnTo>
                  <a:lnTo>
                    <a:pt x="44" y="69"/>
                  </a:lnTo>
                  <a:lnTo>
                    <a:pt x="41" y="62"/>
                  </a:lnTo>
                  <a:lnTo>
                    <a:pt x="46" y="52"/>
                  </a:lnTo>
                  <a:lnTo>
                    <a:pt x="53" y="43"/>
                  </a:lnTo>
                  <a:lnTo>
                    <a:pt x="59" y="34"/>
                  </a:lnTo>
                  <a:lnTo>
                    <a:pt x="68" y="22"/>
                  </a:lnTo>
                  <a:lnTo>
                    <a:pt x="73" y="10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5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497400">
              <a:off x="4314240" y="2626920"/>
              <a:ext cx="454680" cy="163440"/>
            </a:xfrm>
            <a:custGeom>
              <a:avLst/>
              <a:gdLst/>
              <a:ahLst/>
              <a:rect l="l" t="t" r="r" b="b"/>
              <a:pathLst>
                <a:path w="1140" h="472">
                  <a:moveTo>
                    <a:pt x="4" y="415"/>
                  </a:moveTo>
                  <a:lnTo>
                    <a:pt x="2" y="420"/>
                  </a:lnTo>
                  <a:lnTo>
                    <a:pt x="0" y="432"/>
                  </a:lnTo>
                  <a:lnTo>
                    <a:pt x="0" y="444"/>
                  </a:lnTo>
                  <a:lnTo>
                    <a:pt x="4" y="455"/>
                  </a:lnTo>
                  <a:lnTo>
                    <a:pt x="12" y="462"/>
                  </a:lnTo>
                  <a:lnTo>
                    <a:pt x="23" y="465"/>
                  </a:lnTo>
                  <a:lnTo>
                    <a:pt x="34" y="468"/>
                  </a:lnTo>
                  <a:lnTo>
                    <a:pt x="37" y="470"/>
                  </a:lnTo>
                  <a:lnTo>
                    <a:pt x="71" y="472"/>
                  </a:lnTo>
                  <a:lnTo>
                    <a:pt x="107" y="472"/>
                  </a:lnTo>
                  <a:lnTo>
                    <a:pt x="141" y="472"/>
                  </a:lnTo>
                  <a:lnTo>
                    <a:pt x="175" y="472"/>
                  </a:lnTo>
                  <a:lnTo>
                    <a:pt x="210" y="470"/>
                  </a:lnTo>
                  <a:lnTo>
                    <a:pt x="244" y="468"/>
                  </a:lnTo>
                  <a:lnTo>
                    <a:pt x="278" y="467"/>
                  </a:lnTo>
                  <a:lnTo>
                    <a:pt x="312" y="465"/>
                  </a:lnTo>
                  <a:lnTo>
                    <a:pt x="346" y="463"/>
                  </a:lnTo>
                  <a:lnTo>
                    <a:pt x="379" y="460"/>
                  </a:lnTo>
                  <a:lnTo>
                    <a:pt x="413" y="458"/>
                  </a:lnTo>
                  <a:lnTo>
                    <a:pt x="447" y="455"/>
                  </a:lnTo>
                  <a:lnTo>
                    <a:pt x="481" y="453"/>
                  </a:lnTo>
                  <a:lnTo>
                    <a:pt x="517" y="451"/>
                  </a:lnTo>
                  <a:lnTo>
                    <a:pt x="550" y="449"/>
                  </a:lnTo>
                  <a:lnTo>
                    <a:pt x="584" y="448"/>
                  </a:lnTo>
                  <a:lnTo>
                    <a:pt x="616" y="446"/>
                  </a:lnTo>
                  <a:lnTo>
                    <a:pt x="650" y="444"/>
                  </a:lnTo>
                  <a:lnTo>
                    <a:pt x="682" y="443"/>
                  </a:lnTo>
                  <a:lnTo>
                    <a:pt x="716" y="439"/>
                  </a:lnTo>
                  <a:lnTo>
                    <a:pt x="748" y="436"/>
                  </a:lnTo>
                  <a:lnTo>
                    <a:pt x="780" y="432"/>
                  </a:lnTo>
                  <a:lnTo>
                    <a:pt x="814" y="427"/>
                  </a:lnTo>
                  <a:lnTo>
                    <a:pt x="846" y="422"/>
                  </a:lnTo>
                  <a:lnTo>
                    <a:pt x="867" y="418"/>
                  </a:lnTo>
                  <a:lnTo>
                    <a:pt x="889" y="413"/>
                  </a:lnTo>
                  <a:lnTo>
                    <a:pt x="912" y="406"/>
                  </a:lnTo>
                  <a:lnTo>
                    <a:pt x="933" y="399"/>
                  </a:lnTo>
                  <a:lnTo>
                    <a:pt x="953" y="391"/>
                  </a:lnTo>
                  <a:lnTo>
                    <a:pt x="971" y="379"/>
                  </a:lnTo>
                  <a:lnTo>
                    <a:pt x="988" y="363"/>
                  </a:lnTo>
                  <a:lnTo>
                    <a:pt x="1003" y="346"/>
                  </a:lnTo>
                  <a:lnTo>
                    <a:pt x="1008" y="332"/>
                  </a:lnTo>
                  <a:lnTo>
                    <a:pt x="1024" y="296"/>
                  </a:lnTo>
                  <a:lnTo>
                    <a:pt x="1047" y="244"/>
                  </a:lnTo>
                  <a:lnTo>
                    <a:pt x="1072" y="183"/>
                  </a:lnTo>
                  <a:lnTo>
                    <a:pt x="1099" y="123"/>
                  </a:lnTo>
                  <a:lnTo>
                    <a:pt x="1120" y="71"/>
                  </a:lnTo>
                  <a:lnTo>
                    <a:pt x="1134" y="31"/>
                  </a:lnTo>
                  <a:lnTo>
                    <a:pt x="1140" y="15"/>
                  </a:lnTo>
                  <a:lnTo>
                    <a:pt x="1136" y="14"/>
                  </a:lnTo>
                  <a:lnTo>
                    <a:pt x="1126" y="9"/>
                  </a:lnTo>
                  <a:lnTo>
                    <a:pt x="1113" y="3"/>
                  </a:lnTo>
                  <a:lnTo>
                    <a:pt x="1101" y="0"/>
                  </a:lnTo>
                  <a:lnTo>
                    <a:pt x="1094" y="2"/>
                  </a:lnTo>
                  <a:lnTo>
                    <a:pt x="1090" y="5"/>
                  </a:lnTo>
                  <a:lnTo>
                    <a:pt x="1086" y="12"/>
                  </a:lnTo>
                  <a:lnTo>
                    <a:pt x="1085" y="17"/>
                  </a:lnTo>
                  <a:lnTo>
                    <a:pt x="1086" y="22"/>
                  </a:lnTo>
                  <a:lnTo>
                    <a:pt x="1090" y="26"/>
                  </a:lnTo>
                  <a:lnTo>
                    <a:pt x="1095" y="28"/>
                  </a:lnTo>
                  <a:lnTo>
                    <a:pt x="1101" y="26"/>
                  </a:lnTo>
                  <a:lnTo>
                    <a:pt x="1095" y="45"/>
                  </a:lnTo>
                  <a:lnTo>
                    <a:pt x="1090" y="57"/>
                  </a:lnTo>
                  <a:lnTo>
                    <a:pt x="1079" y="86"/>
                  </a:lnTo>
                  <a:lnTo>
                    <a:pt x="1061" y="130"/>
                  </a:lnTo>
                  <a:lnTo>
                    <a:pt x="1040" y="180"/>
                  </a:lnTo>
                  <a:lnTo>
                    <a:pt x="1019" y="233"/>
                  </a:lnTo>
                  <a:lnTo>
                    <a:pt x="999" y="280"/>
                  </a:lnTo>
                  <a:lnTo>
                    <a:pt x="981" y="318"/>
                  </a:lnTo>
                  <a:lnTo>
                    <a:pt x="971" y="340"/>
                  </a:lnTo>
                  <a:lnTo>
                    <a:pt x="965" y="347"/>
                  </a:lnTo>
                  <a:lnTo>
                    <a:pt x="955" y="353"/>
                  </a:lnTo>
                  <a:lnTo>
                    <a:pt x="940" y="360"/>
                  </a:lnTo>
                  <a:lnTo>
                    <a:pt x="921" y="365"/>
                  </a:lnTo>
                  <a:lnTo>
                    <a:pt x="899" y="372"/>
                  </a:lnTo>
                  <a:lnTo>
                    <a:pt x="876" y="377"/>
                  </a:lnTo>
                  <a:lnTo>
                    <a:pt x="850" y="382"/>
                  </a:lnTo>
                  <a:lnTo>
                    <a:pt x="823" y="387"/>
                  </a:lnTo>
                  <a:lnTo>
                    <a:pt x="794" y="392"/>
                  </a:lnTo>
                  <a:lnTo>
                    <a:pt x="764" y="398"/>
                  </a:lnTo>
                  <a:lnTo>
                    <a:pt x="734" y="401"/>
                  </a:lnTo>
                  <a:lnTo>
                    <a:pt x="704" y="404"/>
                  </a:lnTo>
                  <a:lnTo>
                    <a:pt x="673" y="408"/>
                  </a:lnTo>
                  <a:lnTo>
                    <a:pt x="645" y="411"/>
                  </a:lnTo>
                  <a:lnTo>
                    <a:pt x="618" y="413"/>
                  </a:lnTo>
                  <a:lnTo>
                    <a:pt x="593" y="415"/>
                  </a:lnTo>
                  <a:lnTo>
                    <a:pt x="559" y="417"/>
                  </a:lnTo>
                  <a:lnTo>
                    <a:pt x="527" y="420"/>
                  </a:lnTo>
                  <a:lnTo>
                    <a:pt x="493" y="422"/>
                  </a:lnTo>
                  <a:lnTo>
                    <a:pt x="461" y="425"/>
                  </a:lnTo>
                  <a:lnTo>
                    <a:pt x="429" y="427"/>
                  </a:lnTo>
                  <a:lnTo>
                    <a:pt x="397" y="430"/>
                  </a:lnTo>
                  <a:lnTo>
                    <a:pt x="365" y="434"/>
                  </a:lnTo>
                  <a:lnTo>
                    <a:pt x="331" y="436"/>
                  </a:lnTo>
                  <a:lnTo>
                    <a:pt x="299" y="439"/>
                  </a:lnTo>
                  <a:lnTo>
                    <a:pt x="267" y="441"/>
                  </a:lnTo>
                  <a:lnTo>
                    <a:pt x="235" y="443"/>
                  </a:lnTo>
                  <a:lnTo>
                    <a:pt x="201" y="444"/>
                  </a:lnTo>
                  <a:lnTo>
                    <a:pt x="169" y="444"/>
                  </a:lnTo>
                  <a:lnTo>
                    <a:pt x="137" y="446"/>
                  </a:lnTo>
                  <a:lnTo>
                    <a:pt x="103" y="446"/>
                  </a:lnTo>
                  <a:lnTo>
                    <a:pt x="69" y="444"/>
                  </a:lnTo>
                  <a:lnTo>
                    <a:pt x="66" y="444"/>
                  </a:lnTo>
                  <a:lnTo>
                    <a:pt x="57" y="444"/>
                  </a:lnTo>
                  <a:lnTo>
                    <a:pt x="46" y="443"/>
                  </a:lnTo>
                  <a:lnTo>
                    <a:pt x="36" y="439"/>
                  </a:lnTo>
                  <a:lnTo>
                    <a:pt x="29" y="434"/>
                  </a:lnTo>
                  <a:lnTo>
                    <a:pt x="29" y="425"/>
                  </a:lnTo>
                  <a:lnTo>
                    <a:pt x="32" y="417"/>
                  </a:lnTo>
                  <a:lnTo>
                    <a:pt x="39" y="406"/>
                  </a:lnTo>
                  <a:lnTo>
                    <a:pt x="46" y="396"/>
                  </a:lnTo>
                  <a:lnTo>
                    <a:pt x="57" y="385"/>
                  </a:lnTo>
                  <a:lnTo>
                    <a:pt x="66" y="375"/>
                  </a:lnTo>
                  <a:lnTo>
                    <a:pt x="73" y="368"/>
                  </a:lnTo>
                  <a:lnTo>
                    <a:pt x="78" y="361"/>
                  </a:lnTo>
                  <a:lnTo>
                    <a:pt x="84" y="354"/>
                  </a:lnTo>
                  <a:lnTo>
                    <a:pt x="89" y="347"/>
                  </a:lnTo>
                  <a:lnTo>
                    <a:pt x="96" y="342"/>
                  </a:lnTo>
                  <a:lnTo>
                    <a:pt x="105" y="332"/>
                  </a:lnTo>
                  <a:lnTo>
                    <a:pt x="107" y="321"/>
                  </a:lnTo>
                  <a:lnTo>
                    <a:pt x="103" y="316"/>
                  </a:lnTo>
                  <a:lnTo>
                    <a:pt x="89" y="316"/>
                  </a:lnTo>
                  <a:lnTo>
                    <a:pt x="87" y="320"/>
                  </a:lnTo>
                  <a:lnTo>
                    <a:pt x="80" y="328"/>
                  </a:lnTo>
                  <a:lnTo>
                    <a:pt x="69" y="340"/>
                  </a:lnTo>
                  <a:lnTo>
                    <a:pt x="57" y="354"/>
                  </a:lnTo>
                  <a:lnTo>
                    <a:pt x="43" y="372"/>
                  </a:lnTo>
                  <a:lnTo>
                    <a:pt x="29" y="387"/>
                  </a:lnTo>
                  <a:lnTo>
                    <a:pt x="16" y="403"/>
                  </a:lnTo>
                  <a:lnTo>
                    <a:pt x="4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497400">
              <a:off x="4464360" y="2477520"/>
              <a:ext cx="243360" cy="226440"/>
            </a:xfrm>
            <a:custGeom>
              <a:avLst/>
              <a:gdLst/>
              <a:ahLst/>
              <a:rect l="l" t="t" r="r" b="b"/>
              <a:pathLst>
                <a:path w="613" h="647">
                  <a:moveTo>
                    <a:pt x="0" y="45"/>
                  </a:moveTo>
                  <a:lnTo>
                    <a:pt x="4" y="50"/>
                  </a:lnTo>
                  <a:lnTo>
                    <a:pt x="14" y="52"/>
                  </a:lnTo>
                  <a:lnTo>
                    <a:pt x="30" y="52"/>
                  </a:lnTo>
                  <a:lnTo>
                    <a:pt x="52" y="50"/>
                  </a:lnTo>
                  <a:lnTo>
                    <a:pt x="80" y="47"/>
                  </a:lnTo>
                  <a:lnTo>
                    <a:pt x="111" y="44"/>
                  </a:lnTo>
                  <a:lnTo>
                    <a:pt x="146" y="40"/>
                  </a:lnTo>
                  <a:lnTo>
                    <a:pt x="184" y="37"/>
                  </a:lnTo>
                  <a:lnTo>
                    <a:pt x="223" y="33"/>
                  </a:lnTo>
                  <a:lnTo>
                    <a:pt x="264" y="30"/>
                  </a:lnTo>
                  <a:lnTo>
                    <a:pt x="305" y="30"/>
                  </a:lnTo>
                  <a:lnTo>
                    <a:pt x="346" y="31"/>
                  </a:lnTo>
                  <a:lnTo>
                    <a:pt x="385" y="35"/>
                  </a:lnTo>
                  <a:lnTo>
                    <a:pt x="424" y="42"/>
                  </a:lnTo>
                  <a:lnTo>
                    <a:pt x="460" y="50"/>
                  </a:lnTo>
                  <a:lnTo>
                    <a:pt x="492" y="64"/>
                  </a:lnTo>
                  <a:lnTo>
                    <a:pt x="527" y="130"/>
                  </a:lnTo>
                  <a:lnTo>
                    <a:pt x="552" y="197"/>
                  </a:lnTo>
                  <a:lnTo>
                    <a:pt x="566" y="268"/>
                  </a:lnTo>
                  <a:lnTo>
                    <a:pt x="574" y="339"/>
                  </a:lnTo>
                  <a:lnTo>
                    <a:pt x="574" y="412"/>
                  </a:lnTo>
                  <a:lnTo>
                    <a:pt x="568" y="484"/>
                  </a:lnTo>
                  <a:lnTo>
                    <a:pt x="556" y="555"/>
                  </a:lnTo>
                  <a:lnTo>
                    <a:pt x="542" y="626"/>
                  </a:lnTo>
                  <a:lnTo>
                    <a:pt x="542" y="631"/>
                  </a:lnTo>
                  <a:lnTo>
                    <a:pt x="543" y="638"/>
                  </a:lnTo>
                  <a:lnTo>
                    <a:pt x="547" y="643"/>
                  </a:lnTo>
                  <a:lnTo>
                    <a:pt x="552" y="647"/>
                  </a:lnTo>
                  <a:lnTo>
                    <a:pt x="558" y="647"/>
                  </a:lnTo>
                  <a:lnTo>
                    <a:pt x="563" y="645"/>
                  </a:lnTo>
                  <a:lnTo>
                    <a:pt x="568" y="643"/>
                  </a:lnTo>
                  <a:lnTo>
                    <a:pt x="572" y="638"/>
                  </a:lnTo>
                  <a:lnTo>
                    <a:pt x="595" y="547"/>
                  </a:lnTo>
                  <a:lnTo>
                    <a:pt x="609" y="453"/>
                  </a:lnTo>
                  <a:lnTo>
                    <a:pt x="613" y="362"/>
                  </a:lnTo>
                  <a:lnTo>
                    <a:pt x="607" y="268"/>
                  </a:lnTo>
                  <a:lnTo>
                    <a:pt x="604" y="235"/>
                  </a:lnTo>
                  <a:lnTo>
                    <a:pt x="599" y="203"/>
                  </a:lnTo>
                  <a:lnTo>
                    <a:pt x="591" y="170"/>
                  </a:lnTo>
                  <a:lnTo>
                    <a:pt x="581" y="137"/>
                  </a:lnTo>
                  <a:lnTo>
                    <a:pt x="568" y="106"/>
                  </a:lnTo>
                  <a:lnTo>
                    <a:pt x="552" y="76"/>
                  </a:lnTo>
                  <a:lnTo>
                    <a:pt x="533" y="49"/>
                  </a:lnTo>
                  <a:lnTo>
                    <a:pt x="508" y="24"/>
                  </a:lnTo>
                  <a:lnTo>
                    <a:pt x="486" y="18"/>
                  </a:lnTo>
                  <a:lnTo>
                    <a:pt x="465" y="12"/>
                  </a:lnTo>
                  <a:lnTo>
                    <a:pt x="442" y="7"/>
                  </a:lnTo>
                  <a:lnTo>
                    <a:pt x="420" y="4"/>
                  </a:lnTo>
                  <a:lnTo>
                    <a:pt x="397" y="2"/>
                  </a:lnTo>
                  <a:lnTo>
                    <a:pt x="376" y="0"/>
                  </a:lnTo>
                  <a:lnTo>
                    <a:pt x="353" y="0"/>
                  </a:lnTo>
                  <a:lnTo>
                    <a:pt x="331" y="0"/>
                  </a:lnTo>
                  <a:lnTo>
                    <a:pt x="308" y="2"/>
                  </a:lnTo>
                  <a:lnTo>
                    <a:pt x="283" y="2"/>
                  </a:lnTo>
                  <a:lnTo>
                    <a:pt x="258" y="4"/>
                  </a:lnTo>
                  <a:lnTo>
                    <a:pt x="232" y="7"/>
                  </a:lnTo>
                  <a:lnTo>
                    <a:pt x="203" y="9"/>
                  </a:lnTo>
                  <a:lnTo>
                    <a:pt x="176" y="11"/>
                  </a:lnTo>
                  <a:lnTo>
                    <a:pt x="150" y="14"/>
                  </a:lnTo>
                  <a:lnTo>
                    <a:pt x="123" y="18"/>
                  </a:lnTo>
                  <a:lnTo>
                    <a:pt x="98" y="19"/>
                  </a:lnTo>
                  <a:lnTo>
                    <a:pt x="75" y="23"/>
                  </a:lnTo>
                  <a:lnTo>
                    <a:pt x="54" y="26"/>
                  </a:lnTo>
                  <a:lnTo>
                    <a:pt x="36" y="30"/>
                  </a:lnTo>
                  <a:lnTo>
                    <a:pt x="22" y="33"/>
                  </a:lnTo>
                  <a:lnTo>
                    <a:pt x="11" y="38"/>
                  </a:lnTo>
                  <a:lnTo>
                    <a:pt x="4" y="4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497400">
              <a:off x="4365360" y="2511000"/>
              <a:ext cx="272160" cy="166320"/>
            </a:xfrm>
            <a:custGeom>
              <a:avLst/>
              <a:gdLst/>
              <a:ahLst/>
              <a:rect l="l" t="t" r="r" b="b"/>
              <a:pathLst>
                <a:path w="686" h="479">
                  <a:moveTo>
                    <a:pt x="340" y="448"/>
                  </a:moveTo>
                  <a:lnTo>
                    <a:pt x="317" y="450"/>
                  </a:lnTo>
                  <a:lnTo>
                    <a:pt x="287" y="450"/>
                  </a:lnTo>
                  <a:lnTo>
                    <a:pt x="251" y="448"/>
                  </a:lnTo>
                  <a:lnTo>
                    <a:pt x="212" y="444"/>
                  </a:lnTo>
                  <a:lnTo>
                    <a:pt x="173" y="436"/>
                  </a:lnTo>
                  <a:lnTo>
                    <a:pt x="136" y="424"/>
                  </a:lnTo>
                  <a:lnTo>
                    <a:pt x="102" y="403"/>
                  </a:lnTo>
                  <a:lnTo>
                    <a:pt x="77" y="377"/>
                  </a:lnTo>
                  <a:lnTo>
                    <a:pt x="61" y="306"/>
                  </a:lnTo>
                  <a:lnTo>
                    <a:pt x="50" y="237"/>
                  </a:lnTo>
                  <a:lnTo>
                    <a:pt x="39" y="166"/>
                  </a:lnTo>
                  <a:lnTo>
                    <a:pt x="32" y="95"/>
                  </a:lnTo>
                  <a:lnTo>
                    <a:pt x="36" y="83"/>
                  </a:lnTo>
                  <a:lnTo>
                    <a:pt x="43" y="74"/>
                  </a:lnTo>
                  <a:lnTo>
                    <a:pt x="52" y="67"/>
                  </a:lnTo>
                  <a:lnTo>
                    <a:pt x="61" y="62"/>
                  </a:lnTo>
                  <a:lnTo>
                    <a:pt x="71" y="57"/>
                  </a:lnTo>
                  <a:lnTo>
                    <a:pt x="82" y="54"/>
                  </a:lnTo>
                  <a:lnTo>
                    <a:pt x="95" y="52"/>
                  </a:lnTo>
                  <a:lnTo>
                    <a:pt x="105" y="50"/>
                  </a:lnTo>
                  <a:lnTo>
                    <a:pt x="116" y="48"/>
                  </a:lnTo>
                  <a:lnTo>
                    <a:pt x="143" y="48"/>
                  </a:lnTo>
                  <a:lnTo>
                    <a:pt x="168" y="47"/>
                  </a:lnTo>
                  <a:lnTo>
                    <a:pt x="194" y="45"/>
                  </a:lnTo>
                  <a:lnTo>
                    <a:pt x="219" y="43"/>
                  </a:lnTo>
                  <a:lnTo>
                    <a:pt x="244" y="42"/>
                  </a:lnTo>
                  <a:lnTo>
                    <a:pt x="271" y="42"/>
                  </a:lnTo>
                  <a:lnTo>
                    <a:pt x="296" y="40"/>
                  </a:lnTo>
                  <a:lnTo>
                    <a:pt x="323" y="38"/>
                  </a:lnTo>
                  <a:lnTo>
                    <a:pt x="347" y="36"/>
                  </a:lnTo>
                  <a:lnTo>
                    <a:pt x="372" y="35"/>
                  </a:lnTo>
                  <a:lnTo>
                    <a:pt x="399" y="35"/>
                  </a:lnTo>
                  <a:lnTo>
                    <a:pt x="424" y="35"/>
                  </a:lnTo>
                  <a:lnTo>
                    <a:pt x="451" y="35"/>
                  </a:lnTo>
                  <a:lnTo>
                    <a:pt x="477" y="35"/>
                  </a:lnTo>
                  <a:lnTo>
                    <a:pt x="502" y="35"/>
                  </a:lnTo>
                  <a:lnTo>
                    <a:pt x="529" y="36"/>
                  </a:lnTo>
                  <a:lnTo>
                    <a:pt x="536" y="36"/>
                  </a:lnTo>
                  <a:lnTo>
                    <a:pt x="543" y="35"/>
                  </a:lnTo>
                  <a:lnTo>
                    <a:pt x="550" y="31"/>
                  </a:lnTo>
                  <a:lnTo>
                    <a:pt x="556" y="26"/>
                  </a:lnTo>
                  <a:lnTo>
                    <a:pt x="561" y="24"/>
                  </a:lnTo>
                  <a:lnTo>
                    <a:pt x="563" y="19"/>
                  </a:lnTo>
                  <a:lnTo>
                    <a:pt x="565" y="14"/>
                  </a:lnTo>
                  <a:lnTo>
                    <a:pt x="563" y="9"/>
                  </a:lnTo>
                  <a:lnTo>
                    <a:pt x="561" y="3"/>
                  </a:lnTo>
                  <a:lnTo>
                    <a:pt x="556" y="2"/>
                  </a:lnTo>
                  <a:lnTo>
                    <a:pt x="550" y="0"/>
                  </a:lnTo>
                  <a:lnTo>
                    <a:pt x="545" y="2"/>
                  </a:lnTo>
                  <a:lnTo>
                    <a:pt x="518" y="2"/>
                  </a:lnTo>
                  <a:lnTo>
                    <a:pt x="492" y="2"/>
                  </a:lnTo>
                  <a:lnTo>
                    <a:pt x="465" y="2"/>
                  </a:lnTo>
                  <a:lnTo>
                    <a:pt x="438" y="3"/>
                  </a:lnTo>
                  <a:lnTo>
                    <a:pt x="412" y="3"/>
                  </a:lnTo>
                  <a:lnTo>
                    <a:pt x="385" y="3"/>
                  </a:lnTo>
                  <a:lnTo>
                    <a:pt x="358" y="5"/>
                  </a:lnTo>
                  <a:lnTo>
                    <a:pt x="331" y="5"/>
                  </a:lnTo>
                  <a:lnTo>
                    <a:pt x="305" y="7"/>
                  </a:lnTo>
                  <a:lnTo>
                    <a:pt x="278" y="7"/>
                  </a:lnTo>
                  <a:lnTo>
                    <a:pt x="251" y="9"/>
                  </a:lnTo>
                  <a:lnTo>
                    <a:pt x="225" y="10"/>
                  </a:lnTo>
                  <a:lnTo>
                    <a:pt x="198" y="10"/>
                  </a:lnTo>
                  <a:lnTo>
                    <a:pt x="171" y="12"/>
                  </a:lnTo>
                  <a:lnTo>
                    <a:pt x="144" y="14"/>
                  </a:lnTo>
                  <a:lnTo>
                    <a:pt x="118" y="16"/>
                  </a:lnTo>
                  <a:lnTo>
                    <a:pt x="102" y="17"/>
                  </a:lnTo>
                  <a:lnTo>
                    <a:pt x="84" y="19"/>
                  </a:lnTo>
                  <a:lnTo>
                    <a:pt x="66" y="23"/>
                  </a:lnTo>
                  <a:lnTo>
                    <a:pt x="50" y="28"/>
                  </a:lnTo>
                  <a:lnTo>
                    <a:pt x="34" y="35"/>
                  </a:lnTo>
                  <a:lnTo>
                    <a:pt x="22" y="45"/>
                  </a:lnTo>
                  <a:lnTo>
                    <a:pt x="11" y="55"/>
                  </a:lnTo>
                  <a:lnTo>
                    <a:pt x="4" y="69"/>
                  </a:lnTo>
                  <a:lnTo>
                    <a:pt x="0" y="92"/>
                  </a:lnTo>
                  <a:lnTo>
                    <a:pt x="0" y="125"/>
                  </a:lnTo>
                  <a:lnTo>
                    <a:pt x="4" y="166"/>
                  </a:lnTo>
                  <a:lnTo>
                    <a:pt x="9" y="213"/>
                  </a:lnTo>
                  <a:lnTo>
                    <a:pt x="16" y="263"/>
                  </a:lnTo>
                  <a:lnTo>
                    <a:pt x="27" y="313"/>
                  </a:lnTo>
                  <a:lnTo>
                    <a:pt x="39" y="358"/>
                  </a:lnTo>
                  <a:lnTo>
                    <a:pt x="54" y="398"/>
                  </a:lnTo>
                  <a:lnTo>
                    <a:pt x="63" y="413"/>
                  </a:lnTo>
                  <a:lnTo>
                    <a:pt x="73" y="427"/>
                  </a:lnTo>
                  <a:lnTo>
                    <a:pt x="86" y="439"/>
                  </a:lnTo>
                  <a:lnTo>
                    <a:pt x="102" y="446"/>
                  </a:lnTo>
                  <a:lnTo>
                    <a:pt x="130" y="455"/>
                  </a:lnTo>
                  <a:lnTo>
                    <a:pt x="159" y="462"/>
                  </a:lnTo>
                  <a:lnTo>
                    <a:pt x="187" y="467"/>
                  </a:lnTo>
                  <a:lnTo>
                    <a:pt x="216" y="470"/>
                  </a:lnTo>
                  <a:lnTo>
                    <a:pt x="244" y="474"/>
                  </a:lnTo>
                  <a:lnTo>
                    <a:pt x="273" y="476"/>
                  </a:lnTo>
                  <a:lnTo>
                    <a:pt x="303" y="477"/>
                  </a:lnTo>
                  <a:lnTo>
                    <a:pt x="331" y="479"/>
                  </a:lnTo>
                  <a:lnTo>
                    <a:pt x="356" y="479"/>
                  </a:lnTo>
                  <a:lnTo>
                    <a:pt x="381" y="476"/>
                  </a:lnTo>
                  <a:lnTo>
                    <a:pt x="406" y="472"/>
                  </a:lnTo>
                  <a:lnTo>
                    <a:pt x="429" y="467"/>
                  </a:lnTo>
                  <a:lnTo>
                    <a:pt x="454" y="460"/>
                  </a:lnTo>
                  <a:lnTo>
                    <a:pt x="479" y="455"/>
                  </a:lnTo>
                  <a:lnTo>
                    <a:pt x="502" y="451"/>
                  </a:lnTo>
                  <a:lnTo>
                    <a:pt x="527" y="450"/>
                  </a:lnTo>
                  <a:lnTo>
                    <a:pt x="547" y="450"/>
                  </a:lnTo>
                  <a:lnTo>
                    <a:pt x="572" y="448"/>
                  </a:lnTo>
                  <a:lnTo>
                    <a:pt x="599" y="444"/>
                  </a:lnTo>
                  <a:lnTo>
                    <a:pt x="624" y="441"/>
                  </a:lnTo>
                  <a:lnTo>
                    <a:pt x="648" y="437"/>
                  </a:lnTo>
                  <a:lnTo>
                    <a:pt x="668" y="431"/>
                  </a:lnTo>
                  <a:lnTo>
                    <a:pt x="680" y="422"/>
                  </a:lnTo>
                  <a:lnTo>
                    <a:pt x="686" y="412"/>
                  </a:lnTo>
                  <a:lnTo>
                    <a:pt x="675" y="408"/>
                  </a:lnTo>
                  <a:lnTo>
                    <a:pt x="661" y="406"/>
                  </a:lnTo>
                  <a:lnTo>
                    <a:pt x="641" y="406"/>
                  </a:lnTo>
                  <a:lnTo>
                    <a:pt x="620" y="406"/>
                  </a:lnTo>
                  <a:lnTo>
                    <a:pt x="595" y="408"/>
                  </a:lnTo>
                  <a:lnTo>
                    <a:pt x="570" y="412"/>
                  </a:lnTo>
                  <a:lnTo>
                    <a:pt x="542" y="415"/>
                  </a:lnTo>
                  <a:lnTo>
                    <a:pt x="515" y="418"/>
                  </a:lnTo>
                  <a:lnTo>
                    <a:pt x="486" y="424"/>
                  </a:lnTo>
                  <a:lnTo>
                    <a:pt x="460" y="429"/>
                  </a:lnTo>
                  <a:lnTo>
                    <a:pt x="433" y="432"/>
                  </a:lnTo>
                  <a:lnTo>
                    <a:pt x="408" y="437"/>
                  </a:lnTo>
                  <a:lnTo>
                    <a:pt x="387" y="441"/>
                  </a:lnTo>
                  <a:lnTo>
                    <a:pt x="367" y="444"/>
                  </a:lnTo>
                  <a:lnTo>
                    <a:pt x="351" y="446"/>
                  </a:lnTo>
                  <a:lnTo>
                    <a:pt x="340" y="4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497400">
              <a:off x="4613040" y="2534760"/>
              <a:ext cx="39240" cy="110520"/>
            </a:xfrm>
            <a:custGeom>
              <a:avLst/>
              <a:gdLst/>
              <a:ahLst/>
              <a:rect l="l" t="t" r="r" b="b"/>
              <a:pathLst>
                <a:path w="95" h="318">
                  <a:moveTo>
                    <a:pt x="7" y="31"/>
                  </a:moveTo>
                  <a:lnTo>
                    <a:pt x="30" y="60"/>
                  </a:lnTo>
                  <a:lnTo>
                    <a:pt x="45" y="93"/>
                  </a:lnTo>
                  <a:lnTo>
                    <a:pt x="52" y="128"/>
                  </a:lnTo>
                  <a:lnTo>
                    <a:pt x="55" y="162"/>
                  </a:lnTo>
                  <a:lnTo>
                    <a:pt x="57" y="199"/>
                  </a:lnTo>
                  <a:lnTo>
                    <a:pt x="57" y="235"/>
                  </a:lnTo>
                  <a:lnTo>
                    <a:pt x="59" y="270"/>
                  </a:lnTo>
                  <a:lnTo>
                    <a:pt x="64" y="302"/>
                  </a:lnTo>
                  <a:lnTo>
                    <a:pt x="66" y="309"/>
                  </a:lnTo>
                  <a:lnTo>
                    <a:pt x="70" y="313"/>
                  </a:lnTo>
                  <a:lnTo>
                    <a:pt x="73" y="316"/>
                  </a:lnTo>
                  <a:lnTo>
                    <a:pt x="80" y="318"/>
                  </a:lnTo>
                  <a:lnTo>
                    <a:pt x="86" y="316"/>
                  </a:lnTo>
                  <a:lnTo>
                    <a:pt x="91" y="311"/>
                  </a:lnTo>
                  <a:lnTo>
                    <a:pt x="93" y="308"/>
                  </a:lnTo>
                  <a:lnTo>
                    <a:pt x="95" y="301"/>
                  </a:lnTo>
                  <a:lnTo>
                    <a:pt x="91" y="263"/>
                  </a:lnTo>
                  <a:lnTo>
                    <a:pt x="91" y="221"/>
                  </a:lnTo>
                  <a:lnTo>
                    <a:pt x="91" y="178"/>
                  </a:lnTo>
                  <a:lnTo>
                    <a:pt x="89" y="136"/>
                  </a:lnTo>
                  <a:lnTo>
                    <a:pt x="84" y="95"/>
                  </a:lnTo>
                  <a:lnTo>
                    <a:pt x="71" y="57"/>
                  </a:lnTo>
                  <a:lnTo>
                    <a:pt x="50" y="26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6" y="7"/>
                  </a:lnTo>
                  <a:lnTo>
                    <a:pt x="0" y="15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497400">
              <a:off x="4402080" y="2611800"/>
              <a:ext cx="42120" cy="26280"/>
            </a:xfrm>
            <a:custGeom>
              <a:avLst/>
              <a:gdLst/>
              <a:ahLst/>
              <a:rect l="l" t="t" r="r" b="b"/>
              <a:pathLst>
                <a:path w="111" h="74">
                  <a:moveTo>
                    <a:pt x="93" y="74"/>
                  </a:moveTo>
                  <a:lnTo>
                    <a:pt x="98" y="74"/>
                  </a:lnTo>
                  <a:lnTo>
                    <a:pt x="104" y="73"/>
                  </a:lnTo>
                  <a:lnTo>
                    <a:pt x="107" y="71"/>
                  </a:lnTo>
                  <a:lnTo>
                    <a:pt x="109" y="67"/>
                  </a:lnTo>
                  <a:lnTo>
                    <a:pt x="111" y="62"/>
                  </a:lnTo>
                  <a:lnTo>
                    <a:pt x="109" y="57"/>
                  </a:lnTo>
                  <a:lnTo>
                    <a:pt x="107" y="53"/>
                  </a:lnTo>
                  <a:lnTo>
                    <a:pt x="102" y="52"/>
                  </a:lnTo>
                  <a:lnTo>
                    <a:pt x="88" y="45"/>
                  </a:lnTo>
                  <a:lnTo>
                    <a:pt x="73" y="36"/>
                  </a:lnTo>
                  <a:lnTo>
                    <a:pt x="57" y="26"/>
                  </a:lnTo>
                  <a:lnTo>
                    <a:pt x="43" y="15"/>
                  </a:lnTo>
                  <a:lnTo>
                    <a:pt x="29" y="9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6" y="15"/>
                  </a:lnTo>
                  <a:lnTo>
                    <a:pt x="16" y="26"/>
                  </a:lnTo>
                  <a:lnTo>
                    <a:pt x="31" y="36"/>
                  </a:lnTo>
                  <a:lnTo>
                    <a:pt x="47" y="47"/>
                  </a:lnTo>
                  <a:lnTo>
                    <a:pt x="63" y="57"/>
                  </a:lnTo>
                  <a:lnTo>
                    <a:pt x="79" y="67"/>
                  </a:lnTo>
                  <a:lnTo>
                    <a:pt x="9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497400">
              <a:off x="4424760" y="2607480"/>
              <a:ext cx="45000" cy="2772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104" y="76"/>
                  </a:moveTo>
                  <a:lnTo>
                    <a:pt x="107" y="78"/>
                  </a:lnTo>
                  <a:lnTo>
                    <a:pt x="111" y="78"/>
                  </a:lnTo>
                  <a:lnTo>
                    <a:pt x="114" y="76"/>
                  </a:lnTo>
                  <a:lnTo>
                    <a:pt x="116" y="73"/>
                  </a:lnTo>
                  <a:lnTo>
                    <a:pt x="118" y="69"/>
                  </a:lnTo>
                  <a:lnTo>
                    <a:pt x="118" y="64"/>
                  </a:lnTo>
                  <a:lnTo>
                    <a:pt x="116" y="61"/>
                  </a:lnTo>
                  <a:lnTo>
                    <a:pt x="113" y="59"/>
                  </a:lnTo>
                  <a:lnTo>
                    <a:pt x="98" y="50"/>
                  </a:lnTo>
                  <a:lnTo>
                    <a:pt x="81" y="40"/>
                  </a:lnTo>
                  <a:lnTo>
                    <a:pt x="65" y="28"/>
                  </a:lnTo>
                  <a:lnTo>
                    <a:pt x="47" y="17"/>
                  </a:lnTo>
                  <a:lnTo>
                    <a:pt x="31" y="9"/>
                  </a:lnTo>
                  <a:lnTo>
                    <a:pt x="16" y="4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8" y="16"/>
                  </a:lnTo>
                  <a:lnTo>
                    <a:pt x="18" y="26"/>
                  </a:lnTo>
                  <a:lnTo>
                    <a:pt x="34" y="36"/>
                  </a:lnTo>
                  <a:lnTo>
                    <a:pt x="50" y="49"/>
                  </a:lnTo>
                  <a:lnTo>
                    <a:pt x="70" y="59"/>
                  </a:lnTo>
                  <a:lnTo>
                    <a:pt x="88" y="69"/>
                  </a:lnTo>
                  <a:lnTo>
                    <a:pt x="10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497400">
              <a:off x="4423680" y="2576880"/>
              <a:ext cx="99000" cy="70920"/>
            </a:xfrm>
            <a:custGeom>
              <a:avLst/>
              <a:gdLst/>
              <a:ahLst/>
              <a:rect l="l" t="t" r="r" b="b"/>
              <a:pathLst>
                <a:path w="251" h="204">
                  <a:moveTo>
                    <a:pt x="232" y="199"/>
                  </a:moveTo>
                  <a:lnTo>
                    <a:pt x="235" y="202"/>
                  </a:lnTo>
                  <a:lnTo>
                    <a:pt x="239" y="204"/>
                  </a:lnTo>
                  <a:lnTo>
                    <a:pt x="244" y="204"/>
                  </a:lnTo>
                  <a:lnTo>
                    <a:pt x="248" y="202"/>
                  </a:lnTo>
                  <a:lnTo>
                    <a:pt x="250" y="199"/>
                  </a:lnTo>
                  <a:lnTo>
                    <a:pt x="251" y="195"/>
                  </a:lnTo>
                  <a:lnTo>
                    <a:pt x="251" y="190"/>
                  </a:lnTo>
                  <a:lnTo>
                    <a:pt x="250" y="187"/>
                  </a:lnTo>
                  <a:lnTo>
                    <a:pt x="244" y="175"/>
                  </a:lnTo>
                  <a:lnTo>
                    <a:pt x="237" y="163"/>
                  </a:lnTo>
                  <a:lnTo>
                    <a:pt x="230" y="154"/>
                  </a:lnTo>
                  <a:lnTo>
                    <a:pt x="219" y="145"/>
                  </a:lnTo>
                  <a:lnTo>
                    <a:pt x="189" y="125"/>
                  </a:lnTo>
                  <a:lnTo>
                    <a:pt x="155" y="99"/>
                  </a:lnTo>
                  <a:lnTo>
                    <a:pt x="120" y="74"/>
                  </a:lnTo>
                  <a:lnTo>
                    <a:pt x="86" y="48"/>
                  </a:lnTo>
                  <a:lnTo>
                    <a:pt x="56" y="28"/>
                  </a:lnTo>
                  <a:lnTo>
                    <a:pt x="29" y="10"/>
                  </a:lnTo>
                  <a:lnTo>
                    <a:pt x="11" y="2"/>
                  </a:lnTo>
                  <a:lnTo>
                    <a:pt x="0" y="0"/>
                  </a:lnTo>
                  <a:lnTo>
                    <a:pt x="4" y="9"/>
                  </a:lnTo>
                  <a:lnTo>
                    <a:pt x="22" y="26"/>
                  </a:lnTo>
                  <a:lnTo>
                    <a:pt x="50" y="48"/>
                  </a:lnTo>
                  <a:lnTo>
                    <a:pt x="84" y="76"/>
                  </a:lnTo>
                  <a:lnTo>
                    <a:pt x="123" y="107"/>
                  </a:lnTo>
                  <a:lnTo>
                    <a:pt x="164" y="140"/>
                  </a:lnTo>
                  <a:lnTo>
                    <a:pt x="200" y="171"/>
                  </a:lnTo>
                  <a:lnTo>
                    <a:pt x="232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497400">
              <a:off x="4712040" y="2431800"/>
              <a:ext cx="57960" cy="241560"/>
            </a:xfrm>
            <a:custGeom>
              <a:avLst/>
              <a:gdLst/>
              <a:ahLst/>
              <a:rect l="l" t="t" r="r" b="b"/>
              <a:pathLst>
                <a:path w="148" h="693">
                  <a:moveTo>
                    <a:pt x="45" y="693"/>
                  </a:moveTo>
                  <a:lnTo>
                    <a:pt x="70" y="667"/>
                  </a:lnTo>
                  <a:lnTo>
                    <a:pt x="89" y="644"/>
                  </a:lnTo>
                  <a:lnTo>
                    <a:pt x="104" y="620"/>
                  </a:lnTo>
                  <a:lnTo>
                    <a:pt x="116" y="598"/>
                  </a:lnTo>
                  <a:lnTo>
                    <a:pt x="123" y="574"/>
                  </a:lnTo>
                  <a:lnTo>
                    <a:pt x="130" y="548"/>
                  </a:lnTo>
                  <a:lnTo>
                    <a:pt x="137" y="518"/>
                  </a:lnTo>
                  <a:lnTo>
                    <a:pt x="145" y="484"/>
                  </a:lnTo>
                  <a:lnTo>
                    <a:pt x="146" y="475"/>
                  </a:lnTo>
                  <a:lnTo>
                    <a:pt x="148" y="468"/>
                  </a:lnTo>
                  <a:lnTo>
                    <a:pt x="148" y="459"/>
                  </a:lnTo>
                  <a:lnTo>
                    <a:pt x="146" y="453"/>
                  </a:lnTo>
                  <a:lnTo>
                    <a:pt x="136" y="408"/>
                  </a:lnTo>
                  <a:lnTo>
                    <a:pt x="123" y="352"/>
                  </a:lnTo>
                  <a:lnTo>
                    <a:pt x="111" y="290"/>
                  </a:lnTo>
                  <a:lnTo>
                    <a:pt x="95" y="226"/>
                  </a:lnTo>
                  <a:lnTo>
                    <a:pt x="79" y="162"/>
                  </a:lnTo>
                  <a:lnTo>
                    <a:pt x="61" y="102"/>
                  </a:lnTo>
                  <a:lnTo>
                    <a:pt x="45" y="50"/>
                  </a:lnTo>
                  <a:lnTo>
                    <a:pt x="27" y="8"/>
                  </a:lnTo>
                  <a:lnTo>
                    <a:pt x="23" y="3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7"/>
                  </a:lnTo>
                  <a:lnTo>
                    <a:pt x="20" y="55"/>
                  </a:lnTo>
                  <a:lnTo>
                    <a:pt x="40" y="110"/>
                  </a:lnTo>
                  <a:lnTo>
                    <a:pt x="59" y="178"/>
                  </a:lnTo>
                  <a:lnTo>
                    <a:pt x="79" y="250"/>
                  </a:lnTo>
                  <a:lnTo>
                    <a:pt x="95" y="323"/>
                  </a:lnTo>
                  <a:lnTo>
                    <a:pt x="109" y="387"/>
                  </a:lnTo>
                  <a:lnTo>
                    <a:pt x="120" y="439"/>
                  </a:lnTo>
                  <a:lnTo>
                    <a:pt x="123" y="472"/>
                  </a:lnTo>
                  <a:lnTo>
                    <a:pt x="120" y="496"/>
                  </a:lnTo>
                  <a:lnTo>
                    <a:pt x="114" y="517"/>
                  </a:lnTo>
                  <a:lnTo>
                    <a:pt x="111" y="536"/>
                  </a:lnTo>
                  <a:lnTo>
                    <a:pt x="105" y="555"/>
                  </a:lnTo>
                  <a:lnTo>
                    <a:pt x="98" y="574"/>
                  </a:lnTo>
                  <a:lnTo>
                    <a:pt x="89" y="594"/>
                  </a:lnTo>
                  <a:lnTo>
                    <a:pt x="79" y="617"/>
                  </a:lnTo>
                  <a:lnTo>
                    <a:pt x="64" y="641"/>
                  </a:lnTo>
                  <a:lnTo>
                    <a:pt x="64" y="636"/>
                  </a:lnTo>
                  <a:lnTo>
                    <a:pt x="66" y="615"/>
                  </a:lnTo>
                  <a:lnTo>
                    <a:pt x="64" y="596"/>
                  </a:lnTo>
                  <a:lnTo>
                    <a:pt x="52" y="587"/>
                  </a:lnTo>
                  <a:lnTo>
                    <a:pt x="43" y="605"/>
                  </a:lnTo>
                  <a:lnTo>
                    <a:pt x="41" y="641"/>
                  </a:lnTo>
                  <a:lnTo>
                    <a:pt x="43" y="677"/>
                  </a:lnTo>
                  <a:lnTo>
                    <a:pt x="45" y="6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497400">
              <a:off x="4395960" y="2394720"/>
              <a:ext cx="97560" cy="61200"/>
            </a:xfrm>
            <a:custGeom>
              <a:avLst/>
              <a:gdLst/>
              <a:ahLst/>
              <a:rect l="l" t="t" r="r" b="b"/>
              <a:pathLst>
                <a:path w="248" h="176">
                  <a:moveTo>
                    <a:pt x="248" y="0"/>
                  </a:moveTo>
                  <a:lnTo>
                    <a:pt x="225" y="5"/>
                  </a:lnTo>
                  <a:lnTo>
                    <a:pt x="189" y="22"/>
                  </a:lnTo>
                  <a:lnTo>
                    <a:pt x="146" y="50"/>
                  </a:lnTo>
                  <a:lnTo>
                    <a:pt x="100" y="81"/>
                  </a:lnTo>
                  <a:lnTo>
                    <a:pt x="59" y="114"/>
                  </a:lnTo>
                  <a:lnTo>
                    <a:pt x="23" y="143"/>
                  </a:lnTo>
                  <a:lnTo>
                    <a:pt x="4" y="166"/>
                  </a:lnTo>
                  <a:lnTo>
                    <a:pt x="0" y="176"/>
                  </a:lnTo>
                  <a:lnTo>
                    <a:pt x="23" y="169"/>
                  </a:lnTo>
                  <a:lnTo>
                    <a:pt x="52" y="155"/>
                  </a:lnTo>
                  <a:lnTo>
                    <a:pt x="88" y="135"/>
                  </a:lnTo>
                  <a:lnTo>
                    <a:pt x="125" y="109"/>
                  </a:lnTo>
                  <a:lnTo>
                    <a:pt x="162" y="81"/>
                  </a:lnTo>
                  <a:lnTo>
                    <a:pt x="196" y="53"/>
                  </a:lnTo>
                  <a:lnTo>
                    <a:pt x="226" y="26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497400">
              <a:off x="4518720" y="2387880"/>
              <a:ext cx="212400" cy="58320"/>
            </a:xfrm>
            <a:custGeom>
              <a:avLst/>
              <a:gdLst/>
              <a:ahLst/>
              <a:rect l="l" t="t" r="r" b="b"/>
              <a:pathLst>
                <a:path w="538" h="173">
                  <a:moveTo>
                    <a:pt x="538" y="30"/>
                  </a:moveTo>
                  <a:lnTo>
                    <a:pt x="532" y="23"/>
                  </a:lnTo>
                  <a:lnTo>
                    <a:pt x="518" y="16"/>
                  </a:lnTo>
                  <a:lnTo>
                    <a:pt x="495" y="11"/>
                  </a:lnTo>
                  <a:lnTo>
                    <a:pt x="465" y="5"/>
                  </a:lnTo>
                  <a:lnTo>
                    <a:pt x="429" y="4"/>
                  </a:lnTo>
                  <a:lnTo>
                    <a:pt x="388" y="2"/>
                  </a:lnTo>
                  <a:lnTo>
                    <a:pt x="343" y="0"/>
                  </a:lnTo>
                  <a:lnTo>
                    <a:pt x="297" y="0"/>
                  </a:lnTo>
                  <a:lnTo>
                    <a:pt x="251" y="2"/>
                  </a:lnTo>
                  <a:lnTo>
                    <a:pt x="205" y="4"/>
                  </a:lnTo>
                  <a:lnTo>
                    <a:pt x="160" y="7"/>
                  </a:lnTo>
                  <a:lnTo>
                    <a:pt x="117" y="11"/>
                  </a:lnTo>
                  <a:lnTo>
                    <a:pt x="80" y="14"/>
                  </a:lnTo>
                  <a:lnTo>
                    <a:pt x="50" y="19"/>
                  </a:lnTo>
                  <a:lnTo>
                    <a:pt x="25" y="24"/>
                  </a:lnTo>
                  <a:lnTo>
                    <a:pt x="9" y="31"/>
                  </a:lnTo>
                  <a:lnTo>
                    <a:pt x="3" y="37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1" y="52"/>
                  </a:lnTo>
                  <a:lnTo>
                    <a:pt x="7" y="56"/>
                  </a:lnTo>
                  <a:lnTo>
                    <a:pt x="12" y="59"/>
                  </a:lnTo>
                  <a:lnTo>
                    <a:pt x="18" y="59"/>
                  </a:lnTo>
                  <a:lnTo>
                    <a:pt x="23" y="57"/>
                  </a:lnTo>
                  <a:lnTo>
                    <a:pt x="34" y="54"/>
                  </a:lnTo>
                  <a:lnTo>
                    <a:pt x="50" y="50"/>
                  </a:lnTo>
                  <a:lnTo>
                    <a:pt x="71" y="45"/>
                  </a:lnTo>
                  <a:lnTo>
                    <a:pt x="98" y="42"/>
                  </a:lnTo>
                  <a:lnTo>
                    <a:pt x="128" y="37"/>
                  </a:lnTo>
                  <a:lnTo>
                    <a:pt x="162" y="33"/>
                  </a:lnTo>
                  <a:lnTo>
                    <a:pt x="197" y="30"/>
                  </a:lnTo>
                  <a:lnTo>
                    <a:pt x="237" y="26"/>
                  </a:lnTo>
                  <a:lnTo>
                    <a:pt x="276" y="23"/>
                  </a:lnTo>
                  <a:lnTo>
                    <a:pt x="313" y="21"/>
                  </a:lnTo>
                  <a:lnTo>
                    <a:pt x="352" y="19"/>
                  </a:lnTo>
                  <a:lnTo>
                    <a:pt x="390" y="19"/>
                  </a:lnTo>
                  <a:lnTo>
                    <a:pt x="424" y="21"/>
                  </a:lnTo>
                  <a:lnTo>
                    <a:pt x="456" y="24"/>
                  </a:lnTo>
                  <a:lnTo>
                    <a:pt x="482" y="30"/>
                  </a:lnTo>
                  <a:lnTo>
                    <a:pt x="505" y="37"/>
                  </a:lnTo>
                  <a:lnTo>
                    <a:pt x="502" y="42"/>
                  </a:lnTo>
                  <a:lnTo>
                    <a:pt x="491" y="57"/>
                  </a:lnTo>
                  <a:lnTo>
                    <a:pt x="475" y="78"/>
                  </a:lnTo>
                  <a:lnTo>
                    <a:pt x="459" y="102"/>
                  </a:lnTo>
                  <a:lnTo>
                    <a:pt x="441" y="127"/>
                  </a:lnTo>
                  <a:lnTo>
                    <a:pt x="429" y="149"/>
                  </a:lnTo>
                  <a:lnTo>
                    <a:pt x="422" y="165"/>
                  </a:lnTo>
                  <a:lnTo>
                    <a:pt x="422" y="173"/>
                  </a:lnTo>
                  <a:lnTo>
                    <a:pt x="431" y="171"/>
                  </a:lnTo>
                  <a:lnTo>
                    <a:pt x="445" y="161"/>
                  </a:lnTo>
                  <a:lnTo>
                    <a:pt x="463" y="144"/>
                  </a:lnTo>
                  <a:lnTo>
                    <a:pt x="482" y="121"/>
                  </a:lnTo>
                  <a:lnTo>
                    <a:pt x="502" y="97"/>
                  </a:lnTo>
                  <a:lnTo>
                    <a:pt x="520" y="73"/>
                  </a:lnTo>
                  <a:lnTo>
                    <a:pt x="532" y="49"/>
                  </a:lnTo>
                  <a:lnTo>
                    <a:pt x="53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497400">
              <a:off x="4327200" y="2475000"/>
              <a:ext cx="321840" cy="237240"/>
            </a:xfrm>
            <a:custGeom>
              <a:avLst/>
              <a:gdLst/>
              <a:ahLst/>
              <a:rect l="l" t="t" r="r" b="b"/>
              <a:pathLst>
                <a:path w="810" h="687">
                  <a:moveTo>
                    <a:pt x="66" y="18"/>
                  </a:moveTo>
                  <a:lnTo>
                    <a:pt x="37" y="40"/>
                  </a:lnTo>
                  <a:lnTo>
                    <a:pt x="18" y="68"/>
                  </a:lnTo>
                  <a:lnTo>
                    <a:pt x="7" y="97"/>
                  </a:lnTo>
                  <a:lnTo>
                    <a:pt x="2" y="132"/>
                  </a:lnTo>
                  <a:lnTo>
                    <a:pt x="0" y="166"/>
                  </a:lnTo>
                  <a:lnTo>
                    <a:pt x="0" y="201"/>
                  </a:lnTo>
                  <a:lnTo>
                    <a:pt x="4" y="236"/>
                  </a:lnTo>
                  <a:lnTo>
                    <a:pt x="5" y="268"/>
                  </a:lnTo>
                  <a:lnTo>
                    <a:pt x="16" y="315"/>
                  </a:lnTo>
                  <a:lnTo>
                    <a:pt x="28" y="360"/>
                  </a:lnTo>
                  <a:lnTo>
                    <a:pt x="39" y="405"/>
                  </a:lnTo>
                  <a:lnTo>
                    <a:pt x="52" y="450"/>
                  </a:lnTo>
                  <a:lnTo>
                    <a:pt x="64" y="497"/>
                  </a:lnTo>
                  <a:lnTo>
                    <a:pt x="77" y="542"/>
                  </a:lnTo>
                  <a:lnTo>
                    <a:pt x="89" y="590"/>
                  </a:lnTo>
                  <a:lnTo>
                    <a:pt x="103" y="637"/>
                  </a:lnTo>
                  <a:lnTo>
                    <a:pt x="110" y="651"/>
                  </a:lnTo>
                  <a:lnTo>
                    <a:pt x="123" y="663"/>
                  </a:lnTo>
                  <a:lnTo>
                    <a:pt x="137" y="673"/>
                  </a:lnTo>
                  <a:lnTo>
                    <a:pt x="155" y="678"/>
                  </a:lnTo>
                  <a:lnTo>
                    <a:pt x="192" y="683"/>
                  </a:lnTo>
                  <a:lnTo>
                    <a:pt x="232" y="687"/>
                  </a:lnTo>
                  <a:lnTo>
                    <a:pt x="272" y="687"/>
                  </a:lnTo>
                  <a:lnTo>
                    <a:pt x="313" y="687"/>
                  </a:lnTo>
                  <a:lnTo>
                    <a:pt x="354" y="685"/>
                  </a:lnTo>
                  <a:lnTo>
                    <a:pt x="397" y="683"/>
                  </a:lnTo>
                  <a:lnTo>
                    <a:pt x="438" y="678"/>
                  </a:lnTo>
                  <a:lnTo>
                    <a:pt x="481" y="673"/>
                  </a:lnTo>
                  <a:lnTo>
                    <a:pt x="524" y="668"/>
                  </a:lnTo>
                  <a:lnTo>
                    <a:pt x="565" y="663"/>
                  </a:lnTo>
                  <a:lnTo>
                    <a:pt x="607" y="656"/>
                  </a:lnTo>
                  <a:lnTo>
                    <a:pt x="646" y="649"/>
                  </a:lnTo>
                  <a:lnTo>
                    <a:pt x="687" y="644"/>
                  </a:lnTo>
                  <a:lnTo>
                    <a:pt x="727" y="637"/>
                  </a:lnTo>
                  <a:lnTo>
                    <a:pt x="764" y="632"/>
                  </a:lnTo>
                  <a:lnTo>
                    <a:pt x="801" y="626"/>
                  </a:lnTo>
                  <a:lnTo>
                    <a:pt x="807" y="625"/>
                  </a:lnTo>
                  <a:lnTo>
                    <a:pt x="809" y="621"/>
                  </a:lnTo>
                  <a:lnTo>
                    <a:pt x="810" y="618"/>
                  </a:lnTo>
                  <a:lnTo>
                    <a:pt x="810" y="613"/>
                  </a:lnTo>
                  <a:lnTo>
                    <a:pt x="809" y="607"/>
                  </a:lnTo>
                  <a:lnTo>
                    <a:pt x="807" y="604"/>
                  </a:lnTo>
                  <a:lnTo>
                    <a:pt x="801" y="602"/>
                  </a:lnTo>
                  <a:lnTo>
                    <a:pt x="796" y="602"/>
                  </a:lnTo>
                  <a:lnTo>
                    <a:pt x="759" y="604"/>
                  </a:lnTo>
                  <a:lnTo>
                    <a:pt x="721" y="606"/>
                  </a:lnTo>
                  <a:lnTo>
                    <a:pt x="680" y="611"/>
                  </a:lnTo>
                  <a:lnTo>
                    <a:pt x="641" y="616"/>
                  </a:lnTo>
                  <a:lnTo>
                    <a:pt x="598" y="621"/>
                  </a:lnTo>
                  <a:lnTo>
                    <a:pt x="557" y="628"/>
                  </a:lnTo>
                  <a:lnTo>
                    <a:pt x="515" y="635"/>
                  </a:lnTo>
                  <a:lnTo>
                    <a:pt x="474" y="640"/>
                  </a:lnTo>
                  <a:lnTo>
                    <a:pt x="431" y="645"/>
                  </a:lnTo>
                  <a:lnTo>
                    <a:pt x="388" y="651"/>
                  </a:lnTo>
                  <a:lnTo>
                    <a:pt x="347" y="654"/>
                  </a:lnTo>
                  <a:lnTo>
                    <a:pt x="305" y="656"/>
                  </a:lnTo>
                  <a:lnTo>
                    <a:pt x="265" y="656"/>
                  </a:lnTo>
                  <a:lnTo>
                    <a:pt x="224" y="652"/>
                  </a:lnTo>
                  <a:lnTo>
                    <a:pt x="187" y="649"/>
                  </a:lnTo>
                  <a:lnTo>
                    <a:pt x="150" y="640"/>
                  </a:lnTo>
                  <a:lnTo>
                    <a:pt x="144" y="638"/>
                  </a:lnTo>
                  <a:lnTo>
                    <a:pt x="141" y="633"/>
                  </a:lnTo>
                  <a:lnTo>
                    <a:pt x="137" y="630"/>
                  </a:lnTo>
                  <a:lnTo>
                    <a:pt x="135" y="625"/>
                  </a:lnTo>
                  <a:lnTo>
                    <a:pt x="123" y="578"/>
                  </a:lnTo>
                  <a:lnTo>
                    <a:pt x="110" y="533"/>
                  </a:lnTo>
                  <a:lnTo>
                    <a:pt x="96" y="488"/>
                  </a:lnTo>
                  <a:lnTo>
                    <a:pt x="84" y="445"/>
                  </a:lnTo>
                  <a:lnTo>
                    <a:pt x="73" y="400"/>
                  </a:lnTo>
                  <a:lnTo>
                    <a:pt x="62" y="357"/>
                  </a:lnTo>
                  <a:lnTo>
                    <a:pt x="52" y="312"/>
                  </a:lnTo>
                  <a:lnTo>
                    <a:pt x="43" y="267"/>
                  </a:lnTo>
                  <a:lnTo>
                    <a:pt x="37" y="220"/>
                  </a:lnTo>
                  <a:lnTo>
                    <a:pt x="36" y="172"/>
                  </a:lnTo>
                  <a:lnTo>
                    <a:pt x="37" y="125"/>
                  </a:lnTo>
                  <a:lnTo>
                    <a:pt x="46" y="78"/>
                  </a:lnTo>
                  <a:lnTo>
                    <a:pt x="68" y="59"/>
                  </a:lnTo>
                  <a:lnTo>
                    <a:pt x="94" y="47"/>
                  </a:lnTo>
                  <a:lnTo>
                    <a:pt x="125" y="40"/>
                  </a:lnTo>
                  <a:lnTo>
                    <a:pt x="157" y="35"/>
                  </a:lnTo>
                  <a:lnTo>
                    <a:pt x="189" y="33"/>
                  </a:lnTo>
                  <a:lnTo>
                    <a:pt x="219" y="28"/>
                  </a:lnTo>
                  <a:lnTo>
                    <a:pt x="246" y="21"/>
                  </a:lnTo>
                  <a:lnTo>
                    <a:pt x="267" y="9"/>
                  </a:lnTo>
                  <a:lnTo>
                    <a:pt x="262" y="4"/>
                  </a:lnTo>
                  <a:lnTo>
                    <a:pt x="246" y="0"/>
                  </a:lnTo>
                  <a:lnTo>
                    <a:pt x="221" y="0"/>
                  </a:lnTo>
                  <a:lnTo>
                    <a:pt x="191" y="2"/>
                  </a:lnTo>
                  <a:lnTo>
                    <a:pt x="159" y="6"/>
                  </a:lnTo>
                  <a:lnTo>
                    <a:pt x="125" y="11"/>
                  </a:lnTo>
                  <a:lnTo>
                    <a:pt x="93" y="14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497400">
              <a:off x="4254480" y="2444400"/>
              <a:ext cx="49320" cy="179640"/>
            </a:xfrm>
            <a:custGeom>
              <a:avLst/>
              <a:gdLst/>
              <a:ahLst/>
              <a:rect l="l" t="t" r="r" b="b"/>
              <a:pathLst>
                <a:path w="126" h="521">
                  <a:moveTo>
                    <a:pt x="32" y="74"/>
                  </a:moveTo>
                  <a:lnTo>
                    <a:pt x="16" y="126"/>
                  </a:lnTo>
                  <a:lnTo>
                    <a:pt x="5" y="182"/>
                  </a:lnTo>
                  <a:lnTo>
                    <a:pt x="0" y="237"/>
                  </a:lnTo>
                  <a:lnTo>
                    <a:pt x="0" y="294"/>
                  </a:lnTo>
                  <a:lnTo>
                    <a:pt x="5" y="349"/>
                  </a:lnTo>
                  <a:lnTo>
                    <a:pt x="16" y="405"/>
                  </a:lnTo>
                  <a:lnTo>
                    <a:pt x="32" y="458"/>
                  </a:lnTo>
                  <a:lnTo>
                    <a:pt x="53" y="510"/>
                  </a:lnTo>
                  <a:lnTo>
                    <a:pt x="57" y="515"/>
                  </a:lnTo>
                  <a:lnTo>
                    <a:pt x="62" y="519"/>
                  </a:lnTo>
                  <a:lnTo>
                    <a:pt x="67" y="521"/>
                  </a:lnTo>
                  <a:lnTo>
                    <a:pt x="74" y="519"/>
                  </a:lnTo>
                  <a:lnTo>
                    <a:pt x="80" y="515"/>
                  </a:lnTo>
                  <a:lnTo>
                    <a:pt x="83" y="510"/>
                  </a:lnTo>
                  <a:lnTo>
                    <a:pt x="83" y="503"/>
                  </a:lnTo>
                  <a:lnTo>
                    <a:pt x="81" y="498"/>
                  </a:lnTo>
                  <a:lnTo>
                    <a:pt x="67" y="439"/>
                  </a:lnTo>
                  <a:lnTo>
                    <a:pt x="51" y="374"/>
                  </a:lnTo>
                  <a:lnTo>
                    <a:pt x="41" y="306"/>
                  </a:lnTo>
                  <a:lnTo>
                    <a:pt x="35" y="239"/>
                  </a:lnTo>
                  <a:lnTo>
                    <a:pt x="37" y="173"/>
                  </a:lnTo>
                  <a:lnTo>
                    <a:pt x="51" y="111"/>
                  </a:lnTo>
                  <a:lnTo>
                    <a:pt x="80" y="54"/>
                  </a:lnTo>
                  <a:lnTo>
                    <a:pt x="126" y="4"/>
                  </a:lnTo>
                  <a:lnTo>
                    <a:pt x="114" y="0"/>
                  </a:lnTo>
                  <a:lnTo>
                    <a:pt x="101" y="2"/>
                  </a:lnTo>
                  <a:lnTo>
                    <a:pt x="87" y="9"/>
                  </a:lnTo>
                  <a:lnTo>
                    <a:pt x="73" y="19"/>
                  </a:lnTo>
                  <a:lnTo>
                    <a:pt x="60" y="31"/>
                  </a:lnTo>
                  <a:lnTo>
                    <a:pt x="48" y="47"/>
                  </a:lnTo>
                  <a:lnTo>
                    <a:pt x="39" y="61"/>
                  </a:lnTo>
                  <a:lnTo>
                    <a:pt x="3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497400">
              <a:off x="4206240" y="2460960"/>
              <a:ext cx="39240" cy="118440"/>
            </a:xfrm>
            <a:custGeom>
              <a:avLst/>
              <a:gdLst/>
              <a:ahLst/>
              <a:rect l="l" t="t" r="r" b="b"/>
              <a:pathLst>
                <a:path w="82" h="346">
                  <a:moveTo>
                    <a:pt x="17" y="334"/>
                  </a:moveTo>
                  <a:lnTo>
                    <a:pt x="23" y="340"/>
                  </a:lnTo>
                  <a:lnTo>
                    <a:pt x="30" y="344"/>
                  </a:lnTo>
                  <a:lnTo>
                    <a:pt x="39" y="346"/>
                  </a:lnTo>
                  <a:lnTo>
                    <a:pt x="48" y="344"/>
                  </a:lnTo>
                  <a:lnTo>
                    <a:pt x="55" y="339"/>
                  </a:lnTo>
                  <a:lnTo>
                    <a:pt x="58" y="332"/>
                  </a:lnTo>
                  <a:lnTo>
                    <a:pt x="60" y="323"/>
                  </a:lnTo>
                  <a:lnTo>
                    <a:pt x="58" y="314"/>
                  </a:lnTo>
                  <a:lnTo>
                    <a:pt x="50" y="273"/>
                  </a:lnTo>
                  <a:lnTo>
                    <a:pt x="48" y="225"/>
                  </a:lnTo>
                  <a:lnTo>
                    <a:pt x="53" y="174"/>
                  </a:lnTo>
                  <a:lnTo>
                    <a:pt x="60" y="123"/>
                  </a:lnTo>
                  <a:lnTo>
                    <a:pt x="69" y="76"/>
                  </a:lnTo>
                  <a:lnTo>
                    <a:pt x="78" y="36"/>
                  </a:lnTo>
                  <a:lnTo>
                    <a:pt x="82" y="10"/>
                  </a:lnTo>
                  <a:lnTo>
                    <a:pt x="78" y="0"/>
                  </a:lnTo>
                  <a:lnTo>
                    <a:pt x="62" y="17"/>
                  </a:lnTo>
                  <a:lnTo>
                    <a:pt x="44" y="48"/>
                  </a:lnTo>
                  <a:lnTo>
                    <a:pt x="28" y="90"/>
                  </a:lnTo>
                  <a:lnTo>
                    <a:pt x="14" y="138"/>
                  </a:lnTo>
                  <a:lnTo>
                    <a:pt x="5" y="190"/>
                  </a:lnTo>
                  <a:lnTo>
                    <a:pt x="0" y="242"/>
                  </a:lnTo>
                  <a:lnTo>
                    <a:pt x="5" y="290"/>
                  </a:lnTo>
                  <a:lnTo>
                    <a:pt x="17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497400">
              <a:off x="4783320" y="2449800"/>
              <a:ext cx="84240" cy="170280"/>
            </a:xfrm>
            <a:custGeom>
              <a:avLst/>
              <a:gdLst/>
              <a:ahLst/>
              <a:rect l="l" t="t" r="r" b="b"/>
              <a:pathLst>
                <a:path w="215" h="491">
                  <a:moveTo>
                    <a:pt x="0" y="7"/>
                  </a:moveTo>
                  <a:lnTo>
                    <a:pt x="21" y="29"/>
                  </a:lnTo>
                  <a:lnTo>
                    <a:pt x="42" y="54"/>
                  </a:lnTo>
                  <a:lnTo>
                    <a:pt x="62" y="78"/>
                  </a:lnTo>
                  <a:lnTo>
                    <a:pt x="82" y="104"/>
                  </a:lnTo>
                  <a:lnTo>
                    <a:pt x="99" y="130"/>
                  </a:lnTo>
                  <a:lnTo>
                    <a:pt x="117" y="156"/>
                  </a:lnTo>
                  <a:lnTo>
                    <a:pt x="132" y="183"/>
                  </a:lnTo>
                  <a:lnTo>
                    <a:pt x="146" y="211"/>
                  </a:lnTo>
                  <a:lnTo>
                    <a:pt x="169" y="275"/>
                  </a:lnTo>
                  <a:lnTo>
                    <a:pt x="181" y="339"/>
                  </a:lnTo>
                  <a:lnTo>
                    <a:pt x="183" y="406"/>
                  </a:lnTo>
                  <a:lnTo>
                    <a:pt x="174" y="475"/>
                  </a:lnTo>
                  <a:lnTo>
                    <a:pt x="174" y="482"/>
                  </a:lnTo>
                  <a:lnTo>
                    <a:pt x="176" y="486"/>
                  </a:lnTo>
                  <a:lnTo>
                    <a:pt x="181" y="489"/>
                  </a:lnTo>
                  <a:lnTo>
                    <a:pt x="187" y="491"/>
                  </a:lnTo>
                  <a:lnTo>
                    <a:pt x="192" y="491"/>
                  </a:lnTo>
                  <a:lnTo>
                    <a:pt x="197" y="489"/>
                  </a:lnTo>
                  <a:lnTo>
                    <a:pt x="201" y="486"/>
                  </a:lnTo>
                  <a:lnTo>
                    <a:pt x="203" y="481"/>
                  </a:lnTo>
                  <a:lnTo>
                    <a:pt x="215" y="412"/>
                  </a:lnTo>
                  <a:lnTo>
                    <a:pt x="215" y="344"/>
                  </a:lnTo>
                  <a:lnTo>
                    <a:pt x="201" y="278"/>
                  </a:lnTo>
                  <a:lnTo>
                    <a:pt x="178" y="216"/>
                  </a:lnTo>
                  <a:lnTo>
                    <a:pt x="146" y="156"/>
                  </a:lnTo>
                  <a:lnTo>
                    <a:pt x="105" y="99"/>
                  </a:lnTo>
                  <a:lnTo>
                    <a:pt x="59" y="47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497400">
              <a:off x="4865040" y="2474640"/>
              <a:ext cx="39240" cy="68400"/>
            </a:xfrm>
            <a:custGeom>
              <a:avLst/>
              <a:gdLst/>
              <a:ahLst/>
              <a:rect l="l" t="t" r="r" b="b"/>
              <a:pathLst>
                <a:path w="94" h="196">
                  <a:moveTo>
                    <a:pt x="64" y="183"/>
                  </a:moveTo>
                  <a:lnTo>
                    <a:pt x="66" y="189"/>
                  </a:lnTo>
                  <a:lnTo>
                    <a:pt x="69" y="194"/>
                  </a:lnTo>
                  <a:lnTo>
                    <a:pt x="73" y="196"/>
                  </a:lnTo>
                  <a:lnTo>
                    <a:pt x="80" y="196"/>
                  </a:lnTo>
                  <a:lnTo>
                    <a:pt x="85" y="194"/>
                  </a:lnTo>
                  <a:lnTo>
                    <a:pt x="90" y="190"/>
                  </a:lnTo>
                  <a:lnTo>
                    <a:pt x="92" y="187"/>
                  </a:lnTo>
                  <a:lnTo>
                    <a:pt x="94" y="180"/>
                  </a:lnTo>
                  <a:lnTo>
                    <a:pt x="90" y="151"/>
                  </a:lnTo>
                  <a:lnTo>
                    <a:pt x="80" y="119"/>
                  </a:lnTo>
                  <a:lnTo>
                    <a:pt x="67" y="88"/>
                  </a:lnTo>
                  <a:lnTo>
                    <a:pt x="51" y="59"/>
                  </a:lnTo>
                  <a:lnTo>
                    <a:pt x="35" y="33"/>
                  </a:lnTo>
                  <a:lnTo>
                    <a:pt x="19" y="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12" y="30"/>
                  </a:lnTo>
                  <a:lnTo>
                    <a:pt x="23" y="52"/>
                  </a:lnTo>
                  <a:lnTo>
                    <a:pt x="35" y="76"/>
                  </a:lnTo>
                  <a:lnTo>
                    <a:pt x="46" y="102"/>
                  </a:lnTo>
                  <a:lnTo>
                    <a:pt x="57" y="130"/>
                  </a:lnTo>
                  <a:lnTo>
                    <a:pt x="62" y="158"/>
                  </a:lnTo>
                  <a:lnTo>
                    <a:pt x="64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497400">
              <a:off x="4100400" y="2761560"/>
              <a:ext cx="627840" cy="172800"/>
            </a:xfrm>
            <a:custGeom>
              <a:avLst/>
              <a:gdLst/>
              <a:ahLst/>
              <a:rect l="l" t="t" r="r" b="b"/>
              <a:pathLst>
                <a:path w="1574" h="498">
                  <a:moveTo>
                    <a:pt x="1574" y="0"/>
                  </a:moveTo>
                  <a:lnTo>
                    <a:pt x="1552" y="7"/>
                  </a:lnTo>
                  <a:lnTo>
                    <a:pt x="1526" y="14"/>
                  </a:lnTo>
                  <a:lnTo>
                    <a:pt x="1497" y="21"/>
                  </a:lnTo>
                  <a:lnTo>
                    <a:pt x="1467" y="28"/>
                  </a:lnTo>
                  <a:lnTo>
                    <a:pt x="1431" y="35"/>
                  </a:lnTo>
                  <a:lnTo>
                    <a:pt x="1394" y="42"/>
                  </a:lnTo>
                  <a:lnTo>
                    <a:pt x="1355" y="49"/>
                  </a:lnTo>
                  <a:lnTo>
                    <a:pt x="1314" y="56"/>
                  </a:lnTo>
                  <a:lnTo>
                    <a:pt x="1269" y="63"/>
                  </a:lnTo>
                  <a:lnTo>
                    <a:pt x="1223" y="68"/>
                  </a:lnTo>
                  <a:lnTo>
                    <a:pt x="1177" y="75"/>
                  </a:lnTo>
                  <a:lnTo>
                    <a:pt x="1127" y="82"/>
                  </a:lnTo>
                  <a:lnTo>
                    <a:pt x="1077" y="87"/>
                  </a:lnTo>
                  <a:lnTo>
                    <a:pt x="1027" y="94"/>
                  </a:lnTo>
                  <a:lnTo>
                    <a:pt x="974" y="99"/>
                  </a:lnTo>
                  <a:lnTo>
                    <a:pt x="922" y="104"/>
                  </a:lnTo>
                  <a:lnTo>
                    <a:pt x="869" y="109"/>
                  </a:lnTo>
                  <a:lnTo>
                    <a:pt x="815" y="115"/>
                  </a:lnTo>
                  <a:lnTo>
                    <a:pt x="762" y="120"/>
                  </a:lnTo>
                  <a:lnTo>
                    <a:pt x="708" y="125"/>
                  </a:lnTo>
                  <a:lnTo>
                    <a:pt x="657" y="128"/>
                  </a:lnTo>
                  <a:lnTo>
                    <a:pt x="605" y="134"/>
                  </a:lnTo>
                  <a:lnTo>
                    <a:pt x="553" y="137"/>
                  </a:lnTo>
                  <a:lnTo>
                    <a:pt x="502" y="141"/>
                  </a:lnTo>
                  <a:lnTo>
                    <a:pt x="454" y="144"/>
                  </a:lnTo>
                  <a:lnTo>
                    <a:pt x="406" y="147"/>
                  </a:lnTo>
                  <a:lnTo>
                    <a:pt x="357" y="151"/>
                  </a:lnTo>
                  <a:lnTo>
                    <a:pt x="313" y="154"/>
                  </a:lnTo>
                  <a:lnTo>
                    <a:pt x="270" y="156"/>
                  </a:lnTo>
                  <a:lnTo>
                    <a:pt x="231" y="158"/>
                  </a:lnTo>
                  <a:lnTo>
                    <a:pt x="192" y="160"/>
                  </a:lnTo>
                  <a:lnTo>
                    <a:pt x="156" y="161"/>
                  </a:lnTo>
                  <a:lnTo>
                    <a:pt x="137" y="189"/>
                  </a:lnTo>
                  <a:lnTo>
                    <a:pt x="108" y="230"/>
                  </a:lnTo>
                  <a:lnTo>
                    <a:pt x="78" y="282"/>
                  </a:lnTo>
                  <a:lnTo>
                    <a:pt x="48" y="338"/>
                  </a:lnTo>
                  <a:lnTo>
                    <a:pt x="21" y="393"/>
                  </a:lnTo>
                  <a:lnTo>
                    <a:pt x="5" y="441"/>
                  </a:lnTo>
                  <a:lnTo>
                    <a:pt x="0" y="478"/>
                  </a:lnTo>
                  <a:lnTo>
                    <a:pt x="10" y="498"/>
                  </a:lnTo>
                  <a:lnTo>
                    <a:pt x="23" y="495"/>
                  </a:lnTo>
                  <a:lnTo>
                    <a:pt x="40" y="490"/>
                  </a:lnTo>
                  <a:lnTo>
                    <a:pt x="62" y="486"/>
                  </a:lnTo>
                  <a:lnTo>
                    <a:pt x="90" y="479"/>
                  </a:lnTo>
                  <a:lnTo>
                    <a:pt x="122" y="474"/>
                  </a:lnTo>
                  <a:lnTo>
                    <a:pt x="158" y="469"/>
                  </a:lnTo>
                  <a:lnTo>
                    <a:pt x="197" y="462"/>
                  </a:lnTo>
                  <a:lnTo>
                    <a:pt x="240" y="455"/>
                  </a:lnTo>
                  <a:lnTo>
                    <a:pt x="286" y="448"/>
                  </a:lnTo>
                  <a:lnTo>
                    <a:pt x="334" y="441"/>
                  </a:lnTo>
                  <a:lnTo>
                    <a:pt x="384" y="434"/>
                  </a:lnTo>
                  <a:lnTo>
                    <a:pt x="438" y="428"/>
                  </a:lnTo>
                  <a:lnTo>
                    <a:pt x="493" y="422"/>
                  </a:lnTo>
                  <a:lnTo>
                    <a:pt x="548" y="415"/>
                  </a:lnTo>
                  <a:lnTo>
                    <a:pt x="605" y="409"/>
                  </a:lnTo>
                  <a:lnTo>
                    <a:pt x="664" y="403"/>
                  </a:lnTo>
                  <a:lnTo>
                    <a:pt x="721" y="398"/>
                  </a:lnTo>
                  <a:lnTo>
                    <a:pt x="780" y="393"/>
                  </a:lnTo>
                  <a:lnTo>
                    <a:pt x="837" y="388"/>
                  </a:lnTo>
                  <a:lnTo>
                    <a:pt x="894" y="384"/>
                  </a:lnTo>
                  <a:lnTo>
                    <a:pt x="951" y="381"/>
                  </a:lnTo>
                  <a:lnTo>
                    <a:pt x="1006" y="379"/>
                  </a:lnTo>
                  <a:lnTo>
                    <a:pt x="1057" y="377"/>
                  </a:lnTo>
                  <a:lnTo>
                    <a:pt x="1109" y="377"/>
                  </a:lnTo>
                  <a:lnTo>
                    <a:pt x="1157" y="377"/>
                  </a:lnTo>
                  <a:lnTo>
                    <a:pt x="1203" y="377"/>
                  </a:lnTo>
                  <a:lnTo>
                    <a:pt x="1246" y="381"/>
                  </a:lnTo>
                  <a:lnTo>
                    <a:pt x="1287" y="384"/>
                  </a:lnTo>
                  <a:lnTo>
                    <a:pt x="1323" y="388"/>
                  </a:lnTo>
                  <a:lnTo>
                    <a:pt x="1355" y="395"/>
                  </a:lnTo>
                  <a:lnTo>
                    <a:pt x="1382" y="402"/>
                  </a:lnTo>
                  <a:lnTo>
                    <a:pt x="1405" y="410"/>
                  </a:lnTo>
                  <a:lnTo>
                    <a:pt x="1422" y="367"/>
                  </a:lnTo>
                  <a:lnTo>
                    <a:pt x="1442" y="312"/>
                  </a:lnTo>
                  <a:lnTo>
                    <a:pt x="1463" y="251"/>
                  </a:lnTo>
                  <a:lnTo>
                    <a:pt x="1485" y="187"/>
                  </a:lnTo>
                  <a:lnTo>
                    <a:pt x="1506" y="125"/>
                  </a:lnTo>
                  <a:lnTo>
                    <a:pt x="1528" y="70"/>
                  </a:lnTo>
                  <a:lnTo>
                    <a:pt x="1551" y="26"/>
                  </a:lnTo>
                  <a:lnTo>
                    <a:pt x="1574" y="0"/>
                  </a:lnTo>
                  <a:close/>
                </a:path>
              </a:pathLst>
            </a:custGeom>
            <a:solidFill>
              <a:srgbClr val="c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497400">
              <a:off x="4205520" y="2766960"/>
              <a:ext cx="559440" cy="177120"/>
            </a:xfrm>
            <a:custGeom>
              <a:avLst/>
              <a:gdLst/>
              <a:ahLst/>
              <a:rect l="l" t="t" r="r" b="b"/>
              <a:pathLst>
                <a:path w="1400" h="512">
                  <a:moveTo>
                    <a:pt x="1309" y="5"/>
                  </a:moveTo>
                  <a:lnTo>
                    <a:pt x="1316" y="2"/>
                  </a:lnTo>
                  <a:lnTo>
                    <a:pt x="1323" y="0"/>
                  </a:lnTo>
                  <a:lnTo>
                    <a:pt x="1328" y="0"/>
                  </a:lnTo>
                  <a:lnTo>
                    <a:pt x="1336" y="2"/>
                  </a:lnTo>
                  <a:lnTo>
                    <a:pt x="1400" y="120"/>
                  </a:lnTo>
                  <a:lnTo>
                    <a:pt x="1393" y="130"/>
                  </a:lnTo>
                  <a:lnTo>
                    <a:pt x="1375" y="156"/>
                  </a:lnTo>
                  <a:lnTo>
                    <a:pt x="1348" y="197"/>
                  </a:lnTo>
                  <a:lnTo>
                    <a:pt x="1316" y="246"/>
                  </a:lnTo>
                  <a:lnTo>
                    <a:pt x="1284" y="301"/>
                  </a:lnTo>
                  <a:lnTo>
                    <a:pt x="1254" y="356"/>
                  </a:lnTo>
                  <a:lnTo>
                    <a:pt x="1227" y="408"/>
                  </a:lnTo>
                  <a:lnTo>
                    <a:pt x="1211" y="453"/>
                  </a:lnTo>
                  <a:lnTo>
                    <a:pt x="1198" y="455"/>
                  </a:lnTo>
                  <a:lnTo>
                    <a:pt x="1181" y="457"/>
                  </a:lnTo>
                  <a:lnTo>
                    <a:pt x="1159" y="460"/>
                  </a:lnTo>
                  <a:lnTo>
                    <a:pt x="1133" y="462"/>
                  </a:lnTo>
                  <a:lnTo>
                    <a:pt x="1100" y="464"/>
                  </a:lnTo>
                  <a:lnTo>
                    <a:pt x="1065" y="467"/>
                  </a:lnTo>
                  <a:lnTo>
                    <a:pt x="1027" y="469"/>
                  </a:lnTo>
                  <a:lnTo>
                    <a:pt x="987" y="471"/>
                  </a:lnTo>
                  <a:lnTo>
                    <a:pt x="942" y="472"/>
                  </a:lnTo>
                  <a:lnTo>
                    <a:pt x="894" y="476"/>
                  </a:lnTo>
                  <a:lnTo>
                    <a:pt x="846" y="477"/>
                  </a:lnTo>
                  <a:lnTo>
                    <a:pt x="796" y="479"/>
                  </a:lnTo>
                  <a:lnTo>
                    <a:pt x="744" y="481"/>
                  </a:lnTo>
                  <a:lnTo>
                    <a:pt x="691" y="484"/>
                  </a:lnTo>
                  <a:lnTo>
                    <a:pt x="639" y="486"/>
                  </a:lnTo>
                  <a:lnTo>
                    <a:pt x="586" y="488"/>
                  </a:lnTo>
                  <a:lnTo>
                    <a:pt x="532" y="490"/>
                  </a:lnTo>
                  <a:lnTo>
                    <a:pt x="479" y="491"/>
                  </a:lnTo>
                  <a:lnTo>
                    <a:pt x="427" y="493"/>
                  </a:lnTo>
                  <a:lnTo>
                    <a:pt x="377" y="495"/>
                  </a:lnTo>
                  <a:lnTo>
                    <a:pt x="329" y="498"/>
                  </a:lnTo>
                  <a:lnTo>
                    <a:pt x="281" y="500"/>
                  </a:lnTo>
                  <a:lnTo>
                    <a:pt x="237" y="500"/>
                  </a:lnTo>
                  <a:lnTo>
                    <a:pt x="196" y="502"/>
                  </a:lnTo>
                  <a:lnTo>
                    <a:pt x="157" y="503"/>
                  </a:lnTo>
                  <a:lnTo>
                    <a:pt x="121" y="505"/>
                  </a:lnTo>
                  <a:lnTo>
                    <a:pt x="89" y="507"/>
                  </a:lnTo>
                  <a:lnTo>
                    <a:pt x="62" y="509"/>
                  </a:lnTo>
                  <a:lnTo>
                    <a:pt x="39" y="509"/>
                  </a:lnTo>
                  <a:lnTo>
                    <a:pt x="19" y="510"/>
                  </a:lnTo>
                  <a:lnTo>
                    <a:pt x="7" y="510"/>
                  </a:lnTo>
                  <a:lnTo>
                    <a:pt x="0" y="512"/>
                  </a:lnTo>
                  <a:lnTo>
                    <a:pt x="28" y="502"/>
                  </a:lnTo>
                  <a:lnTo>
                    <a:pt x="71" y="491"/>
                  </a:lnTo>
                  <a:lnTo>
                    <a:pt x="126" y="479"/>
                  </a:lnTo>
                  <a:lnTo>
                    <a:pt x="192" y="469"/>
                  </a:lnTo>
                  <a:lnTo>
                    <a:pt x="267" y="457"/>
                  </a:lnTo>
                  <a:lnTo>
                    <a:pt x="349" y="446"/>
                  </a:lnTo>
                  <a:lnTo>
                    <a:pt x="436" y="438"/>
                  </a:lnTo>
                  <a:lnTo>
                    <a:pt x="527" y="429"/>
                  </a:lnTo>
                  <a:lnTo>
                    <a:pt x="618" y="420"/>
                  </a:lnTo>
                  <a:lnTo>
                    <a:pt x="709" y="415"/>
                  </a:lnTo>
                  <a:lnTo>
                    <a:pt x="798" y="410"/>
                  </a:lnTo>
                  <a:lnTo>
                    <a:pt x="883" y="407"/>
                  </a:lnTo>
                  <a:lnTo>
                    <a:pt x="962" y="405"/>
                  </a:lnTo>
                  <a:lnTo>
                    <a:pt x="1031" y="407"/>
                  </a:lnTo>
                  <a:lnTo>
                    <a:pt x="1092" y="410"/>
                  </a:lnTo>
                  <a:lnTo>
                    <a:pt x="1140" y="415"/>
                  </a:lnTo>
                  <a:lnTo>
                    <a:pt x="1157" y="372"/>
                  </a:lnTo>
                  <a:lnTo>
                    <a:pt x="1177" y="317"/>
                  </a:lnTo>
                  <a:lnTo>
                    <a:pt x="1198" y="256"/>
                  </a:lnTo>
                  <a:lnTo>
                    <a:pt x="1220" y="192"/>
                  </a:lnTo>
                  <a:lnTo>
                    <a:pt x="1241" y="130"/>
                  </a:lnTo>
                  <a:lnTo>
                    <a:pt x="1263" y="75"/>
                  </a:lnTo>
                  <a:lnTo>
                    <a:pt x="1286" y="31"/>
                  </a:lnTo>
                  <a:lnTo>
                    <a:pt x="1309" y="5"/>
                  </a:lnTo>
                  <a:close/>
                </a:path>
              </a:pathLst>
            </a:custGeom>
            <a:solidFill>
              <a:srgbClr val="8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497400">
              <a:off x="4678920" y="2799000"/>
              <a:ext cx="42120" cy="90360"/>
            </a:xfrm>
            <a:custGeom>
              <a:avLst/>
              <a:gdLst/>
              <a:ahLst/>
              <a:rect l="l" t="t" r="r" b="b"/>
              <a:pathLst>
                <a:path w="110" h="261">
                  <a:moveTo>
                    <a:pt x="0" y="251"/>
                  </a:moveTo>
                  <a:lnTo>
                    <a:pt x="0" y="255"/>
                  </a:lnTo>
                  <a:lnTo>
                    <a:pt x="2" y="258"/>
                  </a:lnTo>
                  <a:lnTo>
                    <a:pt x="5" y="260"/>
                  </a:lnTo>
                  <a:lnTo>
                    <a:pt x="9" y="261"/>
                  </a:lnTo>
                  <a:lnTo>
                    <a:pt x="12" y="261"/>
                  </a:lnTo>
                  <a:lnTo>
                    <a:pt x="16" y="260"/>
                  </a:lnTo>
                  <a:lnTo>
                    <a:pt x="20" y="256"/>
                  </a:lnTo>
                  <a:lnTo>
                    <a:pt x="21" y="253"/>
                  </a:lnTo>
                  <a:lnTo>
                    <a:pt x="30" y="217"/>
                  </a:lnTo>
                  <a:lnTo>
                    <a:pt x="44" y="177"/>
                  </a:lnTo>
                  <a:lnTo>
                    <a:pt x="61" y="135"/>
                  </a:lnTo>
                  <a:lnTo>
                    <a:pt x="77" y="95"/>
                  </a:lnTo>
                  <a:lnTo>
                    <a:pt x="91" y="59"/>
                  </a:lnTo>
                  <a:lnTo>
                    <a:pt x="103" y="30"/>
                  </a:lnTo>
                  <a:lnTo>
                    <a:pt x="110" y="9"/>
                  </a:lnTo>
                  <a:lnTo>
                    <a:pt x="109" y="0"/>
                  </a:lnTo>
                  <a:lnTo>
                    <a:pt x="100" y="13"/>
                  </a:lnTo>
                  <a:lnTo>
                    <a:pt x="87" y="33"/>
                  </a:lnTo>
                  <a:lnTo>
                    <a:pt x="69" y="63"/>
                  </a:lnTo>
                  <a:lnTo>
                    <a:pt x="52" y="97"/>
                  </a:lnTo>
                  <a:lnTo>
                    <a:pt x="36" y="135"/>
                  </a:lnTo>
                  <a:lnTo>
                    <a:pt x="20" y="175"/>
                  </a:lnTo>
                  <a:lnTo>
                    <a:pt x="7" y="215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497400">
              <a:off x="4200480" y="2806920"/>
              <a:ext cx="39240" cy="1800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4" y="45"/>
                  </a:moveTo>
                  <a:lnTo>
                    <a:pt x="9" y="50"/>
                  </a:lnTo>
                  <a:lnTo>
                    <a:pt x="16" y="53"/>
                  </a:lnTo>
                  <a:lnTo>
                    <a:pt x="25" y="53"/>
                  </a:lnTo>
                  <a:lnTo>
                    <a:pt x="36" y="53"/>
                  </a:lnTo>
                  <a:lnTo>
                    <a:pt x="47" y="52"/>
                  </a:lnTo>
                  <a:lnTo>
                    <a:pt x="57" y="50"/>
                  </a:lnTo>
                  <a:lnTo>
                    <a:pt x="68" y="48"/>
                  </a:lnTo>
                  <a:lnTo>
                    <a:pt x="77" y="48"/>
                  </a:lnTo>
                  <a:lnTo>
                    <a:pt x="82" y="45"/>
                  </a:lnTo>
                  <a:lnTo>
                    <a:pt x="86" y="36"/>
                  </a:lnTo>
                  <a:lnTo>
                    <a:pt x="89" y="27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1" y="15"/>
                  </a:lnTo>
                  <a:lnTo>
                    <a:pt x="93" y="12"/>
                  </a:lnTo>
                  <a:lnTo>
                    <a:pt x="89" y="7"/>
                  </a:lnTo>
                  <a:lnTo>
                    <a:pt x="84" y="3"/>
                  </a:lnTo>
                  <a:lnTo>
                    <a:pt x="72" y="2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5" y="7"/>
                  </a:lnTo>
                  <a:lnTo>
                    <a:pt x="6" y="17"/>
                  </a:lnTo>
                  <a:lnTo>
                    <a:pt x="0" y="31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497400">
              <a:off x="4250160" y="2811240"/>
              <a:ext cx="39240" cy="16560"/>
            </a:xfrm>
            <a:custGeom>
              <a:avLst/>
              <a:gdLst/>
              <a:ahLst/>
              <a:rect l="l" t="t" r="r" b="b"/>
              <a:pathLst>
                <a:path w="93" h="52">
                  <a:moveTo>
                    <a:pt x="4" y="43"/>
                  </a:moveTo>
                  <a:lnTo>
                    <a:pt x="9" y="48"/>
                  </a:lnTo>
                  <a:lnTo>
                    <a:pt x="16" y="52"/>
                  </a:lnTo>
                  <a:lnTo>
                    <a:pt x="25" y="52"/>
                  </a:lnTo>
                  <a:lnTo>
                    <a:pt x="36" y="52"/>
                  </a:lnTo>
                  <a:lnTo>
                    <a:pt x="46" y="50"/>
                  </a:lnTo>
                  <a:lnTo>
                    <a:pt x="57" y="48"/>
                  </a:lnTo>
                  <a:lnTo>
                    <a:pt x="68" y="48"/>
                  </a:lnTo>
                  <a:lnTo>
                    <a:pt x="77" y="48"/>
                  </a:lnTo>
                  <a:lnTo>
                    <a:pt x="82" y="43"/>
                  </a:lnTo>
                  <a:lnTo>
                    <a:pt x="85" y="34"/>
                  </a:lnTo>
                  <a:lnTo>
                    <a:pt x="89" y="26"/>
                  </a:lnTo>
                  <a:lnTo>
                    <a:pt x="89" y="21"/>
                  </a:lnTo>
                  <a:lnTo>
                    <a:pt x="89" y="17"/>
                  </a:lnTo>
                  <a:lnTo>
                    <a:pt x="91" y="14"/>
                  </a:lnTo>
                  <a:lnTo>
                    <a:pt x="93" y="10"/>
                  </a:lnTo>
                  <a:lnTo>
                    <a:pt x="89" y="5"/>
                  </a:lnTo>
                  <a:lnTo>
                    <a:pt x="84" y="2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497400">
              <a:off x="4295160" y="2814120"/>
              <a:ext cx="39240" cy="1944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3" y="45"/>
                  </a:moveTo>
                  <a:lnTo>
                    <a:pt x="9" y="51"/>
                  </a:lnTo>
                  <a:lnTo>
                    <a:pt x="18" y="54"/>
                  </a:lnTo>
                  <a:lnTo>
                    <a:pt x="27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9" y="51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5"/>
                  </a:lnTo>
                  <a:lnTo>
                    <a:pt x="85" y="37"/>
                  </a:lnTo>
                  <a:lnTo>
                    <a:pt x="89" y="28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3" y="16"/>
                  </a:lnTo>
                  <a:lnTo>
                    <a:pt x="93" y="13"/>
                  </a:lnTo>
                  <a:lnTo>
                    <a:pt x="91" y="7"/>
                  </a:lnTo>
                  <a:lnTo>
                    <a:pt x="84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8"/>
                  </a:lnTo>
                  <a:lnTo>
                    <a:pt x="0" y="32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497400">
              <a:off x="4350600" y="2820960"/>
              <a:ext cx="39600" cy="1944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5"/>
                  </a:moveTo>
                  <a:lnTo>
                    <a:pt x="9" y="50"/>
                  </a:lnTo>
                  <a:lnTo>
                    <a:pt x="18" y="54"/>
                  </a:lnTo>
                  <a:lnTo>
                    <a:pt x="27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2" y="16"/>
                  </a:lnTo>
                  <a:lnTo>
                    <a:pt x="92" y="12"/>
                  </a:lnTo>
                  <a:lnTo>
                    <a:pt x="91" y="7"/>
                  </a:lnTo>
                  <a:lnTo>
                    <a:pt x="84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0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497400">
              <a:off x="4411800" y="2827800"/>
              <a:ext cx="39240" cy="1836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5"/>
                  </a:moveTo>
                  <a:lnTo>
                    <a:pt x="8" y="50"/>
                  </a:lnTo>
                  <a:lnTo>
                    <a:pt x="16" y="54"/>
                  </a:lnTo>
                  <a:lnTo>
                    <a:pt x="25" y="54"/>
                  </a:lnTo>
                  <a:lnTo>
                    <a:pt x="35" y="54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1" y="45"/>
                  </a:lnTo>
                  <a:lnTo>
                    <a:pt x="85" y="36"/>
                  </a:lnTo>
                  <a:lnTo>
                    <a:pt x="89" y="28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0" y="16"/>
                  </a:lnTo>
                  <a:lnTo>
                    <a:pt x="92" y="12"/>
                  </a:lnTo>
                  <a:lnTo>
                    <a:pt x="89" y="7"/>
                  </a:lnTo>
                  <a:lnTo>
                    <a:pt x="83" y="3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1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497400">
              <a:off x="4459680" y="2824920"/>
              <a:ext cx="39240" cy="1836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4" y="45"/>
                  </a:moveTo>
                  <a:lnTo>
                    <a:pt x="9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8" y="53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70" y="50"/>
                  </a:lnTo>
                  <a:lnTo>
                    <a:pt x="78" y="50"/>
                  </a:lnTo>
                  <a:lnTo>
                    <a:pt x="82" y="45"/>
                  </a:lnTo>
                  <a:lnTo>
                    <a:pt x="86" y="36"/>
                  </a:lnTo>
                  <a:lnTo>
                    <a:pt x="89" y="27"/>
                  </a:lnTo>
                  <a:lnTo>
                    <a:pt x="91" y="20"/>
                  </a:lnTo>
                  <a:lnTo>
                    <a:pt x="91" y="19"/>
                  </a:lnTo>
                  <a:lnTo>
                    <a:pt x="93" y="15"/>
                  </a:lnTo>
                  <a:lnTo>
                    <a:pt x="93" y="12"/>
                  </a:lnTo>
                  <a:lnTo>
                    <a:pt x="91" y="7"/>
                  </a:lnTo>
                  <a:lnTo>
                    <a:pt x="84" y="3"/>
                  </a:lnTo>
                  <a:lnTo>
                    <a:pt x="71" y="1"/>
                  </a:lnTo>
                  <a:lnTo>
                    <a:pt x="54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1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497400">
              <a:off x="4509360" y="2835000"/>
              <a:ext cx="39240" cy="18360"/>
            </a:xfrm>
            <a:custGeom>
              <a:avLst/>
              <a:gdLst/>
              <a:ahLst/>
              <a:rect l="l" t="t" r="r" b="b"/>
              <a:pathLst>
                <a:path w="93" h="52">
                  <a:moveTo>
                    <a:pt x="4" y="43"/>
                  </a:moveTo>
                  <a:lnTo>
                    <a:pt x="9" y="48"/>
                  </a:lnTo>
                  <a:lnTo>
                    <a:pt x="18" y="52"/>
                  </a:lnTo>
                  <a:lnTo>
                    <a:pt x="27" y="52"/>
                  </a:lnTo>
                  <a:lnTo>
                    <a:pt x="37" y="52"/>
                  </a:lnTo>
                  <a:lnTo>
                    <a:pt x="48" y="50"/>
                  </a:lnTo>
                  <a:lnTo>
                    <a:pt x="59" y="48"/>
                  </a:lnTo>
                  <a:lnTo>
                    <a:pt x="69" y="48"/>
                  </a:lnTo>
                  <a:lnTo>
                    <a:pt x="78" y="48"/>
                  </a:lnTo>
                  <a:lnTo>
                    <a:pt x="82" y="43"/>
                  </a:lnTo>
                  <a:lnTo>
                    <a:pt x="85" y="34"/>
                  </a:lnTo>
                  <a:lnTo>
                    <a:pt x="89" y="26"/>
                  </a:lnTo>
                  <a:lnTo>
                    <a:pt x="91" y="20"/>
                  </a:lnTo>
                  <a:lnTo>
                    <a:pt x="91" y="17"/>
                  </a:lnTo>
                  <a:lnTo>
                    <a:pt x="93" y="13"/>
                  </a:lnTo>
                  <a:lnTo>
                    <a:pt x="93" y="10"/>
                  </a:lnTo>
                  <a:lnTo>
                    <a:pt x="91" y="5"/>
                  </a:lnTo>
                  <a:lnTo>
                    <a:pt x="84" y="1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497400">
              <a:off x="4563720" y="2832480"/>
              <a:ext cx="39240" cy="16200"/>
            </a:xfrm>
            <a:custGeom>
              <a:avLst/>
              <a:gdLst/>
              <a:ahLst/>
              <a:rect l="l" t="t" r="r" b="b"/>
              <a:pathLst>
                <a:path w="90" h="52">
                  <a:moveTo>
                    <a:pt x="3" y="43"/>
                  </a:moveTo>
                  <a:lnTo>
                    <a:pt x="8" y="48"/>
                  </a:lnTo>
                  <a:lnTo>
                    <a:pt x="16" y="52"/>
                  </a:lnTo>
                  <a:lnTo>
                    <a:pt x="25" y="52"/>
                  </a:lnTo>
                  <a:lnTo>
                    <a:pt x="35" y="52"/>
                  </a:lnTo>
                  <a:lnTo>
                    <a:pt x="46" y="50"/>
                  </a:lnTo>
                  <a:lnTo>
                    <a:pt x="57" y="48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0" y="43"/>
                  </a:lnTo>
                  <a:lnTo>
                    <a:pt x="83" y="35"/>
                  </a:lnTo>
                  <a:lnTo>
                    <a:pt x="87" y="26"/>
                  </a:lnTo>
                  <a:lnTo>
                    <a:pt x="89" y="21"/>
                  </a:lnTo>
                  <a:lnTo>
                    <a:pt x="89" y="17"/>
                  </a:lnTo>
                  <a:lnTo>
                    <a:pt x="90" y="14"/>
                  </a:lnTo>
                  <a:lnTo>
                    <a:pt x="90" y="10"/>
                  </a:lnTo>
                  <a:lnTo>
                    <a:pt x="89" y="5"/>
                  </a:lnTo>
                  <a:lnTo>
                    <a:pt x="83" y="2"/>
                  </a:lnTo>
                  <a:lnTo>
                    <a:pt x="71" y="0"/>
                  </a:lnTo>
                  <a:lnTo>
                    <a:pt x="51" y="0"/>
                  </a:lnTo>
                  <a:lnTo>
                    <a:pt x="23" y="2"/>
                  </a:lnTo>
                  <a:lnTo>
                    <a:pt x="14" y="7"/>
                  </a:lnTo>
                  <a:lnTo>
                    <a:pt x="5" y="16"/>
                  </a:lnTo>
                  <a:lnTo>
                    <a:pt x="0" y="29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497400">
              <a:off x="4621680" y="2840760"/>
              <a:ext cx="39240" cy="18000"/>
            </a:xfrm>
            <a:custGeom>
              <a:avLst/>
              <a:gdLst/>
              <a:ahLst/>
              <a:rect l="l" t="t" r="r" b="b"/>
              <a:pathLst>
                <a:path w="93" h="52">
                  <a:moveTo>
                    <a:pt x="4" y="44"/>
                  </a:moveTo>
                  <a:lnTo>
                    <a:pt x="9" y="49"/>
                  </a:lnTo>
                  <a:lnTo>
                    <a:pt x="18" y="52"/>
                  </a:lnTo>
                  <a:lnTo>
                    <a:pt x="27" y="52"/>
                  </a:lnTo>
                  <a:lnTo>
                    <a:pt x="38" y="52"/>
                  </a:lnTo>
                  <a:lnTo>
                    <a:pt x="48" y="51"/>
                  </a:lnTo>
                  <a:lnTo>
                    <a:pt x="59" y="49"/>
                  </a:lnTo>
                  <a:lnTo>
                    <a:pt x="70" y="49"/>
                  </a:lnTo>
                  <a:lnTo>
                    <a:pt x="79" y="49"/>
                  </a:lnTo>
                  <a:lnTo>
                    <a:pt x="82" y="44"/>
                  </a:lnTo>
                  <a:lnTo>
                    <a:pt x="86" y="35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8"/>
                  </a:lnTo>
                  <a:lnTo>
                    <a:pt x="93" y="14"/>
                  </a:lnTo>
                  <a:lnTo>
                    <a:pt x="93" y="11"/>
                  </a:lnTo>
                  <a:lnTo>
                    <a:pt x="91" y="6"/>
                  </a:lnTo>
                  <a:lnTo>
                    <a:pt x="84" y="2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6" y="16"/>
                  </a:lnTo>
                  <a:lnTo>
                    <a:pt x="0" y="30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497400">
              <a:off x="4576320" y="2867400"/>
              <a:ext cx="39240" cy="19080"/>
            </a:xfrm>
            <a:custGeom>
              <a:avLst/>
              <a:gdLst/>
              <a:ahLst/>
              <a:rect l="l" t="t" r="r" b="b"/>
              <a:pathLst>
                <a:path w="92" h="53">
                  <a:moveTo>
                    <a:pt x="3" y="43"/>
                  </a:moveTo>
                  <a:lnTo>
                    <a:pt x="9" y="48"/>
                  </a:lnTo>
                  <a:lnTo>
                    <a:pt x="17" y="51"/>
                  </a:lnTo>
                  <a:lnTo>
                    <a:pt x="26" y="53"/>
                  </a:lnTo>
                  <a:lnTo>
                    <a:pt x="37" y="51"/>
                  </a:lnTo>
                  <a:lnTo>
                    <a:pt x="48" y="51"/>
                  </a:lnTo>
                  <a:lnTo>
                    <a:pt x="58" y="50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2" y="44"/>
                  </a:lnTo>
                  <a:lnTo>
                    <a:pt x="85" y="36"/>
                  </a:lnTo>
                  <a:lnTo>
                    <a:pt x="89" y="25"/>
                  </a:lnTo>
                  <a:lnTo>
                    <a:pt x="89" y="20"/>
                  </a:lnTo>
                  <a:lnTo>
                    <a:pt x="89" y="19"/>
                  </a:lnTo>
                  <a:lnTo>
                    <a:pt x="90" y="15"/>
                  </a:lnTo>
                  <a:lnTo>
                    <a:pt x="92" y="12"/>
                  </a:lnTo>
                  <a:lnTo>
                    <a:pt x="89" y="6"/>
                  </a:lnTo>
                  <a:lnTo>
                    <a:pt x="83" y="3"/>
                  </a:lnTo>
                  <a:lnTo>
                    <a:pt x="71" y="1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6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497400">
              <a:off x="4518360" y="2867400"/>
              <a:ext cx="39240" cy="1908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4"/>
                  </a:moveTo>
                  <a:lnTo>
                    <a:pt x="9" y="49"/>
                  </a:lnTo>
                  <a:lnTo>
                    <a:pt x="16" y="52"/>
                  </a:lnTo>
                  <a:lnTo>
                    <a:pt x="25" y="54"/>
                  </a:lnTo>
                  <a:lnTo>
                    <a:pt x="35" y="52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7" y="49"/>
                  </a:lnTo>
                  <a:lnTo>
                    <a:pt x="76" y="49"/>
                  </a:lnTo>
                  <a:lnTo>
                    <a:pt x="80" y="45"/>
                  </a:lnTo>
                  <a:lnTo>
                    <a:pt x="83" y="38"/>
                  </a:lnTo>
                  <a:lnTo>
                    <a:pt x="87" y="30"/>
                  </a:lnTo>
                  <a:lnTo>
                    <a:pt x="89" y="21"/>
                  </a:lnTo>
                  <a:lnTo>
                    <a:pt x="90" y="19"/>
                  </a:lnTo>
                  <a:lnTo>
                    <a:pt x="92" y="16"/>
                  </a:lnTo>
                  <a:lnTo>
                    <a:pt x="92" y="12"/>
                  </a:lnTo>
                  <a:lnTo>
                    <a:pt x="90" y="7"/>
                  </a:lnTo>
                  <a:lnTo>
                    <a:pt x="83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8"/>
                  </a:lnTo>
                  <a:lnTo>
                    <a:pt x="0" y="30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497400">
              <a:off x="4473000" y="2863080"/>
              <a:ext cx="39240" cy="1800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4" y="43"/>
                  </a:moveTo>
                  <a:lnTo>
                    <a:pt x="9" y="50"/>
                  </a:lnTo>
                  <a:lnTo>
                    <a:pt x="18" y="52"/>
                  </a:lnTo>
                  <a:lnTo>
                    <a:pt x="27" y="54"/>
                  </a:lnTo>
                  <a:lnTo>
                    <a:pt x="38" y="54"/>
                  </a:lnTo>
                  <a:lnTo>
                    <a:pt x="49" y="52"/>
                  </a:lnTo>
                  <a:lnTo>
                    <a:pt x="59" y="50"/>
                  </a:lnTo>
                  <a:lnTo>
                    <a:pt x="70" y="48"/>
                  </a:lnTo>
                  <a:lnTo>
                    <a:pt x="79" y="48"/>
                  </a:lnTo>
                  <a:lnTo>
                    <a:pt x="82" y="45"/>
                  </a:lnTo>
                  <a:lnTo>
                    <a:pt x="86" y="36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3" y="16"/>
                  </a:lnTo>
                  <a:lnTo>
                    <a:pt x="93" y="12"/>
                  </a:lnTo>
                  <a:lnTo>
                    <a:pt x="91" y="7"/>
                  </a:lnTo>
                  <a:lnTo>
                    <a:pt x="84" y="3"/>
                  </a:lnTo>
                  <a:lnTo>
                    <a:pt x="72" y="2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5" y="7"/>
                  </a:lnTo>
                  <a:lnTo>
                    <a:pt x="6" y="17"/>
                  </a:lnTo>
                  <a:lnTo>
                    <a:pt x="0" y="29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497400">
              <a:off x="4400280" y="2861640"/>
              <a:ext cx="39240" cy="16560"/>
            </a:xfrm>
            <a:custGeom>
              <a:avLst/>
              <a:gdLst/>
              <a:ahLst/>
              <a:rect l="l" t="t" r="r" b="b"/>
              <a:pathLst>
                <a:path w="92" h="53">
                  <a:moveTo>
                    <a:pt x="3" y="43"/>
                  </a:moveTo>
                  <a:lnTo>
                    <a:pt x="9" y="48"/>
                  </a:lnTo>
                  <a:lnTo>
                    <a:pt x="16" y="52"/>
                  </a:lnTo>
                  <a:lnTo>
                    <a:pt x="25" y="53"/>
                  </a:lnTo>
                  <a:lnTo>
                    <a:pt x="35" y="52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6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1" y="15"/>
                  </a:lnTo>
                  <a:lnTo>
                    <a:pt x="92" y="10"/>
                  </a:lnTo>
                  <a:lnTo>
                    <a:pt x="89" y="7"/>
                  </a:lnTo>
                  <a:lnTo>
                    <a:pt x="83" y="3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497400">
              <a:off x="4343040" y="2858760"/>
              <a:ext cx="39240" cy="18360"/>
            </a:xfrm>
            <a:custGeom>
              <a:avLst/>
              <a:gdLst/>
              <a:ahLst/>
              <a:rect l="l" t="t" r="r" b="b"/>
              <a:pathLst>
                <a:path w="92" h="53">
                  <a:moveTo>
                    <a:pt x="3" y="45"/>
                  </a:moveTo>
                  <a:lnTo>
                    <a:pt x="9" y="50"/>
                  </a:lnTo>
                  <a:lnTo>
                    <a:pt x="16" y="53"/>
                  </a:lnTo>
                  <a:lnTo>
                    <a:pt x="25" y="53"/>
                  </a:lnTo>
                  <a:lnTo>
                    <a:pt x="35" y="53"/>
                  </a:lnTo>
                  <a:lnTo>
                    <a:pt x="46" y="51"/>
                  </a:lnTo>
                  <a:lnTo>
                    <a:pt x="57" y="50"/>
                  </a:lnTo>
                  <a:lnTo>
                    <a:pt x="68" y="48"/>
                  </a:lnTo>
                  <a:lnTo>
                    <a:pt x="76" y="48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7"/>
                  </a:lnTo>
                  <a:lnTo>
                    <a:pt x="89" y="20"/>
                  </a:lnTo>
                  <a:lnTo>
                    <a:pt x="89" y="19"/>
                  </a:lnTo>
                  <a:lnTo>
                    <a:pt x="91" y="15"/>
                  </a:lnTo>
                  <a:lnTo>
                    <a:pt x="92" y="12"/>
                  </a:lnTo>
                  <a:lnTo>
                    <a:pt x="89" y="7"/>
                  </a:lnTo>
                  <a:lnTo>
                    <a:pt x="84" y="3"/>
                  </a:lnTo>
                  <a:lnTo>
                    <a:pt x="71" y="1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1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497400">
              <a:off x="4286160" y="2848680"/>
              <a:ext cx="39600" cy="1944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3"/>
                  </a:moveTo>
                  <a:lnTo>
                    <a:pt x="9" y="49"/>
                  </a:lnTo>
                  <a:lnTo>
                    <a:pt x="18" y="52"/>
                  </a:lnTo>
                  <a:lnTo>
                    <a:pt x="27" y="54"/>
                  </a:lnTo>
                  <a:lnTo>
                    <a:pt x="37" y="52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2" y="16"/>
                  </a:lnTo>
                  <a:lnTo>
                    <a:pt x="92" y="12"/>
                  </a:lnTo>
                  <a:lnTo>
                    <a:pt x="91" y="7"/>
                  </a:lnTo>
                  <a:lnTo>
                    <a:pt x="84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0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497400">
              <a:off x="4235400" y="2841840"/>
              <a:ext cx="39240" cy="19440"/>
            </a:xfrm>
            <a:custGeom>
              <a:avLst/>
              <a:gdLst/>
              <a:ahLst/>
              <a:rect l="l" t="t" r="r" b="b"/>
              <a:pathLst>
                <a:path w="92" h="52">
                  <a:moveTo>
                    <a:pt x="3" y="44"/>
                  </a:moveTo>
                  <a:lnTo>
                    <a:pt x="8" y="49"/>
                  </a:lnTo>
                  <a:lnTo>
                    <a:pt x="17" y="52"/>
                  </a:lnTo>
                  <a:lnTo>
                    <a:pt x="26" y="52"/>
                  </a:lnTo>
                  <a:lnTo>
                    <a:pt x="37" y="52"/>
                  </a:lnTo>
                  <a:lnTo>
                    <a:pt x="48" y="51"/>
                  </a:lnTo>
                  <a:lnTo>
                    <a:pt x="58" y="49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4"/>
                  </a:lnTo>
                  <a:lnTo>
                    <a:pt x="85" y="35"/>
                  </a:lnTo>
                  <a:lnTo>
                    <a:pt x="89" y="26"/>
                  </a:lnTo>
                  <a:lnTo>
                    <a:pt x="90" y="21"/>
                  </a:lnTo>
                  <a:lnTo>
                    <a:pt x="90" y="19"/>
                  </a:lnTo>
                  <a:lnTo>
                    <a:pt x="92" y="16"/>
                  </a:lnTo>
                  <a:lnTo>
                    <a:pt x="92" y="11"/>
                  </a:lnTo>
                  <a:lnTo>
                    <a:pt x="90" y="7"/>
                  </a:lnTo>
                  <a:lnTo>
                    <a:pt x="83" y="4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6"/>
                  </a:lnTo>
                  <a:lnTo>
                    <a:pt x="0" y="30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497400">
              <a:off x="4184640" y="2841840"/>
              <a:ext cx="39240" cy="1944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4" y="44"/>
                  </a:moveTo>
                  <a:lnTo>
                    <a:pt x="9" y="49"/>
                  </a:lnTo>
                  <a:lnTo>
                    <a:pt x="16" y="52"/>
                  </a:lnTo>
                  <a:lnTo>
                    <a:pt x="25" y="54"/>
                  </a:lnTo>
                  <a:lnTo>
                    <a:pt x="36" y="52"/>
                  </a:lnTo>
                  <a:lnTo>
                    <a:pt x="46" y="52"/>
                  </a:lnTo>
                  <a:lnTo>
                    <a:pt x="57" y="51"/>
                  </a:lnTo>
                  <a:lnTo>
                    <a:pt x="68" y="49"/>
                  </a:lnTo>
                  <a:lnTo>
                    <a:pt x="77" y="49"/>
                  </a:lnTo>
                  <a:lnTo>
                    <a:pt x="82" y="45"/>
                  </a:lnTo>
                  <a:lnTo>
                    <a:pt x="86" y="37"/>
                  </a:lnTo>
                  <a:lnTo>
                    <a:pt x="89" y="26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1" y="16"/>
                  </a:lnTo>
                  <a:lnTo>
                    <a:pt x="93" y="11"/>
                  </a:lnTo>
                  <a:lnTo>
                    <a:pt x="89" y="7"/>
                  </a:lnTo>
                  <a:lnTo>
                    <a:pt x="84" y="4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6"/>
                  </a:lnTo>
                  <a:lnTo>
                    <a:pt x="0" y="30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497400">
              <a:off x="4157280" y="2888640"/>
              <a:ext cx="512640" cy="36360"/>
            </a:xfrm>
            <a:custGeom>
              <a:avLst/>
              <a:gdLst/>
              <a:ahLst/>
              <a:rect l="l" t="t" r="r" b="b"/>
              <a:pathLst>
                <a:path w="1286" h="107">
                  <a:moveTo>
                    <a:pt x="573" y="57"/>
                  </a:moveTo>
                  <a:lnTo>
                    <a:pt x="618" y="55"/>
                  </a:lnTo>
                  <a:lnTo>
                    <a:pt x="661" y="53"/>
                  </a:lnTo>
                  <a:lnTo>
                    <a:pt x="705" y="52"/>
                  </a:lnTo>
                  <a:lnTo>
                    <a:pt x="748" y="50"/>
                  </a:lnTo>
                  <a:lnTo>
                    <a:pt x="792" y="48"/>
                  </a:lnTo>
                  <a:lnTo>
                    <a:pt x="835" y="46"/>
                  </a:lnTo>
                  <a:lnTo>
                    <a:pt x="880" y="45"/>
                  </a:lnTo>
                  <a:lnTo>
                    <a:pt x="922" y="43"/>
                  </a:lnTo>
                  <a:lnTo>
                    <a:pt x="965" y="41"/>
                  </a:lnTo>
                  <a:lnTo>
                    <a:pt x="1010" y="41"/>
                  </a:lnTo>
                  <a:lnTo>
                    <a:pt x="1052" y="41"/>
                  </a:lnTo>
                  <a:lnTo>
                    <a:pt x="1097" y="41"/>
                  </a:lnTo>
                  <a:lnTo>
                    <a:pt x="1140" y="43"/>
                  </a:lnTo>
                  <a:lnTo>
                    <a:pt x="1184" y="46"/>
                  </a:lnTo>
                  <a:lnTo>
                    <a:pt x="1227" y="50"/>
                  </a:lnTo>
                  <a:lnTo>
                    <a:pt x="1272" y="55"/>
                  </a:lnTo>
                  <a:lnTo>
                    <a:pt x="1277" y="55"/>
                  </a:lnTo>
                  <a:lnTo>
                    <a:pt x="1282" y="52"/>
                  </a:lnTo>
                  <a:lnTo>
                    <a:pt x="1284" y="50"/>
                  </a:lnTo>
                  <a:lnTo>
                    <a:pt x="1286" y="45"/>
                  </a:lnTo>
                  <a:lnTo>
                    <a:pt x="1284" y="40"/>
                  </a:lnTo>
                  <a:lnTo>
                    <a:pt x="1280" y="33"/>
                  </a:lnTo>
                  <a:lnTo>
                    <a:pt x="1275" y="27"/>
                  </a:lnTo>
                  <a:lnTo>
                    <a:pt x="1273" y="26"/>
                  </a:lnTo>
                  <a:lnTo>
                    <a:pt x="1231" y="17"/>
                  </a:lnTo>
                  <a:lnTo>
                    <a:pt x="1186" y="12"/>
                  </a:lnTo>
                  <a:lnTo>
                    <a:pt x="1143" y="7"/>
                  </a:lnTo>
                  <a:lnTo>
                    <a:pt x="1099" y="3"/>
                  </a:lnTo>
                  <a:lnTo>
                    <a:pt x="1056" y="1"/>
                  </a:lnTo>
                  <a:lnTo>
                    <a:pt x="1012" y="0"/>
                  </a:lnTo>
                  <a:lnTo>
                    <a:pt x="967" y="0"/>
                  </a:lnTo>
                  <a:lnTo>
                    <a:pt x="924" y="1"/>
                  </a:lnTo>
                  <a:lnTo>
                    <a:pt x="880" y="3"/>
                  </a:lnTo>
                  <a:lnTo>
                    <a:pt x="835" y="5"/>
                  </a:lnTo>
                  <a:lnTo>
                    <a:pt x="792" y="8"/>
                  </a:lnTo>
                  <a:lnTo>
                    <a:pt x="748" y="10"/>
                  </a:lnTo>
                  <a:lnTo>
                    <a:pt x="703" y="14"/>
                  </a:lnTo>
                  <a:lnTo>
                    <a:pt x="659" y="17"/>
                  </a:lnTo>
                  <a:lnTo>
                    <a:pt x="616" y="21"/>
                  </a:lnTo>
                  <a:lnTo>
                    <a:pt x="572" y="22"/>
                  </a:lnTo>
                  <a:lnTo>
                    <a:pt x="536" y="24"/>
                  </a:lnTo>
                  <a:lnTo>
                    <a:pt x="500" y="24"/>
                  </a:lnTo>
                  <a:lnTo>
                    <a:pt x="465" y="26"/>
                  </a:lnTo>
                  <a:lnTo>
                    <a:pt x="429" y="27"/>
                  </a:lnTo>
                  <a:lnTo>
                    <a:pt x="392" y="29"/>
                  </a:lnTo>
                  <a:lnTo>
                    <a:pt x="356" y="31"/>
                  </a:lnTo>
                  <a:lnTo>
                    <a:pt x="320" y="34"/>
                  </a:lnTo>
                  <a:lnTo>
                    <a:pt x="285" y="38"/>
                  </a:lnTo>
                  <a:lnTo>
                    <a:pt x="249" y="41"/>
                  </a:lnTo>
                  <a:lnTo>
                    <a:pt x="214" y="45"/>
                  </a:lnTo>
                  <a:lnTo>
                    <a:pt x="178" y="50"/>
                  </a:lnTo>
                  <a:lnTo>
                    <a:pt x="142" y="57"/>
                  </a:lnTo>
                  <a:lnTo>
                    <a:pt x="109" y="62"/>
                  </a:lnTo>
                  <a:lnTo>
                    <a:pt x="73" y="71"/>
                  </a:lnTo>
                  <a:lnTo>
                    <a:pt x="37" y="79"/>
                  </a:lnTo>
                  <a:lnTo>
                    <a:pt x="3" y="90"/>
                  </a:lnTo>
                  <a:lnTo>
                    <a:pt x="0" y="98"/>
                  </a:lnTo>
                  <a:lnTo>
                    <a:pt x="3" y="103"/>
                  </a:lnTo>
                  <a:lnTo>
                    <a:pt x="11" y="107"/>
                  </a:lnTo>
                  <a:lnTo>
                    <a:pt x="14" y="107"/>
                  </a:lnTo>
                  <a:lnTo>
                    <a:pt x="18" y="107"/>
                  </a:lnTo>
                  <a:lnTo>
                    <a:pt x="30" y="105"/>
                  </a:lnTo>
                  <a:lnTo>
                    <a:pt x="50" y="102"/>
                  </a:lnTo>
                  <a:lnTo>
                    <a:pt x="75" y="100"/>
                  </a:lnTo>
                  <a:lnTo>
                    <a:pt x="107" y="97"/>
                  </a:lnTo>
                  <a:lnTo>
                    <a:pt x="142" y="91"/>
                  </a:lnTo>
                  <a:lnTo>
                    <a:pt x="182" y="88"/>
                  </a:lnTo>
                  <a:lnTo>
                    <a:pt x="224" y="83"/>
                  </a:lnTo>
                  <a:lnTo>
                    <a:pt x="269" y="79"/>
                  </a:lnTo>
                  <a:lnTo>
                    <a:pt x="315" y="74"/>
                  </a:lnTo>
                  <a:lnTo>
                    <a:pt x="361" y="71"/>
                  </a:lnTo>
                  <a:lnTo>
                    <a:pt x="408" y="65"/>
                  </a:lnTo>
                  <a:lnTo>
                    <a:pt x="452" y="62"/>
                  </a:lnTo>
                  <a:lnTo>
                    <a:pt x="495" y="60"/>
                  </a:lnTo>
                  <a:lnTo>
                    <a:pt x="536" y="59"/>
                  </a:lnTo>
                  <a:lnTo>
                    <a:pt x="57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497400">
              <a:off x="4680360" y="2811600"/>
              <a:ext cx="42120" cy="90720"/>
            </a:xfrm>
            <a:custGeom>
              <a:avLst/>
              <a:gdLst/>
              <a:ahLst/>
              <a:rect l="l" t="t" r="r" b="b"/>
              <a:pathLst>
                <a:path w="108" h="261">
                  <a:moveTo>
                    <a:pt x="0" y="251"/>
                  </a:moveTo>
                  <a:lnTo>
                    <a:pt x="0" y="254"/>
                  </a:lnTo>
                  <a:lnTo>
                    <a:pt x="1" y="258"/>
                  </a:lnTo>
                  <a:lnTo>
                    <a:pt x="5" y="259"/>
                  </a:lnTo>
                  <a:lnTo>
                    <a:pt x="9" y="261"/>
                  </a:lnTo>
                  <a:lnTo>
                    <a:pt x="12" y="261"/>
                  </a:lnTo>
                  <a:lnTo>
                    <a:pt x="16" y="259"/>
                  </a:lnTo>
                  <a:lnTo>
                    <a:pt x="17" y="256"/>
                  </a:lnTo>
                  <a:lnTo>
                    <a:pt x="19" y="252"/>
                  </a:lnTo>
                  <a:lnTo>
                    <a:pt x="28" y="218"/>
                  </a:lnTo>
                  <a:lnTo>
                    <a:pt x="41" y="180"/>
                  </a:lnTo>
                  <a:lnTo>
                    <a:pt x="55" y="140"/>
                  </a:lnTo>
                  <a:lnTo>
                    <a:pt x="71" y="102"/>
                  </a:lnTo>
                  <a:lnTo>
                    <a:pt x="85" y="67"/>
                  </a:lnTo>
                  <a:lnTo>
                    <a:pt x="98" y="36"/>
                  </a:lnTo>
                  <a:lnTo>
                    <a:pt x="105" y="14"/>
                  </a:lnTo>
                  <a:lnTo>
                    <a:pt x="108" y="0"/>
                  </a:lnTo>
                  <a:lnTo>
                    <a:pt x="87" y="17"/>
                  </a:lnTo>
                  <a:lnTo>
                    <a:pt x="67" y="41"/>
                  </a:lnTo>
                  <a:lnTo>
                    <a:pt x="51" y="71"/>
                  </a:lnTo>
                  <a:lnTo>
                    <a:pt x="35" y="104"/>
                  </a:lnTo>
                  <a:lnTo>
                    <a:pt x="23" y="142"/>
                  </a:lnTo>
                  <a:lnTo>
                    <a:pt x="12" y="178"/>
                  </a:lnTo>
                  <a:lnTo>
                    <a:pt x="5" y="216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497400">
              <a:off x="4165560" y="2913480"/>
              <a:ext cx="479160" cy="30600"/>
            </a:xfrm>
            <a:custGeom>
              <a:avLst/>
              <a:gdLst/>
              <a:ahLst/>
              <a:rect l="l" t="t" r="r" b="b"/>
              <a:pathLst>
                <a:path w="1200" h="88">
                  <a:moveTo>
                    <a:pt x="1188" y="31"/>
                  </a:moveTo>
                  <a:lnTo>
                    <a:pt x="1199" y="22"/>
                  </a:lnTo>
                  <a:lnTo>
                    <a:pt x="1200" y="14"/>
                  </a:lnTo>
                  <a:lnTo>
                    <a:pt x="1193" y="7"/>
                  </a:lnTo>
                  <a:lnTo>
                    <a:pt x="1179" y="3"/>
                  </a:lnTo>
                  <a:lnTo>
                    <a:pt x="1143" y="3"/>
                  </a:lnTo>
                  <a:lnTo>
                    <a:pt x="1108" y="5"/>
                  </a:lnTo>
                  <a:lnTo>
                    <a:pt x="1070" y="3"/>
                  </a:lnTo>
                  <a:lnTo>
                    <a:pt x="1033" y="3"/>
                  </a:lnTo>
                  <a:lnTo>
                    <a:pt x="996" y="3"/>
                  </a:lnTo>
                  <a:lnTo>
                    <a:pt x="956" y="2"/>
                  </a:lnTo>
                  <a:lnTo>
                    <a:pt x="919" y="2"/>
                  </a:lnTo>
                  <a:lnTo>
                    <a:pt x="880" y="0"/>
                  </a:lnTo>
                  <a:lnTo>
                    <a:pt x="841" y="0"/>
                  </a:lnTo>
                  <a:lnTo>
                    <a:pt x="803" y="0"/>
                  </a:lnTo>
                  <a:lnTo>
                    <a:pt x="764" y="0"/>
                  </a:lnTo>
                  <a:lnTo>
                    <a:pt x="727" y="0"/>
                  </a:lnTo>
                  <a:lnTo>
                    <a:pt x="689" y="2"/>
                  </a:lnTo>
                  <a:lnTo>
                    <a:pt x="652" y="3"/>
                  </a:lnTo>
                  <a:lnTo>
                    <a:pt x="616" y="5"/>
                  </a:lnTo>
                  <a:lnTo>
                    <a:pt x="581" y="9"/>
                  </a:lnTo>
                  <a:lnTo>
                    <a:pt x="541" y="12"/>
                  </a:lnTo>
                  <a:lnTo>
                    <a:pt x="500" y="15"/>
                  </a:lnTo>
                  <a:lnTo>
                    <a:pt x="456" y="19"/>
                  </a:lnTo>
                  <a:lnTo>
                    <a:pt x="410" y="22"/>
                  </a:lnTo>
                  <a:lnTo>
                    <a:pt x="363" y="24"/>
                  </a:lnTo>
                  <a:lnTo>
                    <a:pt x="315" y="28"/>
                  </a:lnTo>
                  <a:lnTo>
                    <a:pt x="269" y="31"/>
                  </a:lnTo>
                  <a:lnTo>
                    <a:pt x="223" y="34"/>
                  </a:lnTo>
                  <a:lnTo>
                    <a:pt x="180" y="40"/>
                  </a:lnTo>
                  <a:lnTo>
                    <a:pt x="139" y="43"/>
                  </a:lnTo>
                  <a:lnTo>
                    <a:pt x="102" y="48"/>
                  </a:lnTo>
                  <a:lnTo>
                    <a:pt x="69" y="54"/>
                  </a:lnTo>
                  <a:lnTo>
                    <a:pt x="43" y="60"/>
                  </a:lnTo>
                  <a:lnTo>
                    <a:pt x="21" y="67"/>
                  </a:lnTo>
                  <a:lnTo>
                    <a:pt x="7" y="76"/>
                  </a:lnTo>
                  <a:lnTo>
                    <a:pt x="0" y="85"/>
                  </a:lnTo>
                  <a:lnTo>
                    <a:pt x="5" y="86"/>
                  </a:lnTo>
                  <a:lnTo>
                    <a:pt x="16" y="86"/>
                  </a:lnTo>
                  <a:lnTo>
                    <a:pt x="34" y="88"/>
                  </a:lnTo>
                  <a:lnTo>
                    <a:pt x="55" y="88"/>
                  </a:lnTo>
                  <a:lnTo>
                    <a:pt x="84" y="88"/>
                  </a:lnTo>
                  <a:lnTo>
                    <a:pt x="114" y="88"/>
                  </a:lnTo>
                  <a:lnTo>
                    <a:pt x="150" y="86"/>
                  </a:lnTo>
                  <a:lnTo>
                    <a:pt x="189" y="86"/>
                  </a:lnTo>
                  <a:lnTo>
                    <a:pt x="232" y="85"/>
                  </a:lnTo>
                  <a:lnTo>
                    <a:pt x="276" y="83"/>
                  </a:lnTo>
                  <a:lnTo>
                    <a:pt x="324" y="83"/>
                  </a:lnTo>
                  <a:lnTo>
                    <a:pt x="374" y="79"/>
                  </a:lnTo>
                  <a:lnTo>
                    <a:pt x="424" y="78"/>
                  </a:lnTo>
                  <a:lnTo>
                    <a:pt x="477" y="76"/>
                  </a:lnTo>
                  <a:lnTo>
                    <a:pt x="531" y="74"/>
                  </a:lnTo>
                  <a:lnTo>
                    <a:pt x="584" y="71"/>
                  </a:lnTo>
                  <a:lnTo>
                    <a:pt x="638" y="69"/>
                  </a:lnTo>
                  <a:lnTo>
                    <a:pt x="691" y="66"/>
                  </a:lnTo>
                  <a:lnTo>
                    <a:pt x="744" y="64"/>
                  </a:lnTo>
                  <a:lnTo>
                    <a:pt x="796" y="60"/>
                  </a:lnTo>
                  <a:lnTo>
                    <a:pt x="846" y="59"/>
                  </a:lnTo>
                  <a:lnTo>
                    <a:pt x="894" y="55"/>
                  </a:lnTo>
                  <a:lnTo>
                    <a:pt x="940" y="52"/>
                  </a:lnTo>
                  <a:lnTo>
                    <a:pt x="985" y="50"/>
                  </a:lnTo>
                  <a:lnTo>
                    <a:pt x="1024" y="47"/>
                  </a:lnTo>
                  <a:lnTo>
                    <a:pt x="1061" y="45"/>
                  </a:lnTo>
                  <a:lnTo>
                    <a:pt x="1093" y="41"/>
                  </a:lnTo>
                  <a:lnTo>
                    <a:pt x="1124" y="40"/>
                  </a:lnTo>
                  <a:lnTo>
                    <a:pt x="1147" y="38"/>
                  </a:lnTo>
                  <a:lnTo>
                    <a:pt x="1166" y="34"/>
                  </a:lnTo>
                  <a:lnTo>
                    <a:pt x="1181" y="33"/>
                  </a:lnTo>
                  <a:lnTo>
                    <a:pt x="118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497400">
              <a:off x="4195080" y="2812680"/>
              <a:ext cx="39240" cy="16560"/>
            </a:xfrm>
            <a:custGeom>
              <a:avLst/>
              <a:gdLst/>
              <a:ahLst/>
              <a:rect l="l" t="t" r="r" b="b"/>
              <a:pathLst>
                <a:path w="84" h="52">
                  <a:moveTo>
                    <a:pt x="3" y="41"/>
                  </a:moveTo>
                  <a:lnTo>
                    <a:pt x="9" y="46"/>
                  </a:lnTo>
                  <a:lnTo>
                    <a:pt x="18" y="50"/>
                  </a:lnTo>
                  <a:lnTo>
                    <a:pt x="27" y="52"/>
                  </a:lnTo>
                  <a:lnTo>
                    <a:pt x="37" y="50"/>
                  </a:lnTo>
                  <a:lnTo>
                    <a:pt x="48" y="50"/>
                  </a:lnTo>
                  <a:lnTo>
                    <a:pt x="59" y="48"/>
                  </a:lnTo>
                  <a:lnTo>
                    <a:pt x="69" y="46"/>
                  </a:lnTo>
                  <a:lnTo>
                    <a:pt x="78" y="46"/>
                  </a:lnTo>
                  <a:lnTo>
                    <a:pt x="80" y="46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4" y="38"/>
                  </a:lnTo>
                  <a:lnTo>
                    <a:pt x="84" y="36"/>
                  </a:lnTo>
                  <a:lnTo>
                    <a:pt x="82" y="33"/>
                  </a:lnTo>
                  <a:lnTo>
                    <a:pt x="78" y="33"/>
                  </a:lnTo>
                  <a:lnTo>
                    <a:pt x="75" y="33"/>
                  </a:lnTo>
                  <a:lnTo>
                    <a:pt x="51" y="34"/>
                  </a:lnTo>
                  <a:lnTo>
                    <a:pt x="35" y="31"/>
                  </a:lnTo>
                  <a:lnTo>
                    <a:pt x="27" y="26"/>
                  </a:lnTo>
                  <a:lnTo>
                    <a:pt x="23" y="22"/>
                  </a:lnTo>
                  <a:lnTo>
                    <a:pt x="23" y="21"/>
                  </a:lnTo>
                  <a:lnTo>
                    <a:pt x="21" y="15"/>
                  </a:lnTo>
                  <a:lnTo>
                    <a:pt x="21" y="8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3" y="10"/>
                  </a:lnTo>
                  <a:lnTo>
                    <a:pt x="0" y="26"/>
                  </a:lnTo>
                  <a:lnTo>
                    <a:pt x="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497400">
              <a:off x="4244400" y="2814120"/>
              <a:ext cx="39240" cy="1836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4" y="41"/>
                  </a:moveTo>
                  <a:lnTo>
                    <a:pt x="7" y="48"/>
                  </a:lnTo>
                  <a:lnTo>
                    <a:pt x="15" y="50"/>
                  </a:lnTo>
                  <a:lnTo>
                    <a:pt x="22" y="52"/>
                  </a:lnTo>
                  <a:lnTo>
                    <a:pt x="29" y="52"/>
                  </a:lnTo>
                  <a:lnTo>
                    <a:pt x="38" y="50"/>
                  </a:lnTo>
                  <a:lnTo>
                    <a:pt x="45" y="48"/>
                  </a:lnTo>
                  <a:lnTo>
                    <a:pt x="52" y="48"/>
                  </a:lnTo>
                  <a:lnTo>
                    <a:pt x="59" y="48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4" y="43"/>
                  </a:lnTo>
                  <a:lnTo>
                    <a:pt x="64" y="39"/>
                  </a:lnTo>
                  <a:lnTo>
                    <a:pt x="64" y="38"/>
                  </a:lnTo>
                  <a:lnTo>
                    <a:pt x="63" y="34"/>
                  </a:lnTo>
                  <a:lnTo>
                    <a:pt x="59" y="34"/>
                  </a:lnTo>
                  <a:lnTo>
                    <a:pt x="57" y="34"/>
                  </a:lnTo>
                  <a:lnTo>
                    <a:pt x="39" y="36"/>
                  </a:lnTo>
                  <a:lnTo>
                    <a:pt x="27" y="34"/>
                  </a:lnTo>
                  <a:lnTo>
                    <a:pt x="18" y="31"/>
                  </a:lnTo>
                  <a:lnTo>
                    <a:pt x="16" y="29"/>
                  </a:lnTo>
                  <a:lnTo>
                    <a:pt x="15" y="26"/>
                  </a:lnTo>
                  <a:lnTo>
                    <a:pt x="13" y="17"/>
                  </a:lnTo>
                  <a:lnTo>
                    <a:pt x="15" y="8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4" y="10"/>
                  </a:lnTo>
                  <a:lnTo>
                    <a:pt x="0" y="26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497400">
              <a:off x="4289400" y="2818080"/>
              <a:ext cx="39240" cy="18360"/>
            </a:xfrm>
            <a:custGeom>
              <a:avLst/>
              <a:gdLst/>
              <a:ahLst/>
              <a:rect l="l" t="t" r="r" b="b"/>
              <a:pathLst>
                <a:path w="82" h="53">
                  <a:moveTo>
                    <a:pt x="6" y="44"/>
                  </a:moveTo>
                  <a:lnTo>
                    <a:pt x="11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8" y="53"/>
                  </a:lnTo>
                  <a:lnTo>
                    <a:pt x="47" y="51"/>
                  </a:lnTo>
                  <a:lnTo>
                    <a:pt x="57" y="50"/>
                  </a:lnTo>
                  <a:lnTo>
                    <a:pt x="66" y="50"/>
                  </a:lnTo>
                  <a:lnTo>
                    <a:pt x="75" y="50"/>
                  </a:lnTo>
                  <a:lnTo>
                    <a:pt x="79" y="48"/>
                  </a:lnTo>
                  <a:lnTo>
                    <a:pt x="80" y="46"/>
                  </a:lnTo>
                  <a:lnTo>
                    <a:pt x="82" y="44"/>
                  </a:lnTo>
                  <a:lnTo>
                    <a:pt x="82" y="41"/>
                  </a:lnTo>
                  <a:lnTo>
                    <a:pt x="82" y="39"/>
                  </a:lnTo>
                  <a:lnTo>
                    <a:pt x="79" y="36"/>
                  </a:lnTo>
                  <a:lnTo>
                    <a:pt x="77" y="34"/>
                  </a:lnTo>
                  <a:lnTo>
                    <a:pt x="73" y="34"/>
                  </a:lnTo>
                  <a:lnTo>
                    <a:pt x="61" y="38"/>
                  </a:lnTo>
                  <a:lnTo>
                    <a:pt x="50" y="39"/>
                  </a:lnTo>
                  <a:lnTo>
                    <a:pt x="39" y="39"/>
                  </a:lnTo>
                  <a:lnTo>
                    <a:pt x="32" y="38"/>
                  </a:lnTo>
                  <a:lnTo>
                    <a:pt x="25" y="38"/>
                  </a:lnTo>
                  <a:lnTo>
                    <a:pt x="20" y="36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6" y="31"/>
                  </a:lnTo>
                  <a:lnTo>
                    <a:pt x="16" y="20"/>
                  </a:lnTo>
                  <a:lnTo>
                    <a:pt x="18" y="10"/>
                  </a:lnTo>
                  <a:lnTo>
                    <a:pt x="25" y="1"/>
                  </a:lnTo>
                  <a:lnTo>
                    <a:pt x="13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497400">
              <a:off x="4346280" y="2824920"/>
              <a:ext cx="39240" cy="18360"/>
            </a:xfrm>
            <a:custGeom>
              <a:avLst/>
              <a:gdLst/>
              <a:ahLst/>
              <a:rect l="l" t="t" r="r" b="b"/>
              <a:pathLst>
                <a:path w="84" h="54">
                  <a:moveTo>
                    <a:pt x="4" y="45"/>
                  </a:moveTo>
                  <a:lnTo>
                    <a:pt x="9" y="50"/>
                  </a:lnTo>
                  <a:lnTo>
                    <a:pt x="18" y="54"/>
                  </a:lnTo>
                  <a:lnTo>
                    <a:pt x="27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50"/>
                  </a:lnTo>
                  <a:lnTo>
                    <a:pt x="78" y="50"/>
                  </a:lnTo>
                  <a:lnTo>
                    <a:pt x="80" y="49"/>
                  </a:lnTo>
                  <a:lnTo>
                    <a:pt x="84" y="47"/>
                  </a:lnTo>
                  <a:lnTo>
                    <a:pt x="84" y="43"/>
                  </a:lnTo>
                  <a:lnTo>
                    <a:pt x="84" y="42"/>
                  </a:lnTo>
                  <a:lnTo>
                    <a:pt x="84" y="38"/>
                  </a:lnTo>
                  <a:lnTo>
                    <a:pt x="82" y="35"/>
                  </a:lnTo>
                  <a:lnTo>
                    <a:pt x="78" y="35"/>
                  </a:lnTo>
                  <a:lnTo>
                    <a:pt x="75" y="35"/>
                  </a:lnTo>
                  <a:lnTo>
                    <a:pt x="62" y="37"/>
                  </a:lnTo>
                  <a:lnTo>
                    <a:pt x="50" y="38"/>
                  </a:lnTo>
                  <a:lnTo>
                    <a:pt x="41" y="38"/>
                  </a:lnTo>
                  <a:lnTo>
                    <a:pt x="34" y="37"/>
                  </a:lnTo>
                  <a:lnTo>
                    <a:pt x="27" y="37"/>
                  </a:lnTo>
                  <a:lnTo>
                    <a:pt x="23" y="35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8" y="30"/>
                  </a:lnTo>
                  <a:lnTo>
                    <a:pt x="16" y="19"/>
                  </a:lnTo>
                  <a:lnTo>
                    <a:pt x="18" y="9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4" y="11"/>
                  </a:lnTo>
                  <a:lnTo>
                    <a:pt x="0" y="28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497400">
              <a:off x="4406040" y="2830680"/>
              <a:ext cx="39240" cy="18000"/>
            </a:xfrm>
            <a:custGeom>
              <a:avLst/>
              <a:gdLst/>
              <a:ahLst/>
              <a:rect l="l" t="t" r="r" b="b"/>
              <a:pathLst>
                <a:path w="81" h="54">
                  <a:moveTo>
                    <a:pt x="5" y="45"/>
                  </a:moveTo>
                  <a:lnTo>
                    <a:pt x="10" y="50"/>
                  </a:lnTo>
                  <a:lnTo>
                    <a:pt x="17" y="54"/>
                  </a:lnTo>
                  <a:lnTo>
                    <a:pt x="26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8" y="50"/>
                  </a:lnTo>
                  <a:lnTo>
                    <a:pt x="67" y="50"/>
                  </a:lnTo>
                  <a:lnTo>
                    <a:pt x="76" y="50"/>
                  </a:lnTo>
                  <a:lnTo>
                    <a:pt x="78" y="49"/>
                  </a:lnTo>
                  <a:lnTo>
                    <a:pt x="80" y="47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0"/>
                  </a:lnTo>
                  <a:lnTo>
                    <a:pt x="78" y="37"/>
                  </a:lnTo>
                  <a:lnTo>
                    <a:pt x="76" y="35"/>
                  </a:lnTo>
                  <a:lnTo>
                    <a:pt x="73" y="35"/>
                  </a:lnTo>
                  <a:lnTo>
                    <a:pt x="49" y="40"/>
                  </a:lnTo>
                  <a:lnTo>
                    <a:pt x="35" y="38"/>
                  </a:lnTo>
                  <a:lnTo>
                    <a:pt x="26" y="37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19" y="21"/>
                  </a:lnTo>
                  <a:lnTo>
                    <a:pt x="19" y="11"/>
                  </a:lnTo>
                  <a:lnTo>
                    <a:pt x="24" y="2"/>
                  </a:lnTo>
                  <a:lnTo>
                    <a:pt x="12" y="0"/>
                  </a:lnTo>
                  <a:lnTo>
                    <a:pt x="3" y="11"/>
                  </a:lnTo>
                  <a:lnTo>
                    <a:pt x="0" y="28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497400">
              <a:off x="4457160" y="2829600"/>
              <a:ext cx="39240" cy="16560"/>
            </a:xfrm>
            <a:custGeom>
              <a:avLst/>
              <a:gdLst/>
              <a:ahLst/>
              <a:rect l="l" t="t" r="r" b="b"/>
              <a:pathLst>
                <a:path w="85" h="50">
                  <a:moveTo>
                    <a:pt x="5" y="41"/>
                  </a:moveTo>
                  <a:lnTo>
                    <a:pt x="11" y="47"/>
                  </a:lnTo>
                  <a:lnTo>
                    <a:pt x="18" y="50"/>
                  </a:lnTo>
                  <a:lnTo>
                    <a:pt x="27" y="50"/>
                  </a:lnTo>
                  <a:lnTo>
                    <a:pt x="37" y="50"/>
                  </a:lnTo>
                  <a:lnTo>
                    <a:pt x="48" y="48"/>
                  </a:lnTo>
                  <a:lnTo>
                    <a:pt x="59" y="47"/>
                  </a:lnTo>
                  <a:lnTo>
                    <a:pt x="69" y="47"/>
                  </a:lnTo>
                  <a:lnTo>
                    <a:pt x="78" y="47"/>
                  </a:lnTo>
                  <a:lnTo>
                    <a:pt x="82" y="45"/>
                  </a:lnTo>
                  <a:lnTo>
                    <a:pt x="85" y="43"/>
                  </a:lnTo>
                  <a:lnTo>
                    <a:pt x="85" y="40"/>
                  </a:lnTo>
                  <a:lnTo>
                    <a:pt x="85" y="38"/>
                  </a:lnTo>
                  <a:lnTo>
                    <a:pt x="85" y="36"/>
                  </a:lnTo>
                  <a:lnTo>
                    <a:pt x="82" y="33"/>
                  </a:lnTo>
                  <a:lnTo>
                    <a:pt x="80" y="31"/>
                  </a:lnTo>
                  <a:lnTo>
                    <a:pt x="77" y="31"/>
                  </a:lnTo>
                  <a:lnTo>
                    <a:pt x="62" y="34"/>
                  </a:lnTo>
                  <a:lnTo>
                    <a:pt x="52" y="36"/>
                  </a:lnTo>
                  <a:lnTo>
                    <a:pt x="39" y="36"/>
                  </a:lnTo>
                  <a:lnTo>
                    <a:pt x="30" y="34"/>
                  </a:lnTo>
                  <a:lnTo>
                    <a:pt x="23" y="34"/>
                  </a:lnTo>
                  <a:lnTo>
                    <a:pt x="18" y="33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2" y="28"/>
                  </a:lnTo>
                  <a:lnTo>
                    <a:pt x="14" y="17"/>
                  </a:lnTo>
                  <a:lnTo>
                    <a:pt x="18" y="7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4" y="10"/>
                  </a:lnTo>
                  <a:lnTo>
                    <a:pt x="0" y="26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497400">
              <a:off x="4505400" y="2839320"/>
              <a:ext cx="39240" cy="162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5" y="42"/>
                  </a:moveTo>
                  <a:lnTo>
                    <a:pt x="11" y="47"/>
                  </a:lnTo>
                  <a:lnTo>
                    <a:pt x="18" y="51"/>
                  </a:lnTo>
                  <a:lnTo>
                    <a:pt x="27" y="52"/>
                  </a:lnTo>
                  <a:lnTo>
                    <a:pt x="37" y="51"/>
                  </a:lnTo>
                  <a:lnTo>
                    <a:pt x="48" y="51"/>
                  </a:lnTo>
                  <a:lnTo>
                    <a:pt x="59" y="49"/>
                  </a:lnTo>
                  <a:lnTo>
                    <a:pt x="69" y="47"/>
                  </a:lnTo>
                  <a:lnTo>
                    <a:pt x="78" y="47"/>
                  </a:lnTo>
                  <a:lnTo>
                    <a:pt x="82" y="47"/>
                  </a:lnTo>
                  <a:lnTo>
                    <a:pt x="85" y="45"/>
                  </a:lnTo>
                  <a:lnTo>
                    <a:pt x="85" y="42"/>
                  </a:lnTo>
                  <a:lnTo>
                    <a:pt x="85" y="39"/>
                  </a:lnTo>
                  <a:lnTo>
                    <a:pt x="85" y="37"/>
                  </a:lnTo>
                  <a:lnTo>
                    <a:pt x="82" y="33"/>
                  </a:lnTo>
                  <a:lnTo>
                    <a:pt x="80" y="33"/>
                  </a:lnTo>
                  <a:lnTo>
                    <a:pt x="76" y="33"/>
                  </a:lnTo>
                  <a:lnTo>
                    <a:pt x="62" y="35"/>
                  </a:lnTo>
                  <a:lnTo>
                    <a:pt x="52" y="37"/>
                  </a:lnTo>
                  <a:lnTo>
                    <a:pt x="39" y="37"/>
                  </a:lnTo>
                  <a:lnTo>
                    <a:pt x="30" y="35"/>
                  </a:lnTo>
                  <a:lnTo>
                    <a:pt x="23" y="35"/>
                  </a:lnTo>
                  <a:lnTo>
                    <a:pt x="18" y="33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2" y="28"/>
                  </a:lnTo>
                  <a:lnTo>
                    <a:pt x="14" y="20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3" y="11"/>
                  </a:lnTo>
                  <a:lnTo>
                    <a:pt x="0" y="26"/>
                  </a:lnTo>
                  <a:lnTo>
                    <a:pt x="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497400">
              <a:off x="4560480" y="2829600"/>
              <a:ext cx="40680" cy="26280"/>
            </a:xfrm>
            <a:custGeom>
              <a:avLst/>
              <a:gdLst/>
              <a:ahLst/>
              <a:rect l="l" t="t" r="r" b="b"/>
              <a:pathLst>
                <a:path w="105" h="76">
                  <a:moveTo>
                    <a:pt x="5" y="63"/>
                  </a:moveTo>
                  <a:lnTo>
                    <a:pt x="12" y="71"/>
                  </a:lnTo>
                  <a:lnTo>
                    <a:pt x="23" y="75"/>
                  </a:lnTo>
                  <a:lnTo>
                    <a:pt x="34" y="76"/>
                  </a:lnTo>
                  <a:lnTo>
                    <a:pt x="46" y="75"/>
                  </a:lnTo>
                  <a:lnTo>
                    <a:pt x="60" y="73"/>
                  </a:lnTo>
                  <a:lnTo>
                    <a:pt x="73" y="71"/>
                  </a:lnTo>
                  <a:lnTo>
                    <a:pt x="87" y="71"/>
                  </a:lnTo>
                  <a:lnTo>
                    <a:pt x="98" y="71"/>
                  </a:lnTo>
                  <a:lnTo>
                    <a:pt x="101" y="69"/>
                  </a:lnTo>
                  <a:lnTo>
                    <a:pt x="105" y="66"/>
                  </a:lnTo>
                  <a:lnTo>
                    <a:pt x="105" y="63"/>
                  </a:lnTo>
                  <a:lnTo>
                    <a:pt x="105" y="59"/>
                  </a:lnTo>
                  <a:lnTo>
                    <a:pt x="103" y="54"/>
                  </a:lnTo>
                  <a:lnTo>
                    <a:pt x="101" y="50"/>
                  </a:lnTo>
                  <a:lnTo>
                    <a:pt x="98" y="49"/>
                  </a:lnTo>
                  <a:lnTo>
                    <a:pt x="94" y="49"/>
                  </a:lnTo>
                  <a:lnTo>
                    <a:pt x="78" y="52"/>
                  </a:lnTo>
                  <a:lnTo>
                    <a:pt x="62" y="54"/>
                  </a:lnTo>
                  <a:lnTo>
                    <a:pt x="48" y="54"/>
                  </a:lnTo>
                  <a:lnTo>
                    <a:pt x="37" y="52"/>
                  </a:lnTo>
                  <a:lnTo>
                    <a:pt x="26" y="50"/>
                  </a:lnTo>
                  <a:lnTo>
                    <a:pt x="19" y="47"/>
                  </a:lnTo>
                  <a:lnTo>
                    <a:pt x="16" y="45"/>
                  </a:lnTo>
                  <a:lnTo>
                    <a:pt x="14" y="45"/>
                  </a:lnTo>
                  <a:lnTo>
                    <a:pt x="14" y="40"/>
                  </a:lnTo>
                  <a:lnTo>
                    <a:pt x="16" y="28"/>
                  </a:lnTo>
                  <a:lnTo>
                    <a:pt x="21" y="12"/>
                  </a:lnTo>
                  <a:lnTo>
                    <a:pt x="32" y="2"/>
                  </a:lnTo>
                  <a:lnTo>
                    <a:pt x="16" y="0"/>
                  </a:lnTo>
                  <a:lnTo>
                    <a:pt x="3" y="16"/>
                  </a:lnTo>
                  <a:lnTo>
                    <a:pt x="0" y="40"/>
                  </a:lnTo>
                  <a:lnTo>
                    <a:pt x="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497400">
              <a:off x="4618800" y="2841840"/>
              <a:ext cx="39240" cy="19440"/>
            </a:xfrm>
            <a:custGeom>
              <a:avLst/>
              <a:gdLst/>
              <a:ahLst/>
              <a:rect l="l" t="t" r="r" b="b"/>
              <a:pathLst>
                <a:path w="82" h="53">
                  <a:moveTo>
                    <a:pt x="4" y="45"/>
                  </a:moveTo>
                  <a:lnTo>
                    <a:pt x="9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6" y="53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6" y="50"/>
                  </a:lnTo>
                  <a:lnTo>
                    <a:pt x="75" y="50"/>
                  </a:lnTo>
                  <a:lnTo>
                    <a:pt x="77" y="48"/>
                  </a:lnTo>
                  <a:lnTo>
                    <a:pt x="80" y="47"/>
                  </a:lnTo>
                  <a:lnTo>
                    <a:pt x="82" y="45"/>
                  </a:lnTo>
                  <a:lnTo>
                    <a:pt x="82" y="41"/>
                  </a:lnTo>
                  <a:lnTo>
                    <a:pt x="80" y="40"/>
                  </a:lnTo>
                  <a:lnTo>
                    <a:pt x="78" y="36"/>
                  </a:lnTo>
                  <a:lnTo>
                    <a:pt x="75" y="34"/>
                  </a:lnTo>
                  <a:lnTo>
                    <a:pt x="73" y="34"/>
                  </a:lnTo>
                  <a:lnTo>
                    <a:pt x="59" y="38"/>
                  </a:lnTo>
                  <a:lnTo>
                    <a:pt x="48" y="38"/>
                  </a:lnTo>
                  <a:lnTo>
                    <a:pt x="37" y="38"/>
                  </a:lnTo>
                  <a:lnTo>
                    <a:pt x="29" y="38"/>
                  </a:lnTo>
                  <a:lnTo>
                    <a:pt x="21" y="36"/>
                  </a:lnTo>
                  <a:lnTo>
                    <a:pt x="16" y="34"/>
                  </a:lnTo>
                  <a:lnTo>
                    <a:pt x="13" y="33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1"/>
                  </a:lnTo>
                  <a:lnTo>
                    <a:pt x="20" y="10"/>
                  </a:lnTo>
                  <a:lnTo>
                    <a:pt x="25" y="2"/>
                  </a:lnTo>
                  <a:lnTo>
                    <a:pt x="13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497400">
              <a:off x="4573440" y="2869920"/>
              <a:ext cx="39240" cy="1908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5" y="41"/>
                  </a:moveTo>
                  <a:lnTo>
                    <a:pt x="10" y="47"/>
                  </a:lnTo>
                  <a:lnTo>
                    <a:pt x="17" y="50"/>
                  </a:lnTo>
                  <a:lnTo>
                    <a:pt x="26" y="52"/>
                  </a:lnTo>
                  <a:lnTo>
                    <a:pt x="37" y="50"/>
                  </a:lnTo>
                  <a:lnTo>
                    <a:pt x="48" y="50"/>
                  </a:lnTo>
                  <a:lnTo>
                    <a:pt x="58" y="48"/>
                  </a:lnTo>
                  <a:lnTo>
                    <a:pt x="69" y="47"/>
                  </a:lnTo>
                  <a:lnTo>
                    <a:pt x="78" y="47"/>
                  </a:lnTo>
                  <a:lnTo>
                    <a:pt x="81" y="47"/>
                  </a:lnTo>
                  <a:lnTo>
                    <a:pt x="83" y="45"/>
                  </a:lnTo>
                  <a:lnTo>
                    <a:pt x="85" y="41"/>
                  </a:lnTo>
                  <a:lnTo>
                    <a:pt x="85" y="38"/>
                  </a:lnTo>
                  <a:lnTo>
                    <a:pt x="85" y="36"/>
                  </a:lnTo>
                  <a:lnTo>
                    <a:pt x="81" y="34"/>
                  </a:lnTo>
                  <a:lnTo>
                    <a:pt x="80" y="33"/>
                  </a:lnTo>
                  <a:lnTo>
                    <a:pt x="76" y="33"/>
                  </a:lnTo>
                  <a:lnTo>
                    <a:pt x="64" y="33"/>
                  </a:lnTo>
                  <a:lnTo>
                    <a:pt x="51" y="33"/>
                  </a:lnTo>
                  <a:lnTo>
                    <a:pt x="40" y="33"/>
                  </a:lnTo>
                  <a:lnTo>
                    <a:pt x="32" y="33"/>
                  </a:lnTo>
                  <a:lnTo>
                    <a:pt x="23" y="33"/>
                  </a:lnTo>
                  <a:lnTo>
                    <a:pt x="17" y="31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2" y="28"/>
                  </a:lnTo>
                  <a:lnTo>
                    <a:pt x="14" y="19"/>
                  </a:lnTo>
                  <a:lnTo>
                    <a:pt x="17" y="9"/>
                  </a:lnTo>
                  <a:lnTo>
                    <a:pt x="26" y="0"/>
                  </a:lnTo>
                  <a:lnTo>
                    <a:pt x="14" y="0"/>
                  </a:lnTo>
                  <a:lnTo>
                    <a:pt x="3" y="10"/>
                  </a:lnTo>
                  <a:lnTo>
                    <a:pt x="0" y="26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497400">
              <a:off x="4513680" y="2869920"/>
              <a:ext cx="39240" cy="19080"/>
            </a:xfrm>
            <a:custGeom>
              <a:avLst/>
              <a:gdLst/>
              <a:ahLst/>
              <a:rect l="l" t="t" r="r" b="b"/>
              <a:pathLst>
                <a:path w="84" h="52">
                  <a:moveTo>
                    <a:pt x="4" y="41"/>
                  </a:moveTo>
                  <a:lnTo>
                    <a:pt x="9" y="48"/>
                  </a:lnTo>
                  <a:lnTo>
                    <a:pt x="18" y="50"/>
                  </a:lnTo>
                  <a:lnTo>
                    <a:pt x="27" y="52"/>
                  </a:lnTo>
                  <a:lnTo>
                    <a:pt x="38" y="52"/>
                  </a:lnTo>
                  <a:lnTo>
                    <a:pt x="49" y="50"/>
                  </a:lnTo>
                  <a:lnTo>
                    <a:pt x="59" y="48"/>
                  </a:lnTo>
                  <a:lnTo>
                    <a:pt x="70" y="46"/>
                  </a:lnTo>
                  <a:lnTo>
                    <a:pt x="79" y="46"/>
                  </a:lnTo>
                  <a:lnTo>
                    <a:pt x="81" y="46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4" y="39"/>
                  </a:lnTo>
                  <a:lnTo>
                    <a:pt x="84" y="36"/>
                  </a:lnTo>
                  <a:lnTo>
                    <a:pt x="82" y="34"/>
                  </a:lnTo>
                  <a:lnTo>
                    <a:pt x="79" y="33"/>
                  </a:lnTo>
                  <a:lnTo>
                    <a:pt x="75" y="33"/>
                  </a:lnTo>
                  <a:lnTo>
                    <a:pt x="63" y="33"/>
                  </a:lnTo>
                  <a:lnTo>
                    <a:pt x="50" y="33"/>
                  </a:lnTo>
                  <a:lnTo>
                    <a:pt x="40" y="33"/>
                  </a:lnTo>
                  <a:lnTo>
                    <a:pt x="31" y="33"/>
                  </a:lnTo>
                  <a:lnTo>
                    <a:pt x="22" y="33"/>
                  </a:lnTo>
                  <a:lnTo>
                    <a:pt x="17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1" y="27"/>
                  </a:lnTo>
                  <a:lnTo>
                    <a:pt x="13" y="19"/>
                  </a:lnTo>
                  <a:lnTo>
                    <a:pt x="17" y="8"/>
                  </a:lnTo>
                  <a:lnTo>
                    <a:pt x="25" y="0"/>
                  </a:lnTo>
                  <a:lnTo>
                    <a:pt x="13" y="0"/>
                  </a:lnTo>
                  <a:lnTo>
                    <a:pt x="4" y="10"/>
                  </a:lnTo>
                  <a:lnTo>
                    <a:pt x="0" y="26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497400">
              <a:off x="4468680" y="2865600"/>
              <a:ext cx="39240" cy="1944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3" y="45"/>
                  </a:moveTo>
                  <a:lnTo>
                    <a:pt x="8" y="52"/>
                  </a:lnTo>
                  <a:lnTo>
                    <a:pt x="17" y="54"/>
                  </a:lnTo>
                  <a:lnTo>
                    <a:pt x="26" y="56"/>
                  </a:lnTo>
                  <a:lnTo>
                    <a:pt x="35" y="56"/>
                  </a:lnTo>
                  <a:lnTo>
                    <a:pt x="46" y="54"/>
                  </a:lnTo>
                  <a:lnTo>
                    <a:pt x="57" y="52"/>
                  </a:lnTo>
                  <a:lnTo>
                    <a:pt x="65" y="51"/>
                  </a:lnTo>
                  <a:lnTo>
                    <a:pt x="74" y="51"/>
                  </a:lnTo>
                  <a:lnTo>
                    <a:pt x="76" y="51"/>
                  </a:lnTo>
                  <a:lnTo>
                    <a:pt x="80" y="49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0" y="40"/>
                  </a:lnTo>
                  <a:lnTo>
                    <a:pt x="78" y="37"/>
                  </a:lnTo>
                  <a:lnTo>
                    <a:pt x="74" y="37"/>
                  </a:lnTo>
                  <a:lnTo>
                    <a:pt x="73" y="37"/>
                  </a:lnTo>
                  <a:lnTo>
                    <a:pt x="60" y="38"/>
                  </a:lnTo>
                  <a:lnTo>
                    <a:pt x="48" y="38"/>
                  </a:lnTo>
                  <a:lnTo>
                    <a:pt x="37" y="38"/>
                  </a:lnTo>
                  <a:lnTo>
                    <a:pt x="28" y="37"/>
                  </a:lnTo>
                  <a:lnTo>
                    <a:pt x="21" y="37"/>
                  </a:lnTo>
                  <a:lnTo>
                    <a:pt x="16" y="35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2" y="21"/>
                  </a:lnTo>
                  <a:lnTo>
                    <a:pt x="16" y="11"/>
                  </a:lnTo>
                  <a:lnTo>
                    <a:pt x="24" y="2"/>
                  </a:lnTo>
                  <a:lnTo>
                    <a:pt x="12" y="0"/>
                  </a:lnTo>
                  <a:lnTo>
                    <a:pt x="3" y="12"/>
                  </a:lnTo>
                  <a:lnTo>
                    <a:pt x="0" y="28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497400">
              <a:off x="4397760" y="2860560"/>
              <a:ext cx="39240" cy="20880"/>
            </a:xfrm>
            <a:custGeom>
              <a:avLst/>
              <a:gdLst/>
              <a:ahLst/>
              <a:rect l="l" t="t" r="r" b="b"/>
              <a:pathLst>
                <a:path w="77" h="59">
                  <a:moveTo>
                    <a:pt x="4" y="49"/>
                  </a:moveTo>
                  <a:lnTo>
                    <a:pt x="9" y="56"/>
                  </a:lnTo>
                  <a:lnTo>
                    <a:pt x="16" y="58"/>
                  </a:lnTo>
                  <a:lnTo>
                    <a:pt x="24" y="59"/>
                  </a:lnTo>
                  <a:lnTo>
                    <a:pt x="34" y="59"/>
                  </a:lnTo>
                  <a:lnTo>
                    <a:pt x="43" y="58"/>
                  </a:lnTo>
                  <a:lnTo>
                    <a:pt x="52" y="56"/>
                  </a:lnTo>
                  <a:lnTo>
                    <a:pt x="61" y="54"/>
                  </a:lnTo>
                  <a:lnTo>
                    <a:pt x="70" y="54"/>
                  </a:lnTo>
                  <a:lnTo>
                    <a:pt x="72" y="54"/>
                  </a:lnTo>
                  <a:lnTo>
                    <a:pt x="75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5" y="42"/>
                  </a:lnTo>
                  <a:lnTo>
                    <a:pt x="73" y="40"/>
                  </a:lnTo>
                  <a:lnTo>
                    <a:pt x="70" y="39"/>
                  </a:lnTo>
                  <a:lnTo>
                    <a:pt x="68" y="39"/>
                  </a:lnTo>
                  <a:lnTo>
                    <a:pt x="56" y="42"/>
                  </a:lnTo>
                  <a:lnTo>
                    <a:pt x="45" y="42"/>
                  </a:lnTo>
                  <a:lnTo>
                    <a:pt x="36" y="44"/>
                  </a:lnTo>
                  <a:lnTo>
                    <a:pt x="29" y="44"/>
                  </a:lnTo>
                  <a:lnTo>
                    <a:pt x="22" y="44"/>
                  </a:lnTo>
                  <a:lnTo>
                    <a:pt x="18" y="42"/>
                  </a:lnTo>
                  <a:lnTo>
                    <a:pt x="16" y="42"/>
                  </a:lnTo>
                  <a:lnTo>
                    <a:pt x="15" y="42"/>
                  </a:lnTo>
                  <a:lnTo>
                    <a:pt x="15" y="37"/>
                  </a:lnTo>
                  <a:lnTo>
                    <a:pt x="13" y="25"/>
                  </a:lnTo>
                  <a:lnTo>
                    <a:pt x="15" y="13"/>
                  </a:lnTo>
                  <a:lnTo>
                    <a:pt x="22" y="2"/>
                  </a:lnTo>
                  <a:lnTo>
                    <a:pt x="11" y="0"/>
                  </a:lnTo>
                  <a:lnTo>
                    <a:pt x="2" y="13"/>
                  </a:lnTo>
                  <a:lnTo>
                    <a:pt x="0" y="30"/>
                  </a:lnTo>
                  <a:lnTo>
                    <a:pt x="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497400">
              <a:off x="4338720" y="2860200"/>
              <a:ext cx="39240" cy="18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6" y="43"/>
                  </a:moveTo>
                  <a:lnTo>
                    <a:pt x="11" y="48"/>
                  </a:lnTo>
                  <a:lnTo>
                    <a:pt x="18" y="51"/>
                  </a:lnTo>
                  <a:lnTo>
                    <a:pt x="27" y="51"/>
                  </a:lnTo>
                  <a:lnTo>
                    <a:pt x="38" y="51"/>
                  </a:lnTo>
                  <a:lnTo>
                    <a:pt x="48" y="50"/>
                  </a:lnTo>
                  <a:lnTo>
                    <a:pt x="59" y="48"/>
                  </a:lnTo>
                  <a:lnTo>
                    <a:pt x="70" y="48"/>
                  </a:lnTo>
                  <a:lnTo>
                    <a:pt x="79" y="48"/>
                  </a:lnTo>
                  <a:lnTo>
                    <a:pt x="82" y="46"/>
                  </a:lnTo>
                  <a:lnTo>
                    <a:pt x="84" y="44"/>
                  </a:lnTo>
                  <a:lnTo>
                    <a:pt x="86" y="41"/>
                  </a:lnTo>
                  <a:lnTo>
                    <a:pt x="86" y="39"/>
                  </a:lnTo>
                  <a:lnTo>
                    <a:pt x="86" y="38"/>
                  </a:lnTo>
                  <a:lnTo>
                    <a:pt x="82" y="34"/>
                  </a:lnTo>
                  <a:lnTo>
                    <a:pt x="80" y="32"/>
                  </a:lnTo>
                  <a:lnTo>
                    <a:pt x="77" y="32"/>
                  </a:lnTo>
                  <a:lnTo>
                    <a:pt x="62" y="34"/>
                  </a:lnTo>
                  <a:lnTo>
                    <a:pt x="52" y="36"/>
                  </a:lnTo>
                  <a:lnTo>
                    <a:pt x="39" y="36"/>
                  </a:lnTo>
                  <a:lnTo>
                    <a:pt x="30" y="34"/>
                  </a:lnTo>
                  <a:lnTo>
                    <a:pt x="23" y="34"/>
                  </a:lnTo>
                  <a:lnTo>
                    <a:pt x="18" y="32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27"/>
                  </a:lnTo>
                  <a:lnTo>
                    <a:pt x="14" y="19"/>
                  </a:lnTo>
                  <a:lnTo>
                    <a:pt x="18" y="8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497400">
              <a:off x="4284000" y="2850840"/>
              <a:ext cx="39240" cy="20880"/>
            </a:xfrm>
            <a:custGeom>
              <a:avLst/>
              <a:gdLst/>
              <a:ahLst/>
              <a:rect l="l" t="t" r="r" b="b"/>
              <a:pathLst>
                <a:path w="101" h="59">
                  <a:moveTo>
                    <a:pt x="5" y="49"/>
                  </a:moveTo>
                  <a:lnTo>
                    <a:pt x="12" y="54"/>
                  </a:lnTo>
                  <a:lnTo>
                    <a:pt x="21" y="57"/>
                  </a:lnTo>
                  <a:lnTo>
                    <a:pt x="32" y="59"/>
                  </a:lnTo>
                  <a:lnTo>
                    <a:pt x="44" y="57"/>
                  </a:lnTo>
                  <a:lnTo>
                    <a:pt x="59" y="56"/>
                  </a:lnTo>
                  <a:lnTo>
                    <a:pt x="71" y="54"/>
                  </a:lnTo>
                  <a:lnTo>
                    <a:pt x="84" y="54"/>
                  </a:lnTo>
                  <a:lnTo>
                    <a:pt x="94" y="54"/>
                  </a:lnTo>
                  <a:lnTo>
                    <a:pt x="98" y="52"/>
                  </a:lnTo>
                  <a:lnTo>
                    <a:pt x="101" y="50"/>
                  </a:lnTo>
                  <a:lnTo>
                    <a:pt x="101" y="47"/>
                  </a:lnTo>
                  <a:lnTo>
                    <a:pt x="101" y="44"/>
                  </a:lnTo>
                  <a:lnTo>
                    <a:pt x="100" y="40"/>
                  </a:lnTo>
                  <a:lnTo>
                    <a:pt x="98" y="38"/>
                  </a:lnTo>
                  <a:lnTo>
                    <a:pt x="94" y="37"/>
                  </a:lnTo>
                  <a:lnTo>
                    <a:pt x="91" y="37"/>
                  </a:lnTo>
                  <a:lnTo>
                    <a:pt x="75" y="40"/>
                  </a:lnTo>
                  <a:lnTo>
                    <a:pt x="60" y="40"/>
                  </a:lnTo>
                  <a:lnTo>
                    <a:pt x="46" y="40"/>
                  </a:lnTo>
                  <a:lnTo>
                    <a:pt x="36" y="40"/>
                  </a:lnTo>
                  <a:lnTo>
                    <a:pt x="27" y="38"/>
                  </a:lnTo>
                  <a:lnTo>
                    <a:pt x="19" y="37"/>
                  </a:lnTo>
                  <a:lnTo>
                    <a:pt x="16" y="35"/>
                  </a:lnTo>
                  <a:lnTo>
                    <a:pt x="14" y="35"/>
                  </a:lnTo>
                  <a:lnTo>
                    <a:pt x="14" y="31"/>
                  </a:lnTo>
                  <a:lnTo>
                    <a:pt x="16" y="21"/>
                  </a:lnTo>
                  <a:lnTo>
                    <a:pt x="19" y="9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5" y="11"/>
                  </a:lnTo>
                  <a:lnTo>
                    <a:pt x="0" y="30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497400">
              <a:off x="4231440" y="2847600"/>
              <a:ext cx="39240" cy="1656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3" y="39"/>
                  </a:moveTo>
                  <a:lnTo>
                    <a:pt x="9" y="45"/>
                  </a:lnTo>
                  <a:lnTo>
                    <a:pt x="16" y="46"/>
                  </a:lnTo>
                  <a:lnTo>
                    <a:pt x="23" y="48"/>
                  </a:lnTo>
                  <a:lnTo>
                    <a:pt x="32" y="46"/>
                  </a:lnTo>
                  <a:lnTo>
                    <a:pt x="41" y="46"/>
                  </a:lnTo>
                  <a:lnTo>
                    <a:pt x="50" y="45"/>
                  </a:lnTo>
                  <a:lnTo>
                    <a:pt x="59" y="43"/>
                  </a:lnTo>
                  <a:lnTo>
                    <a:pt x="66" y="43"/>
                  </a:lnTo>
                  <a:lnTo>
                    <a:pt x="68" y="43"/>
                  </a:lnTo>
                  <a:lnTo>
                    <a:pt x="69" y="41"/>
                  </a:lnTo>
                  <a:lnTo>
                    <a:pt x="71" y="38"/>
                  </a:lnTo>
                  <a:lnTo>
                    <a:pt x="71" y="36"/>
                  </a:lnTo>
                  <a:lnTo>
                    <a:pt x="71" y="34"/>
                  </a:lnTo>
                  <a:lnTo>
                    <a:pt x="69" y="31"/>
                  </a:lnTo>
                  <a:lnTo>
                    <a:pt x="66" y="31"/>
                  </a:lnTo>
                  <a:lnTo>
                    <a:pt x="64" y="31"/>
                  </a:lnTo>
                  <a:lnTo>
                    <a:pt x="53" y="33"/>
                  </a:lnTo>
                  <a:lnTo>
                    <a:pt x="43" y="34"/>
                  </a:lnTo>
                  <a:lnTo>
                    <a:pt x="34" y="33"/>
                  </a:lnTo>
                  <a:lnTo>
                    <a:pt x="25" y="33"/>
                  </a:lnTo>
                  <a:lnTo>
                    <a:pt x="19" y="31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17"/>
                  </a:lnTo>
                  <a:lnTo>
                    <a:pt x="14" y="8"/>
                  </a:lnTo>
                  <a:lnTo>
                    <a:pt x="21" y="1"/>
                  </a:lnTo>
                  <a:lnTo>
                    <a:pt x="11" y="0"/>
                  </a:lnTo>
                  <a:lnTo>
                    <a:pt x="3" y="10"/>
                  </a:lnTo>
                  <a:lnTo>
                    <a:pt x="0" y="24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497400">
              <a:off x="4181400" y="2846160"/>
              <a:ext cx="39240" cy="1908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5" y="45"/>
                  </a:moveTo>
                  <a:lnTo>
                    <a:pt x="11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7" y="53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50"/>
                  </a:lnTo>
                  <a:lnTo>
                    <a:pt x="78" y="50"/>
                  </a:lnTo>
                  <a:lnTo>
                    <a:pt x="82" y="48"/>
                  </a:lnTo>
                  <a:lnTo>
                    <a:pt x="84" y="46"/>
                  </a:lnTo>
                  <a:lnTo>
                    <a:pt x="86" y="43"/>
                  </a:lnTo>
                  <a:lnTo>
                    <a:pt x="86" y="41"/>
                  </a:lnTo>
                  <a:lnTo>
                    <a:pt x="86" y="40"/>
                  </a:lnTo>
                  <a:lnTo>
                    <a:pt x="82" y="36"/>
                  </a:lnTo>
                  <a:lnTo>
                    <a:pt x="80" y="34"/>
                  </a:lnTo>
                  <a:lnTo>
                    <a:pt x="77" y="34"/>
                  </a:lnTo>
                  <a:lnTo>
                    <a:pt x="62" y="38"/>
                  </a:lnTo>
                  <a:lnTo>
                    <a:pt x="52" y="38"/>
                  </a:lnTo>
                  <a:lnTo>
                    <a:pt x="39" y="38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8" y="34"/>
                  </a:lnTo>
                  <a:lnTo>
                    <a:pt x="14" y="33"/>
                  </a:lnTo>
                  <a:lnTo>
                    <a:pt x="12" y="33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8" y="8"/>
                  </a:lnTo>
                  <a:lnTo>
                    <a:pt x="27" y="2"/>
                  </a:lnTo>
                  <a:lnTo>
                    <a:pt x="14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497400">
              <a:off x="4696560" y="2799000"/>
              <a:ext cx="71280" cy="132480"/>
            </a:xfrm>
            <a:custGeom>
              <a:avLst/>
              <a:gdLst/>
              <a:ahLst/>
              <a:rect l="l" t="t" r="r" b="b"/>
              <a:pathLst>
                <a:path w="182" h="384">
                  <a:moveTo>
                    <a:pt x="159" y="102"/>
                  </a:moveTo>
                  <a:lnTo>
                    <a:pt x="145" y="114"/>
                  </a:lnTo>
                  <a:lnTo>
                    <a:pt x="132" y="127"/>
                  </a:lnTo>
                  <a:lnTo>
                    <a:pt x="121" y="142"/>
                  </a:lnTo>
                  <a:lnTo>
                    <a:pt x="111" y="156"/>
                  </a:lnTo>
                  <a:lnTo>
                    <a:pt x="93" y="180"/>
                  </a:lnTo>
                  <a:lnTo>
                    <a:pt x="77" y="206"/>
                  </a:lnTo>
                  <a:lnTo>
                    <a:pt x="61" y="232"/>
                  </a:lnTo>
                  <a:lnTo>
                    <a:pt x="48" y="256"/>
                  </a:lnTo>
                  <a:lnTo>
                    <a:pt x="34" y="284"/>
                  </a:lnTo>
                  <a:lnTo>
                    <a:pt x="22" y="310"/>
                  </a:lnTo>
                  <a:lnTo>
                    <a:pt x="11" y="336"/>
                  </a:lnTo>
                  <a:lnTo>
                    <a:pt x="0" y="363"/>
                  </a:lnTo>
                  <a:lnTo>
                    <a:pt x="0" y="370"/>
                  </a:lnTo>
                  <a:lnTo>
                    <a:pt x="4" y="377"/>
                  </a:lnTo>
                  <a:lnTo>
                    <a:pt x="9" y="382"/>
                  </a:lnTo>
                  <a:lnTo>
                    <a:pt x="15" y="384"/>
                  </a:lnTo>
                  <a:lnTo>
                    <a:pt x="22" y="384"/>
                  </a:lnTo>
                  <a:lnTo>
                    <a:pt x="27" y="381"/>
                  </a:lnTo>
                  <a:lnTo>
                    <a:pt x="31" y="375"/>
                  </a:lnTo>
                  <a:lnTo>
                    <a:pt x="34" y="370"/>
                  </a:lnTo>
                  <a:lnTo>
                    <a:pt x="38" y="363"/>
                  </a:lnTo>
                  <a:lnTo>
                    <a:pt x="47" y="348"/>
                  </a:lnTo>
                  <a:lnTo>
                    <a:pt x="56" y="329"/>
                  </a:lnTo>
                  <a:lnTo>
                    <a:pt x="63" y="312"/>
                  </a:lnTo>
                  <a:lnTo>
                    <a:pt x="75" y="282"/>
                  </a:lnTo>
                  <a:lnTo>
                    <a:pt x="91" y="251"/>
                  </a:lnTo>
                  <a:lnTo>
                    <a:pt x="111" y="220"/>
                  </a:lnTo>
                  <a:lnTo>
                    <a:pt x="130" y="189"/>
                  </a:lnTo>
                  <a:lnTo>
                    <a:pt x="148" y="161"/>
                  </a:lnTo>
                  <a:lnTo>
                    <a:pt x="162" y="140"/>
                  </a:lnTo>
                  <a:lnTo>
                    <a:pt x="173" y="125"/>
                  </a:lnTo>
                  <a:lnTo>
                    <a:pt x="177" y="120"/>
                  </a:lnTo>
                  <a:lnTo>
                    <a:pt x="180" y="116"/>
                  </a:lnTo>
                  <a:lnTo>
                    <a:pt x="182" y="113"/>
                  </a:lnTo>
                  <a:lnTo>
                    <a:pt x="182" y="109"/>
                  </a:lnTo>
                  <a:lnTo>
                    <a:pt x="180" y="106"/>
                  </a:lnTo>
                  <a:lnTo>
                    <a:pt x="175" y="94"/>
                  </a:lnTo>
                  <a:lnTo>
                    <a:pt x="162" y="66"/>
                  </a:lnTo>
                  <a:lnTo>
                    <a:pt x="146" y="31"/>
                  </a:lnTo>
                  <a:lnTo>
                    <a:pt x="132" y="0"/>
                  </a:lnTo>
                  <a:lnTo>
                    <a:pt x="121" y="18"/>
                  </a:lnTo>
                  <a:lnTo>
                    <a:pt x="120" y="35"/>
                  </a:lnTo>
                  <a:lnTo>
                    <a:pt x="123" y="52"/>
                  </a:lnTo>
                  <a:lnTo>
                    <a:pt x="130" y="68"/>
                  </a:lnTo>
                  <a:lnTo>
                    <a:pt x="139" y="82"/>
                  </a:lnTo>
                  <a:lnTo>
                    <a:pt x="150" y="92"/>
                  </a:lnTo>
                  <a:lnTo>
                    <a:pt x="155" y="101"/>
                  </a:lnTo>
                  <a:lnTo>
                    <a:pt x="159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497400">
              <a:off x="4162680" y="2752560"/>
              <a:ext cx="588240" cy="68400"/>
            </a:xfrm>
            <a:custGeom>
              <a:avLst/>
              <a:gdLst/>
              <a:ahLst/>
              <a:rect l="l" t="t" r="r" b="b"/>
              <a:pathLst>
                <a:path w="1473" h="199">
                  <a:moveTo>
                    <a:pt x="800" y="154"/>
                  </a:moveTo>
                  <a:lnTo>
                    <a:pt x="844" y="150"/>
                  </a:lnTo>
                  <a:lnTo>
                    <a:pt x="893" y="147"/>
                  </a:lnTo>
                  <a:lnTo>
                    <a:pt x="944" y="142"/>
                  </a:lnTo>
                  <a:lnTo>
                    <a:pt x="996" y="135"/>
                  </a:lnTo>
                  <a:lnTo>
                    <a:pt x="1049" y="126"/>
                  </a:lnTo>
                  <a:lnTo>
                    <a:pt x="1103" y="117"/>
                  </a:lnTo>
                  <a:lnTo>
                    <a:pt x="1156" y="109"/>
                  </a:lnTo>
                  <a:lnTo>
                    <a:pt x="1208" y="100"/>
                  </a:lnTo>
                  <a:lnTo>
                    <a:pt x="1256" y="90"/>
                  </a:lnTo>
                  <a:lnTo>
                    <a:pt x="1302" y="79"/>
                  </a:lnTo>
                  <a:lnTo>
                    <a:pt x="1345" y="71"/>
                  </a:lnTo>
                  <a:lnTo>
                    <a:pt x="1382" y="60"/>
                  </a:lnTo>
                  <a:lnTo>
                    <a:pt x="1414" y="52"/>
                  </a:lnTo>
                  <a:lnTo>
                    <a:pt x="1439" y="45"/>
                  </a:lnTo>
                  <a:lnTo>
                    <a:pt x="1459" y="38"/>
                  </a:lnTo>
                  <a:lnTo>
                    <a:pt x="1470" y="31"/>
                  </a:lnTo>
                  <a:lnTo>
                    <a:pt x="1473" y="24"/>
                  </a:lnTo>
                  <a:lnTo>
                    <a:pt x="1473" y="17"/>
                  </a:lnTo>
                  <a:lnTo>
                    <a:pt x="1468" y="9"/>
                  </a:lnTo>
                  <a:lnTo>
                    <a:pt x="1457" y="0"/>
                  </a:lnTo>
                  <a:lnTo>
                    <a:pt x="1452" y="2"/>
                  </a:lnTo>
                  <a:lnTo>
                    <a:pt x="1443" y="3"/>
                  </a:lnTo>
                  <a:lnTo>
                    <a:pt x="1430" y="7"/>
                  </a:lnTo>
                  <a:lnTo>
                    <a:pt x="1416" y="12"/>
                  </a:lnTo>
                  <a:lnTo>
                    <a:pt x="1398" y="19"/>
                  </a:lnTo>
                  <a:lnTo>
                    <a:pt x="1379" y="24"/>
                  </a:lnTo>
                  <a:lnTo>
                    <a:pt x="1357" y="31"/>
                  </a:lnTo>
                  <a:lnTo>
                    <a:pt x="1336" y="40"/>
                  </a:lnTo>
                  <a:lnTo>
                    <a:pt x="1313" y="47"/>
                  </a:lnTo>
                  <a:lnTo>
                    <a:pt x="1288" y="54"/>
                  </a:lnTo>
                  <a:lnTo>
                    <a:pt x="1263" y="62"/>
                  </a:lnTo>
                  <a:lnTo>
                    <a:pt x="1238" y="67"/>
                  </a:lnTo>
                  <a:lnTo>
                    <a:pt x="1215" y="74"/>
                  </a:lnTo>
                  <a:lnTo>
                    <a:pt x="1192" y="79"/>
                  </a:lnTo>
                  <a:lnTo>
                    <a:pt x="1169" y="83"/>
                  </a:lnTo>
                  <a:lnTo>
                    <a:pt x="1147" y="86"/>
                  </a:lnTo>
                  <a:lnTo>
                    <a:pt x="1121" y="90"/>
                  </a:lnTo>
                  <a:lnTo>
                    <a:pt x="1085" y="93"/>
                  </a:lnTo>
                  <a:lnTo>
                    <a:pt x="1042" y="98"/>
                  </a:lnTo>
                  <a:lnTo>
                    <a:pt x="992" y="102"/>
                  </a:lnTo>
                  <a:lnTo>
                    <a:pt x="937" y="107"/>
                  </a:lnTo>
                  <a:lnTo>
                    <a:pt x="878" y="112"/>
                  </a:lnTo>
                  <a:lnTo>
                    <a:pt x="818" y="119"/>
                  </a:lnTo>
                  <a:lnTo>
                    <a:pt x="754" y="124"/>
                  </a:lnTo>
                  <a:lnTo>
                    <a:pt x="691" y="130"/>
                  </a:lnTo>
                  <a:lnTo>
                    <a:pt x="627" y="136"/>
                  </a:lnTo>
                  <a:lnTo>
                    <a:pt x="567" y="142"/>
                  </a:lnTo>
                  <a:lnTo>
                    <a:pt x="508" y="147"/>
                  </a:lnTo>
                  <a:lnTo>
                    <a:pt x="454" y="152"/>
                  </a:lnTo>
                  <a:lnTo>
                    <a:pt x="406" y="157"/>
                  </a:lnTo>
                  <a:lnTo>
                    <a:pt x="365" y="162"/>
                  </a:lnTo>
                  <a:lnTo>
                    <a:pt x="332" y="166"/>
                  </a:lnTo>
                  <a:lnTo>
                    <a:pt x="310" y="168"/>
                  </a:lnTo>
                  <a:lnTo>
                    <a:pt x="285" y="171"/>
                  </a:lnTo>
                  <a:lnTo>
                    <a:pt x="260" y="173"/>
                  </a:lnTo>
                  <a:lnTo>
                    <a:pt x="234" y="173"/>
                  </a:lnTo>
                  <a:lnTo>
                    <a:pt x="207" y="175"/>
                  </a:lnTo>
                  <a:lnTo>
                    <a:pt x="180" y="176"/>
                  </a:lnTo>
                  <a:lnTo>
                    <a:pt x="153" y="178"/>
                  </a:lnTo>
                  <a:lnTo>
                    <a:pt x="127" y="178"/>
                  </a:lnTo>
                  <a:lnTo>
                    <a:pt x="102" y="180"/>
                  </a:lnTo>
                  <a:lnTo>
                    <a:pt x="79" y="180"/>
                  </a:lnTo>
                  <a:lnTo>
                    <a:pt x="57" y="181"/>
                  </a:lnTo>
                  <a:lnTo>
                    <a:pt x="39" y="183"/>
                  </a:lnTo>
                  <a:lnTo>
                    <a:pt x="23" y="185"/>
                  </a:lnTo>
                  <a:lnTo>
                    <a:pt x="11" y="187"/>
                  </a:lnTo>
                  <a:lnTo>
                    <a:pt x="4" y="188"/>
                  </a:lnTo>
                  <a:lnTo>
                    <a:pt x="0" y="192"/>
                  </a:lnTo>
                  <a:lnTo>
                    <a:pt x="16" y="195"/>
                  </a:lnTo>
                  <a:lnTo>
                    <a:pt x="41" y="199"/>
                  </a:lnTo>
                  <a:lnTo>
                    <a:pt x="73" y="199"/>
                  </a:lnTo>
                  <a:lnTo>
                    <a:pt x="113" y="199"/>
                  </a:lnTo>
                  <a:lnTo>
                    <a:pt x="159" y="197"/>
                  </a:lnTo>
                  <a:lnTo>
                    <a:pt x="209" y="194"/>
                  </a:lnTo>
                  <a:lnTo>
                    <a:pt x="264" y="192"/>
                  </a:lnTo>
                  <a:lnTo>
                    <a:pt x="323" y="187"/>
                  </a:lnTo>
                  <a:lnTo>
                    <a:pt x="383" y="183"/>
                  </a:lnTo>
                  <a:lnTo>
                    <a:pt x="446" y="178"/>
                  </a:lnTo>
                  <a:lnTo>
                    <a:pt x="508" y="173"/>
                  </a:lnTo>
                  <a:lnTo>
                    <a:pt x="570" y="168"/>
                  </a:lnTo>
                  <a:lnTo>
                    <a:pt x="633" y="164"/>
                  </a:lnTo>
                  <a:lnTo>
                    <a:pt x="691" y="161"/>
                  </a:lnTo>
                  <a:lnTo>
                    <a:pt x="748" y="157"/>
                  </a:lnTo>
                  <a:lnTo>
                    <a:pt x="800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497400">
              <a:off x="4865040" y="2885400"/>
              <a:ext cx="168840" cy="149400"/>
            </a:xfrm>
            <a:custGeom>
              <a:avLst/>
              <a:gdLst/>
              <a:ahLst/>
              <a:rect l="l" t="t" r="r" b="b"/>
              <a:pathLst>
                <a:path w="424" h="433">
                  <a:moveTo>
                    <a:pt x="0" y="61"/>
                  </a:moveTo>
                  <a:lnTo>
                    <a:pt x="20" y="49"/>
                  </a:lnTo>
                  <a:lnTo>
                    <a:pt x="45" y="39"/>
                  </a:lnTo>
                  <a:lnTo>
                    <a:pt x="77" y="28"/>
                  </a:lnTo>
                  <a:lnTo>
                    <a:pt x="112" y="19"/>
                  </a:lnTo>
                  <a:lnTo>
                    <a:pt x="150" y="13"/>
                  </a:lnTo>
                  <a:lnTo>
                    <a:pt x="191" y="6"/>
                  </a:lnTo>
                  <a:lnTo>
                    <a:pt x="230" y="2"/>
                  </a:lnTo>
                  <a:lnTo>
                    <a:pt x="269" y="0"/>
                  </a:lnTo>
                  <a:lnTo>
                    <a:pt x="290" y="33"/>
                  </a:lnTo>
                  <a:lnTo>
                    <a:pt x="314" y="71"/>
                  </a:lnTo>
                  <a:lnTo>
                    <a:pt x="337" y="115"/>
                  </a:lnTo>
                  <a:lnTo>
                    <a:pt x="360" y="161"/>
                  </a:lnTo>
                  <a:lnTo>
                    <a:pt x="381" y="208"/>
                  </a:lnTo>
                  <a:lnTo>
                    <a:pt x="399" y="255"/>
                  </a:lnTo>
                  <a:lnTo>
                    <a:pt x="413" y="300"/>
                  </a:lnTo>
                  <a:lnTo>
                    <a:pt x="424" y="341"/>
                  </a:lnTo>
                  <a:lnTo>
                    <a:pt x="395" y="346"/>
                  </a:lnTo>
                  <a:lnTo>
                    <a:pt x="365" y="357"/>
                  </a:lnTo>
                  <a:lnTo>
                    <a:pt x="330" y="370"/>
                  </a:lnTo>
                  <a:lnTo>
                    <a:pt x="296" y="386"/>
                  </a:lnTo>
                  <a:lnTo>
                    <a:pt x="260" y="400"/>
                  </a:lnTo>
                  <a:lnTo>
                    <a:pt x="228" y="414"/>
                  </a:lnTo>
                  <a:lnTo>
                    <a:pt x="200" y="426"/>
                  </a:lnTo>
                  <a:lnTo>
                    <a:pt x="175" y="433"/>
                  </a:lnTo>
                  <a:lnTo>
                    <a:pt x="159" y="409"/>
                  </a:lnTo>
                  <a:lnTo>
                    <a:pt x="137" y="364"/>
                  </a:lnTo>
                  <a:lnTo>
                    <a:pt x="116" y="306"/>
                  </a:lnTo>
                  <a:lnTo>
                    <a:pt x="91" y="244"/>
                  </a:lnTo>
                  <a:lnTo>
                    <a:pt x="66" y="180"/>
                  </a:lnTo>
                  <a:lnTo>
                    <a:pt x="41" y="125"/>
                  </a:lnTo>
                  <a:lnTo>
                    <a:pt x="20" y="8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8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497400">
              <a:off x="4901760" y="2892240"/>
              <a:ext cx="66960" cy="48600"/>
            </a:xfrm>
            <a:custGeom>
              <a:avLst/>
              <a:gdLst/>
              <a:ahLst/>
              <a:rect l="l" t="t" r="r" b="b"/>
              <a:pathLst>
                <a:path w="171" h="142">
                  <a:moveTo>
                    <a:pt x="16" y="142"/>
                  </a:moveTo>
                  <a:lnTo>
                    <a:pt x="36" y="140"/>
                  </a:lnTo>
                  <a:lnTo>
                    <a:pt x="57" y="135"/>
                  </a:lnTo>
                  <a:lnTo>
                    <a:pt x="79" y="127"/>
                  </a:lnTo>
                  <a:lnTo>
                    <a:pt x="102" y="116"/>
                  </a:lnTo>
                  <a:lnTo>
                    <a:pt x="123" y="106"/>
                  </a:lnTo>
                  <a:lnTo>
                    <a:pt x="143" y="94"/>
                  </a:lnTo>
                  <a:lnTo>
                    <a:pt x="159" y="83"/>
                  </a:lnTo>
                  <a:lnTo>
                    <a:pt x="171" y="75"/>
                  </a:lnTo>
                  <a:lnTo>
                    <a:pt x="171" y="64"/>
                  </a:lnTo>
                  <a:lnTo>
                    <a:pt x="170" y="52"/>
                  </a:lnTo>
                  <a:lnTo>
                    <a:pt x="164" y="38"/>
                  </a:lnTo>
                  <a:lnTo>
                    <a:pt x="155" y="26"/>
                  </a:lnTo>
                  <a:lnTo>
                    <a:pt x="146" y="16"/>
                  </a:lnTo>
                  <a:lnTo>
                    <a:pt x="136" y="7"/>
                  </a:lnTo>
                  <a:lnTo>
                    <a:pt x="127" y="2"/>
                  </a:lnTo>
                  <a:lnTo>
                    <a:pt x="116" y="0"/>
                  </a:lnTo>
                  <a:lnTo>
                    <a:pt x="100" y="6"/>
                  </a:lnTo>
                  <a:lnTo>
                    <a:pt x="86" y="13"/>
                  </a:lnTo>
                  <a:lnTo>
                    <a:pt x="75" y="18"/>
                  </a:lnTo>
                  <a:lnTo>
                    <a:pt x="73" y="23"/>
                  </a:lnTo>
                  <a:lnTo>
                    <a:pt x="77" y="26"/>
                  </a:lnTo>
                  <a:lnTo>
                    <a:pt x="80" y="28"/>
                  </a:lnTo>
                  <a:lnTo>
                    <a:pt x="86" y="28"/>
                  </a:lnTo>
                  <a:lnTo>
                    <a:pt x="88" y="28"/>
                  </a:lnTo>
                  <a:lnTo>
                    <a:pt x="93" y="26"/>
                  </a:lnTo>
                  <a:lnTo>
                    <a:pt x="102" y="23"/>
                  </a:lnTo>
                  <a:lnTo>
                    <a:pt x="109" y="19"/>
                  </a:lnTo>
                  <a:lnTo>
                    <a:pt x="113" y="18"/>
                  </a:lnTo>
                  <a:lnTo>
                    <a:pt x="118" y="23"/>
                  </a:lnTo>
                  <a:lnTo>
                    <a:pt x="129" y="37"/>
                  </a:lnTo>
                  <a:lnTo>
                    <a:pt x="137" y="56"/>
                  </a:lnTo>
                  <a:lnTo>
                    <a:pt x="136" y="75"/>
                  </a:lnTo>
                  <a:lnTo>
                    <a:pt x="123" y="80"/>
                  </a:lnTo>
                  <a:lnTo>
                    <a:pt x="107" y="87"/>
                  </a:lnTo>
                  <a:lnTo>
                    <a:pt x="89" y="92"/>
                  </a:lnTo>
                  <a:lnTo>
                    <a:pt x="70" y="99"/>
                  </a:lnTo>
                  <a:lnTo>
                    <a:pt x="50" y="106"/>
                  </a:lnTo>
                  <a:lnTo>
                    <a:pt x="36" y="109"/>
                  </a:lnTo>
                  <a:lnTo>
                    <a:pt x="25" y="113"/>
                  </a:lnTo>
                  <a:lnTo>
                    <a:pt x="20" y="115"/>
                  </a:lnTo>
                  <a:lnTo>
                    <a:pt x="20" y="113"/>
                  </a:lnTo>
                  <a:lnTo>
                    <a:pt x="20" y="106"/>
                  </a:lnTo>
                  <a:lnTo>
                    <a:pt x="16" y="101"/>
                  </a:lnTo>
                  <a:lnTo>
                    <a:pt x="9" y="99"/>
                  </a:lnTo>
                  <a:lnTo>
                    <a:pt x="0" y="115"/>
                  </a:lnTo>
                  <a:lnTo>
                    <a:pt x="4" y="128"/>
                  </a:lnTo>
                  <a:lnTo>
                    <a:pt x="11" y="139"/>
                  </a:lnTo>
                  <a:lnTo>
                    <a:pt x="16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497400">
              <a:off x="4735800" y="2751120"/>
              <a:ext cx="366840" cy="121320"/>
            </a:xfrm>
            <a:custGeom>
              <a:avLst/>
              <a:gdLst/>
              <a:ahLst/>
              <a:rect l="l" t="t" r="r" b="b"/>
              <a:pathLst>
                <a:path w="919" h="351">
                  <a:moveTo>
                    <a:pt x="58" y="321"/>
                  </a:moveTo>
                  <a:lnTo>
                    <a:pt x="82" y="307"/>
                  </a:lnTo>
                  <a:lnTo>
                    <a:pt x="103" y="294"/>
                  </a:lnTo>
                  <a:lnTo>
                    <a:pt x="124" y="278"/>
                  </a:lnTo>
                  <a:lnTo>
                    <a:pt x="147" y="264"/>
                  </a:lnTo>
                  <a:lnTo>
                    <a:pt x="169" y="249"/>
                  </a:lnTo>
                  <a:lnTo>
                    <a:pt x="190" y="235"/>
                  </a:lnTo>
                  <a:lnTo>
                    <a:pt x="212" y="219"/>
                  </a:lnTo>
                  <a:lnTo>
                    <a:pt x="233" y="205"/>
                  </a:lnTo>
                  <a:lnTo>
                    <a:pt x="254" y="190"/>
                  </a:lnTo>
                  <a:lnTo>
                    <a:pt x="277" y="176"/>
                  </a:lnTo>
                  <a:lnTo>
                    <a:pt x="299" y="162"/>
                  </a:lnTo>
                  <a:lnTo>
                    <a:pt x="322" y="150"/>
                  </a:lnTo>
                  <a:lnTo>
                    <a:pt x="343" y="136"/>
                  </a:lnTo>
                  <a:lnTo>
                    <a:pt x="366" y="124"/>
                  </a:lnTo>
                  <a:lnTo>
                    <a:pt x="390" y="112"/>
                  </a:lnTo>
                  <a:lnTo>
                    <a:pt x="415" y="102"/>
                  </a:lnTo>
                  <a:lnTo>
                    <a:pt x="432" y="95"/>
                  </a:lnTo>
                  <a:lnTo>
                    <a:pt x="450" y="86"/>
                  </a:lnTo>
                  <a:lnTo>
                    <a:pt x="468" y="79"/>
                  </a:lnTo>
                  <a:lnTo>
                    <a:pt x="486" y="72"/>
                  </a:lnTo>
                  <a:lnTo>
                    <a:pt x="504" y="65"/>
                  </a:lnTo>
                  <a:lnTo>
                    <a:pt x="521" y="60"/>
                  </a:lnTo>
                  <a:lnTo>
                    <a:pt x="539" y="53"/>
                  </a:lnTo>
                  <a:lnTo>
                    <a:pt x="559" y="48"/>
                  </a:lnTo>
                  <a:lnTo>
                    <a:pt x="577" y="45"/>
                  </a:lnTo>
                  <a:lnTo>
                    <a:pt x="594" y="40"/>
                  </a:lnTo>
                  <a:lnTo>
                    <a:pt x="612" y="36"/>
                  </a:lnTo>
                  <a:lnTo>
                    <a:pt x="632" y="33"/>
                  </a:lnTo>
                  <a:lnTo>
                    <a:pt x="650" y="29"/>
                  </a:lnTo>
                  <a:lnTo>
                    <a:pt x="669" y="27"/>
                  </a:lnTo>
                  <a:lnTo>
                    <a:pt x="687" y="26"/>
                  </a:lnTo>
                  <a:lnTo>
                    <a:pt x="707" y="26"/>
                  </a:lnTo>
                  <a:lnTo>
                    <a:pt x="732" y="26"/>
                  </a:lnTo>
                  <a:lnTo>
                    <a:pt x="757" y="26"/>
                  </a:lnTo>
                  <a:lnTo>
                    <a:pt x="783" y="29"/>
                  </a:lnTo>
                  <a:lnTo>
                    <a:pt x="808" y="34"/>
                  </a:lnTo>
                  <a:lnTo>
                    <a:pt x="833" y="43"/>
                  </a:lnTo>
                  <a:lnTo>
                    <a:pt x="854" y="55"/>
                  </a:lnTo>
                  <a:lnTo>
                    <a:pt x="874" y="72"/>
                  </a:lnTo>
                  <a:lnTo>
                    <a:pt x="890" y="93"/>
                  </a:lnTo>
                  <a:lnTo>
                    <a:pt x="888" y="112"/>
                  </a:lnTo>
                  <a:lnTo>
                    <a:pt x="878" y="129"/>
                  </a:lnTo>
                  <a:lnTo>
                    <a:pt x="865" y="143"/>
                  </a:lnTo>
                  <a:lnTo>
                    <a:pt x="851" y="154"/>
                  </a:lnTo>
                  <a:lnTo>
                    <a:pt x="835" y="164"/>
                  </a:lnTo>
                  <a:lnTo>
                    <a:pt x="815" y="171"/>
                  </a:lnTo>
                  <a:lnTo>
                    <a:pt x="797" y="178"/>
                  </a:lnTo>
                  <a:lnTo>
                    <a:pt x="778" y="185"/>
                  </a:lnTo>
                  <a:lnTo>
                    <a:pt x="758" y="190"/>
                  </a:lnTo>
                  <a:lnTo>
                    <a:pt x="726" y="199"/>
                  </a:lnTo>
                  <a:lnTo>
                    <a:pt x="694" y="205"/>
                  </a:lnTo>
                  <a:lnTo>
                    <a:pt x="662" y="211"/>
                  </a:lnTo>
                  <a:lnTo>
                    <a:pt x="630" y="216"/>
                  </a:lnTo>
                  <a:lnTo>
                    <a:pt x="598" y="223"/>
                  </a:lnTo>
                  <a:lnTo>
                    <a:pt x="566" y="230"/>
                  </a:lnTo>
                  <a:lnTo>
                    <a:pt x="534" y="240"/>
                  </a:lnTo>
                  <a:lnTo>
                    <a:pt x="504" y="252"/>
                  </a:lnTo>
                  <a:lnTo>
                    <a:pt x="489" y="259"/>
                  </a:lnTo>
                  <a:lnTo>
                    <a:pt x="470" y="269"/>
                  </a:lnTo>
                  <a:lnTo>
                    <a:pt x="448" y="282"/>
                  </a:lnTo>
                  <a:lnTo>
                    <a:pt x="429" y="295"/>
                  </a:lnTo>
                  <a:lnTo>
                    <a:pt x="416" y="309"/>
                  </a:lnTo>
                  <a:lnTo>
                    <a:pt x="413" y="323"/>
                  </a:lnTo>
                  <a:lnTo>
                    <a:pt x="423" y="335"/>
                  </a:lnTo>
                  <a:lnTo>
                    <a:pt x="450" y="344"/>
                  </a:lnTo>
                  <a:lnTo>
                    <a:pt x="461" y="346"/>
                  </a:lnTo>
                  <a:lnTo>
                    <a:pt x="472" y="347"/>
                  </a:lnTo>
                  <a:lnTo>
                    <a:pt x="479" y="349"/>
                  </a:lnTo>
                  <a:lnTo>
                    <a:pt x="488" y="349"/>
                  </a:lnTo>
                  <a:lnTo>
                    <a:pt x="495" y="351"/>
                  </a:lnTo>
                  <a:lnTo>
                    <a:pt x="502" y="351"/>
                  </a:lnTo>
                  <a:lnTo>
                    <a:pt x="509" y="351"/>
                  </a:lnTo>
                  <a:lnTo>
                    <a:pt x="516" y="351"/>
                  </a:lnTo>
                  <a:lnTo>
                    <a:pt x="523" y="349"/>
                  </a:lnTo>
                  <a:lnTo>
                    <a:pt x="527" y="346"/>
                  </a:lnTo>
                  <a:lnTo>
                    <a:pt x="530" y="342"/>
                  </a:lnTo>
                  <a:lnTo>
                    <a:pt x="532" y="335"/>
                  </a:lnTo>
                  <a:lnTo>
                    <a:pt x="530" y="330"/>
                  </a:lnTo>
                  <a:lnTo>
                    <a:pt x="525" y="327"/>
                  </a:lnTo>
                  <a:lnTo>
                    <a:pt x="518" y="323"/>
                  </a:lnTo>
                  <a:lnTo>
                    <a:pt x="516" y="323"/>
                  </a:lnTo>
                  <a:lnTo>
                    <a:pt x="509" y="323"/>
                  </a:lnTo>
                  <a:lnTo>
                    <a:pt x="502" y="323"/>
                  </a:lnTo>
                  <a:lnTo>
                    <a:pt x="493" y="323"/>
                  </a:lnTo>
                  <a:lnTo>
                    <a:pt x="484" y="323"/>
                  </a:lnTo>
                  <a:lnTo>
                    <a:pt x="475" y="323"/>
                  </a:lnTo>
                  <a:lnTo>
                    <a:pt x="468" y="321"/>
                  </a:lnTo>
                  <a:lnTo>
                    <a:pt x="463" y="316"/>
                  </a:lnTo>
                  <a:lnTo>
                    <a:pt x="461" y="309"/>
                  </a:lnTo>
                  <a:lnTo>
                    <a:pt x="473" y="290"/>
                  </a:lnTo>
                  <a:lnTo>
                    <a:pt x="489" y="276"/>
                  </a:lnTo>
                  <a:lnTo>
                    <a:pt x="507" y="264"/>
                  </a:lnTo>
                  <a:lnTo>
                    <a:pt x="530" y="254"/>
                  </a:lnTo>
                  <a:lnTo>
                    <a:pt x="555" y="245"/>
                  </a:lnTo>
                  <a:lnTo>
                    <a:pt x="582" y="240"/>
                  </a:lnTo>
                  <a:lnTo>
                    <a:pt x="610" y="235"/>
                  </a:lnTo>
                  <a:lnTo>
                    <a:pt x="641" y="230"/>
                  </a:lnTo>
                  <a:lnTo>
                    <a:pt x="673" y="226"/>
                  </a:lnTo>
                  <a:lnTo>
                    <a:pt x="705" y="221"/>
                  </a:lnTo>
                  <a:lnTo>
                    <a:pt x="735" y="216"/>
                  </a:lnTo>
                  <a:lnTo>
                    <a:pt x="767" y="209"/>
                  </a:lnTo>
                  <a:lnTo>
                    <a:pt x="797" y="200"/>
                  </a:lnTo>
                  <a:lnTo>
                    <a:pt x="828" y="190"/>
                  </a:lnTo>
                  <a:lnTo>
                    <a:pt x="856" y="178"/>
                  </a:lnTo>
                  <a:lnTo>
                    <a:pt x="883" y="162"/>
                  </a:lnTo>
                  <a:lnTo>
                    <a:pt x="901" y="148"/>
                  </a:lnTo>
                  <a:lnTo>
                    <a:pt x="911" y="135"/>
                  </a:lnTo>
                  <a:lnTo>
                    <a:pt x="917" y="121"/>
                  </a:lnTo>
                  <a:lnTo>
                    <a:pt x="919" y="109"/>
                  </a:lnTo>
                  <a:lnTo>
                    <a:pt x="917" y="97"/>
                  </a:lnTo>
                  <a:lnTo>
                    <a:pt x="915" y="88"/>
                  </a:lnTo>
                  <a:lnTo>
                    <a:pt x="913" y="83"/>
                  </a:lnTo>
                  <a:lnTo>
                    <a:pt x="911" y="81"/>
                  </a:lnTo>
                  <a:lnTo>
                    <a:pt x="894" y="57"/>
                  </a:lnTo>
                  <a:lnTo>
                    <a:pt x="872" y="38"/>
                  </a:lnTo>
                  <a:lnTo>
                    <a:pt x="847" y="24"/>
                  </a:lnTo>
                  <a:lnTo>
                    <a:pt x="821" y="14"/>
                  </a:lnTo>
                  <a:lnTo>
                    <a:pt x="790" y="5"/>
                  </a:lnTo>
                  <a:lnTo>
                    <a:pt x="762" y="1"/>
                  </a:lnTo>
                  <a:lnTo>
                    <a:pt x="732" y="0"/>
                  </a:lnTo>
                  <a:lnTo>
                    <a:pt x="703" y="0"/>
                  </a:lnTo>
                  <a:lnTo>
                    <a:pt x="669" y="1"/>
                  </a:lnTo>
                  <a:lnTo>
                    <a:pt x="637" y="7"/>
                  </a:lnTo>
                  <a:lnTo>
                    <a:pt x="605" y="12"/>
                  </a:lnTo>
                  <a:lnTo>
                    <a:pt x="571" y="19"/>
                  </a:lnTo>
                  <a:lnTo>
                    <a:pt x="539" y="27"/>
                  </a:lnTo>
                  <a:lnTo>
                    <a:pt x="507" y="38"/>
                  </a:lnTo>
                  <a:lnTo>
                    <a:pt x="477" y="50"/>
                  </a:lnTo>
                  <a:lnTo>
                    <a:pt x="445" y="62"/>
                  </a:lnTo>
                  <a:lnTo>
                    <a:pt x="418" y="74"/>
                  </a:lnTo>
                  <a:lnTo>
                    <a:pt x="391" y="86"/>
                  </a:lnTo>
                  <a:lnTo>
                    <a:pt x="365" y="98"/>
                  </a:lnTo>
                  <a:lnTo>
                    <a:pt x="340" y="112"/>
                  </a:lnTo>
                  <a:lnTo>
                    <a:pt x="315" y="126"/>
                  </a:lnTo>
                  <a:lnTo>
                    <a:pt x="290" y="142"/>
                  </a:lnTo>
                  <a:lnTo>
                    <a:pt x="267" y="157"/>
                  </a:lnTo>
                  <a:lnTo>
                    <a:pt x="242" y="173"/>
                  </a:lnTo>
                  <a:lnTo>
                    <a:pt x="219" y="188"/>
                  </a:lnTo>
                  <a:lnTo>
                    <a:pt x="196" y="204"/>
                  </a:lnTo>
                  <a:lnTo>
                    <a:pt x="171" y="221"/>
                  </a:lnTo>
                  <a:lnTo>
                    <a:pt x="147" y="238"/>
                  </a:lnTo>
                  <a:lnTo>
                    <a:pt x="124" y="256"/>
                  </a:lnTo>
                  <a:lnTo>
                    <a:pt x="99" y="273"/>
                  </a:lnTo>
                  <a:lnTo>
                    <a:pt x="76" y="292"/>
                  </a:lnTo>
                  <a:lnTo>
                    <a:pt x="51" y="309"/>
                  </a:lnTo>
                  <a:lnTo>
                    <a:pt x="39" y="318"/>
                  </a:lnTo>
                  <a:lnTo>
                    <a:pt x="26" y="325"/>
                  </a:lnTo>
                  <a:lnTo>
                    <a:pt x="14" y="332"/>
                  </a:lnTo>
                  <a:lnTo>
                    <a:pt x="0" y="339"/>
                  </a:lnTo>
                  <a:lnTo>
                    <a:pt x="3" y="342"/>
                  </a:lnTo>
                  <a:lnTo>
                    <a:pt x="9" y="342"/>
                  </a:lnTo>
                  <a:lnTo>
                    <a:pt x="17" y="342"/>
                  </a:lnTo>
                  <a:lnTo>
                    <a:pt x="25" y="339"/>
                  </a:lnTo>
                  <a:lnTo>
                    <a:pt x="33" y="335"/>
                  </a:lnTo>
                  <a:lnTo>
                    <a:pt x="42" y="330"/>
                  </a:lnTo>
                  <a:lnTo>
                    <a:pt x="51" y="327"/>
                  </a:lnTo>
                  <a:lnTo>
                    <a:pt x="58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497400">
              <a:off x="4875120" y="2872800"/>
              <a:ext cx="113400" cy="29160"/>
            </a:xfrm>
            <a:custGeom>
              <a:avLst/>
              <a:gdLst/>
              <a:ahLst/>
              <a:rect l="l" t="t" r="r" b="b"/>
              <a:pathLst>
                <a:path w="290" h="83">
                  <a:moveTo>
                    <a:pt x="12" y="83"/>
                  </a:moveTo>
                  <a:lnTo>
                    <a:pt x="48" y="74"/>
                  </a:lnTo>
                  <a:lnTo>
                    <a:pt x="87" y="65"/>
                  </a:lnTo>
                  <a:lnTo>
                    <a:pt x="128" y="57"/>
                  </a:lnTo>
                  <a:lnTo>
                    <a:pt x="167" y="46"/>
                  </a:lnTo>
                  <a:lnTo>
                    <a:pt x="205" y="38"/>
                  </a:lnTo>
                  <a:lnTo>
                    <a:pt x="239" y="29"/>
                  </a:lnTo>
                  <a:lnTo>
                    <a:pt x="267" y="20"/>
                  </a:lnTo>
                  <a:lnTo>
                    <a:pt x="288" y="12"/>
                  </a:lnTo>
                  <a:lnTo>
                    <a:pt x="290" y="8"/>
                  </a:lnTo>
                  <a:lnTo>
                    <a:pt x="287" y="5"/>
                  </a:lnTo>
                  <a:lnTo>
                    <a:pt x="281" y="1"/>
                  </a:lnTo>
                  <a:lnTo>
                    <a:pt x="274" y="0"/>
                  </a:lnTo>
                  <a:lnTo>
                    <a:pt x="244" y="1"/>
                  </a:lnTo>
                  <a:lnTo>
                    <a:pt x="212" y="6"/>
                  </a:lnTo>
                  <a:lnTo>
                    <a:pt x="182" y="12"/>
                  </a:lnTo>
                  <a:lnTo>
                    <a:pt x="151" y="20"/>
                  </a:lnTo>
                  <a:lnTo>
                    <a:pt x="121" y="29"/>
                  </a:lnTo>
                  <a:lnTo>
                    <a:pt x="91" y="38"/>
                  </a:lnTo>
                  <a:lnTo>
                    <a:pt x="61" y="48"/>
                  </a:lnTo>
                  <a:lnTo>
                    <a:pt x="30" y="58"/>
                  </a:lnTo>
                  <a:lnTo>
                    <a:pt x="21" y="64"/>
                  </a:lnTo>
                  <a:lnTo>
                    <a:pt x="11" y="72"/>
                  </a:lnTo>
                  <a:lnTo>
                    <a:pt x="4" y="77"/>
                  </a:lnTo>
                  <a:lnTo>
                    <a:pt x="0" y="81"/>
                  </a:lnTo>
                  <a:lnTo>
                    <a:pt x="2" y="81"/>
                  </a:lnTo>
                  <a:lnTo>
                    <a:pt x="5" y="83"/>
                  </a:lnTo>
                  <a:lnTo>
                    <a:pt x="9" y="83"/>
                  </a:lnTo>
                  <a:lnTo>
                    <a:pt x="1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497400">
              <a:off x="4861800" y="2899080"/>
              <a:ext cx="64080" cy="131400"/>
            </a:xfrm>
            <a:custGeom>
              <a:avLst/>
              <a:gdLst/>
              <a:ahLst/>
              <a:rect l="l" t="t" r="r" b="b"/>
              <a:pathLst>
                <a:path w="164" h="379">
                  <a:moveTo>
                    <a:pt x="75" y="164"/>
                  </a:moveTo>
                  <a:lnTo>
                    <a:pt x="83" y="190"/>
                  </a:lnTo>
                  <a:lnTo>
                    <a:pt x="91" y="216"/>
                  </a:lnTo>
                  <a:lnTo>
                    <a:pt x="96" y="242"/>
                  </a:lnTo>
                  <a:lnTo>
                    <a:pt x="101" y="268"/>
                  </a:lnTo>
                  <a:lnTo>
                    <a:pt x="108" y="294"/>
                  </a:lnTo>
                  <a:lnTo>
                    <a:pt x="116" y="320"/>
                  </a:lnTo>
                  <a:lnTo>
                    <a:pt x="124" y="346"/>
                  </a:lnTo>
                  <a:lnTo>
                    <a:pt x="135" y="370"/>
                  </a:lnTo>
                  <a:lnTo>
                    <a:pt x="139" y="375"/>
                  </a:lnTo>
                  <a:lnTo>
                    <a:pt x="142" y="377"/>
                  </a:lnTo>
                  <a:lnTo>
                    <a:pt x="148" y="379"/>
                  </a:lnTo>
                  <a:lnTo>
                    <a:pt x="155" y="379"/>
                  </a:lnTo>
                  <a:lnTo>
                    <a:pt x="160" y="375"/>
                  </a:lnTo>
                  <a:lnTo>
                    <a:pt x="162" y="370"/>
                  </a:lnTo>
                  <a:lnTo>
                    <a:pt x="164" y="365"/>
                  </a:lnTo>
                  <a:lnTo>
                    <a:pt x="162" y="360"/>
                  </a:lnTo>
                  <a:lnTo>
                    <a:pt x="153" y="334"/>
                  </a:lnTo>
                  <a:lnTo>
                    <a:pt x="146" y="308"/>
                  </a:lnTo>
                  <a:lnTo>
                    <a:pt x="139" y="282"/>
                  </a:lnTo>
                  <a:lnTo>
                    <a:pt x="133" y="256"/>
                  </a:lnTo>
                  <a:lnTo>
                    <a:pt x="126" y="230"/>
                  </a:lnTo>
                  <a:lnTo>
                    <a:pt x="119" y="204"/>
                  </a:lnTo>
                  <a:lnTo>
                    <a:pt x="110" y="178"/>
                  </a:lnTo>
                  <a:lnTo>
                    <a:pt x="101" y="152"/>
                  </a:lnTo>
                  <a:lnTo>
                    <a:pt x="92" y="130"/>
                  </a:lnTo>
                  <a:lnTo>
                    <a:pt x="82" y="107"/>
                  </a:lnTo>
                  <a:lnTo>
                    <a:pt x="69" y="83"/>
                  </a:lnTo>
                  <a:lnTo>
                    <a:pt x="55" y="60"/>
                  </a:lnTo>
                  <a:lnTo>
                    <a:pt x="42" y="38"/>
                  </a:lnTo>
                  <a:lnTo>
                    <a:pt x="28" y="21"/>
                  </a:lnTo>
                  <a:lnTo>
                    <a:pt x="16" y="7"/>
                  </a:lnTo>
                  <a:lnTo>
                    <a:pt x="5" y="0"/>
                  </a:lnTo>
                  <a:lnTo>
                    <a:pt x="0" y="7"/>
                  </a:lnTo>
                  <a:lnTo>
                    <a:pt x="3" y="21"/>
                  </a:lnTo>
                  <a:lnTo>
                    <a:pt x="10" y="40"/>
                  </a:lnTo>
                  <a:lnTo>
                    <a:pt x="23" y="64"/>
                  </a:lnTo>
                  <a:lnTo>
                    <a:pt x="37" y="88"/>
                  </a:lnTo>
                  <a:lnTo>
                    <a:pt x="51" y="116"/>
                  </a:lnTo>
                  <a:lnTo>
                    <a:pt x="66" y="142"/>
                  </a:lnTo>
                  <a:lnTo>
                    <a:pt x="75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497400">
              <a:off x="4974480" y="2892240"/>
              <a:ext cx="66960" cy="107640"/>
            </a:xfrm>
            <a:custGeom>
              <a:avLst/>
              <a:gdLst/>
              <a:ahLst/>
              <a:rect l="l" t="t" r="r" b="b"/>
              <a:pathLst>
                <a:path w="171" h="313">
                  <a:moveTo>
                    <a:pt x="17" y="59"/>
                  </a:moveTo>
                  <a:lnTo>
                    <a:pt x="33" y="90"/>
                  </a:lnTo>
                  <a:lnTo>
                    <a:pt x="50" y="120"/>
                  </a:lnTo>
                  <a:lnTo>
                    <a:pt x="67" y="151"/>
                  </a:lnTo>
                  <a:lnTo>
                    <a:pt x="83" y="180"/>
                  </a:lnTo>
                  <a:lnTo>
                    <a:pt x="99" y="211"/>
                  </a:lnTo>
                  <a:lnTo>
                    <a:pt x="115" y="241"/>
                  </a:lnTo>
                  <a:lnTo>
                    <a:pt x="130" y="274"/>
                  </a:lnTo>
                  <a:lnTo>
                    <a:pt x="142" y="305"/>
                  </a:lnTo>
                  <a:lnTo>
                    <a:pt x="146" y="310"/>
                  </a:lnTo>
                  <a:lnTo>
                    <a:pt x="149" y="312"/>
                  </a:lnTo>
                  <a:lnTo>
                    <a:pt x="155" y="313"/>
                  </a:lnTo>
                  <a:lnTo>
                    <a:pt x="162" y="313"/>
                  </a:lnTo>
                  <a:lnTo>
                    <a:pt x="167" y="310"/>
                  </a:lnTo>
                  <a:lnTo>
                    <a:pt x="169" y="305"/>
                  </a:lnTo>
                  <a:lnTo>
                    <a:pt x="171" y="300"/>
                  </a:lnTo>
                  <a:lnTo>
                    <a:pt x="169" y="294"/>
                  </a:lnTo>
                  <a:lnTo>
                    <a:pt x="155" y="251"/>
                  </a:lnTo>
                  <a:lnTo>
                    <a:pt x="133" y="204"/>
                  </a:lnTo>
                  <a:lnTo>
                    <a:pt x="108" y="156"/>
                  </a:lnTo>
                  <a:lnTo>
                    <a:pt x="82" y="111"/>
                  </a:lnTo>
                  <a:lnTo>
                    <a:pt x="57" y="70"/>
                  </a:lnTo>
                  <a:lnTo>
                    <a:pt x="33" y="37"/>
                  </a:lnTo>
                  <a:lnTo>
                    <a:pt x="16" y="13"/>
                  </a:lnTo>
                  <a:lnTo>
                    <a:pt x="5" y="0"/>
                  </a:lnTo>
                  <a:lnTo>
                    <a:pt x="0" y="6"/>
                  </a:lnTo>
                  <a:lnTo>
                    <a:pt x="1" y="21"/>
                  </a:lnTo>
                  <a:lnTo>
                    <a:pt x="10" y="42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497400">
              <a:off x="4950000" y="3004200"/>
              <a:ext cx="81360" cy="33480"/>
            </a:xfrm>
            <a:custGeom>
              <a:avLst/>
              <a:gdLst/>
              <a:ahLst/>
              <a:rect l="l" t="t" r="r" b="b"/>
              <a:pathLst>
                <a:path w="208" h="95">
                  <a:moveTo>
                    <a:pt x="194" y="31"/>
                  </a:moveTo>
                  <a:lnTo>
                    <a:pt x="199" y="29"/>
                  </a:lnTo>
                  <a:lnTo>
                    <a:pt x="204" y="26"/>
                  </a:lnTo>
                  <a:lnTo>
                    <a:pt x="206" y="21"/>
                  </a:lnTo>
                  <a:lnTo>
                    <a:pt x="208" y="16"/>
                  </a:lnTo>
                  <a:lnTo>
                    <a:pt x="206" y="10"/>
                  </a:lnTo>
                  <a:lnTo>
                    <a:pt x="204" y="5"/>
                  </a:lnTo>
                  <a:lnTo>
                    <a:pt x="199" y="3"/>
                  </a:lnTo>
                  <a:lnTo>
                    <a:pt x="192" y="2"/>
                  </a:lnTo>
                  <a:lnTo>
                    <a:pt x="167" y="0"/>
                  </a:lnTo>
                  <a:lnTo>
                    <a:pt x="140" y="5"/>
                  </a:lnTo>
                  <a:lnTo>
                    <a:pt x="112" y="16"/>
                  </a:lnTo>
                  <a:lnTo>
                    <a:pt x="85" y="29"/>
                  </a:lnTo>
                  <a:lnTo>
                    <a:pt x="60" y="45"/>
                  </a:lnTo>
                  <a:lnTo>
                    <a:pt x="37" y="62"/>
                  </a:lnTo>
                  <a:lnTo>
                    <a:pt x="16" y="78"/>
                  </a:lnTo>
                  <a:lnTo>
                    <a:pt x="0" y="92"/>
                  </a:lnTo>
                  <a:lnTo>
                    <a:pt x="9" y="95"/>
                  </a:lnTo>
                  <a:lnTo>
                    <a:pt x="25" y="92"/>
                  </a:lnTo>
                  <a:lnTo>
                    <a:pt x="48" y="83"/>
                  </a:lnTo>
                  <a:lnTo>
                    <a:pt x="74" y="69"/>
                  </a:lnTo>
                  <a:lnTo>
                    <a:pt x="105" y="55"/>
                  </a:lnTo>
                  <a:lnTo>
                    <a:pt x="135" y="43"/>
                  </a:lnTo>
                  <a:lnTo>
                    <a:pt x="165" y="35"/>
                  </a:lnTo>
                  <a:lnTo>
                    <a:pt x="19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497400">
              <a:off x="4913640" y="2896200"/>
              <a:ext cx="68400" cy="48960"/>
            </a:xfrm>
            <a:custGeom>
              <a:avLst/>
              <a:gdLst/>
              <a:ahLst/>
              <a:rect l="l" t="t" r="r" b="b"/>
              <a:pathLst>
                <a:path w="173" h="141">
                  <a:moveTo>
                    <a:pt x="18" y="141"/>
                  </a:moveTo>
                  <a:lnTo>
                    <a:pt x="38" y="140"/>
                  </a:lnTo>
                  <a:lnTo>
                    <a:pt x="57" y="134"/>
                  </a:lnTo>
                  <a:lnTo>
                    <a:pt x="81" y="126"/>
                  </a:lnTo>
                  <a:lnTo>
                    <a:pt x="102" y="115"/>
                  </a:lnTo>
                  <a:lnTo>
                    <a:pt x="123" y="105"/>
                  </a:lnTo>
                  <a:lnTo>
                    <a:pt x="143" y="93"/>
                  </a:lnTo>
                  <a:lnTo>
                    <a:pt x="161" y="83"/>
                  </a:lnTo>
                  <a:lnTo>
                    <a:pt x="173" y="74"/>
                  </a:lnTo>
                  <a:lnTo>
                    <a:pt x="173" y="64"/>
                  </a:lnTo>
                  <a:lnTo>
                    <a:pt x="171" y="51"/>
                  </a:lnTo>
                  <a:lnTo>
                    <a:pt x="164" y="38"/>
                  </a:lnTo>
                  <a:lnTo>
                    <a:pt x="157" y="26"/>
                  </a:lnTo>
                  <a:lnTo>
                    <a:pt x="146" y="15"/>
                  </a:lnTo>
                  <a:lnTo>
                    <a:pt x="136" y="7"/>
                  </a:lnTo>
                  <a:lnTo>
                    <a:pt x="127" y="1"/>
                  </a:lnTo>
                  <a:lnTo>
                    <a:pt x="118" y="0"/>
                  </a:lnTo>
                  <a:lnTo>
                    <a:pt x="100" y="5"/>
                  </a:lnTo>
                  <a:lnTo>
                    <a:pt x="86" y="12"/>
                  </a:lnTo>
                  <a:lnTo>
                    <a:pt x="77" y="17"/>
                  </a:lnTo>
                  <a:lnTo>
                    <a:pt x="73" y="22"/>
                  </a:lnTo>
                  <a:lnTo>
                    <a:pt x="77" y="26"/>
                  </a:lnTo>
                  <a:lnTo>
                    <a:pt x="82" y="27"/>
                  </a:lnTo>
                  <a:lnTo>
                    <a:pt x="86" y="27"/>
                  </a:lnTo>
                  <a:lnTo>
                    <a:pt x="88" y="27"/>
                  </a:lnTo>
                  <a:lnTo>
                    <a:pt x="93" y="26"/>
                  </a:lnTo>
                  <a:lnTo>
                    <a:pt x="102" y="22"/>
                  </a:lnTo>
                  <a:lnTo>
                    <a:pt x="109" y="19"/>
                  </a:lnTo>
                  <a:lnTo>
                    <a:pt x="113" y="17"/>
                  </a:lnTo>
                  <a:lnTo>
                    <a:pt x="118" y="22"/>
                  </a:lnTo>
                  <a:lnTo>
                    <a:pt x="129" y="36"/>
                  </a:lnTo>
                  <a:lnTo>
                    <a:pt x="138" y="55"/>
                  </a:lnTo>
                  <a:lnTo>
                    <a:pt x="138" y="74"/>
                  </a:lnTo>
                  <a:lnTo>
                    <a:pt x="125" y="79"/>
                  </a:lnTo>
                  <a:lnTo>
                    <a:pt x="109" y="86"/>
                  </a:lnTo>
                  <a:lnTo>
                    <a:pt x="91" y="91"/>
                  </a:lnTo>
                  <a:lnTo>
                    <a:pt x="72" y="98"/>
                  </a:lnTo>
                  <a:lnTo>
                    <a:pt x="52" y="105"/>
                  </a:lnTo>
                  <a:lnTo>
                    <a:pt x="38" y="109"/>
                  </a:lnTo>
                  <a:lnTo>
                    <a:pt x="27" y="112"/>
                  </a:lnTo>
                  <a:lnTo>
                    <a:pt x="22" y="114"/>
                  </a:lnTo>
                  <a:lnTo>
                    <a:pt x="20" y="112"/>
                  </a:lnTo>
                  <a:lnTo>
                    <a:pt x="18" y="105"/>
                  </a:lnTo>
                  <a:lnTo>
                    <a:pt x="15" y="100"/>
                  </a:lnTo>
                  <a:lnTo>
                    <a:pt x="11" y="98"/>
                  </a:lnTo>
                  <a:lnTo>
                    <a:pt x="0" y="114"/>
                  </a:lnTo>
                  <a:lnTo>
                    <a:pt x="4" y="128"/>
                  </a:lnTo>
                  <a:lnTo>
                    <a:pt x="13" y="138"/>
                  </a:lnTo>
                  <a:lnTo>
                    <a:pt x="18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497400">
              <a:off x="5038560" y="2954160"/>
              <a:ext cx="47880" cy="101880"/>
            </a:xfrm>
            <a:custGeom>
              <a:avLst/>
              <a:gdLst/>
              <a:ahLst/>
              <a:rect l="l" t="t" r="r" b="b"/>
              <a:pathLst>
                <a:path w="125" h="293">
                  <a:moveTo>
                    <a:pt x="21" y="2"/>
                  </a:moveTo>
                  <a:lnTo>
                    <a:pt x="29" y="33"/>
                  </a:lnTo>
                  <a:lnTo>
                    <a:pt x="37" y="70"/>
                  </a:lnTo>
                  <a:lnTo>
                    <a:pt x="46" y="108"/>
                  </a:lnTo>
                  <a:lnTo>
                    <a:pt x="57" y="144"/>
                  </a:lnTo>
                  <a:lnTo>
                    <a:pt x="66" y="178"/>
                  </a:lnTo>
                  <a:lnTo>
                    <a:pt x="73" y="206"/>
                  </a:lnTo>
                  <a:lnTo>
                    <a:pt x="78" y="223"/>
                  </a:lnTo>
                  <a:lnTo>
                    <a:pt x="80" y="230"/>
                  </a:lnTo>
                  <a:lnTo>
                    <a:pt x="78" y="230"/>
                  </a:lnTo>
                  <a:lnTo>
                    <a:pt x="71" y="232"/>
                  </a:lnTo>
                  <a:lnTo>
                    <a:pt x="64" y="234"/>
                  </a:lnTo>
                  <a:lnTo>
                    <a:pt x="54" y="235"/>
                  </a:lnTo>
                  <a:lnTo>
                    <a:pt x="43" y="239"/>
                  </a:lnTo>
                  <a:lnTo>
                    <a:pt x="32" y="242"/>
                  </a:lnTo>
                  <a:lnTo>
                    <a:pt x="21" y="248"/>
                  </a:lnTo>
                  <a:lnTo>
                    <a:pt x="14" y="253"/>
                  </a:lnTo>
                  <a:lnTo>
                    <a:pt x="7" y="256"/>
                  </a:lnTo>
                  <a:lnTo>
                    <a:pt x="2" y="263"/>
                  </a:lnTo>
                  <a:lnTo>
                    <a:pt x="0" y="270"/>
                  </a:lnTo>
                  <a:lnTo>
                    <a:pt x="0" y="279"/>
                  </a:lnTo>
                  <a:lnTo>
                    <a:pt x="4" y="286"/>
                  </a:lnTo>
                  <a:lnTo>
                    <a:pt x="11" y="291"/>
                  </a:lnTo>
                  <a:lnTo>
                    <a:pt x="18" y="293"/>
                  </a:lnTo>
                  <a:lnTo>
                    <a:pt x="27" y="293"/>
                  </a:lnTo>
                  <a:lnTo>
                    <a:pt x="32" y="293"/>
                  </a:lnTo>
                  <a:lnTo>
                    <a:pt x="43" y="291"/>
                  </a:lnTo>
                  <a:lnTo>
                    <a:pt x="57" y="287"/>
                  </a:lnTo>
                  <a:lnTo>
                    <a:pt x="73" y="284"/>
                  </a:lnTo>
                  <a:lnTo>
                    <a:pt x="89" y="279"/>
                  </a:lnTo>
                  <a:lnTo>
                    <a:pt x="103" y="272"/>
                  </a:lnTo>
                  <a:lnTo>
                    <a:pt x="116" y="263"/>
                  </a:lnTo>
                  <a:lnTo>
                    <a:pt x="123" y="253"/>
                  </a:lnTo>
                  <a:lnTo>
                    <a:pt x="125" y="223"/>
                  </a:lnTo>
                  <a:lnTo>
                    <a:pt x="114" y="189"/>
                  </a:lnTo>
                  <a:lnTo>
                    <a:pt x="98" y="159"/>
                  </a:lnTo>
                  <a:lnTo>
                    <a:pt x="89" y="137"/>
                  </a:lnTo>
                  <a:lnTo>
                    <a:pt x="84" y="118"/>
                  </a:lnTo>
                  <a:lnTo>
                    <a:pt x="77" y="101"/>
                  </a:lnTo>
                  <a:lnTo>
                    <a:pt x="70" y="83"/>
                  </a:lnTo>
                  <a:lnTo>
                    <a:pt x="62" y="66"/>
                  </a:lnTo>
                  <a:lnTo>
                    <a:pt x="55" y="50"/>
                  </a:lnTo>
                  <a:lnTo>
                    <a:pt x="46" y="33"/>
                  </a:lnTo>
                  <a:lnTo>
                    <a:pt x="39" y="18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497400">
              <a:off x="5095440" y="3001680"/>
              <a:ext cx="39240" cy="392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9" y="104"/>
                  </a:moveTo>
                  <a:lnTo>
                    <a:pt x="21" y="107"/>
                  </a:lnTo>
                  <a:lnTo>
                    <a:pt x="25" y="109"/>
                  </a:lnTo>
                  <a:lnTo>
                    <a:pt x="30" y="111"/>
                  </a:lnTo>
                  <a:lnTo>
                    <a:pt x="34" y="111"/>
                  </a:lnTo>
                  <a:lnTo>
                    <a:pt x="39" y="109"/>
                  </a:lnTo>
                  <a:lnTo>
                    <a:pt x="42" y="106"/>
                  </a:lnTo>
                  <a:lnTo>
                    <a:pt x="44" y="100"/>
                  </a:lnTo>
                  <a:lnTo>
                    <a:pt x="44" y="97"/>
                  </a:lnTo>
                  <a:lnTo>
                    <a:pt x="35" y="68"/>
                  </a:lnTo>
                  <a:lnTo>
                    <a:pt x="25" y="35"/>
                  </a:lnTo>
                  <a:lnTo>
                    <a:pt x="12" y="9"/>
                  </a:lnTo>
                  <a:lnTo>
                    <a:pt x="1" y="0"/>
                  </a:lnTo>
                  <a:lnTo>
                    <a:pt x="0" y="19"/>
                  </a:lnTo>
                  <a:lnTo>
                    <a:pt x="3" y="47"/>
                  </a:lnTo>
                  <a:lnTo>
                    <a:pt x="10" y="76"/>
                  </a:lnTo>
                  <a:lnTo>
                    <a:pt x="19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5988960" y="1649880"/>
              <a:ext cx="627840" cy="768960"/>
              <a:chOff x="5988960" y="1649880"/>
              <a:chExt cx="627840" cy="76896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5988960" y="1973520"/>
                <a:ext cx="136440" cy="445320"/>
                <a:chOff x="5988960" y="1973520"/>
                <a:chExt cx="136440" cy="445320"/>
              </a:xfrm>
            </p:grpSpPr>
            <p:grpSp>
              <p:nvGrpSpPr>
                <p:cNvPr id="345" name=""/>
                <p:cNvGrpSpPr/>
                <p:nvPr/>
              </p:nvGrpSpPr>
              <p:grpSpPr>
                <a:xfrm>
                  <a:off x="5990040" y="2127240"/>
                  <a:ext cx="135360" cy="291600"/>
                  <a:chOff x="5990040" y="2127240"/>
                  <a:chExt cx="135360" cy="291600"/>
                </a:xfrm>
              </p:grpSpPr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5990040" y="2134440"/>
                    <a:ext cx="87120" cy="282240"/>
                    <a:chOff x="5990040" y="2134440"/>
                    <a:chExt cx="87120" cy="28224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6025680" y="2134440"/>
                      <a:ext cx="30960" cy="1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V="1">
                      <a:off x="6015240" y="2135880"/>
                      <a:ext cx="39960" cy="594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6015240" y="2196000"/>
                      <a:ext cx="54720" cy="126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V="1">
                      <a:off x="5990040" y="2319120"/>
                      <a:ext cx="78480" cy="957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6001920" y="2321280"/>
                      <a:ext cx="75240" cy="954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V="1">
                      <a:off x="6000120" y="2195640"/>
                      <a:ext cx="60840" cy="124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6025680" y="2134440"/>
                      <a:ext cx="35640" cy="651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4" name=""/>
                  <p:cNvSpPr/>
                  <p:nvPr/>
                </p:nvSpPr>
                <p:spPr>
                  <a:xfrm flipV="1">
                    <a:off x="6075000" y="2301120"/>
                    <a:ext cx="32400" cy="117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062760" y="2198160"/>
                    <a:ext cx="4464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6062760" y="2127240"/>
                    <a:ext cx="10440" cy="7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V="1">
                    <a:off x="6058440" y="2127240"/>
                    <a:ext cx="17640" cy="9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6058440" y="2134440"/>
                    <a:ext cx="28080" cy="50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V="1">
                    <a:off x="6071760" y="2186640"/>
                    <a:ext cx="11520" cy="134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6071760" y="2319480"/>
                    <a:ext cx="53640" cy="61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5988960" y="1987560"/>
                  <a:ext cx="133560" cy="427680"/>
                  <a:chOff x="5988960" y="1987560"/>
                  <a:chExt cx="133560" cy="4276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flipV="1">
                    <a:off x="5988960" y="1987560"/>
                    <a:ext cx="51840" cy="424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6042600" y="1998360"/>
                    <a:ext cx="32400" cy="416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V="1">
                    <a:off x="6076440" y="2378880"/>
                    <a:ext cx="46080" cy="34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6049800" y="1996560"/>
                    <a:ext cx="70920" cy="386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5990040" y="2411640"/>
                    <a:ext cx="87480" cy="1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7" name=""/>
                <p:cNvSpPr/>
                <p:nvPr/>
              </p:nvSpPr>
              <p:spPr>
                <a:xfrm>
                  <a:off x="6028920" y="1973520"/>
                  <a:ext cx="37080" cy="50400"/>
                </a:xfrm>
                <a:prstGeom prst="ellipse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013440" y="1649880"/>
                <a:ext cx="603360" cy="650520"/>
                <a:chOff x="6013440" y="1649880"/>
                <a:chExt cx="603360" cy="650520"/>
              </a:xfrm>
            </p:grpSpPr>
            <p:grpSp>
              <p:nvGrpSpPr>
                <p:cNvPr id="369" name=""/>
                <p:cNvGrpSpPr/>
                <p:nvPr/>
              </p:nvGrpSpPr>
              <p:grpSpPr>
                <a:xfrm>
                  <a:off x="6222960" y="1649880"/>
                  <a:ext cx="393840" cy="650520"/>
                  <a:chOff x="6222960" y="1649880"/>
                  <a:chExt cx="393840" cy="65052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6292440" y="1649880"/>
                    <a:ext cx="324360" cy="650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4" y="217"/>
                        </a:moveTo>
                        <a:arcTo wR="10800" hR="10800" stAng="-4709724" swAng="91888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4" y="217"/>
                        </a:moveTo>
                        <a:arcTo wR="10800" hR="10800" stAng="-4709724" swAng="9188860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6268680" y="1692720"/>
                    <a:ext cx="280080" cy="559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60" y="218"/>
                        </a:moveTo>
                        <a:arcTo wR="10800" hR="10800" stAng="-4707831" swAng="91827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60" y="218"/>
                        </a:moveTo>
                        <a:arcTo wR="10800" hR="10800" stAng="-4707831" swAng="9182780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222960" y="1739160"/>
                    <a:ext cx="261360" cy="4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5" y="201"/>
                        </a:moveTo>
                        <a:arcTo wR="10800" hR="10800" stAng="-4735325" swAng="922490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5" y="201"/>
                        </a:moveTo>
                        <a:arcTo wR="10800" hR="10800" stAng="-4735325" swAng="9224901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6090840" y="1770480"/>
                  <a:ext cx="333360" cy="431280"/>
                  <a:chOff x="6090840" y="1770480"/>
                  <a:chExt cx="333360" cy="43128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6150240" y="1770480"/>
                    <a:ext cx="273960" cy="43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08" y="208"/>
                        </a:moveTo>
                        <a:arcTo wR="10800" hR="10800" stAng="-4724722" swAng="922579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08" y="208"/>
                        </a:moveTo>
                        <a:arcTo wR="10800" hR="10800" stAng="-4724722" swAng="9225790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6130800" y="1800360"/>
                    <a:ext cx="23508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34" y="193"/>
                        </a:moveTo>
                        <a:arcTo wR="10800" hR="10800" stAng="-4748707" swAng="927996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34" y="193"/>
                        </a:moveTo>
                        <a:arcTo wR="10800" hR="10800" stAng="-4748707" swAng="9279963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090840" y="1831320"/>
                    <a:ext cx="21996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8" y="218"/>
                        </a:moveTo>
                        <a:arcTo wR="10800" hR="10800" stAng="-4708585" swAng="917542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8" y="218"/>
                        </a:moveTo>
                        <a:arcTo wR="10800" hR="10800" stAng="-4708585" swAng="9175427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" name=""/>
                <p:cNvSpPr/>
                <p:nvPr/>
              </p:nvSpPr>
              <p:spPr>
                <a:xfrm>
                  <a:off x="6064200" y="1857240"/>
                  <a:ext cx="199080" cy="272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743" y="176"/>
                      </a:moveTo>
                      <a:arcTo wR="10800" hR="10800" stAng="-4778145" swAng="93450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743" y="176"/>
                      </a:moveTo>
                      <a:arcTo wR="10800" hR="10800" stAng="-4778145" swAng="9345057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035400" y="1877760"/>
                  <a:ext cx="172440" cy="233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4" y="189"/>
                      </a:moveTo>
                      <a:arcTo wR="10800" hR="10800" stAng="-4755077" swAng="93022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4" y="189"/>
                      </a:moveTo>
                      <a:arcTo wR="10800" hR="10800" stAng="-4755077" swAng="9302247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013440" y="1906920"/>
                  <a:ext cx="147960" cy="18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8" y="210"/>
                      </a:moveTo>
                      <a:arcTo wR="10800" hR="10800" stAng="-4721273" swAng="92125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8" y="210"/>
                      </a:moveTo>
                      <a:arcTo wR="10800" hR="10800" stAng="-4721273" swAng="9212565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029280" y="1935000"/>
                  <a:ext cx="89640" cy="136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605" y="152"/>
                      </a:moveTo>
                      <a:arcTo wR="10800" hR="10800" stAng="-4822817" swAng="94010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605" y="152"/>
                      </a:moveTo>
                      <a:arcTo wR="10800" hR="10800" stAng="-4822817" swAng="9401051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1" name=""/>
            <p:cNvSpPr/>
            <p:nvPr/>
          </p:nvSpPr>
          <p:spPr>
            <a:xfrm>
              <a:off x="1838880" y="3137040"/>
              <a:ext cx="39240" cy="208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87120" y="3137040"/>
              <a:ext cx="39240" cy="208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98200" y="3283920"/>
              <a:ext cx="273600" cy="90360"/>
            </a:xfrm>
            <a:custGeom>
              <a:avLst/>
              <a:gdLst/>
              <a:ahLst/>
              <a:rect l="l" t="t" r="r" b="b"/>
              <a:pathLst>
                <a:path w="373" h="113">
                  <a:moveTo>
                    <a:pt x="372" y="0"/>
                  </a:moveTo>
                  <a:lnTo>
                    <a:pt x="247" y="103"/>
                  </a:lnTo>
                  <a:lnTo>
                    <a:pt x="243" y="107"/>
                  </a:lnTo>
                  <a:lnTo>
                    <a:pt x="238" y="111"/>
                  </a:lnTo>
                  <a:lnTo>
                    <a:pt x="229" y="112"/>
                  </a:lnTo>
                  <a:lnTo>
                    <a:pt x="215" y="111"/>
                  </a:lnTo>
                  <a:lnTo>
                    <a:pt x="0" y="89"/>
                  </a:lnTo>
                  <a:lnTo>
                    <a:pt x="3" y="72"/>
                  </a:lnTo>
                  <a:lnTo>
                    <a:pt x="372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96400" y="2806200"/>
              <a:ext cx="273600" cy="565560"/>
            </a:xfrm>
            <a:custGeom>
              <a:avLst/>
              <a:gdLst/>
              <a:ahLst/>
              <a:rect l="l" t="t" r="r" b="b"/>
              <a:pathLst>
                <a:path w="374" h="694">
                  <a:moveTo>
                    <a:pt x="373" y="1"/>
                  </a:moveTo>
                  <a:lnTo>
                    <a:pt x="373" y="581"/>
                  </a:lnTo>
                  <a:lnTo>
                    <a:pt x="248" y="685"/>
                  </a:lnTo>
                  <a:lnTo>
                    <a:pt x="244" y="688"/>
                  </a:lnTo>
                  <a:lnTo>
                    <a:pt x="239" y="691"/>
                  </a:lnTo>
                  <a:lnTo>
                    <a:pt x="231" y="693"/>
                  </a:lnTo>
                  <a:lnTo>
                    <a:pt x="218" y="692"/>
                  </a:lnTo>
                  <a:lnTo>
                    <a:pt x="13" y="672"/>
                  </a:lnTo>
                  <a:lnTo>
                    <a:pt x="7" y="671"/>
                  </a:lnTo>
                  <a:lnTo>
                    <a:pt x="2" y="667"/>
                  </a:lnTo>
                  <a:lnTo>
                    <a:pt x="1" y="663"/>
                  </a:lnTo>
                  <a:lnTo>
                    <a:pt x="0" y="654"/>
                  </a:lnTo>
                  <a:lnTo>
                    <a:pt x="1" y="25"/>
                  </a:lnTo>
                  <a:lnTo>
                    <a:pt x="226" y="0"/>
                  </a:lnTo>
                  <a:lnTo>
                    <a:pt x="373" y="1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eaec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96400" y="2801520"/>
              <a:ext cx="265320" cy="29160"/>
            </a:xfrm>
            <a:custGeom>
              <a:avLst/>
              <a:gdLst/>
              <a:ahLst/>
              <a:rect l="l" t="t" r="r" b="b"/>
              <a:pathLst>
                <a:path w="362" h="36">
                  <a:moveTo>
                    <a:pt x="2" y="23"/>
                  </a:moveTo>
                  <a:lnTo>
                    <a:pt x="206" y="0"/>
                  </a:lnTo>
                  <a:lnTo>
                    <a:pt x="361" y="4"/>
                  </a:lnTo>
                  <a:lnTo>
                    <a:pt x="219" y="35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3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92080" y="2824200"/>
              <a:ext cx="168840" cy="519480"/>
            </a:xfrm>
            <a:custGeom>
              <a:avLst/>
              <a:gdLst/>
              <a:ahLst/>
              <a:rect l="l" t="t" r="r" b="b"/>
              <a:pathLst>
                <a:path w="231" h="639">
                  <a:moveTo>
                    <a:pt x="5" y="616"/>
                  </a:moveTo>
                  <a:lnTo>
                    <a:pt x="8" y="624"/>
                  </a:lnTo>
                  <a:lnTo>
                    <a:pt x="14" y="625"/>
                  </a:lnTo>
                  <a:lnTo>
                    <a:pt x="20" y="625"/>
                  </a:lnTo>
                  <a:lnTo>
                    <a:pt x="26" y="625"/>
                  </a:lnTo>
                  <a:lnTo>
                    <a:pt x="230" y="638"/>
                  </a:lnTo>
                  <a:lnTo>
                    <a:pt x="230" y="25"/>
                  </a:lnTo>
                  <a:lnTo>
                    <a:pt x="228" y="18"/>
                  </a:lnTo>
                  <a:lnTo>
                    <a:pt x="224" y="14"/>
                  </a:lnTo>
                  <a:lnTo>
                    <a:pt x="219" y="12"/>
                  </a:lnTo>
                  <a:lnTo>
                    <a:pt x="212" y="12"/>
                  </a:lnTo>
                  <a:lnTo>
                    <a:pt x="205" y="12"/>
                  </a:lnTo>
                  <a:lnTo>
                    <a:pt x="47" y="2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6" y="4"/>
                  </a:lnTo>
                  <a:lnTo>
                    <a:pt x="4" y="6"/>
                  </a:lnTo>
                  <a:lnTo>
                    <a:pt x="1" y="14"/>
                  </a:lnTo>
                  <a:lnTo>
                    <a:pt x="0" y="25"/>
                  </a:lnTo>
                  <a:lnTo>
                    <a:pt x="0" y="351"/>
                  </a:lnTo>
                  <a:lnTo>
                    <a:pt x="0" y="355"/>
                  </a:lnTo>
                  <a:lnTo>
                    <a:pt x="3" y="356"/>
                  </a:lnTo>
                  <a:lnTo>
                    <a:pt x="5" y="355"/>
                  </a:lnTo>
                  <a:lnTo>
                    <a:pt x="5" y="6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80000" y="2836800"/>
              <a:ext cx="1080" cy="506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63800" y="2831040"/>
              <a:ext cx="39240" cy="514080"/>
            </a:xfrm>
            <a:custGeom>
              <a:avLst/>
              <a:gdLst/>
              <a:ahLst/>
              <a:rect l="l" t="t" r="r" b="b"/>
              <a:pathLst>
                <a:path w="13" h="632">
                  <a:moveTo>
                    <a:pt x="1" y="631"/>
                  </a:moveTo>
                  <a:lnTo>
                    <a:pt x="12" y="621"/>
                  </a:lnTo>
                  <a:lnTo>
                    <a:pt x="12" y="0"/>
                  </a:lnTo>
                  <a:lnTo>
                    <a:pt x="0" y="6"/>
                  </a:lnTo>
                  <a:lnTo>
                    <a:pt x="1" y="6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96400" y="3079800"/>
              <a:ext cx="16596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96400" y="3113280"/>
              <a:ext cx="165960" cy="68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808280" y="3123360"/>
              <a:ext cx="154080" cy="232200"/>
              <a:chOff x="1808280" y="3123360"/>
              <a:chExt cx="154080" cy="232200"/>
            </a:xfrm>
          </p:grpSpPr>
          <p:sp>
            <p:nvSpPr>
              <p:cNvPr id="390" name=""/>
              <p:cNvSpPr/>
              <p:nvPr/>
            </p:nvSpPr>
            <p:spPr>
              <a:xfrm>
                <a:off x="1808280" y="3339360"/>
                <a:ext cx="154080" cy="1044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1946880" y="3129120"/>
                <a:ext cx="0" cy="22644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808640" y="31233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814400" y="31233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19800" y="312408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825560" y="312408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831320" y="31248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53280" y="31266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36720" y="3125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42480" y="3125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847520" y="31266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858680" y="312804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864440" y="312804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870200" y="312876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75960" y="312948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82080" y="312948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89280" y="31305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94320" y="31305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900080" y="31320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1905480" y="3124080"/>
                <a:ext cx="0" cy="22752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11960" y="313308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917720" y="3133800"/>
                <a:ext cx="0" cy="2116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22760" y="3134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928520" y="3134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933920" y="3126960"/>
                <a:ext cx="0" cy="227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940400" y="313596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1794960" y="2877480"/>
              <a:ext cx="167400" cy="396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96400" y="3121560"/>
              <a:ext cx="165960" cy="6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810800" y="2845080"/>
              <a:ext cx="140040" cy="29160"/>
              <a:chOff x="1810800" y="2845080"/>
              <a:chExt cx="140040" cy="29160"/>
            </a:xfrm>
          </p:grpSpPr>
          <p:sp>
            <p:nvSpPr>
              <p:cNvPr id="419" name=""/>
              <p:cNvSpPr/>
              <p:nvPr/>
            </p:nvSpPr>
            <p:spPr>
              <a:xfrm>
                <a:off x="1810800" y="2845080"/>
                <a:ext cx="5760" cy="7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843560" y="2846520"/>
                <a:ext cx="6480" cy="7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875960" y="2849040"/>
                <a:ext cx="6480" cy="7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33920" y="2848320"/>
                <a:ext cx="16920" cy="2592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0" y="0"/>
                    </a:moveTo>
                    <a:lnTo>
                      <a:pt x="22" y="1"/>
                    </a:lnTo>
                    <a:lnTo>
                      <a:pt x="22" y="32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1796400" y="2912400"/>
              <a:ext cx="168840" cy="50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96400" y="2945880"/>
              <a:ext cx="165960" cy="396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96400" y="3012840"/>
              <a:ext cx="16596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794960" y="3046320"/>
              <a:ext cx="16884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96400" y="2977920"/>
              <a:ext cx="16740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06840" y="2910600"/>
              <a:ext cx="142560" cy="44640"/>
            </a:xfrm>
            <a:custGeom>
              <a:avLst/>
              <a:gdLst/>
              <a:ahLst/>
              <a:rect l="l" t="t" r="r" b="b"/>
              <a:pathLst>
                <a:path w="195" h="55">
                  <a:moveTo>
                    <a:pt x="0" y="0"/>
                  </a:moveTo>
                  <a:lnTo>
                    <a:pt x="0" y="42"/>
                  </a:lnTo>
                  <a:lnTo>
                    <a:pt x="194" y="54"/>
                  </a:lnTo>
                  <a:lnTo>
                    <a:pt x="194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06840" y="2944440"/>
              <a:ext cx="142560" cy="44640"/>
            </a:xfrm>
            <a:custGeom>
              <a:avLst/>
              <a:gdLst/>
              <a:ahLst/>
              <a:rect l="l" t="t" r="r" b="b"/>
              <a:pathLst>
                <a:path w="195" h="55">
                  <a:moveTo>
                    <a:pt x="0" y="0"/>
                  </a:moveTo>
                  <a:lnTo>
                    <a:pt x="0" y="42"/>
                  </a:lnTo>
                  <a:lnTo>
                    <a:pt x="194" y="54"/>
                  </a:lnTo>
                  <a:lnTo>
                    <a:pt x="194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06840" y="2976480"/>
              <a:ext cx="142560" cy="44640"/>
            </a:xfrm>
            <a:custGeom>
              <a:avLst/>
              <a:gdLst/>
              <a:ahLst/>
              <a:rect l="l" t="t" r="r" b="b"/>
              <a:pathLst>
                <a:path w="195" h="55">
                  <a:moveTo>
                    <a:pt x="0" y="0"/>
                  </a:moveTo>
                  <a:lnTo>
                    <a:pt x="0" y="42"/>
                  </a:lnTo>
                  <a:lnTo>
                    <a:pt x="194" y="54"/>
                  </a:lnTo>
                  <a:lnTo>
                    <a:pt x="194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06840" y="3008520"/>
              <a:ext cx="144360" cy="47520"/>
            </a:xfrm>
            <a:custGeom>
              <a:avLst/>
              <a:gdLst/>
              <a:ahLst/>
              <a:rect l="l" t="t" r="r" b="b"/>
              <a:pathLst>
                <a:path w="196" h="58">
                  <a:moveTo>
                    <a:pt x="0" y="0"/>
                  </a:moveTo>
                  <a:lnTo>
                    <a:pt x="0" y="42"/>
                  </a:lnTo>
                  <a:lnTo>
                    <a:pt x="195" y="57"/>
                  </a:lnTo>
                  <a:lnTo>
                    <a:pt x="195" y="1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1902240" y="2918520"/>
              <a:ext cx="392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32760" y="2949840"/>
              <a:ext cx="88560" cy="21960"/>
            </a:xfrm>
            <a:custGeom>
              <a:avLst/>
              <a:gdLst/>
              <a:ahLst/>
              <a:rect l="l" t="t" r="r" b="b"/>
              <a:pathLst>
                <a:path w="120" h="25">
                  <a:moveTo>
                    <a:pt x="0" y="24"/>
                  </a:moveTo>
                  <a:lnTo>
                    <a:pt x="0" y="0"/>
                  </a:lnTo>
                  <a:lnTo>
                    <a:pt x="119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5640" y="2959920"/>
              <a:ext cx="83160" cy="12240"/>
            </a:xfrm>
            <a:custGeom>
              <a:avLst/>
              <a:gdLst/>
              <a:ahLst/>
              <a:rect l="l" t="t" r="r" b="b"/>
              <a:pathLst>
                <a:path w="112" h="14">
                  <a:moveTo>
                    <a:pt x="0" y="0"/>
                  </a:moveTo>
                  <a:lnTo>
                    <a:pt x="0" y="5"/>
                  </a:lnTo>
                  <a:lnTo>
                    <a:pt x="111" y="13"/>
                  </a:lnTo>
                  <a:lnTo>
                    <a:pt x="111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91440" y="2972160"/>
              <a:ext cx="39240" cy="1440"/>
            </a:xfrm>
            <a:custGeom>
              <a:avLst/>
              <a:gdLst/>
              <a:ahLst/>
              <a:rect l="l" t="t" r="r" b="b"/>
              <a:pathLst>
                <a:path w="28" h="1">
                  <a:moveTo>
                    <a:pt x="0" y="0"/>
                  </a:moveTo>
                  <a:lnTo>
                    <a:pt x="27" y="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41760" y="2919240"/>
              <a:ext cx="55440" cy="1944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1"/>
                  </a:moveTo>
                  <a:lnTo>
                    <a:pt x="0" y="18"/>
                  </a:lnTo>
                  <a:lnTo>
                    <a:pt x="74" y="22"/>
                  </a:lnTo>
                  <a:lnTo>
                    <a:pt x="75" y="1"/>
                  </a:lnTo>
                  <a:lnTo>
                    <a:pt x="41" y="0"/>
                  </a:lnTo>
                  <a:lnTo>
                    <a:pt x="37" y="3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19800" y="2925000"/>
              <a:ext cx="106200" cy="684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5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5" y="2"/>
                  </a:lnTo>
                  <a:lnTo>
                    <a:pt x="141" y="6"/>
                  </a:lnTo>
                  <a:lnTo>
                    <a:pt x="144" y="6"/>
                  </a:lnTo>
                  <a:lnTo>
                    <a:pt x="144" y="4"/>
                  </a:lnTo>
                  <a:lnTo>
                    <a:pt x="142" y="4"/>
                  </a:lnTo>
                  <a:lnTo>
                    <a:pt x="137" y="4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06960" y="4333320"/>
              <a:ext cx="39240" cy="18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28800" y="4286880"/>
              <a:ext cx="39600" cy="18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83120" y="3895560"/>
              <a:ext cx="80280" cy="438480"/>
            </a:xfrm>
            <a:custGeom>
              <a:avLst/>
              <a:gdLst/>
              <a:ahLst/>
              <a:rect l="l" t="t" r="r" b="b"/>
              <a:pathLst>
                <a:path w="440" h="2634">
                  <a:moveTo>
                    <a:pt x="0" y="0"/>
                  </a:moveTo>
                  <a:lnTo>
                    <a:pt x="440" y="4"/>
                  </a:lnTo>
                  <a:lnTo>
                    <a:pt x="440" y="2634"/>
                  </a:lnTo>
                  <a:lnTo>
                    <a:pt x="0" y="23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90760" y="3887280"/>
              <a:ext cx="362520" cy="36000"/>
            </a:xfrm>
            <a:custGeom>
              <a:avLst/>
              <a:gdLst/>
              <a:ahLst/>
              <a:rect l="l" t="t" r="r" b="b"/>
              <a:pathLst>
                <a:path w="1993" h="230">
                  <a:moveTo>
                    <a:pt x="0" y="51"/>
                  </a:moveTo>
                  <a:lnTo>
                    <a:pt x="0" y="230"/>
                  </a:lnTo>
                  <a:lnTo>
                    <a:pt x="1990" y="159"/>
                  </a:lnTo>
                  <a:lnTo>
                    <a:pt x="1993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89680" y="3913920"/>
              <a:ext cx="362520" cy="366840"/>
            </a:xfrm>
            <a:custGeom>
              <a:avLst/>
              <a:gdLst/>
              <a:ahLst/>
              <a:rect l="l" t="t" r="r" b="b"/>
              <a:pathLst>
                <a:path w="1992" h="2222">
                  <a:moveTo>
                    <a:pt x="0" y="2222"/>
                  </a:moveTo>
                  <a:lnTo>
                    <a:pt x="1992" y="1928"/>
                  </a:lnTo>
                  <a:lnTo>
                    <a:pt x="1992" y="0"/>
                  </a:lnTo>
                  <a:lnTo>
                    <a:pt x="0" y="71"/>
                  </a:lnTo>
                  <a:lnTo>
                    <a:pt x="0" y="2222"/>
                  </a:lnTo>
                  <a:close/>
                </a:path>
              </a:pathLst>
            </a:custGeom>
            <a:solidFill>
              <a:srgbClr val="e0e0e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95440" y="3944880"/>
              <a:ext cx="39240" cy="301320"/>
            </a:xfrm>
            <a:custGeom>
              <a:avLst/>
              <a:gdLst/>
              <a:ahLst/>
              <a:rect l="l" t="t" r="r" b="b"/>
              <a:pathLst>
                <a:path w="76" h="1823">
                  <a:moveTo>
                    <a:pt x="75" y="0"/>
                  </a:moveTo>
                  <a:lnTo>
                    <a:pt x="0" y="6"/>
                  </a:lnTo>
                  <a:lnTo>
                    <a:pt x="0" y="1823"/>
                  </a:lnTo>
                  <a:lnTo>
                    <a:pt x="76" y="181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424600" y="3943080"/>
              <a:ext cx="39240" cy="298800"/>
            </a:xfrm>
            <a:custGeom>
              <a:avLst/>
              <a:gdLst/>
              <a:ahLst/>
              <a:rect l="l" t="t" r="r" b="b"/>
              <a:pathLst>
                <a:path w="81" h="1809">
                  <a:moveTo>
                    <a:pt x="81" y="0"/>
                  </a:moveTo>
                  <a:lnTo>
                    <a:pt x="0" y="3"/>
                  </a:lnTo>
                  <a:lnTo>
                    <a:pt x="0" y="1809"/>
                  </a:lnTo>
                  <a:lnTo>
                    <a:pt x="79" y="1793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53760" y="3942000"/>
              <a:ext cx="39240" cy="295920"/>
            </a:xfrm>
            <a:custGeom>
              <a:avLst/>
              <a:gdLst/>
              <a:ahLst/>
              <a:rect l="l" t="t" r="r" b="b"/>
              <a:pathLst>
                <a:path w="76" h="1793">
                  <a:moveTo>
                    <a:pt x="75" y="0"/>
                  </a:moveTo>
                  <a:lnTo>
                    <a:pt x="0" y="6"/>
                  </a:lnTo>
                  <a:lnTo>
                    <a:pt x="0" y="1793"/>
                  </a:lnTo>
                  <a:lnTo>
                    <a:pt x="76" y="178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79680" y="3940200"/>
              <a:ext cx="39240" cy="293040"/>
            </a:xfrm>
            <a:custGeom>
              <a:avLst/>
              <a:gdLst/>
              <a:ahLst/>
              <a:rect l="l" t="t" r="r" b="b"/>
              <a:pathLst>
                <a:path w="80" h="1777">
                  <a:moveTo>
                    <a:pt x="80" y="0"/>
                  </a:moveTo>
                  <a:lnTo>
                    <a:pt x="0" y="6"/>
                  </a:lnTo>
                  <a:lnTo>
                    <a:pt x="0" y="1777"/>
                  </a:lnTo>
                  <a:lnTo>
                    <a:pt x="79" y="176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09200" y="3939120"/>
              <a:ext cx="39240" cy="293040"/>
            </a:xfrm>
            <a:custGeom>
              <a:avLst/>
              <a:gdLst/>
              <a:ahLst/>
              <a:rect l="l" t="t" r="r" b="b"/>
              <a:pathLst>
                <a:path w="76" h="1764">
                  <a:moveTo>
                    <a:pt x="74" y="0"/>
                  </a:moveTo>
                  <a:lnTo>
                    <a:pt x="0" y="6"/>
                  </a:lnTo>
                  <a:lnTo>
                    <a:pt x="0" y="1764"/>
                  </a:lnTo>
                  <a:lnTo>
                    <a:pt x="76" y="174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35480" y="3937680"/>
              <a:ext cx="39240" cy="290160"/>
            </a:xfrm>
            <a:custGeom>
              <a:avLst/>
              <a:gdLst/>
              <a:ahLst/>
              <a:rect l="l" t="t" r="r" b="b"/>
              <a:pathLst>
                <a:path w="79" h="1752">
                  <a:moveTo>
                    <a:pt x="79" y="0"/>
                  </a:moveTo>
                  <a:lnTo>
                    <a:pt x="0" y="9"/>
                  </a:lnTo>
                  <a:lnTo>
                    <a:pt x="0" y="1752"/>
                  </a:lnTo>
                  <a:lnTo>
                    <a:pt x="78" y="1736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63200" y="3936240"/>
              <a:ext cx="39240" cy="287640"/>
            </a:xfrm>
            <a:custGeom>
              <a:avLst/>
              <a:gdLst/>
              <a:ahLst/>
              <a:rect l="l" t="t" r="r" b="b"/>
              <a:pathLst>
                <a:path w="81" h="1736">
                  <a:moveTo>
                    <a:pt x="81" y="0"/>
                  </a:moveTo>
                  <a:lnTo>
                    <a:pt x="0" y="9"/>
                  </a:lnTo>
                  <a:lnTo>
                    <a:pt x="0" y="1736"/>
                  </a:lnTo>
                  <a:lnTo>
                    <a:pt x="79" y="172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87680" y="3936240"/>
              <a:ext cx="39240" cy="283320"/>
            </a:xfrm>
            <a:custGeom>
              <a:avLst/>
              <a:gdLst/>
              <a:ahLst/>
              <a:rect l="l" t="t" r="r" b="b"/>
              <a:pathLst>
                <a:path w="77" h="1714">
                  <a:moveTo>
                    <a:pt x="76" y="0"/>
                  </a:moveTo>
                  <a:lnTo>
                    <a:pt x="0" y="7"/>
                  </a:lnTo>
                  <a:lnTo>
                    <a:pt x="0" y="1714"/>
                  </a:lnTo>
                  <a:lnTo>
                    <a:pt x="77" y="170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611080" y="3934800"/>
              <a:ext cx="39240" cy="282240"/>
            </a:xfrm>
            <a:custGeom>
              <a:avLst/>
              <a:gdLst/>
              <a:ahLst/>
              <a:rect l="l" t="t" r="r" b="b"/>
              <a:pathLst>
                <a:path w="80" h="1703">
                  <a:moveTo>
                    <a:pt x="80" y="0"/>
                  </a:moveTo>
                  <a:lnTo>
                    <a:pt x="0" y="4"/>
                  </a:lnTo>
                  <a:lnTo>
                    <a:pt x="0" y="1703"/>
                  </a:lnTo>
                  <a:lnTo>
                    <a:pt x="79" y="168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652120" y="3933360"/>
              <a:ext cx="39240" cy="276480"/>
            </a:xfrm>
            <a:custGeom>
              <a:avLst/>
              <a:gdLst/>
              <a:ahLst/>
              <a:rect l="l" t="t" r="r" b="b"/>
              <a:pathLst>
                <a:path w="75" h="1675">
                  <a:moveTo>
                    <a:pt x="75" y="0"/>
                  </a:moveTo>
                  <a:lnTo>
                    <a:pt x="0" y="6"/>
                  </a:lnTo>
                  <a:lnTo>
                    <a:pt x="0" y="1675"/>
                  </a:lnTo>
                  <a:lnTo>
                    <a:pt x="74" y="166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82360" y="3931920"/>
              <a:ext cx="39240" cy="275040"/>
            </a:xfrm>
            <a:custGeom>
              <a:avLst/>
              <a:gdLst/>
              <a:ahLst/>
              <a:rect l="l" t="t" r="r" b="b"/>
              <a:pathLst>
                <a:path w="77" h="1663">
                  <a:moveTo>
                    <a:pt x="76" y="0"/>
                  </a:moveTo>
                  <a:lnTo>
                    <a:pt x="1" y="7"/>
                  </a:lnTo>
                  <a:lnTo>
                    <a:pt x="0" y="1663"/>
                  </a:lnTo>
                  <a:lnTo>
                    <a:pt x="77" y="1648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63400" y="3894480"/>
              <a:ext cx="39240" cy="456840"/>
            </a:xfrm>
            <a:custGeom>
              <a:avLst/>
              <a:gdLst/>
              <a:ahLst/>
              <a:rect l="l" t="t" r="r" b="b"/>
              <a:pathLst>
                <a:path w="146" h="2748">
                  <a:moveTo>
                    <a:pt x="146" y="0"/>
                  </a:moveTo>
                  <a:lnTo>
                    <a:pt x="0" y="3"/>
                  </a:lnTo>
                  <a:lnTo>
                    <a:pt x="2" y="2748"/>
                  </a:lnTo>
                  <a:lnTo>
                    <a:pt x="145" y="272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89680" y="4232520"/>
              <a:ext cx="363960" cy="113040"/>
            </a:xfrm>
            <a:custGeom>
              <a:avLst/>
              <a:gdLst/>
              <a:ahLst/>
              <a:rect l="l" t="t" r="r" b="b"/>
              <a:pathLst>
                <a:path w="1996" h="690">
                  <a:moveTo>
                    <a:pt x="0" y="690"/>
                  </a:moveTo>
                  <a:lnTo>
                    <a:pt x="1996" y="383"/>
                  </a:lnTo>
                  <a:lnTo>
                    <a:pt x="1996" y="0"/>
                  </a:lnTo>
                  <a:lnTo>
                    <a:pt x="0" y="298"/>
                  </a:lnTo>
                  <a:lnTo>
                    <a:pt x="0" y="69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5600" y="3923640"/>
              <a:ext cx="1440" cy="3535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46560" y="3922200"/>
              <a:ext cx="1080" cy="351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72480" y="3922200"/>
              <a:ext cx="1440" cy="347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02000" y="3921120"/>
              <a:ext cx="1080" cy="3448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29360" y="3919320"/>
              <a:ext cx="1440" cy="3423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54200" y="3919320"/>
              <a:ext cx="39240" cy="338040"/>
            </a:xfrm>
            <a:custGeom>
              <a:avLst/>
              <a:gdLst/>
              <a:ahLst/>
              <a:rect l="l" t="t" r="r" b="b"/>
              <a:pathLst>
                <a:path w="3" h="2037">
                  <a:moveTo>
                    <a:pt x="3" y="0"/>
                  </a:moveTo>
                  <a:lnTo>
                    <a:pt x="3" y="2018"/>
                  </a:lnTo>
                  <a:lnTo>
                    <a:pt x="0" y="2037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81920" y="3919320"/>
              <a:ext cx="1080" cy="3380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06760" y="3918240"/>
              <a:ext cx="1080" cy="3351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629800" y="3918240"/>
              <a:ext cx="1080" cy="330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634480" y="3934800"/>
              <a:ext cx="39240" cy="303120"/>
            </a:xfrm>
            <a:custGeom>
              <a:avLst/>
              <a:gdLst/>
              <a:ahLst/>
              <a:rect l="l" t="t" r="r" b="b"/>
              <a:pathLst>
                <a:path w="81" h="1829">
                  <a:moveTo>
                    <a:pt x="1" y="4"/>
                  </a:moveTo>
                  <a:lnTo>
                    <a:pt x="81" y="0"/>
                  </a:lnTo>
                  <a:lnTo>
                    <a:pt x="80" y="1815"/>
                  </a:lnTo>
                  <a:lnTo>
                    <a:pt x="0" y="1829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672280" y="3916440"/>
              <a:ext cx="1440" cy="325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04320" y="3915360"/>
              <a:ext cx="1440" cy="3225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14400" y="4174920"/>
              <a:ext cx="39240" cy="2088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134" y="0"/>
                  </a:moveTo>
                  <a:lnTo>
                    <a:pt x="0" y="6"/>
                  </a:lnTo>
                  <a:lnTo>
                    <a:pt x="1" y="128"/>
                  </a:lnTo>
                  <a:lnTo>
                    <a:pt x="134" y="118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19080" y="4066200"/>
              <a:ext cx="39240" cy="22320"/>
            </a:xfrm>
            <a:prstGeom prst="ellipse">
              <a:avLst/>
            </a:prstGeom>
            <a:solidFill>
              <a:srgbClr val="40404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53640" y="3887280"/>
              <a:ext cx="39240" cy="407520"/>
            </a:xfrm>
            <a:custGeom>
              <a:avLst/>
              <a:gdLst/>
              <a:ahLst/>
              <a:rect l="l" t="t" r="r" b="b"/>
              <a:pathLst>
                <a:path w="109" h="2468">
                  <a:moveTo>
                    <a:pt x="109" y="0"/>
                  </a:moveTo>
                  <a:lnTo>
                    <a:pt x="0" y="0"/>
                  </a:lnTo>
                  <a:lnTo>
                    <a:pt x="0" y="2468"/>
                  </a:lnTo>
                  <a:lnTo>
                    <a:pt x="109" y="244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16200" y="4209840"/>
              <a:ext cx="39240" cy="7200"/>
            </a:xfrm>
            <a:custGeom>
              <a:avLst/>
              <a:gdLst/>
              <a:ahLst/>
              <a:rect l="l" t="t" r="r" b="b"/>
              <a:pathLst>
                <a:path w="194" h="45">
                  <a:moveTo>
                    <a:pt x="0" y="13"/>
                  </a:moveTo>
                  <a:lnTo>
                    <a:pt x="51" y="45"/>
                  </a:lnTo>
                  <a:lnTo>
                    <a:pt x="194" y="26"/>
                  </a:lnTo>
                  <a:lnTo>
                    <a:pt x="136" y="0"/>
                  </a:lnTo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12960" y="4050720"/>
              <a:ext cx="39240" cy="10800"/>
            </a:xfrm>
            <a:custGeom>
              <a:avLst/>
              <a:gdLst/>
              <a:ahLst/>
              <a:rect l="l" t="t" r="r" b="b"/>
              <a:pathLst>
                <a:path w="174" h="74">
                  <a:moveTo>
                    <a:pt x="0" y="3"/>
                  </a:moveTo>
                  <a:lnTo>
                    <a:pt x="174" y="0"/>
                  </a:lnTo>
                  <a:lnTo>
                    <a:pt x="173" y="71"/>
                  </a:lnTo>
                  <a:lnTo>
                    <a:pt x="0" y="74"/>
                  </a:lnTo>
                  <a:lnTo>
                    <a:pt x="0" y="3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427480" y="4063320"/>
              <a:ext cx="39240" cy="159120"/>
            </a:xfrm>
            <a:custGeom>
              <a:avLst/>
              <a:gdLst/>
              <a:ahLst/>
              <a:rect l="l" t="t" r="r" b="b"/>
              <a:pathLst>
                <a:path w="52" h="962">
                  <a:moveTo>
                    <a:pt x="51" y="0"/>
                  </a:moveTo>
                  <a:lnTo>
                    <a:pt x="0" y="0"/>
                  </a:lnTo>
                  <a:lnTo>
                    <a:pt x="1" y="962"/>
                  </a:lnTo>
                  <a:lnTo>
                    <a:pt x="52" y="95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54840" y="4060800"/>
              <a:ext cx="39240" cy="158760"/>
            </a:xfrm>
            <a:custGeom>
              <a:avLst/>
              <a:gdLst/>
              <a:ahLst/>
              <a:rect l="l" t="t" r="r" b="b"/>
              <a:pathLst>
                <a:path w="51" h="958">
                  <a:moveTo>
                    <a:pt x="50" y="0"/>
                  </a:moveTo>
                  <a:lnTo>
                    <a:pt x="0" y="0"/>
                  </a:lnTo>
                  <a:lnTo>
                    <a:pt x="1" y="958"/>
                  </a:lnTo>
                  <a:lnTo>
                    <a:pt x="51" y="948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2920" y="4057920"/>
              <a:ext cx="39240" cy="157680"/>
            </a:xfrm>
            <a:custGeom>
              <a:avLst/>
              <a:gdLst/>
              <a:ahLst/>
              <a:rect l="l" t="t" r="r" b="b"/>
              <a:pathLst>
                <a:path w="52" h="947">
                  <a:moveTo>
                    <a:pt x="50" y="0"/>
                  </a:moveTo>
                  <a:lnTo>
                    <a:pt x="0" y="0"/>
                  </a:lnTo>
                  <a:lnTo>
                    <a:pt x="1" y="947"/>
                  </a:lnTo>
                  <a:lnTo>
                    <a:pt x="52" y="94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510640" y="4056120"/>
              <a:ext cx="39240" cy="155160"/>
            </a:xfrm>
            <a:custGeom>
              <a:avLst/>
              <a:gdLst/>
              <a:ahLst/>
              <a:rect l="l" t="t" r="r" b="b"/>
              <a:pathLst>
                <a:path w="51" h="937">
                  <a:moveTo>
                    <a:pt x="51" y="0"/>
                  </a:moveTo>
                  <a:lnTo>
                    <a:pt x="0" y="0"/>
                  </a:lnTo>
                  <a:lnTo>
                    <a:pt x="1" y="937"/>
                  </a:lnTo>
                  <a:lnTo>
                    <a:pt x="51" y="93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38360" y="4053600"/>
              <a:ext cx="39240" cy="154800"/>
            </a:xfrm>
            <a:custGeom>
              <a:avLst/>
              <a:gdLst/>
              <a:ahLst/>
              <a:rect l="l" t="t" r="r" b="b"/>
              <a:pathLst>
                <a:path w="52" h="937">
                  <a:moveTo>
                    <a:pt x="51" y="0"/>
                  </a:moveTo>
                  <a:lnTo>
                    <a:pt x="0" y="0"/>
                  </a:lnTo>
                  <a:lnTo>
                    <a:pt x="1" y="937"/>
                  </a:lnTo>
                  <a:lnTo>
                    <a:pt x="52" y="93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64280" y="4052160"/>
              <a:ext cx="39240" cy="155160"/>
            </a:xfrm>
            <a:custGeom>
              <a:avLst/>
              <a:gdLst/>
              <a:ahLst/>
              <a:rect l="l" t="t" r="r" b="b"/>
              <a:pathLst>
                <a:path w="52" h="934">
                  <a:moveTo>
                    <a:pt x="51" y="0"/>
                  </a:moveTo>
                  <a:lnTo>
                    <a:pt x="0" y="0"/>
                  </a:lnTo>
                  <a:lnTo>
                    <a:pt x="1" y="934"/>
                  </a:lnTo>
                  <a:lnTo>
                    <a:pt x="52" y="92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89120" y="4049280"/>
              <a:ext cx="39240" cy="155160"/>
            </a:xfrm>
            <a:custGeom>
              <a:avLst/>
              <a:gdLst/>
              <a:ahLst/>
              <a:rect l="l" t="t" r="r" b="b"/>
              <a:pathLst>
                <a:path w="52" h="935">
                  <a:moveTo>
                    <a:pt x="51" y="0"/>
                  </a:moveTo>
                  <a:lnTo>
                    <a:pt x="0" y="3"/>
                  </a:lnTo>
                  <a:lnTo>
                    <a:pt x="1" y="935"/>
                  </a:lnTo>
                  <a:lnTo>
                    <a:pt x="52" y="92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12520" y="4048200"/>
              <a:ext cx="39240" cy="153360"/>
            </a:xfrm>
            <a:custGeom>
              <a:avLst/>
              <a:gdLst/>
              <a:ahLst/>
              <a:rect l="l" t="t" r="r" b="b"/>
              <a:pathLst>
                <a:path w="52" h="922">
                  <a:moveTo>
                    <a:pt x="51" y="0"/>
                  </a:moveTo>
                  <a:lnTo>
                    <a:pt x="0" y="0"/>
                  </a:lnTo>
                  <a:lnTo>
                    <a:pt x="1" y="922"/>
                  </a:lnTo>
                  <a:lnTo>
                    <a:pt x="52" y="915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55000" y="4045320"/>
              <a:ext cx="39240" cy="150480"/>
            </a:xfrm>
            <a:custGeom>
              <a:avLst/>
              <a:gdLst/>
              <a:ahLst/>
              <a:rect l="l" t="t" r="r" b="b"/>
              <a:pathLst>
                <a:path w="52" h="914">
                  <a:moveTo>
                    <a:pt x="52" y="0"/>
                  </a:moveTo>
                  <a:lnTo>
                    <a:pt x="1" y="0"/>
                  </a:lnTo>
                  <a:lnTo>
                    <a:pt x="0" y="914"/>
                  </a:lnTo>
                  <a:lnTo>
                    <a:pt x="51" y="90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84160" y="4042440"/>
              <a:ext cx="39240" cy="150840"/>
            </a:xfrm>
            <a:custGeom>
              <a:avLst/>
              <a:gdLst/>
              <a:ahLst/>
              <a:rect l="l" t="t" r="r" b="b"/>
              <a:pathLst>
                <a:path w="52" h="907">
                  <a:moveTo>
                    <a:pt x="52" y="0"/>
                  </a:moveTo>
                  <a:lnTo>
                    <a:pt x="1" y="0"/>
                  </a:lnTo>
                  <a:lnTo>
                    <a:pt x="0" y="907"/>
                  </a:lnTo>
                  <a:lnTo>
                    <a:pt x="50" y="89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36720" y="4249080"/>
              <a:ext cx="39240" cy="29160"/>
            </a:xfrm>
            <a:custGeom>
              <a:avLst/>
              <a:gdLst/>
              <a:ahLst/>
              <a:rect l="l" t="t" r="r" b="b"/>
              <a:pathLst>
                <a:path w="73" h="172">
                  <a:moveTo>
                    <a:pt x="3" y="0"/>
                  </a:moveTo>
                  <a:lnTo>
                    <a:pt x="72" y="23"/>
                  </a:lnTo>
                  <a:lnTo>
                    <a:pt x="73" y="172"/>
                  </a:lnTo>
                  <a:lnTo>
                    <a:pt x="0" y="147"/>
                  </a:lnTo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2370600" y="3908160"/>
              <a:ext cx="38160" cy="426960"/>
              <a:chOff x="2370600" y="3908160"/>
              <a:chExt cx="38160" cy="426960"/>
            </a:xfrm>
          </p:grpSpPr>
          <p:sp>
            <p:nvSpPr>
              <p:cNvPr id="485" name=""/>
              <p:cNvSpPr/>
              <p:nvPr/>
            </p:nvSpPr>
            <p:spPr>
              <a:xfrm>
                <a:off x="2370600" y="422928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370600" y="429012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370600" y="430884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70600" y="432612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370600" y="400212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370600" y="394920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370600" y="392940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370600" y="390816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2759760" y="3892680"/>
              <a:ext cx="38160" cy="390600"/>
              <a:chOff x="2759760" y="3892680"/>
              <a:chExt cx="38160" cy="390600"/>
            </a:xfrm>
          </p:grpSpPr>
          <p:sp>
            <p:nvSpPr>
              <p:cNvPr id="494" name=""/>
              <p:cNvSpPr/>
              <p:nvPr/>
            </p:nvSpPr>
            <p:spPr>
              <a:xfrm>
                <a:off x="2759760" y="418500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759760" y="4242240"/>
                <a:ext cx="381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759760" y="425808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759760" y="427428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759760" y="397764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759760" y="3929760"/>
                <a:ext cx="38160" cy="75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759760" y="391104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759760" y="3892680"/>
                <a:ext cx="38160" cy="75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2395440" y="3985200"/>
              <a:ext cx="38520" cy="47160"/>
              <a:chOff x="2395440" y="3985200"/>
              <a:chExt cx="38520" cy="47160"/>
            </a:xfrm>
          </p:grpSpPr>
          <p:sp>
            <p:nvSpPr>
              <p:cNvPr id="503" name=""/>
              <p:cNvSpPr/>
              <p:nvPr/>
            </p:nvSpPr>
            <p:spPr>
              <a:xfrm>
                <a:off x="2395440" y="399672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70" h="214">
                    <a:moveTo>
                      <a:pt x="70" y="0"/>
                    </a:moveTo>
                    <a:lnTo>
                      <a:pt x="0" y="0"/>
                    </a:lnTo>
                    <a:lnTo>
                      <a:pt x="0" y="211"/>
                    </a:lnTo>
                    <a:lnTo>
                      <a:pt x="70" y="21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98320" y="3985200"/>
                <a:ext cx="35640" cy="4716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13" y="0"/>
                    </a:moveTo>
                    <a:lnTo>
                      <a:pt x="16" y="55"/>
                    </a:lnTo>
                    <a:lnTo>
                      <a:pt x="0" y="58"/>
                    </a:lnTo>
                    <a:lnTo>
                      <a:pt x="0" y="281"/>
                    </a:lnTo>
                    <a:lnTo>
                      <a:pt x="25" y="291"/>
                    </a:lnTo>
                    <a:lnTo>
                      <a:pt x="25" y="77"/>
                    </a:lnTo>
                    <a:lnTo>
                      <a:pt x="63" y="77"/>
                    </a:lnTo>
                    <a:lnTo>
                      <a:pt x="63" y="284"/>
                    </a:lnTo>
                    <a:lnTo>
                      <a:pt x="86" y="288"/>
                    </a:lnTo>
                    <a:lnTo>
                      <a:pt x="86" y="58"/>
                    </a:lnTo>
                    <a:lnTo>
                      <a:pt x="63" y="48"/>
                    </a:lnTo>
                    <a:lnTo>
                      <a:pt x="67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2426040" y="3945960"/>
              <a:ext cx="38160" cy="108720"/>
              <a:chOff x="2426040" y="3945960"/>
              <a:chExt cx="38160" cy="108720"/>
            </a:xfrm>
          </p:grpSpPr>
          <p:sp>
            <p:nvSpPr>
              <p:cNvPr id="506" name=""/>
              <p:cNvSpPr/>
              <p:nvPr/>
            </p:nvSpPr>
            <p:spPr>
              <a:xfrm>
                <a:off x="2436840" y="3945960"/>
                <a:ext cx="21960" cy="108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432160" y="394848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426040" y="395640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432160" y="396576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432160" y="397368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432160" y="398160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426040" y="39895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432160" y="3998520"/>
                <a:ext cx="320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432160" y="400680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432160" y="401472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432160" y="402264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426040" y="403056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426040" y="403848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426040" y="404640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2510640" y="3943080"/>
              <a:ext cx="38160" cy="107640"/>
              <a:chOff x="2510640" y="3943080"/>
              <a:chExt cx="38160" cy="107640"/>
            </a:xfrm>
          </p:grpSpPr>
          <p:sp>
            <p:nvSpPr>
              <p:cNvPr id="521" name=""/>
              <p:cNvSpPr/>
              <p:nvPr/>
            </p:nvSpPr>
            <p:spPr>
              <a:xfrm>
                <a:off x="2515320" y="3943080"/>
                <a:ext cx="27000" cy="10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510640" y="39456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510640" y="395352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510640" y="396252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510640" y="3970440"/>
                <a:ext cx="3816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510640" y="397836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510640" y="398628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510640" y="39942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510640" y="400356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510640" y="401112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510640" y="4019040"/>
                <a:ext cx="3816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510640" y="4026960"/>
                <a:ext cx="3204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510640" y="4034880"/>
                <a:ext cx="320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510640" y="4042800"/>
                <a:ext cx="3204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2536560" y="3943080"/>
              <a:ext cx="38160" cy="107640"/>
              <a:chOff x="2536560" y="3943080"/>
              <a:chExt cx="38160" cy="107640"/>
            </a:xfrm>
          </p:grpSpPr>
          <p:sp>
            <p:nvSpPr>
              <p:cNvPr id="536" name=""/>
              <p:cNvSpPr/>
              <p:nvPr/>
            </p:nvSpPr>
            <p:spPr>
              <a:xfrm>
                <a:off x="2547360" y="3943080"/>
                <a:ext cx="21960" cy="10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542680" y="394560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536560" y="39535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542680" y="396144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542680" y="396936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542680" y="397728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536560" y="398664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542680" y="399492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542680" y="400248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542680" y="401076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42680" y="401868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536560" y="40266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536560" y="40345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536560" y="404244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2564280" y="3942000"/>
              <a:ext cx="38160" cy="107280"/>
              <a:chOff x="2564280" y="3942000"/>
              <a:chExt cx="38160" cy="107280"/>
            </a:xfrm>
          </p:grpSpPr>
          <p:sp>
            <p:nvSpPr>
              <p:cNvPr id="551" name=""/>
              <p:cNvSpPr/>
              <p:nvPr/>
            </p:nvSpPr>
            <p:spPr>
              <a:xfrm>
                <a:off x="2575080" y="3942000"/>
                <a:ext cx="21960" cy="10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64280" y="394452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564280" y="3952800"/>
                <a:ext cx="3312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564280" y="396036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564280" y="396828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564280" y="397656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564280" y="3984120"/>
                <a:ext cx="3312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564280" y="399348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564280" y="400176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564280" y="40093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564280" y="40176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564280" y="4025520"/>
                <a:ext cx="3312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564280" y="4033440"/>
                <a:ext cx="3312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564280" y="4041360"/>
                <a:ext cx="3312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2716200" y="4093920"/>
              <a:ext cx="38880" cy="28080"/>
              <a:chOff x="2716200" y="4093920"/>
              <a:chExt cx="38880" cy="28080"/>
            </a:xfrm>
          </p:grpSpPr>
          <p:sp>
            <p:nvSpPr>
              <p:cNvPr id="566" name=""/>
              <p:cNvSpPr/>
              <p:nvPr/>
            </p:nvSpPr>
            <p:spPr>
              <a:xfrm>
                <a:off x="2716200" y="4093920"/>
                <a:ext cx="38880" cy="2808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47" y="0"/>
                    </a:moveTo>
                    <a:lnTo>
                      <a:pt x="0" y="10"/>
                    </a:lnTo>
                    <a:lnTo>
                      <a:pt x="0" y="163"/>
                    </a:lnTo>
                    <a:lnTo>
                      <a:pt x="147" y="153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724120" y="409788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95" h="123">
                    <a:moveTo>
                      <a:pt x="95" y="0"/>
                    </a:moveTo>
                    <a:lnTo>
                      <a:pt x="0" y="7"/>
                    </a:lnTo>
                    <a:lnTo>
                      <a:pt x="0" y="123"/>
                    </a:lnTo>
                    <a:lnTo>
                      <a:pt x="95" y="115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732400" y="4100400"/>
                <a:ext cx="8280" cy="684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734200" y="4109760"/>
                <a:ext cx="6480" cy="54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2399760" y="4212720"/>
              <a:ext cx="293760" cy="63000"/>
              <a:chOff x="2399760" y="4212720"/>
              <a:chExt cx="293760" cy="63000"/>
            </a:xfrm>
          </p:grpSpPr>
          <p:sp>
            <p:nvSpPr>
              <p:cNvPr id="571" name=""/>
              <p:cNvSpPr/>
              <p:nvPr/>
            </p:nvSpPr>
            <p:spPr>
              <a:xfrm>
                <a:off x="2686320" y="4212720"/>
                <a:ext cx="7200" cy="2412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655720" y="4216680"/>
                <a:ext cx="7200" cy="22320"/>
              </a:xfrm>
              <a:custGeom>
                <a:avLst/>
                <a:gdLst/>
                <a:ahLst/>
                <a:rect l="l" t="t" r="r" b="b"/>
                <a:pathLst>
                  <a:path w="38" h="140">
                    <a:moveTo>
                      <a:pt x="38" y="0"/>
                    </a:moveTo>
                    <a:lnTo>
                      <a:pt x="0" y="3"/>
                    </a:lnTo>
                    <a:lnTo>
                      <a:pt x="0" y="140"/>
                    </a:lnTo>
                    <a:lnTo>
                      <a:pt x="38" y="1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614680" y="4222080"/>
                <a:ext cx="5760" cy="24120"/>
              </a:xfrm>
              <a:custGeom>
                <a:avLst/>
                <a:gdLst/>
                <a:ahLst/>
                <a:rect l="l" t="t" r="r" b="b"/>
                <a:pathLst>
                  <a:path w="37" h="141">
                    <a:moveTo>
                      <a:pt x="37" y="0"/>
                    </a:moveTo>
                    <a:lnTo>
                      <a:pt x="0" y="4"/>
                    </a:lnTo>
                    <a:lnTo>
                      <a:pt x="0" y="141"/>
                    </a:lnTo>
                    <a:lnTo>
                      <a:pt x="37" y="13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590560" y="4224600"/>
                <a:ext cx="7200" cy="23760"/>
              </a:xfrm>
              <a:custGeom>
                <a:avLst/>
                <a:gdLst/>
                <a:ahLst/>
                <a:rect l="l" t="t" r="r" b="b"/>
                <a:pathLst>
                  <a:path w="38" h="139">
                    <a:moveTo>
                      <a:pt x="38" y="0"/>
                    </a:moveTo>
                    <a:lnTo>
                      <a:pt x="0" y="3"/>
                    </a:lnTo>
                    <a:lnTo>
                      <a:pt x="0" y="139"/>
                    </a:lnTo>
                    <a:lnTo>
                      <a:pt x="38" y="1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565720" y="4228560"/>
                <a:ext cx="5400" cy="2412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539080" y="4233960"/>
                <a:ext cx="5760" cy="22680"/>
              </a:xfrm>
              <a:custGeom>
                <a:avLst/>
                <a:gdLst/>
                <a:ahLst/>
                <a:rect l="l" t="t" r="r" b="b"/>
                <a:pathLst>
                  <a:path w="38" h="139">
                    <a:moveTo>
                      <a:pt x="38" y="0"/>
                    </a:moveTo>
                    <a:lnTo>
                      <a:pt x="0" y="3"/>
                    </a:lnTo>
                    <a:lnTo>
                      <a:pt x="0" y="139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513160" y="4236840"/>
                <a:ext cx="7200" cy="23760"/>
              </a:xfrm>
              <a:custGeom>
                <a:avLst/>
                <a:gdLst/>
                <a:ahLst/>
                <a:rect l="l" t="t" r="r" b="b"/>
                <a:pathLst>
                  <a:path w="39" h="141">
                    <a:moveTo>
                      <a:pt x="39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9" y="131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484000" y="4240800"/>
                <a:ext cx="7200" cy="2268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456280" y="4244760"/>
                <a:ext cx="7200" cy="22680"/>
              </a:xfrm>
              <a:custGeom>
                <a:avLst/>
                <a:gdLst/>
                <a:ahLst/>
                <a:rect l="l" t="t" r="r" b="b"/>
                <a:pathLst>
                  <a:path w="39" h="140">
                    <a:moveTo>
                      <a:pt x="39" y="0"/>
                    </a:moveTo>
                    <a:lnTo>
                      <a:pt x="0" y="3"/>
                    </a:lnTo>
                    <a:lnTo>
                      <a:pt x="0" y="140"/>
                    </a:lnTo>
                    <a:lnTo>
                      <a:pt x="39" y="13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428560" y="4247280"/>
                <a:ext cx="7200" cy="2376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399760" y="4253040"/>
                <a:ext cx="7200" cy="22680"/>
              </a:xfrm>
              <a:custGeom>
                <a:avLst/>
                <a:gdLst/>
                <a:ahLst/>
                <a:rect l="l" t="t" r="r" b="b"/>
                <a:pathLst>
                  <a:path w="39" h="139">
                    <a:moveTo>
                      <a:pt x="39" y="0"/>
                    </a:moveTo>
                    <a:lnTo>
                      <a:pt x="0" y="3"/>
                    </a:lnTo>
                    <a:lnTo>
                      <a:pt x="0" y="139"/>
                    </a:lnTo>
                    <a:lnTo>
                      <a:pt x="39" y="13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404080" y="4239360"/>
              <a:ext cx="329040" cy="95760"/>
              <a:chOff x="2404080" y="4239360"/>
              <a:chExt cx="329040" cy="95760"/>
            </a:xfrm>
          </p:grpSpPr>
          <p:sp>
            <p:nvSpPr>
              <p:cNvPr id="583" name=""/>
              <p:cNvSpPr/>
              <p:nvPr/>
            </p:nvSpPr>
            <p:spPr>
              <a:xfrm>
                <a:off x="2408040" y="4251240"/>
                <a:ext cx="323280" cy="70560"/>
              </a:xfrm>
              <a:custGeom>
                <a:avLst/>
                <a:gdLst/>
                <a:ahLst/>
                <a:rect l="l" t="t" r="r" b="b"/>
                <a:pathLst>
                  <a:path w="1772" h="425">
                    <a:moveTo>
                      <a:pt x="0" y="260"/>
                    </a:moveTo>
                    <a:lnTo>
                      <a:pt x="0" y="425"/>
                    </a:lnTo>
                    <a:lnTo>
                      <a:pt x="1772" y="139"/>
                    </a:lnTo>
                    <a:lnTo>
                      <a:pt x="1772" y="0"/>
                    </a:lnTo>
                    <a:lnTo>
                      <a:pt x="0" y="26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419920" y="428220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31800" y="4282200"/>
                <a:ext cx="288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441880" y="4280760"/>
                <a:ext cx="396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454840" y="4277880"/>
                <a:ext cx="2880" cy="49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466720" y="4279320"/>
                <a:ext cx="28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479680" y="4275360"/>
                <a:ext cx="432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491560" y="427284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503080" y="4271400"/>
                <a:ext cx="396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16400" y="426996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526480" y="426456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539440" y="426744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550960" y="4264560"/>
                <a:ext cx="288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561040" y="4264560"/>
                <a:ext cx="432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574360" y="426204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585880" y="4263480"/>
                <a:ext cx="432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597760" y="42580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609280" y="42580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621160" y="425520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632680" y="4255200"/>
                <a:ext cx="432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642760" y="4254120"/>
                <a:ext cx="432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54640" y="425016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666160" y="425016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677680" y="425124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688120" y="42472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98200" y="424620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09720" y="4240800"/>
                <a:ext cx="28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718720" y="42418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728800" y="4239360"/>
                <a:ext cx="432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404080" y="4286160"/>
                <a:ext cx="100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2406960" y="4293720"/>
              <a:ext cx="39240" cy="30600"/>
            </a:xfrm>
            <a:custGeom>
              <a:avLst/>
              <a:gdLst/>
              <a:ahLst/>
              <a:rect l="l" t="t" r="r" b="b"/>
              <a:pathLst>
                <a:path w="69" h="187">
                  <a:moveTo>
                    <a:pt x="10" y="0"/>
                  </a:moveTo>
                  <a:lnTo>
                    <a:pt x="69" y="26"/>
                  </a:lnTo>
                  <a:lnTo>
                    <a:pt x="69" y="187"/>
                  </a:lnTo>
                  <a:lnTo>
                    <a:pt x="0" y="158"/>
                  </a:lnTo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2394000" y="3933360"/>
              <a:ext cx="38160" cy="9720"/>
              <a:chOff x="2394000" y="3933360"/>
              <a:chExt cx="38160" cy="9720"/>
            </a:xfrm>
          </p:grpSpPr>
          <p:sp>
            <p:nvSpPr>
              <p:cNvPr id="615" name=""/>
              <p:cNvSpPr/>
              <p:nvPr/>
            </p:nvSpPr>
            <p:spPr>
              <a:xfrm>
                <a:off x="2394000" y="3933360"/>
                <a:ext cx="1980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403720" y="3933360"/>
                <a:ext cx="198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413800" y="3933360"/>
                <a:ext cx="183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399400" y="3934440"/>
                <a:ext cx="86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2422800" y="3931920"/>
              <a:ext cx="38160" cy="9720"/>
              <a:chOff x="2422800" y="3931920"/>
              <a:chExt cx="38160" cy="9720"/>
            </a:xfrm>
          </p:grpSpPr>
          <p:sp>
            <p:nvSpPr>
              <p:cNvPr id="620" name=""/>
              <p:cNvSpPr/>
              <p:nvPr/>
            </p:nvSpPr>
            <p:spPr>
              <a:xfrm>
                <a:off x="2422800" y="3931920"/>
                <a:ext cx="1908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432160" y="3931920"/>
                <a:ext cx="1908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441880" y="3931920"/>
                <a:ext cx="1908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427840" y="3933360"/>
                <a:ext cx="1368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2452320" y="3931920"/>
              <a:ext cx="38160" cy="7920"/>
              <a:chOff x="2452320" y="3931920"/>
              <a:chExt cx="38160" cy="7920"/>
            </a:xfrm>
          </p:grpSpPr>
          <p:sp>
            <p:nvSpPr>
              <p:cNvPr id="625" name=""/>
              <p:cNvSpPr/>
              <p:nvPr/>
            </p:nvSpPr>
            <p:spPr>
              <a:xfrm>
                <a:off x="2452320" y="393192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460960" y="3931920"/>
                <a:ext cx="1980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470680" y="393192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456640" y="3931920"/>
                <a:ext cx="1404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2479680" y="3930840"/>
              <a:ext cx="38160" cy="7920"/>
              <a:chOff x="2479680" y="3930840"/>
              <a:chExt cx="38160" cy="7920"/>
            </a:xfrm>
          </p:grpSpPr>
          <p:sp>
            <p:nvSpPr>
              <p:cNvPr id="630" name=""/>
              <p:cNvSpPr/>
              <p:nvPr/>
            </p:nvSpPr>
            <p:spPr>
              <a:xfrm>
                <a:off x="2479680" y="3930840"/>
                <a:ext cx="1908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89040" y="3930840"/>
                <a:ext cx="1908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498760" y="3930840"/>
                <a:ext cx="1908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484720" y="3930840"/>
                <a:ext cx="1368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2507400" y="3927960"/>
              <a:ext cx="38160" cy="9720"/>
              <a:chOff x="2507400" y="3927960"/>
              <a:chExt cx="38160" cy="9720"/>
            </a:xfrm>
          </p:grpSpPr>
          <p:sp>
            <p:nvSpPr>
              <p:cNvPr id="635" name=""/>
              <p:cNvSpPr/>
              <p:nvPr/>
            </p:nvSpPr>
            <p:spPr>
              <a:xfrm>
                <a:off x="2507400" y="3927960"/>
                <a:ext cx="1980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517120" y="3927960"/>
                <a:ext cx="198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527200" y="3927960"/>
                <a:ext cx="183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512800" y="392940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2535480" y="3927960"/>
              <a:ext cx="37800" cy="7920"/>
              <a:chOff x="2535480" y="3927960"/>
              <a:chExt cx="37800" cy="7920"/>
            </a:xfrm>
          </p:grpSpPr>
          <p:sp>
            <p:nvSpPr>
              <p:cNvPr id="640" name=""/>
              <p:cNvSpPr/>
              <p:nvPr/>
            </p:nvSpPr>
            <p:spPr>
              <a:xfrm>
                <a:off x="2535480" y="3927960"/>
                <a:ext cx="1584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540160" y="3927960"/>
                <a:ext cx="2700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551320" y="3927960"/>
                <a:ext cx="219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540160" y="3927960"/>
                <a:ext cx="1080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2561400" y="3926520"/>
              <a:ext cx="38160" cy="8280"/>
              <a:chOff x="2561400" y="3926520"/>
              <a:chExt cx="38160" cy="8280"/>
            </a:xfrm>
          </p:grpSpPr>
          <p:sp>
            <p:nvSpPr>
              <p:cNvPr id="645" name=""/>
              <p:cNvSpPr/>
              <p:nvPr/>
            </p:nvSpPr>
            <p:spPr>
              <a:xfrm>
                <a:off x="2561400" y="3926520"/>
                <a:ext cx="19080" cy="828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570760" y="3926520"/>
                <a:ext cx="19080" cy="828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580480" y="3926520"/>
                <a:ext cx="19080" cy="82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566440" y="3926520"/>
                <a:ext cx="13680" cy="828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2586240" y="3925080"/>
              <a:ext cx="38160" cy="9720"/>
              <a:chOff x="2586240" y="3925080"/>
              <a:chExt cx="38160" cy="9720"/>
            </a:xfrm>
          </p:grpSpPr>
          <p:sp>
            <p:nvSpPr>
              <p:cNvPr id="650" name=""/>
              <p:cNvSpPr/>
              <p:nvPr/>
            </p:nvSpPr>
            <p:spPr>
              <a:xfrm>
                <a:off x="2586240" y="3925080"/>
                <a:ext cx="1908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591280" y="3925080"/>
                <a:ext cx="234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605320" y="3925080"/>
                <a:ext cx="1908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591280" y="3926520"/>
                <a:ext cx="936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609640" y="3923640"/>
              <a:ext cx="38160" cy="9720"/>
              <a:chOff x="2609640" y="3923640"/>
              <a:chExt cx="38160" cy="9720"/>
            </a:xfrm>
          </p:grpSpPr>
          <p:sp>
            <p:nvSpPr>
              <p:cNvPr id="655" name=""/>
              <p:cNvSpPr/>
              <p:nvPr/>
            </p:nvSpPr>
            <p:spPr>
              <a:xfrm>
                <a:off x="2609640" y="3923640"/>
                <a:ext cx="1836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619360" y="3923640"/>
                <a:ext cx="2412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628000" y="3923640"/>
                <a:ext cx="1980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613960" y="392472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2652120" y="3922200"/>
              <a:ext cx="38160" cy="9720"/>
              <a:chOff x="2652120" y="3922200"/>
              <a:chExt cx="38160" cy="9720"/>
            </a:xfrm>
          </p:grpSpPr>
          <p:sp>
            <p:nvSpPr>
              <p:cNvPr id="660" name=""/>
              <p:cNvSpPr/>
              <p:nvPr/>
            </p:nvSpPr>
            <p:spPr>
              <a:xfrm>
                <a:off x="2652120" y="3922200"/>
                <a:ext cx="18360" cy="828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661840" y="3922200"/>
                <a:ext cx="2412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670480" y="3922200"/>
                <a:ext cx="1980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656440" y="392328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2680920" y="3921120"/>
              <a:ext cx="38160" cy="7920"/>
              <a:chOff x="2680920" y="3921120"/>
              <a:chExt cx="38160" cy="7920"/>
            </a:xfrm>
          </p:grpSpPr>
          <p:sp>
            <p:nvSpPr>
              <p:cNvPr id="665" name=""/>
              <p:cNvSpPr/>
              <p:nvPr/>
            </p:nvSpPr>
            <p:spPr>
              <a:xfrm>
                <a:off x="2680920" y="3921120"/>
                <a:ext cx="1980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690640" y="3921120"/>
                <a:ext cx="1836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700720" y="3921120"/>
                <a:ext cx="183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685240" y="3921120"/>
                <a:ext cx="1512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2708640" y="3921120"/>
              <a:ext cx="38160" cy="7920"/>
              <a:chOff x="2708640" y="3921120"/>
              <a:chExt cx="38160" cy="7920"/>
            </a:xfrm>
          </p:grpSpPr>
          <p:sp>
            <p:nvSpPr>
              <p:cNvPr id="670" name=""/>
              <p:cNvSpPr/>
              <p:nvPr/>
            </p:nvSpPr>
            <p:spPr>
              <a:xfrm>
                <a:off x="2708640" y="392112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718360" y="3921120"/>
                <a:ext cx="1836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27000" y="392112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712960" y="3921120"/>
                <a:ext cx="972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2736720" y="3919320"/>
              <a:ext cx="38160" cy="8280"/>
              <a:chOff x="2736720" y="3919320"/>
              <a:chExt cx="38160" cy="8280"/>
            </a:xfrm>
          </p:grpSpPr>
          <p:sp>
            <p:nvSpPr>
              <p:cNvPr id="675" name=""/>
              <p:cNvSpPr/>
              <p:nvPr/>
            </p:nvSpPr>
            <p:spPr>
              <a:xfrm>
                <a:off x="2736720" y="3919320"/>
                <a:ext cx="18360" cy="828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745360" y="3919320"/>
                <a:ext cx="19800" cy="828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755080" y="3919320"/>
                <a:ext cx="19800" cy="82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741040" y="392040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2634480" y="3918240"/>
              <a:ext cx="39240" cy="16560"/>
            </a:xfrm>
            <a:custGeom>
              <a:avLst/>
              <a:gdLst/>
              <a:ahLst/>
              <a:rect l="l" t="t" r="r" b="b"/>
              <a:pathLst>
                <a:path w="77" h="110">
                  <a:moveTo>
                    <a:pt x="0" y="110"/>
                  </a:moveTo>
                  <a:lnTo>
                    <a:pt x="0" y="0"/>
                  </a:lnTo>
                  <a:lnTo>
                    <a:pt x="77" y="0"/>
                  </a:lnTo>
                  <a:lnTo>
                    <a:pt x="77" y="103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2392560" y="4268880"/>
              <a:ext cx="38160" cy="9720"/>
              <a:chOff x="2392560" y="4268880"/>
              <a:chExt cx="38160" cy="9720"/>
            </a:xfrm>
          </p:grpSpPr>
          <p:sp>
            <p:nvSpPr>
              <p:cNvPr id="681" name=""/>
              <p:cNvSpPr/>
              <p:nvPr/>
            </p:nvSpPr>
            <p:spPr>
              <a:xfrm>
                <a:off x="2392560" y="4268880"/>
                <a:ext cx="1836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02280" y="4268880"/>
                <a:ext cx="1836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10920" y="4268880"/>
                <a:ext cx="1980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396880" y="4270320"/>
                <a:ext cx="972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2418840" y="4264560"/>
              <a:ext cx="38160" cy="9720"/>
              <a:chOff x="2418840" y="4264560"/>
              <a:chExt cx="38160" cy="9720"/>
            </a:xfrm>
          </p:grpSpPr>
          <p:sp>
            <p:nvSpPr>
              <p:cNvPr id="686" name=""/>
              <p:cNvSpPr/>
              <p:nvPr/>
            </p:nvSpPr>
            <p:spPr>
              <a:xfrm>
                <a:off x="2418840" y="4264560"/>
                <a:ext cx="1980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240" y="4264560"/>
                <a:ext cx="2412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32880" y="4264560"/>
                <a:ext cx="2412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240" y="4266000"/>
                <a:ext cx="864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2449440" y="4262040"/>
              <a:ext cx="38160" cy="7920"/>
              <a:chOff x="2449440" y="4262040"/>
              <a:chExt cx="38160" cy="7920"/>
            </a:xfrm>
          </p:grpSpPr>
          <p:sp>
            <p:nvSpPr>
              <p:cNvPr id="691" name=""/>
              <p:cNvSpPr/>
              <p:nvPr/>
            </p:nvSpPr>
            <p:spPr>
              <a:xfrm>
                <a:off x="2449440" y="426204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53760" y="4262040"/>
                <a:ext cx="2412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67800" y="426204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53760" y="4262040"/>
                <a:ext cx="972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475360" y="4259160"/>
              <a:ext cx="38160" cy="6840"/>
              <a:chOff x="2475360" y="4259160"/>
              <a:chExt cx="38160" cy="6840"/>
            </a:xfrm>
          </p:grpSpPr>
          <p:sp>
            <p:nvSpPr>
              <p:cNvPr id="696" name=""/>
              <p:cNvSpPr/>
              <p:nvPr/>
            </p:nvSpPr>
            <p:spPr>
              <a:xfrm>
                <a:off x="2475360" y="4259160"/>
                <a:ext cx="19800" cy="684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85080" y="4259160"/>
                <a:ext cx="19800" cy="684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95160" y="4259160"/>
                <a:ext cx="18360" cy="68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80760" y="4260240"/>
                <a:ext cx="8640" cy="5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2503080" y="4256280"/>
              <a:ext cx="38160" cy="6840"/>
              <a:chOff x="2503080" y="4256280"/>
              <a:chExt cx="38160" cy="6840"/>
            </a:xfrm>
          </p:grpSpPr>
          <p:sp>
            <p:nvSpPr>
              <p:cNvPr id="701" name=""/>
              <p:cNvSpPr/>
              <p:nvPr/>
            </p:nvSpPr>
            <p:spPr>
              <a:xfrm>
                <a:off x="2503080" y="4256280"/>
                <a:ext cx="19800" cy="684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512800" y="4256280"/>
                <a:ext cx="18360" cy="684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522880" y="4256280"/>
                <a:ext cx="18360" cy="68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507400" y="4256280"/>
                <a:ext cx="972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2531160" y="4251960"/>
              <a:ext cx="38160" cy="7920"/>
              <a:chOff x="2531160" y="4251960"/>
              <a:chExt cx="38160" cy="7920"/>
            </a:xfrm>
          </p:grpSpPr>
          <p:sp>
            <p:nvSpPr>
              <p:cNvPr id="706" name=""/>
              <p:cNvSpPr/>
              <p:nvPr/>
            </p:nvSpPr>
            <p:spPr>
              <a:xfrm>
                <a:off x="2531160" y="425196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540880" y="4251960"/>
                <a:ext cx="1836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549520" y="425196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535480" y="4251960"/>
                <a:ext cx="1404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2558880" y="4248000"/>
              <a:ext cx="38160" cy="7920"/>
              <a:chOff x="2558880" y="4248000"/>
              <a:chExt cx="38160" cy="7920"/>
            </a:xfrm>
          </p:grpSpPr>
          <p:sp>
            <p:nvSpPr>
              <p:cNvPr id="711" name=""/>
              <p:cNvSpPr/>
              <p:nvPr/>
            </p:nvSpPr>
            <p:spPr>
              <a:xfrm>
                <a:off x="2558880" y="4248000"/>
                <a:ext cx="2160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563920" y="4248000"/>
                <a:ext cx="2808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575440" y="4248000"/>
                <a:ext cx="216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563920" y="4249080"/>
                <a:ext cx="11160" cy="648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2583360" y="4243680"/>
              <a:ext cx="38880" cy="9720"/>
              <a:chOff x="2583360" y="4243680"/>
              <a:chExt cx="38880" cy="9720"/>
            </a:xfrm>
          </p:grpSpPr>
          <p:sp>
            <p:nvSpPr>
              <p:cNvPr id="716" name=""/>
              <p:cNvSpPr/>
              <p:nvPr/>
            </p:nvSpPr>
            <p:spPr>
              <a:xfrm>
                <a:off x="2583360" y="4243680"/>
                <a:ext cx="1944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593080" y="4243680"/>
                <a:ext cx="1944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602800" y="4243680"/>
                <a:ext cx="1944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588760" y="424476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2609640" y="4239360"/>
              <a:ext cx="37800" cy="9720"/>
              <a:chOff x="2609640" y="4239360"/>
              <a:chExt cx="37800" cy="9720"/>
            </a:xfrm>
          </p:grpSpPr>
          <p:sp>
            <p:nvSpPr>
              <p:cNvPr id="721" name=""/>
              <p:cNvSpPr/>
              <p:nvPr/>
            </p:nvSpPr>
            <p:spPr>
              <a:xfrm>
                <a:off x="2609640" y="4239360"/>
                <a:ext cx="2088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614320" y="4239360"/>
                <a:ext cx="270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625480" y="4239360"/>
                <a:ext cx="219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614320" y="4240800"/>
                <a:ext cx="1080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2652120" y="4235400"/>
              <a:ext cx="37800" cy="7920"/>
              <a:chOff x="2652120" y="4235400"/>
              <a:chExt cx="37800" cy="7920"/>
            </a:xfrm>
          </p:grpSpPr>
          <p:sp>
            <p:nvSpPr>
              <p:cNvPr id="726" name=""/>
              <p:cNvSpPr/>
              <p:nvPr/>
            </p:nvSpPr>
            <p:spPr>
              <a:xfrm>
                <a:off x="2652120" y="4235400"/>
                <a:ext cx="2088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656800" y="4235400"/>
                <a:ext cx="2700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667960" y="4235400"/>
                <a:ext cx="219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656800" y="4235400"/>
                <a:ext cx="1080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2673720" y="4232520"/>
              <a:ext cx="38160" cy="6840"/>
              <a:chOff x="2673720" y="4232520"/>
              <a:chExt cx="38160" cy="6840"/>
            </a:xfrm>
          </p:grpSpPr>
          <p:sp>
            <p:nvSpPr>
              <p:cNvPr id="731" name=""/>
              <p:cNvSpPr/>
              <p:nvPr/>
            </p:nvSpPr>
            <p:spPr>
              <a:xfrm>
                <a:off x="2673720" y="4232520"/>
                <a:ext cx="19800" cy="684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683440" y="4232520"/>
                <a:ext cx="24120" cy="684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693520" y="4232520"/>
                <a:ext cx="18360" cy="68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678040" y="4232520"/>
                <a:ext cx="15120" cy="57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2707200" y="4226760"/>
              <a:ext cx="38160" cy="8280"/>
              <a:chOff x="2707200" y="4226760"/>
              <a:chExt cx="38160" cy="8280"/>
            </a:xfrm>
          </p:grpSpPr>
          <p:sp>
            <p:nvSpPr>
              <p:cNvPr id="736" name=""/>
              <p:cNvSpPr/>
              <p:nvPr/>
            </p:nvSpPr>
            <p:spPr>
              <a:xfrm>
                <a:off x="2707200" y="4226760"/>
                <a:ext cx="19080" cy="720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716560" y="4226760"/>
                <a:ext cx="23400" cy="828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726280" y="4226760"/>
                <a:ext cx="19080" cy="82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712240" y="4227840"/>
                <a:ext cx="13680" cy="57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2737800" y="4222440"/>
              <a:ext cx="37800" cy="9720"/>
              <a:chOff x="2737800" y="4222440"/>
              <a:chExt cx="37800" cy="9720"/>
            </a:xfrm>
          </p:grpSpPr>
          <p:sp>
            <p:nvSpPr>
              <p:cNvPr id="741" name=""/>
              <p:cNvSpPr/>
              <p:nvPr/>
            </p:nvSpPr>
            <p:spPr>
              <a:xfrm>
                <a:off x="2737800" y="4222440"/>
                <a:ext cx="2196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742480" y="4222440"/>
                <a:ext cx="270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753640" y="4222440"/>
                <a:ext cx="219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742480" y="4223880"/>
                <a:ext cx="1080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2423160" y="3056040"/>
              <a:ext cx="1806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MT200, WLAN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AB, GSM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ETRA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6" name="" descr=""/>
            <p:cNvPicPr/>
            <p:nvPr/>
          </p:nvPicPr>
          <p:blipFill>
            <a:blip r:embed="rId1"/>
            <a:stretch/>
          </p:blipFill>
          <p:spPr>
            <a:xfrm>
              <a:off x="2771280" y="1592280"/>
              <a:ext cx="1038600" cy="65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7" name=""/>
            <p:cNvGrpSpPr/>
            <p:nvPr/>
          </p:nvGrpSpPr>
          <p:grpSpPr>
            <a:xfrm>
              <a:off x="3535200" y="4845600"/>
              <a:ext cx="1114200" cy="1302840"/>
              <a:chOff x="3535200" y="4845600"/>
              <a:chExt cx="1114200" cy="1302840"/>
            </a:xfrm>
          </p:grpSpPr>
          <p:sp>
            <p:nvSpPr>
              <p:cNvPr id="748" name=""/>
              <p:cNvSpPr/>
              <p:nvPr/>
            </p:nvSpPr>
            <p:spPr>
              <a:xfrm rot="18891000">
                <a:off x="3937320" y="5242320"/>
                <a:ext cx="124560" cy="326520"/>
              </a:xfrm>
              <a:custGeom>
                <a:avLst/>
                <a:gdLst/>
                <a:ahLst/>
                <a:rect l="l" t="t" r="r" b="b"/>
                <a:pathLst>
                  <a:path w="284" h="451">
                    <a:moveTo>
                      <a:pt x="229" y="11"/>
                    </a:moveTo>
                    <a:lnTo>
                      <a:pt x="225" y="18"/>
                    </a:lnTo>
                    <a:lnTo>
                      <a:pt x="216" y="32"/>
                    </a:lnTo>
                    <a:lnTo>
                      <a:pt x="204" y="54"/>
                    </a:lnTo>
                    <a:lnTo>
                      <a:pt x="190" y="81"/>
                    </a:lnTo>
                    <a:lnTo>
                      <a:pt x="173" y="113"/>
                    </a:lnTo>
                    <a:lnTo>
                      <a:pt x="155" y="148"/>
                    </a:lnTo>
                    <a:lnTo>
                      <a:pt x="136" y="185"/>
                    </a:lnTo>
                    <a:lnTo>
                      <a:pt x="115" y="224"/>
                    </a:lnTo>
                    <a:lnTo>
                      <a:pt x="94" y="263"/>
                    </a:lnTo>
                    <a:lnTo>
                      <a:pt x="75" y="300"/>
                    </a:lnTo>
                    <a:lnTo>
                      <a:pt x="57" y="336"/>
                    </a:lnTo>
                    <a:lnTo>
                      <a:pt x="40" y="368"/>
                    </a:lnTo>
                    <a:lnTo>
                      <a:pt x="26" y="396"/>
                    </a:lnTo>
                    <a:lnTo>
                      <a:pt x="14" y="418"/>
                    </a:lnTo>
                    <a:lnTo>
                      <a:pt x="5" y="433"/>
                    </a:lnTo>
                    <a:lnTo>
                      <a:pt x="1" y="440"/>
                    </a:lnTo>
                    <a:lnTo>
                      <a:pt x="0" y="448"/>
                    </a:lnTo>
                    <a:lnTo>
                      <a:pt x="4" y="451"/>
                    </a:lnTo>
                    <a:lnTo>
                      <a:pt x="10" y="449"/>
                    </a:lnTo>
                    <a:lnTo>
                      <a:pt x="14" y="446"/>
                    </a:lnTo>
                    <a:lnTo>
                      <a:pt x="19" y="438"/>
                    </a:lnTo>
                    <a:lnTo>
                      <a:pt x="28" y="424"/>
                    </a:lnTo>
                    <a:lnTo>
                      <a:pt x="41" y="404"/>
                    </a:lnTo>
                    <a:lnTo>
                      <a:pt x="58" y="378"/>
                    </a:lnTo>
                    <a:lnTo>
                      <a:pt x="79" y="349"/>
                    </a:lnTo>
                    <a:lnTo>
                      <a:pt x="100" y="316"/>
                    </a:lnTo>
                    <a:lnTo>
                      <a:pt x="123" y="280"/>
                    </a:lnTo>
                    <a:lnTo>
                      <a:pt x="146" y="245"/>
                    </a:lnTo>
                    <a:lnTo>
                      <a:pt x="171" y="209"/>
                    </a:lnTo>
                    <a:lnTo>
                      <a:pt x="193" y="173"/>
                    </a:lnTo>
                    <a:lnTo>
                      <a:pt x="215" y="140"/>
                    </a:lnTo>
                    <a:lnTo>
                      <a:pt x="234" y="110"/>
                    </a:lnTo>
                    <a:lnTo>
                      <a:pt x="252" y="83"/>
                    </a:lnTo>
                    <a:lnTo>
                      <a:pt x="265" y="61"/>
                    </a:lnTo>
                    <a:lnTo>
                      <a:pt x="275" y="46"/>
                    </a:lnTo>
                    <a:lnTo>
                      <a:pt x="281" y="36"/>
                    </a:lnTo>
                    <a:lnTo>
                      <a:pt x="284" y="24"/>
                    </a:lnTo>
                    <a:lnTo>
                      <a:pt x="283" y="15"/>
                    </a:lnTo>
                    <a:lnTo>
                      <a:pt x="278" y="7"/>
                    </a:lnTo>
                    <a:lnTo>
                      <a:pt x="269" y="2"/>
                    </a:lnTo>
                    <a:lnTo>
                      <a:pt x="259" y="0"/>
                    </a:lnTo>
                    <a:lnTo>
                      <a:pt x="248" y="1"/>
                    </a:lnTo>
                    <a:lnTo>
                      <a:pt x="238" y="4"/>
                    </a:lnTo>
                    <a:lnTo>
                      <a:pt x="22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18891000">
                <a:off x="4059720" y="5549760"/>
                <a:ext cx="30600" cy="52200"/>
              </a:xfrm>
              <a:custGeom>
                <a:avLst/>
                <a:gdLst/>
                <a:ahLst/>
                <a:rect l="l" t="t" r="r" b="b"/>
                <a:pathLst>
                  <a:path w="69" h="72">
                    <a:moveTo>
                      <a:pt x="17" y="42"/>
                    </a:moveTo>
                    <a:lnTo>
                      <a:pt x="15" y="53"/>
                    </a:lnTo>
                    <a:lnTo>
                      <a:pt x="19" y="59"/>
                    </a:lnTo>
                    <a:lnTo>
                      <a:pt x="25" y="59"/>
                    </a:lnTo>
                    <a:lnTo>
                      <a:pt x="31" y="55"/>
                    </a:lnTo>
                    <a:lnTo>
                      <a:pt x="34" y="49"/>
                    </a:lnTo>
                    <a:lnTo>
                      <a:pt x="34" y="45"/>
                    </a:lnTo>
                    <a:lnTo>
                      <a:pt x="30" y="40"/>
                    </a:lnTo>
                    <a:lnTo>
                      <a:pt x="28" y="37"/>
                    </a:lnTo>
                    <a:lnTo>
                      <a:pt x="26" y="33"/>
                    </a:lnTo>
                    <a:lnTo>
                      <a:pt x="29" y="28"/>
                    </a:lnTo>
                    <a:lnTo>
                      <a:pt x="33" y="23"/>
                    </a:lnTo>
                    <a:lnTo>
                      <a:pt x="37" y="19"/>
                    </a:lnTo>
                    <a:lnTo>
                      <a:pt x="33" y="12"/>
                    </a:lnTo>
                    <a:lnTo>
                      <a:pt x="37" y="4"/>
                    </a:lnTo>
                    <a:lnTo>
                      <a:pt x="47" y="0"/>
                    </a:lnTo>
                    <a:lnTo>
                      <a:pt x="60" y="2"/>
                    </a:lnTo>
                    <a:lnTo>
                      <a:pt x="69" y="11"/>
                    </a:lnTo>
                    <a:lnTo>
                      <a:pt x="66" y="20"/>
                    </a:lnTo>
                    <a:lnTo>
                      <a:pt x="59" y="26"/>
                    </a:lnTo>
                    <a:lnTo>
                      <a:pt x="50" y="26"/>
                    </a:lnTo>
                    <a:lnTo>
                      <a:pt x="47" y="29"/>
                    </a:lnTo>
                    <a:lnTo>
                      <a:pt x="43" y="32"/>
                    </a:lnTo>
                    <a:lnTo>
                      <a:pt x="42" y="36"/>
                    </a:lnTo>
                    <a:lnTo>
                      <a:pt x="46" y="40"/>
                    </a:lnTo>
                    <a:lnTo>
                      <a:pt x="51" y="46"/>
                    </a:lnTo>
                    <a:lnTo>
                      <a:pt x="52" y="52"/>
                    </a:lnTo>
                    <a:lnTo>
                      <a:pt x="50" y="58"/>
                    </a:lnTo>
                    <a:lnTo>
                      <a:pt x="46" y="63"/>
                    </a:lnTo>
                    <a:lnTo>
                      <a:pt x="39" y="69"/>
                    </a:lnTo>
                    <a:lnTo>
                      <a:pt x="30" y="72"/>
                    </a:lnTo>
                    <a:lnTo>
                      <a:pt x="22" y="72"/>
                    </a:lnTo>
                    <a:lnTo>
                      <a:pt x="13" y="70"/>
                    </a:lnTo>
                    <a:lnTo>
                      <a:pt x="2" y="60"/>
                    </a:lnTo>
                    <a:lnTo>
                      <a:pt x="0" y="51"/>
                    </a:lnTo>
                    <a:lnTo>
                      <a:pt x="6" y="45"/>
                    </a:lnTo>
                    <a:lnTo>
                      <a:pt x="1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8891000">
                <a:off x="4065120" y="55555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4" y="12"/>
                    </a:moveTo>
                    <a:lnTo>
                      <a:pt x="6" y="13"/>
                    </a:lnTo>
                    <a:lnTo>
                      <a:pt x="10" y="13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5"/>
                    </a:lnTo>
                    <a:lnTo>
                      <a:pt x="14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8891000">
                <a:off x="3906000" y="5015880"/>
                <a:ext cx="676440" cy="469080"/>
              </a:xfrm>
              <a:custGeom>
                <a:avLst/>
                <a:gdLst/>
                <a:ahLst/>
                <a:rect l="l" t="t" r="r" b="b"/>
                <a:pathLst>
                  <a:path w="1528" h="646">
                    <a:moveTo>
                      <a:pt x="349" y="377"/>
                    </a:moveTo>
                    <a:lnTo>
                      <a:pt x="353" y="365"/>
                    </a:lnTo>
                    <a:lnTo>
                      <a:pt x="344" y="335"/>
                    </a:lnTo>
                    <a:lnTo>
                      <a:pt x="326" y="292"/>
                    </a:lnTo>
                    <a:lnTo>
                      <a:pt x="301" y="239"/>
                    </a:lnTo>
                    <a:lnTo>
                      <a:pt x="273" y="184"/>
                    </a:lnTo>
                    <a:lnTo>
                      <a:pt x="247" y="132"/>
                    </a:lnTo>
                    <a:lnTo>
                      <a:pt x="223" y="88"/>
                    </a:lnTo>
                    <a:lnTo>
                      <a:pt x="208" y="59"/>
                    </a:lnTo>
                    <a:lnTo>
                      <a:pt x="200" y="39"/>
                    </a:lnTo>
                    <a:lnTo>
                      <a:pt x="199" y="24"/>
                    </a:lnTo>
                    <a:lnTo>
                      <a:pt x="204" y="11"/>
                    </a:lnTo>
                    <a:lnTo>
                      <a:pt x="213" y="4"/>
                    </a:lnTo>
                    <a:lnTo>
                      <a:pt x="225" y="0"/>
                    </a:lnTo>
                    <a:lnTo>
                      <a:pt x="239" y="1"/>
                    </a:lnTo>
                    <a:lnTo>
                      <a:pt x="254" y="6"/>
                    </a:lnTo>
                    <a:lnTo>
                      <a:pt x="270" y="17"/>
                    </a:lnTo>
                    <a:lnTo>
                      <a:pt x="282" y="29"/>
                    </a:lnTo>
                    <a:lnTo>
                      <a:pt x="298" y="45"/>
                    </a:lnTo>
                    <a:lnTo>
                      <a:pt x="319" y="67"/>
                    </a:lnTo>
                    <a:lnTo>
                      <a:pt x="342" y="92"/>
                    </a:lnTo>
                    <a:lnTo>
                      <a:pt x="368" y="121"/>
                    </a:lnTo>
                    <a:lnTo>
                      <a:pt x="395" y="151"/>
                    </a:lnTo>
                    <a:lnTo>
                      <a:pt x="425" y="182"/>
                    </a:lnTo>
                    <a:lnTo>
                      <a:pt x="455" y="215"/>
                    </a:lnTo>
                    <a:lnTo>
                      <a:pt x="483" y="246"/>
                    </a:lnTo>
                    <a:lnTo>
                      <a:pt x="512" y="276"/>
                    </a:lnTo>
                    <a:lnTo>
                      <a:pt x="539" y="303"/>
                    </a:lnTo>
                    <a:lnTo>
                      <a:pt x="563" y="328"/>
                    </a:lnTo>
                    <a:lnTo>
                      <a:pt x="585" y="348"/>
                    </a:lnTo>
                    <a:lnTo>
                      <a:pt x="603" y="363"/>
                    </a:lnTo>
                    <a:lnTo>
                      <a:pt x="618" y="374"/>
                    </a:lnTo>
                    <a:lnTo>
                      <a:pt x="627" y="377"/>
                    </a:lnTo>
                    <a:lnTo>
                      <a:pt x="642" y="377"/>
                    </a:lnTo>
                    <a:lnTo>
                      <a:pt x="650" y="377"/>
                    </a:lnTo>
                    <a:lnTo>
                      <a:pt x="655" y="376"/>
                    </a:lnTo>
                    <a:lnTo>
                      <a:pt x="660" y="374"/>
                    </a:lnTo>
                    <a:lnTo>
                      <a:pt x="691" y="351"/>
                    </a:lnTo>
                    <a:lnTo>
                      <a:pt x="712" y="319"/>
                    </a:lnTo>
                    <a:lnTo>
                      <a:pt x="725" y="282"/>
                    </a:lnTo>
                    <a:lnTo>
                      <a:pt x="734" y="243"/>
                    </a:lnTo>
                    <a:lnTo>
                      <a:pt x="740" y="204"/>
                    </a:lnTo>
                    <a:lnTo>
                      <a:pt x="752" y="171"/>
                    </a:lnTo>
                    <a:lnTo>
                      <a:pt x="769" y="146"/>
                    </a:lnTo>
                    <a:lnTo>
                      <a:pt x="795" y="134"/>
                    </a:lnTo>
                    <a:lnTo>
                      <a:pt x="818" y="132"/>
                    </a:lnTo>
                    <a:lnTo>
                      <a:pt x="840" y="130"/>
                    </a:lnTo>
                    <a:lnTo>
                      <a:pt x="862" y="127"/>
                    </a:lnTo>
                    <a:lnTo>
                      <a:pt x="883" y="125"/>
                    </a:lnTo>
                    <a:lnTo>
                      <a:pt x="903" y="124"/>
                    </a:lnTo>
                    <a:lnTo>
                      <a:pt x="923" y="124"/>
                    </a:lnTo>
                    <a:lnTo>
                      <a:pt x="942" y="124"/>
                    </a:lnTo>
                    <a:lnTo>
                      <a:pt x="960" y="124"/>
                    </a:lnTo>
                    <a:lnTo>
                      <a:pt x="978" y="126"/>
                    </a:lnTo>
                    <a:lnTo>
                      <a:pt x="996" y="128"/>
                    </a:lnTo>
                    <a:lnTo>
                      <a:pt x="1013" y="132"/>
                    </a:lnTo>
                    <a:lnTo>
                      <a:pt x="1030" y="136"/>
                    </a:lnTo>
                    <a:lnTo>
                      <a:pt x="1046" y="141"/>
                    </a:lnTo>
                    <a:lnTo>
                      <a:pt x="1062" y="147"/>
                    </a:lnTo>
                    <a:lnTo>
                      <a:pt x="1077" y="154"/>
                    </a:lnTo>
                    <a:lnTo>
                      <a:pt x="1092" y="163"/>
                    </a:lnTo>
                    <a:lnTo>
                      <a:pt x="1113" y="180"/>
                    </a:lnTo>
                    <a:lnTo>
                      <a:pt x="1130" y="201"/>
                    </a:lnTo>
                    <a:lnTo>
                      <a:pt x="1145" y="224"/>
                    </a:lnTo>
                    <a:lnTo>
                      <a:pt x="1158" y="247"/>
                    </a:lnTo>
                    <a:lnTo>
                      <a:pt x="1170" y="270"/>
                    </a:lnTo>
                    <a:lnTo>
                      <a:pt x="1180" y="288"/>
                    </a:lnTo>
                    <a:lnTo>
                      <a:pt x="1188" y="304"/>
                    </a:lnTo>
                    <a:lnTo>
                      <a:pt x="1197" y="312"/>
                    </a:lnTo>
                    <a:lnTo>
                      <a:pt x="1210" y="319"/>
                    </a:lnTo>
                    <a:lnTo>
                      <a:pt x="1224" y="323"/>
                    </a:lnTo>
                    <a:lnTo>
                      <a:pt x="1242" y="327"/>
                    </a:lnTo>
                    <a:lnTo>
                      <a:pt x="1260" y="329"/>
                    </a:lnTo>
                    <a:lnTo>
                      <a:pt x="1281" y="331"/>
                    </a:lnTo>
                    <a:lnTo>
                      <a:pt x="1301" y="333"/>
                    </a:lnTo>
                    <a:lnTo>
                      <a:pt x="1323" y="335"/>
                    </a:lnTo>
                    <a:lnTo>
                      <a:pt x="1345" y="336"/>
                    </a:lnTo>
                    <a:lnTo>
                      <a:pt x="1366" y="339"/>
                    </a:lnTo>
                    <a:lnTo>
                      <a:pt x="1387" y="343"/>
                    </a:lnTo>
                    <a:lnTo>
                      <a:pt x="1406" y="348"/>
                    </a:lnTo>
                    <a:lnTo>
                      <a:pt x="1424" y="354"/>
                    </a:lnTo>
                    <a:lnTo>
                      <a:pt x="1440" y="362"/>
                    </a:lnTo>
                    <a:lnTo>
                      <a:pt x="1453" y="374"/>
                    </a:lnTo>
                    <a:lnTo>
                      <a:pt x="1463" y="386"/>
                    </a:lnTo>
                    <a:lnTo>
                      <a:pt x="1471" y="402"/>
                    </a:lnTo>
                    <a:lnTo>
                      <a:pt x="1476" y="400"/>
                    </a:lnTo>
                    <a:lnTo>
                      <a:pt x="1485" y="399"/>
                    </a:lnTo>
                    <a:lnTo>
                      <a:pt x="1494" y="399"/>
                    </a:lnTo>
                    <a:lnTo>
                      <a:pt x="1503" y="400"/>
                    </a:lnTo>
                    <a:lnTo>
                      <a:pt x="1512" y="403"/>
                    </a:lnTo>
                    <a:lnTo>
                      <a:pt x="1520" y="406"/>
                    </a:lnTo>
                    <a:lnTo>
                      <a:pt x="1525" y="412"/>
                    </a:lnTo>
                    <a:lnTo>
                      <a:pt x="1526" y="419"/>
                    </a:lnTo>
                    <a:lnTo>
                      <a:pt x="1526" y="433"/>
                    </a:lnTo>
                    <a:lnTo>
                      <a:pt x="1528" y="453"/>
                    </a:lnTo>
                    <a:lnTo>
                      <a:pt x="1528" y="476"/>
                    </a:lnTo>
                    <a:lnTo>
                      <a:pt x="1526" y="500"/>
                    </a:lnTo>
                    <a:lnTo>
                      <a:pt x="1522" y="524"/>
                    </a:lnTo>
                    <a:lnTo>
                      <a:pt x="1516" y="544"/>
                    </a:lnTo>
                    <a:lnTo>
                      <a:pt x="1506" y="558"/>
                    </a:lnTo>
                    <a:lnTo>
                      <a:pt x="1490" y="564"/>
                    </a:lnTo>
                    <a:lnTo>
                      <a:pt x="1501" y="578"/>
                    </a:lnTo>
                    <a:lnTo>
                      <a:pt x="1502" y="595"/>
                    </a:lnTo>
                    <a:lnTo>
                      <a:pt x="1494" y="610"/>
                    </a:lnTo>
                    <a:lnTo>
                      <a:pt x="1479" y="624"/>
                    </a:lnTo>
                    <a:lnTo>
                      <a:pt x="1458" y="635"/>
                    </a:lnTo>
                    <a:lnTo>
                      <a:pt x="1433" y="642"/>
                    </a:lnTo>
                    <a:lnTo>
                      <a:pt x="1406" y="643"/>
                    </a:lnTo>
                    <a:lnTo>
                      <a:pt x="1376" y="636"/>
                    </a:lnTo>
                    <a:lnTo>
                      <a:pt x="1369" y="637"/>
                    </a:lnTo>
                    <a:lnTo>
                      <a:pt x="1361" y="637"/>
                    </a:lnTo>
                    <a:lnTo>
                      <a:pt x="1352" y="637"/>
                    </a:lnTo>
                    <a:lnTo>
                      <a:pt x="1344" y="637"/>
                    </a:lnTo>
                    <a:lnTo>
                      <a:pt x="1336" y="636"/>
                    </a:lnTo>
                    <a:lnTo>
                      <a:pt x="1330" y="636"/>
                    </a:lnTo>
                    <a:lnTo>
                      <a:pt x="1326" y="635"/>
                    </a:lnTo>
                    <a:lnTo>
                      <a:pt x="1325" y="635"/>
                    </a:lnTo>
                    <a:lnTo>
                      <a:pt x="1329" y="610"/>
                    </a:lnTo>
                    <a:lnTo>
                      <a:pt x="1327" y="589"/>
                    </a:lnTo>
                    <a:lnTo>
                      <a:pt x="1322" y="570"/>
                    </a:lnTo>
                    <a:lnTo>
                      <a:pt x="1312" y="554"/>
                    </a:lnTo>
                    <a:lnTo>
                      <a:pt x="1298" y="541"/>
                    </a:lnTo>
                    <a:lnTo>
                      <a:pt x="1282" y="530"/>
                    </a:lnTo>
                    <a:lnTo>
                      <a:pt x="1265" y="522"/>
                    </a:lnTo>
                    <a:lnTo>
                      <a:pt x="1248" y="517"/>
                    </a:lnTo>
                    <a:lnTo>
                      <a:pt x="1224" y="513"/>
                    </a:lnTo>
                    <a:lnTo>
                      <a:pt x="1198" y="514"/>
                    </a:lnTo>
                    <a:lnTo>
                      <a:pt x="1171" y="519"/>
                    </a:lnTo>
                    <a:lnTo>
                      <a:pt x="1142" y="529"/>
                    </a:lnTo>
                    <a:lnTo>
                      <a:pt x="1117" y="545"/>
                    </a:lnTo>
                    <a:lnTo>
                      <a:pt x="1091" y="568"/>
                    </a:lnTo>
                    <a:lnTo>
                      <a:pt x="1066" y="598"/>
                    </a:lnTo>
                    <a:lnTo>
                      <a:pt x="1044" y="635"/>
                    </a:lnTo>
                    <a:lnTo>
                      <a:pt x="1036" y="636"/>
                    </a:lnTo>
                    <a:lnTo>
                      <a:pt x="1021" y="637"/>
                    </a:lnTo>
                    <a:lnTo>
                      <a:pt x="998" y="638"/>
                    </a:lnTo>
                    <a:lnTo>
                      <a:pt x="968" y="639"/>
                    </a:lnTo>
                    <a:lnTo>
                      <a:pt x="933" y="641"/>
                    </a:lnTo>
                    <a:lnTo>
                      <a:pt x="894" y="641"/>
                    </a:lnTo>
                    <a:lnTo>
                      <a:pt x="854" y="642"/>
                    </a:lnTo>
                    <a:lnTo>
                      <a:pt x="812" y="642"/>
                    </a:lnTo>
                    <a:lnTo>
                      <a:pt x="769" y="642"/>
                    </a:lnTo>
                    <a:lnTo>
                      <a:pt x="729" y="642"/>
                    </a:lnTo>
                    <a:lnTo>
                      <a:pt x="690" y="641"/>
                    </a:lnTo>
                    <a:lnTo>
                      <a:pt x="656" y="641"/>
                    </a:lnTo>
                    <a:lnTo>
                      <a:pt x="627" y="639"/>
                    </a:lnTo>
                    <a:lnTo>
                      <a:pt x="605" y="638"/>
                    </a:lnTo>
                    <a:lnTo>
                      <a:pt x="589" y="637"/>
                    </a:lnTo>
                    <a:lnTo>
                      <a:pt x="583" y="636"/>
                    </a:lnTo>
                    <a:lnTo>
                      <a:pt x="588" y="610"/>
                    </a:lnTo>
                    <a:lnTo>
                      <a:pt x="589" y="588"/>
                    </a:lnTo>
                    <a:lnTo>
                      <a:pt x="585" y="568"/>
                    </a:lnTo>
                    <a:lnTo>
                      <a:pt x="578" y="552"/>
                    </a:lnTo>
                    <a:lnTo>
                      <a:pt x="569" y="540"/>
                    </a:lnTo>
                    <a:lnTo>
                      <a:pt x="557" y="529"/>
                    </a:lnTo>
                    <a:lnTo>
                      <a:pt x="544" y="522"/>
                    </a:lnTo>
                    <a:lnTo>
                      <a:pt x="531" y="517"/>
                    </a:lnTo>
                    <a:lnTo>
                      <a:pt x="523" y="515"/>
                    </a:lnTo>
                    <a:lnTo>
                      <a:pt x="516" y="513"/>
                    </a:lnTo>
                    <a:lnTo>
                      <a:pt x="504" y="511"/>
                    </a:lnTo>
                    <a:lnTo>
                      <a:pt x="492" y="509"/>
                    </a:lnTo>
                    <a:lnTo>
                      <a:pt x="479" y="509"/>
                    </a:lnTo>
                    <a:lnTo>
                      <a:pt x="465" y="509"/>
                    </a:lnTo>
                    <a:lnTo>
                      <a:pt x="450" y="511"/>
                    </a:lnTo>
                    <a:lnTo>
                      <a:pt x="433" y="514"/>
                    </a:lnTo>
                    <a:lnTo>
                      <a:pt x="416" y="519"/>
                    </a:lnTo>
                    <a:lnTo>
                      <a:pt x="399" y="527"/>
                    </a:lnTo>
                    <a:lnTo>
                      <a:pt x="381" y="538"/>
                    </a:lnTo>
                    <a:lnTo>
                      <a:pt x="362" y="551"/>
                    </a:lnTo>
                    <a:lnTo>
                      <a:pt x="344" y="568"/>
                    </a:lnTo>
                    <a:lnTo>
                      <a:pt x="326" y="588"/>
                    </a:lnTo>
                    <a:lnTo>
                      <a:pt x="306" y="612"/>
                    </a:lnTo>
                    <a:lnTo>
                      <a:pt x="288" y="641"/>
                    </a:lnTo>
                    <a:lnTo>
                      <a:pt x="283" y="641"/>
                    </a:lnTo>
                    <a:lnTo>
                      <a:pt x="274" y="642"/>
                    </a:lnTo>
                    <a:lnTo>
                      <a:pt x="260" y="643"/>
                    </a:lnTo>
                    <a:lnTo>
                      <a:pt x="243" y="643"/>
                    </a:lnTo>
                    <a:lnTo>
                      <a:pt x="222" y="644"/>
                    </a:lnTo>
                    <a:lnTo>
                      <a:pt x="200" y="644"/>
                    </a:lnTo>
                    <a:lnTo>
                      <a:pt x="176" y="645"/>
                    </a:lnTo>
                    <a:lnTo>
                      <a:pt x="152" y="645"/>
                    </a:lnTo>
                    <a:lnTo>
                      <a:pt x="128" y="646"/>
                    </a:lnTo>
                    <a:lnTo>
                      <a:pt x="105" y="646"/>
                    </a:lnTo>
                    <a:lnTo>
                      <a:pt x="81" y="646"/>
                    </a:lnTo>
                    <a:lnTo>
                      <a:pt x="62" y="646"/>
                    </a:lnTo>
                    <a:lnTo>
                      <a:pt x="45" y="646"/>
                    </a:lnTo>
                    <a:lnTo>
                      <a:pt x="31" y="646"/>
                    </a:lnTo>
                    <a:lnTo>
                      <a:pt x="22" y="645"/>
                    </a:lnTo>
                    <a:lnTo>
                      <a:pt x="17" y="644"/>
                    </a:lnTo>
                    <a:lnTo>
                      <a:pt x="8" y="628"/>
                    </a:lnTo>
                    <a:lnTo>
                      <a:pt x="1" y="598"/>
                    </a:lnTo>
                    <a:lnTo>
                      <a:pt x="0" y="567"/>
                    </a:lnTo>
                    <a:lnTo>
                      <a:pt x="8" y="544"/>
                    </a:lnTo>
                    <a:lnTo>
                      <a:pt x="11" y="541"/>
                    </a:lnTo>
                    <a:lnTo>
                      <a:pt x="17" y="540"/>
                    </a:lnTo>
                    <a:lnTo>
                      <a:pt x="22" y="539"/>
                    </a:lnTo>
                    <a:lnTo>
                      <a:pt x="28" y="538"/>
                    </a:lnTo>
                    <a:lnTo>
                      <a:pt x="33" y="538"/>
                    </a:lnTo>
                    <a:lnTo>
                      <a:pt x="40" y="539"/>
                    </a:lnTo>
                    <a:lnTo>
                      <a:pt x="45" y="539"/>
                    </a:lnTo>
                    <a:lnTo>
                      <a:pt x="50" y="539"/>
                    </a:lnTo>
                    <a:lnTo>
                      <a:pt x="54" y="526"/>
                    </a:lnTo>
                    <a:lnTo>
                      <a:pt x="63" y="509"/>
                    </a:lnTo>
                    <a:lnTo>
                      <a:pt x="75" y="488"/>
                    </a:lnTo>
                    <a:lnTo>
                      <a:pt x="92" y="465"/>
                    </a:lnTo>
                    <a:lnTo>
                      <a:pt x="108" y="442"/>
                    </a:lnTo>
                    <a:lnTo>
                      <a:pt x="127" y="421"/>
                    </a:lnTo>
                    <a:lnTo>
                      <a:pt x="146" y="404"/>
                    </a:lnTo>
                    <a:lnTo>
                      <a:pt x="163" y="392"/>
                    </a:lnTo>
                    <a:lnTo>
                      <a:pt x="174" y="388"/>
                    </a:lnTo>
                    <a:lnTo>
                      <a:pt x="190" y="384"/>
                    </a:lnTo>
                    <a:lnTo>
                      <a:pt x="208" y="382"/>
                    </a:lnTo>
                    <a:lnTo>
                      <a:pt x="230" y="380"/>
                    </a:lnTo>
                    <a:lnTo>
                      <a:pt x="256" y="378"/>
                    </a:lnTo>
                    <a:lnTo>
                      <a:pt x="284" y="378"/>
                    </a:lnTo>
                    <a:lnTo>
                      <a:pt x="315" y="377"/>
                    </a:lnTo>
                    <a:lnTo>
                      <a:pt x="349" y="3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8891000">
                <a:off x="3977640" y="5113080"/>
                <a:ext cx="602280" cy="332280"/>
              </a:xfrm>
              <a:custGeom>
                <a:avLst/>
                <a:gdLst/>
                <a:ahLst/>
                <a:rect l="l" t="t" r="r" b="b"/>
                <a:pathLst>
                  <a:path w="1362" h="458">
                    <a:moveTo>
                      <a:pt x="1013" y="92"/>
                    </a:moveTo>
                    <a:lnTo>
                      <a:pt x="1008" y="80"/>
                    </a:lnTo>
                    <a:lnTo>
                      <a:pt x="1006" y="70"/>
                    </a:lnTo>
                    <a:lnTo>
                      <a:pt x="1002" y="61"/>
                    </a:lnTo>
                    <a:lnTo>
                      <a:pt x="999" y="52"/>
                    </a:lnTo>
                    <a:lnTo>
                      <a:pt x="995" y="45"/>
                    </a:lnTo>
                    <a:lnTo>
                      <a:pt x="989" y="37"/>
                    </a:lnTo>
                    <a:lnTo>
                      <a:pt x="978" y="30"/>
                    </a:lnTo>
                    <a:lnTo>
                      <a:pt x="965" y="20"/>
                    </a:lnTo>
                    <a:lnTo>
                      <a:pt x="958" y="17"/>
                    </a:lnTo>
                    <a:lnTo>
                      <a:pt x="946" y="13"/>
                    </a:lnTo>
                    <a:lnTo>
                      <a:pt x="933" y="11"/>
                    </a:lnTo>
                    <a:lnTo>
                      <a:pt x="918" y="8"/>
                    </a:lnTo>
                    <a:lnTo>
                      <a:pt x="901" y="6"/>
                    </a:lnTo>
                    <a:lnTo>
                      <a:pt x="883" y="4"/>
                    </a:lnTo>
                    <a:lnTo>
                      <a:pt x="863" y="3"/>
                    </a:lnTo>
                    <a:lnTo>
                      <a:pt x="844" y="1"/>
                    </a:lnTo>
                    <a:lnTo>
                      <a:pt x="825" y="0"/>
                    </a:lnTo>
                    <a:lnTo>
                      <a:pt x="805" y="0"/>
                    </a:lnTo>
                    <a:lnTo>
                      <a:pt x="787" y="0"/>
                    </a:lnTo>
                    <a:lnTo>
                      <a:pt x="769" y="1"/>
                    </a:lnTo>
                    <a:lnTo>
                      <a:pt x="753" y="3"/>
                    </a:lnTo>
                    <a:lnTo>
                      <a:pt x="739" y="4"/>
                    </a:lnTo>
                    <a:lnTo>
                      <a:pt x="728" y="6"/>
                    </a:lnTo>
                    <a:lnTo>
                      <a:pt x="719" y="9"/>
                    </a:lnTo>
                    <a:lnTo>
                      <a:pt x="710" y="15"/>
                    </a:lnTo>
                    <a:lnTo>
                      <a:pt x="702" y="24"/>
                    </a:lnTo>
                    <a:lnTo>
                      <a:pt x="694" y="38"/>
                    </a:lnTo>
                    <a:lnTo>
                      <a:pt x="689" y="54"/>
                    </a:lnTo>
                    <a:lnTo>
                      <a:pt x="684" y="73"/>
                    </a:lnTo>
                    <a:lnTo>
                      <a:pt x="680" y="94"/>
                    </a:lnTo>
                    <a:lnTo>
                      <a:pt x="677" y="115"/>
                    </a:lnTo>
                    <a:lnTo>
                      <a:pt x="676" y="138"/>
                    </a:lnTo>
                    <a:lnTo>
                      <a:pt x="673" y="158"/>
                    </a:lnTo>
                    <a:lnTo>
                      <a:pt x="669" y="177"/>
                    </a:lnTo>
                    <a:lnTo>
                      <a:pt x="663" y="195"/>
                    </a:lnTo>
                    <a:lnTo>
                      <a:pt x="657" y="210"/>
                    </a:lnTo>
                    <a:lnTo>
                      <a:pt x="647" y="224"/>
                    </a:lnTo>
                    <a:lnTo>
                      <a:pt x="638" y="235"/>
                    </a:lnTo>
                    <a:lnTo>
                      <a:pt x="629" y="242"/>
                    </a:lnTo>
                    <a:lnTo>
                      <a:pt x="619" y="246"/>
                    </a:lnTo>
                    <a:lnTo>
                      <a:pt x="598" y="248"/>
                    </a:lnTo>
                    <a:lnTo>
                      <a:pt x="579" y="250"/>
                    </a:lnTo>
                    <a:lnTo>
                      <a:pt x="560" y="250"/>
                    </a:lnTo>
                    <a:lnTo>
                      <a:pt x="540" y="249"/>
                    </a:lnTo>
                    <a:lnTo>
                      <a:pt x="522" y="247"/>
                    </a:lnTo>
                    <a:lnTo>
                      <a:pt x="504" y="245"/>
                    </a:lnTo>
                    <a:lnTo>
                      <a:pt x="486" y="242"/>
                    </a:lnTo>
                    <a:lnTo>
                      <a:pt x="469" y="240"/>
                    </a:lnTo>
                    <a:lnTo>
                      <a:pt x="451" y="237"/>
                    </a:lnTo>
                    <a:lnTo>
                      <a:pt x="434" y="236"/>
                    </a:lnTo>
                    <a:lnTo>
                      <a:pt x="416" y="234"/>
                    </a:lnTo>
                    <a:lnTo>
                      <a:pt x="398" y="234"/>
                    </a:lnTo>
                    <a:lnTo>
                      <a:pt x="380" y="234"/>
                    </a:lnTo>
                    <a:lnTo>
                      <a:pt x="361" y="236"/>
                    </a:lnTo>
                    <a:lnTo>
                      <a:pt x="341" y="239"/>
                    </a:lnTo>
                    <a:lnTo>
                      <a:pt x="322" y="245"/>
                    </a:lnTo>
                    <a:lnTo>
                      <a:pt x="311" y="247"/>
                    </a:lnTo>
                    <a:lnTo>
                      <a:pt x="300" y="248"/>
                    </a:lnTo>
                    <a:lnTo>
                      <a:pt x="287" y="249"/>
                    </a:lnTo>
                    <a:lnTo>
                      <a:pt x="271" y="249"/>
                    </a:lnTo>
                    <a:lnTo>
                      <a:pt x="256" y="249"/>
                    </a:lnTo>
                    <a:lnTo>
                      <a:pt x="240" y="249"/>
                    </a:lnTo>
                    <a:lnTo>
                      <a:pt x="224" y="248"/>
                    </a:lnTo>
                    <a:lnTo>
                      <a:pt x="205" y="248"/>
                    </a:lnTo>
                    <a:lnTo>
                      <a:pt x="189" y="248"/>
                    </a:lnTo>
                    <a:lnTo>
                      <a:pt x="172" y="248"/>
                    </a:lnTo>
                    <a:lnTo>
                      <a:pt x="155" y="249"/>
                    </a:lnTo>
                    <a:lnTo>
                      <a:pt x="140" y="250"/>
                    </a:lnTo>
                    <a:lnTo>
                      <a:pt x="125" y="252"/>
                    </a:lnTo>
                    <a:lnTo>
                      <a:pt x="111" y="254"/>
                    </a:lnTo>
                    <a:lnTo>
                      <a:pt x="99" y="258"/>
                    </a:lnTo>
                    <a:lnTo>
                      <a:pt x="89" y="263"/>
                    </a:lnTo>
                    <a:lnTo>
                      <a:pt x="75" y="275"/>
                    </a:lnTo>
                    <a:lnTo>
                      <a:pt x="62" y="288"/>
                    </a:lnTo>
                    <a:lnTo>
                      <a:pt x="52" y="304"/>
                    </a:lnTo>
                    <a:lnTo>
                      <a:pt x="41" y="320"/>
                    </a:lnTo>
                    <a:lnTo>
                      <a:pt x="32" y="337"/>
                    </a:lnTo>
                    <a:lnTo>
                      <a:pt x="22" y="354"/>
                    </a:lnTo>
                    <a:lnTo>
                      <a:pt x="12" y="369"/>
                    </a:lnTo>
                    <a:lnTo>
                      <a:pt x="0" y="383"/>
                    </a:lnTo>
                    <a:lnTo>
                      <a:pt x="21" y="384"/>
                    </a:lnTo>
                    <a:lnTo>
                      <a:pt x="35" y="386"/>
                    </a:lnTo>
                    <a:lnTo>
                      <a:pt x="45" y="391"/>
                    </a:lnTo>
                    <a:lnTo>
                      <a:pt x="52" y="396"/>
                    </a:lnTo>
                    <a:lnTo>
                      <a:pt x="56" y="402"/>
                    </a:lnTo>
                    <a:lnTo>
                      <a:pt x="58" y="411"/>
                    </a:lnTo>
                    <a:lnTo>
                      <a:pt x="59" y="419"/>
                    </a:lnTo>
                    <a:lnTo>
                      <a:pt x="61" y="427"/>
                    </a:lnTo>
                    <a:lnTo>
                      <a:pt x="63" y="433"/>
                    </a:lnTo>
                    <a:lnTo>
                      <a:pt x="70" y="436"/>
                    </a:lnTo>
                    <a:lnTo>
                      <a:pt x="80" y="438"/>
                    </a:lnTo>
                    <a:lnTo>
                      <a:pt x="93" y="438"/>
                    </a:lnTo>
                    <a:lnTo>
                      <a:pt x="105" y="438"/>
                    </a:lnTo>
                    <a:lnTo>
                      <a:pt x="116" y="437"/>
                    </a:lnTo>
                    <a:lnTo>
                      <a:pt x="127" y="435"/>
                    </a:lnTo>
                    <a:lnTo>
                      <a:pt x="133" y="431"/>
                    </a:lnTo>
                    <a:lnTo>
                      <a:pt x="136" y="428"/>
                    </a:lnTo>
                    <a:lnTo>
                      <a:pt x="141" y="423"/>
                    </a:lnTo>
                    <a:lnTo>
                      <a:pt x="147" y="416"/>
                    </a:lnTo>
                    <a:lnTo>
                      <a:pt x="156" y="409"/>
                    </a:lnTo>
                    <a:lnTo>
                      <a:pt x="167" y="399"/>
                    </a:lnTo>
                    <a:lnTo>
                      <a:pt x="180" y="390"/>
                    </a:lnTo>
                    <a:lnTo>
                      <a:pt x="194" y="381"/>
                    </a:lnTo>
                    <a:lnTo>
                      <a:pt x="211" y="370"/>
                    </a:lnTo>
                    <a:lnTo>
                      <a:pt x="227" y="361"/>
                    </a:lnTo>
                    <a:lnTo>
                      <a:pt x="247" y="353"/>
                    </a:lnTo>
                    <a:lnTo>
                      <a:pt x="267" y="344"/>
                    </a:lnTo>
                    <a:lnTo>
                      <a:pt x="291" y="337"/>
                    </a:lnTo>
                    <a:lnTo>
                      <a:pt x="314" y="332"/>
                    </a:lnTo>
                    <a:lnTo>
                      <a:pt x="339" y="328"/>
                    </a:lnTo>
                    <a:lnTo>
                      <a:pt x="366" y="326"/>
                    </a:lnTo>
                    <a:lnTo>
                      <a:pt x="393" y="326"/>
                    </a:lnTo>
                    <a:lnTo>
                      <a:pt x="408" y="328"/>
                    </a:lnTo>
                    <a:lnTo>
                      <a:pt x="426" y="334"/>
                    </a:lnTo>
                    <a:lnTo>
                      <a:pt x="445" y="342"/>
                    </a:lnTo>
                    <a:lnTo>
                      <a:pt x="463" y="353"/>
                    </a:lnTo>
                    <a:lnTo>
                      <a:pt x="479" y="364"/>
                    </a:lnTo>
                    <a:lnTo>
                      <a:pt x="494" y="376"/>
                    </a:lnTo>
                    <a:lnTo>
                      <a:pt x="504" y="389"/>
                    </a:lnTo>
                    <a:lnTo>
                      <a:pt x="509" y="401"/>
                    </a:lnTo>
                    <a:lnTo>
                      <a:pt x="512" y="423"/>
                    </a:lnTo>
                    <a:lnTo>
                      <a:pt x="513" y="443"/>
                    </a:lnTo>
                    <a:lnTo>
                      <a:pt x="518" y="456"/>
                    </a:lnTo>
                    <a:lnTo>
                      <a:pt x="536" y="458"/>
                    </a:lnTo>
                    <a:lnTo>
                      <a:pt x="542" y="457"/>
                    </a:lnTo>
                    <a:lnTo>
                      <a:pt x="552" y="457"/>
                    </a:lnTo>
                    <a:lnTo>
                      <a:pt x="566" y="456"/>
                    </a:lnTo>
                    <a:lnTo>
                      <a:pt x="583" y="456"/>
                    </a:lnTo>
                    <a:lnTo>
                      <a:pt x="604" y="455"/>
                    </a:lnTo>
                    <a:lnTo>
                      <a:pt x="626" y="455"/>
                    </a:lnTo>
                    <a:lnTo>
                      <a:pt x="650" y="455"/>
                    </a:lnTo>
                    <a:lnTo>
                      <a:pt x="675" y="455"/>
                    </a:lnTo>
                    <a:lnTo>
                      <a:pt x="699" y="455"/>
                    </a:lnTo>
                    <a:lnTo>
                      <a:pt x="722" y="455"/>
                    </a:lnTo>
                    <a:lnTo>
                      <a:pt x="746" y="455"/>
                    </a:lnTo>
                    <a:lnTo>
                      <a:pt x="768" y="455"/>
                    </a:lnTo>
                    <a:lnTo>
                      <a:pt x="787" y="456"/>
                    </a:lnTo>
                    <a:lnTo>
                      <a:pt x="803" y="456"/>
                    </a:lnTo>
                    <a:lnTo>
                      <a:pt x="816" y="457"/>
                    </a:lnTo>
                    <a:lnTo>
                      <a:pt x="823" y="458"/>
                    </a:lnTo>
                    <a:lnTo>
                      <a:pt x="844" y="455"/>
                    </a:lnTo>
                    <a:lnTo>
                      <a:pt x="862" y="448"/>
                    </a:lnTo>
                    <a:lnTo>
                      <a:pt x="880" y="436"/>
                    </a:lnTo>
                    <a:lnTo>
                      <a:pt x="900" y="421"/>
                    </a:lnTo>
                    <a:lnTo>
                      <a:pt x="918" y="403"/>
                    </a:lnTo>
                    <a:lnTo>
                      <a:pt x="938" y="386"/>
                    </a:lnTo>
                    <a:lnTo>
                      <a:pt x="962" y="368"/>
                    </a:lnTo>
                    <a:lnTo>
                      <a:pt x="987" y="350"/>
                    </a:lnTo>
                    <a:lnTo>
                      <a:pt x="996" y="345"/>
                    </a:lnTo>
                    <a:lnTo>
                      <a:pt x="1011" y="340"/>
                    </a:lnTo>
                    <a:lnTo>
                      <a:pt x="1028" y="334"/>
                    </a:lnTo>
                    <a:lnTo>
                      <a:pt x="1049" y="330"/>
                    </a:lnTo>
                    <a:lnTo>
                      <a:pt x="1074" y="327"/>
                    </a:lnTo>
                    <a:lnTo>
                      <a:pt x="1104" y="327"/>
                    </a:lnTo>
                    <a:lnTo>
                      <a:pt x="1136" y="329"/>
                    </a:lnTo>
                    <a:lnTo>
                      <a:pt x="1174" y="336"/>
                    </a:lnTo>
                    <a:lnTo>
                      <a:pt x="1186" y="341"/>
                    </a:lnTo>
                    <a:lnTo>
                      <a:pt x="1199" y="350"/>
                    </a:lnTo>
                    <a:lnTo>
                      <a:pt x="1214" y="363"/>
                    </a:lnTo>
                    <a:lnTo>
                      <a:pt x="1227" y="377"/>
                    </a:lnTo>
                    <a:lnTo>
                      <a:pt x="1239" y="393"/>
                    </a:lnTo>
                    <a:lnTo>
                      <a:pt x="1249" y="410"/>
                    </a:lnTo>
                    <a:lnTo>
                      <a:pt x="1256" y="424"/>
                    </a:lnTo>
                    <a:lnTo>
                      <a:pt x="1259" y="437"/>
                    </a:lnTo>
                    <a:lnTo>
                      <a:pt x="1263" y="438"/>
                    </a:lnTo>
                    <a:lnTo>
                      <a:pt x="1265" y="439"/>
                    </a:lnTo>
                    <a:lnTo>
                      <a:pt x="1268" y="440"/>
                    </a:lnTo>
                    <a:lnTo>
                      <a:pt x="1272" y="438"/>
                    </a:lnTo>
                    <a:lnTo>
                      <a:pt x="1276" y="427"/>
                    </a:lnTo>
                    <a:lnTo>
                      <a:pt x="1285" y="420"/>
                    </a:lnTo>
                    <a:lnTo>
                      <a:pt x="1296" y="415"/>
                    </a:lnTo>
                    <a:lnTo>
                      <a:pt x="1309" y="413"/>
                    </a:lnTo>
                    <a:lnTo>
                      <a:pt x="1322" y="412"/>
                    </a:lnTo>
                    <a:lnTo>
                      <a:pt x="1334" y="411"/>
                    </a:lnTo>
                    <a:lnTo>
                      <a:pt x="1342" y="411"/>
                    </a:lnTo>
                    <a:lnTo>
                      <a:pt x="1347" y="409"/>
                    </a:lnTo>
                    <a:lnTo>
                      <a:pt x="1344" y="390"/>
                    </a:lnTo>
                    <a:lnTo>
                      <a:pt x="1345" y="370"/>
                    </a:lnTo>
                    <a:lnTo>
                      <a:pt x="1349" y="350"/>
                    </a:lnTo>
                    <a:lnTo>
                      <a:pt x="1355" y="331"/>
                    </a:lnTo>
                    <a:lnTo>
                      <a:pt x="1360" y="312"/>
                    </a:lnTo>
                    <a:lnTo>
                      <a:pt x="1362" y="293"/>
                    </a:lnTo>
                    <a:lnTo>
                      <a:pt x="1361" y="275"/>
                    </a:lnTo>
                    <a:lnTo>
                      <a:pt x="1353" y="257"/>
                    </a:lnTo>
                    <a:lnTo>
                      <a:pt x="1345" y="247"/>
                    </a:lnTo>
                    <a:lnTo>
                      <a:pt x="1336" y="236"/>
                    </a:lnTo>
                    <a:lnTo>
                      <a:pt x="1324" y="227"/>
                    </a:lnTo>
                    <a:lnTo>
                      <a:pt x="1309" y="219"/>
                    </a:lnTo>
                    <a:lnTo>
                      <a:pt x="1291" y="212"/>
                    </a:lnTo>
                    <a:lnTo>
                      <a:pt x="1272" y="209"/>
                    </a:lnTo>
                    <a:lnTo>
                      <a:pt x="1250" y="207"/>
                    </a:lnTo>
                    <a:lnTo>
                      <a:pt x="1224" y="209"/>
                    </a:lnTo>
                    <a:lnTo>
                      <a:pt x="1205" y="210"/>
                    </a:lnTo>
                    <a:lnTo>
                      <a:pt x="1180" y="209"/>
                    </a:lnTo>
                    <a:lnTo>
                      <a:pt x="1153" y="205"/>
                    </a:lnTo>
                    <a:lnTo>
                      <a:pt x="1126" y="200"/>
                    </a:lnTo>
                    <a:lnTo>
                      <a:pt x="1100" y="194"/>
                    </a:lnTo>
                    <a:lnTo>
                      <a:pt x="1079" y="185"/>
                    </a:lnTo>
                    <a:lnTo>
                      <a:pt x="1065" y="175"/>
                    </a:lnTo>
                    <a:lnTo>
                      <a:pt x="1059" y="164"/>
                    </a:lnTo>
                    <a:lnTo>
                      <a:pt x="1057" y="153"/>
                    </a:lnTo>
                    <a:lnTo>
                      <a:pt x="1052" y="143"/>
                    </a:lnTo>
                    <a:lnTo>
                      <a:pt x="1047" y="133"/>
                    </a:lnTo>
                    <a:lnTo>
                      <a:pt x="1039" y="124"/>
                    </a:lnTo>
                    <a:lnTo>
                      <a:pt x="1031" y="116"/>
                    </a:lnTo>
                    <a:lnTo>
                      <a:pt x="1025" y="107"/>
                    </a:lnTo>
                    <a:lnTo>
                      <a:pt x="1018" y="99"/>
                    </a:lnTo>
                    <a:lnTo>
                      <a:pt x="1013" y="92"/>
                    </a:lnTo>
                    <a:close/>
                  </a:path>
                </a:pathLst>
              </a:custGeom>
              <a:solidFill>
                <a:srgbClr val="ff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8891000">
                <a:off x="4573800" y="5164200"/>
                <a:ext cx="41040" cy="36000"/>
              </a:xfrm>
              <a:custGeom>
                <a:avLst/>
                <a:gdLst/>
                <a:ahLst/>
                <a:rect l="l" t="t" r="r" b="b"/>
                <a:pathLst>
                  <a:path w="95" h="50">
                    <a:moveTo>
                      <a:pt x="92" y="0"/>
                    </a:moveTo>
                    <a:lnTo>
                      <a:pt x="79" y="5"/>
                    </a:lnTo>
                    <a:lnTo>
                      <a:pt x="66" y="7"/>
                    </a:lnTo>
                    <a:lnTo>
                      <a:pt x="54" y="8"/>
                    </a:lnTo>
                    <a:lnTo>
                      <a:pt x="43" y="9"/>
                    </a:lnTo>
                    <a:lnTo>
                      <a:pt x="31" y="9"/>
                    </a:lnTo>
                    <a:lnTo>
                      <a:pt x="21" y="10"/>
                    </a:lnTo>
                    <a:lnTo>
                      <a:pt x="13" y="14"/>
                    </a:lnTo>
                    <a:lnTo>
                      <a:pt x="5" y="19"/>
                    </a:lnTo>
                    <a:lnTo>
                      <a:pt x="0" y="29"/>
                    </a:lnTo>
                    <a:lnTo>
                      <a:pt x="3" y="38"/>
                    </a:lnTo>
                    <a:lnTo>
                      <a:pt x="11" y="45"/>
                    </a:lnTo>
                    <a:lnTo>
                      <a:pt x="21" y="49"/>
                    </a:lnTo>
                    <a:lnTo>
                      <a:pt x="44" y="50"/>
                    </a:lnTo>
                    <a:lnTo>
                      <a:pt x="62" y="48"/>
                    </a:lnTo>
                    <a:lnTo>
                      <a:pt x="76" y="42"/>
                    </a:lnTo>
                    <a:lnTo>
                      <a:pt x="85" y="34"/>
                    </a:lnTo>
                    <a:lnTo>
                      <a:pt x="91" y="25"/>
                    </a:lnTo>
                    <a:lnTo>
                      <a:pt x="95" y="16"/>
                    </a:lnTo>
                    <a:lnTo>
                      <a:pt x="95" y="7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8891000">
                <a:off x="4143960" y="5579280"/>
                <a:ext cx="43560" cy="49320"/>
              </a:xfrm>
              <a:custGeom>
                <a:avLst/>
                <a:gdLst/>
                <a:ahLst/>
                <a:rect l="l" t="t" r="r" b="b"/>
                <a:pathLst>
                  <a:path w="98" h="69">
                    <a:moveTo>
                      <a:pt x="7" y="12"/>
                    </a:moveTo>
                    <a:lnTo>
                      <a:pt x="10" y="9"/>
                    </a:lnTo>
                    <a:lnTo>
                      <a:pt x="17" y="6"/>
                    </a:lnTo>
                    <a:lnTo>
                      <a:pt x="25" y="3"/>
                    </a:lnTo>
                    <a:lnTo>
                      <a:pt x="35" y="1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5" y="0"/>
                    </a:lnTo>
                    <a:lnTo>
                      <a:pt x="74" y="1"/>
                    </a:lnTo>
                    <a:lnTo>
                      <a:pt x="91" y="13"/>
                    </a:lnTo>
                    <a:lnTo>
                      <a:pt x="97" y="34"/>
                    </a:lnTo>
                    <a:lnTo>
                      <a:pt x="98" y="53"/>
                    </a:lnTo>
                    <a:lnTo>
                      <a:pt x="97" y="63"/>
                    </a:lnTo>
                    <a:lnTo>
                      <a:pt x="89" y="65"/>
                    </a:lnTo>
                    <a:lnTo>
                      <a:pt x="78" y="67"/>
                    </a:lnTo>
                    <a:lnTo>
                      <a:pt x="65" y="68"/>
                    </a:lnTo>
                    <a:lnTo>
                      <a:pt x="51" y="69"/>
                    </a:lnTo>
                    <a:lnTo>
                      <a:pt x="36" y="69"/>
                    </a:lnTo>
                    <a:lnTo>
                      <a:pt x="23" y="68"/>
                    </a:lnTo>
                    <a:lnTo>
                      <a:pt x="13" y="68"/>
                    </a:lnTo>
                    <a:lnTo>
                      <a:pt x="7" y="66"/>
                    </a:lnTo>
                    <a:lnTo>
                      <a:pt x="1" y="56"/>
                    </a:lnTo>
                    <a:lnTo>
                      <a:pt x="0" y="40"/>
                    </a:lnTo>
                    <a:lnTo>
                      <a:pt x="3" y="2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8891000">
                <a:off x="4252320" y="5434920"/>
                <a:ext cx="112320" cy="160920"/>
              </a:xfrm>
              <a:custGeom>
                <a:avLst/>
                <a:gdLst/>
                <a:ahLst/>
                <a:rect l="l" t="t" r="r" b="b"/>
                <a:pathLst>
                  <a:path w="254" h="224">
                    <a:moveTo>
                      <a:pt x="97" y="224"/>
                    </a:moveTo>
                    <a:lnTo>
                      <a:pt x="123" y="220"/>
                    </a:lnTo>
                    <a:lnTo>
                      <a:pt x="148" y="212"/>
                    </a:lnTo>
                    <a:lnTo>
                      <a:pt x="172" y="200"/>
                    </a:lnTo>
                    <a:lnTo>
                      <a:pt x="194" y="185"/>
                    </a:lnTo>
                    <a:lnTo>
                      <a:pt x="214" y="168"/>
                    </a:lnTo>
                    <a:lnTo>
                      <a:pt x="229" y="148"/>
                    </a:lnTo>
                    <a:lnTo>
                      <a:pt x="242" y="127"/>
                    </a:lnTo>
                    <a:lnTo>
                      <a:pt x="251" y="104"/>
                    </a:lnTo>
                    <a:lnTo>
                      <a:pt x="254" y="82"/>
                    </a:lnTo>
                    <a:lnTo>
                      <a:pt x="252" y="62"/>
                    </a:lnTo>
                    <a:lnTo>
                      <a:pt x="246" y="43"/>
                    </a:lnTo>
                    <a:lnTo>
                      <a:pt x="235" y="27"/>
                    </a:lnTo>
                    <a:lnTo>
                      <a:pt x="221" y="15"/>
                    </a:lnTo>
                    <a:lnTo>
                      <a:pt x="202" y="7"/>
                    </a:lnTo>
                    <a:lnTo>
                      <a:pt x="181" y="1"/>
                    </a:lnTo>
                    <a:lnTo>
                      <a:pt x="157" y="0"/>
                    </a:lnTo>
                    <a:lnTo>
                      <a:pt x="132" y="5"/>
                    </a:lnTo>
                    <a:lnTo>
                      <a:pt x="106" y="12"/>
                    </a:lnTo>
                    <a:lnTo>
                      <a:pt x="83" y="23"/>
                    </a:lnTo>
                    <a:lnTo>
                      <a:pt x="61" y="38"/>
                    </a:lnTo>
                    <a:lnTo>
                      <a:pt x="42" y="55"/>
                    </a:lnTo>
                    <a:lnTo>
                      <a:pt x="26" y="75"/>
                    </a:lnTo>
                    <a:lnTo>
                      <a:pt x="13" y="96"/>
                    </a:lnTo>
                    <a:lnTo>
                      <a:pt x="4" y="119"/>
                    </a:lnTo>
                    <a:lnTo>
                      <a:pt x="0" y="142"/>
                    </a:lnTo>
                    <a:lnTo>
                      <a:pt x="2" y="162"/>
                    </a:lnTo>
                    <a:lnTo>
                      <a:pt x="8" y="180"/>
                    </a:lnTo>
                    <a:lnTo>
                      <a:pt x="18" y="196"/>
                    </a:lnTo>
                    <a:lnTo>
                      <a:pt x="34" y="209"/>
                    </a:lnTo>
                    <a:lnTo>
                      <a:pt x="52" y="217"/>
                    </a:lnTo>
                    <a:lnTo>
                      <a:pt x="73" y="223"/>
                    </a:lnTo>
                    <a:lnTo>
                      <a:pt x="97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8891000">
                <a:off x="4289040" y="5486400"/>
                <a:ext cx="39600" cy="56520"/>
              </a:xfrm>
              <a:custGeom>
                <a:avLst/>
                <a:gdLst/>
                <a:ahLst/>
                <a:rect l="l" t="t" r="r" b="b"/>
                <a:pathLst>
                  <a:path w="89" h="78">
                    <a:moveTo>
                      <a:pt x="34" y="78"/>
                    </a:moveTo>
                    <a:lnTo>
                      <a:pt x="43" y="77"/>
                    </a:lnTo>
                    <a:lnTo>
                      <a:pt x="50" y="74"/>
                    </a:lnTo>
                    <a:lnTo>
                      <a:pt x="59" y="70"/>
                    </a:lnTo>
                    <a:lnTo>
                      <a:pt x="67" y="65"/>
                    </a:lnTo>
                    <a:lnTo>
                      <a:pt x="74" y="58"/>
                    </a:lnTo>
                    <a:lnTo>
                      <a:pt x="80" y="51"/>
                    </a:lnTo>
                    <a:lnTo>
                      <a:pt x="84" y="44"/>
                    </a:lnTo>
                    <a:lnTo>
                      <a:pt x="88" y="35"/>
                    </a:lnTo>
                    <a:lnTo>
                      <a:pt x="89" y="28"/>
                    </a:lnTo>
                    <a:lnTo>
                      <a:pt x="88" y="21"/>
                    </a:lnTo>
                    <a:lnTo>
                      <a:pt x="87" y="15"/>
                    </a:lnTo>
                    <a:lnTo>
                      <a:pt x="83" y="9"/>
                    </a:lnTo>
                    <a:lnTo>
                      <a:pt x="78" y="5"/>
                    </a:lnTo>
                    <a:lnTo>
                      <a:pt x="71" y="2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1"/>
                    </a:lnTo>
                    <a:lnTo>
                      <a:pt x="37" y="4"/>
                    </a:lnTo>
                    <a:lnTo>
                      <a:pt x="28" y="8"/>
                    </a:lnTo>
                    <a:lnTo>
                      <a:pt x="21" y="13"/>
                    </a:lnTo>
                    <a:lnTo>
                      <a:pt x="14" y="19"/>
                    </a:lnTo>
                    <a:lnTo>
                      <a:pt x="9" y="26"/>
                    </a:lnTo>
                    <a:lnTo>
                      <a:pt x="4" y="33"/>
                    </a:lnTo>
                    <a:lnTo>
                      <a:pt x="1" y="41"/>
                    </a:lnTo>
                    <a:lnTo>
                      <a:pt x="0" y="49"/>
                    </a:lnTo>
                    <a:lnTo>
                      <a:pt x="0" y="56"/>
                    </a:lnTo>
                    <a:lnTo>
                      <a:pt x="3" y="62"/>
                    </a:lnTo>
                    <a:lnTo>
                      <a:pt x="6" y="68"/>
                    </a:lnTo>
                    <a:lnTo>
                      <a:pt x="12" y="73"/>
                    </a:lnTo>
                    <a:lnTo>
                      <a:pt x="18" y="76"/>
                    </a:lnTo>
                    <a:lnTo>
                      <a:pt x="26" y="78"/>
                    </a:lnTo>
                    <a:lnTo>
                      <a:pt x="34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8891000">
                <a:off x="4483440" y="5202720"/>
                <a:ext cx="112680" cy="160920"/>
              </a:xfrm>
              <a:custGeom>
                <a:avLst/>
                <a:gdLst/>
                <a:ahLst/>
                <a:rect l="l" t="t" r="r" b="b"/>
                <a:pathLst>
                  <a:path w="253" h="224">
                    <a:moveTo>
                      <a:pt x="97" y="224"/>
                    </a:moveTo>
                    <a:lnTo>
                      <a:pt x="123" y="220"/>
                    </a:lnTo>
                    <a:lnTo>
                      <a:pt x="147" y="212"/>
                    </a:lnTo>
                    <a:lnTo>
                      <a:pt x="170" y="200"/>
                    </a:lnTo>
                    <a:lnTo>
                      <a:pt x="192" y="185"/>
                    </a:lnTo>
                    <a:lnTo>
                      <a:pt x="212" y="168"/>
                    </a:lnTo>
                    <a:lnTo>
                      <a:pt x="229" y="148"/>
                    </a:lnTo>
                    <a:lnTo>
                      <a:pt x="242" y="127"/>
                    </a:lnTo>
                    <a:lnTo>
                      <a:pt x="249" y="104"/>
                    </a:lnTo>
                    <a:lnTo>
                      <a:pt x="253" y="82"/>
                    </a:lnTo>
                    <a:lnTo>
                      <a:pt x="252" y="62"/>
                    </a:lnTo>
                    <a:lnTo>
                      <a:pt x="245" y="43"/>
                    </a:lnTo>
                    <a:lnTo>
                      <a:pt x="235" y="27"/>
                    </a:lnTo>
                    <a:lnTo>
                      <a:pt x="221" y="15"/>
                    </a:lnTo>
                    <a:lnTo>
                      <a:pt x="202" y="7"/>
                    </a:lnTo>
                    <a:lnTo>
                      <a:pt x="181" y="1"/>
                    </a:lnTo>
                    <a:lnTo>
                      <a:pt x="156" y="0"/>
                    </a:lnTo>
                    <a:lnTo>
                      <a:pt x="130" y="5"/>
                    </a:lnTo>
                    <a:lnTo>
                      <a:pt x="106" y="12"/>
                    </a:lnTo>
                    <a:lnTo>
                      <a:pt x="83" y="23"/>
                    </a:lnTo>
                    <a:lnTo>
                      <a:pt x="61" y="38"/>
                    </a:lnTo>
                    <a:lnTo>
                      <a:pt x="41" y="55"/>
                    </a:lnTo>
                    <a:lnTo>
                      <a:pt x="24" y="75"/>
                    </a:lnTo>
                    <a:lnTo>
                      <a:pt x="12" y="96"/>
                    </a:lnTo>
                    <a:lnTo>
                      <a:pt x="4" y="119"/>
                    </a:lnTo>
                    <a:lnTo>
                      <a:pt x="0" y="142"/>
                    </a:lnTo>
                    <a:lnTo>
                      <a:pt x="1" y="162"/>
                    </a:lnTo>
                    <a:lnTo>
                      <a:pt x="8" y="180"/>
                    </a:lnTo>
                    <a:lnTo>
                      <a:pt x="18" y="196"/>
                    </a:lnTo>
                    <a:lnTo>
                      <a:pt x="33" y="209"/>
                    </a:lnTo>
                    <a:lnTo>
                      <a:pt x="52" y="217"/>
                    </a:lnTo>
                    <a:lnTo>
                      <a:pt x="72" y="223"/>
                    </a:lnTo>
                    <a:lnTo>
                      <a:pt x="97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8891000">
                <a:off x="4520520" y="5254920"/>
                <a:ext cx="38160" cy="56520"/>
              </a:xfrm>
              <a:custGeom>
                <a:avLst/>
                <a:gdLst/>
                <a:ahLst/>
                <a:rect l="l" t="t" r="r" b="b"/>
                <a:pathLst>
                  <a:path w="87" h="78">
                    <a:moveTo>
                      <a:pt x="33" y="78"/>
                    </a:moveTo>
                    <a:lnTo>
                      <a:pt x="42" y="77"/>
                    </a:lnTo>
                    <a:lnTo>
                      <a:pt x="50" y="74"/>
                    </a:lnTo>
                    <a:lnTo>
                      <a:pt x="59" y="70"/>
                    </a:lnTo>
                    <a:lnTo>
                      <a:pt x="67" y="65"/>
                    </a:lnTo>
                    <a:lnTo>
                      <a:pt x="73" y="58"/>
                    </a:lnTo>
                    <a:lnTo>
                      <a:pt x="78" y="51"/>
                    </a:lnTo>
                    <a:lnTo>
                      <a:pt x="84" y="44"/>
                    </a:lnTo>
                    <a:lnTo>
                      <a:pt x="86" y="35"/>
                    </a:lnTo>
                    <a:lnTo>
                      <a:pt x="87" y="28"/>
                    </a:lnTo>
                    <a:lnTo>
                      <a:pt x="87" y="21"/>
                    </a:lnTo>
                    <a:lnTo>
                      <a:pt x="85" y="15"/>
                    </a:lnTo>
                    <a:lnTo>
                      <a:pt x="82" y="9"/>
                    </a:lnTo>
                    <a:lnTo>
                      <a:pt x="77" y="5"/>
                    </a:lnTo>
                    <a:lnTo>
                      <a:pt x="71" y="2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1"/>
                    </a:lnTo>
                    <a:lnTo>
                      <a:pt x="37" y="4"/>
                    </a:lnTo>
                    <a:lnTo>
                      <a:pt x="28" y="8"/>
                    </a:lnTo>
                    <a:lnTo>
                      <a:pt x="20" y="13"/>
                    </a:lnTo>
                    <a:lnTo>
                      <a:pt x="14" y="19"/>
                    </a:lnTo>
                    <a:lnTo>
                      <a:pt x="9" y="26"/>
                    </a:lnTo>
                    <a:lnTo>
                      <a:pt x="3" y="33"/>
                    </a:lnTo>
                    <a:lnTo>
                      <a:pt x="1" y="41"/>
                    </a:lnTo>
                    <a:lnTo>
                      <a:pt x="0" y="49"/>
                    </a:lnTo>
                    <a:lnTo>
                      <a:pt x="0" y="56"/>
                    </a:lnTo>
                    <a:lnTo>
                      <a:pt x="2" y="62"/>
                    </a:lnTo>
                    <a:lnTo>
                      <a:pt x="6" y="68"/>
                    </a:lnTo>
                    <a:lnTo>
                      <a:pt x="11" y="73"/>
                    </a:lnTo>
                    <a:lnTo>
                      <a:pt x="18" y="76"/>
                    </a:lnTo>
                    <a:lnTo>
                      <a:pt x="25" y="78"/>
                    </a:lnTo>
                    <a:lnTo>
                      <a:pt x="33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8891000">
                <a:off x="4256280" y="5094720"/>
                <a:ext cx="72720" cy="114480"/>
              </a:xfrm>
              <a:custGeom>
                <a:avLst/>
                <a:gdLst/>
                <a:ahLst/>
                <a:rect l="l" t="t" r="r" b="b"/>
                <a:pathLst>
                  <a:path w="166" h="158">
                    <a:moveTo>
                      <a:pt x="115" y="6"/>
                    </a:moveTo>
                    <a:lnTo>
                      <a:pt x="122" y="16"/>
                    </a:lnTo>
                    <a:lnTo>
                      <a:pt x="130" y="33"/>
                    </a:lnTo>
                    <a:lnTo>
                      <a:pt x="139" y="57"/>
                    </a:lnTo>
                    <a:lnTo>
                      <a:pt x="146" y="82"/>
                    </a:lnTo>
                    <a:lnTo>
                      <a:pt x="154" y="107"/>
                    </a:lnTo>
                    <a:lnTo>
                      <a:pt x="161" y="129"/>
                    </a:lnTo>
                    <a:lnTo>
                      <a:pt x="164" y="144"/>
                    </a:lnTo>
                    <a:lnTo>
                      <a:pt x="166" y="151"/>
                    </a:lnTo>
                    <a:lnTo>
                      <a:pt x="163" y="154"/>
                    </a:lnTo>
                    <a:lnTo>
                      <a:pt x="159" y="156"/>
                    </a:lnTo>
                    <a:lnTo>
                      <a:pt x="153" y="157"/>
                    </a:lnTo>
                    <a:lnTo>
                      <a:pt x="146" y="158"/>
                    </a:lnTo>
                    <a:lnTo>
                      <a:pt x="137" y="157"/>
                    </a:lnTo>
                    <a:lnTo>
                      <a:pt x="128" y="155"/>
                    </a:lnTo>
                    <a:lnTo>
                      <a:pt x="118" y="152"/>
                    </a:lnTo>
                    <a:lnTo>
                      <a:pt x="106" y="146"/>
                    </a:lnTo>
                    <a:lnTo>
                      <a:pt x="100" y="145"/>
                    </a:lnTo>
                    <a:lnTo>
                      <a:pt x="87" y="146"/>
                    </a:lnTo>
                    <a:lnTo>
                      <a:pt x="70" y="146"/>
                    </a:lnTo>
                    <a:lnTo>
                      <a:pt x="52" y="147"/>
                    </a:lnTo>
                    <a:lnTo>
                      <a:pt x="34" y="147"/>
                    </a:lnTo>
                    <a:lnTo>
                      <a:pt x="18" y="147"/>
                    </a:lnTo>
                    <a:lnTo>
                      <a:pt x="7" y="146"/>
                    </a:lnTo>
                    <a:lnTo>
                      <a:pt x="2" y="144"/>
                    </a:lnTo>
                    <a:lnTo>
                      <a:pt x="0" y="117"/>
                    </a:lnTo>
                    <a:lnTo>
                      <a:pt x="2" y="69"/>
                    </a:lnTo>
                    <a:lnTo>
                      <a:pt x="5" y="21"/>
                    </a:lnTo>
                    <a:lnTo>
                      <a:pt x="13" y="0"/>
                    </a:lnTo>
                    <a:lnTo>
                      <a:pt x="21" y="0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5" y="0"/>
                    </a:lnTo>
                    <a:lnTo>
                      <a:pt x="82" y="0"/>
                    </a:lnTo>
                    <a:lnTo>
                      <a:pt x="96" y="1"/>
                    </a:lnTo>
                    <a:lnTo>
                      <a:pt x="108" y="3"/>
                    </a:lnTo>
                    <a:lnTo>
                      <a:pt x="11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8891000">
                <a:off x="4265280" y="5113800"/>
                <a:ext cx="48960" cy="7380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73" y="2"/>
                    </a:moveTo>
                    <a:lnTo>
                      <a:pt x="73" y="5"/>
                    </a:lnTo>
                    <a:lnTo>
                      <a:pt x="77" y="15"/>
                    </a:lnTo>
                    <a:lnTo>
                      <a:pt x="82" y="30"/>
                    </a:lnTo>
                    <a:lnTo>
                      <a:pt x="90" y="48"/>
                    </a:lnTo>
                    <a:lnTo>
                      <a:pt x="98" y="66"/>
                    </a:lnTo>
                    <a:lnTo>
                      <a:pt x="104" y="83"/>
                    </a:lnTo>
                    <a:lnTo>
                      <a:pt x="111" y="95"/>
                    </a:lnTo>
                    <a:lnTo>
                      <a:pt x="113" y="103"/>
                    </a:lnTo>
                    <a:lnTo>
                      <a:pt x="108" y="103"/>
                    </a:lnTo>
                    <a:lnTo>
                      <a:pt x="100" y="102"/>
                    </a:lnTo>
                    <a:lnTo>
                      <a:pt x="91" y="102"/>
                    </a:lnTo>
                    <a:lnTo>
                      <a:pt x="78" y="100"/>
                    </a:lnTo>
                    <a:lnTo>
                      <a:pt x="68" y="100"/>
                    </a:lnTo>
                    <a:lnTo>
                      <a:pt x="56" y="100"/>
                    </a:lnTo>
                    <a:lnTo>
                      <a:pt x="45" y="100"/>
                    </a:lnTo>
                    <a:lnTo>
                      <a:pt x="33" y="100"/>
                    </a:lnTo>
                    <a:lnTo>
                      <a:pt x="22" y="100"/>
                    </a:lnTo>
                    <a:lnTo>
                      <a:pt x="11" y="101"/>
                    </a:lnTo>
                    <a:lnTo>
                      <a:pt x="5" y="101"/>
                    </a:lnTo>
                    <a:lnTo>
                      <a:pt x="0" y="102"/>
                    </a:lnTo>
                    <a:lnTo>
                      <a:pt x="0" y="83"/>
                    </a:lnTo>
                    <a:lnTo>
                      <a:pt x="1" y="51"/>
                    </a:lnTo>
                    <a:lnTo>
                      <a:pt x="2" y="21"/>
                    </a:lnTo>
                    <a:lnTo>
                      <a:pt x="3" y="3"/>
                    </a:lnTo>
                    <a:lnTo>
                      <a:pt x="9" y="2"/>
                    </a:lnTo>
                    <a:lnTo>
                      <a:pt x="18" y="2"/>
                    </a:lnTo>
                    <a:lnTo>
                      <a:pt x="27" y="1"/>
                    </a:lnTo>
                    <a:lnTo>
                      <a:pt x="38" y="1"/>
                    </a:lnTo>
                    <a:lnTo>
                      <a:pt x="50" y="0"/>
                    </a:lnTo>
                    <a:lnTo>
                      <a:pt x="59" y="1"/>
                    </a:lnTo>
                    <a:lnTo>
                      <a:pt x="68" y="1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8891000">
                <a:off x="4542840" y="5059440"/>
                <a:ext cx="22320" cy="98280"/>
              </a:xfrm>
              <a:custGeom>
                <a:avLst/>
                <a:gdLst/>
                <a:ahLst/>
                <a:rect l="l" t="t" r="r" b="b"/>
                <a:pathLst>
                  <a:path w="51" h="137">
                    <a:moveTo>
                      <a:pt x="0" y="131"/>
                    </a:moveTo>
                    <a:lnTo>
                      <a:pt x="0" y="136"/>
                    </a:lnTo>
                    <a:lnTo>
                      <a:pt x="5" y="137"/>
                    </a:lnTo>
                    <a:lnTo>
                      <a:pt x="13" y="137"/>
                    </a:lnTo>
                    <a:lnTo>
                      <a:pt x="22" y="135"/>
                    </a:lnTo>
                    <a:lnTo>
                      <a:pt x="34" y="116"/>
                    </a:lnTo>
                    <a:lnTo>
                      <a:pt x="44" y="76"/>
                    </a:lnTo>
                    <a:lnTo>
                      <a:pt x="49" y="35"/>
                    </a:lnTo>
                    <a:lnTo>
                      <a:pt x="51" y="9"/>
                    </a:lnTo>
                    <a:lnTo>
                      <a:pt x="44" y="3"/>
                    </a:lnTo>
                    <a:lnTo>
                      <a:pt x="32" y="0"/>
                    </a:lnTo>
                    <a:lnTo>
                      <a:pt x="22" y="1"/>
                    </a:lnTo>
                    <a:lnTo>
                      <a:pt x="20" y="8"/>
                    </a:lnTo>
                    <a:lnTo>
                      <a:pt x="21" y="32"/>
                    </a:lnTo>
                    <a:lnTo>
                      <a:pt x="16" y="71"/>
                    </a:lnTo>
                    <a:lnTo>
                      <a:pt x="8" y="10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8891000">
                <a:off x="3921840" y="5254200"/>
                <a:ext cx="18360" cy="2448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17" y="34"/>
                    </a:moveTo>
                    <a:lnTo>
                      <a:pt x="26" y="32"/>
                    </a:lnTo>
                    <a:lnTo>
                      <a:pt x="34" y="29"/>
                    </a:lnTo>
                    <a:lnTo>
                      <a:pt x="39" y="25"/>
                    </a:lnTo>
                    <a:lnTo>
                      <a:pt x="42" y="18"/>
                    </a:lnTo>
                    <a:lnTo>
                      <a:pt x="40" y="12"/>
                    </a:lnTo>
                    <a:lnTo>
                      <a:pt x="35" y="5"/>
                    </a:lnTo>
                    <a:lnTo>
                      <a:pt x="29" y="1"/>
                    </a:lnTo>
                    <a:lnTo>
                      <a:pt x="21" y="0"/>
                    </a:lnTo>
                    <a:lnTo>
                      <a:pt x="13" y="1"/>
                    </a:lnTo>
                    <a:lnTo>
                      <a:pt x="7" y="5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2" y="25"/>
                    </a:lnTo>
                    <a:lnTo>
                      <a:pt x="4" y="29"/>
                    </a:lnTo>
                    <a:lnTo>
                      <a:pt x="9" y="32"/>
                    </a:lnTo>
                    <a:lnTo>
                      <a:pt x="17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8891000">
                <a:off x="3705480" y="600264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186" h="188">
                    <a:moveTo>
                      <a:pt x="178" y="28"/>
                    </a:moveTo>
                    <a:lnTo>
                      <a:pt x="183" y="32"/>
                    </a:lnTo>
                    <a:lnTo>
                      <a:pt x="186" y="36"/>
                    </a:lnTo>
                    <a:lnTo>
                      <a:pt x="184" y="39"/>
                    </a:lnTo>
                    <a:lnTo>
                      <a:pt x="182" y="42"/>
                    </a:lnTo>
                    <a:lnTo>
                      <a:pt x="177" y="44"/>
                    </a:lnTo>
                    <a:lnTo>
                      <a:pt x="170" y="45"/>
                    </a:lnTo>
                    <a:lnTo>
                      <a:pt x="162" y="44"/>
                    </a:lnTo>
                    <a:lnTo>
                      <a:pt x="156" y="42"/>
                    </a:lnTo>
                    <a:lnTo>
                      <a:pt x="126" y="33"/>
                    </a:lnTo>
                    <a:lnTo>
                      <a:pt x="100" y="31"/>
                    </a:lnTo>
                    <a:lnTo>
                      <a:pt x="78" y="35"/>
                    </a:lnTo>
                    <a:lnTo>
                      <a:pt x="60" y="45"/>
                    </a:lnTo>
                    <a:lnTo>
                      <a:pt x="50" y="58"/>
                    </a:lnTo>
                    <a:lnTo>
                      <a:pt x="46" y="72"/>
                    </a:lnTo>
                    <a:lnTo>
                      <a:pt x="49" y="86"/>
                    </a:lnTo>
                    <a:lnTo>
                      <a:pt x="62" y="98"/>
                    </a:lnTo>
                    <a:lnTo>
                      <a:pt x="71" y="106"/>
                    </a:lnTo>
                    <a:lnTo>
                      <a:pt x="71" y="111"/>
                    </a:lnTo>
                    <a:lnTo>
                      <a:pt x="65" y="113"/>
                    </a:lnTo>
                    <a:lnTo>
                      <a:pt x="56" y="117"/>
                    </a:lnTo>
                    <a:lnTo>
                      <a:pt x="36" y="132"/>
                    </a:lnTo>
                    <a:lnTo>
                      <a:pt x="28" y="145"/>
                    </a:lnTo>
                    <a:lnTo>
                      <a:pt x="31" y="156"/>
                    </a:lnTo>
                    <a:lnTo>
                      <a:pt x="42" y="162"/>
                    </a:lnTo>
                    <a:lnTo>
                      <a:pt x="56" y="166"/>
                    </a:lnTo>
                    <a:lnTo>
                      <a:pt x="73" y="165"/>
                    </a:lnTo>
                    <a:lnTo>
                      <a:pt x="86" y="160"/>
                    </a:lnTo>
                    <a:lnTo>
                      <a:pt x="95" y="149"/>
                    </a:lnTo>
                    <a:lnTo>
                      <a:pt x="103" y="141"/>
                    </a:lnTo>
                    <a:lnTo>
                      <a:pt x="115" y="138"/>
                    </a:lnTo>
                    <a:lnTo>
                      <a:pt x="124" y="141"/>
                    </a:lnTo>
                    <a:lnTo>
                      <a:pt x="125" y="151"/>
                    </a:lnTo>
                    <a:lnTo>
                      <a:pt x="121" y="160"/>
                    </a:lnTo>
                    <a:lnTo>
                      <a:pt x="113" y="169"/>
                    </a:lnTo>
                    <a:lnTo>
                      <a:pt x="103" y="177"/>
                    </a:lnTo>
                    <a:lnTo>
                      <a:pt x="89" y="184"/>
                    </a:lnTo>
                    <a:lnTo>
                      <a:pt x="73" y="188"/>
                    </a:lnTo>
                    <a:lnTo>
                      <a:pt x="55" y="188"/>
                    </a:lnTo>
                    <a:lnTo>
                      <a:pt x="36" y="184"/>
                    </a:lnTo>
                    <a:lnTo>
                      <a:pt x="14" y="174"/>
                    </a:lnTo>
                    <a:lnTo>
                      <a:pt x="7" y="169"/>
                    </a:lnTo>
                    <a:lnTo>
                      <a:pt x="2" y="161"/>
                    </a:lnTo>
                    <a:lnTo>
                      <a:pt x="0" y="151"/>
                    </a:lnTo>
                    <a:lnTo>
                      <a:pt x="0" y="142"/>
                    </a:lnTo>
                    <a:lnTo>
                      <a:pt x="2" y="133"/>
                    </a:lnTo>
                    <a:lnTo>
                      <a:pt x="9" y="123"/>
                    </a:lnTo>
                    <a:lnTo>
                      <a:pt x="20" y="116"/>
                    </a:lnTo>
                    <a:lnTo>
                      <a:pt x="34" y="112"/>
                    </a:lnTo>
                    <a:lnTo>
                      <a:pt x="23" y="105"/>
                    </a:lnTo>
                    <a:lnTo>
                      <a:pt x="14" y="95"/>
                    </a:lnTo>
                    <a:lnTo>
                      <a:pt x="7" y="85"/>
                    </a:lnTo>
                    <a:lnTo>
                      <a:pt x="5" y="72"/>
                    </a:lnTo>
                    <a:lnTo>
                      <a:pt x="5" y="60"/>
                    </a:lnTo>
                    <a:lnTo>
                      <a:pt x="7" y="48"/>
                    </a:lnTo>
                    <a:lnTo>
                      <a:pt x="12" y="36"/>
                    </a:lnTo>
                    <a:lnTo>
                      <a:pt x="22" y="25"/>
                    </a:lnTo>
                    <a:lnTo>
                      <a:pt x="32" y="15"/>
                    </a:lnTo>
                    <a:lnTo>
                      <a:pt x="46" y="8"/>
                    </a:lnTo>
                    <a:lnTo>
                      <a:pt x="62" y="3"/>
                    </a:lnTo>
                    <a:lnTo>
                      <a:pt x="81" y="0"/>
                    </a:lnTo>
                    <a:lnTo>
                      <a:pt x="102" y="1"/>
                    </a:lnTo>
                    <a:lnTo>
                      <a:pt x="125" y="5"/>
                    </a:lnTo>
                    <a:lnTo>
                      <a:pt x="151" y="14"/>
                    </a:lnTo>
                    <a:lnTo>
                      <a:pt x="17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8891000">
                <a:off x="3581280" y="5936400"/>
                <a:ext cx="140760" cy="188640"/>
              </a:xfrm>
              <a:custGeom>
                <a:avLst/>
                <a:gdLst/>
                <a:ahLst/>
                <a:rect l="l" t="t" r="r" b="b"/>
                <a:pathLst>
                  <a:path w="318" h="260">
                    <a:moveTo>
                      <a:pt x="152" y="76"/>
                    </a:moveTo>
                    <a:lnTo>
                      <a:pt x="161" y="43"/>
                    </a:lnTo>
                    <a:lnTo>
                      <a:pt x="181" y="19"/>
                    </a:lnTo>
                    <a:lnTo>
                      <a:pt x="208" y="5"/>
                    </a:lnTo>
                    <a:lnTo>
                      <a:pt x="236" y="0"/>
                    </a:lnTo>
                    <a:lnTo>
                      <a:pt x="266" y="5"/>
                    </a:lnTo>
                    <a:lnTo>
                      <a:pt x="291" y="17"/>
                    </a:lnTo>
                    <a:lnTo>
                      <a:pt x="310" y="38"/>
                    </a:lnTo>
                    <a:lnTo>
                      <a:pt x="318" y="67"/>
                    </a:lnTo>
                    <a:lnTo>
                      <a:pt x="315" y="76"/>
                    </a:lnTo>
                    <a:lnTo>
                      <a:pt x="310" y="78"/>
                    </a:lnTo>
                    <a:lnTo>
                      <a:pt x="303" y="74"/>
                    </a:lnTo>
                    <a:lnTo>
                      <a:pt x="300" y="67"/>
                    </a:lnTo>
                    <a:lnTo>
                      <a:pt x="291" y="44"/>
                    </a:lnTo>
                    <a:lnTo>
                      <a:pt x="274" y="31"/>
                    </a:lnTo>
                    <a:lnTo>
                      <a:pt x="253" y="24"/>
                    </a:lnTo>
                    <a:lnTo>
                      <a:pt x="230" y="25"/>
                    </a:lnTo>
                    <a:lnTo>
                      <a:pt x="208" y="34"/>
                    </a:lnTo>
                    <a:lnTo>
                      <a:pt x="191" y="49"/>
                    </a:lnTo>
                    <a:lnTo>
                      <a:pt x="183" y="71"/>
                    </a:lnTo>
                    <a:lnTo>
                      <a:pt x="186" y="100"/>
                    </a:lnTo>
                    <a:lnTo>
                      <a:pt x="185" y="107"/>
                    </a:lnTo>
                    <a:lnTo>
                      <a:pt x="179" y="110"/>
                    </a:lnTo>
                    <a:lnTo>
                      <a:pt x="170" y="108"/>
                    </a:lnTo>
                    <a:lnTo>
                      <a:pt x="163" y="105"/>
                    </a:lnTo>
                    <a:lnTo>
                      <a:pt x="135" y="93"/>
                    </a:lnTo>
                    <a:lnTo>
                      <a:pt x="108" y="91"/>
                    </a:lnTo>
                    <a:lnTo>
                      <a:pt x="86" y="97"/>
                    </a:lnTo>
                    <a:lnTo>
                      <a:pt x="68" y="111"/>
                    </a:lnTo>
                    <a:lnTo>
                      <a:pt x="57" y="129"/>
                    </a:lnTo>
                    <a:lnTo>
                      <a:pt x="54" y="151"/>
                    </a:lnTo>
                    <a:lnTo>
                      <a:pt x="62" y="174"/>
                    </a:lnTo>
                    <a:lnTo>
                      <a:pt x="82" y="196"/>
                    </a:lnTo>
                    <a:lnTo>
                      <a:pt x="88" y="203"/>
                    </a:lnTo>
                    <a:lnTo>
                      <a:pt x="84" y="207"/>
                    </a:lnTo>
                    <a:lnTo>
                      <a:pt x="75" y="210"/>
                    </a:lnTo>
                    <a:lnTo>
                      <a:pt x="64" y="210"/>
                    </a:lnTo>
                    <a:lnTo>
                      <a:pt x="45" y="208"/>
                    </a:lnTo>
                    <a:lnTo>
                      <a:pt x="33" y="211"/>
                    </a:lnTo>
                    <a:lnTo>
                      <a:pt x="29" y="218"/>
                    </a:lnTo>
                    <a:lnTo>
                      <a:pt x="31" y="225"/>
                    </a:lnTo>
                    <a:lnTo>
                      <a:pt x="36" y="232"/>
                    </a:lnTo>
                    <a:lnTo>
                      <a:pt x="46" y="239"/>
                    </a:lnTo>
                    <a:lnTo>
                      <a:pt x="57" y="244"/>
                    </a:lnTo>
                    <a:lnTo>
                      <a:pt x="70" y="245"/>
                    </a:lnTo>
                    <a:lnTo>
                      <a:pt x="73" y="245"/>
                    </a:lnTo>
                    <a:lnTo>
                      <a:pt x="77" y="247"/>
                    </a:lnTo>
                    <a:lnTo>
                      <a:pt x="79" y="249"/>
                    </a:lnTo>
                    <a:lnTo>
                      <a:pt x="79" y="252"/>
                    </a:lnTo>
                    <a:lnTo>
                      <a:pt x="76" y="256"/>
                    </a:lnTo>
                    <a:lnTo>
                      <a:pt x="70" y="258"/>
                    </a:lnTo>
                    <a:lnTo>
                      <a:pt x="59" y="260"/>
                    </a:lnTo>
                    <a:lnTo>
                      <a:pt x="44" y="260"/>
                    </a:lnTo>
                    <a:lnTo>
                      <a:pt x="31" y="257"/>
                    </a:lnTo>
                    <a:lnTo>
                      <a:pt x="19" y="251"/>
                    </a:lnTo>
                    <a:lnTo>
                      <a:pt x="9" y="241"/>
                    </a:lnTo>
                    <a:lnTo>
                      <a:pt x="2" y="230"/>
                    </a:lnTo>
                    <a:lnTo>
                      <a:pt x="0" y="219"/>
                    </a:lnTo>
                    <a:lnTo>
                      <a:pt x="2" y="207"/>
                    </a:lnTo>
                    <a:lnTo>
                      <a:pt x="11" y="197"/>
                    </a:lnTo>
                    <a:lnTo>
                      <a:pt x="29" y="188"/>
                    </a:lnTo>
                    <a:lnTo>
                      <a:pt x="15" y="170"/>
                    </a:lnTo>
                    <a:lnTo>
                      <a:pt x="9" y="147"/>
                    </a:lnTo>
                    <a:lnTo>
                      <a:pt x="11" y="122"/>
                    </a:lnTo>
                    <a:lnTo>
                      <a:pt x="23" y="98"/>
                    </a:lnTo>
                    <a:lnTo>
                      <a:pt x="42" y="78"/>
                    </a:lnTo>
                    <a:lnTo>
                      <a:pt x="71" y="66"/>
                    </a:lnTo>
                    <a:lnTo>
                      <a:pt x="107" y="64"/>
                    </a:lnTo>
                    <a:lnTo>
                      <a:pt x="152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8891000">
                <a:off x="3886560" y="5840280"/>
                <a:ext cx="84600" cy="139680"/>
              </a:xfrm>
              <a:custGeom>
                <a:avLst/>
                <a:gdLst/>
                <a:ahLst/>
                <a:rect l="l" t="t" r="r" b="b"/>
                <a:pathLst>
                  <a:path w="193" h="192">
                    <a:moveTo>
                      <a:pt x="97" y="189"/>
                    </a:moveTo>
                    <a:lnTo>
                      <a:pt x="116" y="181"/>
                    </a:lnTo>
                    <a:lnTo>
                      <a:pt x="134" y="172"/>
                    </a:lnTo>
                    <a:lnTo>
                      <a:pt x="151" y="159"/>
                    </a:lnTo>
                    <a:lnTo>
                      <a:pt x="165" y="144"/>
                    </a:lnTo>
                    <a:lnTo>
                      <a:pt x="177" y="128"/>
                    </a:lnTo>
                    <a:lnTo>
                      <a:pt x="186" y="110"/>
                    </a:lnTo>
                    <a:lnTo>
                      <a:pt x="191" y="91"/>
                    </a:lnTo>
                    <a:lnTo>
                      <a:pt x="193" y="72"/>
                    </a:lnTo>
                    <a:lnTo>
                      <a:pt x="191" y="55"/>
                    </a:lnTo>
                    <a:lnTo>
                      <a:pt x="185" y="38"/>
                    </a:lnTo>
                    <a:lnTo>
                      <a:pt x="176" y="24"/>
                    </a:lnTo>
                    <a:lnTo>
                      <a:pt x="164" y="13"/>
                    </a:lnTo>
                    <a:lnTo>
                      <a:pt x="150" y="6"/>
                    </a:lnTo>
                    <a:lnTo>
                      <a:pt x="133" y="1"/>
                    </a:lnTo>
                    <a:lnTo>
                      <a:pt x="115" y="0"/>
                    </a:lnTo>
                    <a:lnTo>
                      <a:pt x="96" y="3"/>
                    </a:lnTo>
                    <a:lnTo>
                      <a:pt x="76" y="9"/>
                    </a:lnTo>
                    <a:lnTo>
                      <a:pt x="58" y="19"/>
                    </a:lnTo>
                    <a:lnTo>
                      <a:pt x="43" y="31"/>
                    </a:lnTo>
                    <a:lnTo>
                      <a:pt x="28" y="46"/>
                    </a:lnTo>
                    <a:lnTo>
                      <a:pt x="17" y="63"/>
                    </a:lnTo>
                    <a:lnTo>
                      <a:pt x="8" y="81"/>
                    </a:lnTo>
                    <a:lnTo>
                      <a:pt x="1" y="99"/>
                    </a:lnTo>
                    <a:lnTo>
                      <a:pt x="0" y="118"/>
                    </a:lnTo>
                    <a:lnTo>
                      <a:pt x="3" y="137"/>
                    </a:lnTo>
                    <a:lnTo>
                      <a:pt x="8" y="152"/>
                    </a:lnTo>
                    <a:lnTo>
                      <a:pt x="17" y="167"/>
                    </a:lnTo>
                    <a:lnTo>
                      <a:pt x="28" y="177"/>
                    </a:lnTo>
                    <a:lnTo>
                      <a:pt x="43" y="185"/>
                    </a:lnTo>
                    <a:lnTo>
                      <a:pt x="59" y="190"/>
                    </a:lnTo>
                    <a:lnTo>
                      <a:pt x="78" y="192"/>
                    </a:lnTo>
                    <a:lnTo>
                      <a:pt x="97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8891000">
                <a:off x="3915000" y="588600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68" h="65">
                    <a:moveTo>
                      <a:pt x="34" y="64"/>
                    </a:moveTo>
                    <a:lnTo>
                      <a:pt x="47" y="59"/>
                    </a:lnTo>
                    <a:lnTo>
                      <a:pt x="57" y="49"/>
                    </a:lnTo>
                    <a:lnTo>
                      <a:pt x="65" y="37"/>
                    </a:lnTo>
                    <a:lnTo>
                      <a:pt x="68" y="24"/>
                    </a:lnTo>
                    <a:lnTo>
                      <a:pt x="65" y="12"/>
                    </a:lnTo>
                    <a:lnTo>
                      <a:pt x="57" y="4"/>
                    </a:lnTo>
                    <a:lnTo>
                      <a:pt x="47" y="0"/>
                    </a:lnTo>
                    <a:lnTo>
                      <a:pt x="34" y="0"/>
                    </a:lnTo>
                    <a:lnTo>
                      <a:pt x="21" y="5"/>
                    </a:lnTo>
                    <a:lnTo>
                      <a:pt x="9" y="14"/>
                    </a:lnTo>
                    <a:lnTo>
                      <a:pt x="3" y="27"/>
                    </a:lnTo>
                    <a:lnTo>
                      <a:pt x="0" y="40"/>
                    </a:lnTo>
                    <a:lnTo>
                      <a:pt x="3" y="52"/>
                    </a:lnTo>
                    <a:lnTo>
                      <a:pt x="9" y="61"/>
                    </a:lnTo>
                    <a:lnTo>
                      <a:pt x="21" y="65"/>
                    </a:lnTo>
                    <a:lnTo>
                      <a:pt x="34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8891000">
                <a:off x="4016520" y="5604480"/>
                <a:ext cx="84600" cy="139680"/>
              </a:xfrm>
              <a:custGeom>
                <a:avLst/>
                <a:gdLst/>
                <a:ahLst/>
                <a:rect l="l" t="t" r="r" b="b"/>
                <a:pathLst>
                  <a:path w="193" h="192">
                    <a:moveTo>
                      <a:pt x="97" y="189"/>
                    </a:moveTo>
                    <a:lnTo>
                      <a:pt x="117" y="182"/>
                    </a:lnTo>
                    <a:lnTo>
                      <a:pt x="135" y="173"/>
                    </a:lnTo>
                    <a:lnTo>
                      <a:pt x="150" y="161"/>
                    </a:lnTo>
                    <a:lnTo>
                      <a:pt x="164" y="146"/>
                    </a:lnTo>
                    <a:lnTo>
                      <a:pt x="176" y="130"/>
                    </a:lnTo>
                    <a:lnTo>
                      <a:pt x="185" y="111"/>
                    </a:lnTo>
                    <a:lnTo>
                      <a:pt x="192" y="92"/>
                    </a:lnTo>
                    <a:lnTo>
                      <a:pt x="193" y="73"/>
                    </a:lnTo>
                    <a:lnTo>
                      <a:pt x="190" y="55"/>
                    </a:lnTo>
                    <a:lnTo>
                      <a:pt x="185" y="39"/>
                    </a:lnTo>
                    <a:lnTo>
                      <a:pt x="176" y="25"/>
                    </a:lnTo>
                    <a:lnTo>
                      <a:pt x="164" y="14"/>
                    </a:lnTo>
                    <a:lnTo>
                      <a:pt x="150" y="6"/>
                    </a:lnTo>
                    <a:lnTo>
                      <a:pt x="133" y="2"/>
                    </a:lnTo>
                    <a:lnTo>
                      <a:pt x="115" y="0"/>
                    </a:lnTo>
                    <a:lnTo>
                      <a:pt x="96" y="3"/>
                    </a:lnTo>
                    <a:lnTo>
                      <a:pt x="76" y="9"/>
                    </a:lnTo>
                    <a:lnTo>
                      <a:pt x="58" y="19"/>
                    </a:lnTo>
                    <a:lnTo>
                      <a:pt x="43" y="32"/>
                    </a:lnTo>
                    <a:lnTo>
                      <a:pt x="29" y="46"/>
                    </a:lnTo>
                    <a:lnTo>
                      <a:pt x="17" y="63"/>
                    </a:lnTo>
                    <a:lnTo>
                      <a:pt x="8" y="82"/>
                    </a:lnTo>
                    <a:lnTo>
                      <a:pt x="2" y="100"/>
                    </a:lnTo>
                    <a:lnTo>
                      <a:pt x="0" y="119"/>
                    </a:lnTo>
                    <a:lnTo>
                      <a:pt x="3" y="138"/>
                    </a:lnTo>
                    <a:lnTo>
                      <a:pt x="8" y="153"/>
                    </a:lnTo>
                    <a:lnTo>
                      <a:pt x="17" y="168"/>
                    </a:lnTo>
                    <a:lnTo>
                      <a:pt x="29" y="178"/>
                    </a:lnTo>
                    <a:lnTo>
                      <a:pt x="43" y="187"/>
                    </a:lnTo>
                    <a:lnTo>
                      <a:pt x="60" y="191"/>
                    </a:lnTo>
                    <a:lnTo>
                      <a:pt x="78" y="192"/>
                    </a:lnTo>
                    <a:lnTo>
                      <a:pt x="97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18891000">
                <a:off x="4043520" y="565164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35" y="67"/>
                    </a:moveTo>
                    <a:lnTo>
                      <a:pt x="48" y="60"/>
                    </a:lnTo>
                    <a:lnTo>
                      <a:pt x="58" y="51"/>
                    </a:lnTo>
                    <a:lnTo>
                      <a:pt x="66" y="38"/>
                    </a:lnTo>
                    <a:lnTo>
                      <a:pt x="69" y="25"/>
                    </a:lnTo>
                    <a:lnTo>
                      <a:pt x="66" y="14"/>
                    </a:lnTo>
                    <a:lnTo>
                      <a:pt x="58" y="4"/>
                    </a:lnTo>
                    <a:lnTo>
                      <a:pt x="48" y="0"/>
                    </a:lnTo>
                    <a:lnTo>
                      <a:pt x="34" y="1"/>
                    </a:lnTo>
                    <a:lnTo>
                      <a:pt x="21" y="6"/>
                    </a:lnTo>
                    <a:lnTo>
                      <a:pt x="11" y="17"/>
                    </a:lnTo>
                    <a:lnTo>
                      <a:pt x="3" y="28"/>
                    </a:lnTo>
                    <a:lnTo>
                      <a:pt x="0" y="42"/>
                    </a:lnTo>
                    <a:lnTo>
                      <a:pt x="3" y="53"/>
                    </a:lnTo>
                    <a:lnTo>
                      <a:pt x="11" y="62"/>
                    </a:lnTo>
                    <a:lnTo>
                      <a:pt x="21" y="67"/>
                    </a:lnTo>
                    <a:lnTo>
                      <a:pt x="3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18891000">
                <a:off x="3626280" y="5546520"/>
                <a:ext cx="527760" cy="380520"/>
              </a:xfrm>
              <a:custGeom>
                <a:avLst/>
                <a:gdLst/>
                <a:ahLst/>
                <a:rect l="l" t="t" r="r" b="b"/>
                <a:pathLst>
                  <a:path w="1195" h="523">
                    <a:moveTo>
                      <a:pt x="1089" y="327"/>
                    </a:moveTo>
                    <a:lnTo>
                      <a:pt x="1086" y="319"/>
                    </a:lnTo>
                    <a:lnTo>
                      <a:pt x="1084" y="308"/>
                    </a:lnTo>
                    <a:lnTo>
                      <a:pt x="1080" y="297"/>
                    </a:lnTo>
                    <a:lnTo>
                      <a:pt x="1076" y="284"/>
                    </a:lnTo>
                    <a:lnTo>
                      <a:pt x="1069" y="274"/>
                    </a:lnTo>
                    <a:lnTo>
                      <a:pt x="1060" y="263"/>
                    </a:lnTo>
                    <a:lnTo>
                      <a:pt x="1047" y="255"/>
                    </a:lnTo>
                    <a:lnTo>
                      <a:pt x="1032" y="249"/>
                    </a:lnTo>
                    <a:lnTo>
                      <a:pt x="1005" y="246"/>
                    </a:lnTo>
                    <a:lnTo>
                      <a:pt x="978" y="249"/>
                    </a:lnTo>
                    <a:lnTo>
                      <a:pt x="950" y="257"/>
                    </a:lnTo>
                    <a:lnTo>
                      <a:pt x="923" y="271"/>
                    </a:lnTo>
                    <a:lnTo>
                      <a:pt x="900" y="290"/>
                    </a:lnTo>
                    <a:lnTo>
                      <a:pt x="878" y="313"/>
                    </a:lnTo>
                    <a:lnTo>
                      <a:pt x="861" y="340"/>
                    </a:lnTo>
                    <a:lnTo>
                      <a:pt x="850" y="371"/>
                    </a:lnTo>
                    <a:lnTo>
                      <a:pt x="841" y="379"/>
                    </a:lnTo>
                    <a:lnTo>
                      <a:pt x="833" y="383"/>
                    </a:lnTo>
                    <a:lnTo>
                      <a:pt x="826" y="383"/>
                    </a:lnTo>
                    <a:lnTo>
                      <a:pt x="819" y="381"/>
                    </a:lnTo>
                    <a:lnTo>
                      <a:pt x="812" y="378"/>
                    </a:lnTo>
                    <a:lnTo>
                      <a:pt x="806" y="375"/>
                    </a:lnTo>
                    <a:lnTo>
                      <a:pt x="799" y="373"/>
                    </a:lnTo>
                    <a:lnTo>
                      <a:pt x="791" y="373"/>
                    </a:lnTo>
                    <a:lnTo>
                      <a:pt x="786" y="375"/>
                    </a:lnTo>
                    <a:lnTo>
                      <a:pt x="780" y="379"/>
                    </a:lnTo>
                    <a:lnTo>
                      <a:pt x="772" y="383"/>
                    </a:lnTo>
                    <a:lnTo>
                      <a:pt x="764" y="388"/>
                    </a:lnTo>
                    <a:lnTo>
                      <a:pt x="756" y="393"/>
                    </a:lnTo>
                    <a:lnTo>
                      <a:pt x="749" y="397"/>
                    </a:lnTo>
                    <a:lnTo>
                      <a:pt x="741" y="402"/>
                    </a:lnTo>
                    <a:lnTo>
                      <a:pt x="733" y="404"/>
                    </a:lnTo>
                    <a:lnTo>
                      <a:pt x="725" y="405"/>
                    </a:lnTo>
                    <a:lnTo>
                      <a:pt x="718" y="404"/>
                    </a:lnTo>
                    <a:lnTo>
                      <a:pt x="711" y="402"/>
                    </a:lnTo>
                    <a:lnTo>
                      <a:pt x="705" y="398"/>
                    </a:lnTo>
                    <a:lnTo>
                      <a:pt x="698" y="396"/>
                    </a:lnTo>
                    <a:lnTo>
                      <a:pt x="691" y="394"/>
                    </a:lnTo>
                    <a:lnTo>
                      <a:pt x="683" y="393"/>
                    </a:lnTo>
                    <a:lnTo>
                      <a:pt x="672" y="394"/>
                    </a:lnTo>
                    <a:lnTo>
                      <a:pt x="665" y="396"/>
                    </a:lnTo>
                    <a:lnTo>
                      <a:pt x="658" y="400"/>
                    </a:lnTo>
                    <a:lnTo>
                      <a:pt x="653" y="403"/>
                    </a:lnTo>
                    <a:lnTo>
                      <a:pt x="648" y="407"/>
                    </a:lnTo>
                    <a:lnTo>
                      <a:pt x="643" y="411"/>
                    </a:lnTo>
                    <a:lnTo>
                      <a:pt x="638" y="414"/>
                    </a:lnTo>
                    <a:lnTo>
                      <a:pt x="631" y="417"/>
                    </a:lnTo>
                    <a:lnTo>
                      <a:pt x="623" y="419"/>
                    </a:lnTo>
                    <a:lnTo>
                      <a:pt x="614" y="420"/>
                    </a:lnTo>
                    <a:lnTo>
                      <a:pt x="608" y="420"/>
                    </a:lnTo>
                    <a:lnTo>
                      <a:pt x="601" y="419"/>
                    </a:lnTo>
                    <a:lnTo>
                      <a:pt x="595" y="418"/>
                    </a:lnTo>
                    <a:lnTo>
                      <a:pt x="588" y="417"/>
                    </a:lnTo>
                    <a:lnTo>
                      <a:pt x="582" y="416"/>
                    </a:lnTo>
                    <a:lnTo>
                      <a:pt x="573" y="416"/>
                    </a:lnTo>
                    <a:lnTo>
                      <a:pt x="561" y="416"/>
                    </a:lnTo>
                    <a:lnTo>
                      <a:pt x="550" y="419"/>
                    </a:lnTo>
                    <a:lnTo>
                      <a:pt x="541" y="422"/>
                    </a:lnTo>
                    <a:lnTo>
                      <a:pt x="534" y="427"/>
                    </a:lnTo>
                    <a:lnTo>
                      <a:pt x="528" y="430"/>
                    </a:lnTo>
                    <a:lnTo>
                      <a:pt x="523" y="433"/>
                    </a:lnTo>
                    <a:lnTo>
                      <a:pt x="516" y="435"/>
                    </a:lnTo>
                    <a:lnTo>
                      <a:pt x="507" y="435"/>
                    </a:lnTo>
                    <a:lnTo>
                      <a:pt x="495" y="432"/>
                    </a:lnTo>
                    <a:lnTo>
                      <a:pt x="495" y="422"/>
                    </a:lnTo>
                    <a:lnTo>
                      <a:pt x="493" y="412"/>
                    </a:lnTo>
                    <a:lnTo>
                      <a:pt x="489" y="403"/>
                    </a:lnTo>
                    <a:lnTo>
                      <a:pt x="482" y="392"/>
                    </a:lnTo>
                    <a:lnTo>
                      <a:pt x="475" y="383"/>
                    </a:lnTo>
                    <a:lnTo>
                      <a:pt x="466" y="375"/>
                    </a:lnTo>
                    <a:lnTo>
                      <a:pt x="457" y="368"/>
                    </a:lnTo>
                    <a:lnTo>
                      <a:pt x="446" y="363"/>
                    </a:lnTo>
                    <a:lnTo>
                      <a:pt x="428" y="358"/>
                    </a:lnTo>
                    <a:lnTo>
                      <a:pt x="408" y="355"/>
                    </a:lnTo>
                    <a:lnTo>
                      <a:pt x="384" y="356"/>
                    </a:lnTo>
                    <a:lnTo>
                      <a:pt x="360" y="362"/>
                    </a:lnTo>
                    <a:lnTo>
                      <a:pt x="334" y="375"/>
                    </a:lnTo>
                    <a:lnTo>
                      <a:pt x="308" y="396"/>
                    </a:lnTo>
                    <a:lnTo>
                      <a:pt x="282" y="427"/>
                    </a:lnTo>
                    <a:lnTo>
                      <a:pt x="259" y="469"/>
                    </a:lnTo>
                    <a:lnTo>
                      <a:pt x="249" y="472"/>
                    </a:lnTo>
                    <a:lnTo>
                      <a:pt x="230" y="476"/>
                    </a:lnTo>
                    <a:lnTo>
                      <a:pt x="210" y="479"/>
                    </a:lnTo>
                    <a:lnTo>
                      <a:pt x="186" y="484"/>
                    </a:lnTo>
                    <a:lnTo>
                      <a:pt x="165" y="487"/>
                    </a:lnTo>
                    <a:lnTo>
                      <a:pt x="145" y="490"/>
                    </a:lnTo>
                    <a:lnTo>
                      <a:pt x="132" y="492"/>
                    </a:lnTo>
                    <a:lnTo>
                      <a:pt x="126" y="493"/>
                    </a:lnTo>
                    <a:lnTo>
                      <a:pt x="122" y="499"/>
                    </a:lnTo>
                    <a:lnTo>
                      <a:pt x="112" y="505"/>
                    </a:lnTo>
                    <a:lnTo>
                      <a:pt x="95" y="512"/>
                    </a:lnTo>
                    <a:lnTo>
                      <a:pt x="77" y="517"/>
                    </a:lnTo>
                    <a:lnTo>
                      <a:pt x="57" y="521"/>
                    </a:lnTo>
                    <a:lnTo>
                      <a:pt x="39" y="523"/>
                    </a:lnTo>
                    <a:lnTo>
                      <a:pt x="24" y="523"/>
                    </a:lnTo>
                    <a:lnTo>
                      <a:pt x="15" y="519"/>
                    </a:lnTo>
                    <a:lnTo>
                      <a:pt x="8" y="505"/>
                    </a:lnTo>
                    <a:lnTo>
                      <a:pt x="3" y="485"/>
                    </a:lnTo>
                    <a:lnTo>
                      <a:pt x="0" y="463"/>
                    </a:lnTo>
                    <a:lnTo>
                      <a:pt x="4" y="448"/>
                    </a:lnTo>
                    <a:lnTo>
                      <a:pt x="8" y="446"/>
                    </a:lnTo>
                    <a:lnTo>
                      <a:pt x="13" y="444"/>
                    </a:lnTo>
                    <a:lnTo>
                      <a:pt x="20" y="442"/>
                    </a:lnTo>
                    <a:lnTo>
                      <a:pt x="27" y="441"/>
                    </a:lnTo>
                    <a:lnTo>
                      <a:pt x="35" y="440"/>
                    </a:lnTo>
                    <a:lnTo>
                      <a:pt x="43" y="439"/>
                    </a:lnTo>
                    <a:lnTo>
                      <a:pt x="51" y="438"/>
                    </a:lnTo>
                    <a:lnTo>
                      <a:pt x="57" y="438"/>
                    </a:lnTo>
                    <a:lnTo>
                      <a:pt x="61" y="408"/>
                    </a:lnTo>
                    <a:lnTo>
                      <a:pt x="60" y="380"/>
                    </a:lnTo>
                    <a:lnTo>
                      <a:pt x="57" y="354"/>
                    </a:lnTo>
                    <a:lnTo>
                      <a:pt x="56" y="329"/>
                    </a:lnTo>
                    <a:lnTo>
                      <a:pt x="60" y="307"/>
                    </a:lnTo>
                    <a:lnTo>
                      <a:pt x="71" y="287"/>
                    </a:lnTo>
                    <a:lnTo>
                      <a:pt x="95" y="270"/>
                    </a:lnTo>
                    <a:lnTo>
                      <a:pt x="132" y="255"/>
                    </a:lnTo>
                    <a:lnTo>
                      <a:pt x="158" y="243"/>
                    </a:lnTo>
                    <a:lnTo>
                      <a:pt x="179" y="222"/>
                    </a:lnTo>
                    <a:lnTo>
                      <a:pt x="194" y="196"/>
                    </a:lnTo>
                    <a:lnTo>
                      <a:pt x="208" y="168"/>
                    </a:lnTo>
                    <a:lnTo>
                      <a:pt x="220" y="139"/>
                    </a:lnTo>
                    <a:lnTo>
                      <a:pt x="230" y="112"/>
                    </a:lnTo>
                    <a:lnTo>
                      <a:pt x="239" y="89"/>
                    </a:lnTo>
                    <a:lnTo>
                      <a:pt x="250" y="73"/>
                    </a:lnTo>
                    <a:lnTo>
                      <a:pt x="258" y="67"/>
                    </a:lnTo>
                    <a:lnTo>
                      <a:pt x="268" y="60"/>
                    </a:lnTo>
                    <a:lnTo>
                      <a:pt x="281" y="53"/>
                    </a:lnTo>
                    <a:lnTo>
                      <a:pt x="298" y="45"/>
                    </a:lnTo>
                    <a:lnTo>
                      <a:pt x="316" y="38"/>
                    </a:lnTo>
                    <a:lnTo>
                      <a:pt x="336" y="31"/>
                    </a:lnTo>
                    <a:lnTo>
                      <a:pt x="358" y="25"/>
                    </a:lnTo>
                    <a:lnTo>
                      <a:pt x="382" y="18"/>
                    </a:lnTo>
                    <a:lnTo>
                      <a:pt x="408" y="12"/>
                    </a:lnTo>
                    <a:lnTo>
                      <a:pt x="435" y="8"/>
                    </a:lnTo>
                    <a:lnTo>
                      <a:pt x="462" y="4"/>
                    </a:lnTo>
                    <a:lnTo>
                      <a:pt x="492" y="2"/>
                    </a:lnTo>
                    <a:lnTo>
                      <a:pt x="520" y="0"/>
                    </a:lnTo>
                    <a:lnTo>
                      <a:pt x="550" y="0"/>
                    </a:lnTo>
                    <a:lnTo>
                      <a:pt x="581" y="2"/>
                    </a:lnTo>
                    <a:lnTo>
                      <a:pt x="610" y="5"/>
                    </a:lnTo>
                    <a:lnTo>
                      <a:pt x="625" y="9"/>
                    </a:lnTo>
                    <a:lnTo>
                      <a:pt x="638" y="18"/>
                    </a:lnTo>
                    <a:lnTo>
                      <a:pt x="649" y="31"/>
                    </a:lnTo>
                    <a:lnTo>
                      <a:pt x="662" y="44"/>
                    </a:lnTo>
                    <a:lnTo>
                      <a:pt x="675" y="59"/>
                    </a:lnTo>
                    <a:lnTo>
                      <a:pt x="691" y="73"/>
                    </a:lnTo>
                    <a:lnTo>
                      <a:pt x="710" y="85"/>
                    </a:lnTo>
                    <a:lnTo>
                      <a:pt x="732" y="94"/>
                    </a:lnTo>
                    <a:lnTo>
                      <a:pt x="742" y="94"/>
                    </a:lnTo>
                    <a:lnTo>
                      <a:pt x="753" y="88"/>
                    </a:lnTo>
                    <a:lnTo>
                      <a:pt x="763" y="79"/>
                    </a:lnTo>
                    <a:lnTo>
                      <a:pt x="775" y="68"/>
                    </a:lnTo>
                    <a:lnTo>
                      <a:pt x="789" y="59"/>
                    </a:lnTo>
                    <a:lnTo>
                      <a:pt x="806" y="54"/>
                    </a:lnTo>
                    <a:lnTo>
                      <a:pt x="826" y="55"/>
                    </a:lnTo>
                    <a:lnTo>
                      <a:pt x="852" y="64"/>
                    </a:lnTo>
                    <a:lnTo>
                      <a:pt x="862" y="67"/>
                    </a:lnTo>
                    <a:lnTo>
                      <a:pt x="872" y="65"/>
                    </a:lnTo>
                    <a:lnTo>
                      <a:pt x="881" y="61"/>
                    </a:lnTo>
                    <a:lnTo>
                      <a:pt x="891" y="56"/>
                    </a:lnTo>
                    <a:lnTo>
                      <a:pt x="900" y="49"/>
                    </a:lnTo>
                    <a:lnTo>
                      <a:pt x="912" y="45"/>
                    </a:lnTo>
                    <a:lnTo>
                      <a:pt x="923" y="44"/>
                    </a:lnTo>
                    <a:lnTo>
                      <a:pt x="937" y="46"/>
                    </a:lnTo>
                    <a:lnTo>
                      <a:pt x="946" y="51"/>
                    </a:lnTo>
                    <a:lnTo>
                      <a:pt x="953" y="57"/>
                    </a:lnTo>
                    <a:lnTo>
                      <a:pt x="959" y="63"/>
                    </a:lnTo>
                    <a:lnTo>
                      <a:pt x="965" y="70"/>
                    </a:lnTo>
                    <a:lnTo>
                      <a:pt x="971" y="77"/>
                    </a:lnTo>
                    <a:lnTo>
                      <a:pt x="979" y="82"/>
                    </a:lnTo>
                    <a:lnTo>
                      <a:pt x="989" y="85"/>
                    </a:lnTo>
                    <a:lnTo>
                      <a:pt x="1003" y="86"/>
                    </a:lnTo>
                    <a:lnTo>
                      <a:pt x="1014" y="85"/>
                    </a:lnTo>
                    <a:lnTo>
                      <a:pt x="1023" y="83"/>
                    </a:lnTo>
                    <a:lnTo>
                      <a:pt x="1033" y="80"/>
                    </a:lnTo>
                    <a:lnTo>
                      <a:pt x="1042" y="77"/>
                    </a:lnTo>
                    <a:lnTo>
                      <a:pt x="1052" y="74"/>
                    </a:lnTo>
                    <a:lnTo>
                      <a:pt x="1062" y="72"/>
                    </a:lnTo>
                    <a:lnTo>
                      <a:pt x="1072" y="73"/>
                    </a:lnTo>
                    <a:lnTo>
                      <a:pt x="1081" y="75"/>
                    </a:lnTo>
                    <a:lnTo>
                      <a:pt x="1098" y="84"/>
                    </a:lnTo>
                    <a:lnTo>
                      <a:pt x="1107" y="94"/>
                    </a:lnTo>
                    <a:lnTo>
                      <a:pt x="1113" y="106"/>
                    </a:lnTo>
                    <a:lnTo>
                      <a:pt x="1115" y="117"/>
                    </a:lnTo>
                    <a:lnTo>
                      <a:pt x="1116" y="126"/>
                    </a:lnTo>
                    <a:lnTo>
                      <a:pt x="1117" y="136"/>
                    </a:lnTo>
                    <a:lnTo>
                      <a:pt x="1120" y="141"/>
                    </a:lnTo>
                    <a:lnTo>
                      <a:pt x="1125" y="143"/>
                    </a:lnTo>
                    <a:lnTo>
                      <a:pt x="1143" y="145"/>
                    </a:lnTo>
                    <a:lnTo>
                      <a:pt x="1158" y="153"/>
                    </a:lnTo>
                    <a:lnTo>
                      <a:pt x="1169" y="165"/>
                    </a:lnTo>
                    <a:lnTo>
                      <a:pt x="1175" y="178"/>
                    </a:lnTo>
                    <a:lnTo>
                      <a:pt x="1178" y="194"/>
                    </a:lnTo>
                    <a:lnTo>
                      <a:pt x="1178" y="209"/>
                    </a:lnTo>
                    <a:lnTo>
                      <a:pt x="1171" y="224"/>
                    </a:lnTo>
                    <a:lnTo>
                      <a:pt x="1162" y="235"/>
                    </a:lnTo>
                    <a:lnTo>
                      <a:pt x="1179" y="246"/>
                    </a:lnTo>
                    <a:lnTo>
                      <a:pt x="1189" y="260"/>
                    </a:lnTo>
                    <a:lnTo>
                      <a:pt x="1195" y="278"/>
                    </a:lnTo>
                    <a:lnTo>
                      <a:pt x="1192" y="296"/>
                    </a:lnTo>
                    <a:lnTo>
                      <a:pt x="1180" y="312"/>
                    </a:lnTo>
                    <a:lnTo>
                      <a:pt x="1160" y="324"/>
                    </a:lnTo>
                    <a:lnTo>
                      <a:pt x="1130" y="330"/>
                    </a:lnTo>
                    <a:lnTo>
                      <a:pt x="1089" y="3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8891000">
                <a:off x="4020120" y="5510880"/>
                <a:ext cx="14400" cy="4212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17" y="56"/>
                    </a:moveTo>
                    <a:lnTo>
                      <a:pt x="23" y="54"/>
                    </a:lnTo>
                    <a:lnTo>
                      <a:pt x="28" y="49"/>
                    </a:lnTo>
                    <a:lnTo>
                      <a:pt x="31" y="39"/>
                    </a:lnTo>
                    <a:lnTo>
                      <a:pt x="31" y="29"/>
                    </a:lnTo>
                    <a:lnTo>
                      <a:pt x="28" y="18"/>
                    </a:lnTo>
                    <a:lnTo>
                      <a:pt x="25" y="9"/>
                    </a:lnTo>
                    <a:lnTo>
                      <a:pt x="19" y="3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1" y="38"/>
                    </a:lnTo>
                    <a:lnTo>
                      <a:pt x="5" y="48"/>
                    </a:lnTo>
                    <a:lnTo>
                      <a:pt x="10" y="54"/>
                    </a:lnTo>
                    <a:lnTo>
                      <a:pt x="17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8891000">
                <a:off x="3819240" y="5996520"/>
                <a:ext cx="27360" cy="38880"/>
              </a:xfrm>
              <a:custGeom>
                <a:avLst/>
                <a:gdLst/>
                <a:ahLst/>
                <a:rect l="l" t="t" r="r" b="b"/>
                <a:pathLst>
                  <a:path w="63" h="53">
                    <a:moveTo>
                      <a:pt x="0" y="17"/>
                    </a:moveTo>
                    <a:lnTo>
                      <a:pt x="0" y="11"/>
                    </a:lnTo>
                    <a:lnTo>
                      <a:pt x="4" y="8"/>
                    </a:lnTo>
                    <a:lnTo>
                      <a:pt x="9" y="6"/>
                    </a:lnTo>
                    <a:lnTo>
                      <a:pt x="17" y="5"/>
                    </a:lnTo>
                    <a:lnTo>
                      <a:pt x="26" y="5"/>
                    </a:lnTo>
                    <a:lnTo>
                      <a:pt x="35" y="4"/>
                    </a:lnTo>
                    <a:lnTo>
                      <a:pt x="44" y="2"/>
                    </a:lnTo>
                    <a:lnTo>
                      <a:pt x="53" y="0"/>
                    </a:lnTo>
                    <a:lnTo>
                      <a:pt x="55" y="9"/>
                    </a:lnTo>
                    <a:lnTo>
                      <a:pt x="58" y="17"/>
                    </a:lnTo>
                    <a:lnTo>
                      <a:pt x="62" y="26"/>
                    </a:lnTo>
                    <a:lnTo>
                      <a:pt x="63" y="37"/>
                    </a:lnTo>
                    <a:lnTo>
                      <a:pt x="59" y="42"/>
                    </a:lnTo>
                    <a:lnTo>
                      <a:pt x="53" y="46"/>
                    </a:lnTo>
                    <a:lnTo>
                      <a:pt x="46" y="49"/>
                    </a:lnTo>
                    <a:lnTo>
                      <a:pt x="39" y="51"/>
                    </a:lnTo>
                    <a:lnTo>
                      <a:pt x="31" y="53"/>
                    </a:lnTo>
                    <a:lnTo>
                      <a:pt x="23" y="53"/>
                    </a:lnTo>
                    <a:lnTo>
                      <a:pt x="17" y="53"/>
                    </a:lnTo>
                    <a:lnTo>
                      <a:pt x="13" y="52"/>
                    </a:lnTo>
                    <a:lnTo>
                      <a:pt x="8" y="47"/>
                    </a:lnTo>
                    <a:lnTo>
                      <a:pt x="4" y="38"/>
                    </a:lnTo>
                    <a:lnTo>
                      <a:pt x="1" y="2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8891000">
                <a:off x="4051800" y="5560920"/>
                <a:ext cx="31320" cy="38880"/>
              </a:xfrm>
              <a:custGeom>
                <a:avLst/>
                <a:gdLst/>
                <a:ahLst/>
                <a:rect l="l" t="t" r="r" b="b"/>
                <a:pathLst>
                  <a:path w="74" h="54">
                    <a:moveTo>
                      <a:pt x="73" y="0"/>
                    </a:moveTo>
                    <a:lnTo>
                      <a:pt x="74" y="12"/>
                    </a:lnTo>
                    <a:lnTo>
                      <a:pt x="74" y="22"/>
                    </a:lnTo>
                    <a:lnTo>
                      <a:pt x="70" y="31"/>
                    </a:lnTo>
                    <a:lnTo>
                      <a:pt x="63" y="40"/>
                    </a:lnTo>
                    <a:lnTo>
                      <a:pt x="54" y="46"/>
                    </a:lnTo>
                    <a:lnTo>
                      <a:pt x="44" y="51"/>
                    </a:lnTo>
                    <a:lnTo>
                      <a:pt x="31" y="54"/>
                    </a:lnTo>
                    <a:lnTo>
                      <a:pt x="17" y="54"/>
                    </a:lnTo>
                    <a:lnTo>
                      <a:pt x="4" y="50"/>
                    </a:lnTo>
                    <a:lnTo>
                      <a:pt x="0" y="40"/>
                    </a:lnTo>
                    <a:lnTo>
                      <a:pt x="1" y="29"/>
                    </a:lnTo>
                    <a:lnTo>
                      <a:pt x="9" y="21"/>
                    </a:lnTo>
                    <a:lnTo>
                      <a:pt x="14" y="19"/>
                    </a:lnTo>
                    <a:lnTo>
                      <a:pt x="18" y="19"/>
                    </a:lnTo>
                    <a:lnTo>
                      <a:pt x="22" y="19"/>
                    </a:lnTo>
                    <a:lnTo>
                      <a:pt x="26" y="19"/>
                    </a:lnTo>
                    <a:lnTo>
                      <a:pt x="32" y="18"/>
                    </a:lnTo>
                    <a:lnTo>
                      <a:pt x="42" y="15"/>
                    </a:lnTo>
                    <a:lnTo>
                      <a:pt x="54" y="1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8891000">
                <a:off x="3651840" y="5562360"/>
                <a:ext cx="464040" cy="325440"/>
              </a:xfrm>
              <a:custGeom>
                <a:avLst/>
                <a:gdLst/>
                <a:ahLst/>
                <a:rect l="l" t="t" r="r" b="b"/>
                <a:pathLst>
                  <a:path w="1049" h="447">
                    <a:moveTo>
                      <a:pt x="999" y="235"/>
                    </a:moveTo>
                    <a:lnTo>
                      <a:pt x="1007" y="239"/>
                    </a:lnTo>
                    <a:lnTo>
                      <a:pt x="1016" y="241"/>
                    </a:lnTo>
                    <a:lnTo>
                      <a:pt x="1026" y="240"/>
                    </a:lnTo>
                    <a:lnTo>
                      <a:pt x="1036" y="237"/>
                    </a:lnTo>
                    <a:lnTo>
                      <a:pt x="1044" y="233"/>
                    </a:lnTo>
                    <a:lnTo>
                      <a:pt x="1049" y="228"/>
                    </a:lnTo>
                    <a:lnTo>
                      <a:pt x="1049" y="222"/>
                    </a:lnTo>
                    <a:lnTo>
                      <a:pt x="1043" y="215"/>
                    </a:lnTo>
                    <a:lnTo>
                      <a:pt x="1031" y="204"/>
                    </a:lnTo>
                    <a:lnTo>
                      <a:pt x="1027" y="192"/>
                    </a:lnTo>
                    <a:lnTo>
                      <a:pt x="1027" y="179"/>
                    </a:lnTo>
                    <a:lnTo>
                      <a:pt x="1029" y="166"/>
                    </a:lnTo>
                    <a:lnTo>
                      <a:pt x="1030" y="154"/>
                    </a:lnTo>
                    <a:lnTo>
                      <a:pt x="1030" y="144"/>
                    </a:lnTo>
                    <a:lnTo>
                      <a:pt x="1025" y="135"/>
                    </a:lnTo>
                    <a:lnTo>
                      <a:pt x="1012" y="131"/>
                    </a:lnTo>
                    <a:lnTo>
                      <a:pt x="1005" y="103"/>
                    </a:lnTo>
                    <a:lnTo>
                      <a:pt x="996" y="88"/>
                    </a:lnTo>
                    <a:lnTo>
                      <a:pt x="986" y="81"/>
                    </a:lnTo>
                    <a:lnTo>
                      <a:pt x="973" y="82"/>
                    </a:lnTo>
                    <a:lnTo>
                      <a:pt x="960" y="88"/>
                    </a:lnTo>
                    <a:lnTo>
                      <a:pt x="949" y="95"/>
                    </a:lnTo>
                    <a:lnTo>
                      <a:pt x="938" y="101"/>
                    </a:lnTo>
                    <a:lnTo>
                      <a:pt x="930" y="104"/>
                    </a:lnTo>
                    <a:lnTo>
                      <a:pt x="911" y="102"/>
                    </a:lnTo>
                    <a:lnTo>
                      <a:pt x="897" y="96"/>
                    </a:lnTo>
                    <a:lnTo>
                      <a:pt x="885" y="87"/>
                    </a:lnTo>
                    <a:lnTo>
                      <a:pt x="876" y="77"/>
                    </a:lnTo>
                    <a:lnTo>
                      <a:pt x="866" y="68"/>
                    </a:lnTo>
                    <a:lnTo>
                      <a:pt x="853" y="61"/>
                    </a:lnTo>
                    <a:lnTo>
                      <a:pt x="837" y="57"/>
                    </a:lnTo>
                    <a:lnTo>
                      <a:pt x="817" y="59"/>
                    </a:lnTo>
                    <a:lnTo>
                      <a:pt x="812" y="61"/>
                    </a:lnTo>
                    <a:lnTo>
                      <a:pt x="805" y="64"/>
                    </a:lnTo>
                    <a:lnTo>
                      <a:pt x="796" y="68"/>
                    </a:lnTo>
                    <a:lnTo>
                      <a:pt x="787" y="71"/>
                    </a:lnTo>
                    <a:lnTo>
                      <a:pt x="778" y="73"/>
                    </a:lnTo>
                    <a:lnTo>
                      <a:pt x="769" y="74"/>
                    </a:lnTo>
                    <a:lnTo>
                      <a:pt x="761" y="72"/>
                    </a:lnTo>
                    <a:lnTo>
                      <a:pt x="753" y="67"/>
                    </a:lnTo>
                    <a:lnTo>
                      <a:pt x="740" y="57"/>
                    </a:lnTo>
                    <a:lnTo>
                      <a:pt x="730" y="53"/>
                    </a:lnTo>
                    <a:lnTo>
                      <a:pt x="721" y="57"/>
                    </a:lnTo>
                    <a:lnTo>
                      <a:pt x="712" y="64"/>
                    </a:lnTo>
                    <a:lnTo>
                      <a:pt x="702" y="74"/>
                    </a:lnTo>
                    <a:lnTo>
                      <a:pt x="690" y="85"/>
                    </a:lnTo>
                    <a:lnTo>
                      <a:pt x="676" y="96"/>
                    </a:lnTo>
                    <a:lnTo>
                      <a:pt x="656" y="104"/>
                    </a:lnTo>
                    <a:lnTo>
                      <a:pt x="645" y="104"/>
                    </a:lnTo>
                    <a:lnTo>
                      <a:pt x="633" y="99"/>
                    </a:lnTo>
                    <a:lnTo>
                      <a:pt x="623" y="90"/>
                    </a:lnTo>
                    <a:lnTo>
                      <a:pt x="611" y="77"/>
                    </a:lnTo>
                    <a:lnTo>
                      <a:pt x="600" y="65"/>
                    </a:lnTo>
                    <a:lnTo>
                      <a:pt x="588" y="53"/>
                    </a:lnTo>
                    <a:lnTo>
                      <a:pt x="575" y="44"/>
                    </a:lnTo>
                    <a:lnTo>
                      <a:pt x="559" y="39"/>
                    </a:lnTo>
                    <a:lnTo>
                      <a:pt x="553" y="36"/>
                    </a:lnTo>
                    <a:lnTo>
                      <a:pt x="547" y="31"/>
                    </a:lnTo>
                    <a:lnTo>
                      <a:pt x="540" y="24"/>
                    </a:lnTo>
                    <a:lnTo>
                      <a:pt x="534" y="17"/>
                    </a:lnTo>
                    <a:lnTo>
                      <a:pt x="525" y="10"/>
                    </a:lnTo>
                    <a:lnTo>
                      <a:pt x="514" y="5"/>
                    </a:lnTo>
                    <a:lnTo>
                      <a:pt x="503" y="0"/>
                    </a:lnTo>
                    <a:lnTo>
                      <a:pt x="487" y="0"/>
                    </a:lnTo>
                    <a:lnTo>
                      <a:pt x="470" y="1"/>
                    </a:lnTo>
                    <a:lnTo>
                      <a:pt x="451" y="2"/>
                    </a:lnTo>
                    <a:lnTo>
                      <a:pt x="430" y="2"/>
                    </a:lnTo>
                    <a:lnTo>
                      <a:pt x="410" y="4"/>
                    </a:lnTo>
                    <a:lnTo>
                      <a:pt x="389" y="6"/>
                    </a:lnTo>
                    <a:lnTo>
                      <a:pt x="367" y="9"/>
                    </a:lnTo>
                    <a:lnTo>
                      <a:pt x="346" y="14"/>
                    </a:lnTo>
                    <a:lnTo>
                      <a:pt x="327" y="22"/>
                    </a:lnTo>
                    <a:lnTo>
                      <a:pt x="313" y="27"/>
                    </a:lnTo>
                    <a:lnTo>
                      <a:pt x="296" y="32"/>
                    </a:lnTo>
                    <a:lnTo>
                      <a:pt x="278" y="35"/>
                    </a:lnTo>
                    <a:lnTo>
                      <a:pt x="258" y="39"/>
                    </a:lnTo>
                    <a:lnTo>
                      <a:pt x="239" y="43"/>
                    </a:lnTo>
                    <a:lnTo>
                      <a:pt x="221" y="50"/>
                    </a:lnTo>
                    <a:lnTo>
                      <a:pt x="204" y="59"/>
                    </a:lnTo>
                    <a:lnTo>
                      <a:pt x="191" y="71"/>
                    </a:lnTo>
                    <a:lnTo>
                      <a:pt x="179" y="90"/>
                    </a:lnTo>
                    <a:lnTo>
                      <a:pt x="170" y="109"/>
                    </a:lnTo>
                    <a:lnTo>
                      <a:pt x="164" y="130"/>
                    </a:lnTo>
                    <a:lnTo>
                      <a:pt x="157" y="150"/>
                    </a:lnTo>
                    <a:lnTo>
                      <a:pt x="154" y="170"/>
                    </a:lnTo>
                    <a:lnTo>
                      <a:pt x="148" y="186"/>
                    </a:lnTo>
                    <a:lnTo>
                      <a:pt x="143" y="201"/>
                    </a:lnTo>
                    <a:lnTo>
                      <a:pt x="135" y="210"/>
                    </a:lnTo>
                    <a:lnTo>
                      <a:pt x="112" y="229"/>
                    </a:lnTo>
                    <a:lnTo>
                      <a:pt x="93" y="243"/>
                    </a:lnTo>
                    <a:lnTo>
                      <a:pt x="73" y="253"/>
                    </a:lnTo>
                    <a:lnTo>
                      <a:pt x="58" y="260"/>
                    </a:lnTo>
                    <a:lnTo>
                      <a:pt x="45" y="265"/>
                    </a:lnTo>
                    <a:lnTo>
                      <a:pt x="33" y="270"/>
                    </a:lnTo>
                    <a:lnTo>
                      <a:pt x="26" y="276"/>
                    </a:lnTo>
                    <a:lnTo>
                      <a:pt x="20" y="283"/>
                    </a:lnTo>
                    <a:lnTo>
                      <a:pt x="15" y="294"/>
                    </a:lnTo>
                    <a:lnTo>
                      <a:pt x="8" y="311"/>
                    </a:lnTo>
                    <a:lnTo>
                      <a:pt x="2" y="333"/>
                    </a:lnTo>
                    <a:lnTo>
                      <a:pt x="5" y="355"/>
                    </a:lnTo>
                    <a:lnTo>
                      <a:pt x="8" y="375"/>
                    </a:lnTo>
                    <a:lnTo>
                      <a:pt x="2" y="394"/>
                    </a:lnTo>
                    <a:lnTo>
                      <a:pt x="0" y="409"/>
                    </a:lnTo>
                    <a:lnTo>
                      <a:pt x="8" y="415"/>
                    </a:lnTo>
                    <a:lnTo>
                      <a:pt x="24" y="420"/>
                    </a:lnTo>
                    <a:lnTo>
                      <a:pt x="35" y="427"/>
                    </a:lnTo>
                    <a:lnTo>
                      <a:pt x="39" y="437"/>
                    </a:lnTo>
                    <a:lnTo>
                      <a:pt x="40" y="445"/>
                    </a:lnTo>
                    <a:lnTo>
                      <a:pt x="42" y="447"/>
                    </a:lnTo>
                    <a:lnTo>
                      <a:pt x="49" y="447"/>
                    </a:lnTo>
                    <a:lnTo>
                      <a:pt x="58" y="447"/>
                    </a:lnTo>
                    <a:lnTo>
                      <a:pt x="68" y="446"/>
                    </a:lnTo>
                    <a:lnTo>
                      <a:pt x="80" y="444"/>
                    </a:lnTo>
                    <a:lnTo>
                      <a:pt x="90" y="441"/>
                    </a:lnTo>
                    <a:lnTo>
                      <a:pt x="98" y="436"/>
                    </a:lnTo>
                    <a:lnTo>
                      <a:pt x="103" y="429"/>
                    </a:lnTo>
                    <a:lnTo>
                      <a:pt x="110" y="417"/>
                    </a:lnTo>
                    <a:lnTo>
                      <a:pt x="117" y="405"/>
                    </a:lnTo>
                    <a:lnTo>
                      <a:pt x="128" y="395"/>
                    </a:lnTo>
                    <a:lnTo>
                      <a:pt x="139" y="385"/>
                    </a:lnTo>
                    <a:lnTo>
                      <a:pt x="152" y="374"/>
                    </a:lnTo>
                    <a:lnTo>
                      <a:pt x="165" y="365"/>
                    </a:lnTo>
                    <a:lnTo>
                      <a:pt x="179" y="357"/>
                    </a:lnTo>
                    <a:lnTo>
                      <a:pt x="195" y="349"/>
                    </a:lnTo>
                    <a:lnTo>
                      <a:pt x="212" y="342"/>
                    </a:lnTo>
                    <a:lnTo>
                      <a:pt x="227" y="336"/>
                    </a:lnTo>
                    <a:lnTo>
                      <a:pt x="244" y="331"/>
                    </a:lnTo>
                    <a:lnTo>
                      <a:pt x="261" y="327"/>
                    </a:lnTo>
                    <a:lnTo>
                      <a:pt x="278" y="323"/>
                    </a:lnTo>
                    <a:lnTo>
                      <a:pt x="294" y="321"/>
                    </a:lnTo>
                    <a:lnTo>
                      <a:pt x="310" y="320"/>
                    </a:lnTo>
                    <a:lnTo>
                      <a:pt x="326" y="320"/>
                    </a:lnTo>
                    <a:lnTo>
                      <a:pt x="338" y="321"/>
                    </a:lnTo>
                    <a:lnTo>
                      <a:pt x="351" y="322"/>
                    </a:lnTo>
                    <a:lnTo>
                      <a:pt x="363" y="326"/>
                    </a:lnTo>
                    <a:lnTo>
                      <a:pt x="375" y="331"/>
                    </a:lnTo>
                    <a:lnTo>
                      <a:pt x="386" y="338"/>
                    </a:lnTo>
                    <a:lnTo>
                      <a:pt x="399" y="348"/>
                    </a:lnTo>
                    <a:lnTo>
                      <a:pt x="411" y="362"/>
                    </a:lnTo>
                    <a:lnTo>
                      <a:pt x="422" y="380"/>
                    </a:lnTo>
                    <a:lnTo>
                      <a:pt x="429" y="385"/>
                    </a:lnTo>
                    <a:lnTo>
                      <a:pt x="437" y="383"/>
                    </a:lnTo>
                    <a:lnTo>
                      <a:pt x="447" y="375"/>
                    </a:lnTo>
                    <a:lnTo>
                      <a:pt x="459" y="367"/>
                    </a:lnTo>
                    <a:lnTo>
                      <a:pt x="473" y="359"/>
                    </a:lnTo>
                    <a:lnTo>
                      <a:pt x="490" y="354"/>
                    </a:lnTo>
                    <a:lnTo>
                      <a:pt x="509" y="355"/>
                    </a:lnTo>
                    <a:lnTo>
                      <a:pt x="532" y="364"/>
                    </a:lnTo>
                    <a:lnTo>
                      <a:pt x="541" y="367"/>
                    </a:lnTo>
                    <a:lnTo>
                      <a:pt x="550" y="366"/>
                    </a:lnTo>
                    <a:lnTo>
                      <a:pt x="557" y="361"/>
                    </a:lnTo>
                    <a:lnTo>
                      <a:pt x="563" y="355"/>
                    </a:lnTo>
                    <a:lnTo>
                      <a:pt x="570" y="346"/>
                    </a:lnTo>
                    <a:lnTo>
                      <a:pt x="576" y="340"/>
                    </a:lnTo>
                    <a:lnTo>
                      <a:pt x="585" y="335"/>
                    </a:lnTo>
                    <a:lnTo>
                      <a:pt x="596" y="333"/>
                    </a:lnTo>
                    <a:lnTo>
                      <a:pt x="607" y="334"/>
                    </a:lnTo>
                    <a:lnTo>
                      <a:pt x="616" y="337"/>
                    </a:lnTo>
                    <a:lnTo>
                      <a:pt x="621" y="341"/>
                    </a:lnTo>
                    <a:lnTo>
                      <a:pt x="625" y="345"/>
                    </a:lnTo>
                    <a:lnTo>
                      <a:pt x="629" y="349"/>
                    </a:lnTo>
                    <a:lnTo>
                      <a:pt x="633" y="353"/>
                    </a:lnTo>
                    <a:lnTo>
                      <a:pt x="638" y="354"/>
                    </a:lnTo>
                    <a:lnTo>
                      <a:pt x="647" y="353"/>
                    </a:lnTo>
                    <a:lnTo>
                      <a:pt x="655" y="350"/>
                    </a:lnTo>
                    <a:lnTo>
                      <a:pt x="663" y="345"/>
                    </a:lnTo>
                    <a:lnTo>
                      <a:pt x="672" y="339"/>
                    </a:lnTo>
                    <a:lnTo>
                      <a:pt x="681" y="331"/>
                    </a:lnTo>
                    <a:lnTo>
                      <a:pt x="689" y="323"/>
                    </a:lnTo>
                    <a:lnTo>
                      <a:pt x="696" y="315"/>
                    </a:lnTo>
                    <a:lnTo>
                      <a:pt x="703" y="308"/>
                    </a:lnTo>
                    <a:lnTo>
                      <a:pt x="708" y="303"/>
                    </a:lnTo>
                    <a:lnTo>
                      <a:pt x="720" y="288"/>
                    </a:lnTo>
                    <a:lnTo>
                      <a:pt x="733" y="276"/>
                    </a:lnTo>
                    <a:lnTo>
                      <a:pt x="744" y="264"/>
                    </a:lnTo>
                    <a:lnTo>
                      <a:pt x="757" y="255"/>
                    </a:lnTo>
                    <a:lnTo>
                      <a:pt x="769" y="247"/>
                    </a:lnTo>
                    <a:lnTo>
                      <a:pt x="782" y="240"/>
                    </a:lnTo>
                    <a:lnTo>
                      <a:pt x="792" y="235"/>
                    </a:lnTo>
                    <a:lnTo>
                      <a:pt x="804" y="230"/>
                    </a:lnTo>
                    <a:lnTo>
                      <a:pt x="813" y="227"/>
                    </a:lnTo>
                    <a:lnTo>
                      <a:pt x="830" y="222"/>
                    </a:lnTo>
                    <a:lnTo>
                      <a:pt x="853" y="215"/>
                    </a:lnTo>
                    <a:lnTo>
                      <a:pt x="880" y="210"/>
                    </a:lnTo>
                    <a:lnTo>
                      <a:pt x="911" y="208"/>
                    </a:lnTo>
                    <a:lnTo>
                      <a:pt x="942" y="210"/>
                    </a:lnTo>
                    <a:lnTo>
                      <a:pt x="972" y="219"/>
                    </a:lnTo>
                    <a:lnTo>
                      <a:pt x="999" y="235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8891000">
                <a:off x="3754080" y="5626800"/>
                <a:ext cx="90000" cy="79920"/>
              </a:xfrm>
              <a:custGeom>
                <a:avLst/>
                <a:gdLst/>
                <a:ahLst/>
                <a:rect l="l" t="t" r="r" b="b"/>
                <a:pathLst>
                  <a:path w="202" h="109">
                    <a:moveTo>
                      <a:pt x="202" y="74"/>
                    </a:moveTo>
                    <a:lnTo>
                      <a:pt x="194" y="77"/>
                    </a:lnTo>
                    <a:lnTo>
                      <a:pt x="176" y="84"/>
                    </a:lnTo>
                    <a:lnTo>
                      <a:pt x="152" y="90"/>
                    </a:lnTo>
                    <a:lnTo>
                      <a:pt x="122" y="96"/>
                    </a:lnTo>
                    <a:lnTo>
                      <a:pt x="92" y="102"/>
                    </a:lnTo>
                    <a:lnTo>
                      <a:pt x="64" y="107"/>
                    </a:lnTo>
                    <a:lnTo>
                      <a:pt x="42" y="109"/>
                    </a:lnTo>
                    <a:lnTo>
                      <a:pt x="28" y="108"/>
                    </a:lnTo>
                    <a:lnTo>
                      <a:pt x="18" y="93"/>
                    </a:lnTo>
                    <a:lnTo>
                      <a:pt x="8" y="63"/>
                    </a:lnTo>
                    <a:lnTo>
                      <a:pt x="2" y="32"/>
                    </a:lnTo>
                    <a:lnTo>
                      <a:pt x="0" y="15"/>
                    </a:lnTo>
                    <a:lnTo>
                      <a:pt x="7" y="13"/>
                    </a:lnTo>
                    <a:lnTo>
                      <a:pt x="17" y="10"/>
                    </a:lnTo>
                    <a:lnTo>
                      <a:pt x="33" y="8"/>
                    </a:lnTo>
                    <a:lnTo>
                      <a:pt x="51" y="5"/>
                    </a:lnTo>
                    <a:lnTo>
                      <a:pt x="68" y="3"/>
                    </a:lnTo>
                    <a:lnTo>
                      <a:pt x="83" y="1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0" y="3"/>
                    </a:lnTo>
                    <a:lnTo>
                      <a:pt x="123" y="10"/>
                    </a:lnTo>
                    <a:lnTo>
                      <a:pt x="140" y="21"/>
                    </a:lnTo>
                    <a:lnTo>
                      <a:pt x="158" y="34"/>
                    </a:lnTo>
                    <a:lnTo>
                      <a:pt x="176" y="47"/>
                    </a:lnTo>
                    <a:lnTo>
                      <a:pt x="190" y="59"/>
                    </a:lnTo>
                    <a:lnTo>
                      <a:pt x="199" y="68"/>
                    </a:lnTo>
                    <a:lnTo>
                      <a:pt x="20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8891000">
                <a:off x="3723840" y="5706360"/>
                <a:ext cx="64800" cy="85320"/>
              </a:xfrm>
              <a:custGeom>
                <a:avLst/>
                <a:gdLst/>
                <a:ahLst/>
                <a:rect l="l" t="t" r="r" b="b"/>
                <a:pathLst>
                  <a:path w="149" h="116">
                    <a:moveTo>
                      <a:pt x="117" y="1"/>
                    </a:moveTo>
                    <a:lnTo>
                      <a:pt x="126" y="13"/>
                    </a:lnTo>
                    <a:lnTo>
                      <a:pt x="135" y="39"/>
                    </a:lnTo>
                    <a:lnTo>
                      <a:pt x="142" y="65"/>
                    </a:lnTo>
                    <a:lnTo>
                      <a:pt x="149" y="82"/>
                    </a:lnTo>
                    <a:lnTo>
                      <a:pt x="145" y="86"/>
                    </a:lnTo>
                    <a:lnTo>
                      <a:pt x="129" y="92"/>
                    </a:lnTo>
                    <a:lnTo>
                      <a:pt x="107" y="98"/>
                    </a:lnTo>
                    <a:lnTo>
                      <a:pt x="80" y="105"/>
                    </a:lnTo>
                    <a:lnTo>
                      <a:pt x="53" y="111"/>
                    </a:lnTo>
                    <a:lnTo>
                      <a:pt x="29" y="114"/>
                    </a:lnTo>
                    <a:lnTo>
                      <a:pt x="11" y="116"/>
                    </a:lnTo>
                    <a:lnTo>
                      <a:pt x="3" y="114"/>
                    </a:lnTo>
                    <a:lnTo>
                      <a:pt x="0" y="94"/>
                    </a:lnTo>
                    <a:lnTo>
                      <a:pt x="3" y="62"/>
                    </a:lnTo>
                    <a:lnTo>
                      <a:pt x="12" y="31"/>
                    </a:lnTo>
                    <a:lnTo>
                      <a:pt x="30" y="14"/>
                    </a:lnTo>
                    <a:lnTo>
                      <a:pt x="42" y="12"/>
                    </a:lnTo>
                    <a:lnTo>
                      <a:pt x="54" y="9"/>
                    </a:lnTo>
                    <a:lnTo>
                      <a:pt x="67" y="7"/>
                    </a:lnTo>
                    <a:lnTo>
                      <a:pt x="80" y="4"/>
                    </a:lnTo>
                    <a:lnTo>
                      <a:pt x="92" y="2"/>
                    </a:lnTo>
                    <a:lnTo>
                      <a:pt x="102" y="1"/>
                    </a:lnTo>
                    <a:lnTo>
                      <a:pt x="110" y="0"/>
                    </a:lnTo>
                    <a:lnTo>
                      <a:pt x="11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8891000">
                <a:off x="3758760" y="5425200"/>
                <a:ext cx="127080" cy="113040"/>
              </a:xfrm>
              <a:custGeom>
                <a:avLst/>
                <a:gdLst/>
                <a:ahLst/>
                <a:rect l="l" t="t" r="r" b="b"/>
                <a:pathLst>
                  <a:path w="288" h="156">
                    <a:moveTo>
                      <a:pt x="1" y="63"/>
                    </a:moveTo>
                    <a:lnTo>
                      <a:pt x="0" y="69"/>
                    </a:lnTo>
                    <a:lnTo>
                      <a:pt x="3" y="81"/>
                    </a:lnTo>
                    <a:lnTo>
                      <a:pt x="9" y="95"/>
                    </a:lnTo>
                    <a:lnTo>
                      <a:pt x="18" y="110"/>
                    </a:lnTo>
                    <a:lnTo>
                      <a:pt x="27" y="125"/>
                    </a:lnTo>
                    <a:lnTo>
                      <a:pt x="35" y="139"/>
                    </a:lnTo>
                    <a:lnTo>
                      <a:pt x="42" y="149"/>
                    </a:lnTo>
                    <a:lnTo>
                      <a:pt x="45" y="155"/>
                    </a:lnTo>
                    <a:lnTo>
                      <a:pt x="51" y="156"/>
                    </a:lnTo>
                    <a:lnTo>
                      <a:pt x="56" y="152"/>
                    </a:lnTo>
                    <a:lnTo>
                      <a:pt x="60" y="148"/>
                    </a:lnTo>
                    <a:lnTo>
                      <a:pt x="60" y="144"/>
                    </a:lnTo>
                    <a:lnTo>
                      <a:pt x="53" y="133"/>
                    </a:lnTo>
                    <a:lnTo>
                      <a:pt x="43" y="113"/>
                    </a:lnTo>
                    <a:lnTo>
                      <a:pt x="35" y="94"/>
                    </a:lnTo>
                    <a:lnTo>
                      <a:pt x="33" y="86"/>
                    </a:lnTo>
                    <a:lnTo>
                      <a:pt x="36" y="88"/>
                    </a:lnTo>
                    <a:lnTo>
                      <a:pt x="43" y="91"/>
                    </a:lnTo>
                    <a:lnTo>
                      <a:pt x="51" y="96"/>
                    </a:lnTo>
                    <a:lnTo>
                      <a:pt x="62" y="102"/>
                    </a:lnTo>
                    <a:lnTo>
                      <a:pt x="73" y="107"/>
                    </a:lnTo>
                    <a:lnTo>
                      <a:pt x="84" y="110"/>
                    </a:lnTo>
                    <a:lnTo>
                      <a:pt x="93" y="112"/>
                    </a:lnTo>
                    <a:lnTo>
                      <a:pt x="102" y="111"/>
                    </a:lnTo>
                    <a:lnTo>
                      <a:pt x="113" y="96"/>
                    </a:lnTo>
                    <a:lnTo>
                      <a:pt x="115" y="70"/>
                    </a:lnTo>
                    <a:lnTo>
                      <a:pt x="114" y="47"/>
                    </a:lnTo>
                    <a:lnTo>
                      <a:pt x="115" y="36"/>
                    </a:lnTo>
                    <a:lnTo>
                      <a:pt x="119" y="38"/>
                    </a:lnTo>
                    <a:lnTo>
                      <a:pt x="123" y="43"/>
                    </a:lnTo>
                    <a:lnTo>
                      <a:pt x="129" y="52"/>
                    </a:lnTo>
                    <a:lnTo>
                      <a:pt x="136" y="60"/>
                    </a:lnTo>
                    <a:lnTo>
                      <a:pt x="142" y="69"/>
                    </a:lnTo>
                    <a:lnTo>
                      <a:pt x="149" y="78"/>
                    </a:lnTo>
                    <a:lnTo>
                      <a:pt x="154" y="83"/>
                    </a:lnTo>
                    <a:lnTo>
                      <a:pt x="158" y="86"/>
                    </a:lnTo>
                    <a:lnTo>
                      <a:pt x="162" y="86"/>
                    </a:lnTo>
                    <a:lnTo>
                      <a:pt x="170" y="85"/>
                    </a:lnTo>
                    <a:lnTo>
                      <a:pt x="177" y="83"/>
                    </a:lnTo>
                    <a:lnTo>
                      <a:pt x="186" y="81"/>
                    </a:lnTo>
                    <a:lnTo>
                      <a:pt x="195" y="79"/>
                    </a:lnTo>
                    <a:lnTo>
                      <a:pt x="203" y="77"/>
                    </a:lnTo>
                    <a:lnTo>
                      <a:pt x="210" y="76"/>
                    </a:lnTo>
                    <a:lnTo>
                      <a:pt x="213" y="76"/>
                    </a:lnTo>
                    <a:lnTo>
                      <a:pt x="213" y="80"/>
                    </a:lnTo>
                    <a:lnTo>
                      <a:pt x="208" y="87"/>
                    </a:lnTo>
                    <a:lnTo>
                      <a:pt x="201" y="98"/>
                    </a:lnTo>
                    <a:lnTo>
                      <a:pt x="193" y="110"/>
                    </a:lnTo>
                    <a:lnTo>
                      <a:pt x="185" y="122"/>
                    </a:lnTo>
                    <a:lnTo>
                      <a:pt x="179" y="134"/>
                    </a:lnTo>
                    <a:lnTo>
                      <a:pt x="176" y="142"/>
                    </a:lnTo>
                    <a:lnTo>
                      <a:pt x="179" y="147"/>
                    </a:lnTo>
                    <a:lnTo>
                      <a:pt x="186" y="148"/>
                    </a:lnTo>
                    <a:lnTo>
                      <a:pt x="197" y="146"/>
                    </a:lnTo>
                    <a:lnTo>
                      <a:pt x="210" y="142"/>
                    </a:lnTo>
                    <a:lnTo>
                      <a:pt x="224" y="137"/>
                    </a:lnTo>
                    <a:lnTo>
                      <a:pt x="237" y="132"/>
                    </a:lnTo>
                    <a:lnTo>
                      <a:pt x="248" y="128"/>
                    </a:lnTo>
                    <a:lnTo>
                      <a:pt x="257" y="124"/>
                    </a:lnTo>
                    <a:lnTo>
                      <a:pt x="263" y="123"/>
                    </a:lnTo>
                    <a:lnTo>
                      <a:pt x="265" y="129"/>
                    </a:lnTo>
                    <a:lnTo>
                      <a:pt x="265" y="138"/>
                    </a:lnTo>
                    <a:lnTo>
                      <a:pt x="265" y="148"/>
                    </a:lnTo>
                    <a:lnTo>
                      <a:pt x="268" y="155"/>
                    </a:lnTo>
                    <a:lnTo>
                      <a:pt x="274" y="147"/>
                    </a:lnTo>
                    <a:lnTo>
                      <a:pt x="283" y="129"/>
                    </a:lnTo>
                    <a:lnTo>
                      <a:pt x="288" y="108"/>
                    </a:lnTo>
                    <a:lnTo>
                      <a:pt x="288" y="96"/>
                    </a:lnTo>
                    <a:lnTo>
                      <a:pt x="285" y="96"/>
                    </a:lnTo>
                    <a:lnTo>
                      <a:pt x="277" y="98"/>
                    </a:lnTo>
                    <a:lnTo>
                      <a:pt x="268" y="102"/>
                    </a:lnTo>
                    <a:lnTo>
                      <a:pt x="259" y="106"/>
                    </a:lnTo>
                    <a:lnTo>
                      <a:pt x="248" y="109"/>
                    </a:lnTo>
                    <a:lnTo>
                      <a:pt x="239" y="113"/>
                    </a:lnTo>
                    <a:lnTo>
                      <a:pt x="232" y="115"/>
                    </a:lnTo>
                    <a:lnTo>
                      <a:pt x="228" y="115"/>
                    </a:lnTo>
                    <a:lnTo>
                      <a:pt x="229" y="106"/>
                    </a:lnTo>
                    <a:lnTo>
                      <a:pt x="238" y="87"/>
                    </a:lnTo>
                    <a:lnTo>
                      <a:pt x="246" y="66"/>
                    </a:lnTo>
                    <a:lnTo>
                      <a:pt x="242" y="52"/>
                    </a:lnTo>
                    <a:lnTo>
                      <a:pt x="237" y="51"/>
                    </a:lnTo>
                    <a:lnTo>
                      <a:pt x="229" y="53"/>
                    </a:lnTo>
                    <a:lnTo>
                      <a:pt x="217" y="55"/>
                    </a:lnTo>
                    <a:lnTo>
                      <a:pt x="203" y="59"/>
                    </a:lnTo>
                    <a:lnTo>
                      <a:pt x="190" y="62"/>
                    </a:lnTo>
                    <a:lnTo>
                      <a:pt x="179" y="66"/>
                    </a:lnTo>
                    <a:lnTo>
                      <a:pt x="170" y="68"/>
                    </a:lnTo>
                    <a:lnTo>
                      <a:pt x="164" y="68"/>
                    </a:lnTo>
                    <a:lnTo>
                      <a:pt x="160" y="64"/>
                    </a:lnTo>
                    <a:lnTo>
                      <a:pt x="155" y="56"/>
                    </a:lnTo>
                    <a:lnTo>
                      <a:pt x="149" y="43"/>
                    </a:lnTo>
                    <a:lnTo>
                      <a:pt x="141" y="31"/>
                    </a:lnTo>
                    <a:lnTo>
                      <a:pt x="133" y="17"/>
                    </a:lnTo>
                    <a:lnTo>
                      <a:pt x="123" y="7"/>
                    </a:lnTo>
                    <a:lnTo>
                      <a:pt x="113" y="1"/>
                    </a:lnTo>
                    <a:lnTo>
                      <a:pt x="102" y="0"/>
                    </a:lnTo>
                    <a:lnTo>
                      <a:pt x="91" y="15"/>
                    </a:lnTo>
                    <a:lnTo>
                      <a:pt x="88" y="46"/>
                    </a:lnTo>
                    <a:lnTo>
                      <a:pt x="91" y="75"/>
                    </a:lnTo>
                    <a:lnTo>
                      <a:pt x="89" y="87"/>
                    </a:lnTo>
                    <a:lnTo>
                      <a:pt x="84" y="86"/>
                    </a:lnTo>
                    <a:lnTo>
                      <a:pt x="74" y="82"/>
                    </a:lnTo>
                    <a:lnTo>
                      <a:pt x="61" y="78"/>
                    </a:lnTo>
                    <a:lnTo>
                      <a:pt x="45" y="73"/>
                    </a:lnTo>
                    <a:lnTo>
                      <a:pt x="31" y="67"/>
                    </a:lnTo>
                    <a:lnTo>
                      <a:pt x="17" y="64"/>
                    </a:lnTo>
                    <a:lnTo>
                      <a:pt x="7" y="62"/>
                    </a:lnTo>
                    <a:lnTo>
                      <a:pt x="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4632840" y="4083480"/>
              <a:ext cx="828360" cy="1017720"/>
              <a:chOff x="4632840" y="4083480"/>
              <a:chExt cx="828360" cy="1017720"/>
            </a:xfrm>
          </p:grpSpPr>
          <p:sp>
            <p:nvSpPr>
              <p:cNvPr id="778" name=""/>
              <p:cNvSpPr/>
              <p:nvPr/>
            </p:nvSpPr>
            <p:spPr>
              <a:xfrm rot="19047000">
                <a:off x="4771080" y="4319640"/>
                <a:ext cx="641520" cy="393120"/>
              </a:xfrm>
              <a:custGeom>
                <a:avLst/>
                <a:gdLst/>
                <a:ahLst/>
                <a:rect l="l" t="t" r="r" b="b"/>
                <a:pathLst>
                  <a:path w="1325" h="591">
                    <a:moveTo>
                      <a:pt x="1009" y="43"/>
                    </a:moveTo>
                    <a:lnTo>
                      <a:pt x="1030" y="63"/>
                    </a:lnTo>
                    <a:lnTo>
                      <a:pt x="1048" y="87"/>
                    </a:lnTo>
                    <a:lnTo>
                      <a:pt x="1062" y="114"/>
                    </a:lnTo>
                    <a:lnTo>
                      <a:pt x="1073" y="143"/>
                    </a:lnTo>
                    <a:lnTo>
                      <a:pt x="1084" y="170"/>
                    </a:lnTo>
                    <a:lnTo>
                      <a:pt x="1092" y="192"/>
                    </a:lnTo>
                    <a:lnTo>
                      <a:pt x="1100" y="211"/>
                    </a:lnTo>
                    <a:lnTo>
                      <a:pt x="1108" y="220"/>
                    </a:lnTo>
                    <a:lnTo>
                      <a:pt x="1122" y="229"/>
                    </a:lnTo>
                    <a:lnTo>
                      <a:pt x="1142" y="241"/>
                    </a:lnTo>
                    <a:lnTo>
                      <a:pt x="1166" y="256"/>
                    </a:lnTo>
                    <a:lnTo>
                      <a:pt x="1192" y="271"/>
                    </a:lnTo>
                    <a:lnTo>
                      <a:pt x="1217" y="286"/>
                    </a:lnTo>
                    <a:lnTo>
                      <a:pt x="1238" y="300"/>
                    </a:lnTo>
                    <a:lnTo>
                      <a:pt x="1255" y="309"/>
                    </a:lnTo>
                    <a:lnTo>
                      <a:pt x="1265" y="316"/>
                    </a:lnTo>
                    <a:lnTo>
                      <a:pt x="1271" y="314"/>
                    </a:lnTo>
                    <a:lnTo>
                      <a:pt x="1279" y="313"/>
                    </a:lnTo>
                    <a:lnTo>
                      <a:pt x="1289" y="313"/>
                    </a:lnTo>
                    <a:lnTo>
                      <a:pt x="1299" y="314"/>
                    </a:lnTo>
                    <a:lnTo>
                      <a:pt x="1309" y="317"/>
                    </a:lnTo>
                    <a:lnTo>
                      <a:pt x="1317" y="321"/>
                    </a:lnTo>
                    <a:lnTo>
                      <a:pt x="1322" y="326"/>
                    </a:lnTo>
                    <a:lnTo>
                      <a:pt x="1325" y="335"/>
                    </a:lnTo>
                    <a:lnTo>
                      <a:pt x="1325" y="349"/>
                    </a:lnTo>
                    <a:lnTo>
                      <a:pt x="1323" y="367"/>
                    </a:lnTo>
                    <a:lnTo>
                      <a:pt x="1322" y="389"/>
                    </a:lnTo>
                    <a:lnTo>
                      <a:pt x="1319" y="411"/>
                    </a:lnTo>
                    <a:lnTo>
                      <a:pt x="1314" y="431"/>
                    </a:lnTo>
                    <a:lnTo>
                      <a:pt x="1307" y="450"/>
                    </a:lnTo>
                    <a:lnTo>
                      <a:pt x="1298" y="461"/>
                    </a:lnTo>
                    <a:lnTo>
                      <a:pt x="1285" y="467"/>
                    </a:lnTo>
                    <a:lnTo>
                      <a:pt x="1295" y="483"/>
                    </a:lnTo>
                    <a:lnTo>
                      <a:pt x="1297" y="500"/>
                    </a:lnTo>
                    <a:lnTo>
                      <a:pt x="1289" y="517"/>
                    </a:lnTo>
                    <a:lnTo>
                      <a:pt x="1273" y="532"/>
                    </a:lnTo>
                    <a:lnTo>
                      <a:pt x="1250" y="544"/>
                    </a:lnTo>
                    <a:lnTo>
                      <a:pt x="1225" y="552"/>
                    </a:lnTo>
                    <a:lnTo>
                      <a:pt x="1194" y="553"/>
                    </a:lnTo>
                    <a:lnTo>
                      <a:pt x="1164" y="546"/>
                    </a:lnTo>
                    <a:lnTo>
                      <a:pt x="1156" y="547"/>
                    </a:lnTo>
                    <a:lnTo>
                      <a:pt x="1146" y="547"/>
                    </a:lnTo>
                    <a:lnTo>
                      <a:pt x="1137" y="547"/>
                    </a:lnTo>
                    <a:lnTo>
                      <a:pt x="1128" y="546"/>
                    </a:lnTo>
                    <a:lnTo>
                      <a:pt x="1120" y="546"/>
                    </a:lnTo>
                    <a:lnTo>
                      <a:pt x="1113" y="545"/>
                    </a:lnTo>
                    <a:lnTo>
                      <a:pt x="1109" y="545"/>
                    </a:lnTo>
                    <a:lnTo>
                      <a:pt x="1108" y="544"/>
                    </a:lnTo>
                    <a:lnTo>
                      <a:pt x="1112" y="517"/>
                    </a:lnTo>
                    <a:lnTo>
                      <a:pt x="1110" y="494"/>
                    </a:lnTo>
                    <a:lnTo>
                      <a:pt x="1104" y="473"/>
                    </a:lnTo>
                    <a:lnTo>
                      <a:pt x="1093" y="456"/>
                    </a:lnTo>
                    <a:lnTo>
                      <a:pt x="1078" y="442"/>
                    </a:lnTo>
                    <a:lnTo>
                      <a:pt x="1062" y="430"/>
                    </a:lnTo>
                    <a:lnTo>
                      <a:pt x="1045" y="422"/>
                    </a:lnTo>
                    <a:lnTo>
                      <a:pt x="1026" y="416"/>
                    </a:lnTo>
                    <a:lnTo>
                      <a:pt x="1013" y="414"/>
                    </a:lnTo>
                    <a:lnTo>
                      <a:pt x="1000" y="412"/>
                    </a:lnTo>
                    <a:lnTo>
                      <a:pt x="986" y="412"/>
                    </a:lnTo>
                    <a:lnTo>
                      <a:pt x="972" y="413"/>
                    </a:lnTo>
                    <a:lnTo>
                      <a:pt x="957" y="414"/>
                    </a:lnTo>
                    <a:lnTo>
                      <a:pt x="943" y="419"/>
                    </a:lnTo>
                    <a:lnTo>
                      <a:pt x="928" y="423"/>
                    </a:lnTo>
                    <a:lnTo>
                      <a:pt x="913" y="429"/>
                    </a:lnTo>
                    <a:lnTo>
                      <a:pt x="899" y="437"/>
                    </a:lnTo>
                    <a:lnTo>
                      <a:pt x="884" y="446"/>
                    </a:lnTo>
                    <a:lnTo>
                      <a:pt x="871" y="458"/>
                    </a:lnTo>
                    <a:lnTo>
                      <a:pt x="857" y="471"/>
                    </a:lnTo>
                    <a:lnTo>
                      <a:pt x="844" y="486"/>
                    </a:lnTo>
                    <a:lnTo>
                      <a:pt x="831" y="503"/>
                    </a:lnTo>
                    <a:lnTo>
                      <a:pt x="819" y="523"/>
                    </a:lnTo>
                    <a:lnTo>
                      <a:pt x="808" y="544"/>
                    </a:lnTo>
                    <a:lnTo>
                      <a:pt x="803" y="545"/>
                    </a:lnTo>
                    <a:lnTo>
                      <a:pt x="792" y="546"/>
                    </a:lnTo>
                    <a:lnTo>
                      <a:pt x="777" y="547"/>
                    </a:lnTo>
                    <a:lnTo>
                      <a:pt x="760" y="548"/>
                    </a:lnTo>
                    <a:lnTo>
                      <a:pt x="739" y="549"/>
                    </a:lnTo>
                    <a:lnTo>
                      <a:pt x="716" y="550"/>
                    </a:lnTo>
                    <a:lnTo>
                      <a:pt x="691" y="550"/>
                    </a:lnTo>
                    <a:lnTo>
                      <a:pt x="667" y="550"/>
                    </a:lnTo>
                    <a:lnTo>
                      <a:pt x="642" y="550"/>
                    </a:lnTo>
                    <a:lnTo>
                      <a:pt x="618" y="550"/>
                    </a:lnTo>
                    <a:lnTo>
                      <a:pt x="595" y="550"/>
                    </a:lnTo>
                    <a:lnTo>
                      <a:pt x="574" y="550"/>
                    </a:lnTo>
                    <a:lnTo>
                      <a:pt x="556" y="549"/>
                    </a:lnTo>
                    <a:lnTo>
                      <a:pt x="543" y="548"/>
                    </a:lnTo>
                    <a:lnTo>
                      <a:pt x="532" y="547"/>
                    </a:lnTo>
                    <a:lnTo>
                      <a:pt x="528" y="546"/>
                    </a:lnTo>
                    <a:lnTo>
                      <a:pt x="535" y="517"/>
                    </a:lnTo>
                    <a:lnTo>
                      <a:pt x="535" y="493"/>
                    </a:lnTo>
                    <a:lnTo>
                      <a:pt x="531" y="471"/>
                    </a:lnTo>
                    <a:lnTo>
                      <a:pt x="523" y="454"/>
                    </a:lnTo>
                    <a:lnTo>
                      <a:pt x="514" y="441"/>
                    </a:lnTo>
                    <a:lnTo>
                      <a:pt x="500" y="430"/>
                    </a:lnTo>
                    <a:lnTo>
                      <a:pt x="487" y="422"/>
                    </a:lnTo>
                    <a:lnTo>
                      <a:pt x="474" y="416"/>
                    </a:lnTo>
                    <a:lnTo>
                      <a:pt x="466" y="414"/>
                    </a:lnTo>
                    <a:lnTo>
                      <a:pt x="456" y="412"/>
                    </a:lnTo>
                    <a:lnTo>
                      <a:pt x="445" y="410"/>
                    </a:lnTo>
                    <a:lnTo>
                      <a:pt x="433" y="409"/>
                    </a:lnTo>
                    <a:lnTo>
                      <a:pt x="418" y="408"/>
                    </a:lnTo>
                    <a:lnTo>
                      <a:pt x="403" y="409"/>
                    </a:lnTo>
                    <a:lnTo>
                      <a:pt x="386" y="411"/>
                    </a:lnTo>
                    <a:lnTo>
                      <a:pt x="369" y="415"/>
                    </a:lnTo>
                    <a:lnTo>
                      <a:pt x="351" y="422"/>
                    </a:lnTo>
                    <a:lnTo>
                      <a:pt x="333" y="431"/>
                    </a:lnTo>
                    <a:lnTo>
                      <a:pt x="313" y="443"/>
                    </a:lnTo>
                    <a:lnTo>
                      <a:pt x="294" y="458"/>
                    </a:lnTo>
                    <a:lnTo>
                      <a:pt x="274" y="476"/>
                    </a:lnTo>
                    <a:lnTo>
                      <a:pt x="254" y="499"/>
                    </a:lnTo>
                    <a:lnTo>
                      <a:pt x="235" y="525"/>
                    </a:lnTo>
                    <a:lnTo>
                      <a:pt x="215" y="556"/>
                    </a:lnTo>
                    <a:lnTo>
                      <a:pt x="206" y="557"/>
                    </a:lnTo>
                    <a:lnTo>
                      <a:pt x="198" y="558"/>
                    </a:lnTo>
                    <a:lnTo>
                      <a:pt x="190" y="558"/>
                    </a:lnTo>
                    <a:lnTo>
                      <a:pt x="184" y="558"/>
                    </a:lnTo>
                    <a:lnTo>
                      <a:pt x="180" y="567"/>
                    </a:lnTo>
                    <a:lnTo>
                      <a:pt x="174" y="574"/>
                    </a:lnTo>
                    <a:lnTo>
                      <a:pt x="169" y="580"/>
                    </a:lnTo>
                    <a:lnTo>
                      <a:pt x="162" y="585"/>
                    </a:lnTo>
                    <a:lnTo>
                      <a:pt x="154" y="587"/>
                    </a:lnTo>
                    <a:lnTo>
                      <a:pt x="137" y="588"/>
                    </a:lnTo>
                    <a:lnTo>
                      <a:pt x="116" y="590"/>
                    </a:lnTo>
                    <a:lnTo>
                      <a:pt x="90" y="591"/>
                    </a:lnTo>
                    <a:lnTo>
                      <a:pt x="66" y="591"/>
                    </a:lnTo>
                    <a:lnTo>
                      <a:pt x="44" y="591"/>
                    </a:lnTo>
                    <a:lnTo>
                      <a:pt x="26" y="590"/>
                    </a:lnTo>
                    <a:lnTo>
                      <a:pt x="17" y="589"/>
                    </a:lnTo>
                    <a:lnTo>
                      <a:pt x="8" y="571"/>
                    </a:lnTo>
                    <a:lnTo>
                      <a:pt x="1" y="539"/>
                    </a:lnTo>
                    <a:lnTo>
                      <a:pt x="0" y="504"/>
                    </a:lnTo>
                    <a:lnTo>
                      <a:pt x="8" y="481"/>
                    </a:lnTo>
                    <a:lnTo>
                      <a:pt x="12" y="478"/>
                    </a:lnTo>
                    <a:lnTo>
                      <a:pt x="17" y="475"/>
                    </a:lnTo>
                    <a:lnTo>
                      <a:pt x="24" y="474"/>
                    </a:lnTo>
                    <a:lnTo>
                      <a:pt x="30" y="474"/>
                    </a:lnTo>
                    <a:lnTo>
                      <a:pt x="37" y="474"/>
                    </a:lnTo>
                    <a:lnTo>
                      <a:pt x="44" y="474"/>
                    </a:lnTo>
                    <a:lnTo>
                      <a:pt x="49" y="474"/>
                    </a:lnTo>
                    <a:lnTo>
                      <a:pt x="54" y="474"/>
                    </a:lnTo>
                    <a:lnTo>
                      <a:pt x="60" y="452"/>
                    </a:lnTo>
                    <a:lnTo>
                      <a:pt x="72" y="409"/>
                    </a:lnTo>
                    <a:lnTo>
                      <a:pt x="89" y="351"/>
                    </a:lnTo>
                    <a:lnTo>
                      <a:pt x="109" y="286"/>
                    </a:lnTo>
                    <a:lnTo>
                      <a:pt x="129" y="220"/>
                    </a:lnTo>
                    <a:lnTo>
                      <a:pt x="149" y="161"/>
                    </a:lnTo>
                    <a:lnTo>
                      <a:pt x="164" y="116"/>
                    </a:lnTo>
                    <a:lnTo>
                      <a:pt x="172" y="91"/>
                    </a:lnTo>
                    <a:lnTo>
                      <a:pt x="176" y="78"/>
                    </a:lnTo>
                    <a:lnTo>
                      <a:pt x="181" y="67"/>
                    </a:lnTo>
                    <a:lnTo>
                      <a:pt x="188" y="58"/>
                    </a:lnTo>
                    <a:lnTo>
                      <a:pt x="194" y="50"/>
                    </a:lnTo>
                    <a:lnTo>
                      <a:pt x="203" y="42"/>
                    </a:lnTo>
                    <a:lnTo>
                      <a:pt x="214" y="36"/>
                    </a:lnTo>
                    <a:lnTo>
                      <a:pt x="229" y="30"/>
                    </a:lnTo>
                    <a:lnTo>
                      <a:pt x="246" y="23"/>
                    </a:lnTo>
                    <a:lnTo>
                      <a:pt x="261" y="20"/>
                    </a:lnTo>
                    <a:lnTo>
                      <a:pt x="286" y="16"/>
                    </a:lnTo>
                    <a:lnTo>
                      <a:pt x="321" y="12"/>
                    </a:lnTo>
                    <a:lnTo>
                      <a:pt x="363" y="8"/>
                    </a:lnTo>
                    <a:lnTo>
                      <a:pt x="413" y="5"/>
                    </a:lnTo>
                    <a:lnTo>
                      <a:pt x="466" y="3"/>
                    </a:lnTo>
                    <a:lnTo>
                      <a:pt x="524" y="1"/>
                    </a:lnTo>
                    <a:lnTo>
                      <a:pt x="584" y="0"/>
                    </a:lnTo>
                    <a:lnTo>
                      <a:pt x="647" y="0"/>
                    </a:lnTo>
                    <a:lnTo>
                      <a:pt x="708" y="1"/>
                    </a:lnTo>
                    <a:lnTo>
                      <a:pt x="769" y="3"/>
                    </a:lnTo>
                    <a:lnTo>
                      <a:pt x="828" y="7"/>
                    </a:lnTo>
                    <a:lnTo>
                      <a:pt x="881" y="13"/>
                    </a:lnTo>
                    <a:lnTo>
                      <a:pt x="931" y="21"/>
                    </a:lnTo>
                    <a:lnTo>
                      <a:pt x="974" y="31"/>
                    </a:lnTo>
                    <a:lnTo>
                      <a:pt x="1009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9047000">
                <a:off x="4803120" y="4344480"/>
                <a:ext cx="562680" cy="322920"/>
              </a:xfrm>
              <a:custGeom>
                <a:avLst/>
                <a:gdLst/>
                <a:ahLst/>
                <a:rect l="l" t="t" r="r" b="b"/>
                <a:pathLst>
                  <a:path w="1162" h="485">
                    <a:moveTo>
                      <a:pt x="945" y="105"/>
                    </a:moveTo>
                    <a:lnTo>
                      <a:pt x="944" y="91"/>
                    </a:lnTo>
                    <a:lnTo>
                      <a:pt x="941" y="77"/>
                    </a:lnTo>
                    <a:lnTo>
                      <a:pt x="937" y="64"/>
                    </a:lnTo>
                    <a:lnTo>
                      <a:pt x="932" y="52"/>
                    </a:lnTo>
                    <a:lnTo>
                      <a:pt x="925" y="43"/>
                    </a:lnTo>
                    <a:lnTo>
                      <a:pt x="919" y="33"/>
                    </a:lnTo>
                    <a:lnTo>
                      <a:pt x="911" y="27"/>
                    </a:lnTo>
                    <a:lnTo>
                      <a:pt x="903" y="21"/>
                    </a:lnTo>
                    <a:lnTo>
                      <a:pt x="893" y="18"/>
                    </a:lnTo>
                    <a:lnTo>
                      <a:pt x="883" y="15"/>
                    </a:lnTo>
                    <a:lnTo>
                      <a:pt x="869" y="12"/>
                    </a:lnTo>
                    <a:lnTo>
                      <a:pt x="854" y="9"/>
                    </a:lnTo>
                    <a:lnTo>
                      <a:pt x="836" y="7"/>
                    </a:lnTo>
                    <a:lnTo>
                      <a:pt x="818" y="5"/>
                    </a:lnTo>
                    <a:lnTo>
                      <a:pt x="798" y="3"/>
                    </a:lnTo>
                    <a:lnTo>
                      <a:pt x="778" y="2"/>
                    </a:lnTo>
                    <a:lnTo>
                      <a:pt x="758" y="1"/>
                    </a:lnTo>
                    <a:lnTo>
                      <a:pt x="739" y="1"/>
                    </a:lnTo>
                    <a:lnTo>
                      <a:pt x="720" y="1"/>
                    </a:lnTo>
                    <a:lnTo>
                      <a:pt x="702" y="1"/>
                    </a:lnTo>
                    <a:lnTo>
                      <a:pt x="686" y="2"/>
                    </a:lnTo>
                    <a:lnTo>
                      <a:pt x="671" y="3"/>
                    </a:lnTo>
                    <a:lnTo>
                      <a:pt x="658" y="4"/>
                    </a:lnTo>
                    <a:lnTo>
                      <a:pt x="648" y="6"/>
                    </a:lnTo>
                    <a:lnTo>
                      <a:pt x="640" y="7"/>
                    </a:lnTo>
                    <a:lnTo>
                      <a:pt x="630" y="8"/>
                    </a:lnTo>
                    <a:lnTo>
                      <a:pt x="616" y="8"/>
                    </a:lnTo>
                    <a:lnTo>
                      <a:pt x="602" y="7"/>
                    </a:lnTo>
                    <a:lnTo>
                      <a:pt x="583" y="7"/>
                    </a:lnTo>
                    <a:lnTo>
                      <a:pt x="565" y="6"/>
                    </a:lnTo>
                    <a:lnTo>
                      <a:pt x="545" y="5"/>
                    </a:lnTo>
                    <a:lnTo>
                      <a:pt x="525" y="4"/>
                    </a:lnTo>
                    <a:lnTo>
                      <a:pt x="503" y="3"/>
                    </a:lnTo>
                    <a:lnTo>
                      <a:pt x="483" y="2"/>
                    </a:lnTo>
                    <a:lnTo>
                      <a:pt x="462" y="1"/>
                    </a:lnTo>
                    <a:lnTo>
                      <a:pt x="443" y="1"/>
                    </a:lnTo>
                    <a:lnTo>
                      <a:pt x="426" y="0"/>
                    </a:lnTo>
                    <a:lnTo>
                      <a:pt x="409" y="0"/>
                    </a:lnTo>
                    <a:lnTo>
                      <a:pt x="395" y="1"/>
                    </a:lnTo>
                    <a:lnTo>
                      <a:pt x="383" y="2"/>
                    </a:lnTo>
                    <a:lnTo>
                      <a:pt x="370" y="3"/>
                    </a:lnTo>
                    <a:lnTo>
                      <a:pt x="354" y="4"/>
                    </a:lnTo>
                    <a:lnTo>
                      <a:pt x="338" y="5"/>
                    </a:lnTo>
                    <a:lnTo>
                      <a:pt x="322" y="5"/>
                    </a:lnTo>
                    <a:lnTo>
                      <a:pt x="305" y="5"/>
                    </a:lnTo>
                    <a:lnTo>
                      <a:pt x="286" y="5"/>
                    </a:lnTo>
                    <a:lnTo>
                      <a:pt x="269" y="4"/>
                    </a:lnTo>
                    <a:lnTo>
                      <a:pt x="252" y="4"/>
                    </a:lnTo>
                    <a:lnTo>
                      <a:pt x="234" y="4"/>
                    </a:lnTo>
                    <a:lnTo>
                      <a:pt x="218" y="5"/>
                    </a:lnTo>
                    <a:lnTo>
                      <a:pt x="202" y="6"/>
                    </a:lnTo>
                    <a:lnTo>
                      <a:pt x="188" y="7"/>
                    </a:lnTo>
                    <a:lnTo>
                      <a:pt x="174" y="9"/>
                    </a:lnTo>
                    <a:lnTo>
                      <a:pt x="162" y="13"/>
                    </a:lnTo>
                    <a:lnTo>
                      <a:pt x="152" y="16"/>
                    </a:lnTo>
                    <a:lnTo>
                      <a:pt x="144" y="21"/>
                    </a:lnTo>
                    <a:lnTo>
                      <a:pt x="137" y="28"/>
                    </a:lnTo>
                    <a:lnTo>
                      <a:pt x="130" y="36"/>
                    </a:lnTo>
                    <a:lnTo>
                      <a:pt x="122" y="47"/>
                    </a:lnTo>
                    <a:lnTo>
                      <a:pt x="116" y="61"/>
                    </a:lnTo>
                    <a:lnTo>
                      <a:pt x="109" y="77"/>
                    </a:lnTo>
                    <a:lnTo>
                      <a:pt x="104" y="97"/>
                    </a:lnTo>
                    <a:lnTo>
                      <a:pt x="99" y="121"/>
                    </a:lnTo>
                    <a:lnTo>
                      <a:pt x="96" y="149"/>
                    </a:lnTo>
                    <a:lnTo>
                      <a:pt x="92" y="172"/>
                    </a:lnTo>
                    <a:lnTo>
                      <a:pt x="84" y="197"/>
                    </a:lnTo>
                    <a:lnTo>
                      <a:pt x="75" y="222"/>
                    </a:lnTo>
                    <a:lnTo>
                      <a:pt x="63" y="245"/>
                    </a:lnTo>
                    <a:lnTo>
                      <a:pt x="52" y="267"/>
                    </a:lnTo>
                    <a:lnTo>
                      <a:pt x="43" y="287"/>
                    </a:lnTo>
                    <a:lnTo>
                      <a:pt x="36" y="304"/>
                    </a:lnTo>
                    <a:lnTo>
                      <a:pt x="33" y="317"/>
                    </a:lnTo>
                    <a:lnTo>
                      <a:pt x="31" y="347"/>
                    </a:lnTo>
                    <a:lnTo>
                      <a:pt x="23" y="381"/>
                    </a:lnTo>
                    <a:lnTo>
                      <a:pt x="12" y="412"/>
                    </a:lnTo>
                    <a:lnTo>
                      <a:pt x="0" y="433"/>
                    </a:lnTo>
                    <a:lnTo>
                      <a:pt x="13" y="433"/>
                    </a:lnTo>
                    <a:lnTo>
                      <a:pt x="28" y="434"/>
                    </a:lnTo>
                    <a:lnTo>
                      <a:pt x="40" y="434"/>
                    </a:lnTo>
                    <a:lnTo>
                      <a:pt x="53" y="435"/>
                    </a:lnTo>
                    <a:lnTo>
                      <a:pt x="64" y="438"/>
                    </a:lnTo>
                    <a:lnTo>
                      <a:pt x="73" y="442"/>
                    </a:lnTo>
                    <a:lnTo>
                      <a:pt x="80" y="450"/>
                    </a:lnTo>
                    <a:lnTo>
                      <a:pt x="84" y="460"/>
                    </a:lnTo>
                    <a:lnTo>
                      <a:pt x="87" y="456"/>
                    </a:lnTo>
                    <a:lnTo>
                      <a:pt x="91" y="451"/>
                    </a:lnTo>
                    <a:lnTo>
                      <a:pt x="97" y="444"/>
                    </a:lnTo>
                    <a:lnTo>
                      <a:pt x="105" y="435"/>
                    </a:lnTo>
                    <a:lnTo>
                      <a:pt x="114" y="425"/>
                    </a:lnTo>
                    <a:lnTo>
                      <a:pt x="126" y="415"/>
                    </a:lnTo>
                    <a:lnTo>
                      <a:pt x="140" y="404"/>
                    </a:lnTo>
                    <a:lnTo>
                      <a:pt x="156" y="393"/>
                    </a:lnTo>
                    <a:lnTo>
                      <a:pt x="172" y="382"/>
                    </a:lnTo>
                    <a:lnTo>
                      <a:pt x="190" y="373"/>
                    </a:lnTo>
                    <a:lnTo>
                      <a:pt x="212" y="363"/>
                    </a:lnTo>
                    <a:lnTo>
                      <a:pt x="233" y="356"/>
                    </a:lnTo>
                    <a:lnTo>
                      <a:pt x="257" y="349"/>
                    </a:lnTo>
                    <a:lnTo>
                      <a:pt x="284" y="344"/>
                    </a:lnTo>
                    <a:lnTo>
                      <a:pt x="310" y="342"/>
                    </a:lnTo>
                    <a:lnTo>
                      <a:pt x="340" y="342"/>
                    </a:lnTo>
                    <a:lnTo>
                      <a:pt x="357" y="345"/>
                    </a:lnTo>
                    <a:lnTo>
                      <a:pt x="375" y="350"/>
                    </a:lnTo>
                    <a:lnTo>
                      <a:pt x="395" y="360"/>
                    </a:lnTo>
                    <a:lnTo>
                      <a:pt x="415" y="371"/>
                    </a:lnTo>
                    <a:lnTo>
                      <a:pt x="433" y="384"/>
                    </a:lnTo>
                    <a:lnTo>
                      <a:pt x="449" y="396"/>
                    </a:lnTo>
                    <a:lnTo>
                      <a:pt x="459" y="410"/>
                    </a:lnTo>
                    <a:lnTo>
                      <a:pt x="465" y="423"/>
                    </a:lnTo>
                    <a:lnTo>
                      <a:pt x="467" y="447"/>
                    </a:lnTo>
                    <a:lnTo>
                      <a:pt x="469" y="468"/>
                    </a:lnTo>
                    <a:lnTo>
                      <a:pt x="475" y="483"/>
                    </a:lnTo>
                    <a:lnTo>
                      <a:pt x="494" y="485"/>
                    </a:lnTo>
                    <a:lnTo>
                      <a:pt x="505" y="484"/>
                    </a:lnTo>
                    <a:lnTo>
                      <a:pt x="521" y="482"/>
                    </a:lnTo>
                    <a:lnTo>
                      <a:pt x="542" y="482"/>
                    </a:lnTo>
                    <a:lnTo>
                      <a:pt x="566" y="481"/>
                    </a:lnTo>
                    <a:lnTo>
                      <a:pt x="590" y="481"/>
                    </a:lnTo>
                    <a:lnTo>
                      <a:pt x="614" y="482"/>
                    </a:lnTo>
                    <a:lnTo>
                      <a:pt x="634" y="483"/>
                    </a:lnTo>
                    <a:lnTo>
                      <a:pt x="650" y="485"/>
                    </a:lnTo>
                    <a:lnTo>
                      <a:pt x="662" y="482"/>
                    </a:lnTo>
                    <a:lnTo>
                      <a:pt x="672" y="474"/>
                    </a:lnTo>
                    <a:lnTo>
                      <a:pt x="680" y="461"/>
                    </a:lnTo>
                    <a:lnTo>
                      <a:pt x="690" y="445"/>
                    </a:lnTo>
                    <a:lnTo>
                      <a:pt x="700" y="426"/>
                    </a:lnTo>
                    <a:lnTo>
                      <a:pt x="715" y="407"/>
                    </a:lnTo>
                    <a:lnTo>
                      <a:pt x="735" y="387"/>
                    </a:lnTo>
                    <a:lnTo>
                      <a:pt x="760" y="369"/>
                    </a:lnTo>
                    <a:lnTo>
                      <a:pt x="771" y="363"/>
                    </a:lnTo>
                    <a:lnTo>
                      <a:pt x="786" y="358"/>
                    </a:lnTo>
                    <a:lnTo>
                      <a:pt x="804" y="351"/>
                    </a:lnTo>
                    <a:lnTo>
                      <a:pt x="827" y="346"/>
                    </a:lnTo>
                    <a:lnTo>
                      <a:pt x="854" y="344"/>
                    </a:lnTo>
                    <a:lnTo>
                      <a:pt x="885" y="343"/>
                    </a:lnTo>
                    <a:lnTo>
                      <a:pt x="920" y="346"/>
                    </a:lnTo>
                    <a:lnTo>
                      <a:pt x="960" y="354"/>
                    </a:lnTo>
                    <a:lnTo>
                      <a:pt x="973" y="359"/>
                    </a:lnTo>
                    <a:lnTo>
                      <a:pt x="988" y="369"/>
                    </a:lnTo>
                    <a:lnTo>
                      <a:pt x="1003" y="382"/>
                    </a:lnTo>
                    <a:lnTo>
                      <a:pt x="1017" y="397"/>
                    </a:lnTo>
                    <a:lnTo>
                      <a:pt x="1031" y="415"/>
                    </a:lnTo>
                    <a:lnTo>
                      <a:pt x="1041" y="432"/>
                    </a:lnTo>
                    <a:lnTo>
                      <a:pt x="1048" y="448"/>
                    </a:lnTo>
                    <a:lnTo>
                      <a:pt x="1052" y="462"/>
                    </a:lnTo>
                    <a:lnTo>
                      <a:pt x="1056" y="463"/>
                    </a:lnTo>
                    <a:lnTo>
                      <a:pt x="1059" y="464"/>
                    </a:lnTo>
                    <a:lnTo>
                      <a:pt x="1061" y="464"/>
                    </a:lnTo>
                    <a:lnTo>
                      <a:pt x="1065" y="463"/>
                    </a:lnTo>
                    <a:lnTo>
                      <a:pt x="1069" y="451"/>
                    </a:lnTo>
                    <a:lnTo>
                      <a:pt x="1079" y="444"/>
                    </a:lnTo>
                    <a:lnTo>
                      <a:pt x="1092" y="438"/>
                    </a:lnTo>
                    <a:lnTo>
                      <a:pt x="1105" y="436"/>
                    </a:lnTo>
                    <a:lnTo>
                      <a:pt x="1119" y="434"/>
                    </a:lnTo>
                    <a:lnTo>
                      <a:pt x="1132" y="434"/>
                    </a:lnTo>
                    <a:lnTo>
                      <a:pt x="1141" y="433"/>
                    </a:lnTo>
                    <a:lnTo>
                      <a:pt x="1145" y="432"/>
                    </a:lnTo>
                    <a:lnTo>
                      <a:pt x="1149" y="399"/>
                    </a:lnTo>
                    <a:lnTo>
                      <a:pt x="1157" y="369"/>
                    </a:lnTo>
                    <a:lnTo>
                      <a:pt x="1162" y="340"/>
                    </a:lnTo>
                    <a:lnTo>
                      <a:pt x="1156" y="309"/>
                    </a:lnTo>
                    <a:lnTo>
                      <a:pt x="1138" y="286"/>
                    </a:lnTo>
                    <a:lnTo>
                      <a:pt x="1116" y="269"/>
                    </a:lnTo>
                    <a:lnTo>
                      <a:pt x="1088" y="255"/>
                    </a:lnTo>
                    <a:lnTo>
                      <a:pt x="1060" y="244"/>
                    </a:lnTo>
                    <a:lnTo>
                      <a:pt x="1033" y="233"/>
                    </a:lnTo>
                    <a:lnTo>
                      <a:pt x="1011" y="222"/>
                    </a:lnTo>
                    <a:lnTo>
                      <a:pt x="995" y="207"/>
                    </a:lnTo>
                    <a:lnTo>
                      <a:pt x="987" y="186"/>
                    </a:lnTo>
                    <a:lnTo>
                      <a:pt x="984" y="175"/>
                    </a:lnTo>
                    <a:lnTo>
                      <a:pt x="979" y="164"/>
                    </a:lnTo>
                    <a:lnTo>
                      <a:pt x="972" y="153"/>
                    </a:lnTo>
                    <a:lnTo>
                      <a:pt x="965" y="142"/>
                    </a:lnTo>
                    <a:lnTo>
                      <a:pt x="957" y="133"/>
                    </a:lnTo>
                    <a:lnTo>
                      <a:pt x="952" y="123"/>
                    </a:lnTo>
                    <a:lnTo>
                      <a:pt x="947" y="113"/>
                    </a:lnTo>
                    <a:lnTo>
                      <a:pt x="945" y="105"/>
                    </a:lnTo>
                    <a:close/>
                  </a:path>
                </a:pathLst>
              </a:custGeom>
              <a:solidFill>
                <a:srgbClr val="fff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9047000">
                <a:off x="5344200" y="4322160"/>
                <a:ext cx="25920" cy="83160"/>
              </a:xfrm>
              <a:custGeom>
                <a:avLst/>
                <a:gdLst/>
                <a:ahLst/>
                <a:rect l="l" t="t" r="r" b="b"/>
                <a:pathLst>
                  <a:path w="52" h="125">
                    <a:moveTo>
                      <a:pt x="0" y="118"/>
                    </a:moveTo>
                    <a:lnTo>
                      <a:pt x="0" y="123"/>
                    </a:lnTo>
                    <a:lnTo>
                      <a:pt x="4" y="125"/>
                    </a:lnTo>
                    <a:lnTo>
                      <a:pt x="13" y="124"/>
                    </a:lnTo>
                    <a:lnTo>
                      <a:pt x="22" y="122"/>
                    </a:lnTo>
                    <a:lnTo>
                      <a:pt x="34" y="104"/>
                    </a:lnTo>
                    <a:lnTo>
                      <a:pt x="45" y="71"/>
                    </a:lnTo>
                    <a:lnTo>
                      <a:pt x="52" y="34"/>
                    </a:lnTo>
                    <a:lnTo>
                      <a:pt x="52" y="10"/>
                    </a:lnTo>
                    <a:lnTo>
                      <a:pt x="45" y="3"/>
                    </a:lnTo>
                    <a:lnTo>
                      <a:pt x="33" y="0"/>
                    </a:lnTo>
                    <a:lnTo>
                      <a:pt x="22" y="1"/>
                    </a:lnTo>
                    <a:lnTo>
                      <a:pt x="20" y="7"/>
                    </a:lnTo>
                    <a:lnTo>
                      <a:pt x="20" y="31"/>
                    </a:lnTo>
                    <a:lnTo>
                      <a:pt x="14" y="64"/>
                    </a:lnTo>
                    <a:lnTo>
                      <a:pt x="6" y="97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ffb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19047000">
                <a:off x="5361120" y="4417920"/>
                <a:ext cx="47520" cy="35640"/>
              </a:xfrm>
              <a:custGeom>
                <a:avLst/>
                <a:gdLst/>
                <a:ahLst/>
                <a:rect l="l" t="t" r="r" b="b"/>
                <a:pathLst>
                  <a:path w="99" h="54">
                    <a:moveTo>
                      <a:pt x="98" y="0"/>
                    </a:moveTo>
                    <a:lnTo>
                      <a:pt x="85" y="6"/>
                    </a:lnTo>
                    <a:lnTo>
                      <a:pt x="71" y="9"/>
                    </a:lnTo>
                    <a:lnTo>
                      <a:pt x="57" y="10"/>
                    </a:lnTo>
                    <a:lnTo>
                      <a:pt x="45" y="10"/>
                    </a:lnTo>
                    <a:lnTo>
                      <a:pt x="33" y="10"/>
                    </a:lnTo>
                    <a:lnTo>
                      <a:pt x="22" y="12"/>
                    </a:lnTo>
                    <a:lnTo>
                      <a:pt x="13" y="14"/>
                    </a:lnTo>
                    <a:lnTo>
                      <a:pt x="5" y="21"/>
                    </a:lnTo>
                    <a:lnTo>
                      <a:pt x="0" y="32"/>
                    </a:lnTo>
                    <a:lnTo>
                      <a:pt x="2" y="41"/>
                    </a:lnTo>
                    <a:lnTo>
                      <a:pt x="10" y="49"/>
                    </a:lnTo>
                    <a:lnTo>
                      <a:pt x="21" y="53"/>
                    </a:lnTo>
                    <a:lnTo>
                      <a:pt x="46" y="54"/>
                    </a:lnTo>
                    <a:lnTo>
                      <a:pt x="66" y="51"/>
                    </a:lnTo>
                    <a:lnTo>
                      <a:pt x="81" y="46"/>
                    </a:lnTo>
                    <a:lnTo>
                      <a:pt x="90" y="37"/>
                    </a:lnTo>
                    <a:lnTo>
                      <a:pt x="97" y="27"/>
                    </a:lnTo>
                    <a:lnTo>
                      <a:pt x="99" y="18"/>
                    </a:lnTo>
                    <a:lnTo>
                      <a:pt x="99" y="8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7f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9047000">
                <a:off x="4960800" y="4794840"/>
                <a:ext cx="62280" cy="55440"/>
              </a:xfrm>
              <a:custGeom>
                <a:avLst/>
                <a:gdLst/>
                <a:ahLst/>
                <a:rect l="l" t="t" r="r" b="b"/>
                <a:pathLst>
                  <a:path w="131" h="85">
                    <a:moveTo>
                      <a:pt x="2" y="10"/>
                    </a:moveTo>
                    <a:lnTo>
                      <a:pt x="7" y="7"/>
                    </a:lnTo>
                    <a:lnTo>
                      <a:pt x="16" y="6"/>
                    </a:lnTo>
                    <a:lnTo>
                      <a:pt x="30" y="6"/>
                    </a:lnTo>
                    <a:lnTo>
                      <a:pt x="43" y="6"/>
                    </a:lnTo>
                    <a:lnTo>
                      <a:pt x="59" y="6"/>
                    </a:lnTo>
                    <a:lnTo>
                      <a:pt x="74" y="6"/>
                    </a:lnTo>
                    <a:lnTo>
                      <a:pt x="86" y="5"/>
                    </a:lnTo>
                    <a:lnTo>
                      <a:pt x="96" y="1"/>
                    </a:lnTo>
                    <a:lnTo>
                      <a:pt x="108" y="0"/>
                    </a:lnTo>
                    <a:lnTo>
                      <a:pt x="118" y="6"/>
                    </a:lnTo>
                    <a:lnTo>
                      <a:pt x="124" y="17"/>
                    </a:lnTo>
                    <a:lnTo>
                      <a:pt x="128" y="32"/>
                    </a:lnTo>
                    <a:lnTo>
                      <a:pt x="131" y="47"/>
                    </a:lnTo>
                    <a:lnTo>
                      <a:pt x="131" y="60"/>
                    </a:lnTo>
                    <a:lnTo>
                      <a:pt x="128" y="71"/>
                    </a:lnTo>
                    <a:lnTo>
                      <a:pt x="123" y="78"/>
                    </a:lnTo>
                    <a:lnTo>
                      <a:pt x="114" y="80"/>
                    </a:lnTo>
                    <a:lnTo>
                      <a:pt x="102" y="82"/>
                    </a:lnTo>
                    <a:lnTo>
                      <a:pt x="86" y="84"/>
                    </a:lnTo>
                    <a:lnTo>
                      <a:pt x="70" y="84"/>
                    </a:lnTo>
                    <a:lnTo>
                      <a:pt x="52" y="85"/>
                    </a:lnTo>
                    <a:lnTo>
                      <a:pt x="38" y="84"/>
                    </a:lnTo>
                    <a:lnTo>
                      <a:pt x="26" y="83"/>
                    </a:lnTo>
                    <a:lnTo>
                      <a:pt x="19" y="81"/>
                    </a:lnTo>
                    <a:lnTo>
                      <a:pt x="10" y="69"/>
                    </a:lnTo>
                    <a:lnTo>
                      <a:pt x="3" y="47"/>
                    </a:lnTo>
                    <a:lnTo>
                      <a:pt x="0" y="24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7f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9047000">
                <a:off x="5040000" y="4655520"/>
                <a:ext cx="130680" cy="159120"/>
              </a:xfrm>
              <a:custGeom>
                <a:avLst/>
                <a:gdLst/>
                <a:ahLst/>
                <a:rect l="l" t="t" r="r" b="b"/>
                <a:pathLst>
                  <a:path w="272" h="242">
                    <a:moveTo>
                      <a:pt x="104" y="242"/>
                    </a:moveTo>
                    <a:lnTo>
                      <a:pt x="131" y="237"/>
                    </a:lnTo>
                    <a:lnTo>
                      <a:pt x="158" y="229"/>
                    </a:lnTo>
                    <a:lnTo>
                      <a:pt x="183" y="217"/>
                    </a:lnTo>
                    <a:lnTo>
                      <a:pt x="207" y="201"/>
                    </a:lnTo>
                    <a:lnTo>
                      <a:pt x="227" y="182"/>
                    </a:lnTo>
                    <a:lnTo>
                      <a:pt x="244" y="160"/>
                    </a:lnTo>
                    <a:lnTo>
                      <a:pt x="259" y="138"/>
                    </a:lnTo>
                    <a:lnTo>
                      <a:pt x="268" y="113"/>
                    </a:lnTo>
                    <a:lnTo>
                      <a:pt x="272" y="89"/>
                    </a:lnTo>
                    <a:lnTo>
                      <a:pt x="269" y="67"/>
                    </a:lnTo>
                    <a:lnTo>
                      <a:pt x="263" y="46"/>
                    </a:lnTo>
                    <a:lnTo>
                      <a:pt x="252" y="30"/>
                    </a:lnTo>
                    <a:lnTo>
                      <a:pt x="236" y="16"/>
                    </a:lnTo>
                    <a:lnTo>
                      <a:pt x="216" y="7"/>
                    </a:lnTo>
                    <a:lnTo>
                      <a:pt x="194" y="1"/>
                    </a:lnTo>
                    <a:lnTo>
                      <a:pt x="167" y="0"/>
                    </a:lnTo>
                    <a:lnTo>
                      <a:pt x="140" y="5"/>
                    </a:lnTo>
                    <a:lnTo>
                      <a:pt x="114" y="13"/>
                    </a:lnTo>
                    <a:lnTo>
                      <a:pt x="90" y="25"/>
                    </a:lnTo>
                    <a:lnTo>
                      <a:pt x="66" y="41"/>
                    </a:lnTo>
                    <a:lnTo>
                      <a:pt x="44" y="60"/>
                    </a:lnTo>
                    <a:lnTo>
                      <a:pt x="27" y="82"/>
                    </a:lnTo>
                    <a:lnTo>
                      <a:pt x="14" y="104"/>
                    </a:lnTo>
                    <a:lnTo>
                      <a:pt x="4" y="129"/>
                    </a:lnTo>
                    <a:lnTo>
                      <a:pt x="0" y="153"/>
                    </a:lnTo>
                    <a:lnTo>
                      <a:pt x="3" y="175"/>
                    </a:lnTo>
                    <a:lnTo>
                      <a:pt x="10" y="195"/>
                    </a:lnTo>
                    <a:lnTo>
                      <a:pt x="20" y="212"/>
                    </a:lnTo>
                    <a:lnTo>
                      <a:pt x="36" y="225"/>
                    </a:lnTo>
                    <a:lnTo>
                      <a:pt x="55" y="235"/>
                    </a:lnTo>
                    <a:lnTo>
                      <a:pt x="78" y="240"/>
                    </a:lnTo>
                    <a:lnTo>
                      <a:pt x="104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9047000">
                <a:off x="5083560" y="4706280"/>
                <a:ext cx="44640" cy="55440"/>
              </a:xfrm>
              <a:custGeom>
                <a:avLst/>
                <a:gdLst/>
                <a:ahLst/>
                <a:rect l="l" t="t" r="r" b="b"/>
                <a:pathLst>
                  <a:path w="93" h="84">
                    <a:moveTo>
                      <a:pt x="36" y="84"/>
                    </a:moveTo>
                    <a:lnTo>
                      <a:pt x="45" y="82"/>
                    </a:lnTo>
                    <a:lnTo>
                      <a:pt x="53" y="80"/>
                    </a:lnTo>
                    <a:lnTo>
                      <a:pt x="62" y="75"/>
                    </a:lnTo>
                    <a:lnTo>
                      <a:pt x="70" y="69"/>
                    </a:lnTo>
                    <a:lnTo>
                      <a:pt x="77" y="63"/>
                    </a:lnTo>
                    <a:lnTo>
                      <a:pt x="84" y="55"/>
                    </a:lnTo>
                    <a:lnTo>
                      <a:pt x="88" y="48"/>
                    </a:lnTo>
                    <a:lnTo>
                      <a:pt x="92" y="39"/>
                    </a:lnTo>
                    <a:lnTo>
                      <a:pt x="93" y="31"/>
                    </a:lnTo>
                    <a:lnTo>
                      <a:pt x="93" y="23"/>
                    </a:lnTo>
                    <a:lnTo>
                      <a:pt x="90" y="16"/>
                    </a:lnTo>
                    <a:lnTo>
                      <a:pt x="86" y="10"/>
                    </a:lnTo>
                    <a:lnTo>
                      <a:pt x="81" y="5"/>
                    </a:lnTo>
                    <a:lnTo>
                      <a:pt x="74" y="2"/>
                    </a:lnTo>
                    <a:lnTo>
                      <a:pt x="66" y="0"/>
                    </a:lnTo>
                    <a:lnTo>
                      <a:pt x="57" y="0"/>
                    </a:lnTo>
                    <a:lnTo>
                      <a:pt x="48" y="1"/>
                    </a:lnTo>
                    <a:lnTo>
                      <a:pt x="38" y="4"/>
                    </a:lnTo>
                    <a:lnTo>
                      <a:pt x="30" y="8"/>
                    </a:lnTo>
                    <a:lnTo>
                      <a:pt x="22" y="14"/>
                    </a:lnTo>
                    <a:lnTo>
                      <a:pt x="14" y="20"/>
                    </a:lnTo>
                    <a:lnTo>
                      <a:pt x="9" y="28"/>
                    </a:lnTo>
                    <a:lnTo>
                      <a:pt x="4" y="36"/>
                    </a:lnTo>
                    <a:lnTo>
                      <a:pt x="1" y="45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2" y="68"/>
                    </a:lnTo>
                    <a:lnTo>
                      <a:pt x="6" y="74"/>
                    </a:lnTo>
                    <a:lnTo>
                      <a:pt x="12" y="79"/>
                    </a:lnTo>
                    <a:lnTo>
                      <a:pt x="18" y="82"/>
                    </a:lnTo>
                    <a:lnTo>
                      <a:pt x="26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9047000">
                <a:off x="5246280" y="4465440"/>
                <a:ext cx="132120" cy="159120"/>
              </a:xfrm>
              <a:custGeom>
                <a:avLst/>
                <a:gdLst/>
                <a:ahLst/>
                <a:rect l="l" t="t" r="r" b="b"/>
                <a:pathLst>
                  <a:path w="273" h="242">
                    <a:moveTo>
                      <a:pt x="105" y="242"/>
                    </a:moveTo>
                    <a:lnTo>
                      <a:pt x="132" y="237"/>
                    </a:lnTo>
                    <a:lnTo>
                      <a:pt x="158" y="229"/>
                    </a:lnTo>
                    <a:lnTo>
                      <a:pt x="183" y="217"/>
                    </a:lnTo>
                    <a:lnTo>
                      <a:pt x="207" y="201"/>
                    </a:lnTo>
                    <a:lnTo>
                      <a:pt x="229" y="182"/>
                    </a:lnTo>
                    <a:lnTo>
                      <a:pt x="246" y="160"/>
                    </a:lnTo>
                    <a:lnTo>
                      <a:pt x="259" y="138"/>
                    </a:lnTo>
                    <a:lnTo>
                      <a:pt x="269" y="113"/>
                    </a:lnTo>
                    <a:lnTo>
                      <a:pt x="273" y="89"/>
                    </a:lnTo>
                    <a:lnTo>
                      <a:pt x="271" y="67"/>
                    </a:lnTo>
                    <a:lnTo>
                      <a:pt x="263" y="46"/>
                    </a:lnTo>
                    <a:lnTo>
                      <a:pt x="253" y="30"/>
                    </a:lnTo>
                    <a:lnTo>
                      <a:pt x="237" y="16"/>
                    </a:lnTo>
                    <a:lnTo>
                      <a:pt x="218" y="7"/>
                    </a:lnTo>
                    <a:lnTo>
                      <a:pt x="195" y="1"/>
                    </a:lnTo>
                    <a:lnTo>
                      <a:pt x="169" y="0"/>
                    </a:lnTo>
                    <a:lnTo>
                      <a:pt x="141" y="5"/>
                    </a:lnTo>
                    <a:lnTo>
                      <a:pt x="114" y="13"/>
                    </a:lnTo>
                    <a:lnTo>
                      <a:pt x="89" y="25"/>
                    </a:lnTo>
                    <a:lnTo>
                      <a:pt x="66" y="41"/>
                    </a:lnTo>
                    <a:lnTo>
                      <a:pt x="45" y="60"/>
                    </a:lnTo>
                    <a:lnTo>
                      <a:pt x="28" y="82"/>
                    </a:lnTo>
                    <a:lnTo>
                      <a:pt x="13" y="104"/>
                    </a:lnTo>
                    <a:lnTo>
                      <a:pt x="4" y="129"/>
                    </a:lnTo>
                    <a:lnTo>
                      <a:pt x="0" y="153"/>
                    </a:lnTo>
                    <a:lnTo>
                      <a:pt x="2" y="175"/>
                    </a:lnTo>
                    <a:lnTo>
                      <a:pt x="9" y="195"/>
                    </a:lnTo>
                    <a:lnTo>
                      <a:pt x="21" y="212"/>
                    </a:lnTo>
                    <a:lnTo>
                      <a:pt x="36" y="225"/>
                    </a:lnTo>
                    <a:lnTo>
                      <a:pt x="56" y="235"/>
                    </a:lnTo>
                    <a:lnTo>
                      <a:pt x="78" y="240"/>
                    </a:lnTo>
                    <a:lnTo>
                      <a:pt x="105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9047000">
                <a:off x="5288400" y="4518000"/>
                <a:ext cx="46440" cy="55440"/>
              </a:xfrm>
              <a:custGeom>
                <a:avLst/>
                <a:gdLst/>
                <a:ahLst/>
                <a:rect l="l" t="t" r="r" b="b"/>
                <a:pathLst>
                  <a:path w="94" h="84">
                    <a:moveTo>
                      <a:pt x="36" y="84"/>
                    </a:moveTo>
                    <a:lnTo>
                      <a:pt x="45" y="82"/>
                    </a:lnTo>
                    <a:lnTo>
                      <a:pt x="54" y="80"/>
                    </a:lnTo>
                    <a:lnTo>
                      <a:pt x="64" y="75"/>
                    </a:lnTo>
                    <a:lnTo>
                      <a:pt x="72" y="69"/>
                    </a:lnTo>
                    <a:lnTo>
                      <a:pt x="80" y="63"/>
                    </a:lnTo>
                    <a:lnTo>
                      <a:pt x="85" y="55"/>
                    </a:lnTo>
                    <a:lnTo>
                      <a:pt x="90" y="48"/>
                    </a:lnTo>
                    <a:lnTo>
                      <a:pt x="93" y="39"/>
                    </a:lnTo>
                    <a:lnTo>
                      <a:pt x="94" y="31"/>
                    </a:lnTo>
                    <a:lnTo>
                      <a:pt x="94" y="23"/>
                    </a:lnTo>
                    <a:lnTo>
                      <a:pt x="92" y="16"/>
                    </a:lnTo>
                    <a:lnTo>
                      <a:pt x="88" y="10"/>
                    </a:lnTo>
                    <a:lnTo>
                      <a:pt x="82" y="5"/>
                    </a:lnTo>
                    <a:lnTo>
                      <a:pt x="76" y="2"/>
                    </a:lnTo>
                    <a:lnTo>
                      <a:pt x="68" y="0"/>
                    </a:lnTo>
                    <a:lnTo>
                      <a:pt x="58" y="0"/>
                    </a:lnTo>
                    <a:lnTo>
                      <a:pt x="49" y="1"/>
                    </a:lnTo>
                    <a:lnTo>
                      <a:pt x="40" y="4"/>
                    </a:lnTo>
                    <a:lnTo>
                      <a:pt x="31" y="8"/>
                    </a:lnTo>
                    <a:lnTo>
                      <a:pt x="23" y="14"/>
                    </a:lnTo>
                    <a:lnTo>
                      <a:pt x="16" y="20"/>
                    </a:lnTo>
                    <a:lnTo>
                      <a:pt x="9" y="28"/>
                    </a:lnTo>
                    <a:lnTo>
                      <a:pt x="5" y="36"/>
                    </a:lnTo>
                    <a:lnTo>
                      <a:pt x="1" y="45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3" y="68"/>
                    </a:lnTo>
                    <a:lnTo>
                      <a:pt x="7" y="74"/>
                    </a:lnTo>
                    <a:lnTo>
                      <a:pt x="12" y="79"/>
                    </a:lnTo>
                    <a:lnTo>
                      <a:pt x="19" y="82"/>
                    </a:lnTo>
                    <a:lnTo>
                      <a:pt x="27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9047000">
                <a:off x="4963680" y="4426920"/>
                <a:ext cx="156960" cy="172440"/>
              </a:xfrm>
              <a:custGeom>
                <a:avLst/>
                <a:gdLst/>
                <a:ahLst/>
                <a:rect l="l" t="t" r="r" b="b"/>
                <a:pathLst>
                  <a:path w="326" h="259">
                    <a:moveTo>
                      <a:pt x="131" y="4"/>
                    </a:moveTo>
                    <a:lnTo>
                      <a:pt x="138" y="2"/>
                    </a:lnTo>
                    <a:lnTo>
                      <a:pt x="149" y="1"/>
                    </a:lnTo>
                    <a:lnTo>
                      <a:pt x="163" y="1"/>
                    </a:lnTo>
                    <a:lnTo>
                      <a:pt x="179" y="0"/>
                    </a:lnTo>
                    <a:lnTo>
                      <a:pt x="195" y="1"/>
                    </a:lnTo>
                    <a:lnTo>
                      <a:pt x="209" y="2"/>
                    </a:lnTo>
                    <a:lnTo>
                      <a:pt x="219" y="4"/>
                    </a:lnTo>
                    <a:lnTo>
                      <a:pt x="225" y="6"/>
                    </a:lnTo>
                    <a:lnTo>
                      <a:pt x="227" y="21"/>
                    </a:lnTo>
                    <a:lnTo>
                      <a:pt x="229" y="46"/>
                    </a:lnTo>
                    <a:lnTo>
                      <a:pt x="227" y="73"/>
                    </a:lnTo>
                    <a:lnTo>
                      <a:pt x="225" y="90"/>
                    </a:lnTo>
                    <a:lnTo>
                      <a:pt x="227" y="93"/>
                    </a:lnTo>
                    <a:lnTo>
                      <a:pt x="238" y="95"/>
                    </a:lnTo>
                    <a:lnTo>
                      <a:pt x="253" y="96"/>
                    </a:lnTo>
                    <a:lnTo>
                      <a:pt x="270" y="96"/>
                    </a:lnTo>
                    <a:lnTo>
                      <a:pt x="288" y="96"/>
                    </a:lnTo>
                    <a:lnTo>
                      <a:pt x="304" y="98"/>
                    </a:lnTo>
                    <a:lnTo>
                      <a:pt x="316" y="98"/>
                    </a:lnTo>
                    <a:lnTo>
                      <a:pt x="323" y="100"/>
                    </a:lnTo>
                    <a:lnTo>
                      <a:pt x="326" y="115"/>
                    </a:lnTo>
                    <a:lnTo>
                      <a:pt x="324" y="141"/>
                    </a:lnTo>
                    <a:lnTo>
                      <a:pt x="320" y="168"/>
                    </a:lnTo>
                    <a:lnTo>
                      <a:pt x="314" y="180"/>
                    </a:lnTo>
                    <a:lnTo>
                      <a:pt x="307" y="180"/>
                    </a:lnTo>
                    <a:lnTo>
                      <a:pt x="294" y="179"/>
                    </a:lnTo>
                    <a:lnTo>
                      <a:pt x="278" y="178"/>
                    </a:lnTo>
                    <a:lnTo>
                      <a:pt x="261" y="178"/>
                    </a:lnTo>
                    <a:lnTo>
                      <a:pt x="243" y="177"/>
                    </a:lnTo>
                    <a:lnTo>
                      <a:pt x="227" y="177"/>
                    </a:lnTo>
                    <a:lnTo>
                      <a:pt x="215" y="178"/>
                    </a:lnTo>
                    <a:lnTo>
                      <a:pt x="210" y="180"/>
                    </a:lnTo>
                    <a:lnTo>
                      <a:pt x="206" y="195"/>
                    </a:lnTo>
                    <a:lnTo>
                      <a:pt x="202" y="222"/>
                    </a:lnTo>
                    <a:lnTo>
                      <a:pt x="199" y="248"/>
                    </a:lnTo>
                    <a:lnTo>
                      <a:pt x="198" y="259"/>
                    </a:lnTo>
                    <a:lnTo>
                      <a:pt x="194" y="259"/>
                    </a:lnTo>
                    <a:lnTo>
                      <a:pt x="182" y="259"/>
                    </a:lnTo>
                    <a:lnTo>
                      <a:pt x="166" y="259"/>
                    </a:lnTo>
                    <a:lnTo>
                      <a:pt x="147" y="259"/>
                    </a:lnTo>
                    <a:lnTo>
                      <a:pt x="129" y="258"/>
                    </a:lnTo>
                    <a:lnTo>
                      <a:pt x="111" y="258"/>
                    </a:lnTo>
                    <a:lnTo>
                      <a:pt x="99" y="257"/>
                    </a:lnTo>
                    <a:lnTo>
                      <a:pt x="93" y="255"/>
                    </a:lnTo>
                    <a:lnTo>
                      <a:pt x="93" y="241"/>
                    </a:lnTo>
                    <a:lnTo>
                      <a:pt x="99" y="214"/>
                    </a:lnTo>
                    <a:lnTo>
                      <a:pt x="106" y="189"/>
                    </a:lnTo>
                    <a:lnTo>
                      <a:pt x="106" y="176"/>
                    </a:lnTo>
                    <a:lnTo>
                      <a:pt x="101" y="175"/>
                    </a:lnTo>
                    <a:lnTo>
                      <a:pt x="89" y="174"/>
                    </a:lnTo>
                    <a:lnTo>
                      <a:pt x="73" y="173"/>
                    </a:lnTo>
                    <a:lnTo>
                      <a:pt x="55" y="170"/>
                    </a:lnTo>
                    <a:lnTo>
                      <a:pt x="38" y="169"/>
                    </a:lnTo>
                    <a:lnTo>
                      <a:pt x="22" y="168"/>
                    </a:lnTo>
                    <a:lnTo>
                      <a:pt x="10" y="167"/>
                    </a:lnTo>
                    <a:lnTo>
                      <a:pt x="4" y="166"/>
                    </a:lnTo>
                    <a:lnTo>
                      <a:pt x="0" y="153"/>
                    </a:lnTo>
                    <a:lnTo>
                      <a:pt x="1" y="128"/>
                    </a:lnTo>
                    <a:lnTo>
                      <a:pt x="5" y="101"/>
                    </a:lnTo>
                    <a:lnTo>
                      <a:pt x="10" y="88"/>
                    </a:lnTo>
                    <a:lnTo>
                      <a:pt x="17" y="87"/>
                    </a:lnTo>
                    <a:lnTo>
                      <a:pt x="29" y="87"/>
                    </a:lnTo>
                    <a:lnTo>
                      <a:pt x="43" y="88"/>
                    </a:lnTo>
                    <a:lnTo>
                      <a:pt x="61" y="89"/>
                    </a:lnTo>
                    <a:lnTo>
                      <a:pt x="78" y="90"/>
                    </a:lnTo>
                    <a:lnTo>
                      <a:pt x="94" y="90"/>
                    </a:lnTo>
                    <a:lnTo>
                      <a:pt x="106" y="91"/>
                    </a:lnTo>
                    <a:lnTo>
                      <a:pt x="111" y="90"/>
                    </a:lnTo>
                    <a:lnTo>
                      <a:pt x="117" y="76"/>
                    </a:lnTo>
                    <a:lnTo>
                      <a:pt x="121" y="48"/>
                    </a:lnTo>
                    <a:lnTo>
                      <a:pt x="125" y="19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b2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9047000">
                <a:off x="5092200" y="4303800"/>
                <a:ext cx="78480" cy="112680"/>
              </a:xfrm>
              <a:custGeom>
                <a:avLst/>
                <a:gdLst/>
                <a:ahLst/>
                <a:rect l="l" t="t" r="r" b="b"/>
                <a:pathLst>
                  <a:path w="162" h="169">
                    <a:moveTo>
                      <a:pt x="99" y="7"/>
                    </a:moveTo>
                    <a:lnTo>
                      <a:pt x="107" y="18"/>
                    </a:lnTo>
                    <a:lnTo>
                      <a:pt x="117" y="37"/>
                    </a:lnTo>
                    <a:lnTo>
                      <a:pt x="127" y="62"/>
                    </a:lnTo>
                    <a:lnTo>
                      <a:pt x="138" y="90"/>
                    </a:lnTo>
                    <a:lnTo>
                      <a:pt x="147" y="118"/>
                    </a:lnTo>
                    <a:lnTo>
                      <a:pt x="155" y="141"/>
                    </a:lnTo>
                    <a:lnTo>
                      <a:pt x="161" y="157"/>
                    </a:lnTo>
                    <a:lnTo>
                      <a:pt x="162" y="165"/>
                    </a:lnTo>
                    <a:lnTo>
                      <a:pt x="159" y="168"/>
                    </a:lnTo>
                    <a:lnTo>
                      <a:pt x="154" y="169"/>
                    </a:lnTo>
                    <a:lnTo>
                      <a:pt x="146" y="169"/>
                    </a:lnTo>
                    <a:lnTo>
                      <a:pt x="137" y="167"/>
                    </a:lnTo>
                    <a:lnTo>
                      <a:pt x="126" y="165"/>
                    </a:lnTo>
                    <a:lnTo>
                      <a:pt x="115" y="160"/>
                    </a:lnTo>
                    <a:lnTo>
                      <a:pt x="102" y="156"/>
                    </a:lnTo>
                    <a:lnTo>
                      <a:pt x="90" y="151"/>
                    </a:lnTo>
                    <a:lnTo>
                      <a:pt x="84" y="150"/>
                    </a:lnTo>
                    <a:lnTo>
                      <a:pt x="73" y="149"/>
                    </a:lnTo>
                    <a:lnTo>
                      <a:pt x="60" y="149"/>
                    </a:lnTo>
                    <a:lnTo>
                      <a:pt x="44" y="149"/>
                    </a:lnTo>
                    <a:lnTo>
                      <a:pt x="28" y="149"/>
                    </a:lnTo>
                    <a:lnTo>
                      <a:pt x="14" y="148"/>
                    </a:lnTo>
                    <a:lnTo>
                      <a:pt x="5" y="147"/>
                    </a:lnTo>
                    <a:lnTo>
                      <a:pt x="1" y="143"/>
                    </a:lnTo>
                    <a:lnTo>
                      <a:pt x="0" y="117"/>
                    </a:lnTo>
                    <a:lnTo>
                      <a:pt x="0" y="68"/>
                    </a:lnTo>
                    <a:lnTo>
                      <a:pt x="2" y="21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42" y="0"/>
                    </a:lnTo>
                    <a:lnTo>
                      <a:pt x="56" y="0"/>
                    </a:lnTo>
                    <a:lnTo>
                      <a:pt x="70" y="1"/>
                    </a:lnTo>
                    <a:lnTo>
                      <a:pt x="82" y="2"/>
                    </a:lnTo>
                    <a:lnTo>
                      <a:pt x="93" y="4"/>
                    </a:lnTo>
                    <a:lnTo>
                      <a:pt x="9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9047000">
                <a:off x="5102280" y="4321080"/>
                <a:ext cx="55080" cy="79560"/>
              </a:xfrm>
              <a:custGeom>
                <a:avLst/>
                <a:gdLst/>
                <a:ahLst/>
                <a:rect l="l" t="t" r="r" b="b"/>
                <a:pathLst>
                  <a:path w="115" h="120">
                    <a:moveTo>
                      <a:pt x="64" y="2"/>
                    </a:moveTo>
                    <a:lnTo>
                      <a:pt x="64" y="8"/>
                    </a:lnTo>
                    <a:lnTo>
                      <a:pt x="70" y="23"/>
                    </a:lnTo>
                    <a:lnTo>
                      <a:pt x="77" y="41"/>
                    </a:lnTo>
                    <a:lnTo>
                      <a:pt x="77" y="54"/>
                    </a:lnTo>
                    <a:lnTo>
                      <a:pt x="77" y="59"/>
                    </a:lnTo>
                    <a:lnTo>
                      <a:pt x="79" y="68"/>
                    </a:lnTo>
                    <a:lnTo>
                      <a:pt x="85" y="77"/>
                    </a:lnTo>
                    <a:lnTo>
                      <a:pt x="93" y="88"/>
                    </a:lnTo>
                    <a:lnTo>
                      <a:pt x="99" y="98"/>
                    </a:lnTo>
                    <a:lnTo>
                      <a:pt x="107" y="107"/>
                    </a:lnTo>
                    <a:lnTo>
                      <a:pt x="113" y="115"/>
                    </a:lnTo>
                    <a:lnTo>
                      <a:pt x="115" y="120"/>
                    </a:lnTo>
                    <a:lnTo>
                      <a:pt x="113" y="119"/>
                    </a:lnTo>
                    <a:lnTo>
                      <a:pt x="109" y="118"/>
                    </a:lnTo>
                    <a:lnTo>
                      <a:pt x="103" y="116"/>
                    </a:lnTo>
                    <a:lnTo>
                      <a:pt x="98" y="114"/>
                    </a:lnTo>
                    <a:lnTo>
                      <a:pt x="91" y="112"/>
                    </a:lnTo>
                    <a:lnTo>
                      <a:pt x="83" y="110"/>
                    </a:lnTo>
                    <a:lnTo>
                      <a:pt x="75" y="109"/>
                    </a:lnTo>
                    <a:lnTo>
                      <a:pt x="68" y="106"/>
                    </a:lnTo>
                    <a:lnTo>
                      <a:pt x="57" y="106"/>
                    </a:lnTo>
                    <a:lnTo>
                      <a:pt x="46" y="105"/>
                    </a:lnTo>
                    <a:lnTo>
                      <a:pt x="37" y="105"/>
                    </a:lnTo>
                    <a:lnTo>
                      <a:pt x="26" y="104"/>
                    </a:lnTo>
                    <a:lnTo>
                      <a:pt x="18" y="104"/>
                    </a:lnTo>
                    <a:lnTo>
                      <a:pt x="10" y="103"/>
                    </a:lnTo>
                    <a:lnTo>
                      <a:pt x="5" y="104"/>
                    </a:lnTo>
                    <a:lnTo>
                      <a:pt x="1" y="104"/>
                    </a:lnTo>
                    <a:lnTo>
                      <a:pt x="0" y="84"/>
                    </a:lnTo>
                    <a:lnTo>
                      <a:pt x="0" y="52"/>
                    </a:lnTo>
                    <a:lnTo>
                      <a:pt x="1" y="21"/>
                    </a:lnTo>
                    <a:lnTo>
                      <a:pt x="2" y="2"/>
                    </a:lnTo>
                    <a:lnTo>
                      <a:pt x="8" y="1"/>
                    </a:lnTo>
                    <a:lnTo>
                      <a:pt x="16" y="1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9047000">
                <a:off x="4956120" y="4288320"/>
                <a:ext cx="62640" cy="43920"/>
              </a:xfrm>
              <a:custGeom>
                <a:avLst/>
                <a:gdLst/>
                <a:ahLst/>
                <a:rect l="l" t="t" r="r" b="b"/>
                <a:pathLst>
                  <a:path w="128" h="64">
                    <a:moveTo>
                      <a:pt x="0" y="58"/>
                    </a:moveTo>
                    <a:lnTo>
                      <a:pt x="11" y="57"/>
                    </a:lnTo>
                    <a:lnTo>
                      <a:pt x="25" y="57"/>
                    </a:lnTo>
                    <a:lnTo>
                      <a:pt x="43" y="57"/>
                    </a:lnTo>
                    <a:lnTo>
                      <a:pt x="61" y="57"/>
                    </a:lnTo>
                    <a:lnTo>
                      <a:pt x="81" y="58"/>
                    </a:lnTo>
                    <a:lnTo>
                      <a:pt x="99" y="59"/>
                    </a:lnTo>
                    <a:lnTo>
                      <a:pt x="113" y="61"/>
                    </a:lnTo>
                    <a:lnTo>
                      <a:pt x="125" y="64"/>
                    </a:lnTo>
                    <a:lnTo>
                      <a:pt x="128" y="39"/>
                    </a:lnTo>
                    <a:lnTo>
                      <a:pt x="117" y="20"/>
                    </a:lnTo>
                    <a:lnTo>
                      <a:pt x="97" y="6"/>
                    </a:lnTo>
                    <a:lnTo>
                      <a:pt x="72" y="0"/>
                    </a:lnTo>
                    <a:lnTo>
                      <a:pt x="45" y="0"/>
                    </a:lnTo>
                    <a:lnTo>
                      <a:pt x="21" y="9"/>
                    </a:lnTo>
                    <a:lnTo>
                      <a:pt x="5" y="2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9047000">
                <a:off x="4800960" y="4851000"/>
                <a:ext cx="136440" cy="39600"/>
              </a:xfrm>
              <a:custGeom>
                <a:avLst/>
                <a:gdLst/>
                <a:ahLst/>
                <a:rect l="l" t="t" r="r" b="b"/>
                <a:pathLst>
                  <a:path w="280" h="60">
                    <a:moveTo>
                      <a:pt x="275" y="38"/>
                    </a:moveTo>
                    <a:lnTo>
                      <a:pt x="280" y="43"/>
                    </a:lnTo>
                    <a:lnTo>
                      <a:pt x="279" y="51"/>
                    </a:lnTo>
                    <a:lnTo>
                      <a:pt x="274" y="57"/>
                    </a:lnTo>
                    <a:lnTo>
                      <a:pt x="263" y="60"/>
                    </a:lnTo>
                    <a:lnTo>
                      <a:pt x="254" y="60"/>
                    </a:lnTo>
                    <a:lnTo>
                      <a:pt x="242" y="59"/>
                    </a:lnTo>
                    <a:lnTo>
                      <a:pt x="226" y="57"/>
                    </a:lnTo>
                    <a:lnTo>
                      <a:pt x="209" y="55"/>
                    </a:lnTo>
                    <a:lnTo>
                      <a:pt x="190" y="53"/>
                    </a:lnTo>
                    <a:lnTo>
                      <a:pt x="170" y="49"/>
                    </a:lnTo>
                    <a:lnTo>
                      <a:pt x="150" y="45"/>
                    </a:lnTo>
                    <a:lnTo>
                      <a:pt x="129" y="42"/>
                    </a:lnTo>
                    <a:lnTo>
                      <a:pt x="109" y="38"/>
                    </a:lnTo>
                    <a:lnTo>
                      <a:pt x="89" y="35"/>
                    </a:lnTo>
                    <a:lnTo>
                      <a:pt x="70" y="32"/>
                    </a:lnTo>
                    <a:lnTo>
                      <a:pt x="54" y="28"/>
                    </a:lnTo>
                    <a:lnTo>
                      <a:pt x="39" y="25"/>
                    </a:lnTo>
                    <a:lnTo>
                      <a:pt x="27" y="24"/>
                    </a:lnTo>
                    <a:lnTo>
                      <a:pt x="18" y="22"/>
                    </a:lnTo>
                    <a:lnTo>
                      <a:pt x="13" y="22"/>
                    </a:lnTo>
                    <a:lnTo>
                      <a:pt x="2" y="18"/>
                    </a:lnTo>
                    <a:lnTo>
                      <a:pt x="0" y="10"/>
                    </a:lnTo>
                    <a:lnTo>
                      <a:pt x="5" y="3"/>
                    </a:lnTo>
                    <a:lnTo>
                      <a:pt x="25" y="0"/>
                    </a:lnTo>
                    <a:lnTo>
                      <a:pt x="31" y="2"/>
                    </a:lnTo>
                    <a:lnTo>
                      <a:pt x="41" y="3"/>
                    </a:lnTo>
                    <a:lnTo>
                      <a:pt x="54" y="5"/>
                    </a:lnTo>
                    <a:lnTo>
                      <a:pt x="71" y="7"/>
                    </a:lnTo>
                    <a:lnTo>
                      <a:pt x="89" y="10"/>
                    </a:lnTo>
                    <a:lnTo>
                      <a:pt x="110" y="12"/>
                    </a:lnTo>
                    <a:lnTo>
                      <a:pt x="131" y="15"/>
                    </a:lnTo>
                    <a:lnTo>
                      <a:pt x="153" y="19"/>
                    </a:lnTo>
                    <a:lnTo>
                      <a:pt x="174" y="22"/>
                    </a:lnTo>
                    <a:lnTo>
                      <a:pt x="195" y="25"/>
                    </a:lnTo>
                    <a:lnTo>
                      <a:pt x="215" y="28"/>
                    </a:lnTo>
                    <a:lnTo>
                      <a:pt x="233" y="30"/>
                    </a:lnTo>
                    <a:lnTo>
                      <a:pt x="249" y="34"/>
                    </a:lnTo>
                    <a:lnTo>
                      <a:pt x="260" y="35"/>
                    </a:lnTo>
                    <a:lnTo>
                      <a:pt x="270" y="37"/>
                    </a:lnTo>
                    <a:lnTo>
                      <a:pt x="27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9047000">
                <a:off x="4839840" y="4891680"/>
                <a:ext cx="123480" cy="21960"/>
              </a:xfrm>
              <a:custGeom>
                <a:avLst/>
                <a:gdLst/>
                <a:ahLst/>
                <a:rect l="l" t="t" r="r" b="b"/>
                <a:pathLst>
                  <a:path w="255" h="34">
                    <a:moveTo>
                      <a:pt x="246" y="14"/>
                    </a:moveTo>
                    <a:lnTo>
                      <a:pt x="253" y="18"/>
                    </a:lnTo>
                    <a:lnTo>
                      <a:pt x="255" y="25"/>
                    </a:lnTo>
                    <a:lnTo>
                      <a:pt x="253" y="31"/>
                    </a:lnTo>
                    <a:lnTo>
                      <a:pt x="245" y="34"/>
                    </a:lnTo>
                    <a:lnTo>
                      <a:pt x="236" y="34"/>
                    </a:lnTo>
                    <a:lnTo>
                      <a:pt x="222" y="34"/>
                    </a:lnTo>
                    <a:lnTo>
                      <a:pt x="209" y="33"/>
                    </a:lnTo>
                    <a:lnTo>
                      <a:pt x="192" y="32"/>
                    </a:lnTo>
                    <a:lnTo>
                      <a:pt x="174" y="31"/>
                    </a:lnTo>
                    <a:lnTo>
                      <a:pt x="157" y="30"/>
                    </a:lnTo>
                    <a:lnTo>
                      <a:pt x="138" y="29"/>
                    </a:lnTo>
                    <a:lnTo>
                      <a:pt x="120" y="28"/>
                    </a:lnTo>
                    <a:lnTo>
                      <a:pt x="101" y="27"/>
                    </a:lnTo>
                    <a:lnTo>
                      <a:pt x="82" y="26"/>
                    </a:lnTo>
                    <a:lnTo>
                      <a:pt x="66" y="25"/>
                    </a:lnTo>
                    <a:lnTo>
                      <a:pt x="52" y="24"/>
                    </a:lnTo>
                    <a:lnTo>
                      <a:pt x="38" y="22"/>
                    </a:lnTo>
                    <a:lnTo>
                      <a:pt x="28" y="21"/>
                    </a:lnTo>
                    <a:lnTo>
                      <a:pt x="20" y="21"/>
                    </a:lnTo>
                    <a:lnTo>
                      <a:pt x="14" y="21"/>
                    </a:lnTo>
                    <a:lnTo>
                      <a:pt x="4" y="18"/>
                    </a:lnTo>
                    <a:lnTo>
                      <a:pt x="0" y="11"/>
                    </a:lnTo>
                    <a:lnTo>
                      <a:pt x="5" y="2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40" y="0"/>
                    </a:lnTo>
                    <a:lnTo>
                      <a:pt x="52" y="1"/>
                    </a:lnTo>
                    <a:lnTo>
                      <a:pt x="66" y="2"/>
                    </a:lnTo>
                    <a:lnTo>
                      <a:pt x="82" y="2"/>
                    </a:lnTo>
                    <a:lnTo>
                      <a:pt x="101" y="3"/>
                    </a:lnTo>
                    <a:lnTo>
                      <a:pt x="120" y="4"/>
                    </a:lnTo>
                    <a:lnTo>
                      <a:pt x="138" y="5"/>
                    </a:lnTo>
                    <a:lnTo>
                      <a:pt x="157" y="6"/>
                    </a:lnTo>
                    <a:lnTo>
                      <a:pt x="176" y="9"/>
                    </a:lnTo>
                    <a:lnTo>
                      <a:pt x="193" y="10"/>
                    </a:lnTo>
                    <a:lnTo>
                      <a:pt x="209" y="11"/>
                    </a:lnTo>
                    <a:lnTo>
                      <a:pt x="222" y="12"/>
                    </a:lnTo>
                    <a:lnTo>
                      <a:pt x="233" y="13"/>
                    </a:lnTo>
                    <a:lnTo>
                      <a:pt x="241" y="13"/>
                    </a:lnTo>
                    <a:lnTo>
                      <a:pt x="24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9047000">
                <a:off x="4810320" y="4942800"/>
                <a:ext cx="196200" cy="20880"/>
              </a:xfrm>
              <a:custGeom>
                <a:avLst/>
                <a:gdLst/>
                <a:ahLst/>
                <a:rect l="l" t="t" r="r" b="b"/>
                <a:pathLst>
                  <a:path w="406" h="31">
                    <a:moveTo>
                      <a:pt x="396" y="1"/>
                    </a:moveTo>
                    <a:lnTo>
                      <a:pt x="404" y="6"/>
                    </a:lnTo>
                    <a:lnTo>
                      <a:pt x="406" y="14"/>
                    </a:lnTo>
                    <a:lnTo>
                      <a:pt x="400" y="23"/>
                    </a:lnTo>
                    <a:lnTo>
                      <a:pt x="378" y="27"/>
                    </a:lnTo>
                    <a:lnTo>
                      <a:pt x="368" y="27"/>
                    </a:lnTo>
                    <a:lnTo>
                      <a:pt x="352" y="28"/>
                    </a:lnTo>
                    <a:lnTo>
                      <a:pt x="331" y="28"/>
                    </a:lnTo>
                    <a:lnTo>
                      <a:pt x="305" y="28"/>
                    </a:lnTo>
                    <a:lnTo>
                      <a:pt x="277" y="28"/>
                    </a:lnTo>
                    <a:lnTo>
                      <a:pt x="248" y="29"/>
                    </a:lnTo>
                    <a:lnTo>
                      <a:pt x="216" y="29"/>
                    </a:lnTo>
                    <a:lnTo>
                      <a:pt x="184" y="29"/>
                    </a:lnTo>
                    <a:lnTo>
                      <a:pt x="152" y="29"/>
                    </a:lnTo>
                    <a:lnTo>
                      <a:pt x="121" y="29"/>
                    </a:lnTo>
                    <a:lnTo>
                      <a:pt x="94" y="30"/>
                    </a:lnTo>
                    <a:lnTo>
                      <a:pt x="67" y="30"/>
                    </a:lnTo>
                    <a:lnTo>
                      <a:pt x="44" y="30"/>
                    </a:lnTo>
                    <a:lnTo>
                      <a:pt x="27" y="30"/>
                    </a:lnTo>
                    <a:lnTo>
                      <a:pt x="15" y="31"/>
                    </a:lnTo>
                    <a:lnTo>
                      <a:pt x="8" y="31"/>
                    </a:lnTo>
                    <a:lnTo>
                      <a:pt x="3" y="30"/>
                    </a:lnTo>
                    <a:lnTo>
                      <a:pt x="0" y="28"/>
                    </a:lnTo>
                    <a:lnTo>
                      <a:pt x="2" y="24"/>
                    </a:lnTo>
                    <a:lnTo>
                      <a:pt x="8" y="20"/>
                    </a:lnTo>
                    <a:lnTo>
                      <a:pt x="18" y="14"/>
                    </a:lnTo>
                    <a:lnTo>
                      <a:pt x="34" y="10"/>
                    </a:lnTo>
                    <a:lnTo>
                      <a:pt x="55" y="6"/>
                    </a:lnTo>
                    <a:lnTo>
                      <a:pt x="83" y="3"/>
                    </a:lnTo>
                    <a:lnTo>
                      <a:pt x="90" y="3"/>
                    </a:lnTo>
                    <a:lnTo>
                      <a:pt x="102" y="3"/>
                    </a:lnTo>
                    <a:lnTo>
                      <a:pt x="119" y="2"/>
                    </a:lnTo>
                    <a:lnTo>
                      <a:pt x="139" y="2"/>
                    </a:lnTo>
                    <a:lnTo>
                      <a:pt x="161" y="1"/>
                    </a:lnTo>
                    <a:lnTo>
                      <a:pt x="187" y="1"/>
                    </a:lnTo>
                    <a:lnTo>
                      <a:pt x="213" y="1"/>
                    </a:lnTo>
                    <a:lnTo>
                      <a:pt x="241" y="0"/>
                    </a:lnTo>
                    <a:lnTo>
                      <a:pt x="269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3" y="0"/>
                    </a:lnTo>
                    <a:lnTo>
                      <a:pt x="363" y="0"/>
                    </a:lnTo>
                    <a:lnTo>
                      <a:pt x="378" y="0"/>
                    </a:lnTo>
                    <a:lnTo>
                      <a:pt x="390" y="1"/>
                    </a:lnTo>
                    <a:lnTo>
                      <a:pt x="39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9047000">
                <a:off x="4967280" y="417564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186" h="158">
                    <a:moveTo>
                      <a:pt x="12" y="0"/>
                    </a:moveTo>
                    <a:lnTo>
                      <a:pt x="5" y="4"/>
                    </a:lnTo>
                    <a:lnTo>
                      <a:pt x="0" y="11"/>
                    </a:lnTo>
                    <a:lnTo>
                      <a:pt x="2" y="18"/>
                    </a:lnTo>
                    <a:lnTo>
                      <a:pt x="20" y="23"/>
                    </a:lnTo>
                    <a:lnTo>
                      <a:pt x="65" y="27"/>
                    </a:lnTo>
                    <a:lnTo>
                      <a:pt x="98" y="37"/>
                    </a:lnTo>
                    <a:lnTo>
                      <a:pt x="122" y="52"/>
                    </a:lnTo>
                    <a:lnTo>
                      <a:pt x="139" y="70"/>
                    </a:lnTo>
                    <a:lnTo>
                      <a:pt x="150" y="90"/>
                    </a:lnTo>
                    <a:lnTo>
                      <a:pt x="157" y="111"/>
                    </a:lnTo>
                    <a:lnTo>
                      <a:pt x="161" y="131"/>
                    </a:lnTo>
                    <a:lnTo>
                      <a:pt x="163" y="148"/>
                    </a:lnTo>
                    <a:lnTo>
                      <a:pt x="167" y="156"/>
                    </a:lnTo>
                    <a:lnTo>
                      <a:pt x="174" y="158"/>
                    </a:lnTo>
                    <a:lnTo>
                      <a:pt x="181" y="156"/>
                    </a:lnTo>
                    <a:lnTo>
                      <a:pt x="185" y="148"/>
                    </a:lnTo>
                    <a:lnTo>
                      <a:pt x="186" y="126"/>
                    </a:lnTo>
                    <a:lnTo>
                      <a:pt x="183" y="101"/>
                    </a:lnTo>
                    <a:lnTo>
                      <a:pt x="175" y="76"/>
                    </a:lnTo>
                    <a:lnTo>
                      <a:pt x="159" y="52"/>
                    </a:lnTo>
                    <a:lnTo>
                      <a:pt x="137" y="30"/>
                    </a:lnTo>
                    <a:lnTo>
                      <a:pt x="105" y="13"/>
                    </a:lnTo>
                    <a:lnTo>
                      <a:pt x="6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9047000">
                <a:off x="4958640" y="4104000"/>
                <a:ext cx="110520" cy="127080"/>
              </a:xfrm>
              <a:custGeom>
                <a:avLst/>
                <a:gdLst/>
                <a:ahLst/>
                <a:rect l="l" t="t" r="r" b="b"/>
                <a:pathLst>
                  <a:path w="230" h="192">
                    <a:moveTo>
                      <a:pt x="12" y="0"/>
                    </a:moveTo>
                    <a:lnTo>
                      <a:pt x="5" y="3"/>
                    </a:lnTo>
                    <a:lnTo>
                      <a:pt x="0" y="10"/>
                    </a:lnTo>
                    <a:lnTo>
                      <a:pt x="2" y="19"/>
                    </a:lnTo>
                    <a:lnTo>
                      <a:pt x="20" y="22"/>
                    </a:lnTo>
                    <a:lnTo>
                      <a:pt x="69" y="28"/>
                    </a:lnTo>
                    <a:lnTo>
                      <a:pt x="109" y="41"/>
                    </a:lnTo>
                    <a:lnTo>
                      <a:pt x="139" y="62"/>
                    </a:lnTo>
                    <a:lnTo>
                      <a:pt x="163" y="85"/>
                    </a:lnTo>
                    <a:lnTo>
                      <a:pt x="182" y="112"/>
                    </a:lnTo>
                    <a:lnTo>
                      <a:pt x="194" y="138"/>
                    </a:lnTo>
                    <a:lnTo>
                      <a:pt x="202" y="162"/>
                    </a:lnTo>
                    <a:lnTo>
                      <a:pt x="206" y="181"/>
                    </a:lnTo>
                    <a:lnTo>
                      <a:pt x="210" y="188"/>
                    </a:lnTo>
                    <a:lnTo>
                      <a:pt x="218" y="192"/>
                    </a:lnTo>
                    <a:lnTo>
                      <a:pt x="225" y="188"/>
                    </a:lnTo>
                    <a:lnTo>
                      <a:pt x="229" y="181"/>
                    </a:lnTo>
                    <a:lnTo>
                      <a:pt x="230" y="169"/>
                    </a:lnTo>
                    <a:lnTo>
                      <a:pt x="229" y="156"/>
                    </a:lnTo>
                    <a:lnTo>
                      <a:pt x="226" y="142"/>
                    </a:lnTo>
                    <a:lnTo>
                      <a:pt x="222" y="127"/>
                    </a:lnTo>
                    <a:lnTo>
                      <a:pt x="215" y="112"/>
                    </a:lnTo>
                    <a:lnTo>
                      <a:pt x="206" y="97"/>
                    </a:lnTo>
                    <a:lnTo>
                      <a:pt x="197" y="81"/>
                    </a:lnTo>
                    <a:lnTo>
                      <a:pt x="185" y="66"/>
                    </a:lnTo>
                    <a:lnTo>
                      <a:pt x="170" y="52"/>
                    </a:lnTo>
                    <a:lnTo>
                      <a:pt x="154" y="39"/>
                    </a:lnTo>
                    <a:lnTo>
                      <a:pt x="135" y="28"/>
                    </a:lnTo>
                    <a:lnTo>
                      <a:pt x="115" y="17"/>
                    </a:lnTo>
                    <a:lnTo>
                      <a:pt x="93" y="9"/>
                    </a:lnTo>
                    <a:lnTo>
                      <a:pt x="67" y="3"/>
                    </a:lnTo>
                    <a:lnTo>
                      <a:pt x="4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9047000">
                <a:off x="4829040" y="4277520"/>
                <a:ext cx="119160" cy="92880"/>
              </a:xfrm>
              <a:custGeom>
                <a:avLst/>
                <a:gdLst/>
                <a:ahLst/>
                <a:rect l="l" t="t" r="r" b="b"/>
                <a:pathLst>
                  <a:path w="245" h="139">
                    <a:moveTo>
                      <a:pt x="237" y="9"/>
                    </a:moveTo>
                    <a:lnTo>
                      <a:pt x="242" y="15"/>
                    </a:lnTo>
                    <a:lnTo>
                      <a:pt x="245" y="23"/>
                    </a:lnTo>
                    <a:lnTo>
                      <a:pt x="240" y="31"/>
                    </a:lnTo>
                    <a:lnTo>
                      <a:pt x="221" y="31"/>
                    </a:lnTo>
                    <a:lnTo>
                      <a:pt x="172" y="25"/>
                    </a:lnTo>
                    <a:lnTo>
                      <a:pt x="132" y="27"/>
                    </a:lnTo>
                    <a:lnTo>
                      <a:pt x="100" y="38"/>
                    </a:lnTo>
                    <a:lnTo>
                      <a:pt x="76" y="53"/>
                    </a:lnTo>
                    <a:lnTo>
                      <a:pt x="57" y="71"/>
                    </a:lnTo>
                    <a:lnTo>
                      <a:pt x="43" y="92"/>
                    </a:lnTo>
                    <a:lnTo>
                      <a:pt x="32" y="112"/>
                    </a:lnTo>
                    <a:lnTo>
                      <a:pt x="23" y="130"/>
                    </a:lnTo>
                    <a:lnTo>
                      <a:pt x="16" y="138"/>
                    </a:lnTo>
                    <a:lnTo>
                      <a:pt x="8" y="139"/>
                    </a:lnTo>
                    <a:lnTo>
                      <a:pt x="1" y="135"/>
                    </a:lnTo>
                    <a:lnTo>
                      <a:pt x="0" y="126"/>
                    </a:lnTo>
                    <a:lnTo>
                      <a:pt x="3" y="114"/>
                    </a:lnTo>
                    <a:lnTo>
                      <a:pt x="7" y="102"/>
                    </a:lnTo>
                    <a:lnTo>
                      <a:pt x="12" y="90"/>
                    </a:lnTo>
                    <a:lnTo>
                      <a:pt x="19" y="77"/>
                    </a:lnTo>
                    <a:lnTo>
                      <a:pt x="27" y="64"/>
                    </a:lnTo>
                    <a:lnTo>
                      <a:pt x="36" y="52"/>
                    </a:lnTo>
                    <a:lnTo>
                      <a:pt x="48" y="40"/>
                    </a:lnTo>
                    <a:lnTo>
                      <a:pt x="61" y="30"/>
                    </a:lnTo>
                    <a:lnTo>
                      <a:pt x="77" y="20"/>
                    </a:lnTo>
                    <a:lnTo>
                      <a:pt x="93" y="12"/>
                    </a:lnTo>
                    <a:lnTo>
                      <a:pt x="113" y="6"/>
                    </a:lnTo>
                    <a:lnTo>
                      <a:pt x="133" y="2"/>
                    </a:lnTo>
                    <a:lnTo>
                      <a:pt x="156" y="0"/>
                    </a:lnTo>
                    <a:lnTo>
                      <a:pt x="181" y="0"/>
                    </a:lnTo>
                    <a:lnTo>
                      <a:pt x="208" y="3"/>
                    </a:lnTo>
                    <a:lnTo>
                      <a:pt x="2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9047000">
                <a:off x="4759920" y="4268160"/>
                <a:ext cx="136800" cy="110160"/>
              </a:xfrm>
              <a:custGeom>
                <a:avLst/>
                <a:gdLst/>
                <a:ahLst/>
                <a:rect l="l" t="t" r="r" b="b"/>
                <a:pathLst>
                  <a:path w="283" h="168">
                    <a:moveTo>
                      <a:pt x="273" y="9"/>
                    </a:moveTo>
                    <a:lnTo>
                      <a:pt x="280" y="14"/>
                    </a:lnTo>
                    <a:lnTo>
                      <a:pt x="283" y="24"/>
                    </a:lnTo>
                    <a:lnTo>
                      <a:pt x="276" y="31"/>
                    </a:lnTo>
                    <a:lnTo>
                      <a:pt x="256" y="31"/>
                    </a:lnTo>
                    <a:lnTo>
                      <a:pt x="228" y="27"/>
                    </a:lnTo>
                    <a:lnTo>
                      <a:pt x="203" y="26"/>
                    </a:lnTo>
                    <a:lnTo>
                      <a:pt x="180" y="28"/>
                    </a:lnTo>
                    <a:lnTo>
                      <a:pt x="159" y="31"/>
                    </a:lnTo>
                    <a:lnTo>
                      <a:pt x="140" y="38"/>
                    </a:lnTo>
                    <a:lnTo>
                      <a:pt x="121" y="46"/>
                    </a:lnTo>
                    <a:lnTo>
                      <a:pt x="107" y="55"/>
                    </a:lnTo>
                    <a:lnTo>
                      <a:pt x="92" y="66"/>
                    </a:lnTo>
                    <a:lnTo>
                      <a:pt x="80" y="78"/>
                    </a:lnTo>
                    <a:lnTo>
                      <a:pt x="68" y="90"/>
                    </a:lnTo>
                    <a:lnTo>
                      <a:pt x="59" y="103"/>
                    </a:lnTo>
                    <a:lnTo>
                      <a:pt x="50" y="115"/>
                    </a:lnTo>
                    <a:lnTo>
                      <a:pt x="42" y="128"/>
                    </a:lnTo>
                    <a:lnTo>
                      <a:pt x="35" y="139"/>
                    </a:lnTo>
                    <a:lnTo>
                      <a:pt x="30" y="149"/>
                    </a:lnTo>
                    <a:lnTo>
                      <a:pt x="24" y="159"/>
                    </a:lnTo>
                    <a:lnTo>
                      <a:pt x="16" y="167"/>
                    </a:lnTo>
                    <a:lnTo>
                      <a:pt x="8" y="168"/>
                    </a:lnTo>
                    <a:lnTo>
                      <a:pt x="2" y="163"/>
                    </a:lnTo>
                    <a:lnTo>
                      <a:pt x="0" y="154"/>
                    </a:lnTo>
                    <a:lnTo>
                      <a:pt x="3" y="141"/>
                    </a:lnTo>
                    <a:lnTo>
                      <a:pt x="8" y="128"/>
                    </a:lnTo>
                    <a:lnTo>
                      <a:pt x="15" y="113"/>
                    </a:lnTo>
                    <a:lnTo>
                      <a:pt x="23" y="99"/>
                    </a:lnTo>
                    <a:lnTo>
                      <a:pt x="34" y="84"/>
                    </a:lnTo>
                    <a:lnTo>
                      <a:pt x="46" y="69"/>
                    </a:lnTo>
                    <a:lnTo>
                      <a:pt x="60" y="55"/>
                    </a:lnTo>
                    <a:lnTo>
                      <a:pt x="77" y="41"/>
                    </a:lnTo>
                    <a:lnTo>
                      <a:pt x="95" y="29"/>
                    </a:lnTo>
                    <a:lnTo>
                      <a:pt x="115" y="19"/>
                    </a:lnTo>
                    <a:lnTo>
                      <a:pt x="137" y="10"/>
                    </a:lnTo>
                    <a:lnTo>
                      <a:pt x="160" y="5"/>
                    </a:lnTo>
                    <a:lnTo>
                      <a:pt x="187" y="0"/>
                    </a:lnTo>
                    <a:lnTo>
                      <a:pt x="213" y="0"/>
                    </a:lnTo>
                    <a:lnTo>
                      <a:pt x="243" y="3"/>
                    </a:lnTo>
                    <a:lnTo>
                      <a:pt x="27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19047000">
                <a:off x="4890960" y="4295520"/>
                <a:ext cx="60840" cy="77040"/>
              </a:xfrm>
              <a:custGeom>
                <a:avLst/>
                <a:gdLst/>
                <a:ahLst/>
                <a:rect l="l" t="t" r="r" b="b"/>
                <a:pathLst>
                  <a:path w="125" h="116">
                    <a:moveTo>
                      <a:pt x="108" y="0"/>
                    </a:moveTo>
                    <a:lnTo>
                      <a:pt x="119" y="2"/>
                    </a:lnTo>
                    <a:lnTo>
                      <a:pt x="125" y="7"/>
                    </a:lnTo>
                    <a:lnTo>
                      <a:pt x="125" y="12"/>
                    </a:lnTo>
                    <a:lnTo>
                      <a:pt x="120" y="14"/>
                    </a:lnTo>
                    <a:lnTo>
                      <a:pt x="99" y="16"/>
                    </a:lnTo>
                    <a:lnTo>
                      <a:pt x="79" y="22"/>
                    </a:lnTo>
                    <a:lnTo>
                      <a:pt x="60" y="29"/>
                    </a:lnTo>
                    <a:lnTo>
                      <a:pt x="46" y="40"/>
                    </a:lnTo>
                    <a:lnTo>
                      <a:pt x="34" y="53"/>
                    </a:lnTo>
                    <a:lnTo>
                      <a:pt x="27" y="67"/>
                    </a:lnTo>
                    <a:lnTo>
                      <a:pt x="26" y="84"/>
                    </a:lnTo>
                    <a:lnTo>
                      <a:pt x="31" y="102"/>
                    </a:lnTo>
                    <a:lnTo>
                      <a:pt x="31" y="112"/>
                    </a:lnTo>
                    <a:lnTo>
                      <a:pt x="24" y="116"/>
                    </a:lnTo>
                    <a:lnTo>
                      <a:pt x="15" y="116"/>
                    </a:lnTo>
                    <a:lnTo>
                      <a:pt x="7" y="107"/>
                    </a:lnTo>
                    <a:lnTo>
                      <a:pt x="2" y="88"/>
                    </a:lnTo>
                    <a:lnTo>
                      <a:pt x="0" y="70"/>
                    </a:lnTo>
                    <a:lnTo>
                      <a:pt x="4" y="52"/>
                    </a:lnTo>
                    <a:lnTo>
                      <a:pt x="14" y="35"/>
                    </a:lnTo>
                    <a:lnTo>
                      <a:pt x="30" y="21"/>
                    </a:lnTo>
                    <a:lnTo>
                      <a:pt x="50" y="10"/>
                    </a:lnTo>
                    <a:lnTo>
                      <a:pt x="76" y="2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19047000">
                <a:off x="5006520" y="4219560"/>
                <a:ext cx="34560" cy="77040"/>
              </a:xfrm>
              <a:custGeom>
                <a:avLst/>
                <a:gdLst/>
                <a:ahLst/>
                <a:rect l="l" t="t" r="r" b="b"/>
                <a:pathLst>
                  <a:path w="70" h="116">
                    <a:moveTo>
                      <a:pt x="13" y="0"/>
                    </a:moveTo>
                    <a:lnTo>
                      <a:pt x="4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5" y="17"/>
                    </a:lnTo>
                    <a:lnTo>
                      <a:pt x="13" y="20"/>
                    </a:lnTo>
                    <a:lnTo>
                      <a:pt x="21" y="25"/>
                    </a:lnTo>
                    <a:lnTo>
                      <a:pt x="31" y="33"/>
                    </a:lnTo>
                    <a:lnTo>
                      <a:pt x="37" y="42"/>
                    </a:lnTo>
                    <a:lnTo>
                      <a:pt x="43" y="54"/>
                    </a:lnTo>
                    <a:lnTo>
                      <a:pt x="45" y="68"/>
                    </a:lnTo>
                    <a:lnTo>
                      <a:pt x="44" y="84"/>
                    </a:lnTo>
                    <a:lnTo>
                      <a:pt x="39" y="102"/>
                    </a:lnTo>
                    <a:lnTo>
                      <a:pt x="39" y="112"/>
                    </a:lnTo>
                    <a:lnTo>
                      <a:pt x="45" y="116"/>
                    </a:lnTo>
                    <a:lnTo>
                      <a:pt x="55" y="116"/>
                    </a:lnTo>
                    <a:lnTo>
                      <a:pt x="63" y="108"/>
                    </a:lnTo>
                    <a:lnTo>
                      <a:pt x="68" y="89"/>
                    </a:lnTo>
                    <a:lnTo>
                      <a:pt x="70" y="70"/>
                    </a:lnTo>
                    <a:lnTo>
                      <a:pt x="68" y="53"/>
                    </a:lnTo>
                    <a:lnTo>
                      <a:pt x="63" y="37"/>
                    </a:lnTo>
                    <a:lnTo>
                      <a:pt x="53" y="23"/>
                    </a:lnTo>
                    <a:lnTo>
                      <a:pt x="43" y="11"/>
                    </a:lnTo>
                    <a:lnTo>
                      <a:pt x="29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9047000">
                <a:off x="4654440" y="4881960"/>
                <a:ext cx="191880" cy="139320"/>
              </a:xfrm>
              <a:custGeom>
                <a:avLst/>
                <a:gdLst/>
                <a:ahLst/>
                <a:rect l="l" t="t" r="r" b="b"/>
                <a:pathLst>
                  <a:path w="396" h="210">
                    <a:moveTo>
                      <a:pt x="216" y="57"/>
                    </a:moveTo>
                    <a:lnTo>
                      <a:pt x="239" y="27"/>
                    </a:lnTo>
                    <a:lnTo>
                      <a:pt x="268" y="9"/>
                    </a:lnTo>
                    <a:lnTo>
                      <a:pt x="300" y="0"/>
                    </a:lnTo>
                    <a:lnTo>
                      <a:pt x="333" y="1"/>
                    </a:lnTo>
                    <a:lnTo>
                      <a:pt x="361" y="11"/>
                    </a:lnTo>
                    <a:lnTo>
                      <a:pt x="384" y="28"/>
                    </a:lnTo>
                    <a:lnTo>
                      <a:pt x="396" y="51"/>
                    </a:lnTo>
                    <a:lnTo>
                      <a:pt x="394" y="80"/>
                    </a:lnTo>
                    <a:lnTo>
                      <a:pt x="388" y="88"/>
                    </a:lnTo>
                    <a:lnTo>
                      <a:pt x="381" y="89"/>
                    </a:lnTo>
                    <a:lnTo>
                      <a:pt x="376" y="84"/>
                    </a:lnTo>
                    <a:lnTo>
                      <a:pt x="374" y="76"/>
                    </a:lnTo>
                    <a:lnTo>
                      <a:pt x="374" y="54"/>
                    </a:lnTo>
                    <a:lnTo>
                      <a:pt x="361" y="37"/>
                    </a:lnTo>
                    <a:lnTo>
                      <a:pt x="341" y="27"/>
                    </a:lnTo>
                    <a:lnTo>
                      <a:pt x="317" y="23"/>
                    </a:lnTo>
                    <a:lnTo>
                      <a:pt x="291" y="27"/>
                    </a:lnTo>
                    <a:lnTo>
                      <a:pt x="268" y="39"/>
                    </a:lnTo>
                    <a:lnTo>
                      <a:pt x="251" y="58"/>
                    </a:lnTo>
                    <a:lnTo>
                      <a:pt x="243" y="86"/>
                    </a:lnTo>
                    <a:lnTo>
                      <a:pt x="239" y="92"/>
                    </a:lnTo>
                    <a:lnTo>
                      <a:pt x="232" y="94"/>
                    </a:lnTo>
                    <a:lnTo>
                      <a:pt x="224" y="90"/>
                    </a:lnTo>
                    <a:lnTo>
                      <a:pt x="216" y="86"/>
                    </a:lnTo>
                    <a:lnTo>
                      <a:pt x="192" y="69"/>
                    </a:lnTo>
                    <a:lnTo>
                      <a:pt x="164" y="62"/>
                    </a:lnTo>
                    <a:lnTo>
                      <a:pt x="137" y="64"/>
                    </a:lnTo>
                    <a:lnTo>
                      <a:pt x="113" y="73"/>
                    </a:lnTo>
                    <a:lnTo>
                      <a:pt x="95" y="88"/>
                    </a:lnTo>
                    <a:lnTo>
                      <a:pt x="84" y="107"/>
                    </a:lnTo>
                    <a:lnTo>
                      <a:pt x="84" y="131"/>
                    </a:lnTo>
                    <a:lnTo>
                      <a:pt x="98" y="156"/>
                    </a:lnTo>
                    <a:lnTo>
                      <a:pt x="100" y="163"/>
                    </a:lnTo>
                    <a:lnTo>
                      <a:pt x="95" y="166"/>
                    </a:lnTo>
                    <a:lnTo>
                      <a:pt x="86" y="167"/>
                    </a:lnTo>
                    <a:lnTo>
                      <a:pt x="74" y="165"/>
                    </a:lnTo>
                    <a:lnTo>
                      <a:pt x="54" y="160"/>
                    </a:lnTo>
                    <a:lnTo>
                      <a:pt x="40" y="160"/>
                    </a:lnTo>
                    <a:lnTo>
                      <a:pt x="34" y="165"/>
                    </a:lnTo>
                    <a:lnTo>
                      <a:pt x="32" y="172"/>
                    </a:lnTo>
                    <a:lnTo>
                      <a:pt x="35" y="180"/>
                    </a:lnTo>
                    <a:lnTo>
                      <a:pt x="43" y="189"/>
                    </a:lnTo>
                    <a:lnTo>
                      <a:pt x="54" y="195"/>
                    </a:lnTo>
                    <a:lnTo>
                      <a:pt x="67" y="198"/>
                    </a:lnTo>
                    <a:lnTo>
                      <a:pt x="71" y="199"/>
                    </a:lnTo>
                    <a:lnTo>
                      <a:pt x="74" y="201"/>
                    </a:lnTo>
                    <a:lnTo>
                      <a:pt x="75" y="204"/>
                    </a:lnTo>
                    <a:lnTo>
                      <a:pt x="74" y="207"/>
                    </a:lnTo>
                    <a:lnTo>
                      <a:pt x="70" y="209"/>
                    </a:lnTo>
                    <a:lnTo>
                      <a:pt x="62" y="210"/>
                    </a:lnTo>
                    <a:lnTo>
                      <a:pt x="50" y="210"/>
                    </a:lnTo>
                    <a:lnTo>
                      <a:pt x="34" y="207"/>
                    </a:lnTo>
                    <a:lnTo>
                      <a:pt x="22" y="202"/>
                    </a:lnTo>
                    <a:lnTo>
                      <a:pt x="11" y="194"/>
                    </a:lnTo>
                    <a:lnTo>
                      <a:pt x="3" y="184"/>
                    </a:lnTo>
                    <a:lnTo>
                      <a:pt x="0" y="172"/>
                    </a:lnTo>
                    <a:lnTo>
                      <a:pt x="2" y="160"/>
                    </a:lnTo>
                    <a:lnTo>
                      <a:pt x="10" y="150"/>
                    </a:lnTo>
                    <a:lnTo>
                      <a:pt x="23" y="142"/>
                    </a:lnTo>
                    <a:lnTo>
                      <a:pt x="46" y="137"/>
                    </a:lnTo>
                    <a:lnTo>
                      <a:pt x="36" y="118"/>
                    </a:lnTo>
                    <a:lnTo>
                      <a:pt x="39" y="95"/>
                    </a:lnTo>
                    <a:lnTo>
                      <a:pt x="51" y="72"/>
                    </a:lnTo>
                    <a:lnTo>
                      <a:pt x="71" y="52"/>
                    </a:lnTo>
                    <a:lnTo>
                      <a:pt x="99" y="37"/>
                    </a:lnTo>
                    <a:lnTo>
                      <a:pt x="133" y="31"/>
                    </a:lnTo>
                    <a:lnTo>
                      <a:pt x="172" y="37"/>
                    </a:lnTo>
                    <a:lnTo>
                      <a:pt x="216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19047000">
                <a:off x="4766040" y="4951080"/>
                <a:ext cx="95760" cy="135360"/>
              </a:xfrm>
              <a:custGeom>
                <a:avLst/>
                <a:gdLst/>
                <a:ahLst/>
                <a:rect l="l" t="t" r="r" b="b"/>
                <a:pathLst>
                  <a:path w="200" h="204">
                    <a:moveTo>
                      <a:pt x="192" y="30"/>
                    </a:moveTo>
                    <a:lnTo>
                      <a:pt x="199" y="34"/>
                    </a:lnTo>
                    <a:lnTo>
                      <a:pt x="200" y="40"/>
                    </a:lnTo>
                    <a:lnTo>
                      <a:pt x="200" y="43"/>
                    </a:lnTo>
                    <a:lnTo>
                      <a:pt x="196" y="46"/>
                    </a:lnTo>
                    <a:lnTo>
                      <a:pt x="191" y="48"/>
                    </a:lnTo>
                    <a:lnTo>
                      <a:pt x="184" y="48"/>
                    </a:lnTo>
                    <a:lnTo>
                      <a:pt x="176" y="47"/>
                    </a:lnTo>
                    <a:lnTo>
                      <a:pt x="168" y="45"/>
                    </a:lnTo>
                    <a:lnTo>
                      <a:pt x="136" y="34"/>
                    </a:lnTo>
                    <a:lnTo>
                      <a:pt x="108" y="33"/>
                    </a:lnTo>
                    <a:lnTo>
                      <a:pt x="84" y="37"/>
                    </a:lnTo>
                    <a:lnTo>
                      <a:pt x="65" y="48"/>
                    </a:lnTo>
                    <a:lnTo>
                      <a:pt x="55" y="62"/>
                    </a:lnTo>
                    <a:lnTo>
                      <a:pt x="49" y="78"/>
                    </a:lnTo>
                    <a:lnTo>
                      <a:pt x="53" y="93"/>
                    </a:lnTo>
                    <a:lnTo>
                      <a:pt x="67" y="107"/>
                    </a:lnTo>
                    <a:lnTo>
                      <a:pt x="76" y="115"/>
                    </a:lnTo>
                    <a:lnTo>
                      <a:pt x="76" y="120"/>
                    </a:lnTo>
                    <a:lnTo>
                      <a:pt x="71" y="122"/>
                    </a:lnTo>
                    <a:lnTo>
                      <a:pt x="61" y="126"/>
                    </a:lnTo>
                    <a:lnTo>
                      <a:pt x="39" y="142"/>
                    </a:lnTo>
                    <a:lnTo>
                      <a:pt x="31" y="156"/>
                    </a:lnTo>
                    <a:lnTo>
                      <a:pt x="33" y="167"/>
                    </a:lnTo>
                    <a:lnTo>
                      <a:pt x="45" y="175"/>
                    </a:lnTo>
                    <a:lnTo>
                      <a:pt x="61" y="179"/>
                    </a:lnTo>
                    <a:lnTo>
                      <a:pt x="79" y="178"/>
                    </a:lnTo>
                    <a:lnTo>
                      <a:pt x="93" y="172"/>
                    </a:lnTo>
                    <a:lnTo>
                      <a:pt x="103" y="162"/>
                    </a:lnTo>
                    <a:lnTo>
                      <a:pt x="111" y="152"/>
                    </a:lnTo>
                    <a:lnTo>
                      <a:pt x="123" y="149"/>
                    </a:lnTo>
                    <a:lnTo>
                      <a:pt x="132" y="152"/>
                    </a:lnTo>
                    <a:lnTo>
                      <a:pt x="133" y="163"/>
                    </a:lnTo>
                    <a:lnTo>
                      <a:pt x="129" y="172"/>
                    </a:lnTo>
                    <a:lnTo>
                      <a:pt x="121" y="182"/>
                    </a:lnTo>
                    <a:lnTo>
                      <a:pt x="111" y="191"/>
                    </a:lnTo>
                    <a:lnTo>
                      <a:pt x="97" y="198"/>
                    </a:lnTo>
                    <a:lnTo>
                      <a:pt x="80" y="202"/>
                    </a:lnTo>
                    <a:lnTo>
                      <a:pt x="61" y="204"/>
                    </a:lnTo>
                    <a:lnTo>
                      <a:pt x="40" y="199"/>
                    </a:lnTo>
                    <a:lnTo>
                      <a:pt x="16" y="189"/>
                    </a:lnTo>
                    <a:lnTo>
                      <a:pt x="8" y="182"/>
                    </a:lnTo>
                    <a:lnTo>
                      <a:pt x="3" y="174"/>
                    </a:lnTo>
                    <a:lnTo>
                      <a:pt x="0" y="164"/>
                    </a:lnTo>
                    <a:lnTo>
                      <a:pt x="0" y="153"/>
                    </a:lnTo>
                    <a:lnTo>
                      <a:pt x="4" y="144"/>
                    </a:lnTo>
                    <a:lnTo>
                      <a:pt x="11" y="134"/>
                    </a:lnTo>
                    <a:lnTo>
                      <a:pt x="21" y="126"/>
                    </a:lnTo>
                    <a:lnTo>
                      <a:pt x="37" y="121"/>
                    </a:lnTo>
                    <a:lnTo>
                      <a:pt x="24" y="112"/>
                    </a:lnTo>
                    <a:lnTo>
                      <a:pt x="15" y="103"/>
                    </a:lnTo>
                    <a:lnTo>
                      <a:pt x="8" y="91"/>
                    </a:lnTo>
                    <a:lnTo>
                      <a:pt x="5" y="78"/>
                    </a:lnTo>
                    <a:lnTo>
                      <a:pt x="5" y="64"/>
                    </a:lnTo>
                    <a:lnTo>
                      <a:pt x="8" y="51"/>
                    </a:lnTo>
                    <a:lnTo>
                      <a:pt x="15" y="39"/>
                    </a:lnTo>
                    <a:lnTo>
                      <a:pt x="24" y="27"/>
                    </a:lnTo>
                    <a:lnTo>
                      <a:pt x="36" y="16"/>
                    </a:lnTo>
                    <a:lnTo>
                      <a:pt x="51" y="7"/>
                    </a:lnTo>
                    <a:lnTo>
                      <a:pt x="68" y="2"/>
                    </a:lnTo>
                    <a:lnTo>
                      <a:pt x="88" y="0"/>
                    </a:lnTo>
                    <a:lnTo>
                      <a:pt x="111" y="1"/>
                    </a:lnTo>
                    <a:lnTo>
                      <a:pt x="135" y="5"/>
                    </a:lnTo>
                    <a:lnTo>
                      <a:pt x="163" y="15"/>
                    </a:lnTo>
                    <a:lnTo>
                      <a:pt x="19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2977200" y="4107960"/>
              <a:ext cx="1224000" cy="953280"/>
              <a:chOff x="2977200" y="4107960"/>
              <a:chExt cx="1224000" cy="953280"/>
            </a:xfrm>
          </p:grpSpPr>
          <p:sp>
            <p:nvSpPr>
              <p:cNvPr id="803" name=""/>
              <p:cNvSpPr/>
              <p:nvPr/>
            </p:nvSpPr>
            <p:spPr>
              <a:xfrm flipH="1" rot="19291200">
                <a:off x="3623040" y="4597200"/>
                <a:ext cx="133560" cy="164160"/>
              </a:xfrm>
              <a:custGeom>
                <a:avLst/>
                <a:gdLst/>
                <a:ahLst/>
                <a:rect l="l" t="t" r="r" b="b"/>
                <a:pathLst>
                  <a:path w="185" h="249">
                    <a:moveTo>
                      <a:pt x="71" y="249"/>
                    </a:moveTo>
                    <a:lnTo>
                      <a:pt x="89" y="245"/>
                    </a:lnTo>
                    <a:lnTo>
                      <a:pt x="107" y="237"/>
                    </a:lnTo>
                    <a:lnTo>
                      <a:pt x="124" y="223"/>
                    </a:lnTo>
                    <a:lnTo>
                      <a:pt x="141" y="207"/>
                    </a:lnTo>
                    <a:lnTo>
                      <a:pt x="154" y="188"/>
                    </a:lnTo>
                    <a:lnTo>
                      <a:pt x="167" y="165"/>
                    </a:lnTo>
                    <a:lnTo>
                      <a:pt x="176" y="141"/>
                    </a:lnTo>
                    <a:lnTo>
                      <a:pt x="183" y="116"/>
                    </a:lnTo>
                    <a:lnTo>
                      <a:pt x="185" y="91"/>
                    </a:lnTo>
                    <a:lnTo>
                      <a:pt x="184" y="68"/>
                    </a:lnTo>
                    <a:lnTo>
                      <a:pt x="179" y="48"/>
                    </a:lnTo>
                    <a:lnTo>
                      <a:pt x="172" y="30"/>
                    </a:lnTo>
                    <a:lnTo>
                      <a:pt x="161" y="16"/>
                    </a:lnTo>
                    <a:lnTo>
                      <a:pt x="148" y="7"/>
                    </a:lnTo>
                    <a:lnTo>
                      <a:pt x="132" y="0"/>
                    </a:lnTo>
                    <a:lnTo>
                      <a:pt x="114" y="0"/>
                    </a:lnTo>
                    <a:lnTo>
                      <a:pt x="96" y="4"/>
                    </a:lnTo>
                    <a:lnTo>
                      <a:pt x="77" y="12"/>
                    </a:lnTo>
                    <a:lnTo>
                      <a:pt x="60" y="26"/>
                    </a:lnTo>
                    <a:lnTo>
                      <a:pt x="44" y="42"/>
                    </a:lnTo>
                    <a:lnTo>
                      <a:pt x="30" y="61"/>
                    </a:lnTo>
                    <a:lnTo>
                      <a:pt x="18" y="84"/>
                    </a:lnTo>
                    <a:lnTo>
                      <a:pt x="8" y="107"/>
                    </a:lnTo>
                    <a:lnTo>
                      <a:pt x="3" y="133"/>
                    </a:lnTo>
                    <a:lnTo>
                      <a:pt x="0" y="158"/>
                    </a:lnTo>
                    <a:lnTo>
                      <a:pt x="2" y="181"/>
                    </a:lnTo>
                    <a:lnTo>
                      <a:pt x="6" y="201"/>
                    </a:lnTo>
                    <a:lnTo>
                      <a:pt x="14" y="218"/>
                    </a:lnTo>
                    <a:lnTo>
                      <a:pt x="24" y="233"/>
                    </a:lnTo>
                    <a:lnTo>
                      <a:pt x="38" y="242"/>
                    </a:lnTo>
                    <a:lnTo>
                      <a:pt x="53" y="247"/>
                    </a:lnTo>
                    <a:lnTo>
                      <a:pt x="71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 rot="19291200">
                <a:off x="3666960" y="4650480"/>
                <a:ext cx="46440" cy="58320"/>
              </a:xfrm>
              <a:custGeom>
                <a:avLst/>
                <a:gdLst/>
                <a:ahLst/>
                <a:rect l="l" t="t" r="r" b="b"/>
                <a:pathLst>
                  <a:path w="64" h="87">
                    <a:moveTo>
                      <a:pt x="25" y="87"/>
                    </a:moveTo>
                    <a:lnTo>
                      <a:pt x="31" y="86"/>
                    </a:lnTo>
                    <a:lnTo>
                      <a:pt x="37" y="83"/>
                    </a:lnTo>
                    <a:lnTo>
                      <a:pt x="44" y="79"/>
                    </a:lnTo>
                    <a:lnTo>
                      <a:pt x="49" y="72"/>
                    </a:lnTo>
                    <a:lnTo>
                      <a:pt x="54" y="66"/>
                    </a:lnTo>
                    <a:lnTo>
                      <a:pt x="58" y="59"/>
                    </a:lnTo>
                    <a:lnTo>
                      <a:pt x="62" y="51"/>
                    </a:lnTo>
                    <a:lnTo>
                      <a:pt x="64" y="41"/>
                    </a:lnTo>
                    <a:lnTo>
                      <a:pt x="64" y="25"/>
                    </a:lnTo>
                    <a:lnTo>
                      <a:pt x="60" y="11"/>
                    </a:lnTo>
                    <a:lnTo>
                      <a:pt x="52" y="3"/>
                    </a:lnTo>
                    <a:lnTo>
                      <a:pt x="39" y="0"/>
                    </a:lnTo>
                    <a:lnTo>
                      <a:pt x="33" y="2"/>
                    </a:lnTo>
                    <a:lnTo>
                      <a:pt x="27" y="4"/>
                    </a:lnTo>
                    <a:lnTo>
                      <a:pt x="21" y="10"/>
                    </a:lnTo>
                    <a:lnTo>
                      <a:pt x="16" y="15"/>
                    </a:lnTo>
                    <a:lnTo>
                      <a:pt x="11" y="22"/>
                    </a:lnTo>
                    <a:lnTo>
                      <a:pt x="7" y="30"/>
                    </a:lnTo>
                    <a:lnTo>
                      <a:pt x="3" y="38"/>
                    </a:lnTo>
                    <a:lnTo>
                      <a:pt x="1" y="48"/>
                    </a:lnTo>
                    <a:lnTo>
                      <a:pt x="0" y="64"/>
                    </a:lnTo>
                    <a:lnTo>
                      <a:pt x="4" y="78"/>
                    </a:lnTo>
                    <a:lnTo>
                      <a:pt x="13" y="86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 rot="19291200">
                <a:off x="3313440" y="4842360"/>
                <a:ext cx="135000" cy="164160"/>
              </a:xfrm>
              <a:custGeom>
                <a:avLst/>
                <a:gdLst/>
                <a:ahLst/>
                <a:rect l="l" t="t" r="r" b="b"/>
                <a:pathLst>
                  <a:path w="187" h="249">
                    <a:moveTo>
                      <a:pt x="72" y="249"/>
                    </a:moveTo>
                    <a:lnTo>
                      <a:pt x="90" y="245"/>
                    </a:lnTo>
                    <a:lnTo>
                      <a:pt x="109" y="237"/>
                    </a:lnTo>
                    <a:lnTo>
                      <a:pt x="126" y="223"/>
                    </a:lnTo>
                    <a:lnTo>
                      <a:pt x="142" y="207"/>
                    </a:lnTo>
                    <a:lnTo>
                      <a:pt x="156" y="188"/>
                    </a:lnTo>
                    <a:lnTo>
                      <a:pt x="169" y="165"/>
                    </a:lnTo>
                    <a:lnTo>
                      <a:pt x="178" y="141"/>
                    </a:lnTo>
                    <a:lnTo>
                      <a:pt x="184" y="116"/>
                    </a:lnTo>
                    <a:lnTo>
                      <a:pt x="187" y="91"/>
                    </a:lnTo>
                    <a:lnTo>
                      <a:pt x="186" y="68"/>
                    </a:lnTo>
                    <a:lnTo>
                      <a:pt x="181" y="48"/>
                    </a:lnTo>
                    <a:lnTo>
                      <a:pt x="174" y="30"/>
                    </a:lnTo>
                    <a:lnTo>
                      <a:pt x="163" y="16"/>
                    </a:lnTo>
                    <a:lnTo>
                      <a:pt x="150" y="7"/>
                    </a:lnTo>
                    <a:lnTo>
                      <a:pt x="134" y="0"/>
                    </a:lnTo>
                    <a:lnTo>
                      <a:pt x="116" y="0"/>
                    </a:lnTo>
                    <a:lnTo>
                      <a:pt x="97" y="4"/>
                    </a:lnTo>
                    <a:lnTo>
                      <a:pt x="79" y="12"/>
                    </a:lnTo>
                    <a:lnTo>
                      <a:pt x="61" y="26"/>
                    </a:lnTo>
                    <a:lnTo>
                      <a:pt x="45" y="42"/>
                    </a:lnTo>
                    <a:lnTo>
                      <a:pt x="30" y="61"/>
                    </a:lnTo>
                    <a:lnTo>
                      <a:pt x="18" y="84"/>
                    </a:lnTo>
                    <a:lnTo>
                      <a:pt x="9" y="107"/>
                    </a:lnTo>
                    <a:lnTo>
                      <a:pt x="2" y="133"/>
                    </a:lnTo>
                    <a:lnTo>
                      <a:pt x="0" y="158"/>
                    </a:lnTo>
                    <a:lnTo>
                      <a:pt x="1" y="181"/>
                    </a:lnTo>
                    <a:lnTo>
                      <a:pt x="6" y="201"/>
                    </a:lnTo>
                    <a:lnTo>
                      <a:pt x="14" y="218"/>
                    </a:lnTo>
                    <a:lnTo>
                      <a:pt x="25" y="233"/>
                    </a:lnTo>
                    <a:lnTo>
                      <a:pt x="38" y="242"/>
                    </a:lnTo>
                    <a:lnTo>
                      <a:pt x="54" y="247"/>
                    </a:lnTo>
                    <a:lnTo>
                      <a:pt x="72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 rot="19291200">
                <a:off x="3358800" y="4894920"/>
                <a:ext cx="46800" cy="5832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25" y="87"/>
                    </a:moveTo>
                    <a:lnTo>
                      <a:pt x="31" y="86"/>
                    </a:lnTo>
                    <a:lnTo>
                      <a:pt x="38" y="83"/>
                    </a:lnTo>
                    <a:lnTo>
                      <a:pt x="44" y="79"/>
                    </a:lnTo>
                    <a:lnTo>
                      <a:pt x="50" y="72"/>
                    </a:lnTo>
                    <a:lnTo>
                      <a:pt x="55" y="66"/>
                    </a:lnTo>
                    <a:lnTo>
                      <a:pt x="59" y="59"/>
                    </a:lnTo>
                    <a:lnTo>
                      <a:pt x="63" y="51"/>
                    </a:lnTo>
                    <a:lnTo>
                      <a:pt x="65" y="41"/>
                    </a:lnTo>
                    <a:lnTo>
                      <a:pt x="65" y="25"/>
                    </a:lnTo>
                    <a:lnTo>
                      <a:pt x="60" y="11"/>
                    </a:lnTo>
                    <a:lnTo>
                      <a:pt x="53" y="3"/>
                    </a:lnTo>
                    <a:lnTo>
                      <a:pt x="40" y="0"/>
                    </a:lnTo>
                    <a:lnTo>
                      <a:pt x="34" y="2"/>
                    </a:lnTo>
                    <a:lnTo>
                      <a:pt x="28" y="4"/>
                    </a:lnTo>
                    <a:lnTo>
                      <a:pt x="21" y="10"/>
                    </a:lnTo>
                    <a:lnTo>
                      <a:pt x="16" y="15"/>
                    </a:lnTo>
                    <a:lnTo>
                      <a:pt x="11" y="22"/>
                    </a:lnTo>
                    <a:lnTo>
                      <a:pt x="7" y="30"/>
                    </a:lnTo>
                    <a:lnTo>
                      <a:pt x="3" y="38"/>
                    </a:lnTo>
                    <a:lnTo>
                      <a:pt x="1" y="48"/>
                    </a:lnTo>
                    <a:lnTo>
                      <a:pt x="0" y="64"/>
                    </a:lnTo>
                    <a:lnTo>
                      <a:pt x="4" y="78"/>
                    </a:lnTo>
                    <a:lnTo>
                      <a:pt x="13" y="86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 rot="19291200">
                <a:off x="3240360" y="445068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92" h="70">
                    <a:moveTo>
                      <a:pt x="0" y="65"/>
                    </a:moveTo>
                    <a:lnTo>
                      <a:pt x="7" y="63"/>
                    </a:lnTo>
                    <a:lnTo>
                      <a:pt x="18" y="63"/>
                    </a:lnTo>
                    <a:lnTo>
                      <a:pt x="30" y="62"/>
                    </a:lnTo>
                    <a:lnTo>
                      <a:pt x="43" y="63"/>
                    </a:lnTo>
                    <a:lnTo>
                      <a:pt x="58" y="63"/>
                    </a:lnTo>
                    <a:lnTo>
                      <a:pt x="70" y="65"/>
                    </a:lnTo>
                    <a:lnTo>
                      <a:pt x="82" y="67"/>
                    </a:lnTo>
                    <a:lnTo>
                      <a:pt x="89" y="70"/>
                    </a:lnTo>
                    <a:lnTo>
                      <a:pt x="92" y="44"/>
                    </a:lnTo>
                    <a:lnTo>
                      <a:pt x="84" y="23"/>
                    </a:lnTo>
                    <a:lnTo>
                      <a:pt x="69" y="8"/>
                    </a:lnTo>
                    <a:lnTo>
                      <a:pt x="51" y="0"/>
                    </a:lnTo>
                    <a:lnTo>
                      <a:pt x="31" y="1"/>
                    </a:lnTo>
                    <a:lnTo>
                      <a:pt x="14" y="12"/>
                    </a:lnTo>
                    <a:lnTo>
                      <a:pt x="3" y="32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 rot="19291200">
                <a:off x="3138120" y="4438800"/>
                <a:ext cx="98280" cy="112680"/>
              </a:xfrm>
              <a:custGeom>
                <a:avLst/>
                <a:gdLst/>
                <a:ahLst/>
                <a:rect l="l" t="t" r="r" b="b"/>
                <a:pathLst>
                  <a:path w="135" h="170">
                    <a:moveTo>
                      <a:pt x="9" y="0"/>
                    </a:moveTo>
                    <a:lnTo>
                      <a:pt x="4" y="4"/>
                    </a:lnTo>
                    <a:lnTo>
                      <a:pt x="0" y="11"/>
                    </a:lnTo>
                    <a:lnTo>
                      <a:pt x="2" y="19"/>
                    </a:lnTo>
                    <a:lnTo>
                      <a:pt x="14" y="23"/>
                    </a:lnTo>
                    <a:lnTo>
                      <a:pt x="47" y="27"/>
                    </a:lnTo>
                    <a:lnTo>
                      <a:pt x="72" y="40"/>
                    </a:lnTo>
                    <a:lnTo>
                      <a:pt x="88" y="56"/>
                    </a:lnTo>
                    <a:lnTo>
                      <a:pt x="101" y="75"/>
                    </a:lnTo>
                    <a:lnTo>
                      <a:pt x="109" y="97"/>
                    </a:lnTo>
                    <a:lnTo>
                      <a:pt x="113" y="118"/>
                    </a:lnTo>
                    <a:lnTo>
                      <a:pt x="115" y="140"/>
                    </a:lnTo>
                    <a:lnTo>
                      <a:pt x="118" y="159"/>
                    </a:lnTo>
                    <a:lnTo>
                      <a:pt x="121" y="167"/>
                    </a:lnTo>
                    <a:lnTo>
                      <a:pt x="126" y="170"/>
                    </a:lnTo>
                    <a:lnTo>
                      <a:pt x="131" y="167"/>
                    </a:lnTo>
                    <a:lnTo>
                      <a:pt x="133" y="159"/>
                    </a:lnTo>
                    <a:lnTo>
                      <a:pt x="135" y="135"/>
                    </a:lnTo>
                    <a:lnTo>
                      <a:pt x="132" y="109"/>
                    </a:lnTo>
                    <a:lnTo>
                      <a:pt x="127" y="82"/>
                    </a:lnTo>
                    <a:lnTo>
                      <a:pt x="115" y="55"/>
                    </a:lnTo>
                    <a:lnTo>
                      <a:pt x="99" y="31"/>
                    </a:lnTo>
                    <a:lnTo>
                      <a:pt x="76" y="14"/>
                    </a:lnTo>
                    <a:lnTo>
                      <a:pt x="46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 rot="19291200">
                <a:off x="3061800" y="4416120"/>
                <a:ext cx="120600" cy="137880"/>
              </a:xfrm>
              <a:custGeom>
                <a:avLst/>
                <a:gdLst/>
                <a:ahLst/>
                <a:rect l="l" t="t" r="r" b="b"/>
                <a:pathLst>
                  <a:path w="165" h="208">
                    <a:moveTo>
                      <a:pt x="9" y="0"/>
                    </a:moveTo>
                    <a:lnTo>
                      <a:pt x="3" y="4"/>
                    </a:lnTo>
                    <a:lnTo>
                      <a:pt x="0" y="12"/>
                    </a:lnTo>
                    <a:lnTo>
                      <a:pt x="2" y="22"/>
                    </a:lnTo>
                    <a:lnTo>
                      <a:pt x="14" y="26"/>
                    </a:lnTo>
                    <a:lnTo>
                      <a:pt x="49" y="33"/>
                    </a:lnTo>
                    <a:lnTo>
                      <a:pt x="78" y="46"/>
                    </a:lnTo>
                    <a:lnTo>
                      <a:pt x="101" y="68"/>
                    </a:lnTo>
                    <a:lnTo>
                      <a:pt x="119" y="94"/>
                    </a:lnTo>
                    <a:lnTo>
                      <a:pt x="131" y="122"/>
                    </a:lnTo>
                    <a:lnTo>
                      <a:pt x="140" y="150"/>
                    </a:lnTo>
                    <a:lnTo>
                      <a:pt x="146" y="175"/>
                    </a:lnTo>
                    <a:lnTo>
                      <a:pt x="149" y="197"/>
                    </a:lnTo>
                    <a:lnTo>
                      <a:pt x="152" y="205"/>
                    </a:lnTo>
                    <a:lnTo>
                      <a:pt x="157" y="208"/>
                    </a:lnTo>
                    <a:lnTo>
                      <a:pt x="163" y="205"/>
                    </a:lnTo>
                    <a:lnTo>
                      <a:pt x="165" y="197"/>
                    </a:lnTo>
                    <a:lnTo>
                      <a:pt x="165" y="170"/>
                    </a:lnTo>
                    <a:lnTo>
                      <a:pt x="161" y="139"/>
                    </a:lnTo>
                    <a:lnTo>
                      <a:pt x="150" y="106"/>
                    </a:lnTo>
                    <a:lnTo>
                      <a:pt x="134" y="72"/>
                    </a:lnTo>
                    <a:lnTo>
                      <a:pt x="112" y="44"/>
                    </a:lnTo>
                    <a:lnTo>
                      <a:pt x="84" y="19"/>
                    </a:lnTo>
                    <a:lnTo>
                      <a:pt x="49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 rot="19291200">
                <a:off x="3245760" y="4328640"/>
                <a:ext cx="129600" cy="100440"/>
              </a:xfrm>
              <a:custGeom>
                <a:avLst/>
                <a:gdLst/>
                <a:ahLst/>
                <a:rect l="l" t="t" r="r" b="b"/>
                <a:pathLst>
                  <a:path w="179" h="151">
                    <a:moveTo>
                      <a:pt x="172" y="11"/>
                    </a:moveTo>
                    <a:lnTo>
                      <a:pt x="177" y="17"/>
                    </a:lnTo>
                    <a:lnTo>
                      <a:pt x="179" y="26"/>
                    </a:lnTo>
                    <a:lnTo>
                      <a:pt x="175" y="34"/>
                    </a:lnTo>
                    <a:lnTo>
                      <a:pt x="161" y="34"/>
                    </a:lnTo>
                    <a:lnTo>
                      <a:pt x="125" y="27"/>
                    </a:lnTo>
                    <a:lnTo>
                      <a:pt x="96" y="30"/>
                    </a:lnTo>
                    <a:lnTo>
                      <a:pt x="73" y="41"/>
                    </a:lnTo>
                    <a:lnTo>
                      <a:pt x="55" y="57"/>
                    </a:lnTo>
                    <a:lnTo>
                      <a:pt x="42" y="78"/>
                    </a:lnTo>
                    <a:lnTo>
                      <a:pt x="32" y="101"/>
                    </a:lnTo>
                    <a:lnTo>
                      <a:pt x="24" y="123"/>
                    </a:lnTo>
                    <a:lnTo>
                      <a:pt x="17" y="142"/>
                    </a:lnTo>
                    <a:lnTo>
                      <a:pt x="12" y="150"/>
                    </a:lnTo>
                    <a:lnTo>
                      <a:pt x="6" y="151"/>
                    </a:lnTo>
                    <a:lnTo>
                      <a:pt x="1" y="146"/>
                    </a:lnTo>
                    <a:lnTo>
                      <a:pt x="0" y="136"/>
                    </a:lnTo>
                    <a:lnTo>
                      <a:pt x="5" y="110"/>
                    </a:lnTo>
                    <a:lnTo>
                      <a:pt x="14" y="83"/>
                    </a:lnTo>
                    <a:lnTo>
                      <a:pt x="27" y="56"/>
                    </a:lnTo>
                    <a:lnTo>
                      <a:pt x="45" y="32"/>
                    </a:lnTo>
                    <a:lnTo>
                      <a:pt x="68" y="14"/>
                    </a:lnTo>
                    <a:lnTo>
                      <a:pt x="97" y="2"/>
                    </a:lnTo>
                    <a:lnTo>
                      <a:pt x="132" y="0"/>
                    </a:lnTo>
                    <a:lnTo>
                      <a:pt x="17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 rot="19291200">
                <a:off x="3245760" y="4253400"/>
                <a:ext cx="148320" cy="120960"/>
              </a:xfrm>
              <a:custGeom>
                <a:avLst/>
                <a:gdLst/>
                <a:ahLst/>
                <a:rect l="l" t="t" r="r" b="b"/>
                <a:pathLst>
                  <a:path w="203" h="182">
                    <a:moveTo>
                      <a:pt x="197" y="10"/>
                    </a:moveTo>
                    <a:lnTo>
                      <a:pt x="201" y="15"/>
                    </a:lnTo>
                    <a:lnTo>
                      <a:pt x="203" y="26"/>
                    </a:lnTo>
                    <a:lnTo>
                      <a:pt x="199" y="34"/>
                    </a:lnTo>
                    <a:lnTo>
                      <a:pt x="184" y="34"/>
                    </a:lnTo>
                    <a:lnTo>
                      <a:pt x="146" y="29"/>
                    </a:lnTo>
                    <a:lnTo>
                      <a:pt x="113" y="34"/>
                    </a:lnTo>
                    <a:lnTo>
                      <a:pt x="88" y="50"/>
                    </a:lnTo>
                    <a:lnTo>
                      <a:pt x="65" y="72"/>
                    </a:lnTo>
                    <a:lnTo>
                      <a:pt x="48" y="98"/>
                    </a:lnTo>
                    <a:lnTo>
                      <a:pt x="35" y="125"/>
                    </a:lnTo>
                    <a:lnTo>
                      <a:pt x="25" y="151"/>
                    </a:lnTo>
                    <a:lnTo>
                      <a:pt x="17" y="173"/>
                    </a:lnTo>
                    <a:lnTo>
                      <a:pt x="11" y="181"/>
                    </a:lnTo>
                    <a:lnTo>
                      <a:pt x="5" y="182"/>
                    </a:lnTo>
                    <a:lnTo>
                      <a:pt x="1" y="177"/>
                    </a:lnTo>
                    <a:lnTo>
                      <a:pt x="0" y="167"/>
                    </a:lnTo>
                    <a:lnTo>
                      <a:pt x="2" y="154"/>
                    </a:lnTo>
                    <a:lnTo>
                      <a:pt x="5" y="139"/>
                    </a:lnTo>
                    <a:lnTo>
                      <a:pt x="10" y="122"/>
                    </a:lnTo>
                    <a:lnTo>
                      <a:pt x="17" y="106"/>
                    </a:lnTo>
                    <a:lnTo>
                      <a:pt x="23" y="90"/>
                    </a:lnTo>
                    <a:lnTo>
                      <a:pt x="32" y="75"/>
                    </a:lnTo>
                    <a:lnTo>
                      <a:pt x="43" y="58"/>
                    </a:lnTo>
                    <a:lnTo>
                      <a:pt x="55" y="45"/>
                    </a:lnTo>
                    <a:lnTo>
                      <a:pt x="67" y="31"/>
                    </a:lnTo>
                    <a:lnTo>
                      <a:pt x="82" y="20"/>
                    </a:lnTo>
                    <a:lnTo>
                      <a:pt x="98" y="11"/>
                    </a:lnTo>
                    <a:lnTo>
                      <a:pt x="116" y="4"/>
                    </a:lnTo>
                    <a:lnTo>
                      <a:pt x="134" y="0"/>
                    </a:lnTo>
                    <a:lnTo>
                      <a:pt x="153" y="0"/>
                    </a:lnTo>
                    <a:lnTo>
                      <a:pt x="174" y="3"/>
                    </a:lnTo>
                    <a:lnTo>
                      <a:pt x="19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 rot="19291200">
                <a:off x="3282480" y="4373640"/>
                <a:ext cx="63720" cy="83880"/>
              </a:xfrm>
              <a:custGeom>
                <a:avLst/>
                <a:gdLst/>
                <a:ahLst/>
                <a:rect l="l" t="t" r="r" b="b"/>
                <a:pathLst>
                  <a:path w="89" h="126">
                    <a:moveTo>
                      <a:pt x="78" y="0"/>
                    </a:moveTo>
                    <a:lnTo>
                      <a:pt x="86" y="3"/>
                    </a:lnTo>
                    <a:lnTo>
                      <a:pt x="89" y="8"/>
                    </a:lnTo>
                    <a:lnTo>
                      <a:pt x="89" y="14"/>
                    </a:lnTo>
                    <a:lnTo>
                      <a:pt x="86" y="16"/>
                    </a:lnTo>
                    <a:lnTo>
                      <a:pt x="70" y="18"/>
                    </a:lnTo>
                    <a:lnTo>
                      <a:pt x="55" y="23"/>
                    </a:lnTo>
                    <a:lnTo>
                      <a:pt x="42" y="31"/>
                    </a:lnTo>
                    <a:lnTo>
                      <a:pt x="32" y="42"/>
                    </a:lnTo>
                    <a:lnTo>
                      <a:pt x="23" y="57"/>
                    </a:lnTo>
                    <a:lnTo>
                      <a:pt x="18" y="72"/>
                    </a:lnTo>
                    <a:lnTo>
                      <a:pt x="18" y="91"/>
                    </a:lnTo>
                    <a:lnTo>
                      <a:pt x="22" y="110"/>
                    </a:lnTo>
                    <a:lnTo>
                      <a:pt x="22" y="121"/>
                    </a:lnTo>
                    <a:lnTo>
                      <a:pt x="17" y="126"/>
                    </a:lnTo>
                    <a:lnTo>
                      <a:pt x="10" y="125"/>
                    </a:lnTo>
                    <a:lnTo>
                      <a:pt x="5" y="117"/>
                    </a:lnTo>
                    <a:lnTo>
                      <a:pt x="0" y="97"/>
                    </a:lnTo>
                    <a:lnTo>
                      <a:pt x="0" y="76"/>
                    </a:lnTo>
                    <a:lnTo>
                      <a:pt x="3" y="56"/>
                    </a:lnTo>
                    <a:lnTo>
                      <a:pt x="9" y="38"/>
                    </a:lnTo>
                    <a:lnTo>
                      <a:pt x="21" y="23"/>
                    </a:lnTo>
                    <a:lnTo>
                      <a:pt x="35" y="11"/>
                    </a:lnTo>
                    <a:lnTo>
                      <a:pt x="54" y="3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 rot="19291200">
                <a:off x="3197520" y="4469760"/>
                <a:ext cx="36360" cy="84600"/>
              </a:xfrm>
              <a:custGeom>
                <a:avLst/>
                <a:gdLst/>
                <a:ahLst/>
                <a:rect l="l" t="t" r="r" b="b"/>
                <a:pathLst>
                  <a:path w="51" h="128">
                    <a:moveTo>
                      <a:pt x="9" y="0"/>
                    </a:moveTo>
                    <a:lnTo>
                      <a:pt x="3" y="2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4" y="20"/>
                    </a:lnTo>
                    <a:lnTo>
                      <a:pt x="9" y="22"/>
                    </a:lnTo>
                    <a:lnTo>
                      <a:pt x="15" y="29"/>
                    </a:lnTo>
                    <a:lnTo>
                      <a:pt x="22" y="37"/>
                    </a:lnTo>
                    <a:lnTo>
                      <a:pt x="27" y="48"/>
                    </a:lnTo>
                    <a:lnTo>
                      <a:pt x="31" y="60"/>
                    </a:lnTo>
                    <a:lnTo>
                      <a:pt x="33" y="75"/>
                    </a:lnTo>
                    <a:lnTo>
                      <a:pt x="32" y="93"/>
                    </a:lnTo>
                    <a:lnTo>
                      <a:pt x="27" y="113"/>
                    </a:lnTo>
                    <a:lnTo>
                      <a:pt x="27" y="124"/>
                    </a:lnTo>
                    <a:lnTo>
                      <a:pt x="33" y="128"/>
                    </a:lnTo>
                    <a:lnTo>
                      <a:pt x="40" y="128"/>
                    </a:lnTo>
                    <a:lnTo>
                      <a:pt x="45" y="119"/>
                    </a:lnTo>
                    <a:lnTo>
                      <a:pt x="50" y="98"/>
                    </a:lnTo>
                    <a:lnTo>
                      <a:pt x="51" y="78"/>
                    </a:lnTo>
                    <a:lnTo>
                      <a:pt x="49" y="59"/>
                    </a:lnTo>
                    <a:lnTo>
                      <a:pt x="45" y="41"/>
                    </a:lnTo>
                    <a:lnTo>
                      <a:pt x="39" y="26"/>
                    </a:lnTo>
                    <a:lnTo>
                      <a:pt x="31" y="14"/>
                    </a:lnTo>
                    <a:lnTo>
                      <a:pt x="21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 rot="19291200">
                <a:off x="3864240" y="4340160"/>
                <a:ext cx="150840" cy="34560"/>
              </a:xfrm>
              <a:custGeom>
                <a:avLst/>
                <a:gdLst/>
                <a:ahLst/>
                <a:rect l="l" t="t" r="r" b="b"/>
                <a:pathLst>
                  <a:path w="208" h="51">
                    <a:moveTo>
                      <a:pt x="204" y="27"/>
                    </a:moveTo>
                    <a:lnTo>
                      <a:pt x="208" y="32"/>
                    </a:lnTo>
                    <a:lnTo>
                      <a:pt x="208" y="40"/>
                    </a:lnTo>
                    <a:lnTo>
                      <a:pt x="203" y="47"/>
                    </a:lnTo>
                    <a:lnTo>
                      <a:pt x="195" y="51"/>
                    </a:lnTo>
                    <a:lnTo>
                      <a:pt x="189" y="51"/>
                    </a:lnTo>
                    <a:lnTo>
                      <a:pt x="180" y="51"/>
                    </a:lnTo>
                    <a:lnTo>
                      <a:pt x="168" y="50"/>
                    </a:lnTo>
                    <a:lnTo>
                      <a:pt x="156" y="48"/>
                    </a:lnTo>
                    <a:lnTo>
                      <a:pt x="141" y="46"/>
                    </a:lnTo>
                    <a:lnTo>
                      <a:pt x="127" y="43"/>
                    </a:lnTo>
                    <a:lnTo>
                      <a:pt x="112" y="40"/>
                    </a:lnTo>
                    <a:lnTo>
                      <a:pt x="96" y="38"/>
                    </a:lnTo>
                    <a:lnTo>
                      <a:pt x="81" y="35"/>
                    </a:lnTo>
                    <a:lnTo>
                      <a:pt x="66" y="32"/>
                    </a:lnTo>
                    <a:lnTo>
                      <a:pt x="53" y="29"/>
                    </a:lnTo>
                    <a:lnTo>
                      <a:pt x="40" y="28"/>
                    </a:lnTo>
                    <a:lnTo>
                      <a:pt x="29" y="25"/>
                    </a:lnTo>
                    <a:lnTo>
                      <a:pt x="20" y="24"/>
                    </a:lnTo>
                    <a:lnTo>
                      <a:pt x="13" y="23"/>
                    </a:lnTo>
                    <a:lnTo>
                      <a:pt x="10" y="23"/>
                    </a:lnTo>
                    <a:lnTo>
                      <a:pt x="2" y="19"/>
                    </a:lnTo>
                    <a:lnTo>
                      <a:pt x="0" y="9"/>
                    </a:lnTo>
                    <a:lnTo>
                      <a:pt x="5" y="1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31" y="1"/>
                    </a:lnTo>
                    <a:lnTo>
                      <a:pt x="41" y="2"/>
                    </a:lnTo>
                    <a:lnTo>
                      <a:pt x="53" y="4"/>
                    </a:lnTo>
                    <a:lnTo>
                      <a:pt x="66" y="6"/>
                    </a:lnTo>
                    <a:lnTo>
                      <a:pt x="82" y="8"/>
                    </a:lnTo>
                    <a:lnTo>
                      <a:pt x="98" y="10"/>
                    </a:lnTo>
                    <a:lnTo>
                      <a:pt x="113" y="12"/>
                    </a:lnTo>
                    <a:lnTo>
                      <a:pt x="129" y="15"/>
                    </a:lnTo>
                    <a:lnTo>
                      <a:pt x="145" y="16"/>
                    </a:lnTo>
                    <a:lnTo>
                      <a:pt x="159" y="19"/>
                    </a:lnTo>
                    <a:lnTo>
                      <a:pt x="173" y="20"/>
                    </a:lnTo>
                    <a:lnTo>
                      <a:pt x="184" y="23"/>
                    </a:lnTo>
                    <a:lnTo>
                      <a:pt x="194" y="24"/>
                    </a:lnTo>
                    <a:lnTo>
                      <a:pt x="201" y="25"/>
                    </a:lnTo>
                    <a:lnTo>
                      <a:pt x="20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9291200">
                <a:off x="3911760" y="4390920"/>
                <a:ext cx="101880" cy="19800"/>
              </a:xfrm>
              <a:custGeom>
                <a:avLst/>
                <a:gdLst/>
                <a:ahLst/>
                <a:rect l="l" t="t" r="r" b="b"/>
                <a:pathLst>
                  <a:path w="140" h="30">
                    <a:moveTo>
                      <a:pt x="133" y="8"/>
                    </a:moveTo>
                    <a:lnTo>
                      <a:pt x="138" y="12"/>
                    </a:lnTo>
                    <a:lnTo>
                      <a:pt x="140" y="20"/>
                    </a:lnTo>
                    <a:lnTo>
                      <a:pt x="138" y="27"/>
                    </a:lnTo>
                    <a:lnTo>
                      <a:pt x="131" y="30"/>
                    </a:lnTo>
                    <a:lnTo>
                      <a:pt x="118" y="30"/>
                    </a:lnTo>
                    <a:lnTo>
                      <a:pt x="101" y="30"/>
                    </a:lnTo>
                    <a:lnTo>
                      <a:pt x="83" y="28"/>
                    </a:lnTo>
                    <a:lnTo>
                      <a:pt x="64" y="27"/>
                    </a:lnTo>
                    <a:lnTo>
                      <a:pt x="46" y="26"/>
                    </a:lnTo>
                    <a:lnTo>
                      <a:pt x="30" y="24"/>
                    </a:lnTo>
                    <a:lnTo>
                      <a:pt x="19" y="24"/>
                    </a:lnTo>
                    <a:lnTo>
                      <a:pt x="11" y="24"/>
                    </a:lnTo>
                    <a:lnTo>
                      <a:pt x="3" y="20"/>
                    </a:lnTo>
                    <a:lnTo>
                      <a:pt x="0" y="12"/>
                    </a:lnTo>
                    <a:lnTo>
                      <a:pt x="4" y="4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40" y="1"/>
                    </a:lnTo>
                    <a:lnTo>
                      <a:pt x="58" y="3"/>
                    </a:lnTo>
                    <a:lnTo>
                      <a:pt x="77" y="3"/>
                    </a:lnTo>
                    <a:lnTo>
                      <a:pt x="95" y="4"/>
                    </a:lnTo>
                    <a:lnTo>
                      <a:pt x="112" y="5"/>
                    </a:lnTo>
                    <a:lnTo>
                      <a:pt x="125" y="7"/>
                    </a:lnTo>
                    <a:lnTo>
                      <a:pt x="1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 rot="19291200">
                <a:off x="3923280" y="4395600"/>
                <a:ext cx="181800" cy="34200"/>
              </a:xfrm>
              <a:custGeom>
                <a:avLst/>
                <a:gdLst/>
                <a:ahLst/>
                <a:rect l="l" t="t" r="r" b="b"/>
                <a:pathLst>
                  <a:path w="250" h="53">
                    <a:moveTo>
                      <a:pt x="242" y="0"/>
                    </a:moveTo>
                    <a:lnTo>
                      <a:pt x="247" y="6"/>
                    </a:lnTo>
                    <a:lnTo>
                      <a:pt x="250" y="15"/>
                    </a:lnTo>
                    <a:lnTo>
                      <a:pt x="244" y="25"/>
                    </a:lnTo>
                    <a:lnTo>
                      <a:pt x="229" y="29"/>
                    </a:lnTo>
                    <a:lnTo>
                      <a:pt x="223" y="30"/>
                    </a:lnTo>
                    <a:lnTo>
                      <a:pt x="211" y="30"/>
                    </a:lnTo>
                    <a:lnTo>
                      <a:pt x="199" y="31"/>
                    </a:lnTo>
                    <a:lnTo>
                      <a:pt x="183" y="33"/>
                    </a:lnTo>
                    <a:lnTo>
                      <a:pt x="166" y="35"/>
                    </a:lnTo>
                    <a:lnTo>
                      <a:pt x="148" y="37"/>
                    </a:lnTo>
                    <a:lnTo>
                      <a:pt x="129" y="40"/>
                    </a:lnTo>
                    <a:lnTo>
                      <a:pt x="111" y="41"/>
                    </a:lnTo>
                    <a:lnTo>
                      <a:pt x="92" y="42"/>
                    </a:lnTo>
                    <a:lnTo>
                      <a:pt x="74" y="45"/>
                    </a:lnTo>
                    <a:lnTo>
                      <a:pt x="56" y="46"/>
                    </a:lnTo>
                    <a:lnTo>
                      <a:pt x="42" y="49"/>
                    </a:lnTo>
                    <a:lnTo>
                      <a:pt x="28" y="50"/>
                    </a:lnTo>
                    <a:lnTo>
                      <a:pt x="17" y="52"/>
                    </a:lnTo>
                    <a:lnTo>
                      <a:pt x="10" y="52"/>
                    </a:lnTo>
                    <a:lnTo>
                      <a:pt x="6" y="53"/>
                    </a:lnTo>
                    <a:lnTo>
                      <a:pt x="2" y="52"/>
                    </a:lnTo>
                    <a:lnTo>
                      <a:pt x="0" y="49"/>
                    </a:lnTo>
                    <a:lnTo>
                      <a:pt x="1" y="45"/>
                    </a:lnTo>
                    <a:lnTo>
                      <a:pt x="6" y="40"/>
                    </a:lnTo>
                    <a:lnTo>
                      <a:pt x="12" y="35"/>
                    </a:lnTo>
                    <a:lnTo>
                      <a:pt x="24" y="30"/>
                    </a:lnTo>
                    <a:lnTo>
                      <a:pt x="39" y="26"/>
                    </a:lnTo>
                    <a:lnTo>
                      <a:pt x="59" y="23"/>
                    </a:lnTo>
                    <a:lnTo>
                      <a:pt x="64" y="23"/>
                    </a:lnTo>
                    <a:lnTo>
                      <a:pt x="72" y="22"/>
                    </a:lnTo>
                    <a:lnTo>
                      <a:pt x="81" y="20"/>
                    </a:lnTo>
                    <a:lnTo>
                      <a:pt x="93" y="19"/>
                    </a:lnTo>
                    <a:lnTo>
                      <a:pt x="107" y="16"/>
                    </a:lnTo>
                    <a:lnTo>
                      <a:pt x="121" y="15"/>
                    </a:lnTo>
                    <a:lnTo>
                      <a:pt x="136" y="12"/>
                    </a:lnTo>
                    <a:lnTo>
                      <a:pt x="153" y="10"/>
                    </a:lnTo>
                    <a:lnTo>
                      <a:pt x="167" y="8"/>
                    </a:lnTo>
                    <a:lnTo>
                      <a:pt x="183" y="6"/>
                    </a:lnTo>
                    <a:lnTo>
                      <a:pt x="198" y="4"/>
                    </a:lnTo>
                    <a:lnTo>
                      <a:pt x="210" y="3"/>
                    </a:lnTo>
                    <a:lnTo>
                      <a:pt x="223" y="1"/>
                    </a:lnTo>
                    <a:lnTo>
                      <a:pt x="232" y="0"/>
                    </a:lnTo>
                    <a:lnTo>
                      <a:pt x="238" y="0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 rot="19291200">
                <a:off x="3966120" y="4153680"/>
                <a:ext cx="200880" cy="152280"/>
              </a:xfrm>
              <a:custGeom>
                <a:avLst/>
                <a:gdLst/>
                <a:ahLst/>
                <a:rect l="l" t="t" r="r" b="b"/>
                <a:pathLst>
                  <a:path w="275" h="228">
                    <a:moveTo>
                      <a:pt x="93" y="96"/>
                    </a:moveTo>
                    <a:lnTo>
                      <a:pt x="64" y="92"/>
                    </a:lnTo>
                    <a:lnTo>
                      <a:pt x="39" y="99"/>
                    </a:lnTo>
                    <a:lnTo>
                      <a:pt x="20" y="115"/>
                    </a:lnTo>
                    <a:lnTo>
                      <a:pt x="7" y="137"/>
                    </a:lnTo>
                    <a:lnTo>
                      <a:pt x="0" y="162"/>
                    </a:lnTo>
                    <a:lnTo>
                      <a:pt x="1" y="188"/>
                    </a:lnTo>
                    <a:lnTo>
                      <a:pt x="11" y="209"/>
                    </a:lnTo>
                    <a:lnTo>
                      <a:pt x="31" y="227"/>
                    </a:lnTo>
                    <a:lnTo>
                      <a:pt x="39" y="228"/>
                    </a:lnTo>
                    <a:lnTo>
                      <a:pt x="44" y="224"/>
                    </a:lnTo>
                    <a:lnTo>
                      <a:pt x="43" y="217"/>
                    </a:lnTo>
                    <a:lnTo>
                      <a:pt x="38" y="212"/>
                    </a:lnTo>
                    <a:lnTo>
                      <a:pt x="23" y="197"/>
                    </a:lnTo>
                    <a:lnTo>
                      <a:pt x="18" y="178"/>
                    </a:lnTo>
                    <a:lnTo>
                      <a:pt x="19" y="159"/>
                    </a:lnTo>
                    <a:lnTo>
                      <a:pt x="28" y="140"/>
                    </a:lnTo>
                    <a:lnTo>
                      <a:pt x="41" y="126"/>
                    </a:lnTo>
                    <a:lnTo>
                      <a:pt x="59" y="118"/>
                    </a:lnTo>
                    <a:lnTo>
                      <a:pt x="80" y="120"/>
                    </a:lnTo>
                    <a:lnTo>
                      <a:pt x="101" y="133"/>
                    </a:lnTo>
                    <a:lnTo>
                      <a:pt x="107" y="135"/>
                    </a:lnTo>
                    <a:lnTo>
                      <a:pt x="111" y="130"/>
                    </a:lnTo>
                    <a:lnTo>
                      <a:pt x="112" y="124"/>
                    </a:lnTo>
                    <a:lnTo>
                      <a:pt x="112" y="115"/>
                    </a:lnTo>
                    <a:lnTo>
                      <a:pt x="112" y="88"/>
                    </a:lnTo>
                    <a:lnTo>
                      <a:pt x="119" y="67"/>
                    </a:lnTo>
                    <a:lnTo>
                      <a:pt x="131" y="50"/>
                    </a:lnTo>
                    <a:lnTo>
                      <a:pt x="148" y="41"/>
                    </a:lnTo>
                    <a:lnTo>
                      <a:pt x="166" y="39"/>
                    </a:lnTo>
                    <a:lnTo>
                      <a:pt x="184" y="45"/>
                    </a:lnTo>
                    <a:lnTo>
                      <a:pt x="199" y="60"/>
                    </a:lnTo>
                    <a:lnTo>
                      <a:pt x="210" y="84"/>
                    </a:lnTo>
                    <a:lnTo>
                      <a:pt x="214" y="91"/>
                    </a:lnTo>
                    <a:lnTo>
                      <a:pt x="219" y="90"/>
                    </a:lnTo>
                    <a:lnTo>
                      <a:pt x="224" y="84"/>
                    </a:lnTo>
                    <a:lnTo>
                      <a:pt x="227" y="76"/>
                    </a:lnTo>
                    <a:lnTo>
                      <a:pt x="232" y="60"/>
                    </a:lnTo>
                    <a:lnTo>
                      <a:pt x="238" y="52"/>
                    </a:lnTo>
                    <a:lnTo>
                      <a:pt x="244" y="50"/>
                    </a:lnTo>
                    <a:lnTo>
                      <a:pt x="250" y="53"/>
                    </a:lnTo>
                    <a:lnTo>
                      <a:pt x="254" y="61"/>
                    </a:lnTo>
                    <a:lnTo>
                      <a:pt x="256" y="71"/>
                    </a:lnTo>
                    <a:lnTo>
                      <a:pt x="255" y="82"/>
                    </a:lnTo>
                    <a:lnTo>
                      <a:pt x="252" y="92"/>
                    </a:lnTo>
                    <a:lnTo>
                      <a:pt x="251" y="98"/>
                    </a:lnTo>
                    <a:lnTo>
                      <a:pt x="255" y="102"/>
                    </a:lnTo>
                    <a:lnTo>
                      <a:pt x="263" y="96"/>
                    </a:lnTo>
                    <a:lnTo>
                      <a:pt x="273" y="76"/>
                    </a:lnTo>
                    <a:lnTo>
                      <a:pt x="275" y="65"/>
                    </a:lnTo>
                    <a:lnTo>
                      <a:pt x="273" y="54"/>
                    </a:lnTo>
                    <a:lnTo>
                      <a:pt x="270" y="42"/>
                    </a:lnTo>
                    <a:lnTo>
                      <a:pt x="263" y="33"/>
                    </a:lnTo>
                    <a:lnTo>
                      <a:pt x="255" y="27"/>
                    </a:lnTo>
                    <a:lnTo>
                      <a:pt x="245" y="24"/>
                    </a:lnTo>
                    <a:lnTo>
                      <a:pt x="234" y="29"/>
                    </a:lnTo>
                    <a:lnTo>
                      <a:pt x="221" y="39"/>
                    </a:lnTo>
                    <a:lnTo>
                      <a:pt x="211" y="22"/>
                    </a:lnTo>
                    <a:lnTo>
                      <a:pt x="196" y="8"/>
                    </a:lnTo>
                    <a:lnTo>
                      <a:pt x="175" y="0"/>
                    </a:lnTo>
                    <a:lnTo>
                      <a:pt x="153" y="0"/>
                    </a:lnTo>
                    <a:lnTo>
                      <a:pt x="131" y="9"/>
                    </a:lnTo>
                    <a:lnTo>
                      <a:pt x="112" y="27"/>
                    </a:lnTo>
                    <a:lnTo>
                      <a:pt x="99" y="56"/>
                    </a:lnTo>
                    <a:lnTo>
                      <a:pt x="93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9291200">
                <a:off x="4065840" y="4245840"/>
                <a:ext cx="100080" cy="146880"/>
              </a:xfrm>
              <a:custGeom>
                <a:avLst/>
                <a:gdLst/>
                <a:ahLst/>
                <a:rect l="l" t="t" r="r" b="b"/>
                <a:pathLst>
                  <a:path w="138" h="223">
                    <a:moveTo>
                      <a:pt x="132" y="197"/>
                    </a:moveTo>
                    <a:lnTo>
                      <a:pt x="136" y="193"/>
                    </a:lnTo>
                    <a:lnTo>
                      <a:pt x="138" y="187"/>
                    </a:lnTo>
                    <a:lnTo>
                      <a:pt x="137" y="183"/>
                    </a:lnTo>
                    <a:lnTo>
                      <a:pt x="135" y="179"/>
                    </a:lnTo>
                    <a:lnTo>
                      <a:pt x="130" y="178"/>
                    </a:lnTo>
                    <a:lnTo>
                      <a:pt x="126" y="177"/>
                    </a:lnTo>
                    <a:lnTo>
                      <a:pt x="120" y="177"/>
                    </a:lnTo>
                    <a:lnTo>
                      <a:pt x="115" y="179"/>
                    </a:lnTo>
                    <a:lnTo>
                      <a:pt x="91" y="189"/>
                    </a:lnTo>
                    <a:lnTo>
                      <a:pt x="71" y="189"/>
                    </a:lnTo>
                    <a:lnTo>
                      <a:pt x="54" y="182"/>
                    </a:lnTo>
                    <a:lnTo>
                      <a:pt x="42" y="168"/>
                    </a:lnTo>
                    <a:lnTo>
                      <a:pt x="34" y="153"/>
                    </a:lnTo>
                    <a:lnTo>
                      <a:pt x="31" y="136"/>
                    </a:lnTo>
                    <a:lnTo>
                      <a:pt x="36" y="119"/>
                    </a:lnTo>
                    <a:lnTo>
                      <a:pt x="46" y="106"/>
                    </a:lnTo>
                    <a:lnTo>
                      <a:pt x="54" y="98"/>
                    </a:lnTo>
                    <a:lnTo>
                      <a:pt x="54" y="92"/>
                    </a:lnTo>
                    <a:lnTo>
                      <a:pt x="49" y="88"/>
                    </a:lnTo>
                    <a:lnTo>
                      <a:pt x="44" y="84"/>
                    </a:lnTo>
                    <a:lnTo>
                      <a:pt x="28" y="65"/>
                    </a:lnTo>
                    <a:lnTo>
                      <a:pt x="24" y="49"/>
                    </a:lnTo>
                    <a:lnTo>
                      <a:pt x="27" y="38"/>
                    </a:lnTo>
                    <a:lnTo>
                      <a:pt x="35" y="30"/>
                    </a:lnTo>
                    <a:lnTo>
                      <a:pt x="47" y="27"/>
                    </a:lnTo>
                    <a:lnTo>
                      <a:pt x="60" y="30"/>
                    </a:lnTo>
                    <a:lnTo>
                      <a:pt x="70" y="37"/>
                    </a:lnTo>
                    <a:lnTo>
                      <a:pt x="75" y="49"/>
                    </a:lnTo>
                    <a:lnTo>
                      <a:pt x="81" y="60"/>
                    </a:lnTo>
                    <a:lnTo>
                      <a:pt x="90" y="64"/>
                    </a:lnTo>
                    <a:lnTo>
                      <a:pt x="97" y="60"/>
                    </a:lnTo>
                    <a:lnTo>
                      <a:pt x="99" y="49"/>
                    </a:lnTo>
                    <a:lnTo>
                      <a:pt x="96" y="38"/>
                    </a:lnTo>
                    <a:lnTo>
                      <a:pt x="91" y="27"/>
                    </a:lnTo>
                    <a:lnTo>
                      <a:pt x="83" y="18"/>
                    </a:lnTo>
                    <a:lnTo>
                      <a:pt x="74" y="8"/>
                    </a:lnTo>
                    <a:lnTo>
                      <a:pt x="62" y="3"/>
                    </a:lnTo>
                    <a:lnTo>
                      <a:pt x="48" y="0"/>
                    </a:lnTo>
                    <a:lnTo>
                      <a:pt x="33" y="4"/>
                    </a:lnTo>
                    <a:lnTo>
                      <a:pt x="15" y="13"/>
                    </a:lnTo>
                    <a:lnTo>
                      <a:pt x="9" y="20"/>
                    </a:lnTo>
                    <a:lnTo>
                      <a:pt x="4" y="28"/>
                    </a:lnTo>
                    <a:lnTo>
                      <a:pt x="2" y="39"/>
                    </a:lnTo>
                    <a:lnTo>
                      <a:pt x="1" y="50"/>
                    </a:lnTo>
                    <a:lnTo>
                      <a:pt x="3" y="62"/>
                    </a:lnTo>
                    <a:lnTo>
                      <a:pt x="8" y="72"/>
                    </a:lnTo>
                    <a:lnTo>
                      <a:pt x="15" y="81"/>
                    </a:lnTo>
                    <a:lnTo>
                      <a:pt x="26" y="88"/>
                    </a:lnTo>
                    <a:lnTo>
                      <a:pt x="8" y="107"/>
                    </a:lnTo>
                    <a:lnTo>
                      <a:pt x="0" y="133"/>
                    </a:lnTo>
                    <a:lnTo>
                      <a:pt x="0" y="162"/>
                    </a:lnTo>
                    <a:lnTo>
                      <a:pt x="10" y="190"/>
                    </a:lnTo>
                    <a:lnTo>
                      <a:pt x="28" y="212"/>
                    </a:lnTo>
                    <a:lnTo>
                      <a:pt x="54" y="223"/>
                    </a:lnTo>
                    <a:lnTo>
                      <a:pt x="89" y="220"/>
                    </a:lnTo>
                    <a:lnTo>
                      <a:pt x="132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 rot="19291200">
                <a:off x="2992680" y="4460400"/>
                <a:ext cx="889200" cy="363240"/>
              </a:xfrm>
              <a:custGeom>
                <a:avLst/>
                <a:gdLst/>
                <a:ahLst/>
                <a:rect l="l" t="t" r="r" b="b"/>
                <a:pathLst>
                  <a:path w="1223" h="546">
                    <a:moveTo>
                      <a:pt x="773" y="34"/>
                    </a:moveTo>
                    <a:lnTo>
                      <a:pt x="784" y="46"/>
                    </a:lnTo>
                    <a:lnTo>
                      <a:pt x="800" y="68"/>
                    </a:lnTo>
                    <a:lnTo>
                      <a:pt x="818" y="99"/>
                    </a:lnTo>
                    <a:lnTo>
                      <a:pt x="837" y="132"/>
                    </a:lnTo>
                    <a:lnTo>
                      <a:pt x="855" y="167"/>
                    </a:lnTo>
                    <a:lnTo>
                      <a:pt x="872" y="197"/>
                    </a:lnTo>
                    <a:lnTo>
                      <a:pt x="885" y="221"/>
                    </a:lnTo>
                    <a:lnTo>
                      <a:pt x="894" y="235"/>
                    </a:lnTo>
                    <a:lnTo>
                      <a:pt x="901" y="238"/>
                    </a:lnTo>
                    <a:lnTo>
                      <a:pt x="912" y="242"/>
                    </a:lnTo>
                    <a:lnTo>
                      <a:pt x="929" y="246"/>
                    </a:lnTo>
                    <a:lnTo>
                      <a:pt x="949" y="248"/>
                    </a:lnTo>
                    <a:lnTo>
                      <a:pt x="974" y="254"/>
                    </a:lnTo>
                    <a:lnTo>
                      <a:pt x="1000" y="258"/>
                    </a:lnTo>
                    <a:lnTo>
                      <a:pt x="1028" y="262"/>
                    </a:lnTo>
                    <a:lnTo>
                      <a:pt x="1056" y="267"/>
                    </a:lnTo>
                    <a:lnTo>
                      <a:pt x="1084" y="274"/>
                    </a:lnTo>
                    <a:lnTo>
                      <a:pt x="1113" y="281"/>
                    </a:lnTo>
                    <a:lnTo>
                      <a:pt x="1138" y="288"/>
                    </a:lnTo>
                    <a:lnTo>
                      <a:pt x="1162" y="296"/>
                    </a:lnTo>
                    <a:lnTo>
                      <a:pt x="1182" y="305"/>
                    </a:lnTo>
                    <a:lnTo>
                      <a:pt x="1199" y="315"/>
                    </a:lnTo>
                    <a:lnTo>
                      <a:pt x="1210" y="326"/>
                    </a:lnTo>
                    <a:lnTo>
                      <a:pt x="1217" y="338"/>
                    </a:lnTo>
                    <a:lnTo>
                      <a:pt x="1222" y="360"/>
                    </a:lnTo>
                    <a:lnTo>
                      <a:pt x="1223" y="379"/>
                    </a:lnTo>
                    <a:lnTo>
                      <a:pt x="1221" y="392"/>
                    </a:lnTo>
                    <a:lnTo>
                      <a:pt x="1217" y="405"/>
                    </a:lnTo>
                    <a:lnTo>
                      <a:pt x="1212" y="413"/>
                    </a:lnTo>
                    <a:lnTo>
                      <a:pt x="1205" y="420"/>
                    </a:lnTo>
                    <a:lnTo>
                      <a:pt x="1198" y="425"/>
                    </a:lnTo>
                    <a:lnTo>
                      <a:pt x="1192" y="430"/>
                    </a:lnTo>
                    <a:lnTo>
                      <a:pt x="1198" y="452"/>
                    </a:lnTo>
                    <a:lnTo>
                      <a:pt x="1199" y="475"/>
                    </a:lnTo>
                    <a:lnTo>
                      <a:pt x="1194" y="500"/>
                    </a:lnTo>
                    <a:lnTo>
                      <a:pt x="1183" y="522"/>
                    </a:lnTo>
                    <a:lnTo>
                      <a:pt x="1168" y="538"/>
                    </a:lnTo>
                    <a:lnTo>
                      <a:pt x="1147" y="546"/>
                    </a:lnTo>
                    <a:lnTo>
                      <a:pt x="1124" y="546"/>
                    </a:lnTo>
                    <a:lnTo>
                      <a:pt x="1096" y="532"/>
                    </a:lnTo>
                    <a:lnTo>
                      <a:pt x="1088" y="532"/>
                    </a:lnTo>
                    <a:lnTo>
                      <a:pt x="1079" y="534"/>
                    </a:lnTo>
                    <a:lnTo>
                      <a:pt x="1070" y="532"/>
                    </a:lnTo>
                    <a:lnTo>
                      <a:pt x="1061" y="532"/>
                    </a:lnTo>
                    <a:lnTo>
                      <a:pt x="1051" y="531"/>
                    </a:lnTo>
                    <a:lnTo>
                      <a:pt x="1043" y="531"/>
                    </a:lnTo>
                    <a:lnTo>
                      <a:pt x="1036" y="530"/>
                    </a:lnTo>
                    <a:lnTo>
                      <a:pt x="1032" y="530"/>
                    </a:lnTo>
                    <a:lnTo>
                      <a:pt x="1030" y="517"/>
                    </a:lnTo>
                    <a:lnTo>
                      <a:pt x="1030" y="503"/>
                    </a:lnTo>
                    <a:lnTo>
                      <a:pt x="1030" y="486"/>
                    </a:lnTo>
                    <a:lnTo>
                      <a:pt x="1029" y="470"/>
                    </a:lnTo>
                    <a:lnTo>
                      <a:pt x="1026" y="454"/>
                    </a:lnTo>
                    <a:lnTo>
                      <a:pt x="1020" y="439"/>
                    </a:lnTo>
                    <a:lnTo>
                      <a:pt x="1011" y="425"/>
                    </a:lnTo>
                    <a:lnTo>
                      <a:pt x="999" y="413"/>
                    </a:lnTo>
                    <a:lnTo>
                      <a:pt x="988" y="406"/>
                    </a:lnTo>
                    <a:lnTo>
                      <a:pt x="976" y="402"/>
                    </a:lnTo>
                    <a:lnTo>
                      <a:pt x="964" y="399"/>
                    </a:lnTo>
                    <a:lnTo>
                      <a:pt x="951" y="399"/>
                    </a:lnTo>
                    <a:lnTo>
                      <a:pt x="938" y="401"/>
                    </a:lnTo>
                    <a:lnTo>
                      <a:pt x="925" y="403"/>
                    </a:lnTo>
                    <a:lnTo>
                      <a:pt x="911" y="409"/>
                    </a:lnTo>
                    <a:lnTo>
                      <a:pt x="898" y="416"/>
                    </a:lnTo>
                    <a:lnTo>
                      <a:pt x="884" y="425"/>
                    </a:lnTo>
                    <a:lnTo>
                      <a:pt x="872" y="435"/>
                    </a:lnTo>
                    <a:lnTo>
                      <a:pt x="860" y="447"/>
                    </a:lnTo>
                    <a:lnTo>
                      <a:pt x="847" y="462"/>
                    </a:lnTo>
                    <a:lnTo>
                      <a:pt x="836" y="477"/>
                    </a:lnTo>
                    <a:lnTo>
                      <a:pt x="826" y="493"/>
                    </a:lnTo>
                    <a:lnTo>
                      <a:pt x="817" y="512"/>
                    </a:lnTo>
                    <a:lnTo>
                      <a:pt x="808" y="532"/>
                    </a:lnTo>
                    <a:lnTo>
                      <a:pt x="801" y="534"/>
                    </a:lnTo>
                    <a:lnTo>
                      <a:pt x="789" y="534"/>
                    </a:lnTo>
                    <a:lnTo>
                      <a:pt x="772" y="535"/>
                    </a:lnTo>
                    <a:lnTo>
                      <a:pt x="750" y="535"/>
                    </a:lnTo>
                    <a:lnTo>
                      <a:pt x="727" y="535"/>
                    </a:lnTo>
                    <a:lnTo>
                      <a:pt x="700" y="535"/>
                    </a:lnTo>
                    <a:lnTo>
                      <a:pt x="673" y="534"/>
                    </a:lnTo>
                    <a:lnTo>
                      <a:pt x="644" y="534"/>
                    </a:lnTo>
                    <a:lnTo>
                      <a:pt x="616" y="532"/>
                    </a:lnTo>
                    <a:lnTo>
                      <a:pt x="587" y="532"/>
                    </a:lnTo>
                    <a:lnTo>
                      <a:pt x="560" y="531"/>
                    </a:lnTo>
                    <a:lnTo>
                      <a:pt x="537" y="531"/>
                    </a:lnTo>
                    <a:lnTo>
                      <a:pt x="517" y="531"/>
                    </a:lnTo>
                    <a:lnTo>
                      <a:pt x="500" y="530"/>
                    </a:lnTo>
                    <a:lnTo>
                      <a:pt x="487" y="530"/>
                    </a:lnTo>
                    <a:lnTo>
                      <a:pt x="481" y="530"/>
                    </a:lnTo>
                    <a:lnTo>
                      <a:pt x="483" y="517"/>
                    </a:lnTo>
                    <a:lnTo>
                      <a:pt x="484" y="504"/>
                    </a:lnTo>
                    <a:lnTo>
                      <a:pt x="482" y="490"/>
                    </a:lnTo>
                    <a:lnTo>
                      <a:pt x="479" y="475"/>
                    </a:lnTo>
                    <a:lnTo>
                      <a:pt x="474" y="462"/>
                    </a:lnTo>
                    <a:lnTo>
                      <a:pt x="468" y="448"/>
                    </a:lnTo>
                    <a:lnTo>
                      <a:pt x="461" y="437"/>
                    </a:lnTo>
                    <a:lnTo>
                      <a:pt x="454" y="428"/>
                    </a:lnTo>
                    <a:lnTo>
                      <a:pt x="447" y="422"/>
                    </a:lnTo>
                    <a:lnTo>
                      <a:pt x="439" y="417"/>
                    </a:lnTo>
                    <a:lnTo>
                      <a:pt x="431" y="411"/>
                    </a:lnTo>
                    <a:lnTo>
                      <a:pt x="422" y="407"/>
                    </a:lnTo>
                    <a:lnTo>
                      <a:pt x="412" y="405"/>
                    </a:lnTo>
                    <a:lnTo>
                      <a:pt x="402" y="403"/>
                    </a:lnTo>
                    <a:lnTo>
                      <a:pt x="389" y="403"/>
                    </a:lnTo>
                    <a:lnTo>
                      <a:pt x="378" y="406"/>
                    </a:lnTo>
                    <a:lnTo>
                      <a:pt x="366" y="410"/>
                    </a:lnTo>
                    <a:lnTo>
                      <a:pt x="352" y="417"/>
                    </a:lnTo>
                    <a:lnTo>
                      <a:pt x="339" y="428"/>
                    </a:lnTo>
                    <a:lnTo>
                      <a:pt x="324" y="440"/>
                    </a:lnTo>
                    <a:lnTo>
                      <a:pt x="310" y="456"/>
                    </a:lnTo>
                    <a:lnTo>
                      <a:pt x="295" y="475"/>
                    </a:lnTo>
                    <a:lnTo>
                      <a:pt x="279" y="500"/>
                    </a:lnTo>
                    <a:lnTo>
                      <a:pt x="264" y="527"/>
                    </a:lnTo>
                    <a:lnTo>
                      <a:pt x="252" y="528"/>
                    </a:lnTo>
                    <a:lnTo>
                      <a:pt x="232" y="528"/>
                    </a:lnTo>
                    <a:lnTo>
                      <a:pt x="207" y="528"/>
                    </a:lnTo>
                    <a:lnTo>
                      <a:pt x="180" y="527"/>
                    </a:lnTo>
                    <a:lnTo>
                      <a:pt x="153" y="526"/>
                    </a:lnTo>
                    <a:lnTo>
                      <a:pt x="131" y="524"/>
                    </a:lnTo>
                    <a:lnTo>
                      <a:pt x="114" y="523"/>
                    </a:lnTo>
                    <a:lnTo>
                      <a:pt x="107" y="523"/>
                    </a:lnTo>
                    <a:lnTo>
                      <a:pt x="103" y="531"/>
                    </a:lnTo>
                    <a:lnTo>
                      <a:pt x="91" y="536"/>
                    </a:lnTo>
                    <a:lnTo>
                      <a:pt x="76" y="542"/>
                    </a:lnTo>
                    <a:lnTo>
                      <a:pt x="58" y="545"/>
                    </a:lnTo>
                    <a:lnTo>
                      <a:pt x="40" y="546"/>
                    </a:lnTo>
                    <a:lnTo>
                      <a:pt x="23" y="545"/>
                    </a:lnTo>
                    <a:lnTo>
                      <a:pt x="9" y="541"/>
                    </a:lnTo>
                    <a:lnTo>
                      <a:pt x="3" y="532"/>
                    </a:lnTo>
                    <a:lnTo>
                      <a:pt x="0" y="515"/>
                    </a:lnTo>
                    <a:lnTo>
                      <a:pt x="2" y="485"/>
                    </a:lnTo>
                    <a:lnTo>
                      <a:pt x="5" y="455"/>
                    </a:lnTo>
                    <a:lnTo>
                      <a:pt x="11" y="437"/>
                    </a:lnTo>
                    <a:lnTo>
                      <a:pt x="14" y="435"/>
                    </a:lnTo>
                    <a:lnTo>
                      <a:pt x="19" y="432"/>
                    </a:lnTo>
                    <a:lnTo>
                      <a:pt x="25" y="430"/>
                    </a:lnTo>
                    <a:lnTo>
                      <a:pt x="32" y="430"/>
                    </a:lnTo>
                    <a:lnTo>
                      <a:pt x="40" y="430"/>
                    </a:lnTo>
                    <a:lnTo>
                      <a:pt x="46" y="432"/>
                    </a:lnTo>
                    <a:lnTo>
                      <a:pt x="54" y="432"/>
                    </a:lnTo>
                    <a:lnTo>
                      <a:pt x="60" y="433"/>
                    </a:lnTo>
                    <a:lnTo>
                      <a:pt x="75" y="395"/>
                    </a:lnTo>
                    <a:lnTo>
                      <a:pt x="90" y="360"/>
                    </a:lnTo>
                    <a:lnTo>
                      <a:pt x="107" y="329"/>
                    </a:lnTo>
                    <a:lnTo>
                      <a:pt x="126" y="301"/>
                    </a:lnTo>
                    <a:lnTo>
                      <a:pt x="147" y="278"/>
                    </a:lnTo>
                    <a:lnTo>
                      <a:pt x="169" y="261"/>
                    </a:lnTo>
                    <a:lnTo>
                      <a:pt x="193" y="248"/>
                    </a:lnTo>
                    <a:lnTo>
                      <a:pt x="219" y="243"/>
                    </a:lnTo>
                    <a:lnTo>
                      <a:pt x="244" y="242"/>
                    </a:lnTo>
                    <a:lnTo>
                      <a:pt x="268" y="242"/>
                    </a:lnTo>
                    <a:lnTo>
                      <a:pt x="291" y="242"/>
                    </a:lnTo>
                    <a:lnTo>
                      <a:pt x="311" y="239"/>
                    </a:lnTo>
                    <a:lnTo>
                      <a:pt x="329" y="236"/>
                    </a:lnTo>
                    <a:lnTo>
                      <a:pt x="344" y="229"/>
                    </a:lnTo>
                    <a:lnTo>
                      <a:pt x="359" y="218"/>
                    </a:lnTo>
                    <a:lnTo>
                      <a:pt x="371" y="204"/>
                    </a:lnTo>
                    <a:lnTo>
                      <a:pt x="383" y="185"/>
                    </a:lnTo>
                    <a:lnTo>
                      <a:pt x="394" y="163"/>
                    </a:lnTo>
                    <a:lnTo>
                      <a:pt x="405" y="140"/>
                    </a:lnTo>
                    <a:lnTo>
                      <a:pt x="415" y="117"/>
                    </a:lnTo>
                    <a:lnTo>
                      <a:pt x="427" y="93"/>
                    </a:lnTo>
                    <a:lnTo>
                      <a:pt x="437" y="73"/>
                    </a:lnTo>
                    <a:lnTo>
                      <a:pt x="448" y="54"/>
                    </a:lnTo>
                    <a:lnTo>
                      <a:pt x="460" y="39"/>
                    </a:lnTo>
                    <a:lnTo>
                      <a:pt x="469" y="32"/>
                    </a:lnTo>
                    <a:lnTo>
                      <a:pt x="481" y="26"/>
                    </a:lnTo>
                    <a:lnTo>
                      <a:pt x="494" y="19"/>
                    </a:lnTo>
                    <a:lnTo>
                      <a:pt x="511" y="13"/>
                    </a:lnTo>
                    <a:lnTo>
                      <a:pt x="529" y="9"/>
                    </a:lnTo>
                    <a:lnTo>
                      <a:pt x="549" y="5"/>
                    </a:lnTo>
                    <a:lnTo>
                      <a:pt x="571" y="2"/>
                    </a:lnTo>
                    <a:lnTo>
                      <a:pt x="593" y="0"/>
                    </a:lnTo>
                    <a:lnTo>
                      <a:pt x="616" y="0"/>
                    </a:lnTo>
                    <a:lnTo>
                      <a:pt x="639" y="0"/>
                    </a:lnTo>
                    <a:lnTo>
                      <a:pt x="663" y="1"/>
                    </a:lnTo>
                    <a:lnTo>
                      <a:pt x="686" y="5"/>
                    </a:lnTo>
                    <a:lnTo>
                      <a:pt x="710" y="9"/>
                    </a:lnTo>
                    <a:lnTo>
                      <a:pt x="732" y="16"/>
                    </a:lnTo>
                    <a:lnTo>
                      <a:pt x="753" y="24"/>
                    </a:lnTo>
                    <a:lnTo>
                      <a:pt x="773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 rot="19291200">
                <a:off x="3142080" y="4928760"/>
                <a:ext cx="21600" cy="50400"/>
              </a:xfrm>
              <a:custGeom>
                <a:avLst/>
                <a:gdLst/>
                <a:ahLst/>
                <a:rect l="l" t="t" r="r" b="b"/>
                <a:pathLst>
                  <a:path w="30" h="75">
                    <a:moveTo>
                      <a:pt x="10" y="75"/>
                    </a:moveTo>
                    <a:lnTo>
                      <a:pt x="16" y="74"/>
                    </a:lnTo>
                    <a:lnTo>
                      <a:pt x="21" y="67"/>
                    </a:lnTo>
                    <a:lnTo>
                      <a:pt x="26" y="56"/>
                    </a:lnTo>
                    <a:lnTo>
                      <a:pt x="29" y="42"/>
                    </a:lnTo>
                    <a:lnTo>
                      <a:pt x="30" y="28"/>
                    </a:lnTo>
                    <a:lnTo>
                      <a:pt x="28" y="15"/>
                    </a:lnTo>
                    <a:lnTo>
                      <a:pt x="25" y="6"/>
                    </a:lnTo>
                    <a:lnTo>
                      <a:pt x="20" y="0"/>
                    </a:lnTo>
                    <a:lnTo>
                      <a:pt x="15" y="2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3"/>
                    </a:lnTo>
                    <a:lnTo>
                      <a:pt x="0" y="48"/>
                    </a:lnTo>
                    <a:lnTo>
                      <a:pt x="1" y="60"/>
                    </a:lnTo>
                    <a:lnTo>
                      <a:pt x="4" y="70"/>
                    </a:lnTo>
                    <a:lnTo>
                      <a:pt x="10" y="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9291200">
                <a:off x="3824640" y="4478040"/>
                <a:ext cx="39240" cy="4500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2" y="13"/>
                    </a:moveTo>
                    <a:lnTo>
                      <a:pt x="3" y="5"/>
                    </a:lnTo>
                    <a:lnTo>
                      <a:pt x="8" y="1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8" y="2"/>
                    </a:lnTo>
                    <a:lnTo>
                      <a:pt x="37" y="4"/>
                    </a:lnTo>
                    <a:lnTo>
                      <a:pt x="45" y="5"/>
                    </a:lnTo>
                    <a:lnTo>
                      <a:pt x="53" y="4"/>
                    </a:lnTo>
                    <a:lnTo>
                      <a:pt x="53" y="16"/>
                    </a:lnTo>
                    <a:lnTo>
                      <a:pt x="54" y="28"/>
                    </a:lnTo>
                    <a:lnTo>
                      <a:pt x="54" y="40"/>
                    </a:lnTo>
                    <a:lnTo>
                      <a:pt x="53" y="54"/>
                    </a:lnTo>
                    <a:lnTo>
                      <a:pt x="48" y="59"/>
                    </a:lnTo>
                    <a:lnTo>
                      <a:pt x="43" y="65"/>
                    </a:lnTo>
                    <a:lnTo>
                      <a:pt x="36" y="66"/>
                    </a:lnTo>
                    <a:lnTo>
                      <a:pt x="28" y="68"/>
                    </a:lnTo>
                    <a:lnTo>
                      <a:pt x="21" y="68"/>
                    </a:lnTo>
                    <a:lnTo>
                      <a:pt x="15" y="68"/>
                    </a:lnTo>
                    <a:lnTo>
                      <a:pt x="9" y="65"/>
                    </a:lnTo>
                    <a:lnTo>
                      <a:pt x="5" y="63"/>
                    </a:lnTo>
                    <a:lnTo>
                      <a:pt x="1" y="55"/>
                    </a:lnTo>
                    <a:lnTo>
                      <a:pt x="0" y="42"/>
                    </a:lnTo>
                    <a:lnTo>
                      <a:pt x="1" y="27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 rot="19291200">
                <a:off x="3196080" y="4974840"/>
                <a:ext cx="53640" cy="41040"/>
              </a:xfrm>
              <a:custGeom>
                <a:avLst/>
                <a:gdLst/>
                <a:ahLst/>
                <a:rect l="l" t="t" r="r" b="b"/>
                <a:pathLst>
                  <a:path w="74" h="61">
                    <a:moveTo>
                      <a:pt x="74" y="0"/>
                    </a:moveTo>
                    <a:lnTo>
                      <a:pt x="73" y="15"/>
                    </a:lnTo>
                    <a:lnTo>
                      <a:pt x="70" y="28"/>
                    </a:lnTo>
                    <a:lnTo>
                      <a:pt x="64" y="40"/>
                    </a:lnTo>
                    <a:lnTo>
                      <a:pt x="57" y="49"/>
                    </a:lnTo>
                    <a:lnTo>
                      <a:pt x="47" y="57"/>
                    </a:lnTo>
                    <a:lnTo>
                      <a:pt x="37" y="59"/>
                    </a:lnTo>
                    <a:lnTo>
                      <a:pt x="25" y="61"/>
                    </a:lnTo>
                    <a:lnTo>
                      <a:pt x="12" y="58"/>
                    </a:lnTo>
                    <a:lnTo>
                      <a:pt x="2" y="49"/>
                    </a:lnTo>
                    <a:lnTo>
                      <a:pt x="0" y="35"/>
                    </a:lnTo>
                    <a:lnTo>
                      <a:pt x="5" y="20"/>
                    </a:lnTo>
                    <a:lnTo>
                      <a:pt x="14" y="12"/>
                    </a:lnTo>
                    <a:lnTo>
                      <a:pt x="18" y="11"/>
                    </a:lnTo>
                    <a:lnTo>
                      <a:pt x="21" y="11"/>
                    </a:lnTo>
                    <a:lnTo>
                      <a:pt x="25" y="12"/>
                    </a:lnTo>
                    <a:lnTo>
                      <a:pt x="29" y="13"/>
                    </a:lnTo>
                    <a:lnTo>
                      <a:pt x="35" y="13"/>
                    </a:lnTo>
                    <a:lnTo>
                      <a:pt x="44" y="12"/>
                    </a:lnTo>
                    <a:lnTo>
                      <a:pt x="56" y="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 rot="19291200">
                <a:off x="3296520" y="4627080"/>
                <a:ext cx="328680" cy="168480"/>
              </a:xfrm>
              <a:custGeom>
                <a:avLst/>
                <a:gdLst/>
                <a:ahLst/>
                <a:rect l="l" t="t" r="r" b="b"/>
                <a:pathLst>
                  <a:path w="452" h="254">
                    <a:moveTo>
                      <a:pt x="425" y="13"/>
                    </a:moveTo>
                    <a:lnTo>
                      <a:pt x="420" y="12"/>
                    </a:lnTo>
                    <a:lnTo>
                      <a:pt x="413" y="11"/>
                    </a:lnTo>
                    <a:lnTo>
                      <a:pt x="404" y="11"/>
                    </a:lnTo>
                    <a:lnTo>
                      <a:pt x="392" y="11"/>
                    </a:lnTo>
                    <a:lnTo>
                      <a:pt x="380" y="11"/>
                    </a:lnTo>
                    <a:lnTo>
                      <a:pt x="365" y="11"/>
                    </a:lnTo>
                    <a:lnTo>
                      <a:pt x="351" y="11"/>
                    </a:lnTo>
                    <a:lnTo>
                      <a:pt x="336" y="11"/>
                    </a:lnTo>
                    <a:lnTo>
                      <a:pt x="321" y="12"/>
                    </a:lnTo>
                    <a:lnTo>
                      <a:pt x="306" y="12"/>
                    </a:lnTo>
                    <a:lnTo>
                      <a:pt x="292" y="12"/>
                    </a:lnTo>
                    <a:lnTo>
                      <a:pt x="279" y="11"/>
                    </a:lnTo>
                    <a:lnTo>
                      <a:pt x="266" y="11"/>
                    </a:lnTo>
                    <a:lnTo>
                      <a:pt x="256" y="9"/>
                    </a:lnTo>
                    <a:lnTo>
                      <a:pt x="247" y="8"/>
                    </a:lnTo>
                    <a:lnTo>
                      <a:pt x="242" y="5"/>
                    </a:lnTo>
                    <a:lnTo>
                      <a:pt x="235" y="2"/>
                    </a:lnTo>
                    <a:lnTo>
                      <a:pt x="225" y="1"/>
                    </a:lnTo>
                    <a:lnTo>
                      <a:pt x="213" y="1"/>
                    </a:lnTo>
                    <a:lnTo>
                      <a:pt x="199" y="0"/>
                    </a:lnTo>
                    <a:lnTo>
                      <a:pt x="183" y="0"/>
                    </a:lnTo>
                    <a:lnTo>
                      <a:pt x="165" y="0"/>
                    </a:lnTo>
                    <a:lnTo>
                      <a:pt x="147" y="1"/>
                    </a:lnTo>
                    <a:lnTo>
                      <a:pt x="129" y="1"/>
                    </a:lnTo>
                    <a:lnTo>
                      <a:pt x="110" y="2"/>
                    </a:lnTo>
                    <a:lnTo>
                      <a:pt x="93" y="2"/>
                    </a:lnTo>
                    <a:lnTo>
                      <a:pt x="76" y="4"/>
                    </a:lnTo>
                    <a:lnTo>
                      <a:pt x="61" y="4"/>
                    </a:lnTo>
                    <a:lnTo>
                      <a:pt x="47" y="4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2"/>
                    </a:lnTo>
                    <a:lnTo>
                      <a:pt x="9" y="19"/>
                    </a:lnTo>
                    <a:lnTo>
                      <a:pt x="1" y="62"/>
                    </a:lnTo>
                    <a:lnTo>
                      <a:pt x="0" y="107"/>
                    </a:lnTo>
                    <a:lnTo>
                      <a:pt x="8" y="132"/>
                    </a:lnTo>
                    <a:lnTo>
                      <a:pt x="16" y="136"/>
                    </a:lnTo>
                    <a:lnTo>
                      <a:pt x="26" y="142"/>
                    </a:lnTo>
                    <a:lnTo>
                      <a:pt x="36" y="151"/>
                    </a:lnTo>
                    <a:lnTo>
                      <a:pt x="46" y="163"/>
                    </a:lnTo>
                    <a:lnTo>
                      <a:pt x="56" y="178"/>
                    </a:lnTo>
                    <a:lnTo>
                      <a:pt x="65" y="197"/>
                    </a:lnTo>
                    <a:lnTo>
                      <a:pt x="72" y="219"/>
                    </a:lnTo>
                    <a:lnTo>
                      <a:pt x="77" y="246"/>
                    </a:lnTo>
                    <a:lnTo>
                      <a:pt x="83" y="250"/>
                    </a:lnTo>
                    <a:lnTo>
                      <a:pt x="95" y="251"/>
                    </a:lnTo>
                    <a:lnTo>
                      <a:pt x="113" y="250"/>
                    </a:lnTo>
                    <a:lnTo>
                      <a:pt x="135" y="248"/>
                    </a:lnTo>
                    <a:lnTo>
                      <a:pt x="157" y="247"/>
                    </a:lnTo>
                    <a:lnTo>
                      <a:pt x="178" y="244"/>
                    </a:lnTo>
                    <a:lnTo>
                      <a:pt x="194" y="243"/>
                    </a:lnTo>
                    <a:lnTo>
                      <a:pt x="206" y="243"/>
                    </a:lnTo>
                    <a:lnTo>
                      <a:pt x="216" y="244"/>
                    </a:lnTo>
                    <a:lnTo>
                      <a:pt x="231" y="247"/>
                    </a:lnTo>
                    <a:lnTo>
                      <a:pt x="249" y="250"/>
                    </a:lnTo>
                    <a:lnTo>
                      <a:pt x="270" y="253"/>
                    </a:lnTo>
                    <a:lnTo>
                      <a:pt x="289" y="254"/>
                    </a:lnTo>
                    <a:lnTo>
                      <a:pt x="306" y="254"/>
                    </a:lnTo>
                    <a:lnTo>
                      <a:pt x="318" y="253"/>
                    </a:lnTo>
                    <a:lnTo>
                      <a:pt x="324" y="250"/>
                    </a:lnTo>
                    <a:lnTo>
                      <a:pt x="337" y="221"/>
                    </a:lnTo>
                    <a:lnTo>
                      <a:pt x="353" y="198"/>
                    </a:lnTo>
                    <a:lnTo>
                      <a:pt x="369" y="179"/>
                    </a:lnTo>
                    <a:lnTo>
                      <a:pt x="386" y="163"/>
                    </a:lnTo>
                    <a:lnTo>
                      <a:pt x="401" y="151"/>
                    </a:lnTo>
                    <a:lnTo>
                      <a:pt x="416" y="142"/>
                    </a:lnTo>
                    <a:lnTo>
                      <a:pt x="431" y="136"/>
                    </a:lnTo>
                    <a:lnTo>
                      <a:pt x="442" y="132"/>
                    </a:lnTo>
                    <a:lnTo>
                      <a:pt x="449" y="125"/>
                    </a:lnTo>
                    <a:lnTo>
                      <a:pt x="451" y="113"/>
                    </a:lnTo>
                    <a:lnTo>
                      <a:pt x="452" y="94"/>
                    </a:lnTo>
                    <a:lnTo>
                      <a:pt x="450" y="73"/>
                    </a:lnTo>
                    <a:lnTo>
                      <a:pt x="445" y="53"/>
                    </a:lnTo>
                    <a:lnTo>
                      <a:pt x="440" y="35"/>
                    </a:lnTo>
                    <a:lnTo>
                      <a:pt x="433" y="20"/>
                    </a:lnTo>
                    <a:lnTo>
                      <a:pt x="425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 rot="19291200">
                <a:off x="3249360" y="4586760"/>
                <a:ext cx="123480" cy="103680"/>
              </a:xfrm>
              <a:custGeom>
                <a:avLst/>
                <a:gdLst/>
                <a:ahLst/>
                <a:rect l="l" t="t" r="r" b="b"/>
                <a:pathLst>
                  <a:path w="171" h="155">
                    <a:moveTo>
                      <a:pt x="171" y="153"/>
                    </a:moveTo>
                    <a:lnTo>
                      <a:pt x="167" y="155"/>
                    </a:lnTo>
                    <a:lnTo>
                      <a:pt x="159" y="155"/>
                    </a:lnTo>
                    <a:lnTo>
                      <a:pt x="148" y="153"/>
                    </a:lnTo>
                    <a:lnTo>
                      <a:pt x="134" y="151"/>
                    </a:lnTo>
                    <a:lnTo>
                      <a:pt x="121" y="149"/>
                    </a:lnTo>
                    <a:lnTo>
                      <a:pt x="108" y="146"/>
                    </a:lnTo>
                    <a:lnTo>
                      <a:pt x="97" y="145"/>
                    </a:lnTo>
                    <a:lnTo>
                      <a:pt x="90" y="145"/>
                    </a:lnTo>
                    <a:lnTo>
                      <a:pt x="82" y="145"/>
                    </a:lnTo>
                    <a:lnTo>
                      <a:pt x="72" y="145"/>
                    </a:lnTo>
                    <a:lnTo>
                      <a:pt x="59" y="144"/>
                    </a:lnTo>
                    <a:lnTo>
                      <a:pt x="45" y="142"/>
                    </a:lnTo>
                    <a:lnTo>
                      <a:pt x="31" y="140"/>
                    </a:lnTo>
                    <a:lnTo>
                      <a:pt x="19" y="137"/>
                    </a:lnTo>
                    <a:lnTo>
                      <a:pt x="10" y="134"/>
                    </a:lnTo>
                    <a:lnTo>
                      <a:pt x="6" y="132"/>
                    </a:lnTo>
                    <a:lnTo>
                      <a:pt x="3" y="108"/>
                    </a:lnTo>
                    <a:lnTo>
                      <a:pt x="0" y="66"/>
                    </a:lnTo>
                    <a:lnTo>
                      <a:pt x="0" y="26"/>
                    </a:lnTo>
                    <a:lnTo>
                      <a:pt x="4" y="4"/>
                    </a:lnTo>
                    <a:lnTo>
                      <a:pt x="9" y="1"/>
                    </a:lnTo>
                    <a:lnTo>
                      <a:pt x="21" y="1"/>
                    </a:lnTo>
                    <a:lnTo>
                      <a:pt x="34" y="0"/>
                    </a:lnTo>
                    <a:lnTo>
                      <a:pt x="51" y="0"/>
                    </a:lnTo>
                    <a:lnTo>
                      <a:pt x="67" y="1"/>
                    </a:lnTo>
                    <a:lnTo>
                      <a:pt x="81" y="2"/>
                    </a:lnTo>
                    <a:lnTo>
                      <a:pt x="93" y="4"/>
                    </a:lnTo>
                    <a:lnTo>
                      <a:pt x="98" y="5"/>
                    </a:lnTo>
                    <a:lnTo>
                      <a:pt x="104" y="12"/>
                    </a:lnTo>
                    <a:lnTo>
                      <a:pt x="114" y="28"/>
                    </a:lnTo>
                    <a:lnTo>
                      <a:pt x="127" y="50"/>
                    </a:lnTo>
                    <a:lnTo>
                      <a:pt x="141" y="76"/>
                    </a:lnTo>
                    <a:lnTo>
                      <a:pt x="153" y="102"/>
                    </a:lnTo>
                    <a:lnTo>
                      <a:pt x="165" y="126"/>
                    </a:lnTo>
                    <a:lnTo>
                      <a:pt x="170" y="144"/>
                    </a:lnTo>
                    <a:lnTo>
                      <a:pt x="171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 rot="19291200">
                <a:off x="3371400" y="449424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w="179" h="129">
                    <a:moveTo>
                      <a:pt x="170" y="2"/>
                    </a:moveTo>
                    <a:lnTo>
                      <a:pt x="175" y="21"/>
                    </a:lnTo>
                    <a:lnTo>
                      <a:pt x="177" y="58"/>
                    </a:lnTo>
                    <a:lnTo>
                      <a:pt x="177" y="95"/>
                    </a:lnTo>
                    <a:lnTo>
                      <a:pt x="179" y="118"/>
                    </a:lnTo>
                    <a:lnTo>
                      <a:pt x="178" y="121"/>
                    </a:lnTo>
                    <a:lnTo>
                      <a:pt x="172" y="123"/>
                    </a:lnTo>
                    <a:lnTo>
                      <a:pt x="165" y="125"/>
                    </a:lnTo>
                    <a:lnTo>
                      <a:pt x="153" y="126"/>
                    </a:lnTo>
                    <a:lnTo>
                      <a:pt x="140" y="127"/>
                    </a:lnTo>
                    <a:lnTo>
                      <a:pt x="125" y="129"/>
                    </a:lnTo>
                    <a:lnTo>
                      <a:pt x="109" y="129"/>
                    </a:lnTo>
                    <a:lnTo>
                      <a:pt x="93" y="129"/>
                    </a:lnTo>
                    <a:lnTo>
                      <a:pt x="76" y="129"/>
                    </a:lnTo>
                    <a:lnTo>
                      <a:pt x="59" y="129"/>
                    </a:lnTo>
                    <a:lnTo>
                      <a:pt x="44" y="127"/>
                    </a:lnTo>
                    <a:lnTo>
                      <a:pt x="31" y="126"/>
                    </a:lnTo>
                    <a:lnTo>
                      <a:pt x="18" y="125"/>
                    </a:lnTo>
                    <a:lnTo>
                      <a:pt x="9" y="123"/>
                    </a:lnTo>
                    <a:lnTo>
                      <a:pt x="3" y="121"/>
                    </a:lnTo>
                    <a:lnTo>
                      <a:pt x="0" y="118"/>
                    </a:lnTo>
                    <a:lnTo>
                      <a:pt x="1" y="110"/>
                    </a:lnTo>
                    <a:lnTo>
                      <a:pt x="7" y="95"/>
                    </a:lnTo>
                    <a:lnTo>
                      <a:pt x="15" y="76"/>
                    </a:lnTo>
                    <a:lnTo>
                      <a:pt x="26" y="55"/>
                    </a:lnTo>
                    <a:lnTo>
                      <a:pt x="37" y="36"/>
                    </a:lnTo>
                    <a:lnTo>
                      <a:pt x="51" y="20"/>
                    </a:lnTo>
                    <a:lnTo>
                      <a:pt x="63" y="8"/>
                    </a:lnTo>
                    <a:lnTo>
                      <a:pt x="75" y="4"/>
                    </a:lnTo>
                    <a:lnTo>
                      <a:pt x="87" y="4"/>
                    </a:lnTo>
                    <a:lnTo>
                      <a:pt x="100" y="2"/>
                    </a:lnTo>
                    <a:lnTo>
                      <a:pt x="115" y="1"/>
                    </a:lnTo>
                    <a:lnTo>
                      <a:pt x="130" y="0"/>
                    </a:lnTo>
                    <a:lnTo>
                      <a:pt x="143" y="0"/>
                    </a:lnTo>
                    <a:lnTo>
                      <a:pt x="156" y="0"/>
                    </a:lnTo>
                    <a:lnTo>
                      <a:pt x="165" y="0"/>
                    </a:lnTo>
                    <a:lnTo>
                      <a:pt x="17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 rot="19291200">
                <a:off x="3407040" y="4642200"/>
                <a:ext cx="113040" cy="123120"/>
              </a:xfrm>
              <a:custGeom>
                <a:avLst/>
                <a:gdLst/>
                <a:ahLst/>
                <a:rect l="l" t="t" r="r" b="b"/>
                <a:pathLst>
                  <a:path w="155" h="186">
                    <a:moveTo>
                      <a:pt x="90" y="186"/>
                    </a:moveTo>
                    <a:lnTo>
                      <a:pt x="86" y="179"/>
                    </a:lnTo>
                    <a:lnTo>
                      <a:pt x="79" y="174"/>
                    </a:lnTo>
                    <a:lnTo>
                      <a:pt x="70" y="170"/>
                    </a:lnTo>
                    <a:lnTo>
                      <a:pt x="61" y="166"/>
                    </a:lnTo>
                    <a:lnTo>
                      <a:pt x="51" y="163"/>
                    </a:lnTo>
                    <a:lnTo>
                      <a:pt x="42" y="160"/>
                    </a:lnTo>
                    <a:lnTo>
                      <a:pt x="35" y="159"/>
                    </a:lnTo>
                    <a:lnTo>
                      <a:pt x="29" y="159"/>
                    </a:lnTo>
                    <a:lnTo>
                      <a:pt x="19" y="153"/>
                    </a:lnTo>
                    <a:lnTo>
                      <a:pt x="13" y="139"/>
                    </a:lnTo>
                    <a:lnTo>
                      <a:pt x="10" y="120"/>
                    </a:lnTo>
                    <a:lnTo>
                      <a:pt x="16" y="103"/>
                    </a:lnTo>
                    <a:lnTo>
                      <a:pt x="20" y="92"/>
                    </a:lnTo>
                    <a:lnTo>
                      <a:pt x="22" y="80"/>
                    </a:lnTo>
                    <a:lnTo>
                      <a:pt x="16" y="64"/>
                    </a:lnTo>
                    <a:lnTo>
                      <a:pt x="0" y="46"/>
                    </a:lnTo>
                    <a:lnTo>
                      <a:pt x="1" y="39"/>
                    </a:lnTo>
                    <a:lnTo>
                      <a:pt x="10" y="28"/>
                    </a:lnTo>
                    <a:lnTo>
                      <a:pt x="20" y="19"/>
                    </a:lnTo>
                    <a:lnTo>
                      <a:pt x="26" y="16"/>
                    </a:lnTo>
                    <a:lnTo>
                      <a:pt x="34" y="23"/>
                    </a:lnTo>
                    <a:lnTo>
                      <a:pt x="42" y="26"/>
                    </a:lnTo>
                    <a:lnTo>
                      <a:pt x="50" y="27"/>
                    </a:lnTo>
                    <a:lnTo>
                      <a:pt x="58" y="24"/>
                    </a:lnTo>
                    <a:lnTo>
                      <a:pt x="63" y="22"/>
                    </a:lnTo>
                    <a:lnTo>
                      <a:pt x="69" y="18"/>
                    </a:lnTo>
                    <a:lnTo>
                      <a:pt x="72" y="12"/>
                    </a:lnTo>
                    <a:lnTo>
                      <a:pt x="73" y="8"/>
                    </a:lnTo>
                    <a:lnTo>
                      <a:pt x="75" y="1"/>
                    </a:lnTo>
                    <a:lnTo>
                      <a:pt x="80" y="0"/>
                    </a:lnTo>
                    <a:lnTo>
                      <a:pt x="84" y="1"/>
                    </a:lnTo>
                    <a:lnTo>
                      <a:pt x="87" y="8"/>
                    </a:lnTo>
                    <a:lnTo>
                      <a:pt x="88" y="12"/>
                    </a:lnTo>
                    <a:lnTo>
                      <a:pt x="91" y="18"/>
                    </a:lnTo>
                    <a:lnTo>
                      <a:pt x="96" y="22"/>
                    </a:lnTo>
                    <a:lnTo>
                      <a:pt x="101" y="26"/>
                    </a:lnTo>
                    <a:lnTo>
                      <a:pt x="108" y="28"/>
                    </a:lnTo>
                    <a:lnTo>
                      <a:pt x="116" y="28"/>
                    </a:lnTo>
                    <a:lnTo>
                      <a:pt x="125" y="26"/>
                    </a:lnTo>
                    <a:lnTo>
                      <a:pt x="134" y="19"/>
                    </a:lnTo>
                    <a:lnTo>
                      <a:pt x="140" y="22"/>
                    </a:lnTo>
                    <a:lnTo>
                      <a:pt x="147" y="31"/>
                    </a:lnTo>
                    <a:lnTo>
                      <a:pt x="154" y="43"/>
                    </a:lnTo>
                    <a:lnTo>
                      <a:pt x="155" y="52"/>
                    </a:lnTo>
                    <a:lnTo>
                      <a:pt x="145" y="67"/>
                    </a:lnTo>
                    <a:lnTo>
                      <a:pt x="142" y="81"/>
                    </a:lnTo>
                    <a:lnTo>
                      <a:pt x="143" y="95"/>
                    </a:lnTo>
                    <a:lnTo>
                      <a:pt x="147" y="105"/>
                    </a:lnTo>
                    <a:lnTo>
                      <a:pt x="152" y="117"/>
                    </a:lnTo>
                    <a:lnTo>
                      <a:pt x="152" y="136"/>
                    </a:lnTo>
                    <a:lnTo>
                      <a:pt x="145" y="153"/>
                    </a:lnTo>
                    <a:lnTo>
                      <a:pt x="129" y="162"/>
                    </a:lnTo>
                    <a:lnTo>
                      <a:pt x="123" y="162"/>
                    </a:lnTo>
                    <a:lnTo>
                      <a:pt x="116" y="163"/>
                    </a:lnTo>
                    <a:lnTo>
                      <a:pt x="110" y="164"/>
                    </a:lnTo>
                    <a:lnTo>
                      <a:pt x="105" y="167"/>
                    </a:lnTo>
                    <a:lnTo>
                      <a:pt x="99" y="171"/>
                    </a:lnTo>
                    <a:lnTo>
                      <a:pt x="96" y="175"/>
                    </a:lnTo>
                    <a:lnTo>
                      <a:pt x="92" y="179"/>
                    </a:lnTo>
                    <a:lnTo>
                      <a:pt x="90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 rot="19291200">
                <a:off x="3422520" y="4659840"/>
                <a:ext cx="79920" cy="8604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63" y="130"/>
                    </a:moveTo>
                    <a:lnTo>
                      <a:pt x="59" y="126"/>
                    </a:lnTo>
                    <a:lnTo>
                      <a:pt x="55" y="122"/>
                    </a:lnTo>
                    <a:lnTo>
                      <a:pt x="49" y="119"/>
                    </a:lnTo>
                    <a:lnTo>
                      <a:pt x="43" y="117"/>
                    </a:lnTo>
                    <a:lnTo>
                      <a:pt x="36" y="114"/>
                    </a:lnTo>
                    <a:lnTo>
                      <a:pt x="29" y="113"/>
                    </a:lnTo>
                    <a:lnTo>
                      <a:pt x="25" y="111"/>
                    </a:lnTo>
                    <a:lnTo>
                      <a:pt x="21" y="111"/>
                    </a:lnTo>
                    <a:lnTo>
                      <a:pt x="13" y="107"/>
                    </a:lnTo>
                    <a:lnTo>
                      <a:pt x="9" y="96"/>
                    </a:lnTo>
                    <a:lnTo>
                      <a:pt x="8" y="84"/>
                    </a:lnTo>
                    <a:lnTo>
                      <a:pt x="11" y="73"/>
                    </a:lnTo>
                    <a:lnTo>
                      <a:pt x="15" y="65"/>
                    </a:lnTo>
                    <a:lnTo>
                      <a:pt x="16" y="57"/>
                    </a:lnTo>
                    <a:lnTo>
                      <a:pt x="11" y="46"/>
                    </a:lnTo>
                    <a:lnTo>
                      <a:pt x="0" y="34"/>
                    </a:lnTo>
                    <a:lnTo>
                      <a:pt x="1" y="28"/>
                    </a:lnTo>
                    <a:lnTo>
                      <a:pt x="7" y="20"/>
                    </a:lnTo>
                    <a:lnTo>
                      <a:pt x="15" y="13"/>
                    </a:lnTo>
                    <a:lnTo>
                      <a:pt x="19" y="12"/>
                    </a:lnTo>
                    <a:lnTo>
                      <a:pt x="30" y="19"/>
                    </a:lnTo>
                    <a:lnTo>
                      <a:pt x="40" y="17"/>
                    </a:lnTo>
                    <a:lnTo>
                      <a:pt x="48" y="13"/>
                    </a:lnTo>
                    <a:lnTo>
                      <a:pt x="52" y="7"/>
                    </a:lnTo>
                    <a:lnTo>
                      <a:pt x="53" y="2"/>
                    </a:lnTo>
                    <a:lnTo>
                      <a:pt x="56" y="0"/>
                    </a:lnTo>
                    <a:lnTo>
                      <a:pt x="58" y="2"/>
                    </a:lnTo>
                    <a:lnTo>
                      <a:pt x="61" y="7"/>
                    </a:lnTo>
                    <a:lnTo>
                      <a:pt x="62" y="9"/>
                    </a:lnTo>
                    <a:lnTo>
                      <a:pt x="64" y="13"/>
                    </a:lnTo>
                    <a:lnTo>
                      <a:pt x="67" y="16"/>
                    </a:lnTo>
                    <a:lnTo>
                      <a:pt x="71" y="19"/>
                    </a:lnTo>
                    <a:lnTo>
                      <a:pt x="76" y="20"/>
                    </a:lnTo>
                    <a:lnTo>
                      <a:pt x="82" y="20"/>
                    </a:lnTo>
                    <a:lnTo>
                      <a:pt x="88" y="17"/>
                    </a:lnTo>
                    <a:lnTo>
                      <a:pt x="94" y="13"/>
                    </a:lnTo>
                    <a:lnTo>
                      <a:pt x="98" y="16"/>
                    </a:lnTo>
                    <a:lnTo>
                      <a:pt x="103" y="23"/>
                    </a:lnTo>
                    <a:lnTo>
                      <a:pt x="109" y="31"/>
                    </a:lnTo>
                    <a:lnTo>
                      <a:pt x="109" y="36"/>
                    </a:lnTo>
                    <a:lnTo>
                      <a:pt x="102" y="47"/>
                    </a:lnTo>
                    <a:lnTo>
                      <a:pt x="99" y="58"/>
                    </a:lnTo>
                    <a:lnTo>
                      <a:pt x="100" y="68"/>
                    </a:lnTo>
                    <a:lnTo>
                      <a:pt x="103" y="74"/>
                    </a:lnTo>
                    <a:lnTo>
                      <a:pt x="107" y="83"/>
                    </a:lnTo>
                    <a:lnTo>
                      <a:pt x="107" y="96"/>
                    </a:lnTo>
                    <a:lnTo>
                      <a:pt x="102" y="108"/>
                    </a:lnTo>
                    <a:lnTo>
                      <a:pt x="91" y="114"/>
                    </a:lnTo>
                    <a:lnTo>
                      <a:pt x="81" y="115"/>
                    </a:lnTo>
                    <a:lnTo>
                      <a:pt x="73" y="118"/>
                    </a:lnTo>
                    <a:lnTo>
                      <a:pt x="66" y="122"/>
                    </a:lnTo>
                    <a:lnTo>
                      <a:pt x="63" y="1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5432400" y="5094360"/>
              <a:ext cx="283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 Travel Assistant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AB, PDA, laptop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SM, cdmaOne, WLAN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luetooth, 1x EV-DO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73160" y="3652560"/>
              <a:ext cx="39240" cy="5400"/>
            </a:xfrm>
            <a:custGeom>
              <a:avLst/>
              <a:gdLst/>
              <a:ahLst/>
              <a:rect l="l" t="t" r="r" b="b"/>
              <a:pathLst>
                <a:path w="209" h="83">
                  <a:moveTo>
                    <a:pt x="0" y="67"/>
                  </a:moveTo>
                  <a:lnTo>
                    <a:pt x="201" y="0"/>
                  </a:lnTo>
                  <a:lnTo>
                    <a:pt x="209" y="17"/>
                  </a:lnTo>
                  <a:lnTo>
                    <a:pt x="8" y="83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618240" y="3374640"/>
              <a:ext cx="1748520" cy="1528560"/>
            </a:xfrm>
            <a:prstGeom prst="wedgeEllipseCallout">
              <a:avLst>
                <a:gd name="adj1" fmla="val -88666"/>
                <a:gd name="adj2" fmla="val -20199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467840" y="3874680"/>
              <a:ext cx="39240" cy="972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46" y="0"/>
                  </a:moveTo>
                  <a:lnTo>
                    <a:pt x="81" y="76"/>
                  </a:lnTo>
                  <a:lnTo>
                    <a:pt x="83" y="85"/>
                  </a:lnTo>
                  <a:lnTo>
                    <a:pt x="81" y="94"/>
                  </a:lnTo>
                  <a:lnTo>
                    <a:pt x="76" y="100"/>
                  </a:lnTo>
                  <a:lnTo>
                    <a:pt x="67" y="104"/>
                  </a:lnTo>
                  <a:lnTo>
                    <a:pt x="58" y="106"/>
                  </a:lnTo>
                  <a:lnTo>
                    <a:pt x="50" y="104"/>
                  </a:lnTo>
                  <a:lnTo>
                    <a:pt x="42" y="100"/>
                  </a:lnTo>
                  <a:lnTo>
                    <a:pt x="35" y="91"/>
                  </a:lnTo>
                  <a:lnTo>
                    <a:pt x="0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451640" y="3850920"/>
              <a:ext cx="39240" cy="25200"/>
            </a:xfrm>
            <a:custGeom>
              <a:avLst/>
              <a:gdLst/>
              <a:ahLst/>
              <a:rect l="l" t="t" r="r" b="b"/>
              <a:pathLst>
                <a:path w="297" h="315">
                  <a:moveTo>
                    <a:pt x="249" y="313"/>
                  </a:moveTo>
                  <a:lnTo>
                    <a:pt x="264" y="303"/>
                  </a:lnTo>
                  <a:lnTo>
                    <a:pt x="278" y="283"/>
                  </a:lnTo>
                  <a:lnTo>
                    <a:pt x="288" y="253"/>
                  </a:lnTo>
                  <a:lnTo>
                    <a:pt x="295" y="215"/>
                  </a:lnTo>
                  <a:lnTo>
                    <a:pt x="297" y="171"/>
                  </a:lnTo>
                  <a:lnTo>
                    <a:pt x="291" y="119"/>
                  </a:lnTo>
                  <a:lnTo>
                    <a:pt x="277" y="61"/>
                  </a:lnTo>
                  <a:lnTo>
                    <a:pt x="253" y="0"/>
                  </a:lnTo>
                  <a:lnTo>
                    <a:pt x="238" y="5"/>
                  </a:lnTo>
                  <a:lnTo>
                    <a:pt x="221" y="10"/>
                  </a:lnTo>
                  <a:lnTo>
                    <a:pt x="206" y="17"/>
                  </a:lnTo>
                  <a:lnTo>
                    <a:pt x="190" y="22"/>
                  </a:lnTo>
                  <a:lnTo>
                    <a:pt x="174" y="28"/>
                  </a:lnTo>
                  <a:lnTo>
                    <a:pt x="158" y="33"/>
                  </a:lnTo>
                  <a:lnTo>
                    <a:pt x="142" y="39"/>
                  </a:lnTo>
                  <a:lnTo>
                    <a:pt x="126" y="45"/>
                  </a:lnTo>
                  <a:lnTo>
                    <a:pt x="111" y="51"/>
                  </a:lnTo>
                  <a:lnTo>
                    <a:pt x="95" y="57"/>
                  </a:lnTo>
                  <a:lnTo>
                    <a:pt x="79" y="62"/>
                  </a:lnTo>
                  <a:lnTo>
                    <a:pt x="64" y="69"/>
                  </a:lnTo>
                  <a:lnTo>
                    <a:pt x="47" y="74"/>
                  </a:lnTo>
                  <a:lnTo>
                    <a:pt x="32" y="80"/>
                  </a:lnTo>
                  <a:lnTo>
                    <a:pt x="15" y="85"/>
                  </a:lnTo>
                  <a:lnTo>
                    <a:pt x="0" y="91"/>
                  </a:lnTo>
                  <a:lnTo>
                    <a:pt x="15" y="121"/>
                  </a:lnTo>
                  <a:lnTo>
                    <a:pt x="31" y="150"/>
                  </a:lnTo>
                  <a:lnTo>
                    <a:pt x="48" y="175"/>
                  </a:lnTo>
                  <a:lnTo>
                    <a:pt x="66" y="199"/>
                  </a:lnTo>
                  <a:lnTo>
                    <a:pt x="83" y="220"/>
                  </a:lnTo>
                  <a:lnTo>
                    <a:pt x="102" y="239"/>
                  </a:lnTo>
                  <a:lnTo>
                    <a:pt x="120" y="256"/>
                  </a:lnTo>
                  <a:lnTo>
                    <a:pt x="138" y="271"/>
                  </a:lnTo>
                  <a:lnTo>
                    <a:pt x="155" y="283"/>
                  </a:lnTo>
                  <a:lnTo>
                    <a:pt x="173" y="294"/>
                  </a:lnTo>
                  <a:lnTo>
                    <a:pt x="188" y="302"/>
                  </a:lnTo>
                  <a:lnTo>
                    <a:pt x="204" y="308"/>
                  </a:lnTo>
                  <a:lnTo>
                    <a:pt x="217" y="312"/>
                  </a:lnTo>
                  <a:lnTo>
                    <a:pt x="230" y="314"/>
                  </a:lnTo>
                  <a:lnTo>
                    <a:pt x="241" y="315"/>
                  </a:lnTo>
                  <a:lnTo>
                    <a:pt x="249" y="313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73160" y="3654000"/>
              <a:ext cx="97560" cy="203760"/>
            </a:xfrm>
            <a:custGeom>
              <a:avLst/>
              <a:gdLst/>
              <a:ahLst/>
              <a:rect l="l" t="t" r="r" b="b"/>
              <a:pathLst>
                <a:path w="1327" h="2475">
                  <a:moveTo>
                    <a:pt x="200" y="0"/>
                  </a:moveTo>
                  <a:lnTo>
                    <a:pt x="0" y="65"/>
                  </a:lnTo>
                  <a:lnTo>
                    <a:pt x="1075" y="2475"/>
                  </a:lnTo>
                  <a:lnTo>
                    <a:pt x="1327" y="2391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369920" y="3642840"/>
              <a:ext cx="39240" cy="13680"/>
            </a:xfrm>
            <a:custGeom>
              <a:avLst/>
              <a:gdLst/>
              <a:ahLst/>
              <a:rect l="l" t="t" r="r" b="b"/>
              <a:pathLst>
                <a:path w="237" h="176">
                  <a:moveTo>
                    <a:pt x="237" y="109"/>
                  </a:moveTo>
                  <a:lnTo>
                    <a:pt x="36" y="176"/>
                  </a:lnTo>
                  <a:lnTo>
                    <a:pt x="0" y="96"/>
                  </a:lnTo>
                  <a:lnTo>
                    <a:pt x="72" y="0"/>
                  </a:lnTo>
                  <a:lnTo>
                    <a:pt x="201" y="29"/>
                  </a:lnTo>
                  <a:lnTo>
                    <a:pt x="237" y="109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387560" y="3364920"/>
              <a:ext cx="336600" cy="295560"/>
            </a:xfrm>
            <a:custGeom>
              <a:avLst/>
              <a:gdLst/>
              <a:ahLst/>
              <a:rect l="l" t="t" r="r" b="b"/>
              <a:pathLst>
                <a:path w="4618" h="3596">
                  <a:moveTo>
                    <a:pt x="0" y="1605"/>
                  </a:moveTo>
                  <a:lnTo>
                    <a:pt x="3689" y="0"/>
                  </a:lnTo>
                  <a:lnTo>
                    <a:pt x="4618" y="1973"/>
                  </a:lnTo>
                  <a:lnTo>
                    <a:pt x="883" y="3596"/>
                  </a:lnTo>
                  <a:lnTo>
                    <a:pt x="0" y="1605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358400" y="3278160"/>
              <a:ext cx="438480" cy="579600"/>
            </a:xfrm>
            <a:custGeom>
              <a:avLst/>
              <a:gdLst/>
              <a:ahLst/>
              <a:rect l="l" t="t" r="r" b="b"/>
              <a:pathLst>
                <a:path w="6019" h="6978">
                  <a:moveTo>
                    <a:pt x="2522" y="6969"/>
                  </a:moveTo>
                  <a:lnTo>
                    <a:pt x="5955" y="5365"/>
                  </a:lnTo>
                  <a:lnTo>
                    <a:pt x="5974" y="5354"/>
                  </a:lnTo>
                  <a:lnTo>
                    <a:pt x="5989" y="5339"/>
                  </a:lnTo>
                  <a:lnTo>
                    <a:pt x="6003" y="5321"/>
                  </a:lnTo>
                  <a:lnTo>
                    <a:pt x="6012" y="5302"/>
                  </a:lnTo>
                  <a:lnTo>
                    <a:pt x="6017" y="5281"/>
                  </a:lnTo>
                  <a:lnTo>
                    <a:pt x="6019" y="5259"/>
                  </a:lnTo>
                  <a:lnTo>
                    <a:pt x="6017" y="5237"/>
                  </a:lnTo>
                  <a:lnTo>
                    <a:pt x="6010" y="5216"/>
                  </a:lnTo>
                  <a:lnTo>
                    <a:pt x="3539" y="63"/>
                  </a:lnTo>
                  <a:lnTo>
                    <a:pt x="3528" y="46"/>
                  </a:lnTo>
                  <a:lnTo>
                    <a:pt x="3513" y="30"/>
                  </a:lnTo>
                  <a:lnTo>
                    <a:pt x="3496" y="17"/>
                  </a:lnTo>
                  <a:lnTo>
                    <a:pt x="3476" y="8"/>
                  </a:lnTo>
                  <a:lnTo>
                    <a:pt x="3456" y="2"/>
                  </a:lnTo>
                  <a:lnTo>
                    <a:pt x="3434" y="0"/>
                  </a:lnTo>
                  <a:lnTo>
                    <a:pt x="3412" y="2"/>
                  </a:lnTo>
                  <a:lnTo>
                    <a:pt x="3392" y="8"/>
                  </a:lnTo>
                  <a:lnTo>
                    <a:pt x="64" y="1468"/>
                  </a:lnTo>
                  <a:lnTo>
                    <a:pt x="45" y="1478"/>
                  </a:lnTo>
                  <a:lnTo>
                    <a:pt x="30" y="1493"/>
                  </a:lnTo>
                  <a:lnTo>
                    <a:pt x="16" y="1511"/>
                  </a:lnTo>
                  <a:lnTo>
                    <a:pt x="7" y="1530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3" y="1595"/>
                  </a:lnTo>
                  <a:lnTo>
                    <a:pt x="9" y="1616"/>
                  </a:lnTo>
                  <a:lnTo>
                    <a:pt x="2374" y="6912"/>
                  </a:lnTo>
                  <a:lnTo>
                    <a:pt x="2386" y="6931"/>
                  </a:lnTo>
                  <a:lnTo>
                    <a:pt x="2400" y="6947"/>
                  </a:lnTo>
                  <a:lnTo>
                    <a:pt x="2418" y="6960"/>
                  </a:lnTo>
                  <a:lnTo>
                    <a:pt x="2437" y="6970"/>
                  </a:lnTo>
                  <a:lnTo>
                    <a:pt x="2458" y="6976"/>
                  </a:lnTo>
                  <a:lnTo>
                    <a:pt x="2480" y="6978"/>
                  </a:lnTo>
                  <a:lnTo>
                    <a:pt x="2501" y="6976"/>
                  </a:lnTo>
                  <a:lnTo>
                    <a:pt x="2522" y="6969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55760" y="3353760"/>
              <a:ext cx="82800" cy="177120"/>
            </a:xfrm>
            <a:custGeom>
              <a:avLst/>
              <a:gdLst/>
              <a:ahLst/>
              <a:rect l="l" t="t" r="r" b="b"/>
              <a:pathLst>
                <a:path w="1145" h="2153">
                  <a:moveTo>
                    <a:pt x="927" y="2101"/>
                  </a:moveTo>
                  <a:lnTo>
                    <a:pt x="0" y="130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8" y="29"/>
                  </a:lnTo>
                  <a:lnTo>
                    <a:pt x="145" y="43"/>
                  </a:lnTo>
                  <a:lnTo>
                    <a:pt x="182" y="60"/>
                  </a:lnTo>
                  <a:lnTo>
                    <a:pt x="219" y="78"/>
                  </a:lnTo>
                  <a:lnTo>
                    <a:pt x="255" y="95"/>
                  </a:lnTo>
                  <a:lnTo>
                    <a:pt x="291" y="115"/>
                  </a:lnTo>
                  <a:lnTo>
                    <a:pt x="327" y="135"/>
                  </a:lnTo>
                  <a:lnTo>
                    <a:pt x="362" y="157"/>
                  </a:lnTo>
                  <a:lnTo>
                    <a:pt x="397" y="179"/>
                  </a:lnTo>
                  <a:lnTo>
                    <a:pt x="432" y="201"/>
                  </a:lnTo>
                  <a:lnTo>
                    <a:pt x="466" y="225"/>
                  </a:lnTo>
                  <a:lnTo>
                    <a:pt x="500" y="249"/>
                  </a:lnTo>
                  <a:lnTo>
                    <a:pt x="533" y="275"/>
                  </a:lnTo>
                  <a:lnTo>
                    <a:pt x="566" y="301"/>
                  </a:lnTo>
                  <a:lnTo>
                    <a:pt x="598" y="328"/>
                  </a:lnTo>
                  <a:lnTo>
                    <a:pt x="630" y="357"/>
                  </a:lnTo>
                  <a:lnTo>
                    <a:pt x="661" y="385"/>
                  </a:lnTo>
                  <a:lnTo>
                    <a:pt x="691" y="414"/>
                  </a:lnTo>
                  <a:lnTo>
                    <a:pt x="721" y="444"/>
                  </a:lnTo>
                  <a:lnTo>
                    <a:pt x="750" y="475"/>
                  </a:lnTo>
                  <a:lnTo>
                    <a:pt x="777" y="507"/>
                  </a:lnTo>
                  <a:lnTo>
                    <a:pt x="804" y="539"/>
                  </a:lnTo>
                  <a:lnTo>
                    <a:pt x="831" y="571"/>
                  </a:lnTo>
                  <a:lnTo>
                    <a:pt x="856" y="604"/>
                  </a:lnTo>
                  <a:lnTo>
                    <a:pt x="881" y="639"/>
                  </a:lnTo>
                  <a:lnTo>
                    <a:pt x="904" y="673"/>
                  </a:lnTo>
                  <a:lnTo>
                    <a:pt x="927" y="709"/>
                  </a:lnTo>
                  <a:lnTo>
                    <a:pt x="949" y="745"/>
                  </a:lnTo>
                  <a:lnTo>
                    <a:pt x="969" y="781"/>
                  </a:lnTo>
                  <a:lnTo>
                    <a:pt x="989" y="818"/>
                  </a:lnTo>
                  <a:lnTo>
                    <a:pt x="1007" y="855"/>
                  </a:lnTo>
                  <a:lnTo>
                    <a:pt x="1037" y="926"/>
                  </a:lnTo>
                  <a:lnTo>
                    <a:pt x="1064" y="1002"/>
                  </a:lnTo>
                  <a:lnTo>
                    <a:pt x="1087" y="1082"/>
                  </a:lnTo>
                  <a:lnTo>
                    <a:pt x="1106" y="1166"/>
                  </a:lnTo>
                  <a:lnTo>
                    <a:pt x="1122" y="1251"/>
                  </a:lnTo>
                  <a:lnTo>
                    <a:pt x="1133" y="1339"/>
                  </a:lnTo>
                  <a:lnTo>
                    <a:pt x="1141" y="1428"/>
                  </a:lnTo>
                  <a:lnTo>
                    <a:pt x="1145" y="1518"/>
                  </a:lnTo>
                  <a:lnTo>
                    <a:pt x="1145" y="1606"/>
                  </a:lnTo>
                  <a:lnTo>
                    <a:pt x="1142" y="1695"/>
                  </a:lnTo>
                  <a:lnTo>
                    <a:pt x="1134" y="1780"/>
                  </a:lnTo>
                  <a:lnTo>
                    <a:pt x="1123" y="1863"/>
                  </a:lnTo>
                  <a:lnTo>
                    <a:pt x="1107" y="1942"/>
                  </a:lnTo>
                  <a:lnTo>
                    <a:pt x="1088" y="2018"/>
                  </a:lnTo>
                  <a:lnTo>
                    <a:pt x="1064" y="2089"/>
                  </a:lnTo>
                  <a:lnTo>
                    <a:pt x="1036" y="2153"/>
                  </a:lnTo>
                  <a:lnTo>
                    <a:pt x="927" y="2101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346880" y="3332520"/>
              <a:ext cx="336600" cy="297360"/>
            </a:xfrm>
            <a:custGeom>
              <a:avLst/>
              <a:gdLst/>
              <a:ahLst/>
              <a:rect l="l" t="t" r="r" b="b"/>
              <a:pathLst>
                <a:path w="4617" h="3596">
                  <a:moveTo>
                    <a:pt x="0" y="1605"/>
                  </a:moveTo>
                  <a:lnTo>
                    <a:pt x="3689" y="0"/>
                  </a:lnTo>
                  <a:lnTo>
                    <a:pt x="4617" y="1973"/>
                  </a:lnTo>
                  <a:lnTo>
                    <a:pt x="882" y="3596"/>
                  </a:lnTo>
                  <a:lnTo>
                    <a:pt x="0" y="160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317720" y="3247560"/>
              <a:ext cx="438480" cy="578160"/>
            </a:xfrm>
            <a:custGeom>
              <a:avLst/>
              <a:gdLst/>
              <a:ahLst/>
              <a:rect l="l" t="t" r="r" b="b"/>
              <a:pathLst>
                <a:path w="6019" h="6978">
                  <a:moveTo>
                    <a:pt x="2523" y="6969"/>
                  </a:moveTo>
                  <a:lnTo>
                    <a:pt x="5955" y="5365"/>
                  </a:lnTo>
                  <a:lnTo>
                    <a:pt x="5974" y="5354"/>
                  </a:lnTo>
                  <a:lnTo>
                    <a:pt x="5989" y="5339"/>
                  </a:lnTo>
                  <a:lnTo>
                    <a:pt x="6003" y="5322"/>
                  </a:lnTo>
                  <a:lnTo>
                    <a:pt x="6012" y="5302"/>
                  </a:lnTo>
                  <a:lnTo>
                    <a:pt x="6017" y="5281"/>
                  </a:lnTo>
                  <a:lnTo>
                    <a:pt x="6019" y="5259"/>
                  </a:lnTo>
                  <a:lnTo>
                    <a:pt x="6017" y="5237"/>
                  </a:lnTo>
                  <a:lnTo>
                    <a:pt x="6010" y="5216"/>
                  </a:lnTo>
                  <a:lnTo>
                    <a:pt x="3539" y="64"/>
                  </a:lnTo>
                  <a:lnTo>
                    <a:pt x="3528" y="46"/>
                  </a:lnTo>
                  <a:lnTo>
                    <a:pt x="3514" y="30"/>
                  </a:lnTo>
                  <a:lnTo>
                    <a:pt x="3496" y="18"/>
                  </a:lnTo>
                  <a:lnTo>
                    <a:pt x="3477" y="8"/>
                  </a:lnTo>
                  <a:lnTo>
                    <a:pt x="3456" y="2"/>
                  </a:lnTo>
                  <a:lnTo>
                    <a:pt x="3434" y="0"/>
                  </a:lnTo>
                  <a:lnTo>
                    <a:pt x="3413" y="2"/>
                  </a:lnTo>
                  <a:lnTo>
                    <a:pt x="3392" y="8"/>
                  </a:lnTo>
                  <a:lnTo>
                    <a:pt x="64" y="1468"/>
                  </a:lnTo>
                  <a:lnTo>
                    <a:pt x="45" y="1479"/>
                  </a:lnTo>
                  <a:lnTo>
                    <a:pt x="30" y="1493"/>
                  </a:lnTo>
                  <a:lnTo>
                    <a:pt x="16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3" y="1595"/>
                  </a:lnTo>
                  <a:lnTo>
                    <a:pt x="9" y="1616"/>
                  </a:lnTo>
                  <a:lnTo>
                    <a:pt x="2376" y="6913"/>
                  </a:lnTo>
                  <a:lnTo>
                    <a:pt x="2387" y="6931"/>
                  </a:lnTo>
                  <a:lnTo>
                    <a:pt x="2402" y="6947"/>
                  </a:lnTo>
                  <a:lnTo>
                    <a:pt x="2419" y="6961"/>
                  </a:lnTo>
                  <a:lnTo>
                    <a:pt x="2439" y="6970"/>
                  </a:lnTo>
                  <a:lnTo>
                    <a:pt x="2459" y="6976"/>
                  </a:lnTo>
                  <a:lnTo>
                    <a:pt x="2481" y="6978"/>
                  </a:lnTo>
                  <a:lnTo>
                    <a:pt x="2503" y="6976"/>
                  </a:lnTo>
                  <a:lnTo>
                    <a:pt x="2523" y="6969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317720" y="3247560"/>
              <a:ext cx="261720" cy="145080"/>
            </a:xfrm>
            <a:custGeom>
              <a:avLst/>
              <a:gdLst/>
              <a:ahLst/>
              <a:rect l="l" t="t" r="r" b="b"/>
              <a:pathLst>
                <a:path w="3599" h="1751">
                  <a:moveTo>
                    <a:pt x="3599" y="181"/>
                  </a:move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69" y="1751"/>
                  </a:lnTo>
                  <a:lnTo>
                    <a:pt x="3599" y="181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17720" y="3247560"/>
              <a:ext cx="260640" cy="143640"/>
            </a:xfrm>
            <a:custGeom>
              <a:avLst/>
              <a:gdLst/>
              <a:ahLst/>
              <a:rect l="l" t="t" r="r" b="b"/>
              <a:pathLst>
                <a:path w="3587" h="1726">
                  <a:moveTo>
                    <a:pt x="3587" y="161"/>
                  </a:moveTo>
                  <a:lnTo>
                    <a:pt x="3582" y="151"/>
                  </a:lnTo>
                  <a:lnTo>
                    <a:pt x="3578" y="143"/>
                  </a:lnTo>
                  <a:lnTo>
                    <a:pt x="3575" y="135"/>
                  </a:lnTo>
                  <a:lnTo>
                    <a:pt x="3570" y="128"/>
                  </a:lnTo>
                  <a:lnTo>
                    <a:pt x="3566" y="119"/>
                  </a:lnTo>
                  <a:lnTo>
                    <a:pt x="3560" y="106"/>
                  </a:lnTo>
                  <a:lnTo>
                    <a:pt x="3551" y="89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4" y="1627"/>
                  </a:lnTo>
                  <a:lnTo>
                    <a:pt x="19" y="1637"/>
                  </a:lnTo>
                  <a:lnTo>
                    <a:pt x="22" y="1644"/>
                  </a:lnTo>
                  <a:lnTo>
                    <a:pt x="26" y="1652"/>
                  </a:lnTo>
                  <a:lnTo>
                    <a:pt x="31" y="1664"/>
                  </a:lnTo>
                  <a:lnTo>
                    <a:pt x="37" y="1678"/>
                  </a:lnTo>
                  <a:lnTo>
                    <a:pt x="46" y="1698"/>
                  </a:lnTo>
                  <a:lnTo>
                    <a:pt x="58" y="1726"/>
                  </a:lnTo>
                  <a:lnTo>
                    <a:pt x="164" y="1679"/>
                  </a:lnTo>
                  <a:lnTo>
                    <a:pt x="262" y="1636"/>
                  </a:lnTo>
                  <a:lnTo>
                    <a:pt x="352" y="1596"/>
                  </a:lnTo>
                  <a:lnTo>
                    <a:pt x="435" y="1560"/>
                  </a:lnTo>
                  <a:lnTo>
                    <a:pt x="513" y="1524"/>
                  </a:lnTo>
                  <a:lnTo>
                    <a:pt x="585" y="1492"/>
                  </a:lnTo>
                  <a:lnTo>
                    <a:pt x="655" y="1462"/>
                  </a:lnTo>
                  <a:lnTo>
                    <a:pt x="720" y="1433"/>
                  </a:lnTo>
                  <a:lnTo>
                    <a:pt x="784" y="1405"/>
                  </a:lnTo>
                  <a:lnTo>
                    <a:pt x="846" y="1378"/>
                  </a:lnTo>
                  <a:lnTo>
                    <a:pt x="907" y="1350"/>
                  </a:lnTo>
                  <a:lnTo>
                    <a:pt x="969" y="1323"/>
                  </a:lnTo>
                  <a:lnTo>
                    <a:pt x="1032" y="1295"/>
                  </a:lnTo>
                  <a:lnTo>
                    <a:pt x="1097" y="1266"/>
                  </a:lnTo>
                  <a:lnTo>
                    <a:pt x="1165" y="1236"/>
                  </a:lnTo>
                  <a:lnTo>
                    <a:pt x="1236" y="1205"/>
                  </a:lnTo>
                  <a:lnTo>
                    <a:pt x="1312" y="1171"/>
                  </a:lnTo>
                  <a:lnTo>
                    <a:pt x="1394" y="1135"/>
                  </a:lnTo>
                  <a:lnTo>
                    <a:pt x="1481" y="1096"/>
                  </a:lnTo>
                  <a:lnTo>
                    <a:pt x="1576" y="1054"/>
                  </a:lnTo>
                  <a:lnTo>
                    <a:pt x="1679" y="1008"/>
                  </a:lnTo>
                  <a:lnTo>
                    <a:pt x="1790" y="959"/>
                  </a:lnTo>
                  <a:lnTo>
                    <a:pt x="1912" y="905"/>
                  </a:lnTo>
                  <a:lnTo>
                    <a:pt x="2045" y="847"/>
                  </a:lnTo>
                  <a:lnTo>
                    <a:pt x="2188" y="782"/>
                  </a:lnTo>
                  <a:lnTo>
                    <a:pt x="2344" y="713"/>
                  </a:lnTo>
                  <a:lnTo>
                    <a:pt x="2514" y="638"/>
                  </a:lnTo>
                  <a:lnTo>
                    <a:pt x="2696" y="557"/>
                  </a:lnTo>
                  <a:lnTo>
                    <a:pt x="2894" y="469"/>
                  </a:lnTo>
                  <a:lnTo>
                    <a:pt x="3108" y="374"/>
                  </a:lnTo>
                  <a:lnTo>
                    <a:pt x="3338" y="272"/>
                  </a:lnTo>
                  <a:lnTo>
                    <a:pt x="3587" y="161"/>
                  </a:lnTo>
                  <a:close/>
                </a:path>
              </a:pathLst>
            </a:custGeom>
            <a:solidFill>
              <a:srgbClr val="bf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317720" y="3247560"/>
              <a:ext cx="260640" cy="141120"/>
            </a:xfrm>
            <a:custGeom>
              <a:avLst/>
              <a:gdLst/>
              <a:ahLst/>
              <a:rect l="l" t="t" r="r" b="b"/>
              <a:pathLst>
                <a:path w="3576" h="1702">
                  <a:moveTo>
                    <a:pt x="3576" y="142"/>
                  </a:moveTo>
                  <a:lnTo>
                    <a:pt x="3571" y="133"/>
                  </a:lnTo>
                  <a:lnTo>
                    <a:pt x="3568" y="127"/>
                  </a:lnTo>
                  <a:lnTo>
                    <a:pt x="3566" y="122"/>
                  </a:lnTo>
                  <a:lnTo>
                    <a:pt x="3563" y="116"/>
                  </a:lnTo>
                  <a:lnTo>
                    <a:pt x="3560" y="108"/>
                  </a:lnTo>
                  <a:lnTo>
                    <a:pt x="3555" y="98"/>
                  </a:lnTo>
                  <a:lnTo>
                    <a:pt x="3548" y="83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3" y="1625"/>
                  </a:lnTo>
                  <a:lnTo>
                    <a:pt x="17" y="1632"/>
                  </a:lnTo>
                  <a:lnTo>
                    <a:pt x="20" y="1638"/>
                  </a:lnTo>
                  <a:lnTo>
                    <a:pt x="23" y="1645"/>
                  </a:lnTo>
                  <a:lnTo>
                    <a:pt x="26" y="1653"/>
                  </a:lnTo>
                  <a:lnTo>
                    <a:pt x="31" y="1665"/>
                  </a:lnTo>
                  <a:lnTo>
                    <a:pt x="37" y="1681"/>
                  </a:lnTo>
                  <a:lnTo>
                    <a:pt x="46" y="1702"/>
                  </a:lnTo>
                  <a:lnTo>
                    <a:pt x="153" y="1656"/>
                  </a:lnTo>
                  <a:lnTo>
                    <a:pt x="250" y="1613"/>
                  </a:lnTo>
                  <a:lnTo>
                    <a:pt x="340" y="1572"/>
                  </a:lnTo>
                  <a:lnTo>
                    <a:pt x="424" y="1536"/>
                  </a:lnTo>
                  <a:lnTo>
                    <a:pt x="502" y="1501"/>
                  </a:lnTo>
                  <a:lnTo>
                    <a:pt x="574" y="1469"/>
                  </a:lnTo>
                  <a:lnTo>
                    <a:pt x="643" y="1439"/>
                  </a:lnTo>
                  <a:lnTo>
                    <a:pt x="709" y="1410"/>
                  </a:lnTo>
                  <a:lnTo>
                    <a:pt x="773" y="1382"/>
                  </a:lnTo>
                  <a:lnTo>
                    <a:pt x="835" y="1355"/>
                  </a:lnTo>
                  <a:lnTo>
                    <a:pt x="896" y="1328"/>
                  </a:lnTo>
                  <a:lnTo>
                    <a:pt x="958" y="1299"/>
                  </a:lnTo>
                  <a:lnTo>
                    <a:pt x="1020" y="1272"/>
                  </a:lnTo>
                  <a:lnTo>
                    <a:pt x="1085" y="1243"/>
                  </a:lnTo>
                  <a:lnTo>
                    <a:pt x="1153" y="1214"/>
                  </a:lnTo>
                  <a:lnTo>
                    <a:pt x="1225" y="1182"/>
                  </a:lnTo>
                  <a:lnTo>
                    <a:pt x="1301" y="1148"/>
                  </a:lnTo>
                  <a:lnTo>
                    <a:pt x="1382" y="1112"/>
                  </a:lnTo>
                  <a:lnTo>
                    <a:pt x="1470" y="1073"/>
                  </a:lnTo>
                  <a:lnTo>
                    <a:pt x="1565" y="1032"/>
                  </a:lnTo>
                  <a:lnTo>
                    <a:pt x="1668" y="986"/>
                  </a:lnTo>
                  <a:lnTo>
                    <a:pt x="1779" y="937"/>
                  </a:lnTo>
                  <a:lnTo>
                    <a:pt x="1901" y="883"/>
                  </a:lnTo>
                  <a:lnTo>
                    <a:pt x="2034" y="825"/>
                  </a:lnTo>
                  <a:lnTo>
                    <a:pt x="2177" y="761"/>
                  </a:lnTo>
                  <a:lnTo>
                    <a:pt x="2333" y="691"/>
                  </a:lnTo>
                  <a:lnTo>
                    <a:pt x="2503" y="617"/>
                  </a:lnTo>
                  <a:lnTo>
                    <a:pt x="2685" y="536"/>
                  </a:lnTo>
                  <a:lnTo>
                    <a:pt x="2883" y="448"/>
                  </a:lnTo>
                  <a:lnTo>
                    <a:pt x="3096" y="353"/>
                  </a:lnTo>
                  <a:lnTo>
                    <a:pt x="3327" y="251"/>
                  </a:lnTo>
                  <a:lnTo>
                    <a:pt x="3576" y="142"/>
                  </a:lnTo>
                  <a:close/>
                </a:path>
              </a:pathLst>
            </a:custGeom>
            <a:solidFill>
              <a:srgbClr val="c9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317720" y="3247560"/>
              <a:ext cx="259200" cy="139680"/>
            </a:xfrm>
            <a:custGeom>
              <a:avLst/>
              <a:gdLst/>
              <a:ahLst/>
              <a:rect l="l" t="t" r="r" b="b"/>
              <a:pathLst>
                <a:path w="3563" h="1677">
                  <a:moveTo>
                    <a:pt x="3563" y="122"/>
                  </a:moveTo>
                  <a:lnTo>
                    <a:pt x="3559" y="110"/>
                  </a:lnTo>
                  <a:lnTo>
                    <a:pt x="3555" y="102"/>
                  </a:lnTo>
                  <a:lnTo>
                    <a:pt x="3550" y="90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4" y="1627"/>
                  </a:lnTo>
                  <a:lnTo>
                    <a:pt x="19" y="1637"/>
                  </a:lnTo>
                  <a:lnTo>
                    <a:pt x="25" y="1650"/>
                  </a:lnTo>
                  <a:lnTo>
                    <a:pt x="36" y="1677"/>
                  </a:lnTo>
                  <a:lnTo>
                    <a:pt x="142" y="1631"/>
                  </a:lnTo>
                  <a:lnTo>
                    <a:pt x="239" y="1588"/>
                  </a:lnTo>
                  <a:lnTo>
                    <a:pt x="330" y="1548"/>
                  </a:lnTo>
                  <a:lnTo>
                    <a:pt x="413" y="1511"/>
                  </a:lnTo>
                  <a:lnTo>
                    <a:pt x="491" y="1477"/>
                  </a:lnTo>
                  <a:lnTo>
                    <a:pt x="564" y="1445"/>
                  </a:lnTo>
                  <a:lnTo>
                    <a:pt x="633" y="1415"/>
                  </a:lnTo>
                  <a:lnTo>
                    <a:pt x="698" y="1386"/>
                  </a:lnTo>
                  <a:lnTo>
                    <a:pt x="762" y="1358"/>
                  </a:lnTo>
                  <a:lnTo>
                    <a:pt x="824" y="1331"/>
                  </a:lnTo>
                  <a:lnTo>
                    <a:pt x="884" y="1304"/>
                  </a:lnTo>
                  <a:lnTo>
                    <a:pt x="946" y="1277"/>
                  </a:lnTo>
                  <a:lnTo>
                    <a:pt x="1009" y="1248"/>
                  </a:lnTo>
                  <a:lnTo>
                    <a:pt x="1074" y="1220"/>
                  </a:lnTo>
                  <a:lnTo>
                    <a:pt x="1142" y="1190"/>
                  </a:lnTo>
                  <a:lnTo>
                    <a:pt x="1213" y="1159"/>
                  </a:lnTo>
                  <a:lnTo>
                    <a:pt x="1289" y="1126"/>
                  </a:lnTo>
                  <a:lnTo>
                    <a:pt x="1371" y="1089"/>
                  </a:lnTo>
                  <a:lnTo>
                    <a:pt x="1458" y="1051"/>
                  </a:lnTo>
                  <a:lnTo>
                    <a:pt x="1553" y="1009"/>
                  </a:lnTo>
                  <a:lnTo>
                    <a:pt x="1656" y="963"/>
                  </a:lnTo>
                  <a:lnTo>
                    <a:pt x="1768" y="914"/>
                  </a:lnTo>
                  <a:lnTo>
                    <a:pt x="1889" y="861"/>
                  </a:lnTo>
                  <a:lnTo>
                    <a:pt x="2021" y="803"/>
                  </a:lnTo>
                  <a:lnTo>
                    <a:pt x="2166" y="739"/>
                  </a:lnTo>
                  <a:lnTo>
                    <a:pt x="2321" y="671"/>
                  </a:lnTo>
                  <a:lnTo>
                    <a:pt x="2490" y="596"/>
                  </a:lnTo>
                  <a:lnTo>
                    <a:pt x="2674" y="514"/>
                  </a:lnTo>
                  <a:lnTo>
                    <a:pt x="2871" y="427"/>
                  </a:lnTo>
                  <a:lnTo>
                    <a:pt x="3085" y="333"/>
                  </a:lnTo>
                  <a:lnTo>
                    <a:pt x="3315" y="231"/>
                  </a:lnTo>
                  <a:lnTo>
                    <a:pt x="3563" y="122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17720" y="3247560"/>
              <a:ext cx="259200" cy="136800"/>
            </a:xfrm>
            <a:custGeom>
              <a:avLst/>
              <a:gdLst/>
              <a:ahLst/>
              <a:rect l="l" t="t" r="r" b="b"/>
              <a:pathLst>
                <a:path w="3552" h="1653">
                  <a:moveTo>
                    <a:pt x="3552" y="102"/>
                  </a:moveTo>
                  <a:lnTo>
                    <a:pt x="3550" y="95"/>
                  </a:lnTo>
                  <a:lnTo>
                    <a:pt x="3548" y="90"/>
                  </a:lnTo>
                  <a:lnTo>
                    <a:pt x="3545" y="80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2" y="1623"/>
                  </a:lnTo>
                  <a:lnTo>
                    <a:pt x="15" y="1628"/>
                  </a:lnTo>
                  <a:lnTo>
                    <a:pt x="19" y="1637"/>
                  </a:lnTo>
                  <a:lnTo>
                    <a:pt x="25" y="1653"/>
                  </a:lnTo>
                  <a:lnTo>
                    <a:pt x="131" y="1607"/>
                  </a:lnTo>
                  <a:lnTo>
                    <a:pt x="228" y="1564"/>
                  </a:lnTo>
                  <a:lnTo>
                    <a:pt x="319" y="1524"/>
                  </a:lnTo>
                  <a:lnTo>
                    <a:pt x="402" y="1488"/>
                  </a:lnTo>
                  <a:lnTo>
                    <a:pt x="479" y="1454"/>
                  </a:lnTo>
                  <a:lnTo>
                    <a:pt x="552" y="1421"/>
                  </a:lnTo>
                  <a:lnTo>
                    <a:pt x="622" y="1391"/>
                  </a:lnTo>
                  <a:lnTo>
                    <a:pt x="686" y="1362"/>
                  </a:lnTo>
                  <a:lnTo>
                    <a:pt x="750" y="1335"/>
                  </a:lnTo>
                  <a:lnTo>
                    <a:pt x="812" y="1308"/>
                  </a:lnTo>
                  <a:lnTo>
                    <a:pt x="873" y="1281"/>
                  </a:lnTo>
                  <a:lnTo>
                    <a:pt x="935" y="1254"/>
                  </a:lnTo>
                  <a:lnTo>
                    <a:pt x="998" y="1226"/>
                  </a:lnTo>
                  <a:lnTo>
                    <a:pt x="1063" y="1197"/>
                  </a:lnTo>
                  <a:lnTo>
                    <a:pt x="1131" y="1167"/>
                  </a:lnTo>
                  <a:lnTo>
                    <a:pt x="1202" y="1136"/>
                  </a:lnTo>
                  <a:lnTo>
                    <a:pt x="1278" y="1103"/>
                  </a:lnTo>
                  <a:lnTo>
                    <a:pt x="1360" y="1067"/>
                  </a:lnTo>
                  <a:lnTo>
                    <a:pt x="1447" y="1029"/>
                  </a:lnTo>
                  <a:lnTo>
                    <a:pt x="1542" y="987"/>
                  </a:lnTo>
                  <a:lnTo>
                    <a:pt x="1645" y="941"/>
                  </a:lnTo>
                  <a:lnTo>
                    <a:pt x="1756" y="892"/>
                  </a:lnTo>
                  <a:lnTo>
                    <a:pt x="1878" y="839"/>
                  </a:lnTo>
                  <a:lnTo>
                    <a:pt x="2010" y="781"/>
                  </a:lnTo>
                  <a:lnTo>
                    <a:pt x="2154" y="717"/>
                  </a:lnTo>
                  <a:lnTo>
                    <a:pt x="2310" y="649"/>
                  </a:lnTo>
                  <a:lnTo>
                    <a:pt x="2479" y="575"/>
                  </a:lnTo>
                  <a:lnTo>
                    <a:pt x="2662" y="494"/>
                  </a:lnTo>
                  <a:lnTo>
                    <a:pt x="2859" y="407"/>
                  </a:lnTo>
                  <a:lnTo>
                    <a:pt x="3074" y="312"/>
                  </a:lnTo>
                  <a:lnTo>
                    <a:pt x="3303" y="211"/>
                  </a:lnTo>
                  <a:lnTo>
                    <a:pt x="3552" y="102"/>
                  </a:lnTo>
                  <a:close/>
                </a:path>
              </a:pathLst>
            </a:custGeom>
            <a:solidFill>
              <a:srgbClr val="d6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17720" y="3247560"/>
              <a:ext cx="257400" cy="135360"/>
            </a:xfrm>
            <a:custGeom>
              <a:avLst/>
              <a:gdLst/>
              <a:ahLst/>
              <a:rect l="l" t="t" r="r" b="b"/>
              <a:pathLst>
                <a:path w="3539" h="1628">
                  <a:moveTo>
                    <a:pt x="3539" y="82"/>
                  </a:move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3" y="1628"/>
                  </a:lnTo>
                  <a:lnTo>
                    <a:pt x="3539" y="8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599240" y="3307680"/>
              <a:ext cx="39240" cy="252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7"/>
                  </a:lnTo>
                  <a:lnTo>
                    <a:pt x="27" y="13"/>
                  </a:lnTo>
                  <a:lnTo>
                    <a:pt x="29" y="21"/>
                  </a:lnTo>
                  <a:lnTo>
                    <a:pt x="28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339680" y="3307680"/>
              <a:ext cx="259200" cy="132480"/>
            </a:xfrm>
            <a:custGeom>
              <a:avLst/>
              <a:gdLst/>
              <a:ahLst/>
              <a:rect l="l" t="t" r="r" b="b"/>
              <a:pathLst>
                <a:path w="3566" h="1595">
                  <a:moveTo>
                    <a:pt x="8" y="1576"/>
                  </a:moveTo>
                  <a:lnTo>
                    <a:pt x="0" y="1557"/>
                  </a:lnTo>
                  <a:lnTo>
                    <a:pt x="3550" y="0"/>
                  </a:lnTo>
                  <a:lnTo>
                    <a:pt x="3566" y="38"/>
                  </a:lnTo>
                  <a:lnTo>
                    <a:pt x="16" y="1595"/>
                  </a:lnTo>
                  <a:lnTo>
                    <a:pt x="8" y="1576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37880" y="3436200"/>
              <a:ext cx="39240" cy="396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8" y="38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604640" y="3322800"/>
              <a:ext cx="39240" cy="25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0" y="2"/>
                  </a:moveTo>
                  <a:lnTo>
                    <a:pt x="10" y="0"/>
                  </a:lnTo>
                  <a:lnTo>
                    <a:pt x="17" y="2"/>
                  </a:lnTo>
                  <a:lnTo>
                    <a:pt x="23" y="6"/>
                  </a:lnTo>
                  <a:lnTo>
                    <a:pt x="27" y="12"/>
                  </a:lnTo>
                  <a:lnTo>
                    <a:pt x="29" y="21"/>
                  </a:lnTo>
                  <a:lnTo>
                    <a:pt x="28" y="28"/>
                  </a:lnTo>
                  <a:lnTo>
                    <a:pt x="24" y="34"/>
                  </a:lnTo>
                  <a:lnTo>
                    <a:pt x="17" y="3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345440" y="3322800"/>
              <a:ext cx="261000" cy="132480"/>
            </a:xfrm>
            <a:custGeom>
              <a:avLst/>
              <a:gdLst/>
              <a:ahLst/>
              <a:rect l="l" t="t" r="r" b="b"/>
              <a:pathLst>
                <a:path w="3584" h="1613">
                  <a:moveTo>
                    <a:pt x="8" y="1594"/>
                  </a:moveTo>
                  <a:lnTo>
                    <a:pt x="0" y="1575"/>
                  </a:lnTo>
                  <a:lnTo>
                    <a:pt x="3567" y="0"/>
                  </a:lnTo>
                  <a:lnTo>
                    <a:pt x="3584" y="37"/>
                  </a:lnTo>
                  <a:lnTo>
                    <a:pt x="17" y="1613"/>
                  </a:lnTo>
                  <a:lnTo>
                    <a:pt x="8" y="159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44000" y="3452760"/>
              <a:ext cx="39240" cy="432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9" y="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29600" y="3461400"/>
              <a:ext cx="81360" cy="180000"/>
            </a:xfrm>
            <a:custGeom>
              <a:avLst/>
              <a:gdLst/>
              <a:ahLst/>
              <a:rect l="l" t="t" r="r" b="b"/>
              <a:pathLst>
                <a:path w="1114" h="2174">
                  <a:moveTo>
                    <a:pt x="232" y="55"/>
                  </a:moveTo>
                  <a:lnTo>
                    <a:pt x="1114" y="2046"/>
                  </a:lnTo>
                  <a:lnTo>
                    <a:pt x="1078" y="2174"/>
                  </a:lnTo>
                  <a:lnTo>
                    <a:pt x="1041" y="2159"/>
                  </a:lnTo>
                  <a:lnTo>
                    <a:pt x="1004" y="2145"/>
                  </a:lnTo>
                  <a:lnTo>
                    <a:pt x="968" y="2128"/>
                  </a:lnTo>
                  <a:lnTo>
                    <a:pt x="931" y="2111"/>
                  </a:lnTo>
                  <a:lnTo>
                    <a:pt x="895" y="2093"/>
                  </a:lnTo>
                  <a:lnTo>
                    <a:pt x="859" y="2074"/>
                  </a:lnTo>
                  <a:lnTo>
                    <a:pt x="823" y="2053"/>
                  </a:lnTo>
                  <a:lnTo>
                    <a:pt x="787" y="2032"/>
                  </a:lnTo>
                  <a:lnTo>
                    <a:pt x="752" y="2010"/>
                  </a:lnTo>
                  <a:lnTo>
                    <a:pt x="718" y="1987"/>
                  </a:lnTo>
                  <a:lnTo>
                    <a:pt x="683" y="1964"/>
                  </a:lnTo>
                  <a:lnTo>
                    <a:pt x="650" y="1940"/>
                  </a:lnTo>
                  <a:lnTo>
                    <a:pt x="616" y="1915"/>
                  </a:lnTo>
                  <a:lnTo>
                    <a:pt x="584" y="1888"/>
                  </a:lnTo>
                  <a:lnTo>
                    <a:pt x="552" y="1860"/>
                  </a:lnTo>
                  <a:lnTo>
                    <a:pt x="521" y="1833"/>
                  </a:lnTo>
                  <a:lnTo>
                    <a:pt x="490" y="1804"/>
                  </a:lnTo>
                  <a:lnTo>
                    <a:pt x="460" y="1775"/>
                  </a:lnTo>
                  <a:lnTo>
                    <a:pt x="430" y="1745"/>
                  </a:lnTo>
                  <a:lnTo>
                    <a:pt x="401" y="1715"/>
                  </a:lnTo>
                  <a:lnTo>
                    <a:pt x="373" y="1683"/>
                  </a:lnTo>
                  <a:lnTo>
                    <a:pt x="345" y="1651"/>
                  </a:lnTo>
                  <a:lnTo>
                    <a:pt x="320" y="1618"/>
                  </a:lnTo>
                  <a:lnTo>
                    <a:pt x="294" y="1585"/>
                  </a:lnTo>
                  <a:lnTo>
                    <a:pt x="269" y="1551"/>
                  </a:lnTo>
                  <a:lnTo>
                    <a:pt x="245" y="1517"/>
                  </a:lnTo>
                  <a:lnTo>
                    <a:pt x="223" y="1481"/>
                  </a:lnTo>
                  <a:lnTo>
                    <a:pt x="201" y="1445"/>
                  </a:lnTo>
                  <a:lnTo>
                    <a:pt x="179" y="1410"/>
                  </a:lnTo>
                  <a:lnTo>
                    <a:pt x="160" y="1372"/>
                  </a:lnTo>
                  <a:lnTo>
                    <a:pt x="141" y="1335"/>
                  </a:lnTo>
                  <a:lnTo>
                    <a:pt x="124" y="1297"/>
                  </a:lnTo>
                  <a:lnTo>
                    <a:pt x="95" y="1225"/>
                  </a:lnTo>
                  <a:lnTo>
                    <a:pt x="70" y="1149"/>
                  </a:lnTo>
                  <a:lnTo>
                    <a:pt x="49" y="1069"/>
                  </a:lnTo>
                  <a:lnTo>
                    <a:pt x="32" y="985"/>
                  </a:lnTo>
                  <a:lnTo>
                    <a:pt x="19" y="898"/>
                  </a:lnTo>
                  <a:lnTo>
                    <a:pt x="8" y="812"/>
                  </a:lnTo>
                  <a:lnTo>
                    <a:pt x="2" y="722"/>
                  </a:lnTo>
                  <a:lnTo>
                    <a:pt x="0" y="633"/>
                  </a:lnTo>
                  <a:lnTo>
                    <a:pt x="2" y="544"/>
                  </a:lnTo>
                  <a:lnTo>
                    <a:pt x="8" y="457"/>
                  </a:lnTo>
                  <a:lnTo>
                    <a:pt x="18" y="370"/>
                  </a:lnTo>
                  <a:lnTo>
                    <a:pt x="31" y="288"/>
                  </a:lnTo>
                  <a:lnTo>
                    <a:pt x="48" y="209"/>
                  </a:lnTo>
                  <a:lnTo>
                    <a:pt x="69" y="134"/>
                  </a:lnTo>
                  <a:lnTo>
                    <a:pt x="95" y="64"/>
                  </a:lnTo>
                  <a:lnTo>
                    <a:pt x="124" y="0"/>
                  </a:lnTo>
                  <a:lnTo>
                    <a:pt x="232" y="55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329600" y="3461400"/>
              <a:ext cx="81360" cy="180000"/>
            </a:xfrm>
            <a:custGeom>
              <a:avLst/>
              <a:gdLst/>
              <a:ahLst/>
              <a:rect l="l" t="t" r="r" b="b"/>
              <a:pathLst>
                <a:path w="1114" h="2174">
                  <a:moveTo>
                    <a:pt x="232" y="55"/>
                  </a:moveTo>
                  <a:lnTo>
                    <a:pt x="1114" y="2046"/>
                  </a:lnTo>
                  <a:lnTo>
                    <a:pt x="1078" y="2174"/>
                  </a:lnTo>
                  <a:lnTo>
                    <a:pt x="1041" y="2160"/>
                  </a:lnTo>
                  <a:lnTo>
                    <a:pt x="1004" y="2145"/>
                  </a:lnTo>
                  <a:lnTo>
                    <a:pt x="968" y="2128"/>
                  </a:lnTo>
                  <a:lnTo>
                    <a:pt x="931" y="2112"/>
                  </a:lnTo>
                  <a:lnTo>
                    <a:pt x="894" y="2093"/>
                  </a:lnTo>
                  <a:lnTo>
                    <a:pt x="858" y="2074"/>
                  </a:lnTo>
                  <a:lnTo>
                    <a:pt x="822" y="2053"/>
                  </a:lnTo>
                  <a:lnTo>
                    <a:pt x="787" y="2033"/>
                  </a:lnTo>
                  <a:lnTo>
                    <a:pt x="752" y="2011"/>
                  </a:lnTo>
                  <a:lnTo>
                    <a:pt x="718" y="1988"/>
                  </a:lnTo>
                  <a:lnTo>
                    <a:pt x="683" y="1964"/>
                  </a:lnTo>
                  <a:lnTo>
                    <a:pt x="650" y="1940"/>
                  </a:lnTo>
                  <a:lnTo>
                    <a:pt x="616" y="1915"/>
                  </a:lnTo>
                  <a:lnTo>
                    <a:pt x="584" y="1888"/>
                  </a:lnTo>
                  <a:lnTo>
                    <a:pt x="552" y="1861"/>
                  </a:lnTo>
                  <a:lnTo>
                    <a:pt x="520" y="1834"/>
                  </a:lnTo>
                  <a:lnTo>
                    <a:pt x="489" y="1805"/>
                  </a:lnTo>
                  <a:lnTo>
                    <a:pt x="459" y="1775"/>
                  </a:lnTo>
                  <a:lnTo>
                    <a:pt x="430" y="1745"/>
                  </a:lnTo>
                  <a:lnTo>
                    <a:pt x="401" y="1715"/>
                  </a:lnTo>
                  <a:lnTo>
                    <a:pt x="373" y="1684"/>
                  </a:lnTo>
                  <a:lnTo>
                    <a:pt x="345" y="1651"/>
                  </a:lnTo>
                  <a:lnTo>
                    <a:pt x="319" y="1618"/>
                  </a:lnTo>
                  <a:lnTo>
                    <a:pt x="294" y="1585"/>
                  </a:lnTo>
                  <a:lnTo>
                    <a:pt x="269" y="1551"/>
                  </a:lnTo>
                  <a:lnTo>
                    <a:pt x="245" y="1517"/>
                  </a:lnTo>
                  <a:lnTo>
                    <a:pt x="222" y="1482"/>
                  </a:lnTo>
                  <a:lnTo>
                    <a:pt x="201" y="1445"/>
                  </a:lnTo>
                  <a:lnTo>
                    <a:pt x="179" y="1410"/>
                  </a:lnTo>
                  <a:lnTo>
                    <a:pt x="160" y="1372"/>
                  </a:lnTo>
                  <a:lnTo>
                    <a:pt x="141" y="1335"/>
                  </a:lnTo>
                  <a:lnTo>
                    <a:pt x="123" y="1297"/>
                  </a:lnTo>
                  <a:lnTo>
                    <a:pt x="95" y="1226"/>
                  </a:lnTo>
                  <a:lnTo>
                    <a:pt x="70" y="1150"/>
                  </a:lnTo>
                  <a:lnTo>
                    <a:pt x="49" y="1069"/>
                  </a:lnTo>
                  <a:lnTo>
                    <a:pt x="32" y="985"/>
                  </a:lnTo>
                  <a:lnTo>
                    <a:pt x="18" y="899"/>
                  </a:lnTo>
                  <a:lnTo>
                    <a:pt x="8" y="812"/>
                  </a:lnTo>
                  <a:lnTo>
                    <a:pt x="2" y="723"/>
                  </a:lnTo>
                  <a:lnTo>
                    <a:pt x="0" y="633"/>
                  </a:lnTo>
                  <a:lnTo>
                    <a:pt x="2" y="545"/>
                  </a:lnTo>
                  <a:lnTo>
                    <a:pt x="8" y="457"/>
                  </a:lnTo>
                  <a:lnTo>
                    <a:pt x="17" y="371"/>
                  </a:lnTo>
                  <a:lnTo>
                    <a:pt x="31" y="289"/>
                  </a:lnTo>
                  <a:lnTo>
                    <a:pt x="48" y="209"/>
                  </a:lnTo>
                  <a:lnTo>
                    <a:pt x="69" y="134"/>
                  </a:lnTo>
                  <a:lnTo>
                    <a:pt x="95" y="65"/>
                  </a:lnTo>
                  <a:lnTo>
                    <a:pt x="123" y="0"/>
                  </a:lnTo>
                  <a:lnTo>
                    <a:pt x="232" y="5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616520" y="3321720"/>
              <a:ext cx="82800" cy="177120"/>
            </a:xfrm>
            <a:custGeom>
              <a:avLst/>
              <a:gdLst/>
              <a:ahLst/>
              <a:rect l="l" t="t" r="r" b="b"/>
              <a:pathLst>
                <a:path w="1145" h="2153">
                  <a:moveTo>
                    <a:pt x="927" y="2100"/>
                  </a:moveTo>
                  <a:lnTo>
                    <a:pt x="0" y="129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7" y="28"/>
                  </a:lnTo>
                  <a:lnTo>
                    <a:pt x="144" y="43"/>
                  </a:lnTo>
                  <a:lnTo>
                    <a:pt x="181" y="60"/>
                  </a:lnTo>
                  <a:lnTo>
                    <a:pt x="218" y="77"/>
                  </a:lnTo>
                  <a:lnTo>
                    <a:pt x="255" y="95"/>
                  </a:lnTo>
                  <a:lnTo>
                    <a:pt x="291" y="115"/>
                  </a:lnTo>
                  <a:lnTo>
                    <a:pt x="327" y="135"/>
                  </a:lnTo>
                  <a:lnTo>
                    <a:pt x="362" y="156"/>
                  </a:lnTo>
                  <a:lnTo>
                    <a:pt x="397" y="178"/>
                  </a:lnTo>
                  <a:lnTo>
                    <a:pt x="432" y="201"/>
                  </a:lnTo>
                  <a:lnTo>
                    <a:pt x="466" y="225"/>
                  </a:lnTo>
                  <a:lnTo>
                    <a:pt x="500" y="249"/>
                  </a:lnTo>
                  <a:lnTo>
                    <a:pt x="533" y="275"/>
                  </a:lnTo>
                  <a:lnTo>
                    <a:pt x="566" y="301"/>
                  </a:lnTo>
                  <a:lnTo>
                    <a:pt x="598" y="328"/>
                  </a:lnTo>
                  <a:lnTo>
                    <a:pt x="630" y="356"/>
                  </a:lnTo>
                  <a:lnTo>
                    <a:pt x="661" y="384"/>
                  </a:lnTo>
                  <a:lnTo>
                    <a:pt x="691" y="414"/>
                  </a:lnTo>
                  <a:lnTo>
                    <a:pt x="720" y="444"/>
                  </a:lnTo>
                  <a:lnTo>
                    <a:pt x="749" y="475"/>
                  </a:lnTo>
                  <a:lnTo>
                    <a:pt x="777" y="506"/>
                  </a:lnTo>
                  <a:lnTo>
                    <a:pt x="804" y="539"/>
                  </a:lnTo>
                  <a:lnTo>
                    <a:pt x="831" y="571"/>
                  </a:lnTo>
                  <a:lnTo>
                    <a:pt x="855" y="604"/>
                  </a:lnTo>
                  <a:lnTo>
                    <a:pt x="880" y="639"/>
                  </a:lnTo>
                  <a:lnTo>
                    <a:pt x="904" y="673"/>
                  </a:lnTo>
                  <a:lnTo>
                    <a:pt x="927" y="708"/>
                  </a:lnTo>
                  <a:lnTo>
                    <a:pt x="948" y="745"/>
                  </a:lnTo>
                  <a:lnTo>
                    <a:pt x="969" y="781"/>
                  </a:lnTo>
                  <a:lnTo>
                    <a:pt x="988" y="818"/>
                  </a:lnTo>
                  <a:lnTo>
                    <a:pt x="1007" y="855"/>
                  </a:lnTo>
                  <a:lnTo>
                    <a:pt x="1037" y="926"/>
                  </a:lnTo>
                  <a:lnTo>
                    <a:pt x="1064" y="1002"/>
                  </a:lnTo>
                  <a:lnTo>
                    <a:pt x="1086" y="1082"/>
                  </a:lnTo>
                  <a:lnTo>
                    <a:pt x="1106" y="1165"/>
                  </a:lnTo>
                  <a:lnTo>
                    <a:pt x="1121" y="1251"/>
                  </a:lnTo>
                  <a:lnTo>
                    <a:pt x="1133" y="1339"/>
                  </a:lnTo>
                  <a:lnTo>
                    <a:pt x="1141" y="1428"/>
                  </a:lnTo>
                  <a:lnTo>
                    <a:pt x="1145" y="1517"/>
                  </a:lnTo>
                  <a:lnTo>
                    <a:pt x="1145" y="1606"/>
                  </a:lnTo>
                  <a:lnTo>
                    <a:pt x="1142" y="1694"/>
                  </a:lnTo>
                  <a:lnTo>
                    <a:pt x="1134" y="1780"/>
                  </a:lnTo>
                  <a:lnTo>
                    <a:pt x="1122" y="1863"/>
                  </a:lnTo>
                  <a:lnTo>
                    <a:pt x="1107" y="1942"/>
                  </a:lnTo>
                  <a:lnTo>
                    <a:pt x="1087" y="2018"/>
                  </a:lnTo>
                  <a:lnTo>
                    <a:pt x="1064" y="2089"/>
                  </a:lnTo>
                  <a:lnTo>
                    <a:pt x="1036" y="2153"/>
                  </a:lnTo>
                  <a:lnTo>
                    <a:pt x="927" y="210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615080" y="3321720"/>
              <a:ext cx="84240" cy="178560"/>
            </a:xfrm>
            <a:custGeom>
              <a:avLst/>
              <a:gdLst/>
              <a:ahLst/>
              <a:rect l="l" t="t" r="r" b="b"/>
              <a:pathLst>
                <a:path w="1145" h="2153">
                  <a:moveTo>
                    <a:pt x="926" y="2100"/>
                  </a:moveTo>
                  <a:lnTo>
                    <a:pt x="0" y="129"/>
                  </a:lnTo>
                  <a:lnTo>
                    <a:pt x="33" y="0"/>
                  </a:lnTo>
                  <a:lnTo>
                    <a:pt x="70" y="13"/>
                  </a:lnTo>
                  <a:lnTo>
                    <a:pt x="107" y="28"/>
                  </a:lnTo>
                  <a:lnTo>
                    <a:pt x="144" y="42"/>
                  </a:lnTo>
                  <a:lnTo>
                    <a:pt x="181" y="59"/>
                  </a:lnTo>
                  <a:lnTo>
                    <a:pt x="218" y="77"/>
                  </a:lnTo>
                  <a:lnTo>
                    <a:pt x="254" y="94"/>
                  </a:lnTo>
                  <a:lnTo>
                    <a:pt x="290" y="114"/>
                  </a:lnTo>
                  <a:lnTo>
                    <a:pt x="326" y="134"/>
                  </a:lnTo>
                  <a:lnTo>
                    <a:pt x="362" y="156"/>
                  </a:lnTo>
                  <a:lnTo>
                    <a:pt x="397" y="178"/>
                  </a:lnTo>
                  <a:lnTo>
                    <a:pt x="432" y="200"/>
                  </a:lnTo>
                  <a:lnTo>
                    <a:pt x="466" y="224"/>
                  </a:lnTo>
                  <a:lnTo>
                    <a:pt x="500" y="248"/>
                  </a:lnTo>
                  <a:lnTo>
                    <a:pt x="533" y="274"/>
                  </a:lnTo>
                  <a:lnTo>
                    <a:pt x="566" y="300"/>
                  </a:lnTo>
                  <a:lnTo>
                    <a:pt x="598" y="328"/>
                  </a:lnTo>
                  <a:lnTo>
                    <a:pt x="629" y="356"/>
                  </a:lnTo>
                  <a:lnTo>
                    <a:pt x="660" y="384"/>
                  </a:lnTo>
                  <a:lnTo>
                    <a:pt x="690" y="413"/>
                  </a:lnTo>
                  <a:lnTo>
                    <a:pt x="720" y="443"/>
                  </a:lnTo>
                  <a:lnTo>
                    <a:pt x="749" y="474"/>
                  </a:lnTo>
                  <a:lnTo>
                    <a:pt x="777" y="506"/>
                  </a:lnTo>
                  <a:lnTo>
                    <a:pt x="804" y="538"/>
                  </a:lnTo>
                  <a:lnTo>
                    <a:pt x="830" y="570"/>
                  </a:lnTo>
                  <a:lnTo>
                    <a:pt x="855" y="603"/>
                  </a:lnTo>
                  <a:lnTo>
                    <a:pt x="880" y="638"/>
                  </a:lnTo>
                  <a:lnTo>
                    <a:pt x="904" y="672"/>
                  </a:lnTo>
                  <a:lnTo>
                    <a:pt x="926" y="708"/>
                  </a:lnTo>
                  <a:lnTo>
                    <a:pt x="948" y="744"/>
                  </a:lnTo>
                  <a:lnTo>
                    <a:pt x="969" y="780"/>
                  </a:lnTo>
                  <a:lnTo>
                    <a:pt x="988" y="817"/>
                  </a:lnTo>
                  <a:lnTo>
                    <a:pt x="1007" y="854"/>
                  </a:lnTo>
                  <a:lnTo>
                    <a:pt x="1037" y="925"/>
                  </a:lnTo>
                  <a:lnTo>
                    <a:pt x="1063" y="1001"/>
                  </a:lnTo>
                  <a:lnTo>
                    <a:pt x="1086" y="1081"/>
                  </a:lnTo>
                  <a:lnTo>
                    <a:pt x="1106" y="1165"/>
                  </a:lnTo>
                  <a:lnTo>
                    <a:pt x="1121" y="1250"/>
                  </a:lnTo>
                  <a:lnTo>
                    <a:pt x="1132" y="1339"/>
                  </a:lnTo>
                  <a:lnTo>
                    <a:pt x="1141" y="1427"/>
                  </a:lnTo>
                  <a:lnTo>
                    <a:pt x="1145" y="1517"/>
                  </a:lnTo>
                  <a:lnTo>
                    <a:pt x="1145" y="1605"/>
                  </a:lnTo>
                  <a:lnTo>
                    <a:pt x="1142" y="1694"/>
                  </a:lnTo>
                  <a:lnTo>
                    <a:pt x="1134" y="1779"/>
                  </a:lnTo>
                  <a:lnTo>
                    <a:pt x="1122" y="1862"/>
                  </a:lnTo>
                  <a:lnTo>
                    <a:pt x="1107" y="1941"/>
                  </a:lnTo>
                  <a:lnTo>
                    <a:pt x="1087" y="2017"/>
                  </a:lnTo>
                  <a:lnTo>
                    <a:pt x="1063" y="2088"/>
                  </a:lnTo>
                  <a:lnTo>
                    <a:pt x="1036" y="2153"/>
                  </a:lnTo>
                  <a:lnTo>
                    <a:pt x="926" y="2100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424280" y="3423600"/>
              <a:ext cx="266400" cy="338040"/>
            </a:xfrm>
            <a:custGeom>
              <a:avLst/>
              <a:gdLst/>
              <a:ahLst/>
              <a:rect l="l" t="t" r="r" b="b"/>
              <a:pathLst>
                <a:path w="3659" h="4062">
                  <a:moveTo>
                    <a:pt x="1419" y="4062"/>
                  </a:moveTo>
                  <a:lnTo>
                    <a:pt x="3659" y="2986"/>
                  </a:lnTo>
                  <a:lnTo>
                    <a:pt x="2241" y="0"/>
                  </a:lnTo>
                  <a:lnTo>
                    <a:pt x="0" y="977"/>
                  </a:lnTo>
                  <a:lnTo>
                    <a:pt x="1419" y="406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424280" y="3419640"/>
              <a:ext cx="266400" cy="336240"/>
            </a:xfrm>
            <a:custGeom>
              <a:avLst/>
              <a:gdLst/>
              <a:ahLst/>
              <a:rect l="l" t="t" r="r" b="b"/>
              <a:pathLst>
                <a:path w="3659" h="4062">
                  <a:moveTo>
                    <a:pt x="1418" y="4062"/>
                  </a:moveTo>
                  <a:lnTo>
                    <a:pt x="3659" y="2986"/>
                  </a:lnTo>
                  <a:lnTo>
                    <a:pt x="2240" y="0"/>
                  </a:lnTo>
                  <a:lnTo>
                    <a:pt x="0" y="977"/>
                  </a:lnTo>
                  <a:lnTo>
                    <a:pt x="1418" y="406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34360" y="3427560"/>
              <a:ext cx="253440" cy="319680"/>
            </a:xfrm>
            <a:custGeom>
              <a:avLst/>
              <a:gdLst/>
              <a:ahLst/>
              <a:rect l="l" t="t" r="r" b="b"/>
              <a:pathLst>
                <a:path w="3481" h="3865">
                  <a:moveTo>
                    <a:pt x="1349" y="3865"/>
                  </a:moveTo>
                  <a:lnTo>
                    <a:pt x="3481" y="2843"/>
                  </a:lnTo>
                  <a:lnTo>
                    <a:pt x="2132" y="0"/>
                  </a:lnTo>
                  <a:lnTo>
                    <a:pt x="0" y="930"/>
                  </a:lnTo>
                  <a:lnTo>
                    <a:pt x="1349" y="3865"/>
                  </a:lnTo>
                  <a:close/>
                </a:path>
              </a:pathLst>
            </a:custGeom>
            <a:solidFill>
              <a:srgbClr val="1a7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446240" y="3373200"/>
              <a:ext cx="39240" cy="27720"/>
            </a:xfrm>
            <a:custGeom>
              <a:avLst/>
              <a:gdLst/>
              <a:ahLst/>
              <a:rect l="l" t="t" r="r" b="b"/>
              <a:pathLst>
                <a:path w="435" h="339">
                  <a:moveTo>
                    <a:pt x="435" y="184"/>
                  </a:moveTo>
                  <a:lnTo>
                    <a:pt x="80" y="339"/>
                  </a:lnTo>
                  <a:lnTo>
                    <a:pt x="0" y="155"/>
                  </a:lnTo>
                  <a:lnTo>
                    <a:pt x="356" y="0"/>
                  </a:lnTo>
                  <a:lnTo>
                    <a:pt x="435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450560" y="3377520"/>
              <a:ext cx="39240" cy="20880"/>
            </a:xfrm>
            <a:custGeom>
              <a:avLst/>
              <a:gdLst/>
              <a:ahLst/>
              <a:rect l="l" t="t" r="r" b="b"/>
              <a:pathLst>
                <a:path w="351" h="254">
                  <a:moveTo>
                    <a:pt x="351" y="125"/>
                  </a:moveTo>
                  <a:lnTo>
                    <a:pt x="54" y="254"/>
                  </a:lnTo>
                  <a:lnTo>
                    <a:pt x="0" y="130"/>
                  </a:lnTo>
                  <a:lnTo>
                    <a:pt x="297" y="0"/>
                  </a:lnTo>
                  <a:lnTo>
                    <a:pt x="351" y="12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457760" y="3374640"/>
              <a:ext cx="39240" cy="18360"/>
            </a:xfrm>
            <a:custGeom>
              <a:avLst/>
              <a:gdLst/>
              <a:ahLst/>
              <a:rect l="l" t="t" r="r" b="b"/>
              <a:pathLst>
                <a:path w="240" h="231">
                  <a:moveTo>
                    <a:pt x="4" y="72"/>
                  </a:moveTo>
                  <a:lnTo>
                    <a:pt x="168" y="0"/>
                  </a:lnTo>
                  <a:lnTo>
                    <a:pt x="172" y="0"/>
                  </a:lnTo>
                  <a:lnTo>
                    <a:pt x="177" y="2"/>
                  </a:lnTo>
                  <a:lnTo>
                    <a:pt x="182" y="6"/>
                  </a:lnTo>
                  <a:lnTo>
                    <a:pt x="185" y="12"/>
                  </a:lnTo>
                  <a:lnTo>
                    <a:pt x="238" y="139"/>
                  </a:lnTo>
                  <a:lnTo>
                    <a:pt x="240" y="145"/>
                  </a:lnTo>
                  <a:lnTo>
                    <a:pt x="240" y="152"/>
                  </a:lnTo>
                  <a:lnTo>
                    <a:pt x="239" y="157"/>
                  </a:lnTo>
                  <a:lnTo>
                    <a:pt x="236" y="160"/>
                  </a:lnTo>
                  <a:lnTo>
                    <a:pt x="74" y="231"/>
                  </a:lnTo>
                  <a:lnTo>
                    <a:pt x="69" y="231"/>
                  </a:lnTo>
                  <a:lnTo>
                    <a:pt x="64" y="229"/>
                  </a:lnTo>
                  <a:lnTo>
                    <a:pt x="60" y="225"/>
                  </a:lnTo>
                  <a:lnTo>
                    <a:pt x="56" y="218"/>
                  </a:lnTo>
                  <a:lnTo>
                    <a:pt x="2" y="92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1" y="75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58840" y="3376080"/>
              <a:ext cx="39240" cy="16560"/>
            </a:xfrm>
            <a:custGeom>
              <a:avLst/>
              <a:gdLst/>
              <a:ahLst/>
              <a:rect l="l" t="t" r="r" b="b"/>
              <a:pathLst>
                <a:path w="206" h="197">
                  <a:moveTo>
                    <a:pt x="4" y="62"/>
                  </a:moveTo>
                  <a:lnTo>
                    <a:pt x="143" y="0"/>
                  </a:lnTo>
                  <a:lnTo>
                    <a:pt x="147" y="0"/>
                  </a:lnTo>
                  <a:lnTo>
                    <a:pt x="151" y="2"/>
                  </a:lnTo>
                  <a:lnTo>
                    <a:pt x="154" y="6"/>
                  </a:lnTo>
                  <a:lnTo>
                    <a:pt x="158" y="11"/>
                  </a:lnTo>
                  <a:lnTo>
                    <a:pt x="204" y="119"/>
                  </a:lnTo>
                  <a:lnTo>
                    <a:pt x="206" y="124"/>
                  </a:lnTo>
                  <a:lnTo>
                    <a:pt x="206" y="129"/>
                  </a:lnTo>
                  <a:lnTo>
                    <a:pt x="204" y="134"/>
                  </a:lnTo>
                  <a:lnTo>
                    <a:pt x="202" y="137"/>
                  </a:lnTo>
                  <a:lnTo>
                    <a:pt x="63" y="197"/>
                  </a:lnTo>
                  <a:lnTo>
                    <a:pt x="59" y="197"/>
                  </a:lnTo>
                  <a:lnTo>
                    <a:pt x="54" y="196"/>
                  </a:lnTo>
                  <a:lnTo>
                    <a:pt x="51" y="192"/>
                  </a:lnTo>
                  <a:lnTo>
                    <a:pt x="48" y="187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463520" y="3378960"/>
              <a:ext cx="39240" cy="12240"/>
            </a:xfrm>
            <a:custGeom>
              <a:avLst/>
              <a:gdLst/>
              <a:ahLst/>
              <a:rect l="l" t="t" r="r" b="b"/>
              <a:pathLst>
                <a:path w="119" h="152">
                  <a:moveTo>
                    <a:pt x="88" y="7"/>
                  </a:moveTo>
                  <a:lnTo>
                    <a:pt x="117" y="76"/>
                  </a:lnTo>
                  <a:lnTo>
                    <a:pt x="119" y="85"/>
                  </a:lnTo>
                  <a:lnTo>
                    <a:pt x="119" y="94"/>
                  </a:lnTo>
                  <a:lnTo>
                    <a:pt x="117" y="102"/>
                  </a:lnTo>
                  <a:lnTo>
                    <a:pt x="113" y="107"/>
                  </a:lnTo>
                  <a:lnTo>
                    <a:pt x="14" y="150"/>
                  </a:lnTo>
                  <a:lnTo>
                    <a:pt x="6" y="152"/>
                  </a:lnTo>
                  <a:lnTo>
                    <a:pt x="2" y="148"/>
                  </a:lnTo>
                  <a:lnTo>
                    <a:pt x="0" y="139"/>
                  </a:lnTo>
                  <a:lnTo>
                    <a:pt x="1" y="125"/>
                  </a:lnTo>
                  <a:lnTo>
                    <a:pt x="4" y="111"/>
                  </a:lnTo>
                  <a:lnTo>
                    <a:pt x="9" y="94"/>
                  </a:lnTo>
                  <a:lnTo>
                    <a:pt x="14" y="76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9" y="12"/>
                  </a:lnTo>
                  <a:lnTo>
                    <a:pt x="68" y="5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88" y="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485480" y="3358080"/>
              <a:ext cx="39240" cy="23760"/>
            </a:xfrm>
            <a:custGeom>
              <a:avLst/>
              <a:gdLst/>
              <a:ahLst/>
              <a:rect l="l" t="t" r="r" b="b"/>
              <a:pathLst>
                <a:path w="291" h="277">
                  <a:moveTo>
                    <a:pt x="291" y="184"/>
                  </a:moveTo>
                  <a:lnTo>
                    <a:pt x="80" y="277"/>
                  </a:lnTo>
                  <a:lnTo>
                    <a:pt x="0" y="93"/>
                  </a:lnTo>
                  <a:lnTo>
                    <a:pt x="213" y="0"/>
                  </a:lnTo>
                  <a:lnTo>
                    <a:pt x="29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488360" y="3363480"/>
              <a:ext cx="39240" cy="16560"/>
            </a:xfrm>
            <a:custGeom>
              <a:avLst/>
              <a:gdLst/>
              <a:ahLst/>
              <a:rect l="l" t="t" r="r" b="b"/>
              <a:pathLst>
                <a:path w="230" h="201">
                  <a:moveTo>
                    <a:pt x="230" y="124"/>
                  </a:moveTo>
                  <a:lnTo>
                    <a:pt x="53" y="201"/>
                  </a:lnTo>
                  <a:lnTo>
                    <a:pt x="0" y="77"/>
                  </a:lnTo>
                  <a:lnTo>
                    <a:pt x="177" y="0"/>
                  </a:lnTo>
                  <a:lnTo>
                    <a:pt x="230" y="124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86920" y="3360600"/>
              <a:ext cx="39240" cy="18360"/>
            </a:xfrm>
            <a:custGeom>
              <a:avLst/>
              <a:gdLst/>
              <a:ahLst/>
              <a:rect l="l" t="t" r="r" b="b"/>
              <a:pathLst>
                <a:path w="240" h="231">
                  <a:moveTo>
                    <a:pt x="4" y="72"/>
                  </a:moveTo>
                  <a:lnTo>
                    <a:pt x="168" y="0"/>
                  </a:lnTo>
                  <a:lnTo>
                    <a:pt x="172" y="0"/>
                  </a:lnTo>
                  <a:lnTo>
                    <a:pt x="177" y="2"/>
                  </a:lnTo>
                  <a:lnTo>
                    <a:pt x="182" y="6"/>
                  </a:lnTo>
                  <a:lnTo>
                    <a:pt x="185" y="12"/>
                  </a:lnTo>
                  <a:lnTo>
                    <a:pt x="238" y="139"/>
                  </a:lnTo>
                  <a:lnTo>
                    <a:pt x="240" y="146"/>
                  </a:lnTo>
                  <a:lnTo>
                    <a:pt x="240" y="152"/>
                  </a:lnTo>
                  <a:lnTo>
                    <a:pt x="239" y="157"/>
                  </a:lnTo>
                  <a:lnTo>
                    <a:pt x="236" y="160"/>
                  </a:lnTo>
                  <a:lnTo>
                    <a:pt x="73" y="231"/>
                  </a:lnTo>
                  <a:lnTo>
                    <a:pt x="69" y="231"/>
                  </a:lnTo>
                  <a:lnTo>
                    <a:pt x="64" y="229"/>
                  </a:lnTo>
                  <a:lnTo>
                    <a:pt x="60" y="225"/>
                  </a:lnTo>
                  <a:lnTo>
                    <a:pt x="56" y="218"/>
                  </a:lnTo>
                  <a:lnTo>
                    <a:pt x="2" y="92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1" y="75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88360" y="3362040"/>
              <a:ext cx="39240" cy="15120"/>
            </a:xfrm>
            <a:custGeom>
              <a:avLst/>
              <a:gdLst/>
              <a:ahLst/>
              <a:rect l="l" t="t" r="r" b="b"/>
              <a:pathLst>
                <a:path w="206" h="197">
                  <a:moveTo>
                    <a:pt x="4" y="62"/>
                  </a:moveTo>
                  <a:lnTo>
                    <a:pt x="143" y="0"/>
                  </a:lnTo>
                  <a:lnTo>
                    <a:pt x="147" y="0"/>
                  </a:lnTo>
                  <a:lnTo>
                    <a:pt x="151" y="3"/>
                  </a:lnTo>
                  <a:lnTo>
                    <a:pt x="154" y="6"/>
                  </a:lnTo>
                  <a:lnTo>
                    <a:pt x="157" y="11"/>
                  </a:lnTo>
                  <a:lnTo>
                    <a:pt x="204" y="119"/>
                  </a:lnTo>
                  <a:lnTo>
                    <a:pt x="206" y="124"/>
                  </a:lnTo>
                  <a:lnTo>
                    <a:pt x="206" y="130"/>
                  </a:lnTo>
                  <a:lnTo>
                    <a:pt x="204" y="134"/>
                  </a:lnTo>
                  <a:lnTo>
                    <a:pt x="202" y="137"/>
                  </a:lnTo>
                  <a:lnTo>
                    <a:pt x="63" y="197"/>
                  </a:lnTo>
                  <a:lnTo>
                    <a:pt x="59" y="197"/>
                  </a:lnTo>
                  <a:lnTo>
                    <a:pt x="54" y="196"/>
                  </a:lnTo>
                  <a:lnTo>
                    <a:pt x="51" y="192"/>
                  </a:lnTo>
                  <a:lnTo>
                    <a:pt x="48" y="187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492680" y="3364920"/>
              <a:ext cx="39240" cy="10800"/>
            </a:xfrm>
            <a:custGeom>
              <a:avLst/>
              <a:gdLst/>
              <a:ahLst/>
              <a:rect l="l" t="t" r="r" b="b"/>
              <a:pathLst>
                <a:path w="120" h="152">
                  <a:moveTo>
                    <a:pt x="88" y="7"/>
                  </a:moveTo>
                  <a:lnTo>
                    <a:pt x="117" y="77"/>
                  </a:lnTo>
                  <a:lnTo>
                    <a:pt x="119" y="86"/>
                  </a:lnTo>
                  <a:lnTo>
                    <a:pt x="120" y="94"/>
                  </a:lnTo>
                  <a:lnTo>
                    <a:pt x="118" y="102"/>
                  </a:lnTo>
                  <a:lnTo>
                    <a:pt x="113" y="108"/>
                  </a:lnTo>
                  <a:lnTo>
                    <a:pt x="14" y="150"/>
                  </a:lnTo>
                  <a:lnTo>
                    <a:pt x="6" y="152"/>
                  </a:lnTo>
                  <a:lnTo>
                    <a:pt x="2" y="148"/>
                  </a:lnTo>
                  <a:lnTo>
                    <a:pt x="0" y="139"/>
                  </a:lnTo>
                  <a:lnTo>
                    <a:pt x="1" y="126"/>
                  </a:lnTo>
                  <a:lnTo>
                    <a:pt x="4" y="111"/>
                  </a:lnTo>
                  <a:lnTo>
                    <a:pt x="9" y="94"/>
                  </a:lnTo>
                  <a:lnTo>
                    <a:pt x="14" y="77"/>
                  </a:lnTo>
                  <a:lnTo>
                    <a:pt x="21" y="61"/>
                  </a:lnTo>
                  <a:lnTo>
                    <a:pt x="30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9" y="12"/>
                  </a:lnTo>
                  <a:lnTo>
                    <a:pt x="68" y="5"/>
                  </a:lnTo>
                  <a:lnTo>
                    <a:pt x="77" y="0"/>
                  </a:lnTo>
                  <a:lnTo>
                    <a:pt x="83" y="1"/>
                  </a:lnTo>
                  <a:lnTo>
                    <a:pt x="88" y="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524720" y="3348360"/>
              <a:ext cx="39240" cy="792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50" y="102"/>
                  </a:moveTo>
                  <a:lnTo>
                    <a:pt x="40" y="101"/>
                  </a:lnTo>
                  <a:lnTo>
                    <a:pt x="31" y="98"/>
                  </a:lnTo>
                  <a:lnTo>
                    <a:pt x="22" y="94"/>
                  </a:lnTo>
                  <a:lnTo>
                    <a:pt x="14" y="88"/>
                  </a:lnTo>
                  <a:lnTo>
                    <a:pt x="8" y="79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8"/>
                  </a:lnTo>
                  <a:lnTo>
                    <a:pt x="31" y="4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0" y="4"/>
                  </a:lnTo>
                  <a:lnTo>
                    <a:pt x="78" y="8"/>
                  </a:lnTo>
                  <a:lnTo>
                    <a:pt x="86" y="15"/>
                  </a:lnTo>
                  <a:lnTo>
                    <a:pt x="92" y="23"/>
                  </a:lnTo>
                  <a:lnTo>
                    <a:pt x="97" y="31"/>
                  </a:lnTo>
                  <a:lnTo>
                    <a:pt x="100" y="41"/>
                  </a:lnTo>
                  <a:lnTo>
                    <a:pt x="101" y="51"/>
                  </a:lnTo>
                  <a:lnTo>
                    <a:pt x="100" y="62"/>
                  </a:lnTo>
                  <a:lnTo>
                    <a:pt x="97" y="71"/>
                  </a:lnTo>
                  <a:lnTo>
                    <a:pt x="92" y="79"/>
                  </a:lnTo>
                  <a:lnTo>
                    <a:pt x="86" y="88"/>
                  </a:lnTo>
                  <a:lnTo>
                    <a:pt x="78" y="94"/>
                  </a:lnTo>
                  <a:lnTo>
                    <a:pt x="70" y="98"/>
                  </a:lnTo>
                  <a:lnTo>
                    <a:pt x="60" y="101"/>
                  </a:lnTo>
                  <a:lnTo>
                    <a:pt x="50" y="102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414200" y="3405240"/>
              <a:ext cx="39240" cy="828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51" y="102"/>
                  </a:moveTo>
                  <a:lnTo>
                    <a:pt x="40" y="101"/>
                  </a:lnTo>
                  <a:lnTo>
                    <a:pt x="31" y="98"/>
                  </a:lnTo>
                  <a:lnTo>
                    <a:pt x="23" y="94"/>
                  </a:lnTo>
                  <a:lnTo>
                    <a:pt x="15" y="88"/>
                  </a:lnTo>
                  <a:lnTo>
                    <a:pt x="8" y="79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5" y="15"/>
                  </a:lnTo>
                  <a:lnTo>
                    <a:pt x="23" y="8"/>
                  </a:lnTo>
                  <a:lnTo>
                    <a:pt x="31" y="4"/>
                  </a:lnTo>
                  <a:lnTo>
                    <a:pt x="40" y="1"/>
                  </a:lnTo>
                  <a:lnTo>
                    <a:pt x="51" y="0"/>
                  </a:lnTo>
                  <a:lnTo>
                    <a:pt x="61" y="1"/>
                  </a:lnTo>
                  <a:lnTo>
                    <a:pt x="70" y="4"/>
                  </a:lnTo>
                  <a:lnTo>
                    <a:pt x="79" y="8"/>
                  </a:lnTo>
                  <a:lnTo>
                    <a:pt x="87" y="15"/>
                  </a:lnTo>
                  <a:lnTo>
                    <a:pt x="93" y="23"/>
                  </a:lnTo>
                  <a:lnTo>
                    <a:pt x="97" y="31"/>
                  </a:lnTo>
                  <a:lnTo>
                    <a:pt x="100" y="41"/>
                  </a:lnTo>
                  <a:lnTo>
                    <a:pt x="101" y="51"/>
                  </a:lnTo>
                  <a:lnTo>
                    <a:pt x="100" y="62"/>
                  </a:lnTo>
                  <a:lnTo>
                    <a:pt x="97" y="71"/>
                  </a:lnTo>
                  <a:lnTo>
                    <a:pt x="93" y="79"/>
                  </a:lnTo>
                  <a:lnTo>
                    <a:pt x="87" y="88"/>
                  </a:lnTo>
                  <a:lnTo>
                    <a:pt x="79" y="94"/>
                  </a:lnTo>
                  <a:lnTo>
                    <a:pt x="70" y="98"/>
                  </a:lnTo>
                  <a:lnTo>
                    <a:pt x="61" y="101"/>
                  </a:lnTo>
                  <a:lnTo>
                    <a:pt x="51" y="102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527600" y="3350880"/>
              <a:ext cx="39240" cy="50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28" y="57"/>
                  </a:moveTo>
                  <a:lnTo>
                    <a:pt x="16" y="55"/>
                  </a:lnTo>
                  <a:lnTo>
                    <a:pt x="8" y="48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2" y="17"/>
                  </a:lnTo>
                  <a:lnTo>
                    <a:pt x="8" y="9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9"/>
                  </a:lnTo>
                  <a:lnTo>
                    <a:pt x="53" y="17"/>
                  </a:lnTo>
                  <a:lnTo>
                    <a:pt x="55" y="29"/>
                  </a:lnTo>
                  <a:lnTo>
                    <a:pt x="53" y="40"/>
                  </a:lnTo>
                  <a:lnTo>
                    <a:pt x="47" y="48"/>
                  </a:lnTo>
                  <a:lnTo>
                    <a:pt x="39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417080" y="3408120"/>
              <a:ext cx="39240" cy="43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28" y="57"/>
                  </a:moveTo>
                  <a:lnTo>
                    <a:pt x="17" y="55"/>
                  </a:lnTo>
                  <a:lnTo>
                    <a:pt x="9" y="48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2" y="17"/>
                  </a:lnTo>
                  <a:lnTo>
                    <a:pt x="9" y="9"/>
                  </a:lnTo>
                  <a:lnTo>
                    <a:pt x="17" y="2"/>
                  </a:lnTo>
                  <a:lnTo>
                    <a:pt x="28" y="0"/>
                  </a:lnTo>
                  <a:lnTo>
                    <a:pt x="40" y="2"/>
                  </a:lnTo>
                  <a:lnTo>
                    <a:pt x="48" y="9"/>
                  </a:lnTo>
                  <a:lnTo>
                    <a:pt x="54" y="17"/>
                  </a:lnTo>
                  <a:lnTo>
                    <a:pt x="56" y="29"/>
                  </a:lnTo>
                  <a:lnTo>
                    <a:pt x="54" y="40"/>
                  </a:lnTo>
                  <a:lnTo>
                    <a:pt x="48" y="48"/>
                  </a:lnTo>
                  <a:lnTo>
                    <a:pt x="40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435800" y="3324600"/>
              <a:ext cx="46440" cy="41760"/>
            </a:xfrm>
            <a:custGeom>
              <a:avLst/>
              <a:gdLst/>
              <a:ahLst/>
              <a:rect l="l" t="t" r="r" b="b"/>
              <a:pathLst>
                <a:path w="631" h="515">
                  <a:moveTo>
                    <a:pt x="504" y="0"/>
                  </a:moveTo>
                  <a:lnTo>
                    <a:pt x="0" y="218"/>
                  </a:lnTo>
                  <a:lnTo>
                    <a:pt x="127" y="515"/>
                  </a:lnTo>
                  <a:lnTo>
                    <a:pt x="631" y="297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37240" y="3325680"/>
              <a:ext cx="43920" cy="40320"/>
            </a:xfrm>
            <a:custGeom>
              <a:avLst/>
              <a:gdLst/>
              <a:ahLst/>
              <a:rect l="l" t="t" r="r" b="b"/>
              <a:pathLst>
                <a:path w="595" h="477">
                  <a:moveTo>
                    <a:pt x="479" y="0"/>
                  </a:moveTo>
                  <a:lnTo>
                    <a:pt x="0" y="208"/>
                  </a:lnTo>
                  <a:lnTo>
                    <a:pt x="115" y="477"/>
                  </a:lnTo>
                  <a:lnTo>
                    <a:pt x="595" y="269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438680" y="3327120"/>
              <a:ext cx="42120" cy="38880"/>
            </a:xfrm>
            <a:custGeom>
              <a:avLst/>
              <a:gdLst/>
              <a:ahLst/>
              <a:rect l="l" t="t" r="r" b="b"/>
              <a:pathLst>
                <a:path w="589" h="465">
                  <a:moveTo>
                    <a:pt x="478" y="0"/>
                  </a:moveTo>
                  <a:lnTo>
                    <a:pt x="0" y="208"/>
                  </a:lnTo>
                  <a:lnTo>
                    <a:pt x="109" y="465"/>
                  </a:lnTo>
                  <a:lnTo>
                    <a:pt x="589" y="257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457760" y="3334320"/>
              <a:ext cx="39240" cy="18000"/>
            </a:xfrm>
            <a:custGeom>
              <a:avLst/>
              <a:gdLst/>
              <a:ahLst/>
              <a:rect l="l" t="t" r="r" b="b"/>
              <a:pathLst>
                <a:path w="229" h="231">
                  <a:moveTo>
                    <a:pt x="160" y="221"/>
                  </a:moveTo>
                  <a:lnTo>
                    <a:pt x="138" y="228"/>
                  </a:lnTo>
                  <a:lnTo>
                    <a:pt x="116" y="231"/>
                  </a:lnTo>
                  <a:lnTo>
                    <a:pt x="94" y="229"/>
                  </a:lnTo>
                  <a:lnTo>
                    <a:pt x="74" y="223"/>
                  </a:lnTo>
                  <a:lnTo>
                    <a:pt x="54" y="212"/>
                  </a:lnTo>
                  <a:lnTo>
                    <a:pt x="36" y="199"/>
                  </a:lnTo>
                  <a:lnTo>
                    <a:pt x="22" y="182"/>
                  </a:lnTo>
                  <a:lnTo>
                    <a:pt x="11" y="161"/>
                  </a:lnTo>
                  <a:lnTo>
                    <a:pt x="3" y="139"/>
                  </a:lnTo>
                  <a:lnTo>
                    <a:pt x="0" y="117"/>
                  </a:lnTo>
                  <a:lnTo>
                    <a:pt x="2" y="95"/>
                  </a:lnTo>
                  <a:lnTo>
                    <a:pt x="9" y="73"/>
                  </a:lnTo>
                  <a:lnTo>
                    <a:pt x="19" y="54"/>
                  </a:lnTo>
                  <a:lnTo>
                    <a:pt x="32" y="36"/>
                  </a:lnTo>
                  <a:lnTo>
                    <a:pt x="49" y="22"/>
                  </a:lnTo>
                  <a:lnTo>
                    <a:pt x="69" y="10"/>
                  </a:lnTo>
                  <a:lnTo>
                    <a:pt x="91" y="3"/>
                  </a:lnTo>
                  <a:lnTo>
                    <a:pt x="114" y="0"/>
                  </a:lnTo>
                  <a:lnTo>
                    <a:pt x="135" y="2"/>
                  </a:lnTo>
                  <a:lnTo>
                    <a:pt x="157" y="8"/>
                  </a:lnTo>
                  <a:lnTo>
                    <a:pt x="176" y="19"/>
                  </a:lnTo>
                  <a:lnTo>
                    <a:pt x="193" y="32"/>
                  </a:lnTo>
                  <a:lnTo>
                    <a:pt x="208" y="49"/>
                  </a:lnTo>
                  <a:lnTo>
                    <a:pt x="219" y="70"/>
                  </a:lnTo>
                  <a:lnTo>
                    <a:pt x="226" y="92"/>
                  </a:lnTo>
                  <a:lnTo>
                    <a:pt x="229" y="114"/>
                  </a:lnTo>
                  <a:lnTo>
                    <a:pt x="227" y="136"/>
                  </a:lnTo>
                  <a:lnTo>
                    <a:pt x="221" y="157"/>
                  </a:lnTo>
                  <a:lnTo>
                    <a:pt x="211" y="177"/>
                  </a:lnTo>
                  <a:lnTo>
                    <a:pt x="197" y="195"/>
                  </a:lnTo>
                  <a:lnTo>
                    <a:pt x="181" y="209"/>
                  </a:lnTo>
                  <a:lnTo>
                    <a:pt x="160" y="221"/>
                  </a:lnTo>
                  <a:close/>
                </a:path>
              </a:pathLst>
            </a:custGeom>
            <a:solidFill>
              <a:srgbClr val="e3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58840" y="3334320"/>
              <a:ext cx="39240" cy="16560"/>
            </a:xfrm>
            <a:custGeom>
              <a:avLst/>
              <a:gdLst/>
              <a:ahLst/>
              <a:rect l="l" t="t" r="r" b="b"/>
              <a:pathLst>
                <a:path w="210" h="211">
                  <a:moveTo>
                    <a:pt x="147" y="203"/>
                  </a:moveTo>
                  <a:lnTo>
                    <a:pt x="126" y="209"/>
                  </a:lnTo>
                  <a:lnTo>
                    <a:pt x="106" y="211"/>
                  </a:lnTo>
                  <a:lnTo>
                    <a:pt x="85" y="209"/>
                  </a:lnTo>
                  <a:lnTo>
                    <a:pt x="67" y="203"/>
                  </a:lnTo>
                  <a:lnTo>
                    <a:pt x="48" y="194"/>
                  </a:lnTo>
                  <a:lnTo>
                    <a:pt x="32" y="181"/>
                  </a:lnTo>
                  <a:lnTo>
                    <a:pt x="18" y="166"/>
                  </a:lnTo>
                  <a:lnTo>
                    <a:pt x="8" y="147"/>
                  </a:lnTo>
                  <a:lnTo>
                    <a:pt x="2" y="127"/>
                  </a:lnTo>
                  <a:lnTo>
                    <a:pt x="0" y="106"/>
                  </a:lnTo>
                  <a:lnTo>
                    <a:pt x="2" y="85"/>
                  </a:lnTo>
                  <a:lnTo>
                    <a:pt x="8" y="67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5" y="19"/>
                  </a:lnTo>
                  <a:lnTo>
                    <a:pt x="64" y="8"/>
                  </a:lnTo>
                  <a:lnTo>
                    <a:pt x="84" y="2"/>
                  </a:lnTo>
                  <a:lnTo>
                    <a:pt x="105" y="0"/>
                  </a:lnTo>
                  <a:lnTo>
                    <a:pt x="124" y="2"/>
                  </a:lnTo>
                  <a:lnTo>
                    <a:pt x="144" y="7"/>
                  </a:lnTo>
                  <a:lnTo>
                    <a:pt x="163" y="17"/>
                  </a:lnTo>
                  <a:lnTo>
                    <a:pt x="178" y="29"/>
                  </a:lnTo>
                  <a:lnTo>
                    <a:pt x="191" y="45"/>
                  </a:lnTo>
                  <a:lnTo>
                    <a:pt x="202" y="63"/>
                  </a:lnTo>
                  <a:lnTo>
                    <a:pt x="208" y="83"/>
                  </a:lnTo>
                  <a:lnTo>
                    <a:pt x="210" y="104"/>
                  </a:lnTo>
                  <a:lnTo>
                    <a:pt x="208" y="125"/>
                  </a:lnTo>
                  <a:lnTo>
                    <a:pt x="203" y="145"/>
                  </a:lnTo>
                  <a:lnTo>
                    <a:pt x="193" y="162"/>
                  </a:lnTo>
                  <a:lnTo>
                    <a:pt x="181" y="179"/>
                  </a:lnTo>
                  <a:lnTo>
                    <a:pt x="166" y="193"/>
                  </a:lnTo>
                  <a:lnTo>
                    <a:pt x="147" y="203"/>
                  </a:lnTo>
                  <a:close/>
                </a:path>
              </a:pathLst>
            </a:custGeom>
            <a:solidFill>
              <a:srgbClr val="eb5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458840" y="3334320"/>
              <a:ext cx="39240" cy="15120"/>
            </a:xfrm>
            <a:custGeom>
              <a:avLst/>
              <a:gdLst/>
              <a:ahLst/>
              <a:rect l="l" t="t" r="r" b="b"/>
              <a:pathLst>
                <a:path w="191" h="192">
                  <a:moveTo>
                    <a:pt x="133" y="185"/>
                  </a:moveTo>
                  <a:lnTo>
                    <a:pt x="114" y="191"/>
                  </a:lnTo>
                  <a:lnTo>
                    <a:pt x="96" y="192"/>
                  </a:lnTo>
                  <a:lnTo>
                    <a:pt x="77" y="190"/>
                  </a:lnTo>
                  <a:lnTo>
                    <a:pt x="60" y="185"/>
                  </a:lnTo>
                  <a:lnTo>
                    <a:pt x="44" y="176"/>
                  </a:lnTo>
                  <a:lnTo>
                    <a:pt x="30" y="165"/>
                  </a:lnTo>
                  <a:lnTo>
                    <a:pt x="18" y="150"/>
                  </a:lnTo>
                  <a:lnTo>
                    <a:pt x="8" y="133"/>
                  </a:lnTo>
                  <a:lnTo>
                    <a:pt x="2" y="115"/>
                  </a:lnTo>
                  <a:lnTo>
                    <a:pt x="0" y="96"/>
                  </a:lnTo>
                  <a:lnTo>
                    <a:pt x="2" y="78"/>
                  </a:lnTo>
                  <a:lnTo>
                    <a:pt x="7" y="61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41" y="17"/>
                  </a:lnTo>
                  <a:lnTo>
                    <a:pt x="58" y="8"/>
                  </a:lnTo>
                  <a:lnTo>
                    <a:pt x="76" y="1"/>
                  </a:lnTo>
                  <a:lnTo>
                    <a:pt x="96" y="0"/>
                  </a:lnTo>
                  <a:lnTo>
                    <a:pt x="113" y="1"/>
                  </a:lnTo>
                  <a:lnTo>
                    <a:pt x="132" y="6"/>
                  </a:lnTo>
                  <a:lnTo>
                    <a:pt x="147" y="15"/>
                  </a:lnTo>
                  <a:lnTo>
                    <a:pt x="162" y="26"/>
                  </a:lnTo>
                  <a:lnTo>
                    <a:pt x="174" y="41"/>
                  </a:lnTo>
                  <a:lnTo>
                    <a:pt x="183" y="57"/>
                  </a:lnTo>
                  <a:lnTo>
                    <a:pt x="189" y="76"/>
                  </a:lnTo>
                  <a:lnTo>
                    <a:pt x="191" y="95"/>
                  </a:lnTo>
                  <a:lnTo>
                    <a:pt x="190" y="113"/>
                  </a:lnTo>
                  <a:lnTo>
                    <a:pt x="185" y="130"/>
                  </a:lnTo>
                  <a:lnTo>
                    <a:pt x="176" y="147"/>
                  </a:lnTo>
                  <a:lnTo>
                    <a:pt x="165" y="163"/>
                  </a:lnTo>
                  <a:lnTo>
                    <a:pt x="151" y="175"/>
                  </a:lnTo>
                  <a:lnTo>
                    <a:pt x="133" y="185"/>
                  </a:lnTo>
                  <a:close/>
                </a:path>
              </a:pathLst>
            </a:custGeom>
            <a:solidFill>
              <a:srgbClr val="f08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60640" y="3334320"/>
              <a:ext cx="39240" cy="13680"/>
            </a:xfrm>
            <a:custGeom>
              <a:avLst/>
              <a:gdLst/>
              <a:ahLst/>
              <a:rect l="l" t="t" r="r" b="b"/>
              <a:pathLst>
                <a:path w="173" h="175">
                  <a:moveTo>
                    <a:pt x="122" y="168"/>
                  </a:moveTo>
                  <a:lnTo>
                    <a:pt x="105" y="173"/>
                  </a:lnTo>
                  <a:lnTo>
                    <a:pt x="88" y="175"/>
                  </a:lnTo>
                  <a:lnTo>
                    <a:pt x="71" y="174"/>
                  </a:lnTo>
                  <a:lnTo>
                    <a:pt x="55" y="169"/>
                  </a:lnTo>
                  <a:lnTo>
                    <a:pt x="41" y="161"/>
                  </a:lnTo>
                  <a:lnTo>
                    <a:pt x="27" y="150"/>
                  </a:lnTo>
                  <a:lnTo>
                    <a:pt x="16" y="138"/>
                  </a:lnTo>
                  <a:lnTo>
                    <a:pt x="8" y="122"/>
                  </a:lnTo>
                  <a:lnTo>
                    <a:pt x="2" y="105"/>
                  </a:lnTo>
                  <a:lnTo>
                    <a:pt x="0" y="89"/>
                  </a:lnTo>
                  <a:lnTo>
                    <a:pt x="2" y="71"/>
                  </a:lnTo>
                  <a:lnTo>
                    <a:pt x="8" y="55"/>
                  </a:lnTo>
                  <a:lnTo>
                    <a:pt x="15" y="41"/>
                  </a:lnTo>
                  <a:lnTo>
                    <a:pt x="25" y="27"/>
                  </a:lnTo>
                  <a:lnTo>
                    <a:pt x="37" y="16"/>
                  </a:lnTo>
                  <a:lnTo>
                    <a:pt x="53" y="8"/>
                  </a:lnTo>
                  <a:lnTo>
                    <a:pt x="69" y="2"/>
                  </a:lnTo>
                  <a:lnTo>
                    <a:pt x="86" y="0"/>
                  </a:lnTo>
                  <a:lnTo>
                    <a:pt x="103" y="2"/>
                  </a:lnTo>
                  <a:lnTo>
                    <a:pt x="119" y="7"/>
                  </a:lnTo>
                  <a:lnTo>
                    <a:pt x="133" y="15"/>
                  </a:lnTo>
                  <a:lnTo>
                    <a:pt x="147" y="24"/>
                  </a:lnTo>
                  <a:lnTo>
                    <a:pt x="158" y="38"/>
                  </a:lnTo>
                  <a:lnTo>
                    <a:pt x="166" y="52"/>
                  </a:lnTo>
                  <a:lnTo>
                    <a:pt x="171" y="69"/>
                  </a:lnTo>
                  <a:lnTo>
                    <a:pt x="173" y="87"/>
                  </a:lnTo>
                  <a:lnTo>
                    <a:pt x="171" y="103"/>
                  </a:lnTo>
                  <a:lnTo>
                    <a:pt x="167" y="119"/>
                  </a:lnTo>
                  <a:lnTo>
                    <a:pt x="160" y="135"/>
                  </a:lnTo>
                  <a:lnTo>
                    <a:pt x="150" y="148"/>
                  </a:lnTo>
                  <a:lnTo>
                    <a:pt x="137" y="160"/>
                  </a:lnTo>
                  <a:lnTo>
                    <a:pt x="122" y="168"/>
                  </a:lnTo>
                  <a:close/>
                </a:path>
              </a:pathLst>
            </a:custGeom>
            <a:solidFill>
              <a:srgbClr val="f5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60640" y="3335400"/>
              <a:ext cx="39240" cy="10800"/>
            </a:xfrm>
            <a:custGeom>
              <a:avLst/>
              <a:gdLst/>
              <a:ahLst/>
              <a:rect l="l" t="t" r="r" b="b"/>
              <a:pathLst>
                <a:path w="153" h="154">
                  <a:moveTo>
                    <a:pt x="107" y="147"/>
                  </a:moveTo>
                  <a:lnTo>
                    <a:pt x="92" y="153"/>
                  </a:lnTo>
                  <a:lnTo>
                    <a:pt x="77" y="154"/>
                  </a:lnTo>
                  <a:lnTo>
                    <a:pt x="63" y="153"/>
                  </a:lnTo>
                  <a:lnTo>
                    <a:pt x="48" y="148"/>
                  </a:lnTo>
                  <a:lnTo>
                    <a:pt x="35" y="141"/>
                  </a:lnTo>
                  <a:lnTo>
                    <a:pt x="23" y="132"/>
                  </a:lnTo>
                  <a:lnTo>
                    <a:pt x="13" y="120"/>
                  </a:lnTo>
                  <a:lnTo>
                    <a:pt x="6" y="107"/>
                  </a:lnTo>
                  <a:lnTo>
                    <a:pt x="2" y="92"/>
                  </a:lnTo>
                  <a:lnTo>
                    <a:pt x="0" y="77"/>
                  </a:lnTo>
                  <a:lnTo>
                    <a:pt x="1" y="62"/>
                  </a:lnTo>
                  <a:lnTo>
                    <a:pt x="5" y="48"/>
                  </a:lnTo>
                  <a:lnTo>
                    <a:pt x="12" y="35"/>
                  </a:lnTo>
                  <a:lnTo>
                    <a:pt x="21" y="23"/>
                  </a:lnTo>
                  <a:lnTo>
                    <a:pt x="33" y="13"/>
                  </a:lnTo>
                  <a:lnTo>
                    <a:pt x="46" y="6"/>
                  </a:lnTo>
                  <a:lnTo>
                    <a:pt x="60" y="1"/>
                  </a:lnTo>
                  <a:lnTo>
                    <a:pt x="76" y="0"/>
                  </a:lnTo>
                  <a:lnTo>
                    <a:pt x="90" y="1"/>
                  </a:lnTo>
                  <a:lnTo>
                    <a:pt x="105" y="5"/>
                  </a:lnTo>
                  <a:lnTo>
                    <a:pt x="118" y="11"/>
                  </a:lnTo>
                  <a:lnTo>
                    <a:pt x="130" y="20"/>
                  </a:lnTo>
                  <a:lnTo>
                    <a:pt x="140" y="32"/>
                  </a:lnTo>
                  <a:lnTo>
                    <a:pt x="147" y="45"/>
                  </a:lnTo>
                  <a:lnTo>
                    <a:pt x="151" y="60"/>
                  </a:lnTo>
                  <a:lnTo>
                    <a:pt x="153" y="76"/>
                  </a:lnTo>
                  <a:lnTo>
                    <a:pt x="152" y="90"/>
                  </a:lnTo>
                  <a:lnTo>
                    <a:pt x="148" y="105"/>
                  </a:lnTo>
                  <a:lnTo>
                    <a:pt x="141" y="118"/>
                  </a:lnTo>
                  <a:lnTo>
                    <a:pt x="132" y="130"/>
                  </a:lnTo>
                  <a:lnTo>
                    <a:pt x="120" y="140"/>
                  </a:lnTo>
                  <a:lnTo>
                    <a:pt x="107" y="147"/>
                  </a:lnTo>
                  <a:close/>
                </a:path>
              </a:pathLst>
            </a:custGeom>
            <a:solidFill>
              <a:srgbClr val="fad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62080" y="3335400"/>
              <a:ext cx="39240" cy="972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95" y="132"/>
                  </a:moveTo>
                  <a:lnTo>
                    <a:pt x="81" y="136"/>
                  </a:lnTo>
                  <a:lnTo>
                    <a:pt x="69" y="137"/>
                  </a:lnTo>
                  <a:lnTo>
                    <a:pt x="56" y="136"/>
                  </a:lnTo>
                  <a:lnTo>
                    <a:pt x="43" y="132"/>
                  </a:lnTo>
                  <a:lnTo>
                    <a:pt x="31" y="126"/>
                  </a:lnTo>
                  <a:lnTo>
                    <a:pt x="21" y="117"/>
                  </a:lnTo>
                  <a:lnTo>
                    <a:pt x="12" y="108"/>
                  </a:lnTo>
                  <a:lnTo>
                    <a:pt x="5" y="95"/>
                  </a:lnTo>
                  <a:lnTo>
                    <a:pt x="1" y="82"/>
                  </a:lnTo>
                  <a:lnTo>
                    <a:pt x="0" y="69"/>
                  </a:lnTo>
                  <a:lnTo>
                    <a:pt x="1" y="56"/>
                  </a:lnTo>
                  <a:lnTo>
                    <a:pt x="5" y="43"/>
                  </a:lnTo>
                  <a:lnTo>
                    <a:pt x="11" y="31"/>
                  </a:lnTo>
                  <a:lnTo>
                    <a:pt x="20" y="20"/>
                  </a:lnTo>
                  <a:lnTo>
                    <a:pt x="29" y="12"/>
                  </a:lnTo>
                  <a:lnTo>
                    <a:pt x="41" y="5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0" y="1"/>
                  </a:lnTo>
                  <a:lnTo>
                    <a:pt x="93" y="5"/>
                  </a:lnTo>
                  <a:lnTo>
                    <a:pt x="105" y="11"/>
                  </a:lnTo>
                  <a:lnTo>
                    <a:pt x="115" y="19"/>
                  </a:lnTo>
                  <a:lnTo>
                    <a:pt x="124" y="29"/>
                  </a:lnTo>
                  <a:lnTo>
                    <a:pt x="131" y="41"/>
                  </a:lnTo>
                  <a:lnTo>
                    <a:pt x="135" y="55"/>
                  </a:lnTo>
                  <a:lnTo>
                    <a:pt x="136" y="67"/>
                  </a:lnTo>
                  <a:lnTo>
                    <a:pt x="135" y="81"/>
                  </a:lnTo>
                  <a:lnTo>
                    <a:pt x="131" y="93"/>
                  </a:lnTo>
                  <a:lnTo>
                    <a:pt x="125" y="106"/>
                  </a:lnTo>
                  <a:lnTo>
                    <a:pt x="116" y="116"/>
                  </a:lnTo>
                  <a:lnTo>
                    <a:pt x="107" y="125"/>
                  </a:lnTo>
                  <a:lnTo>
                    <a:pt x="95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49120" y="3349440"/>
              <a:ext cx="39240" cy="252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1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4" y="32"/>
                  </a:lnTo>
                  <a:lnTo>
                    <a:pt x="21" y="3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50560" y="3343680"/>
              <a:ext cx="39240" cy="8280"/>
            </a:xfrm>
            <a:custGeom>
              <a:avLst/>
              <a:gdLst/>
              <a:ahLst/>
              <a:rect l="l" t="t" r="r" b="b"/>
              <a:pathLst>
                <a:path w="75" h="97">
                  <a:moveTo>
                    <a:pt x="40" y="13"/>
                  </a:moveTo>
                  <a:lnTo>
                    <a:pt x="40" y="13"/>
                  </a:lnTo>
                  <a:lnTo>
                    <a:pt x="42" y="22"/>
                  </a:lnTo>
                  <a:lnTo>
                    <a:pt x="42" y="28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30" y="49"/>
                  </a:lnTo>
                  <a:lnTo>
                    <a:pt x="21" y="56"/>
                  </a:lnTo>
                  <a:lnTo>
                    <a:pt x="11" y="60"/>
                  </a:lnTo>
                  <a:lnTo>
                    <a:pt x="0" y="66"/>
                  </a:lnTo>
                  <a:lnTo>
                    <a:pt x="10" y="97"/>
                  </a:lnTo>
                  <a:lnTo>
                    <a:pt x="26" y="92"/>
                  </a:lnTo>
                  <a:lnTo>
                    <a:pt x="39" y="83"/>
                  </a:lnTo>
                  <a:lnTo>
                    <a:pt x="51" y="74"/>
                  </a:lnTo>
                  <a:lnTo>
                    <a:pt x="63" y="64"/>
                  </a:lnTo>
                  <a:lnTo>
                    <a:pt x="70" y="49"/>
                  </a:lnTo>
                  <a:lnTo>
                    <a:pt x="75" y="34"/>
                  </a:lnTo>
                  <a:lnTo>
                    <a:pt x="75" y="18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447320" y="3339720"/>
              <a:ext cx="39240" cy="540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21" y="42"/>
                  </a:moveTo>
                  <a:lnTo>
                    <a:pt x="21" y="42"/>
                  </a:lnTo>
                  <a:lnTo>
                    <a:pt x="28" y="38"/>
                  </a:lnTo>
                  <a:lnTo>
                    <a:pt x="37" y="34"/>
                  </a:lnTo>
                  <a:lnTo>
                    <a:pt x="46" y="33"/>
                  </a:lnTo>
                  <a:lnTo>
                    <a:pt x="55" y="33"/>
                  </a:lnTo>
                  <a:lnTo>
                    <a:pt x="63" y="35"/>
                  </a:lnTo>
                  <a:lnTo>
                    <a:pt x="70" y="38"/>
                  </a:lnTo>
                  <a:lnTo>
                    <a:pt x="75" y="42"/>
                  </a:lnTo>
                  <a:lnTo>
                    <a:pt x="78" y="49"/>
                  </a:lnTo>
                  <a:lnTo>
                    <a:pt x="109" y="36"/>
                  </a:lnTo>
                  <a:lnTo>
                    <a:pt x="100" y="22"/>
                  </a:lnTo>
                  <a:lnTo>
                    <a:pt x="89" y="11"/>
                  </a:lnTo>
                  <a:lnTo>
                    <a:pt x="75" y="4"/>
                  </a:lnTo>
                  <a:lnTo>
                    <a:pt x="59" y="0"/>
                  </a:lnTo>
                  <a:lnTo>
                    <a:pt x="42" y="0"/>
                  </a:lnTo>
                  <a:lnTo>
                    <a:pt x="27" y="3"/>
                  </a:lnTo>
                  <a:lnTo>
                    <a:pt x="13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1" y="4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000" y="3342600"/>
              <a:ext cx="39240" cy="1080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38" y="112"/>
                  </a:moveTo>
                  <a:lnTo>
                    <a:pt x="38" y="112"/>
                  </a:lnTo>
                  <a:lnTo>
                    <a:pt x="34" y="103"/>
                  </a:lnTo>
                  <a:lnTo>
                    <a:pt x="33" y="94"/>
                  </a:lnTo>
                  <a:lnTo>
                    <a:pt x="35" y="83"/>
                  </a:lnTo>
                  <a:lnTo>
                    <a:pt x="40" y="69"/>
                  </a:lnTo>
                  <a:lnTo>
                    <a:pt x="46" y="58"/>
                  </a:lnTo>
                  <a:lnTo>
                    <a:pt x="53" y="44"/>
                  </a:lnTo>
                  <a:lnTo>
                    <a:pt x="61" y="35"/>
                  </a:lnTo>
                  <a:lnTo>
                    <a:pt x="71" y="25"/>
                  </a:lnTo>
                  <a:lnTo>
                    <a:pt x="50" y="0"/>
                  </a:lnTo>
                  <a:lnTo>
                    <a:pt x="39" y="12"/>
                  </a:lnTo>
                  <a:lnTo>
                    <a:pt x="26" y="25"/>
                  </a:lnTo>
                  <a:lnTo>
                    <a:pt x="17" y="41"/>
                  </a:lnTo>
                  <a:lnTo>
                    <a:pt x="9" y="57"/>
                  </a:lnTo>
                  <a:lnTo>
                    <a:pt x="2" y="74"/>
                  </a:lnTo>
                  <a:lnTo>
                    <a:pt x="0" y="92"/>
                  </a:lnTo>
                  <a:lnTo>
                    <a:pt x="1" y="112"/>
                  </a:lnTo>
                  <a:lnTo>
                    <a:pt x="9" y="128"/>
                  </a:lnTo>
                  <a:lnTo>
                    <a:pt x="9" y="128"/>
                  </a:lnTo>
                  <a:lnTo>
                    <a:pt x="38" y="1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44440" y="3352320"/>
              <a:ext cx="39240" cy="540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108" y="39"/>
                  </a:moveTo>
                  <a:lnTo>
                    <a:pt x="108" y="39"/>
                  </a:lnTo>
                  <a:lnTo>
                    <a:pt x="97" y="41"/>
                  </a:lnTo>
                  <a:lnTo>
                    <a:pt x="84" y="41"/>
                  </a:lnTo>
                  <a:lnTo>
                    <a:pt x="73" y="40"/>
                  </a:lnTo>
                  <a:lnTo>
                    <a:pt x="63" y="35"/>
                  </a:lnTo>
                  <a:lnTo>
                    <a:pt x="52" y="29"/>
                  </a:lnTo>
                  <a:lnTo>
                    <a:pt x="43" y="22"/>
                  </a:lnTo>
                  <a:lnTo>
                    <a:pt x="36" y="12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9" y="31"/>
                  </a:lnTo>
                  <a:lnTo>
                    <a:pt x="20" y="45"/>
                  </a:lnTo>
                  <a:lnTo>
                    <a:pt x="34" y="56"/>
                  </a:lnTo>
                  <a:lnTo>
                    <a:pt x="48" y="64"/>
                  </a:lnTo>
                  <a:lnTo>
                    <a:pt x="65" y="72"/>
                  </a:lnTo>
                  <a:lnTo>
                    <a:pt x="82" y="75"/>
                  </a:lnTo>
                  <a:lnTo>
                    <a:pt x="99" y="75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51640" y="3350880"/>
              <a:ext cx="39240" cy="6840"/>
            </a:xfrm>
            <a:custGeom>
              <a:avLst/>
              <a:gdLst/>
              <a:ahLst/>
              <a:rect l="l" t="t" r="r" b="b"/>
              <a:pathLst>
                <a:path w="80" h="88">
                  <a:moveTo>
                    <a:pt x="47" y="0"/>
                  </a:moveTo>
                  <a:lnTo>
                    <a:pt x="46" y="8"/>
                  </a:lnTo>
                  <a:lnTo>
                    <a:pt x="44" y="16"/>
                  </a:lnTo>
                  <a:lnTo>
                    <a:pt x="40" y="24"/>
                  </a:lnTo>
                  <a:lnTo>
                    <a:pt x="35" y="32"/>
                  </a:lnTo>
                  <a:lnTo>
                    <a:pt x="29" y="39"/>
                  </a:lnTo>
                  <a:lnTo>
                    <a:pt x="22" y="46"/>
                  </a:lnTo>
                  <a:lnTo>
                    <a:pt x="11" y="52"/>
                  </a:lnTo>
                  <a:lnTo>
                    <a:pt x="0" y="56"/>
                  </a:lnTo>
                  <a:lnTo>
                    <a:pt x="10" y="88"/>
                  </a:lnTo>
                  <a:lnTo>
                    <a:pt x="26" y="81"/>
                  </a:lnTo>
                  <a:lnTo>
                    <a:pt x="40" y="73"/>
                  </a:lnTo>
                  <a:lnTo>
                    <a:pt x="51" y="64"/>
                  </a:lnTo>
                  <a:lnTo>
                    <a:pt x="62" y="53"/>
                  </a:lnTo>
                  <a:lnTo>
                    <a:pt x="69" y="41"/>
                  </a:lnTo>
                  <a:lnTo>
                    <a:pt x="75" y="28"/>
                  </a:lnTo>
                  <a:lnTo>
                    <a:pt x="79" y="15"/>
                  </a:lnTo>
                  <a:lnTo>
                    <a:pt x="80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51640" y="3355200"/>
              <a:ext cx="39240" cy="108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33" y="18"/>
                  </a:moveTo>
                  <a:lnTo>
                    <a:pt x="32" y="11"/>
                  </a:lnTo>
                  <a:lnTo>
                    <a:pt x="28" y="5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1"/>
                  </a:lnTo>
                  <a:lnTo>
                    <a:pt x="6" y="3"/>
                  </a:lnTo>
                  <a:lnTo>
                    <a:pt x="2" y="9"/>
                  </a:lnTo>
                  <a:lnTo>
                    <a:pt x="0" y="16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50560" y="3349440"/>
              <a:ext cx="39240" cy="252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2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5" y="32"/>
                  </a:lnTo>
                  <a:lnTo>
                    <a:pt x="22" y="3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51640" y="3343680"/>
              <a:ext cx="39240" cy="828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40" y="13"/>
                  </a:moveTo>
                  <a:lnTo>
                    <a:pt x="40" y="12"/>
                  </a:lnTo>
                  <a:lnTo>
                    <a:pt x="42" y="22"/>
                  </a:lnTo>
                  <a:lnTo>
                    <a:pt x="42" y="30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28" y="50"/>
                  </a:lnTo>
                  <a:lnTo>
                    <a:pt x="20" y="58"/>
                  </a:lnTo>
                  <a:lnTo>
                    <a:pt x="11" y="62"/>
                  </a:lnTo>
                  <a:lnTo>
                    <a:pt x="0" y="67"/>
                  </a:lnTo>
                  <a:lnTo>
                    <a:pt x="10" y="98"/>
                  </a:lnTo>
                  <a:lnTo>
                    <a:pt x="25" y="93"/>
                  </a:lnTo>
                  <a:lnTo>
                    <a:pt x="39" y="85"/>
                  </a:lnTo>
                  <a:lnTo>
                    <a:pt x="51" y="75"/>
                  </a:lnTo>
                  <a:lnTo>
                    <a:pt x="62" y="64"/>
                  </a:lnTo>
                  <a:lnTo>
                    <a:pt x="70" y="51"/>
                  </a:lnTo>
                  <a:lnTo>
                    <a:pt x="75" y="36"/>
                  </a:lnTo>
                  <a:lnTo>
                    <a:pt x="75" y="18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449120" y="3341160"/>
              <a:ext cx="39240" cy="3960"/>
            </a:xfrm>
            <a:custGeom>
              <a:avLst/>
              <a:gdLst/>
              <a:ahLst/>
              <a:rect l="l" t="t" r="r" b="b"/>
              <a:pathLst>
                <a:path w="110" h="49">
                  <a:moveTo>
                    <a:pt x="21" y="44"/>
                  </a:moveTo>
                  <a:lnTo>
                    <a:pt x="21" y="43"/>
                  </a:lnTo>
                  <a:lnTo>
                    <a:pt x="28" y="38"/>
                  </a:lnTo>
                  <a:lnTo>
                    <a:pt x="37" y="34"/>
                  </a:lnTo>
                  <a:lnTo>
                    <a:pt x="47" y="33"/>
                  </a:lnTo>
                  <a:lnTo>
                    <a:pt x="55" y="33"/>
                  </a:lnTo>
                  <a:lnTo>
                    <a:pt x="62" y="35"/>
                  </a:lnTo>
                  <a:lnTo>
                    <a:pt x="70" y="38"/>
                  </a:lnTo>
                  <a:lnTo>
                    <a:pt x="76" y="43"/>
                  </a:lnTo>
                  <a:lnTo>
                    <a:pt x="79" y="49"/>
                  </a:lnTo>
                  <a:lnTo>
                    <a:pt x="110" y="36"/>
                  </a:lnTo>
                  <a:lnTo>
                    <a:pt x="100" y="22"/>
                  </a:lnTo>
                  <a:lnTo>
                    <a:pt x="89" y="11"/>
                  </a:lnTo>
                  <a:lnTo>
                    <a:pt x="75" y="4"/>
                  </a:lnTo>
                  <a:lnTo>
                    <a:pt x="59" y="0"/>
                  </a:lnTo>
                  <a:lnTo>
                    <a:pt x="43" y="0"/>
                  </a:lnTo>
                  <a:lnTo>
                    <a:pt x="27" y="3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444440" y="3342600"/>
              <a:ext cx="39240" cy="10800"/>
            </a:xfrm>
            <a:custGeom>
              <a:avLst/>
              <a:gdLst/>
              <a:ahLst/>
              <a:rect l="l" t="t" r="r" b="b"/>
              <a:pathLst>
                <a:path w="70" h="129">
                  <a:moveTo>
                    <a:pt x="36" y="112"/>
                  </a:moveTo>
                  <a:lnTo>
                    <a:pt x="36" y="112"/>
                  </a:lnTo>
                  <a:lnTo>
                    <a:pt x="34" y="105"/>
                  </a:lnTo>
                  <a:lnTo>
                    <a:pt x="33" y="94"/>
                  </a:lnTo>
                  <a:lnTo>
                    <a:pt x="35" y="82"/>
                  </a:lnTo>
                  <a:lnTo>
                    <a:pt x="38" y="70"/>
                  </a:lnTo>
                  <a:lnTo>
                    <a:pt x="44" y="58"/>
                  </a:lnTo>
                  <a:lnTo>
                    <a:pt x="52" y="45"/>
                  </a:lnTo>
                  <a:lnTo>
                    <a:pt x="61" y="35"/>
                  </a:lnTo>
                  <a:lnTo>
                    <a:pt x="70" y="27"/>
                  </a:lnTo>
                  <a:lnTo>
                    <a:pt x="49" y="0"/>
                  </a:lnTo>
                  <a:lnTo>
                    <a:pt x="36" y="12"/>
                  </a:lnTo>
                  <a:lnTo>
                    <a:pt x="26" y="27"/>
                  </a:lnTo>
                  <a:lnTo>
                    <a:pt x="15" y="41"/>
                  </a:lnTo>
                  <a:lnTo>
                    <a:pt x="7" y="58"/>
                  </a:lnTo>
                  <a:lnTo>
                    <a:pt x="2" y="76"/>
                  </a:lnTo>
                  <a:lnTo>
                    <a:pt x="0" y="92"/>
                  </a:lnTo>
                  <a:lnTo>
                    <a:pt x="1" y="111"/>
                  </a:lnTo>
                  <a:lnTo>
                    <a:pt x="7" y="129"/>
                  </a:lnTo>
                  <a:lnTo>
                    <a:pt x="7" y="129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446240" y="3352320"/>
              <a:ext cx="39240" cy="6840"/>
            </a:xfrm>
            <a:custGeom>
              <a:avLst/>
              <a:gdLst/>
              <a:ahLst/>
              <a:rect l="l" t="t" r="r" b="b"/>
              <a:pathLst>
                <a:path w="119" h="76">
                  <a:moveTo>
                    <a:pt x="108" y="41"/>
                  </a:moveTo>
                  <a:lnTo>
                    <a:pt x="108" y="41"/>
                  </a:lnTo>
                  <a:lnTo>
                    <a:pt x="97" y="43"/>
                  </a:lnTo>
                  <a:lnTo>
                    <a:pt x="86" y="43"/>
                  </a:lnTo>
                  <a:lnTo>
                    <a:pt x="75" y="41"/>
                  </a:lnTo>
                  <a:lnTo>
                    <a:pt x="64" y="37"/>
                  </a:lnTo>
                  <a:lnTo>
                    <a:pt x="55" y="29"/>
                  </a:lnTo>
                  <a:lnTo>
                    <a:pt x="44" y="22"/>
                  </a:lnTo>
                  <a:lnTo>
                    <a:pt x="36" y="13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9" y="31"/>
                  </a:lnTo>
                  <a:lnTo>
                    <a:pt x="22" y="45"/>
                  </a:lnTo>
                  <a:lnTo>
                    <a:pt x="34" y="56"/>
                  </a:lnTo>
                  <a:lnTo>
                    <a:pt x="50" y="66"/>
                  </a:lnTo>
                  <a:lnTo>
                    <a:pt x="65" y="72"/>
                  </a:lnTo>
                  <a:lnTo>
                    <a:pt x="82" y="76"/>
                  </a:lnTo>
                  <a:lnTo>
                    <a:pt x="99" y="76"/>
                  </a:lnTo>
                  <a:lnTo>
                    <a:pt x="119" y="72"/>
                  </a:lnTo>
                  <a:lnTo>
                    <a:pt x="119" y="72"/>
                  </a:lnTo>
                  <a:lnTo>
                    <a:pt x="108" y="4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453440" y="3350880"/>
              <a:ext cx="39240" cy="7920"/>
            </a:xfrm>
            <a:custGeom>
              <a:avLst/>
              <a:gdLst/>
              <a:ahLst/>
              <a:rect l="l" t="t" r="r" b="b"/>
              <a:pathLst>
                <a:path w="82" h="89">
                  <a:moveTo>
                    <a:pt x="49" y="0"/>
                  </a:moveTo>
                  <a:lnTo>
                    <a:pt x="48" y="9"/>
                  </a:lnTo>
                  <a:lnTo>
                    <a:pt x="45" y="18"/>
                  </a:lnTo>
                  <a:lnTo>
                    <a:pt x="42" y="26"/>
                  </a:lnTo>
                  <a:lnTo>
                    <a:pt x="36" y="34"/>
                  </a:lnTo>
                  <a:lnTo>
                    <a:pt x="31" y="40"/>
                  </a:lnTo>
                  <a:lnTo>
                    <a:pt x="22" y="47"/>
                  </a:lnTo>
                  <a:lnTo>
                    <a:pt x="13" y="54"/>
                  </a:lnTo>
                  <a:lnTo>
                    <a:pt x="0" y="58"/>
                  </a:lnTo>
                  <a:lnTo>
                    <a:pt x="11" y="89"/>
                  </a:lnTo>
                  <a:lnTo>
                    <a:pt x="27" y="83"/>
                  </a:lnTo>
                  <a:lnTo>
                    <a:pt x="41" y="74"/>
                  </a:lnTo>
                  <a:lnTo>
                    <a:pt x="52" y="65"/>
                  </a:lnTo>
                  <a:lnTo>
                    <a:pt x="63" y="55"/>
                  </a:lnTo>
                  <a:lnTo>
                    <a:pt x="70" y="41"/>
                  </a:lnTo>
                  <a:lnTo>
                    <a:pt x="76" y="29"/>
                  </a:lnTo>
                  <a:lnTo>
                    <a:pt x="79" y="17"/>
                  </a:lnTo>
                  <a:lnTo>
                    <a:pt x="82" y="5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451640" y="3356280"/>
              <a:ext cx="39240" cy="14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33" y="18"/>
                  </a:moveTo>
                  <a:lnTo>
                    <a:pt x="32" y="11"/>
                  </a:lnTo>
                  <a:lnTo>
                    <a:pt x="29" y="6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4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380360" y="3566160"/>
              <a:ext cx="39240" cy="252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0" y="25"/>
                  </a:moveTo>
                  <a:lnTo>
                    <a:pt x="7" y="27"/>
                  </a:lnTo>
                  <a:lnTo>
                    <a:pt x="12" y="26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2" y="15"/>
                  </a:lnTo>
                  <a:lnTo>
                    <a:pt x="22" y="9"/>
                  </a:lnTo>
                  <a:lnTo>
                    <a:pt x="20" y="4"/>
                  </a:lnTo>
                  <a:lnTo>
                    <a:pt x="15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364520" y="3538080"/>
              <a:ext cx="39240" cy="29160"/>
            </a:xfrm>
            <a:custGeom>
              <a:avLst/>
              <a:gdLst/>
              <a:ahLst/>
              <a:rect l="l" t="t" r="r" b="b"/>
              <a:pathLst>
                <a:path w="221" h="360">
                  <a:moveTo>
                    <a:pt x="0" y="0"/>
                  </a:moveTo>
                  <a:lnTo>
                    <a:pt x="0" y="0"/>
                  </a:lnTo>
                  <a:lnTo>
                    <a:pt x="1" y="28"/>
                  </a:lnTo>
                  <a:lnTo>
                    <a:pt x="3" y="55"/>
                  </a:lnTo>
                  <a:lnTo>
                    <a:pt x="8" y="82"/>
                  </a:lnTo>
                  <a:lnTo>
                    <a:pt x="16" y="108"/>
                  </a:lnTo>
                  <a:lnTo>
                    <a:pt x="23" y="133"/>
                  </a:lnTo>
                  <a:lnTo>
                    <a:pt x="32" y="159"/>
                  </a:lnTo>
                  <a:lnTo>
                    <a:pt x="43" y="184"/>
                  </a:lnTo>
                  <a:lnTo>
                    <a:pt x="56" y="208"/>
                  </a:lnTo>
                  <a:lnTo>
                    <a:pt x="69" y="231"/>
                  </a:lnTo>
                  <a:lnTo>
                    <a:pt x="86" y="254"/>
                  </a:lnTo>
                  <a:lnTo>
                    <a:pt x="103" y="274"/>
                  </a:lnTo>
                  <a:lnTo>
                    <a:pt x="121" y="293"/>
                  </a:lnTo>
                  <a:lnTo>
                    <a:pt x="140" y="312"/>
                  </a:lnTo>
                  <a:lnTo>
                    <a:pt x="161" y="330"/>
                  </a:lnTo>
                  <a:lnTo>
                    <a:pt x="183" y="346"/>
                  </a:lnTo>
                  <a:lnTo>
                    <a:pt x="206" y="360"/>
                  </a:lnTo>
                  <a:lnTo>
                    <a:pt x="221" y="335"/>
                  </a:lnTo>
                  <a:lnTo>
                    <a:pt x="199" y="321"/>
                  </a:lnTo>
                  <a:lnTo>
                    <a:pt x="180" y="307"/>
                  </a:lnTo>
                  <a:lnTo>
                    <a:pt x="159" y="291"/>
                  </a:lnTo>
                  <a:lnTo>
                    <a:pt x="141" y="272"/>
                  </a:lnTo>
                  <a:lnTo>
                    <a:pt x="124" y="255"/>
                  </a:lnTo>
                  <a:lnTo>
                    <a:pt x="108" y="235"/>
                  </a:lnTo>
                  <a:lnTo>
                    <a:pt x="94" y="214"/>
                  </a:lnTo>
                  <a:lnTo>
                    <a:pt x="81" y="193"/>
                  </a:lnTo>
                  <a:lnTo>
                    <a:pt x="69" y="171"/>
                  </a:lnTo>
                  <a:lnTo>
                    <a:pt x="59" y="149"/>
                  </a:lnTo>
                  <a:lnTo>
                    <a:pt x="50" y="125"/>
                  </a:lnTo>
                  <a:lnTo>
                    <a:pt x="43" y="100"/>
                  </a:lnTo>
                  <a:lnTo>
                    <a:pt x="37" y="76"/>
                  </a:lnTo>
                  <a:lnTo>
                    <a:pt x="32" y="51"/>
                  </a:lnTo>
                  <a:lnTo>
                    <a:pt x="30" y="26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364520" y="3529800"/>
              <a:ext cx="39240" cy="7920"/>
            </a:xfrm>
            <a:custGeom>
              <a:avLst/>
              <a:gdLst/>
              <a:ahLst/>
              <a:rect l="l" t="t" r="r" b="b"/>
              <a:pathLst>
                <a:path w="38" h="92">
                  <a:moveTo>
                    <a:pt x="10" y="0"/>
                  </a:moveTo>
                  <a:lnTo>
                    <a:pt x="7" y="10"/>
                  </a:lnTo>
                  <a:lnTo>
                    <a:pt x="5" y="23"/>
                  </a:lnTo>
                  <a:lnTo>
                    <a:pt x="4" y="33"/>
                  </a:lnTo>
                  <a:lnTo>
                    <a:pt x="2" y="45"/>
                  </a:lnTo>
                  <a:lnTo>
                    <a:pt x="1" y="57"/>
                  </a:lnTo>
                  <a:lnTo>
                    <a:pt x="1" y="69"/>
                  </a:lnTo>
                  <a:lnTo>
                    <a:pt x="0" y="79"/>
                  </a:lnTo>
                  <a:lnTo>
                    <a:pt x="0" y="92"/>
                  </a:lnTo>
                  <a:lnTo>
                    <a:pt x="29" y="92"/>
                  </a:lnTo>
                  <a:lnTo>
                    <a:pt x="29" y="81"/>
                  </a:lnTo>
                  <a:lnTo>
                    <a:pt x="30" y="71"/>
                  </a:lnTo>
                  <a:lnTo>
                    <a:pt x="30" y="59"/>
                  </a:lnTo>
                  <a:lnTo>
                    <a:pt x="31" y="49"/>
                  </a:lnTo>
                  <a:lnTo>
                    <a:pt x="33" y="38"/>
                  </a:lnTo>
                  <a:lnTo>
                    <a:pt x="34" y="27"/>
                  </a:lnTo>
                  <a:lnTo>
                    <a:pt x="36" y="17"/>
                  </a:lnTo>
                  <a:lnTo>
                    <a:pt x="38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64520" y="3536640"/>
              <a:ext cx="39240" cy="108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8"/>
                  </a:moveTo>
                  <a:lnTo>
                    <a:pt x="29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2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77480" y="3554640"/>
              <a:ext cx="39600" cy="252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5"/>
                  </a:lnTo>
                  <a:lnTo>
                    <a:pt x="21" y="10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69920" y="3543840"/>
              <a:ext cx="39240" cy="13680"/>
            </a:xfrm>
            <a:custGeom>
              <a:avLst/>
              <a:gdLst/>
              <a:ahLst/>
              <a:rect l="l" t="t" r="r" b="b"/>
              <a:pathLst>
                <a:path w="116" h="179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27"/>
                  </a:lnTo>
                  <a:lnTo>
                    <a:pt x="4" y="40"/>
                  </a:lnTo>
                  <a:lnTo>
                    <a:pt x="7" y="53"/>
                  </a:lnTo>
                  <a:lnTo>
                    <a:pt x="11" y="68"/>
                  </a:lnTo>
                  <a:lnTo>
                    <a:pt x="15" y="79"/>
                  </a:lnTo>
                  <a:lnTo>
                    <a:pt x="21" y="92"/>
                  </a:lnTo>
                  <a:lnTo>
                    <a:pt x="27" y="103"/>
                  </a:lnTo>
                  <a:lnTo>
                    <a:pt x="34" y="115"/>
                  </a:lnTo>
                  <a:lnTo>
                    <a:pt x="42" y="125"/>
                  </a:lnTo>
                  <a:lnTo>
                    <a:pt x="50" y="136"/>
                  </a:lnTo>
                  <a:lnTo>
                    <a:pt x="59" y="146"/>
                  </a:lnTo>
                  <a:lnTo>
                    <a:pt x="69" y="155"/>
                  </a:lnTo>
                  <a:lnTo>
                    <a:pt x="80" y="164"/>
                  </a:lnTo>
                  <a:lnTo>
                    <a:pt x="90" y="171"/>
                  </a:lnTo>
                  <a:lnTo>
                    <a:pt x="102" y="179"/>
                  </a:lnTo>
                  <a:lnTo>
                    <a:pt x="116" y="154"/>
                  </a:lnTo>
                  <a:lnTo>
                    <a:pt x="107" y="148"/>
                  </a:lnTo>
                  <a:lnTo>
                    <a:pt x="96" y="141"/>
                  </a:lnTo>
                  <a:lnTo>
                    <a:pt x="87" y="134"/>
                  </a:lnTo>
                  <a:lnTo>
                    <a:pt x="80" y="125"/>
                  </a:lnTo>
                  <a:lnTo>
                    <a:pt x="71" y="118"/>
                  </a:lnTo>
                  <a:lnTo>
                    <a:pt x="64" y="108"/>
                  </a:lnTo>
                  <a:lnTo>
                    <a:pt x="58" y="100"/>
                  </a:lnTo>
                  <a:lnTo>
                    <a:pt x="52" y="89"/>
                  </a:lnTo>
                  <a:lnTo>
                    <a:pt x="46" y="79"/>
                  </a:lnTo>
                  <a:lnTo>
                    <a:pt x="42" y="69"/>
                  </a:lnTo>
                  <a:lnTo>
                    <a:pt x="38" y="57"/>
                  </a:lnTo>
                  <a:lnTo>
                    <a:pt x="34" y="47"/>
                  </a:lnTo>
                  <a:lnTo>
                    <a:pt x="33" y="35"/>
                  </a:lnTo>
                  <a:lnTo>
                    <a:pt x="30" y="23"/>
                  </a:lnTo>
                  <a:lnTo>
                    <a:pt x="28" y="1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369920" y="3539520"/>
              <a:ext cx="39240" cy="39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4" y="0"/>
                  </a:moveTo>
                  <a:lnTo>
                    <a:pt x="3" y="5"/>
                  </a:lnTo>
                  <a:lnTo>
                    <a:pt x="2" y="11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28" y="46"/>
                  </a:lnTo>
                  <a:lnTo>
                    <a:pt x="28" y="41"/>
                  </a:lnTo>
                  <a:lnTo>
                    <a:pt x="28" y="36"/>
                  </a:lnTo>
                  <a:lnTo>
                    <a:pt x="28" y="32"/>
                  </a:lnTo>
                  <a:lnTo>
                    <a:pt x="29" y="25"/>
                  </a:lnTo>
                  <a:lnTo>
                    <a:pt x="29" y="20"/>
                  </a:lnTo>
                  <a:lnTo>
                    <a:pt x="30" y="17"/>
                  </a:lnTo>
                  <a:lnTo>
                    <a:pt x="31" y="12"/>
                  </a:lnTo>
                  <a:lnTo>
                    <a:pt x="3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69920" y="3542400"/>
              <a:ext cx="39240" cy="108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17"/>
                  </a:moveTo>
                  <a:lnTo>
                    <a:pt x="28" y="11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45680" y="3393000"/>
              <a:ext cx="39240" cy="10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3"/>
                  </a:lnTo>
                  <a:lnTo>
                    <a:pt x="5" y="19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45680" y="3393000"/>
              <a:ext cx="39240" cy="23760"/>
            </a:xfrm>
            <a:custGeom>
              <a:avLst/>
              <a:gdLst/>
              <a:ahLst/>
              <a:rect l="l" t="t" r="r" b="b"/>
              <a:pathLst>
                <a:path w="166" h="270">
                  <a:moveTo>
                    <a:pt x="166" y="270"/>
                  </a:moveTo>
                  <a:lnTo>
                    <a:pt x="166" y="270"/>
                  </a:lnTo>
                  <a:lnTo>
                    <a:pt x="164" y="250"/>
                  </a:lnTo>
                  <a:lnTo>
                    <a:pt x="162" y="230"/>
                  </a:lnTo>
                  <a:lnTo>
                    <a:pt x="159" y="209"/>
                  </a:lnTo>
                  <a:lnTo>
                    <a:pt x="155" y="188"/>
                  </a:lnTo>
                  <a:lnTo>
                    <a:pt x="149" y="168"/>
                  </a:lnTo>
                  <a:lnTo>
                    <a:pt x="141" y="151"/>
                  </a:lnTo>
                  <a:lnTo>
                    <a:pt x="132" y="133"/>
                  </a:lnTo>
                  <a:lnTo>
                    <a:pt x="124" y="114"/>
                  </a:lnTo>
                  <a:lnTo>
                    <a:pt x="114" y="96"/>
                  </a:lnTo>
                  <a:lnTo>
                    <a:pt x="101" y="81"/>
                  </a:lnTo>
                  <a:lnTo>
                    <a:pt x="89" y="64"/>
                  </a:lnTo>
                  <a:lnTo>
                    <a:pt x="74" y="50"/>
                  </a:lnTo>
                  <a:lnTo>
                    <a:pt x="60" y="35"/>
                  </a:lnTo>
                  <a:lnTo>
                    <a:pt x="44" y="23"/>
                  </a:lnTo>
                  <a:lnTo>
                    <a:pt x="28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6" y="29"/>
                  </a:lnTo>
                  <a:lnTo>
                    <a:pt x="31" y="39"/>
                  </a:lnTo>
                  <a:lnTo>
                    <a:pt x="46" y="52"/>
                  </a:lnTo>
                  <a:lnTo>
                    <a:pt x="60" y="64"/>
                  </a:lnTo>
                  <a:lnTo>
                    <a:pt x="72" y="79"/>
                  </a:lnTo>
                  <a:lnTo>
                    <a:pt x="85" y="93"/>
                  </a:lnTo>
                  <a:lnTo>
                    <a:pt x="95" y="109"/>
                  </a:lnTo>
                  <a:lnTo>
                    <a:pt x="105" y="125"/>
                  </a:lnTo>
                  <a:lnTo>
                    <a:pt x="114" y="141"/>
                  </a:lnTo>
                  <a:lnTo>
                    <a:pt x="121" y="159"/>
                  </a:lnTo>
                  <a:lnTo>
                    <a:pt x="128" y="177"/>
                  </a:lnTo>
                  <a:lnTo>
                    <a:pt x="134" y="194"/>
                  </a:lnTo>
                  <a:lnTo>
                    <a:pt x="138" y="213"/>
                  </a:lnTo>
                  <a:lnTo>
                    <a:pt x="141" y="232"/>
                  </a:lnTo>
                  <a:lnTo>
                    <a:pt x="144" y="252"/>
                  </a:lnTo>
                  <a:lnTo>
                    <a:pt x="144" y="270"/>
                  </a:lnTo>
                  <a:lnTo>
                    <a:pt x="144" y="270"/>
                  </a:lnTo>
                  <a:lnTo>
                    <a:pt x="166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55760" y="3416760"/>
              <a:ext cx="39240" cy="396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1" y="68"/>
                  </a:moveTo>
                  <a:lnTo>
                    <a:pt x="22" y="60"/>
                  </a:lnTo>
                  <a:lnTo>
                    <a:pt x="24" y="52"/>
                  </a:lnTo>
                  <a:lnTo>
                    <a:pt x="25" y="43"/>
                  </a:lnTo>
                  <a:lnTo>
                    <a:pt x="26" y="35"/>
                  </a:lnTo>
                  <a:lnTo>
                    <a:pt x="28" y="25"/>
                  </a:lnTo>
                  <a:lnTo>
                    <a:pt x="28" y="17"/>
                  </a:lnTo>
                  <a:lnTo>
                    <a:pt x="29" y="9"/>
                  </a:lnTo>
                  <a:lnTo>
                    <a:pt x="29" y="0"/>
                  </a:lnTo>
                  <a:lnTo>
                    <a:pt x="7" y="0"/>
                  </a:lnTo>
                  <a:lnTo>
                    <a:pt x="7" y="9"/>
                  </a:lnTo>
                  <a:lnTo>
                    <a:pt x="5" y="17"/>
                  </a:lnTo>
                  <a:lnTo>
                    <a:pt x="5" y="25"/>
                  </a:lnTo>
                  <a:lnTo>
                    <a:pt x="5" y="33"/>
                  </a:lnTo>
                  <a:lnTo>
                    <a:pt x="4" y="41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57200" y="3416760"/>
              <a:ext cx="39240" cy="10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2" y="9"/>
                  </a:lnTo>
                  <a:lnTo>
                    <a:pt x="9" y="13"/>
                  </a:lnTo>
                  <a:lnTo>
                    <a:pt x="16" y="12"/>
                  </a:lnTo>
                  <a:lnTo>
                    <a:pt x="2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47120" y="3401280"/>
              <a:ext cx="392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47120" y="3401280"/>
              <a:ext cx="39240" cy="11160"/>
            </a:xfrm>
            <a:custGeom>
              <a:avLst/>
              <a:gdLst/>
              <a:ahLst/>
              <a:rect l="l" t="t" r="r" b="b"/>
              <a:pathLst>
                <a:path w="86" h="135">
                  <a:moveTo>
                    <a:pt x="86" y="135"/>
                  </a:moveTo>
                  <a:lnTo>
                    <a:pt x="86" y="135"/>
                  </a:lnTo>
                  <a:lnTo>
                    <a:pt x="85" y="115"/>
                  </a:lnTo>
                  <a:lnTo>
                    <a:pt x="81" y="94"/>
                  </a:lnTo>
                  <a:lnTo>
                    <a:pt x="76" y="75"/>
                  </a:lnTo>
                  <a:lnTo>
                    <a:pt x="67" y="57"/>
                  </a:lnTo>
                  <a:lnTo>
                    <a:pt x="56" y="41"/>
                  </a:lnTo>
                  <a:lnTo>
                    <a:pt x="42" y="25"/>
                  </a:lnTo>
                  <a:lnTo>
                    <a:pt x="27" y="12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4" y="28"/>
                  </a:lnTo>
                  <a:lnTo>
                    <a:pt x="28" y="40"/>
                  </a:lnTo>
                  <a:lnTo>
                    <a:pt x="39" y="53"/>
                  </a:lnTo>
                  <a:lnTo>
                    <a:pt x="48" y="68"/>
                  </a:lnTo>
                  <a:lnTo>
                    <a:pt x="56" y="83"/>
                  </a:lnTo>
                  <a:lnTo>
                    <a:pt x="61" y="100"/>
                  </a:lnTo>
                  <a:lnTo>
                    <a:pt x="65" y="117"/>
                  </a:lnTo>
                  <a:lnTo>
                    <a:pt x="66" y="135"/>
                  </a:lnTo>
                  <a:lnTo>
                    <a:pt x="66" y="135"/>
                  </a:lnTo>
                  <a:lnTo>
                    <a:pt x="8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52880" y="3412440"/>
              <a:ext cx="39240" cy="25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0" y="34"/>
                  </a:moveTo>
                  <a:lnTo>
                    <a:pt x="21" y="29"/>
                  </a:lnTo>
                  <a:lnTo>
                    <a:pt x="21" y="25"/>
                  </a:lnTo>
                  <a:lnTo>
                    <a:pt x="22" y="20"/>
                  </a:lnTo>
                  <a:lnTo>
                    <a:pt x="22" y="17"/>
                  </a:lnTo>
                  <a:lnTo>
                    <a:pt x="23" y="14"/>
                  </a:lnTo>
                  <a:lnTo>
                    <a:pt x="23" y="8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52880" y="3412440"/>
              <a:ext cx="39240" cy="10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2" y="9"/>
                  </a:lnTo>
                  <a:lnTo>
                    <a:pt x="9" y="13"/>
                  </a:lnTo>
                  <a:lnTo>
                    <a:pt x="16" y="12"/>
                  </a:lnTo>
                  <a:lnTo>
                    <a:pt x="2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362720" y="3654000"/>
              <a:ext cx="86040" cy="202680"/>
            </a:xfrm>
            <a:custGeom>
              <a:avLst/>
              <a:gdLst/>
              <a:ahLst/>
              <a:rect l="l" t="t" r="r" b="b"/>
              <a:pathLst>
                <a:path w="1181" h="2450">
                  <a:moveTo>
                    <a:pt x="168" y="0"/>
                  </a:moveTo>
                  <a:lnTo>
                    <a:pt x="0" y="72"/>
                  </a:lnTo>
                  <a:lnTo>
                    <a:pt x="968" y="2450"/>
                  </a:lnTo>
                  <a:lnTo>
                    <a:pt x="1181" y="2359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362720" y="3655440"/>
              <a:ext cx="84240" cy="200880"/>
            </a:xfrm>
            <a:custGeom>
              <a:avLst/>
              <a:gdLst/>
              <a:ahLst/>
              <a:rect l="l" t="t" r="r" b="b"/>
              <a:pathLst>
                <a:path w="1151" h="2437">
                  <a:moveTo>
                    <a:pt x="141" y="0"/>
                  </a:moveTo>
                  <a:lnTo>
                    <a:pt x="127" y="7"/>
                  </a:lnTo>
                  <a:lnTo>
                    <a:pt x="115" y="11"/>
                  </a:lnTo>
                  <a:lnTo>
                    <a:pt x="105" y="15"/>
                  </a:lnTo>
                  <a:lnTo>
                    <a:pt x="95" y="19"/>
                  </a:lnTo>
                  <a:lnTo>
                    <a:pt x="81" y="24"/>
                  </a:lnTo>
                  <a:lnTo>
                    <a:pt x="62" y="33"/>
                  </a:lnTo>
                  <a:lnTo>
                    <a:pt x="36" y="44"/>
                  </a:lnTo>
                  <a:lnTo>
                    <a:pt x="0" y="61"/>
                  </a:lnTo>
                  <a:lnTo>
                    <a:pt x="29" y="131"/>
                  </a:lnTo>
                  <a:lnTo>
                    <a:pt x="55" y="197"/>
                  </a:lnTo>
                  <a:lnTo>
                    <a:pt x="81" y="257"/>
                  </a:lnTo>
                  <a:lnTo>
                    <a:pt x="104" y="314"/>
                  </a:lnTo>
                  <a:lnTo>
                    <a:pt x="125" y="366"/>
                  </a:lnTo>
                  <a:lnTo>
                    <a:pt x="145" y="415"/>
                  </a:lnTo>
                  <a:lnTo>
                    <a:pt x="165" y="462"/>
                  </a:lnTo>
                  <a:lnTo>
                    <a:pt x="182" y="505"/>
                  </a:lnTo>
                  <a:lnTo>
                    <a:pt x="200" y="548"/>
                  </a:lnTo>
                  <a:lnTo>
                    <a:pt x="217" y="590"/>
                  </a:lnTo>
                  <a:lnTo>
                    <a:pt x="234" y="630"/>
                  </a:lnTo>
                  <a:lnTo>
                    <a:pt x="251" y="672"/>
                  </a:lnTo>
                  <a:lnTo>
                    <a:pt x="268" y="715"/>
                  </a:lnTo>
                  <a:lnTo>
                    <a:pt x="286" y="757"/>
                  </a:lnTo>
                  <a:lnTo>
                    <a:pt x="305" y="803"/>
                  </a:lnTo>
                  <a:lnTo>
                    <a:pt x="324" y="851"/>
                  </a:lnTo>
                  <a:lnTo>
                    <a:pt x="345" y="902"/>
                  </a:lnTo>
                  <a:lnTo>
                    <a:pt x="368" y="957"/>
                  </a:lnTo>
                  <a:lnTo>
                    <a:pt x="391" y="1017"/>
                  </a:lnTo>
                  <a:lnTo>
                    <a:pt x="418" y="1080"/>
                  </a:lnTo>
                  <a:lnTo>
                    <a:pt x="446" y="1150"/>
                  </a:lnTo>
                  <a:lnTo>
                    <a:pt x="477" y="1225"/>
                  </a:lnTo>
                  <a:lnTo>
                    <a:pt x="510" y="1307"/>
                  </a:lnTo>
                  <a:lnTo>
                    <a:pt x="547" y="1396"/>
                  </a:lnTo>
                  <a:lnTo>
                    <a:pt x="586" y="1493"/>
                  </a:lnTo>
                  <a:lnTo>
                    <a:pt x="629" y="1599"/>
                  </a:lnTo>
                  <a:lnTo>
                    <a:pt x="676" y="1712"/>
                  </a:lnTo>
                  <a:lnTo>
                    <a:pt x="726" y="1836"/>
                  </a:lnTo>
                  <a:lnTo>
                    <a:pt x="781" y="1969"/>
                  </a:lnTo>
                  <a:lnTo>
                    <a:pt x="840" y="2114"/>
                  </a:lnTo>
                  <a:lnTo>
                    <a:pt x="904" y="2269"/>
                  </a:lnTo>
                  <a:lnTo>
                    <a:pt x="972" y="2437"/>
                  </a:lnTo>
                  <a:lnTo>
                    <a:pt x="982" y="2433"/>
                  </a:lnTo>
                  <a:lnTo>
                    <a:pt x="991" y="2428"/>
                  </a:lnTo>
                  <a:lnTo>
                    <a:pt x="998" y="2425"/>
                  </a:lnTo>
                  <a:lnTo>
                    <a:pt x="1006" y="2422"/>
                  </a:lnTo>
                  <a:lnTo>
                    <a:pt x="1013" y="2419"/>
                  </a:lnTo>
                  <a:lnTo>
                    <a:pt x="1019" y="2416"/>
                  </a:lnTo>
                  <a:lnTo>
                    <a:pt x="1025" y="2413"/>
                  </a:lnTo>
                  <a:lnTo>
                    <a:pt x="1032" y="2410"/>
                  </a:lnTo>
                  <a:lnTo>
                    <a:pt x="1041" y="2407"/>
                  </a:lnTo>
                  <a:lnTo>
                    <a:pt x="1050" y="2402"/>
                  </a:lnTo>
                  <a:lnTo>
                    <a:pt x="1060" y="2398"/>
                  </a:lnTo>
                  <a:lnTo>
                    <a:pt x="1074" y="2393"/>
                  </a:lnTo>
                  <a:lnTo>
                    <a:pt x="1088" y="2387"/>
                  </a:lnTo>
                  <a:lnTo>
                    <a:pt x="1106" y="2379"/>
                  </a:lnTo>
                  <a:lnTo>
                    <a:pt x="1127" y="2370"/>
                  </a:lnTo>
                  <a:lnTo>
                    <a:pt x="1151" y="2361"/>
                  </a:lnTo>
                  <a:lnTo>
                    <a:pt x="1121" y="2290"/>
                  </a:lnTo>
                  <a:lnTo>
                    <a:pt x="1092" y="2224"/>
                  </a:lnTo>
                  <a:lnTo>
                    <a:pt x="1067" y="2164"/>
                  </a:lnTo>
                  <a:lnTo>
                    <a:pt x="1043" y="2109"/>
                  </a:lnTo>
                  <a:lnTo>
                    <a:pt x="1021" y="2057"/>
                  </a:lnTo>
                  <a:lnTo>
                    <a:pt x="1001" y="2008"/>
                  </a:lnTo>
                  <a:lnTo>
                    <a:pt x="980" y="1961"/>
                  </a:lnTo>
                  <a:lnTo>
                    <a:pt x="961" y="1917"/>
                  </a:lnTo>
                  <a:lnTo>
                    <a:pt x="944" y="1874"/>
                  </a:lnTo>
                  <a:lnTo>
                    <a:pt x="925" y="1834"/>
                  </a:lnTo>
                  <a:lnTo>
                    <a:pt x="908" y="1792"/>
                  </a:lnTo>
                  <a:lnTo>
                    <a:pt x="890" y="1752"/>
                  </a:lnTo>
                  <a:lnTo>
                    <a:pt x="873" y="1709"/>
                  </a:lnTo>
                  <a:lnTo>
                    <a:pt x="854" y="1666"/>
                  </a:lnTo>
                  <a:lnTo>
                    <a:pt x="835" y="1620"/>
                  </a:lnTo>
                  <a:lnTo>
                    <a:pt x="815" y="1573"/>
                  </a:lnTo>
                  <a:lnTo>
                    <a:pt x="792" y="1523"/>
                  </a:lnTo>
                  <a:lnTo>
                    <a:pt x="770" y="1467"/>
                  </a:lnTo>
                  <a:lnTo>
                    <a:pt x="745" y="1409"/>
                  </a:lnTo>
                  <a:lnTo>
                    <a:pt x="717" y="1346"/>
                  </a:lnTo>
                  <a:lnTo>
                    <a:pt x="688" y="1277"/>
                  </a:lnTo>
                  <a:lnTo>
                    <a:pt x="656" y="1202"/>
                  </a:lnTo>
                  <a:lnTo>
                    <a:pt x="621" y="1121"/>
                  </a:lnTo>
                  <a:lnTo>
                    <a:pt x="583" y="1032"/>
                  </a:lnTo>
                  <a:lnTo>
                    <a:pt x="542" y="936"/>
                  </a:lnTo>
                  <a:lnTo>
                    <a:pt x="498" y="832"/>
                  </a:lnTo>
                  <a:lnTo>
                    <a:pt x="449" y="719"/>
                  </a:lnTo>
                  <a:lnTo>
                    <a:pt x="397" y="596"/>
                  </a:lnTo>
                  <a:lnTo>
                    <a:pt x="340" y="464"/>
                  </a:lnTo>
                  <a:lnTo>
                    <a:pt x="278" y="321"/>
                  </a:lnTo>
                  <a:lnTo>
                    <a:pt x="212" y="166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364520" y="3655440"/>
              <a:ext cx="81360" cy="200880"/>
            </a:xfrm>
            <a:custGeom>
              <a:avLst/>
              <a:gdLst/>
              <a:ahLst/>
              <a:rect l="l" t="t" r="r" b="b"/>
              <a:pathLst>
                <a:path w="1120" h="2424">
                  <a:moveTo>
                    <a:pt x="113" y="0"/>
                  </a:moveTo>
                  <a:lnTo>
                    <a:pt x="101" y="4"/>
                  </a:lnTo>
                  <a:lnTo>
                    <a:pt x="93" y="8"/>
                  </a:lnTo>
                  <a:lnTo>
                    <a:pt x="84" y="11"/>
                  </a:lnTo>
                  <a:lnTo>
                    <a:pt x="76" y="14"/>
                  </a:lnTo>
                  <a:lnTo>
                    <a:pt x="65" y="18"/>
                  </a:lnTo>
                  <a:lnTo>
                    <a:pt x="49" y="26"/>
                  </a:lnTo>
                  <a:lnTo>
                    <a:pt x="29" y="35"/>
                  </a:lnTo>
                  <a:lnTo>
                    <a:pt x="0" y="48"/>
                  </a:lnTo>
                  <a:lnTo>
                    <a:pt x="29" y="118"/>
                  </a:lnTo>
                  <a:lnTo>
                    <a:pt x="57" y="184"/>
                  </a:lnTo>
                  <a:lnTo>
                    <a:pt x="81" y="244"/>
                  </a:lnTo>
                  <a:lnTo>
                    <a:pt x="104" y="301"/>
                  </a:lnTo>
                  <a:lnTo>
                    <a:pt x="126" y="353"/>
                  </a:lnTo>
                  <a:lnTo>
                    <a:pt x="146" y="402"/>
                  </a:lnTo>
                  <a:lnTo>
                    <a:pt x="165" y="448"/>
                  </a:lnTo>
                  <a:lnTo>
                    <a:pt x="183" y="492"/>
                  </a:lnTo>
                  <a:lnTo>
                    <a:pt x="201" y="535"/>
                  </a:lnTo>
                  <a:lnTo>
                    <a:pt x="217" y="576"/>
                  </a:lnTo>
                  <a:lnTo>
                    <a:pt x="235" y="617"/>
                  </a:lnTo>
                  <a:lnTo>
                    <a:pt x="251" y="659"/>
                  </a:lnTo>
                  <a:lnTo>
                    <a:pt x="269" y="701"/>
                  </a:lnTo>
                  <a:lnTo>
                    <a:pt x="286" y="744"/>
                  </a:lnTo>
                  <a:lnTo>
                    <a:pt x="305" y="790"/>
                  </a:lnTo>
                  <a:lnTo>
                    <a:pt x="326" y="838"/>
                  </a:lnTo>
                  <a:lnTo>
                    <a:pt x="346" y="889"/>
                  </a:lnTo>
                  <a:lnTo>
                    <a:pt x="369" y="944"/>
                  </a:lnTo>
                  <a:lnTo>
                    <a:pt x="393" y="1003"/>
                  </a:lnTo>
                  <a:lnTo>
                    <a:pt x="419" y="1067"/>
                  </a:lnTo>
                  <a:lnTo>
                    <a:pt x="447" y="1137"/>
                  </a:lnTo>
                  <a:lnTo>
                    <a:pt x="478" y="1212"/>
                  </a:lnTo>
                  <a:lnTo>
                    <a:pt x="512" y="1294"/>
                  </a:lnTo>
                  <a:lnTo>
                    <a:pt x="549" y="1382"/>
                  </a:lnTo>
                  <a:lnTo>
                    <a:pt x="588" y="1480"/>
                  </a:lnTo>
                  <a:lnTo>
                    <a:pt x="632" y="1585"/>
                  </a:lnTo>
                  <a:lnTo>
                    <a:pt x="678" y="1699"/>
                  </a:lnTo>
                  <a:lnTo>
                    <a:pt x="730" y="1823"/>
                  </a:lnTo>
                  <a:lnTo>
                    <a:pt x="784" y="1956"/>
                  </a:lnTo>
                  <a:lnTo>
                    <a:pt x="843" y="2101"/>
                  </a:lnTo>
                  <a:lnTo>
                    <a:pt x="907" y="2256"/>
                  </a:lnTo>
                  <a:lnTo>
                    <a:pt x="976" y="2424"/>
                  </a:lnTo>
                  <a:lnTo>
                    <a:pt x="991" y="2416"/>
                  </a:lnTo>
                  <a:lnTo>
                    <a:pt x="1004" y="2411"/>
                  </a:lnTo>
                  <a:lnTo>
                    <a:pt x="1013" y="2406"/>
                  </a:lnTo>
                  <a:lnTo>
                    <a:pt x="1024" y="2402"/>
                  </a:lnTo>
                  <a:lnTo>
                    <a:pt x="1039" y="2395"/>
                  </a:lnTo>
                  <a:lnTo>
                    <a:pt x="1057" y="2387"/>
                  </a:lnTo>
                  <a:lnTo>
                    <a:pt x="1084" y="2377"/>
                  </a:lnTo>
                  <a:lnTo>
                    <a:pt x="1120" y="2362"/>
                  </a:lnTo>
                  <a:lnTo>
                    <a:pt x="1090" y="2291"/>
                  </a:lnTo>
                  <a:lnTo>
                    <a:pt x="1063" y="2226"/>
                  </a:lnTo>
                  <a:lnTo>
                    <a:pt x="1037" y="2165"/>
                  </a:lnTo>
                  <a:lnTo>
                    <a:pt x="1013" y="2109"/>
                  </a:lnTo>
                  <a:lnTo>
                    <a:pt x="990" y="2057"/>
                  </a:lnTo>
                  <a:lnTo>
                    <a:pt x="970" y="2009"/>
                  </a:lnTo>
                  <a:lnTo>
                    <a:pt x="950" y="1962"/>
                  </a:lnTo>
                  <a:lnTo>
                    <a:pt x="932" y="1919"/>
                  </a:lnTo>
                  <a:lnTo>
                    <a:pt x="914" y="1876"/>
                  </a:lnTo>
                  <a:lnTo>
                    <a:pt x="896" y="1834"/>
                  </a:lnTo>
                  <a:lnTo>
                    <a:pt x="878" y="1794"/>
                  </a:lnTo>
                  <a:lnTo>
                    <a:pt x="861" y="1752"/>
                  </a:lnTo>
                  <a:lnTo>
                    <a:pt x="843" y="1710"/>
                  </a:lnTo>
                  <a:lnTo>
                    <a:pt x="824" y="1667"/>
                  </a:lnTo>
                  <a:lnTo>
                    <a:pt x="805" y="1622"/>
                  </a:lnTo>
                  <a:lnTo>
                    <a:pt x="785" y="1574"/>
                  </a:lnTo>
                  <a:lnTo>
                    <a:pt x="764" y="1523"/>
                  </a:lnTo>
                  <a:lnTo>
                    <a:pt x="740" y="1469"/>
                  </a:lnTo>
                  <a:lnTo>
                    <a:pt x="715" y="1409"/>
                  </a:lnTo>
                  <a:lnTo>
                    <a:pt x="687" y="1346"/>
                  </a:lnTo>
                  <a:lnTo>
                    <a:pt x="659" y="1277"/>
                  </a:lnTo>
                  <a:lnTo>
                    <a:pt x="627" y="1202"/>
                  </a:lnTo>
                  <a:lnTo>
                    <a:pt x="592" y="1121"/>
                  </a:lnTo>
                  <a:lnTo>
                    <a:pt x="554" y="1033"/>
                  </a:lnTo>
                  <a:lnTo>
                    <a:pt x="513" y="936"/>
                  </a:lnTo>
                  <a:lnTo>
                    <a:pt x="469" y="832"/>
                  </a:lnTo>
                  <a:lnTo>
                    <a:pt x="420" y="718"/>
                  </a:lnTo>
                  <a:lnTo>
                    <a:pt x="368" y="596"/>
                  </a:lnTo>
                  <a:lnTo>
                    <a:pt x="311" y="463"/>
                  </a:lnTo>
                  <a:lnTo>
                    <a:pt x="250" y="320"/>
                  </a:lnTo>
                  <a:lnTo>
                    <a:pt x="184" y="165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64520" y="3655440"/>
              <a:ext cx="78480" cy="200880"/>
            </a:xfrm>
            <a:custGeom>
              <a:avLst/>
              <a:gdLst/>
              <a:ahLst/>
              <a:rect l="l" t="t" r="r" b="b"/>
              <a:pathLst>
                <a:path w="1088" h="2410">
                  <a:moveTo>
                    <a:pt x="87" y="0"/>
                  </a:moveTo>
                  <a:lnTo>
                    <a:pt x="77" y="3"/>
                  </a:lnTo>
                  <a:lnTo>
                    <a:pt x="71" y="6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0" y="15"/>
                  </a:lnTo>
                  <a:lnTo>
                    <a:pt x="38" y="20"/>
                  </a:lnTo>
                  <a:lnTo>
                    <a:pt x="22" y="27"/>
                  </a:lnTo>
                  <a:lnTo>
                    <a:pt x="0" y="36"/>
                  </a:lnTo>
                  <a:lnTo>
                    <a:pt x="30" y="107"/>
                  </a:lnTo>
                  <a:lnTo>
                    <a:pt x="57" y="173"/>
                  </a:lnTo>
                  <a:lnTo>
                    <a:pt x="81" y="233"/>
                  </a:lnTo>
                  <a:lnTo>
                    <a:pt x="105" y="289"/>
                  </a:lnTo>
                  <a:lnTo>
                    <a:pt x="127" y="342"/>
                  </a:lnTo>
                  <a:lnTo>
                    <a:pt x="146" y="390"/>
                  </a:lnTo>
                  <a:lnTo>
                    <a:pt x="166" y="437"/>
                  </a:lnTo>
                  <a:lnTo>
                    <a:pt x="184" y="481"/>
                  </a:lnTo>
                  <a:lnTo>
                    <a:pt x="201" y="524"/>
                  </a:lnTo>
                  <a:lnTo>
                    <a:pt x="219" y="565"/>
                  </a:lnTo>
                  <a:lnTo>
                    <a:pt x="236" y="606"/>
                  </a:lnTo>
                  <a:lnTo>
                    <a:pt x="253" y="648"/>
                  </a:lnTo>
                  <a:lnTo>
                    <a:pt x="270" y="689"/>
                  </a:lnTo>
                  <a:lnTo>
                    <a:pt x="289" y="733"/>
                  </a:lnTo>
                  <a:lnTo>
                    <a:pt x="307" y="779"/>
                  </a:lnTo>
                  <a:lnTo>
                    <a:pt x="327" y="827"/>
                  </a:lnTo>
                  <a:lnTo>
                    <a:pt x="348" y="878"/>
                  </a:lnTo>
                  <a:lnTo>
                    <a:pt x="371" y="933"/>
                  </a:lnTo>
                  <a:lnTo>
                    <a:pt x="395" y="991"/>
                  </a:lnTo>
                  <a:lnTo>
                    <a:pt x="422" y="1056"/>
                  </a:lnTo>
                  <a:lnTo>
                    <a:pt x="449" y="1125"/>
                  </a:lnTo>
                  <a:lnTo>
                    <a:pt x="480" y="1201"/>
                  </a:lnTo>
                  <a:lnTo>
                    <a:pt x="514" y="1282"/>
                  </a:lnTo>
                  <a:lnTo>
                    <a:pt x="551" y="1371"/>
                  </a:lnTo>
                  <a:lnTo>
                    <a:pt x="591" y="1468"/>
                  </a:lnTo>
                  <a:lnTo>
                    <a:pt x="634" y="1573"/>
                  </a:lnTo>
                  <a:lnTo>
                    <a:pt x="681" y="1687"/>
                  </a:lnTo>
                  <a:lnTo>
                    <a:pt x="732" y="1811"/>
                  </a:lnTo>
                  <a:lnTo>
                    <a:pt x="787" y="1944"/>
                  </a:lnTo>
                  <a:lnTo>
                    <a:pt x="846" y="2088"/>
                  </a:lnTo>
                  <a:lnTo>
                    <a:pt x="910" y="2243"/>
                  </a:lnTo>
                  <a:lnTo>
                    <a:pt x="979" y="2410"/>
                  </a:lnTo>
                  <a:lnTo>
                    <a:pt x="992" y="2405"/>
                  </a:lnTo>
                  <a:lnTo>
                    <a:pt x="1000" y="2401"/>
                  </a:lnTo>
                  <a:lnTo>
                    <a:pt x="1008" y="2397"/>
                  </a:lnTo>
                  <a:lnTo>
                    <a:pt x="1016" y="2394"/>
                  </a:lnTo>
                  <a:lnTo>
                    <a:pt x="1027" y="2390"/>
                  </a:lnTo>
                  <a:lnTo>
                    <a:pt x="1041" y="2383"/>
                  </a:lnTo>
                  <a:lnTo>
                    <a:pt x="1061" y="2375"/>
                  </a:lnTo>
                  <a:lnTo>
                    <a:pt x="1088" y="2365"/>
                  </a:lnTo>
                  <a:lnTo>
                    <a:pt x="1059" y="2294"/>
                  </a:lnTo>
                  <a:lnTo>
                    <a:pt x="1031" y="2228"/>
                  </a:lnTo>
                  <a:lnTo>
                    <a:pt x="1005" y="2168"/>
                  </a:lnTo>
                  <a:lnTo>
                    <a:pt x="982" y="2112"/>
                  </a:lnTo>
                  <a:lnTo>
                    <a:pt x="960" y="2060"/>
                  </a:lnTo>
                  <a:lnTo>
                    <a:pt x="939" y="2011"/>
                  </a:lnTo>
                  <a:lnTo>
                    <a:pt x="919" y="1965"/>
                  </a:lnTo>
                  <a:lnTo>
                    <a:pt x="901" y="1920"/>
                  </a:lnTo>
                  <a:lnTo>
                    <a:pt x="883" y="1878"/>
                  </a:lnTo>
                  <a:lnTo>
                    <a:pt x="866" y="1837"/>
                  </a:lnTo>
                  <a:lnTo>
                    <a:pt x="848" y="1795"/>
                  </a:lnTo>
                  <a:lnTo>
                    <a:pt x="831" y="1753"/>
                  </a:lnTo>
                  <a:lnTo>
                    <a:pt x="813" y="1712"/>
                  </a:lnTo>
                  <a:lnTo>
                    <a:pt x="795" y="1668"/>
                  </a:lnTo>
                  <a:lnTo>
                    <a:pt x="775" y="1623"/>
                  </a:lnTo>
                  <a:lnTo>
                    <a:pt x="756" y="1575"/>
                  </a:lnTo>
                  <a:lnTo>
                    <a:pt x="734" y="1524"/>
                  </a:lnTo>
                  <a:lnTo>
                    <a:pt x="710" y="1469"/>
                  </a:lnTo>
                  <a:lnTo>
                    <a:pt x="685" y="1411"/>
                  </a:lnTo>
                  <a:lnTo>
                    <a:pt x="659" y="1347"/>
                  </a:lnTo>
                  <a:lnTo>
                    <a:pt x="630" y="1279"/>
                  </a:lnTo>
                  <a:lnTo>
                    <a:pt x="598" y="1204"/>
                  </a:lnTo>
                  <a:lnTo>
                    <a:pt x="563" y="1121"/>
                  </a:lnTo>
                  <a:lnTo>
                    <a:pt x="526" y="1033"/>
                  </a:lnTo>
                  <a:lnTo>
                    <a:pt x="484" y="937"/>
                  </a:lnTo>
                  <a:lnTo>
                    <a:pt x="440" y="833"/>
                  </a:lnTo>
                  <a:lnTo>
                    <a:pt x="392" y="720"/>
                  </a:lnTo>
                  <a:lnTo>
                    <a:pt x="340" y="597"/>
                  </a:lnTo>
                  <a:lnTo>
                    <a:pt x="283" y="463"/>
                  </a:lnTo>
                  <a:lnTo>
                    <a:pt x="223" y="321"/>
                  </a:lnTo>
                  <a:lnTo>
                    <a:pt x="157" y="167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64520" y="3656880"/>
              <a:ext cx="76680" cy="198000"/>
            </a:xfrm>
            <a:custGeom>
              <a:avLst/>
              <a:gdLst/>
              <a:ahLst/>
              <a:rect l="l" t="t" r="r" b="b"/>
              <a:pathLst>
                <a:path w="1058" h="2398">
                  <a:moveTo>
                    <a:pt x="59" y="0"/>
                  </a:moveTo>
                  <a:lnTo>
                    <a:pt x="53" y="2"/>
                  </a:lnTo>
                  <a:lnTo>
                    <a:pt x="49" y="5"/>
                  </a:lnTo>
                  <a:lnTo>
                    <a:pt x="45" y="6"/>
                  </a:lnTo>
                  <a:lnTo>
                    <a:pt x="40" y="8"/>
                  </a:lnTo>
                  <a:lnTo>
                    <a:pt x="34" y="10"/>
                  </a:lnTo>
                  <a:lnTo>
                    <a:pt x="26" y="13"/>
                  </a:lnTo>
                  <a:lnTo>
                    <a:pt x="16" y="18"/>
                  </a:lnTo>
                  <a:lnTo>
                    <a:pt x="0" y="25"/>
                  </a:lnTo>
                  <a:lnTo>
                    <a:pt x="30" y="96"/>
                  </a:lnTo>
                  <a:lnTo>
                    <a:pt x="57" y="162"/>
                  </a:lnTo>
                  <a:lnTo>
                    <a:pt x="82" y="222"/>
                  </a:lnTo>
                  <a:lnTo>
                    <a:pt x="105" y="278"/>
                  </a:lnTo>
                  <a:lnTo>
                    <a:pt x="127" y="330"/>
                  </a:lnTo>
                  <a:lnTo>
                    <a:pt x="148" y="379"/>
                  </a:lnTo>
                  <a:lnTo>
                    <a:pt x="166" y="425"/>
                  </a:lnTo>
                  <a:lnTo>
                    <a:pt x="185" y="469"/>
                  </a:lnTo>
                  <a:lnTo>
                    <a:pt x="202" y="512"/>
                  </a:lnTo>
                  <a:lnTo>
                    <a:pt x="220" y="553"/>
                  </a:lnTo>
                  <a:lnTo>
                    <a:pt x="236" y="594"/>
                  </a:lnTo>
                  <a:lnTo>
                    <a:pt x="254" y="636"/>
                  </a:lnTo>
                  <a:lnTo>
                    <a:pt x="271" y="678"/>
                  </a:lnTo>
                  <a:lnTo>
                    <a:pt x="289" y="721"/>
                  </a:lnTo>
                  <a:lnTo>
                    <a:pt x="308" y="767"/>
                  </a:lnTo>
                  <a:lnTo>
                    <a:pt x="328" y="815"/>
                  </a:lnTo>
                  <a:lnTo>
                    <a:pt x="349" y="866"/>
                  </a:lnTo>
                  <a:lnTo>
                    <a:pt x="371" y="921"/>
                  </a:lnTo>
                  <a:lnTo>
                    <a:pt x="396" y="979"/>
                  </a:lnTo>
                  <a:lnTo>
                    <a:pt x="423" y="1044"/>
                  </a:lnTo>
                  <a:lnTo>
                    <a:pt x="451" y="1112"/>
                  </a:lnTo>
                  <a:lnTo>
                    <a:pt x="483" y="1188"/>
                  </a:lnTo>
                  <a:lnTo>
                    <a:pt x="517" y="1270"/>
                  </a:lnTo>
                  <a:lnTo>
                    <a:pt x="553" y="1359"/>
                  </a:lnTo>
                  <a:lnTo>
                    <a:pt x="593" y="1456"/>
                  </a:lnTo>
                  <a:lnTo>
                    <a:pt x="636" y="1561"/>
                  </a:lnTo>
                  <a:lnTo>
                    <a:pt x="684" y="1675"/>
                  </a:lnTo>
                  <a:lnTo>
                    <a:pt x="734" y="1799"/>
                  </a:lnTo>
                  <a:lnTo>
                    <a:pt x="790" y="1932"/>
                  </a:lnTo>
                  <a:lnTo>
                    <a:pt x="849" y="2076"/>
                  </a:lnTo>
                  <a:lnTo>
                    <a:pt x="913" y="2231"/>
                  </a:lnTo>
                  <a:lnTo>
                    <a:pt x="982" y="2398"/>
                  </a:lnTo>
                  <a:lnTo>
                    <a:pt x="991" y="2394"/>
                  </a:lnTo>
                  <a:lnTo>
                    <a:pt x="997" y="2391"/>
                  </a:lnTo>
                  <a:lnTo>
                    <a:pt x="1002" y="2389"/>
                  </a:lnTo>
                  <a:lnTo>
                    <a:pt x="1008" y="2386"/>
                  </a:lnTo>
                  <a:lnTo>
                    <a:pt x="1015" y="2383"/>
                  </a:lnTo>
                  <a:lnTo>
                    <a:pt x="1025" y="2379"/>
                  </a:lnTo>
                  <a:lnTo>
                    <a:pt x="1039" y="2373"/>
                  </a:lnTo>
                  <a:lnTo>
                    <a:pt x="1058" y="2366"/>
                  </a:lnTo>
                  <a:lnTo>
                    <a:pt x="1028" y="2295"/>
                  </a:lnTo>
                  <a:lnTo>
                    <a:pt x="1000" y="2230"/>
                  </a:lnTo>
                  <a:lnTo>
                    <a:pt x="975" y="2169"/>
                  </a:lnTo>
                  <a:lnTo>
                    <a:pt x="952" y="2113"/>
                  </a:lnTo>
                  <a:lnTo>
                    <a:pt x="930" y="2061"/>
                  </a:lnTo>
                  <a:lnTo>
                    <a:pt x="909" y="2012"/>
                  </a:lnTo>
                  <a:lnTo>
                    <a:pt x="890" y="1966"/>
                  </a:lnTo>
                  <a:lnTo>
                    <a:pt x="871" y="1922"/>
                  </a:lnTo>
                  <a:lnTo>
                    <a:pt x="853" y="1880"/>
                  </a:lnTo>
                  <a:lnTo>
                    <a:pt x="835" y="1838"/>
                  </a:lnTo>
                  <a:lnTo>
                    <a:pt x="819" y="1796"/>
                  </a:lnTo>
                  <a:lnTo>
                    <a:pt x="801" y="1756"/>
                  </a:lnTo>
                  <a:lnTo>
                    <a:pt x="782" y="1713"/>
                  </a:lnTo>
                  <a:lnTo>
                    <a:pt x="765" y="1671"/>
                  </a:lnTo>
                  <a:lnTo>
                    <a:pt x="745" y="1625"/>
                  </a:lnTo>
                  <a:lnTo>
                    <a:pt x="726" y="1577"/>
                  </a:lnTo>
                  <a:lnTo>
                    <a:pt x="704" y="1526"/>
                  </a:lnTo>
                  <a:lnTo>
                    <a:pt x="680" y="1472"/>
                  </a:lnTo>
                  <a:lnTo>
                    <a:pt x="656" y="1412"/>
                  </a:lnTo>
                  <a:lnTo>
                    <a:pt x="629" y="1349"/>
                  </a:lnTo>
                  <a:lnTo>
                    <a:pt x="600" y="1280"/>
                  </a:lnTo>
                  <a:lnTo>
                    <a:pt x="568" y="1205"/>
                  </a:lnTo>
                  <a:lnTo>
                    <a:pt x="534" y="1124"/>
                  </a:lnTo>
                  <a:lnTo>
                    <a:pt x="496" y="1034"/>
                  </a:lnTo>
                  <a:lnTo>
                    <a:pt x="456" y="939"/>
                  </a:lnTo>
                  <a:lnTo>
                    <a:pt x="411" y="833"/>
                  </a:lnTo>
                  <a:lnTo>
                    <a:pt x="363" y="721"/>
                  </a:lnTo>
                  <a:lnTo>
                    <a:pt x="311" y="598"/>
                  </a:lnTo>
                  <a:lnTo>
                    <a:pt x="255" y="465"/>
                  </a:lnTo>
                  <a:lnTo>
                    <a:pt x="195" y="321"/>
                  </a:lnTo>
                  <a:lnTo>
                    <a:pt x="129" y="16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364520" y="3656880"/>
              <a:ext cx="75600" cy="198000"/>
            </a:xfrm>
            <a:custGeom>
              <a:avLst/>
              <a:gdLst/>
              <a:ahLst/>
              <a:rect l="l" t="t" r="r" b="b"/>
              <a:pathLst>
                <a:path w="1028" h="2384">
                  <a:moveTo>
                    <a:pt x="33" y="0"/>
                  </a:moveTo>
                  <a:lnTo>
                    <a:pt x="0" y="13"/>
                  </a:lnTo>
                  <a:lnTo>
                    <a:pt x="988" y="2384"/>
                  </a:lnTo>
                  <a:lnTo>
                    <a:pt x="1028" y="236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362720" y="3652560"/>
              <a:ext cx="39240" cy="6840"/>
            </a:xfrm>
            <a:custGeom>
              <a:avLst/>
              <a:gdLst/>
              <a:ahLst/>
              <a:rect l="l" t="t" r="r" b="b"/>
              <a:pathLst>
                <a:path w="176" h="94">
                  <a:moveTo>
                    <a:pt x="176" y="20"/>
                  </a:moveTo>
                  <a:lnTo>
                    <a:pt x="8" y="94"/>
                  </a:lnTo>
                  <a:lnTo>
                    <a:pt x="0" y="74"/>
                  </a:lnTo>
                  <a:lnTo>
                    <a:pt x="168" y="0"/>
                  </a:lnTo>
                  <a:lnTo>
                    <a:pt x="176" y="2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360200" y="3644280"/>
              <a:ext cx="39240" cy="13680"/>
            </a:xfrm>
            <a:custGeom>
              <a:avLst/>
              <a:gdLst/>
              <a:ahLst/>
              <a:rect l="l" t="t" r="r" b="b"/>
              <a:pathLst>
                <a:path w="202" h="177">
                  <a:moveTo>
                    <a:pt x="202" y="105"/>
                  </a:moveTo>
                  <a:lnTo>
                    <a:pt x="33" y="177"/>
                  </a:lnTo>
                  <a:lnTo>
                    <a:pt x="0" y="99"/>
                  </a:lnTo>
                  <a:lnTo>
                    <a:pt x="59" y="0"/>
                  </a:lnTo>
                  <a:lnTo>
                    <a:pt x="169" y="26"/>
                  </a:lnTo>
                  <a:lnTo>
                    <a:pt x="202" y="10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360200" y="3644280"/>
              <a:ext cx="39240" cy="13680"/>
            </a:xfrm>
            <a:custGeom>
              <a:avLst/>
              <a:gdLst/>
              <a:ahLst/>
              <a:rect l="l" t="t" r="r" b="b"/>
              <a:pathLst>
                <a:path w="174" h="175">
                  <a:moveTo>
                    <a:pt x="174" y="115"/>
                  </a:moveTo>
                  <a:lnTo>
                    <a:pt x="159" y="121"/>
                  </a:lnTo>
                  <a:lnTo>
                    <a:pt x="148" y="125"/>
                  </a:lnTo>
                  <a:lnTo>
                    <a:pt x="138" y="129"/>
                  </a:lnTo>
                  <a:lnTo>
                    <a:pt x="127" y="133"/>
                  </a:lnTo>
                  <a:lnTo>
                    <a:pt x="114" y="140"/>
                  </a:lnTo>
                  <a:lnTo>
                    <a:pt x="94" y="148"/>
                  </a:lnTo>
                  <a:lnTo>
                    <a:pt x="69" y="159"/>
                  </a:lnTo>
                  <a:lnTo>
                    <a:pt x="33" y="175"/>
                  </a:lnTo>
                  <a:lnTo>
                    <a:pt x="29" y="167"/>
                  </a:lnTo>
                  <a:lnTo>
                    <a:pt x="26" y="159"/>
                  </a:lnTo>
                  <a:lnTo>
                    <a:pt x="24" y="154"/>
                  </a:lnTo>
                  <a:lnTo>
                    <a:pt x="22" y="148"/>
                  </a:lnTo>
                  <a:lnTo>
                    <a:pt x="19" y="140"/>
                  </a:lnTo>
                  <a:lnTo>
                    <a:pt x="15" y="129"/>
                  </a:lnTo>
                  <a:lnTo>
                    <a:pt x="8" y="116"/>
                  </a:lnTo>
                  <a:lnTo>
                    <a:pt x="0" y="96"/>
                  </a:lnTo>
                  <a:lnTo>
                    <a:pt x="6" y="85"/>
                  </a:lnTo>
                  <a:lnTo>
                    <a:pt x="10" y="77"/>
                  </a:lnTo>
                  <a:lnTo>
                    <a:pt x="14" y="70"/>
                  </a:lnTo>
                  <a:lnTo>
                    <a:pt x="18" y="63"/>
                  </a:lnTo>
                  <a:lnTo>
                    <a:pt x="23" y="53"/>
                  </a:lnTo>
                  <a:lnTo>
                    <a:pt x="30" y="41"/>
                  </a:lnTo>
                  <a:lnTo>
                    <a:pt x="40" y="24"/>
                  </a:lnTo>
                  <a:lnTo>
                    <a:pt x="52" y="0"/>
                  </a:lnTo>
                  <a:lnTo>
                    <a:pt x="62" y="3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3" y="12"/>
                  </a:lnTo>
                  <a:lnTo>
                    <a:pt x="91" y="15"/>
                  </a:lnTo>
                  <a:lnTo>
                    <a:pt x="103" y="20"/>
                  </a:lnTo>
                  <a:lnTo>
                    <a:pt x="119" y="27"/>
                  </a:lnTo>
                  <a:lnTo>
                    <a:pt x="141" y="37"/>
                  </a:lnTo>
                  <a:lnTo>
                    <a:pt x="145" y="44"/>
                  </a:lnTo>
                  <a:lnTo>
                    <a:pt x="147" y="50"/>
                  </a:lnTo>
                  <a:lnTo>
                    <a:pt x="150" y="55"/>
                  </a:lnTo>
                  <a:lnTo>
                    <a:pt x="152" y="60"/>
                  </a:lnTo>
                  <a:lnTo>
                    <a:pt x="155" y="69"/>
                  </a:lnTo>
                  <a:lnTo>
                    <a:pt x="159" y="79"/>
                  </a:lnTo>
                  <a:lnTo>
                    <a:pt x="165" y="94"/>
                  </a:lnTo>
                  <a:lnTo>
                    <a:pt x="174" y="115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36164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144" h="173">
                  <a:moveTo>
                    <a:pt x="144" y="125"/>
                  </a:moveTo>
                  <a:lnTo>
                    <a:pt x="133" y="129"/>
                  </a:lnTo>
                  <a:lnTo>
                    <a:pt x="123" y="133"/>
                  </a:lnTo>
                  <a:lnTo>
                    <a:pt x="116" y="135"/>
                  </a:lnTo>
                  <a:lnTo>
                    <a:pt x="108" y="140"/>
                  </a:lnTo>
                  <a:lnTo>
                    <a:pt x="98" y="144"/>
                  </a:lnTo>
                  <a:lnTo>
                    <a:pt x="82" y="150"/>
                  </a:lnTo>
                  <a:lnTo>
                    <a:pt x="62" y="159"/>
                  </a:lnTo>
                  <a:lnTo>
                    <a:pt x="33" y="173"/>
                  </a:lnTo>
                  <a:lnTo>
                    <a:pt x="30" y="164"/>
                  </a:lnTo>
                  <a:lnTo>
                    <a:pt x="27" y="157"/>
                  </a:lnTo>
                  <a:lnTo>
                    <a:pt x="24" y="151"/>
                  </a:lnTo>
                  <a:lnTo>
                    <a:pt x="22" y="145"/>
                  </a:lnTo>
                  <a:lnTo>
                    <a:pt x="19" y="138"/>
                  </a:lnTo>
                  <a:lnTo>
                    <a:pt x="15" y="127"/>
                  </a:lnTo>
                  <a:lnTo>
                    <a:pt x="8" y="113"/>
                  </a:lnTo>
                  <a:lnTo>
                    <a:pt x="0" y="94"/>
                  </a:lnTo>
                  <a:lnTo>
                    <a:pt x="5" y="83"/>
                  </a:lnTo>
                  <a:lnTo>
                    <a:pt x="9" y="75"/>
                  </a:lnTo>
                  <a:lnTo>
                    <a:pt x="12" y="68"/>
                  </a:lnTo>
                  <a:lnTo>
                    <a:pt x="16" y="60"/>
                  </a:lnTo>
                  <a:lnTo>
                    <a:pt x="20" y="52"/>
                  </a:lnTo>
                  <a:lnTo>
                    <a:pt x="27" y="40"/>
                  </a:lnTo>
                  <a:lnTo>
                    <a:pt x="35" y="23"/>
                  </a:lnTo>
                  <a:lnTo>
                    <a:pt x="46" y="0"/>
                  </a:lnTo>
                  <a:lnTo>
                    <a:pt x="53" y="4"/>
                  </a:lnTo>
                  <a:lnTo>
                    <a:pt x="59" y="8"/>
                  </a:lnTo>
                  <a:lnTo>
                    <a:pt x="64" y="12"/>
                  </a:lnTo>
                  <a:lnTo>
                    <a:pt x="69" y="15"/>
                  </a:lnTo>
                  <a:lnTo>
                    <a:pt x="75" y="19"/>
                  </a:lnTo>
                  <a:lnTo>
                    <a:pt x="84" y="25"/>
                  </a:lnTo>
                  <a:lnTo>
                    <a:pt x="96" y="33"/>
                  </a:lnTo>
                  <a:lnTo>
                    <a:pt x="112" y="46"/>
                  </a:lnTo>
                  <a:lnTo>
                    <a:pt x="116" y="54"/>
                  </a:lnTo>
                  <a:lnTo>
                    <a:pt x="118" y="59"/>
                  </a:lnTo>
                  <a:lnTo>
                    <a:pt x="121" y="65"/>
                  </a:lnTo>
                  <a:lnTo>
                    <a:pt x="123" y="71"/>
                  </a:lnTo>
                  <a:lnTo>
                    <a:pt x="126" y="78"/>
                  </a:lnTo>
                  <a:lnTo>
                    <a:pt x="131" y="89"/>
                  </a:lnTo>
                  <a:lnTo>
                    <a:pt x="137" y="104"/>
                  </a:lnTo>
                  <a:lnTo>
                    <a:pt x="144" y="125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36164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117" h="170">
                  <a:moveTo>
                    <a:pt x="117" y="134"/>
                  </a:moveTo>
                  <a:lnTo>
                    <a:pt x="108" y="138"/>
                  </a:lnTo>
                  <a:lnTo>
                    <a:pt x="102" y="140"/>
                  </a:lnTo>
                  <a:lnTo>
                    <a:pt x="96" y="143"/>
                  </a:lnTo>
                  <a:lnTo>
                    <a:pt x="90" y="145"/>
                  </a:lnTo>
                  <a:lnTo>
                    <a:pt x="81" y="148"/>
                  </a:lnTo>
                  <a:lnTo>
                    <a:pt x="70" y="153"/>
                  </a:lnTo>
                  <a:lnTo>
                    <a:pt x="54" y="160"/>
                  </a:lnTo>
                  <a:lnTo>
                    <a:pt x="33" y="170"/>
                  </a:lnTo>
                  <a:lnTo>
                    <a:pt x="30" y="161"/>
                  </a:lnTo>
                  <a:lnTo>
                    <a:pt x="27" y="154"/>
                  </a:lnTo>
                  <a:lnTo>
                    <a:pt x="25" y="149"/>
                  </a:lnTo>
                  <a:lnTo>
                    <a:pt x="23" y="143"/>
                  </a:lnTo>
                  <a:lnTo>
                    <a:pt x="19" y="134"/>
                  </a:lnTo>
                  <a:lnTo>
                    <a:pt x="15" y="125"/>
                  </a:lnTo>
                  <a:lnTo>
                    <a:pt x="8" y="110"/>
                  </a:lnTo>
                  <a:lnTo>
                    <a:pt x="0" y="92"/>
                  </a:lnTo>
                  <a:lnTo>
                    <a:pt x="5" y="81"/>
                  </a:lnTo>
                  <a:lnTo>
                    <a:pt x="8" y="73"/>
                  </a:lnTo>
                  <a:lnTo>
                    <a:pt x="11" y="67"/>
                  </a:lnTo>
                  <a:lnTo>
                    <a:pt x="14" y="59"/>
                  </a:lnTo>
                  <a:lnTo>
                    <a:pt x="18" y="51"/>
                  </a:lnTo>
                  <a:lnTo>
                    <a:pt x="24" y="39"/>
                  </a:lnTo>
                  <a:lnTo>
                    <a:pt x="32" y="22"/>
                  </a:lnTo>
                  <a:lnTo>
                    <a:pt x="41" y="0"/>
                  </a:lnTo>
                  <a:lnTo>
                    <a:pt x="46" y="5"/>
                  </a:lnTo>
                  <a:lnTo>
                    <a:pt x="50" y="9"/>
                  </a:lnTo>
                  <a:lnTo>
                    <a:pt x="53" y="14"/>
                  </a:lnTo>
                  <a:lnTo>
                    <a:pt x="57" y="18"/>
                  </a:lnTo>
                  <a:lnTo>
                    <a:pt x="61" y="23"/>
                  </a:lnTo>
                  <a:lnTo>
                    <a:pt x="66" y="30"/>
                  </a:lnTo>
                  <a:lnTo>
                    <a:pt x="74" y="41"/>
                  </a:lnTo>
                  <a:lnTo>
                    <a:pt x="84" y="55"/>
                  </a:lnTo>
                  <a:lnTo>
                    <a:pt x="89" y="64"/>
                  </a:lnTo>
                  <a:lnTo>
                    <a:pt x="91" y="69"/>
                  </a:lnTo>
                  <a:lnTo>
                    <a:pt x="94" y="74"/>
                  </a:lnTo>
                  <a:lnTo>
                    <a:pt x="96" y="80"/>
                  </a:lnTo>
                  <a:lnTo>
                    <a:pt x="99" y="88"/>
                  </a:lnTo>
                  <a:lnTo>
                    <a:pt x="103" y="98"/>
                  </a:lnTo>
                  <a:lnTo>
                    <a:pt x="109" y="114"/>
                  </a:lnTo>
                  <a:lnTo>
                    <a:pt x="117" y="134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36164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89" h="168">
                  <a:moveTo>
                    <a:pt x="89" y="144"/>
                  </a:moveTo>
                  <a:lnTo>
                    <a:pt x="83" y="146"/>
                  </a:lnTo>
                  <a:lnTo>
                    <a:pt x="78" y="148"/>
                  </a:lnTo>
                  <a:lnTo>
                    <a:pt x="74" y="149"/>
                  </a:lnTo>
                  <a:lnTo>
                    <a:pt x="70" y="151"/>
                  </a:lnTo>
                  <a:lnTo>
                    <a:pt x="65" y="153"/>
                  </a:lnTo>
                  <a:lnTo>
                    <a:pt x="58" y="156"/>
                  </a:lnTo>
                  <a:lnTo>
                    <a:pt x="47" y="161"/>
                  </a:lnTo>
                  <a:lnTo>
                    <a:pt x="33" y="168"/>
                  </a:lnTo>
                  <a:lnTo>
                    <a:pt x="30" y="159"/>
                  </a:lnTo>
                  <a:lnTo>
                    <a:pt x="27" y="152"/>
                  </a:lnTo>
                  <a:lnTo>
                    <a:pt x="25" y="147"/>
                  </a:lnTo>
                  <a:lnTo>
                    <a:pt x="23" y="141"/>
                  </a:lnTo>
                  <a:lnTo>
                    <a:pt x="20" y="132"/>
                  </a:lnTo>
                  <a:lnTo>
                    <a:pt x="16" y="122"/>
                  </a:lnTo>
                  <a:lnTo>
                    <a:pt x="8" y="108"/>
                  </a:lnTo>
                  <a:lnTo>
                    <a:pt x="0" y="89"/>
                  </a:lnTo>
                  <a:lnTo>
                    <a:pt x="4" y="78"/>
                  </a:lnTo>
                  <a:lnTo>
                    <a:pt x="7" y="71"/>
                  </a:lnTo>
                  <a:lnTo>
                    <a:pt x="9" y="65"/>
                  </a:lnTo>
                  <a:lnTo>
                    <a:pt x="12" y="57"/>
                  </a:lnTo>
                  <a:lnTo>
                    <a:pt x="16" y="49"/>
                  </a:lnTo>
                  <a:lnTo>
                    <a:pt x="20" y="38"/>
                  </a:lnTo>
                  <a:lnTo>
                    <a:pt x="27" y="22"/>
                  </a:lnTo>
                  <a:lnTo>
                    <a:pt x="35" y="0"/>
                  </a:lnTo>
                  <a:lnTo>
                    <a:pt x="40" y="12"/>
                  </a:lnTo>
                  <a:lnTo>
                    <a:pt x="43" y="21"/>
                  </a:lnTo>
                  <a:lnTo>
                    <a:pt x="47" y="35"/>
                  </a:lnTo>
                  <a:lnTo>
                    <a:pt x="56" y="65"/>
                  </a:lnTo>
                  <a:lnTo>
                    <a:pt x="60" y="73"/>
                  </a:lnTo>
                  <a:lnTo>
                    <a:pt x="62" y="78"/>
                  </a:lnTo>
                  <a:lnTo>
                    <a:pt x="65" y="83"/>
                  </a:lnTo>
                  <a:lnTo>
                    <a:pt x="67" y="90"/>
                  </a:lnTo>
                  <a:lnTo>
                    <a:pt x="70" y="97"/>
                  </a:lnTo>
                  <a:lnTo>
                    <a:pt x="74" y="107"/>
                  </a:lnTo>
                  <a:lnTo>
                    <a:pt x="80" y="123"/>
                  </a:lnTo>
                  <a:lnTo>
                    <a:pt x="89" y="144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36272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60" h="166">
                  <a:moveTo>
                    <a:pt x="60" y="153"/>
                  </a:moveTo>
                  <a:lnTo>
                    <a:pt x="33" y="166"/>
                  </a:lnTo>
                  <a:lnTo>
                    <a:pt x="0" y="86"/>
                  </a:lnTo>
                  <a:lnTo>
                    <a:pt x="30" y="0"/>
                  </a:lnTo>
                  <a:lnTo>
                    <a:pt x="27" y="75"/>
                  </a:lnTo>
                  <a:lnTo>
                    <a:pt x="60" y="15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360200" y="3645720"/>
              <a:ext cx="39240" cy="6840"/>
            </a:xfrm>
            <a:custGeom>
              <a:avLst/>
              <a:gdLst/>
              <a:ahLst/>
              <a:rect l="l" t="t" r="r" b="b"/>
              <a:pathLst>
                <a:path w="173" h="80">
                  <a:moveTo>
                    <a:pt x="171" y="4"/>
                  </a:moveTo>
                  <a:lnTo>
                    <a:pt x="169" y="0"/>
                  </a:lnTo>
                  <a:lnTo>
                    <a:pt x="0" y="72"/>
                  </a:lnTo>
                  <a:lnTo>
                    <a:pt x="4" y="80"/>
                  </a:lnTo>
                  <a:lnTo>
                    <a:pt x="173" y="8"/>
                  </a:lnTo>
                  <a:lnTo>
                    <a:pt x="171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34360" y="3849840"/>
              <a:ext cx="39600" cy="7920"/>
            </a:xfrm>
            <a:custGeom>
              <a:avLst/>
              <a:gdLst/>
              <a:ahLst/>
              <a:rect l="l" t="t" r="r" b="b"/>
              <a:pathLst>
                <a:path w="219" h="102">
                  <a:moveTo>
                    <a:pt x="219" y="12"/>
                  </a:moveTo>
                  <a:lnTo>
                    <a:pt x="5" y="102"/>
                  </a:lnTo>
                  <a:lnTo>
                    <a:pt x="0" y="92"/>
                  </a:lnTo>
                  <a:lnTo>
                    <a:pt x="214" y="0"/>
                  </a:lnTo>
                  <a:lnTo>
                    <a:pt x="219" y="1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434360" y="3849840"/>
              <a:ext cx="39600" cy="24840"/>
            </a:xfrm>
            <a:custGeom>
              <a:avLst/>
              <a:gdLst/>
              <a:ahLst/>
              <a:rect l="l" t="t" r="r" b="b"/>
              <a:pathLst>
                <a:path w="252" h="293">
                  <a:moveTo>
                    <a:pt x="209" y="291"/>
                  </a:moveTo>
                  <a:lnTo>
                    <a:pt x="221" y="282"/>
                  </a:lnTo>
                  <a:lnTo>
                    <a:pt x="234" y="263"/>
                  </a:lnTo>
                  <a:lnTo>
                    <a:pt x="244" y="237"/>
                  </a:lnTo>
                  <a:lnTo>
                    <a:pt x="250" y="203"/>
                  </a:lnTo>
                  <a:lnTo>
                    <a:pt x="252" y="162"/>
                  </a:lnTo>
                  <a:lnTo>
                    <a:pt x="247" y="114"/>
                  </a:lnTo>
                  <a:lnTo>
                    <a:pt x="235" y="60"/>
                  </a:lnTo>
                  <a:lnTo>
                    <a:pt x="213" y="0"/>
                  </a:lnTo>
                  <a:lnTo>
                    <a:pt x="200" y="5"/>
                  </a:lnTo>
                  <a:lnTo>
                    <a:pt x="186" y="11"/>
                  </a:lnTo>
                  <a:lnTo>
                    <a:pt x="173" y="16"/>
                  </a:lnTo>
                  <a:lnTo>
                    <a:pt x="159" y="23"/>
                  </a:lnTo>
                  <a:lnTo>
                    <a:pt x="146" y="28"/>
                  </a:lnTo>
                  <a:lnTo>
                    <a:pt x="133" y="34"/>
                  </a:lnTo>
                  <a:lnTo>
                    <a:pt x="119" y="39"/>
                  </a:lnTo>
                  <a:lnTo>
                    <a:pt x="107" y="44"/>
                  </a:lnTo>
                  <a:lnTo>
                    <a:pt x="93" y="51"/>
                  </a:lnTo>
                  <a:lnTo>
                    <a:pt x="80" y="56"/>
                  </a:lnTo>
                  <a:lnTo>
                    <a:pt x="67" y="62"/>
                  </a:lnTo>
                  <a:lnTo>
                    <a:pt x="53" y="67"/>
                  </a:lnTo>
                  <a:lnTo>
                    <a:pt x="40" y="74"/>
                  </a:lnTo>
                  <a:lnTo>
                    <a:pt x="26" y="79"/>
                  </a:lnTo>
                  <a:lnTo>
                    <a:pt x="13" y="85"/>
                  </a:lnTo>
                  <a:lnTo>
                    <a:pt x="0" y="90"/>
                  </a:lnTo>
                  <a:lnTo>
                    <a:pt x="13" y="120"/>
                  </a:lnTo>
                  <a:lnTo>
                    <a:pt x="27" y="147"/>
                  </a:lnTo>
                  <a:lnTo>
                    <a:pt x="42" y="172"/>
                  </a:lnTo>
                  <a:lnTo>
                    <a:pt x="57" y="194"/>
                  </a:lnTo>
                  <a:lnTo>
                    <a:pt x="73" y="214"/>
                  </a:lnTo>
                  <a:lnTo>
                    <a:pt x="87" y="232"/>
                  </a:lnTo>
                  <a:lnTo>
                    <a:pt x="103" y="246"/>
                  </a:lnTo>
                  <a:lnTo>
                    <a:pt x="118" y="259"/>
                  </a:lnTo>
                  <a:lnTo>
                    <a:pt x="133" y="269"/>
                  </a:lnTo>
                  <a:lnTo>
                    <a:pt x="146" y="279"/>
                  </a:lnTo>
                  <a:lnTo>
                    <a:pt x="159" y="285"/>
                  </a:lnTo>
                  <a:lnTo>
                    <a:pt x="172" y="289"/>
                  </a:lnTo>
                  <a:lnTo>
                    <a:pt x="183" y="292"/>
                  </a:lnTo>
                  <a:lnTo>
                    <a:pt x="193" y="293"/>
                  </a:lnTo>
                  <a:lnTo>
                    <a:pt x="202" y="293"/>
                  </a:lnTo>
                  <a:lnTo>
                    <a:pt x="209" y="291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434360" y="3850920"/>
              <a:ext cx="39600" cy="23760"/>
            </a:xfrm>
            <a:custGeom>
              <a:avLst/>
              <a:gdLst/>
              <a:ahLst/>
              <a:rect l="l" t="t" r="r" b="b"/>
              <a:pathLst>
                <a:path w="228" h="283">
                  <a:moveTo>
                    <a:pt x="201" y="281"/>
                  </a:moveTo>
                  <a:lnTo>
                    <a:pt x="211" y="273"/>
                  </a:lnTo>
                  <a:lnTo>
                    <a:pt x="219" y="256"/>
                  </a:lnTo>
                  <a:lnTo>
                    <a:pt x="226" y="231"/>
                  </a:lnTo>
                  <a:lnTo>
                    <a:pt x="228" y="200"/>
                  </a:lnTo>
                  <a:lnTo>
                    <a:pt x="224" y="160"/>
                  </a:lnTo>
                  <a:lnTo>
                    <a:pt x="216" y="114"/>
                  </a:lnTo>
                  <a:lnTo>
                    <a:pt x="202" y="60"/>
                  </a:lnTo>
                  <a:lnTo>
                    <a:pt x="179" y="0"/>
                  </a:lnTo>
                  <a:lnTo>
                    <a:pt x="168" y="5"/>
                  </a:lnTo>
                  <a:lnTo>
                    <a:pt x="156" y="9"/>
                  </a:lnTo>
                  <a:lnTo>
                    <a:pt x="145" y="15"/>
                  </a:lnTo>
                  <a:lnTo>
                    <a:pt x="135" y="20"/>
                  </a:lnTo>
                  <a:lnTo>
                    <a:pt x="123" y="24"/>
                  </a:lnTo>
                  <a:lnTo>
                    <a:pt x="112" y="29"/>
                  </a:lnTo>
                  <a:lnTo>
                    <a:pt x="101" y="33"/>
                  </a:lnTo>
                  <a:lnTo>
                    <a:pt x="89" y="39"/>
                  </a:lnTo>
                  <a:lnTo>
                    <a:pt x="78" y="44"/>
                  </a:lnTo>
                  <a:lnTo>
                    <a:pt x="67" y="48"/>
                  </a:lnTo>
                  <a:lnTo>
                    <a:pt x="55" y="53"/>
                  </a:lnTo>
                  <a:lnTo>
                    <a:pt x="45" y="57"/>
                  </a:lnTo>
                  <a:lnTo>
                    <a:pt x="34" y="63"/>
                  </a:lnTo>
                  <a:lnTo>
                    <a:pt x="22" y="68"/>
                  </a:lnTo>
                  <a:lnTo>
                    <a:pt x="11" y="72"/>
                  </a:lnTo>
                  <a:lnTo>
                    <a:pt x="0" y="77"/>
                  </a:lnTo>
                  <a:lnTo>
                    <a:pt x="13" y="107"/>
                  </a:lnTo>
                  <a:lnTo>
                    <a:pt x="28" y="134"/>
                  </a:lnTo>
                  <a:lnTo>
                    <a:pt x="42" y="159"/>
                  </a:lnTo>
                  <a:lnTo>
                    <a:pt x="56" y="181"/>
                  </a:lnTo>
                  <a:lnTo>
                    <a:pt x="72" y="201"/>
                  </a:lnTo>
                  <a:lnTo>
                    <a:pt x="86" y="219"/>
                  </a:lnTo>
                  <a:lnTo>
                    <a:pt x="102" y="233"/>
                  </a:lnTo>
                  <a:lnTo>
                    <a:pt x="116" y="247"/>
                  </a:lnTo>
                  <a:lnTo>
                    <a:pt x="130" y="257"/>
                  </a:lnTo>
                  <a:lnTo>
                    <a:pt x="143" y="267"/>
                  </a:lnTo>
                  <a:lnTo>
                    <a:pt x="156" y="273"/>
                  </a:lnTo>
                  <a:lnTo>
                    <a:pt x="168" y="278"/>
                  </a:lnTo>
                  <a:lnTo>
                    <a:pt x="178" y="281"/>
                  </a:lnTo>
                  <a:lnTo>
                    <a:pt x="187" y="283"/>
                  </a:lnTo>
                  <a:lnTo>
                    <a:pt x="195" y="283"/>
                  </a:lnTo>
                  <a:lnTo>
                    <a:pt x="201" y="281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35800" y="3852720"/>
              <a:ext cx="39240" cy="21960"/>
            </a:xfrm>
            <a:custGeom>
              <a:avLst/>
              <a:gdLst/>
              <a:ahLst/>
              <a:rect l="l" t="t" r="r" b="b"/>
              <a:pathLst>
                <a:path w="204" h="270">
                  <a:moveTo>
                    <a:pt x="191" y="269"/>
                  </a:moveTo>
                  <a:lnTo>
                    <a:pt x="198" y="262"/>
                  </a:lnTo>
                  <a:lnTo>
                    <a:pt x="203" y="247"/>
                  </a:lnTo>
                  <a:lnTo>
                    <a:pt x="204" y="224"/>
                  </a:lnTo>
                  <a:lnTo>
                    <a:pt x="202" y="194"/>
                  </a:lnTo>
                  <a:lnTo>
                    <a:pt x="195" y="157"/>
                  </a:lnTo>
                  <a:lnTo>
                    <a:pt x="184" y="112"/>
                  </a:lnTo>
                  <a:lnTo>
                    <a:pt x="166" y="59"/>
                  </a:lnTo>
                  <a:lnTo>
                    <a:pt x="143" y="0"/>
                  </a:lnTo>
                  <a:lnTo>
                    <a:pt x="126" y="7"/>
                  </a:lnTo>
                  <a:lnTo>
                    <a:pt x="107" y="14"/>
                  </a:lnTo>
                  <a:lnTo>
                    <a:pt x="90" y="22"/>
                  </a:lnTo>
                  <a:lnTo>
                    <a:pt x="72" y="30"/>
                  </a:lnTo>
                  <a:lnTo>
                    <a:pt x="54" y="38"/>
                  </a:lnTo>
                  <a:lnTo>
                    <a:pt x="36" y="45"/>
                  </a:lnTo>
                  <a:lnTo>
                    <a:pt x="18" y="54"/>
                  </a:lnTo>
                  <a:lnTo>
                    <a:pt x="0" y="61"/>
                  </a:lnTo>
                  <a:lnTo>
                    <a:pt x="14" y="91"/>
                  </a:lnTo>
                  <a:lnTo>
                    <a:pt x="28" y="118"/>
                  </a:lnTo>
                  <a:lnTo>
                    <a:pt x="41" y="143"/>
                  </a:lnTo>
                  <a:lnTo>
                    <a:pt x="57" y="166"/>
                  </a:lnTo>
                  <a:lnTo>
                    <a:pt x="71" y="186"/>
                  </a:lnTo>
                  <a:lnTo>
                    <a:pt x="86" y="204"/>
                  </a:lnTo>
                  <a:lnTo>
                    <a:pt x="99" y="218"/>
                  </a:lnTo>
                  <a:lnTo>
                    <a:pt x="113" y="232"/>
                  </a:lnTo>
                  <a:lnTo>
                    <a:pt x="127" y="243"/>
                  </a:lnTo>
                  <a:lnTo>
                    <a:pt x="139" y="253"/>
                  </a:lnTo>
                  <a:lnTo>
                    <a:pt x="151" y="259"/>
                  </a:lnTo>
                  <a:lnTo>
                    <a:pt x="161" y="265"/>
                  </a:lnTo>
                  <a:lnTo>
                    <a:pt x="171" y="268"/>
                  </a:lnTo>
                  <a:lnTo>
                    <a:pt x="179" y="270"/>
                  </a:lnTo>
                  <a:lnTo>
                    <a:pt x="186" y="270"/>
                  </a:lnTo>
                  <a:lnTo>
                    <a:pt x="191" y="269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435800" y="3852720"/>
              <a:ext cx="39240" cy="21960"/>
            </a:xfrm>
            <a:custGeom>
              <a:avLst/>
              <a:gdLst/>
              <a:ahLst/>
              <a:rect l="l" t="t" r="r" b="b"/>
              <a:pathLst>
                <a:path w="189" h="260">
                  <a:moveTo>
                    <a:pt x="183" y="259"/>
                  </a:moveTo>
                  <a:lnTo>
                    <a:pt x="188" y="253"/>
                  </a:lnTo>
                  <a:lnTo>
                    <a:pt x="189" y="239"/>
                  </a:lnTo>
                  <a:lnTo>
                    <a:pt x="186" y="219"/>
                  </a:lnTo>
                  <a:lnTo>
                    <a:pt x="180" y="190"/>
                  </a:lnTo>
                  <a:lnTo>
                    <a:pt x="168" y="155"/>
                  </a:lnTo>
                  <a:lnTo>
                    <a:pt x="153" y="111"/>
                  </a:lnTo>
                  <a:lnTo>
                    <a:pt x="133" y="59"/>
                  </a:lnTo>
                  <a:lnTo>
                    <a:pt x="110" y="0"/>
                  </a:lnTo>
                  <a:lnTo>
                    <a:pt x="96" y="6"/>
                  </a:lnTo>
                  <a:lnTo>
                    <a:pt x="82" y="12"/>
                  </a:lnTo>
                  <a:lnTo>
                    <a:pt x="68" y="18"/>
                  </a:lnTo>
                  <a:lnTo>
                    <a:pt x="55" y="24"/>
                  </a:lnTo>
                  <a:lnTo>
                    <a:pt x="42" y="29"/>
                  </a:lnTo>
                  <a:lnTo>
                    <a:pt x="28" y="35"/>
                  </a:lnTo>
                  <a:lnTo>
                    <a:pt x="14" y="41"/>
                  </a:lnTo>
                  <a:lnTo>
                    <a:pt x="0" y="47"/>
                  </a:lnTo>
                  <a:lnTo>
                    <a:pt x="14" y="77"/>
                  </a:lnTo>
                  <a:lnTo>
                    <a:pt x="27" y="104"/>
                  </a:lnTo>
                  <a:lnTo>
                    <a:pt x="42" y="129"/>
                  </a:lnTo>
                  <a:lnTo>
                    <a:pt x="56" y="152"/>
                  </a:lnTo>
                  <a:lnTo>
                    <a:pt x="70" y="172"/>
                  </a:lnTo>
                  <a:lnTo>
                    <a:pt x="85" y="189"/>
                  </a:lnTo>
                  <a:lnTo>
                    <a:pt x="98" y="205"/>
                  </a:lnTo>
                  <a:lnTo>
                    <a:pt x="112" y="219"/>
                  </a:lnTo>
                  <a:lnTo>
                    <a:pt x="124" y="230"/>
                  </a:lnTo>
                  <a:lnTo>
                    <a:pt x="136" y="239"/>
                  </a:lnTo>
                  <a:lnTo>
                    <a:pt x="148" y="247"/>
                  </a:lnTo>
                  <a:lnTo>
                    <a:pt x="157" y="253"/>
                  </a:lnTo>
                  <a:lnTo>
                    <a:pt x="166" y="257"/>
                  </a:lnTo>
                  <a:lnTo>
                    <a:pt x="174" y="259"/>
                  </a:lnTo>
                  <a:lnTo>
                    <a:pt x="179" y="260"/>
                  </a:lnTo>
                  <a:lnTo>
                    <a:pt x="183" y="259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437240" y="3853800"/>
              <a:ext cx="39240" cy="1944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173" y="248"/>
                  </a:moveTo>
                  <a:lnTo>
                    <a:pt x="175" y="243"/>
                  </a:lnTo>
                  <a:lnTo>
                    <a:pt x="172" y="231"/>
                  </a:lnTo>
                  <a:lnTo>
                    <a:pt x="166" y="212"/>
                  </a:lnTo>
                  <a:lnTo>
                    <a:pt x="154" y="186"/>
                  </a:lnTo>
                  <a:lnTo>
                    <a:pt x="139" y="151"/>
                  </a:lnTo>
                  <a:lnTo>
                    <a:pt x="120" y="110"/>
                  </a:lnTo>
                  <a:lnTo>
                    <a:pt x="98" y="60"/>
                  </a:lnTo>
                  <a:lnTo>
                    <a:pt x="73" y="0"/>
                  </a:lnTo>
                  <a:lnTo>
                    <a:pt x="64" y="5"/>
                  </a:lnTo>
                  <a:lnTo>
                    <a:pt x="54" y="8"/>
                  </a:lnTo>
                  <a:lnTo>
                    <a:pt x="45" y="12"/>
                  </a:lnTo>
                  <a:lnTo>
                    <a:pt x="37" y="16"/>
                  </a:lnTo>
                  <a:lnTo>
                    <a:pt x="27" y="20"/>
                  </a:lnTo>
                  <a:lnTo>
                    <a:pt x="18" y="23"/>
                  </a:lnTo>
                  <a:lnTo>
                    <a:pt x="9" y="27"/>
                  </a:lnTo>
                  <a:lnTo>
                    <a:pt x="0" y="32"/>
                  </a:lnTo>
                  <a:lnTo>
                    <a:pt x="13" y="62"/>
                  </a:lnTo>
                  <a:lnTo>
                    <a:pt x="26" y="89"/>
                  </a:lnTo>
                  <a:lnTo>
                    <a:pt x="41" y="114"/>
                  </a:lnTo>
                  <a:lnTo>
                    <a:pt x="54" y="137"/>
                  </a:lnTo>
                  <a:lnTo>
                    <a:pt x="69" y="158"/>
                  </a:lnTo>
                  <a:lnTo>
                    <a:pt x="82" y="175"/>
                  </a:lnTo>
                  <a:lnTo>
                    <a:pt x="95" y="191"/>
                  </a:lnTo>
                  <a:lnTo>
                    <a:pt x="108" y="204"/>
                  </a:lnTo>
                  <a:lnTo>
                    <a:pt x="120" y="216"/>
                  </a:lnTo>
                  <a:lnTo>
                    <a:pt x="132" y="226"/>
                  </a:lnTo>
                  <a:lnTo>
                    <a:pt x="142" y="234"/>
                  </a:lnTo>
                  <a:lnTo>
                    <a:pt x="151" y="240"/>
                  </a:lnTo>
                  <a:lnTo>
                    <a:pt x="158" y="244"/>
                  </a:lnTo>
                  <a:lnTo>
                    <a:pt x="165" y="247"/>
                  </a:lnTo>
                  <a:lnTo>
                    <a:pt x="170" y="248"/>
                  </a:lnTo>
                  <a:lnTo>
                    <a:pt x="173" y="248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437240" y="3855240"/>
              <a:ext cx="39240" cy="18360"/>
            </a:xfrm>
            <a:custGeom>
              <a:avLst/>
              <a:gdLst/>
              <a:ahLst/>
              <a:rect l="l" t="t" r="r" b="b"/>
              <a:pathLst>
                <a:path w="165" h="236">
                  <a:moveTo>
                    <a:pt x="165" y="236"/>
                  </a:moveTo>
                  <a:lnTo>
                    <a:pt x="164" y="232"/>
                  </a:lnTo>
                  <a:lnTo>
                    <a:pt x="158" y="222"/>
                  </a:lnTo>
                  <a:lnTo>
                    <a:pt x="146" y="205"/>
                  </a:lnTo>
                  <a:lnTo>
                    <a:pt x="131" y="180"/>
                  </a:lnTo>
                  <a:lnTo>
                    <a:pt x="111" y="148"/>
                  </a:lnTo>
                  <a:lnTo>
                    <a:pt x="90" y="108"/>
                  </a:lnTo>
                  <a:lnTo>
                    <a:pt x="65" y="58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19" y="8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6"/>
                  </a:lnTo>
                  <a:lnTo>
                    <a:pt x="13" y="47"/>
                  </a:lnTo>
                  <a:lnTo>
                    <a:pt x="27" y="74"/>
                  </a:lnTo>
                  <a:lnTo>
                    <a:pt x="41" y="100"/>
                  </a:lnTo>
                  <a:lnTo>
                    <a:pt x="55" y="122"/>
                  </a:lnTo>
                  <a:lnTo>
                    <a:pt x="69" y="142"/>
                  </a:lnTo>
                  <a:lnTo>
                    <a:pt x="82" y="160"/>
                  </a:lnTo>
                  <a:lnTo>
                    <a:pt x="95" y="177"/>
                  </a:lnTo>
                  <a:lnTo>
                    <a:pt x="107" y="190"/>
                  </a:lnTo>
                  <a:lnTo>
                    <a:pt x="118" y="202"/>
                  </a:lnTo>
                  <a:lnTo>
                    <a:pt x="129" y="212"/>
                  </a:lnTo>
                  <a:lnTo>
                    <a:pt x="139" y="221"/>
                  </a:lnTo>
                  <a:lnTo>
                    <a:pt x="147" y="227"/>
                  </a:lnTo>
                  <a:lnTo>
                    <a:pt x="153" y="231"/>
                  </a:lnTo>
                  <a:lnTo>
                    <a:pt x="160" y="234"/>
                  </a:lnTo>
                  <a:lnTo>
                    <a:pt x="163" y="236"/>
                  </a:lnTo>
                  <a:lnTo>
                    <a:pt x="165" y="236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449120" y="3873600"/>
              <a:ext cx="39240" cy="7920"/>
            </a:xfrm>
            <a:custGeom>
              <a:avLst/>
              <a:gdLst/>
              <a:ahLst/>
              <a:rect l="l" t="t" r="r" b="b"/>
              <a:pathLst>
                <a:path w="48" h="98">
                  <a:moveTo>
                    <a:pt x="13" y="0"/>
                  </a:moveTo>
                  <a:lnTo>
                    <a:pt x="44" y="75"/>
                  </a:lnTo>
                  <a:lnTo>
                    <a:pt x="48" y="90"/>
                  </a:lnTo>
                  <a:lnTo>
                    <a:pt x="46" y="98"/>
                  </a:lnTo>
                  <a:lnTo>
                    <a:pt x="39" y="95"/>
                  </a:lnTo>
                  <a:lnTo>
                    <a:pt x="30" y="81"/>
                  </a:lnTo>
                  <a:lnTo>
                    <a:pt x="0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7457760" y="4138920"/>
              <a:ext cx="234000" cy="636120"/>
              <a:chOff x="7457760" y="4138920"/>
              <a:chExt cx="234000" cy="636120"/>
            </a:xfrm>
          </p:grpSpPr>
          <p:sp>
            <p:nvSpPr>
              <p:cNvPr id="935" name=""/>
              <p:cNvSpPr/>
              <p:nvPr/>
            </p:nvSpPr>
            <p:spPr>
              <a:xfrm>
                <a:off x="7643880" y="4144320"/>
                <a:ext cx="39600" cy="183960"/>
              </a:xfrm>
              <a:custGeom>
                <a:avLst/>
                <a:gdLst/>
                <a:ahLst/>
                <a:rect l="l" t="t" r="r" b="b"/>
                <a:pathLst>
                  <a:path w="574" h="3198">
                    <a:moveTo>
                      <a:pt x="123" y="3198"/>
                    </a:moveTo>
                    <a:lnTo>
                      <a:pt x="0" y="3181"/>
                    </a:lnTo>
                    <a:lnTo>
                      <a:pt x="451" y="0"/>
                    </a:lnTo>
                    <a:lnTo>
                      <a:pt x="574" y="16"/>
                    </a:lnTo>
                    <a:lnTo>
                      <a:pt x="123" y="3198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643880" y="4144320"/>
                <a:ext cx="39600" cy="183960"/>
              </a:xfrm>
              <a:custGeom>
                <a:avLst/>
                <a:gdLst/>
                <a:ahLst/>
                <a:rect l="l" t="t" r="r" b="b"/>
                <a:pathLst>
                  <a:path w="557" h="3195">
                    <a:moveTo>
                      <a:pt x="452" y="0"/>
                    </a:moveTo>
                    <a:lnTo>
                      <a:pt x="463" y="1"/>
                    </a:lnTo>
                    <a:lnTo>
                      <a:pt x="472" y="2"/>
                    </a:lnTo>
                    <a:lnTo>
                      <a:pt x="479" y="3"/>
                    </a:lnTo>
                    <a:lnTo>
                      <a:pt x="487" y="4"/>
                    </a:lnTo>
                    <a:lnTo>
                      <a:pt x="498" y="6"/>
                    </a:lnTo>
                    <a:lnTo>
                      <a:pt x="511" y="8"/>
                    </a:lnTo>
                    <a:lnTo>
                      <a:pt x="531" y="10"/>
                    </a:lnTo>
                    <a:lnTo>
                      <a:pt x="557" y="14"/>
                    </a:lnTo>
                    <a:lnTo>
                      <a:pt x="531" y="197"/>
                    </a:lnTo>
                    <a:lnTo>
                      <a:pt x="509" y="353"/>
                    </a:lnTo>
                    <a:lnTo>
                      <a:pt x="489" y="489"/>
                    </a:lnTo>
                    <a:lnTo>
                      <a:pt x="472" y="611"/>
                    </a:lnTo>
                    <a:lnTo>
                      <a:pt x="456" y="723"/>
                    </a:lnTo>
                    <a:lnTo>
                      <a:pt x="440" y="834"/>
                    </a:lnTo>
                    <a:lnTo>
                      <a:pt x="424" y="949"/>
                    </a:lnTo>
                    <a:lnTo>
                      <a:pt x="406" y="1074"/>
                    </a:lnTo>
                    <a:lnTo>
                      <a:pt x="385" y="1216"/>
                    </a:lnTo>
                    <a:lnTo>
                      <a:pt x="362" y="1381"/>
                    </a:lnTo>
                    <a:lnTo>
                      <a:pt x="334" y="1574"/>
                    </a:lnTo>
                    <a:lnTo>
                      <a:pt x="302" y="1803"/>
                    </a:lnTo>
                    <a:lnTo>
                      <a:pt x="264" y="2073"/>
                    </a:lnTo>
                    <a:lnTo>
                      <a:pt x="219" y="2391"/>
                    </a:lnTo>
                    <a:lnTo>
                      <a:pt x="166" y="2763"/>
                    </a:lnTo>
                    <a:lnTo>
                      <a:pt x="104" y="3195"/>
                    </a:lnTo>
                    <a:lnTo>
                      <a:pt x="93" y="3193"/>
                    </a:lnTo>
                    <a:lnTo>
                      <a:pt x="85" y="3192"/>
                    </a:lnTo>
                    <a:lnTo>
                      <a:pt x="77" y="3191"/>
                    </a:lnTo>
                    <a:lnTo>
                      <a:pt x="70" y="3190"/>
                    </a:lnTo>
                    <a:lnTo>
                      <a:pt x="60" y="3189"/>
                    </a:lnTo>
                    <a:lnTo>
                      <a:pt x="46" y="3187"/>
                    </a:lnTo>
                    <a:lnTo>
                      <a:pt x="26" y="3185"/>
                    </a:lnTo>
                    <a:lnTo>
                      <a:pt x="0" y="3181"/>
                    </a:lnTo>
                    <a:lnTo>
                      <a:pt x="26" y="2998"/>
                    </a:lnTo>
                    <a:lnTo>
                      <a:pt x="48" y="2842"/>
                    </a:lnTo>
                    <a:lnTo>
                      <a:pt x="68" y="2707"/>
                    </a:lnTo>
                    <a:lnTo>
                      <a:pt x="86" y="2585"/>
                    </a:lnTo>
                    <a:lnTo>
                      <a:pt x="101" y="2472"/>
                    </a:lnTo>
                    <a:lnTo>
                      <a:pt x="117" y="2361"/>
                    </a:lnTo>
                    <a:lnTo>
                      <a:pt x="133" y="2246"/>
                    </a:lnTo>
                    <a:lnTo>
                      <a:pt x="151" y="2121"/>
                    </a:lnTo>
                    <a:lnTo>
                      <a:pt x="171" y="1979"/>
                    </a:lnTo>
                    <a:lnTo>
                      <a:pt x="195" y="1814"/>
                    </a:lnTo>
                    <a:lnTo>
                      <a:pt x="222" y="1621"/>
                    </a:lnTo>
                    <a:lnTo>
                      <a:pt x="254" y="1392"/>
                    </a:lnTo>
                    <a:lnTo>
                      <a:pt x="293" y="1122"/>
                    </a:lnTo>
                    <a:lnTo>
                      <a:pt x="338" y="804"/>
                    </a:lnTo>
                    <a:lnTo>
                      <a:pt x="390" y="432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28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645320" y="4144320"/>
                <a:ext cx="36000" cy="183960"/>
              </a:xfrm>
              <a:custGeom>
                <a:avLst/>
                <a:gdLst/>
                <a:ahLst/>
                <a:rect l="l" t="t" r="r" b="b"/>
                <a:pathLst>
                  <a:path w="538" h="3193">
                    <a:moveTo>
                      <a:pt x="451" y="0"/>
                    </a:moveTo>
                    <a:lnTo>
                      <a:pt x="461" y="1"/>
                    </a:lnTo>
                    <a:lnTo>
                      <a:pt x="468" y="2"/>
                    </a:lnTo>
                    <a:lnTo>
                      <a:pt x="474" y="3"/>
                    </a:lnTo>
                    <a:lnTo>
                      <a:pt x="480" y="4"/>
                    </a:lnTo>
                    <a:lnTo>
                      <a:pt x="489" y="5"/>
                    </a:lnTo>
                    <a:lnTo>
                      <a:pt x="500" y="6"/>
                    </a:lnTo>
                    <a:lnTo>
                      <a:pt x="516" y="8"/>
                    </a:lnTo>
                    <a:lnTo>
                      <a:pt x="538" y="11"/>
                    </a:lnTo>
                    <a:lnTo>
                      <a:pt x="512" y="194"/>
                    </a:lnTo>
                    <a:lnTo>
                      <a:pt x="490" y="350"/>
                    </a:lnTo>
                    <a:lnTo>
                      <a:pt x="470" y="487"/>
                    </a:lnTo>
                    <a:lnTo>
                      <a:pt x="452" y="607"/>
                    </a:lnTo>
                    <a:lnTo>
                      <a:pt x="437" y="720"/>
                    </a:lnTo>
                    <a:lnTo>
                      <a:pt x="421" y="831"/>
                    </a:lnTo>
                    <a:lnTo>
                      <a:pt x="404" y="947"/>
                    </a:lnTo>
                    <a:lnTo>
                      <a:pt x="387" y="1072"/>
                    </a:lnTo>
                    <a:lnTo>
                      <a:pt x="366" y="1213"/>
                    </a:lnTo>
                    <a:lnTo>
                      <a:pt x="343" y="1379"/>
                    </a:lnTo>
                    <a:lnTo>
                      <a:pt x="315" y="1572"/>
                    </a:lnTo>
                    <a:lnTo>
                      <a:pt x="283" y="1801"/>
                    </a:lnTo>
                    <a:lnTo>
                      <a:pt x="244" y="2071"/>
                    </a:lnTo>
                    <a:lnTo>
                      <a:pt x="199" y="2389"/>
                    </a:lnTo>
                    <a:lnTo>
                      <a:pt x="146" y="2761"/>
                    </a:lnTo>
                    <a:lnTo>
                      <a:pt x="85" y="3193"/>
                    </a:lnTo>
                    <a:lnTo>
                      <a:pt x="76" y="3192"/>
                    </a:lnTo>
                    <a:lnTo>
                      <a:pt x="69" y="3191"/>
                    </a:lnTo>
                    <a:lnTo>
                      <a:pt x="63" y="3190"/>
                    </a:lnTo>
                    <a:lnTo>
                      <a:pt x="57" y="3189"/>
                    </a:lnTo>
                    <a:lnTo>
                      <a:pt x="49" y="3188"/>
                    </a:lnTo>
                    <a:lnTo>
                      <a:pt x="37" y="3186"/>
                    </a:lnTo>
                    <a:lnTo>
                      <a:pt x="21" y="3184"/>
                    </a:lnTo>
                    <a:lnTo>
                      <a:pt x="0" y="3181"/>
                    </a:lnTo>
                    <a:lnTo>
                      <a:pt x="26" y="2998"/>
                    </a:lnTo>
                    <a:lnTo>
                      <a:pt x="47" y="2842"/>
                    </a:lnTo>
                    <a:lnTo>
                      <a:pt x="67" y="2707"/>
                    </a:lnTo>
                    <a:lnTo>
                      <a:pt x="85" y="2585"/>
                    </a:lnTo>
                    <a:lnTo>
                      <a:pt x="101" y="2472"/>
                    </a:lnTo>
                    <a:lnTo>
                      <a:pt x="116" y="2361"/>
                    </a:lnTo>
                    <a:lnTo>
                      <a:pt x="133" y="2246"/>
                    </a:lnTo>
                    <a:lnTo>
                      <a:pt x="150" y="2121"/>
                    </a:lnTo>
                    <a:lnTo>
                      <a:pt x="170" y="1979"/>
                    </a:lnTo>
                    <a:lnTo>
                      <a:pt x="194" y="1814"/>
                    </a:lnTo>
                    <a:lnTo>
                      <a:pt x="221" y="1621"/>
                    </a:lnTo>
                    <a:lnTo>
                      <a:pt x="254" y="1392"/>
                    </a:lnTo>
                    <a:lnTo>
                      <a:pt x="292" y="1122"/>
                    </a:lnTo>
                    <a:lnTo>
                      <a:pt x="338" y="804"/>
                    </a:lnTo>
                    <a:lnTo>
                      <a:pt x="390" y="432"/>
                    </a:lnTo>
                    <a:lnTo>
                      <a:pt x="451" y="0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645320" y="4144320"/>
                <a:ext cx="36000" cy="183960"/>
              </a:xfrm>
              <a:custGeom>
                <a:avLst/>
                <a:gdLst/>
                <a:ahLst/>
                <a:rect l="l" t="t" r="r" b="b"/>
                <a:pathLst>
                  <a:path w="517" h="3190">
                    <a:moveTo>
                      <a:pt x="452" y="0"/>
                    </a:moveTo>
                    <a:lnTo>
                      <a:pt x="459" y="1"/>
                    </a:lnTo>
                    <a:lnTo>
                      <a:pt x="464" y="2"/>
                    </a:lnTo>
                    <a:lnTo>
                      <a:pt x="468" y="2"/>
                    </a:lnTo>
                    <a:lnTo>
                      <a:pt x="473" y="3"/>
                    </a:lnTo>
                    <a:lnTo>
                      <a:pt x="480" y="4"/>
                    </a:lnTo>
                    <a:lnTo>
                      <a:pt x="488" y="5"/>
                    </a:lnTo>
                    <a:lnTo>
                      <a:pt x="501" y="7"/>
                    </a:lnTo>
                    <a:lnTo>
                      <a:pt x="517" y="9"/>
                    </a:lnTo>
                    <a:lnTo>
                      <a:pt x="491" y="192"/>
                    </a:lnTo>
                    <a:lnTo>
                      <a:pt x="469" y="348"/>
                    </a:lnTo>
                    <a:lnTo>
                      <a:pt x="450" y="485"/>
                    </a:lnTo>
                    <a:lnTo>
                      <a:pt x="433" y="605"/>
                    </a:lnTo>
                    <a:lnTo>
                      <a:pt x="416" y="718"/>
                    </a:lnTo>
                    <a:lnTo>
                      <a:pt x="401" y="829"/>
                    </a:lnTo>
                    <a:lnTo>
                      <a:pt x="384" y="944"/>
                    </a:lnTo>
                    <a:lnTo>
                      <a:pt x="366" y="1070"/>
                    </a:lnTo>
                    <a:lnTo>
                      <a:pt x="347" y="1211"/>
                    </a:lnTo>
                    <a:lnTo>
                      <a:pt x="324" y="1376"/>
                    </a:lnTo>
                    <a:lnTo>
                      <a:pt x="296" y="1570"/>
                    </a:lnTo>
                    <a:lnTo>
                      <a:pt x="263" y="1799"/>
                    </a:lnTo>
                    <a:lnTo>
                      <a:pt x="225" y="2069"/>
                    </a:lnTo>
                    <a:lnTo>
                      <a:pt x="180" y="2387"/>
                    </a:lnTo>
                    <a:lnTo>
                      <a:pt x="127" y="2758"/>
                    </a:lnTo>
                    <a:lnTo>
                      <a:pt x="66" y="3190"/>
                    </a:lnTo>
                    <a:lnTo>
                      <a:pt x="58" y="3189"/>
                    </a:lnTo>
                    <a:lnTo>
                      <a:pt x="53" y="3189"/>
                    </a:lnTo>
                    <a:lnTo>
                      <a:pt x="49" y="3188"/>
                    </a:lnTo>
                    <a:lnTo>
                      <a:pt x="44" y="3188"/>
                    </a:lnTo>
                    <a:lnTo>
                      <a:pt x="37" y="3187"/>
                    </a:lnTo>
                    <a:lnTo>
                      <a:pt x="29" y="3186"/>
                    </a:lnTo>
                    <a:lnTo>
                      <a:pt x="17" y="3184"/>
                    </a:lnTo>
                    <a:lnTo>
                      <a:pt x="0" y="3182"/>
                    </a:lnTo>
                    <a:lnTo>
                      <a:pt x="26" y="2999"/>
                    </a:lnTo>
                    <a:lnTo>
                      <a:pt x="48" y="2843"/>
                    </a:lnTo>
                    <a:lnTo>
                      <a:pt x="68" y="2707"/>
                    </a:lnTo>
                    <a:lnTo>
                      <a:pt x="84" y="2586"/>
                    </a:lnTo>
                    <a:lnTo>
                      <a:pt x="100" y="2473"/>
                    </a:lnTo>
                    <a:lnTo>
                      <a:pt x="116" y="2362"/>
                    </a:lnTo>
                    <a:lnTo>
                      <a:pt x="132" y="2246"/>
                    </a:lnTo>
                    <a:lnTo>
                      <a:pt x="150" y="2121"/>
                    </a:lnTo>
                    <a:lnTo>
                      <a:pt x="171" y="1980"/>
                    </a:lnTo>
                    <a:lnTo>
                      <a:pt x="194" y="1814"/>
                    </a:lnTo>
                    <a:lnTo>
                      <a:pt x="222" y="1621"/>
                    </a:lnTo>
                    <a:lnTo>
                      <a:pt x="254" y="1392"/>
                    </a:lnTo>
                    <a:lnTo>
                      <a:pt x="292" y="1122"/>
                    </a:lnTo>
                    <a:lnTo>
                      <a:pt x="337" y="804"/>
                    </a:lnTo>
                    <a:lnTo>
                      <a:pt x="390" y="432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57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46760" y="4145400"/>
                <a:ext cx="33480" cy="182880"/>
              </a:xfrm>
              <a:custGeom>
                <a:avLst/>
                <a:gdLst/>
                <a:ahLst/>
                <a:rect l="l" t="t" r="r" b="b"/>
                <a:pathLst>
                  <a:path w="499" h="3187">
                    <a:moveTo>
                      <a:pt x="452" y="0"/>
                    </a:moveTo>
                    <a:lnTo>
                      <a:pt x="457" y="1"/>
                    </a:lnTo>
                    <a:lnTo>
                      <a:pt x="460" y="1"/>
                    </a:lnTo>
                    <a:lnTo>
                      <a:pt x="464" y="1"/>
                    </a:lnTo>
                    <a:lnTo>
                      <a:pt x="468" y="2"/>
                    </a:lnTo>
                    <a:lnTo>
                      <a:pt x="472" y="2"/>
                    </a:lnTo>
                    <a:lnTo>
                      <a:pt x="478" y="3"/>
                    </a:lnTo>
                    <a:lnTo>
                      <a:pt x="487" y="4"/>
                    </a:lnTo>
                    <a:lnTo>
                      <a:pt x="499" y="6"/>
                    </a:lnTo>
                    <a:lnTo>
                      <a:pt x="473" y="189"/>
                    </a:lnTo>
                    <a:lnTo>
                      <a:pt x="451" y="345"/>
                    </a:lnTo>
                    <a:lnTo>
                      <a:pt x="431" y="480"/>
                    </a:lnTo>
                    <a:lnTo>
                      <a:pt x="415" y="602"/>
                    </a:lnTo>
                    <a:lnTo>
                      <a:pt x="398" y="715"/>
                    </a:lnTo>
                    <a:lnTo>
                      <a:pt x="382" y="826"/>
                    </a:lnTo>
                    <a:lnTo>
                      <a:pt x="366" y="941"/>
                    </a:lnTo>
                    <a:lnTo>
                      <a:pt x="348" y="1066"/>
                    </a:lnTo>
                    <a:lnTo>
                      <a:pt x="328" y="1208"/>
                    </a:lnTo>
                    <a:lnTo>
                      <a:pt x="305" y="1373"/>
                    </a:lnTo>
                    <a:lnTo>
                      <a:pt x="277" y="1566"/>
                    </a:lnTo>
                    <a:lnTo>
                      <a:pt x="245" y="1795"/>
                    </a:lnTo>
                    <a:lnTo>
                      <a:pt x="206" y="2065"/>
                    </a:lnTo>
                    <a:lnTo>
                      <a:pt x="162" y="2383"/>
                    </a:lnTo>
                    <a:lnTo>
                      <a:pt x="109" y="2755"/>
                    </a:lnTo>
                    <a:lnTo>
                      <a:pt x="47" y="3187"/>
                    </a:lnTo>
                    <a:lnTo>
                      <a:pt x="42" y="3186"/>
                    </a:lnTo>
                    <a:lnTo>
                      <a:pt x="39" y="3186"/>
                    </a:lnTo>
                    <a:lnTo>
                      <a:pt x="35" y="3186"/>
                    </a:lnTo>
                    <a:lnTo>
                      <a:pt x="32" y="3185"/>
                    </a:lnTo>
                    <a:lnTo>
                      <a:pt x="27" y="3185"/>
                    </a:lnTo>
                    <a:lnTo>
                      <a:pt x="21" y="3184"/>
                    </a:lnTo>
                    <a:lnTo>
                      <a:pt x="12" y="3183"/>
                    </a:lnTo>
                    <a:lnTo>
                      <a:pt x="0" y="3181"/>
                    </a:lnTo>
                    <a:lnTo>
                      <a:pt x="26" y="2998"/>
                    </a:lnTo>
                    <a:lnTo>
                      <a:pt x="48" y="2842"/>
                    </a:lnTo>
                    <a:lnTo>
                      <a:pt x="68" y="2706"/>
                    </a:lnTo>
                    <a:lnTo>
                      <a:pt x="85" y="2585"/>
                    </a:lnTo>
                    <a:lnTo>
                      <a:pt x="100" y="2472"/>
                    </a:lnTo>
                    <a:lnTo>
                      <a:pt x="116" y="2361"/>
                    </a:lnTo>
                    <a:lnTo>
                      <a:pt x="133" y="2246"/>
                    </a:lnTo>
                    <a:lnTo>
                      <a:pt x="150" y="2120"/>
                    </a:lnTo>
                    <a:lnTo>
                      <a:pt x="171" y="1979"/>
                    </a:lnTo>
                    <a:lnTo>
                      <a:pt x="194" y="1814"/>
                    </a:lnTo>
                    <a:lnTo>
                      <a:pt x="222" y="1620"/>
                    </a:lnTo>
                    <a:lnTo>
                      <a:pt x="254" y="1391"/>
                    </a:lnTo>
                    <a:lnTo>
                      <a:pt x="293" y="1121"/>
                    </a:lnTo>
                    <a:lnTo>
                      <a:pt x="338" y="803"/>
                    </a:lnTo>
                    <a:lnTo>
                      <a:pt x="391" y="432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46760" y="4144320"/>
                <a:ext cx="33480" cy="183960"/>
              </a:xfrm>
              <a:custGeom>
                <a:avLst/>
                <a:gdLst/>
                <a:ahLst/>
                <a:rect l="l" t="t" r="r" b="b"/>
                <a:pathLst>
                  <a:path w="479" h="3185">
                    <a:moveTo>
                      <a:pt x="28" y="3185"/>
                    </a:moveTo>
                    <a:lnTo>
                      <a:pt x="0" y="3181"/>
                    </a:lnTo>
                    <a:lnTo>
                      <a:pt x="451" y="0"/>
                    </a:lnTo>
                    <a:lnTo>
                      <a:pt x="479" y="4"/>
                    </a:lnTo>
                    <a:lnTo>
                      <a:pt x="28" y="3185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667280" y="4138920"/>
                <a:ext cx="24480" cy="7920"/>
              </a:xfrm>
              <a:custGeom>
                <a:avLst/>
                <a:gdLst/>
                <a:ahLst/>
                <a:rect l="l" t="t" r="r" b="b"/>
                <a:pathLst>
                  <a:path w="353" h="136">
                    <a:moveTo>
                      <a:pt x="81" y="1"/>
                    </a:moveTo>
                    <a:lnTo>
                      <a:pt x="287" y="28"/>
                    </a:lnTo>
                    <a:lnTo>
                      <a:pt x="302" y="32"/>
                    </a:lnTo>
                    <a:lnTo>
                      <a:pt x="316" y="37"/>
                    </a:lnTo>
                    <a:lnTo>
                      <a:pt x="327" y="44"/>
                    </a:lnTo>
                    <a:lnTo>
                      <a:pt x="337" y="52"/>
                    </a:lnTo>
                    <a:lnTo>
                      <a:pt x="345" y="61"/>
                    </a:lnTo>
                    <a:lnTo>
                      <a:pt x="350" y="71"/>
                    </a:lnTo>
                    <a:lnTo>
                      <a:pt x="353" y="81"/>
                    </a:lnTo>
                    <a:lnTo>
                      <a:pt x="353" y="92"/>
                    </a:lnTo>
                    <a:lnTo>
                      <a:pt x="353" y="92"/>
                    </a:lnTo>
                    <a:lnTo>
                      <a:pt x="350" y="103"/>
                    </a:lnTo>
                    <a:lnTo>
                      <a:pt x="345" y="112"/>
                    </a:lnTo>
                    <a:lnTo>
                      <a:pt x="336" y="120"/>
                    </a:lnTo>
                    <a:lnTo>
                      <a:pt x="326" y="127"/>
                    </a:lnTo>
                    <a:lnTo>
                      <a:pt x="314" y="132"/>
                    </a:lnTo>
                    <a:lnTo>
                      <a:pt x="301" y="135"/>
                    </a:lnTo>
                    <a:lnTo>
                      <a:pt x="286" y="136"/>
                    </a:lnTo>
                    <a:lnTo>
                      <a:pt x="272" y="135"/>
                    </a:lnTo>
                    <a:lnTo>
                      <a:pt x="66" y="108"/>
                    </a:lnTo>
                    <a:lnTo>
                      <a:pt x="51" y="105"/>
                    </a:lnTo>
                    <a:lnTo>
                      <a:pt x="38" y="100"/>
                    </a:lnTo>
                    <a:lnTo>
                      <a:pt x="26" y="92"/>
                    </a:lnTo>
                    <a:lnTo>
                      <a:pt x="16" y="84"/>
                    </a:lnTo>
                    <a:lnTo>
                      <a:pt x="9" y="75"/>
                    </a:lnTo>
                    <a:lnTo>
                      <a:pt x="3" y="65"/>
                    </a:lnTo>
                    <a:lnTo>
                      <a:pt x="0" y="55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3" y="34"/>
                    </a:lnTo>
                    <a:lnTo>
                      <a:pt x="9" y="24"/>
                    </a:lnTo>
                    <a:lnTo>
                      <a:pt x="17" y="16"/>
                    </a:lnTo>
                    <a:lnTo>
                      <a:pt x="27" y="9"/>
                    </a:lnTo>
                    <a:lnTo>
                      <a:pt x="39" y="4"/>
                    </a:lnTo>
                    <a:lnTo>
                      <a:pt x="52" y="1"/>
                    </a:lnTo>
                    <a:lnTo>
                      <a:pt x="67" y="0"/>
                    </a:lnTo>
                    <a:lnTo>
                      <a:pt x="81" y="1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668360" y="413892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27" h="124">
                    <a:moveTo>
                      <a:pt x="75" y="1"/>
                    </a:moveTo>
                    <a:lnTo>
                      <a:pt x="86" y="2"/>
                    </a:lnTo>
                    <a:lnTo>
                      <a:pt x="95" y="4"/>
                    </a:lnTo>
                    <a:lnTo>
                      <a:pt x="103" y="5"/>
                    </a:lnTo>
                    <a:lnTo>
                      <a:pt x="110" y="6"/>
                    </a:lnTo>
                    <a:lnTo>
                      <a:pt x="117" y="7"/>
                    </a:lnTo>
                    <a:lnTo>
                      <a:pt x="123" y="7"/>
                    </a:lnTo>
                    <a:lnTo>
                      <a:pt x="131" y="8"/>
                    </a:lnTo>
                    <a:lnTo>
                      <a:pt x="138" y="9"/>
                    </a:lnTo>
                    <a:lnTo>
                      <a:pt x="146" y="11"/>
                    </a:lnTo>
                    <a:lnTo>
                      <a:pt x="157" y="12"/>
                    </a:lnTo>
                    <a:lnTo>
                      <a:pt x="168" y="13"/>
                    </a:lnTo>
                    <a:lnTo>
                      <a:pt x="183" y="15"/>
                    </a:lnTo>
                    <a:lnTo>
                      <a:pt x="198" y="17"/>
                    </a:lnTo>
                    <a:lnTo>
                      <a:pt x="218" y="20"/>
                    </a:lnTo>
                    <a:lnTo>
                      <a:pt x="240" y="23"/>
                    </a:lnTo>
                    <a:lnTo>
                      <a:pt x="266" y="27"/>
                    </a:lnTo>
                    <a:lnTo>
                      <a:pt x="280" y="30"/>
                    </a:lnTo>
                    <a:lnTo>
                      <a:pt x="292" y="34"/>
                    </a:lnTo>
                    <a:lnTo>
                      <a:pt x="302" y="40"/>
                    </a:lnTo>
                    <a:lnTo>
                      <a:pt x="312" y="47"/>
                    </a:lnTo>
                    <a:lnTo>
                      <a:pt x="319" y="55"/>
                    </a:lnTo>
                    <a:lnTo>
                      <a:pt x="324" y="64"/>
                    </a:lnTo>
                    <a:lnTo>
                      <a:pt x="327" y="7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4" y="94"/>
                    </a:lnTo>
                    <a:lnTo>
                      <a:pt x="319" y="103"/>
                    </a:lnTo>
                    <a:lnTo>
                      <a:pt x="312" y="110"/>
                    </a:lnTo>
                    <a:lnTo>
                      <a:pt x="302" y="116"/>
                    </a:lnTo>
                    <a:lnTo>
                      <a:pt x="292" y="120"/>
                    </a:lnTo>
                    <a:lnTo>
                      <a:pt x="280" y="123"/>
                    </a:lnTo>
                    <a:lnTo>
                      <a:pt x="266" y="124"/>
                    </a:lnTo>
                    <a:lnTo>
                      <a:pt x="253" y="123"/>
                    </a:lnTo>
                    <a:lnTo>
                      <a:pt x="241" y="121"/>
                    </a:lnTo>
                    <a:lnTo>
                      <a:pt x="232" y="120"/>
                    </a:lnTo>
                    <a:lnTo>
                      <a:pt x="224" y="119"/>
                    </a:lnTo>
                    <a:lnTo>
                      <a:pt x="217" y="118"/>
                    </a:lnTo>
                    <a:lnTo>
                      <a:pt x="210" y="117"/>
                    </a:lnTo>
                    <a:lnTo>
                      <a:pt x="204" y="116"/>
                    </a:lnTo>
                    <a:lnTo>
                      <a:pt x="196" y="115"/>
                    </a:lnTo>
                    <a:lnTo>
                      <a:pt x="189" y="114"/>
                    </a:lnTo>
                    <a:lnTo>
                      <a:pt x="181" y="113"/>
                    </a:lnTo>
                    <a:lnTo>
                      <a:pt x="170" y="112"/>
                    </a:lnTo>
                    <a:lnTo>
                      <a:pt x="159" y="110"/>
                    </a:lnTo>
                    <a:lnTo>
                      <a:pt x="145" y="108"/>
                    </a:lnTo>
                    <a:lnTo>
                      <a:pt x="129" y="106"/>
                    </a:lnTo>
                    <a:lnTo>
                      <a:pt x="109" y="103"/>
                    </a:lnTo>
                    <a:lnTo>
                      <a:pt x="87" y="100"/>
                    </a:lnTo>
                    <a:lnTo>
                      <a:pt x="61" y="97"/>
                    </a:lnTo>
                    <a:lnTo>
                      <a:pt x="48" y="94"/>
                    </a:lnTo>
                    <a:lnTo>
                      <a:pt x="35" y="90"/>
                    </a:lnTo>
                    <a:lnTo>
                      <a:pt x="24" y="83"/>
                    </a:lnTo>
                    <a:lnTo>
                      <a:pt x="15" y="76"/>
                    </a:lnTo>
                    <a:lnTo>
                      <a:pt x="7" y="68"/>
                    </a:lnTo>
                    <a:lnTo>
                      <a:pt x="2" y="59"/>
                    </a:lnTo>
                    <a:lnTo>
                      <a:pt x="0" y="5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3" y="31"/>
                    </a:lnTo>
                    <a:lnTo>
                      <a:pt x="8" y="21"/>
                    </a:lnTo>
                    <a:lnTo>
                      <a:pt x="15" y="14"/>
                    </a:lnTo>
                    <a:lnTo>
                      <a:pt x="25" y="8"/>
                    </a:lnTo>
                    <a:lnTo>
                      <a:pt x="35" y="4"/>
                    </a:lnTo>
                    <a:lnTo>
                      <a:pt x="48" y="1"/>
                    </a:lnTo>
                    <a:lnTo>
                      <a:pt x="61" y="0"/>
                    </a:lnTo>
                    <a:lnTo>
                      <a:pt x="75" y="1"/>
                    </a:lnTo>
                    <a:close/>
                  </a:path>
                </a:pathLst>
              </a:custGeom>
              <a:solidFill>
                <a:srgbClr val="28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668360" y="41389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3" h="111">
                    <a:moveTo>
                      <a:pt x="69" y="1"/>
                    </a:moveTo>
                    <a:lnTo>
                      <a:pt x="79" y="2"/>
                    </a:lnTo>
                    <a:lnTo>
                      <a:pt x="87" y="4"/>
                    </a:lnTo>
                    <a:lnTo>
                      <a:pt x="96" y="5"/>
                    </a:lnTo>
                    <a:lnTo>
                      <a:pt x="102" y="5"/>
                    </a:lnTo>
                    <a:lnTo>
                      <a:pt x="108" y="6"/>
                    </a:lnTo>
                    <a:lnTo>
                      <a:pt x="115" y="7"/>
                    </a:lnTo>
                    <a:lnTo>
                      <a:pt x="122" y="8"/>
                    </a:lnTo>
                    <a:lnTo>
                      <a:pt x="128" y="9"/>
                    </a:lnTo>
                    <a:lnTo>
                      <a:pt x="136" y="10"/>
                    </a:lnTo>
                    <a:lnTo>
                      <a:pt x="146" y="11"/>
                    </a:lnTo>
                    <a:lnTo>
                      <a:pt x="156" y="12"/>
                    </a:lnTo>
                    <a:lnTo>
                      <a:pt x="169" y="14"/>
                    </a:lnTo>
                    <a:lnTo>
                      <a:pt x="184" y="16"/>
                    </a:lnTo>
                    <a:lnTo>
                      <a:pt x="201" y="18"/>
                    </a:lnTo>
                    <a:lnTo>
                      <a:pt x="222" y="22"/>
                    </a:lnTo>
                    <a:lnTo>
                      <a:pt x="246" y="25"/>
                    </a:lnTo>
                    <a:lnTo>
                      <a:pt x="258" y="28"/>
                    </a:lnTo>
                    <a:lnTo>
                      <a:pt x="270" y="32"/>
                    </a:lnTo>
                    <a:lnTo>
                      <a:pt x="280" y="37"/>
                    </a:lnTo>
                    <a:lnTo>
                      <a:pt x="288" y="43"/>
                    </a:lnTo>
                    <a:lnTo>
                      <a:pt x="296" y="51"/>
                    </a:lnTo>
                    <a:lnTo>
                      <a:pt x="300" y="59"/>
                    </a:lnTo>
                    <a:lnTo>
                      <a:pt x="303" y="67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0" y="85"/>
                    </a:lnTo>
                    <a:lnTo>
                      <a:pt x="296" y="92"/>
                    </a:lnTo>
                    <a:lnTo>
                      <a:pt x="288" y="98"/>
                    </a:lnTo>
                    <a:lnTo>
                      <a:pt x="280" y="104"/>
                    </a:lnTo>
                    <a:lnTo>
                      <a:pt x="270" y="108"/>
                    </a:lnTo>
                    <a:lnTo>
                      <a:pt x="258" y="110"/>
                    </a:lnTo>
                    <a:lnTo>
                      <a:pt x="246" y="111"/>
                    </a:lnTo>
                    <a:lnTo>
                      <a:pt x="233" y="110"/>
                    </a:lnTo>
                    <a:lnTo>
                      <a:pt x="223" y="109"/>
                    </a:lnTo>
                    <a:lnTo>
                      <a:pt x="214" y="107"/>
                    </a:lnTo>
                    <a:lnTo>
                      <a:pt x="207" y="106"/>
                    </a:lnTo>
                    <a:lnTo>
                      <a:pt x="201" y="106"/>
                    </a:lnTo>
                    <a:lnTo>
                      <a:pt x="195" y="105"/>
                    </a:lnTo>
                    <a:lnTo>
                      <a:pt x="188" y="104"/>
                    </a:lnTo>
                    <a:lnTo>
                      <a:pt x="182" y="103"/>
                    </a:lnTo>
                    <a:lnTo>
                      <a:pt x="175" y="102"/>
                    </a:lnTo>
                    <a:lnTo>
                      <a:pt x="167" y="101"/>
                    </a:lnTo>
                    <a:lnTo>
                      <a:pt x="158" y="100"/>
                    </a:lnTo>
                    <a:lnTo>
                      <a:pt x="147" y="99"/>
                    </a:lnTo>
                    <a:lnTo>
                      <a:pt x="134" y="97"/>
                    </a:lnTo>
                    <a:lnTo>
                      <a:pt x="120" y="95"/>
                    </a:lnTo>
                    <a:lnTo>
                      <a:pt x="102" y="93"/>
                    </a:lnTo>
                    <a:lnTo>
                      <a:pt x="81" y="90"/>
                    </a:lnTo>
                    <a:lnTo>
                      <a:pt x="57" y="87"/>
                    </a:lnTo>
                    <a:lnTo>
                      <a:pt x="45" y="84"/>
                    </a:lnTo>
                    <a:lnTo>
                      <a:pt x="33" y="79"/>
                    </a:lnTo>
                    <a:lnTo>
                      <a:pt x="23" y="74"/>
                    </a:lnTo>
                    <a:lnTo>
                      <a:pt x="15" y="67"/>
                    </a:lnTo>
                    <a:lnTo>
                      <a:pt x="7" y="60"/>
                    </a:lnTo>
                    <a:lnTo>
                      <a:pt x="3" y="52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0" y="35"/>
                    </a:lnTo>
                    <a:lnTo>
                      <a:pt x="2" y="27"/>
                    </a:lnTo>
                    <a:lnTo>
                      <a:pt x="7" y="18"/>
                    </a:lnTo>
                    <a:lnTo>
                      <a:pt x="15" y="12"/>
                    </a:lnTo>
                    <a:lnTo>
                      <a:pt x="23" y="7"/>
                    </a:lnTo>
                    <a:lnTo>
                      <a:pt x="32" y="3"/>
                    </a:lnTo>
                    <a:lnTo>
                      <a:pt x="44" y="1"/>
                    </a:lnTo>
                    <a:lnTo>
                      <a:pt x="56" y="0"/>
                    </a:lnTo>
                    <a:lnTo>
                      <a:pt x="69" y="1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70160" y="4140360"/>
                <a:ext cx="18720" cy="5040"/>
              </a:xfrm>
              <a:custGeom>
                <a:avLst/>
                <a:gdLst/>
                <a:ahLst/>
                <a:rect l="l" t="t" r="r" b="b"/>
                <a:pathLst>
                  <a:path w="278" h="99">
                    <a:moveTo>
                      <a:pt x="64" y="1"/>
                    </a:moveTo>
                    <a:lnTo>
                      <a:pt x="82" y="3"/>
                    </a:lnTo>
                    <a:lnTo>
                      <a:pt x="94" y="5"/>
                    </a:lnTo>
                    <a:lnTo>
                      <a:pt x="106" y="7"/>
                    </a:lnTo>
                    <a:lnTo>
                      <a:pt x="118" y="8"/>
                    </a:lnTo>
                    <a:lnTo>
                      <a:pt x="134" y="10"/>
                    </a:lnTo>
                    <a:lnTo>
                      <a:pt x="155" y="13"/>
                    </a:lnTo>
                    <a:lnTo>
                      <a:pt x="186" y="18"/>
                    </a:lnTo>
                    <a:lnTo>
                      <a:pt x="226" y="24"/>
                    </a:lnTo>
                    <a:lnTo>
                      <a:pt x="238" y="26"/>
                    </a:lnTo>
                    <a:lnTo>
                      <a:pt x="248" y="30"/>
                    </a:lnTo>
                    <a:lnTo>
                      <a:pt x="257" y="34"/>
                    </a:lnTo>
                    <a:lnTo>
                      <a:pt x="265" y="40"/>
                    </a:lnTo>
                    <a:lnTo>
                      <a:pt x="271" y="46"/>
                    </a:lnTo>
                    <a:lnTo>
                      <a:pt x="275" y="53"/>
                    </a:lnTo>
                    <a:lnTo>
                      <a:pt x="278" y="61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6" y="75"/>
                    </a:lnTo>
                    <a:lnTo>
                      <a:pt x="272" y="83"/>
                    </a:lnTo>
                    <a:lnTo>
                      <a:pt x="266" y="88"/>
                    </a:lnTo>
                    <a:lnTo>
                      <a:pt x="257" y="92"/>
                    </a:lnTo>
                    <a:lnTo>
                      <a:pt x="248" y="96"/>
                    </a:lnTo>
                    <a:lnTo>
                      <a:pt x="238" y="98"/>
                    </a:lnTo>
                    <a:lnTo>
                      <a:pt x="226" y="99"/>
                    </a:lnTo>
                    <a:lnTo>
                      <a:pt x="215" y="98"/>
                    </a:lnTo>
                    <a:lnTo>
                      <a:pt x="198" y="96"/>
                    </a:lnTo>
                    <a:lnTo>
                      <a:pt x="185" y="94"/>
                    </a:lnTo>
                    <a:lnTo>
                      <a:pt x="173" y="92"/>
                    </a:lnTo>
                    <a:lnTo>
                      <a:pt x="162" y="91"/>
                    </a:lnTo>
                    <a:lnTo>
                      <a:pt x="146" y="89"/>
                    </a:lnTo>
                    <a:lnTo>
                      <a:pt x="124" y="86"/>
                    </a:lnTo>
                    <a:lnTo>
                      <a:pt x="94" y="82"/>
                    </a:lnTo>
                    <a:lnTo>
                      <a:pt x="52" y="76"/>
                    </a:lnTo>
                    <a:lnTo>
                      <a:pt x="41" y="73"/>
                    </a:lnTo>
                    <a:lnTo>
                      <a:pt x="31" y="70"/>
                    </a:lnTo>
                    <a:lnTo>
                      <a:pt x="21" y="65"/>
                    </a:lnTo>
                    <a:lnTo>
                      <a:pt x="14" y="59"/>
                    </a:lnTo>
                    <a:lnTo>
                      <a:pt x="8" y="53"/>
                    </a:lnTo>
                    <a:lnTo>
                      <a:pt x="3" y="46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7" y="16"/>
                    </a:lnTo>
                    <a:lnTo>
                      <a:pt x="13" y="11"/>
                    </a:lnTo>
                    <a:lnTo>
                      <a:pt x="21" y="6"/>
                    </a:lnTo>
                    <a:lnTo>
                      <a:pt x="31" y="3"/>
                    </a:lnTo>
                    <a:lnTo>
                      <a:pt x="41" y="1"/>
                    </a:lnTo>
                    <a:lnTo>
                      <a:pt x="52" y="0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57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70160" y="4140360"/>
                <a:ext cx="17280" cy="5040"/>
              </a:xfrm>
              <a:custGeom>
                <a:avLst/>
                <a:gdLst/>
                <a:ahLst/>
                <a:rect l="l" t="t" r="r" b="b"/>
                <a:pathLst>
                  <a:path w="253" h="86">
                    <a:moveTo>
                      <a:pt x="57" y="1"/>
                    </a:moveTo>
                    <a:lnTo>
                      <a:pt x="73" y="3"/>
                    </a:lnTo>
                    <a:lnTo>
                      <a:pt x="85" y="5"/>
                    </a:lnTo>
                    <a:lnTo>
                      <a:pt x="96" y="6"/>
                    </a:lnTo>
                    <a:lnTo>
                      <a:pt x="107" y="8"/>
                    </a:lnTo>
                    <a:lnTo>
                      <a:pt x="121" y="9"/>
                    </a:lnTo>
                    <a:lnTo>
                      <a:pt x="140" y="13"/>
                    </a:lnTo>
                    <a:lnTo>
                      <a:pt x="167" y="17"/>
                    </a:lnTo>
                    <a:lnTo>
                      <a:pt x="205" y="22"/>
                    </a:lnTo>
                    <a:lnTo>
                      <a:pt x="215" y="24"/>
                    </a:lnTo>
                    <a:lnTo>
                      <a:pt x="225" y="27"/>
                    </a:lnTo>
                    <a:lnTo>
                      <a:pt x="233" y="31"/>
                    </a:lnTo>
                    <a:lnTo>
                      <a:pt x="240" y="36"/>
                    </a:lnTo>
                    <a:lnTo>
                      <a:pt x="245" y="41"/>
                    </a:lnTo>
                    <a:lnTo>
                      <a:pt x="250" y="47"/>
                    </a:lnTo>
                    <a:lnTo>
                      <a:pt x="252" y="54"/>
                    </a:lnTo>
                    <a:lnTo>
                      <a:pt x="252" y="60"/>
                    </a:lnTo>
                    <a:lnTo>
                      <a:pt x="253" y="60"/>
                    </a:lnTo>
                    <a:lnTo>
                      <a:pt x="253" y="60"/>
                    </a:lnTo>
                    <a:lnTo>
                      <a:pt x="253" y="60"/>
                    </a:lnTo>
                    <a:lnTo>
                      <a:pt x="252" y="60"/>
                    </a:lnTo>
                    <a:lnTo>
                      <a:pt x="250" y="66"/>
                    </a:lnTo>
                    <a:lnTo>
                      <a:pt x="246" y="71"/>
                    </a:lnTo>
                    <a:lnTo>
                      <a:pt x="240" y="77"/>
                    </a:lnTo>
                    <a:lnTo>
                      <a:pt x="234" y="81"/>
                    </a:lnTo>
                    <a:lnTo>
                      <a:pt x="226" y="84"/>
                    </a:lnTo>
                    <a:lnTo>
                      <a:pt x="216" y="86"/>
                    </a:lnTo>
                    <a:lnTo>
                      <a:pt x="206" y="86"/>
                    </a:lnTo>
                    <a:lnTo>
                      <a:pt x="195" y="86"/>
                    </a:lnTo>
                    <a:lnTo>
                      <a:pt x="180" y="84"/>
                    </a:lnTo>
                    <a:lnTo>
                      <a:pt x="168" y="82"/>
                    </a:lnTo>
                    <a:lnTo>
                      <a:pt x="158" y="81"/>
                    </a:lnTo>
                    <a:lnTo>
                      <a:pt x="147" y="79"/>
                    </a:lnTo>
                    <a:lnTo>
                      <a:pt x="133" y="77"/>
                    </a:lnTo>
                    <a:lnTo>
                      <a:pt x="113" y="73"/>
                    </a:lnTo>
                    <a:lnTo>
                      <a:pt x="86" y="70"/>
                    </a:lnTo>
                    <a:lnTo>
                      <a:pt x="49" y="65"/>
                    </a:lnTo>
                    <a:lnTo>
                      <a:pt x="38" y="63"/>
                    </a:lnTo>
                    <a:lnTo>
                      <a:pt x="29" y="60"/>
                    </a:lnTo>
                    <a:lnTo>
                      <a:pt x="20" y="56"/>
                    </a:lnTo>
                    <a:lnTo>
                      <a:pt x="12" y="51"/>
                    </a:lnTo>
                    <a:lnTo>
                      <a:pt x="7" y="45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6" y="15"/>
                    </a:lnTo>
                    <a:lnTo>
                      <a:pt x="11" y="9"/>
                    </a:lnTo>
                    <a:lnTo>
                      <a:pt x="19" y="5"/>
                    </a:lnTo>
                    <a:lnTo>
                      <a:pt x="27" y="2"/>
                    </a:lnTo>
                    <a:lnTo>
                      <a:pt x="36" y="1"/>
                    </a:lnTo>
                    <a:lnTo>
                      <a:pt x="47" y="0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71600" y="4140360"/>
                <a:ext cx="15840" cy="3600"/>
              </a:xfrm>
              <a:custGeom>
                <a:avLst/>
                <a:gdLst/>
                <a:ahLst/>
                <a:rect l="l" t="t" r="r" b="b"/>
                <a:pathLst>
                  <a:path w="227" h="74">
                    <a:moveTo>
                      <a:pt x="51" y="1"/>
                    </a:moveTo>
                    <a:lnTo>
                      <a:pt x="185" y="20"/>
                    </a:lnTo>
                    <a:lnTo>
                      <a:pt x="194" y="22"/>
                    </a:lnTo>
                    <a:lnTo>
                      <a:pt x="202" y="24"/>
                    </a:lnTo>
                    <a:lnTo>
                      <a:pt x="210" y="28"/>
                    </a:lnTo>
                    <a:lnTo>
                      <a:pt x="217" y="32"/>
                    </a:lnTo>
                    <a:lnTo>
                      <a:pt x="221" y="37"/>
                    </a:lnTo>
                    <a:lnTo>
                      <a:pt x="225" y="42"/>
                    </a:lnTo>
                    <a:lnTo>
                      <a:pt x="227" y="47"/>
                    </a:lnTo>
                    <a:lnTo>
                      <a:pt x="227" y="52"/>
                    </a:lnTo>
                    <a:lnTo>
                      <a:pt x="227" y="52"/>
                    </a:lnTo>
                    <a:lnTo>
                      <a:pt x="225" y="57"/>
                    </a:lnTo>
                    <a:lnTo>
                      <a:pt x="222" y="62"/>
                    </a:lnTo>
                    <a:lnTo>
                      <a:pt x="217" y="66"/>
                    </a:lnTo>
                    <a:lnTo>
                      <a:pt x="211" y="69"/>
                    </a:lnTo>
                    <a:lnTo>
                      <a:pt x="203" y="72"/>
                    </a:lnTo>
                    <a:lnTo>
                      <a:pt x="195" y="74"/>
                    </a:lnTo>
                    <a:lnTo>
                      <a:pt x="186" y="74"/>
                    </a:lnTo>
                    <a:lnTo>
                      <a:pt x="176" y="73"/>
                    </a:lnTo>
                    <a:lnTo>
                      <a:pt x="44" y="55"/>
                    </a:lnTo>
                    <a:lnTo>
                      <a:pt x="35" y="53"/>
                    </a:lnTo>
                    <a:lnTo>
                      <a:pt x="26" y="50"/>
                    </a:lnTo>
                    <a:lnTo>
                      <a:pt x="18" y="47"/>
                    </a:lnTo>
                    <a:lnTo>
                      <a:pt x="12" y="43"/>
                    </a:lnTo>
                    <a:lnTo>
                      <a:pt x="7" y="38"/>
                    </a:lnTo>
                    <a:lnTo>
                      <a:pt x="2" y="33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17"/>
                    </a:lnTo>
                    <a:lnTo>
                      <a:pt x="6" y="13"/>
                    </a:lnTo>
                    <a:lnTo>
                      <a:pt x="11" y="9"/>
                    </a:lnTo>
                    <a:lnTo>
                      <a:pt x="17" y="5"/>
                    </a:lnTo>
                    <a:lnTo>
                      <a:pt x="24" y="2"/>
                    </a:lnTo>
                    <a:lnTo>
                      <a:pt x="33" y="1"/>
                    </a:lnTo>
                    <a:lnTo>
                      <a:pt x="42" y="0"/>
                    </a:lnTo>
                    <a:lnTo>
                      <a:pt x="51" y="1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470720" y="4673160"/>
                <a:ext cx="193320" cy="101880"/>
              </a:xfrm>
              <a:custGeom>
                <a:avLst/>
                <a:gdLst/>
                <a:ahLst/>
                <a:rect l="l" t="t" r="r" b="b"/>
                <a:pathLst>
                  <a:path w="2777" h="1772">
                    <a:moveTo>
                      <a:pt x="69" y="0"/>
                    </a:moveTo>
                    <a:lnTo>
                      <a:pt x="2314" y="305"/>
                    </a:lnTo>
                    <a:lnTo>
                      <a:pt x="2326" y="307"/>
                    </a:lnTo>
                    <a:lnTo>
                      <a:pt x="2340" y="312"/>
                    </a:lnTo>
                    <a:lnTo>
                      <a:pt x="2354" y="317"/>
                    </a:lnTo>
                    <a:lnTo>
                      <a:pt x="2367" y="325"/>
                    </a:lnTo>
                    <a:lnTo>
                      <a:pt x="2379" y="334"/>
                    </a:lnTo>
                    <a:lnTo>
                      <a:pt x="2389" y="343"/>
                    </a:lnTo>
                    <a:lnTo>
                      <a:pt x="2397" y="354"/>
                    </a:lnTo>
                    <a:lnTo>
                      <a:pt x="2402" y="365"/>
                    </a:lnTo>
                    <a:lnTo>
                      <a:pt x="2775" y="1523"/>
                    </a:lnTo>
                    <a:lnTo>
                      <a:pt x="2777" y="1537"/>
                    </a:lnTo>
                    <a:lnTo>
                      <a:pt x="2777" y="1554"/>
                    </a:lnTo>
                    <a:lnTo>
                      <a:pt x="2774" y="1573"/>
                    </a:lnTo>
                    <a:lnTo>
                      <a:pt x="2769" y="1592"/>
                    </a:lnTo>
                    <a:lnTo>
                      <a:pt x="2760" y="1612"/>
                    </a:lnTo>
                    <a:lnTo>
                      <a:pt x="2751" y="1634"/>
                    </a:lnTo>
                    <a:lnTo>
                      <a:pt x="2740" y="1655"/>
                    </a:lnTo>
                    <a:lnTo>
                      <a:pt x="2726" y="1675"/>
                    </a:lnTo>
                    <a:lnTo>
                      <a:pt x="2713" y="1696"/>
                    </a:lnTo>
                    <a:lnTo>
                      <a:pt x="2698" y="1714"/>
                    </a:lnTo>
                    <a:lnTo>
                      <a:pt x="2682" y="1730"/>
                    </a:lnTo>
                    <a:lnTo>
                      <a:pt x="2667" y="1746"/>
                    </a:lnTo>
                    <a:lnTo>
                      <a:pt x="2651" y="1757"/>
                    </a:lnTo>
                    <a:lnTo>
                      <a:pt x="2636" y="1766"/>
                    </a:lnTo>
                    <a:lnTo>
                      <a:pt x="2620" y="1771"/>
                    </a:lnTo>
                    <a:lnTo>
                      <a:pt x="2605" y="1772"/>
                    </a:lnTo>
                    <a:lnTo>
                      <a:pt x="552" y="1634"/>
                    </a:lnTo>
                    <a:lnTo>
                      <a:pt x="528" y="1631"/>
                    </a:lnTo>
                    <a:lnTo>
                      <a:pt x="503" y="1626"/>
                    </a:lnTo>
                    <a:lnTo>
                      <a:pt x="478" y="1619"/>
                    </a:lnTo>
                    <a:lnTo>
                      <a:pt x="453" y="1608"/>
                    </a:lnTo>
                    <a:lnTo>
                      <a:pt x="428" y="1597"/>
                    </a:lnTo>
                    <a:lnTo>
                      <a:pt x="404" y="1584"/>
                    </a:lnTo>
                    <a:lnTo>
                      <a:pt x="381" y="1569"/>
                    </a:lnTo>
                    <a:lnTo>
                      <a:pt x="358" y="1552"/>
                    </a:lnTo>
                    <a:lnTo>
                      <a:pt x="336" y="1534"/>
                    </a:lnTo>
                    <a:lnTo>
                      <a:pt x="316" y="1516"/>
                    </a:lnTo>
                    <a:lnTo>
                      <a:pt x="297" y="1496"/>
                    </a:lnTo>
                    <a:lnTo>
                      <a:pt x="282" y="1475"/>
                    </a:lnTo>
                    <a:lnTo>
                      <a:pt x="267" y="1454"/>
                    </a:lnTo>
                    <a:lnTo>
                      <a:pt x="256" y="1432"/>
                    </a:lnTo>
                    <a:lnTo>
                      <a:pt x="246" y="1410"/>
                    </a:lnTo>
                    <a:lnTo>
                      <a:pt x="241" y="1388"/>
                    </a:lnTo>
                    <a:lnTo>
                      <a:pt x="0" y="105"/>
                    </a:lnTo>
                    <a:lnTo>
                      <a:pt x="1" y="97"/>
                    </a:lnTo>
                    <a:lnTo>
                      <a:pt x="3" y="83"/>
                    </a:lnTo>
                    <a:lnTo>
                      <a:pt x="8" y="64"/>
                    </a:lnTo>
                    <a:lnTo>
                      <a:pt x="15" y="45"/>
                    </a:lnTo>
                    <a:lnTo>
                      <a:pt x="25" y="27"/>
                    </a:lnTo>
                    <a:lnTo>
                      <a:pt x="37" y="11"/>
                    </a:lnTo>
                    <a:lnTo>
                      <a:pt x="52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47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457760" y="4298040"/>
                <a:ext cx="212400" cy="390600"/>
              </a:xfrm>
              <a:custGeom>
                <a:avLst/>
                <a:gdLst/>
                <a:ahLst/>
                <a:rect l="l" t="t" r="r" b="b"/>
                <a:pathLst>
                  <a:path w="3069" h="6772">
                    <a:moveTo>
                      <a:pt x="880" y="493"/>
                    </a:moveTo>
                    <a:lnTo>
                      <a:pt x="842" y="490"/>
                    </a:lnTo>
                    <a:lnTo>
                      <a:pt x="801" y="492"/>
                    </a:lnTo>
                    <a:lnTo>
                      <a:pt x="760" y="498"/>
                    </a:lnTo>
                    <a:lnTo>
                      <a:pt x="718" y="508"/>
                    </a:lnTo>
                    <a:lnTo>
                      <a:pt x="676" y="522"/>
                    </a:lnTo>
                    <a:lnTo>
                      <a:pt x="636" y="540"/>
                    </a:lnTo>
                    <a:lnTo>
                      <a:pt x="596" y="560"/>
                    </a:lnTo>
                    <a:lnTo>
                      <a:pt x="558" y="583"/>
                    </a:lnTo>
                    <a:lnTo>
                      <a:pt x="522" y="610"/>
                    </a:lnTo>
                    <a:lnTo>
                      <a:pt x="489" y="638"/>
                    </a:lnTo>
                    <a:lnTo>
                      <a:pt x="460" y="669"/>
                    </a:lnTo>
                    <a:lnTo>
                      <a:pt x="434" y="701"/>
                    </a:lnTo>
                    <a:lnTo>
                      <a:pt x="412" y="736"/>
                    </a:lnTo>
                    <a:lnTo>
                      <a:pt x="394" y="771"/>
                    </a:lnTo>
                    <a:lnTo>
                      <a:pt x="383" y="807"/>
                    </a:lnTo>
                    <a:lnTo>
                      <a:pt x="378" y="845"/>
                    </a:lnTo>
                    <a:lnTo>
                      <a:pt x="1" y="6137"/>
                    </a:lnTo>
                    <a:lnTo>
                      <a:pt x="0" y="6167"/>
                    </a:lnTo>
                    <a:lnTo>
                      <a:pt x="2" y="6197"/>
                    </a:lnTo>
                    <a:lnTo>
                      <a:pt x="7" y="6228"/>
                    </a:lnTo>
                    <a:lnTo>
                      <a:pt x="15" y="6259"/>
                    </a:lnTo>
                    <a:lnTo>
                      <a:pt x="23" y="6291"/>
                    </a:lnTo>
                    <a:lnTo>
                      <a:pt x="35" y="6322"/>
                    </a:lnTo>
                    <a:lnTo>
                      <a:pt x="49" y="6353"/>
                    </a:lnTo>
                    <a:lnTo>
                      <a:pt x="65" y="6381"/>
                    </a:lnTo>
                    <a:lnTo>
                      <a:pt x="82" y="6409"/>
                    </a:lnTo>
                    <a:lnTo>
                      <a:pt x="102" y="6435"/>
                    </a:lnTo>
                    <a:lnTo>
                      <a:pt x="123" y="6458"/>
                    </a:lnTo>
                    <a:lnTo>
                      <a:pt x="147" y="6478"/>
                    </a:lnTo>
                    <a:lnTo>
                      <a:pt x="171" y="6495"/>
                    </a:lnTo>
                    <a:lnTo>
                      <a:pt x="197" y="6509"/>
                    </a:lnTo>
                    <a:lnTo>
                      <a:pt x="224" y="6520"/>
                    </a:lnTo>
                    <a:lnTo>
                      <a:pt x="253" y="6525"/>
                    </a:lnTo>
                    <a:lnTo>
                      <a:pt x="2405" y="6771"/>
                    </a:lnTo>
                    <a:lnTo>
                      <a:pt x="2430" y="6772"/>
                    </a:lnTo>
                    <a:lnTo>
                      <a:pt x="2455" y="6769"/>
                    </a:lnTo>
                    <a:lnTo>
                      <a:pt x="2480" y="6762"/>
                    </a:lnTo>
                    <a:lnTo>
                      <a:pt x="2505" y="6751"/>
                    </a:lnTo>
                    <a:lnTo>
                      <a:pt x="2529" y="6739"/>
                    </a:lnTo>
                    <a:lnTo>
                      <a:pt x="2552" y="6724"/>
                    </a:lnTo>
                    <a:lnTo>
                      <a:pt x="2573" y="6706"/>
                    </a:lnTo>
                    <a:lnTo>
                      <a:pt x="2595" y="6685"/>
                    </a:lnTo>
                    <a:lnTo>
                      <a:pt x="2614" y="6664"/>
                    </a:lnTo>
                    <a:lnTo>
                      <a:pt x="2632" y="6641"/>
                    </a:lnTo>
                    <a:lnTo>
                      <a:pt x="2647" y="6617"/>
                    </a:lnTo>
                    <a:lnTo>
                      <a:pt x="2662" y="6592"/>
                    </a:lnTo>
                    <a:lnTo>
                      <a:pt x="2673" y="6566"/>
                    </a:lnTo>
                    <a:lnTo>
                      <a:pt x="2682" y="6541"/>
                    </a:lnTo>
                    <a:lnTo>
                      <a:pt x="2688" y="6516"/>
                    </a:lnTo>
                    <a:lnTo>
                      <a:pt x="2691" y="6490"/>
                    </a:lnTo>
                    <a:lnTo>
                      <a:pt x="3069" y="1020"/>
                    </a:lnTo>
                    <a:lnTo>
                      <a:pt x="3068" y="946"/>
                    </a:lnTo>
                    <a:lnTo>
                      <a:pt x="3062" y="871"/>
                    </a:lnTo>
                    <a:lnTo>
                      <a:pt x="3053" y="797"/>
                    </a:lnTo>
                    <a:lnTo>
                      <a:pt x="3050" y="723"/>
                    </a:lnTo>
                    <a:lnTo>
                      <a:pt x="3069" y="194"/>
                    </a:lnTo>
                    <a:lnTo>
                      <a:pt x="3065" y="161"/>
                    </a:lnTo>
                    <a:lnTo>
                      <a:pt x="3050" y="131"/>
                    </a:lnTo>
                    <a:lnTo>
                      <a:pt x="3027" y="104"/>
                    </a:lnTo>
                    <a:lnTo>
                      <a:pt x="2997" y="78"/>
                    </a:lnTo>
                    <a:lnTo>
                      <a:pt x="2961" y="56"/>
                    </a:lnTo>
                    <a:lnTo>
                      <a:pt x="2919" y="37"/>
                    </a:lnTo>
                    <a:lnTo>
                      <a:pt x="2874" y="22"/>
                    </a:lnTo>
                    <a:lnTo>
                      <a:pt x="2827" y="10"/>
                    </a:lnTo>
                    <a:lnTo>
                      <a:pt x="2780" y="3"/>
                    </a:lnTo>
                    <a:lnTo>
                      <a:pt x="2733" y="0"/>
                    </a:lnTo>
                    <a:lnTo>
                      <a:pt x="2687" y="1"/>
                    </a:lnTo>
                    <a:lnTo>
                      <a:pt x="2644" y="7"/>
                    </a:lnTo>
                    <a:lnTo>
                      <a:pt x="2607" y="18"/>
                    </a:lnTo>
                    <a:lnTo>
                      <a:pt x="2573" y="34"/>
                    </a:lnTo>
                    <a:lnTo>
                      <a:pt x="2548" y="57"/>
                    </a:lnTo>
                    <a:lnTo>
                      <a:pt x="2531" y="84"/>
                    </a:lnTo>
                    <a:lnTo>
                      <a:pt x="2304" y="616"/>
                    </a:lnTo>
                    <a:lnTo>
                      <a:pt x="2300" y="626"/>
                    </a:lnTo>
                    <a:lnTo>
                      <a:pt x="2295" y="636"/>
                    </a:lnTo>
                    <a:lnTo>
                      <a:pt x="2288" y="646"/>
                    </a:lnTo>
                    <a:lnTo>
                      <a:pt x="2280" y="657"/>
                    </a:lnTo>
                    <a:lnTo>
                      <a:pt x="2272" y="665"/>
                    </a:lnTo>
                    <a:lnTo>
                      <a:pt x="2263" y="671"/>
                    </a:lnTo>
                    <a:lnTo>
                      <a:pt x="2254" y="675"/>
                    </a:lnTo>
                    <a:lnTo>
                      <a:pt x="2244" y="675"/>
                    </a:lnTo>
                    <a:lnTo>
                      <a:pt x="880" y="49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57760" y="4293720"/>
                <a:ext cx="212400" cy="389880"/>
              </a:xfrm>
              <a:custGeom>
                <a:avLst/>
                <a:gdLst/>
                <a:ahLst/>
                <a:rect l="l" t="t" r="r" b="b"/>
                <a:pathLst>
                  <a:path w="3069" h="6771">
                    <a:moveTo>
                      <a:pt x="880" y="493"/>
                    </a:moveTo>
                    <a:lnTo>
                      <a:pt x="842" y="490"/>
                    </a:lnTo>
                    <a:lnTo>
                      <a:pt x="801" y="492"/>
                    </a:lnTo>
                    <a:lnTo>
                      <a:pt x="760" y="498"/>
                    </a:lnTo>
                    <a:lnTo>
                      <a:pt x="718" y="508"/>
                    </a:lnTo>
                    <a:lnTo>
                      <a:pt x="676" y="522"/>
                    </a:lnTo>
                    <a:lnTo>
                      <a:pt x="636" y="539"/>
                    </a:lnTo>
                    <a:lnTo>
                      <a:pt x="596" y="560"/>
                    </a:lnTo>
                    <a:lnTo>
                      <a:pt x="558" y="583"/>
                    </a:lnTo>
                    <a:lnTo>
                      <a:pt x="522" y="609"/>
                    </a:lnTo>
                    <a:lnTo>
                      <a:pt x="489" y="638"/>
                    </a:lnTo>
                    <a:lnTo>
                      <a:pt x="460" y="668"/>
                    </a:lnTo>
                    <a:lnTo>
                      <a:pt x="434" y="701"/>
                    </a:lnTo>
                    <a:lnTo>
                      <a:pt x="412" y="736"/>
                    </a:lnTo>
                    <a:lnTo>
                      <a:pt x="394" y="771"/>
                    </a:lnTo>
                    <a:lnTo>
                      <a:pt x="383" y="807"/>
                    </a:lnTo>
                    <a:lnTo>
                      <a:pt x="378" y="844"/>
                    </a:lnTo>
                    <a:lnTo>
                      <a:pt x="1" y="6137"/>
                    </a:lnTo>
                    <a:lnTo>
                      <a:pt x="0" y="6167"/>
                    </a:lnTo>
                    <a:lnTo>
                      <a:pt x="2" y="6197"/>
                    </a:lnTo>
                    <a:lnTo>
                      <a:pt x="7" y="6228"/>
                    </a:lnTo>
                    <a:lnTo>
                      <a:pt x="15" y="6259"/>
                    </a:lnTo>
                    <a:lnTo>
                      <a:pt x="23" y="6291"/>
                    </a:lnTo>
                    <a:lnTo>
                      <a:pt x="35" y="6322"/>
                    </a:lnTo>
                    <a:lnTo>
                      <a:pt x="49" y="6353"/>
                    </a:lnTo>
                    <a:lnTo>
                      <a:pt x="65" y="6381"/>
                    </a:lnTo>
                    <a:lnTo>
                      <a:pt x="82" y="6408"/>
                    </a:lnTo>
                    <a:lnTo>
                      <a:pt x="102" y="6435"/>
                    </a:lnTo>
                    <a:lnTo>
                      <a:pt x="123" y="6457"/>
                    </a:lnTo>
                    <a:lnTo>
                      <a:pt x="147" y="6478"/>
                    </a:lnTo>
                    <a:lnTo>
                      <a:pt x="171" y="6495"/>
                    </a:lnTo>
                    <a:lnTo>
                      <a:pt x="197" y="6509"/>
                    </a:lnTo>
                    <a:lnTo>
                      <a:pt x="224" y="6519"/>
                    </a:lnTo>
                    <a:lnTo>
                      <a:pt x="253" y="6524"/>
                    </a:lnTo>
                    <a:lnTo>
                      <a:pt x="2405" y="6770"/>
                    </a:lnTo>
                    <a:lnTo>
                      <a:pt x="2430" y="6771"/>
                    </a:lnTo>
                    <a:lnTo>
                      <a:pt x="2455" y="6768"/>
                    </a:lnTo>
                    <a:lnTo>
                      <a:pt x="2480" y="6761"/>
                    </a:lnTo>
                    <a:lnTo>
                      <a:pt x="2505" y="6751"/>
                    </a:lnTo>
                    <a:lnTo>
                      <a:pt x="2529" y="6739"/>
                    </a:lnTo>
                    <a:lnTo>
                      <a:pt x="2552" y="6724"/>
                    </a:lnTo>
                    <a:lnTo>
                      <a:pt x="2573" y="6705"/>
                    </a:lnTo>
                    <a:lnTo>
                      <a:pt x="2595" y="6685"/>
                    </a:lnTo>
                    <a:lnTo>
                      <a:pt x="2614" y="6664"/>
                    </a:lnTo>
                    <a:lnTo>
                      <a:pt x="2632" y="6640"/>
                    </a:lnTo>
                    <a:lnTo>
                      <a:pt x="2647" y="6617"/>
                    </a:lnTo>
                    <a:lnTo>
                      <a:pt x="2662" y="6591"/>
                    </a:lnTo>
                    <a:lnTo>
                      <a:pt x="2673" y="6566"/>
                    </a:lnTo>
                    <a:lnTo>
                      <a:pt x="2682" y="6541"/>
                    </a:lnTo>
                    <a:lnTo>
                      <a:pt x="2688" y="6515"/>
                    </a:lnTo>
                    <a:lnTo>
                      <a:pt x="2691" y="6490"/>
                    </a:lnTo>
                    <a:lnTo>
                      <a:pt x="3069" y="1020"/>
                    </a:lnTo>
                    <a:lnTo>
                      <a:pt x="3068" y="946"/>
                    </a:lnTo>
                    <a:lnTo>
                      <a:pt x="3062" y="871"/>
                    </a:lnTo>
                    <a:lnTo>
                      <a:pt x="3053" y="796"/>
                    </a:lnTo>
                    <a:lnTo>
                      <a:pt x="3050" y="722"/>
                    </a:lnTo>
                    <a:lnTo>
                      <a:pt x="3069" y="194"/>
                    </a:lnTo>
                    <a:lnTo>
                      <a:pt x="3065" y="161"/>
                    </a:lnTo>
                    <a:lnTo>
                      <a:pt x="3050" y="131"/>
                    </a:lnTo>
                    <a:lnTo>
                      <a:pt x="3027" y="103"/>
                    </a:lnTo>
                    <a:lnTo>
                      <a:pt x="2997" y="78"/>
                    </a:lnTo>
                    <a:lnTo>
                      <a:pt x="2961" y="55"/>
                    </a:lnTo>
                    <a:lnTo>
                      <a:pt x="2919" y="37"/>
                    </a:lnTo>
                    <a:lnTo>
                      <a:pt x="2874" y="22"/>
                    </a:lnTo>
                    <a:lnTo>
                      <a:pt x="2827" y="10"/>
                    </a:lnTo>
                    <a:lnTo>
                      <a:pt x="2780" y="3"/>
                    </a:lnTo>
                    <a:lnTo>
                      <a:pt x="2733" y="0"/>
                    </a:lnTo>
                    <a:lnTo>
                      <a:pt x="2687" y="1"/>
                    </a:lnTo>
                    <a:lnTo>
                      <a:pt x="2644" y="7"/>
                    </a:lnTo>
                    <a:lnTo>
                      <a:pt x="2607" y="18"/>
                    </a:lnTo>
                    <a:lnTo>
                      <a:pt x="2573" y="34"/>
                    </a:lnTo>
                    <a:lnTo>
                      <a:pt x="2548" y="56"/>
                    </a:lnTo>
                    <a:lnTo>
                      <a:pt x="2531" y="84"/>
                    </a:lnTo>
                    <a:lnTo>
                      <a:pt x="2304" y="616"/>
                    </a:lnTo>
                    <a:lnTo>
                      <a:pt x="2300" y="626"/>
                    </a:lnTo>
                    <a:lnTo>
                      <a:pt x="2295" y="636"/>
                    </a:lnTo>
                    <a:lnTo>
                      <a:pt x="2288" y="646"/>
                    </a:lnTo>
                    <a:lnTo>
                      <a:pt x="2280" y="656"/>
                    </a:lnTo>
                    <a:lnTo>
                      <a:pt x="2272" y="664"/>
                    </a:lnTo>
                    <a:lnTo>
                      <a:pt x="2263" y="670"/>
                    </a:lnTo>
                    <a:lnTo>
                      <a:pt x="2254" y="675"/>
                    </a:lnTo>
                    <a:lnTo>
                      <a:pt x="2244" y="675"/>
                    </a:lnTo>
                    <a:lnTo>
                      <a:pt x="880" y="49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58840" y="4293720"/>
                <a:ext cx="210960" cy="389880"/>
              </a:xfrm>
              <a:custGeom>
                <a:avLst/>
                <a:gdLst/>
                <a:ahLst/>
                <a:rect l="l" t="t" r="r" b="b"/>
                <a:pathLst>
                  <a:path w="3046" h="6749">
                    <a:moveTo>
                      <a:pt x="888" y="497"/>
                    </a:moveTo>
                    <a:lnTo>
                      <a:pt x="850" y="494"/>
                    </a:lnTo>
                    <a:lnTo>
                      <a:pt x="810" y="496"/>
                    </a:lnTo>
                    <a:lnTo>
                      <a:pt x="770" y="502"/>
                    </a:lnTo>
                    <a:lnTo>
                      <a:pt x="728" y="511"/>
                    </a:lnTo>
                    <a:lnTo>
                      <a:pt x="687" y="525"/>
                    </a:lnTo>
                    <a:lnTo>
                      <a:pt x="646" y="542"/>
                    </a:lnTo>
                    <a:lnTo>
                      <a:pt x="605" y="562"/>
                    </a:lnTo>
                    <a:lnTo>
                      <a:pt x="567" y="584"/>
                    </a:lnTo>
                    <a:lnTo>
                      <a:pt x="530" y="610"/>
                    </a:lnTo>
                    <a:lnTo>
                      <a:pt x="497" y="637"/>
                    </a:lnTo>
                    <a:lnTo>
                      <a:pt x="467" y="667"/>
                    </a:lnTo>
                    <a:lnTo>
                      <a:pt x="441" y="698"/>
                    </a:lnTo>
                    <a:lnTo>
                      <a:pt x="419" y="732"/>
                    </a:lnTo>
                    <a:lnTo>
                      <a:pt x="401" y="766"/>
                    </a:lnTo>
                    <a:lnTo>
                      <a:pt x="390" y="802"/>
                    </a:lnTo>
                    <a:lnTo>
                      <a:pt x="385" y="838"/>
                    </a:lnTo>
                    <a:lnTo>
                      <a:pt x="363" y="1142"/>
                    </a:lnTo>
                    <a:lnTo>
                      <a:pt x="344" y="1402"/>
                    </a:lnTo>
                    <a:lnTo>
                      <a:pt x="328" y="1627"/>
                    </a:lnTo>
                    <a:lnTo>
                      <a:pt x="313" y="1828"/>
                    </a:lnTo>
                    <a:lnTo>
                      <a:pt x="299" y="2016"/>
                    </a:lnTo>
                    <a:lnTo>
                      <a:pt x="286" y="2200"/>
                    </a:lnTo>
                    <a:lnTo>
                      <a:pt x="272" y="2390"/>
                    </a:lnTo>
                    <a:lnTo>
                      <a:pt x="257" y="2599"/>
                    </a:lnTo>
                    <a:lnTo>
                      <a:pt x="240" y="2834"/>
                    </a:lnTo>
                    <a:lnTo>
                      <a:pt x="220" y="3107"/>
                    </a:lnTo>
                    <a:lnTo>
                      <a:pt x="196" y="3429"/>
                    </a:lnTo>
                    <a:lnTo>
                      <a:pt x="169" y="3809"/>
                    </a:lnTo>
                    <a:lnTo>
                      <a:pt x="136" y="4259"/>
                    </a:lnTo>
                    <a:lnTo>
                      <a:pt x="98" y="4786"/>
                    </a:lnTo>
                    <a:lnTo>
                      <a:pt x="53" y="5404"/>
                    </a:lnTo>
                    <a:lnTo>
                      <a:pt x="1" y="6122"/>
                    </a:lnTo>
                    <a:lnTo>
                      <a:pt x="0" y="6150"/>
                    </a:lnTo>
                    <a:lnTo>
                      <a:pt x="2" y="6181"/>
                    </a:lnTo>
                    <a:lnTo>
                      <a:pt x="7" y="6212"/>
                    </a:lnTo>
                    <a:lnTo>
                      <a:pt x="14" y="6244"/>
                    </a:lnTo>
                    <a:lnTo>
                      <a:pt x="24" y="6275"/>
                    </a:lnTo>
                    <a:lnTo>
                      <a:pt x="35" y="6306"/>
                    </a:lnTo>
                    <a:lnTo>
                      <a:pt x="49" y="6336"/>
                    </a:lnTo>
                    <a:lnTo>
                      <a:pt x="64" y="6366"/>
                    </a:lnTo>
                    <a:lnTo>
                      <a:pt x="82" y="6393"/>
                    </a:lnTo>
                    <a:lnTo>
                      <a:pt x="102" y="6419"/>
                    </a:lnTo>
                    <a:lnTo>
                      <a:pt x="124" y="6442"/>
                    </a:lnTo>
                    <a:lnTo>
                      <a:pt x="147" y="6463"/>
                    </a:lnTo>
                    <a:lnTo>
                      <a:pt x="170" y="6480"/>
                    </a:lnTo>
                    <a:lnTo>
                      <a:pt x="196" y="6494"/>
                    </a:lnTo>
                    <a:lnTo>
                      <a:pt x="225" y="6504"/>
                    </a:lnTo>
                    <a:lnTo>
                      <a:pt x="253" y="6509"/>
                    </a:lnTo>
                    <a:lnTo>
                      <a:pt x="316" y="6516"/>
                    </a:lnTo>
                    <a:lnTo>
                      <a:pt x="374" y="6522"/>
                    </a:lnTo>
                    <a:lnTo>
                      <a:pt x="429" y="6529"/>
                    </a:lnTo>
                    <a:lnTo>
                      <a:pt x="480" y="6535"/>
                    </a:lnTo>
                    <a:lnTo>
                      <a:pt x="525" y="6540"/>
                    </a:lnTo>
                    <a:lnTo>
                      <a:pt x="569" y="6545"/>
                    </a:lnTo>
                    <a:lnTo>
                      <a:pt x="611" y="6549"/>
                    </a:lnTo>
                    <a:lnTo>
                      <a:pt x="650" y="6553"/>
                    </a:lnTo>
                    <a:lnTo>
                      <a:pt x="689" y="6557"/>
                    </a:lnTo>
                    <a:lnTo>
                      <a:pt x="725" y="6562"/>
                    </a:lnTo>
                    <a:lnTo>
                      <a:pt x="763" y="6566"/>
                    </a:lnTo>
                    <a:lnTo>
                      <a:pt x="799" y="6570"/>
                    </a:lnTo>
                    <a:lnTo>
                      <a:pt x="836" y="6574"/>
                    </a:lnTo>
                    <a:lnTo>
                      <a:pt x="876" y="6578"/>
                    </a:lnTo>
                    <a:lnTo>
                      <a:pt x="917" y="6583"/>
                    </a:lnTo>
                    <a:lnTo>
                      <a:pt x="959" y="6588"/>
                    </a:lnTo>
                    <a:lnTo>
                      <a:pt x="1005" y="6593"/>
                    </a:lnTo>
                    <a:lnTo>
                      <a:pt x="1054" y="6599"/>
                    </a:lnTo>
                    <a:lnTo>
                      <a:pt x="1106" y="6605"/>
                    </a:lnTo>
                    <a:lnTo>
                      <a:pt x="1163" y="6611"/>
                    </a:lnTo>
                    <a:lnTo>
                      <a:pt x="1225" y="6618"/>
                    </a:lnTo>
                    <a:lnTo>
                      <a:pt x="1292" y="6625"/>
                    </a:lnTo>
                    <a:lnTo>
                      <a:pt x="1365" y="6634"/>
                    </a:lnTo>
                    <a:lnTo>
                      <a:pt x="1444" y="6642"/>
                    </a:lnTo>
                    <a:lnTo>
                      <a:pt x="1531" y="6653"/>
                    </a:lnTo>
                    <a:lnTo>
                      <a:pt x="1624" y="6664"/>
                    </a:lnTo>
                    <a:lnTo>
                      <a:pt x="1725" y="6675"/>
                    </a:lnTo>
                    <a:lnTo>
                      <a:pt x="1834" y="6687"/>
                    </a:lnTo>
                    <a:lnTo>
                      <a:pt x="1953" y="6701"/>
                    </a:lnTo>
                    <a:lnTo>
                      <a:pt x="2082" y="6716"/>
                    </a:lnTo>
                    <a:lnTo>
                      <a:pt x="2220" y="6731"/>
                    </a:lnTo>
                    <a:lnTo>
                      <a:pt x="2369" y="6748"/>
                    </a:lnTo>
                    <a:lnTo>
                      <a:pt x="2394" y="6749"/>
                    </a:lnTo>
                    <a:lnTo>
                      <a:pt x="2419" y="6746"/>
                    </a:lnTo>
                    <a:lnTo>
                      <a:pt x="2444" y="6740"/>
                    </a:lnTo>
                    <a:lnTo>
                      <a:pt x="2468" y="6731"/>
                    </a:lnTo>
                    <a:lnTo>
                      <a:pt x="2492" y="6719"/>
                    </a:lnTo>
                    <a:lnTo>
                      <a:pt x="2516" y="6703"/>
                    </a:lnTo>
                    <a:lnTo>
                      <a:pt x="2538" y="6687"/>
                    </a:lnTo>
                    <a:lnTo>
                      <a:pt x="2560" y="6668"/>
                    </a:lnTo>
                    <a:lnTo>
                      <a:pt x="2579" y="6648"/>
                    </a:lnTo>
                    <a:lnTo>
                      <a:pt x="2597" y="6625"/>
                    </a:lnTo>
                    <a:lnTo>
                      <a:pt x="2614" y="6602"/>
                    </a:lnTo>
                    <a:lnTo>
                      <a:pt x="2627" y="6577"/>
                    </a:lnTo>
                    <a:lnTo>
                      <a:pt x="2639" y="6553"/>
                    </a:lnTo>
                    <a:lnTo>
                      <a:pt x="2648" y="6528"/>
                    </a:lnTo>
                    <a:lnTo>
                      <a:pt x="2654" y="6502"/>
                    </a:lnTo>
                    <a:lnTo>
                      <a:pt x="2658" y="6478"/>
                    </a:lnTo>
                    <a:lnTo>
                      <a:pt x="2679" y="6163"/>
                    </a:lnTo>
                    <a:lnTo>
                      <a:pt x="2698" y="5893"/>
                    </a:lnTo>
                    <a:lnTo>
                      <a:pt x="2715" y="5659"/>
                    </a:lnTo>
                    <a:lnTo>
                      <a:pt x="2729" y="5451"/>
                    </a:lnTo>
                    <a:lnTo>
                      <a:pt x="2743" y="5257"/>
                    </a:lnTo>
                    <a:lnTo>
                      <a:pt x="2756" y="5067"/>
                    </a:lnTo>
                    <a:lnTo>
                      <a:pt x="2770" y="4869"/>
                    </a:lnTo>
                    <a:lnTo>
                      <a:pt x="2786" y="4653"/>
                    </a:lnTo>
                    <a:lnTo>
                      <a:pt x="2802" y="4409"/>
                    </a:lnTo>
                    <a:lnTo>
                      <a:pt x="2822" y="4127"/>
                    </a:lnTo>
                    <a:lnTo>
                      <a:pt x="2845" y="3793"/>
                    </a:lnTo>
                    <a:lnTo>
                      <a:pt x="2873" y="3400"/>
                    </a:lnTo>
                    <a:lnTo>
                      <a:pt x="2905" y="2935"/>
                    </a:lnTo>
                    <a:lnTo>
                      <a:pt x="2943" y="2390"/>
                    </a:lnTo>
                    <a:lnTo>
                      <a:pt x="2987" y="1751"/>
                    </a:lnTo>
                    <a:lnTo>
                      <a:pt x="3039" y="1009"/>
                    </a:lnTo>
                    <a:lnTo>
                      <a:pt x="3040" y="934"/>
                    </a:lnTo>
                    <a:lnTo>
                      <a:pt x="3034" y="858"/>
                    </a:lnTo>
                    <a:lnTo>
                      <a:pt x="3028" y="781"/>
                    </a:lnTo>
                    <a:lnTo>
                      <a:pt x="3026" y="706"/>
                    </a:lnTo>
                    <a:lnTo>
                      <a:pt x="3030" y="609"/>
                    </a:lnTo>
                    <a:lnTo>
                      <a:pt x="3033" y="533"/>
                    </a:lnTo>
                    <a:lnTo>
                      <a:pt x="3037" y="415"/>
                    </a:lnTo>
                    <a:lnTo>
                      <a:pt x="3046" y="189"/>
                    </a:lnTo>
                    <a:lnTo>
                      <a:pt x="3042" y="157"/>
                    </a:lnTo>
                    <a:lnTo>
                      <a:pt x="3028" y="128"/>
                    </a:lnTo>
                    <a:lnTo>
                      <a:pt x="3005" y="101"/>
                    </a:lnTo>
                    <a:lnTo>
                      <a:pt x="2975" y="77"/>
                    </a:lnTo>
                    <a:lnTo>
                      <a:pt x="2940" y="55"/>
                    </a:lnTo>
                    <a:lnTo>
                      <a:pt x="2899" y="36"/>
                    </a:lnTo>
                    <a:lnTo>
                      <a:pt x="2855" y="22"/>
                    </a:lnTo>
                    <a:lnTo>
                      <a:pt x="2809" y="10"/>
                    </a:lnTo>
                    <a:lnTo>
                      <a:pt x="2764" y="3"/>
                    </a:lnTo>
                    <a:lnTo>
                      <a:pt x="2717" y="0"/>
                    </a:lnTo>
                    <a:lnTo>
                      <a:pt x="2672" y="1"/>
                    </a:lnTo>
                    <a:lnTo>
                      <a:pt x="2630" y="7"/>
                    </a:lnTo>
                    <a:lnTo>
                      <a:pt x="2594" y="17"/>
                    </a:lnTo>
                    <a:lnTo>
                      <a:pt x="2562" y="33"/>
                    </a:lnTo>
                    <a:lnTo>
                      <a:pt x="2537" y="55"/>
                    </a:lnTo>
                    <a:lnTo>
                      <a:pt x="2520" y="82"/>
                    </a:lnTo>
                    <a:lnTo>
                      <a:pt x="2508" y="114"/>
                    </a:lnTo>
                    <a:lnTo>
                      <a:pt x="2496" y="140"/>
                    </a:lnTo>
                    <a:lnTo>
                      <a:pt x="2487" y="162"/>
                    </a:lnTo>
                    <a:lnTo>
                      <a:pt x="2479" y="183"/>
                    </a:lnTo>
                    <a:lnTo>
                      <a:pt x="2470" y="202"/>
                    </a:lnTo>
                    <a:lnTo>
                      <a:pt x="2463" y="220"/>
                    </a:lnTo>
                    <a:lnTo>
                      <a:pt x="2455" y="240"/>
                    </a:lnTo>
                    <a:lnTo>
                      <a:pt x="2446" y="261"/>
                    </a:lnTo>
                    <a:lnTo>
                      <a:pt x="2436" y="285"/>
                    </a:lnTo>
                    <a:lnTo>
                      <a:pt x="2424" y="313"/>
                    </a:lnTo>
                    <a:lnTo>
                      <a:pt x="2411" y="345"/>
                    </a:lnTo>
                    <a:lnTo>
                      <a:pt x="2395" y="384"/>
                    </a:lnTo>
                    <a:lnTo>
                      <a:pt x="2377" y="429"/>
                    </a:lnTo>
                    <a:lnTo>
                      <a:pt x="2355" y="483"/>
                    </a:lnTo>
                    <a:lnTo>
                      <a:pt x="2329" y="545"/>
                    </a:lnTo>
                    <a:lnTo>
                      <a:pt x="2299" y="618"/>
                    </a:lnTo>
                    <a:lnTo>
                      <a:pt x="2294" y="627"/>
                    </a:lnTo>
                    <a:lnTo>
                      <a:pt x="2288" y="637"/>
                    </a:lnTo>
                    <a:lnTo>
                      <a:pt x="2282" y="647"/>
                    </a:lnTo>
                    <a:lnTo>
                      <a:pt x="2274" y="657"/>
                    </a:lnTo>
                    <a:lnTo>
                      <a:pt x="2265" y="666"/>
                    </a:lnTo>
                    <a:lnTo>
                      <a:pt x="2257" y="673"/>
                    </a:lnTo>
                    <a:lnTo>
                      <a:pt x="2248" y="677"/>
                    </a:lnTo>
                    <a:lnTo>
                      <a:pt x="2238" y="678"/>
                    </a:lnTo>
                    <a:lnTo>
                      <a:pt x="2198" y="673"/>
                    </a:lnTo>
                    <a:lnTo>
                      <a:pt x="2160" y="668"/>
                    </a:lnTo>
                    <a:lnTo>
                      <a:pt x="2126" y="662"/>
                    </a:lnTo>
                    <a:lnTo>
                      <a:pt x="2094" y="658"/>
                    </a:lnTo>
                    <a:lnTo>
                      <a:pt x="2064" y="654"/>
                    </a:lnTo>
                    <a:lnTo>
                      <a:pt x="2036" y="650"/>
                    </a:lnTo>
                    <a:lnTo>
                      <a:pt x="2010" y="647"/>
                    </a:lnTo>
                    <a:lnTo>
                      <a:pt x="1984" y="643"/>
                    </a:lnTo>
                    <a:lnTo>
                      <a:pt x="1960" y="640"/>
                    </a:lnTo>
                    <a:lnTo>
                      <a:pt x="1936" y="637"/>
                    </a:lnTo>
                    <a:lnTo>
                      <a:pt x="1913" y="634"/>
                    </a:lnTo>
                    <a:lnTo>
                      <a:pt x="1890" y="631"/>
                    </a:lnTo>
                    <a:lnTo>
                      <a:pt x="1866" y="628"/>
                    </a:lnTo>
                    <a:lnTo>
                      <a:pt x="1841" y="624"/>
                    </a:lnTo>
                    <a:lnTo>
                      <a:pt x="1815" y="621"/>
                    </a:lnTo>
                    <a:lnTo>
                      <a:pt x="1788" y="617"/>
                    </a:lnTo>
                    <a:lnTo>
                      <a:pt x="1758" y="613"/>
                    </a:lnTo>
                    <a:lnTo>
                      <a:pt x="1727" y="609"/>
                    </a:lnTo>
                    <a:lnTo>
                      <a:pt x="1694" y="605"/>
                    </a:lnTo>
                    <a:lnTo>
                      <a:pt x="1659" y="599"/>
                    </a:lnTo>
                    <a:lnTo>
                      <a:pt x="1619" y="594"/>
                    </a:lnTo>
                    <a:lnTo>
                      <a:pt x="1576" y="588"/>
                    </a:lnTo>
                    <a:lnTo>
                      <a:pt x="1529" y="582"/>
                    </a:lnTo>
                    <a:lnTo>
                      <a:pt x="1480" y="576"/>
                    </a:lnTo>
                    <a:lnTo>
                      <a:pt x="1424" y="568"/>
                    </a:lnTo>
                    <a:lnTo>
                      <a:pt x="1364" y="561"/>
                    </a:lnTo>
                    <a:lnTo>
                      <a:pt x="1300" y="552"/>
                    </a:lnTo>
                    <a:lnTo>
                      <a:pt x="1230" y="543"/>
                    </a:lnTo>
                    <a:lnTo>
                      <a:pt x="1154" y="532"/>
                    </a:lnTo>
                    <a:lnTo>
                      <a:pt x="1072" y="521"/>
                    </a:lnTo>
                    <a:lnTo>
                      <a:pt x="983" y="509"/>
                    </a:lnTo>
                    <a:lnTo>
                      <a:pt x="888" y="497"/>
                    </a:lnTo>
                    <a:close/>
                  </a:path>
                </a:pathLst>
              </a:custGeom>
              <a:solidFill>
                <a:srgbClr val="1e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460640" y="4295520"/>
                <a:ext cx="209520" cy="386640"/>
              </a:xfrm>
              <a:custGeom>
                <a:avLst/>
                <a:gdLst/>
                <a:ahLst/>
                <a:rect l="l" t="t" r="r" b="b"/>
                <a:pathLst>
                  <a:path w="3024" h="6726">
                    <a:moveTo>
                      <a:pt x="897" y="500"/>
                    </a:moveTo>
                    <a:lnTo>
                      <a:pt x="859" y="497"/>
                    </a:lnTo>
                    <a:lnTo>
                      <a:pt x="820" y="499"/>
                    </a:lnTo>
                    <a:lnTo>
                      <a:pt x="779" y="505"/>
                    </a:lnTo>
                    <a:lnTo>
                      <a:pt x="738" y="514"/>
                    </a:lnTo>
                    <a:lnTo>
                      <a:pt x="697" y="526"/>
                    </a:lnTo>
                    <a:lnTo>
                      <a:pt x="655" y="543"/>
                    </a:lnTo>
                    <a:lnTo>
                      <a:pt x="616" y="562"/>
                    </a:lnTo>
                    <a:lnTo>
                      <a:pt x="577" y="583"/>
                    </a:lnTo>
                    <a:lnTo>
                      <a:pt x="541" y="608"/>
                    </a:lnTo>
                    <a:lnTo>
                      <a:pt x="506" y="635"/>
                    </a:lnTo>
                    <a:lnTo>
                      <a:pt x="476" y="664"/>
                    </a:lnTo>
                    <a:lnTo>
                      <a:pt x="449" y="694"/>
                    </a:lnTo>
                    <a:lnTo>
                      <a:pt x="427" y="727"/>
                    </a:lnTo>
                    <a:lnTo>
                      <a:pt x="410" y="759"/>
                    </a:lnTo>
                    <a:lnTo>
                      <a:pt x="398" y="794"/>
                    </a:lnTo>
                    <a:lnTo>
                      <a:pt x="392" y="829"/>
                    </a:lnTo>
                    <a:lnTo>
                      <a:pt x="369" y="1133"/>
                    </a:lnTo>
                    <a:lnTo>
                      <a:pt x="350" y="1392"/>
                    </a:lnTo>
                    <a:lnTo>
                      <a:pt x="334" y="1617"/>
                    </a:lnTo>
                    <a:lnTo>
                      <a:pt x="319" y="1818"/>
                    </a:lnTo>
                    <a:lnTo>
                      <a:pt x="305" y="2005"/>
                    </a:lnTo>
                    <a:lnTo>
                      <a:pt x="292" y="2189"/>
                    </a:lnTo>
                    <a:lnTo>
                      <a:pt x="277" y="2380"/>
                    </a:lnTo>
                    <a:lnTo>
                      <a:pt x="262" y="2588"/>
                    </a:lnTo>
                    <a:lnTo>
                      <a:pt x="245" y="2822"/>
                    </a:lnTo>
                    <a:lnTo>
                      <a:pt x="224" y="3095"/>
                    </a:lnTo>
                    <a:lnTo>
                      <a:pt x="200" y="3416"/>
                    </a:lnTo>
                    <a:lnTo>
                      <a:pt x="172" y="3796"/>
                    </a:lnTo>
                    <a:lnTo>
                      <a:pt x="139" y="4245"/>
                    </a:lnTo>
                    <a:lnTo>
                      <a:pt x="99" y="4772"/>
                    </a:lnTo>
                    <a:lnTo>
                      <a:pt x="54" y="5388"/>
                    </a:lnTo>
                    <a:lnTo>
                      <a:pt x="1" y="6105"/>
                    </a:lnTo>
                    <a:lnTo>
                      <a:pt x="0" y="6133"/>
                    </a:lnTo>
                    <a:lnTo>
                      <a:pt x="3" y="6164"/>
                    </a:lnTo>
                    <a:lnTo>
                      <a:pt x="7" y="6194"/>
                    </a:lnTo>
                    <a:lnTo>
                      <a:pt x="14" y="6226"/>
                    </a:lnTo>
                    <a:lnTo>
                      <a:pt x="23" y="6257"/>
                    </a:lnTo>
                    <a:lnTo>
                      <a:pt x="36" y="6289"/>
                    </a:lnTo>
                    <a:lnTo>
                      <a:pt x="49" y="6319"/>
                    </a:lnTo>
                    <a:lnTo>
                      <a:pt x="66" y="6349"/>
                    </a:lnTo>
                    <a:lnTo>
                      <a:pt x="84" y="6376"/>
                    </a:lnTo>
                    <a:lnTo>
                      <a:pt x="104" y="6402"/>
                    </a:lnTo>
                    <a:lnTo>
                      <a:pt x="124" y="6425"/>
                    </a:lnTo>
                    <a:lnTo>
                      <a:pt x="147" y="6445"/>
                    </a:lnTo>
                    <a:lnTo>
                      <a:pt x="172" y="6463"/>
                    </a:lnTo>
                    <a:lnTo>
                      <a:pt x="197" y="6477"/>
                    </a:lnTo>
                    <a:lnTo>
                      <a:pt x="224" y="6487"/>
                    </a:lnTo>
                    <a:lnTo>
                      <a:pt x="252" y="6492"/>
                    </a:lnTo>
                    <a:lnTo>
                      <a:pt x="315" y="6499"/>
                    </a:lnTo>
                    <a:lnTo>
                      <a:pt x="372" y="6505"/>
                    </a:lnTo>
                    <a:lnTo>
                      <a:pt x="426" y="6511"/>
                    </a:lnTo>
                    <a:lnTo>
                      <a:pt x="475" y="6517"/>
                    </a:lnTo>
                    <a:lnTo>
                      <a:pt x="521" y="6522"/>
                    </a:lnTo>
                    <a:lnTo>
                      <a:pt x="564" y="6527"/>
                    </a:lnTo>
                    <a:lnTo>
                      <a:pt x="605" y="6531"/>
                    </a:lnTo>
                    <a:lnTo>
                      <a:pt x="644" y="6536"/>
                    </a:lnTo>
                    <a:lnTo>
                      <a:pt x="681" y="6540"/>
                    </a:lnTo>
                    <a:lnTo>
                      <a:pt x="718" y="6544"/>
                    </a:lnTo>
                    <a:lnTo>
                      <a:pt x="754" y="6548"/>
                    </a:lnTo>
                    <a:lnTo>
                      <a:pt x="790" y="6552"/>
                    </a:lnTo>
                    <a:lnTo>
                      <a:pt x="827" y="6556"/>
                    </a:lnTo>
                    <a:lnTo>
                      <a:pt x="865" y="6560"/>
                    </a:lnTo>
                    <a:lnTo>
                      <a:pt x="905" y="6564"/>
                    </a:lnTo>
                    <a:lnTo>
                      <a:pt x="948" y="6569"/>
                    </a:lnTo>
                    <a:lnTo>
                      <a:pt x="992" y="6574"/>
                    </a:lnTo>
                    <a:lnTo>
                      <a:pt x="1040" y="6580"/>
                    </a:lnTo>
                    <a:lnTo>
                      <a:pt x="1092" y="6586"/>
                    </a:lnTo>
                    <a:lnTo>
                      <a:pt x="1147" y="6592"/>
                    </a:lnTo>
                    <a:lnTo>
                      <a:pt x="1209" y="6599"/>
                    </a:lnTo>
                    <a:lnTo>
                      <a:pt x="1274" y="6606"/>
                    </a:lnTo>
                    <a:lnTo>
                      <a:pt x="1346" y="6614"/>
                    </a:lnTo>
                    <a:lnTo>
                      <a:pt x="1424" y="6622"/>
                    </a:lnTo>
                    <a:lnTo>
                      <a:pt x="1508" y="6632"/>
                    </a:lnTo>
                    <a:lnTo>
                      <a:pt x="1601" y="6643"/>
                    </a:lnTo>
                    <a:lnTo>
                      <a:pt x="1699" y="6654"/>
                    </a:lnTo>
                    <a:lnTo>
                      <a:pt x="1807" y="6666"/>
                    </a:lnTo>
                    <a:lnTo>
                      <a:pt x="1925" y="6679"/>
                    </a:lnTo>
                    <a:lnTo>
                      <a:pt x="2051" y="6693"/>
                    </a:lnTo>
                    <a:lnTo>
                      <a:pt x="2186" y="6709"/>
                    </a:lnTo>
                    <a:lnTo>
                      <a:pt x="2333" y="6725"/>
                    </a:lnTo>
                    <a:lnTo>
                      <a:pt x="2358" y="6726"/>
                    </a:lnTo>
                    <a:lnTo>
                      <a:pt x="2383" y="6724"/>
                    </a:lnTo>
                    <a:lnTo>
                      <a:pt x="2408" y="6718"/>
                    </a:lnTo>
                    <a:lnTo>
                      <a:pt x="2433" y="6709"/>
                    </a:lnTo>
                    <a:lnTo>
                      <a:pt x="2458" y="6697"/>
                    </a:lnTo>
                    <a:lnTo>
                      <a:pt x="2480" y="6684"/>
                    </a:lnTo>
                    <a:lnTo>
                      <a:pt x="2503" y="6668"/>
                    </a:lnTo>
                    <a:lnTo>
                      <a:pt x="2525" y="6650"/>
                    </a:lnTo>
                    <a:lnTo>
                      <a:pt x="2545" y="6630"/>
                    </a:lnTo>
                    <a:lnTo>
                      <a:pt x="2564" y="6609"/>
                    </a:lnTo>
                    <a:lnTo>
                      <a:pt x="2579" y="6587"/>
                    </a:lnTo>
                    <a:lnTo>
                      <a:pt x="2594" y="6563"/>
                    </a:lnTo>
                    <a:lnTo>
                      <a:pt x="2606" y="6539"/>
                    </a:lnTo>
                    <a:lnTo>
                      <a:pt x="2616" y="6515"/>
                    </a:lnTo>
                    <a:lnTo>
                      <a:pt x="2622" y="6490"/>
                    </a:lnTo>
                    <a:lnTo>
                      <a:pt x="2625" y="6466"/>
                    </a:lnTo>
                    <a:lnTo>
                      <a:pt x="2647" y="6151"/>
                    </a:lnTo>
                    <a:lnTo>
                      <a:pt x="2666" y="5881"/>
                    </a:lnTo>
                    <a:lnTo>
                      <a:pt x="2682" y="5648"/>
                    </a:lnTo>
                    <a:lnTo>
                      <a:pt x="2697" y="5440"/>
                    </a:lnTo>
                    <a:lnTo>
                      <a:pt x="2710" y="5246"/>
                    </a:lnTo>
                    <a:lnTo>
                      <a:pt x="2724" y="5055"/>
                    </a:lnTo>
                    <a:lnTo>
                      <a:pt x="2738" y="4858"/>
                    </a:lnTo>
                    <a:lnTo>
                      <a:pt x="2753" y="4642"/>
                    </a:lnTo>
                    <a:lnTo>
                      <a:pt x="2771" y="4398"/>
                    </a:lnTo>
                    <a:lnTo>
                      <a:pt x="2791" y="4115"/>
                    </a:lnTo>
                    <a:lnTo>
                      <a:pt x="2813" y="3782"/>
                    </a:lnTo>
                    <a:lnTo>
                      <a:pt x="2841" y="3389"/>
                    </a:lnTo>
                    <a:lnTo>
                      <a:pt x="2874" y="2924"/>
                    </a:lnTo>
                    <a:lnTo>
                      <a:pt x="2912" y="2378"/>
                    </a:lnTo>
                    <a:lnTo>
                      <a:pt x="2958" y="1739"/>
                    </a:lnTo>
                    <a:lnTo>
                      <a:pt x="3010" y="997"/>
                    </a:lnTo>
                    <a:lnTo>
                      <a:pt x="3011" y="921"/>
                    </a:lnTo>
                    <a:lnTo>
                      <a:pt x="3007" y="843"/>
                    </a:lnTo>
                    <a:lnTo>
                      <a:pt x="3003" y="765"/>
                    </a:lnTo>
                    <a:lnTo>
                      <a:pt x="3002" y="689"/>
                    </a:lnTo>
                    <a:lnTo>
                      <a:pt x="3006" y="595"/>
                    </a:lnTo>
                    <a:lnTo>
                      <a:pt x="3009" y="521"/>
                    </a:lnTo>
                    <a:lnTo>
                      <a:pt x="3014" y="404"/>
                    </a:lnTo>
                    <a:lnTo>
                      <a:pt x="3024" y="183"/>
                    </a:lnTo>
                    <a:lnTo>
                      <a:pt x="3019" y="152"/>
                    </a:lnTo>
                    <a:lnTo>
                      <a:pt x="3006" y="124"/>
                    </a:lnTo>
                    <a:lnTo>
                      <a:pt x="2984" y="98"/>
                    </a:lnTo>
                    <a:lnTo>
                      <a:pt x="2955" y="74"/>
                    </a:lnTo>
                    <a:lnTo>
                      <a:pt x="2921" y="54"/>
                    </a:lnTo>
                    <a:lnTo>
                      <a:pt x="2881" y="35"/>
                    </a:lnTo>
                    <a:lnTo>
                      <a:pt x="2837" y="21"/>
                    </a:lnTo>
                    <a:lnTo>
                      <a:pt x="2793" y="10"/>
                    </a:lnTo>
                    <a:lnTo>
                      <a:pt x="2747" y="3"/>
                    </a:lnTo>
                    <a:lnTo>
                      <a:pt x="2701" y="0"/>
                    </a:lnTo>
                    <a:lnTo>
                      <a:pt x="2657" y="1"/>
                    </a:lnTo>
                    <a:lnTo>
                      <a:pt x="2617" y="7"/>
                    </a:lnTo>
                    <a:lnTo>
                      <a:pt x="2580" y="17"/>
                    </a:lnTo>
                    <a:lnTo>
                      <a:pt x="2549" y="32"/>
                    </a:lnTo>
                    <a:lnTo>
                      <a:pt x="2525" y="54"/>
                    </a:lnTo>
                    <a:lnTo>
                      <a:pt x="2508" y="80"/>
                    </a:lnTo>
                    <a:lnTo>
                      <a:pt x="2496" y="112"/>
                    </a:lnTo>
                    <a:lnTo>
                      <a:pt x="2486" y="138"/>
                    </a:lnTo>
                    <a:lnTo>
                      <a:pt x="2476" y="162"/>
                    </a:lnTo>
                    <a:lnTo>
                      <a:pt x="2468" y="182"/>
                    </a:lnTo>
                    <a:lnTo>
                      <a:pt x="2461" y="201"/>
                    </a:lnTo>
                    <a:lnTo>
                      <a:pt x="2453" y="219"/>
                    </a:lnTo>
                    <a:lnTo>
                      <a:pt x="2445" y="240"/>
                    </a:lnTo>
                    <a:lnTo>
                      <a:pt x="2437" y="260"/>
                    </a:lnTo>
                    <a:lnTo>
                      <a:pt x="2427" y="285"/>
                    </a:lnTo>
                    <a:lnTo>
                      <a:pt x="2416" y="312"/>
                    </a:lnTo>
                    <a:lnTo>
                      <a:pt x="2402" y="345"/>
                    </a:lnTo>
                    <a:lnTo>
                      <a:pt x="2387" y="384"/>
                    </a:lnTo>
                    <a:lnTo>
                      <a:pt x="2368" y="430"/>
                    </a:lnTo>
                    <a:lnTo>
                      <a:pt x="2347" y="484"/>
                    </a:lnTo>
                    <a:lnTo>
                      <a:pt x="2321" y="547"/>
                    </a:lnTo>
                    <a:lnTo>
                      <a:pt x="2292" y="620"/>
                    </a:lnTo>
                    <a:lnTo>
                      <a:pt x="2288" y="628"/>
                    </a:lnTo>
                    <a:lnTo>
                      <a:pt x="2283" y="637"/>
                    </a:lnTo>
                    <a:lnTo>
                      <a:pt x="2275" y="647"/>
                    </a:lnTo>
                    <a:lnTo>
                      <a:pt x="2267" y="658"/>
                    </a:lnTo>
                    <a:lnTo>
                      <a:pt x="2258" y="667"/>
                    </a:lnTo>
                    <a:lnTo>
                      <a:pt x="2249" y="674"/>
                    </a:lnTo>
                    <a:lnTo>
                      <a:pt x="2240" y="678"/>
                    </a:lnTo>
                    <a:lnTo>
                      <a:pt x="2232" y="679"/>
                    </a:lnTo>
                    <a:lnTo>
                      <a:pt x="2191" y="674"/>
                    </a:lnTo>
                    <a:lnTo>
                      <a:pt x="2155" y="669"/>
                    </a:lnTo>
                    <a:lnTo>
                      <a:pt x="2120" y="664"/>
                    </a:lnTo>
                    <a:lnTo>
                      <a:pt x="2089" y="660"/>
                    </a:lnTo>
                    <a:lnTo>
                      <a:pt x="2060" y="656"/>
                    </a:lnTo>
                    <a:lnTo>
                      <a:pt x="2032" y="652"/>
                    </a:lnTo>
                    <a:lnTo>
                      <a:pt x="2006" y="648"/>
                    </a:lnTo>
                    <a:lnTo>
                      <a:pt x="1981" y="645"/>
                    </a:lnTo>
                    <a:lnTo>
                      <a:pt x="1957" y="642"/>
                    </a:lnTo>
                    <a:lnTo>
                      <a:pt x="1934" y="639"/>
                    </a:lnTo>
                    <a:lnTo>
                      <a:pt x="1910" y="636"/>
                    </a:lnTo>
                    <a:lnTo>
                      <a:pt x="1887" y="633"/>
                    </a:lnTo>
                    <a:lnTo>
                      <a:pt x="1863" y="629"/>
                    </a:lnTo>
                    <a:lnTo>
                      <a:pt x="1839" y="626"/>
                    </a:lnTo>
                    <a:lnTo>
                      <a:pt x="1813" y="623"/>
                    </a:lnTo>
                    <a:lnTo>
                      <a:pt x="1786" y="619"/>
                    </a:lnTo>
                    <a:lnTo>
                      <a:pt x="1757" y="615"/>
                    </a:lnTo>
                    <a:lnTo>
                      <a:pt x="1727" y="611"/>
                    </a:lnTo>
                    <a:lnTo>
                      <a:pt x="1694" y="607"/>
                    </a:lnTo>
                    <a:lnTo>
                      <a:pt x="1657" y="602"/>
                    </a:lnTo>
                    <a:lnTo>
                      <a:pt x="1620" y="597"/>
                    </a:lnTo>
                    <a:lnTo>
                      <a:pt x="1577" y="591"/>
                    </a:lnTo>
                    <a:lnTo>
                      <a:pt x="1531" y="585"/>
                    </a:lnTo>
                    <a:lnTo>
                      <a:pt x="1481" y="578"/>
                    </a:lnTo>
                    <a:lnTo>
                      <a:pt x="1427" y="571"/>
                    </a:lnTo>
                    <a:lnTo>
                      <a:pt x="1368" y="563"/>
                    </a:lnTo>
                    <a:lnTo>
                      <a:pt x="1303" y="555"/>
                    </a:lnTo>
                    <a:lnTo>
                      <a:pt x="1234" y="545"/>
                    </a:lnTo>
                    <a:lnTo>
                      <a:pt x="1159" y="536"/>
                    </a:lnTo>
                    <a:lnTo>
                      <a:pt x="1078" y="524"/>
                    </a:lnTo>
                    <a:lnTo>
                      <a:pt x="990" y="512"/>
                    </a:lnTo>
                    <a:lnTo>
                      <a:pt x="897" y="500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461720" y="4295520"/>
                <a:ext cx="208080" cy="386640"/>
              </a:xfrm>
              <a:custGeom>
                <a:avLst/>
                <a:gdLst/>
                <a:ahLst/>
                <a:rect l="l" t="t" r="r" b="b"/>
                <a:pathLst>
                  <a:path w="3002" h="6703">
                    <a:moveTo>
                      <a:pt x="905" y="503"/>
                    </a:moveTo>
                    <a:lnTo>
                      <a:pt x="868" y="501"/>
                    </a:lnTo>
                    <a:lnTo>
                      <a:pt x="830" y="502"/>
                    </a:lnTo>
                    <a:lnTo>
                      <a:pt x="789" y="507"/>
                    </a:lnTo>
                    <a:lnTo>
                      <a:pt x="748" y="516"/>
                    </a:lnTo>
                    <a:lnTo>
                      <a:pt x="706" y="530"/>
                    </a:lnTo>
                    <a:lnTo>
                      <a:pt x="665" y="545"/>
                    </a:lnTo>
                    <a:lnTo>
                      <a:pt x="625" y="563"/>
                    </a:lnTo>
                    <a:lnTo>
                      <a:pt x="586" y="585"/>
                    </a:lnTo>
                    <a:lnTo>
                      <a:pt x="549" y="608"/>
                    </a:lnTo>
                    <a:lnTo>
                      <a:pt x="514" y="633"/>
                    </a:lnTo>
                    <a:lnTo>
                      <a:pt x="484" y="662"/>
                    </a:lnTo>
                    <a:lnTo>
                      <a:pt x="457" y="691"/>
                    </a:lnTo>
                    <a:lnTo>
                      <a:pt x="434" y="722"/>
                    </a:lnTo>
                    <a:lnTo>
                      <a:pt x="417" y="754"/>
                    </a:lnTo>
                    <a:lnTo>
                      <a:pt x="404" y="788"/>
                    </a:lnTo>
                    <a:lnTo>
                      <a:pt x="399" y="822"/>
                    </a:lnTo>
                    <a:lnTo>
                      <a:pt x="376" y="1125"/>
                    </a:lnTo>
                    <a:lnTo>
                      <a:pt x="356" y="1385"/>
                    </a:lnTo>
                    <a:lnTo>
                      <a:pt x="340" y="1609"/>
                    </a:lnTo>
                    <a:lnTo>
                      <a:pt x="325" y="1809"/>
                    </a:lnTo>
                    <a:lnTo>
                      <a:pt x="310" y="1996"/>
                    </a:lnTo>
                    <a:lnTo>
                      <a:pt x="297" y="2179"/>
                    </a:lnTo>
                    <a:lnTo>
                      <a:pt x="282" y="2369"/>
                    </a:lnTo>
                    <a:lnTo>
                      <a:pt x="267" y="2577"/>
                    </a:lnTo>
                    <a:lnTo>
                      <a:pt x="249" y="2812"/>
                    </a:lnTo>
                    <a:lnTo>
                      <a:pt x="228" y="3084"/>
                    </a:lnTo>
                    <a:lnTo>
                      <a:pt x="204" y="3404"/>
                    </a:lnTo>
                    <a:lnTo>
                      <a:pt x="176" y="3783"/>
                    </a:lnTo>
                    <a:lnTo>
                      <a:pt x="142" y="4231"/>
                    </a:lnTo>
                    <a:lnTo>
                      <a:pt x="102" y="4757"/>
                    </a:lnTo>
                    <a:lnTo>
                      <a:pt x="56" y="5373"/>
                    </a:lnTo>
                    <a:lnTo>
                      <a:pt x="1" y="6088"/>
                    </a:lnTo>
                    <a:lnTo>
                      <a:pt x="0" y="6116"/>
                    </a:lnTo>
                    <a:lnTo>
                      <a:pt x="3" y="6147"/>
                    </a:lnTo>
                    <a:lnTo>
                      <a:pt x="8" y="6177"/>
                    </a:lnTo>
                    <a:lnTo>
                      <a:pt x="15" y="6209"/>
                    </a:lnTo>
                    <a:lnTo>
                      <a:pt x="24" y="6240"/>
                    </a:lnTo>
                    <a:lnTo>
                      <a:pt x="37" y="6272"/>
                    </a:lnTo>
                    <a:lnTo>
                      <a:pt x="50" y="6302"/>
                    </a:lnTo>
                    <a:lnTo>
                      <a:pt x="67" y="6332"/>
                    </a:lnTo>
                    <a:lnTo>
                      <a:pt x="85" y="6359"/>
                    </a:lnTo>
                    <a:lnTo>
                      <a:pt x="104" y="6386"/>
                    </a:lnTo>
                    <a:lnTo>
                      <a:pt x="125" y="6409"/>
                    </a:lnTo>
                    <a:lnTo>
                      <a:pt x="148" y="6429"/>
                    </a:lnTo>
                    <a:lnTo>
                      <a:pt x="173" y="6447"/>
                    </a:lnTo>
                    <a:lnTo>
                      <a:pt x="198" y="6460"/>
                    </a:lnTo>
                    <a:lnTo>
                      <a:pt x="225" y="6470"/>
                    </a:lnTo>
                    <a:lnTo>
                      <a:pt x="253" y="6475"/>
                    </a:lnTo>
                    <a:lnTo>
                      <a:pt x="315" y="6482"/>
                    </a:lnTo>
                    <a:lnTo>
                      <a:pt x="371" y="6488"/>
                    </a:lnTo>
                    <a:lnTo>
                      <a:pt x="424" y="6493"/>
                    </a:lnTo>
                    <a:lnTo>
                      <a:pt x="472" y="6499"/>
                    </a:lnTo>
                    <a:lnTo>
                      <a:pt x="517" y="6505"/>
                    </a:lnTo>
                    <a:lnTo>
                      <a:pt x="559" y="6509"/>
                    </a:lnTo>
                    <a:lnTo>
                      <a:pt x="599" y="6513"/>
                    </a:lnTo>
                    <a:lnTo>
                      <a:pt x="637" y="6518"/>
                    </a:lnTo>
                    <a:lnTo>
                      <a:pt x="674" y="6522"/>
                    </a:lnTo>
                    <a:lnTo>
                      <a:pt x="710" y="6525"/>
                    </a:lnTo>
                    <a:lnTo>
                      <a:pt x="745" y="6529"/>
                    </a:lnTo>
                    <a:lnTo>
                      <a:pt x="781" y="6533"/>
                    </a:lnTo>
                    <a:lnTo>
                      <a:pt x="817" y="6537"/>
                    </a:lnTo>
                    <a:lnTo>
                      <a:pt x="855" y="6541"/>
                    </a:lnTo>
                    <a:lnTo>
                      <a:pt x="894" y="6545"/>
                    </a:lnTo>
                    <a:lnTo>
                      <a:pt x="936" y="6550"/>
                    </a:lnTo>
                    <a:lnTo>
                      <a:pt x="980" y="6555"/>
                    </a:lnTo>
                    <a:lnTo>
                      <a:pt x="1027" y="6560"/>
                    </a:lnTo>
                    <a:lnTo>
                      <a:pt x="1077" y="6566"/>
                    </a:lnTo>
                    <a:lnTo>
                      <a:pt x="1133" y="6572"/>
                    </a:lnTo>
                    <a:lnTo>
                      <a:pt x="1192" y="6579"/>
                    </a:lnTo>
                    <a:lnTo>
                      <a:pt x="1257" y="6586"/>
                    </a:lnTo>
                    <a:lnTo>
                      <a:pt x="1327" y="6594"/>
                    </a:lnTo>
                    <a:lnTo>
                      <a:pt x="1404" y="6602"/>
                    </a:lnTo>
                    <a:lnTo>
                      <a:pt x="1487" y="6611"/>
                    </a:lnTo>
                    <a:lnTo>
                      <a:pt x="1578" y="6621"/>
                    </a:lnTo>
                    <a:lnTo>
                      <a:pt x="1675" y="6633"/>
                    </a:lnTo>
                    <a:lnTo>
                      <a:pt x="1781" y="6644"/>
                    </a:lnTo>
                    <a:lnTo>
                      <a:pt x="1895" y="6657"/>
                    </a:lnTo>
                    <a:lnTo>
                      <a:pt x="2019" y="6671"/>
                    </a:lnTo>
                    <a:lnTo>
                      <a:pt x="2153" y="6685"/>
                    </a:lnTo>
                    <a:lnTo>
                      <a:pt x="2297" y="6702"/>
                    </a:lnTo>
                    <a:lnTo>
                      <a:pt x="2322" y="6703"/>
                    </a:lnTo>
                    <a:lnTo>
                      <a:pt x="2347" y="6701"/>
                    </a:lnTo>
                    <a:lnTo>
                      <a:pt x="2372" y="6696"/>
                    </a:lnTo>
                    <a:lnTo>
                      <a:pt x="2397" y="6687"/>
                    </a:lnTo>
                    <a:lnTo>
                      <a:pt x="2421" y="6676"/>
                    </a:lnTo>
                    <a:lnTo>
                      <a:pt x="2445" y="6663"/>
                    </a:lnTo>
                    <a:lnTo>
                      <a:pt x="2468" y="6649"/>
                    </a:lnTo>
                    <a:lnTo>
                      <a:pt x="2490" y="6632"/>
                    </a:lnTo>
                    <a:lnTo>
                      <a:pt x="2510" y="6613"/>
                    </a:lnTo>
                    <a:lnTo>
                      <a:pt x="2528" y="6593"/>
                    </a:lnTo>
                    <a:lnTo>
                      <a:pt x="2546" y="6572"/>
                    </a:lnTo>
                    <a:lnTo>
                      <a:pt x="2560" y="6549"/>
                    </a:lnTo>
                    <a:lnTo>
                      <a:pt x="2572" y="6526"/>
                    </a:lnTo>
                    <a:lnTo>
                      <a:pt x="2581" y="6502"/>
                    </a:lnTo>
                    <a:lnTo>
                      <a:pt x="2588" y="6478"/>
                    </a:lnTo>
                    <a:lnTo>
                      <a:pt x="2592" y="6454"/>
                    </a:lnTo>
                    <a:lnTo>
                      <a:pt x="2614" y="6139"/>
                    </a:lnTo>
                    <a:lnTo>
                      <a:pt x="2633" y="5869"/>
                    </a:lnTo>
                    <a:lnTo>
                      <a:pt x="2650" y="5635"/>
                    </a:lnTo>
                    <a:lnTo>
                      <a:pt x="2664" y="5427"/>
                    </a:lnTo>
                    <a:lnTo>
                      <a:pt x="2679" y="5233"/>
                    </a:lnTo>
                    <a:lnTo>
                      <a:pt x="2692" y="5043"/>
                    </a:lnTo>
                    <a:lnTo>
                      <a:pt x="2706" y="4845"/>
                    </a:lnTo>
                    <a:lnTo>
                      <a:pt x="2722" y="4629"/>
                    </a:lnTo>
                    <a:lnTo>
                      <a:pt x="2739" y="4385"/>
                    </a:lnTo>
                    <a:lnTo>
                      <a:pt x="2759" y="4103"/>
                    </a:lnTo>
                    <a:lnTo>
                      <a:pt x="2783" y="3769"/>
                    </a:lnTo>
                    <a:lnTo>
                      <a:pt x="2811" y="3376"/>
                    </a:lnTo>
                    <a:lnTo>
                      <a:pt x="2844" y="2911"/>
                    </a:lnTo>
                    <a:lnTo>
                      <a:pt x="2883" y="2365"/>
                    </a:lnTo>
                    <a:lnTo>
                      <a:pt x="2929" y="1726"/>
                    </a:lnTo>
                    <a:lnTo>
                      <a:pt x="2982" y="984"/>
                    </a:lnTo>
                    <a:lnTo>
                      <a:pt x="2983" y="908"/>
                    </a:lnTo>
                    <a:lnTo>
                      <a:pt x="2980" y="828"/>
                    </a:lnTo>
                    <a:lnTo>
                      <a:pt x="2977" y="748"/>
                    </a:lnTo>
                    <a:lnTo>
                      <a:pt x="2977" y="672"/>
                    </a:lnTo>
                    <a:lnTo>
                      <a:pt x="2982" y="579"/>
                    </a:lnTo>
                    <a:lnTo>
                      <a:pt x="2985" y="507"/>
                    </a:lnTo>
                    <a:lnTo>
                      <a:pt x="2991" y="394"/>
                    </a:lnTo>
                    <a:lnTo>
                      <a:pt x="3002" y="178"/>
                    </a:lnTo>
                    <a:lnTo>
                      <a:pt x="2997" y="148"/>
                    </a:lnTo>
                    <a:lnTo>
                      <a:pt x="2985" y="121"/>
                    </a:lnTo>
                    <a:lnTo>
                      <a:pt x="2963" y="96"/>
                    </a:lnTo>
                    <a:lnTo>
                      <a:pt x="2934" y="72"/>
                    </a:lnTo>
                    <a:lnTo>
                      <a:pt x="2900" y="52"/>
                    </a:lnTo>
                    <a:lnTo>
                      <a:pt x="2861" y="35"/>
                    </a:lnTo>
                    <a:lnTo>
                      <a:pt x="2818" y="20"/>
                    </a:lnTo>
                    <a:lnTo>
                      <a:pt x="2775" y="10"/>
                    </a:lnTo>
                    <a:lnTo>
                      <a:pt x="2730" y="3"/>
                    </a:lnTo>
                    <a:lnTo>
                      <a:pt x="2685" y="0"/>
                    </a:lnTo>
                    <a:lnTo>
                      <a:pt x="2643" y="1"/>
                    </a:lnTo>
                    <a:lnTo>
                      <a:pt x="2603" y="7"/>
                    </a:lnTo>
                    <a:lnTo>
                      <a:pt x="2567" y="17"/>
                    </a:lnTo>
                    <a:lnTo>
                      <a:pt x="2536" y="33"/>
                    </a:lnTo>
                    <a:lnTo>
                      <a:pt x="2513" y="53"/>
                    </a:lnTo>
                    <a:lnTo>
                      <a:pt x="2498" y="78"/>
                    </a:lnTo>
                    <a:lnTo>
                      <a:pt x="2485" y="110"/>
                    </a:lnTo>
                    <a:lnTo>
                      <a:pt x="2475" y="136"/>
                    </a:lnTo>
                    <a:lnTo>
                      <a:pt x="2467" y="160"/>
                    </a:lnTo>
                    <a:lnTo>
                      <a:pt x="2458" y="181"/>
                    </a:lnTo>
                    <a:lnTo>
                      <a:pt x="2451" y="200"/>
                    </a:lnTo>
                    <a:lnTo>
                      <a:pt x="2444" y="219"/>
                    </a:lnTo>
                    <a:lnTo>
                      <a:pt x="2435" y="238"/>
                    </a:lnTo>
                    <a:lnTo>
                      <a:pt x="2427" y="259"/>
                    </a:lnTo>
                    <a:lnTo>
                      <a:pt x="2418" y="284"/>
                    </a:lnTo>
                    <a:lnTo>
                      <a:pt x="2407" y="312"/>
                    </a:lnTo>
                    <a:lnTo>
                      <a:pt x="2394" y="345"/>
                    </a:lnTo>
                    <a:lnTo>
                      <a:pt x="2379" y="384"/>
                    </a:lnTo>
                    <a:lnTo>
                      <a:pt x="2362" y="430"/>
                    </a:lnTo>
                    <a:lnTo>
                      <a:pt x="2340" y="484"/>
                    </a:lnTo>
                    <a:lnTo>
                      <a:pt x="2316" y="548"/>
                    </a:lnTo>
                    <a:lnTo>
                      <a:pt x="2287" y="621"/>
                    </a:lnTo>
                    <a:lnTo>
                      <a:pt x="2282" y="628"/>
                    </a:lnTo>
                    <a:lnTo>
                      <a:pt x="2277" y="637"/>
                    </a:lnTo>
                    <a:lnTo>
                      <a:pt x="2269" y="648"/>
                    </a:lnTo>
                    <a:lnTo>
                      <a:pt x="2261" y="658"/>
                    </a:lnTo>
                    <a:lnTo>
                      <a:pt x="2251" y="667"/>
                    </a:lnTo>
                    <a:lnTo>
                      <a:pt x="2242" y="675"/>
                    </a:lnTo>
                    <a:lnTo>
                      <a:pt x="2234" y="680"/>
                    </a:lnTo>
                    <a:lnTo>
                      <a:pt x="2226" y="681"/>
                    </a:lnTo>
                    <a:lnTo>
                      <a:pt x="2187" y="676"/>
                    </a:lnTo>
                    <a:lnTo>
                      <a:pt x="2150" y="671"/>
                    </a:lnTo>
                    <a:lnTo>
                      <a:pt x="2116" y="666"/>
                    </a:lnTo>
                    <a:lnTo>
                      <a:pt x="2085" y="662"/>
                    </a:lnTo>
                    <a:lnTo>
                      <a:pt x="2056" y="658"/>
                    </a:lnTo>
                    <a:lnTo>
                      <a:pt x="2029" y="655"/>
                    </a:lnTo>
                    <a:lnTo>
                      <a:pt x="2003" y="651"/>
                    </a:lnTo>
                    <a:lnTo>
                      <a:pt x="1979" y="648"/>
                    </a:lnTo>
                    <a:lnTo>
                      <a:pt x="1955" y="645"/>
                    </a:lnTo>
                    <a:lnTo>
                      <a:pt x="1932" y="641"/>
                    </a:lnTo>
                    <a:lnTo>
                      <a:pt x="1908" y="638"/>
                    </a:lnTo>
                    <a:lnTo>
                      <a:pt x="1885" y="635"/>
                    </a:lnTo>
                    <a:lnTo>
                      <a:pt x="1862" y="631"/>
                    </a:lnTo>
                    <a:lnTo>
                      <a:pt x="1837" y="628"/>
                    </a:lnTo>
                    <a:lnTo>
                      <a:pt x="1812" y="625"/>
                    </a:lnTo>
                    <a:lnTo>
                      <a:pt x="1785" y="621"/>
                    </a:lnTo>
                    <a:lnTo>
                      <a:pt x="1757" y="618"/>
                    </a:lnTo>
                    <a:lnTo>
                      <a:pt x="1727" y="614"/>
                    </a:lnTo>
                    <a:lnTo>
                      <a:pt x="1693" y="609"/>
                    </a:lnTo>
                    <a:lnTo>
                      <a:pt x="1658" y="605"/>
                    </a:lnTo>
                    <a:lnTo>
                      <a:pt x="1621" y="599"/>
                    </a:lnTo>
                    <a:lnTo>
                      <a:pt x="1579" y="594"/>
                    </a:lnTo>
                    <a:lnTo>
                      <a:pt x="1533" y="588"/>
                    </a:lnTo>
                    <a:lnTo>
                      <a:pt x="1483" y="580"/>
                    </a:lnTo>
                    <a:lnTo>
                      <a:pt x="1429" y="573"/>
                    </a:lnTo>
                    <a:lnTo>
                      <a:pt x="1371" y="566"/>
                    </a:lnTo>
                    <a:lnTo>
                      <a:pt x="1307" y="557"/>
                    </a:lnTo>
                    <a:lnTo>
                      <a:pt x="1239" y="548"/>
                    </a:lnTo>
                    <a:lnTo>
                      <a:pt x="1165" y="538"/>
                    </a:lnTo>
                    <a:lnTo>
                      <a:pt x="1085" y="528"/>
                    </a:lnTo>
                    <a:lnTo>
                      <a:pt x="997" y="515"/>
                    </a:lnTo>
                    <a:lnTo>
                      <a:pt x="905" y="503"/>
                    </a:lnTo>
                    <a:close/>
                  </a:path>
                </a:pathLst>
              </a:custGeom>
              <a:solidFill>
                <a:srgbClr val="38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63520" y="4296600"/>
                <a:ext cx="206640" cy="384480"/>
              </a:xfrm>
              <a:custGeom>
                <a:avLst/>
                <a:gdLst/>
                <a:ahLst/>
                <a:rect l="l" t="t" r="r" b="b"/>
                <a:pathLst>
                  <a:path w="2978" h="6681">
                    <a:moveTo>
                      <a:pt x="912" y="507"/>
                    </a:moveTo>
                    <a:lnTo>
                      <a:pt x="876" y="505"/>
                    </a:lnTo>
                    <a:lnTo>
                      <a:pt x="838" y="506"/>
                    </a:lnTo>
                    <a:lnTo>
                      <a:pt x="798" y="511"/>
                    </a:lnTo>
                    <a:lnTo>
                      <a:pt x="757" y="520"/>
                    </a:lnTo>
                    <a:lnTo>
                      <a:pt x="716" y="532"/>
                    </a:lnTo>
                    <a:lnTo>
                      <a:pt x="674" y="547"/>
                    </a:lnTo>
                    <a:lnTo>
                      <a:pt x="634" y="564"/>
                    </a:lnTo>
                    <a:lnTo>
                      <a:pt x="594" y="585"/>
                    </a:lnTo>
                    <a:lnTo>
                      <a:pt x="557" y="607"/>
                    </a:lnTo>
                    <a:lnTo>
                      <a:pt x="523" y="632"/>
                    </a:lnTo>
                    <a:lnTo>
                      <a:pt x="491" y="659"/>
                    </a:lnTo>
                    <a:lnTo>
                      <a:pt x="463" y="687"/>
                    </a:lnTo>
                    <a:lnTo>
                      <a:pt x="440" y="718"/>
                    </a:lnTo>
                    <a:lnTo>
                      <a:pt x="423" y="749"/>
                    </a:lnTo>
                    <a:lnTo>
                      <a:pt x="410" y="781"/>
                    </a:lnTo>
                    <a:lnTo>
                      <a:pt x="404" y="814"/>
                    </a:lnTo>
                    <a:lnTo>
                      <a:pt x="381" y="1117"/>
                    </a:lnTo>
                    <a:lnTo>
                      <a:pt x="361" y="1377"/>
                    </a:lnTo>
                    <a:lnTo>
                      <a:pt x="345" y="1600"/>
                    </a:lnTo>
                    <a:lnTo>
                      <a:pt x="329" y="1800"/>
                    </a:lnTo>
                    <a:lnTo>
                      <a:pt x="315" y="1987"/>
                    </a:lnTo>
                    <a:lnTo>
                      <a:pt x="301" y="2170"/>
                    </a:lnTo>
                    <a:lnTo>
                      <a:pt x="286" y="2360"/>
                    </a:lnTo>
                    <a:lnTo>
                      <a:pt x="271" y="2568"/>
                    </a:lnTo>
                    <a:lnTo>
                      <a:pt x="253" y="2802"/>
                    </a:lnTo>
                    <a:lnTo>
                      <a:pt x="232" y="3073"/>
                    </a:lnTo>
                    <a:lnTo>
                      <a:pt x="207" y="3393"/>
                    </a:lnTo>
                    <a:lnTo>
                      <a:pt x="178" y="3772"/>
                    </a:lnTo>
                    <a:lnTo>
                      <a:pt x="144" y="4219"/>
                    </a:lnTo>
                    <a:lnTo>
                      <a:pt x="103" y="4744"/>
                    </a:lnTo>
                    <a:lnTo>
                      <a:pt x="56" y="5359"/>
                    </a:lnTo>
                    <a:lnTo>
                      <a:pt x="1" y="6073"/>
                    </a:lnTo>
                    <a:lnTo>
                      <a:pt x="0" y="6101"/>
                    </a:lnTo>
                    <a:lnTo>
                      <a:pt x="2" y="6131"/>
                    </a:lnTo>
                    <a:lnTo>
                      <a:pt x="7" y="6162"/>
                    </a:lnTo>
                    <a:lnTo>
                      <a:pt x="15" y="6193"/>
                    </a:lnTo>
                    <a:lnTo>
                      <a:pt x="24" y="6224"/>
                    </a:lnTo>
                    <a:lnTo>
                      <a:pt x="36" y="6256"/>
                    </a:lnTo>
                    <a:lnTo>
                      <a:pt x="50" y="6286"/>
                    </a:lnTo>
                    <a:lnTo>
                      <a:pt x="66" y="6316"/>
                    </a:lnTo>
                    <a:lnTo>
                      <a:pt x="84" y="6343"/>
                    </a:lnTo>
                    <a:lnTo>
                      <a:pt x="104" y="6369"/>
                    </a:lnTo>
                    <a:lnTo>
                      <a:pt x="125" y="6393"/>
                    </a:lnTo>
                    <a:lnTo>
                      <a:pt x="148" y="6413"/>
                    </a:lnTo>
                    <a:lnTo>
                      <a:pt x="172" y="6430"/>
                    </a:lnTo>
                    <a:lnTo>
                      <a:pt x="198" y="6445"/>
                    </a:lnTo>
                    <a:lnTo>
                      <a:pt x="224" y="6455"/>
                    </a:lnTo>
                    <a:lnTo>
                      <a:pt x="252" y="6460"/>
                    </a:lnTo>
                    <a:lnTo>
                      <a:pt x="312" y="6466"/>
                    </a:lnTo>
                    <a:lnTo>
                      <a:pt x="368" y="6472"/>
                    </a:lnTo>
                    <a:lnTo>
                      <a:pt x="420" y="6478"/>
                    </a:lnTo>
                    <a:lnTo>
                      <a:pt x="466" y="6483"/>
                    </a:lnTo>
                    <a:lnTo>
                      <a:pt x="511" y="6487"/>
                    </a:lnTo>
                    <a:lnTo>
                      <a:pt x="553" y="6492"/>
                    </a:lnTo>
                    <a:lnTo>
                      <a:pt x="591" y="6497"/>
                    </a:lnTo>
                    <a:lnTo>
                      <a:pt x="629" y="6501"/>
                    </a:lnTo>
                    <a:lnTo>
                      <a:pt x="665" y="6505"/>
                    </a:lnTo>
                    <a:lnTo>
                      <a:pt x="701" y="6509"/>
                    </a:lnTo>
                    <a:lnTo>
                      <a:pt x="735" y="6512"/>
                    </a:lnTo>
                    <a:lnTo>
                      <a:pt x="770" y="6516"/>
                    </a:lnTo>
                    <a:lnTo>
                      <a:pt x="807" y="6520"/>
                    </a:lnTo>
                    <a:lnTo>
                      <a:pt x="843" y="6524"/>
                    </a:lnTo>
                    <a:lnTo>
                      <a:pt x="882" y="6528"/>
                    </a:lnTo>
                    <a:lnTo>
                      <a:pt x="922" y="6532"/>
                    </a:lnTo>
                    <a:lnTo>
                      <a:pt x="966" y="6537"/>
                    </a:lnTo>
                    <a:lnTo>
                      <a:pt x="1012" y="6542"/>
                    </a:lnTo>
                    <a:lnTo>
                      <a:pt x="1062" y="6547"/>
                    </a:lnTo>
                    <a:lnTo>
                      <a:pt x="1116" y="6553"/>
                    </a:lnTo>
                    <a:lnTo>
                      <a:pt x="1175" y="6560"/>
                    </a:lnTo>
                    <a:lnTo>
                      <a:pt x="1239" y="6567"/>
                    </a:lnTo>
                    <a:lnTo>
                      <a:pt x="1307" y="6575"/>
                    </a:lnTo>
                    <a:lnTo>
                      <a:pt x="1383" y="6583"/>
                    </a:lnTo>
                    <a:lnTo>
                      <a:pt x="1464" y="6592"/>
                    </a:lnTo>
                    <a:lnTo>
                      <a:pt x="1554" y="6601"/>
                    </a:lnTo>
                    <a:lnTo>
                      <a:pt x="1649" y="6612"/>
                    </a:lnTo>
                    <a:lnTo>
                      <a:pt x="1753" y="6624"/>
                    </a:lnTo>
                    <a:lnTo>
                      <a:pt x="1866" y="6636"/>
                    </a:lnTo>
                    <a:lnTo>
                      <a:pt x="1988" y="6650"/>
                    </a:lnTo>
                    <a:lnTo>
                      <a:pt x="2119" y="6664"/>
                    </a:lnTo>
                    <a:lnTo>
                      <a:pt x="2260" y="6679"/>
                    </a:lnTo>
                    <a:lnTo>
                      <a:pt x="2285" y="6681"/>
                    </a:lnTo>
                    <a:lnTo>
                      <a:pt x="2309" y="6678"/>
                    </a:lnTo>
                    <a:lnTo>
                      <a:pt x="2335" y="6673"/>
                    </a:lnTo>
                    <a:lnTo>
                      <a:pt x="2360" y="6666"/>
                    </a:lnTo>
                    <a:lnTo>
                      <a:pt x="2384" y="6656"/>
                    </a:lnTo>
                    <a:lnTo>
                      <a:pt x="2408" y="6644"/>
                    </a:lnTo>
                    <a:lnTo>
                      <a:pt x="2431" y="6630"/>
                    </a:lnTo>
                    <a:lnTo>
                      <a:pt x="2454" y="6613"/>
                    </a:lnTo>
                    <a:lnTo>
                      <a:pt x="2474" y="6596"/>
                    </a:lnTo>
                    <a:lnTo>
                      <a:pt x="2492" y="6577"/>
                    </a:lnTo>
                    <a:lnTo>
                      <a:pt x="2510" y="6557"/>
                    </a:lnTo>
                    <a:lnTo>
                      <a:pt x="2525" y="6535"/>
                    </a:lnTo>
                    <a:lnTo>
                      <a:pt x="2536" y="6513"/>
                    </a:lnTo>
                    <a:lnTo>
                      <a:pt x="2547" y="6489"/>
                    </a:lnTo>
                    <a:lnTo>
                      <a:pt x="2553" y="6466"/>
                    </a:lnTo>
                    <a:lnTo>
                      <a:pt x="2556" y="6443"/>
                    </a:lnTo>
                    <a:lnTo>
                      <a:pt x="2579" y="6128"/>
                    </a:lnTo>
                    <a:lnTo>
                      <a:pt x="2599" y="5858"/>
                    </a:lnTo>
                    <a:lnTo>
                      <a:pt x="2615" y="5624"/>
                    </a:lnTo>
                    <a:lnTo>
                      <a:pt x="2630" y="5416"/>
                    </a:lnTo>
                    <a:lnTo>
                      <a:pt x="2644" y="5222"/>
                    </a:lnTo>
                    <a:lnTo>
                      <a:pt x="2658" y="5031"/>
                    </a:lnTo>
                    <a:lnTo>
                      <a:pt x="2673" y="4834"/>
                    </a:lnTo>
                    <a:lnTo>
                      <a:pt x="2688" y="4618"/>
                    </a:lnTo>
                    <a:lnTo>
                      <a:pt x="2706" y="4374"/>
                    </a:lnTo>
                    <a:lnTo>
                      <a:pt x="2727" y="4091"/>
                    </a:lnTo>
                    <a:lnTo>
                      <a:pt x="2751" y="3758"/>
                    </a:lnTo>
                    <a:lnTo>
                      <a:pt x="2779" y="3365"/>
                    </a:lnTo>
                    <a:lnTo>
                      <a:pt x="2812" y="2900"/>
                    </a:lnTo>
                    <a:lnTo>
                      <a:pt x="2851" y="2354"/>
                    </a:lnTo>
                    <a:lnTo>
                      <a:pt x="2898" y="1715"/>
                    </a:lnTo>
                    <a:lnTo>
                      <a:pt x="2951" y="973"/>
                    </a:lnTo>
                    <a:lnTo>
                      <a:pt x="2953" y="896"/>
                    </a:lnTo>
                    <a:lnTo>
                      <a:pt x="2951" y="814"/>
                    </a:lnTo>
                    <a:lnTo>
                      <a:pt x="2950" y="734"/>
                    </a:lnTo>
                    <a:lnTo>
                      <a:pt x="2951" y="657"/>
                    </a:lnTo>
                    <a:lnTo>
                      <a:pt x="2957" y="566"/>
                    </a:lnTo>
                    <a:lnTo>
                      <a:pt x="2961" y="496"/>
                    </a:lnTo>
                    <a:lnTo>
                      <a:pt x="2967" y="385"/>
                    </a:lnTo>
                    <a:lnTo>
                      <a:pt x="2978" y="173"/>
                    </a:lnTo>
                    <a:lnTo>
                      <a:pt x="2975" y="145"/>
                    </a:lnTo>
                    <a:lnTo>
                      <a:pt x="2962" y="118"/>
                    </a:lnTo>
                    <a:lnTo>
                      <a:pt x="2941" y="93"/>
                    </a:lnTo>
                    <a:lnTo>
                      <a:pt x="2913" y="71"/>
                    </a:lnTo>
                    <a:lnTo>
                      <a:pt x="2879" y="51"/>
                    </a:lnTo>
                    <a:lnTo>
                      <a:pt x="2841" y="35"/>
                    </a:lnTo>
                    <a:lnTo>
                      <a:pt x="2799" y="21"/>
                    </a:lnTo>
                    <a:lnTo>
                      <a:pt x="2756" y="10"/>
                    </a:lnTo>
                    <a:lnTo>
                      <a:pt x="2712" y="3"/>
                    </a:lnTo>
                    <a:lnTo>
                      <a:pt x="2668" y="0"/>
                    </a:lnTo>
                    <a:lnTo>
                      <a:pt x="2626" y="1"/>
                    </a:lnTo>
                    <a:lnTo>
                      <a:pt x="2587" y="7"/>
                    </a:lnTo>
                    <a:lnTo>
                      <a:pt x="2552" y="17"/>
                    </a:lnTo>
                    <a:lnTo>
                      <a:pt x="2523" y="32"/>
                    </a:lnTo>
                    <a:lnTo>
                      <a:pt x="2500" y="52"/>
                    </a:lnTo>
                    <a:lnTo>
                      <a:pt x="2485" y="77"/>
                    </a:lnTo>
                    <a:lnTo>
                      <a:pt x="2474" y="109"/>
                    </a:lnTo>
                    <a:lnTo>
                      <a:pt x="2463" y="135"/>
                    </a:lnTo>
                    <a:lnTo>
                      <a:pt x="2454" y="159"/>
                    </a:lnTo>
                    <a:lnTo>
                      <a:pt x="2447" y="180"/>
                    </a:lnTo>
                    <a:lnTo>
                      <a:pt x="2439" y="199"/>
                    </a:lnTo>
                    <a:lnTo>
                      <a:pt x="2432" y="218"/>
                    </a:lnTo>
                    <a:lnTo>
                      <a:pt x="2425" y="238"/>
                    </a:lnTo>
                    <a:lnTo>
                      <a:pt x="2417" y="259"/>
                    </a:lnTo>
                    <a:lnTo>
                      <a:pt x="2407" y="284"/>
                    </a:lnTo>
                    <a:lnTo>
                      <a:pt x="2397" y="312"/>
                    </a:lnTo>
                    <a:lnTo>
                      <a:pt x="2384" y="346"/>
                    </a:lnTo>
                    <a:lnTo>
                      <a:pt x="2370" y="384"/>
                    </a:lnTo>
                    <a:lnTo>
                      <a:pt x="2352" y="431"/>
                    </a:lnTo>
                    <a:lnTo>
                      <a:pt x="2332" y="486"/>
                    </a:lnTo>
                    <a:lnTo>
                      <a:pt x="2308" y="550"/>
                    </a:lnTo>
                    <a:lnTo>
                      <a:pt x="2280" y="624"/>
                    </a:lnTo>
                    <a:lnTo>
                      <a:pt x="2277" y="630"/>
                    </a:lnTo>
                    <a:lnTo>
                      <a:pt x="2271" y="639"/>
                    </a:lnTo>
                    <a:lnTo>
                      <a:pt x="2262" y="649"/>
                    </a:lnTo>
                    <a:lnTo>
                      <a:pt x="2253" y="659"/>
                    </a:lnTo>
                    <a:lnTo>
                      <a:pt x="2244" y="669"/>
                    </a:lnTo>
                    <a:lnTo>
                      <a:pt x="2234" y="676"/>
                    </a:lnTo>
                    <a:lnTo>
                      <a:pt x="2226" y="682"/>
                    </a:lnTo>
                    <a:lnTo>
                      <a:pt x="2220" y="683"/>
                    </a:lnTo>
                    <a:lnTo>
                      <a:pt x="2180" y="678"/>
                    </a:lnTo>
                    <a:lnTo>
                      <a:pt x="2145" y="673"/>
                    </a:lnTo>
                    <a:lnTo>
                      <a:pt x="2111" y="669"/>
                    </a:lnTo>
                    <a:lnTo>
                      <a:pt x="2080" y="665"/>
                    </a:lnTo>
                    <a:lnTo>
                      <a:pt x="2051" y="661"/>
                    </a:lnTo>
                    <a:lnTo>
                      <a:pt x="2024" y="657"/>
                    </a:lnTo>
                    <a:lnTo>
                      <a:pt x="1999" y="654"/>
                    </a:lnTo>
                    <a:lnTo>
                      <a:pt x="1974" y="651"/>
                    </a:lnTo>
                    <a:lnTo>
                      <a:pt x="1951" y="648"/>
                    </a:lnTo>
                    <a:lnTo>
                      <a:pt x="1928" y="645"/>
                    </a:lnTo>
                    <a:lnTo>
                      <a:pt x="1906" y="642"/>
                    </a:lnTo>
                    <a:lnTo>
                      <a:pt x="1883" y="639"/>
                    </a:lnTo>
                    <a:lnTo>
                      <a:pt x="1859" y="636"/>
                    </a:lnTo>
                    <a:lnTo>
                      <a:pt x="1835" y="632"/>
                    </a:lnTo>
                    <a:lnTo>
                      <a:pt x="1810" y="628"/>
                    </a:lnTo>
                    <a:lnTo>
                      <a:pt x="1784" y="625"/>
                    </a:lnTo>
                    <a:lnTo>
                      <a:pt x="1756" y="621"/>
                    </a:lnTo>
                    <a:lnTo>
                      <a:pt x="1724" y="617"/>
                    </a:lnTo>
                    <a:lnTo>
                      <a:pt x="1692" y="613"/>
                    </a:lnTo>
                    <a:lnTo>
                      <a:pt x="1657" y="608"/>
                    </a:lnTo>
                    <a:lnTo>
                      <a:pt x="1619" y="603"/>
                    </a:lnTo>
                    <a:lnTo>
                      <a:pt x="1579" y="597"/>
                    </a:lnTo>
                    <a:lnTo>
                      <a:pt x="1533" y="591"/>
                    </a:lnTo>
                    <a:lnTo>
                      <a:pt x="1484" y="585"/>
                    </a:lnTo>
                    <a:lnTo>
                      <a:pt x="1431" y="578"/>
                    </a:lnTo>
                    <a:lnTo>
                      <a:pt x="1373" y="569"/>
                    </a:lnTo>
                    <a:lnTo>
                      <a:pt x="1310" y="561"/>
                    </a:lnTo>
                    <a:lnTo>
                      <a:pt x="1243" y="552"/>
                    </a:lnTo>
                    <a:lnTo>
                      <a:pt x="1169" y="542"/>
                    </a:lnTo>
                    <a:lnTo>
                      <a:pt x="1090" y="532"/>
                    </a:lnTo>
                    <a:lnTo>
                      <a:pt x="1003" y="520"/>
                    </a:lnTo>
                    <a:lnTo>
                      <a:pt x="912" y="507"/>
                    </a:lnTo>
                    <a:close/>
                  </a:path>
                </a:pathLst>
              </a:custGeom>
              <a:solidFill>
                <a:srgbClr val="47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64960" y="4296600"/>
                <a:ext cx="205200" cy="383040"/>
              </a:xfrm>
              <a:custGeom>
                <a:avLst/>
                <a:gdLst/>
                <a:ahLst/>
                <a:rect l="l" t="t" r="r" b="b"/>
                <a:pathLst>
                  <a:path w="2956" h="6657">
                    <a:moveTo>
                      <a:pt x="921" y="511"/>
                    </a:moveTo>
                    <a:lnTo>
                      <a:pt x="886" y="509"/>
                    </a:lnTo>
                    <a:lnTo>
                      <a:pt x="848" y="510"/>
                    </a:lnTo>
                    <a:lnTo>
                      <a:pt x="809" y="515"/>
                    </a:lnTo>
                    <a:lnTo>
                      <a:pt x="768" y="523"/>
                    </a:lnTo>
                    <a:lnTo>
                      <a:pt x="726" y="534"/>
                    </a:lnTo>
                    <a:lnTo>
                      <a:pt x="685" y="548"/>
                    </a:lnTo>
                    <a:lnTo>
                      <a:pt x="644" y="566"/>
                    </a:lnTo>
                    <a:lnTo>
                      <a:pt x="605" y="585"/>
                    </a:lnTo>
                    <a:lnTo>
                      <a:pt x="566" y="607"/>
                    </a:lnTo>
                    <a:lnTo>
                      <a:pt x="532" y="631"/>
                    </a:lnTo>
                    <a:lnTo>
                      <a:pt x="499" y="657"/>
                    </a:lnTo>
                    <a:lnTo>
                      <a:pt x="471" y="684"/>
                    </a:lnTo>
                    <a:lnTo>
                      <a:pt x="448" y="714"/>
                    </a:lnTo>
                    <a:lnTo>
                      <a:pt x="430" y="743"/>
                    </a:lnTo>
                    <a:lnTo>
                      <a:pt x="418" y="775"/>
                    </a:lnTo>
                    <a:lnTo>
                      <a:pt x="412" y="807"/>
                    </a:lnTo>
                    <a:lnTo>
                      <a:pt x="388" y="1110"/>
                    </a:lnTo>
                    <a:lnTo>
                      <a:pt x="368" y="1369"/>
                    </a:lnTo>
                    <a:lnTo>
                      <a:pt x="351" y="1592"/>
                    </a:lnTo>
                    <a:lnTo>
                      <a:pt x="335" y="1791"/>
                    </a:lnTo>
                    <a:lnTo>
                      <a:pt x="320" y="1978"/>
                    </a:lnTo>
                    <a:lnTo>
                      <a:pt x="306" y="2161"/>
                    </a:lnTo>
                    <a:lnTo>
                      <a:pt x="291" y="2350"/>
                    </a:lnTo>
                    <a:lnTo>
                      <a:pt x="276" y="2557"/>
                    </a:lnTo>
                    <a:lnTo>
                      <a:pt x="257" y="2791"/>
                    </a:lnTo>
                    <a:lnTo>
                      <a:pt x="236" y="3062"/>
                    </a:lnTo>
                    <a:lnTo>
                      <a:pt x="211" y="3381"/>
                    </a:lnTo>
                    <a:lnTo>
                      <a:pt x="181" y="3759"/>
                    </a:lnTo>
                    <a:lnTo>
                      <a:pt x="147" y="4206"/>
                    </a:lnTo>
                    <a:lnTo>
                      <a:pt x="105" y="4730"/>
                    </a:lnTo>
                    <a:lnTo>
                      <a:pt x="57" y="5344"/>
                    </a:lnTo>
                    <a:lnTo>
                      <a:pt x="1" y="6057"/>
                    </a:lnTo>
                    <a:lnTo>
                      <a:pt x="0" y="6085"/>
                    </a:lnTo>
                    <a:lnTo>
                      <a:pt x="3" y="6114"/>
                    </a:lnTo>
                    <a:lnTo>
                      <a:pt x="7" y="6145"/>
                    </a:lnTo>
                    <a:lnTo>
                      <a:pt x="15" y="6177"/>
                    </a:lnTo>
                    <a:lnTo>
                      <a:pt x="25" y="6208"/>
                    </a:lnTo>
                    <a:lnTo>
                      <a:pt x="36" y="6240"/>
                    </a:lnTo>
                    <a:lnTo>
                      <a:pt x="51" y="6270"/>
                    </a:lnTo>
                    <a:lnTo>
                      <a:pt x="67" y="6298"/>
                    </a:lnTo>
                    <a:lnTo>
                      <a:pt x="85" y="6327"/>
                    </a:lnTo>
                    <a:lnTo>
                      <a:pt x="105" y="6352"/>
                    </a:lnTo>
                    <a:lnTo>
                      <a:pt x="126" y="6377"/>
                    </a:lnTo>
                    <a:lnTo>
                      <a:pt x="149" y="6397"/>
                    </a:lnTo>
                    <a:lnTo>
                      <a:pt x="173" y="6414"/>
                    </a:lnTo>
                    <a:lnTo>
                      <a:pt x="199" y="6429"/>
                    </a:lnTo>
                    <a:lnTo>
                      <a:pt x="225" y="6439"/>
                    </a:lnTo>
                    <a:lnTo>
                      <a:pt x="253" y="6444"/>
                    </a:lnTo>
                    <a:lnTo>
                      <a:pt x="312" y="6450"/>
                    </a:lnTo>
                    <a:lnTo>
                      <a:pt x="366" y="6456"/>
                    </a:lnTo>
                    <a:lnTo>
                      <a:pt x="417" y="6461"/>
                    </a:lnTo>
                    <a:lnTo>
                      <a:pt x="464" y="6466"/>
                    </a:lnTo>
                    <a:lnTo>
                      <a:pt x="508" y="6470"/>
                    </a:lnTo>
                    <a:lnTo>
                      <a:pt x="548" y="6474"/>
                    </a:lnTo>
                    <a:lnTo>
                      <a:pt x="587" y="6478"/>
                    </a:lnTo>
                    <a:lnTo>
                      <a:pt x="623" y="6482"/>
                    </a:lnTo>
                    <a:lnTo>
                      <a:pt x="659" y="6487"/>
                    </a:lnTo>
                    <a:lnTo>
                      <a:pt x="693" y="6491"/>
                    </a:lnTo>
                    <a:lnTo>
                      <a:pt x="727" y="6494"/>
                    </a:lnTo>
                    <a:lnTo>
                      <a:pt x="762" y="6498"/>
                    </a:lnTo>
                    <a:lnTo>
                      <a:pt x="797" y="6501"/>
                    </a:lnTo>
                    <a:lnTo>
                      <a:pt x="833" y="6505"/>
                    </a:lnTo>
                    <a:lnTo>
                      <a:pt x="871" y="6509"/>
                    </a:lnTo>
                    <a:lnTo>
                      <a:pt x="912" y="6513"/>
                    </a:lnTo>
                    <a:lnTo>
                      <a:pt x="953" y="6518"/>
                    </a:lnTo>
                    <a:lnTo>
                      <a:pt x="999" y="6523"/>
                    </a:lnTo>
                    <a:lnTo>
                      <a:pt x="1048" y="6528"/>
                    </a:lnTo>
                    <a:lnTo>
                      <a:pt x="1101" y="6534"/>
                    </a:lnTo>
                    <a:lnTo>
                      <a:pt x="1159" y="6540"/>
                    </a:lnTo>
                    <a:lnTo>
                      <a:pt x="1222" y="6548"/>
                    </a:lnTo>
                    <a:lnTo>
                      <a:pt x="1289" y="6555"/>
                    </a:lnTo>
                    <a:lnTo>
                      <a:pt x="1363" y="6563"/>
                    </a:lnTo>
                    <a:lnTo>
                      <a:pt x="1443" y="6571"/>
                    </a:lnTo>
                    <a:lnTo>
                      <a:pt x="1531" y="6581"/>
                    </a:lnTo>
                    <a:lnTo>
                      <a:pt x="1624" y="6591"/>
                    </a:lnTo>
                    <a:lnTo>
                      <a:pt x="1726" y="6602"/>
                    </a:lnTo>
                    <a:lnTo>
                      <a:pt x="1838" y="6615"/>
                    </a:lnTo>
                    <a:lnTo>
                      <a:pt x="1957" y="6627"/>
                    </a:lnTo>
                    <a:lnTo>
                      <a:pt x="2086" y="6641"/>
                    </a:lnTo>
                    <a:lnTo>
                      <a:pt x="2225" y="6656"/>
                    </a:lnTo>
                    <a:lnTo>
                      <a:pt x="2249" y="6657"/>
                    </a:lnTo>
                    <a:lnTo>
                      <a:pt x="2274" y="6655"/>
                    </a:lnTo>
                    <a:lnTo>
                      <a:pt x="2299" y="6651"/>
                    </a:lnTo>
                    <a:lnTo>
                      <a:pt x="2324" y="6644"/>
                    </a:lnTo>
                    <a:lnTo>
                      <a:pt x="2349" y="6635"/>
                    </a:lnTo>
                    <a:lnTo>
                      <a:pt x="2373" y="6624"/>
                    </a:lnTo>
                    <a:lnTo>
                      <a:pt x="2395" y="6611"/>
                    </a:lnTo>
                    <a:lnTo>
                      <a:pt x="2418" y="6595"/>
                    </a:lnTo>
                    <a:lnTo>
                      <a:pt x="2439" y="6579"/>
                    </a:lnTo>
                    <a:lnTo>
                      <a:pt x="2458" y="6561"/>
                    </a:lnTo>
                    <a:lnTo>
                      <a:pt x="2476" y="6541"/>
                    </a:lnTo>
                    <a:lnTo>
                      <a:pt x="2490" y="6520"/>
                    </a:lnTo>
                    <a:lnTo>
                      <a:pt x="2503" y="6499"/>
                    </a:lnTo>
                    <a:lnTo>
                      <a:pt x="2512" y="6476"/>
                    </a:lnTo>
                    <a:lnTo>
                      <a:pt x="2519" y="6454"/>
                    </a:lnTo>
                    <a:lnTo>
                      <a:pt x="2522" y="6431"/>
                    </a:lnTo>
                    <a:lnTo>
                      <a:pt x="2545" y="6116"/>
                    </a:lnTo>
                    <a:lnTo>
                      <a:pt x="2565" y="5846"/>
                    </a:lnTo>
                    <a:lnTo>
                      <a:pt x="2583" y="5612"/>
                    </a:lnTo>
                    <a:lnTo>
                      <a:pt x="2598" y="5404"/>
                    </a:lnTo>
                    <a:lnTo>
                      <a:pt x="2612" y="5210"/>
                    </a:lnTo>
                    <a:lnTo>
                      <a:pt x="2626" y="5019"/>
                    </a:lnTo>
                    <a:lnTo>
                      <a:pt x="2641" y="4822"/>
                    </a:lnTo>
                    <a:lnTo>
                      <a:pt x="2657" y="4606"/>
                    </a:lnTo>
                    <a:lnTo>
                      <a:pt x="2674" y="4362"/>
                    </a:lnTo>
                    <a:lnTo>
                      <a:pt x="2695" y="4078"/>
                    </a:lnTo>
                    <a:lnTo>
                      <a:pt x="2719" y="3746"/>
                    </a:lnTo>
                    <a:lnTo>
                      <a:pt x="2748" y="3353"/>
                    </a:lnTo>
                    <a:lnTo>
                      <a:pt x="2782" y="2888"/>
                    </a:lnTo>
                    <a:lnTo>
                      <a:pt x="2822" y="2342"/>
                    </a:lnTo>
                    <a:lnTo>
                      <a:pt x="2869" y="1703"/>
                    </a:lnTo>
                    <a:lnTo>
                      <a:pt x="2923" y="961"/>
                    </a:lnTo>
                    <a:lnTo>
                      <a:pt x="2925" y="884"/>
                    </a:lnTo>
                    <a:lnTo>
                      <a:pt x="2925" y="800"/>
                    </a:lnTo>
                    <a:lnTo>
                      <a:pt x="2925" y="718"/>
                    </a:lnTo>
                    <a:lnTo>
                      <a:pt x="2927" y="641"/>
                    </a:lnTo>
                    <a:lnTo>
                      <a:pt x="2932" y="552"/>
                    </a:lnTo>
                    <a:lnTo>
                      <a:pt x="2937" y="483"/>
                    </a:lnTo>
                    <a:lnTo>
                      <a:pt x="2943" y="374"/>
                    </a:lnTo>
                    <a:lnTo>
                      <a:pt x="2956" y="167"/>
                    </a:lnTo>
                    <a:lnTo>
                      <a:pt x="2953" y="140"/>
                    </a:lnTo>
                    <a:lnTo>
                      <a:pt x="2940" y="114"/>
                    </a:lnTo>
                    <a:lnTo>
                      <a:pt x="2920" y="90"/>
                    </a:lnTo>
                    <a:lnTo>
                      <a:pt x="2892" y="68"/>
                    </a:lnTo>
                    <a:lnTo>
                      <a:pt x="2859" y="50"/>
                    </a:lnTo>
                    <a:lnTo>
                      <a:pt x="2821" y="33"/>
                    </a:lnTo>
                    <a:lnTo>
                      <a:pt x="2780" y="20"/>
                    </a:lnTo>
                    <a:lnTo>
                      <a:pt x="2739" y="10"/>
                    </a:lnTo>
                    <a:lnTo>
                      <a:pt x="2695" y="3"/>
                    </a:lnTo>
                    <a:lnTo>
                      <a:pt x="2653" y="0"/>
                    </a:lnTo>
                    <a:lnTo>
                      <a:pt x="2612" y="1"/>
                    </a:lnTo>
                    <a:lnTo>
                      <a:pt x="2573" y="6"/>
                    </a:lnTo>
                    <a:lnTo>
                      <a:pt x="2539" y="17"/>
                    </a:lnTo>
                    <a:lnTo>
                      <a:pt x="2511" y="31"/>
                    </a:lnTo>
                    <a:lnTo>
                      <a:pt x="2489" y="50"/>
                    </a:lnTo>
                    <a:lnTo>
                      <a:pt x="2475" y="75"/>
                    </a:lnTo>
                    <a:lnTo>
                      <a:pt x="2463" y="106"/>
                    </a:lnTo>
                    <a:lnTo>
                      <a:pt x="2453" y="134"/>
                    </a:lnTo>
                    <a:lnTo>
                      <a:pt x="2444" y="157"/>
                    </a:lnTo>
                    <a:lnTo>
                      <a:pt x="2437" y="178"/>
                    </a:lnTo>
                    <a:lnTo>
                      <a:pt x="2430" y="198"/>
                    </a:lnTo>
                    <a:lnTo>
                      <a:pt x="2423" y="217"/>
                    </a:lnTo>
                    <a:lnTo>
                      <a:pt x="2415" y="237"/>
                    </a:lnTo>
                    <a:lnTo>
                      <a:pt x="2408" y="259"/>
                    </a:lnTo>
                    <a:lnTo>
                      <a:pt x="2399" y="283"/>
                    </a:lnTo>
                    <a:lnTo>
                      <a:pt x="2388" y="311"/>
                    </a:lnTo>
                    <a:lnTo>
                      <a:pt x="2377" y="346"/>
                    </a:lnTo>
                    <a:lnTo>
                      <a:pt x="2362" y="386"/>
                    </a:lnTo>
                    <a:lnTo>
                      <a:pt x="2346" y="432"/>
                    </a:lnTo>
                    <a:lnTo>
                      <a:pt x="2325" y="487"/>
                    </a:lnTo>
                    <a:lnTo>
                      <a:pt x="2302" y="551"/>
                    </a:lnTo>
                    <a:lnTo>
                      <a:pt x="2275" y="627"/>
                    </a:lnTo>
                    <a:lnTo>
                      <a:pt x="2272" y="632"/>
                    </a:lnTo>
                    <a:lnTo>
                      <a:pt x="2265" y="640"/>
                    </a:lnTo>
                    <a:lnTo>
                      <a:pt x="2256" y="650"/>
                    </a:lnTo>
                    <a:lnTo>
                      <a:pt x="2247" y="660"/>
                    </a:lnTo>
                    <a:lnTo>
                      <a:pt x="2236" y="670"/>
                    </a:lnTo>
                    <a:lnTo>
                      <a:pt x="2227" y="678"/>
                    </a:lnTo>
                    <a:lnTo>
                      <a:pt x="2219" y="684"/>
                    </a:lnTo>
                    <a:lnTo>
                      <a:pt x="2213" y="686"/>
                    </a:lnTo>
                    <a:lnTo>
                      <a:pt x="2175" y="681"/>
                    </a:lnTo>
                    <a:lnTo>
                      <a:pt x="2138" y="676"/>
                    </a:lnTo>
                    <a:lnTo>
                      <a:pt x="2106" y="672"/>
                    </a:lnTo>
                    <a:lnTo>
                      <a:pt x="2075" y="667"/>
                    </a:lnTo>
                    <a:lnTo>
                      <a:pt x="2047" y="664"/>
                    </a:lnTo>
                    <a:lnTo>
                      <a:pt x="2020" y="660"/>
                    </a:lnTo>
                    <a:lnTo>
                      <a:pt x="1995" y="657"/>
                    </a:lnTo>
                    <a:lnTo>
                      <a:pt x="1971" y="653"/>
                    </a:lnTo>
                    <a:lnTo>
                      <a:pt x="1948" y="650"/>
                    </a:lnTo>
                    <a:lnTo>
                      <a:pt x="1925" y="647"/>
                    </a:lnTo>
                    <a:lnTo>
                      <a:pt x="1902" y="644"/>
                    </a:lnTo>
                    <a:lnTo>
                      <a:pt x="1880" y="641"/>
                    </a:lnTo>
                    <a:lnTo>
                      <a:pt x="1857" y="638"/>
                    </a:lnTo>
                    <a:lnTo>
                      <a:pt x="1834" y="635"/>
                    </a:lnTo>
                    <a:lnTo>
                      <a:pt x="1809" y="632"/>
                    </a:lnTo>
                    <a:lnTo>
                      <a:pt x="1783" y="628"/>
                    </a:lnTo>
                    <a:lnTo>
                      <a:pt x="1754" y="623"/>
                    </a:lnTo>
                    <a:lnTo>
                      <a:pt x="1724" y="619"/>
                    </a:lnTo>
                    <a:lnTo>
                      <a:pt x="1693" y="615"/>
                    </a:lnTo>
                    <a:lnTo>
                      <a:pt x="1658" y="610"/>
                    </a:lnTo>
                    <a:lnTo>
                      <a:pt x="1620" y="605"/>
                    </a:lnTo>
                    <a:lnTo>
                      <a:pt x="1580" y="600"/>
                    </a:lnTo>
                    <a:lnTo>
                      <a:pt x="1536" y="594"/>
                    </a:lnTo>
                    <a:lnTo>
                      <a:pt x="1487" y="587"/>
                    </a:lnTo>
                    <a:lnTo>
                      <a:pt x="1434" y="580"/>
                    </a:lnTo>
                    <a:lnTo>
                      <a:pt x="1377" y="573"/>
                    </a:lnTo>
                    <a:lnTo>
                      <a:pt x="1315" y="563"/>
                    </a:lnTo>
                    <a:lnTo>
                      <a:pt x="1248" y="555"/>
                    </a:lnTo>
                    <a:lnTo>
                      <a:pt x="1175" y="545"/>
                    </a:lnTo>
                    <a:lnTo>
                      <a:pt x="1097" y="534"/>
                    </a:lnTo>
                    <a:lnTo>
                      <a:pt x="1011" y="523"/>
                    </a:lnTo>
                    <a:lnTo>
                      <a:pt x="921" y="51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66040" y="4296600"/>
                <a:ext cx="202320" cy="383040"/>
              </a:xfrm>
              <a:custGeom>
                <a:avLst/>
                <a:gdLst/>
                <a:ahLst/>
                <a:rect l="l" t="t" r="r" b="b"/>
                <a:pathLst>
                  <a:path w="2932" h="6634">
                    <a:moveTo>
                      <a:pt x="928" y="514"/>
                    </a:moveTo>
                    <a:lnTo>
                      <a:pt x="894" y="512"/>
                    </a:lnTo>
                    <a:lnTo>
                      <a:pt x="856" y="513"/>
                    </a:lnTo>
                    <a:lnTo>
                      <a:pt x="818" y="518"/>
                    </a:lnTo>
                    <a:lnTo>
                      <a:pt x="777" y="525"/>
                    </a:lnTo>
                    <a:lnTo>
                      <a:pt x="735" y="536"/>
                    </a:lnTo>
                    <a:lnTo>
                      <a:pt x="694" y="549"/>
                    </a:lnTo>
                    <a:lnTo>
                      <a:pt x="652" y="567"/>
                    </a:lnTo>
                    <a:lnTo>
                      <a:pt x="613" y="585"/>
                    </a:lnTo>
                    <a:lnTo>
                      <a:pt x="574" y="606"/>
                    </a:lnTo>
                    <a:lnTo>
                      <a:pt x="539" y="629"/>
                    </a:lnTo>
                    <a:lnTo>
                      <a:pt x="507" y="654"/>
                    </a:lnTo>
                    <a:lnTo>
                      <a:pt x="478" y="681"/>
                    </a:lnTo>
                    <a:lnTo>
                      <a:pt x="455" y="709"/>
                    </a:lnTo>
                    <a:lnTo>
                      <a:pt x="436" y="737"/>
                    </a:lnTo>
                    <a:lnTo>
                      <a:pt x="423" y="768"/>
                    </a:lnTo>
                    <a:lnTo>
                      <a:pt x="417" y="799"/>
                    </a:lnTo>
                    <a:lnTo>
                      <a:pt x="393" y="1101"/>
                    </a:lnTo>
                    <a:lnTo>
                      <a:pt x="372" y="1360"/>
                    </a:lnTo>
                    <a:lnTo>
                      <a:pt x="356" y="1582"/>
                    </a:lnTo>
                    <a:lnTo>
                      <a:pt x="339" y="1782"/>
                    </a:lnTo>
                    <a:lnTo>
                      <a:pt x="324" y="1968"/>
                    </a:lnTo>
                    <a:lnTo>
                      <a:pt x="310" y="2150"/>
                    </a:lnTo>
                    <a:lnTo>
                      <a:pt x="295" y="2339"/>
                    </a:lnTo>
                    <a:lnTo>
                      <a:pt x="279" y="2546"/>
                    </a:lnTo>
                    <a:lnTo>
                      <a:pt x="261" y="2779"/>
                    </a:lnTo>
                    <a:lnTo>
                      <a:pt x="239" y="3050"/>
                    </a:lnTo>
                    <a:lnTo>
                      <a:pt x="213" y="3369"/>
                    </a:lnTo>
                    <a:lnTo>
                      <a:pt x="183" y="3746"/>
                    </a:lnTo>
                    <a:lnTo>
                      <a:pt x="148" y="4191"/>
                    </a:lnTo>
                    <a:lnTo>
                      <a:pt x="106" y="4715"/>
                    </a:lnTo>
                    <a:lnTo>
                      <a:pt x="57" y="5328"/>
                    </a:lnTo>
                    <a:lnTo>
                      <a:pt x="0" y="6039"/>
                    </a:lnTo>
                    <a:lnTo>
                      <a:pt x="0" y="6068"/>
                    </a:lnTo>
                    <a:lnTo>
                      <a:pt x="2" y="6097"/>
                    </a:lnTo>
                    <a:lnTo>
                      <a:pt x="7" y="6128"/>
                    </a:lnTo>
                    <a:lnTo>
                      <a:pt x="14" y="6159"/>
                    </a:lnTo>
                    <a:lnTo>
                      <a:pt x="24" y="6191"/>
                    </a:lnTo>
                    <a:lnTo>
                      <a:pt x="36" y="6222"/>
                    </a:lnTo>
                    <a:lnTo>
                      <a:pt x="51" y="6253"/>
                    </a:lnTo>
                    <a:lnTo>
                      <a:pt x="66" y="6282"/>
                    </a:lnTo>
                    <a:lnTo>
                      <a:pt x="85" y="6310"/>
                    </a:lnTo>
                    <a:lnTo>
                      <a:pt x="105" y="6336"/>
                    </a:lnTo>
                    <a:lnTo>
                      <a:pt x="126" y="6360"/>
                    </a:lnTo>
                    <a:lnTo>
                      <a:pt x="149" y="6381"/>
                    </a:lnTo>
                    <a:lnTo>
                      <a:pt x="172" y="6398"/>
                    </a:lnTo>
                    <a:lnTo>
                      <a:pt x="199" y="6411"/>
                    </a:lnTo>
                    <a:lnTo>
                      <a:pt x="225" y="6422"/>
                    </a:lnTo>
                    <a:lnTo>
                      <a:pt x="252" y="6427"/>
                    </a:lnTo>
                    <a:lnTo>
                      <a:pt x="310" y="6433"/>
                    </a:lnTo>
                    <a:lnTo>
                      <a:pt x="363" y="6439"/>
                    </a:lnTo>
                    <a:lnTo>
                      <a:pt x="413" y="6444"/>
                    </a:lnTo>
                    <a:lnTo>
                      <a:pt x="459" y="6448"/>
                    </a:lnTo>
                    <a:lnTo>
                      <a:pt x="501" y="6453"/>
                    </a:lnTo>
                    <a:lnTo>
                      <a:pt x="541" y="6457"/>
                    </a:lnTo>
                    <a:lnTo>
                      <a:pt x="579" y="6461"/>
                    </a:lnTo>
                    <a:lnTo>
                      <a:pt x="615" y="6465"/>
                    </a:lnTo>
                    <a:lnTo>
                      <a:pt x="650" y="6468"/>
                    </a:lnTo>
                    <a:lnTo>
                      <a:pt x="684" y="6472"/>
                    </a:lnTo>
                    <a:lnTo>
                      <a:pt x="718" y="6476"/>
                    </a:lnTo>
                    <a:lnTo>
                      <a:pt x="752" y="6480"/>
                    </a:lnTo>
                    <a:lnTo>
                      <a:pt x="786" y="6483"/>
                    </a:lnTo>
                    <a:lnTo>
                      <a:pt x="822" y="6487"/>
                    </a:lnTo>
                    <a:lnTo>
                      <a:pt x="859" y="6491"/>
                    </a:lnTo>
                    <a:lnTo>
                      <a:pt x="898" y="6495"/>
                    </a:lnTo>
                    <a:lnTo>
                      <a:pt x="939" y="6499"/>
                    </a:lnTo>
                    <a:lnTo>
                      <a:pt x="984" y="6504"/>
                    </a:lnTo>
                    <a:lnTo>
                      <a:pt x="1033" y="6509"/>
                    </a:lnTo>
                    <a:lnTo>
                      <a:pt x="1085" y="6515"/>
                    </a:lnTo>
                    <a:lnTo>
                      <a:pt x="1141" y="6521"/>
                    </a:lnTo>
                    <a:lnTo>
                      <a:pt x="1203" y="6527"/>
                    </a:lnTo>
                    <a:lnTo>
                      <a:pt x="1269" y="6534"/>
                    </a:lnTo>
                    <a:lnTo>
                      <a:pt x="1342" y="6543"/>
                    </a:lnTo>
                    <a:lnTo>
                      <a:pt x="1421" y="6551"/>
                    </a:lnTo>
                    <a:lnTo>
                      <a:pt x="1507" y="6560"/>
                    </a:lnTo>
                    <a:lnTo>
                      <a:pt x="1598" y="6570"/>
                    </a:lnTo>
                    <a:lnTo>
                      <a:pt x="1699" y="6580"/>
                    </a:lnTo>
                    <a:lnTo>
                      <a:pt x="1808" y="6592"/>
                    </a:lnTo>
                    <a:lnTo>
                      <a:pt x="1925" y="6605"/>
                    </a:lnTo>
                    <a:lnTo>
                      <a:pt x="2052" y="6619"/>
                    </a:lnTo>
                    <a:lnTo>
                      <a:pt x="2188" y="6633"/>
                    </a:lnTo>
                    <a:lnTo>
                      <a:pt x="2212" y="6634"/>
                    </a:lnTo>
                    <a:lnTo>
                      <a:pt x="2237" y="6633"/>
                    </a:lnTo>
                    <a:lnTo>
                      <a:pt x="2262" y="6629"/>
                    </a:lnTo>
                    <a:lnTo>
                      <a:pt x="2288" y="6623"/>
                    </a:lnTo>
                    <a:lnTo>
                      <a:pt x="2312" y="6614"/>
                    </a:lnTo>
                    <a:lnTo>
                      <a:pt x="2337" y="6604"/>
                    </a:lnTo>
                    <a:lnTo>
                      <a:pt x="2361" y="6591"/>
                    </a:lnTo>
                    <a:lnTo>
                      <a:pt x="2383" y="6577"/>
                    </a:lnTo>
                    <a:lnTo>
                      <a:pt x="2405" y="6562"/>
                    </a:lnTo>
                    <a:lnTo>
                      <a:pt x="2423" y="6545"/>
                    </a:lnTo>
                    <a:lnTo>
                      <a:pt x="2441" y="6525"/>
                    </a:lnTo>
                    <a:lnTo>
                      <a:pt x="2457" y="6506"/>
                    </a:lnTo>
                    <a:lnTo>
                      <a:pt x="2469" y="6485"/>
                    </a:lnTo>
                    <a:lnTo>
                      <a:pt x="2479" y="6463"/>
                    </a:lnTo>
                    <a:lnTo>
                      <a:pt x="2486" y="6441"/>
                    </a:lnTo>
                    <a:lnTo>
                      <a:pt x="2489" y="6418"/>
                    </a:lnTo>
                    <a:lnTo>
                      <a:pt x="2512" y="6102"/>
                    </a:lnTo>
                    <a:lnTo>
                      <a:pt x="2532" y="5833"/>
                    </a:lnTo>
                    <a:lnTo>
                      <a:pt x="2549" y="5599"/>
                    </a:lnTo>
                    <a:lnTo>
                      <a:pt x="2564" y="5391"/>
                    </a:lnTo>
                    <a:lnTo>
                      <a:pt x="2578" y="5197"/>
                    </a:lnTo>
                    <a:lnTo>
                      <a:pt x="2593" y="5007"/>
                    </a:lnTo>
                    <a:lnTo>
                      <a:pt x="2607" y="4808"/>
                    </a:lnTo>
                    <a:lnTo>
                      <a:pt x="2623" y="4593"/>
                    </a:lnTo>
                    <a:lnTo>
                      <a:pt x="2641" y="4349"/>
                    </a:lnTo>
                    <a:lnTo>
                      <a:pt x="2662" y="4066"/>
                    </a:lnTo>
                    <a:lnTo>
                      <a:pt x="2686" y="3733"/>
                    </a:lnTo>
                    <a:lnTo>
                      <a:pt x="2715" y="3340"/>
                    </a:lnTo>
                    <a:lnTo>
                      <a:pt x="2749" y="2875"/>
                    </a:lnTo>
                    <a:lnTo>
                      <a:pt x="2790" y="2330"/>
                    </a:lnTo>
                    <a:lnTo>
                      <a:pt x="2837" y="1691"/>
                    </a:lnTo>
                    <a:lnTo>
                      <a:pt x="2892" y="949"/>
                    </a:lnTo>
                    <a:lnTo>
                      <a:pt x="2896" y="871"/>
                    </a:lnTo>
                    <a:lnTo>
                      <a:pt x="2897" y="786"/>
                    </a:lnTo>
                    <a:lnTo>
                      <a:pt x="2898" y="702"/>
                    </a:lnTo>
                    <a:lnTo>
                      <a:pt x="2902" y="625"/>
                    </a:lnTo>
                    <a:lnTo>
                      <a:pt x="2907" y="537"/>
                    </a:lnTo>
                    <a:lnTo>
                      <a:pt x="2911" y="470"/>
                    </a:lnTo>
                    <a:lnTo>
                      <a:pt x="2919" y="363"/>
                    </a:lnTo>
                    <a:lnTo>
                      <a:pt x="2932" y="161"/>
                    </a:lnTo>
                    <a:lnTo>
                      <a:pt x="2929" y="135"/>
                    </a:lnTo>
                    <a:lnTo>
                      <a:pt x="2917" y="110"/>
                    </a:lnTo>
                    <a:lnTo>
                      <a:pt x="2897" y="87"/>
                    </a:lnTo>
                    <a:lnTo>
                      <a:pt x="2870" y="67"/>
                    </a:lnTo>
                    <a:lnTo>
                      <a:pt x="2838" y="48"/>
                    </a:lnTo>
                    <a:lnTo>
                      <a:pt x="2801" y="32"/>
                    </a:lnTo>
                    <a:lnTo>
                      <a:pt x="2762" y="19"/>
                    </a:lnTo>
                    <a:lnTo>
                      <a:pt x="2720" y="10"/>
                    </a:lnTo>
                    <a:lnTo>
                      <a:pt x="2677" y="3"/>
                    </a:lnTo>
                    <a:lnTo>
                      <a:pt x="2636" y="0"/>
                    </a:lnTo>
                    <a:lnTo>
                      <a:pt x="2595" y="1"/>
                    </a:lnTo>
                    <a:lnTo>
                      <a:pt x="2559" y="6"/>
                    </a:lnTo>
                    <a:lnTo>
                      <a:pt x="2525" y="15"/>
                    </a:lnTo>
                    <a:lnTo>
                      <a:pt x="2497" y="29"/>
                    </a:lnTo>
                    <a:lnTo>
                      <a:pt x="2475" y="48"/>
                    </a:lnTo>
                    <a:lnTo>
                      <a:pt x="2462" y="72"/>
                    </a:lnTo>
                    <a:lnTo>
                      <a:pt x="2450" y="104"/>
                    </a:lnTo>
                    <a:lnTo>
                      <a:pt x="2441" y="132"/>
                    </a:lnTo>
                    <a:lnTo>
                      <a:pt x="2433" y="155"/>
                    </a:lnTo>
                    <a:lnTo>
                      <a:pt x="2425" y="176"/>
                    </a:lnTo>
                    <a:lnTo>
                      <a:pt x="2418" y="196"/>
                    </a:lnTo>
                    <a:lnTo>
                      <a:pt x="2412" y="215"/>
                    </a:lnTo>
                    <a:lnTo>
                      <a:pt x="2405" y="235"/>
                    </a:lnTo>
                    <a:lnTo>
                      <a:pt x="2397" y="258"/>
                    </a:lnTo>
                    <a:lnTo>
                      <a:pt x="2388" y="282"/>
                    </a:lnTo>
                    <a:lnTo>
                      <a:pt x="2379" y="312"/>
                    </a:lnTo>
                    <a:lnTo>
                      <a:pt x="2366" y="345"/>
                    </a:lnTo>
                    <a:lnTo>
                      <a:pt x="2353" y="385"/>
                    </a:lnTo>
                    <a:lnTo>
                      <a:pt x="2336" y="433"/>
                    </a:lnTo>
                    <a:lnTo>
                      <a:pt x="2317" y="488"/>
                    </a:lnTo>
                    <a:lnTo>
                      <a:pt x="2294" y="553"/>
                    </a:lnTo>
                    <a:lnTo>
                      <a:pt x="2268" y="629"/>
                    </a:lnTo>
                    <a:lnTo>
                      <a:pt x="2265" y="633"/>
                    </a:lnTo>
                    <a:lnTo>
                      <a:pt x="2259" y="640"/>
                    </a:lnTo>
                    <a:lnTo>
                      <a:pt x="2250" y="650"/>
                    </a:lnTo>
                    <a:lnTo>
                      <a:pt x="2239" y="660"/>
                    </a:lnTo>
                    <a:lnTo>
                      <a:pt x="2229" y="670"/>
                    </a:lnTo>
                    <a:lnTo>
                      <a:pt x="2219" y="680"/>
                    </a:lnTo>
                    <a:lnTo>
                      <a:pt x="2211" y="686"/>
                    </a:lnTo>
                    <a:lnTo>
                      <a:pt x="2207" y="688"/>
                    </a:lnTo>
                    <a:lnTo>
                      <a:pt x="2168" y="683"/>
                    </a:lnTo>
                    <a:lnTo>
                      <a:pt x="2133" y="678"/>
                    </a:lnTo>
                    <a:lnTo>
                      <a:pt x="2101" y="673"/>
                    </a:lnTo>
                    <a:lnTo>
                      <a:pt x="2071" y="668"/>
                    </a:lnTo>
                    <a:lnTo>
                      <a:pt x="2043" y="665"/>
                    </a:lnTo>
                    <a:lnTo>
                      <a:pt x="2015" y="661"/>
                    </a:lnTo>
                    <a:lnTo>
                      <a:pt x="1990" y="658"/>
                    </a:lnTo>
                    <a:lnTo>
                      <a:pt x="1967" y="655"/>
                    </a:lnTo>
                    <a:lnTo>
                      <a:pt x="1944" y="651"/>
                    </a:lnTo>
                    <a:lnTo>
                      <a:pt x="1922" y="648"/>
                    </a:lnTo>
                    <a:lnTo>
                      <a:pt x="1899" y="645"/>
                    </a:lnTo>
                    <a:lnTo>
                      <a:pt x="1877" y="642"/>
                    </a:lnTo>
                    <a:lnTo>
                      <a:pt x="1854" y="639"/>
                    </a:lnTo>
                    <a:lnTo>
                      <a:pt x="1831" y="636"/>
                    </a:lnTo>
                    <a:lnTo>
                      <a:pt x="1806" y="633"/>
                    </a:lnTo>
                    <a:lnTo>
                      <a:pt x="1780" y="630"/>
                    </a:lnTo>
                    <a:lnTo>
                      <a:pt x="1753" y="626"/>
                    </a:lnTo>
                    <a:lnTo>
                      <a:pt x="1723" y="622"/>
                    </a:lnTo>
                    <a:lnTo>
                      <a:pt x="1692" y="618"/>
                    </a:lnTo>
                    <a:lnTo>
                      <a:pt x="1657" y="612"/>
                    </a:lnTo>
                    <a:lnTo>
                      <a:pt x="1620" y="607"/>
                    </a:lnTo>
                    <a:lnTo>
                      <a:pt x="1579" y="602"/>
                    </a:lnTo>
                    <a:lnTo>
                      <a:pt x="1536" y="596"/>
                    </a:lnTo>
                    <a:lnTo>
                      <a:pt x="1488" y="590"/>
                    </a:lnTo>
                    <a:lnTo>
                      <a:pt x="1436" y="583"/>
                    </a:lnTo>
                    <a:lnTo>
                      <a:pt x="1380" y="575"/>
                    </a:lnTo>
                    <a:lnTo>
                      <a:pt x="1318" y="567"/>
                    </a:lnTo>
                    <a:lnTo>
                      <a:pt x="1252" y="558"/>
                    </a:lnTo>
                    <a:lnTo>
                      <a:pt x="1180" y="548"/>
                    </a:lnTo>
                    <a:lnTo>
                      <a:pt x="1102" y="537"/>
                    </a:lnTo>
                    <a:lnTo>
                      <a:pt x="1019" y="526"/>
                    </a:lnTo>
                    <a:lnTo>
                      <a:pt x="928" y="514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67840" y="4298040"/>
                <a:ext cx="200520" cy="380160"/>
              </a:xfrm>
              <a:custGeom>
                <a:avLst/>
                <a:gdLst/>
                <a:ahLst/>
                <a:rect l="l" t="t" r="r" b="b"/>
                <a:pathLst>
                  <a:path w="2911" h="6611">
                    <a:moveTo>
                      <a:pt x="936" y="516"/>
                    </a:moveTo>
                    <a:lnTo>
                      <a:pt x="903" y="514"/>
                    </a:lnTo>
                    <a:lnTo>
                      <a:pt x="866" y="515"/>
                    </a:lnTo>
                    <a:lnTo>
                      <a:pt x="827" y="519"/>
                    </a:lnTo>
                    <a:lnTo>
                      <a:pt x="786" y="526"/>
                    </a:lnTo>
                    <a:lnTo>
                      <a:pt x="745" y="537"/>
                    </a:lnTo>
                    <a:lnTo>
                      <a:pt x="703" y="551"/>
                    </a:lnTo>
                    <a:lnTo>
                      <a:pt x="661" y="566"/>
                    </a:lnTo>
                    <a:lnTo>
                      <a:pt x="622" y="584"/>
                    </a:lnTo>
                    <a:lnTo>
                      <a:pt x="583" y="605"/>
                    </a:lnTo>
                    <a:lnTo>
                      <a:pt x="548" y="626"/>
                    </a:lnTo>
                    <a:lnTo>
                      <a:pt x="515" y="650"/>
                    </a:lnTo>
                    <a:lnTo>
                      <a:pt x="487" y="676"/>
                    </a:lnTo>
                    <a:lnTo>
                      <a:pt x="463" y="703"/>
                    </a:lnTo>
                    <a:lnTo>
                      <a:pt x="444" y="732"/>
                    </a:lnTo>
                    <a:lnTo>
                      <a:pt x="431" y="760"/>
                    </a:lnTo>
                    <a:lnTo>
                      <a:pt x="425" y="791"/>
                    </a:lnTo>
                    <a:lnTo>
                      <a:pt x="400" y="1092"/>
                    </a:lnTo>
                    <a:lnTo>
                      <a:pt x="379" y="1350"/>
                    </a:lnTo>
                    <a:lnTo>
                      <a:pt x="362" y="1572"/>
                    </a:lnTo>
                    <a:lnTo>
                      <a:pt x="346" y="1771"/>
                    </a:lnTo>
                    <a:lnTo>
                      <a:pt x="330" y="1957"/>
                    </a:lnTo>
                    <a:lnTo>
                      <a:pt x="316" y="2139"/>
                    </a:lnTo>
                    <a:lnTo>
                      <a:pt x="300" y="2328"/>
                    </a:lnTo>
                    <a:lnTo>
                      <a:pt x="284" y="2535"/>
                    </a:lnTo>
                    <a:lnTo>
                      <a:pt x="265" y="2768"/>
                    </a:lnTo>
                    <a:lnTo>
                      <a:pt x="243" y="3038"/>
                    </a:lnTo>
                    <a:lnTo>
                      <a:pt x="217" y="3356"/>
                    </a:lnTo>
                    <a:lnTo>
                      <a:pt x="186" y="3733"/>
                    </a:lnTo>
                    <a:lnTo>
                      <a:pt x="150" y="4177"/>
                    </a:lnTo>
                    <a:lnTo>
                      <a:pt x="108" y="4701"/>
                    </a:lnTo>
                    <a:lnTo>
                      <a:pt x="58" y="5312"/>
                    </a:lnTo>
                    <a:lnTo>
                      <a:pt x="0" y="6022"/>
                    </a:lnTo>
                    <a:lnTo>
                      <a:pt x="0" y="6050"/>
                    </a:lnTo>
                    <a:lnTo>
                      <a:pt x="2" y="6079"/>
                    </a:lnTo>
                    <a:lnTo>
                      <a:pt x="7" y="6110"/>
                    </a:lnTo>
                    <a:lnTo>
                      <a:pt x="14" y="6141"/>
                    </a:lnTo>
                    <a:lnTo>
                      <a:pt x="23" y="6173"/>
                    </a:lnTo>
                    <a:lnTo>
                      <a:pt x="36" y="6204"/>
                    </a:lnTo>
                    <a:lnTo>
                      <a:pt x="51" y="6235"/>
                    </a:lnTo>
                    <a:lnTo>
                      <a:pt x="67" y="6264"/>
                    </a:lnTo>
                    <a:lnTo>
                      <a:pt x="85" y="6292"/>
                    </a:lnTo>
                    <a:lnTo>
                      <a:pt x="105" y="6318"/>
                    </a:lnTo>
                    <a:lnTo>
                      <a:pt x="126" y="6342"/>
                    </a:lnTo>
                    <a:lnTo>
                      <a:pt x="149" y="6363"/>
                    </a:lnTo>
                    <a:lnTo>
                      <a:pt x="173" y="6380"/>
                    </a:lnTo>
                    <a:lnTo>
                      <a:pt x="198" y="6394"/>
                    </a:lnTo>
                    <a:lnTo>
                      <a:pt x="224" y="6405"/>
                    </a:lnTo>
                    <a:lnTo>
                      <a:pt x="251" y="6410"/>
                    </a:lnTo>
                    <a:lnTo>
                      <a:pt x="309" y="6416"/>
                    </a:lnTo>
                    <a:lnTo>
                      <a:pt x="361" y="6421"/>
                    </a:lnTo>
                    <a:lnTo>
                      <a:pt x="410" y="6426"/>
                    </a:lnTo>
                    <a:lnTo>
                      <a:pt x="454" y="6431"/>
                    </a:lnTo>
                    <a:lnTo>
                      <a:pt x="497" y="6435"/>
                    </a:lnTo>
                    <a:lnTo>
                      <a:pt x="536" y="6439"/>
                    </a:lnTo>
                    <a:lnTo>
                      <a:pt x="573" y="6443"/>
                    </a:lnTo>
                    <a:lnTo>
                      <a:pt x="608" y="6446"/>
                    </a:lnTo>
                    <a:lnTo>
                      <a:pt x="643" y="6450"/>
                    </a:lnTo>
                    <a:lnTo>
                      <a:pt x="676" y="6453"/>
                    </a:lnTo>
                    <a:lnTo>
                      <a:pt x="709" y="6456"/>
                    </a:lnTo>
                    <a:lnTo>
                      <a:pt x="743" y="6460"/>
                    </a:lnTo>
                    <a:lnTo>
                      <a:pt x="777" y="6463"/>
                    </a:lnTo>
                    <a:lnTo>
                      <a:pt x="811" y="6468"/>
                    </a:lnTo>
                    <a:lnTo>
                      <a:pt x="848" y="6472"/>
                    </a:lnTo>
                    <a:lnTo>
                      <a:pt x="886" y="6476"/>
                    </a:lnTo>
                    <a:lnTo>
                      <a:pt x="927" y="6480"/>
                    </a:lnTo>
                    <a:lnTo>
                      <a:pt x="971" y="6485"/>
                    </a:lnTo>
                    <a:lnTo>
                      <a:pt x="1018" y="6490"/>
                    </a:lnTo>
                    <a:lnTo>
                      <a:pt x="1069" y="6495"/>
                    </a:lnTo>
                    <a:lnTo>
                      <a:pt x="1124" y="6501"/>
                    </a:lnTo>
                    <a:lnTo>
                      <a:pt x="1185" y="6507"/>
                    </a:lnTo>
                    <a:lnTo>
                      <a:pt x="1250" y="6514"/>
                    </a:lnTo>
                    <a:lnTo>
                      <a:pt x="1322" y="6521"/>
                    </a:lnTo>
                    <a:lnTo>
                      <a:pt x="1399" y="6530"/>
                    </a:lnTo>
                    <a:lnTo>
                      <a:pt x="1483" y="6539"/>
                    </a:lnTo>
                    <a:lnTo>
                      <a:pt x="1573" y="6549"/>
                    </a:lnTo>
                    <a:lnTo>
                      <a:pt x="1672" y="6559"/>
                    </a:lnTo>
                    <a:lnTo>
                      <a:pt x="1779" y="6570"/>
                    </a:lnTo>
                    <a:lnTo>
                      <a:pt x="1893" y="6582"/>
                    </a:lnTo>
                    <a:lnTo>
                      <a:pt x="2018" y="6596"/>
                    </a:lnTo>
                    <a:lnTo>
                      <a:pt x="2152" y="6610"/>
                    </a:lnTo>
                    <a:lnTo>
                      <a:pt x="2175" y="6611"/>
                    </a:lnTo>
                    <a:lnTo>
                      <a:pt x="2200" y="6610"/>
                    </a:lnTo>
                    <a:lnTo>
                      <a:pt x="2225" y="6606"/>
                    </a:lnTo>
                    <a:lnTo>
                      <a:pt x="2250" y="6601"/>
                    </a:lnTo>
                    <a:lnTo>
                      <a:pt x="2276" y="6593"/>
                    </a:lnTo>
                    <a:lnTo>
                      <a:pt x="2300" y="6583"/>
                    </a:lnTo>
                    <a:lnTo>
                      <a:pt x="2324" y="6571"/>
                    </a:lnTo>
                    <a:lnTo>
                      <a:pt x="2347" y="6558"/>
                    </a:lnTo>
                    <a:lnTo>
                      <a:pt x="2369" y="6544"/>
                    </a:lnTo>
                    <a:lnTo>
                      <a:pt x="2389" y="6528"/>
                    </a:lnTo>
                    <a:lnTo>
                      <a:pt x="2406" y="6510"/>
                    </a:lnTo>
                    <a:lnTo>
                      <a:pt x="2422" y="6491"/>
                    </a:lnTo>
                    <a:lnTo>
                      <a:pt x="2435" y="6472"/>
                    </a:lnTo>
                    <a:lnTo>
                      <a:pt x="2445" y="6450"/>
                    </a:lnTo>
                    <a:lnTo>
                      <a:pt x="2452" y="6428"/>
                    </a:lnTo>
                    <a:lnTo>
                      <a:pt x="2455" y="6406"/>
                    </a:lnTo>
                    <a:lnTo>
                      <a:pt x="2479" y="6090"/>
                    </a:lnTo>
                    <a:lnTo>
                      <a:pt x="2499" y="5821"/>
                    </a:lnTo>
                    <a:lnTo>
                      <a:pt x="2517" y="5587"/>
                    </a:lnTo>
                    <a:lnTo>
                      <a:pt x="2532" y="5379"/>
                    </a:lnTo>
                    <a:lnTo>
                      <a:pt x="2547" y="5185"/>
                    </a:lnTo>
                    <a:lnTo>
                      <a:pt x="2561" y="4994"/>
                    </a:lnTo>
                    <a:lnTo>
                      <a:pt x="2575" y="4796"/>
                    </a:lnTo>
                    <a:lnTo>
                      <a:pt x="2592" y="4581"/>
                    </a:lnTo>
                    <a:lnTo>
                      <a:pt x="2609" y="4337"/>
                    </a:lnTo>
                    <a:lnTo>
                      <a:pt x="2630" y="4053"/>
                    </a:lnTo>
                    <a:lnTo>
                      <a:pt x="2655" y="3721"/>
                    </a:lnTo>
                    <a:lnTo>
                      <a:pt x="2685" y="3328"/>
                    </a:lnTo>
                    <a:lnTo>
                      <a:pt x="2720" y="2863"/>
                    </a:lnTo>
                    <a:lnTo>
                      <a:pt x="2760" y="2317"/>
                    </a:lnTo>
                    <a:lnTo>
                      <a:pt x="2808" y="1678"/>
                    </a:lnTo>
                    <a:lnTo>
                      <a:pt x="2863" y="936"/>
                    </a:lnTo>
                    <a:lnTo>
                      <a:pt x="2867" y="858"/>
                    </a:lnTo>
                    <a:lnTo>
                      <a:pt x="2871" y="771"/>
                    </a:lnTo>
                    <a:lnTo>
                      <a:pt x="2873" y="685"/>
                    </a:lnTo>
                    <a:lnTo>
                      <a:pt x="2877" y="607"/>
                    </a:lnTo>
                    <a:lnTo>
                      <a:pt x="2880" y="559"/>
                    </a:lnTo>
                    <a:lnTo>
                      <a:pt x="2883" y="522"/>
                    </a:lnTo>
                    <a:lnTo>
                      <a:pt x="2885" y="490"/>
                    </a:lnTo>
                    <a:lnTo>
                      <a:pt x="2888" y="456"/>
                    </a:lnTo>
                    <a:lnTo>
                      <a:pt x="2891" y="412"/>
                    </a:lnTo>
                    <a:lnTo>
                      <a:pt x="2896" y="352"/>
                    </a:lnTo>
                    <a:lnTo>
                      <a:pt x="2903" y="269"/>
                    </a:lnTo>
                    <a:lnTo>
                      <a:pt x="2911" y="155"/>
                    </a:lnTo>
                    <a:lnTo>
                      <a:pt x="2908" y="130"/>
                    </a:lnTo>
                    <a:lnTo>
                      <a:pt x="2896" y="105"/>
                    </a:lnTo>
                    <a:lnTo>
                      <a:pt x="2876" y="84"/>
                    </a:lnTo>
                    <a:lnTo>
                      <a:pt x="2850" y="64"/>
                    </a:lnTo>
                    <a:lnTo>
                      <a:pt x="2819" y="45"/>
                    </a:lnTo>
                    <a:lnTo>
                      <a:pt x="2782" y="30"/>
                    </a:lnTo>
                    <a:lnTo>
                      <a:pt x="2743" y="18"/>
                    </a:lnTo>
                    <a:lnTo>
                      <a:pt x="2702" y="9"/>
                    </a:lnTo>
                    <a:lnTo>
                      <a:pt x="2660" y="2"/>
                    </a:lnTo>
                    <a:lnTo>
                      <a:pt x="2620" y="0"/>
                    </a:lnTo>
                    <a:lnTo>
                      <a:pt x="2580" y="1"/>
                    </a:lnTo>
                    <a:lnTo>
                      <a:pt x="2544" y="5"/>
                    </a:lnTo>
                    <a:lnTo>
                      <a:pt x="2512" y="15"/>
                    </a:lnTo>
                    <a:lnTo>
                      <a:pt x="2485" y="28"/>
                    </a:lnTo>
                    <a:lnTo>
                      <a:pt x="2464" y="46"/>
                    </a:lnTo>
                    <a:lnTo>
                      <a:pt x="2451" y="70"/>
                    </a:lnTo>
                    <a:lnTo>
                      <a:pt x="2441" y="102"/>
                    </a:lnTo>
                    <a:lnTo>
                      <a:pt x="2431" y="130"/>
                    </a:lnTo>
                    <a:lnTo>
                      <a:pt x="2423" y="153"/>
                    </a:lnTo>
                    <a:lnTo>
                      <a:pt x="2416" y="175"/>
                    </a:lnTo>
                    <a:lnTo>
                      <a:pt x="2410" y="194"/>
                    </a:lnTo>
                    <a:lnTo>
                      <a:pt x="2402" y="214"/>
                    </a:lnTo>
                    <a:lnTo>
                      <a:pt x="2396" y="233"/>
                    </a:lnTo>
                    <a:lnTo>
                      <a:pt x="2388" y="256"/>
                    </a:lnTo>
                    <a:lnTo>
                      <a:pt x="2379" y="281"/>
                    </a:lnTo>
                    <a:lnTo>
                      <a:pt x="2370" y="310"/>
                    </a:lnTo>
                    <a:lnTo>
                      <a:pt x="2359" y="344"/>
                    </a:lnTo>
                    <a:lnTo>
                      <a:pt x="2344" y="384"/>
                    </a:lnTo>
                    <a:lnTo>
                      <a:pt x="2328" y="432"/>
                    </a:lnTo>
                    <a:lnTo>
                      <a:pt x="2310" y="488"/>
                    </a:lnTo>
                    <a:lnTo>
                      <a:pt x="2288" y="553"/>
                    </a:lnTo>
                    <a:lnTo>
                      <a:pt x="2262" y="629"/>
                    </a:lnTo>
                    <a:lnTo>
                      <a:pt x="2259" y="632"/>
                    </a:lnTo>
                    <a:lnTo>
                      <a:pt x="2252" y="639"/>
                    </a:lnTo>
                    <a:lnTo>
                      <a:pt x="2243" y="649"/>
                    </a:lnTo>
                    <a:lnTo>
                      <a:pt x="2233" y="660"/>
                    </a:lnTo>
                    <a:lnTo>
                      <a:pt x="2221" y="671"/>
                    </a:lnTo>
                    <a:lnTo>
                      <a:pt x="2212" y="680"/>
                    </a:lnTo>
                    <a:lnTo>
                      <a:pt x="2205" y="687"/>
                    </a:lnTo>
                    <a:lnTo>
                      <a:pt x="2200" y="689"/>
                    </a:lnTo>
                    <a:lnTo>
                      <a:pt x="2163" y="684"/>
                    </a:lnTo>
                    <a:lnTo>
                      <a:pt x="2128" y="679"/>
                    </a:lnTo>
                    <a:lnTo>
                      <a:pt x="2095" y="675"/>
                    </a:lnTo>
                    <a:lnTo>
                      <a:pt x="2065" y="671"/>
                    </a:lnTo>
                    <a:lnTo>
                      <a:pt x="2038" y="667"/>
                    </a:lnTo>
                    <a:lnTo>
                      <a:pt x="2011" y="662"/>
                    </a:lnTo>
                    <a:lnTo>
                      <a:pt x="1987" y="659"/>
                    </a:lnTo>
                    <a:lnTo>
                      <a:pt x="1963" y="656"/>
                    </a:lnTo>
                    <a:lnTo>
                      <a:pt x="1940" y="653"/>
                    </a:lnTo>
                    <a:lnTo>
                      <a:pt x="1918" y="650"/>
                    </a:lnTo>
                    <a:lnTo>
                      <a:pt x="1897" y="647"/>
                    </a:lnTo>
                    <a:lnTo>
                      <a:pt x="1875" y="644"/>
                    </a:lnTo>
                    <a:lnTo>
                      <a:pt x="1852" y="641"/>
                    </a:lnTo>
                    <a:lnTo>
                      <a:pt x="1829" y="638"/>
                    </a:lnTo>
                    <a:lnTo>
                      <a:pt x="1804" y="635"/>
                    </a:lnTo>
                    <a:lnTo>
                      <a:pt x="1779" y="631"/>
                    </a:lnTo>
                    <a:lnTo>
                      <a:pt x="1752" y="627"/>
                    </a:lnTo>
                    <a:lnTo>
                      <a:pt x="1723" y="624"/>
                    </a:lnTo>
                    <a:lnTo>
                      <a:pt x="1691" y="619"/>
                    </a:lnTo>
                    <a:lnTo>
                      <a:pt x="1657" y="615"/>
                    </a:lnTo>
                    <a:lnTo>
                      <a:pt x="1620" y="610"/>
                    </a:lnTo>
                    <a:lnTo>
                      <a:pt x="1580" y="603"/>
                    </a:lnTo>
                    <a:lnTo>
                      <a:pt x="1538" y="598"/>
                    </a:lnTo>
                    <a:lnTo>
                      <a:pt x="1490" y="591"/>
                    </a:lnTo>
                    <a:lnTo>
                      <a:pt x="1439" y="584"/>
                    </a:lnTo>
                    <a:lnTo>
                      <a:pt x="1383" y="577"/>
                    </a:lnTo>
                    <a:lnTo>
                      <a:pt x="1321" y="569"/>
                    </a:lnTo>
                    <a:lnTo>
                      <a:pt x="1256" y="560"/>
                    </a:lnTo>
                    <a:lnTo>
                      <a:pt x="1185" y="550"/>
                    </a:lnTo>
                    <a:lnTo>
                      <a:pt x="1108" y="539"/>
                    </a:lnTo>
                    <a:lnTo>
                      <a:pt x="1026" y="528"/>
                    </a:lnTo>
                    <a:lnTo>
                      <a:pt x="936" y="516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69280" y="4296600"/>
                <a:ext cx="199080" cy="381600"/>
              </a:xfrm>
              <a:custGeom>
                <a:avLst/>
                <a:gdLst/>
                <a:ahLst/>
                <a:rect l="l" t="t" r="r" b="b"/>
                <a:pathLst>
                  <a:path w="2889" h="6613">
                    <a:moveTo>
                      <a:pt x="945" y="545"/>
                    </a:moveTo>
                    <a:lnTo>
                      <a:pt x="907" y="541"/>
                    </a:lnTo>
                    <a:lnTo>
                      <a:pt x="867" y="540"/>
                    </a:lnTo>
                    <a:lnTo>
                      <a:pt x="826" y="542"/>
                    </a:lnTo>
                    <a:lnTo>
                      <a:pt x="784" y="547"/>
                    </a:lnTo>
                    <a:lnTo>
                      <a:pt x="741" y="554"/>
                    </a:lnTo>
                    <a:lnTo>
                      <a:pt x="700" y="565"/>
                    </a:lnTo>
                    <a:lnTo>
                      <a:pt x="659" y="577"/>
                    </a:lnTo>
                    <a:lnTo>
                      <a:pt x="621" y="593"/>
                    </a:lnTo>
                    <a:lnTo>
                      <a:pt x="583" y="610"/>
                    </a:lnTo>
                    <a:lnTo>
                      <a:pt x="550" y="632"/>
                    </a:lnTo>
                    <a:lnTo>
                      <a:pt x="519" y="655"/>
                    </a:lnTo>
                    <a:lnTo>
                      <a:pt x="491" y="680"/>
                    </a:lnTo>
                    <a:lnTo>
                      <a:pt x="469" y="709"/>
                    </a:lnTo>
                    <a:lnTo>
                      <a:pt x="451" y="739"/>
                    </a:lnTo>
                    <a:lnTo>
                      <a:pt x="438" y="773"/>
                    </a:lnTo>
                    <a:lnTo>
                      <a:pt x="432" y="809"/>
                    </a:lnTo>
                    <a:lnTo>
                      <a:pt x="1" y="6031"/>
                    </a:lnTo>
                    <a:lnTo>
                      <a:pt x="0" y="6060"/>
                    </a:lnTo>
                    <a:lnTo>
                      <a:pt x="2" y="6090"/>
                    </a:lnTo>
                    <a:lnTo>
                      <a:pt x="8" y="6121"/>
                    </a:lnTo>
                    <a:lnTo>
                      <a:pt x="14" y="6152"/>
                    </a:lnTo>
                    <a:lnTo>
                      <a:pt x="23" y="6184"/>
                    </a:lnTo>
                    <a:lnTo>
                      <a:pt x="36" y="6215"/>
                    </a:lnTo>
                    <a:lnTo>
                      <a:pt x="49" y="6246"/>
                    </a:lnTo>
                    <a:lnTo>
                      <a:pt x="65" y="6275"/>
                    </a:lnTo>
                    <a:lnTo>
                      <a:pt x="83" y="6303"/>
                    </a:lnTo>
                    <a:lnTo>
                      <a:pt x="102" y="6329"/>
                    </a:lnTo>
                    <a:lnTo>
                      <a:pt x="124" y="6352"/>
                    </a:lnTo>
                    <a:lnTo>
                      <a:pt x="147" y="6373"/>
                    </a:lnTo>
                    <a:lnTo>
                      <a:pt x="171" y="6390"/>
                    </a:lnTo>
                    <a:lnTo>
                      <a:pt x="197" y="6403"/>
                    </a:lnTo>
                    <a:lnTo>
                      <a:pt x="224" y="6413"/>
                    </a:lnTo>
                    <a:lnTo>
                      <a:pt x="252" y="6419"/>
                    </a:lnTo>
                    <a:lnTo>
                      <a:pt x="2118" y="6612"/>
                    </a:lnTo>
                    <a:lnTo>
                      <a:pt x="2143" y="6613"/>
                    </a:lnTo>
                    <a:lnTo>
                      <a:pt x="2168" y="6613"/>
                    </a:lnTo>
                    <a:lnTo>
                      <a:pt x="2194" y="6610"/>
                    </a:lnTo>
                    <a:lnTo>
                      <a:pt x="2220" y="6606"/>
                    </a:lnTo>
                    <a:lnTo>
                      <a:pt x="2245" y="6598"/>
                    </a:lnTo>
                    <a:lnTo>
                      <a:pt x="2270" y="6590"/>
                    </a:lnTo>
                    <a:lnTo>
                      <a:pt x="2294" y="6580"/>
                    </a:lnTo>
                    <a:lnTo>
                      <a:pt x="2316" y="6568"/>
                    </a:lnTo>
                    <a:lnTo>
                      <a:pt x="2338" y="6555"/>
                    </a:lnTo>
                    <a:lnTo>
                      <a:pt x="2357" y="6539"/>
                    </a:lnTo>
                    <a:lnTo>
                      <a:pt x="2374" y="6523"/>
                    </a:lnTo>
                    <a:lnTo>
                      <a:pt x="2390" y="6505"/>
                    </a:lnTo>
                    <a:lnTo>
                      <a:pt x="2402" y="6486"/>
                    </a:lnTo>
                    <a:lnTo>
                      <a:pt x="2412" y="6464"/>
                    </a:lnTo>
                    <a:lnTo>
                      <a:pt x="2420" y="6442"/>
                    </a:lnTo>
                    <a:lnTo>
                      <a:pt x="2423" y="6419"/>
                    </a:lnTo>
                    <a:lnTo>
                      <a:pt x="2835" y="949"/>
                    </a:lnTo>
                    <a:lnTo>
                      <a:pt x="2840" y="870"/>
                    </a:lnTo>
                    <a:lnTo>
                      <a:pt x="2844" y="781"/>
                    </a:lnTo>
                    <a:lnTo>
                      <a:pt x="2848" y="694"/>
                    </a:lnTo>
                    <a:lnTo>
                      <a:pt x="2854" y="615"/>
                    </a:lnTo>
                    <a:lnTo>
                      <a:pt x="2889" y="175"/>
                    </a:lnTo>
                    <a:lnTo>
                      <a:pt x="2887" y="144"/>
                    </a:lnTo>
                    <a:lnTo>
                      <a:pt x="2876" y="115"/>
                    </a:lnTo>
                    <a:lnTo>
                      <a:pt x="2858" y="89"/>
                    </a:lnTo>
                    <a:lnTo>
                      <a:pt x="2832" y="67"/>
                    </a:lnTo>
                    <a:lnTo>
                      <a:pt x="2802" y="46"/>
                    </a:lnTo>
                    <a:lnTo>
                      <a:pt x="2767" y="30"/>
                    </a:lnTo>
                    <a:lnTo>
                      <a:pt x="2730" y="17"/>
                    </a:lnTo>
                    <a:lnTo>
                      <a:pt x="2690" y="7"/>
                    </a:lnTo>
                    <a:lnTo>
                      <a:pt x="2650" y="1"/>
                    </a:lnTo>
                    <a:lnTo>
                      <a:pt x="2610" y="0"/>
                    </a:lnTo>
                    <a:lnTo>
                      <a:pt x="2572" y="4"/>
                    </a:lnTo>
                    <a:lnTo>
                      <a:pt x="2536" y="12"/>
                    </a:lnTo>
                    <a:lnTo>
                      <a:pt x="2504" y="24"/>
                    </a:lnTo>
                    <a:lnTo>
                      <a:pt x="2477" y="41"/>
                    </a:lnTo>
                    <a:lnTo>
                      <a:pt x="2455" y="63"/>
                    </a:lnTo>
                    <a:lnTo>
                      <a:pt x="2442" y="92"/>
                    </a:lnTo>
                    <a:lnTo>
                      <a:pt x="2257" y="656"/>
                    </a:lnTo>
                    <a:lnTo>
                      <a:pt x="2253" y="665"/>
                    </a:lnTo>
                    <a:lnTo>
                      <a:pt x="2248" y="675"/>
                    </a:lnTo>
                    <a:lnTo>
                      <a:pt x="2241" y="686"/>
                    </a:lnTo>
                    <a:lnTo>
                      <a:pt x="2233" y="695"/>
                    </a:lnTo>
                    <a:lnTo>
                      <a:pt x="2224" y="704"/>
                    </a:lnTo>
                    <a:lnTo>
                      <a:pt x="2215" y="710"/>
                    </a:lnTo>
                    <a:lnTo>
                      <a:pt x="2205" y="714"/>
                    </a:lnTo>
                    <a:lnTo>
                      <a:pt x="2196" y="715"/>
                    </a:lnTo>
                    <a:lnTo>
                      <a:pt x="945" y="545"/>
                    </a:lnTo>
                    <a:close/>
                  </a:path>
                </a:pathLst>
              </a:custGeom>
              <a:solidFill>
                <a:srgbClr val="7a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69280" y="4325760"/>
                <a:ext cx="196560" cy="352440"/>
              </a:xfrm>
              <a:custGeom>
                <a:avLst/>
                <a:gdLst/>
                <a:ahLst/>
                <a:rect l="l" t="t" r="r" b="b"/>
                <a:pathLst>
                  <a:path w="2836" h="6102">
                    <a:moveTo>
                      <a:pt x="741" y="4"/>
                    </a:moveTo>
                    <a:lnTo>
                      <a:pt x="706" y="0"/>
                    </a:lnTo>
                    <a:lnTo>
                      <a:pt x="672" y="0"/>
                    </a:lnTo>
                    <a:lnTo>
                      <a:pt x="640" y="3"/>
                    </a:lnTo>
                    <a:lnTo>
                      <a:pt x="612" y="10"/>
                    </a:lnTo>
                    <a:lnTo>
                      <a:pt x="585" y="19"/>
                    </a:lnTo>
                    <a:lnTo>
                      <a:pt x="561" y="32"/>
                    </a:lnTo>
                    <a:lnTo>
                      <a:pt x="538" y="48"/>
                    </a:lnTo>
                    <a:lnTo>
                      <a:pt x="519" y="66"/>
                    </a:lnTo>
                    <a:lnTo>
                      <a:pt x="501" y="87"/>
                    </a:lnTo>
                    <a:lnTo>
                      <a:pt x="485" y="111"/>
                    </a:lnTo>
                    <a:lnTo>
                      <a:pt x="472" y="136"/>
                    </a:lnTo>
                    <a:lnTo>
                      <a:pt x="459" y="164"/>
                    </a:lnTo>
                    <a:lnTo>
                      <a:pt x="450" y="195"/>
                    </a:lnTo>
                    <a:lnTo>
                      <a:pt x="443" y="227"/>
                    </a:lnTo>
                    <a:lnTo>
                      <a:pt x="436" y="261"/>
                    </a:lnTo>
                    <a:lnTo>
                      <a:pt x="432" y="298"/>
                    </a:lnTo>
                    <a:lnTo>
                      <a:pt x="1" y="5520"/>
                    </a:lnTo>
                    <a:lnTo>
                      <a:pt x="0" y="5549"/>
                    </a:lnTo>
                    <a:lnTo>
                      <a:pt x="2" y="5579"/>
                    </a:lnTo>
                    <a:lnTo>
                      <a:pt x="8" y="5610"/>
                    </a:lnTo>
                    <a:lnTo>
                      <a:pt x="14" y="5641"/>
                    </a:lnTo>
                    <a:lnTo>
                      <a:pt x="23" y="5673"/>
                    </a:lnTo>
                    <a:lnTo>
                      <a:pt x="36" y="5704"/>
                    </a:lnTo>
                    <a:lnTo>
                      <a:pt x="49" y="5735"/>
                    </a:lnTo>
                    <a:lnTo>
                      <a:pt x="65" y="5764"/>
                    </a:lnTo>
                    <a:lnTo>
                      <a:pt x="83" y="5792"/>
                    </a:lnTo>
                    <a:lnTo>
                      <a:pt x="102" y="5818"/>
                    </a:lnTo>
                    <a:lnTo>
                      <a:pt x="124" y="5841"/>
                    </a:lnTo>
                    <a:lnTo>
                      <a:pt x="147" y="5862"/>
                    </a:lnTo>
                    <a:lnTo>
                      <a:pt x="171" y="5879"/>
                    </a:lnTo>
                    <a:lnTo>
                      <a:pt x="197" y="5892"/>
                    </a:lnTo>
                    <a:lnTo>
                      <a:pt x="224" y="5902"/>
                    </a:lnTo>
                    <a:lnTo>
                      <a:pt x="252" y="5908"/>
                    </a:lnTo>
                    <a:lnTo>
                      <a:pt x="2118" y="6101"/>
                    </a:lnTo>
                    <a:lnTo>
                      <a:pt x="2143" y="6102"/>
                    </a:lnTo>
                    <a:lnTo>
                      <a:pt x="2168" y="6102"/>
                    </a:lnTo>
                    <a:lnTo>
                      <a:pt x="2194" y="6099"/>
                    </a:lnTo>
                    <a:lnTo>
                      <a:pt x="2219" y="6095"/>
                    </a:lnTo>
                    <a:lnTo>
                      <a:pt x="2245" y="6087"/>
                    </a:lnTo>
                    <a:lnTo>
                      <a:pt x="2269" y="6079"/>
                    </a:lnTo>
                    <a:lnTo>
                      <a:pt x="2293" y="6069"/>
                    </a:lnTo>
                    <a:lnTo>
                      <a:pt x="2316" y="6057"/>
                    </a:lnTo>
                    <a:lnTo>
                      <a:pt x="2337" y="6044"/>
                    </a:lnTo>
                    <a:lnTo>
                      <a:pt x="2356" y="6028"/>
                    </a:lnTo>
                    <a:lnTo>
                      <a:pt x="2374" y="6012"/>
                    </a:lnTo>
                    <a:lnTo>
                      <a:pt x="2390" y="5994"/>
                    </a:lnTo>
                    <a:lnTo>
                      <a:pt x="2402" y="5974"/>
                    </a:lnTo>
                    <a:lnTo>
                      <a:pt x="2412" y="5953"/>
                    </a:lnTo>
                    <a:lnTo>
                      <a:pt x="2420" y="5931"/>
                    </a:lnTo>
                    <a:lnTo>
                      <a:pt x="2423" y="5908"/>
                    </a:lnTo>
                    <a:lnTo>
                      <a:pt x="2835" y="525"/>
                    </a:lnTo>
                    <a:lnTo>
                      <a:pt x="2836" y="492"/>
                    </a:lnTo>
                    <a:lnTo>
                      <a:pt x="2835" y="461"/>
                    </a:lnTo>
                    <a:lnTo>
                      <a:pt x="2830" y="434"/>
                    </a:lnTo>
                    <a:lnTo>
                      <a:pt x="2822" y="410"/>
                    </a:lnTo>
                    <a:lnTo>
                      <a:pt x="2812" y="388"/>
                    </a:lnTo>
                    <a:lnTo>
                      <a:pt x="2799" y="370"/>
                    </a:lnTo>
                    <a:lnTo>
                      <a:pt x="2782" y="352"/>
                    </a:lnTo>
                    <a:lnTo>
                      <a:pt x="2761" y="337"/>
                    </a:lnTo>
                    <a:lnTo>
                      <a:pt x="2738" y="324"/>
                    </a:lnTo>
                    <a:lnTo>
                      <a:pt x="2711" y="313"/>
                    </a:lnTo>
                    <a:lnTo>
                      <a:pt x="2681" y="303"/>
                    </a:lnTo>
                    <a:lnTo>
                      <a:pt x="2648" y="294"/>
                    </a:lnTo>
                    <a:lnTo>
                      <a:pt x="2610" y="284"/>
                    </a:lnTo>
                    <a:lnTo>
                      <a:pt x="2570" y="277"/>
                    </a:lnTo>
                    <a:lnTo>
                      <a:pt x="2525" y="269"/>
                    </a:lnTo>
                    <a:lnTo>
                      <a:pt x="2477" y="262"/>
                    </a:lnTo>
                    <a:lnTo>
                      <a:pt x="741" y="4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70720" y="4327200"/>
                <a:ext cx="193320" cy="349920"/>
              </a:xfrm>
              <a:custGeom>
                <a:avLst/>
                <a:gdLst/>
                <a:ahLst/>
                <a:rect l="l" t="t" r="r" b="b"/>
                <a:pathLst>
                  <a:path w="2809" h="6075">
                    <a:moveTo>
                      <a:pt x="723" y="3"/>
                    </a:moveTo>
                    <a:lnTo>
                      <a:pt x="689" y="0"/>
                    </a:lnTo>
                    <a:lnTo>
                      <a:pt x="658" y="0"/>
                    </a:lnTo>
                    <a:lnTo>
                      <a:pt x="629" y="4"/>
                    </a:lnTo>
                    <a:lnTo>
                      <a:pt x="602" y="12"/>
                    </a:lnTo>
                    <a:lnTo>
                      <a:pt x="575" y="22"/>
                    </a:lnTo>
                    <a:lnTo>
                      <a:pt x="553" y="36"/>
                    </a:lnTo>
                    <a:lnTo>
                      <a:pt x="532" y="53"/>
                    </a:lnTo>
                    <a:lnTo>
                      <a:pt x="513" y="72"/>
                    </a:lnTo>
                    <a:lnTo>
                      <a:pt x="495" y="93"/>
                    </a:lnTo>
                    <a:lnTo>
                      <a:pt x="481" y="117"/>
                    </a:lnTo>
                    <a:lnTo>
                      <a:pt x="467" y="143"/>
                    </a:lnTo>
                    <a:lnTo>
                      <a:pt x="457" y="171"/>
                    </a:lnTo>
                    <a:lnTo>
                      <a:pt x="447" y="200"/>
                    </a:lnTo>
                    <a:lnTo>
                      <a:pt x="440" y="231"/>
                    </a:lnTo>
                    <a:lnTo>
                      <a:pt x="434" y="263"/>
                    </a:lnTo>
                    <a:lnTo>
                      <a:pt x="431" y="297"/>
                    </a:lnTo>
                    <a:lnTo>
                      <a:pt x="406" y="597"/>
                    </a:lnTo>
                    <a:lnTo>
                      <a:pt x="385" y="852"/>
                    </a:lnTo>
                    <a:lnTo>
                      <a:pt x="367" y="1074"/>
                    </a:lnTo>
                    <a:lnTo>
                      <a:pt x="351" y="1273"/>
                    </a:lnTo>
                    <a:lnTo>
                      <a:pt x="336" y="1457"/>
                    </a:lnTo>
                    <a:lnTo>
                      <a:pt x="321" y="1637"/>
                    </a:lnTo>
                    <a:lnTo>
                      <a:pt x="305" y="1826"/>
                    </a:lnTo>
                    <a:lnTo>
                      <a:pt x="288" y="2031"/>
                    </a:lnTo>
                    <a:lnTo>
                      <a:pt x="270" y="2262"/>
                    </a:lnTo>
                    <a:lnTo>
                      <a:pt x="247" y="2531"/>
                    </a:lnTo>
                    <a:lnTo>
                      <a:pt x="221" y="2848"/>
                    </a:lnTo>
                    <a:lnTo>
                      <a:pt x="190" y="3222"/>
                    </a:lnTo>
                    <a:lnTo>
                      <a:pt x="153" y="3664"/>
                    </a:lnTo>
                    <a:lnTo>
                      <a:pt x="110" y="4184"/>
                    </a:lnTo>
                    <a:lnTo>
                      <a:pt x="59" y="4792"/>
                    </a:lnTo>
                    <a:lnTo>
                      <a:pt x="1" y="5498"/>
                    </a:lnTo>
                    <a:lnTo>
                      <a:pt x="0" y="5527"/>
                    </a:lnTo>
                    <a:lnTo>
                      <a:pt x="2" y="5556"/>
                    </a:lnTo>
                    <a:lnTo>
                      <a:pt x="7" y="5587"/>
                    </a:lnTo>
                    <a:lnTo>
                      <a:pt x="15" y="5618"/>
                    </a:lnTo>
                    <a:lnTo>
                      <a:pt x="24" y="5650"/>
                    </a:lnTo>
                    <a:lnTo>
                      <a:pt x="35" y="5681"/>
                    </a:lnTo>
                    <a:lnTo>
                      <a:pt x="50" y="5712"/>
                    </a:lnTo>
                    <a:lnTo>
                      <a:pt x="66" y="5740"/>
                    </a:lnTo>
                    <a:lnTo>
                      <a:pt x="83" y="5767"/>
                    </a:lnTo>
                    <a:lnTo>
                      <a:pt x="103" y="5794"/>
                    </a:lnTo>
                    <a:lnTo>
                      <a:pt x="125" y="5817"/>
                    </a:lnTo>
                    <a:lnTo>
                      <a:pt x="148" y="5838"/>
                    </a:lnTo>
                    <a:lnTo>
                      <a:pt x="172" y="5855"/>
                    </a:lnTo>
                    <a:lnTo>
                      <a:pt x="198" y="5868"/>
                    </a:lnTo>
                    <a:lnTo>
                      <a:pt x="224" y="5878"/>
                    </a:lnTo>
                    <a:lnTo>
                      <a:pt x="252" y="5883"/>
                    </a:lnTo>
                    <a:lnTo>
                      <a:pt x="307" y="5889"/>
                    </a:lnTo>
                    <a:lnTo>
                      <a:pt x="358" y="5894"/>
                    </a:lnTo>
                    <a:lnTo>
                      <a:pt x="405" y="5899"/>
                    </a:lnTo>
                    <a:lnTo>
                      <a:pt x="449" y="5904"/>
                    </a:lnTo>
                    <a:lnTo>
                      <a:pt x="489" y="5908"/>
                    </a:lnTo>
                    <a:lnTo>
                      <a:pt x="528" y="5912"/>
                    </a:lnTo>
                    <a:lnTo>
                      <a:pt x="563" y="5915"/>
                    </a:lnTo>
                    <a:lnTo>
                      <a:pt x="597" y="5919"/>
                    </a:lnTo>
                    <a:lnTo>
                      <a:pt x="631" y="5922"/>
                    </a:lnTo>
                    <a:lnTo>
                      <a:pt x="663" y="5925"/>
                    </a:lnTo>
                    <a:lnTo>
                      <a:pt x="695" y="5928"/>
                    </a:lnTo>
                    <a:lnTo>
                      <a:pt x="727" y="5932"/>
                    </a:lnTo>
                    <a:lnTo>
                      <a:pt x="760" y="5935"/>
                    </a:lnTo>
                    <a:lnTo>
                      <a:pt x="794" y="5938"/>
                    </a:lnTo>
                    <a:lnTo>
                      <a:pt x="829" y="5942"/>
                    </a:lnTo>
                    <a:lnTo>
                      <a:pt x="867" y="5946"/>
                    </a:lnTo>
                    <a:lnTo>
                      <a:pt x="906" y="5950"/>
                    </a:lnTo>
                    <a:lnTo>
                      <a:pt x="949" y="5954"/>
                    </a:lnTo>
                    <a:lnTo>
                      <a:pt x="995" y="5960"/>
                    </a:lnTo>
                    <a:lnTo>
                      <a:pt x="1045" y="5965"/>
                    </a:lnTo>
                    <a:lnTo>
                      <a:pt x="1098" y="5970"/>
                    </a:lnTo>
                    <a:lnTo>
                      <a:pt x="1156" y="5976"/>
                    </a:lnTo>
                    <a:lnTo>
                      <a:pt x="1220" y="5983"/>
                    </a:lnTo>
                    <a:lnTo>
                      <a:pt x="1289" y="5990"/>
                    </a:lnTo>
                    <a:lnTo>
                      <a:pt x="1364" y="5998"/>
                    </a:lnTo>
                    <a:lnTo>
                      <a:pt x="1445" y="6006"/>
                    </a:lnTo>
                    <a:lnTo>
                      <a:pt x="1533" y="6015"/>
                    </a:lnTo>
                    <a:lnTo>
                      <a:pt x="1629" y="6026"/>
                    </a:lnTo>
                    <a:lnTo>
                      <a:pt x="1732" y="6037"/>
                    </a:lnTo>
                    <a:lnTo>
                      <a:pt x="1844" y="6048"/>
                    </a:lnTo>
                    <a:lnTo>
                      <a:pt x="1965" y="6061"/>
                    </a:lnTo>
                    <a:lnTo>
                      <a:pt x="2094" y="6074"/>
                    </a:lnTo>
                    <a:lnTo>
                      <a:pt x="2117" y="6075"/>
                    </a:lnTo>
                    <a:lnTo>
                      <a:pt x="2141" y="6074"/>
                    </a:lnTo>
                    <a:lnTo>
                      <a:pt x="2166" y="6071"/>
                    </a:lnTo>
                    <a:lnTo>
                      <a:pt x="2191" y="6066"/>
                    </a:lnTo>
                    <a:lnTo>
                      <a:pt x="2216" y="6059"/>
                    </a:lnTo>
                    <a:lnTo>
                      <a:pt x="2241" y="6050"/>
                    </a:lnTo>
                    <a:lnTo>
                      <a:pt x="2264" y="6040"/>
                    </a:lnTo>
                    <a:lnTo>
                      <a:pt x="2287" y="6028"/>
                    </a:lnTo>
                    <a:lnTo>
                      <a:pt x="2309" y="6013"/>
                    </a:lnTo>
                    <a:lnTo>
                      <a:pt x="2329" y="5998"/>
                    </a:lnTo>
                    <a:lnTo>
                      <a:pt x="2347" y="5982"/>
                    </a:lnTo>
                    <a:lnTo>
                      <a:pt x="2362" y="5964"/>
                    </a:lnTo>
                    <a:lnTo>
                      <a:pt x="2376" y="5945"/>
                    </a:lnTo>
                    <a:lnTo>
                      <a:pt x="2386" y="5925"/>
                    </a:lnTo>
                    <a:lnTo>
                      <a:pt x="2393" y="5904"/>
                    </a:lnTo>
                    <a:lnTo>
                      <a:pt x="2397" y="5881"/>
                    </a:lnTo>
                    <a:lnTo>
                      <a:pt x="2421" y="5572"/>
                    </a:lnTo>
                    <a:lnTo>
                      <a:pt x="2440" y="5309"/>
                    </a:lnTo>
                    <a:lnTo>
                      <a:pt x="2458" y="5079"/>
                    </a:lnTo>
                    <a:lnTo>
                      <a:pt x="2474" y="4875"/>
                    </a:lnTo>
                    <a:lnTo>
                      <a:pt x="2488" y="4685"/>
                    </a:lnTo>
                    <a:lnTo>
                      <a:pt x="2503" y="4498"/>
                    </a:lnTo>
                    <a:lnTo>
                      <a:pt x="2517" y="4305"/>
                    </a:lnTo>
                    <a:lnTo>
                      <a:pt x="2534" y="4093"/>
                    </a:lnTo>
                    <a:lnTo>
                      <a:pt x="2552" y="3854"/>
                    </a:lnTo>
                    <a:lnTo>
                      <a:pt x="2574" y="3577"/>
                    </a:lnTo>
                    <a:lnTo>
                      <a:pt x="2598" y="3251"/>
                    </a:lnTo>
                    <a:lnTo>
                      <a:pt x="2628" y="2864"/>
                    </a:lnTo>
                    <a:lnTo>
                      <a:pt x="2663" y="2409"/>
                    </a:lnTo>
                    <a:lnTo>
                      <a:pt x="2704" y="1875"/>
                    </a:lnTo>
                    <a:lnTo>
                      <a:pt x="2751" y="1249"/>
                    </a:lnTo>
                    <a:lnTo>
                      <a:pt x="2808" y="521"/>
                    </a:lnTo>
                    <a:lnTo>
                      <a:pt x="2809" y="492"/>
                    </a:lnTo>
                    <a:lnTo>
                      <a:pt x="2807" y="464"/>
                    </a:lnTo>
                    <a:lnTo>
                      <a:pt x="2800" y="440"/>
                    </a:lnTo>
                    <a:lnTo>
                      <a:pt x="2792" y="417"/>
                    </a:lnTo>
                    <a:lnTo>
                      <a:pt x="2781" y="396"/>
                    </a:lnTo>
                    <a:lnTo>
                      <a:pt x="2766" y="377"/>
                    </a:lnTo>
                    <a:lnTo>
                      <a:pt x="2748" y="360"/>
                    </a:lnTo>
                    <a:lnTo>
                      <a:pt x="2728" y="343"/>
                    </a:lnTo>
                    <a:lnTo>
                      <a:pt x="2704" y="329"/>
                    </a:lnTo>
                    <a:lnTo>
                      <a:pt x="2678" y="316"/>
                    </a:lnTo>
                    <a:lnTo>
                      <a:pt x="2647" y="304"/>
                    </a:lnTo>
                    <a:lnTo>
                      <a:pt x="2614" y="293"/>
                    </a:lnTo>
                    <a:lnTo>
                      <a:pt x="2578" y="284"/>
                    </a:lnTo>
                    <a:lnTo>
                      <a:pt x="2538" y="274"/>
                    </a:lnTo>
                    <a:lnTo>
                      <a:pt x="2496" y="266"/>
                    </a:lnTo>
                    <a:lnTo>
                      <a:pt x="2451" y="259"/>
                    </a:lnTo>
                    <a:lnTo>
                      <a:pt x="2399" y="251"/>
                    </a:lnTo>
                    <a:lnTo>
                      <a:pt x="2351" y="244"/>
                    </a:lnTo>
                    <a:lnTo>
                      <a:pt x="2307" y="238"/>
                    </a:lnTo>
                    <a:lnTo>
                      <a:pt x="2267" y="232"/>
                    </a:lnTo>
                    <a:lnTo>
                      <a:pt x="2228" y="227"/>
                    </a:lnTo>
                    <a:lnTo>
                      <a:pt x="2193" y="220"/>
                    </a:lnTo>
                    <a:lnTo>
                      <a:pt x="2158" y="215"/>
                    </a:lnTo>
                    <a:lnTo>
                      <a:pt x="2126" y="211"/>
                    </a:lnTo>
                    <a:lnTo>
                      <a:pt x="2095" y="206"/>
                    </a:lnTo>
                    <a:lnTo>
                      <a:pt x="2065" y="202"/>
                    </a:lnTo>
                    <a:lnTo>
                      <a:pt x="2034" y="197"/>
                    </a:lnTo>
                    <a:lnTo>
                      <a:pt x="2004" y="193"/>
                    </a:lnTo>
                    <a:lnTo>
                      <a:pt x="1974" y="189"/>
                    </a:lnTo>
                    <a:lnTo>
                      <a:pt x="1942" y="184"/>
                    </a:lnTo>
                    <a:lnTo>
                      <a:pt x="1909" y="179"/>
                    </a:lnTo>
                    <a:lnTo>
                      <a:pt x="1874" y="174"/>
                    </a:lnTo>
                    <a:lnTo>
                      <a:pt x="1837" y="169"/>
                    </a:lnTo>
                    <a:lnTo>
                      <a:pt x="1797" y="163"/>
                    </a:lnTo>
                    <a:lnTo>
                      <a:pt x="1753" y="155"/>
                    </a:lnTo>
                    <a:lnTo>
                      <a:pt x="1708" y="149"/>
                    </a:lnTo>
                    <a:lnTo>
                      <a:pt x="1657" y="141"/>
                    </a:lnTo>
                    <a:lnTo>
                      <a:pt x="1603" y="133"/>
                    </a:lnTo>
                    <a:lnTo>
                      <a:pt x="1542" y="125"/>
                    </a:lnTo>
                    <a:lnTo>
                      <a:pt x="1479" y="115"/>
                    </a:lnTo>
                    <a:lnTo>
                      <a:pt x="1409" y="105"/>
                    </a:lnTo>
                    <a:lnTo>
                      <a:pt x="1332" y="93"/>
                    </a:lnTo>
                    <a:lnTo>
                      <a:pt x="1250" y="81"/>
                    </a:lnTo>
                    <a:lnTo>
                      <a:pt x="1159" y="68"/>
                    </a:lnTo>
                    <a:lnTo>
                      <a:pt x="1063" y="53"/>
                    </a:lnTo>
                    <a:lnTo>
                      <a:pt x="957" y="38"/>
                    </a:lnTo>
                    <a:lnTo>
                      <a:pt x="845" y="21"/>
                    </a:lnTo>
                    <a:lnTo>
                      <a:pt x="723" y="3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470720" y="4327200"/>
                <a:ext cx="193320" cy="348480"/>
              </a:xfrm>
              <a:custGeom>
                <a:avLst/>
                <a:gdLst/>
                <a:ahLst/>
                <a:rect l="l" t="t" r="r" b="b"/>
                <a:pathLst>
                  <a:path w="2782" h="6048">
                    <a:moveTo>
                      <a:pt x="705" y="3"/>
                    </a:moveTo>
                    <a:lnTo>
                      <a:pt x="672" y="0"/>
                    </a:lnTo>
                    <a:lnTo>
                      <a:pt x="641" y="0"/>
                    </a:lnTo>
                    <a:lnTo>
                      <a:pt x="613" y="4"/>
                    </a:lnTo>
                    <a:lnTo>
                      <a:pt x="587" y="12"/>
                    </a:lnTo>
                    <a:lnTo>
                      <a:pt x="563" y="22"/>
                    </a:lnTo>
                    <a:lnTo>
                      <a:pt x="541" y="37"/>
                    </a:lnTo>
                    <a:lnTo>
                      <a:pt x="521" y="53"/>
                    </a:lnTo>
                    <a:lnTo>
                      <a:pt x="503" y="72"/>
                    </a:lnTo>
                    <a:lnTo>
                      <a:pt x="488" y="94"/>
                    </a:lnTo>
                    <a:lnTo>
                      <a:pt x="474" y="117"/>
                    </a:lnTo>
                    <a:lnTo>
                      <a:pt x="462" y="143"/>
                    </a:lnTo>
                    <a:lnTo>
                      <a:pt x="452" y="171"/>
                    </a:lnTo>
                    <a:lnTo>
                      <a:pt x="444" y="200"/>
                    </a:lnTo>
                    <a:lnTo>
                      <a:pt x="437" y="231"/>
                    </a:lnTo>
                    <a:lnTo>
                      <a:pt x="432" y="262"/>
                    </a:lnTo>
                    <a:lnTo>
                      <a:pt x="428" y="296"/>
                    </a:lnTo>
                    <a:lnTo>
                      <a:pt x="404" y="595"/>
                    </a:lnTo>
                    <a:lnTo>
                      <a:pt x="383" y="849"/>
                    </a:lnTo>
                    <a:lnTo>
                      <a:pt x="365" y="1070"/>
                    </a:lnTo>
                    <a:lnTo>
                      <a:pt x="349" y="1268"/>
                    </a:lnTo>
                    <a:lnTo>
                      <a:pt x="334" y="1451"/>
                    </a:lnTo>
                    <a:lnTo>
                      <a:pt x="319" y="1632"/>
                    </a:lnTo>
                    <a:lnTo>
                      <a:pt x="304" y="1819"/>
                    </a:lnTo>
                    <a:lnTo>
                      <a:pt x="287" y="2023"/>
                    </a:lnTo>
                    <a:lnTo>
                      <a:pt x="268" y="2253"/>
                    </a:lnTo>
                    <a:lnTo>
                      <a:pt x="245" y="2521"/>
                    </a:lnTo>
                    <a:lnTo>
                      <a:pt x="219" y="2836"/>
                    </a:lnTo>
                    <a:lnTo>
                      <a:pt x="189" y="3209"/>
                    </a:lnTo>
                    <a:lnTo>
                      <a:pt x="152" y="3649"/>
                    </a:lnTo>
                    <a:lnTo>
                      <a:pt x="109" y="4167"/>
                    </a:lnTo>
                    <a:lnTo>
                      <a:pt x="59" y="4772"/>
                    </a:lnTo>
                    <a:lnTo>
                      <a:pt x="1" y="5476"/>
                    </a:lnTo>
                    <a:lnTo>
                      <a:pt x="0" y="5504"/>
                    </a:lnTo>
                    <a:lnTo>
                      <a:pt x="3" y="5534"/>
                    </a:lnTo>
                    <a:lnTo>
                      <a:pt x="7" y="5564"/>
                    </a:lnTo>
                    <a:lnTo>
                      <a:pt x="14" y="5595"/>
                    </a:lnTo>
                    <a:lnTo>
                      <a:pt x="24" y="5626"/>
                    </a:lnTo>
                    <a:lnTo>
                      <a:pt x="36" y="5658"/>
                    </a:lnTo>
                    <a:lnTo>
                      <a:pt x="50" y="5688"/>
                    </a:lnTo>
                    <a:lnTo>
                      <a:pt x="66" y="5717"/>
                    </a:lnTo>
                    <a:lnTo>
                      <a:pt x="84" y="5745"/>
                    </a:lnTo>
                    <a:lnTo>
                      <a:pt x="104" y="5771"/>
                    </a:lnTo>
                    <a:lnTo>
                      <a:pt x="125" y="5794"/>
                    </a:lnTo>
                    <a:lnTo>
                      <a:pt x="148" y="5814"/>
                    </a:lnTo>
                    <a:lnTo>
                      <a:pt x="171" y="5832"/>
                    </a:lnTo>
                    <a:lnTo>
                      <a:pt x="196" y="5846"/>
                    </a:lnTo>
                    <a:lnTo>
                      <a:pt x="223" y="5855"/>
                    </a:lnTo>
                    <a:lnTo>
                      <a:pt x="251" y="5860"/>
                    </a:lnTo>
                    <a:lnTo>
                      <a:pt x="305" y="5865"/>
                    </a:lnTo>
                    <a:lnTo>
                      <a:pt x="356" y="5871"/>
                    </a:lnTo>
                    <a:lnTo>
                      <a:pt x="401" y="5875"/>
                    </a:lnTo>
                    <a:lnTo>
                      <a:pt x="445" y="5880"/>
                    </a:lnTo>
                    <a:lnTo>
                      <a:pt x="485" y="5884"/>
                    </a:lnTo>
                    <a:lnTo>
                      <a:pt x="522" y="5888"/>
                    </a:lnTo>
                    <a:lnTo>
                      <a:pt x="559" y="5892"/>
                    </a:lnTo>
                    <a:lnTo>
                      <a:pt x="592" y="5895"/>
                    </a:lnTo>
                    <a:lnTo>
                      <a:pt x="625" y="5899"/>
                    </a:lnTo>
                    <a:lnTo>
                      <a:pt x="656" y="5902"/>
                    </a:lnTo>
                    <a:lnTo>
                      <a:pt x="689" y="5905"/>
                    </a:lnTo>
                    <a:lnTo>
                      <a:pt x="720" y="5908"/>
                    </a:lnTo>
                    <a:lnTo>
                      <a:pt x="752" y="5911"/>
                    </a:lnTo>
                    <a:lnTo>
                      <a:pt x="785" y="5915"/>
                    </a:lnTo>
                    <a:lnTo>
                      <a:pt x="821" y="5918"/>
                    </a:lnTo>
                    <a:lnTo>
                      <a:pt x="857" y="5922"/>
                    </a:lnTo>
                    <a:lnTo>
                      <a:pt x="897" y="5926"/>
                    </a:lnTo>
                    <a:lnTo>
                      <a:pt x="938" y="5930"/>
                    </a:lnTo>
                    <a:lnTo>
                      <a:pt x="984" y="5935"/>
                    </a:lnTo>
                    <a:lnTo>
                      <a:pt x="1033" y="5940"/>
                    </a:lnTo>
                    <a:lnTo>
                      <a:pt x="1086" y="5945"/>
                    </a:lnTo>
                    <a:lnTo>
                      <a:pt x="1143" y="5952"/>
                    </a:lnTo>
                    <a:lnTo>
                      <a:pt x="1206" y="5958"/>
                    </a:lnTo>
                    <a:lnTo>
                      <a:pt x="1275" y="5965"/>
                    </a:lnTo>
                    <a:lnTo>
                      <a:pt x="1348" y="5973"/>
                    </a:lnTo>
                    <a:lnTo>
                      <a:pt x="1429" y="5981"/>
                    </a:lnTo>
                    <a:lnTo>
                      <a:pt x="1515" y="5990"/>
                    </a:lnTo>
                    <a:lnTo>
                      <a:pt x="1610" y="5999"/>
                    </a:lnTo>
                    <a:lnTo>
                      <a:pt x="1712" y="6011"/>
                    </a:lnTo>
                    <a:lnTo>
                      <a:pt x="1822" y="6022"/>
                    </a:lnTo>
                    <a:lnTo>
                      <a:pt x="1941" y="6034"/>
                    </a:lnTo>
                    <a:lnTo>
                      <a:pt x="2069" y="6047"/>
                    </a:lnTo>
                    <a:lnTo>
                      <a:pt x="2091" y="6048"/>
                    </a:lnTo>
                    <a:lnTo>
                      <a:pt x="2115" y="6047"/>
                    </a:lnTo>
                    <a:lnTo>
                      <a:pt x="2140" y="6044"/>
                    </a:lnTo>
                    <a:lnTo>
                      <a:pt x="2165" y="6039"/>
                    </a:lnTo>
                    <a:lnTo>
                      <a:pt x="2190" y="6033"/>
                    </a:lnTo>
                    <a:lnTo>
                      <a:pt x="2215" y="6024"/>
                    </a:lnTo>
                    <a:lnTo>
                      <a:pt x="2239" y="6013"/>
                    </a:lnTo>
                    <a:lnTo>
                      <a:pt x="2262" y="6000"/>
                    </a:lnTo>
                    <a:lnTo>
                      <a:pt x="2283" y="5987"/>
                    </a:lnTo>
                    <a:lnTo>
                      <a:pt x="2304" y="5972"/>
                    </a:lnTo>
                    <a:lnTo>
                      <a:pt x="2321" y="5956"/>
                    </a:lnTo>
                    <a:lnTo>
                      <a:pt x="2337" y="5937"/>
                    </a:lnTo>
                    <a:lnTo>
                      <a:pt x="2351" y="5919"/>
                    </a:lnTo>
                    <a:lnTo>
                      <a:pt x="2361" y="5899"/>
                    </a:lnTo>
                    <a:lnTo>
                      <a:pt x="2368" y="5877"/>
                    </a:lnTo>
                    <a:lnTo>
                      <a:pt x="2371" y="5856"/>
                    </a:lnTo>
                    <a:lnTo>
                      <a:pt x="2395" y="5548"/>
                    </a:lnTo>
                    <a:lnTo>
                      <a:pt x="2415" y="5286"/>
                    </a:lnTo>
                    <a:lnTo>
                      <a:pt x="2433" y="5058"/>
                    </a:lnTo>
                    <a:lnTo>
                      <a:pt x="2448" y="4854"/>
                    </a:lnTo>
                    <a:lnTo>
                      <a:pt x="2463" y="4665"/>
                    </a:lnTo>
                    <a:lnTo>
                      <a:pt x="2476" y="4479"/>
                    </a:lnTo>
                    <a:lnTo>
                      <a:pt x="2491" y="4286"/>
                    </a:lnTo>
                    <a:lnTo>
                      <a:pt x="2508" y="4075"/>
                    </a:lnTo>
                    <a:lnTo>
                      <a:pt x="2526" y="3837"/>
                    </a:lnTo>
                    <a:lnTo>
                      <a:pt x="2547" y="3561"/>
                    </a:lnTo>
                    <a:lnTo>
                      <a:pt x="2572" y="3236"/>
                    </a:lnTo>
                    <a:lnTo>
                      <a:pt x="2601" y="2851"/>
                    </a:lnTo>
                    <a:lnTo>
                      <a:pt x="2637" y="2398"/>
                    </a:lnTo>
                    <a:lnTo>
                      <a:pt x="2677" y="1865"/>
                    </a:lnTo>
                    <a:lnTo>
                      <a:pt x="2725" y="1242"/>
                    </a:lnTo>
                    <a:lnTo>
                      <a:pt x="2781" y="517"/>
                    </a:lnTo>
                    <a:lnTo>
                      <a:pt x="2782" y="488"/>
                    </a:lnTo>
                    <a:lnTo>
                      <a:pt x="2779" y="462"/>
                    </a:lnTo>
                    <a:lnTo>
                      <a:pt x="2774" y="437"/>
                    </a:lnTo>
                    <a:lnTo>
                      <a:pt x="2766" y="414"/>
                    </a:lnTo>
                    <a:lnTo>
                      <a:pt x="2754" y="393"/>
                    </a:lnTo>
                    <a:lnTo>
                      <a:pt x="2740" y="374"/>
                    </a:lnTo>
                    <a:lnTo>
                      <a:pt x="2722" y="356"/>
                    </a:lnTo>
                    <a:lnTo>
                      <a:pt x="2701" y="341"/>
                    </a:lnTo>
                    <a:lnTo>
                      <a:pt x="2677" y="325"/>
                    </a:lnTo>
                    <a:lnTo>
                      <a:pt x="2650" y="312"/>
                    </a:lnTo>
                    <a:lnTo>
                      <a:pt x="2620" y="301"/>
                    </a:lnTo>
                    <a:lnTo>
                      <a:pt x="2587" y="290"/>
                    </a:lnTo>
                    <a:lnTo>
                      <a:pt x="2551" y="281"/>
                    </a:lnTo>
                    <a:lnTo>
                      <a:pt x="2512" y="271"/>
                    </a:lnTo>
                    <a:lnTo>
                      <a:pt x="2470" y="263"/>
                    </a:lnTo>
                    <a:lnTo>
                      <a:pt x="2424" y="256"/>
                    </a:lnTo>
                    <a:lnTo>
                      <a:pt x="2373" y="249"/>
                    </a:lnTo>
                    <a:lnTo>
                      <a:pt x="2326" y="242"/>
                    </a:lnTo>
                    <a:lnTo>
                      <a:pt x="2282" y="235"/>
                    </a:lnTo>
                    <a:lnTo>
                      <a:pt x="2241" y="229"/>
                    </a:lnTo>
                    <a:lnTo>
                      <a:pt x="2203" y="224"/>
                    </a:lnTo>
                    <a:lnTo>
                      <a:pt x="2167" y="219"/>
                    </a:lnTo>
                    <a:lnTo>
                      <a:pt x="2134" y="214"/>
                    </a:lnTo>
                    <a:lnTo>
                      <a:pt x="2103" y="208"/>
                    </a:lnTo>
                    <a:lnTo>
                      <a:pt x="2072" y="204"/>
                    </a:lnTo>
                    <a:lnTo>
                      <a:pt x="2041" y="200"/>
                    </a:lnTo>
                    <a:lnTo>
                      <a:pt x="2011" y="195"/>
                    </a:lnTo>
                    <a:lnTo>
                      <a:pt x="1981" y="191"/>
                    </a:lnTo>
                    <a:lnTo>
                      <a:pt x="1951" y="186"/>
                    </a:lnTo>
                    <a:lnTo>
                      <a:pt x="1920" y="182"/>
                    </a:lnTo>
                    <a:lnTo>
                      <a:pt x="1886" y="177"/>
                    </a:lnTo>
                    <a:lnTo>
                      <a:pt x="1852" y="172"/>
                    </a:lnTo>
                    <a:lnTo>
                      <a:pt x="1815" y="167"/>
                    </a:lnTo>
                    <a:lnTo>
                      <a:pt x="1775" y="161"/>
                    </a:lnTo>
                    <a:lnTo>
                      <a:pt x="1732" y="155"/>
                    </a:lnTo>
                    <a:lnTo>
                      <a:pt x="1686" y="147"/>
                    </a:lnTo>
                    <a:lnTo>
                      <a:pt x="1636" y="140"/>
                    </a:lnTo>
                    <a:lnTo>
                      <a:pt x="1580" y="132"/>
                    </a:lnTo>
                    <a:lnTo>
                      <a:pt x="1521" y="123"/>
                    </a:lnTo>
                    <a:lnTo>
                      <a:pt x="1458" y="114"/>
                    </a:lnTo>
                    <a:lnTo>
                      <a:pt x="1388" y="104"/>
                    </a:lnTo>
                    <a:lnTo>
                      <a:pt x="1312" y="93"/>
                    </a:lnTo>
                    <a:lnTo>
                      <a:pt x="1230" y="80"/>
                    </a:lnTo>
                    <a:lnTo>
                      <a:pt x="1140" y="67"/>
                    </a:lnTo>
                    <a:lnTo>
                      <a:pt x="1044" y="53"/>
                    </a:lnTo>
                    <a:lnTo>
                      <a:pt x="938" y="38"/>
                    </a:lnTo>
                    <a:lnTo>
                      <a:pt x="826" y="21"/>
                    </a:lnTo>
                    <a:lnTo>
                      <a:pt x="705" y="3"/>
                    </a:lnTo>
                    <a:close/>
                  </a:path>
                </a:pathLst>
              </a:custGeom>
              <a:solidFill>
                <a:srgbClr val="4a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472160" y="4328640"/>
                <a:ext cx="191880" cy="347040"/>
              </a:xfrm>
              <a:custGeom>
                <a:avLst/>
                <a:gdLst/>
                <a:ahLst/>
                <a:rect l="l" t="t" r="r" b="b"/>
                <a:pathLst>
                  <a:path w="2755" h="6024">
                    <a:moveTo>
                      <a:pt x="688" y="3"/>
                    </a:moveTo>
                    <a:lnTo>
                      <a:pt x="656" y="0"/>
                    </a:lnTo>
                    <a:lnTo>
                      <a:pt x="626" y="1"/>
                    </a:lnTo>
                    <a:lnTo>
                      <a:pt x="598" y="5"/>
                    </a:lnTo>
                    <a:lnTo>
                      <a:pt x="573" y="13"/>
                    </a:lnTo>
                    <a:lnTo>
                      <a:pt x="551" y="25"/>
                    </a:lnTo>
                    <a:lnTo>
                      <a:pt x="530" y="38"/>
                    </a:lnTo>
                    <a:lnTo>
                      <a:pt x="511" y="55"/>
                    </a:lnTo>
                    <a:lnTo>
                      <a:pt x="496" y="74"/>
                    </a:lnTo>
                    <a:lnTo>
                      <a:pt x="481" y="96"/>
                    </a:lnTo>
                    <a:lnTo>
                      <a:pt x="469" y="119"/>
                    </a:lnTo>
                    <a:lnTo>
                      <a:pt x="457" y="146"/>
                    </a:lnTo>
                    <a:lnTo>
                      <a:pt x="449" y="173"/>
                    </a:lnTo>
                    <a:lnTo>
                      <a:pt x="441" y="201"/>
                    </a:lnTo>
                    <a:lnTo>
                      <a:pt x="435" y="232"/>
                    </a:lnTo>
                    <a:lnTo>
                      <a:pt x="430" y="263"/>
                    </a:lnTo>
                    <a:lnTo>
                      <a:pt x="427" y="296"/>
                    </a:lnTo>
                    <a:lnTo>
                      <a:pt x="403" y="594"/>
                    </a:lnTo>
                    <a:lnTo>
                      <a:pt x="382" y="847"/>
                    </a:lnTo>
                    <a:lnTo>
                      <a:pt x="365" y="1068"/>
                    </a:lnTo>
                    <a:lnTo>
                      <a:pt x="348" y="1264"/>
                    </a:lnTo>
                    <a:lnTo>
                      <a:pt x="333" y="1447"/>
                    </a:lnTo>
                    <a:lnTo>
                      <a:pt x="319" y="1627"/>
                    </a:lnTo>
                    <a:lnTo>
                      <a:pt x="303" y="1814"/>
                    </a:lnTo>
                    <a:lnTo>
                      <a:pt x="287" y="2016"/>
                    </a:lnTo>
                    <a:lnTo>
                      <a:pt x="268" y="2246"/>
                    </a:lnTo>
                    <a:lnTo>
                      <a:pt x="246" y="2513"/>
                    </a:lnTo>
                    <a:lnTo>
                      <a:pt x="220" y="2827"/>
                    </a:lnTo>
                    <a:lnTo>
                      <a:pt x="189" y="3198"/>
                    </a:lnTo>
                    <a:lnTo>
                      <a:pt x="152" y="3636"/>
                    </a:lnTo>
                    <a:lnTo>
                      <a:pt x="110" y="4152"/>
                    </a:lnTo>
                    <a:lnTo>
                      <a:pt x="60" y="4755"/>
                    </a:lnTo>
                    <a:lnTo>
                      <a:pt x="2" y="5456"/>
                    </a:lnTo>
                    <a:lnTo>
                      <a:pt x="0" y="5483"/>
                    </a:lnTo>
                    <a:lnTo>
                      <a:pt x="4" y="5513"/>
                    </a:lnTo>
                    <a:lnTo>
                      <a:pt x="8" y="5542"/>
                    </a:lnTo>
                    <a:lnTo>
                      <a:pt x="15" y="5574"/>
                    </a:lnTo>
                    <a:lnTo>
                      <a:pt x="25" y="5604"/>
                    </a:lnTo>
                    <a:lnTo>
                      <a:pt x="37" y="5636"/>
                    </a:lnTo>
                    <a:lnTo>
                      <a:pt x="51" y="5666"/>
                    </a:lnTo>
                    <a:lnTo>
                      <a:pt x="67" y="5695"/>
                    </a:lnTo>
                    <a:lnTo>
                      <a:pt x="85" y="5723"/>
                    </a:lnTo>
                    <a:lnTo>
                      <a:pt x="105" y="5748"/>
                    </a:lnTo>
                    <a:lnTo>
                      <a:pt x="125" y="5772"/>
                    </a:lnTo>
                    <a:lnTo>
                      <a:pt x="148" y="5792"/>
                    </a:lnTo>
                    <a:lnTo>
                      <a:pt x="172" y="5810"/>
                    </a:lnTo>
                    <a:lnTo>
                      <a:pt x="197" y="5824"/>
                    </a:lnTo>
                    <a:lnTo>
                      <a:pt x="223" y="5834"/>
                    </a:lnTo>
                    <a:lnTo>
                      <a:pt x="250" y="5839"/>
                    </a:lnTo>
                    <a:lnTo>
                      <a:pt x="304" y="5844"/>
                    </a:lnTo>
                    <a:lnTo>
                      <a:pt x="354" y="5849"/>
                    </a:lnTo>
                    <a:lnTo>
                      <a:pt x="400" y="5854"/>
                    </a:lnTo>
                    <a:lnTo>
                      <a:pt x="443" y="5858"/>
                    </a:lnTo>
                    <a:lnTo>
                      <a:pt x="482" y="5862"/>
                    </a:lnTo>
                    <a:lnTo>
                      <a:pt x="519" y="5865"/>
                    </a:lnTo>
                    <a:lnTo>
                      <a:pt x="554" y="5869"/>
                    </a:lnTo>
                    <a:lnTo>
                      <a:pt x="587" y="5872"/>
                    </a:lnTo>
                    <a:lnTo>
                      <a:pt x="620" y="5875"/>
                    </a:lnTo>
                    <a:lnTo>
                      <a:pt x="651" y="5879"/>
                    </a:lnTo>
                    <a:lnTo>
                      <a:pt x="682" y="5882"/>
                    </a:lnTo>
                    <a:lnTo>
                      <a:pt x="714" y="5885"/>
                    </a:lnTo>
                    <a:lnTo>
                      <a:pt x="746" y="5889"/>
                    </a:lnTo>
                    <a:lnTo>
                      <a:pt x="779" y="5892"/>
                    </a:lnTo>
                    <a:lnTo>
                      <a:pt x="813" y="5895"/>
                    </a:lnTo>
                    <a:lnTo>
                      <a:pt x="850" y="5899"/>
                    </a:lnTo>
                    <a:lnTo>
                      <a:pt x="888" y="5903"/>
                    </a:lnTo>
                    <a:lnTo>
                      <a:pt x="930" y="5907"/>
                    </a:lnTo>
                    <a:lnTo>
                      <a:pt x="975" y="5912"/>
                    </a:lnTo>
                    <a:lnTo>
                      <a:pt x="1022" y="5916"/>
                    </a:lnTo>
                    <a:lnTo>
                      <a:pt x="1075" y="5922"/>
                    </a:lnTo>
                    <a:lnTo>
                      <a:pt x="1132" y="5928"/>
                    </a:lnTo>
                    <a:lnTo>
                      <a:pt x="1194" y="5934"/>
                    </a:lnTo>
                    <a:lnTo>
                      <a:pt x="1262" y="5942"/>
                    </a:lnTo>
                    <a:lnTo>
                      <a:pt x="1335" y="5949"/>
                    </a:lnTo>
                    <a:lnTo>
                      <a:pt x="1414" y="5957"/>
                    </a:lnTo>
                    <a:lnTo>
                      <a:pt x="1499" y="5966"/>
                    </a:lnTo>
                    <a:lnTo>
                      <a:pt x="1592" y="5976"/>
                    </a:lnTo>
                    <a:lnTo>
                      <a:pt x="1693" y="5986"/>
                    </a:lnTo>
                    <a:lnTo>
                      <a:pt x="1802" y="5997"/>
                    </a:lnTo>
                    <a:lnTo>
                      <a:pt x="1919" y="6010"/>
                    </a:lnTo>
                    <a:lnTo>
                      <a:pt x="2045" y="6023"/>
                    </a:lnTo>
                    <a:lnTo>
                      <a:pt x="2068" y="6024"/>
                    </a:lnTo>
                    <a:lnTo>
                      <a:pt x="2092" y="6023"/>
                    </a:lnTo>
                    <a:lnTo>
                      <a:pt x="2116" y="6020"/>
                    </a:lnTo>
                    <a:lnTo>
                      <a:pt x="2141" y="6014"/>
                    </a:lnTo>
                    <a:lnTo>
                      <a:pt x="2166" y="6007"/>
                    </a:lnTo>
                    <a:lnTo>
                      <a:pt x="2190" y="5997"/>
                    </a:lnTo>
                    <a:lnTo>
                      <a:pt x="2214" y="5987"/>
                    </a:lnTo>
                    <a:lnTo>
                      <a:pt x="2237" y="5975"/>
                    </a:lnTo>
                    <a:lnTo>
                      <a:pt x="2259" y="5961"/>
                    </a:lnTo>
                    <a:lnTo>
                      <a:pt x="2278" y="5946"/>
                    </a:lnTo>
                    <a:lnTo>
                      <a:pt x="2297" y="5929"/>
                    </a:lnTo>
                    <a:lnTo>
                      <a:pt x="2313" y="5912"/>
                    </a:lnTo>
                    <a:lnTo>
                      <a:pt x="2326" y="5894"/>
                    </a:lnTo>
                    <a:lnTo>
                      <a:pt x="2337" y="5873"/>
                    </a:lnTo>
                    <a:lnTo>
                      <a:pt x="2344" y="5853"/>
                    </a:lnTo>
                    <a:lnTo>
                      <a:pt x="2347" y="5832"/>
                    </a:lnTo>
                    <a:lnTo>
                      <a:pt x="2370" y="5525"/>
                    </a:lnTo>
                    <a:lnTo>
                      <a:pt x="2391" y="5264"/>
                    </a:lnTo>
                    <a:lnTo>
                      <a:pt x="2407" y="5037"/>
                    </a:lnTo>
                    <a:lnTo>
                      <a:pt x="2423" y="4834"/>
                    </a:lnTo>
                    <a:lnTo>
                      <a:pt x="2438" y="4645"/>
                    </a:lnTo>
                    <a:lnTo>
                      <a:pt x="2452" y="4460"/>
                    </a:lnTo>
                    <a:lnTo>
                      <a:pt x="2467" y="4267"/>
                    </a:lnTo>
                    <a:lnTo>
                      <a:pt x="2482" y="4058"/>
                    </a:lnTo>
                    <a:lnTo>
                      <a:pt x="2501" y="3820"/>
                    </a:lnTo>
                    <a:lnTo>
                      <a:pt x="2522" y="3546"/>
                    </a:lnTo>
                    <a:lnTo>
                      <a:pt x="2547" y="3221"/>
                    </a:lnTo>
                    <a:lnTo>
                      <a:pt x="2576" y="2839"/>
                    </a:lnTo>
                    <a:lnTo>
                      <a:pt x="2610" y="2388"/>
                    </a:lnTo>
                    <a:lnTo>
                      <a:pt x="2651" y="1857"/>
                    </a:lnTo>
                    <a:lnTo>
                      <a:pt x="2699" y="1236"/>
                    </a:lnTo>
                    <a:lnTo>
                      <a:pt x="2754" y="515"/>
                    </a:lnTo>
                    <a:lnTo>
                      <a:pt x="2755" y="486"/>
                    </a:lnTo>
                    <a:lnTo>
                      <a:pt x="2753" y="460"/>
                    </a:lnTo>
                    <a:lnTo>
                      <a:pt x="2747" y="435"/>
                    </a:lnTo>
                    <a:lnTo>
                      <a:pt x="2738" y="412"/>
                    </a:lnTo>
                    <a:lnTo>
                      <a:pt x="2727" y="392"/>
                    </a:lnTo>
                    <a:lnTo>
                      <a:pt x="2712" y="372"/>
                    </a:lnTo>
                    <a:lnTo>
                      <a:pt x="2695" y="355"/>
                    </a:lnTo>
                    <a:lnTo>
                      <a:pt x="2674" y="339"/>
                    </a:lnTo>
                    <a:lnTo>
                      <a:pt x="2651" y="324"/>
                    </a:lnTo>
                    <a:lnTo>
                      <a:pt x="2624" y="311"/>
                    </a:lnTo>
                    <a:lnTo>
                      <a:pt x="2594" y="299"/>
                    </a:lnTo>
                    <a:lnTo>
                      <a:pt x="2561" y="288"/>
                    </a:lnTo>
                    <a:lnTo>
                      <a:pt x="2525" y="279"/>
                    </a:lnTo>
                    <a:lnTo>
                      <a:pt x="2487" y="270"/>
                    </a:lnTo>
                    <a:lnTo>
                      <a:pt x="2445" y="261"/>
                    </a:lnTo>
                    <a:lnTo>
                      <a:pt x="2400" y="254"/>
                    </a:lnTo>
                    <a:lnTo>
                      <a:pt x="2349" y="247"/>
                    </a:lnTo>
                    <a:lnTo>
                      <a:pt x="2301" y="240"/>
                    </a:lnTo>
                    <a:lnTo>
                      <a:pt x="2258" y="234"/>
                    </a:lnTo>
                    <a:lnTo>
                      <a:pt x="2217" y="228"/>
                    </a:lnTo>
                    <a:lnTo>
                      <a:pt x="2180" y="222"/>
                    </a:lnTo>
                    <a:lnTo>
                      <a:pt x="2144" y="217"/>
                    </a:lnTo>
                    <a:lnTo>
                      <a:pt x="2111" y="212"/>
                    </a:lnTo>
                    <a:lnTo>
                      <a:pt x="2080" y="208"/>
                    </a:lnTo>
                    <a:lnTo>
                      <a:pt x="2048" y="202"/>
                    </a:lnTo>
                    <a:lnTo>
                      <a:pt x="2018" y="198"/>
                    </a:lnTo>
                    <a:lnTo>
                      <a:pt x="1989" y="194"/>
                    </a:lnTo>
                    <a:lnTo>
                      <a:pt x="1959" y="189"/>
                    </a:lnTo>
                    <a:lnTo>
                      <a:pt x="1929" y="185"/>
                    </a:lnTo>
                    <a:lnTo>
                      <a:pt x="1897" y="180"/>
                    </a:lnTo>
                    <a:lnTo>
                      <a:pt x="1864" y="176"/>
                    </a:lnTo>
                    <a:lnTo>
                      <a:pt x="1830" y="171"/>
                    </a:lnTo>
                    <a:lnTo>
                      <a:pt x="1792" y="165"/>
                    </a:lnTo>
                    <a:lnTo>
                      <a:pt x="1753" y="160"/>
                    </a:lnTo>
                    <a:lnTo>
                      <a:pt x="1710" y="154"/>
                    </a:lnTo>
                    <a:lnTo>
                      <a:pt x="1664" y="147"/>
                    </a:lnTo>
                    <a:lnTo>
                      <a:pt x="1615" y="139"/>
                    </a:lnTo>
                    <a:lnTo>
                      <a:pt x="1560" y="131"/>
                    </a:lnTo>
                    <a:lnTo>
                      <a:pt x="1501" y="122"/>
                    </a:lnTo>
                    <a:lnTo>
                      <a:pt x="1438" y="113"/>
                    </a:lnTo>
                    <a:lnTo>
                      <a:pt x="1368" y="103"/>
                    </a:lnTo>
                    <a:lnTo>
                      <a:pt x="1292" y="92"/>
                    </a:lnTo>
                    <a:lnTo>
                      <a:pt x="1210" y="80"/>
                    </a:lnTo>
                    <a:lnTo>
                      <a:pt x="1121" y="66"/>
                    </a:lnTo>
                    <a:lnTo>
                      <a:pt x="1024" y="52"/>
                    </a:lnTo>
                    <a:lnTo>
                      <a:pt x="920" y="38"/>
                    </a:lnTo>
                    <a:lnTo>
                      <a:pt x="809" y="21"/>
                    </a:lnTo>
                    <a:lnTo>
                      <a:pt x="688" y="3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473600" y="4328640"/>
                <a:ext cx="189000" cy="345960"/>
              </a:xfrm>
              <a:custGeom>
                <a:avLst/>
                <a:gdLst/>
                <a:ahLst/>
                <a:rect l="l" t="t" r="r" b="b"/>
                <a:pathLst>
                  <a:path w="2728" h="5999">
                    <a:moveTo>
                      <a:pt x="670" y="3"/>
                    </a:moveTo>
                    <a:lnTo>
                      <a:pt x="638" y="0"/>
                    </a:lnTo>
                    <a:lnTo>
                      <a:pt x="609" y="1"/>
                    </a:lnTo>
                    <a:lnTo>
                      <a:pt x="582" y="5"/>
                    </a:lnTo>
                    <a:lnTo>
                      <a:pt x="558" y="14"/>
                    </a:lnTo>
                    <a:lnTo>
                      <a:pt x="536" y="25"/>
                    </a:lnTo>
                    <a:lnTo>
                      <a:pt x="517" y="39"/>
                    </a:lnTo>
                    <a:lnTo>
                      <a:pt x="501" y="55"/>
                    </a:lnTo>
                    <a:lnTo>
                      <a:pt x="486" y="75"/>
                    </a:lnTo>
                    <a:lnTo>
                      <a:pt x="473" y="97"/>
                    </a:lnTo>
                    <a:lnTo>
                      <a:pt x="461" y="120"/>
                    </a:lnTo>
                    <a:lnTo>
                      <a:pt x="452" y="147"/>
                    </a:lnTo>
                    <a:lnTo>
                      <a:pt x="445" y="174"/>
                    </a:lnTo>
                    <a:lnTo>
                      <a:pt x="438" y="203"/>
                    </a:lnTo>
                    <a:lnTo>
                      <a:pt x="433" y="233"/>
                    </a:lnTo>
                    <a:lnTo>
                      <a:pt x="429" y="264"/>
                    </a:lnTo>
                    <a:lnTo>
                      <a:pt x="426" y="296"/>
                    </a:lnTo>
                    <a:lnTo>
                      <a:pt x="402" y="592"/>
                    </a:lnTo>
                    <a:lnTo>
                      <a:pt x="381" y="845"/>
                    </a:lnTo>
                    <a:lnTo>
                      <a:pt x="363" y="1064"/>
                    </a:lnTo>
                    <a:lnTo>
                      <a:pt x="347" y="1260"/>
                    </a:lnTo>
                    <a:lnTo>
                      <a:pt x="332" y="1442"/>
                    </a:lnTo>
                    <a:lnTo>
                      <a:pt x="318" y="1621"/>
                    </a:lnTo>
                    <a:lnTo>
                      <a:pt x="302" y="1807"/>
                    </a:lnTo>
                    <a:lnTo>
                      <a:pt x="285" y="2009"/>
                    </a:lnTo>
                    <a:lnTo>
                      <a:pt x="267" y="2238"/>
                    </a:lnTo>
                    <a:lnTo>
                      <a:pt x="245" y="2504"/>
                    </a:lnTo>
                    <a:lnTo>
                      <a:pt x="219" y="2816"/>
                    </a:lnTo>
                    <a:lnTo>
                      <a:pt x="188" y="3186"/>
                    </a:lnTo>
                    <a:lnTo>
                      <a:pt x="152" y="3623"/>
                    </a:lnTo>
                    <a:lnTo>
                      <a:pt x="110" y="4136"/>
                    </a:lnTo>
                    <a:lnTo>
                      <a:pt x="60" y="4737"/>
                    </a:lnTo>
                    <a:lnTo>
                      <a:pt x="1" y="5434"/>
                    </a:lnTo>
                    <a:lnTo>
                      <a:pt x="0" y="5462"/>
                    </a:lnTo>
                    <a:lnTo>
                      <a:pt x="3" y="5490"/>
                    </a:lnTo>
                    <a:lnTo>
                      <a:pt x="8" y="5521"/>
                    </a:lnTo>
                    <a:lnTo>
                      <a:pt x="15" y="5551"/>
                    </a:lnTo>
                    <a:lnTo>
                      <a:pt x="25" y="5582"/>
                    </a:lnTo>
                    <a:lnTo>
                      <a:pt x="37" y="5613"/>
                    </a:lnTo>
                    <a:lnTo>
                      <a:pt x="50" y="5643"/>
                    </a:lnTo>
                    <a:lnTo>
                      <a:pt x="67" y="5672"/>
                    </a:lnTo>
                    <a:lnTo>
                      <a:pt x="85" y="5700"/>
                    </a:lnTo>
                    <a:lnTo>
                      <a:pt x="103" y="5726"/>
                    </a:lnTo>
                    <a:lnTo>
                      <a:pt x="124" y="5750"/>
                    </a:lnTo>
                    <a:lnTo>
                      <a:pt x="147" y="5770"/>
                    </a:lnTo>
                    <a:lnTo>
                      <a:pt x="171" y="5787"/>
                    </a:lnTo>
                    <a:lnTo>
                      <a:pt x="195" y="5801"/>
                    </a:lnTo>
                    <a:lnTo>
                      <a:pt x="221" y="5811"/>
                    </a:lnTo>
                    <a:lnTo>
                      <a:pt x="248" y="5816"/>
                    </a:lnTo>
                    <a:lnTo>
                      <a:pt x="301" y="5821"/>
                    </a:lnTo>
                    <a:lnTo>
                      <a:pt x="350" y="5826"/>
                    </a:lnTo>
                    <a:lnTo>
                      <a:pt x="396" y="5831"/>
                    </a:lnTo>
                    <a:lnTo>
                      <a:pt x="437" y="5835"/>
                    </a:lnTo>
                    <a:lnTo>
                      <a:pt x="477" y="5839"/>
                    </a:lnTo>
                    <a:lnTo>
                      <a:pt x="513" y="5842"/>
                    </a:lnTo>
                    <a:lnTo>
                      <a:pt x="548" y="5846"/>
                    </a:lnTo>
                    <a:lnTo>
                      <a:pt x="581" y="5849"/>
                    </a:lnTo>
                    <a:lnTo>
                      <a:pt x="613" y="5852"/>
                    </a:lnTo>
                    <a:lnTo>
                      <a:pt x="644" y="5855"/>
                    </a:lnTo>
                    <a:lnTo>
                      <a:pt x="676" y="5859"/>
                    </a:lnTo>
                    <a:lnTo>
                      <a:pt x="706" y="5862"/>
                    </a:lnTo>
                    <a:lnTo>
                      <a:pt x="738" y="5865"/>
                    </a:lnTo>
                    <a:lnTo>
                      <a:pt x="770" y="5869"/>
                    </a:lnTo>
                    <a:lnTo>
                      <a:pt x="805" y="5873"/>
                    </a:lnTo>
                    <a:lnTo>
                      <a:pt x="840" y="5876"/>
                    </a:lnTo>
                    <a:lnTo>
                      <a:pt x="879" y="5880"/>
                    </a:lnTo>
                    <a:lnTo>
                      <a:pt x="919" y="5884"/>
                    </a:lnTo>
                    <a:lnTo>
                      <a:pt x="964" y="5889"/>
                    </a:lnTo>
                    <a:lnTo>
                      <a:pt x="1011" y="5893"/>
                    </a:lnTo>
                    <a:lnTo>
                      <a:pt x="1063" y="5899"/>
                    </a:lnTo>
                    <a:lnTo>
                      <a:pt x="1119" y="5904"/>
                    </a:lnTo>
                    <a:lnTo>
                      <a:pt x="1180" y="5911"/>
                    </a:lnTo>
                    <a:lnTo>
                      <a:pt x="1247" y="5917"/>
                    </a:lnTo>
                    <a:lnTo>
                      <a:pt x="1319" y="5925"/>
                    </a:lnTo>
                    <a:lnTo>
                      <a:pt x="1397" y="5934"/>
                    </a:lnTo>
                    <a:lnTo>
                      <a:pt x="1481" y="5942"/>
                    </a:lnTo>
                    <a:lnTo>
                      <a:pt x="1573" y="5952"/>
                    </a:lnTo>
                    <a:lnTo>
                      <a:pt x="1673" y="5962"/>
                    </a:lnTo>
                    <a:lnTo>
                      <a:pt x="1780" y="5973"/>
                    </a:lnTo>
                    <a:lnTo>
                      <a:pt x="1895" y="5984"/>
                    </a:lnTo>
                    <a:lnTo>
                      <a:pt x="2020" y="5998"/>
                    </a:lnTo>
                    <a:lnTo>
                      <a:pt x="2043" y="5999"/>
                    </a:lnTo>
                    <a:lnTo>
                      <a:pt x="2066" y="5998"/>
                    </a:lnTo>
                    <a:lnTo>
                      <a:pt x="2090" y="5995"/>
                    </a:lnTo>
                    <a:lnTo>
                      <a:pt x="2115" y="5988"/>
                    </a:lnTo>
                    <a:lnTo>
                      <a:pt x="2140" y="5981"/>
                    </a:lnTo>
                    <a:lnTo>
                      <a:pt x="2164" y="5972"/>
                    </a:lnTo>
                    <a:lnTo>
                      <a:pt x="2188" y="5962"/>
                    </a:lnTo>
                    <a:lnTo>
                      <a:pt x="2211" y="5949"/>
                    </a:lnTo>
                    <a:lnTo>
                      <a:pt x="2232" y="5936"/>
                    </a:lnTo>
                    <a:lnTo>
                      <a:pt x="2252" y="5920"/>
                    </a:lnTo>
                    <a:lnTo>
                      <a:pt x="2270" y="5904"/>
                    </a:lnTo>
                    <a:lnTo>
                      <a:pt x="2285" y="5886"/>
                    </a:lnTo>
                    <a:lnTo>
                      <a:pt x="2299" y="5867"/>
                    </a:lnTo>
                    <a:lnTo>
                      <a:pt x="2309" y="5848"/>
                    </a:lnTo>
                    <a:lnTo>
                      <a:pt x="2317" y="5828"/>
                    </a:lnTo>
                    <a:lnTo>
                      <a:pt x="2320" y="5807"/>
                    </a:lnTo>
                    <a:lnTo>
                      <a:pt x="2344" y="5502"/>
                    </a:lnTo>
                    <a:lnTo>
                      <a:pt x="2364" y="5241"/>
                    </a:lnTo>
                    <a:lnTo>
                      <a:pt x="2381" y="5015"/>
                    </a:lnTo>
                    <a:lnTo>
                      <a:pt x="2397" y="4813"/>
                    </a:lnTo>
                    <a:lnTo>
                      <a:pt x="2411" y="4625"/>
                    </a:lnTo>
                    <a:lnTo>
                      <a:pt x="2425" y="4440"/>
                    </a:lnTo>
                    <a:lnTo>
                      <a:pt x="2439" y="4249"/>
                    </a:lnTo>
                    <a:lnTo>
                      <a:pt x="2456" y="4041"/>
                    </a:lnTo>
                    <a:lnTo>
                      <a:pt x="2474" y="3805"/>
                    </a:lnTo>
                    <a:lnTo>
                      <a:pt x="2495" y="3531"/>
                    </a:lnTo>
                    <a:lnTo>
                      <a:pt x="2520" y="3208"/>
                    </a:lnTo>
                    <a:lnTo>
                      <a:pt x="2549" y="2827"/>
                    </a:lnTo>
                    <a:lnTo>
                      <a:pt x="2583" y="2378"/>
                    </a:lnTo>
                    <a:lnTo>
                      <a:pt x="2624" y="1849"/>
                    </a:lnTo>
                    <a:lnTo>
                      <a:pt x="2672" y="1231"/>
                    </a:lnTo>
                    <a:lnTo>
                      <a:pt x="2727" y="513"/>
                    </a:lnTo>
                    <a:lnTo>
                      <a:pt x="2728" y="484"/>
                    </a:lnTo>
                    <a:lnTo>
                      <a:pt x="2725" y="458"/>
                    </a:lnTo>
                    <a:lnTo>
                      <a:pt x="2719" y="433"/>
                    </a:lnTo>
                    <a:lnTo>
                      <a:pt x="2711" y="411"/>
                    </a:lnTo>
                    <a:lnTo>
                      <a:pt x="2700" y="390"/>
                    </a:lnTo>
                    <a:lnTo>
                      <a:pt x="2684" y="370"/>
                    </a:lnTo>
                    <a:lnTo>
                      <a:pt x="2667" y="353"/>
                    </a:lnTo>
                    <a:lnTo>
                      <a:pt x="2647" y="337"/>
                    </a:lnTo>
                    <a:lnTo>
                      <a:pt x="2623" y="323"/>
                    </a:lnTo>
                    <a:lnTo>
                      <a:pt x="2596" y="309"/>
                    </a:lnTo>
                    <a:lnTo>
                      <a:pt x="2566" y="297"/>
                    </a:lnTo>
                    <a:lnTo>
                      <a:pt x="2533" y="287"/>
                    </a:lnTo>
                    <a:lnTo>
                      <a:pt x="2498" y="277"/>
                    </a:lnTo>
                    <a:lnTo>
                      <a:pt x="2459" y="269"/>
                    </a:lnTo>
                    <a:lnTo>
                      <a:pt x="2418" y="261"/>
                    </a:lnTo>
                    <a:lnTo>
                      <a:pt x="2373" y="253"/>
                    </a:lnTo>
                    <a:lnTo>
                      <a:pt x="2322" y="246"/>
                    </a:lnTo>
                    <a:lnTo>
                      <a:pt x="2275" y="239"/>
                    </a:lnTo>
                    <a:lnTo>
                      <a:pt x="2231" y="232"/>
                    </a:lnTo>
                    <a:lnTo>
                      <a:pt x="2191" y="226"/>
                    </a:lnTo>
                    <a:lnTo>
                      <a:pt x="2153" y="221"/>
                    </a:lnTo>
                    <a:lnTo>
                      <a:pt x="2118" y="216"/>
                    </a:lnTo>
                    <a:lnTo>
                      <a:pt x="2085" y="211"/>
                    </a:lnTo>
                    <a:lnTo>
                      <a:pt x="2053" y="206"/>
                    </a:lnTo>
                    <a:lnTo>
                      <a:pt x="2023" y="202"/>
                    </a:lnTo>
                    <a:lnTo>
                      <a:pt x="1993" y="198"/>
                    </a:lnTo>
                    <a:lnTo>
                      <a:pt x="1963" y="192"/>
                    </a:lnTo>
                    <a:lnTo>
                      <a:pt x="1934" y="188"/>
                    </a:lnTo>
                    <a:lnTo>
                      <a:pt x="1904" y="184"/>
                    </a:lnTo>
                    <a:lnTo>
                      <a:pt x="1872" y="179"/>
                    </a:lnTo>
                    <a:lnTo>
                      <a:pt x="1839" y="174"/>
                    </a:lnTo>
                    <a:lnTo>
                      <a:pt x="1805" y="169"/>
                    </a:lnTo>
                    <a:lnTo>
                      <a:pt x="1768" y="164"/>
                    </a:lnTo>
                    <a:lnTo>
                      <a:pt x="1729" y="159"/>
                    </a:lnTo>
                    <a:lnTo>
                      <a:pt x="1686" y="152"/>
                    </a:lnTo>
                    <a:lnTo>
                      <a:pt x="1640" y="146"/>
                    </a:lnTo>
                    <a:lnTo>
                      <a:pt x="1591" y="139"/>
                    </a:lnTo>
                    <a:lnTo>
                      <a:pt x="1537" y="130"/>
                    </a:lnTo>
                    <a:lnTo>
                      <a:pt x="1478" y="122"/>
                    </a:lnTo>
                    <a:lnTo>
                      <a:pt x="1416" y="112"/>
                    </a:lnTo>
                    <a:lnTo>
                      <a:pt x="1346" y="102"/>
                    </a:lnTo>
                    <a:lnTo>
                      <a:pt x="1271" y="92"/>
                    </a:lnTo>
                    <a:lnTo>
                      <a:pt x="1189" y="80"/>
                    </a:lnTo>
                    <a:lnTo>
                      <a:pt x="1100" y="66"/>
                    </a:lnTo>
                    <a:lnTo>
                      <a:pt x="1004" y="52"/>
                    </a:lnTo>
                    <a:lnTo>
                      <a:pt x="901" y="37"/>
                    </a:lnTo>
                    <a:lnTo>
                      <a:pt x="790" y="21"/>
                    </a:lnTo>
                    <a:lnTo>
                      <a:pt x="670" y="3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475040" y="4329720"/>
                <a:ext cx="187560" cy="343080"/>
              </a:xfrm>
              <a:custGeom>
                <a:avLst/>
                <a:gdLst/>
                <a:ahLst/>
                <a:rect l="l" t="t" r="r" b="b"/>
                <a:pathLst>
                  <a:path w="2698" h="5972">
                    <a:moveTo>
                      <a:pt x="651" y="3"/>
                    </a:moveTo>
                    <a:lnTo>
                      <a:pt x="620" y="0"/>
                    </a:lnTo>
                    <a:lnTo>
                      <a:pt x="591" y="1"/>
                    </a:lnTo>
                    <a:lnTo>
                      <a:pt x="566" y="6"/>
                    </a:lnTo>
                    <a:lnTo>
                      <a:pt x="543" y="14"/>
                    </a:lnTo>
                    <a:lnTo>
                      <a:pt x="522" y="25"/>
                    </a:lnTo>
                    <a:lnTo>
                      <a:pt x="505" y="39"/>
                    </a:lnTo>
                    <a:lnTo>
                      <a:pt x="489" y="56"/>
                    </a:lnTo>
                    <a:lnTo>
                      <a:pt x="476" y="76"/>
                    </a:lnTo>
                    <a:lnTo>
                      <a:pt x="464" y="98"/>
                    </a:lnTo>
                    <a:lnTo>
                      <a:pt x="454" y="121"/>
                    </a:lnTo>
                    <a:lnTo>
                      <a:pt x="446" y="147"/>
                    </a:lnTo>
                    <a:lnTo>
                      <a:pt x="439" y="174"/>
                    </a:lnTo>
                    <a:lnTo>
                      <a:pt x="434" y="204"/>
                    </a:lnTo>
                    <a:lnTo>
                      <a:pt x="429" y="233"/>
                    </a:lnTo>
                    <a:lnTo>
                      <a:pt x="426" y="265"/>
                    </a:lnTo>
                    <a:lnTo>
                      <a:pt x="423" y="296"/>
                    </a:lnTo>
                    <a:lnTo>
                      <a:pt x="399" y="591"/>
                    </a:lnTo>
                    <a:lnTo>
                      <a:pt x="378" y="842"/>
                    </a:lnTo>
                    <a:lnTo>
                      <a:pt x="360" y="1061"/>
                    </a:lnTo>
                    <a:lnTo>
                      <a:pt x="343" y="1256"/>
                    </a:lnTo>
                    <a:lnTo>
                      <a:pt x="329" y="1438"/>
                    </a:lnTo>
                    <a:lnTo>
                      <a:pt x="314" y="1616"/>
                    </a:lnTo>
                    <a:lnTo>
                      <a:pt x="299" y="1801"/>
                    </a:lnTo>
                    <a:lnTo>
                      <a:pt x="282" y="2002"/>
                    </a:lnTo>
                    <a:lnTo>
                      <a:pt x="263" y="2230"/>
                    </a:lnTo>
                    <a:lnTo>
                      <a:pt x="241" y="2494"/>
                    </a:lnTo>
                    <a:lnTo>
                      <a:pt x="215" y="2806"/>
                    </a:lnTo>
                    <a:lnTo>
                      <a:pt x="185" y="3174"/>
                    </a:lnTo>
                    <a:lnTo>
                      <a:pt x="150" y="3609"/>
                    </a:lnTo>
                    <a:lnTo>
                      <a:pt x="107" y="4120"/>
                    </a:lnTo>
                    <a:lnTo>
                      <a:pt x="57" y="4719"/>
                    </a:lnTo>
                    <a:lnTo>
                      <a:pt x="0" y="5413"/>
                    </a:lnTo>
                    <a:lnTo>
                      <a:pt x="0" y="5440"/>
                    </a:lnTo>
                    <a:lnTo>
                      <a:pt x="2" y="5468"/>
                    </a:lnTo>
                    <a:lnTo>
                      <a:pt x="6" y="5498"/>
                    </a:lnTo>
                    <a:lnTo>
                      <a:pt x="15" y="5528"/>
                    </a:lnTo>
                    <a:lnTo>
                      <a:pt x="24" y="5560"/>
                    </a:lnTo>
                    <a:lnTo>
                      <a:pt x="35" y="5590"/>
                    </a:lnTo>
                    <a:lnTo>
                      <a:pt x="50" y="5620"/>
                    </a:lnTo>
                    <a:lnTo>
                      <a:pt x="66" y="5649"/>
                    </a:lnTo>
                    <a:lnTo>
                      <a:pt x="83" y="5677"/>
                    </a:lnTo>
                    <a:lnTo>
                      <a:pt x="103" y="5702"/>
                    </a:lnTo>
                    <a:lnTo>
                      <a:pt x="124" y="5725"/>
                    </a:lnTo>
                    <a:lnTo>
                      <a:pt x="147" y="5747"/>
                    </a:lnTo>
                    <a:lnTo>
                      <a:pt x="170" y="5764"/>
                    </a:lnTo>
                    <a:lnTo>
                      <a:pt x="195" y="5777"/>
                    </a:lnTo>
                    <a:lnTo>
                      <a:pt x="221" y="5787"/>
                    </a:lnTo>
                    <a:lnTo>
                      <a:pt x="247" y="5792"/>
                    </a:lnTo>
                    <a:lnTo>
                      <a:pt x="299" y="5798"/>
                    </a:lnTo>
                    <a:lnTo>
                      <a:pt x="348" y="5803"/>
                    </a:lnTo>
                    <a:lnTo>
                      <a:pt x="392" y="5808"/>
                    </a:lnTo>
                    <a:lnTo>
                      <a:pt x="433" y="5812"/>
                    </a:lnTo>
                    <a:lnTo>
                      <a:pt x="471" y="5816"/>
                    </a:lnTo>
                    <a:lnTo>
                      <a:pt x="508" y="5819"/>
                    </a:lnTo>
                    <a:lnTo>
                      <a:pt x="542" y="5823"/>
                    </a:lnTo>
                    <a:lnTo>
                      <a:pt x="574" y="5826"/>
                    </a:lnTo>
                    <a:lnTo>
                      <a:pt x="606" y="5829"/>
                    </a:lnTo>
                    <a:lnTo>
                      <a:pt x="637" y="5832"/>
                    </a:lnTo>
                    <a:lnTo>
                      <a:pt x="667" y="5835"/>
                    </a:lnTo>
                    <a:lnTo>
                      <a:pt x="697" y="5838"/>
                    </a:lnTo>
                    <a:lnTo>
                      <a:pt x="728" y="5841"/>
                    </a:lnTo>
                    <a:lnTo>
                      <a:pt x="761" y="5845"/>
                    </a:lnTo>
                    <a:lnTo>
                      <a:pt x="794" y="5848"/>
                    </a:lnTo>
                    <a:lnTo>
                      <a:pt x="829" y="5851"/>
                    </a:lnTo>
                    <a:lnTo>
                      <a:pt x="867" y="5855"/>
                    </a:lnTo>
                    <a:lnTo>
                      <a:pt x="907" y="5860"/>
                    </a:lnTo>
                    <a:lnTo>
                      <a:pt x="951" y="5865"/>
                    </a:lnTo>
                    <a:lnTo>
                      <a:pt x="998" y="5869"/>
                    </a:lnTo>
                    <a:lnTo>
                      <a:pt x="1049" y="5874"/>
                    </a:lnTo>
                    <a:lnTo>
                      <a:pt x="1104" y="5880"/>
                    </a:lnTo>
                    <a:lnTo>
                      <a:pt x="1164" y="5886"/>
                    </a:lnTo>
                    <a:lnTo>
                      <a:pt x="1230" y="5893"/>
                    </a:lnTo>
                    <a:lnTo>
                      <a:pt x="1302" y="5900"/>
                    </a:lnTo>
                    <a:lnTo>
                      <a:pt x="1379" y="5908"/>
                    </a:lnTo>
                    <a:lnTo>
                      <a:pt x="1462" y="5916"/>
                    </a:lnTo>
                    <a:lnTo>
                      <a:pt x="1553" y="5926"/>
                    </a:lnTo>
                    <a:lnTo>
                      <a:pt x="1650" y="5936"/>
                    </a:lnTo>
                    <a:lnTo>
                      <a:pt x="1757" y="5947"/>
                    </a:lnTo>
                    <a:lnTo>
                      <a:pt x="1871" y="5959"/>
                    </a:lnTo>
                    <a:lnTo>
                      <a:pt x="1994" y="5971"/>
                    </a:lnTo>
                    <a:lnTo>
                      <a:pt x="2016" y="5972"/>
                    </a:lnTo>
                    <a:lnTo>
                      <a:pt x="2040" y="5971"/>
                    </a:lnTo>
                    <a:lnTo>
                      <a:pt x="2064" y="5967"/>
                    </a:lnTo>
                    <a:lnTo>
                      <a:pt x="2088" y="5962"/>
                    </a:lnTo>
                    <a:lnTo>
                      <a:pt x="2113" y="5955"/>
                    </a:lnTo>
                    <a:lnTo>
                      <a:pt x="2136" y="5946"/>
                    </a:lnTo>
                    <a:lnTo>
                      <a:pt x="2160" y="5935"/>
                    </a:lnTo>
                    <a:lnTo>
                      <a:pt x="2183" y="5923"/>
                    </a:lnTo>
                    <a:lnTo>
                      <a:pt x="2205" y="5908"/>
                    </a:lnTo>
                    <a:lnTo>
                      <a:pt x="2225" y="5894"/>
                    </a:lnTo>
                    <a:lnTo>
                      <a:pt x="2243" y="5878"/>
                    </a:lnTo>
                    <a:lnTo>
                      <a:pt x="2259" y="5861"/>
                    </a:lnTo>
                    <a:lnTo>
                      <a:pt x="2272" y="5842"/>
                    </a:lnTo>
                    <a:lnTo>
                      <a:pt x="2282" y="5823"/>
                    </a:lnTo>
                    <a:lnTo>
                      <a:pt x="2289" y="5803"/>
                    </a:lnTo>
                    <a:lnTo>
                      <a:pt x="2293" y="5782"/>
                    </a:lnTo>
                    <a:lnTo>
                      <a:pt x="2315" y="5478"/>
                    </a:lnTo>
                    <a:lnTo>
                      <a:pt x="2336" y="5219"/>
                    </a:lnTo>
                    <a:lnTo>
                      <a:pt x="2353" y="4993"/>
                    </a:lnTo>
                    <a:lnTo>
                      <a:pt x="2369" y="4792"/>
                    </a:lnTo>
                    <a:lnTo>
                      <a:pt x="2383" y="4605"/>
                    </a:lnTo>
                    <a:lnTo>
                      <a:pt x="2398" y="4421"/>
                    </a:lnTo>
                    <a:lnTo>
                      <a:pt x="2412" y="4231"/>
                    </a:lnTo>
                    <a:lnTo>
                      <a:pt x="2428" y="4023"/>
                    </a:lnTo>
                    <a:lnTo>
                      <a:pt x="2447" y="3788"/>
                    </a:lnTo>
                    <a:lnTo>
                      <a:pt x="2467" y="3515"/>
                    </a:lnTo>
                    <a:lnTo>
                      <a:pt x="2491" y="3193"/>
                    </a:lnTo>
                    <a:lnTo>
                      <a:pt x="2521" y="2814"/>
                    </a:lnTo>
                    <a:lnTo>
                      <a:pt x="2556" y="2367"/>
                    </a:lnTo>
                    <a:lnTo>
                      <a:pt x="2596" y="1840"/>
                    </a:lnTo>
                    <a:lnTo>
                      <a:pt x="2643" y="1224"/>
                    </a:lnTo>
                    <a:lnTo>
                      <a:pt x="2698" y="509"/>
                    </a:lnTo>
                    <a:lnTo>
                      <a:pt x="2698" y="480"/>
                    </a:lnTo>
                    <a:lnTo>
                      <a:pt x="2696" y="455"/>
                    </a:lnTo>
                    <a:lnTo>
                      <a:pt x="2690" y="431"/>
                    </a:lnTo>
                    <a:lnTo>
                      <a:pt x="2682" y="408"/>
                    </a:lnTo>
                    <a:lnTo>
                      <a:pt x="2670" y="387"/>
                    </a:lnTo>
                    <a:lnTo>
                      <a:pt x="2656" y="368"/>
                    </a:lnTo>
                    <a:lnTo>
                      <a:pt x="2638" y="350"/>
                    </a:lnTo>
                    <a:lnTo>
                      <a:pt x="2617" y="335"/>
                    </a:lnTo>
                    <a:lnTo>
                      <a:pt x="2593" y="320"/>
                    </a:lnTo>
                    <a:lnTo>
                      <a:pt x="2567" y="306"/>
                    </a:lnTo>
                    <a:lnTo>
                      <a:pt x="2537" y="295"/>
                    </a:lnTo>
                    <a:lnTo>
                      <a:pt x="2505" y="284"/>
                    </a:lnTo>
                    <a:lnTo>
                      <a:pt x="2469" y="274"/>
                    </a:lnTo>
                    <a:lnTo>
                      <a:pt x="2431" y="266"/>
                    </a:lnTo>
                    <a:lnTo>
                      <a:pt x="2389" y="258"/>
                    </a:lnTo>
                    <a:lnTo>
                      <a:pt x="2346" y="251"/>
                    </a:lnTo>
                    <a:lnTo>
                      <a:pt x="2295" y="243"/>
                    </a:lnTo>
                    <a:lnTo>
                      <a:pt x="2248" y="236"/>
                    </a:lnTo>
                    <a:lnTo>
                      <a:pt x="2205" y="230"/>
                    </a:lnTo>
                    <a:lnTo>
                      <a:pt x="2165" y="224"/>
                    </a:lnTo>
                    <a:lnTo>
                      <a:pt x="2127" y="219"/>
                    </a:lnTo>
                    <a:lnTo>
                      <a:pt x="2093" y="214"/>
                    </a:lnTo>
                    <a:lnTo>
                      <a:pt x="2059" y="209"/>
                    </a:lnTo>
                    <a:lnTo>
                      <a:pt x="2028" y="204"/>
                    </a:lnTo>
                    <a:lnTo>
                      <a:pt x="1997" y="200"/>
                    </a:lnTo>
                    <a:lnTo>
                      <a:pt x="1968" y="196"/>
                    </a:lnTo>
                    <a:lnTo>
                      <a:pt x="1938" y="192"/>
                    </a:lnTo>
                    <a:lnTo>
                      <a:pt x="1909" y="187"/>
                    </a:lnTo>
                    <a:lnTo>
                      <a:pt x="1878" y="182"/>
                    </a:lnTo>
                    <a:lnTo>
                      <a:pt x="1847" y="177"/>
                    </a:lnTo>
                    <a:lnTo>
                      <a:pt x="1815" y="173"/>
                    </a:lnTo>
                    <a:lnTo>
                      <a:pt x="1781" y="168"/>
                    </a:lnTo>
                    <a:lnTo>
                      <a:pt x="1744" y="163"/>
                    </a:lnTo>
                    <a:lnTo>
                      <a:pt x="1705" y="157"/>
                    </a:lnTo>
                    <a:lnTo>
                      <a:pt x="1663" y="151"/>
                    </a:lnTo>
                    <a:lnTo>
                      <a:pt x="1617" y="144"/>
                    </a:lnTo>
                    <a:lnTo>
                      <a:pt x="1568" y="137"/>
                    </a:lnTo>
                    <a:lnTo>
                      <a:pt x="1514" y="129"/>
                    </a:lnTo>
                    <a:lnTo>
                      <a:pt x="1456" y="120"/>
                    </a:lnTo>
                    <a:lnTo>
                      <a:pt x="1393" y="111"/>
                    </a:lnTo>
                    <a:lnTo>
                      <a:pt x="1324" y="101"/>
                    </a:lnTo>
                    <a:lnTo>
                      <a:pt x="1249" y="90"/>
                    </a:lnTo>
                    <a:lnTo>
                      <a:pt x="1168" y="78"/>
                    </a:lnTo>
                    <a:lnTo>
                      <a:pt x="1079" y="66"/>
                    </a:lnTo>
                    <a:lnTo>
                      <a:pt x="984" y="51"/>
                    </a:lnTo>
                    <a:lnTo>
                      <a:pt x="881" y="36"/>
                    </a:lnTo>
                    <a:lnTo>
                      <a:pt x="771" y="20"/>
                    </a:lnTo>
                    <a:lnTo>
                      <a:pt x="651" y="3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476480" y="4329720"/>
                <a:ext cx="184680" cy="342000"/>
              </a:xfrm>
              <a:custGeom>
                <a:avLst/>
                <a:gdLst/>
                <a:ahLst/>
                <a:rect l="l" t="t" r="r" b="b"/>
                <a:pathLst>
                  <a:path w="2671" h="5946">
                    <a:moveTo>
                      <a:pt x="635" y="3"/>
                    </a:moveTo>
                    <a:lnTo>
                      <a:pt x="603" y="0"/>
                    </a:lnTo>
                    <a:lnTo>
                      <a:pt x="575" y="1"/>
                    </a:lnTo>
                    <a:lnTo>
                      <a:pt x="551" y="6"/>
                    </a:lnTo>
                    <a:lnTo>
                      <a:pt x="529" y="14"/>
                    </a:lnTo>
                    <a:lnTo>
                      <a:pt x="510" y="26"/>
                    </a:lnTo>
                    <a:lnTo>
                      <a:pt x="493" y="40"/>
                    </a:lnTo>
                    <a:lnTo>
                      <a:pt x="479" y="58"/>
                    </a:lnTo>
                    <a:lnTo>
                      <a:pt x="467" y="77"/>
                    </a:lnTo>
                    <a:lnTo>
                      <a:pt x="457" y="99"/>
                    </a:lnTo>
                    <a:lnTo>
                      <a:pt x="448" y="123"/>
                    </a:lnTo>
                    <a:lnTo>
                      <a:pt x="441" y="148"/>
                    </a:lnTo>
                    <a:lnTo>
                      <a:pt x="435" y="176"/>
                    </a:lnTo>
                    <a:lnTo>
                      <a:pt x="431" y="204"/>
                    </a:lnTo>
                    <a:lnTo>
                      <a:pt x="426" y="234"/>
                    </a:lnTo>
                    <a:lnTo>
                      <a:pt x="423" y="264"/>
                    </a:lnTo>
                    <a:lnTo>
                      <a:pt x="421" y="295"/>
                    </a:lnTo>
                    <a:lnTo>
                      <a:pt x="397" y="589"/>
                    </a:lnTo>
                    <a:lnTo>
                      <a:pt x="376" y="839"/>
                    </a:lnTo>
                    <a:lnTo>
                      <a:pt x="359" y="1057"/>
                    </a:lnTo>
                    <a:lnTo>
                      <a:pt x="342" y="1251"/>
                    </a:lnTo>
                    <a:lnTo>
                      <a:pt x="328" y="1432"/>
                    </a:lnTo>
                    <a:lnTo>
                      <a:pt x="313" y="1610"/>
                    </a:lnTo>
                    <a:lnTo>
                      <a:pt x="298" y="1794"/>
                    </a:lnTo>
                    <a:lnTo>
                      <a:pt x="282" y="1994"/>
                    </a:lnTo>
                    <a:lnTo>
                      <a:pt x="263" y="2221"/>
                    </a:lnTo>
                    <a:lnTo>
                      <a:pt x="241" y="2485"/>
                    </a:lnTo>
                    <a:lnTo>
                      <a:pt x="216" y="2795"/>
                    </a:lnTo>
                    <a:lnTo>
                      <a:pt x="185" y="3162"/>
                    </a:lnTo>
                    <a:lnTo>
                      <a:pt x="150" y="3595"/>
                    </a:lnTo>
                    <a:lnTo>
                      <a:pt x="108" y="4104"/>
                    </a:lnTo>
                    <a:lnTo>
                      <a:pt x="58" y="4700"/>
                    </a:lnTo>
                    <a:lnTo>
                      <a:pt x="1" y="5392"/>
                    </a:lnTo>
                    <a:lnTo>
                      <a:pt x="0" y="5419"/>
                    </a:lnTo>
                    <a:lnTo>
                      <a:pt x="2" y="5446"/>
                    </a:lnTo>
                    <a:lnTo>
                      <a:pt x="7" y="5475"/>
                    </a:lnTo>
                    <a:lnTo>
                      <a:pt x="14" y="5506"/>
                    </a:lnTo>
                    <a:lnTo>
                      <a:pt x="24" y="5536"/>
                    </a:lnTo>
                    <a:lnTo>
                      <a:pt x="36" y="5567"/>
                    </a:lnTo>
                    <a:lnTo>
                      <a:pt x="50" y="5597"/>
                    </a:lnTo>
                    <a:lnTo>
                      <a:pt x="66" y="5626"/>
                    </a:lnTo>
                    <a:lnTo>
                      <a:pt x="84" y="5653"/>
                    </a:lnTo>
                    <a:lnTo>
                      <a:pt x="103" y="5680"/>
                    </a:lnTo>
                    <a:lnTo>
                      <a:pt x="124" y="5703"/>
                    </a:lnTo>
                    <a:lnTo>
                      <a:pt x="146" y="5723"/>
                    </a:lnTo>
                    <a:lnTo>
                      <a:pt x="169" y="5741"/>
                    </a:lnTo>
                    <a:lnTo>
                      <a:pt x="194" y="5755"/>
                    </a:lnTo>
                    <a:lnTo>
                      <a:pt x="219" y="5764"/>
                    </a:lnTo>
                    <a:lnTo>
                      <a:pt x="245" y="5769"/>
                    </a:lnTo>
                    <a:lnTo>
                      <a:pt x="297" y="5774"/>
                    </a:lnTo>
                    <a:lnTo>
                      <a:pt x="345" y="5779"/>
                    </a:lnTo>
                    <a:lnTo>
                      <a:pt x="389" y="5783"/>
                    </a:lnTo>
                    <a:lnTo>
                      <a:pt x="430" y="5789"/>
                    </a:lnTo>
                    <a:lnTo>
                      <a:pt x="468" y="5792"/>
                    </a:lnTo>
                    <a:lnTo>
                      <a:pt x="503" y="5796"/>
                    </a:lnTo>
                    <a:lnTo>
                      <a:pt x="537" y="5799"/>
                    </a:lnTo>
                    <a:lnTo>
                      <a:pt x="569" y="5803"/>
                    </a:lnTo>
                    <a:lnTo>
                      <a:pt x="600" y="5806"/>
                    </a:lnTo>
                    <a:lnTo>
                      <a:pt x="630" y="5809"/>
                    </a:lnTo>
                    <a:lnTo>
                      <a:pt x="661" y="5812"/>
                    </a:lnTo>
                    <a:lnTo>
                      <a:pt x="691" y="5815"/>
                    </a:lnTo>
                    <a:lnTo>
                      <a:pt x="721" y="5818"/>
                    </a:lnTo>
                    <a:lnTo>
                      <a:pt x="753" y="5821"/>
                    </a:lnTo>
                    <a:lnTo>
                      <a:pt x="785" y="5824"/>
                    </a:lnTo>
                    <a:lnTo>
                      <a:pt x="821" y="5828"/>
                    </a:lnTo>
                    <a:lnTo>
                      <a:pt x="858" y="5831"/>
                    </a:lnTo>
                    <a:lnTo>
                      <a:pt x="898" y="5835"/>
                    </a:lnTo>
                    <a:lnTo>
                      <a:pt x="940" y="5840"/>
                    </a:lnTo>
                    <a:lnTo>
                      <a:pt x="987" y="5844"/>
                    </a:lnTo>
                    <a:lnTo>
                      <a:pt x="1037" y="5850"/>
                    </a:lnTo>
                    <a:lnTo>
                      <a:pt x="1092" y="5856"/>
                    </a:lnTo>
                    <a:lnTo>
                      <a:pt x="1152" y="5862"/>
                    </a:lnTo>
                    <a:lnTo>
                      <a:pt x="1216" y="5868"/>
                    </a:lnTo>
                    <a:lnTo>
                      <a:pt x="1286" y="5875"/>
                    </a:lnTo>
                    <a:lnTo>
                      <a:pt x="1363" y="5883"/>
                    </a:lnTo>
                    <a:lnTo>
                      <a:pt x="1444" y="5891"/>
                    </a:lnTo>
                    <a:lnTo>
                      <a:pt x="1534" y="5900"/>
                    </a:lnTo>
                    <a:lnTo>
                      <a:pt x="1630" y="5911"/>
                    </a:lnTo>
                    <a:lnTo>
                      <a:pt x="1736" y="5921"/>
                    </a:lnTo>
                    <a:lnTo>
                      <a:pt x="1848" y="5933"/>
                    </a:lnTo>
                    <a:lnTo>
                      <a:pt x="1970" y="5945"/>
                    </a:lnTo>
                    <a:lnTo>
                      <a:pt x="1992" y="5946"/>
                    </a:lnTo>
                    <a:lnTo>
                      <a:pt x="2014" y="5945"/>
                    </a:lnTo>
                    <a:lnTo>
                      <a:pt x="2038" y="5941"/>
                    </a:lnTo>
                    <a:lnTo>
                      <a:pt x="2062" y="5936"/>
                    </a:lnTo>
                    <a:lnTo>
                      <a:pt x="2087" y="5928"/>
                    </a:lnTo>
                    <a:lnTo>
                      <a:pt x="2111" y="5919"/>
                    </a:lnTo>
                    <a:lnTo>
                      <a:pt x="2135" y="5908"/>
                    </a:lnTo>
                    <a:lnTo>
                      <a:pt x="2158" y="5895"/>
                    </a:lnTo>
                    <a:lnTo>
                      <a:pt x="2179" y="5882"/>
                    </a:lnTo>
                    <a:lnTo>
                      <a:pt x="2200" y="5867"/>
                    </a:lnTo>
                    <a:lnTo>
                      <a:pt x="2217" y="5851"/>
                    </a:lnTo>
                    <a:lnTo>
                      <a:pt x="2234" y="5833"/>
                    </a:lnTo>
                    <a:lnTo>
                      <a:pt x="2246" y="5815"/>
                    </a:lnTo>
                    <a:lnTo>
                      <a:pt x="2258" y="5797"/>
                    </a:lnTo>
                    <a:lnTo>
                      <a:pt x="2264" y="5777"/>
                    </a:lnTo>
                    <a:lnTo>
                      <a:pt x="2268" y="5757"/>
                    </a:lnTo>
                    <a:lnTo>
                      <a:pt x="2291" y="5454"/>
                    </a:lnTo>
                    <a:lnTo>
                      <a:pt x="2311" y="5196"/>
                    </a:lnTo>
                    <a:lnTo>
                      <a:pt x="2329" y="4971"/>
                    </a:lnTo>
                    <a:lnTo>
                      <a:pt x="2343" y="4771"/>
                    </a:lnTo>
                    <a:lnTo>
                      <a:pt x="2358" y="4585"/>
                    </a:lnTo>
                    <a:lnTo>
                      <a:pt x="2371" y="4401"/>
                    </a:lnTo>
                    <a:lnTo>
                      <a:pt x="2386" y="4212"/>
                    </a:lnTo>
                    <a:lnTo>
                      <a:pt x="2403" y="4005"/>
                    </a:lnTo>
                    <a:lnTo>
                      <a:pt x="2420" y="3770"/>
                    </a:lnTo>
                    <a:lnTo>
                      <a:pt x="2441" y="3498"/>
                    </a:lnTo>
                    <a:lnTo>
                      <a:pt x="2465" y="3178"/>
                    </a:lnTo>
                    <a:lnTo>
                      <a:pt x="2494" y="2801"/>
                    </a:lnTo>
                    <a:lnTo>
                      <a:pt x="2528" y="2355"/>
                    </a:lnTo>
                    <a:lnTo>
                      <a:pt x="2568" y="1831"/>
                    </a:lnTo>
                    <a:lnTo>
                      <a:pt x="2615" y="1217"/>
                    </a:lnTo>
                    <a:lnTo>
                      <a:pt x="2670" y="505"/>
                    </a:lnTo>
                    <a:lnTo>
                      <a:pt x="2671" y="477"/>
                    </a:lnTo>
                    <a:lnTo>
                      <a:pt x="2669" y="451"/>
                    </a:lnTo>
                    <a:lnTo>
                      <a:pt x="2663" y="427"/>
                    </a:lnTo>
                    <a:lnTo>
                      <a:pt x="2654" y="405"/>
                    </a:lnTo>
                    <a:lnTo>
                      <a:pt x="2643" y="384"/>
                    </a:lnTo>
                    <a:lnTo>
                      <a:pt x="2628" y="366"/>
                    </a:lnTo>
                    <a:lnTo>
                      <a:pt x="2611" y="347"/>
                    </a:lnTo>
                    <a:lnTo>
                      <a:pt x="2591" y="332"/>
                    </a:lnTo>
                    <a:lnTo>
                      <a:pt x="2567" y="317"/>
                    </a:lnTo>
                    <a:lnTo>
                      <a:pt x="2540" y="304"/>
                    </a:lnTo>
                    <a:lnTo>
                      <a:pt x="2511" y="291"/>
                    </a:lnTo>
                    <a:lnTo>
                      <a:pt x="2479" y="281"/>
                    </a:lnTo>
                    <a:lnTo>
                      <a:pt x="2443" y="271"/>
                    </a:lnTo>
                    <a:lnTo>
                      <a:pt x="2406" y="262"/>
                    </a:lnTo>
                    <a:lnTo>
                      <a:pt x="2364" y="255"/>
                    </a:lnTo>
                    <a:lnTo>
                      <a:pt x="2320" y="248"/>
                    </a:lnTo>
                    <a:lnTo>
                      <a:pt x="2269" y="241"/>
                    </a:lnTo>
                    <a:lnTo>
                      <a:pt x="2224" y="233"/>
                    </a:lnTo>
                    <a:lnTo>
                      <a:pt x="2180" y="227"/>
                    </a:lnTo>
                    <a:lnTo>
                      <a:pt x="2140" y="221"/>
                    </a:lnTo>
                    <a:lnTo>
                      <a:pt x="2103" y="216"/>
                    </a:lnTo>
                    <a:lnTo>
                      <a:pt x="2069" y="211"/>
                    </a:lnTo>
                    <a:lnTo>
                      <a:pt x="2035" y="206"/>
                    </a:lnTo>
                    <a:lnTo>
                      <a:pt x="2004" y="202"/>
                    </a:lnTo>
                    <a:lnTo>
                      <a:pt x="1974" y="198"/>
                    </a:lnTo>
                    <a:lnTo>
                      <a:pt x="1945" y="193"/>
                    </a:lnTo>
                    <a:lnTo>
                      <a:pt x="1916" y="189"/>
                    </a:lnTo>
                    <a:lnTo>
                      <a:pt x="1885" y="185"/>
                    </a:lnTo>
                    <a:lnTo>
                      <a:pt x="1855" y="181"/>
                    </a:lnTo>
                    <a:lnTo>
                      <a:pt x="1825" y="176"/>
                    </a:lnTo>
                    <a:lnTo>
                      <a:pt x="1793" y="171"/>
                    </a:lnTo>
                    <a:lnTo>
                      <a:pt x="1758" y="166"/>
                    </a:lnTo>
                    <a:lnTo>
                      <a:pt x="1722" y="160"/>
                    </a:lnTo>
                    <a:lnTo>
                      <a:pt x="1684" y="155"/>
                    </a:lnTo>
                    <a:lnTo>
                      <a:pt x="1641" y="149"/>
                    </a:lnTo>
                    <a:lnTo>
                      <a:pt x="1596" y="142"/>
                    </a:lnTo>
                    <a:lnTo>
                      <a:pt x="1546" y="135"/>
                    </a:lnTo>
                    <a:lnTo>
                      <a:pt x="1493" y="128"/>
                    </a:lnTo>
                    <a:lnTo>
                      <a:pt x="1435" y="119"/>
                    </a:lnTo>
                    <a:lnTo>
                      <a:pt x="1372" y="109"/>
                    </a:lnTo>
                    <a:lnTo>
                      <a:pt x="1304" y="99"/>
                    </a:lnTo>
                    <a:lnTo>
                      <a:pt x="1230" y="89"/>
                    </a:lnTo>
                    <a:lnTo>
                      <a:pt x="1149" y="77"/>
                    </a:lnTo>
                    <a:lnTo>
                      <a:pt x="1061" y="65"/>
                    </a:lnTo>
                    <a:lnTo>
                      <a:pt x="965" y="51"/>
                    </a:lnTo>
                    <a:lnTo>
                      <a:pt x="863" y="36"/>
                    </a:lnTo>
                    <a:lnTo>
                      <a:pt x="753" y="20"/>
                    </a:lnTo>
                    <a:lnTo>
                      <a:pt x="635" y="3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477920" y="4329720"/>
                <a:ext cx="182880" cy="342000"/>
              </a:xfrm>
              <a:custGeom>
                <a:avLst/>
                <a:gdLst/>
                <a:ahLst/>
                <a:rect l="l" t="t" r="r" b="b"/>
                <a:pathLst>
                  <a:path w="2644" h="5921">
                    <a:moveTo>
                      <a:pt x="615" y="3"/>
                    </a:moveTo>
                    <a:lnTo>
                      <a:pt x="584" y="0"/>
                    </a:lnTo>
                    <a:lnTo>
                      <a:pt x="557" y="2"/>
                    </a:lnTo>
                    <a:lnTo>
                      <a:pt x="534" y="7"/>
                    </a:lnTo>
                    <a:lnTo>
                      <a:pt x="514" y="15"/>
                    </a:lnTo>
                    <a:lnTo>
                      <a:pt x="496" y="27"/>
                    </a:lnTo>
                    <a:lnTo>
                      <a:pt x="480" y="42"/>
                    </a:lnTo>
                    <a:lnTo>
                      <a:pt x="468" y="59"/>
                    </a:lnTo>
                    <a:lnTo>
                      <a:pt x="457" y="78"/>
                    </a:lnTo>
                    <a:lnTo>
                      <a:pt x="448" y="100"/>
                    </a:lnTo>
                    <a:lnTo>
                      <a:pt x="441" y="124"/>
                    </a:lnTo>
                    <a:lnTo>
                      <a:pt x="435" y="150"/>
                    </a:lnTo>
                    <a:lnTo>
                      <a:pt x="430" y="177"/>
                    </a:lnTo>
                    <a:lnTo>
                      <a:pt x="426" y="205"/>
                    </a:lnTo>
                    <a:lnTo>
                      <a:pt x="423" y="235"/>
                    </a:lnTo>
                    <a:lnTo>
                      <a:pt x="420" y="265"/>
                    </a:lnTo>
                    <a:lnTo>
                      <a:pt x="418" y="296"/>
                    </a:lnTo>
                    <a:lnTo>
                      <a:pt x="394" y="588"/>
                    </a:lnTo>
                    <a:lnTo>
                      <a:pt x="373" y="837"/>
                    </a:lnTo>
                    <a:lnTo>
                      <a:pt x="355" y="1054"/>
                    </a:lnTo>
                    <a:lnTo>
                      <a:pt x="340" y="1248"/>
                    </a:lnTo>
                    <a:lnTo>
                      <a:pt x="325" y="1428"/>
                    </a:lnTo>
                    <a:lnTo>
                      <a:pt x="311" y="1605"/>
                    </a:lnTo>
                    <a:lnTo>
                      <a:pt x="296" y="1788"/>
                    </a:lnTo>
                    <a:lnTo>
                      <a:pt x="279" y="1988"/>
                    </a:lnTo>
                    <a:lnTo>
                      <a:pt x="261" y="2214"/>
                    </a:lnTo>
                    <a:lnTo>
                      <a:pt x="239" y="2476"/>
                    </a:lnTo>
                    <a:lnTo>
                      <a:pt x="214" y="2785"/>
                    </a:lnTo>
                    <a:lnTo>
                      <a:pt x="184" y="3150"/>
                    </a:lnTo>
                    <a:lnTo>
                      <a:pt x="147" y="3582"/>
                    </a:lnTo>
                    <a:lnTo>
                      <a:pt x="106" y="4089"/>
                    </a:lnTo>
                    <a:lnTo>
                      <a:pt x="57" y="4682"/>
                    </a:lnTo>
                    <a:lnTo>
                      <a:pt x="0" y="5371"/>
                    </a:lnTo>
                    <a:lnTo>
                      <a:pt x="0" y="5396"/>
                    </a:lnTo>
                    <a:lnTo>
                      <a:pt x="2" y="5425"/>
                    </a:lnTo>
                    <a:lnTo>
                      <a:pt x="7" y="5453"/>
                    </a:lnTo>
                    <a:lnTo>
                      <a:pt x="14" y="5484"/>
                    </a:lnTo>
                    <a:lnTo>
                      <a:pt x="23" y="5514"/>
                    </a:lnTo>
                    <a:lnTo>
                      <a:pt x="36" y="5545"/>
                    </a:lnTo>
                    <a:lnTo>
                      <a:pt x="49" y="5574"/>
                    </a:lnTo>
                    <a:lnTo>
                      <a:pt x="66" y="5604"/>
                    </a:lnTo>
                    <a:lnTo>
                      <a:pt x="84" y="5631"/>
                    </a:lnTo>
                    <a:lnTo>
                      <a:pt x="103" y="5658"/>
                    </a:lnTo>
                    <a:lnTo>
                      <a:pt x="123" y="5681"/>
                    </a:lnTo>
                    <a:lnTo>
                      <a:pt x="145" y="5701"/>
                    </a:lnTo>
                    <a:lnTo>
                      <a:pt x="169" y="5720"/>
                    </a:lnTo>
                    <a:lnTo>
                      <a:pt x="193" y="5733"/>
                    </a:lnTo>
                    <a:lnTo>
                      <a:pt x="218" y="5743"/>
                    </a:lnTo>
                    <a:lnTo>
                      <a:pt x="243" y="5748"/>
                    </a:lnTo>
                    <a:lnTo>
                      <a:pt x="294" y="5753"/>
                    </a:lnTo>
                    <a:lnTo>
                      <a:pt x="341" y="5758"/>
                    </a:lnTo>
                    <a:lnTo>
                      <a:pt x="385" y="5762"/>
                    </a:lnTo>
                    <a:lnTo>
                      <a:pt x="425" y="5766"/>
                    </a:lnTo>
                    <a:lnTo>
                      <a:pt x="463" y="5770"/>
                    </a:lnTo>
                    <a:lnTo>
                      <a:pt x="498" y="5773"/>
                    </a:lnTo>
                    <a:lnTo>
                      <a:pt x="531" y="5776"/>
                    </a:lnTo>
                    <a:lnTo>
                      <a:pt x="563" y="5780"/>
                    </a:lnTo>
                    <a:lnTo>
                      <a:pt x="594" y="5783"/>
                    </a:lnTo>
                    <a:lnTo>
                      <a:pt x="623" y="5786"/>
                    </a:lnTo>
                    <a:lnTo>
                      <a:pt x="653" y="5789"/>
                    </a:lnTo>
                    <a:lnTo>
                      <a:pt x="682" y="5792"/>
                    </a:lnTo>
                    <a:lnTo>
                      <a:pt x="713" y="5795"/>
                    </a:lnTo>
                    <a:lnTo>
                      <a:pt x="745" y="5798"/>
                    </a:lnTo>
                    <a:lnTo>
                      <a:pt x="777" y="5801"/>
                    </a:lnTo>
                    <a:lnTo>
                      <a:pt x="811" y="5805"/>
                    </a:lnTo>
                    <a:lnTo>
                      <a:pt x="848" y="5808"/>
                    </a:lnTo>
                    <a:lnTo>
                      <a:pt x="887" y="5812"/>
                    </a:lnTo>
                    <a:lnTo>
                      <a:pt x="930" y="5816"/>
                    </a:lnTo>
                    <a:lnTo>
                      <a:pt x="976" y="5821"/>
                    </a:lnTo>
                    <a:lnTo>
                      <a:pt x="1025" y="5826"/>
                    </a:lnTo>
                    <a:lnTo>
                      <a:pt x="1079" y="5831"/>
                    </a:lnTo>
                    <a:lnTo>
                      <a:pt x="1138" y="5837"/>
                    </a:lnTo>
                    <a:lnTo>
                      <a:pt x="1201" y="5844"/>
                    </a:lnTo>
                    <a:lnTo>
                      <a:pt x="1271" y="5851"/>
                    </a:lnTo>
                    <a:lnTo>
                      <a:pt x="1346" y="5859"/>
                    </a:lnTo>
                    <a:lnTo>
                      <a:pt x="1426" y="5867"/>
                    </a:lnTo>
                    <a:lnTo>
                      <a:pt x="1515" y="5876"/>
                    </a:lnTo>
                    <a:lnTo>
                      <a:pt x="1610" y="5885"/>
                    </a:lnTo>
                    <a:lnTo>
                      <a:pt x="1713" y="5896"/>
                    </a:lnTo>
                    <a:lnTo>
                      <a:pt x="1825" y="5908"/>
                    </a:lnTo>
                    <a:lnTo>
                      <a:pt x="1944" y="5920"/>
                    </a:lnTo>
                    <a:lnTo>
                      <a:pt x="1966" y="5921"/>
                    </a:lnTo>
                    <a:lnTo>
                      <a:pt x="1988" y="5920"/>
                    </a:lnTo>
                    <a:lnTo>
                      <a:pt x="2012" y="5916"/>
                    </a:lnTo>
                    <a:lnTo>
                      <a:pt x="2036" y="5910"/>
                    </a:lnTo>
                    <a:lnTo>
                      <a:pt x="2061" y="5903"/>
                    </a:lnTo>
                    <a:lnTo>
                      <a:pt x="2085" y="5893"/>
                    </a:lnTo>
                    <a:lnTo>
                      <a:pt x="2109" y="5882"/>
                    </a:lnTo>
                    <a:lnTo>
                      <a:pt x="2132" y="5870"/>
                    </a:lnTo>
                    <a:lnTo>
                      <a:pt x="2153" y="5856"/>
                    </a:lnTo>
                    <a:lnTo>
                      <a:pt x="2173" y="5842"/>
                    </a:lnTo>
                    <a:lnTo>
                      <a:pt x="2191" y="5825"/>
                    </a:lnTo>
                    <a:lnTo>
                      <a:pt x="2207" y="5808"/>
                    </a:lnTo>
                    <a:lnTo>
                      <a:pt x="2220" y="5790"/>
                    </a:lnTo>
                    <a:lnTo>
                      <a:pt x="2231" y="5771"/>
                    </a:lnTo>
                    <a:lnTo>
                      <a:pt x="2238" y="5752"/>
                    </a:lnTo>
                    <a:lnTo>
                      <a:pt x="2241" y="5732"/>
                    </a:lnTo>
                    <a:lnTo>
                      <a:pt x="2264" y="5430"/>
                    </a:lnTo>
                    <a:lnTo>
                      <a:pt x="2284" y="5173"/>
                    </a:lnTo>
                    <a:lnTo>
                      <a:pt x="2300" y="4950"/>
                    </a:lnTo>
                    <a:lnTo>
                      <a:pt x="2316" y="4751"/>
                    </a:lnTo>
                    <a:lnTo>
                      <a:pt x="2331" y="4565"/>
                    </a:lnTo>
                    <a:lnTo>
                      <a:pt x="2344" y="4383"/>
                    </a:lnTo>
                    <a:lnTo>
                      <a:pt x="2359" y="4194"/>
                    </a:lnTo>
                    <a:lnTo>
                      <a:pt x="2375" y="3987"/>
                    </a:lnTo>
                    <a:lnTo>
                      <a:pt x="2393" y="3754"/>
                    </a:lnTo>
                    <a:lnTo>
                      <a:pt x="2414" y="3483"/>
                    </a:lnTo>
                    <a:lnTo>
                      <a:pt x="2438" y="3165"/>
                    </a:lnTo>
                    <a:lnTo>
                      <a:pt x="2467" y="2789"/>
                    </a:lnTo>
                    <a:lnTo>
                      <a:pt x="2501" y="2345"/>
                    </a:lnTo>
                    <a:lnTo>
                      <a:pt x="2542" y="1822"/>
                    </a:lnTo>
                    <a:lnTo>
                      <a:pt x="2589" y="1211"/>
                    </a:lnTo>
                    <a:lnTo>
                      <a:pt x="2643" y="502"/>
                    </a:lnTo>
                    <a:lnTo>
                      <a:pt x="2644" y="475"/>
                    </a:lnTo>
                    <a:lnTo>
                      <a:pt x="2641" y="449"/>
                    </a:lnTo>
                    <a:lnTo>
                      <a:pt x="2635" y="425"/>
                    </a:lnTo>
                    <a:lnTo>
                      <a:pt x="2627" y="403"/>
                    </a:lnTo>
                    <a:lnTo>
                      <a:pt x="2615" y="383"/>
                    </a:lnTo>
                    <a:lnTo>
                      <a:pt x="2600" y="364"/>
                    </a:lnTo>
                    <a:lnTo>
                      <a:pt x="2583" y="346"/>
                    </a:lnTo>
                    <a:lnTo>
                      <a:pt x="2563" y="330"/>
                    </a:lnTo>
                    <a:lnTo>
                      <a:pt x="2539" y="316"/>
                    </a:lnTo>
                    <a:lnTo>
                      <a:pt x="2513" y="303"/>
                    </a:lnTo>
                    <a:lnTo>
                      <a:pt x="2484" y="291"/>
                    </a:lnTo>
                    <a:lnTo>
                      <a:pt x="2451" y="279"/>
                    </a:lnTo>
                    <a:lnTo>
                      <a:pt x="2416" y="269"/>
                    </a:lnTo>
                    <a:lnTo>
                      <a:pt x="2377" y="261"/>
                    </a:lnTo>
                    <a:lnTo>
                      <a:pt x="2337" y="253"/>
                    </a:lnTo>
                    <a:lnTo>
                      <a:pt x="2293" y="246"/>
                    </a:lnTo>
                    <a:lnTo>
                      <a:pt x="2243" y="239"/>
                    </a:lnTo>
                    <a:lnTo>
                      <a:pt x="2196" y="232"/>
                    </a:lnTo>
                    <a:lnTo>
                      <a:pt x="2154" y="225"/>
                    </a:lnTo>
                    <a:lnTo>
                      <a:pt x="2114" y="219"/>
                    </a:lnTo>
                    <a:lnTo>
                      <a:pt x="2078" y="214"/>
                    </a:lnTo>
                    <a:lnTo>
                      <a:pt x="2042" y="209"/>
                    </a:lnTo>
                    <a:lnTo>
                      <a:pt x="2010" y="205"/>
                    </a:lnTo>
                    <a:lnTo>
                      <a:pt x="1979" y="200"/>
                    </a:lnTo>
                    <a:lnTo>
                      <a:pt x="1949" y="196"/>
                    </a:lnTo>
                    <a:lnTo>
                      <a:pt x="1919" y="192"/>
                    </a:lnTo>
                    <a:lnTo>
                      <a:pt x="1890" y="187"/>
                    </a:lnTo>
                    <a:lnTo>
                      <a:pt x="1861" y="183"/>
                    </a:lnTo>
                    <a:lnTo>
                      <a:pt x="1831" y="179"/>
                    </a:lnTo>
                    <a:lnTo>
                      <a:pt x="1800" y="175"/>
                    </a:lnTo>
                    <a:lnTo>
                      <a:pt x="1768" y="170"/>
                    </a:lnTo>
                    <a:lnTo>
                      <a:pt x="1734" y="164"/>
                    </a:lnTo>
                    <a:lnTo>
                      <a:pt x="1698" y="159"/>
                    </a:lnTo>
                    <a:lnTo>
                      <a:pt x="1659" y="154"/>
                    </a:lnTo>
                    <a:lnTo>
                      <a:pt x="1617" y="148"/>
                    </a:lnTo>
                    <a:lnTo>
                      <a:pt x="1572" y="141"/>
                    </a:lnTo>
                    <a:lnTo>
                      <a:pt x="1523" y="134"/>
                    </a:lnTo>
                    <a:lnTo>
                      <a:pt x="1470" y="127"/>
                    </a:lnTo>
                    <a:lnTo>
                      <a:pt x="1412" y="119"/>
                    </a:lnTo>
                    <a:lnTo>
                      <a:pt x="1350" y="110"/>
                    </a:lnTo>
                    <a:lnTo>
                      <a:pt x="1282" y="99"/>
                    </a:lnTo>
                    <a:lnTo>
                      <a:pt x="1207" y="88"/>
                    </a:lnTo>
                    <a:lnTo>
                      <a:pt x="1127" y="77"/>
                    </a:lnTo>
                    <a:lnTo>
                      <a:pt x="1039" y="64"/>
                    </a:lnTo>
                    <a:lnTo>
                      <a:pt x="944" y="51"/>
                    </a:lnTo>
                    <a:lnTo>
                      <a:pt x="842" y="35"/>
                    </a:lnTo>
                    <a:lnTo>
                      <a:pt x="733" y="20"/>
                    </a:lnTo>
                    <a:lnTo>
                      <a:pt x="615" y="3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479360" y="4331160"/>
                <a:ext cx="181800" cy="339120"/>
              </a:xfrm>
              <a:custGeom>
                <a:avLst/>
                <a:gdLst/>
                <a:ahLst/>
                <a:rect l="l" t="t" r="r" b="b"/>
                <a:pathLst>
                  <a:path w="2618" h="5896">
                    <a:moveTo>
                      <a:pt x="601" y="3"/>
                    </a:moveTo>
                    <a:lnTo>
                      <a:pt x="567" y="0"/>
                    </a:lnTo>
                    <a:lnTo>
                      <a:pt x="539" y="0"/>
                    </a:lnTo>
                    <a:lnTo>
                      <a:pt x="514" y="4"/>
                    </a:lnTo>
                    <a:lnTo>
                      <a:pt x="493" y="10"/>
                    </a:lnTo>
                    <a:lnTo>
                      <a:pt x="477" y="20"/>
                    </a:lnTo>
                    <a:lnTo>
                      <a:pt x="463" y="34"/>
                    </a:lnTo>
                    <a:lnTo>
                      <a:pt x="452" y="50"/>
                    </a:lnTo>
                    <a:lnTo>
                      <a:pt x="444" y="68"/>
                    </a:lnTo>
                    <a:lnTo>
                      <a:pt x="437" y="89"/>
                    </a:lnTo>
                    <a:lnTo>
                      <a:pt x="432" y="113"/>
                    </a:lnTo>
                    <a:lnTo>
                      <a:pt x="429" y="138"/>
                    </a:lnTo>
                    <a:lnTo>
                      <a:pt x="427" y="166"/>
                    </a:lnTo>
                    <a:lnTo>
                      <a:pt x="425" y="196"/>
                    </a:lnTo>
                    <a:lnTo>
                      <a:pt x="423" y="227"/>
                    </a:lnTo>
                    <a:lnTo>
                      <a:pt x="421" y="260"/>
                    </a:lnTo>
                    <a:lnTo>
                      <a:pt x="419" y="295"/>
                    </a:lnTo>
                    <a:lnTo>
                      <a:pt x="1" y="5351"/>
                    </a:lnTo>
                    <a:lnTo>
                      <a:pt x="0" y="5378"/>
                    </a:lnTo>
                    <a:lnTo>
                      <a:pt x="2" y="5407"/>
                    </a:lnTo>
                    <a:lnTo>
                      <a:pt x="6" y="5437"/>
                    </a:lnTo>
                    <a:lnTo>
                      <a:pt x="14" y="5468"/>
                    </a:lnTo>
                    <a:lnTo>
                      <a:pt x="23" y="5498"/>
                    </a:lnTo>
                    <a:lnTo>
                      <a:pt x="35" y="5528"/>
                    </a:lnTo>
                    <a:lnTo>
                      <a:pt x="48" y="5557"/>
                    </a:lnTo>
                    <a:lnTo>
                      <a:pt x="64" y="5586"/>
                    </a:lnTo>
                    <a:lnTo>
                      <a:pt x="81" y="5613"/>
                    </a:lnTo>
                    <a:lnTo>
                      <a:pt x="100" y="5637"/>
                    </a:lnTo>
                    <a:lnTo>
                      <a:pt x="121" y="5661"/>
                    </a:lnTo>
                    <a:lnTo>
                      <a:pt x="143" y="5680"/>
                    </a:lnTo>
                    <a:lnTo>
                      <a:pt x="167" y="5697"/>
                    </a:lnTo>
                    <a:lnTo>
                      <a:pt x="192" y="5711"/>
                    </a:lnTo>
                    <a:lnTo>
                      <a:pt x="218" y="5720"/>
                    </a:lnTo>
                    <a:lnTo>
                      <a:pt x="245" y="5725"/>
                    </a:lnTo>
                    <a:lnTo>
                      <a:pt x="1922" y="5895"/>
                    </a:lnTo>
                    <a:lnTo>
                      <a:pt x="1946" y="5896"/>
                    </a:lnTo>
                    <a:lnTo>
                      <a:pt x="1970" y="5895"/>
                    </a:lnTo>
                    <a:lnTo>
                      <a:pt x="1995" y="5893"/>
                    </a:lnTo>
                    <a:lnTo>
                      <a:pt x="2020" y="5887"/>
                    </a:lnTo>
                    <a:lnTo>
                      <a:pt x="2044" y="5881"/>
                    </a:lnTo>
                    <a:lnTo>
                      <a:pt x="2068" y="5873"/>
                    </a:lnTo>
                    <a:lnTo>
                      <a:pt x="2091" y="5863"/>
                    </a:lnTo>
                    <a:lnTo>
                      <a:pt x="2114" y="5851"/>
                    </a:lnTo>
                    <a:lnTo>
                      <a:pt x="2135" y="5839"/>
                    </a:lnTo>
                    <a:lnTo>
                      <a:pt x="2153" y="5823"/>
                    </a:lnTo>
                    <a:lnTo>
                      <a:pt x="2170" y="5807"/>
                    </a:lnTo>
                    <a:lnTo>
                      <a:pt x="2186" y="5790"/>
                    </a:lnTo>
                    <a:lnTo>
                      <a:pt x="2198" y="5772"/>
                    </a:lnTo>
                    <a:lnTo>
                      <a:pt x="2207" y="5751"/>
                    </a:lnTo>
                    <a:lnTo>
                      <a:pt x="2215" y="5730"/>
                    </a:lnTo>
                    <a:lnTo>
                      <a:pt x="2218" y="5708"/>
                    </a:lnTo>
                    <a:lnTo>
                      <a:pt x="2617" y="498"/>
                    </a:lnTo>
                    <a:lnTo>
                      <a:pt x="2618" y="466"/>
                    </a:lnTo>
                    <a:lnTo>
                      <a:pt x="2616" y="436"/>
                    </a:lnTo>
                    <a:lnTo>
                      <a:pt x="2612" y="410"/>
                    </a:lnTo>
                    <a:lnTo>
                      <a:pt x="2605" y="386"/>
                    </a:lnTo>
                    <a:lnTo>
                      <a:pt x="2595" y="365"/>
                    </a:lnTo>
                    <a:lnTo>
                      <a:pt x="2581" y="347"/>
                    </a:lnTo>
                    <a:lnTo>
                      <a:pt x="2564" y="330"/>
                    </a:lnTo>
                    <a:lnTo>
                      <a:pt x="2546" y="315"/>
                    </a:lnTo>
                    <a:lnTo>
                      <a:pt x="2523" y="303"/>
                    </a:lnTo>
                    <a:lnTo>
                      <a:pt x="2497" y="292"/>
                    </a:lnTo>
                    <a:lnTo>
                      <a:pt x="2468" y="282"/>
                    </a:lnTo>
                    <a:lnTo>
                      <a:pt x="2435" y="272"/>
                    </a:lnTo>
                    <a:lnTo>
                      <a:pt x="2399" y="264"/>
                    </a:lnTo>
                    <a:lnTo>
                      <a:pt x="2359" y="257"/>
                    </a:lnTo>
                    <a:lnTo>
                      <a:pt x="2317" y="250"/>
                    </a:lnTo>
                    <a:lnTo>
                      <a:pt x="2270" y="243"/>
                    </a:lnTo>
                    <a:lnTo>
                      <a:pt x="601" y="3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642440" y="4296600"/>
                <a:ext cx="24480" cy="6480"/>
              </a:xfrm>
              <a:custGeom>
                <a:avLst/>
                <a:gdLst/>
                <a:ahLst/>
                <a:rect l="l" t="t" r="r" b="b"/>
                <a:pathLst>
                  <a:path w="369" h="116">
                    <a:moveTo>
                      <a:pt x="195" y="15"/>
                    </a:moveTo>
                    <a:lnTo>
                      <a:pt x="213" y="20"/>
                    </a:lnTo>
                    <a:lnTo>
                      <a:pt x="231" y="26"/>
                    </a:lnTo>
                    <a:lnTo>
                      <a:pt x="249" y="32"/>
                    </a:lnTo>
                    <a:lnTo>
                      <a:pt x="264" y="39"/>
                    </a:lnTo>
                    <a:lnTo>
                      <a:pt x="280" y="46"/>
                    </a:lnTo>
                    <a:lnTo>
                      <a:pt x="295" y="54"/>
                    </a:lnTo>
                    <a:lnTo>
                      <a:pt x="308" y="61"/>
                    </a:lnTo>
                    <a:lnTo>
                      <a:pt x="321" y="68"/>
                    </a:lnTo>
                    <a:lnTo>
                      <a:pt x="332" y="77"/>
                    </a:lnTo>
                    <a:lnTo>
                      <a:pt x="341" y="83"/>
                    </a:lnTo>
                    <a:lnTo>
                      <a:pt x="350" y="90"/>
                    </a:lnTo>
                    <a:lnTo>
                      <a:pt x="357" y="96"/>
                    </a:lnTo>
                    <a:lnTo>
                      <a:pt x="363" y="101"/>
                    </a:lnTo>
                    <a:lnTo>
                      <a:pt x="366" y="106"/>
                    </a:lnTo>
                    <a:lnTo>
                      <a:pt x="369" y="110"/>
                    </a:lnTo>
                    <a:lnTo>
                      <a:pt x="369" y="113"/>
                    </a:lnTo>
                    <a:lnTo>
                      <a:pt x="368" y="115"/>
                    </a:lnTo>
                    <a:lnTo>
                      <a:pt x="365" y="116"/>
                    </a:lnTo>
                    <a:lnTo>
                      <a:pt x="361" y="115"/>
                    </a:lnTo>
                    <a:lnTo>
                      <a:pt x="355" y="114"/>
                    </a:lnTo>
                    <a:lnTo>
                      <a:pt x="347" y="112"/>
                    </a:lnTo>
                    <a:lnTo>
                      <a:pt x="338" y="110"/>
                    </a:lnTo>
                    <a:lnTo>
                      <a:pt x="328" y="106"/>
                    </a:lnTo>
                    <a:lnTo>
                      <a:pt x="316" y="103"/>
                    </a:lnTo>
                    <a:lnTo>
                      <a:pt x="303" y="98"/>
                    </a:lnTo>
                    <a:lnTo>
                      <a:pt x="289" y="94"/>
                    </a:lnTo>
                    <a:lnTo>
                      <a:pt x="275" y="89"/>
                    </a:lnTo>
                    <a:lnTo>
                      <a:pt x="258" y="84"/>
                    </a:lnTo>
                    <a:lnTo>
                      <a:pt x="241" y="78"/>
                    </a:lnTo>
                    <a:lnTo>
                      <a:pt x="225" y="72"/>
                    </a:lnTo>
                    <a:lnTo>
                      <a:pt x="206" y="67"/>
                    </a:lnTo>
                    <a:lnTo>
                      <a:pt x="187" y="62"/>
                    </a:lnTo>
                    <a:lnTo>
                      <a:pt x="169" y="57"/>
                    </a:lnTo>
                    <a:lnTo>
                      <a:pt x="150" y="53"/>
                    </a:lnTo>
                    <a:lnTo>
                      <a:pt x="132" y="49"/>
                    </a:lnTo>
                    <a:lnTo>
                      <a:pt x="114" y="45"/>
                    </a:lnTo>
                    <a:lnTo>
                      <a:pt x="98" y="42"/>
                    </a:lnTo>
                    <a:lnTo>
                      <a:pt x="82" y="39"/>
                    </a:lnTo>
                    <a:lnTo>
                      <a:pt x="68" y="37"/>
                    </a:lnTo>
                    <a:lnTo>
                      <a:pt x="55" y="34"/>
                    </a:lnTo>
                    <a:lnTo>
                      <a:pt x="43" y="32"/>
                    </a:lnTo>
                    <a:lnTo>
                      <a:pt x="31" y="30"/>
                    </a:lnTo>
                    <a:lnTo>
                      <a:pt x="22" y="28"/>
                    </a:lnTo>
                    <a:lnTo>
                      <a:pt x="15" y="26"/>
                    </a:lnTo>
                    <a:lnTo>
                      <a:pt x="7" y="24"/>
                    </a:lnTo>
                    <a:lnTo>
                      <a:pt x="3" y="22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7" y="7"/>
                    </a:lnTo>
                    <a:lnTo>
                      <a:pt x="26" y="5"/>
                    </a:lnTo>
                    <a:lnTo>
                      <a:pt x="35" y="3"/>
                    </a:lnTo>
                    <a:lnTo>
                      <a:pt x="47" y="1"/>
                    </a:lnTo>
                    <a:lnTo>
                      <a:pt x="60" y="0"/>
                    </a:lnTo>
                    <a:lnTo>
                      <a:pt x="74" y="0"/>
                    </a:lnTo>
                    <a:lnTo>
                      <a:pt x="88" y="0"/>
                    </a:lnTo>
                    <a:lnTo>
                      <a:pt x="105" y="0"/>
                    </a:lnTo>
                    <a:lnTo>
                      <a:pt x="122" y="2"/>
                    </a:lnTo>
                    <a:lnTo>
                      <a:pt x="139" y="3"/>
                    </a:lnTo>
                    <a:lnTo>
                      <a:pt x="157" y="6"/>
                    </a:lnTo>
                    <a:lnTo>
                      <a:pt x="176" y="10"/>
                    </a:lnTo>
                    <a:lnTo>
                      <a:pt x="195" y="15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509960" y="4331160"/>
                <a:ext cx="150840" cy="30240"/>
              </a:xfrm>
              <a:custGeom>
                <a:avLst/>
                <a:gdLst/>
                <a:ahLst/>
                <a:rect l="l" t="t" r="r" b="b"/>
                <a:pathLst>
                  <a:path w="2198" h="528">
                    <a:moveTo>
                      <a:pt x="142" y="1"/>
                    </a:moveTo>
                    <a:lnTo>
                      <a:pt x="2095" y="297"/>
                    </a:lnTo>
                    <a:lnTo>
                      <a:pt x="2123" y="304"/>
                    </a:lnTo>
                    <a:lnTo>
                      <a:pt x="2146" y="315"/>
                    </a:lnTo>
                    <a:lnTo>
                      <a:pt x="2165" y="330"/>
                    </a:lnTo>
                    <a:lnTo>
                      <a:pt x="2179" y="349"/>
                    </a:lnTo>
                    <a:lnTo>
                      <a:pt x="2190" y="369"/>
                    </a:lnTo>
                    <a:lnTo>
                      <a:pt x="2196" y="391"/>
                    </a:lnTo>
                    <a:lnTo>
                      <a:pt x="2198" y="414"/>
                    </a:lnTo>
                    <a:lnTo>
                      <a:pt x="2196" y="436"/>
                    </a:lnTo>
                    <a:lnTo>
                      <a:pt x="2191" y="458"/>
                    </a:lnTo>
                    <a:lnTo>
                      <a:pt x="2181" y="478"/>
                    </a:lnTo>
                    <a:lnTo>
                      <a:pt x="2169" y="496"/>
                    </a:lnTo>
                    <a:lnTo>
                      <a:pt x="2153" y="510"/>
                    </a:lnTo>
                    <a:lnTo>
                      <a:pt x="2133" y="521"/>
                    </a:lnTo>
                    <a:lnTo>
                      <a:pt x="2112" y="528"/>
                    </a:lnTo>
                    <a:lnTo>
                      <a:pt x="2087" y="528"/>
                    </a:lnTo>
                    <a:lnTo>
                      <a:pt x="2058" y="522"/>
                    </a:lnTo>
                    <a:lnTo>
                      <a:pt x="2047" y="515"/>
                    </a:lnTo>
                    <a:lnTo>
                      <a:pt x="2039" y="504"/>
                    </a:lnTo>
                    <a:lnTo>
                      <a:pt x="2032" y="491"/>
                    </a:lnTo>
                    <a:lnTo>
                      <a:pt x="2027" y="476"/>
                    </a:lnTo>
                    <a:lnTo>
                      <a:pt x="2022" y="460"/>
                    </a:lnTo>
                    <a:lnTo>
                      <a:pt x="2016" y="447"/>
                    </a:lnTo>
                    <a:lnTo>
                      <a:pt x="2009" y="437"/>
                    </a:lnTo>
                    <a:lnTo>
                      <a:pt x="1997" y="432"/>
                    </a:lnTo>
                    <a:lnTo>
                      <a:pt x="157" y="154"/>
                    </a:lnTo>
                    <a:lnTo>
                      <a:pt x="148" y="157"/>
                    </a:lnTo>
                    <a:lnTo>
                      <a:pt x="141" y="164"/>
                    </a:lnTo>
                    <a:lnTo>
                      <a:pt x="136" y="176"/>
                    </a:lnTo>
                    <a:lnTo>
                      <a:pt x="132" y="189"/>
                    </a:lnTo>
                    <a:lnTo>
                      <a:pt x="127" y="203"/>
                    </a:lnTo>
                    <a:lnTo>
                      <a:pt x="123" y="215"/>
                    </a:lnTo>
                    <a:lnTo>
                      <a:pt x="116" y="224"/>
                    </a:lnTo>
                    <a:lnTo>
                      <a:pt x="106" y="227"/>
                    </a:lnTo>
                    <a:lnTo>
                      <a:pt x="78" y="224"/>
                    </a:lnTo>
                    <a:lnTo>
                      <a:pt x="54" y="215"/>
                    </a:lnTo>
                    <a:lnTo>
                      <a:pt x="34" y="203"/>
                    </a:lnTo>
                    <a:lnTo>
                      <a:pt x="20" y="188"/>
                    </a:lnTo>
                    <a:lnTo>
                      <a:pt x="9" y="170"/>
                    </a:lnTo>
                    <a:lnTo>
                      <a:pt x="2" y="148"/>
                    </a:lnTo>
                    <a:lnTo>
                      <a:pt x="0" y="127"/>
                    </a:lnTo>
                    <a:lnTo>
                      <a:pt x="2" y="105"/>
                    </a:lnTo>
                    <a:lnTo>
                      <a:pt x="7" y="82"/>
                    </a:lnTo>
                    <a:lnTo>
                      <a:pt x="16" y="62"/>
                    </a:lnTo>
                    <a:lnTo>
                      <a:pt x="29" y="43"/>
                    </a:lnTo>
                    <a:lnTo>
                      <a:pt x="45" y="26"/>
                    </a:lnTo>
                    <a:lnTo>
                      <a:pt x="65" y="13"/>
                    </a:lnTo>
                    <a:lnTo>
                      <a:pt x="88" y="4"/>
                    </a:lnTo>
                    <a:lnTo>
                      <a:pt x="113" y="0"/>
                    </a:lnTo>
                    <a:lnTo>
                      <a:pt x="142" y="1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509960" y="4331160"/>
                <a:ext cx="150840" cy="29160"/>
              </a:xfrm>
              <a:custGeom>
                <a:avLst/>
                <a:gdLst/>
                <a:ahLst/>
                <a:rect l="l" t="t" r="r" b="b"/>
                <a:pathLst>
                  <a:path w="2184" h="516">
                    <a:moveTo>
                      <a:pt x="137" y="2"/>
                    </a:moveTo>
                    <a:lnTo>
                      <a:pt x="195" y="11"/>
                    </a:lnTo>
                    <a:lnTo>
                      <a:pt x="249" y="19"/>
                    </a:lnTo>
                    <a:lnTo>
                      <a:pt x="298" y="26"/>
                    </a:lnTo>
                    <a:lnTo>
                      <a:pt x="345" y="33"/>
                    </a:lnTo>
                    <a:lnTo>
                      <a:pt x="388" y="40"/>
                    </a:lnTo>
                    <a:lnTo>
                      <a:pt x="427" y="46"/>
                    </a:lnTo>
                    <a:lnTo>
                      <a:pt x="466" y="52"/>
                    </a:lnTo>
                    <a:lnTo>
                      <a:pt x="502" y="57"/>
                    </a:lnTo>
                    <a:lnTo>
                      <a:pt x="536" y="62"/>
                    </a:lnTo>
                    <a:lnTo>
                      <a:pt x="571" y="67"/>
                    </a:lnTo>
                    <a:lnTo>
                      <a:pt x="605" y="72"/>
                    </a:lnTo>
                    <a:lnTo>
                      <a:pt x="638" y="77"/>
                    </a:lnTo>
                    <a:lnTo>
                      <a:pt x="674" y="83"/>
                    </a:lnTo>
                    <a:lnTo>
                      <a:pt x="709" y="88"/>
                    </a:lnTo>
                    <a:lnTo>
                      <a:pt x="747" y="93"/>
                    </a:lnTo>
                    <a:lnTo>
                      <a:pt x="786" y="100"/>
                    </a:lnTo>
                    <a:lnTo>
                      <a:pt x="828" y="106"/>
                    </a:lnTo>
                    <a:lnTo>
                      <a:pt x="873" y="113"/>
                    </a:lnTo>
                    <a:lnTo>
                      <a:pt x="921" y="120"/>
                    </a:lnTo>
                    <a:lnTo>
                      <a:pt x="972" y="128"/>
                    </a:lnTo>
                    <a:lnTo>
                      <a:pt x="1030" y="137"/>
                    </a:lnTo>
                    <a:lnTo>
                      <a:pt x="1091" y="146"/>
                    </a:lnTo>
                    <a:lnTo>
                      <a:pt x="1159" y="156"/>
                    </a:lnTo>
                    <a:lnTo>
                      <a:pt x="1232" y="168"/>
                    </a:lnTo>
                    <a:lnTo>
                      <a:pt x="1312" y="180"/>
                    </a:lnTo>
                    <a:lnTo>
                      <a:pt x="1397" y="193"/>
                    </a:lnTo>
                    <a:lnTo>
                      <a:pt x="1491" y="206"/>
                    </a:lnTo>
                    <a:lnTo>
                      <a:pt x="1593" y="223"/>
                    </a:lnTo>
                    <a:lnTo>
                      <a:pt x="1702" y="239"/>
                    </a:lnTo>
                    <a:lnTo>
                      <a:pt x="1821" y="257"/>
                    </a:lnTo>
                    <a:lnTo>
                      <a:pt x="1947" y="276"/>
                    </a:lnTo>
                    <a:lnTo>
                      <a:pt x="2085" y="297"/>
                    </a:lnTo>
                    <a:lnTo>
                      <a:pt x="2112" y="304"/>
                    </a:lnTo>
                    <a:lnTo>
                      <a:pt x="2134" y="314"/>
                    </a:lnTo>
                    <a:lnTo>
                      <a:pt x="2151" y="329"/>
                    </a:lnTo>
                    <a:lnTo>
                      <a:pt x="2166" y="346"/>
                    </a:lnTo>
                    <a:lnTo>
                      <a:pt x="2175" y="365"/>
                    </a:lnTo>
                    <a:lnTo>
                      <a:pt x="2182" y="386"/>
                    </a:lnTo>
                    <a:lnTo>
                      <a:pt x="2184" y="408"/>
                    </a:lnTo>
                    <a:lnTo>
                      <a:pt x="2182" y="428"/>
                    </a:lnTo>
                    <a:lnTo>
                      <a:pt x="2176" y="449"/>
                    </a:lnTo>
                    <a:lnTo>
                      <a:pt x="2168" y="468"/>
                    </a:lnTo>
                    <a:lnTo>
                      <a:pt x="2157" y="485"/>
                    </a:lnTo>
                    <a:lnTo>
                      <a:pt x="2142" y="499"/>
                    </a:lnTo>
                    <a:lnTo>
                      <a:pt x="2124" y="509"/>
                    </a:lnTo>
                    <a:lnTo>
                      <a:pt x="2105" y="515"/>
                    </a:lnTo>
                    <a:lnTo>
                      <a:pt x="2082" y="516"/>
                    </a:lnTo>
                    <a:lnTo>
                      <a:pt x="2056" y="511"/>
                    </a:lnTo>
                    <a:lnTo>
                      <a:pt x="2044" y="504"/>
                    </a:lnTo>
                    <a:lnTo>
                      <a:pt x="2035" y="493"/>
                    </a:lnTo>
                    <a:lnTo>
                      <a:pt x="2028" y="479"/>
                    </a:lnTo>
                    <a:lnTo>
                      <a:pt x="2022" y="463"/>
                    </a:lnTo>
                    <a:lnTo>
                      <a:pt x="2016" y="448"/>
                    </a:lnTo>
                    <a:lnTo>
                      <a:pt x="2010" y="435"/>
                    </a:lnTo>
                    <a:lnTo>
                      <a:pt x="2002" y="426"/>
                    </a:lnTo>
                    <a:lnTo>
                      <a:pt x="1990" y="421"/>
                    </a:lnTo>
                    <a:lnTo>
                      <a:pt x="1935" y="413"/>
                    </a:lnTo>
                    <a:lnTo>
                      <a:pt x="1884" y="405"/>
                    </a:lnTo>
                    <a:lnTo>
                      <a:pt x="1837" y="397"/>
                    </a:lnTo>
                    <a:lnTo>
                      <a:pt x="1793" y="391"/>
                    </a:lnTo>
                    <a:lnTo>
                      <a:pt x="1753" y="384"/>
                    </a:lnTo>
                    <a:lnTo>
                      <a:pt x="1715" y="379"/>
                    </a:lnTo>
                    <a:lnTo>
                      <a:pt x="1679" y="373"/>
                    </a:lnTo>
                    <a:lnTo>
                      <a:pt x="1645" y="368"/>
                    </a:lnTo>
                    <a:lnTo>
                      <a:pt x="1611" y="363"/>
                    </a:lnTo>
                    <a:lnTo>
                      <a:pt x="1579" y="359"/>
                    </a:lnTo>
                    <a:lnTo>
                      <a:pt x="1548" y="354"/>
                    </a:lnTo>
                    <a:lnTo>
                      <a:pt x="1516" y="349"/>
                    </a:lnTo>
                    <a:lnTo>
                      <a:pt x="1482" y="344"/>
                    </a:lnTo>
                    <a:lnTo>
                      <a:pt x="1449" y="338"/>
                    </a:lnTo>
                    <a:lnTo>
                      <a:pt x="1414" y="333"/>
                    </a:lnTo>
                    <a:lnTo>
                      <a:pt x="1376" y="327"/>
                    </a:lnTo>
                    <a:lnTo>
                      <a:pt x="1337" y="321"/>
                    </a:lnTo>
                    <a:lnTo>
                      <a:pt x="1294" y="315"/>
                    </a:lnTo>
                    <a:lnTo>
                      <a:pt x="1248" y="308"/>
                    </a:lnTo>
                    <a:lnTo>
                      <a:pt x="1199" y="301"/>
                    </a:lnTo>
                    <a:lnTo>
                      <a:pt x="1145" y="293"/>
                    </a:lnTo>
                    <a:lnTo>
                      <a:pt x="1087" y="284"/>
                    </a:lnTo>
                    <a:lnTo>
                      <a:pt x="1023" y="274"/>
                    </a:lnTo>
                    <a:lnTo>
                      <a:pt x="955" y="264"/>
                    </a:lnTo>
                    <a:lnTo>
                      <a:pt x="881" y="253"/>
                    </a:lnTo>
                    <a:lnTo>
                      <a:pt x="800" y="240"/>
                    </a:lnTo>
                    <a:lnTo>
                      <a:pt x="711" y="227"/>
                    </a:lnTo>
                    <a:lnTo>
                      <a:pt x="615" y="212"/>
                    </a:lnTo>
                    <a:lnTo>
                      <a:pt x="511" y="197"/>
                    </a:lnTo>
                    <a:lnTo>
                      <a:pt x="400" y="180"/>
                    </a:lnTo>
                    <a:lnTo>
                      <a:pt x="279" y="162"/>
                    </a:lnTo>
                    <a:lnTo>
                      <a:pt x="150" y="142"/>
                    </a:lnTo>
                    <a:lnTo>
                      <a:pt x="141" y="144"/>
                    </a:lnTo>
                    <a:lnTo>
                      <a:pt x="134" y="151"/>
                    </a:lnTo>
                    <a:lnTo>
                      <a:pt x="128" y="163"/>
                    </a:lnTo>
                    <a:lnTo>
                      <a:pt x="123" y="176"/>
                    </a:lnTo>
                    <a:lnTo>
                      <a:pt x="119" y="189"/>
                    </a:lnTo>
                    <a:lnTo>
                      <a:pt x="113" y="200"/>
                    </a:lnTo>
                    <a:lnTo>
                      <a:pt x="106" y="208"/>
                    </a:lnTo>
                    <a:lnTo>
                      <a:pt x="96" y="211"/>
                    </a:lnTo>
                    <a:lnTo>
                      <a:pt x="70" y="208"/>
                    </a:lnTo>
                    <a:lnTo>
                      <a:pt x="47" y="201"/>
                    </a:lnTo>
                    <a:lnTo>
                      <a:pt x="31" y="189"/>
                    </a:lnTo>
                    <a:lnTo>
                      <a:pt x="17" y="175"/>
                    </a:lnTo>
                    <a:lnTo>
                      <a:pt x="8" y="157"/>
                    </a:lnTo>
                    <a:lnTo>
                      <a:pt x="1" y="138"/>
                    </a:lnTo>
                    <a:lnTo>
                      <a:pt x="0" y="118"/>
                    </a:lnTo>
                    <a:lnTo>
                      <a:pt x="3" y="97"/>
                    </a:lnTo>
                    <a:lnTo>
                      <a:pt x="8" y="76"/>
                    </a:lnTo>
                    <a:lnTo>
                      <a:pt x="17" y="57"/>
                    </a:lnTo>
                    <a:lnTo>
                      <a:pt x="30" y="40"/>
                    </a:lnTo>
                    <a:lnTo>
                      <a:pt x="45" y="24"/>
                    </a:lnTo>
                    <a:lnTo>
                      <a:pt x="64" y="12"/>
                    </a:lnTo>
                    <a:lnTo>
                      <a:pt x="85" y="4"/>
                    </a:lnTo>
                    <a:lnTo>
                      <a:pt x="110" y="0"/>
                    </a:lnTo>
                    <a:lnTo>
                      <a:pt x="137" y="2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509960" y="4331160"/>
                <a:ext cx="150840" cy="29160"/>
              </a:xfrm>
              <a:custGeom>
                <a:avLst/>
                <a:gdLst/>
                <a:ahLst/>
                <a:rect l="l" t="t" r="r" b="b"/>
                <a:pathLst>
                  <a:path w="2167" h="502">
                    <a:moveTo>
                      <a:pt x="129" y="2"/>
                    </a:moveTo>
                    <a:lnTo>
                      <a:pt x="187" y="11"/>
                    </a:lnTo>
                    <a:lnTo>
                      <a:pt x="241" y="19"/>
                    </a:lnTo>
                    <a:lnTo>
                      <a:pt x="291" y="26"/>
                    </a:lnTo>
                    <a:lnTo>
                      <a:pt x="337" y="34"/>
                    </a:lnTo>
                    <a:lnTo>
                      <a:pt x="380" y="40"/>
                    </a:lnTo>
                    <a:lnTo>
                      <a:pt x="420" y="47"/>
                    </a:lnTo>
                    <a:lnTo>
                      <a:pt x="458" y="52"/>
                    </a:lnTo>
                    <a:lnTo>
                      <a:pt x="494" y="58"/>
                    </a:lnTo>
                    <a:lnTo>
                      <a:pt x="529" y="63"/>
                    </a:lnTo>
                    <a:lnTo>
                      <a:pt x="563" y="68"/>
                    </a:lnTo>
                    <a:lnTo>
                      <a:pt x="597" y="73"/>
                    </a:lnTo>
                    <a:lnTo>
                      <a:pt x="631" y="78"/>
                    </a:lnTo>
                    <a:lnTo>
                      <a:pt x="666" y="83"/>
                    </a:lnTo>
                    <a:lnTo>
                      <a:pt x="701" y="89"/>
                    </a:lnTo>
                    <a:lnTo>
                      <a:pt x="739" y="95"/>
                    </a:lnTo>
                    <a:lnTo>
                      <a:pt x="778" y="101"/>
                    </a:lnTo>
                    <a:lnTo>
                      <a:pt x="820" y="107"/>
                    </a:lnTo>
                    <a:lnTo>
                      <a:pt x="865" y="114"/>
                    </a:lnTo>
                    <a:lnTo>
                      <a:pt x="913" y="121"/>
                    </a:lnTo>
                    <a:lnTo>
                      <a:pt x="964" y="129"/>
                    </a:lnTo>
                    <a:lnTo>
                      <a:pt x="1021" y="137"/>
                    </a:lnTo>
                    <a:lnTo>
                      <a:pt x="1083" y="147"/>
                    </a:lnTo>
                    <a:lnTo>
                      <a:pt x="1150" y="158"/>
                    </a:lnTo>
                    <a:lnTo>
                      <a:pt x="1223" y="168"/>
                    </a:lnTo>
                    <a:lnTo>
                      <a:pt x="1302" y="180"/>
                    </a:lnTo>
                    <a:lnTo>
                      <a:pt x="1388" y="193"/>
                    </a:lnTo>
                    <a:lnTo>
                      <a:pt x="1482" y="207"/>
                    </a:lnTo>
                    <a:lnTo>
                      <a:pt x="1583" y="223"/>
                    </a:lnTo>
                    <a:lnTo>
                      <a:pt x="1692" y="239"/>
                    </a:lnTo>
                    <a:lnTo>
                      <a:pt x="1809" y="257"/>
                    </a:lnTo>
                    <a:lnTo>
                      <a:pt x="1936" y="276"/>
                    </a:lnTo>
                    <a:lnTo>
                      <a:pt x="2074" y="297"/>
                    </a:lnTo>
                    <a:lnTo>
                      <a:pt x="2100" y="303"/>
                    </a:lnTo>
                    <a:lnTo>
                      <a:pt x="2121" y="313"/>
                    </a:lnTo>
                    <a:lnTo>
                      <a:pt x="2137" y="327"/>
                    </a:lnTo>
                    <a:lnTo>
                      <a:pt x="2151" y="343"/>
                    </a:lnTo>
                    <a:lnTo>
                      <a:pt x="2160" y="361"/>
                    </a:lnTo>
                    <a:lnTo>
                      <a:pt x="2165" y="380"/>
                    </a:lnTo>
                    <a:lnTo>
                      <a:pt x="2167" y="401"/>
                    </a:lnTo>
                    <a:lnTo>
                      <a:pt x="2166" y="420"/>
                    </a:lnTo>
                    <a:lnTo>
                      <a:pt x="2162" y="439"/>
                    </a:lnTo>
                    <a:lnTo>
                      <a:pt x="2154" y="456"/>
                    </a:lnTo>
                    <a:lnTo>
                      <a:pt x="2143" y="473"/>
                    </a:lnTo>
                    <a:lnTo>
                      <a:pt x="2130" y="486"/>
                    </a:lnTo>
                    <a:lnTo>
                      <a:pt x="2114" y="495"/>
                    </a:lnTo>
                    <a:lnTo>
                      <a:pt x="2096" y="501"/>
                    </a:lnTo>
                    <a:lnTo>
                      <a:pt x="2074" y="502"/>
                    </a:lnTo>
                    <a:lnTo>
                      <a:pt x="2051" y="498"/>
                    </a:lnTo>
                    <a:lnTo>
                      <a:pt x="2039" y="492"/>
                    </a:lnTo>
                    <a:lnTo>
                      <a:pt x="2030" y="481"/>
                    </a:lnTo>
                    <a:lnTo>
                      <a:pt x="2023" y="468"/>
                    </a:lnTo>
                    <a:lnTo>
                      <a:pt x="2017" y="451"/>
                    </a:lnTo>
                    <a:lnTo>
                      <a:pt x="2010" y="437"/>
                    </a:lnTo>
                    <a:lnTo>
                      <a:pt x="2003" y="424"/>
                    </a:lnTo>
                    <a:lnTo>
                      <a:pt x="1994" y="414"/>
                    </a:lnTo>
                    <a:lnTo>
                      <a:pt x="1982" y="409"/>
                    </a:lnTo>
                    <a:lnTo>
                      <a:pt x="1927" y="401"/>
                    </a:lnTo>
                    <a:lnTo>
                      <a:pt x="1876" y="392"/>
                    </a:lnTo>
                    <a:lnTo>
                      <a:pt x="1829" y="385"/>
                    </a:lnTo>
                    <a:lnTo>
                      <a:pt x="1785" y="379"/>
                    </a:lnTo>
                    <a:lnTo>
                      <a:pt x="1745" y="372"/>
                    </a:lnTo>
                    <a:lnTo>
                      <a:pt x="1707" y="367"/>
                    </a:lnTo>
                    <a:lnTo>
                      <a:pt x="1671" y="361"/>
                    </a:lnTo>
                    <a:lnTo>
                      <a:pt x="1638" y="356"/>
                    </a:lnTo>
                    <a:lnTo>
                      <a:pt x="1604" y="351"/>
                    </a:lnTo>
                    <a:lnTo>
                      <a:pt x="1572" y="347"/>
                    </a:lnTo>
                    <a:lnTo>
                      <a:pt x="1540" y="342"/>
                    </a:lnTo>
                    <a:lnTo>
                      <a:pt x="1508" y="336"/>
                    </a:lnTo>
                    <a:lnTo>
                      <a:pt x="1475" y="331"/>
                    </a:lnTo>
                    <a:lnTo>
                      <a:pt x="1441" y="326"/>
                    </a:lnTo>
                    <a:lnTo>
                      <a:pt x="1406" y="321"/>
                    </a:lnTo>
                    <a:lnTo>
                      <a:pt x="1369" y="315"/>
                    </a:lnTo>
                    <a:lnTo>
                      <a:pt x="1330" y="309"/>
                    </a:lnTo>
                    <a:lnTo>
                      <a:pt x="1287" y="303"/>
                    </a:lnTo>
                    <a:lnTo>
                      <a:pt x="1241" y="296"/>
                    </a:lnTo>
                    <a:lnTo>
                      <a:pt x="1191" y="289"/>
                    </a:lnTo>
                    <a:lnTo>
                      <a:pt x="1137" y="281"/>
                    </a:lnTo>
                    <a:lnTo>
                      <a:pt x="1079" y="271"/>
                    </a:lnTo>
                    <a:lnTo>
                      <a:pt x="1015" y="262"/>
                    </a:lnTo>
                    <a:lnTo>
                      <a:pt x="947" y="252"/>
                    </a:lnTo>
                    <a:lnTo>
                      <a:pt x="873" y="241"/>
                    </a:lnTo>
                    <a:lnTo>
                      <a:pt x="792" y="228"/>
                    </a:lnTo>
                    <a:lnTo>
                      <a:pt x="703" y="214"/>
                    </a:lnTo>
                    <a:lnTo>
                      <a:pt x="608" y="200"/>
                    </a:lnTo>
                    <a:lnTo>
                      <a:pt x="503" y="185"/>
                    </a:lnTo>
                    <a:lnTo>
                      <a:pt x="392" y="168"/>
                    </a:lnTo>
                    <a:lnTo>
                      <a:pt x="271" y="149"/>
                    </a:lnTo>
                    <a:lnTo>
                      <a:pt x="142" y="130"/>
                    </a:lnTo>
                    <a:lnTo>
                      <a:pt x="133" y="132"/>
                    </a:lnTo>
                    <a:lnTo>
                      <a:pt x="126" y="139"/>
                    </a:lnTo>
                    <a:lnTo>
                      <a:pt x="120" y="150"/>
                    </a:lnTo>
                    <a:lnTo>
                      <a:pt x="115" y="163"/>
                    </a:lnTo>
                    <a:lnTo>
                      <a:pt x="110" y="176"/>
                    </a:lnTo>
                    <a:lnTo>
                      <a:pt x="104" y="187"/>
                    </a:lnTo>
                    <a:lnTo>
                      <a:pt x="97" y="195"/>
                    </a:lnTo>
                    <a:lnTo>
                      <a:pt x="87" y="197"/>
                    </a:lnTo>
                    <a:lnTo>
                      <a:pt x="62" y="194"/>
                    </a:lnTo>
                    <a:lnTo>
                      <a:pt x="42" y="186"/>
                    </a:lnTo>
                    <a:lnTo>
                      <a:pt x="26" y="175"/>
                    </a:lnTo>
                    <a:lnTo>
                      <a:pt x="13" y="161"/>
                    </a:lnTo>
                    <a:lnTo>
                      <a:pt x="5" y="144"/>
                    </a:lnTo>
                    <a:lnTo>
                      <a:pt x="1" y="127"/>
                    </a:lnTo>
                    <a:lnTo>
                      <a:pt x="0" y="108"/>
                    </a:lnTo>
                    <a:lnTo>
                      <a:pt x="2" y="88"/>
                    </a:lnTo>
                    <a:lnTo>
                      <a:pt x="7" y="70"/>
                    </a:lnTo>
                    <a:lnTo>
                      <a:pt x="16" y="52"/>
                    </a:lnTo>
                    <a:lnTo>
                      <a:pt x="28" y="36"/>
                    </a:lnTo>
                    <a:lnTo>
                      <a:pt x="43" y="21"/>
                    </a:lnTo>
                    <a:lnTo>
                      <a:pt x="60" y="11"/>
                    </a:lnTo>
                    <a:lnTo>
                      <a:pt x="81" y="3"/>
                    </a:lnTo>
                    <a:lnTo>
                      <a:pt x="104" y="0"/>
                    </a:lnTo>
                    <a:lnTo>
                      <a:pt x="129" y="2"/>
                    </a:lnTo>
                    <a:close/>
                  </a:path>
                </a:pathLst>
              </a:custGeom>
              <a:solidFill>
                <a:srgbClr val="b0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511400" y="4331160"/>
                <a:ext cx="148320" cy="27360"/>
              </a:xfrm>
              <a:custGeom>
                <a:avLst/>
                <a:gdLst/>
                <a:ahLst/>
                <a:rect l="l" t="t" r="r" b="b"/>
                <a:pathLst>
                  <a:path w="2154" h="487">
                    <a:moveTo>
                      <a:pt x="124" y="2"/>
                    </a:moveTo>
                    <a:lnTo>
                      <a:pt x="182" y="11"/>
                    </a:lnTo>
                    <a:lnTo>
                      <a:pt x="236" y="19"/>
                    </a:lnTo>
                    <a:lnTo>
                      <a:pt x="285" y="27"/>
                    </a:lnTo>
                    <a:lnTo>
                      <a:pt x="331" y="34"/>
                    </a:lnTo>
                    <a:lnTo>
                      <a:pt x="374" y="40"/>
                    </a:lnTo>
                    <a:lnTo>
                      <a:pt x="414" y="46"/>
                    </a:lnTo>
                    <a:lnTo>
                      <a:pt x="452" y="52"/>
                    </a:lnTo>
                    <a:lnTo>
                      <a:pt x="488" y="57"/>
                    </a:lnTo>
                    <a:lnTo>
                      <a:pt x="522" y="62"/>
                    </a:lnTo>
                    <a:lnTo>
                      <a:pt x="557" y="67"/>
                    </a:lnTo>
                    <a:lnTo>
                      <a:pt x="591" y="72"/>
                    </a:lnTo>
                    <a:lnTo>
                      <a:pt x="624" y="77"/>
                    </a:lnTo>
                    <a:lnTo>
                      <a:pt x="659" y="82"/>
                    </a:lnTo>
                    <a:lnTo>
                      <a:pt x="695" y="89"/>
                    </a:lnTo>
                    <a:lnTo>
                      <a:pt x="732" y="94"/>
                    </a:lnTo>
                    <a:lnTo>
                      <a:pt x="771" y="100"/>
                    </a:lnTo>
                    <a:lnTo>
                      <a:pt x="813" y="106"/>
                    </a:lnTo>
                    <a:lnTo>
                      <a:pt x="859" y="113"/>
                    </a:lnTo>
                    <a:lnTo>
                      <a:pt x="906" y="120"/>
                    </a:lnTo>
                    <a:lnTo>
                      <a:pt x="957" y="128"/>
                    </a:lnTo>
                    <a:lnTo>
                      <a:pt x="1015" y="136"/>
                    </a:lnTo>
                    <a:lnTo>
                      <a:pt x="1076" y="145"/>
                    </a:lnTo>
                    <a:lnTo>
                      <a:pt x="1143" y="156"/>
                    </a:lnTo>
                    <a:lnTo>
                      <a:pt x="1216" y="167"/>
                    </a:lnTo>
                    <a:lnTo>
                      <a:pt x="1295" y="179"/>
                    </a:lnTo>
                    <a:lnTo>
                      <a:pt x="1381" y="191"/>
                    </a:lnTo>
                    <a:lnTo>
                      <a:pt x="1474" y="205"/>
                    </a:lnTo>
                    <a:lnTo>
                      <a:pt x="1575" y="221"/>
                    </a:lnTo>
                    <a:lnTo>
                      <a:pt x="1684" y="237"/>
                    </a:lnTo>
                    <a:lnTo>
                      <a:pt x="1802" y="255"/>
                    </a:lnTo>
                    <a:lnTo>
                      <a:pt x="1929" y="275"/>
                    </a:lnTo>
                    <a:lnTo>
                      <a:pt x="2066" y="295"/>
                    </a:lnTo>
                    <a:lnTo>
                      <a:pt x="2110" y="310"/>
                    </a:lnTo>
                    <a:lnTo>
                      <a:pt x="2139" y="339"/>
                    </a:lnTo>
                    <a:lnTo>
                      <a:pt x="2153" y="373"/>
                    </a:lnTo>
                    <a:lnTo>
                      <a:pt x="2154" y="410"/>
                    </a:lnTo>
                    <a:lnTo>
                      <a:pt x="2143" y="444"/>
                    </a:lnTo>
                    <a:lnTo>
                      <a:pt x="2120" y="472"/>
                    </a:lnTo>
                    <a:lnTo>
                      <a:pt x="2088" y="487"/>
                    </a:lnTo>
                    <a:lnTo>
                      <a:pt x="2047" y="485"/>
                    </a:lnTo>
                    <a:lnTo>
                      <a:pt x="2034" y="479"/>
                    </a:lnTo>
                    <a:lnTo>
                      <a:pt x="2025" y="469"/>
                    </a:lnTo>
                    <a:lnTo>
                      <a:pt x="2018" y="454"/>
                    </a:lnTo>
                    <a:lnTo>
                      <a:pt x="2011" y="439"/>
                    </a:lnTo>
                    <a:lnTo>
                      <a:pt x="2004" y="425"/>
                    </a:lnTo>
                    <a:lnTo>
                      <a:pt x="1997" y="412"/>
                    </a:lnTo>
                    <a:lnTo>
                      <a:pt x="1988" y="402"/>
                    </a:lnTo>
                    <a:lnTo>
                      <a:pt x="1976" y="397"/>
                    </a:lnTo>
                    <a:lnTo>
                      <a:pt x="1921" y="388"/>
                    </a:lnTo>
                    <a:lnTo>
                      <a:pt x="1870" y="380"/>
                    </a:lnTo>
                    <a:lnTo>
                      <a:pt x="1823" y="373"/>
                    </a:lnTo>
                    <a:lnTo>
                      <a:pt x="1780" y="367"/>
                    </a:lnTo>
                    <a:lnTo>
                      <a:pt x="1739" y="360"/>
                    </a:lnTo>
                    <a:lnTo>
                      <a:pt x="1701" y="355"/>
                    </a:lnTo>
                    <a:lnTo>
                      <a:pt x="1665" y="349"/>
                    </a:lnTo>
                    <a:lnTo>
                      <a:pt x="1632" y="344"/>
                    </a:lnTo>
                    <a:lnTo>
                      <a:pt x="1598" y="339"/>
                    </a:lnTo>
                    <a:lnTo>
                      <a:pt x="1566" y="335"/>
                    </a:lnTo>
                    <a:lnTo>
                      <a:pt x="1534" y="329"/>
                    </a:lnTo>
                    <a:lnTo>
                      <a:pt x="1502" y="324"/>
                    </a:lnTo>
                    <a:lnTo>
                      <a:pt x="1469" y="319"/>
                    </a:lnTo>
                    <a:lnTo>
                      <a:pt x="1435" y="314"/>
                    </a:lnTo>
                    <a:lnTo>
                      <a:pt x="1401" y="309"/>
                    </a:lnTo>
                    <a:lnTo>
                      <a:pt x="1363" y="303"/>
                    </a:lnTo>
                    <a:lnTo>
                      <a:pt x="1324" y="297"/>
                    </a:lnTo>
                    <a:lnTo>
                      <a:pt x="1281" y="291"/>
                    </a:lnTo>
                    <a:lnTo>
                      <a:pt x="1235" y="284"/>
                    </a:lnTo>
                    <a:lnTo>
                      <a:pt x="1185" y="277"/>
                    </a:lnTo>
                    <a:lnTo>
                      <a:pt x="1132" y="268"/>
                    </a:lnTo>
                    <a:lnTo>
                      <a:pt x="1074" y="259"/>
                    </a:lnTo>
                    <a:lnTo>
                      <a:pt x="1011" y="250"/>
                    </a:lnTo>
                    <a:lnTo>
                      <a:pt x="942" y="240"/>
                    </a:lnTo>
                    <a:lnTo>
                      <a:pt x="867" y="229"/>
                    </a:lnTo>
                    <a:lnTo>
                      <a:pt x="786" y="216"/>
                    </a:lnTo>
                    <a:lnTo>
                      <a:pt x="697" y="202"/>
                    </a:lnTo>
                    <a:lnTo>
                      <a:pt x="603" y="188"/>
                    </a:lnTo>
                    <a:lnTo>
                      <a:pt x="499" y="173"/>
                    </a:lnTo>
                    <a:lnTo>
                      <a:pt x="387" y="156"/>
                    </a:lnTo>
                    <a:lnTo>
                      <a:pt x="266" y="137"/>
                    </a:lnTo>
                    <a:lnTo>
                      <a:pt x="137" y="118"/>
                    </a:lnTo>
                    <a:lnTo>
                      <a:pt x="128" y="120"/>
                    </a:lnTo>
                    <a:lnTo>
                      <a:pt x="120" y="126"/>
                    </a:lnTo>
                    <a:lnTo>
                      <a:pt x="113" y="137"/>
                    </a:lnTo>
                    <a:lnTo>
                      <a:pt x="108" y="148"/>
                    </a:lnTo>
                    <a:lnTo>
                      <a:pt x="103" y="161"/>
                    </a:lnTo>
                    <a:lnTo>
                      <a:pt x="97" y="172"/>
                    </a:lnTo>
                    <a:lnTo>
                      <a:pt x="89" y="178"/>
                    </a:lnTo>
                    <a:lnTo>
                      <a:pt x="79" y="180"/>
                    </a:lnTo>
                    <a:lnTo>
                      <a:pt x="56" y="177"/>
                    </a:lnTo>
                    <a:lnTo>
                      <a:pt x="38" y="170"/>
                    </a:lnTo>
                    <a:lnTo>
                      <a:pt x="23" y="159"/>
                    </a:lnTo>
                    <a:lnTo>
                      <a:pt x="13" y="145"/>
                    </a:lnTo>
                    <a:lnTo>
                      <a:pt x="5" y="131"/>
                    </a:lnTo>
                    <a:lnTo>
                      <a:pt x="1" y="114"/>
                    </a:lnTo>
                    <a:lnTo>
                      <a:pt x="0" y="97"/>
                    </a:lnTo>
                    <a:lnTo>
                      <a:pt x="3" y="79"/>
                    </a:lnTo>
                    <a:lnTo>
                      <a:pt x="9" y="62"/>
                    </a:lnTo>
                    <a:lnTo>
                      <a:pt x="18" y="46"/>
                    </a:lnTo>
                    <a:lnTo>
                      <a:pt x="29" y="32"/>
                    </a:lnTo>
                    <a:lnTo>
                      <a:pt x="44" y="19"/>
                    </a:lnTo>
                    <a:lnTo>
                      <a:pt x="60" y="9"/>
                    </a:lnTo>
                    <a:lnTo>
                      <a:pt x="79" y="3"/>
                    </a:lnTo>
                    <a:lnTo>
                      <a:pt x="101" y="0"/>
                    </a:lnTo>
                    <a:lnTo>
                      <a:pt x="124" y="2"/>
                    </a:lnTo>
                    <a:close/>
                  </a:path>
                </a:pathLst>
              </a:custGeom>
              <a:solidFill>
                <a:srgbClr val="b7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511400" y="4331160"/>
                <a:ext cx="148320" cy="27360"/>
              </a:xfrm>
              <a:custGeom>
                <a:avLst/>
                <a:gdLst/>
                <a:ahLst/>
                <a:rect l="l" t="t" r="r" b="b"/>
                <a:pathLst>
                  <a:path w="2140" h="475">
                    <a:moveTo>
                      <a:pt x="119" y="2"/>
                    </a:moveTo>
                    <a:lnTo>
                      <a:pt x="177" y="11"/>
                    </a:lnTo>
                    <a:lnTo>
                      <a:pt x="230" y="19"/>
                    </a:lnTo>
                    <a:lnTo>
                      <a:pt x="280" y="27"/>
                    </a:lnTo>
                    <a:lnTo>
                      <a:pt x="326" y="34"/>
                    </a:lnTo>
                    <a:lnTo>
                      <a:pt x="369" y="40"/>
                    </a:lnTo>
                    <a:lnTo>
                      <a:pt x="408" y="46"/>
                    </a:lnTo>
                    <a:lnTo>
                      <a:pt x="447" y="52"/>
                    </a:lnTo>
                    <a:lnTo>
                      <a:pt x="482" y="57"/>
                    </a:lnTo>
                    <a:lnTo>
                      <a:pt x="518" y="62"/>
                    </a:lnTo>
                    <a:lnTo>
                      <a:pt x="551" y="67"/>
                    </a:lnTo>
                    <a:lnTo>
                      <a:pt x="585" y="72"/>
                    </a:lnTo>
                    <a:lnTo>
                      <a:pt x="619" y="77"/>
                    </a:lnTo>
                    <a:lnTo>
                      <a:pt x="653" y="82"/>
                    </a:lnTo>
                    <a:lnTo>
                      <a:pt x="688" y="89"/>
                    </a:lnTo>
                    <a:lnTo>
                      <a:pt x="726" y="94"/>
                    </a:lnTo>
                    <a:lnTo>
                      <a:pt x="765" y="100"/>
                    </a:lnTo>
                    <a:lnTo>
                      <a:pt x="807" y="106"/>
                    </a:lnTo>
                    <a:lnTo>
                      <a:pt x="851" y="113"/>
                    </a:lnTo>
                    <a:lnTo>
                      <a:pt x="899" y="120"/>
                    </a:lnTo>
                    <a:lnTo>
                      <a:pt x="950" y="128"/>
                    </a:lnTo>
                    <a:lnTo>
                      <a:pt x="1007" y="136"/>
                    </a:lnTo>
                    <a:lnTo>
                      <a:pt x="1068" y="145"/>
                    </a:lnTo>
                    <a:lnTo>
                      <a:pt x="1135" y="156"/>
                    </a:lnTo>
                    <a:lnTo>
                      <a:pt x="1208" y="167"/>
                    </a:lnTo>
                    <a:lnTo>
                      <a:pt x="1287" y="179"/>
                    </a:lnTo>
                    <a:lnTo>
                      <a:pt x="1372" y="191"/>
                    </a:lnTo>
                    <a:lnTo>
                      <a:pt x="1466" y="205"/>
                    </a:lnTo>
                    <a:lnTo>
                      <a:pt x="1565" y="221"/>
                    </a:lnTo>
                    <a:lnTo>
                      <a:pt x="1675" y="237"/>
                    </a:lnTo>
                    <a:lnTo>
                      <a:pt x="1792" y="255"/>
                    </a:lnTo>
                    <a:lnTo>
                      <a:pt x="1919" y="275"/>
                    </a:lnTo>
                    <a:lnTo>
                      <a:pt x="2056" y="295"/>
                    </a:lnTo>
                    <a:lnTo>
                      <a:pt x="2098" y="309"/>
                    </a:lnTo>
                    <a:lnTo>
                      <a:pt x="2125" y="336"/>
                    </a:lnTo>
                    <a:lnTo>
                      <a:pt x="2139" y="368"/>
                    </a:lnTo>
                    <a:lnTo>
                      <a:pt x="2140" y="403"/>
                    </a:lnTo>
                    <a:lnTo>
                      <a:pt x="2130" y="434"/>
                    </a:lnTo>
                    <a:lnTo>
                      <a:pt x="2110" y="461"/>
                    </a:lnTo>
                    <a:lnTo>
                      <a:pt x="2081" y="475"/>
                    </a:lnTo>
                    <a:lnTo>
                      <a:pt x="2044" y="474"/>
                    </a:lnTo>
                    <a:lnTo>
                      <a:pt x="2032" y="468"/>
                    </a:lnTo>
                    <a:lnTo>
                      <a:pt x="2022" y="458"/>
                    </a:lnTo>
                    <a:lnTo>
                      <a:pt x="2014" y="443"/>
                    </a:lnTo>
                    <a:lnTo>
                      <a:pt x="2006" y="428"/>
                    </a:lnTo>
                    <a:lnTo>
                      <a:pt x="1998" y="413"/>
                    </a:lnTo>
                    <a:lnTo>
                      <a:pt x="1991" y="400"/>
                    </a:lnTo>
                    <a:lnTo>
                      <a:pt x="1982" y="389"/>
                    </a:lnTo>
                    <a:lnTo>
                      <a:pt x="1970" y="384"/>
                    </a:lnTo>
                    <a:lnTo>
                      <a:pt x="1915" y="376"/>
                    </a:lnTo>
                    <a:lnTo>
                      <a:pt x="1864" y="368"/>
                    </a:lnTo>
                    <a:lnTo>
                      <a:pt x="1817" y="361"/>
                    </a:lnTo>
                    <a:lnTo>
                      <a:pt x="1774" y="355"/>
                    </a:lnTo>
                    <a:lnTo>
                      <a:pt x="1733" y="349"/>
                    </a:lnTo>
                    <a:lnTo>
                      <a:pt x="1695" y="343"/>
                    </a:lnTo>
                    <a:lnTo>
                      <a:pt x="1659" y="338"/>
                    </a:lnTo>
                    <a:lnTo>
                      <a:pt x="1625" y="333"/>
                    </a:lnTo>
                    <a:lnTo>
                      <a:pt x="1592" y="327"/>
                    </a:lnTo>
                    <a:lnTo>
                      <a:pt x="1559" y="322"/>
                    </a:lnTo>
                    <a:lnTo>
                      <a:pt x="1527" y="318"/>
                    </a:lnTo>
                    <a:lnTo>
                      <a:pt x="1496" y="313"/>
                    </a:lnTo>
                    <a:lnTo>
                      <a:pt x="1462" y="308"/>
                    </a:lnTo>
                    <a:lnTo>
                      <a:pt x="1429" y="303"/>
                    </a:lnTo>
                    <a:lnTo>
                      <a:pt x="1394" y="298"/>
                    </a:lnTo>
                    <a:lnTo>
                      <a:pt x="1356" y="292"/>
                    </a:lnTo>
                    <a:lnTo>
                      <a:pt x="1317" y="286"/>
                    </a:lnTo>
                    <a:lnTo>
                      <a:pt x="1274" y="280"/>
                    </a:lnTo>
                    <a:lnTo>
                      <a:pt x="1228" y="273"/>
                    </a:lnTo>
                    <a:lnTo>
                      <a:pt x="1178" y="265"/>
                    </a:lnTo>
                    <a:lnTo>
                      <a:pt x="1125" y="257"/>
                    </a:lnTo>
                    <a:lnTo>
                      <a:pt x="1067" y="248"/>
                    </a:lnTo>
                    <a:lnTo>
                      <a:pt x="1004" y="239"/>
                    </a:lnTo>
                    <a:lnTo>
                      <a:pt x="935" y="229"/>
                    </a:lnTo>
                    <a:lnTo>
                      <a:pt x="860" y="218"/>
                    </a:lnTo>
                    <a:lnTo>
                      <a:pt x="779" y="204"/>
                    </a:lnTo>
                    <a:lnTo>
                      <a:pt x="690" y="191"/>
                    </a:lnTo>
                    <a:lnTo>
                      <a:pt x="596" y="177"/>
                    </a:lnTo>
                    <a:lnTo>
                      <a:pt x="492" y="162"/>
                    </a:lnTo>
                    <a:lnTo>
                      <a:pt x="380" y="144"/>
                    </a:lnTo>
                    <a:lnTo>
                      <a:pt x="260" y="126"/>
                    </a:lnTo>
                    <a:lnTo>
                      <a:pt x="130" y="107"/>
                    </a:lnTo>
                    <a:lnTo>
                      <a:pt x="121" y="109"/>
                    </a:lnTo>
                    <a:lnTo>
                      <a:pt x="113" y="115"/>
                    </a:lnTo>
                    <a:lnTo>
                      <a:pt x="107" y="125"/>
                    </a:lnTo>
                    <a:lnTo>
                      <a:pt x="100" y="136"/>
                    </a:lnTo>
                    <a:lnTo>
                      <a:pt x="94" y="149"/>
                    </a:lnTo>
                    <a:lnTo>
                      <a:pt x="88" y="158"/>
                    </a:lnTo>
                    <a:lnTo>
                      <a:pt x="79" y="165"/>
                    </a:lnTo>
                    <a:lnTo>
                      <a:pt x="69" y="167"/>
                    </a:lnTo>
                    <a:lnTo>
                      <a:pt x="48" y="163"/>
                    </a:lnTo>
                    <a:lnTo>
                      <a:pt x="32" y="156"/>
                    </a:lnTo>
                    <a:lnTo>
                      <a:pt x="18" y="145"/>
                    </a:lnTo>
                    <a:lnTo>
                      <a:pt x="9" y="133"/>
                    </a:lnTo>
                    <a:lnTo>
                      <a:pt x="2" y="119"/>
                    </a:lnTo>
                    <a:lnTo>
                      <a:pt x="0" y="104"/>
                    </a:lnTo>
                    <a:lnTo>
                      <a:pt x="0" y="88"/>
                    </a:lnTo>
                    <a:lnTo>
                      <a:pt x="4" y="72"/>
                    </a:lnTo>
                    <a:lnTo>
                      <a:pt x="10" y="56"/>
                    </a:lnTo>
                    <a:lnTo>
                      <a:pt x="18" y="42"/>
                    </a:lnTo>
                    <a:lnTo>
                      <a:pt x="30" y="29"/>
                    </a:lnTo>
                    <a:lnTo>
                      <a:pt x="43" y="16"/>
                    </a:lnTo>
                    <a:lnTo>
                      <a:pt x="60" y="8"/>
                    </a:lnTo>
                    <a:lnTo>
                      <a:pt x="77" y="2"/>
                    </a:lnTo>
                    <a:lnTo>
                      <a:pt x="97" y="0"/>
                    </a:lnTo>
                    <a:lnTo>
                      <a:pt x="119" y="2"/>
                    </a:lnTo>
                    <a:close/>
                  </a:path>
                </a:pathLst>
              </a:custGeom>
              <a:solidFill>
                <a:srgbClr val="bf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511400" y="4331160"/>
                <a:ext cx="148320" cy="26280"/>
              </a:xfrm>
              <a:custGeom>
                <a:avLst/>
                <a:gdLst/>
                <a:ahLst/>
                <a:rect l="l" t="t" r="r" b="b"/>
                <a:pathLst>
                  <a:path w="2126" h="460">
                    <a:moveTo>
                      <a:pt x="113" y="0"/>
                    </a:moveTo>
                    <a:lnTo>
                      <a:pt x="171" y="9"/>
                    </a:lnTo>
                    <a:lnTo>
                      <a:pt x="224" y="18"/>
                    </a:lnTo>
                    <a:lnTo>
                      <a:pt x="274" y="25"/>
                    </a:lnTo>
                    <a:lnTo>
                      <a:pt x="320" y="32"/>
                    </a:lnTo>
                    <a:lnTo>
                      <a:pt x="363" y="38"/>
                    </a:lnTo>
                    <a:lnTo>
                      <a:pt x="402" y="44"/>
                    </a:lnTo>
                    <a:lnTo>
                      <a:pt x="440" y="50"/>
                    </a:lnTo>
                    <a:lnTo>
                      <a:pt x="476" y="55"/>
                    </a:lnTo>
                    <a:lnTo>
                      <a:pt x="511" y="60"/>
                    </a:lnTo>
                    <a:lnTo>
                      <a:pt x="545" y="65"/>
                    </a:lnTo>
                    <a:lnTo>
                      <a:pt x="578" y="70"/>
                    </a:lnTo>
                    <a:lnTo>
                      <a:pt x="613" y="75"/>
                    </a:lnTo>
                    <a:lnTo>
                      <a:pt x="647" y="81"/>
                    </a:lnTo>
                    <a:lnTo>
                      <a:pt x="682" y="87"/>
                    </a:lnTo>
                    <a:lnTo>
                      <a:pt x="720" y="92"/>
                    </a:lnTo>
                    <a:lnTo>
                      <a:pt x="758" y="98"/>
                    </a:lnTo>
                    <a:lnTo>
                      <a:pt x="800" y="104"/>
                    </a:lnTo>
                    <a:lnTo>
                      <a:pt x="845" y="111"/>
                    </a:lnTo>
                    <a:lnTo>
                      <a:pt x="892" y="118"/>
                    </a:lnTo>
                    <a:lnTo>
                      <a:pt x="945" y="126"/>
                    </a:lnTo>
                    <a:lnTo>
                      <a:pt x="1001" y="134"/>
                    </a:lnTo>
                    <a:lnTo>
                      <a:pt x="1062" y="144"/>
                    </a:lnTo>
                    <a:lnTo>
                      <a:pt x="1129" y="154"/>
                    </a:lnTo>
                    <a:lnTo>
                      <a:pt x="1202" y="165"/>
                    </a:lnTo>
                    <a:lnTo>
                      <a:pt x="1280" y="177"/>
                    </a:lnTo>
                    <a:lnTo>
                      <a:pt x="1366" y="189"/>
                    </a:lnTo>
                    <a:lnTo>
                      <a:pt x="1459" y="204"/>
                    </a:lnTo>
                    <a:lnTo>
                      <a:pt x="1558" y="219"/>
                    </a:lnTo>
                    <a:lnTo>
                      <a:pt x="1668" y="235"/>
                    </a:lnTo>
                    <a:lnTo>
                      <a:pt x="1785" y="253"/>
                    </a:lnTo>
                    <a:lnTo>
                      <a:pt x="1911" y="273"/>
                    </a:lnTo>
                    <a:lnTo>
                      <a:pt x="2048" y="293"/>
                    </a:lnTo>
                    <a:lnTo>
                      <a:pt x="2087" y="306"/>
                    </a:lnTo>
                    <a:lnTo>
                      <a:pt x="2112" y="331"/>
                    </a:lnTo>
                    <a:lnTo>
                      <a:pt x="2125" y="360"/>
                    </a:lnTo>
                    <a:lnTo>
                      <a:pt x="2126" y="392"/>
                    </a:lnTo>
                    <a:lnTo>
                      <a:pt x="2117" y="422"/>
                    </a:lnTo>
                    <a:lnTo>
                      <a:pt x="2100" y="445"/>
                    </a:lnTo>
                    <a:lnTo>
                      <a:pt x="2074" y="460"/>
                    </a:lnTo>
                    <a:lnTo>
                      <a:pt x="2041" y="460"/>
                    </a:lnTo>
                    <a:lnTo>
                      <a:pt x="2029" y="454"/>
                    </a:lnTo>
                    <a:lnTo>
                      <a:pt x="2018" y="443"/>
                    </a:lnTo>
                    <a:lnTo>
                      <a:pt x="2010" y="429"/>
                    </a:lnTo>
                    <a:lnTo>
                      <a:pt x="2002" y="414"/>
                    </a:lnTo>
                    <a:lnTo>
                      <a:pt x="1993" y="399"/>
                    </a:lnTo>
                    <a:lnTo>
                      <a:pt x="1985" y="385"/>
                    </a:lnTo>
                    <a:lnTo>
                      <a:pt x="1976" y="375"/>
                    </a:lnTo>
                    <a:lnTo>
                      <a:pt x="1964" y="370"/>
                    </a:lnTo>
                    <a:lnTo>
                      <a:pt x="1909" y="362"/>
                    </a:lnTo>
                    <a:lnTo>
                      <a:pt x="1858" y="354"/>
                    </a:lnTo>
                    <a:lnTo>
                      <a:pt x="1811" y="347"/>
                    </a:lnTo>
                    <a:lnTo>
                      <a:pt x="1768" y="341"/>
                    </a:lnTo>
                    <a:lnTo>
                      <a:pt x="1727" y="335"/>
                    </a:lnTo>
                    <a:lnTo>
                      <a:pt x="1689" y="329"/>
                    </a:lnTo>
                    <a:lnTo>
                      <a:pt x="1653" y="323"/>
                    </a:lnTo>
                    <a:lnTo>
                      <a:pt x="1619" y="318"/>
                    </a:lnTo>
                    <a:lnTo>
                      <a:pt x="1586" y="313"/>
                    </a:lnTo>
                    <a:lnTo>
                      <a:pt x="1553" y="308"/>
                    </a:lnTo>
                    <a:lnTo>
                      <a:pt x="1521" y="304"/>
                    </a:lnTo>
                    <a:lnTo>
                      <a:pt x="1490" y="299"/>
                    </a:lnTo>
                    <a:lnTo>
                      <a:pt x="1457" y="294"/>
                    </a:lnTo>
                    <a:lnTo>
                      <a:pt x="1423" y="289"/>
                    </a:lnTo>
                    <a:lnTo>
                      <a:pt x="1388" y="284"/>
                    </a:lnTo>
                    <a:lnTo>
                      <a:pt x="1350" y="278"/>
                    </a:lnTo>
                    <a:lnTo>
                      <a:pt x="1311" y="272"/>
                    </a:lnTo>
                    <a:lnTo>
                      <a:pt x="1268" y="266"/>
                    </a:lnTo>
                    <a:lnTo>
                      <a:pt x="1222" y="258"/>
                    </a:lnTo>
                    <a:lnTo>
                      <a:pt x="1172" y="251"/>
                    </a:lnTo>
                    <a:lnTo>
                      <a:pt x="1119" y="243"/>
                    </a:lnTo>
                    <a:lnTo>
                      <a:pt x="1061" y="234"/>
                    </a:lnTo>
                    <a:lnTo>
                      <a:pt x="998" y="225"/>
                    </a:lnTo>
                    <a:lnTo>
                      <a:pt x="929" y="215"/>
                    </a:lnTo>
                    <a:lnTo>
                      <a:pt x="854" y="204"/>
                    </a:lnTo>
                    <a:lnTo>
                      <a:pt x="773" y="190"/>
                    </a:lnTo>
                    <a:lnTo>
                      <a:pt x="684" y="177"/>
                    </a:lnTo>
                    <a:lnTo>
                      <a:pt x="590" y="163"/>
                    </a:lnTo>
                    <a:lnTo>
                      <a:pt x="486" y="148"/>
                    </a:lnTo>
                    <a:lnTo>
                      <a:pt x="374" y="130"/>
                    </a:lnTo>
                    <a:lnTo>
                      <a:pt x="254" y="112"/>
                    </a:lnTo>
                    <a:lnTo>
                      <a:pt x="125" y="93"/>
                    </a:lnTo>
                    <a:lnTo>
                      <a:pt x="115" y="94"/>
                    </a:lnTo>
                    <a:lnTo>
                      <a:pt x="107" y="101"/>
                    </a:lnTo>
                    <a:lnTo>
                      <a:pt x="100" y="110"/>
                    </a:lnTo>
                    <a:lnTo>
                      <a:pt x="93" y="121"/>
                    </a:lnTo>
                    <a:lnTo>
                      <a:pt x="86" y="132"/>
                    </a:lnTo>
                    <a:lnTo>
                      <a:pt x="80" y="142"/>
                    </a:lnTo>
                    <a:lnTo>
                      <a:pt x="71" y="148"/>
                    </a:lnTo>
                    <a:lnTo>
                      <a:pt x="61" y="149"/>
                    </a:lnTo>
                    <a:lnTo>
                      <a:pt x="27" y="137"/>
                    </a:lnTo>
                    <a:lnTo>
                      <a:pt x="7" y="117"/>
                    </a:lnTo>
                    <a:lnTo>
                      <a:pt x="0" y="91"/>
                    </a:lnTo>
                    <a:lnTo>
                      <a:pt x="5" y="62"/>
                    </a:lnTo>
                    <a:lnTo>
                      <a:pt x="19" y="35"/>
                    </a:lnTo>
                    <a:lnTo>
                      <a:pt x="43" y="12"/>
                    </a:lnTo>
                    <a:lnTo>
                      <a:pt x="75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c9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513200" y="4332240"/>
                <a:ext cx="145440" cy="25200"/>
              </a:xfrm>
              <a:custGeom>
                <a:avLst/>
                <a:gdLst/>
                <a:ahLst/>
                <a:rect l="l" t="t" r="r" b="b"/>
                <a:pathLst>
                  <a:path w="2112" h="449">
                    <a:moveTo>
                      <a:pt x="108" y="1"/>
                    </a:moveTo>
                    <a:lnTo>
                      <a:pt x="166" y="10"/>
                    </a:lnTo>
                    <a:lnTo>
                      <a:pt x="220" y="19"/>
                    </a:lnTo>
                    <a:lnTo>
                      <a:pt x="268" y="26"/>
                    </a:lnTo>
                    <a:lnTo>
                      <a:pt x="314" y="33"/>
                    </a:lnTo>
                    <a:lnTo>
                      <a:pt x="356" y="39"/>
                    </a:lnTo>
                    <a:lnTo>
                      <a:pt x="396" y="45"/>
                    </a:lnTo>
                    <a:lnTo>
                      <a:pt x="434" y="51"/>
                    </a:lnTo>
                    <a:lnTo>
                      <a:pt x="469" y="56"/>
                    </a:lnTo>
                    <a:lnTo>
                      <a:pt x="504" y="61"/>
                    </a:lnTo>
                    <a:lnTo>
                      <a:pt x="538" y="66"/>
                    </a:lnTo>
                    <a:lnTo>
                      <a:pt x="571" y="71"/>
                    </a:lnTo>
                    <a:lnTo>
                      <a:pt x="606" y="77"/>
                    </a:lnTo>
                    <a:lnTo>
                      <a:pt x="640" y="82"/>
                    </a:lnTo>
                    <a:lnTo>
                      <a:pt x="675" y="88"/>
                    </a:lnTo>
                    <a:lnTo>
                      <a:pt x="712" y="93"/>
                    </a:lnTo>
                    <a:lnTo>
                      <a:pt x="751" y="99"/>
                    </a:lnTo>
                    <a:lnTo>
                      <a:pt x="793" y="105"/>
                    </a:lnTo>
                    <a:lnTo>
                      <a:pt x="838" y="112"/>
                    </a:lnTo>
                    <a:lnTo>
                      <a:pt x="886" y="119"/>
                    </a:lnTo>
                    <a:lnTo>
                      <a:pt x="937" y="127"/>
                    </a:lnTo>
                    <a:lnTo>
                      <a:pt x="993" y="135"/>
                    </a:lnTo>
                    <a:lnTo>
                      <a:pt x="1054" y="145"/>
                    </a:lnTo>
                    <a:lnTo>
                      <a:pt x="1121" y="155"/>
                    </a:lnTo>
                    <a:lnTo>
                      <a:pt x="1193" y="166"/>
                    </a:lnTo>
                    <a:lnTo>
                      <a:pt x="1272" y="177"/>
                    </a:lnTo>
                    <a:lnTo>
                      <a:pt x="1357" y="190"/>
                    </a:lnTo>
                    <a:lnTo>
                      <a:pt x="1450" y="205"/>
                    </a:lnTo>
                    <a:lnTo>
                      <a:pt x="1549" y="220"/>
                    </a:lnTo>
                    <a:lnTo>
                      <a:pt x="1659" y="236"/>
                    </a:lnTo>
                    <a:lnTo>
                      <a:pt x="1775" y="253"/>
                    </a:lnTo>
                    <a:lnTo>
                      <a:pt x="1901" y="273"/>
                    </a:lnTo>
                    <a:lnTo>
                      <a:pt x="2038" y="293"/>
                    </a:lnTo>
                    <a:lnTo>
                      <a:pt x="2075" y="305"/>
                    </a:lnTo>
                    <a:lnTo>
                      <a:pt x="2099" y="327"/>
                    </a:lnTo>
                    <a:lnTo>
                      <a:pt x="2110" y="354"/>
                    </a:lnTo>
                    <a:lnTo>
                      <a:pt x="2112" y="384"/>
                    </a:lnTo>
                    <a:lnTo>
                      <a:pt x="2105" y="412"/>
                    </a:lnTo>
                    <a:lnTo>
                      <a:pt x="2088" y="434"/>
                    </a:lnTo>
                    <a:lnTo>
                      <a:pt x="2066" y="448"/>
                    </a:lnTo>
                    <a:lnTo>
                      <a:pt x="2038" y="449"/>
                    </a:lnTo>
                    <a:lnTo>
                      <a:pt x="2025" y="442"/>
                    </a:lnTo>
                    <a:lnTo>
                      <a:pt x="2015" y="431"/>
                    </a:lnTo>
                    <a:lnTo>
                      <a:pt x="2005" y="418"/>
                    </a:lnTo>
                    <a:lnTo>
                      <a:pt x="1996" y="402"/>
                    </a:lnTo>
                    <a:lnTo>
                      <a:pt x="1988" y="387"/>
                    </a:lnTo>
                    <a:lnTo>
                      <a:pt x="1979" y="373"/>
                    </a:lnTo>
                    <a:lnTo>
                      <a:pt x="1969" y="363"/>
                    </a:lnTo>
                    <a:lnTo>
                      <a:pt x="1957" y="358"/>
                    </a:lnTo>
                    <a:lnTo>
                      <a:pt x="1902" y="350"/>
                    </a:lnTo>
                    <a:lnTo>
                      <a:pt x="1851" y="342"/>
                    </a:lnTo>
                    <a:lnTo>
                      <a:pt x="1804" y="335"/>
                    </a:lnTo>
                    <a:lnTo>
                      <a:pt x="1761" y="329"/>
                    </a:lnTo>
                    <a:lnTo>
                      <a:pt x="1720" y="323"/>
                    </a:lnTo>
                    <a:lnTo>
                      <a:pt x="1683" y="316"/>
                    </a:lnTo>
                    <a:lnTo>
                      <a:pt x="1646" y="311"/>
                    </a:lnTo>
                    <a:lnTo>
                      <a:pt x="1613" y="306"/>
                    </a:lnTo>
                    <a:lnTo>
                      <a:pt x="1580" y="301"/>
                    </a:lnTo>
                    <a:lnTo>
                      <a:pt x="1547" y="296"/>
                    </a:lnTo>
                    <a:lnTo>
                      <a:pt x="1515" y="292"/>
                    </a:lnTo>
                    <a:lnTo>
                      <a:pt x="1483" y="287"/>
                    </a:lnTo>
                    <a:lnTo>
                      <a:pt x="1451" y="282"/>
                    </a:lnTo>
                    <a:lnTo>
                      <a:pt x="1416" y="277"/>
                    </a:lnTo>
                    <a:lnTo>
                      <a:pt x="1381" y="272"/>
                    </a:lnTo>
                    <a:lnTo>
                      <a:pt x="1344" y="266"/>
                    </a:lnTo>
                    <a:lnTo>
                      <a:pt x="1305" y="260"/>
                    </a:lnTo>
                    <a:lnTo>
                      <a:pt x="1262" y="253"/>
                    </a:lnTo>
                    <a:lnTo>
                      <a:pt x="1216" y="246"/>
                    </a:lnTo>
                    <a:lnTo>
                      <a:pt x="1167" y="239"/>
                    </a:lnTo>
                    <a:lnTo>
                      <a:pt x="1112" y="231"/>
                    </a:lnTo>
                    <a:lnTo>
                      <a:pt x="1054" y="222"/>
                    </a:lnTo>
                    <a:lnTo>
                      <a:pt x="991" y="213"/>
                    </a:lnTo>
                    <a:lnTo>
                      <a:pt x="922" y="203"/>
                    </a:lnTo>
                    <a:lnTo>
                      <a:pt x="848" y="191"/>
                    </a:lnTo>
                    <a:lnTo>
                      <a:pt x="767" y="178"/>
                    </a:lnTo>
                    <a:lnTo>
                      <a:pt x="678" y="165"/>
                    </a:lnTo>
                    <a:lnTo>
                      <a:pt x="583" y="151"/>
                    </a:lnTo>
                    <a:lnTo>
                      <a:pt x="479" y="135"/>
                    </a:lnTo>
                    <a:lnTo>
                      <a:pt x="367" y="118"/>
                    </a:lnTo>
                    <a:lnTo>
                      <a:pt x="247" y="100"/>
                    </a:lnTo>
                    <a:lnTo>
                      <a:pt x="118" y="81"/>
                    </a:lnTo>
                    <a:lnTo>
                      <a:pt x="108" y="82"/>
                    </a:lnTo>
                    <a:lnTo>
                      <a:pt x="100" y="88"/>
                    </a:lnTo>
                    <a:lnTo>
                      <a:pt x="93" y="97"/>
                    </a:lnTo>
                    <a:lnTo>
                      <a:pt x="85" y="108"/>
                    </a:lnTo>
                    <a:lnTo>
                      <a:pt x="78" y="118"/>
                    </a:lnTo>
                    <a:lnTo>
                      <a:pt x="71" y="127"/>
                    </a:lnTo>
                    <a:lnTo>
                      <a:pt x="62" y="133"/>
                    </a:lnTo>
                    <a:lnTo>
                      <a:pt x="52" y="134"/>
                    </a:lnTo>
                    <a:lnTo>
                      <a:pt x="22" y="123"/>
                    </a:lnTo>
                    <a:lnTo>
                      <a:pt x="4" y="104"/>
                    </a:lnTo>
                    <a:lnTo>
                      <a:pt x="0" y="80"/>
                    </a:lnTo>
                    <a:lnTo>
                      <a:pt x="5" y="54"/>
                    </a:lnTo>
                    <a:lnTo>
                      <a:pt x="20" y="30"/>
                    </a:lnTo>
                    <a:lnTo>
                      <a:pt x="44" y="10"/>
                    </a:lnTo>
                    <a:lnTo>
                      <a:pt x="73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513200" y="4332240"/>
                <a:ext cx="145440" cy="25200"/>
              </a:xfrm>
              <a:custGeom>
                <a:avLst/>
                <a:gdLst/>
                <a:ahLst/>
                <a:rect l="l" t="t" r="r" b="b"/>
                <a:pathLst>
                  <a:path w="2099" h="435">
                    <a:moveTo>
                      <a:pt x="102" y="1"/>
                    </a:moveTo>
                    <a:lnTo>
                      <a:pt x="160" y="11"/>
                    </a:lnTo>
                    <a:lnTo>
                      <a:pt x="214" y="19"/>
                    </a:lnTo>
                    <a:lnTo>
                      <a:pt x="262" y="26"/>
                    </a:lnTo>
                    <a:lnTo>
                      <a:pt x="308" y="33"/>
                    </a:lnTo>
                    <a:lnTo>
                      <a:pt x="351" y="39"/>
                    </a:lnTo>
                    <a:lnTo>
                      <a:pt x="390" y="45"/>
                    </a:lnTo>
                    <a:lnTo>
                      <a:pt x="428" y="51"/>
                    </a:lnTo>
                    <a:lnTo>
                      <a:pt x="464" y="56"/>
                    </a:lnTo>
                    <a:lnTo>
                      <a:pt x="499" y="61"/>
                    </a:lnTo>
                    <a:lnTo>
                      <a:pt x="532" y="66"/>
                    </a:lnTo>
                    <a:lnTo>
                      <a:pt x="566" y="72"/>
                    </a:lnTo>
                    <a:lnTo>
                      <a:pt x="600" y="77"/>
                    </a:lnTo>
                    <a:lnTo>
                      <a:pt x="634" y="82"/>
                    </a:lnTo>
                    <a:lnTo>
                      <a:pt x="669" y="88"/>
                    </a:lnTo>
                    <a:lnTo>
                      <a:pt x="706" y="93"/>
                    </a:lnTo>
                    <a:lnTo>
                      <a:pt x="745" y="99"/>
                    </a:lnTo>
                    <a:lnTo>
                      <a:pt x="787" y="105"/>
                    </a:lnTo>
                    <a:lnTo>
                      <a:pt x="831" y="112"/>
                    </a:lnTo>
                    <a:lnTo>
                      <a:pt x="879" y="119"/>
                    </a:lnTo>
                    <a:lnTo>
                      <a:pt x="930" y="127"/>
                    </a:lnTo>
                    <a:lnTo>
                      <a:pt x="986" y="136"/>
                    </a:lnTo>
                    <a:lnTo>
                      <a:pt x="1047" y="145"/>
                    </a:lnTo>
                    <a:lnTo>
                      <a:pt x="1114" y="155"/>
                    </a:lnTo>
                    <a:lnTo>
                      <a:pt x="1186" y="166"/>
                    </a:lnTo>
                    <a:lnTo>
                      <a:pt x="1264" y="177"/>
                    </a:lnTo>
                    <a:lnTo>
                      <a:pt x="1349" y="190"/>
                    </a:lnTo>
                    <a:lnTo>
                      <a:pt x="1442" y="205"/>
                    </a:lnTo>
                    <a:lnTo>
                      <a:pt x="1541" y="220"/>
                    </a:lnTo>
                    <a:lnTo>
                      <a:pt x="1650" y="236"/>
                    </a:lnTo>
                    <a:lnTo>
                      <a:pt x="1767" y="253"/>
                    </a:lnTo>
                    <a:lnTo>
                      <a:pt x="1893" y="273"/>
                    </a:lnTo>
                    <a:lnTo>
                      <a:pt x="2028" y="293"/>
                    </a:lnTo>
                    <a:lnTo>
                      <a:pt x="2063" y="304"/>
                    </a:lnTo>
                    <a:lnTo>
                      <a:pt x="2086" y="324"/>
                    </a:lnTo>
                    <a:lnTo>
                      <a:pt x="2097" y="349"/>
                    </a:lnTo>
                    <a:lnTo>
                      <a:pt x="2099" y="375"/>
                    </a:lnTo>
                    <a:lnTo>
                      <a:pt x="2092" y="401"/>
                    </a:lnTo>
                    <a:lnTo>
                      <a:pt x="2078" y="421"/>
                    </a:lnTo>
                    <a:lnTo>
                      <a:pt x="2059" y="433"/>
                    </a:lnTo>
                    <a:lnTo>
                      <a:pt x="2035" y="435"/>
                    </a:lnTo>
                    <a:lnTo>
                      <a:pt x="2021" y="430"/>
                    </a:lnTo>
                    <a:lnTo>
                      <a:pt x="2011" y="420"/>
                    </a:lnTo>
                    <a:lnTo>
                      <a:pt x="2000" y="406"/>
                    </a:lnTo>
                    <a:lnTo>
                      <a:pt x="1991" y="391"/>
                    </a:lnTo>
                    <a:lnTo>
                      <a:pt x="1982" y="375"/>
                    </a:lnTo>
                    <a:lnTo>
                      <a:pt x="1973" y="362"/>
                    </a:lnTo>
                    <a:lnTo>
                      <a:pt x="1963" y="352"/>
                    </a:lnTo>
                    <a:lnTo>
                      <a:pt x="1951" y="347"/>
                    </a:lnTo>
                    <a:lnTo>
                      <a:pt x="1896" y="339"/>
                    </a:lnTo>
                    <a:lnTo>
                      <a:pt x="1845" y="331"/>
                    </a:lnTo>
                    <a:lnTo>
                      <a:pt x="1798" y="324"/>
                    </a:lnTo>
                    <a:lnTo>
                      <a:pt x="1755" y="318"/>
                    </a:lnTo>
                    <a:lnTo>
                      <a:pt x="1714" y="311"/>
                    </a:lnTo>
                    <a:lnTo>
                      <a:pt x="1677" y="305"/>
                    </a:lnTo>
                    <a:lnTo>
                      <a:pt x="1640" y="300"/>
                    </a:lnTo>
                    <a:lnTo>
                      <a:pt x="1607" y="295"/>
                    </a:lnTo>
                    <a:lnTo>
                      <a:pt x="1574" y="290"/>
                    </a:lnTo>
                    <a:lnTo>
                      <a:pt x="1541" y="285"/>
                    </a:lnTo>
                    <a:lnTo>
                      <a:pt x="1509" y="280"/>
                    </a:lnTo>
                    <a:lnTo>
                      <a:pt x="1477" y="276"/>
                    </a:lnTo>
                    <a:lnTo>
                      <a:pt x="1445" y="271"/>
                    </a:lnTo>
                    <a:lnTo>
                      <a:pt x="1410" y="266"/>
                    </a:lnTo>
                    <a:lnTo>
                      <a:pt x="1375" y="260"/>
                    </a:lnTo>
                    <a:lnTo>
                      <a:pt x="1338" y="254"/>
                    </a:lnTo>
                    <a:lnTo>
                      <a:pt x="1299" y="248"/>
                    </a:lnTo>
                    <a:lnTo>
                      <a:pt x="1256" y="242"/>
                    </a:lnTo>
                    <a:lnTo>
                      <a:pt x="1210" y="235"/>
                    </a:lnTo>
                    <a:lnTo>
                      <a:pt x="1161" y="228"/>
                    </a:lnTo>
                    <a:lnTo>
                      <a:pt x="1106" y="220"/>
                    </a:lnTo>
                    <a:lnTo>
                      <a:pt x="1048" y="211"/>
                    </a:lnTo>
                    <a:lnTo>
                      <a:pt x="985" y="202"/>
                    </a:lnTo>
                    <a:lnTo>
                      <a:pt x="916" y="190"/>
                    </a:lnTo>
                    <a:lnTo>
                      <a:pt x="842" y="179"/>
                    </a:lnTo>
                    <a:lnTo>
                      <a:pt x="761" y="167"/>
                    </a:lnTo>
                    <a:lnTo>
                      <a:pt x="672" y="154"/>
                    </a:lnTo>
                    <a:lnTo>
                      <a:pt x="577" y="140"/>
                    </a:lnTo>
                    <a:lnTo>
                      <a:pt x="473" y="124"/>
                    </a:lnTo>
                    <a:lnTo>
                      <a:pt x="361" y="107"/>
                    </a:lnTo>
                    <a:lnTo>
                      <a:pt x="241" y="89"/>
                    </a:lnTo>
                    <a:lnTo>
                      <a:pt x="112" y="69"/>
                    </a:lnTo>
                    <a:lnTo>
                      <a:pt x="102" y="71"/>
                    </a:lnTo>
                    <a:lnTo>
                      <a:pt x="94" y="77"/>
                    </a:lnTo>
                    <a:lnTo>
                      <a:pt x="86" y="86"/>
                    </a:lnTo>
                    <a:lnTo>
                      <a:pt x="78" y="95"/>
                    </a:lnTo>
                    <a:lnTo>
                      <a:pt x="71" y="105"/>
                    </a:lnTo>
                    <a:lnTo>
                      <a:pt x="63" y="113"/>
                    </a:lnTo>
                    <a:lnTo>
                      <a:pt x="54" y="118"/>
                    </a:lnTo>
                    <a:lnTo>
                      <a:pt x="44" y="118"/>
                    </a:lnTo>
                    <a:lnTo>
                      <a:pt x="17" y="107"/>
                    </a:lnTo>
                    <a:lnTo>
                      <a:pt x="3" y="90"/>
                    </a:lnTo>
                    <a:lnTo>
                      <a:pt x="0" y="68"/>
                    </a:lnTo>
                    <a:lnTo>
                      <a:pt x="6" y="46"/>
                    </a:lnTo>
                    <a:lnTo>
                      <a:pt x="21" y="25"/>
                    </a:lnTo>
                    <a:lnTo>
                      <a:pt x="43" y="9"/>
                    </a:lnTo>
                    <a:lnTo>
                      <a:pt x="71" y="0"/>
                    </a:lnTo>
                    <a:lnTo>
                      <a:pt x="102" y="1"/>
                    </a:lnTo>
                    <a:close/>
                  </a:path>
                </a:pathLst>
              </a:custGeom>
              <a:solidFill>
                <a:srgbClr val="d6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513200" y="4332240"/>
                <a:ext cx="145440" cy="25200"/>
              </a:xfrm>
              <a:custGeom>
                <a:avLst/>
                <a:gdLst/>
                <a:ahLst/>
                <a:rect l="l" t="t" r="r" b="b"/>
                <a:pathLst>
                  <a:path w="2085" h="422">
                    <a:moveTo>
                      <a:pt x="97" y="2"/>
                    </a:moveTo>
                    <a:lnTo>
                      <a:pt x="2019" y="292"/>
                    </a:lnTo>
                    <a:lnTo>
                      <a:pt x="2052" y="302"/>
                    </a:lnTo>
                    <a:lnTo>
                      <a:pt x="2072" y="321"/>
                    </a:lnTo>
                    <a:lnTo>
                      <a:pt x="2083" y="342"/>
                    </a:lnTo>
                    <a:lnTo>
                      <a:pt x="2085" y="367"/>
                    </a:lnTo>
                    <a:lnTo>
                      <a:pt x="2080" y="389"/>
                    </a:lnTo>
                    <a:lnTo>
                      <a:pt x="2067" y="408"/>
                    </a:lnTo>
                    <a:lnTo>
                      <a:pt x="2051" y="420"/>
                    </a:lnTo>
                    <a:lnTo>
                      <a:pt x="2031" y="422"/>
                    </a:lnTo>
                    <a:lnTo>
                      <a:pt x="2018" y="417"/>
                    </a:lnTo>
                    <a:lnTo>
                      <a:pt x="2007" y="407"/>
                    </a:lnTo>
                    <a:lnTo>
                      <a:pt x="1996" y="394"/>
                    </a:lnTo>
                    <a:lnTo>
                      <a:pt x="1987" y="378"/>
                    </a:lnTo>
                    <a:lnTo>
                      <a:pt x="1977" y="362"/>
                    </a:lnTo>
                    <a:lnTo>
                      <a:pt x="1967" y="349"/>
                    </a:lnTo>
                    <a:lnTo>
                      <a:pt x="1957" y="339"/>
                    </a:lnTo>
                    <a:lnTo>
                      <a:pt x="1946" y="334"/>
                    </a:lnTo>
                    <a:lnTo>
                      <a:pt x="106" y="55"/>
                    </a:lnTo>
                    <a:lnTo>
                      <a:pt x="96" y="56"/>
                    </a:lnTo>
                    <a:lnTo>
                      <a:pt x="87" y="63"/>
                    </a:lnTo>
                    <a:lnTo>
                      <a:pt x="79" y="71"/>
                    </a:lnTo>
                    <a:lnTo>
                      <a:pt x="71" y="81"/>
                    </a:lnTo>
                    <a:lnTo>
                      <a:pt x="63" y="90"/>
                    </a:lnTo>
                    <a:lnTo>
                      <a:pt x="55" y="98"/>
                    </a:lnTo>
                    <a:lnTo>
                      <a:pt x="45" y="103"/>
                    </a:lnTo>
                    <a:lnTo>
                      <a:pt x="35" y="103"/>
                    </a:lnTo>
                    <a:lnTo>
                      <a:pt x="12" y="92"/>
                    </a:lnTo>
                    <a:lnTo>
                      <a:pt x="1" y="76"/>
                    </a:lnTo>
                    <a:lnTo>
                      <a:pt x="0" y="56"/>
                    </a:lnTo>
                    <a:lnTo>
                      <a:pt x="7" y="37"/>
                    </a:lnTo>
                    <a:lnTo>
                      <a:pt x="21" y="20"/>
                    </a:lnTo>
                    <a:lnTo>
                      <a:pt x="43" y="6"/>
                    </a:lnTo>
                    <a:lnTo>
                      <a:pt x="68" y="0"/>
                    </a:lnTo>
                    <a:lnTo>
                      <a:pt x="97" y="2"/>
                    </a:lnTo>
                    <a:close/>
                  </a:path>
                </a:pathLst>
              </a:custGeom>
              <a:solidFill>
                <a:srgbClr val="e0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517160" y="4344480"/>
                <a:ext cx="131040" cy="82080"/>
              </a:xfrm>
              <a:custGeom>
                <a:avLst/>
                <a:gdLst/>
                <a:ahLst/>
                <a:rect l="l" t="t" r="r" b="b"/>
                <a:pathLst>
                  <a:path w="1900" h="1421">
                    <a:moveTo>
                      <a:pt x="671" y="5"/>
                    </a:moveTo>
                    <a:lnTo>
                      <a:pt x="1411" y="104"/>
                    </a:lnTo>
                    <a:lnTo>
                      <a:pt x="1475" y="117"/>
                    </a:lnTo>
                    <a:lnTo>
                      <a:pt x="1534" y="134"/>
                    </a:lnTo>
                    <a:lnTo>
                      <a:pt x="1590" y="157"/>
                    </a:lnTo>
                    <a:lnTo>
                      <a:pt x="1641" y="186"/>
                    </a:lnTo>
                    <a:lnTo>
                      <a:pt x="1686" y="218"/>
                    </a:lnTo>
                    <a:lnTo>
                      <a:pt x="1727" y="256"/>
                    </a:lnTo>
                    <a:lnTo>
                      <a:pt x="1763" y="297"/>
                    </a:lnTo>
                    <a:lnTo>
                      <a:pt x="1796" y="341"/>
                    </a:lnTo>
                    <a:lnTo>
                      <a:pt x="1824" y="389"/>
                    </a:lnTo>
                    <a:lnTo>
                      <a:pt x="1847" y="439"/>
                    </a:lnTo>
                    <a:lnTo>
                      <a:pt x="1865" y="492"/>
                    </a:lnTo>
                    <a:lnTo>
                      <a:pt x="1881" y="546"/>
                    </a:lnTo>
                    <a:lnTo>
                      <a:pt x="1891" y="602"/>
                    </a:lnTo>
                    <a:lnTo>
                      <a:pt x="1898" y="658"/>
                    </a:lnTo>
                    <a:lnTo>
                      <a:pt x="1900" y="716"/>
                    </a:lnTo>
                    <a:lnTo>
                      <a:pt x="1898" y="774"/>
                    </a:lnTo>
                    <a:lnTo>
                      <a:pt x="1891" y="839"/>
                    </a:lnTo>
                    <a:lnTo>
                      <a:pt x="1879" y="904"/>
                    </a:lnTo>
                    <a:lnTo>
                      <a:pt x="1862" y="969"/>
                    </a:lnTo>
                    <a:lnTo>
                      <a:pt x="1841" y="1029"/>
                    </a:lnTo>
                    <a:lnTo>
                      <a:pt x="1814" y="1088"/>
                    </a:lnTo>
                    <a:lnTo>
                      <a:pt x="1783" y="1145"/>
                    </a:lnTo>
                    <a:lnTo>
                      <a:pt x="1748" y="1198"/>
                    </a:lnTo>
                    <a:lnTo>
                      <a:pt x="1707" y="1246"/>
                    </a:lnTo>
                    <a:lnTo>
                      <a:pt x="1662" y="1290"/>
                    </a:lnTo>
                    <a:lnTo>
                      <a:pt x="1613" y="1328"/>
                    </a:lnTo>
                    <a:lnTo>
                      <a:pt x="1559" y="1361"/>
                    </a:lnTo>
                    <a:lnTo>
                      <a:pt x="1501" y="1387"/>
                    </a:lnTo>
                    <a:lnTo>
                      <a:pt x="1440" y="1407"/>
                    </a:lnTo>
                    <a:lnTo>
                      <a:pt x="1373" y="1418"/>
                    </a:lnTo>
                    <a:lnTo>
                      <a:pt x="1303" y="1421"/>
                    </a:lnTo>
                    <a:lnTo>
                      <a:pt x="1229" y="1416"/>
                    </a:lnTo>
                    <a:lnTo>
                      <a:pt x="490" y="1316"/>
                    </a:lnTo>
                    <a:lnTo>
                      <a:pt x="417" y="1302"/>
                    </a:lnTo>
                    <a:lnTo>
                      <a:pt x="350" y="1281"/>
                    </a:lnTo>
                    <a:lnTo>
                      <a:pt x="289" y="1252"/>
                    </a:lnTo>
                    <a:lnTo>
                      <a:pt x="235" y="1218"/>
                    </a:lnTo>
                    <a:lnTo>
                      <a:pt x="186" y="1177"/>
                    </a:lnTo>
                    <a:lnTo>
                      <a:pt x="143" y="1132"/>
                    </a:lnTo>
                    <a:lnTo>
                      <a:pt x="106" y="1082"/>
                    </a:lnTo>
                    <a:lnTo>
                      <a:pt x="74" y="1027"/>
                    </a:lnTo>
                    <a:lnTo>
                      <a:pt x="48" y="971"/>
                    </a:lnTo>
                    <a:lnTo>
                      <a:pt x="29" y="911"/>
                    </a:lnTo>
                    <a:lnTo>
                      <a:pt x="14" y="848"/>
                    </a:lnTo>
                    <a:lnTo>
                      <a:pt x="5" y="784"/>
                    </a:lnTo>
                    <a:lnTo>
                      <a:pt x="0" y="718"/>
                    </a:lnTo>
                    <a:lnTo>
                      <a:pt x="2" y="652"/>
                    </a:lnTo>
                    <a:lnTo>
                      <a:pt x="8" y="587"/>
                    </a:lnTo>
                    <a:lnTo>
                      <a:pt x="19" y="522"/>
                    </a:lnTo>
                    <a:lnTo>
                      <a:pt x="33" y="466"/>
                    </a:lnTo>
                    <a:lnTo>
                      <a:pt x="50" y="411"/>
                    </a:lnTo>
                    <a:lnTo>
                      <a:pt x="72" y="358"/>
                    </a:lnTo>
                    <a:lnTo>
                      <a:pt x="97" y="307"/>
                    </a:lnTo>
                    <a:lnTo>
                      <a:pt x="126" y="258"/>
                    </a:lnTo>
                    <a:lnTo>
                      <a:pt x="159" y="213"/>
                    </a:lnTo>
                    <a:lnTo>
                      <a:pt x="195" y="171"/>
                    </a:lnTo>
                    <a:lnTo>
                      <a:pt x="235" y="132"/>
                    </a:lnTo>
                    <a:lnTo>
                      <a:pt x="278" y="97"/>
                    </a:lnTo>
                    <a:lnTo>
                      <a:pt x="324" y="68"/>
                    </a:lnTo>
                    <a:lnTo>
                      <a:pt x="374" y="42"/>
                    </a:lnTo>
                    <a:lnTo>
                      <a:pt x="427" y="23"/>
                    </a:lnTo>
                    <a:lnTo>
                      <a:pt x="483" y="9"/>
                    </a:lnTo>
                    <a:lnTo>
                      <a:pt x="543" y="1"/>
                    </a:lnTo>
                    <a:lnTo>
                      <a:pt x="605" y="0"/>
                    </a:lnTo>
                    <a:lnTo>
                      <a:pt x="671" y="5"/>
                    </a:lnTo>
                    <a:close/>
                  </a:path>
                </a:pathLst>
              </a:custGeom>
              <a:solidFill>
                <a:srgbClr val="e0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517160" y="4344480"/>
                <a:ext cx="131040" cy="80640"/>
              </a:xfrm>
              <a:custGeom>
                <a:avLst/>
                <a:gdLst/>
                <a:ahLst/>
                <a:rect l="l" t="t" r="r" b="b"/>
                <a:pathLst>
                  <a:path w="1890" h="1392">
                    <a:moveTo>
                      <a:pt x="661" y="5"/>
                    </a:moveTo>
                    <a:lnTo>
                      <a:pt x="682" y="8"/>
                    </a:lnTo>
                    <a:lnTo>
                      <a:pt x="703" y="11"/>
                    </a:lnTo>
                    <a:lnTo>
                      <a:pt x="722" y="13"/>
                    </a:lnTo>
                    <a:lnTo>
                      <a:pt x="740" y="15"/>
                    </a:lnTo>
                    <a:lnTo>
                      <a:pt x="756" y="17"/>
                    </a:lnTo>
                    <a:lnTo>
                      <a:pt x="771" y="19"/>
                    </a:lnTo>
                    <a:lnTo>
                      <a:pt x="785" y="21"/>
                    </a:lnTo>
                    <a:lnTo>
                      <a:pt x="799" y="23"/>
                    </a:lnTo>
                    <a:lnTo>
                      <a:pt x="813" y="25"/>
                    </a:lnTo>
                    <a:lnTo>
                      <a:pt x="825" y="26"/>
                    </a:lnTo>
                    <a:lnTo>
                      <a:pt x="838" y="28"/>
                    </a:lnTo>
                    <a:lnTo>
                      <a:pt x="850" y="30"/>
                    </a:lnTo>
                    <a:lnTo>
                      <a:pt x="864" y="31"/>
                    </a:lnTo>
                    <a:lnTo>
                      <a:pt x="877" y="33"/>
                    </a:lnTo>
                    <a:lnTo>
                      <a:pt x="892" y="35"/>
                    </a:lnTo>
                    <a:lnTo>
                      <a:pt x="906" y="37"/>
                    </a:lnTo>
                    <a:lnTo>
                      <a:pt x="922" y="39"/>
                    </a:lnTo>
                    <a:lnTo>
                      <a:pt x="939" y="41"/>
                    </a:lnTo>
                    <a:lnTo>
                      <a:pt x="957" y="45"/>
                    </a:lnTo>
                    <a:lnTo>
                      <a:pt x="978" y="47"/>
                    </a:lnTo>
                    <a:lnTo>
                      <a:pt x="999" y="50"/>
                    </a:lnTo>
                    <a:lnTo>
                      <a:pt x="1023" y="53"/>
                    </a:lnTo>
                    <a:lnTo>
                      <a:pt x="1048" y="57"/>
                    </a:lnTo>
                    <a:lnTo>
                      <a:pt x="1076" y="60"/>
                    </a:lnTo>
                    <a:lnTo>
                      <a:pt x="1106" y="64"/>
                    </a:lnTo>
                    <a:lnTo>
                      <a:pt x="1138" y="69"/>
                    </a:lnTo>
                    <a:lnTo>
                      <a:pt x="1174" y="73"/>
                    </a:lnTo>
                    <a:lnTo>
                      <a:pt x="1212" y="78"/>
                    </a:lnTo>
                    <a:lnTo>
                      <a:pt x="1254" y="84"/>
                    </a:lnTo>
                    <a:lnTo>
                      <a:pt x="1299" y="90"/>
                    </a:lnTo>
                    <a:lnTo>
                      <a:pt x="1347" y="96"/>
                    </a:lnTo>
                    <a:lnTo>
                      <a:pt x="1399" y="103"/>
                    </a:lnTo>
                    <a:lnTo>
                      <a:pt x="1464" y="116"/>
                    </a:lnTo>
                    <a:lnTo>
                      <a:pt x="1523" y="133"/>
                    </a:lnTo>
                    <a:lnTo>
                      <a:pt x="1578" y="156"/>
                    </a:lnTo>
                    <a:lnTo>
                      <a:pt x="1629" y="185"/>
                    </a:lnTo>
                    <a:lnTo>
                      <a:pt x="1675" y="217"/>
                    </a:lnTo>
                    <a:lnTo>
                      <a:pt x="1716" y="255"/>
                    </a:lnTo>
                    <a:lnTo>
                      <a:pt x="1752" y="296"/>
                    </a:lnTo>
                    <a:lnTo>
                      <a:pt x="1784" y="340"/>
                    </a:lnTo>
                    <a:lnTo>
                      <a:pt x="1813" y="388"/>
                    </a:lnTo>
                    <a:lnTo>
                      <a:pt x="1835" y="438"/>
                    </a:lnTo>
                    <a:lnTo>
                      <a:pt x="1855" y="491"/>
                    </a:lnTo>
                    <a:lnTo>
                      <a:pt x="1870" y="545"/>
                    </a:lnTo>
                    <a:lnTo>
                      <a:pt x="1880" y="601"/>
                    </a:lnTo>
                    <a:lnTo>
                      <a:pt x="1886" y="657"/>
                    </a:lnTo>
                    <a:lnTo>
                      <a:pt x="1890" y="715"/>
                    </a:lnTo>
                    <a:lnTo>
                      <a:pt x="1888" y="773"/>
                    </a:lnTo>
                    <a:lnTo>
                      <a:pt x="1878" y="831"/>
                    </a:lnTo>
                    <a:lnTo>
                      <a:pt x="1864" y="890"/>
                    </a:lnTo>
                    <a:lnTo>
                      <a:pt x="1846" y="948"/>
                    </a:lnTo>
                    <a:lnTo>
                      <a:pt x="1823" y="1006"/>
                    </a:lnTo>
                    <a:lnTo>
                      <a:pt x="1797" y="1063"/>
                    </a:lnTo>
                    <a:lnTo>
                      <a:pt x="1766" y="1117"/>
                    </a:lnTo>
                    <a:lnTo>
                      <a:pt x="1730" y="1168"/>
                    </a:lnTo>
                    <a:lnTo>
                      <a:pt x="1691" y="1216"/>
                    </a:lnTo>
                    <a:lnTo>
                      <a:pt x="1647" y="1259"/>
                    </a:lnTo>
                    <a:lnTo>
                      <a:pt x="1599" y="1298"/>
                    </a:lnTo>
                    <a:lnTo>
                      <a:pt x="1547" y="1330"/>
                    </a:lnTo>
                    <a:lnTo>
                      <a:pt x="1491" y="1357"/>
                    </a:lnTo>
                    <a:lnTo>
                      <a:pt x="1430" y="1377"/>
                    </a:lnTo>
                    <a:lnTo>
                      <a:pt x="1365" y="1389"/>
                    </a:lnTo>
                    <a:lnTo>
                      <a:pt x="1295" y="1392"/>
                    </a:lnTo>
                    <a:lnTo>
                      <a:pt x="1221" y="1387"/>
                    </a:lnTo>
                    <a:lnTo>
                      <a:pt x="1200" y="1384"/>
                    </a:lnTo>
                    <a:lnTo>
                      <a:pt x="1179" y="1381"/>
                    </a:lnTo>
                    <a:lnTo>
                      <a:pt x="1160" y="1379"/>
                    </a:lnTo>
                    <a:lnTo>
                      <a:pt x="1142" y="1377"/>
                    </a:lnTo>
                    <a:lnTo>
                      <a:pt x="1126" y="1375"/>
                    </a:lnTo>
                    <a:lnTo>
                      <a:pt x="1111" y="1373"/>
                    </a:lnTo>
                    <a:lnTo>
                      <a:pt x="1097" y="1371"/>
                    </a:lnTo>
                    <a:lnTo>
                      <a:pt x="1083" y="1369"/>
                    </a:lnTo>
                    <a:lnTo>
                      <a:pt x="1070" y="1367"/>
                    </a:lnTo>
                    <a:lnTo>
                      <a:pt x="1056" y="1365"/>
                    </a:lnTo>
                    <a:lnTo>
                      <a:pt x="1044" y="1364"/>
                    </a:lnTo>
                    <a:lnTo>
                      <a:pt x="1031" y="1362"/>
                    </a:lnTo>
                    <a:lnTo>
                      <a:pt x="1018" y="1360"/>
                    </a:lnTo>
                    <a:lnTo>
                      <a:pt x="1004" y="1358"/>
                    </a:lnTo>
                    <a:lnTo>
                      <a:pt x="989" y="1357"/>
                    </a:lnTo>
                    <a:lnTo>
                      <a:pt x="975" y="1355"/>
                    </a:lnTo>
                    <a:lnTo>
                      <a:pt x="959" y="1353"/>
                    </a:lnTo>
                    <a:lnTo>
                      <a:pt x="942" y="1350"/>
                    </a:lnTo>
                    <a:lnTo>
                      <a:pt x="924" y="1348"/>
                    </a:lnTo>
                    <a:lnTo>
                      <a:pt x="903" y="1345"/>
                    </a:lnTo>
                    <a:lnTo>
                      <a:pt x="882" y="1342"/>
                    </a:lnTo>
                    <a:lnTo>
                      <a:pt x="858" y="1339"/>
                    </a:lnTo>
                    <a:lnTo>
                      <a:pt x="833" y="1335"/>
                    </a:lnTo>
                    <a:lnTo>
                      <a:pt x="806" y="1331"/>
                    </a:lnTo>
                    <a:lnTo>
                      <a:pt x="776" y="1327"/>
                    </a:lnTo>
                    <a:lnTo>
                      <a:pt x="744" y="1323"/>
                    </a:lnTo>
                    <a:lnTo>
                      <a:pt x="708" y="1318"/>
                    </a:lnTo>
                    <a:lnTo>
                      <a:pt x="670" y="1313"/>
                    </a:lnTo>
                    <a:lnTo>
                      <a:pt x="628" y="1308"/>
                    </a:lnTo>
                    <a:lnTo>
                      <a:pt x="584" y="1302"/>
                    </a:lnTo>
                    <a:lnTo>
                      <a:pt x="535" y="1296"/>
                    </a:lnTo>
                    <a:lnTo>
                      <a:pt x="483" y="1289"/>
                    </a:lnTo>
                    <a:lnTo>
                      <a:pt x="410" y="1274"/>
                    </a:lnTo>
                    <a:lnTo>
                      <a:pt x="344" y="1252"/>
                    </a:lnTo>
                    <a:lnTo>
                      <a:pt x="285" y="1224"/>
                    </a:lnTo>
                    <a:lnTo>
                      <a:pt x="232" y="1188"/>
                    </a:lnTo>
                    <a:lnTo>
                      <a:pt x="184" y="1146"/>
                    </a:lnTo>
                    <a:lnTo>
                      <a:pt x="143" y="1101"/>
                    </a:lnTo>
                    <a:lnTo>
                      <a:pt x="108" y="1051"/>
                    </a:lnTo>
                    <a:lnTo>
                      <a:pt x="78" y="997"/>
                    </a:lnTo>
                    <a:lnTo>
                      <a:pt x="53" y="940"/>
                    </a:lnTo>
                    <a:lnTo>
                      <a:pt x="33" y="881"/>
                    </a:lnTo>
                    <a:lnTo>
                      <a:pt x="17" y="821"/>
                    </a:lnTo>
                    <a:lnTo>
                      <a:pt x="7" y="760"/>
                    </a:lnTo>
                    <a:lnTo>
                      <a:pt x="2" y="699"/>
                    </a:lnTo>
                    <a:lnTo>
                      <a:pt x="0" y="638"/>
                    </a:lnTo>
                    <a:lnTo>
                      <a:pt x="3" y="579"/>
                    </a:lnTo>
                    <a:lnTo>
                      <a:pt x="9" y="521"/>
                    </a:lnTo>
                    <a:lnTo>
                      <a:pt x="23" y="465"/>
                    </a:lnTo>
                    <a:lnTo>
                      <a:pt x="41" y="410"/>
                    </a:lnTo>
                    <a:lnTo>
                      <a:pt x="62" y="358"/>
                    </a:lnTo>
                    <a:lnTo>
                      <a:pt x="88" y="307"/>
                    </a:lnTo>
                    <a:lnTo>
                      <a:pt x="117" y="258"/>
                    </a:lnTo>
                    <a:lnTo>
                      <a:pt x="150" y="212"/>
                    </a:lnTo>
                    <a:lnTo>
                      <a:pt x="186" y="171"/>
                    </a:lnTo>
                    <a:lnTo>
                      <a:pt x="226" y="132"/>
                    </a:lnTo>
                    <a:lnTo>
                      <a:pt x="268" y="97"/>
                    </a:lnTo>
                    <a:lnTo>
                      <a:pt x="315" y="68"/>
                    </a:lnTo>
                    <a:lnTo>
                      <a:pt x="364" y="42"/>
                    </a:lnTo>
                    <a:lnTo>
                      <a:pt x="417" y="23"/>
                    </a:lnTo>
                    <a:lnTo>
                      <a:pt x="473" y="9"/>
                    </a:lnTo>
                    <a:lnTo>
                      <a:pt x="533" y="1"/>
                    </a:lnTo>
                    <a:lnTo>
                      <a:pt x="595" y="0"/>
                    </a:lnTo>
                    <a:lnTo>
                      <a:pt x="661" y="5"/>
                    </a:lnTo>
                    <a:close/>
                  </a:path>
                </a:pathLst>
              </a:custGeom>
              <a:solidFill>
                <a:srgbClr val="db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518600" y="4344480"/>
                <a:ext cx="129600" cy="78120"/>
              </a:xfrm>
              <a:custGeom>
                <a:avLst/>
                <a:gdLst/>
                <a:ahLst/>
                <a:rect l="l" t="t" r="r" b="b"/>
                <a:pathLst>
                  <a:path w="1883" h="1365">
                    <a:moveTo>
                      <a:pt x="654" y="5"/>
                    </a:moveTo>
                    <a:lnTo>
                      <a:pt x="675" y="8"/>
                    </a:lnTo>
                    <a:lnTo>
                      <a:pt x="696" y="11"/>
                    </a:lnTo>
                    <a:lnTo>
                      <a:pt x="715" y="13"/>
                    </a:lnTo>
                    <a:lnTo>
                      <a:pt x="733" y="15"/>
                    </a:lnTo>
                    <a:lnTo>
                      <a:pt x="749" y="17"/>
                    </a:lnTo>
                    <a:lnTo>
                      <a:pt x="764" y="19"/>
                    </a:lnTo>
                    <a:lnTo>
                      <a:pt x="778" y="21"/>
                    </a:lnTo>
                    <a:lnTo>
                      <a:pt x="792" y="23"/>
                    </a:lnTo>
                    <a:lnTo>
                      <a:pt x="806" y="25"/>
                    </a:lnTo>
                    <a:lnTo>
                      <a:pt x="818" y="26"/>
                    </a:lnTo>
                    <a:lnTo>
                      <a:pt x="831" y="28"/>
                    </a:lnTo>
                    <a:lnTo>
                      <a:pt x="843" y="30"/>
                    </a:lnTo>
                    <a:lnTo>
                      <a:pt x="857" y="31"/>
                    </a:lnTo>
                    <a:lnTo>
                      <a:pt x="870" y="33"/>
                    </a:lnTo>
                    <a:lnTo>
                      <a:pt x="885" y="35"/>
                    </a:lnTo>
                    <a:lnTo>
                      <a:pt x="899" y="37"/>
                    </a:lnTo>
                    <a:lnTo>
                      <a:pt x="915" y="39"/>
                    </a:lnTo>
                    <a:lnTo>
                      <a:pt x="932" y="41"/>
                    </a:lnTo>
                    <a:lnTo>
                      <a:pt x="950" y="45"/>
                    </a:lnTo>
                    <a:lnTo>
                      <a:pt x="971" y="47"/>
                    </a:lnTo>
                    <a:lnTo>
                      <a:pt x="992" y="50"/>
                    </a:lnTo>
                    <a:lnTo>
                      <a:pt x="1016" y="53"/>
                    </a:lnTo>
                    <a:lnTo>
                      <a:pt x="1041" y="57"/>
                    </a:lnTo>
                    <a:lnTo>
                      <a:pt x="1069" y="60"/>
                    </a:lnTo>
                    <a:lnTo>
                      <a:pt x="1099" y="64"/>
                    </a:lnTo>
                    <a:lnTo>
                      <a:pt x="1131" y="69"/>
                    </a:lnTo>
                    <a:lnTo>
                      <a:pt x="1167" y="73"/>
                    </a:lnTo>
                    <a:lnTo>
                      <a:pt x="1205" y="78"/>
                    </a:lnTo>
                    <a:lnTo>
                      <a:pt x="1247" y="84"/>
                    </a:lnTo>
                    <a:lnTo>
                      <a:pt x="1292" y="90"/>
                    </a:lnTo>
                    <a:lnTo>
                      <a:pt x="1340" y="96"/>
                    </a:lnTo>
                    <a:lnTo>
                      <a:pt x="1392" y="103"/>
                    </a:lnTo>
                    <a:lnTo>
                      <a:pt x="1457" y="116"/>
                    </a:lnTo>
                    <a:lnTo>
                      <a:pt x="1516" y="133"/>
                    </a:lnTo>
                    <a:lnTo>
                      <a:pt x="1571" y="156"/>
                    </a:lnTo>
                    <a:lnTo>
                      <a:pt x="1622" y="185"/>
                    </a:lnTo>
                    <a:lnTo>
                      <a:pt x="1668" y="217"/>
                    </a:lnTo>
                    <a:lnTo>
                      <a:pt x="1709" y="255"/>
                    </a:lnTo>
                    <a:lnTo>
                      <a:pt x="1745" y="296"/>
                    </a:lnTo>
                    <a:lnTo>
                      <a:pt x="1777" y="340"/>
                    </a:lnTo>
                    <a:lnTo>
                      <a:pt x="1806" y="388"/>
                    </a:lnTo>
                    <a:lnTo>
                      <a:pt x="1828" y="438"/>
                    </a:lnTo>
                    <a:lnTo>
                      <a:pt x="1848" y="491"/>
                    </a:lnTo>
                    <a:lnTo>
                      <a:pt x="1863" y="545"/>
                    </a:lnTo>
                    <a:lnTo>
                      <a:pt x="1873" y="601"/>
                    </a:lnTo>
                    <a:lnTo>
                      <a:pt x="1879" y="657"/>
                    </a:lnTo>
                    <a:lnTo>
                      <a:pt x="1883" y="715"/>
                    </a:lnTo>
                    <a:lnTo>
                      <a:pt x="1881" y="773"/>
                    </a:lnTo>
                    <a:lnTo>
                      <a:pt x="1868" y="824"/>
                    </a:lnTo>
                    <a:lnTo>
                      <a:pt x="1851" y="876"/>
                    </a:lnTo>
                    <a:lnTo>
                      <a:pt x="1832" y="930"/>
                    </a:lnTo>
                    <a:lnTo>
                      <a:pt x="1809" y="984"/>
                    </a:lnTo>
                    <a:lnTo>
                      <a:pt x="1782" y="1037"/>
                    </a:lnTo>
                    <a:lnTo>
                      <a:pt x="1751" y="1088"/>
                    </a:lnTo>
                    <a:lnTo>
                      <a:pt x="1717" y="1138"/>
                    </a:lnTo>
                    <a:lnTo>
                      <a:pt x="1679" y="1185"/>
                    </a:lnTo>
                    <a:lnTo>
                      <a:pt x="1636" y="1229"/>
                    </a:lnTo>
                    <a:lnTo>
                      <a:pt x="1589" y="1267"/>
                    </a:lnTo>
                    <a:lnTo>
                      <a:pt x="1539" y="1301"/>
                    </a:lnTo>
                    <a:lnTo>
                      <a:pt x="1484" y="1328"/>
                    </a:lnTo>
                    <a:lnTo>
                      <a:pt x="1424" y="1349"/>
                    </a:lnTo>
                    <a:lnTo>
                      <a:pt x="1360" y="1361"/>
                    </a:lnTo>
                    <a:lnTo>
                      <a:pt x="1292" y="1365"/>
                    </a:lnTo>
                    <a:lnTo>
                      <a:pt x="1218" y="1360"/>
                    </a:lnTo>
                    <a:lnTo>
                      <a:pt x="1196" y="1357"/>
                    </a:lnTo>
                    <a:lnTo>
                      <a:pt x="1175" y="1354"/>
                    </a:lnTo>
                    <a:lnTo>
                      <a:pt x="1156" y="1352"/>
                    </a:lnTo>
                    <a:lnTo>
                      <a:pt x="1139" y="1350"/>
                    </a:lnTo>
                    <a:lnTo>
                      <a:pt x="1123" y="1348"/>
                    </a:lnTo>
                    <a:lnTo>
                      <a:pt x="1107" y="1346"/>
                    </a:lnTo>
                    <a:lnTo>
                      <a:pt x="1093" y="1344"/>
                    </a:lnTo>
                    <a:lnTo>
                      <a:pt x="1079" y="1342"/>
                    </a:lnTo>
                    <a:lnTo>
                      <a:pt x="1067" y="1340"/>
                    </a:lnTo>
                    <a:lnTo>
                      <a:pt x="1053" y="1337"/>
                    </a:lnTo>
                    <a:lnTo>
                      <a:pt x="1041" y="1336"/>
                    </a:lnTo>
                    <a:lnTo>
                      <a:pt x="1027" y="1334"/>
                    </a:lnTo>
                    <a:lnTo>
                      <a:pt x="1015" y="1332"/>
                    </a:lnTo>
                    <a:lnTo>
                      <a:pt x="1001" y="1330"/>
                    </a:lnTo>
                    <a:lnTo>
                      <a:pt x="987" y="1329"/>
                    </a:lnTo>
                    <a:lnTo>
                      <a:pt x="972" y="1327"/>
                    </a:lnTo>
                    <a:lnTo>
                      <a:pt x="956" y="1325"/>
                    </a:lnTo>
                    <a:lnTo>
                      <a:pt x="939" y="1322"/>
                    </a:lnTo>
                    <a:lnTo>
                      <a:pt x="921" y="1320"/>
                    </a:lnTo>
                    <a:lnTo>
                      <a:pt x="900" y="1317"/>
                    </a:lnTo>
                    <a:lnTo>
                      <a:pt x="879" y="1314"/>
                    </a:lnTo>
                    <a:lnTo>
                      <a:pt x="855" y="1311"/>
                    </a:lnTo>
                    <a:lnTo>
                      <a:pt x="831" y="1308"/>
                    </a:lnTo>
                    <a:lnTo>
                      <a:pt x="803" y="1304"/>
                    </a:lnTo>
                    <a:lnTo>
                      <a:pt x="773" y="1300"/>
                    </a:lnTo>
                    <a:lnTo>
                      <a:pt x="741" y="1296"/>
                    </a:lnTo>
                    <a:lnTo>
                      <a:pt x="706" y="1291"/>
                    </a:lnTo>
                    <a:lnTo>
                      <a:pt x="667" y="1286"/>
                    </a:lnTo>
                    <a:lnTo>
                      <a:pt x="626" y="1281"/>
                    </a:lnTo>
                    <a:lnTo>
                      <a:pt x="581" y="1274"/>
                    </a:lnTo>
                    <a:lnTo>
                      <a:pt x="532" y="1268"/>
                    </a:lnTo>
                    <a:lnTo>
                      <a:pt x="480" y="1261"/>
                    </a:lnTo>
                    <a:lnTo>
                      <a:pt x="407" y="1247"/>
                    </a:lnTo>
                    <a:lnTo>
                      <a:pt x="342" y="1225"/>
                    </a:lnTo>
                    <a:lnTo>
                      <a:pt x="284" y="1194"/>
                    </a:lnTo>
                    <a:lnTo>
                      <a:pt x="232" y="1159"/>
                    </a:lnTo>
                    <a:lnTo>
                      <a:pt x="186" y="1117"/>
                    </a:lnTo>
                    <a:lnTo>
                      <a:pt x="146" y="1070"/>
                    </a:lnTo>
                    <a:lnTo>
                      <a:pt x="112" y="1020"/>
                    </a:lnTo>
                    <a:lnTo>
                      <a:pt x="83" y="966"/>
                    </a:lnTo>
                    <a:lnTo>
                      <a:pt x="58" y="911"/>
                    </a:lnTo>
                    <a:lnTo>
                      <a:pt x="40" y="854"/>
                    </a:lnTo>
                    <a:lnTo>
                      <a:pt x="24" y="796"/>
                    </a:lnTo>
                    <a:lnTo>
                      <a:pt x="14" y="737"/>
                    </a:lnTo>
                    <a:lnTo>
                      <a:pt x="5" y="680"/>
                    </a:lnTo>
                    <a:lnTo>
                      <a:pt x="1" y="624"/>
                    </a:lnTo>
                    <a:lnTo>
                      <a:pt x="0" y="571"/>
                    </a:lnTo>
                    <a:lnTo>
                      <a:pt x="2" y="521"/>
                    </a:lnTo>
                    <a:lnTo>
                      <a:pt x="16" y="465"/>
                    </a:lnTo>
                    <a:lnTo>
                      <a:pt x="34" y="410"/>
                    </a:lnTo>
                    <a:lnTo>
                      <a:pt x="55" y="358"/>
                    </a:lnTo>
                    <a:lnTo>
                      <a:pt x="81" y="307"/>
                    </a:lnTo>
                    <a:lnTo>
                      <a:pt x="110" y="258"/>
                    </a:lnTo>
                    <a:lnTo>
                      <a:pt x="143" y="212"/>
                    </a:lnTo>
                    <a:lnTo>
                      <a:pt x="179" y="171"/>
                    </a:lnTo>
                    <a:lnTo>
                      <a:pt x="219" y="132"/>
                    </a:lnTo>
                    <a:lnTo>
                      <a:pt x="261" y="97"/>
                    </a:lnTo>
                    <a:lnTo>
                      <a:pt x="308" y="68"/>
                    </a:lnTo>
                    <a:lnTo>
                      <a:pt x="357" y="42"/>
                    </a:lnTo>
                    <a:lnTo>
                      <a:pt x="410" y="23"/>
                    </a:lnTo>
                    <a:lnTo>
                      <a:pt x="466" y="9"/>
                    </a:lnTo>
                    <a:lnTo>
                      <a:pt x="526" y="1"/>
                    </a:lnTo>
                    <a:lnTo>
                      <a:pt x="588" y="0"/>
                    </a:lnTo>
                    <a:lnTo>
                      <a:pt x="654" y="5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518600" y="4344480"/>
                <a:ext cx="129600" cy="76680"/>
              </a:xfrm>
              <a:custGeom>
                <a:avLst/>
                <a:gdLst/>
                <a:ahLst/>
                <a:rect l="l" t="t" r="r" b="b"/>
                <a:pathLst>
                  <a:path w="1881" h="1336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2" y="19"/>
                    </a:lnTo>
                    <a:lnTo>
                      <a:pt x="776" y="21"/>
                    </a:lnTo>
                    <a:lnTo>
                      <a:pt x="790" y="23"/>
                    </a:lnTo>
                    <a:lnTo>
                      <a:pt x="804" y="25"/>
                    </a:lnTo>
                    <a:lnTo>
                      <a:pt x="816" y="26"/>
                    </a:lnTo>
                    <a:lnTo>
                      <a:pt x="829" y="28"/>
                    </a:lnTo>
                    <a:lnTo>
                      <a:pt x="841" y="30"/>
                    </a:lnTo>
                    <a:lnTo>
                      <a:pt x="855" y="31"/>
                    </a:lnTo>
                    <a:lnTo>
                      <a:pt x="868" y="33"/>
                    </a:lnTo>
                    <a:lnTo>
                      <a:pt x="883" y="35"/>
                    </a:lnTo>
                    <a:lnTo>
                      <a:pt x="897" y="37"/>
                    </a:lnTo>
                    <a:lnTo>
                      <a:pt x="913" y="39"/>
                    </a:lnTo>
                    <a:lnTo>
                      <a:pt x="930" y="41"/>
                    </a:lnTo>
                    <a:lnTo>
                      <a:pt x="948" y="45"/>
                    </a:lnTo>
                    <a:lnTo>
                      <a:pt x="969" y="47"/>
                    </a:lnTo>
                    <a:lnTo>
                      <a:pt x="990" y="50"/>
                    </a:lnTo>
                    <a:lnTo>
                      <a:pt x="1014" y="53"/>
                    </a:lnTo>
                    <a:lnTo>
                      <a:pt x="1039" y="57"/>
                    </a:lnTo>
                    <a:lnTo>
                      <a:pt x="1067" y="60"/>
                    </a:lnTo>
                    <a:lnTo>
                      <a:pt x="1097" y="64"/>
                    </a:lnTo>
                    <a:lnTo>
                      <a:pt x="1129" y="69"/>
                    </a:lnTo>
                    <a:lnTo>
                      <a:pt x="1165" y="73"/>
                    </a:lnTo>
                    <a:lnTo>
                      <a:pt x="1203" y="78"/>
                    </a:lnTo>
                    <a:lnTo>
                      <a:pt x="1245" y="84"/>
                    </a:lnTo>
                    <a:lnTo>
                      <a:pt x="1290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4" y="133"/>
                    </a:lnTo>
                    <a:lnTo>
                      <a:pt x="1569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7" y="255"/>
                    </a:lnTo>
                    <a:lnTo>
                      <a:pt x="1743" y="296"/>
                    </a:lnTo>
                    <a:lnTo>
                      <a:pt x="1775" y="340"/>
                    </a:lnTo>
                    <a:lnTo>
                      <a:pt x="1804" y="388"/>
                    </a:lnTo>
                    <a:lnTo>
                      <a:pt x="1826" y="438"/>
                    </a:lnTo>
                    <a:lnTo>
                      <a:pt x="1846" y="491"/>
                    </a:lnTo>
                    <a:lnTo>
                      <a:pt x="1861" y="545"/>
                    </a:lnTo>
                    <a:lnTo>
                      <a:pt x="1871" y="601"/>
                    </a:lnTo>
                    <a:lnTo>
                      <a:pt x="1877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63" y="817"/>
                    </a:lnTo>
                    <a:lnTo>
                      <a:pt x="1845" y="863"/>
                    </a:lnTo>
                    <a:lnTo>
                      <a:pt x="1824" y="912"/>
                    </a:lnTo>
                    <a:lnTo>
                      <a:pt x="1800" y="961"/>
                    </a:lnTo>
                    <a:lnTo>
                      <a:pt x="1773" y="1011"/>
                    </a:lnTo>
                    <a:lnTo>
                      <a:pt x="1743" y="1061"/>
                    </a:lnTo>
                    <a:lnTo>
                      <a:pt x="1710" y="1110"/>
                    </a:lnTo>
                    <a:lnTo>
                      <a:pt x="1672" y="1156"/>
                    </a:lnTo>
                    <a:lnTo>
                      <a:pt x="1632" y="1198"/>
                    </a:lnTo>
                    <a:lnTo>
                      <a:pt x="1586" y="1237"/>
                    </a:lnTo>
                    <a:lnTo>
                      <a:pt x="1537" y="1270"/>
                    </a:lnTo>
                    <a:lnTo>
                      <a:pt x="1483" y="1299"/>
                    </a:lnTo>
                    <a:lnTo>
                      <a:pt x="1425" y="1319"/>
                    </a:lnTo>
                    <a:lnTo>
                      <a:pt x="1362" y="1332"/>
                    </a:lnTo>
                    <a:lnTo>
                      <a:pt x="1294" y="1336"/>
                    </a:lnTo>
                    <a:lnTo>
                      <a:pt x="1221" y="1331"/>
                    </a:lnTo>
                    <a:lnTo>
                      <a:pt x="1199" y="1328"/>
                    </a:lnTo>
                    <a:lnTo>
                      <a:pt x="1178" y="1325"/>
                    </a:lnTo>
                    <a:lnTo>
                      <a:pt x="1159" y="1323"/>
                    </a:lnTo>
                    <a:lnTo>
                      <a:pt x="1142" y="1321"/>
                    </a:lnTo>
                    <a:lnTo>
                      <a:pt x="1125" y="1319"/>
                    </a:lnTo>
                    <a:lnTo>
                      <a:pt x="1111" y="1317"/>
                    </a:lnTo>
                    <a:lnTo>
                      <a:pt x="1096" y="1315"/>
                    </a:lnTo>
                    <a:lnTo>
                      <a:pt x="1082" y="1313"/>
                    </a:lnTo>
                    <a:lnTo>
                      <a:pt x="1069" y="1311"/>
                    </a:lnTo>
                    <a:lnTo>
                      <a:pt x="1055" y="1310"/>
                    </a:lnTo>
                    <a:lnTo>
                      <a:pt x="1043" y="1308"/>
                    </a:lnTo>
                    <a:lnTo>
                      <a:pt x="1030" y="1306"/>
                    </a:lnTo>
                    <a:lnTo>
                      <a:pt x="1017" y="1305"/>
                    </a:lnTo>
                    <a:lnTo>
                      <a:pt x="1003" y="1303"/>
                    </a:lnTo>
                    <a:lnTo>
                      <a:pt x="989" y="1301"/>
                    </a:lnTo>
                    <a:lnTo>
                      <a:pt x="974" y="1299"/>
                    </a:lnTo>
                    <a:lnTo>
                      <a:pt x="959" y="1297"/>
                    </a:lnTo>
                    <a:lnTo>
                      <a:pt x="941" y="1295"/>
                    </a:lnTo>
                    <a:lnTo>
                      <a:pt x="923" y="1292"/>
                    </a:lnTo>
                    <a:lnTo>
                      <a:pt x="902" y="1290"/>
                    </a:lnTo>
                    <a:lnTo>
                      <a:pt x="882" y="1287"/>
                    </a:lnTo>
                    <a:lnTo>
                      <a:pt x="858" y="1284"/>
                    </a:lnTo>
                    <a:lnTo>
                      <a:pt x="833" y="1280"/>
                    </a:lnTo>
                    <a:lnTo>
                      <a:pt x="806" y="1276"/>
                    </a:lnTo>
                    <a:lnTo>
                      <a:pt x="775" y="1272"/>
                    </a:lnTo>
                    <a:lnTo>
                      <a:pt x="743" y="1267"/>
                    </a:lnTo>
                    <a:lnTo>
                      <a:pt x="708" y="1263"/>
                    </a:lnTo>
                    <a:lnTo>
                      <a:pt x="669" y="1258"/>
                    </a:lnTo>
                    <a:lnTo>
                      <a:pt x="628" y="1252"/>
                    </a:lnTo>
                    <a:lnTo>
                      <a:pt x="583" y="1246"/>
                    </a:lnTo>
                    <a:lnTo>
                      <a:pt x="534" y="1240"/>
                    </a:lnTo>
                    <a:lnTo>
                      <a:pt x="482" y="1233"/>
                    </a:lnTo>
                    <a:lnTo>
                      <a:pt x="410" y="1219"/>
                    </a:lnTo>
                    <a:lnTo>
                      <a:pt x="346" y="1195"/>
                    </a:lnTo>
                    <a:lnTo>
                      <a:pt x="288" y="1166"/>
                    </a:lnTo>
                    <a:lnTo>
                      <a:pt x="237" y="1129"/>
                    </a:lnTo>
                    <a:lnTo>
                      <a:pt x="193" y="1086"/>
                    </a:lnTo>
                    <a:lnTo>
                      <a:pt x="155" y="1040"/>
                    </a:lnTo>
                    <a:lnTo>
                      <a:pt x="122" y="990"/>
                    </a:lnTo>
                    <a:lnTo>
                      <a:pt x="94" y="936"/>
                    </a:lnTo>
                    <a:lnTo>
                      <a:pt x="71" y="881"/>
                    </a:lnTo>
                    <a:lnTo>
                      <a:pt x="51" y="825"/>
                    </a:lnTo>
                    <a:lnTo>
                      <a:pt x="37" y="769"/>
                    </a:lnTo>
                    <a:lnTo>
                      <a:pt x="24" y="714"/>
                    </a:lnTo>
                    <a:lnTo>
                      <a:pt x="15" y="662"/>
                    </a:lnTo>
                    <a:lnTo>
                      <a:pt x="8" y="611"/>
                    </a:lnTo>
                    <a:lnTo>
                      <a:pt x="3" y="564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ce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518600" y="4344480"/>
                <a:ext cx="129600" cy="75240"/>
              </a:xfrm>
              <a:custGeom>
                <a:avLst/>
                <a:gdLst/>
                <a:ahLst/>
                <a:rect l="l" t="t" r="r" b="b"/>
                <a:pathLst>
                  <a:path w="1881" h="1309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2" y="19"/>
                    </a:lnTo>
                    <a:lnTo>
                      <a:pt x="776" y="21"/>
                    </a:lnTo>
                    <a:lnTo>
                      <a:pt x="790" y="23"/>
                    </a:lnTo>
                    <a:lnTo>
                      <a:pt x="804" y="25"/>
                    </a:lnTo>
                    <a:lnTo>
                      <a:pt x="816" y="26"/>
                    </a:lnTo>
                    <a:lnTo>
                      <a:pt x="829" y="28"/>
                    </a:lnTo>
                    <a:lnTo>
                      <a:pt x="841" y="30"/>
                    </a:lnTo>
                    <a:lnTo>
                      <a:pt x="855" y="31"/>
                    </a:lnTo>
                    <a:lnTo>
                      <a:pt x="868" y="33"/>
                    </a:lnTo>
                    <a:lnTo>
                      <a:pt x="883" y="35"/>
                    </a:lnTo>
                    <a:lnTo>
                      <a:pt x="897" y="37"/>
                    </a:lnTo>
                    <a:lnTo>
                      <a:pt x="913" y="39"/>
                    </a:lnTo>
                    <a:lnTo>
                      <a:pt x="930" y="41"/>
                    </a:lnTo>
                    <a:lnTo>
                      <a:pt x="948" y="45"/>
                    </a:lnTo>
                    <a:lnTo>
                      <a:pt x="969" y="47"/>
                    </a:lnTo>
                    <a:lnTo>
                      <a:pt x="990" y="50"/>
                    </a:lnTo>
                    <a:lnTo>
                      <a:pt x="1014" y="53"/>
                    </a:lnTo>
                    <a:lnTo>
                      <a:pt x="1039" y="57"/>
                    </a:lnTo>
                    <a:lnTo>
                      <a:pt x="1067" y="60"/>
                    </a:lnTo>
                    <a:lnTo>
                      <a:pt x="1097" y="64"/>
                    </a:lnTo>
                    <a:lnTo>
                      <a:pt x="1129" y="69"/>
                    </a:lnTo>
                    <a:lnTo>
                      <a:pt x="1165" y="73"/>
                    </a:lnTo>
                    <a:lnTo>
                      <a:pt x="1203" y="78"/>
                    </a:lnTo>
                    <a:lnTo>
                      <a:pt x="1245" y="84"/>
                    </a:lnTo>
                    <a:lnTo>
                      <a:pt x="1290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4" y="133"/>
                    </a:lnTo>
                    <a:lnTo>
                      <a:pt x="1569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7" y="255"/>
                    </a:lnTo>
                    <a:lnTo>
                      <a:pt x="1743" y="296"/>
                    </a:lnTo>
                    <a:lnTo>
                      <a:pt x="1775" y="340"/>
                    </a:lnTo>
                    <a:lnTo>
                      <a:pt x="1804" y="388"/>
                    </a:lnTo>
                    <a:lnTo>
                      <a:pt x="1826" y="438"/>
                    </a:lnTo>
                    <a:lnTo>
                      <a:pt x="1846" y="491"/>
                    </a:lnTo>
                    <a:lnTo>
                      <a:pt x="1861" y="545"/>
                    </a:lnTo>
                    <a:lnTo>
                      <a:pt x="1871" y="601"/>
                    </a:lnTo>
                    <a:lnTo>
                      <a:pt x="1877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60" y="809"/>
                    </a:lnTo>
                    <a:lnTo>
                      <a:pt x="1840" y="850"/>
                    </a:lnTo>
                    <a:lnTo>
                      <a:pt x="1818" y="893"/>
                    </a:lnTo>
                    <a:lnTo>
                      <a:pt x="1794" y="939"/>
                    </a:lnTo>
                    <a:lnTo>
                      <a:pt x="1767" y="986"/>
                    </a:lnTo>
                    <a:lnTo>
                      <a:pt x="1737" y="1034"/>
                    </a:lnTo>
                    <a:lnTo>
                      <a:pt x="1705" y="1080"/>
                    </a:lnTo>
                    <a:lnTo>
                      <a:pt x="1668" y="1126"/>
                    </a:lnTo>
                    <a:lnTo>
                      <a:pt x="1629" y="1169"/>
                    </a:lnTo>
                    <a:lnTo>
                      <a:pt x="1585" y="1207"/>
                    </a:lnTo>
                    <a:lnTo>
                      <a:pt x="1537" y="1241"/>
                    </a:lnTo>
                    <a:lnTo>
                      <a:pt x="1485" y="1269"/>
                    </a:lnTo>
                    <a:lnTo>
                      <a:pt x="1428" y="1291"/>
                    </a:lnTo>
                    <a:lnTo>
                      <a:pt x="1365" y="1304"/>
                    </a:lnTo>
                    <a:lnTo>
                      <a:pt x="1298" y="1309"/>
                    </a:lnTo>
                    <a:lnTo>
                      <a:pt x="1225" y="1304"/>
                    </a:lnTo>
                    <a:lnTo>
                      <a:pt x="1203" y="1301"/>
                    </a:lnTo>
                    <a:lnTo>
                      <a:pt x="1182" y="1298"/>
                    </a:lnTo>
                    <a:lnTo>
                      <a:pt x="1164" y="1296"/>
                    </a:lnTo>
                    <a:lnTo>
                      <a:pt x="1146" y="1294"/>
                    </a:lnTo>
                    <a:lnTo>
                      <a:pt x="1129" y="1292"/>
                    </a:lnTo>
                    <a:lnTo>
                      <a:pt x="1114" y="1290"/>
                    </a:lnTo>
                    <a:lnTo>
                      <a:pt x="1099" y="1288"/>
                    </a:lnTo>
                    <a:lnTo>
                      <a:pt x="1086" y="1286"/>
                    </a:lnTo>
                    <a:lnTo>
                      <a:pt x="1072" y="1284"/>
                    </a:lnTo>
                    <a:lnTo>
                      <a:pt x="1060" y="1283"/>
                    </a:lnTo>
                    <a:lnTo>
                      <a:pt x="1046" y="1281"/>
                    </a:lnTo>
                    <a:lnTo>
                      <a:pt x="1034" y="1279"/>
                    </a:lnTo>
                    <a:lnTo>
                      <a:pt x="1020" y="1278"/>
                    </a:lnTo>
                    <a:lnTo>
                      <a:pt x="1006" y="1275"/>
                    </a:lnTo>
                    <a:lnTo>
                      <a:pt x="993" y="1273"/>
                    </a:lnTo>
                    <a:lnTo>
                      <a:pt x="977" y="1271"/>
                    </a:lnTo>
                    <a:lnTo>
                      <a:pt x="962" y="1269"/>
                    </a:lnTo>
                    <a:lnTo>
                      <a:pt x="944" y="1267"/>
                    </a:lnTo>
                    <a:lnTo>
                      <a:pt x="926" y="1264"/>
                    </a:lnTo>
                    <a:lnTo>
                      <a:pt x="907" y="1262"/>
                    </a:lnTo>
                    <a:lnTo>
                      <a:pt x="885" y="1259"/>
                    </a:lnTo>
                    <a:lnTo>
                      <a:pt x="861" y="1256"/>
                    </a:lnTo>
                    <a:lnTo>
                      <a:pt x="836" y="1252"/>
                    </a:lnTo>
                    <a:lnTo>
                      <a:pt x="809" y="1249"/>
                    </a:lnTo>
                    <a:lnTo>
                      <a:pt x="779" y="1245"/>
                    </a:lnTo>
                    <a:lnTo>
                      <a:pt x="746" y="1240"/>
                    </a:lnTo>
                    <a:lnTo>
                      <a:pt x="711" y="1236"/>
                    </a:lnTo>
                    <a:lnTo>
                      <a:pt x="672" y="1231"/>
                    </a:lnTo>
                    <a:lnTo>
                      <a:pt x="631" y="1225"/>
                    </a:lnTo>
                    <a:lnTo>
                      <a:pt x="586" y="1219"/>
                    </a:lnTo>
                    <a:lnTo>
                      <a:pt x="537" y="1212"/>
                    </a:lnTo>
                    <a:lnTo>
                      <a:pt x="485" y="1205"/>
                    </a:lnTo>
                    <a:lnTo>
                      <a:pt x="413" y="1191"/>
                    </a:lnTo>
                    <a:lnTo>
                      <a:pt x="350" y="1168"/>
                    </a:lnTo>
                    <a:lnTo>
                      <a:pt x="294" y="1136"/>
                    </a:lnTo>
                    <a:lnTo>
                      <a:pt x="245" y="1100"/>
                    </a:lnTo>
                    <a:lnTo>
                      <a:pt x="202" y="1057"/>
                    </a:lnTo>
                    <a:lnTo>
                      <a:pt x="165" y="1010"/>
                    </a:lnTo>
                    <a:lnTo>
                      <a:pt x="133" y="959"/>
                    </a:lnTo>
                    <a:lnTo>
                      <a:pt x="107" y="906"/>
                    </a:lnTo>
                    <a:lnTo>
                      <a:pt x="84" y="853"/>
                    </a:lnTo>
                    <a:lnTo>
                      <a:pt x="66" y="798"/>
                    </a:lnTo>
                    <a:lnTo>
                      <a:pt x="50" y="744"/>
                    </a:lnTo>
                    <a:lnTo>
                      <a:pt x="37" y="692"/>
                    </a:lnTo>
                    <a:lnTo>
                      <a:pt x="26" y="642"/>
                    </a:lnTo>
                    <a:lnTo>
                      <a:pt x="17" y="596"/>
                    </a:lnTo>
                    <a:lnTo>
                      <a:pt x="8" y="556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518600" y="4344480"/>
                <a:ext cx="129600" cy="74160"/>
              </a:xfrm>
              <a:custGeom>
                <a:avLst/>
                <a:gdLst/>
                <a:ahLst/>
                <a:rect l="l" t="t" r="r" b="b"/>
                <a:pathLst>
                  <a:path w="1881" h="1283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0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4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7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58" y="802"/>
                    </a:lnTo>
                    <a:lnTo>
                      <a:pt x="1835" y="836"/>
                    </a:lnTo>
                    <a:lnTo>
                      <a:pt x="1812" y="875"/>
                    </a:lnTo>
                    <a:lnTo>
                      <a:pt x="1787" y="917"/>
                    </a:lnTo>
                    <a:lnTo>
                      <a:pt x="1760" y="961"/>
                    </a:lnTo>
                    <a:lnTo>
                      <a:pt x="1731" y="1006"/>
                    </a:lnTo>
                    <a:lnTo>
                      <a:pt x="1698" y="1052"/>
                    </a:lnTo>
                    <a:lnTo>
                      <a:pt x="1663" y="1097"/>
                    </a:lnTo>
                    <a:lnTo>
                      <a:pt x="1625" y="1138"/>
                    </a:lnTo>
                    <a:lnTo>
                      <a:pt x="1582" y="1177"/>
                    </a:lnTo>
                    <a:lnTo>
                      <a:pt x="1536" y="1211"/>
                    </a:lnTo>
                    <a:lnTo>
                      <a:pt x="1485" y="1241"/>
                    </a:lnTo>
                    <a:lnTo>
                      <a:pt x="1429" y="1262"/>
                    </a:lnTo>
                    <a:lnTo>
                      <a:pt x="1368" y="1276"/>
                    </a:lnTo>
                    <a:lnTo>
                      <a:pt x="1301" y="1283"/>
                    </a:lnTo>
                    <a:lnTo>
                      <a:pt x="1228" y="1278"/>
                    </a:lnTo>
                    <a:lnTo>
                      <a:pt x="1206" y="1274"/>
                    </a:lnTo>
                    <a:lnTo>
                      <a:pt x="1185" y="1271"/>
                    </a:lnTo>
                    <a:lnTo>
                      <a:pt x="1167" y="1269"/>
                    </a:lnTo>
                    <a:lnTo>
                      <a:pt x="1149" y="1266"/>
                    </a:lnTo>
                    <a:lnTo>
                      <a:pt x="1133" y="1264"/>
                    </a:lnTo>
                    <a:lnTo>
                      <a:pt x="1118" y="1262"/>
                    </a:lnTo>
                    <a:lnTo>
                      <a:pt x="1103" y="1260"/>
                    </a:lnTo>
                    <a:lnTo>
                      <a:pt x="1090" y="1258"/>
                    </a:lnTo>
                    <a:lnTo>
                      <a:pt x="1077" y="1257"/>
                    </a:lnTo>
                    <a:lnTo>
                      <a:pt x="1064" y="1255"/>
                    </a:lnTo>
                    <a:lnTo>
                      <a:pt x="1051" y="1253"/>
                    </a:lnTo>
                    <a:lnTo>
                      <a:pt x="1038" y="1252"/>
                    </a:lnTo>
                    <a:lnTo>
                      <a:pt x="1025" y="1250"/>
                    </a:lnTo>
                    <a:lnTo>
                      <a:pt x="1012" y="1248"/>
                    </a:lnTo>
                    <a:lnTo>
                      <a:pt x="997" y="1246"/>
                    </a:lnTo>
                    <a:lnTo>
                      <a:pt x="983" y="1244"/>
                    </a:lnTo>
                    <a:lnTo>
                      <a:pt x="966" y="1242"/>
                    </a:lnTo>
                    <a:lnTo>
                      <a:pt x="949" y="1240"/>
                    </a:lnTo>
                    <a:lnTo>
                      <a:pt x="930" y="1237"/>
                    </a:lnTo>
                    <a:lnTo>
                      <a:pt x="911" y="1235"/>
                    </a:lnTo>
                    <a:lnTo>
                      <a:pt x="889" y="1232"/>
                    </a:lnTo>
                    <a:lnTo>
                      <a:pt x="866" y="1229"/>
                    </a:lnTo>
                    <a:lnTo>
                      <a:pt x="840" y="1225"/>
                    </a:lnTo>
                    <a:lnTo>
                      <a:pt x="813" y="1222"/>
                    </a:lnTo>
                    <a:lnTo>
                      <a:pt x="784" y="1218"/>
                    </a:lnTo>
                    <a:lnTo>
                      <a:pt x="750" y="1212"/>
                    </a:lnTo>
                    <a:lnTo>
                      <a:pt x="715" y="1208"/>
                    </a:lnTo>
                    <a:lnTo>
                      <a:pt x="677" y="1203"/>
                    </a:lnTo>
                    <a:lnTo>
                      <a:pt x="635" y="1197"/>
                    </a:lnTo>
                    <a:lnTo>
                      <a:pt x="590" y="1191"/>
                    </a:lnTo>
                    <a:lnTo>
                      <a:pt x="541" y="1185"/>
                    </a:lnTo>
                    <a:lnTo>
                      <a:pt x="489" y="1178"/>
                    </a:lnTo>
                    <a:lnTo>
                      <a:pt x="417" y="1163"/>
                    </a:lnTo>
                    <a:lnTo>
                      <a:pt x="355" y="1139"/>
                    </a:lnTo>
                    <a:lnTo>
                      <a:pt x="300" y="1108"/>
                    </a:lnTo>
                    <a:lnTo>
                      <a:pt x="252" y="1070"/>
                    </a:lnTo>
                    <a:lnTo>
                      <a:pt x="211" y="1026"/>
                    </a:lnTo>
                    <a:lnTo>
                      <a:pt x="176" y="980"/>
                    </a:lnTo>
                    <a:lnTo>
                      <a:pt x="146" y="929"/>
                    </a:lnTo>
                    <a:lnTo>
                      <a:pt x="120" y="876"/>
                    </a:lnTo>
                    <a:lnTo>
                      <a:pt x="98" y="823"/>
                    </a:lnTo>
                    <a:lnTo>
                      <a:pt x="79" y="769"/>
                    </a:lnTo>
                    <a:lnTo>
                      <a:pt x="64" y="718"/>
                    </a:lnTo>
                    <a:lnTo>
                      <a:pt x="50" y="669"/>
                    </a:lnTo>
                    <a:lnTo>
                      <a:pt x="38" y="624"/>
                    </a:lnTo>
                    <a:lnTo>
                      <a:pt x="25" y="583"/>
                    </a:lnTo>
                    <a:lnTo>
                      <a:pt x="13" y="549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bf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518600" y="4344480"/>
                <a:ext cx="129600" cy="72720"/>
              </a:xfrm>
              <a:custGeom>
                <a:avLst/>
                <a:gdLst/>
                <a:ahLst/>
                <a:rect l="l" t="t" r="r" b="b"/>
                <a:pathLst>
                  <a:path w="1881" h="1254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0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4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7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55" y="795"/>
                    </a:lnTo>
                    <a:lnTo>
                      <a:pt x="1830" y="822"/>
                    </a:lnTo>
                    <a:lnTo>
                      <a:pt x="1806" y="857"/>
                    </a:lnTo>
                    <a:lnTo>
                      <a:pt x="1780" y="894"/>
                    </a:lnTo>
                    <a:lnTo>
                      <a:pt x="1753" y="936"/>
                    </a:lnTo>
                    <a:lnTo>
                      <a:pt x="1723" y="979"/>
                    </a:lnTo>
                    <a:lnTo>
                      <a:pt x="1692" y="1023"/>
                    </a:lnTo>
                    <a:lnTo>
                      <a:pt x="1659" y="1066"/>
                    </a:lnTo>
                    <a:lnTo>
                      <a:pt x="1621" y="1109"/>
                    </a:lnTo>
                    <a:lnTo>
                      <a:pt x="1580" y="1147"/>
                    </a:lnTo>
                    <a:lnTo>
                      <a:pt x="1535" y="1182"/>
                    </a:lnTo>
                    <a:lnTo>
                      <a:pt x="1486" y="1211"/>
                    </a:lnTo>
                    <a:lnTo>
                      <a:pt x="1431" y="1234"/>
                    </a:lnTo>
                    <a:lnTo>
                      <a:pt x="1371" y="1249"/>
                    </a:lnTo>
                    <a:lnTo>
                      <a:pt x="1305" y="1254"/>
                    </a:lnTo>
                    <a:lnTo>
                      <a:pt x="1232" y="1250"/>
                    </a:lnTo>
                    <a:lnTo>
                      <a:pt x="1210" y="1247"/>
                    </a:lnTo>
                    <a:lnTo>
                      <a:pt x="1190" y="1244"/>
                    </a:lnTo>
                    <a:lnTo>
                      <a:pt x="1171" y="1242"/>
                    </a:lnTo>
                    <a:lnTo>
                      <a:pt x="1153" y="1239"/>
                    </a:lnTo>
                    <a:lnTo>
                      <a:pt x="1137" y="1237"/>
                    </a:lnTo>
                    <a:lnTo>
                      <a:pt x="1122" y="1235"/>
                    </a:lnTo>
                    <a:lnTo>
                      <a:pt x="1107" y="1233"/>
                    </a:lnTo>
                    <a:lnTo>
                      <a:pt x="1094" y="1231"/>
                    </a:lnTo>
                    <a:lnTo>
                      <a:pt x="1080" y="1230"/>
                    </a:lnTo>
                    <a:lnTo>
                      <a:pt x="1067" y="1228"/>
                    </a:lnTo>
                    <a:lnTo>
                      <a:pt x="1054" y="1226"/>
                    </a:lnTo>
                    <a:lnTo>
                      <a:pt x="1042" y="1225"/>
                    </a:lnTo>
                    <a:lnTo>
                      <a:pt x="1028" y="1223"/>
                    </a:lnTo>
                    <a:lnTo>
                      <a:pt x="1015" y="1221"/>
                    </a:lnTo>
                    <a:lnTo>
                      <a:pt x="1000" y="1219"/>
                    </a:lnTo>
                    <a:lnTo>
                      <a:pt x="986" y="1217"/>
                    </a:lnTo>
                    <a:lnTo>
                      <a:pt x="970" y="1214"/>
                    </a:lnTo>
                    <a:lnTo>
                      <a:pt x="952" y="1212"/>
                    </a:lnTo>
                    <a:lnTo>
                      <a:pt x="935" y="1209"/>
                    </a:lnTo>
                    <a:lnTo>
                      <a:pt x="914" y="1207"/>
                    </a:lnTo>
                    <a:lnTo>
                      <a:pt x="893" y="1204"/>
                    </a:lnTo>
                    <a:lnTo>
                      <a:pt x="869" y="1201"/>
                    </a:lnTo>
                    <a:lnTo>
                      <a:pt x="844" y="1197"/>
                    </a:lnTo>
                    <a:lnTo>
                      <a:pt x="816" y="1194"/>
                    </a:lnTo>
                    <a:lnTo>
                      <a:pt x="787" y="1190"/>
                    </a:lnTo>
                    <a:lnTo>
                      <a:pt x="755" y="1185"/>
                    </a:lnTo>
                    <a:lnTo>
                      <a:pt x="719" y="1181"/>
                    </a:lnTo>
                    <a:lnTo>
                      <a:pt x="681" y="1176"/>
                    </a:lnTo>
                    <a:lnTo>
                      <a:pt x="639" y="1170"/>
                    </a:lnTo>
                    <a:lnTo>
                      <a:pt x="594" y="1164"/>
                    </a:lnTo>
                    <a:lnTo>
                      <a:pt x="545" y="1158"/>
                    </a:lnTo>
                    <a:lnTo>
                      <a:pt x="493" y="1150"/>
                    </a:lnTo>
                    <a:lnTo>
                      <a:pt x="423" y="1135"/>
                    </a:lnTo>
                    <a:lnTo>
                      <a:pt x="360" y="1111"/>
                    </a:lnTo>
                    <a:lnTo>
                      <a:pt x="306" y="1079"/>
                    </a:lnTo>
                    <a:lnTo>
                      <a:pt x="259" y="1041"/>
                    </a:lnTo>
                    <a:lnTo>
                      <a:pt x="220" y="997"/>
                    </a:lnTo>
                    <a:lnTo>
                      <a:pt x="185" y="949"/>
                    </a:lnTo>
                    <a:lnTo>
                      <a:pt x="157" y="898"/>
                    </a:lnTo>
                    <a:lnTo>
                      <a:pt x="132" y="847"/>
                    </a:lnTo>
                    <a:lnTo>
                      <a:pt x="112" y="794"/>
                    </a:lnTo>
                    <a:lnTo>
                      <a:pt x="94" y="742"/>
                    </a:lnTo>
                    <a:lnTo>
                      <a:pt x="77" y="692"/>
                    </a:lnTo>
                    <a:lnTo>
                      <a:pt x="63" y="646"/>
                    </a:lnTo>
                    <a:lnTo>
                      <a:pt x="48" y="605"/>
                    </a:lnTo>
                    <a:lnTo>
                      <a:pt x="33" y="569"/>
                    </a:lnTo>
                    <a:lnTo>
                      <a:pt x="18" y="542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518600" y="4344480"/>
                <a:ext cx="129600" cy="70200"/>
              </a:xfrm>
              <a:custGeom>
                <a:avLst/>
                <a:gdLst/>
                <a:ahLst/>
                <a:rect l="l" t="t" r="r" b="b"/>
                <a:pathLst>
                  <a:path w="1881" h="1227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0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4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7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51" y="788"/>
                    </a:lnTo>
                    <a:lnTo>
                      <a:pt x="1825" y="809"/>
                    </a:lnTo>
                    <a:lnTo>
                      <a:pt x="1799" y="838"/>
                    </a:lnTo>
                    <a:lnTo>
                      <a:pt x="1772" y="872"/>
                    </a:lnTo>
                    <a:lnTo>
                      <a:pt x="1745" y="911"/>
                    </a:lnTo>
                    <a:lnTo>
                      <a:pt x="1717" y="951"/>
                    </a:lnTo>
                    <a:lnTo>
                      <a:pt x="1687" y="994"/>
                    </a:lnTo>
                    <a:lnTo>
                      <a:pt x="1654" y="1037"/>
                    </a:lnTo>
                    <a:lnTo>
                      <a:pt x="1618" y="1078"/>
                    </a:lnTo>
                    <a:lnTo>
                      <a:pt x="1579" y="1117"/>
                    </a:lnTo>
                    <a:lnTo>
                      <a:pt x="1535" y="1152"/>
                    </a:lnTo>
                    <a:lnTo>
                      <a:pt x="1487" y="1182"/>
                    </a:lnTo>
                    <a:lnTo>
                      <a:pt x="1433" y="1205"/>
                    </a:lnTo>
                    <a:lnTo>
                      <a:pt x="1374" y="1221"/>
                    </a:lnTo>
                    <a:lnTo>
                      <a:pt x="1308" y="1227"/>
                    </a:lnTo>
                    <a:lnTo>
                      <a:pt x="1236" y="1223"/>
                    </a:lnTo>
                    <a:lnTo>
                      <a:pt x="1215" y="1220"/>
                    </a:lnTo>
                    <a:lnTo>
                      <a:pt x="1194" y="1217"/>
                    </a:lnTo>
                    <a:lnTo>
                      <a:pt x="1175" y="1214"/>
                    </a:lnTo>
                    <a:lnTo>
                      <a:pt x="1157" y="1211"/>
                    </a:lnTo>
                    <a:lnTo>
                      <a:pt x="1141" y="1209"/>
                    </a:lnTo>
                    <a:lnTo>
                      <a:pt x="1126" y="1207"/>
                    </a:lnTo>
                    <a:lnTo>
                      <a:pt x="1112" y="1205"/>
                    </a:lnTo>
                    <a:lnTo>
                      <a:pt x="1098" y="1203"/>
                    </a:lnTo>
                    <a:lnTo>
                      <a:pt x="1085" y="1202"/>
                    </a:lnTo>
                    <a:lnTo>
                      <a:pt x="1071" y="1200"/>
                    </a:lnTo>
                    <a:lnTo>
                      <a:pt x="1058" y="1198"/>
                    </a:lnTo>
                    <a:lnTo>
                      <a:pt x="1046" y="1197"/>
                    </a:lnTo>
                    <a:lnTo>
                      <a:pt x="1032" y="1195"/>
                    </a:lnTo>
                    <a:lnTo>
                      <a:pt x="1019" y="1193"/>
                    </a:lnTo>
                    <a:lnTo>
                      <a:pt x="1004" y="1191"/>
                    </a:lnTo>
                    <a:lnTo>
                      <a:pt x="990" y="1189"/>
                    </a:lnTo>
                    <a:lnTo>
                      <a:pt x="974" y="1187"/>
                    </a:lnTo>
                    <a:lnTo>
                      <a:pt x="957" y="1185"/>
                    </a:lnTo>
                    <a:lnTo>
                      <a:pt x="938" y="1182"/>
                    </a:lnTo>
                    <a:lnTo>
                      <a:pt x="918" y="1180"/>
                    </a:lnTo>
                    <a:lnTo>
                      <a:pt x="896" y="1177"/>
                    </a:lnTo>
                    <a:lnTo>
                      <a:pt x="873" y="1174"/>
                    </a:lnTo>
                    <a:lnTo>
                      <a:pt x="847" y="1170"/>
                    </a:lnTo>
                    <a:lnTo>
                      <a:pt x="820" y="1167"/>
                    </a:lnTo>
                    <a:lnTo>
                      <a:pt x="791" y="1163"/>
                    </a:lnTo>
                    <a:lnTo>
                      <a:pt x="758" y="1158"/>
                    </a:lnTo>
                    <a:lnTo>
                      <a:pt x="722" y="1154"/>
                    </a:lnTo>
                    <a:lnTo>
                      <a:pt x="684" y="1148"/>
                    </a:lnTo>
                    <a:lnTo>
                      <a:pt x="642" y="1142"/>
                    </a:lnTo>
                    <a:lnTo>
                      <a:pt x="597" y="1136"/>
                    </a:lnTo>
                    <a:lnTo>
                      <a:pt x="549" y="1130"/>
                    </a:lnTo>
                    <a:lnTo>
                      <a:pt x="497" y="1123"/>
                    </a:lnTo>
                    <a:lnTo>
                      <a:pt x="426" y="1108"/>
                    </a:lnTo>
                    <a:lnTo>
                      <a:pt x="364" y="1083"/>
                    </a:lnTo>
                    <a:lnTo>
                      <a:pt x="311" y="1051"/>
                    </a:lnTo>
                    <a:lnTo>
                      <a:pt x="267" y="1011"/>
                    </a:lnTo>
                    <a:lnTo>
                      <a:pt x="228" y="967"/>
                    </a:lnTo>
                    <a:lnTo>
                      <a:pt x="196" y="919"/>
                    </a:lnTo>
                    <a:lnTo>
                      <a:pt x="168" y="868"/>
                    </a:lnTo>
                    <a:lnTo>
                      <a:pt x="145" y="816"/>
                    </a:lnTo>
                    <a:lnTo>
                      <a:pt x="125" y="764"/>
                    </a:lnTo>
                    <a:lnTo>
                      <a:pt x="107" y="714"/>
                    </a:lnTo>
                    <a:lnTo>
                      <a:pt x="91" y="667"/>
                    </a:lnTo>
                    <a:lnTo>
                      <a:pt x="75" y="624"/>
                    </a:lnTo>
                    <a:lnTo>
                      <a:pt x="59" y="586"/>
                    </a:lnTo>
                    <a:lnTo>
                      <a:pt x="42" y="556"/>
                    </a:lnTo>
                    <a:lnTo>
                      <a:pt x="23" y="533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b5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518600" y="4344480"/>
                <a:ext cx="129600" cy="68760"/>
              </a:xfrm>
              <a:custGeom>
                <a:avLst/>
                <a:gdLst/>
                <a:ahLst/>
                <a:rect l="l" t="t" r="r" b="b"/>
                <a:pathLst>
                  <a:path w="1881" h="1198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2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5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8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9" y="96"/>
                    </a:lnTo>
                    <a:lnTo>
                      <a:pt x="1391" y="103"/>
                    </a:lnTo>
                    <a:lnTo>
                      <a:pt x="1456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1" y="185"/>
                    </a:lnTo>
                    <a:lnTo>
                      <a:pt x="1667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48" y="779"/>
                    </a:lnTo>
                    <a:lnTo>
                      <a:pt x="1820" y="796"/>
                    </a:lnTo>
                    <a:lnTo>
                      <a:pt x="1793" y="819"/>
                    </a:lnTo>
                    <a:lnTo>
                      <a:pt x="1766" y="850"/>
                    </a:lnTo>
                    <a:lnTo>
                      <a:pt x="1739" y="885"/>
                    </a:lnTo>
                    <a:lnTo>
                      <a:pt x="1711" y="924"/>
                    </a:lnTo>
                    <a:lnTo>
                      <a:pt x="1682" y="964"/>
                    </a:lnTo>
                    <a:lnTo>
                      <a:pt x="1650" y="1006"/>
                    </a:lnTo>
                    <a:lnTo>
                      <a:pt x="1615" y="1048"/>
                    </a:lnTo>
                    <a:lnTo>
                      <a:pt x="1577" y="1086"/>
                    </a:lnTo>
                    <a:lnTo>
                      <a:pt x="1535" y="1122"/>
                    </a:lnTo>
                    <a:lnTo>
                      <a:pt x="1488" y="1152"/>
                    </a:lnTo>
                    <a:lnTo>
                      <a:pt x="1435" y="1176"/>
                    </a:lnTo>
                    <a:lnTo>
                      <a:pt x="1378" y="1192"/>
                    </a:lnTo>
                    <a:lnTo>
                      <a:pt x="1312" y="1198"/>
                    </a:lnTo>
                    <a:lnTo>
                      <a:pt x="1241" y="1194"/>
                    </a:lnTo>
                    <a:lnTo>
                      <a:pt x="1219" y="1191"/>
                    </a:lnTo>
                    <a:lnTo>
                      <a:pt x="1198" y="1188"/>
                    </a:lnTo>
                    <a:lnTo>
                      <a:pt x="1179" y="1186"/>
                    </a:lnTo>
                    <a:lnTo>
                      <a:pt x="1162" y="1184"/>
                    </a:lnTo>
                    <a:lnTo>
                      <a:pt x="1145" y="1182"/>
                    </a:lnTo>
                    <a:lnTo>
                      <a:pt x="1130" y="1180"/>
                    </a:lnTo>
                    <a:lnTo>
                      <a:pt x="1116" y="1178"/>
                    </a:lnTo>
                    <a:lnTo>
                      <a:pt x="1102" y="1176"/>
                    </a:lnTo>
                    <a:lnTo>
                      <a:pt x="1089" y="1174"/>
                    </a:lnTo>
                    <a:lnTo>
                      <a:pt x="1075" y="1172"/>
                    </a:lnTo>
                    <a:lnTo>
                      <a:pt x="1063" y="1171"/>
                    </a:lnTo>
                    <a:lnTo>
                      <a:pt x="1050" y="1169"/>
                    </a:lnTo>
                    <a:lnTo>
                      <a:pt x="1037" y="1167"/>
                    </a:lnTo>
                    <a:lnTo>
                      <a:pt x="1023" y="1165"/>
                    </a:lnTo>
                    <a:lnTo>
                      <a:pt x="1009" y="1164"/>
                    </a:lnTo>
                    <a:lnTo>
                      <a:pt x="994" y="1162"/>
                    </a:lnTo>
                    <a:lnTo>
                      <a:pt x="978" y="1160"/>
                    </a:lnTo>
                    <a:lnTo>
                      <a:pt x="961" y="1157"/>
                    </a:lnTo>
                    <a:lnTo>
                      <a:pt x="942" y="1155"/>
                    </a:lnTo>
                    <a:lnTo>
                      <a:pt x="922" y="1151"/>
                    </a:lnTo>
                    <a:lnTo>
                      <a:pt x="900" y="1148"/>
                    </a:lnTo>
                    <a:lnTo>
                      <a:pt x="877" y="1145"/>
                    </a:lnTo>
                    <a:lnTo>
                      <a:pt x="851" y="1142"/>
                    </a:lnTo>
                    <a:lnTo>
                      <a:pt x="824" y="1138"/>
                    </a:lnTo>
                    <a:lnTo>
                      <a:pt x="795" y="1134"/>
                    </a:lnTo>
                    <a:lnTo>
                      <a:pt x="762" y="1130"/>
                    </a:lnTo>
                    <a:lnTo>
                      <a:pt x="727" y="1125"/>
                    </a:lnTo>
                    <a:lnTo>
                      <a:pt x="688" y="1120"/>
                    </a:lnTo>
                    <a:lnTo>
                      <a:pt x="646" y="1115"/>
                    </a:lnTo>
                    <a:lnTo>
                      <a:pt x="602" y="1109"/>
                    </a:lnTo>
                    <a:lnTo>
                      <a:pt x="553" y="1103"/>
                    </a:lnTo>
                    <a:lnTo>
                      <a:pt x="501" y="1096"/>
                    </a:lnTo>
                    <a:lnTo>
                      <a:pt x="430" y="1080"/>
                    </a:lnTo>
                    <a:lnTo>
                      <a:pt x="370" y="1055"/>
                    </a:lnTo>
                    <a:lnTo>
                      <a:pt x="318" y="1021"/>
                    </a:lnTo>
                    <a:lnTo>
                      <a:pt x="274" y="982"/>
                    </a:lnTo>
                    <a:lnTo>
                      <a:pt x="237" y="937"/>
                    </a:lnTo>
                    <a:lnTo>
                      <a:pt x="206" y="888"/>
                    </a:lnTo>
                    <a:lnTo>
                      <a:pt x="180" y="837"/>
                    </a:lnTo>
                    <a:lnTo>
                      <a:pt x="158" y="786"/>
                    </a:lnTo>
                    <a:lnTo>
                      <a:pt x="139" y="735"/>
                    </a:lnTo>
                    <a:lnTo>
                      <a:pt x="121" y="686"/>
                    </a:lnTo>
                    <a:lnTo>
                      <a:pt x="105" y="641"/>
                    </a:lnTo>
                    <a:lnTo>
                      <a:pt x="89" y="601"/>
                    </a:lnTo>
                    <a:lnTo>
                      <a:pt x="70" y="567"/>
                    </a:lnTo>
                    <a:lnTo>
                      <a:pt x="50" y="542"/>
                    </a:lnTo>
                    <a:lnTo>
                      <a:pt x="27" y="526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518600" y="4344480"/>
                <a:ext cx="129600" cy="67320"/>
              </a:xfrm>
              <a:custGeom>
                <a:avLst/>
                <a:gdLst/>
                <a:ahLst/>
                <a:rect l="l" t="t" r="r" b="b"/>
                <a:pathLst>
                  <a:path w="1881" h="1171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2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5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8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9" y="96"/>
                    </a:lnTo>
                    <a:lnTo>
                      <a:pt x="1391" y="103"/>
                    </a:lnTo>
                    <a:lnTo>
                      <a:pt x="1456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1" y="185"/>
                    </a:lnTo>
                    <a:lnTo>
                      <a:pt x="1667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45" y="772"/>
                    </a:lnTo>
                    <a:lnTo>
                      <a:pt x="1815" y="782"/>
                    </a:lnTo>
                    <a:lnTo>
                      <a:pt x="1787" y="801"/>
                    </a:lnTo>
                    <a:lnTo>
                      <a:pt x="1759" y="827"/>
                    </a:lnTo>
                    <a:lnTo>
                      <a:pt x="1732" y="860"/>
                    </a:lnTo>
                    <a:lnTo>
                      <a:pt x="1705" y="896"/>
                    </a:lnTo>
                    <a:lnTo>
                      <a:pt x="1676" y="936"/>
                    </a:lnTo>
                    <a:lnTo>
                      <a:pt x="1644" y="977"/>
                    </a:lnTo>
                    <a:lnTo>
                      <a:pt x="1611" y="1017"/>
                    </a:lnTo>
                    <a:lnTo>
                      <a:pt x="1575" y="1057"/>
                    </a:lnTo>
                    <a:lnTo>
                      <a:pt x="1534" y="1093"/>
                    </a:lnTo>
                    <a:lnTo>
                      <a:pt x="1489" y="1123"/>
                    </a:lnTo>
                    <a:lnTo>
                      <a:pt x="1438" y="1147"/>
                    </a:lnTo>
                    <a:lnTo>
                      <a:pt x="1381" y="1164"/>
                    </a:lnTo>
                    <a:lnTo>
                      <a:pt x="1317" y="1171"/>
                    </a:lnTo>
                    <a:lnTo>
                      <a:pt x="1245" y="1167"/>
                    </a:lnTo>
                    <a:lnTo>
                      <a:pt x="1223" y="1164"/>
                    </a:lnTo>
                    <a:lnTo>
                      <a:pt x="1202" y="1161"/>
                    </a:lnTo>
                    <a:lnTo>
                      <a:pt x="1183" y="1159"/>
                    </a:lnTo>
                    <a:lnTo>
                      <a:pt x="1166" y="1157"/>
                    </a:lnTo>
                    <a:lnTo>
                      <a:pt x="1149" y="1155"/>
                    </a:lnTo>
                    <a:lnTo>
                      <a:pt x="1133" y="1152"/>
                    </a:lnTo>
                    <a:lnTo>
                      <a:pt x="1119" y="1150"/>
                    </a:lnTo>
                    <a:lnTo>
                      <a:pt x="1105" y="1148"/>
                    </a:lnTo>
                    <a:lnTo>
                      <a:pt x="1092" y="1146"/>
                    </a:lnTo>
                    <a:lnTo>
                      <a:pt x="1079" y="1145"/>
                    </a:lnTo>
                    <a:lnTo>
                      <a:pt x="1067" y="1143"/>
                    </a:lnTo>
                    <a:lnTo>
                      <a:pt x="1053" y="1141"/>
                    </a:lnTo>
                    <a:lnTo>
                      <a:pt x="1041" y="1140"/>
                    </a:lnTo>
                    <a:lnTo>
                      <a:pt x="1027" y="1138"/>
                    </a:lnTo>
                    <a:lnTo>
                      <a:pt x="1013" y="1136"/>
                    </a:lnTo>
                    <a:lnTo>
                      <a:pt x="998" y="1134"/>
                    </a:lnTo>
                    <a:lnTo>
                      <a:pt x="981" y="1132"/>
                    </a:lnTo>
                    <a:lnTo>
                      <a:pt x="965" y="1130"/>
                    </a:lnTo>
                    <a:lnTo>
                      <a:pt x="946" y="1127"/>
                    </a:lnTo>
                    <a:lnTo>
                      <a:pt x="926" y="1125"/>
                    </a:lnTo>
                    <a:lnTo>
                      <a:pt x="904" y="1122"/>
                    </a:lnTo>
                    <a:lnTo>
                      <a:pt x="882" y="1119"/>
                    </a:lnTo>
                    <a:lnTo>
                      <a:pt x="856" y="1115"/>
                    </a:lnTo>
                    <a:lnTo>
                      <a:pt x="829" y="1112"/>
                    </a:lnTo>
                    <a:lnTo>
                      <a:pt x="799" y="1108"/>
                    </a:lnTo>
                    <a:lnTo>
                      <a:pt x="766" y="1103"/>
                    </a:lnTo>
                    <a:lnTo>
                      <a:pt x="731" y="1099"/>
                    </a:lnTo>
                    <a:lnTo>
                      <a:pt x="692" y="1094"/>
                    </a:lnTo>
                    <a:lnTo>
                      <a:pt x="651" y="1087"/>
                    </a:lnTo>
                    <a:lnTo>
                      <a:pt x="606" y="1081"/>
                    </a:lnTo>
                    <a:lnTo>
                      <a:pt x="557" y="1075"/>
                    </a:lnTo>
                    <a:lnTo>
                      <a:pt x="505" y="1068"/>
                    </a:lnTo>
                    <a:lnTo>
                      <a:pt x="434" y="1053"/>
                    </a:lnTo>
                    <a:lnTo>
                      <a:pt x="375" y="1026"/>
                    </a:lnTo>
                    <a:lnTo>
                      <a:pt x="324" y="993"/>
                    </a:lnTo>
                    <a:lnTo>
                      <a:pt x="281" y="952"/>
                    </a:lnTo>
                    <a:lnTo>
                      <a:pt x="246" y="906"/>
                    </a:lnTo>
                    <a:lnTo>
                      <a:pt x="217" y="858"/>
                    </a:lnTo>
                    <a:lnTo>
                      <a:pt x="192" y="807"/>
                    </a:lnTo>
                    <a:lnTo>
                      <a:pt x="171" y="755"/>
                    </a:lnTo>
                    <a:lnTo>
                      <a:pt x="152" y="705"/>
                    </a:lnTo>
                    <a:lnTo>
                      <a:pt x="135" y="657"/>
                    </a:lnTo>
                    <a:lnTo>
                      <a:pt x="119" y="615"/>
                    </a:lnTo>
                    <a:lnTo>
                      <a:pt x="101" y="577"/>
                    </a:lnTo>
                    <a:lnTo>
                      <a:pt x="81" y="548"/>
                    </a:lnTo>
                    <a:lnTo>
                      <a:pt x="59" y="528"/>
                    </a:lnTo>
                    <a:lnTo>
                      <a:pt x="32" y="518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518600" y="4344480"/>
                <a:ext cx="129600" cy="65880"/>
              </a:xfrm>
              <a:custGeom>
                <a:avLst/>
                <a:gdLst/>
                <a:ahLst/>
                <a:rect l="l" t="t" r="r" b="b"/>
                <a:pathLst>
                  <a:path w="1881" h="1144">
                    <a:moveTo>
                      <a:pt x="652" y="5"/>
                    </a:moveTo>
                    <a:lnTo>
                      <a:pt x="1392" y="104"/>
                    </a:lnTo>
                    <a:lnTo>
                      <a:pt x="1456" y="117"/>
                    </a:lnTo>
                    <a:lnTo>
                      <a:pt x="1515" y="134"/>
                    </a:lnTo>
                    <a:lnTo>
                      <a:pt x="1571" y="157"/>
                    </a:lnTo>
                    <a:lnTo>
                      <a:pt x="1622" y="186"/>
                    </a:lnTo>
                    <a:lnTo>
                      <a:pt x="1667" y="218"/>
                    </a:lnTo>
                    <a:lnTo>
                      <a:pt x="1708" y="256"/>
                    </a:lnTo>
                    <a:lnTo>
                      <a:pt x="1744" y="297"/>
                    </a:lnTo>
                    <a:lnTo>
                      <a:pt x="1777" y="341"/>
                    </a:lnTo>
                    <a:lnTo>
                      <a:pt x="1805" y="389"/>
                    </a:lnTo>
                    <a:lnTo>
                      <a:pt x="1828" y="439"/>
                    </a:lnTo>
                    <a:lnTo>
                      <a:pt x="1846" y="492"/>
                    </a:lnTo>
                    <a:lnTo>
                      <a:pt x="1862" y="546"/>
                    </a:lnTo>
                    <a:lnTo>
                      <a:pt x="1872" y="602"/>
                    </a:lnTo>
                    <a:lnTo>
                      <a:pt x="1879" y="658"/>
                    </a:lnTo>
                    <a:lnTo>
                      <a:pt x="1881" y="716"/>
                    </a:lnTo>
                    <a:lnTo>
                      <a:pt x="1879" y="774"/>
                    </a:lnTo>
                    <a:lnTo>
                      <a:pt x="1843" y="766"/>
                    </a:lnTo>
                    <a:lnTo>
                      <a:pt x="1811" y="769"/>
                    </a:lnTo>
                    <a:lnTo>
                      <a:pt x="1781" y="784"/>
                    </a:lnTo>
                    <a:lnTo>
                      <a:pt x="1753" y="806"/>
                    </a:lnTo>
                    <a:lnTo>
                      <a:pt x="1726" y="835"/>
                    </a:lnTo>
                    <a:lnTo>
                      <a:pt x="1699" y="870"/>
                    </a:lnTo>
                    <a:lnTo>
                      <a:pt x="1670" y="908"/>
                    </a:lnTo>
                    <a:lnTo>
                      <a:pt x="1640" y="948"/>
                    </a:lnTo>
                    <a:lnTo>
                      <a:pt x="1608" y="988"/>
                    </a:lnTo>
                    <a:lnTo>
                      <a:pt x="1574" y="1027"/>
                    </a:lnTo>
                    <a:lnTo>
                      <a:pt x="1534" y="1063"/>
                    </a:lnTo>
                    <a:lnTo>
                      <a:pt x="1489" y="1095"/>
                    </a:lnTo>
                    <a:lnTo>
                      <a:pt x="1439" y="1120"/>
                    </a:lnTo>
                    <a:lnTo>
                      <a:pt x="1383" y="1137"/>
                    </a:lnTo>
                    <a:lnTo>
                      <a:pt x="1320" y="1144"/>
                    </a:lnTo>
                    <a:lnTo>
                      <a:pt x="1248" y="1140"/>
                    </a:lnTo>
                    <a:lnTo>
                      <a:pt x="508" y="1041"/>
                    </a:lnTo>
                    <a:lnTo>
                      <a:pt x="438" y="1025"/>
                    </a:lnTo>
                    <a:lnTo>
                      <a:pt x="379" y="999"/>
                    </a:lnTo>
                    <a:lnTo>
                      <a:pt x="329" y="964"/>
                    </a:lnTo>
                    <a:lnTo>
                      <a:pt x="288" y="924"/>
                    </a:lnTo>
                    <a:lnTo>
                      <a:pt x="254" y="877"/>
                    </a:lnTo>
                    <a:lnTo>
                      <a:pt x="226" y="828"/>
                    </a:lnTo>
                    <a:lnTo>
                      <a:pt x="203" y="776"/>
                    </a:lnTo>
                    <a:lnTo>
                      <a:pt x="183" y="726"/>
                    </a:lnTo>
                    <a:lnTo>
                      <a:pt x="166" y="676"/>
                    </a:lnTo>
                    <a:lnTo>
                      <a:pt x="149" y="630"/>
                    </a:lnTo>
                    <a:lnTo>
                      <a:pt x="132" y="589"/>
                    </a:lnTo>
                    <a:lnTo>
                      <a:pt x="114" y="556"/>
                    </a:lnTo>
                    <a:lnTo>
                      <a:pt x="93" y="530"/>
                    </a:lnTo>
                    <a:lnTo>
                      <a:pt x="67" y="515"/>
                    </a:lnTo>
                    <a:lnTo>
                      <a:pt x="37" y="512"/>
                    </a:lnTo>
                    <a:lnTo>
                      <a:pt x="0" y="522"/>
                    </a:lnTo>
                    <a:lnTo>
                      <a:pt x="14" y="466"/>
                    </a:lnTo>
                    <a:lnTo>
                      <a:pt x="31" y="411"/>
                    </a:lnTo>
                    <a:lnTo>
                      <a:pt x="53" y="358"/>
                    </a:lnTo>
                    <a:lnTo>
                      <a:pt x="78" y="307"/>
                    </a:lnTo>
                    <a:lnTo>
                      <a:pt x="107" y="258"/>
                    </a:lnTo>
                    <a:lnTo>
                      <a:pt x="140" y="213"/>
                    </a:lnTo>
                    <a:lnTo>
                      <a:pt x="176" y="171"/>
                    </a:lnTo>
                    <a:lnTo>
                      <a:pt x="216" y="132"/>
                    </a:lnTo>
                    <a:lnTo>
                      <a:pt x="259" y="97"/>
                    </a:lnTo>
                    <a:lnTo>
                      <a:pt x="305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518600" y="4344480"/>
                <a:ext cx="129600" cy="45000"/>
              </a:xfrm>
              <a:custGeom>
                <a:avLst/>
                <a:gdLst/>
                <a:ahLst/>
                <a:rect l="l" t="t" r="r" b="b"/>
                <a:pathLst>
                  <a:path w="1881" h="775">
                    <a:moveTo>
                      <a:pt x="652" y="5"/>
                    </a:moveTo>
                    <a:lnTo>
                      <a:pt x="1392" y="104"/>
                    </a:lnTo>
                    <a:lnTo>
                      <a:pt x="1456" y="117"/>
                    </a:lnTo>
                    <a:lnTo>
                      <a:pt x="1515" y="134"/>
                    </a:lnTo>
                    <a:lnTo>
                      <a:pt x="1571" y="157"/>
                    </a:lnTo>
                    <a:lnTo>
                      <a:pt x="1622" y="186"/>
                    </a:lnTo>
                    <a:lnTo>
                      <a:pt x="1667" y="218"/>
                    </a:lnTo>
                    <a:lnTo>
                      <a:pt x="1708" y="256"/>
                    </a:lnTo>
                    <a:lnTo>
                      <a:pt x="1744" y="297"/>
                    </a:lnTo>
                    <a:lnTo>
                      <a:pt x="1777" y="341"/>
                    </a:lnTo>
                    <a:lnTo>
                      <a:pt x="1805" y="389"/>
                    </a:lnTo>
                    <a:lnTo>
                      <a:pt x="1828" y="439"/>
                    </a:lnTo>
                    <a:lnTo>
                      <a:pt x="1846" y="492"/>
                    </a:lnTo>
                    <a:lnTo>
                      <a:pt x="1862" y="546"/>
                    </a:lnTo>
                    <a:lnTo>
                      <a:pt x="1872" y="602"/>
                    </a:lnTo>
                    <a:lnTo>
                      <a:pt x="1879" y="658"/>
                    </a:lnTo>
                    <a:lnTo>
                      <a:pt x="1881" y="716"/>
                    </a:lnTo>
                    <a:lnTo>
                      <a:pt x="1879" y="774"/>
                    </a:lnTo>
                    <a:lnTo>
                      <a:pt x="1843" y="762"/>
                    </a:lnTo>
                    <a:lnTo>
                      <a:pt x="1813" y="753"/>
                    </a:lnTo>
                    <a:lnTo>
                      <a:pt x="1786" y="748"/>
                    </a:lnTo>
                    <a:lnTo>
                      <a:pt x="1761" y="746"/>
                    </a:lnTo>
                    <a:lnTo>
                      <a:pt x="1738" y="747"/>
                    </a:lnTo>
                    <a:lnTo>
                      <a:pt x="1715" y="750"/>
                    </a:lnTo>
                    <a:lnTo>
                      <a:pt x="1691" y="753"/>
                    </a:lnTo>
                    <a:lnTo>
                      <a:pt x="1666" y="758"/>
                    </a:lnTo>
                    <a:lnTo>
                      <a:pt x="1639" y="763"/>
                    </a:lnTo>
                    <a:lnTo>
                      <a:pt x="1609" y="768"/>
                    </a:lnTo>
                    <a:lnTo>
                      <a:pt x="1574" y="771"/>
                    </a:lnTo>
                    <a:lnTo>
                      <a:pt x="1534" y="774"/>
                    </a:lnTo>
                    <a:lnTo>
                      <a:pt x="1487" y="775"/>
                    </a:lnTo>
                    <a:lnTo>
                      <a:pt x="1434" y="773"/>
                    </a:lnTo>
                    <a:lnTo>
                      <a:pt x="1372" y="768"/>
                    </a:lnTo>
                    <a:lnTo>
                      <a:pt x="1301" y="760"/>
                    </a:lnTo>
                    <a:lnTo>
                      <a:pt x="561" y="662"/>
                    </a:lnTo>
                    <a:lnTo>
                      <a:pt x="490" y="650"/>
                    </a:lnTo>
                    <a:lnTo>
                      <a:pt x="429" y="636"/>
                    </a:lnTo>
                    <a:lnTo>
                      <a:pt x="377" y="620"/>
                    </a:lnTo>
                    <a:lnTo>
                      <a:pt x="332" y="604"/>
                    </a:lnTo>
                    <a:lnTo>
                      <a:pt x="295" y="585"/>
                    </a:lnTo>
                    <a:lnTo>
                      <a:pt x="262" y="568"/>
                    </a:lnTo>
                    <a:lnTo>
                      <a:pt x="234" y="551"/>
                    </a:lnTo>
                    <a:lnTo>
                      <a:pt x="209" y="535"/>
                    </a:lnTo>
                    <a:lnTo>
                      <a:pt x="186" y="521"/>
                    </a:lnTo>
                    <a:lnTo>
                      <a:pt x="166" y="510"/>
                    </a:lnTo>
                    <a:lnTo>
                      <a:pt x="144" y="501"/>
                    </a:lnTo>
                    <a:lnTo>
                      <a:pt x="122" y="496"/>
                    </a:lnTo>
                    <a:lnTo>
                      <a:pt x="97" y="495"/>
                    </a:lnTo>
                    <a:lnTo>
                      <a:pt x="70" y="499"/>
                    </a:lnTo>
                    <a:lnTo>
                      <a:pt x="38" y="507"/>
                    </a:lnTo>
                    <a:lnTo>
                      <a:pt x="0" y="522"/>
                    </a:lnTo>
                    <a:lnTo>
                      <a:pt x="14" y="466"/>
                    </a:lnTo>
                    <a:lnTo>
                      <a:pt x="31" y="411"/>
                    </a:lnTo>
                    <a:lnTo>
                      <a:pt x="53" y="358"/>
                    </a:lnTo>
                    <a:lnTo>
                      <a:pt x="78" y="307"/>
                    </a:lnTo>
                    <a:lnTo>
                      <a:pt x="107" y="258"/>
                    </a:lnTo>
                    <a:lnTo>
                      <a:pt x="140" y="213"/>
                    </a:lnTo>
                    <a:lnTo>
                      <a:pt x="176" y="171"/>
                    </a:lnTo>
                    <a:lnTo>
                      <a:pt x="216" y="132"/>
                    </a:lnTo>
                    <a:lnTo>
                      <a:pt x="259" y="97"/>
                    </a:lnTo>
                    <a:lnTo>
                      <a:pt x="305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520400" y="4345560"/>
                <a:ext cx="126360" cy="45000"/>
              </a:xfrm>
              <a:custGeom>
                <a:avLst/>
                <a:gdLst/>
                <a:ahLst/>
                <a:rect l="l" t="t" r="r" b="b"/>
                <a:pathLst>
                  <a:path w="1832" h="785">
                    <a:moveTo>
                      <a:pt x="634" y="5"/>
                    </a:moveTo>
                    <a:lnTo>
                      <a:pt x="656" y="8"/>
                    </a:lnTo>
                    <a:lnTo>
                      <a:pt x="675" y="11"/>
                    </a:lnTo>
                    <a:lnTo>
                      <a:pt x="694" y="13"/>
                    </a:lnTo>
                    <a:lnTo>
                      <a:pt x="711" y="15"/>
                    </a:lnTo>
                    <a:lnTo>
                      <a:pt x="726" y="18"/>
                    </a:lnTo>
                    <a:lnTo>
                      <a:pt x="742" y="20"/>
                    </a:lnTo>
                    <a:lnTo>
                      <a:pt x="756" y="22"/>
                    </a:lnTo>
                    <a:lnTo>
                      <a:pt x="769" y="24"/>
                    </a:lnTo>
                    <a:lnTo>
                      <a:pt x="783" y="26"/>
                    </a:lnTo>
                    <a:lnTo>
                      <a:pt x="794" y="27"/>
                    </a:lnTo>
                    <a:lnTo>
                      <a:pt x="807" y="29"/>
                    </a:lnTo>
                    <a:lnTo>
                      <a:pt x="819" y="31"/>
                    </a:lnTo>
                    <a:lnTo>
                      <a:pt x="832" y="32"/>
                    </a:lnTo>
                    <a:lnTo>
                      <a:pt x="845" y="34"/>
                    </a:lnTo>
                    <a:lnTo>
                      <a:pt x="859" y="36"/>
                    </a:lnTo>
                    <a:lnTo>
                      <a:pt x="873" y="38"/>
                    </a:lnTo>
                    <a:lnTo>
                      <a:pt x="889" y="40"/>
                    </a:lnTo>
                    <a:lnTo>
                      <a:pt x="905" y="42"/>
                    </a:lnTo>
                    <a:lnTo>
                      <a:pt x="924" y="44"/>
                    </a:lnTo>
                    <a:lnTo>
                      <a:pt x="943" y="47"/>
                    </a:lnTo>
                    <a:lnTo>
                      <a:pt x="964" y="50"/>
                    </a:lnTo>
                    <a:lnTo>
                      <a:pt x="987" y="53"/>
                    </a:lnTo>
                    <a:lnTo>
                      <a:pt x="1012" y="56"/>
                    </a:lnTo>
                    <a:lnTo>
                      <a:pt x="1039" y="59"/>
                    </a:lnTo>
                    <a:lnTo>
                      <a:pt x="1068" y="63"/>
                    </a:lnTo>
                    <a:lnTo>
                      <a:pt x="1100" y="67"/>
                    </a:lnTo>
                    <a:lnTo>
                      <a:pt x="1134" y="72"/>
                    </a:lnTo>
                    <a:lnTo>
                      <a:pt x="1172" y="77"/>
                    </a:lnTo>
                    <a:lnTo>
                      <a:pt x="1212" y="83"/>
                    </a:lnTo>
                    <a:lnTo>
                      <a:pt x="1256" y="89"/>
                    </a:lnTo>
                    <a:lnTo>
                      <a:pt x="1303" y="95"/>
                    </a:lnTo>
                    <a:lnTo>
                      <a:pt x="1354" y="102"/>
                    </a:lnTo>
                    <a:lnTo>
                      <a:pt x="1416" y="113"/>
                    </a:lnTo>
                    <a:lnTo>
                      <a:pt x="1475" y="130"/>
                    </a:lnTo>
                    <a:lnTo>
                      <a:pt x="1528" y="153"/>
                    </a:lnTo>
                    <a:lnTo>
                      <a:pt x="1577" y="180"/>
                    </a:lnTo>
                    <a:lnTo>
                      <a:pt x="1621" y="212"/>
                    </a:lnTo>
                    <a:lnTo>
                      <a:pt x="1662" y="248"/>
                    </a:lnTo>
                    <a:lnTo>
                      <a:pt x="1697" y="287"/>
                    </a:lnTo>
                    <a:lnTo>
                      <a:pt x="1729" y="330"/>
                    </a:lnTo>
                    <a:lnTo>
                      <a:pt x="1756" y="375"/>
                    </a:lnTo>
                    <a:lnTo>
                      <a:pt x="1779" y="424"/>
                    </a:lnTo>
                    <a:lnTo>
                      <a:pt x="1797" y="474"/>
                    </a:lnTo>
                    <a:lnTo>
                      <a:pt x="1812" y="526"/>
                    </a:lnTo>
                    <a:lnTo>
                      <a:pt x="1823" y="580"/>
                    </a:lnTo>
                    <a:lnTo>
                      <a:pt x="1830" y="635"/>
                    </a:lnTo>
                    <a:lnTo>
                      <a:pt x="1832" y="689"/>
                    </a:lnTo>
                    <a:lnTo>
                      <a:pt x="1831" y="745"/>
                    </a:lnTo>
                    <a:lnTo>
                      <a:pt x="1798" y="738"/>
                    </a:lnTo>
                    <a:lnTo>
                      <a:pt x="1770" y="734"/>
                    </a:lnTo>
                    <a:lnTo>
                      <a:pt x="1744" y="734"/>
                    </a:lnTo>
                    <a:lnTo>
                      <a:pt x="1720" y="736"/>
                    </a:lnTo>
                    <a:lnTo>
                      <a:pt x="1696" y="740"/>
                    </a:lnTo>
                    <a:lnTo>
                      <a:pt x="1674" y="745"/>
                    </a:lnTo>
                    <a:lnTo>
                      <a:pt x="1651" y="752"/>
                    </a:lnTo>
                    <a:lnTo>
                      <a:pt x="1626" y="760"/>
                    </a:lnTo>
                    <a:lnTo>
                      <a:pt x="1597" y="767"/>
                    </a:lnTo>
                    <a:lnTo>
                      <a:pt x="1566" y="774"/>
                    </a:lnTo>
                    <a:lnTo>
                      <a:pt x="1531" y="779"/>
                    </a:lnTo>
                    <a:lnTo>
                      <a:pt x="1491" y="783"/>
                    </a:lnTo>
                    <a:lnTo>
                      <a:pt x="1444" y="785"/>
                    </a:lnTo>
                    <a:lnTo>
                      <a:pt x="1391" y="784"/>
                    </a:lnTo>
                    <a:lnTo>
                      <a:pt x="1331" y="780"/>
                    </a:lnTo>
                    <a:lnTo>
                      <a:pt x="1261" y="772"/>
                    </a:lnTo>
                    <a:lnTo>
                      <a:pt x="1239" y="769"/>
                    </a:lnTo>
                    <a:lnTo>
                      <a:pt x="1220" y="766"/>
                    </a:lnTo>
                    <a:lnTo>
                      <a:pt x="1201" y="764"/>
                    </a:lnTo>
                    <a:lnTo>
                      <a:pt x="1184" y="762"/>
                    </a:lnTo>
                    <a:lnTo>
                      <a:pt x="1169" y="760"/>
                    </a:lnTo>
                    <a:lnTo>
                      <a:pt x="1153" y="758"/>
                    </a:lnTo>
                    <a:lnTo>
                      <a:pt x="1140" y="755"/>
                    </a:lnTo>
                    <a:lnTo>
                      <a:pt x="1126" y="753"/>
                    </a:lnTo>
                    <a:lnTo>
                      <a:pt x="1114" y="751"/>
                    </a:lnTo>
                    <a:lnTo>
                      <a:pt x="1100" y="750"/>
                    </a:lnTo>
                    <a:lnTo>
                      <a:pt x="1088" y="748"/>
                    </a:lnTo>
                    <a:lnTo>
                      <a:pt x="1075" y="746"/>
                    </a:lnTo>
                    <a:lnTo>
                      <a:pt x="1063" y="745"/>
                    </a:lnTo>
                    <a:lnTo>
                      <a:pt x="1049" y="743"/>
                    </a:lnTo>
                    <a:lnTo>
                      <a:pt x="1036" y="741"/>
                    </a:lnTo>
                    <a:lnTo>
                      <a:pt x="1021" y="739"/>
                    </a:lnTo>
                    <a:lnTo>
                      <a:pt x="1005" y="737"/>
                    </a:lnTo>
                    <a:lnTo>
                      <a:pt x="989" y="735"/>
                    </a:lnTo>
                    <a:lnTo>
                      <a:pt x="971" y="733"/>
                    </a:lnTo>
                    <a:lnTo>
                      <a:pt x="951" y="730"/>
                    </a:lnTo>
                    <a:lnTo>
                      <a:pt x="930" y="727"/>
                    </a:lnTo>
                    <a:lnTo>
                      <a:pt x="908" y="724"/>
                    </a:lnTo>
                    <a:lnTo>
                      <a:pt x="883" y="721"/>
                    </a:lnTo>
                    <a:lnTo>
                      <a:pt x="855" y="718"/>
                    </a:lnTo>
                    <a:lnTo>
                      <a:pt x="826" y="714"/>
                    </a:lnTo>
                    <a:lnTo>
                      <a:pt x="794" y="710"/>
                    </a:lnTo>
                    <a:lnTo>
                      <a:pt x="761" y="705"/>
                    </a:lnTo>
                    <a:lnTo>
                      <a:pt x="723" y="700"/>
                    </a:lnTo>
                    <a:lnTo>
                      <a:pt x="683" y="695"/>
                    </a:lnTo>
                    <a:lnTo>
                      <a:pt x="639" y="688"/>
                    </a:lnTo>
                    <a:lnTo>
                      <a:pt x="592" y="682"/>
                    </a:lnTo>
                    <a:lnTo>
                      <a:pt x="541" y="675"/>
                    </a:lnTo>
                    <a:lnTo>
                      <a:pt x="473" y="664"/>
                    </a:lnTo>
                    <a:lnTo>
                      <a:pt x="412" y="650"/>
                    </a:lnTo>
                    <a:lnTo>
                      <a:pt x="361" y="634"/>
                    </a:lnTo>
                    <a:lnTo>
                      <a:pt x="316" y="616"/>
                    </a:lnTo>
                    <a:lnTo>
                      <a:pt x="279" y="598"/>
                    </a:lnTo>
                    <a:lnTo>
                      <a:pt x="247" y="580"/>
                    </a:lnTo>
                    <a:lnTo>
                      <a:pt x="219" y="561"/>
                    </a:lnTo>
                    <a:lnTo>
                      <a:pt x="194" y="544"/>
                    </a:lnTo>
                    <a:lnTo>
                      <a:pt x="172" y="528"/>
                    </a:lnTo>
                    <a:lnTo>
                      <a:pt x="151" y="514"/>
                    </a:lnTo>
                    <a:lnTo>
                      <a:pt x="130" y="502"/>
                    </a:lnTo>
                    <a:lnTo>
                      <a:pt x="109" y="493"/>
                    </a:lnTo>
                    <a:lnTo>
                      <a:pt x="86" y="488"/>
                    </a:lnTo>
                    <a:lnTo>
                      <a:pt x="61" y="487"/>
                    </a:lnTo>
                    <a:lnTo>
                      <a:pt x="33" y="491"/>
                    </a:lnTo>
                    <a:lnTo>
                      <a:pt x="0" y="500"/>
                    </a:lnTo>
                    <a:lnTo>
                      <a:pt x="14" y="446"/>
                    </a:lnTo>
                    <a:lnTo>
                      <a:pt x="31" y="394"/>
                    </a:lnTo>
                    <a:lnTo>
                      <a:pt x="52" y="343"/>
                    </a:lnTo>
                    <a:lnTo>
                      <a:pt x="77" y="294"/>
                    </a:lnTo>
                    <a:lnTo>
                      <a:pt x="105" y="247"/>
                    </a:lnTo>
                    <a:lnTo>
                      <a:pt x="136" y="204"/>
                    </a:lnTo>
                    <a:lnTo>
                      <a:pt x="172" y="163"/>
                    </a:lnTo>
                    <a:lnTo>
                      <a:pt x="210" y="126"/>
                    </a:lnTo>
                    <a:lnTo>
                      <a:pt x="252" y="94"/>
                    </a:lnTo>
                    <a:lnTo>
                      <a:pt x="297" y="64"/>
                    </a:lnTo>
                    <a:lnTo>
                      <a:pt x="346" y="41"/>
                    </a:lnTo>
                    <a:lnTo>
                      <a:pt x="397" y="22"/>
                    </a:lnTo>
                    <a:lnTo>
                      <a:pt x="452" y="8"/>
                    </a:lnTo>
                    <a:lnTo>
                      <a:pt x="509" y="1"/>
                    </a:lnTo>
                    <a:lnTo>
                      <a:pt x="570" y="0"/>
                    </a:lnTo>
                    <a:lnTo>
                      <a:pt x="634" y="5"/>
                    </a:lnTo>
                    <a:close/>
                  </a:path>
                </a:pathLst>
              </a:custGeom>
              <a:solidFill>
                <a:srgbClr val="35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521480" y="4347000"/>
                <a:ext cx="123480" cy="46080"/>
              </a:xfrm>
              <a:custGeom>
                <a:avLst/>
                <a:gdLst/>
                <a:ahLst/>
                <a:rect l="l" t="t" r="r" b="b"/>
                <a:pathLst>
                  <a:path w="1782" h="793">
                    <a:moveTo>
                      <a:pt x="614" y="5"/>
                    </a:moveTo>
                    <a:lnTo>
                      <a:pt x="635" y="8"/>
                    </a:lnTo>
                    <a:lnTo>
                      <a:pt x="655" y="10"/>
                    </a:lnTo>
                    <a:lnTo>
                      <a:pt x="672" y="13"/>
                    </a:lnTo>
                    <a:lnTo>
                      <a:pt x="689" y="15"/>
                    </a:lnTo>
                    <a:lnTo>
                      <a:pt x="705" y="17"/>
                    </a:lnTo>
                    <a:lnTo>
                      <a:pt x="719" y="19"/>
                    </a:lnTo>
                    <a:lnTo>
                      <a:pt x="733" y="21"/>
                    </a:lnTo>
                    <a:lnTo>
                      <a:pt x="746" y="22"/>
                    </a:lnTo>
                    <a:lnTo>
                      <a:pt x="759" y="24"/>
                    </a:lnTo>
                    <a:lnTo>
                      <a:pt x="770" y="26"/>
                    </a:lnTo>
                    <a:lnTo>
                      <a:pt x="782" y="27"/>
                    </a:lnTo>
                    <a:lnTo>
                      <a:pt x="794" y="29"/>
                    </a:lnTo>
                    <a:lnTo>
                      <a:pt x="807" y="31"/>
                    </a:lnTo>
                    <a:lnTo>
                      <a:pt x="820" y="32"/>
                    </a:lnTo>
                    <a:lnTo>
                      <a:pt x="834" y="34"/>
                    </a:lnTo>
                    <a:lnTo>
                      <a:pt x="847" y="36"/>
                    </a:lnTo>
                    <a:lnTo>
                      <a:pt x="863" y="38"/>
                    </a:lnTo>
                    <a:lnTo>
                      <a:pt x="879" y="40"/>
                    </a:lnTo>
                    <a:lnTo>
                      <a:pt x="896" y="43"/>
                    </a:lnTo>
                    <a:lnTo>
                      <a:pt x="915" y="45"/>
                    </a:lnTo>
                    <a:lnTo>
                      <a:pt x="936" y="48"/>
                    </a:lnTo>
                    <a:lnTo>
                      <a:pt x="958" y="52"/>
                    </a:lnTo>
                    <a:lnTo>
                      <a:pt x="982" y="55"/>
                    </a:lnTo>
                    <a:lnTo>
                      <a:pt x="1008" y="58"/>
                    </a:lnTo>
                    <a:lnTo>
                      <a:pt x="1038" y="62"/>
                    </a:lnTo>
                    <a:lnTo>
                      <a:pt x="1068" y="66"/>
                    </a:lnTo>
                    <a:lnTo>
                      <a:pt x="1102" y="71"/>
                    </a:lnTo>
                    <a:lnTo>
                      <a:pt x="1139" y="76"/>
                    </a:lnTo>
                    <a:lnTo>
                      <a:pt x="1178" y="81"/>
                    </a:lnTo>
                    <a:lnTo>
                      <a:pt x="1221" y="86"/>
                    </a:lnTo>
                    <a:lnTo>
                      <a:pt x="1267" y="92"/>
                    </a:lnTo>
                    <a:lnTo>
                      <a:pt x="1315" y="99"/>
                    </a:lnTo>
                    <a:lnTo>
                      <a:pt x="1377" y="110"/>
                    </a:lnTo>
                    <a:lnTo>
                      <a:pt x="1433" y="127"/>
                    </a:lnTo>
                    <a:lnTo>
                      <a:pt x="1485" y="148"/>
                    </a:lnTo>
                    <a:lnTo>
                      <a:pt x="1533" y="175"/>
                    </a:lnTo>
                    <a:lnTo>
                      <a:pt x="1577" y="205"/>
                    </a:lnTo>
                    <a:lnTo>
                      <a:pt x="1616" y="240"/>
                    </a:lnTo>
                    <a:lnTo>
                      <a:pt x="1651" y="277"/>
                    </a:lnTo>
                    <a:lnTo>
                      <a:pt x="1682" y="318"/>
                    </a:lnTo>
                    <a:lnTo>
                      <a:pt x="1708" y="362"/>
                    </a:lnTo>
                    <a:lnTo>
                      <a:pt x="1730" y="408"/>
                    </a:lnTo>
                    <a:lnTo>
                      <a:pt x="1748" y="456"/>
                    </a:lnTo>
                    <a:lnTo>
                      <a:pt x="1763" y="507"/>
                    </a:lnTo>
                    <a:lnTo>
                      <a:pt x="1772" y="558"/>
                    </a:lnTo>
                    <a:lnTo>
                      <a:pt x="1779" y="611"/>
                    </a:lnTo>
                    <a:lnTo>
                      <a:pt x="1782" y="663"/>
                    </a:lnTo>
                    <a:lnTo>
                      <a:pt x="1780" y="716"/>
                    </a:lnTo>
                    <a:lnTo>
                      <a:pt x="1750" y="714"/>
                    </a:lnTo>
                    <a:lnTo>
                      <a:pt x="1724" y="715"/>
                    </a:lnTo>
                    <a:lnTo>
                      <a:pt x="1700" y="719"/>
                    </a:lnTo>
                    <a:lnTo>
                      <a:pt x="1678" y="725"/>
                    </a:lnTo>
                    <a:lnTo>
                      <a:pt x="1656" y="733"/>
                    </a:lnTo>
                    <a:lnTo>
                      <a:pt x="1633" y="742"/>
                    </a:lnTo>
                    <a:lnTo>
                      <a:pt x="1609" y="751"/>
                    </a:lnTo>
                    <a:lnTo>
                      <a:pt x="1584" y="760"/>
                    </a:lnTo>
                    <a:lnTo>
                      <a:pt x="1555" y="769"/>
                    </a:lnTo>
                    <a:lnTo>
                      <a:pt x="1524" y="777"/>
                    </a:lnTo>
                    <a:lnTo>
                      <a:pt x="1488" y="784"/>
                    </a:lnTo>
                    <a:lnTo>
                      <a:pt x="1448" y="789"/>
                    </a:lnTo>
                    <a:lnTo>
                      <a:pt x="1402" y="793"/>
                    </a:lnTo>
                    <a:lnTo>
                      <a:pt x="1349" y="793"/>
                    </a:lnTo>
                    <a:lnTo>
                      <a:pt x="1289" y="788"/>
                    </a:lnTo>
                    <a:lnTo>
                      <a:pt x="1222" y="781"/>
                    </a:lnTo>
                    <a:lnTo>
                      <a:pt x="1201" y="778"/>
                    </a:lnTo>
                    <a:lnTo>
                      <a:pt x="1181" y="776"/>
                    </a:lnTo>
                    <a:lnTo>
                      <a:pt x="1163" y="773"/>
                    </a:lnTo>
                    <a:lnTo>
                      <a:pt x="1147" y="771"/>
                    </a:lnTo>
                    <a:lnTo>
                      <a:pt x="1131" y="769"/>
                    </a:lnTo>
                    <a:lnTo>
                      <a:pt x="1117" y="767"/>
                    </a:lnTo>
                    <a:lnTo>
                      <a:pt x="1103" y="765"/>
                    </a:lnTo>
                    <a:lnTo>
                      <a:pt x="1090" y="764"/>
                    </a:lnTo>
                    <a:lnTo>
                      <a:pt x="1077" y="762"/>
                    </a:lnTo>
                    <a:lnTo>
                      <a:pt x="1065" y="760"/>
                    </a:lnTo>
                    <a:lnTo>
                      <a:pt x="1053" y="759"/>
                    </a:lnTo>
                    <a:lnTo>
                      <a:pt x="1041" y="757"/>
                    </a:lnTo>
                    <a:lnTo>
                      <a:pt x="1028" y="755"/>
                    </a:lnTo>
                    <a:lnTo>
                      <a:pt x="1016" y="754"/>
                    </a:lnTo>
                    <a:lnTo>
                      <a:pt x="1002" y="752"/>
                    </a:lnTo>
                    <a:lnTo>
                      <a:pt x="988" y="750"/>
                    </a:lnTo>
                    <a:lnTo>
                      <a:pt x="972" y="748"/>
                    </a:lnTo>
                    <a:lnTo>
                      <a:pt x="956" y="746"/>
                    </a:lnTo>
                    <a:lnTo>
                      <a:pt x="939" y="743"/>
                    </a:lnTo>
                    <a:lnTo>
                      <a:pt x="920" y="741"/>
                    </a:lnTo>
                    <a:lnTo>
                      <a:pt x="899" y="738"/>
                    </a:lnTo>
                    <a:lnTo>
                      <a:pt x="877" y="735"/>
                    </a:lnTo>
                    <a:lnTo>
                      <a:pt x="852" y="732"/>
                    </a:lnTo>
                    <a:lnTo>
                      <a:pt x="826" y="729"/>
                    </a:lnTo>
                    <a:lnTo>
                      <a:pt x="797" y="724"/>
                    </a:lnTo>
                    <a:lnTo>
                      <a:pt x="766" y="720"/>
                    </a:lnTo>
                    <a:lnTo>
                      <a:pt x="734" y="715"/>
                    </a:lnTo>
                    <a:lnTo>
                      <a:pt x="697" y="710"/>
                    </a:lnTo>
                    <a:lnTo>
                      <a:pt x="658" y="705"/>
                    </a:lnTo>
                    <a:lnTo>
                      <a:pt x="615" y="700"/>
                    </a:lnTo>
                    <a:lnTo>
                      <a:pt x="569" y="694"/>
                    </a:lnTo>
                    <a:lnTo>
                      <a:pt x="519" y="687"/>
                    </a:lnTo>
                    <a:lnTo>
                      <a:pt x="452" y="676"/>
                    </a:lnTo>
                    <a:lnTo>
                      <a:pt x="393" y="661"/>
                    </a:lnTo>
                    <a:lnTo>
                      <a:pt x="343" y="646"/>
                    </a:lnTo>
                    <a:lnTo>
                      <a:pt x="300" y="628"/>
                    </a:lnTo>
                    <a:lnTo>
                      <a:pt x="262" y="609"/>
                    </a:lnTo>
                    <a:lnTo>
                      <a:pt x="230" y="589"/>
                    </a:lnTo>
                    <a:lnTo>
                      <a:pt x="202" y="570"/>
                    </a:lnTo>
                    <a:lnTo>
                      <a:pt x="177" y="551"/>
                    </a:lnTo>
                    <a:lnTo>
                      <a:pt x="155" y="532"/>
                    </a:lnTo>
                    <a:lnTo>
                      <a:pt x="134" y="516"/>
                    </a:lnTo>
                    <a:lnTo>
                      <a:pt x="116" y="501"/>
                    </a:lnTo>
                    <a:lnTo>
                      <a:pt x="96" y="490"/>
                    </a:lnTo>
                    <a:lnTo>
                      <a:pt x="75" y="480"/>
                    </a:lnTo>
                    <a:lnTo>
                      <a:pt x="53" y="475"/>
                    </a:lnTo>
                    <a:lnTo>
                      <a:pt x="28" y="474"/>
                    </a:lnTo>
                    <a:lnTo>
                      <a:pt x="0" y="478"/>
                    </a:lnTo>
                    <a:lnTo>
                      <a:pt x="13" y="427"/>
                    </a:lnTo>
                    <a:lnTo>
                      <a:pt x="29" y="377"/>
                    </a:lnTo>
                    <a:lnTo>
                      <a:pt x="50" y="327"/>
                    </a:lnTo>
                    <a:lnTo>
                      <a:pt x="74" y="280"/>
                    </a:lnTo>
                    <a:lnTo>
                      <a:pt x="101" y="237"/>
                    </a:lnTo>
                    <a:lnTo>
                      <a:pt x="131" y="195"/>
                    </a:lnTo>
                    <a:lnTo>
                      <a:pt x="166" y="155"/>
                    </a:lnTo>
                    <a:lnTo>
                      <a:pt x="203" y="121"/>
                    </a:lnTo>
                    <a:lnTo>
                      <a:pt x="243" y="89"/>
                    </a:lnTo>
                    <a:lnTo>
                      <a:pt x="287" y="62"/>
                    </a:lnTo>
                    <a:lnTo>
                      <a:pt x="334" y="38"/>
                    </a:lnTo>
                    <a:lnTo>
                      <a:pt x="384" y="21"/>
                    </a:lnTo>
                    <a:lnTo>
                      <a:pt x="437" y="8"/>
                    </a:lnTo>
                    <a:lnTo>
                      <a:pt x="493" y="1"/>
                    </a:lnTo>
                    <a:lnTo>
                      <a:pt x="552" y="0"/>
                    </a:lnTo>
                    <a:lnTo>
                      <a:pt x="614" y="5"/>
                    </a:lnTo>
                    <a:close/>
                  </a:path>
                </a:pathLst>
              </a:custGeom>
              <a:solidFill>
                <a:srgbClr val="45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522920" y="4349520"/>
                <a:ext cx="120600" cy="45000"/>
              </a:xfrm>
              <a:custGeom>
                <a:avLst/>
                <a:gdLst/>
                <a:ahLst/>
                <a:rect l="l" t="t" r="r" b="b"/>
                <a:pathLst>
                  <a:path w="1733" h="801">
                    <a:moveTo>
                      <a:pt x="597" y="5"/>
                    </a:moveTo>
                    <a:lnTo>
                      <a:pt x="618" y="8"/>
                    </a:lnTo>
                    <a:lnTo>
                      <a:pt x="637" y="10"/>
                    </a:lnTo>
                    <a:lnTo>
                      <a:pt x="655" y="12"/>
                    </a:lnTo>
                    <a:lnTo>
                      <a:pt x="670" y="15"/>
                    </a:lnTo>
                    <a:lnTo>
                      <a:pt x="686" y="17"/>
                    </a:lnTo>
                    <a:lnTo>
                      <a:pt x="699" y="18"/>
                    </a:lnTo>
                    <a:lnTo>
                      <a:pt x="713" y="20"/>
                    </a:lnTo>
                    <a:lnTo>
                      <a:pt x="725" y="23"/>
                    </a:lnTo>
                    <a:lnTo>
                      <a:pt x="738" y="24"/>
                    </a:lnTo>
                    <a:lnTo>
                      <a:pt x="748" y="26"/>
                    </a:lnTo>
                    <a:lnTo>
                      <a:pt x="761" y="28"/>
                    </a:lnTo>
                    <a:lnTo>
                      <a:pt x="772" y="29"/>
                    </a:lnTo>
                    <a:lnTo>
                      <a:pt x="785" y="31"/>
                    </a:lnTo>
                    <a:lnTo>
                      <a:pt x="797" y="32"/>
                    </a:lnTo>
                    <a:lnTo>
                      <a:pt x="811" y="34"/>
                    </a:lnTo>
                    <a:lnTo>
                      <a:pt x="824" y="36"/>
                    </a:lnTo>
                    <a:lnTo>
                      <a:pt x="839" y="38"/>
                    </a:lnTo>
                    <a:lnTo>
                      <a:pt x="854" y="40"/>
                    </a:lnTo>
                    <a:lnTo>
                      <a:pt x="871" y="42"/>
                    </a:lnTo>
                    <a:lnTo>
                      <a:pt x="890" y="44"/>
                    </a:lnTo>
                    <a:lnTo>
                      <a:pt x="909" y="47"/>
                    </a:lnTo>
                    <a:lnTo>
                      <a:pt x="931" y="50"/>
                    </a:lnTo>
                    <a:lnTo>
                      <a:pt x="955" y="53"/>
                    </a:lnTo>
                    <a:lnTo>
                      <a:pt x="980" y="56"/>
                    </a:lnTo>
                    <a:lnTo>
                      <a:pt x="1008" y="60"/>
                    </a:lnTo>
                    <a:lnTo>
                      <a:pt x="1039" y="64"/>
                    </a:lnTo>
                    <a:lnTo>
                      <a:pt x="1071" y="68"/>
                    </a:lnTo>
                    <a:lnTo>
                      <a:pt x="1106" y="73"/>
                    </a:lnTo>
                    <a:lnTo>
                      <a:pt x="1145" y="78"/>
                    </a:lnTo>
                    <a:lnTo>
                      <a:pt x="1186" y="84"/>
                    </a:lnTo>
                    <a:lnTo>
                      <a:pt x="1231" y="90"/>
                    </a:lnTo>
                    <a:lnTo>
                      <a:pt x="1279" y="96"/>
                    </a:lnTo>
                    <a:lnTo>
                      <a:pt x="1338" y="107"/>
                    </a:lnTo>
                    <a:lnTo>
                      <a:pt x="1393" y="123"/>
                    </a:lnTo>
                    <a:lnTo>
                      <a:pt x="1444" y="143"/>
                    </a:lnTo>
                    <a:lnTo>
                      <a:pt x="1491" y="169"/>
                    </a:lnTo>
                    <a:lnTo>
                      <a:pt x="1533" y="198"/>
                    </a:lnTo>
                    <a:lnTo>
                      <a:pt x="1571" y="231"/>
                    </a:lnTo>
                    <a:lnTo>
                      <a:pt x="1605" y="267"/>
                    </a:lnTo>
                    <a:lnTo>
                      <a:pt x="1635" y="306"/>
                    </a:lnTo>
                    <a:lnTo>
                      <a:pt x="1661" y="349"/>
                    </a:lnTo>
                    <a:lnTo>
                      <a:pt x="1683" y="393"/>
                    </a:lnTo>
                    <a:lnTo>
                      <a:pt x="1700" y="439"/>
                    </a:lnTo>
                    <a:lnTo>
                      <a:pt x="1714" y="487"/>
                    </a:lnTo>
                    <a:lnTo>
                      <a:pt x="1724" y="536"/>
                    </a:lnTo>
                    <a:lnTo>
                      <a:pt x="1731" y="587"/>
                    </a:lnTo>
                    <a:lnTo>
                      <a:pt x="1733" y="637"/>
                    </a:lnTo>
                    <a:lnTo>
                      <a:pt x="1732" y="688"/>
                    </a:lnTo>
                    <a:lnTo>
                      <a:pt x="1706" y="691"/>
                    </a:lnTo>
                    <a:lnTo>
                      <a:pt x="1682" y="697"/>
                    </a:lnTo>
                    <a:lnTo>
                      <a:pt x="1660" y="705"/>
                    </a:lnTo>
                    <a:lnTo>
                      <a:pt x="1638" y="715"/>
                    </a:lnTo>
                    <a:lnTo>
                      <a:pt x="1616" y="726"/>
                    </a:lnTo>
                    <a:lnTo>
                      <a:pt x="1593" y="737"/>
                    </a:lnTo>
                    <a:lnTo>
                      <a:pt x="1569" y="749"/>
                    </a:lnTo>
                    <a:lnTo>
                      <a:pt x="1543" y="761"/>
                    </a:lnTo>
                    <a:lnTo>
                      <a:pt x="1514" y="773"/>
                    </a:lnTo>
                    <a:lnTo>
                      <a:pt x="1483" y="783"/>
                    </a:lnTo>
                    <a:lnTo>
                      <a:pt x="1446" y="791"/>
                    </a:lnTo>
                    <a:lnTo>
                      <a:pt x="1406" y="797"/>
                    </a:lnTo>
                    <a:lnTo>
                      <a:pt x="1360" y="801"/>
                    </a:lnTo>
                    <a:lnTo>
                      <a:pt x="1308" y="801"/>
                    </a:lnTo>
                    <a:lnTo>
                      <a:pt x="1249" y="798"/>
                    </a:lnTo>
                    <a:lnTo>
                      <a:pt x="1183" y="791"/>
                    </a:lnTo>
                    <a:lnTo>
                      <a:pt x="1162" y="788"/>
                    </a:lnTo>
                    <a:lnTo>
                      <a:pt x="1144" y="786"/>
                    </a:lnTo>
                    <a:lnTo>
                      <a:pt x="1126" y="784"/>
                    </a:lnTo>
                    <a:lnTo>
                      <a:pt x="1110" y="781"/>
                    </a:lnTo>
                    <a:lnTo>
                      <a:pt x="1095" y="779"/>
                    </a:lnTo>
                    <a:lnTo>
                      <a:pt x="1081" y="778"/>
                    </a:lnTo>
                    <a:lnTo>
                      <a:pt x="1068" y="776"/>
                    </a:lnTo>
                    <a:lnTo>
                      <a:pt x="1055" y="774"/>
                    </a:lnTo>
                    <a:lnTo>
                      <a:pt x="1043" y="773"/>
                    </a:lnTo>
                    <a:lnTo>
                      <a:pt x="1031" y="771"/>
                    </a:lnTo>
                    <a:lnTo>
                      <a:pt x="1019" y="769"/>
                    </a:lnTo>
                    <a:lnTo>
                      <a:pt x="1007" y="768"/>
                    </a:lnTo>
                    <a:lnTo>
                      <a:pt x="995" y="766"/>
                    </a:lnTo>
                    <a:lnTo>
                      <a:pt x="982" y="765"/>
                    </a:lnTo>
                    <a:lnTo>
                      <a:pt x="969" y="763"/>
                    </a:lnTo>
                    <a:lnTo>
                      <a:pt x="955" y="760"/>
                    </a:lnTo>
                    <a:lnTo>
                      <a:pt x="941" y="758"/>
                    </a:lnTo>
                    <a:lnTo>
                      <a:pt x="925" y="756"/>
                    </a:lnTo>
                    <a:lnTo>
                      <a:pt x="908" y="754"/>
                    </a:lnTo>
                    <a:lnTo>
                      <a:pt x="890" y="751"/>
                    </a:lnTo>
                    <a:lnTo>
                      <a:pt x="870" y="749"/>
                    </a:lnTo>
                    <a:lnTo>
                      <a:pt x="848" y="746"/>
                    </a:lnTo>
                    <a:lnTo>
                      <a:pt x="824" y="743"/>
                    </a:lnTo>
                    <a:lnTo>
                      <a:pt x="799" y="739"/>
                    </a:lnTo>
                    <a:lnTo>
                      <a:pt x="771" y="736"/>
                    </a:lnTo>
                    <a:lnTo>
                      <a:pt x="741" y="732"/>
                    </a:lnTo>
                    <a:lnTo>
                      <a:pt x="710" y="727"/>
                    </a:lnTo>
                    <a:lnTo>
                      <a:pt x="674" y="723"/>
                    </a:lnTo>
                    <a:lnTo>
                      <a:pt x="636" y="718"/>
                    </a:lnTo>
                    <a:lnTo>
                      <a:pt x="594" y="712"/>
                    </a:lnTo>
                    <a:lnTo>
                      <a:pt x="549" y="706"/>
                    </a:lnTo>
                    <a:lnTo>
                      <a:pt x="502" y="699"/>
                    </a:lnTo>
                    <a:lnTo>
                      <a:pt x="436" y="688"/>
                    </a:lnTo>
                    <a:lnTo>
                      <a:pt x="379" y="674"/>
                    </a:lnTo>
                    <a:lnTo>
                      <a:pt x="329" y="658"/>
                    </a:lnTo>
                    <a:lnTo>
                      <a:pt x="285" y="640"/>
                    </a:lnTo>
                    <a:lnTo>
                      <a:pt x="248" y="620"/>
                    </a:lnTo>
                    <a:lnTo>
                      <a:pt x="215" y="600"/>
                    </a:lnTo>
                    <a:lnTo>
                      <a:pt x="187" y="579"/>
                    </a:lnTo>
                    <a:lnTo>
                      <a:pt x="162" y="557"/>
                    </a:lnTo>
                    <a:lnTo>
                      <a:pt x="140" y="537"/>
                    </a:lnTo>
                    <a:lnTo>
                      <a:pt x="121" y="519"/>
                    </a:lnTo>
                    <a:lnTo>
                      <a:pt x="102" y="500"/>
                    </a:lnTo>
                    <a:lnTo>
                      <a:pt x="84" y="485"/>
                    </a:lnTo>
                    <a:lnTo>
                      <a:pt x="66" y="473"/>
                    </a:lnTo>
                    <a:lnTo>
                      <a:pt x="46" y="464"/>
                    </a:lnTo>
                    <a:lnTo>
                      <a:pt x="24" y="458"/>
                    </a:lnTo>
                    <a:lnTo>
                      <a:pt x="0" y="457"/>
                    </a:lnTo>
                    <a:lnTo>
                      <a:pt x="12" y="407"/>
                    </a:lnTo>
                    <a:lnTo>
                      <a:pt x="29" y="359"/>
                    </a:lnTo>
                    <a:lnTo>
                      <a:pt x="48" y="312"/>
                    </a:lnTo>
                    <a:lnTo>
                      <a:pt x="72" y="267"/>
                    </a:lnTo>
                    <a:lnTo>
                      <a:pt x="98" y="225"/>
                    </a:lnTo>
                    <a:lnTo>
                      <a:pt x="128" y="185"/>
                    </a:lnTo>
                    <a:lnTo>
                      <a:pt x="161" y="148"/>
                    </a:lnTo>
                    <a:lnTo>
                      <a:pt x="198" y="114"/>
                    </a:lnTo>
                    <a:lnTo>
                      <a:pt x="236" y="85"/>
                    </a:lnTo>
                    <a:lnTo>
                      <a:pt x="279" y="58"/>
                    </a:lnTo>
                    <a:lnTo>
                      <a:pt x="325" y="37"/>
                    </a:lnTo>
                    <a:lnTo>
                      <a:pt x="374" y="19"/>
                    </a:lnTo>
                    <a:lnTo>
                      <a:pt x="426" y="7"/>
                    </a:lnTo>
                    <a:lnTo>
                      <a:pt x="480" y="1"/>
                    </a:lnTo>
                    <a:lnTo>
                      <a:pt x="537" y="0"/>
                    </a:lnTo>
                    <a:lnTo>
                      <a:pt x="597" y="5"/>
                    </a:lnTo>
                    <a:close/>
                  </a:path>
                </a:pathLst>
              </a:custGeom>
              <a:solidFill>
                <a:srgbClr val="4f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524720" y="4350960"/>
                <a:ext cx="116280" cy="46080"/>
              </a:xfrm>
              <a:custGeom>
                <a:avLst/>
                <a:gdLst/>
                <a:ahLst/>
                <a:rect l="l" t="t" r="r" b="b"/>
                <a:pathLst>
                  <a:path w="1684" h="810">
                    <a:moveTo>
                      <a:pt x="580" y="5"/>
                    </a:moveTo>
                    <a:lnTo>
                      <a:pt x="618" y="10"/>
                    </a:lnTo>
                    <a:lnTo>
                      <a:pt x="650" y="14"/>
                    </a:lnTo>
                    <a:lnTo>
                      <a:pt x="678" y="18"/>
                    </a:lnTo>
                    <a:lnTo>
                      <a:pt x="703" y="21"/>
                    </a:lnTo>
                    <a:lnTo>
                      <a:pt x="726" y="24"/>
                    </a:lnTo>
                    <a:lnTo>
                      <a:pt x="749" y="27"/>
                    </a:lnTo>
                    <a:lnTo>
                      <a:pt x="773" y="30"/>
                    </a:lnTo>
                    <a:lnTo>
                      <a:pt x="799" y="34"/>
                    </a:lnTo>
                    <a:lnTo>
                      <a:pt x="829" y="38"/>
                    </a:lnTo>
                    <a:lnTo>
                      <a:pt x="864" y="42"/>
                    </a:lnTo>
                    <a:lnTo>
                      <a:pt x="904" y="48"/>
                    </a:lnTo>
                    <a:lnTo>
                      <a:pt x="951" y="54"/>
                    </a:lnTo>
                    <a:lnTo>
                      <a:pt x="1008" y="62"/>
                    </a:lnTo>
                    <a:lnTo>
                      <a:pt x="1074" y="71"/>
                    </a:lnTo>
                    <a:lnTo>
                      <a:pt x="1152" y="81"/>
                    </a:lnTo>
                    <a:lnTo>
                      <a:pt x="1241" y="93"/>
                    </a:lnTo>
                    <a:lnTo>
                      <a:pt x="1299" y="103"/>
                    </a:lnTo>
                    <a:lnTo>
                      <a:pt x="1353" y="120"/>
                    </a:lnTo>
                    <a:lnTo>
                      <a:pt x="1402" y="139"/>
                    </a:lnTo>
                    <a:lnTo>
                      <a:pt x="1446" y="163"/>
                    </a:lnTo>
                    <a:lnTo>
                      <a:pt x="1488" y="191"/>
                    </a:lnTo>
                    <a:lnTo>
                      <a:pt x="1525" y="222"/>
                    </a:lnTo>
                    <a:lnTo>
                      <a:pt x="1558" y="258"/>
                    </a:lnTo>
                    <a:lnTo>
                      <a:pt x="1587" y="295"/>
                    </a:lnTo>
                    <a:lnTo>
                      <a:pt x="1613" y="335"/>
                    </a:lnTo>
                    <a:lnTo>
                      <a:pt x="1634" y="378"/>
                    </a:lnTo>
                    <a:lnTo>
                      <a:pt x="1651" y="421"/>
                    </a:lnTo>
                    <a:lnTo>
                      <a:pt x="1665" y="467"/>
                    </a:lnTo>
                    <a:lnTo>
                      <a:pt x="1675" y="515"/>
                    </a:lnTo>
                    <a:lnTo>
                      <a:pt x="1682" y="563"/>
                    </a:lnTo>
                    <a:lnTo>
                      <a:pt x="1684" y="611"/>
                    </a:lnTo>
                    <a:lnTo>
                      <a:pt x="1683" y="659"/>
                    </a:lnTo>
                    <a:lnTo>
                      <a:pt x="1660" y="667"/>
                    </a:lnTo>
                    <a:lnTo>
                      <a:pt x="1639" y="678"/>
                    </a:lnTo>
                    <a:lnTo>
                      <a:pt x="1617" y="690"/>
                    </a:lnTo>
                    <a:lnTo>
                      <a:pt x="1596" y="704"/>
                    </a:lnTo>
                    <a:lnTo>
                      <a:pt x="1575" y="718"/>
                    </a:lnTo>
                    <a:lnTo>
                      <a:pt x="1553" y="732"/>
                    </a:lnTo>
                    <a:lnTo>
                      <a:pt x="1529" y="748"/>
                    </a:lnTo>
                    <a:lnTo>
                      <a:pt x="1503" y="762"/>
                    </a:lnTo>
                    <a:lnTo>
                      <a:pt x="1472" y="775"/>
                    </a:lnTo>
                    <a:lnTo>
                      <a:pt x="1440" y="786"/>
                    </a:lnTo>
                    <a:lnTo>
                      <a:pt x="1404" y="797"/>
                    </a:lnTo>
                    <a:lnTo>
                      <a:pt x="1363" y="804"/>
                    </a:lnTo>
                    <a:lnTo>
                      <a:pt x="1317" y="809"/>
                    </a:lnTo>
                    <a:lnTo>
                      <a:pt x="1265" y="810"/>
                    </a:lnTo>
                    <a:lnTo>
                      <a:pt x="1208" y="808"/>
                    </a:lnTo>
                    <a:lnTo>
                      <a:pt x="1144" y="801"/>
                    </a:lnTo>
                    <a:lnTo>
                      <a:pt x="1105" y="795"/>
                    </a:lnTo>
                    <a:lnTo>
                      <a:pt x="1073" y="791"/>
                    </a:lnTo>
                    <a:lnTo>
                      <a:pt x="1045" y="787"/>
                    </a:lnTo>
                    <a:lnTo>
                      <a:pt x="1020" y="784"/>
                    </a:lnTo>
                    <a:lnTo>
                      <a:pt x="996" y="780"/>
                    </a:lnTo>
                    <a:lnTo>
                      <a:pt x="973" y="777"/>
                    </a:lnTo>
                    <a:lnTo>
                      <a:pt x="949" y="774"/>
                    </a:lnTo>
                    <a:lnTo>
                      <a:pt x="923" y="771"/>
                    </a:lnTo>
                    <a:lnTo>
                      <a:pt x="894" y="767"/>
                    </a:lnTo>
                    <a:lnTo>
                      <a:pt x="859" y="762"/>
                    </a:lnTo>
                    <a:lnTo>
                      <a:pt x="819" y="757"/>
                    </a:lnTo>
                    <a:lnTo>
                      <a:pt x="771" y="751"/>
                    </a:lnTo>
                    <a:lnTo>
                      <a:pt x="716" y="743"/>
                    </a:lnTo>
                    <a:lnTo>
                      <a:pt x="649" y="735"/>
                    </a:lnTo>
                    <a:lnTo>
                      <a:pt x="572" y="724"/>
                    </a:lnTo>
                    <a:lnTo>
                      <a:pt x="482" y="712"/>
                    </a:lnTo>
                    <a:lnTo>
                      <a:pt x="417" y="701"/>
                    </a:lnTo>
                    <a:lnTo>
                      <a:pt x="361" y="687"/>
                    </a:lnTo>
                    <a:lnTo>
                      <a:pt x="312" y="670"/>
                    </a:lnTo>
                    <a:lnTo>
                      <a:pt x="268" y="651"/>
                    </a:lnTo>
                    <a:lnTo>
                      <a:pt x="232" y="631"/>
                    </a:lnTo>
                    <a:lnTo>
                      <a:pt x="199" y="609"/>
                    </a:lnTo>
                    <a:lnTo>
                      <a:pt x="171" y="587"/>
                    </a:lnTo>
                    <a:lnTo>
                      <a:pt x="147" y="564"/>
                    </a:lnTo>
                    <a:lnTo>
                      <a:pt x="125" y="542"/>
                    </a:lnTo>
                    <a:lnTo>
                      <a:pt x="105" y="520"/>
                    </a:lnTo>
                    <a:lnTo>
                      <a:pt x="88" y="500"/>
                    </a:lnTo>
                    <a:lnTo>
                      <a:pt x="71" y="481"/>
                    </a:lnTo>
                    <a:lnTo>
                      <a:pt x="55" y="465"/>
                    </a:lnTo>
                    <a:lnTo>
                      <a:pt x="37" y="452"/>
                    </a:lnTo>
                    <a:lnTo>
                      <a:pt x="20" y="441"/>
                    </a:lnTo>
                    <a:lnTo>
                      <a:pt x="0" y="435"/>
                    </a:lnTo>
                    <a:lnTo>
                      <a:pt x="12" y="388"/>
                    </a:lnTo>
                    <a:lnTo>
                      <a:pt x="28" y="341"/>
                    </a:lnTo>
                    <a:lnTo>
                      <a:pt x="47" y="297"/>
                    </a:lnTo>
                    <a:lnTo>
                      <a:pt x="69" y="255"/>
                    </a:lnTo>
                    <a:lnTo>
                      <a:pt x="95" y="214"/>
                    </a:lnTo>
                    <a:lnTo>
                      <a:pt x="124" y="175"/>
                    </a:lnTo>
                    <a:lnTo>
                      <a:pt x="155" y="141"/>
                    </a:lnTo>
                    <a:lnTo>
                      <a:pt x="190" y="108"/>
                    </a:lnTo>
                    <a:lnTo>
                      <a:pt x="229" y="80"/>
                    </a:lnTo>
                    <a:lnTo>
                      <a:pt x="270" y="54"/>
                    </a:lnTo>
                    <a:lnTo>
                      <a:pt x="314" y="34"/>
                    </a:lnTo>
                    <a:lnTo>
                      <a:pt x="362" y="18"/>
                    </a:lnTo>
                    <a:lnTo>
                      <a:pt x="412" y="7"/>
                    </a:lnTo>
                    <a:lnTo>
                      <a:pt x="465" y="1"/>
                    </a:lnTo>
                    <a:lnTo>
                      <a:pt x="521" y="0"/>
                    </a:lnTo>
                    <a:lnTo>
                      <a:pt x="580" y="5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525800" y="4352400"/>
                <a:ext cx="113400" cy="47520"/>
              </a:xfrm>
              <a:custGeom>
                <a:avLst/>
                <a:gdLst/>
                <a:ahLst/>
                <a:rect l="l" t="t" r="r" b="b"/>
                <a:pathLst>
                  <a:path w="1634" h="819">
                    <a:moveTo>
                      <a:pt x="560" y="5"/>
                    </a:moveTo>
                    <a:lnTo>
                      <a:pt x="597" y="10"/>
                    </a:lnTo>
                    <a:lnTo>
                      <a:pt x="628" y="14"/>
                    </a:lnTo>
                    <a:lnTo>
                      <a:pt x="657" y="18"/>
                    </a:lnTo>
                    <a:lnTo>
                      <a:pt x="680" y="21"/>
                    </a:lnTo>
                    <a:lnTo>
                      <a:pt x="702" y="24"/>
                    </a:lnTo>
                    <a:lnTo>
                      <a:pt x="725" y="27"/>
                    </a:lnTo>
                    <a:lnTo>
                      <a:pt x="748" y="31"/>
                    </a:lnTo>
                    <a:lnTo>
                      <a:pt x="774" y="35"/>
                    </a:lnTo>
                    <a:lnTo>
                      <a:pt x="802" y="38"/>
                    </a:lnTo>
                    <a:lnTo>
                      <a:pt x="836" y="43"/>
                    </a:lnTo>
                    <a:lnTo>
                      <a:pt x="875" y="48"/>
                    </a:lnTo>
                    <a:lnTo>
                      <a:pt x="921" y="54"/>
                    </a:lnTo>
                    <a:lnTo>
                      <a:pt x="976" y="61"/>
                    </a:lnTo>
                    <a:lnTo>
                      <a:pt x="1041" y="70"/>
                    </a:lnTo>
                    <a:lnTo>
                      <a:pt x="1115" y="79"/>
                    </a:lnTo>
                    <a:lnTo>
                      <a:pt x="1203" y="92"/>
                    </a:lnTo>
                    <a:lnTo>
                      <a:pt x="1259" y="102"/>
                    </a:lnTo>
                    <a:lnTo>
                      <a:pt x="1311" y="117"/>
                    </a:lnTo>
                    <a:lnTo>
                      <a:pt x="1359" y="135"/>
                    </a:lnTo>
                    <a:lnTo>
                      <a:pt x="1403" y="159"/>
                    </a:lnTo>
                    <a:lnTo>
                      <a:pt x="1442" y="185"/>
                    </a:lnTo>
                    <a:lnTo>
                      <a:pt x="1479" y="216"/>
                    </a:lnTo>
                    <a:lnTo>
                      <a:pt x="1511" y="249"/>
                    </a:lnTo>
                    <a:lnTo>
                      <a:pt x="1539" y="285"/>
                    </a:lnTo>
                    <a:lnTo>
                      <a:pt x="1564" y="323"/>
                    </a:lnTo>
                    <a:lnTo>
                      <a:pt x="1585" y="363"/>
                    </a:lnTo>
                    <a:lnTo>
                      <a:pt x="1601" y="406"/>
                    </a:lnTo>
                    <a:lnTo>
                      <a:pt x="1615" y="449"/>
                    </a:lnTo>
                    <a:lnTo>
                      <a:pt x="1624" y="494"/>
                    </a:lnTo>
                    <a:lnTo>
                      <a:pt x="1631" y="540"/>
                    </a:lnTo>
                    <a:lnTo>
                      <a:pt x="1634" y="586"/>
                    </a:lnTo>
                    <a:lnTo>
                      <a:pt x="1633" y="632"/>
                    </a:lnTo>
                    <a:lnTo>
                      <a:pt x="1613" y="646"/>
                    </a:lnTo>
                    <a:lnTo>
                      <a:pt x="1594" y="661"/>
                    </a:lnTo>
                    <a:lnTo>
                      <a:pt x="1574" y="677"/>
                    </a:lnTo>
                    <a:lnTo>
                      <a:pt x="1555" y="694"/>
                    </a:lnTo>
                    <a:lnTo>
                      <a:pt x="1534" y="712"/>
                    </a:lnTo>
                    <a:lnTo>
                      <a:pt x="1511" y="730"/>
                    </a:lnTo>
                    <a:lnTo>
                      <a:pt x="1487" y="747"/>
                    </a:lnTo>
                    <a:lnTo>
                      <a:pt x="1460" y="763"/>
                    </a:lnTo>
                    <a:lnTo>
                      <a:pt x="1431" y="779"/>
                    </a:lnTo>
                    <a:lnTo>
                      <a:pt x="1397" y="792"/>
                    </a:lnTo>
                    <a:lnTo>
                      <a:pt x="1361" y="803"/>
                    </a:lnTo>
                    <a:lnTo>
                      <a:pt x="1319" y="812"/>
                    </a:lnTo>
                    <a:lnTo>
                      <a:pt x="1274" y="817"/>
                    </a:lnTo>
                    <a:lnTo>
                      <a:pt x="1223" y="819"/>
                    </a:lnTo>
                    <a:lnTo>
                      <a:pt x="1166" y="817"/>
                    </a:lnTo>
                    <a:lnTo>
                      <a:pt x="1104" y="811"/>
                    </a:lnTo>
                    <a:lnTo>
                      <a:pt x="1067" y="806"/>
                    </a:lnTo>
                    <a:lnTo>
                      <a:pt x="1035" y="802"/>
                    </a:lnTo>
                    <a:lnTo>
                      <a:pt x="1007" y="798"/>
                    </a:lnTo>
                    <a:lnTo>
                      <a:pt x="983" y="795"/>
                    </a:lnTo>
                    <a:lnTo>
                      <a:pt x="960" y="792"/>
                    </a:lnTo>
                    <a:lnTo>
                      <a:pt x="937" y="789"/>
                    </a:lnTo>
                    <a:lnTo>
                      <a:pt x="915" y="786"/>
                    </a:lnTo>
                    <a:lnTo>
                      <a:pt x="889" y="783"/>
                    </a:lnTo>
                    <a:lnTo>
                      <a:pt x="860" y="779"/>
                    </a:lnTo>
                    <a:lnTo>
                      <a:pt x="827" y="775"/>
                    </a:lnTo>
                    <a:lnTo>
                      <a:pt x="788" y="768"/>
                    </a:lnTo>
                    <a:lnTo>
                      <a:pt x="742" y="762"/>
                    </a:lnTo>
                    <a:lnTo>
                      <a:pt x="688" y="755"/>
                    </a:lnTo>
                    <a:lnTo>
                      <a:pt x="623" y="746"/>
                    </a:lnTo>
                    <a:lnTo>
                      <a:pt x="548" y="737"/>
                    </a:lnTo>
                    <a:lnTo>
                      <a:pt x="461" y="725"/>
                    </a:lnTo>
                    <a:lnTo>
                      <a:pt x="398" y="715"/>
                    </a:lnTo>
                    <a:lnTo>
                      <a:pt x="343" y="700"/>
                    </a:lnTo>
                    <a:lnTo>
                      <a:pt x="295" y="683"/>
                    </a:lnTo>
                    <a:lnTo>
                      <a:pt x="253" y="664"/>
                    </a:lnTo>
                    <a:lnTo>
                      <a:pt x="215" y="642"/>
                    </a:lnTo>
                    <a:lnTo>
                      <a:pt x="183" y="620"/>
                    </a:lnTo>
                    <a:lnTo>
                      <a:pt x="155" y="597"/>
                    </a:lnTo>
                    <a:lnTo>
                      <a:pt x="130" y="572"/>
                    </a:lnTo>
                    <a:lnTo>
                      <a:pt x="109" y="548"/>
                    </a:lnTo>
                    <a:lnTo>
                      <a:pt x="90" y="524"/>
                    </a:lnTo>
                    <a:lnTo>
                      <a:pt x="74" y="500"/>
                    </a:lnTo>
                    <a:lnTo>
                      <a:pt x="58" y="479"/>
                    </a:lnTo>
                    <a:lnTo>
                      <a:pt x="44" y="458"/>
                    </a:lnTo>
                    <a:lnTo>
                      <a:pt x="29" y="440"/>
                    </a:lnTo>
                    <a:lnTo>
                      <a:pt x="15" y="426"/>
                    </a:lnTo>
                    <a:lnTo>
                      <a:pt x="0" y="414"/>
                    </a:lnTo>
                    <a:lnTo>
                      <a:pt x="11" y="369"/>
                    </a:lnTo>
                    <a:lnTo>
                      <a:pt x="27" y="325"/>
                    </a:lnTo>
                    <a:lnTo>
                      <a:pt x="45" y="283"/>
                    </a:lnTo>
                    <a:lnTo>
                      <a:pt x="66" y="242"/>
                    </a:lnTo>
                    <a:lnTo>
                      <a:pt x="91" y="203"/>
                    </a:lnTo>
                    <a:lnTo>
                      <a:pt x="119" y="168"/>
                    </a:lnTo>
                    <a:lnTo>
                      <a:pt x="150" y="134"/>
                    </a:lnTo>
                    <a:lnTo>
                      <a:pt x="184" y="104"/>
                    </a:lnTo>
                    <a:lnTo>
                      <a:pt x="220" y="76"/>
                    </a:lnTo>
                    <a:lnTo>
                      <a:pt x="261" y="53"/>
                    </a:lnTo>
                    <a:lnTo>
                      <a:pt x="304" y="34"/>
                    </a:lnTo>
                    <a:lnTo>
                      <a:pt x="350" y="17"/>
                    </a:lnTo>
                    <a:lnTo>
                      <a:pt x="397" y="7"/>
                    </a:lnTo>
                    <a:lnTo>
                      <a:pt x="449" y="1"/>
                    </a:lnTo>
                    <a:lnTo>
                      <a:pt x="504" y="0"/>
                    </a:lnTo>
                    <a:lnTo>
                      <a:pt x="560" y="5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529040" y="4353840"/>
                <a:ext cx="109080" cy="47160"/>
              </a:xfrm>
              <a:custGeom>
                <a:avLst/>
                <a:gdLst/>
                <a:ahLst/>
                <a:rect l="l" t="t" r="r" b="b"/>
                <a:pathLst>
                  <a:path w="1584" h="828">
                    <a:moveTo>
                      <a:pt x="542" y="5"/>
                    </a:moveTo>
                    <a:lnTo>
                      <a:pt x="578" y="10"/>
                    </a:lnTo>
                    <a:lnTo>
                      <a:pt x="609" y="14"/>
                    </a:lnTo>
                    <a:lnTo>
                      <a:pt x="636" y="18"/>
                    </a:lnTo>
                    <a:lnTo>
                      <a:pt x="659" y="21"/>
                    </a:lnTo>
                    <a:lnTo>
                      <a:pt x="680" y="24"/>
                    </a:lnTo>
                    <a:lnTo>
                      <a:pt x="702" y="27"/>
                    </a:lnTo>
                    <a:lnTo>
                      <a:pt x="724" y="30"/>
                    </a:lnTo>
                    <a:lnTo>
                      <a:pt x="749" y="33"/>
                    </a:lnTo>
                    <a:lnTo>
                      <a:pt x="777" y="37"/>
                    </a:lnTo>
                    <a:lnTo>
                      <a:pt x="809" y="41"/>
                    </a:lnTo>
                    <a:lnTo>
                      <a:pt x="847" y="46"/>
                    </a:lnTo>
                    <a:lnTo>
                      <a:pt x="892" y="52"/>
                    </a:lnTo>
                    <a:lnTo>
                      <a:pt x="945" y="59"/>
                    </a:lnTo>
                    <a:lnTo>
                      <a:pt x="1007" y="68"/>
                    </a:lnTo>
                    <a:lnTo>
                      <a:pt x="1080" y="78"/>
                    </a:lnTo>
                    <a:lnTo>
                      <a:pt x="1165" y="89"/>
                    </a:lnTo>
                    <a:lnTo>
                      <a:pt x="1219" y="99"/>
                    </a:lnTo>
                    <a:lnTo>
                      <a:pt x="1270" y="112"/>
                    </a:lnTo>
                    <a:lnTo>
                      <a:pt x="1316" y="131"/>
                    </a:lnTo>
                    <a:lnTo>
                      <a:pt x="1359" y="153"/>
                    </a:lnTo>
                    <a:lnTo>
                      <a:pt x="1398" y="178"/>
                    </a:lnTo>
                    <a:lnTo>
                      <a:pt x="1433" y="207"/>
                    </a:lnTo>
                    <a:lnTo>
                      <a:pt x="1464" y="238"/>
                    </a:lnTo>
                    <a:lnTo>
                      <a:pt x="1492" y="273"/>
                    </a:lnTo>
                    <a:lnTo>
                      <a:pt x="1516" y="310"/>
                    </a:lnTo>
                    <a:lnTo>
                      <a:pt x="1536" y="347"/>
                    </a:lnTo>
                    <a:lnTo>
                      <a:pt x="1552" y="388"/>
                    </a:lnTo>
                    <a:lnTo>
                      <a:pt x="1565" y="429"/>
                    </a:lnTo>
                    <a:lnTo>
                      <a:pt x="1575" y="471"/>
                    </a:lnTo>
                    <a:lnTo>
                      <a:pt x="1581" y="515"/>
                    </a:lnTo>
                    <a:lnTo>
                      <a:pt x="1584" y="559"/>
                    </a:lnTo>
                    <a:lnTo>
                      <a:pt x="1583" y="602"/>
                    </a:lnTo>
                    <a:lnTo>
                      <a:pt x="1566" y="621"/>
                    </a:lnTo>
                    <a:lnTo>
                      <a:pt x="1549" y="640"/>
                    </a:lnTo>
                    <a:lnTo>
                      <a:pt x="1532" y="661"/>
                    </a:lnTo>
                    <a:lnTo>
                      <a:pt x="1513" y="683"/>
                    </a:lnTo>
                    <a:lnTo>
                      <a:pt x="1493" y="704"/>
                    </a:lnTo>
                    <a:lnTo>
                      <a:pt x="1470" y="724"/>
                    </a:lnTo>
                    <a:lnTo>
                      <a:pt x="1446" y="745"/>
                    </a:lnTo>
                    <a:lnTo>
                      <a:pt x="1418" y="764"/>
                    </a:lnTo>
                    <a:lnTo>
                      <a:pt x="1388" y="781"/>
                    </a:lnTo>
                    <a:lnTo>
                      <a:pt x="1355" y="796"/>
                    </a:lnTo>
                    <a:lnTo>
                      <a:pt x="1317" y="810"/>
                    </a:lnTo>
                    <a:lnTo>
                      <a:pt x="1277" y="819"/>
                    </a:lnTo>
                    <a:lnTo>
                      <a:pt x="1231" y="826"/>
                    </a:lnTo>
                    <a:lnTo>
                      <a:pt x="1180" y="828"/>
                    </a:lnTo>
                    <a:lnTo>
                      <a:pt x="1125" y="827"/>
                    </a:lnTo>
                    <a:lnTo>
                      <a:pt x="1063" y="821"/>
                    </a:lnTo>
                    <a:lnTo>
                      <a:pt x="1027" y="816"/>
                    </a:lnTo>
                    <a:lnTo>
                      <a:pt x="997" y="812"/>
                    </a:lnTo>
                    <a:lnTo>
                      <a:pt x="970" y="808"/>
                    </a:lnTo>
                    <a:lnTo>
                      <a:pt x="947" y="805"/>
                    </a:lnTo>
                    <a:lnTo>
                      <a:pt x="924" y="802"/>
                    </a:lnTo>
                    <a:lnTo>
                      <a:pt x="902" y="798"/>
                    </a:lnTo>
                    <a:lnTo>
                      <a:pt x="880" y="795"/>
                    </a:lnTo>
                    <a:lnTo>
                      <a:pt x="855" y="792"/>
                    </a:lnTo>
                    <a:lnTo>
                      <a:pt x="827" y="788"/>
                    </a:lnTo>
                    <a:lnTo>
                      <a:pt x="795" y="784"/>
                    </a:lnTo>
                    <a:lnTo>
                      <a:pt x="757" y="779"/>
                    </a:lnTo>
                    <a:lnTo>
                      <a:pt x="713" y="773"/>
                    </a:lnTo>
                    <a:lnTo>
                      <a:pt x="661" y="766"/>
                    </a:lnTo>
                    <a:lnTo>
                      <a:pt x="598" y="758"/>
                    </a:lnTo>
                    <a:lnTo>
                      <a:pt x="525" y="748"/>
                    </a:lnTo>
                    <a:lnTo>
                      <a:pt x="440" y="736"/>
                    </a:lnTo>
                    <a:lnTo>
                      <a:pt x="380" y="726"/>
                    </a:lnTo>
                    <a:lnTo>
                      <a:pt x="326" y="712"/>
                    </a:lnTo>
                    <a:lnTo>
                      <a:pt x="278" y="695"/>
                    </a:lnTo>
                    <a:lnTo>
                      <a:pt x="235" y="675"/>
                    </a:lnTo>
                    <a:lnTo>
                      <a:pt x="199" y="653"/>
                    </a:lnTo>
                    <a:lnTo>
                      <a:pt x="166" y="630"/>
                    </a:lnTo>
                    <a:lnTo>
                      <a:pt x="138" y="604"/>
                    </a:lnTo>
                    <a:lnTo>
                      <a:pt x="114" y="578"/>
                    </a:lnTo>
                    <a:lnTo>
                      <a:pt x="92" y="551"/>
                    </a:lnTo>
                    <a:lnTo>
                      <a:pt x="75" y="525"/>
                    </a:lnTo>
                    <a:lnTo>
                      <a:pt x="59" y="499"/>
                    </a:lnTo>
                    <a:lnTo>
                      <a:pt x="46" y="474"/>
                    </a:lnTo>
                    <a:lnTo>
                      <a:pt x="33" y="450"/>
                    </a:lnTo>
                    <a:lnTo>
                      <a:pt x="22" y="427"/>
                    </a:lnTo>
                    <a:lnTo>
                      <a:pt x="10" y="407"/>
                    </a:lnTo>
                    <a:lnTo>
                      <a:pt x="0" y="390"/>
                    </a:lnTo>
                    <a:lnTo>
                      <a:pt x="11" y="347"/>
                    </a:lnTo>
                    <a:lnTo>
                      <a:pt x="26" y="306"/>
                    </a:lnTo>
                    <a:lnTo>
                      <a:pt x="44" y="266"/>
                    </a:lnTo>
                    <a:lnTo>
                      <a:pt x="63" y="227"/>
                    </a:lnTo>
                    <a:lnTo>
                      <a:pt x="87" y="192"/>
                    </a:lnTo>
                    <a:lnTo>
                      <a:pt x="114" y="157"/>
                    </a:lnTo>
                    <a:lnTo>
                      <a:pt x="144" y="126"/>
                    </a:lnTo>
                    <a:lnTo>
                      <a:pt x="178" y="96"/>
                    </a:lnTo>
                    <a:lnTo>
                      <a:pt x="213" y="71"/>
                    </a:lnTo>
                    <a:lnTo>
                      <a:pt x="252" y="48"/>
                    </a:lnTo>
                    <a:lnTo>
                      <a:pt x="293" y="30"/>
                    </a:lnTo>
                    <a:lnTo>
                      <a:pt x="338" y="16"/>
                    </a:lnTo>
                    <a:lnTo>
                      <a:pt x="385" y="6"/>
                    </a:lnTo>
                    <a:lnTo>
                      <a:pt x="435" y="1"/>
                    </a:lnTo>
                    <a:lnTo>
                      <a:pt x="487" y="0"/>
                    </a:lnTo>
                    <a:lnTo>
                      <a:pt x="542" y="5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530120" y="4354920"/>
                <a:ext cx="106200" cy="48960"/>
              </a:xfrm>
              <a:custGeom>
                <a:avLst/>
                <a:gdLst/>
                <a:ahLst/>
                <a:rect l="l" t="t" r="r" b="b"/>
                <a:pathLst>
                  <a:path w="1535" h="837">
                    <a:moveTo>
                      <a:pt x="523" y="5"/>
                    </a:moveTo>
                    <a:lnTo>
                      <a:pt x="559" y="10"/>
                    </a:lnTo>
                    <a:lnTo>
                      <a:pt x="588" y="13"/>
                    </a:lnTo>
                    <a:lnTo>
                      <a:pt x="614" y="17"/>
                    </a:lnTo>
                    <a:lnTo>
                      <a:pt x="637" y="20"/>
                    </a:lnTo>
                    <a:lnTo>
                      <a:pt x="657" y="23"/>
                    </a:lnTo>
                    <a:lnTo>
                      <a:pt x="678" y="25"/>
                    </a:lnTo>
                    <a:lnTo>
                      <a:pt x="700" y="28"/>
                    </a:lnTo>
                    <a:lnTo>
                      <a:pt x="724" y="31"/>
                    </a:lnTo>
                    <a:lnTo>
                      <a:pt x="751" y="36"/>
                    </a:lnTo>
                    <a:lnTo>
                      <a:pt x="782" y="40"/>
                    </a:lnTo>
                    <a:lnTo>
                      <a:pt x="819" y="45"/>
                    </a:lnTo>
                    <a:lnTo>
                      <a:pt x="862" y="51"/>
                    </a:lnTo>
                    <a:lnTo>
                      <a:pt x="914" y="57"/>
                    </a:lnTo>
                    <a:lnTo>
                      <a:pt x="975" y="65"/>
                    </a:lnTo>
                    <a:lnTo>
                      <a:pt x="1045" y="74"/>
                    </a:lnTo>
                    <a:lnTo>
                      <a:pt x="1127" y="85"/>
                    </a:lnTo>
                    <a:lnTo>
                      <a:pt x="1180" y="94"/>
                    </a:lnTo>
                    <a:lnTo>
                      <a:pt x="1229" y="109"/>
                    </a:lnTo>
                    <a:lnTo>
                      <a:pt x="1273" y="126"/>
                    </a:lnTo>
                    <a:lnTo>
                      <a:pt x="1315" y="147"/>
                    </a:lnTo>
                    <a:lnTo>
                      <a:pt x="1353" y="172"/>
                    </a:lnTo>
                    <a:lnTo>
                      <a:pt x="1387" y="199"/>
                    </a:lnTo>
                    <a:lnTo>
                      <a:pt x="1417" y="229"/>
                    </a:lnTo>
                    <a:lnTo>
                      <a:pt x="1444" y="261"/>
                    </a:lnTo>
                    <a:lnTo>
                      <a:pt x="1467" y="296"/>
                    </a:lnTo>
                    <a:lnTo>
                      <a:pt x="1487" y="332"/>
                    </a:lnTo>
                    <a:lnTo>
                      <a:pt x="1503" y="370"/>
                    </a:lnTo>
                    <a:lnTo>
                      <a:pt x="1516" y="410"/>
                    </a:lnTo>
                    <a:lnTo>
                      <a:pt x="1525" y="449"/>
                    </a:lnTo>
                    <a:lnTo>
                      <a:pt x="1532" y="490"/>
                    </a:lnTo>
                    <a:lnTo>
                      <a:pt x="1535" y="532"/>
                    </a:lnTo>
                    <a:lnTo>
                      <a:pt x="1534" y="573"/>
                    </a:lnTo>
                    <a:lnTo>
                      <a:pt x="1520" y="597"/>
                    </a:lnTo>
                    <a:lnTo>
                      <a:pt x="1506" y="621"/>
                    </a:lnTo>
                    <a:lnTo>
                      <a:pt x="1490" y="646"/>
                    </a:lnTo>
                    <a:lnTo>
                      <a:pt x="1472" y="672"/>
                    </a:lnTo>
                    <a:lnTo>
                      <a:pt x="1452" y="696"/>
                    </a:lnTo>
                    <a:lnTo>
                      <a:pt x="1431" y="721"/>
                    </a:lnTo>
                    <a:lnTo>
                      <a:pt x="1406" y="743"/>
                    </a:lnTo>
                    <a:lnTo>
                      <a:pt x="1378" y="764"/>
                    </a:lnTo>
                    <a:lnTo>
                      <a:pt x="1347" y="784"/>
                    </a:lnTo>
                    <a:lnTo>
                      <a:pt x="1313" y="801"/>
                    </a:lnTo>
                    <a:lnTo>
                      <a:pt x="1276" y="815"/>
                    </a:lnTo>
                    <a:lnTo>
                      <a:pt x="1234" y="826"/>
                    </a:lnTo>
                    <a:lnTo>
                      <a:pt x="1188" y="833"/>
                    </a:lnTo>
                    <a:lnTo>
                      <a:pt x="1138" y="837"/>
                    </a:lnTo>
                    <a:lnTo>
                      <a:pt x="1083" y="837"/>
                    </a:lnTo>
                    <a:lnTo>
                      <a:pt x="1024" y="830"/>
                    </a:lnTo>
                    <a:lnTo>
                      <a:pt x="988" y="825"/>
                    </a:lnTo>
                    <a:lnTo>
                      <a:pt x="959" y="821"/>
                    </a:lnTo>
                    <a:lnTo>
                      <a:pt x="933" y="818"/>
                    </a:lnTo>
                    <a:lnTo>
                      <a:pt x="910" y="815"/>
                    </a:lnTo>
                    <a:lnTo>
                      <a:pt x="889" y="812"/>
                    </a:lnTo>
                    <a:lnTo>
                      <a:pt x="868" y="809"/>
                    </a:lnTo>
                    <a:lnTo>
                      <a:pt x="846" y="806"/>
                    </a:lnTo>
                    <a:lnTo>
                      <a:pt x="823" y="803"/>
                    </a:lnTo>
                    <a:lnTo>
                      <a:pt x="796" y="800"/>
                    </a:lnTo>
                    <a:lnTo>
                      <a:pt x="765" y="795"/>
                    </a:lnTo>
                    <a:lnTo>
                      <a:pt x="727" y="791"/>
                    </a:lnTo>
                    <a:lnTo>
                      <a:pt x="684" y="785"/>
                    </a:lnTo>
                    <a:lnTo>
                      <a:pt x="633" y="778"/>
                    </a:lnTo>
                    <a:lnTo>
                      <a:pt x="573" y="769"/>
                    </a:lnTo>
                    <a:lnTo>
                      <a:pt x="502" y="760"/>
                    </a:lnTo>
                    <a:lnTo>
                      <a:pt x="420" y="749"/>
                    </a:lnTo>
                    <a:lnTo>
                      <a:pt x="362" y="739"/>
                    </a:lnTo>
                    <a:lnTo>
                      <a:pt x="309" y="725"/>
                    </a:lnTo>
                    <a:lnTo>
                      <a:pt x="262" y="707"/>
                    </a:lnTo>
                    <a:lnTo>
                      <a:pt x="220" y="687"/>
                    </a:lnTo>
                    <a:lnTo>
                      <a:pt x="183" y="665"/>
                    </a:lnTo>
                    <a:lnTo>
                      <a:pt x="151" y="639"/>
                    </a:lnTo>
                    <a:lnTo>
                      <a:pt x="123" y="613"/>
                    </a:lnTo>
                    <a:lnTo>
                      <a:pt x="99" y="585"/>
                    </a:lnTo>
                    <a:lnTo>
                      <a:pt x="78" y="557"/>
                    </a:lnTo>
                    <a:lnTo>
                      <a:pt x="60" y="528"/>
                    </a:lnTo>
                    <a:lnTo>
                      <a:pt x="46" y="498"/>
                    </a:lnTo>
                    <a:lnTo>
                      <a:pt x="33" y="470"/>
                    </a:lnTo>
                    <a:lnTo>
                      <a:pt x="23" y="442"/>
                    </a:lnTo>
                    <a:lnTo>
                      <a:pt x="13" y="416"/>
                    </a:lnTo>
                    <a:lnTo>
                      <a:pt x="6" y="390"/>
                    </a:lnTo>
                    <a:lnTo>
                      <a:pt x="0" y="368"/>
                    </a:lnTo>
                    <a:lnTo>
                      <a:pt x="10" y="327"/>
                    </a:lnTo>
                    <a:lnTo>
                      <a:pt x="25" y="289"/>
                    </a:lnTo>
                    <a:lnTo>
                      <a:pt x="41" y="251"/>
                    </a:lnTo>
                    <a:lnTo>
                      <a:pt x="61" y="214"/>
                    </a:lnTo>
                    <a:lnTo>
                      <a:pt x="84" y="180"/>
                    </a:lnTo>
                    <a:lnTo>
                      <a:pt x="110" y="147"/>
                    </a:lnTo>
                    <a:lnTo>
                      <a:pt x="139" y="118"/>
                    </a:lnTo>
                    <a:lnTo>
                      <a:pt x="170" y="90"/>
                    </a:lnTo>
                    <a:lnTo>
                      <a:pt x="205" y="66"/>
                    </a:lnTo>
                    <a:lnTo>
                      <a:pt x="242" y="46"/>
                    </a:lnTo>
                    <a:lnTo>
                      <a:pt x="283" y="28"/>
                    </a:lnTo>
                    <a:lnTo>
                      <a:pt x="325" y="14"/>
                    </a:lnTo>
                    <a:lnTo>
                      <a:pt x="371" y="5"/>
                    </a:lnTo>
                    <a:lnTo>
                      <a:pt x="419" y="0"/>
                    </a:lnTo>
                    <a:lnTo>
                      <a:pt x="470" y="0"/>
                    </a:lnTo>
                    <a:lnTo>
                      <a:pt x="523" y="5"/>
                    </a:lnTo>
                    <a:close/>
                  </a:path>
                </a:pathLst>
              </a:custGeom>
              <a:solidFill>
                <a:srgbClr val="7d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531920" y="4357800"/>
                <a:ext cx="103320" cy="47520"/>
              </a:xfrm>
              <a:custGeom>
                <a:avLst/>
                <a:gdLst/>
                <a:ahLst/>
                <a:rect l="l" t="t" r="r" b="b"/>
                <a:pathLst>
                  <a:path w="1485" h="847">
                    <a:moveTo>
                      <a:pt x="505" y="5"/>
                    </a:moveTo>
                    <a:lnTo>
                      <a:pt x="539" y="10"/>
                    </a:lnTo>
                    <a:lnTo>
                      <a:pt x="568" y="14"/>
                    </a:lnTo>
                    <a:lnTo>
                      <a:pt x="593" y="18"/>
                    </a:lnTo>
                    <a:lnTo>
                      <a:pt x="616" y="21"/>
                    </a:lnTo>
                    <a:lnTo>
                      <a:pt x="636" y="23"/>
                    </a:lnTo>
                    <a:lnTo>
                      <a:pt x="655" y="26"/>
                    </a:lnTo>
                    <a:lnTo>
                      <a:pt x="677" y="29"/>
                    </a:lnTo>
                    <a:lnTo>
                      <a:pt x="700" y="32"/>
                    </a:lnTo>
                    <a:lnTo>
                      <a:pt x="726" y="35"/>
                    </a:lnTo>
                    <a:lnTo>
                      <a:pt x="756" y="39"/>
                    </a:lnTo>
                    <a:lnTo>
                      <a:pt x="792" y="44"/>
                    </a:lnTo>
                    <a:lnTo>
                      <a:pt x="833" y="49"/>
                    </a:lnTo>
                    <a:lnTo>
                      <a:pt x="883" y="56"/>
                    </a:lnTo>
                    <a:lnTo>
                      <a:pt x="941" y="64"/>
                    </a:lnTo>
                    <a:lnTo>
                      <a:pt x="1010" y="74"/>
                    </a:lnTo>
                    <a:lnTo>
                      <a:pt x="1089" y="84"/>
                    </a:lnTo>
                    <a:lnTo>
                      <a:pt x="1140" y="93"/>
                    </a:lnTo>
                    <a:lnTo>
                      <a:pt x="1188" y="106"/>
                    </a:lnTo>
                    <a:lnTo>
                      <a:pt x="1232" y="122"/>
                    </a:lnTo>
                    <a:lnTo>
                      <a:pt x="1271" y="143"/>
                    </a:lnTo>
                    <a:lnTo>
                      <a:pt x="1308" y="165"/>
                    </a:lnTo>
                    <a:lnTo>
                      <a:pt x="1341" y="192"/>
                    </a:lnTo>
                    <a:lnTo>
                      <a:pt x="1370" y="220"/>
                    </a:lnTo>
                    <a:lnTo>
                      <a:pt x="1396" y="250"/>
                    </a:lnTo>
                    <a:lnTo>
                      <a:pt x="1419" y="283"/>
                    </a:lnTo>
                    <a:lnTo>
                      <a:pt x="1439" y="318"/>
                    </a:lnTo>
                    <a:lnTo>
                      <a:pt x="1454" y="354"/>
                    </a:lnTo>
                    <a:lnTo>
                      <a:pt x="1467" y="391"/>
                    </a:lnTo>
                    <a:lnTo>
                      <a:pt x="1476" y="429"/>
                    </a:lnTo>
                    <a:lnTo>
                      <a:pt x="1483" y="468"/>
                    </a:lnTo>
                    <a:lnTo>
                      <a:pt x="1485" y="507"/>
                    </a:lnTo>
                    <a:lnTo>
                      <a:pt x="1485" y="546"/>
                    </a:lnTo>
                    <a:lnTo>
                      <a:pt x="1474" y="575"/>
                    </a:lnTo>
                    <a:lnTo>
                      <a:pt x="1462" y="604"/>
                    </a:lnTo>
                    <a:lnTo>
                      <a:pt x="1448" y="634"/>
                    </a:lnTo>
                    <a:lnTo>
                      <a:pt x="1431" y="662"/>
                    </a:lnTo>
                    <a:lnTo>
                      <a:pt x="1412" y="691"/>
                    </a:lnTo>
                    <a:lnTo>
                      <a:pt x="1389" y="717"/>
                    </a:lnTo>
                    <a:lnTo>
                      <a:pt x="1364" y="742"/>
                    </a:lnTo>
                    <a:lnTo>
                      <a:pt x="1337" y="767"/>
                    </a:lnTo>
                    <a:lnTo>
                      <a:pt x="1306" y="788"/>
                    </a:lnTo>
                    <a:lnTo>
                      <a:pt x="1270" y="806"/>
                    </a:lnTo>
                    <a:lnTo>
                      <a:pt x="1233" y="822"/>
                    </a:lnTo>
                    <a:lnTo>
                      <a:pt x="1191" y="834"/>
                    </a:lnTo>
                    <a:lnTo>
                      <a:pt x="1145" y="843"/>
                    </a:lnTo>
                    <a:lnTo>
                      <a:pt x="1097" y="847"/>
                    </a:lnTo>
                    <a:lnTo>
                      <a:pt x="1042" y="846"/>
                    </a:lnTo>
                    <a:lnTo>
                      <a:pt x="985" y="841"/>
                    </a:lnTo>
                    <a:lnTo>
                      <a:pt x="952" y="837"/>
                    </a:lnTo>
                    <a:lnTo>
                      <a:pt x="923" y="833"/>
                    </a:lnTo>
                    <a:lnTo>
                      <a:pt x="898" y="829"/>
                    </a:lnTo>
                    <a:lnTo>
                      <a:pt x="875" y="826"/>
                    </a:lnTo>
                    <a:lnTo>
                      <a:pt x="854" y="824"/>
                    </a:lnTo>
                    <a:lnTo>
                      <a:pt x="834" y="821"/>
                    </a:lnTo>
                    <a:lnTo>
                      <a:pt x="812" y="818"/>
                    </a:lnTo>
                    <a:lnTo>
                      <a:pt x="790" y="815"/>
                    </a:lnTo>
                    <a:lnTo>
                      <a:pt x="764" y="812"/>
                    </a:lnTo>
                    <a:lnTo>
                      <a:pt x="733" y="807"/>
                    </a:lnTo>
                    <a:lnTo>
                      <a:pt x="698" y="802"/>
                    </a:lnTo>
                    <a:lnTo>
                      <a:pt x="656" y="797"/>
                    </a:lnTo>
                    <a:lnTo>
                      <a:pt x="607" y="790"/>
                    </a:lnTo>
                    <a:lnTo>
                      <a:pt x="549" y="782"/>
                    </a:lnTo>
                    <a:lnTo>
                      <a:pt x="480" y="773"/>
                    </a:lnTo>
                    <a:lnTo>
                      <a:pt x="401" y="763"/>
                    </a:lnTo>
                    <a:lnTo>
                      <a:pt x="344" y="753"/>
                    </a:lnTo>
                    <a:lnTo>
                      <a:pt x="292" y="738"/>
                    </a:lnTo>
                    <a:lnTo>
                      <a:pt x="245" y="721"/>
                    </a:lnTo>
                    <a:lnTo>
                      <a:pt x="204" y="700"/>
                    </a:lnTo>
                    <a:lnTo>
                      <a:pt x="167" y="676"/>
                    </a:lnTo>
                    <a:lnTo>
                      <a:pt x="135" y="651"/>
                    </a:lnTo>
                    <a:lnTo>
                      <a:pt x="107" y="622"/>
                    </a:lnTo>
                    <a:lnTo>
                      <a:pt x="82" y="593"/>
                    </a:lnTo>
                    <a:lnTo>
                      <a:pt x="62" y="563"/>
                    </a:lnTo>
                    <a:lnTo>
                      <a:pt x="44" y="531"/>
                    </a:lnTo>
                    <a:lnTo>
                      <a:pt x="31" y="498"/>
                    </a:lnTo>
                    <a:lnTo>
                      <a:pt x="19" y="467"/>
                    </a:lnTo>
                    <a:lnTo>
                      <a:pt x="11" y="435"/>
                    </a:lnTo>
                    <a:lnTo>
                      <a:pt x="5" y="405"/>
                    </a:lnTo>
                    <a:lnTo>
                      <a:pt x="2" y="375"/>
                    </a:lnTo>
                    <a:lnTo>
                      <a:pt x="0" y="347"/>
                    </a:lnTo>
                    <a:lnTo>
                      <a:pt x="10" y="309"/>
                    </a:lnTo>
                    <a:lnTo>
                      <a:pt x="23" y="272"/>
                    </a:lnTo>
                    <a:lnTo>
                      <a:pt x="39" y="236"/>
                    </a:lnTo>
                    <a:lnTo>
                      <a:pt x="58" y="202"/>
                    </a:lnTo>
                    <a:lnTo>
                      <a:pt x="81" y="170"/>
                    </a:lnTo>
                    <a:lnTo>
                      <a:pt x="106" y="140"/>
                    </a:lnTo>
                    <a:lnTo>
                      <a:pt x="133" y="111"/>
                    </a:lnTo>
                    <a:lnTo>
                      <a:pt x="164" y="86"/>
                    </a:lnTo>
                    <a:lnTo>
                      <a:pt x="197" y="62"/>
                    </a:lnTo>
                    <a:lnTo>
                      <a:pt x="234" y="43"/>
                    </a:lnTo>
                    <a:lnTo>
                      <a:pt x="272" y="27"/>
                    </a:lnTo>
                    <a:lnTo>
                      <a:pt x="314" y="15"/>
                    </a:lnTo>
                    <a:lnTo>
                      <a:pt x="358" y="5"/>
                    </a:lnTo>
                    <a:lnTo>
                      <a:pt x="404" y="1"/>
                    </a:lnTo>
                    <a:lnTo>
                      <a:pt x="453" y="0"/>
                    </a:lnTo>
                    <a:lnTo>
                      <a:pt x="505" y="5"/>
                    </a:lnTo>
                    <a:close/>
                  </a:path>
                </a:pathLst>
              </a:custGeom>
              <a:solidFill>
                <a:srgbClr val="87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533000" y="4358880"/>
                <a:ext cx="99000" cy="48960"/>
              </a:xfrm>
              <a:custGeom>
                <a:avLst/>
                <a:gdLst/>
                <a:ahLst/>
                <a:rect l="l" t="t" r="r" b="b"/>
                <a:pathLst>
                  <a:path w="1437" h="855">
                    <a:moveTo>
                      <a:pt x="490" y="5"/>
                    </a:moveTo>
                    <a:lnTo>
                      <a:pt x="522" y="9"/>
                    </a:lnTo>
                    <a:lnTo>
                      <a:pt x="550" y="13"/>
                    </a:lnTo>
                    <a:lnTo>
                      <a:pt x="574" y="16"/>
                    </a:lnTo>
                    <a:lnTo>
                      <a:pt x="596" y="19"/>
                    </a:lnTo>
                    <a:lnTo>
                      <a:pt x="615" y="21"/>
                    </a:lnTo>
                    <a:lnTo>
                      <a:pt x="634" y="24"/>
                    </a:lnTo>
                    <a:lnTo>
                      <a:pt x="654" y="26"/>
                    </a:lnTo>
                    <a:lnTo>
                      <a:pt x="677" y="29"/>
                    </a:lnTo>
                    <a:lnTo>
                      <a:pt x="702" y="33"/>
                    </a:lnTo>
                    <a:lnTo>
                      <a:pt x="731" y="36"/>
                    </a:lnTo>
                    <a:lnTo>
                      <a:pt x="765" y="42"/>
                    </a:lnTo>
                    <a:lnTo>
                      <a:pt x="807" y="47"/>
                    </a:lnTo>
                    <a:lnTo>
                      <a:pt x="855" y="54"/>
                    </a:lnTo>
                    <a:lnTo>
                      <a:pt x="911" y="61"/>
                    </a:lnTo>
                    <a:lnTo>
                      <a:pt x="978" y="70"/>
                    </a:lnTo>
                    <a:lnTo>
                      <a:pt x="1055" y="80"/>
                    </a:lnTo>
                    <a:lnTo>
                      <a:pt x="1104" y="89"/>
                    </a:lnTo>
                    <a:lnTo>
                      <a:pt x="1149" y="102"/>
                    </a:lnTo>
                    <a:lnTo>
                      <a:pt x="1192" y="117"/>
                    </a:lnTo>
                    <a:lnTo>
                      <a:pt x="1231" y="136"/>
                    </a:lnTo>
                    <a:lnTo>
                      <a:pt x="1266" y="157"/>
                    </a:lnTo>
                    <a:lnTo>
                      <a:pt x="1297" y="182"/>
                    </a:lnTo>
                    <a:lnTo>
                      <a:pt x="1326" y="209"/>
                    </a:lnTo>
                    <a:lnTo>
                      <a:pt x="1351" y="238"/>
                    </a:lnTo>
                    <a:lnTo>
                      <a:pt x="1373" y="269"/>
                    </a:lnTo>
                    <a:lnTo>
                      <a:pt x="1392" y="301"/>
                    </a:lnTo>
                    <a:lnTo>
                      <a:pt x="1408" y="335"/>
                    </a:lnTo>
                    <a:lnTo>
                      <a:pt x="1420" y="370"/>
                    </a:lnTo>
                    <a:lnTo>
                      <a:pt x="1428" y="405"/>
                    </a:lnTo>
                    <a:lnTo>
                      <a:pt x="1435" y="442"/>
                    </a:lnTo>
                    <a:lnTo>
                      <a:pt x="1437" y="480"/>
                    </a:lnTo>
                    <a:lnTo>
                      <a:pt x="1437" y="516"/>
                    </a:lnTo>
                    <a:lnTo>
                      <a:pt x="1430" y="550"/>
                    </a:lnTo>
                    <a:lnTo>
                      <a:pt x="1420" y="584"/>
                    </a:lnTo>
                    <a:lnTo>
                      <a:pt x="1408" y="617"/>
                    </a:lnTo>
                    <a:lnTo>
                      <a:pt x="1392" y="650"/>
                    </a:lnTo>
                    <a:lnTo>
                      <a:pt x="1373" y="682"/>
                    </a:lnTo>
                    <a:lnTo>
                      <a:pt x="1351" y="711"/>
                    </a:lnTo>
                    <a:lnTo>
                      <a:pt x="1326" y="740"/>
                    </a:lnTo>
                    <a:lnTo>
                      <a:pt x="1297" y="765"/>
                    </a:lnTo>
                    <a:lnTo>
                      <a:pt x="1266" y="789"/>
                    </a:lnTo>
                    <a:lnTo>
                      <a:pt x="1231" y="809"/>
                    </a:lnTo>
                    <a:lnTo>
                      <a:pt x="1192" y="826"/>
                    </a:lnTo>
                    <a:lnTo>
                      <a:pt x="1150" y="840"/>
                    </a:lnTo>
                    <a:lnTo>
                      <a:pt x="1105" y="850"/>
                    </a:lnTo>
                    <a:lnTo>
                      <a:pt x="1056" y="855"/>
                    </a:lnTo>
                    <a:lnTo>
                      <a:pt x="1004" y="855"/>
                    </a:lnTo>
                    <a:lnTo>
                      <a:pt x="948" y="850"/>
                    </a:lnTo>
                    <a:lnTo>
                      <a:pt x="915" y="846"/>
                    </a:lnTo>
                    <a:lnTo>
                      <a:pt x="887" y="842"/>
                    </a:lnTo>
                    <a:lnTo>
                      <a:pt x="863" y="838"/>
                    </a:lnTo>
                    <a:lnTo>
                      <a:pt x="841" y="835"/>
                    </a:lnTo>
                    <a:lnTo>
                      <a:pt x="822" y="832"/>
                    </a:lnTo>
                    <a:lnTo>
                      <a:pt x="802" y="830"/>
                    </a:lnTo>
                    <a:lnTo>
                      <a:pt x="781" y="827"/>
                    </a:lnTo>
                    <a:lnTo>
                      <a:pt x="759" y="824"/>
                    </a:lnTo>
                    <a:lnTo>
                      <a:pt x="734" y="821"/>
                    </a:lnTo>
                    <a:lnTo>
                      <a:pt x="704" y="817"/>
                    </a:lnTo>
                    <a:lnTo>
                      <a:pt x="670" y="812"/>
                    </a:lnTo>
                    <a:lnTo>
                      <a:pt x="629" y="807"/>
                    </a:lnTo>
                    <a:lnTo>
                      <a:pt x="582" y="800"/>
                    </a:lnTo>
                    <a:lnTo>
                      <a:pt x="526" y="793"/>
                    </a:lnTo>
                    <a:lnTo>
                      <a:pt x="459" y="784"/>
                    </a:lnTo>
                    <a:lnTo>
                      <a:pt x="382" y="773"/>
                    </a:lnTo>
                    <a:lnTo>
                      <a:pt x="327" y="763"/>
                    </a:lnTo>
                    <a:lnTo>
                      <a:pt x="276" y="749"/>
                    </a:lnTo>
                    <a:lnTo>
                      <a:pt x="231" y="732"/>
                    </a:lnTo>
                    <a:lnTo>
                      <a:pt x="190" y="710"/>
                    </a:lnTo>
                    <a:lnTo>
                      <a:pt x="153" y="686"/>
                    </a:lnTo>
                    <a:lnTo>
                      <a:pt x="120" y="659"/>
                    </a:lnTo>
                    <a:lnTo>
                      <a:pt x="92" y="629"/>
                    </a:lnTo>
                    <a:lnTo>
                      <a:pt x="68" y="599"/>
                    </a:lnTo>
                    <a:lnTo>
                      <a:pt x="48" y="566"/>
                    </a:lnTo>
                    <a:lnTo>
                      <a:pt x="32" y="531"/>
                    </a:lnTo>
                    <a:lnTo>
                      <a:pt x="18" y="497"/>
                    </a:lnTo>
                    <a:lnTo>
                      <a:pt x="9" y="461"/>
                    </a:lnTo>
                    <a:lnTo>
                      <a:pt x="3" y="427"/>
                    </a:lnTo>
                    <a:lnTo>
                      <a:pt x="0" y="391"/>
                    </a:lnTo>
                    <a:lnTo>
                      <a:pt x="0" y="358"/>
                    </a:lnTo>
                    <a:lnTo>
                      <a:pt x="2" y="324"/>
                    </a:lnTo>
                    <a:lnTo>
                      <a:pt x="11" y="289"/>
                    </a:lnTo>
                    <a:lnTo>
                      <a:pt x="23" y="254"/>
                    </a:lnTo>
                    <a:lnTo>
                      <a:pt x="39" y="220"/>
                    </a:lnTo>
                    <a:lnTo>
                      <a:pt x="58" y="188"/>
                    </a:lnTo>
                    <a:lnTo>
                      <a:pt x="80" y="157"/>
                    </a:lnTo>
                    <a:lnTo>
                      <a:pt x="104" y="129"/>
                    </a:lnTo>
                    <a:lnTo>
                      <a:pt x="131" y="103"/>
                    </a:lnTo>
                    <a:lnTo>
                      <a:pt x="160" y="79"/>
                    </a:lnTo>
                    <a:lnTo>
                      <a:pt x="192" y="58"/>
                    </a:lnTo>
                    <a:lnTo>
                      <a:pt x="227" y="40"/>
                    </a:lnTo>
                    <a:lnTo>
                      <a:pt x="265" y="24"/>
                    </a:lnTo>
                    <a:lnTo>
                      <a:pt x="304" y="12"/>
                    </a:lnTo>
                    <a:lnTo>
                      <a:pt x="347" y="4"/>
                    </a:lnTo>
                    <a:lnTo>
                      <a:pt x="392" y="0"/>
                    </a:lnTo>
                    <a:lnTo>
                      <a:pt x="440" y="1"/>
                    </a:lnTo>
                    <a:lnTo>
                      <a:pt x="490" y="5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534800" y="4360320"/>
                <a:ext cx="95760" cy="50040"/>
              </a:xfrm>
              <a:custGeom>
                <a:avLst/>
                <a:gdLst/>
                <a:ahLst/>
                <a:rect l="l" t="t" r="r" b="b"/>
                <a:pathLst>
                  <a:path w="1397" h="865">
                    <a:moveTo>
                      <a:pt x="480" y="5"/>
                    </a:moveTo>
                    <a:lnTo>
                      <a:pt x="1025" y="79"/>
                    </a:lnTo>
                    <a:lnTo>
                      <a:pt x="1073" y="87"/>
                    </a:lnTo>
                    <a:lnTo>
                      <a:pt x="1117" y="99"/>
                    </a:lnTo>
                    <a:lnTo>
                      <a:pt x="1158" y="114"/>
                    </a:lnTo>
                    <a:lnTo>
                      <a:pt x="1196" y="131"/>
                    </a:lnTo>
                    <a:lnTo>
                      <a:pt x="1230" y="153"/>
                    </a:lnTo>
                    <a:lnTo>
                      <a:pt x="1261" y="175"/>
                    </a:lnTo>
                    <a:lnTo>
                      <a:pt x="1288" y="201"/>
                    </a:lnTo>
                    <a:lnTo>
                      <a:pt x="1313" y="228"/>
                    </a:lnTo>
                    <a:lnTo>
                      <a:pt x="1334" y="256"/>
                    </a:lnTo>
                    <a:lnTo>
                      <a:pt x="1353" y="287"/>
                    </a:lnTo>
                    <a:lnTo>
                      <a:pt x="1368" y="318"/>
                    </a:lnTo>
                    <a:lnTo>
                      <a:pt x="1380" y="352"/>
                    </a:lnTo>
                    <a:lnTo>
                      <a:pt x="1388" y="386"/>
                    </a:lnTo>
                    <a:lnTo>
                      <a:pt x="1395" y="419"/>
                    </a:lnTo>
                    <a:lnTo>
                      <a:pt x="1397" y="454"/>
                    </a:lnTo>
                    <a:lnTo>
                      <a:pt x="1397" y="488"/>
                    </a:lnTo>
                    <a:lnTo>
                      <a:pt x="1393" y="527"/>
                    </a:lnTo>
                    <a:lnTo>
                      <a:pt x="1385" y="565"/>
                    </a:lnTo>
                    <a:lnTo>
                      <a:pt x="1374" y="604"/>
                    </a:lnTo>
                    <a:lnTo>
                      <a:pt x="1359" y="641"/>
                    </a:lnTo>
                    <a:lnTo>
                      <a:pt x="1341" y="675"/>
                    </a:lnTo>
                    <a:lnTo>
                      <a:pt x="1319" y="709"/>
                    </a:lnTo>
                    <a:lnTo>
                      <a:pt x="1294" y="739"/>
                    </a:lnTo>
                    <a:lnTo>
                      <a:pt x="1265" y="768"/>
                    </a:lnTo>
                    <a:lnTo>
                      <a:pt x="1232" y="793"/>
                    </a:lnTo>
                    <a:lnTo>
                      <a:pt x="1197" y="816"/>
                    </a:lnTo>
                    <a:lnTo>
                      <a:pt x="1158" y="834"/>
                    </a:lnTo>
                    <a:lnTo>
                      <a:pt x="1117" y="848"/>
                    </a:lnTo>
                    <a:lnTo>
                      <a:pt x="1071" y="858"/>
                    </a:lnTo>
                    <a:lnTo>
                      <a:pt x="1023" y="864"/>
                    </a:lnTo>
                    <a:lnTo>
                      <a:pt x="971" y="865"/>
                    </a:lnTo>
                    <a:lnTo>
                      <a:pt x="917" y="860"/>
                    </a:lnTo>
                    <a:lnTo>
                      <a:pt x="372" y="787"/>
                    </a:lnTo>
                    <a:lnTo>
                      <a:pt x="318" y="777"/>
                    </a:lnTo>
                    <a:lnTo>
                      <a:pt x="269" y="764"/>
                    </a:lnTo>
                    <a:lnTo>
                      <a:pt x="224" y="745"/>
                    </a:lnTo>
                    <a:lnTo>
                      <a:pt x="182" y="723"/>
                    </a:lnTo>
                    <a:lnTo>
                      <a:pt x="146" y="699"/>
                    </a:lnTo>
                    <a:lnTo>
                      <a:pt x="114" y="670"/>
                    </a:lnTo>
                    <a:lnTo>
                      <a:pt x="86" y="640"/>
                    </a:lnTo>
                    <a:lnTo>
                      <a:pt x="62" y="606"/>
                    </a:lnTo>
                    <a:lnTo>
                      <a:pt x="42" y="572"/>
                    </a:lnTo>
                    <a:lnTo>
                      <a:pt x="25" y="535"/>
                    </a:lnTo>
                    <a:lnTo>
                      <a:pt x="14" y="497"/>
                    </a:lnTo>
                    <a:lnTo>
                      <a:pt x="5" y="459"/>
                    </a:lnTo>
                    <a:lnTo>
                      <a:pt x="1" y="420"/>
                    </a:lnTo>
                    <a:lnTo>
                      <a:pt x="0" y="380"/>
                    </a:lnTo>
                    <a:lnTo>
                      <a:pt x="3" y="342"/>
                    </a:lnTo>
                    <a:lnTo>
                      <a:pt x="11" y="303"/>
                    </a:lnTo>
                    <a:lnTo>
                      <a:pt x="20" y="270"/>
                    </a:lnTo>
                    <a:lnTo>
                      <a:pt x="31" y="237"/>
                    </a:lnTo>
                    <a:lnTo>
                      <a:pt x="47" y="206"/>
                    </a:lnTo>
                    <a:lnTo>
                      <a:pt x="65" y="176"/>
                    </a:lnTo>
                    <a:lnTo>
                      <a:pt x="84" y="148"/>
                    </a:lnTo>
                    <a:lnTo>
                      <a:pt x="108" y="120"/>
                    </a:lnTo>
                    <a:lnTo>
                      <a:pt x="133" y="96"/>
                    </a:lnTo>
                    <a:lnTo>
                      <a:pt x="163" y="74"/>
                    </a:lnTo>
                    <a:lnTo>
                      <a:pt x="193" y="53"/>
                    </a:lnTo>
                    <a:lnTo>
                      <a:pt x="227" y="37"/>
                    </a:lnTo>
                    <a:lnTo>
                      <a:pt x="262" y="23"/>
                    </a:lnTo>
                    <a:lnTo>
                      <a:pt x="301" y="12"/>
                    </a:lnTo>
                    <a:lnTo>
                      <a:pt x="343" y="4"/>
                    </a:lnTo>
                    <a:lnTo>
                      <a:pt x="386" y="0"/>
                    </a:lnTo>
                    <a:lnTo>
                      <a:pt x="432" y="1"/>
                    </a:lnTo>
                    <a:lnTo>
                      <a:pt x="480" y="5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536240" y="4383000"/>
                <a:ext cx="92880" cy="27360"/>
              </a:xfrm>
              <a:custGeom>
                <a:avLst/>
                <a:gdLst/>
                <a:ahLst/>
                <a:rect l="l" t="t" r="r" b="b"/>
                <a:pathLst>
                  <a:path w="1339" h="502">
                    <a:moveTo>
                      <a:pt x="264" y="9"/>
                    </a:moveTo>
                    <a:lnTo>
                      <a:pt x="1133" y="124"/>
                    </a:lnTo>
                    <a:lnTo>
                      <a:pt x="1177" y="132"/>
                    </a:lnTo>
                    <a:lnTo>
                      <a:pt x="1216" y="141"/>
                    </a:lnTo>
                    <a:lnTo>
                      <a:pt x="1248" y="151"/>
                    </a:lnTo>
                    <a:lnTo>
                      <a:pt x="1274" y="162"/>
                    </a:lnTo>
                    <a:lnTo>
                      <a:pt x="1296" y="174"/>
                    </a:lnTo>
                    <a:lnTo>
                      <a:pt x="1312" y="187"/>
                    </a:lnTo>
                    <a:lnTo>
                      <a:pt x="1325" y="202"/>
                    </a:lnTo>
                    <a:lnTo>
                      <a:pt x="1333" y="216"/>
                    </a:lnTo>
                    <a:lnTo>
                      <a:pt x="1337" y="231"/>
                    </a:lnTo>
                    <a:lnTo>
                      <a:pt x="1339" y="246"/>
                    </a:lnTo>
                    <a:lnTo>
                      <a:pt x="1337" y="263"/>
                    </a:lnTo>
                    <a:lnTo>
                      <a:pt x="1333" y="279"/>
                    </a:lnTo>
                    <a:lnTo>
                      <a:pt x="1327" y="294"/>
                    </a:lnTo>
                    <a:lnTo>
                      <a:pt x="1320" y="309"/>
                    </a:lnTo>
                    <a:lnTo>
                      <a:pt x="1310" y="325"/>
                    </a:lnTo>
                    <a:lnTo>
                      <a:pt x="1300" y="340"/>
                    </a:lnTo>
                    <a:lnTo>
                      <a:pt x="1287" y="357"/>
                    </a:lnTo>
                    <a:lnTo>
                      <a:pt x="1274" y="375"/>
                    </a:lnTo>
                    <a:lnTo>
                      <a:pt x="1259" y="392"/>
                    </a:lnTo>
                    <a:lnTo>
                      <a:pt x="1244" y="408"/>
                    </a:lnTo>
                    <a:lnTo>
                      <a:pt x="1227" y="423"/>
                    </a:lnTo>
                    <a:lnTo>
                      <a:pt x="1208" y="439"/>
                    </a:lnTo>
                    <a:lnTo>
                      <a:pt x="1189" y="453"/>
                    </a:lnTo>
                    <a:lnTo>
                      <a:pt x="1166" y="465"/>
                    </a:lnTo>
                    <a:lnTo>
                      <a:pt x="1142" y="476"/>
                    </a:lnTo>
                    <a:lnTo>
                      <a:pt x="1114" y="485"/>
                    </a:lnTo>
                    <a:lnTo>
                      <a:pt x="1083" y="493"/>
                    </a:lnTo>
                    <a:lnTo>
                      <a:pt x="1050" y="499"/>
                    </a:lnTo>
                    <a:lnTo>
                      <a:pt x="1014" y="502"/>
                    </a:lnTo>
                    <a:lnTo>
                      <a:pt x="973" y="502"/>
                    </a:lnTo>
                    <a:lnTo>
                      <a:pt x="929" y="500"/>
                    </a:lnTo>
                    <a:lnTo>
                      <a:pt x="882" y="494"/>
                    </a:lnTo>
                    <a:lnTo>
                      <a:pt x="377" y="427"/>
                    </a:lnTo>
                    <a:lnTo>
                      <a:pt x="330" y="420"/>
                    </a:lnTo>
                    <a:lnTo>
                      <a:pt x="288" y="411"/>
                    </a:lnTo>
                    <a:lnTo>
                      <a:pt x="250" y="400"/>
                    </a:lnTo>
                    <a:lnTo>
                      <a:pt x="216" y="388"/>
                    </a:lnTo>
                    <a:lnTo>
                      <a:pt x="184" y="375"/>
                    </a:lnTo>
                    <a:lnTo>
                      <a:pt x="156" y="360"/>
                    </a:lnTo>
                    <a:lnTo>
                      <a:pt x="132" y="344"/>
                    </a:lnTo>
                    <a:lnTo>
                      <a:pt x="110" y="328"/>
                    </a:lnTo>
                    <a:lnTo>
                      <a:pt x="92" y="309"/>
                    </a:lnTo>
                    <a:lnTo>
                      <a:pt x="75" y="292"/>
                    </a:lnTo>
                    <a:lnTo>
                      <a:pt x="62" y="273"/>
                    </a:lnTo>
                    <a:lnTo>
                      <a:pt x="49" y="254"/>
                    </a:lnTo>
                    <a:lnTo>
                      <a:pt x="39" y="234"/>
                    </a:lnTo>
                    <a:lnTo>
                      <a:pt x="29" y="215"/>
                    </a:lnTo>
                    <a:lnTo>
                      <a:pt x="21" y="196"/>
                    </a:lnTo>
                    <a:lnTo>
                      <a:pt x="15" y="176"/>
                    </a:lnTo>
                    <a:lnTo>
                      <a:pt x="9" y="160"/>
                    </a:lnTo>
                    <a:lnTo>
                      <a:pt x="5" y="143"/>
                    </a:lnTo>
                    <a:lnTo>
                      <a:pt x="2" y="125"/>
                    </a:lnTo>
                    <a:lnTo>
                      <a:pt x="0" y="108"/>
                    </a:lnTo>
                    <a:lnTo>
                      <a:pt x="0" y="92"/>
                    </a:lnTo>
                    <a:lnTo>
                      <a:pt x="2" y="76"/>
                    </a:lnTo>
                    <a:lnTo>
                      <a:pt x="8" y="59"/>
                    </a:lnTo>
                    <a:lnTo>
                      <a:pt x="17" y="45"/>
                    </a:lnTo>
                    <a:lnTo>
                      <a:pt x="29" y="33"/>
                    </a:lnTo>
                    <a:lnTo>
                      <a:pt x="47" y="22"/>
                    </a:lnTo>
                    <a:lnTo>
                      <a:pt x="69" y="13"/>
                    </a:lnTo>
                    <a:lnTo>
                      <a:pt x="96" y="7"/>
                    </a:lnTo>
                    <a:lnTo>
                      <a:pt x="128" y="2"/>
                    </a:lnTo>
                    <a:lnTo>
                      <a:pt x="167" y="0"/>
                    </a:lnTo>
                    <a:lnTo>
                      <a:pt x="212" y="4"/>
                    </a:lnTo>
                    <a:lnTo>
                      <a:pt x="264" y="9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537680" y="4383000"/>
                <a:ext cx="88560" cy="27360"/>
              </a:xfrm>
              <a:custGeom>
                <a:avLst/>
                <a:gdLst/>
                <a:ahLst/>
                <a:rect l="l" t="t" r="r" b="b"/>
                <a:pathLst>
                  <a:path w="1271" h="474">
                    <a:moveTo>
                      <a:pt x="251" y="7"/>
                    </a:moveTo>
                    <a:lnTo>
                      <a:pt x="276" y="10"/>
                    </a:lnTo>
                    <a:lnTo>
                      <a:pt x="299" y="13"/>
                    </a:lnTo>
                    <a:lnTo>
                      <a:pt x="320" y="16"/>
                    </a:lnTo>
                    <a:lnTo>
                      <a:pt x="340" y="19"/>
                    </a:lnTo>
                    <a:lnTo>
                      <a:pt x="358" y="21"/>
                    </a:lnTo>
                    <a:lnTo>
                      <a:pt x="375" y="23"/>
                    </a:lnTo>
                    <a:lnTo>
                      <a:pt x="392" y="25"/>
                    </a:lnTo>
                    <a:lnTo>
                      <a:pt x="407" y="27"/>
                    </a:lnTo>
                    <a:lnTo>
                      <a:pt x="422" y="29"/>
                    </a:lnTo>
                    <a:lnTo>
                      <a:pt x="436" y="31"/>
                    </a:lnTo>
                    <a:lnTo>
                      <a:pt x="451" y="33"/>
                    </a:lnTo>
                    <a:lnTo>
                      <a:pt x="465" y="35"/>
                    </a:lnTo>
                    <a:lnTo>
                      <a:pt x="479" y="37"/>
                    </a:lnTo>
                    <a:lnTo>
                      <a:pt x="495" y="39"/>
                    </a:lnTo>
                    <a:lnTo>
                      <a:pt x="510" y="41"/>
                    </a:lnTo>
                    <a:lnTo>
                      <a:pt x="526" y="43"/>
                    </a:lnTo>
                    <a:lnTo>
                      <a:pt x="544" y="45"/>
                    </a:lnTo>
                    <a:lnTo>
                      <a:pt x="563" y="48"/>
                    </a:lnTo>
                    <a:lnTo>
                      <a:pt x="583" y="52"/>
                    </a:lnTo>
                    <a:lnTo>
                      <a:pt x="606" y="54"/>
                    </a:lnTo>
                    <a:lnTo>
                      <a:pt x="630" y="58"/>
                    </a:lnTo>
                    <a:lnTo>
                      <a:pt x="656" y="61"/>
                    </a:lnTo>
                    <a:lnTo>
                      <a:pt x="684" y="65"/>
                    </a:lnTo>
                    <a:lnTo>
                      <a:pt x="715" y="69"/>
                    </a:lnTo>
                    <a:lnTo>
                      <a:pt x="749" y="73"/>
                    </a:lnTo>
                    <a:lnTo>
                      <a:pt x="785" y="78"/>
                    </a:lnTo>
                    <a:lnTo>
                      <a:pt x="825" y="83"/>
                    </a:lnTo>
                    <a:lnTo>
                      <a:pt x="867" y="89"/>
                    </a:lnTo>
                    <a:lnTo>
                      <a:pt x="913" y="95"/>
                    </a:lnTo>
                    <a:lnTo>
                      <a:pt x="964" y="101"/>
                    </a:lnTo>
                    <a:lnTo>
                      <a:pt x="1017" y="108"/>
                    </a:lnTo>
                    <a:lnTo>
                      <a:pt x="1075" y="117"/>
                    </a:lnTo>
                    <a:lnTo>
                      <a:pt x="1117" y="124"/>
                    </a:lnTo>
                    <a:lnTo>
                      <a:pt x="1153" y="132"/>
                    </a:lnTo>
                    <a:lnTo>
                      <a:pt x="1184" y="141"/>
                    </a:lnTo>
                    <a:lnTo>
                      <a:pt x="1210" y="152"/>
                    </a:lnTo>
                    <a:lnTo>
                      <a:pt x="1229" y="163"/>
                    </a:lnTo>
                    <a:lnTo>
                      <a:pt x="1245" y="176"/>
                    </a:lnTo>
                    <a:lnTo>
                      <a:pt x="1258" y="189"/>
                    </a:lnTo>
                    <a:lnTo>
                      <a:pt x="1265" y="203"/>
                    </a:lnTo>
                    <a:lnTo>
                      <a:pt x="1269" y="217"/>
                    </a:lnTo>
                    <a:lnTo>
                      <a:pt x="1271" y="232"/>
                    </a:lnTo>
                    <a:lnTo>
                      <a:pt x="1269" y="247"/>
                    </a:lnTo>
                    <a:lnTo>
                      <a:pt x="1266" y="262"/>
                    </a:lnTo>
                    <a:lnTo>
                      <a:pt x="1260" y="277"/>
                    </a:lnTo>
                    <a:lnTo>
                      <a:pt x="1252" y="292"/>
                    </a:lnTo>
                    <a:lnTo>
                      <a:pt x="1243" y="307"/>
                    </a:lnTo>
                    <a:lnTo>
                      <a:pt x="1234" y="321"/>
                    </a:lnTo>
                    <a:lnTo>
                      <a:pt x="1221" y="337"/>
                    </a:lnTo>
                    <a:lnTo>
                      <a:pt x="1209" y="353"/>
                    </a:lnTo>
                    <a:lnTo>
                      <a:pt x="1195" y="370"/>
                    </a:lnTo>
                    <a:lnTo>
                      <a:pt x="1179" y="385"/>
                    </a:lnTo>
                    <a:lnTo>
                      <a:pt x="1164" y="400"/>
                    </a:lnTo>
                    <a:lnTo>
                      <a:pt x="1146" y="414"/>
                    </a:lnTo>
                    <a:lnTo>
                      <a:pt x="1127" y="428"/>
                    </a:lnTo>
                    <a:lnTo>
                      <a:pt x="1106" y="440"/>
                    </a:lnTo>
                    <a:lnTo>
                      <a:pt x="1083" y="450"/>
                    </a:lnTo>
                    <a:lnTo>
                      <a:pt x="1057" y="459"/>
                    </a:lnTo>
                    <a:lnTo>
                      <a:pt x="1028" y="466"/>
                    </a:lnTo>
                    <a:lnTo>
                      <a:pt x="996" y="471"/>
                    </a:lnTo>
                    <a:lnTo>
                      <a:pt x="962" y="474"/>
                    </a:lnTo>
                    <a:lnTo>
                      <a:pt x="923" y="474"/>
                    </a:lnTo>
                    <a:lnTo>
                      <a:pt x="882" y="472"/>
                    </a:lnTo>
                    <a:lnTo>
                      <a:pt x="836" y="467"/>
                    </a:lnTo>
                    <a:lnTo>
                      <a:pt x="809" y="463"/>
                    </a:lnTo>
                    <a:lnTo>
                      <a:pt x="785" y="460"/>
                    </a:lnTo>
                    <a:lnTo>
                      <a:pt x="764" y="458"/>
                    </a:lnTo>
                    <a:lnTo>
                      <a:pt x="747" y="455"/>
                    </a:lnTo>
                    <a:lnTo>
                      <a:pt x="730" y="453"/>
                    </a:lnTo>
                    <a:lnTo>
                      <a:pt x="713" y="451"/>
                    </a:lnTo>
                    <a:lnTo>
                      <a:pt x="696" y="448"/>
                    </a:lnTo>
                    <a:lnTo>
                      <a:pt x="677" y="446"/>
                    </a:lnTo>
                    <a:lnTo>
                      <a:pt x="655" y="443"/>
                    </a:lnTo>
                    <a:lnTo>
                      <a:pt x="631" y="440"/>
                    </a:lnTo>
                    <a:lnTo>
                      <a:pt x="602" y="436"/>
                    </a:lnTo>
                    <a:lnTo>
                      <a:pt x="567" y="432"/>
                    </a:lnTo>
                    <a:lnTo>
                      <a:pt x="526" y="426"/>
                    </a:lnTo>
                    <a:lnTo>
                      <a:pt x="479" y="419"/>
                    </a:lnTo>
                    <a:lnTo>
                      <a:pt x="423" y="412"/>
                    </a:lnTo>
                    <a:lnTo>
                      <a:pt x="358" y="403"/>
                    </a:lnTo>
                    <a:lnTo>
                      <a:pt x="315" y="396"/>
                    </a:lnTo>
                    <a:lnTo>
                      <a:pt x="274" y="388"/>
                    </a:lnTo>
                    <a:lnTo>
                      <a:pt x="238" y="378"/>
                    </a:lnTo>
                    <a:lnTo>
                      <a:pt x="205" y="366"/>
                    </a:lnTo>
                    <a:lnTo>
                      <a:pt x="176" y="353"/>
                    </a:lnTo>
                    <a:lnTo>
                      <a:pt x="150" y="339"/>
                    </a:lnTo>
                    <a:lnTo>
                      <a:pt x="126" y="325"/>
                    </a:lnTo>
                    <a:lnTo>
                      <a:pt x="107" y="309"/>
                    </a:lnTo>
                    <a:lnTo>
                      <a:pt x="89" y="292"/>
                    </a:lnTo>
                    <a:lnTo>
                      <a:pt x="73" y="275"/>
                    </a:lnTo>
                    <a:lnTo>
                      <a:pt x="60" y="257"/>
                    </a:lnTo>
                    <a:lnTo>
                      <a:pt x="47" y="240"/>
                    </a:lnTo>
                    <a:lnTo>
                      <a:pt x="38" y="221"/>
                    </a:lnTo>
                    <a:lnTo>
                      <a:pt x="29" y="202"/>
                    </a:lnTo>
                    <a:lnTo>
                      <a:pt x="21" y="184"/>
                    </a:lnTo>
                    <a:lnTo>
                      <a:pt x="15" y="165"/>
                    </a:lnTo>
                    <a:lnTo>
                      <a:pt x="10" y="150"/>
                    </a:lnTo>
                    <a:lnTo>
                      <a:pt x="6" y="134"/>
                    </a:lnTo>
                    <a:lnTo>
                      <a:pt x="3" y="118"/>
                    </a:lnTo>
                    <a:lnTo>
                      <a:pt x="0" y="101"/>
                    </a:lnTo>
                    <a:lnTo>
                      <a:pt x="1" y="85"/>
                    </a:lnTo>
                    <a:lnTo>
                      <a:pt x="4" y="69"/>
                    </a:lnTo>
                    <a:lnTo>
                      <a:pt x="9" y="55"/>
                    </a:lnTo>
                    <a:lnTo>
                      <a:pt x="17" y="41"/>
                    </a:lnTo>
                    <a:lnTo>
                      <a:pt x="30" y="29"/>
                    </a:lnTo>
                    <a:lnTo>
                      <a:pt x="45" y="19"/>
                    </a:lnTo>
                    <a:lnTo>
                      <a:pt x="66" y="10"/>
                    </a:lnTo>
                    <a:lnTo>
                      <a:pt x="92" y="4"/>
                    </a:lnTo>
                    <a:lnTo>
                      <a:pt x="122" y="0"/>
                    </a:lnTo>
                    <a:lnTo>
                      <a:pt x="159" y="0"/>
                    </a:lnTo>
                    <a:lnTo>
                      <a:pt x="202" y="2"/>
                    </a:lnTo>
                    <a:lnTo>
                      <a:pt x="251" y="7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540560" y="4384080"/>
                <a:ext cx="83160" cy="25200"/>
              </a:xfrm>
              <a:custGeom>
                <a:avLst/>
                <a:gdLst/>
                <a:ahLst/>
                <a:rect l="l" t="t" r="r" b="b"/>
                <a:pathLst>
                  <a:path w="1202" h="450">
                    <a:moveTo>
                      <a:pt x="238" y="7"/>
                    </a:moveTo>
                    <a:lnTo>
                      <a:pt x="261" y="10"/>
                    </a:lnTo>
                    <a:lnTo>
                      <a:pt x="283" y="13"/>
                    </a:lnTo>
                    <a:lnTo>
                      <a:pt x="303" y="16"/>
                    </a:lnTo>
                    <a:lnTo>
                      <a:pt x="321" y="18"/>
                    </a:lnTo>
                    <a:lnTo>
                      <a:pt x="339" y="20"/>
                    </a:lnTo>
                    <a:lnTo>
                      <a:pt x="355" y="23"/>
                    </a:lnTo>
                    <a:lnTo>
                      <a:pt x="370" y="25"/>
                    </a:lnTo>
                    <a:lnTo>
                      <a:pt x="385" y="27"/>
                    </a:lnTo>
                    <a:lnTo>
                      <a:pt x="398" y="28"/>
                    </a:lnTo>
                    <a:lnTo>
                      <a:pt x="412" y="30"/>
                    </a:lnTo>
                    <a:lnTo>
                      <a:pt x="425" y="32"/>
                    </a:lnTo>
                    <a:lnTo>
                      <a:pt x="439" y="34"/>
                    </a:lnTo>
                    <a:lnTo>
                      <a:pt x="453" y="36"/>
                    </a:lnTo>
                    <a:lnTo>
                      <a:pt x="468" y="39"/>
                    </a:lnTo>
                    <a:lnTo>
                      <a:pt x="483" y="41"/>
                    </a:lnTo>
                    <a:lnTo>
                      <a:pt x="497" y="43"/>
                    </a:lnTo>
                    <a:lnTo>
                      <a:pt x="514" y="45"/>
                    </a:lnTo>
                    <a:lnTo>
                      <a:pt x="533" y="47"/>
                    </a:lnTo>
                    <a:lnTo>
                      <a:pt x="551" y="50"/>
                    </a:lnTo>
                    <a:lnTo>
                      <a:pt x="572" y="52"/>
                    </a:lnTo>
                    <a:lnTo>
                      <a:pt x="595" y="55"/>
                    </a:lnTo>
                    <a:lnTo>
                      <a:pt x="620" y="59"/>
                    </a:lnTo>
                    <a:lnTo>
                      <a:pt x="647" y="62"/>
                    </a:lnTo>
                    <a:lnTo>
                      <a:pt x="676" y="66"/>
                    </a:lnTo>
                    <a:lnTo>
                      <a:pt x="708" y="70"/>
                    </a:lnTo>
                    <a:lnTo>
                      <a:pt x="743" y="75"/>
                    </a:lnTo>
                    <a:lnTo>
                      <a:pt x="780" y="80"/>
                    </a:lnTo>
                    <a:lnTo>
                      <a:pt x="821" y="85"/>
                    </a:lnTo>
                    <a:lnTo>
                      <a:pt x="864" y="91"/>
                    </a:lnTo>
                    <a:lnTo>
                      <a:pt x="911" y="97"/>
                    </a:lnTo>
                    <a:lnTo>
                      <a:pt x="962" y="105"/>
                    </a:lnTo>
                    <a:lnTo>
                      <a:pt x="1017" y="112"/>
                    </a:lnTo>
                    <a:lnTo>
                      <a:pt x="1057" y="118"/>
                    </a:lnTo>
                    <a:lnTo>
                      <a:pt x="1091" y="126"/>
                    </a:lnTo>
                    <a:lnTo>
                      <a:pt x="1119" y="135"/>
                    </a:lnTo>
                    <a:lnTo>
                      <a:pt x="1143" y="145"/>
                    </a:lnTo>
                    <a:lnTo>
                      <a:pt x="1163" y="155"/>
                    </a:lnTo>
                    <a:lnTo>
                      <a:pt x="1178" y="168"/>
                    </a:lnTo>
                    <a:lnTo>
                      <a:pt x="1189" y="180"/>
                    </a:lnTo>
                    <a:lnTo>
                      <a:pt x="1196" y="193"/>
                    </a:lnTo>
                    <a:lnTo>
                      <a:pt x="1201" y="207"/>
                    </a:lnTo>
                    <a:lnTo>
                      <a:pt x="1202" y="220"/>
                    </a:lnTo>
                    <a:lnTo>
                      <a:pt x="1200" y="235"/>
                    </a:lnTo>
                    <a:lnTo>
                      <a:pt x="1196" y="249"/>
                    </a:lnTo>
                    <a:lnTo>
                      <a:pt x="1191" y="263"/>
                    </a:lnTo>
                    <a:lnTo>
                      <a:pt x="1184" y="277"/>
                    </a:lnTo>
                    <a:lnTo>
                      <a:pt x="1176" y="292"/>
                    </a:lnTo>
                    <a:lnTo>
                      <a:pt x="1166" y="305"/>
                    </a:lnTo>
                    <a:lnTo>
                      <a:pt x="1155" y="320"/>
                    </a:lnTo>
                    <a:lnTo>
                      <a:pt x="1142" y="335"/>
                    </a:lnTo>
                    <a:lnTo>
                      <a:pt x="1130" y="351"/>
                    </a:lnTo>
                    <a:lnTo>
                      <a:pt x="1115" y="366"/>
                    </a:lnTo>
                    <a:lnTo>
                      <a:pt x="1101" y="379"/>
                    </a:lnTo>
                    <a:lnTo>
                      <a:pt x="1084" y="393"/>
                    </a:lnTo>
                    <a:lnTo>
                      <a:pt x="1065" y="405"/>
                    </a:lnTo>
                    <a:lnTo>
                      <a:pt x="1046" y="417"/>
                    </a:lnTo>
                    <a:lnTo>
                      <a:pt x="1024" y="427"/>
                    </a:lnTo>
                    <a:lnTo>
                      <a:pt x="999" y="435"/>
                    </a:lnTo>
                    <a:lnTo>
                      <a:pt x="972" y="442"/>
                    </a:lnTo>
                    <a:lnTo>
                      <a:pt x="941" y="447"/>
                    </a:lnTo>
                    <a:lnTo>
                      <a:pt x="909" y="450"/>
                    </a:lnTo>
                    <a:lnTo>
                      <a:pt x="873" y="450"/>
                    </a:lnTo>
                    <a:lnTo>
                      <a:pt x="833" y="448"/>
                    </a:lnTo>
                    <a:lnTo>
                      <a:pt x="791" y="444"/>
                    </a:lnTo>
                    <a:lnTo>
                      <a:pt x="765" y="441"/>
                    </a:lnTo>
                    <a:lnTo>
                      <a:pt x="743" y="438"/>
                    </a:lnTo>
                    <a:lnTo>
                      <a:pt x="723" y="435"/>
                    </a:lnTo>
                    <a:lnTo>
                      <a:pt x="705" y="433"/>
                    </a:lnTo>
                    <a:lnTo>
                      <a:pt x="690" y="430"/>
                    </a:lnTo>
                    <a:lnTo>
                      <a:pt x="674" y="428"/>
                    </a:lnTo>
                    <a:lnTo>
                      <a:pt x="657" y="426"/>
                    </a:lnTo>
                    <a:lnTo>
                      <a:pt x="640" y="424"/>
                    </a:lnTo>
                    <a:lnTo>
                      <a:pt x="619" y="421"/>
                    </a:lnTo>
                    <a:lnTo>
                      <a:pt x="596" y="418"/>
                    </a:lnTo>
                    <a:lnTo>
                      <a:pt x="568" y="414"/>
                    </a:lnTo>
                    <a:lnTo>
                      <a:pt x="536" y="410"/>
                    </a:lnTo>
                    <a:lnTo>
                      <a:pt x="497" y="404"/>
                    </a:lnTo>
                    <a:lnTo>
                      <a:pt x="453" y="398"/>
                    </a:lnTo>
                    <a:lnTo>
                      <a:pt x="400" y="391"/>
                    </a:lnTo>
                    <a:lnTo>
                      <a:pt x="339" y="383"/>
                    </a:lnTo>
                    <a:lnTo>
                      <a:pt x="297" y="376"/>
                    </a:lnTo>
                    <a:lnTo>
                      <a:pt x="259" y="368"/>
                    </a:lnTo>
                    <a:lnTo>
                      <a:pt x="224" y="359"/>
                    </a:lnTo>
                    <a:lnTo>
                      <a:pt x="194" y="348"/>
                    </a:lnTo>
                    <a:lnTo>
                      <a:pt x="166" y="335"/>
                    </a:lnTo>
                    <a:lnTo>
                      <a:pt x="141" y="322"/>
                    </a:lnTo>
                    <a:lnTo>
                      <a:pt x="119" y="309"/>
                    </a:lnTo>
                    <a:lnTo>
                      <a:pt x="100" y="294"/>
                    </a:lnTo>
                    <a:lnTo>
                      <a:pt x="83" y="277"/>
                    </a:lnTo>
                    <a:lnTo>
                      <a:pt x="68" y="261"/>
                    </a:lnTo>
                    <a:lnTo>
                      <a:pt x="55" y="245"/>
                    </a:lnTo>
                    <a:lnTo>
                      <a:pt x="44" y="228"/>
                    </a:lnTo>
                    <a:lnTo>
                      <a:pt x="34" y="210"/>
                    </a:lnTo>
                    <a:lnTo>
                      <a:pt x="27" y="193"/>
                    </a:lnTo>
                    <a:lnTo>
                      <a:pt x="19" y="175"/>
                    </a:lnTo>
                    <a:lnTo>
                      <a:pt x="13" y="157"/>
                    </a:lnTo>
                    <a:lnTo>
                      <a:pt x="9" y="142"/>
                    </a:lnTo>
                    <a:lnTo>
                      <a:pt x="5" y="127"/>
                    </a:lnTo>
                    <a:lnTo>
                      <a:pt x="2" y="112"/>
                    </a:lnTo>
                    <a:lnTo>
                      <a:pt x="0" y="96"/>
                    </a:lnTo>
                    <a:lnTo>
                      <a:pt x="1" y="81"/>
                    </a:lnTo>
                    <a:lnTo>
                      <a:pt x="3" y="67"/>
                    </a:lnTo>
                    <a:lnTo>
                      <a:pt x="8" y="53"/>
                    </a:lnTo>
                    <a:lnTo>
                      <a:pt x="16" y="40"/>
                    </a:lnTo>
                    <a:lnTo>
                      <a:pt x="28" y="28"/>
                    </a:lnTo>
                    <a:lnTo>
                      <a:pt x="42" y="18"/>
                    </a:lnTo>
                    <a:lnTo>
                      <a:pt x="62" y="11"/>
                    </a:lnTo>
                    <a:lnTo>
                      <a:pt x="86" y="5"/>
                    </a:lnTo>
                    <a:lnTo>
                      <a:pt x="116" y="1"/>
                    </a:lnTo>
                    <a:lnTo>
                      <a:pt x="151" y="0"/>
                    </a:lnTo>
                    <a:lnTo>
                      <a:pt x="191" y="2"/>
                    </a:lnTo>
                    <a:lnTo>
                      <a:pt x="238" y="7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543440" y="4384080"/>
                <a:ext cx="78480" cy="25200"/>
              </a:xfrm>
              <a:custGeom>
                <a:avLst/>
                <a:gdLst/>
                <a:ahLst/>
                <a:rect l="l" t="t" r="r" b="b"/>
                <a:pathLst>
                  <a:path w="1132" h="424">
                    <a:moveTo>
                      <a:pt x="224" y="6"/>
                    </a:moveTo>
                    <a:lnTo>
                      <a:pt x="246" y="9"/>
                    </a:lnTo>
                    <a:lnTo>
                      <a:pt x="266" y="12"/>
                    </a:lnTo>
                    <a:lnTo>
                      <a:pt x="285" y="14"/>
                    </a:lnTo>
                    <a:lnTo>
                      <a:pt x="303" y="17"/>
                    </a:lnTo>
                    <a:lnTo>
                      <a:pt x="318" y="19"/>
                    </a:lnTo>
                    <a:lnTo>
                      <a:pt x="334" y="21"/>
                    </a:lnTo>
                    <a:lnTo>
                      <a:pt x="349" y="24"/>
                    </a:lnTo>
                    <a:lnTo>
                      <a:pt x="362" y="26"/>
                    </a:lnTo>
                    <a:lnTo>
                      <a:pt x="375" y="27"/>
                    </a:lnTo>
                    <a:lnTo>
                      <a:pt x="388" y="29"/>
                    </a:lnTo>
                    <a:lnTo>
                      <a:pt x="401" y="31"/>
                    </a:lnTo>
                    <a:lnTo>
                      <a:pt x="413" y="32"/>
                    </a:lnTo>
                    <a:lnTo>
                      <a:pt x="427" y="34"/>
                    </a:lnTo>
                    <a:lnTo>
                      <a:pt x="440" y="36"/>
                    </a:lnTo>
                    <a:lnTo>
                      <a:pt x="454" y="38"/>
                    </a:lnTo>
                    <a:lnTo>
                      <a:pt x="468" y="40"/>
                    </a:lnTo>
                    <a:lnTo>
                      <a:pt x="484" y="42"/>
                    </a:lnTo>
                    <a:lnTo>
                      <a:pt x="501" y="44"/>
                    </a:lnTo>
                    <a:lnTo>
                      <a:pt x="519" y="46"/>
                    </a:lnTo>
                    <a:lnTo>
                      <a:pt x="539" y="49"/>
                    </a:lnTo>
                    <a:lnTo>
                      <a:pt x="560" y="52"/>
                    </a:lnTo>
                    <a:lnTo>
                      <a:pt x="584" y="55"/>
                    </a:lnTo>
                    <a:lnTo>
                      <a:pt x="609" y="58"/>
                    </a:lnTo>
                    <a:lnTo>
                      <a:pt x="637" y="62"/>
                    </a:lnTo>
                    <a:lnTo>
                      <a:pt x="666" y="66"/>
                    </a:lnTo>
                    <a:lnTo>
                      <a:pt x="699" y="70"/>
                    </a:lnTo>
                    <a:lnTo>
                      <a:pt x="735" y="75"/>
                    </a:lnTo>
                    <a:lnTo>
                      <a:pt x="772" y="80"/>
                    </a:lnTo>
                    <a:lnTo>
                      <a:pt x="814" y="86"/>
                    </a:lnTo>
                    <a:lnTo>
                      <a:pt x="859" y="92"/>
                    </a:lnTo>
                    <a:lnTo>
                      <a:pt x="906" y="98"/>
                    </a:lnTo>
                    <a:lnTo>
                      <a:pt x="958" y="105"/>
                    </a:lnTo>
                    <a:lnTo>
                      <a:pt x="996" y="111"/>
                    </a:lnTo>
                    <a:lnTo>
                      <a:pt x="1028" y="118"/>
                    </a:lnTo>
                    <a:lnTo>
                      <a:pt x="1055" y="126"/>
                    </a:lnTo>
                    <a:lnTo>
                      <a:pt x="1077" y="136"/>
                    </a:lnTo>
                    <a:lnTo>
                      <a:pt x="1095" y="146"/>
                    </a:lnTo>
                    <a:lnTo>
                      <a:pt x="1109" y="158"/>
                    </a:lnTo>
                    <a:lnTo>
                      <a:pt x="1120" y="169"/>
                    </a:lnTo>
                    <a:lnTo>
                      <a:pt x="1127" y="182"/>
                    </a:lnTo>
                    <a:lnTo>
                      <a:pt x="1130" y="194"/>
                    </a:lnTo>
                    <a:lnTo>
                      <a:pt x="1132" y="207"/>
                    </a:lnTo>
                    <a:lnTo>
                      <a:pt x="1130" y="221"/>
                    </a:lnTo>
                    <a:lnTo>
                      <a:pt x="1127" y="235"/>
                    </a:lnTo>
                    <a:lnTo>
                      <a:pt x="1122" y="248"/>
                    </a:lnTo>
                    <a:lnTo>
                      <a:pt x="1116" y="261"/>
                    </a:lnTo>
                    <a:lnTo>
                      <a:pt x="1107" y="275"/>
                    </a:lnTo>
                    <a:lnTo>
                      <a:pt x="1099" y="287"/>
                    </a:lnTo>
                    <a:lnTo>
                      <a:pt x="1088" y="301"/>
                    </a:lnTo>
                    <a:lnTo>
                      <a:pt x="1076" y="316"/>
                    </a:lnTo>
                    <a:lnTo>
                      <a:pt x="1065" y="330"/>
                    </a:lnTo>
                    <a:lnTo>
                      <a:pt x="1051" y="345"/>
                    </a:lnTo>
                    <a:lnTo>
                      <a:pt x="1037" y="358"/>
                    </a:lnTo>
                    <a:lnTo>
                      <a:pt x="1021" y="371"/>
                    </a:lnTo>
                    <a:lnTo>
                      <a:pt x="1004" y="382"/>
                    </a:lnTo>
                    <a:lnTo>
                      <a:pt x="984" y="393"/>
                    </a:lnTo>
                    <a:lnTo>
                      <a:pt x="964" y="403"/>
                    </a:lnTo>
                    <a:lnTo>
                      <a:pt x="941" y="411"/>
                    </a:lnTo>
                    <a:lnTo>
                      <a:pt x="915" y="417"/>
                    </a:lnTo>
                    <a:lnTo>
                      <a:pt x="887" y="421"/>
                    </a:lnTo>
                    <a:lnTo>
                      <a:pt x="855" y="424"/>
                    </a:lnTo>
                    <a:lnTo>
                      <a:pt x="822" y="424"/>
                    </a:lnTo>
                    <a:lnTo>
                      <a:pt x="785" y="422"/>
                    </a:lnTo>
                    <a:lnTo>
                      <a:pt x="744" y="418"/>
                    </a:lnTo>
                    <a:lnTo>
                      <a:pt x="719" y="415"/>
                    </a:lnTo>
                    <a:lnTo>
                      <a:pt x="698" y="412"/>
                    </a:lnTo>
                    <a:lnTo>
                      <a:pt x="681" y="409"/>
                    </a:lnTo>
                    <a:lnTo>
                      <a:pt x="664" y="407"/>
                    </a:lnTo>
                    <a:lnTo>
                      <a:pt x="649" y="405"/>
                    </a:lnTo>
                    <a:lnTo>
                      <a:pt x="635" y="403"/>
                    </a:lnTo>
                    <a:lnTo>
                      <a:pt x="619" y="401"/>
                    </a:lnTo>
                    <a:lnTo>
                      <a:pt x="603" y="399"/>
                    </a:lnTo>
                    <a:lnTo>
                      <a:pt x="583" y="396"/>
                    </a:lnTo>
                    <a:lnTo>
                      <a:pt x="561" y="393"/>
                    </a:lnTo>
                    <a:lnTo>
                      <a:pt x="535" y="389"/>
                    </a:lnTo>
                    <a:lnTo>
                      <a:pt x="504" y="385"/>
                    </a:lnTo>
                    <a:lnTo>
                      <a:pt x="467" y="381"/>
                    </a:lnTo>
                    <a:lnTo>
                      <a:pt x="426" y="375"/>
                    </a:lnTo>
                    <a:lnTo>
                      <a:pt x="376" y="369"/>
                    </a:lnTo>
                    <a:lnTo>
                      <a:pt x="317" y="361"/>
                    </a:lnTo>
                    <a:lnTo>
                      <a:pt x="278" y="355"/>
                    </a:lnTo>
                    <a:lnTo>
                      <a:pt x="243" y="347"/>
                    </a:lnTo>
                    <a:lnTo>
                      <a:pt x="210" y="338"/>
                    </a:lnTo>
                    <a:lnTo>
                      <a:pt x="181" y="327"/>
                    </a:lnTo>
                    <a:lnTo>
                      <a:pt x="155" y="316"/>
                    </a:lnTo>
                    <a:lnTo>
                      <a:pt x="132" y="304"/>
                    </a:lnTo>
                    <a:lnTo>
                      <a:pt x="111" y="291"/>
                    </a:lnTo>
                    <a:lnTo>
                      <a:pt x="94" y="277"/>
                    </a:lnTo>
                    <a:lnTo>
                      <a:pt x="78" y="261"/>
                    </a:lnTo>
                    <a:lnTo>
                      <a:pt x="64" y="246"/>
                    </a:lnTo>
                    <a:lnTo>
                      <a:pt x="52" y="231"/>
                    </a:lnTo>
                    <a:lnTo>
                      <a:pt x="42" y="215"/>
                    </a:lnTo>
                    <a:lnTo>
                      <a:pt x="32" y="198"/>
                    </a:lnTo>
                    <a:lnTo>
                      <a:pt x="25" y="181"/>
                    </a:lnTo>
                    <a:lnTo>
                      <a:pt x="18" y="165"/>
                    </a:lnTo>
                    <a:lnTo>
                      <a:pt x="13" y="149"/>
                    </a:lnTo>
                    <a:lnTo>
                      <a:pt x="8" y="134"/>
                    </a:lnTo>
                    <a:lnTo>
                      <a:pt x="4" y="120"/>
                    </a:lnTo>
                    <a:lnTo>
                      <a:pt x="1" y="106"/>
                    </a:lnTo>
                    <a:lnTo>
                      <a:pt x="0" y="91"/>
                    </a:lnTo>
                    <a:lnTo>
                      <a:pt x="0" y="76"/>
                    </a:lnTo>
                    <a:lnTo>
                      <a:pt x="2" y="62"/>
                    </a:lnTo>
                    <a:lnTo>
                      <a:pt x="7" y="49"/>
                    </a:lnTo>
                    <a:lnTo>
                      <a:pt x="15" y="38"/>
                    </a:lnTo>
                    <a:lnTo>
                      <a:pt x="25" y="27"/>
                    </a:lnTo>
                    <a:lnTo>
                      <a:pt x="40" y="17"/>
                    </a:lnTo>
                    <a:lnTo>
                      <a:pt x="58" y="9"/>
                    </a:lnTo>
                    <a:lnTo>
                      <a:pt x="81" y="4"/>
                    </a:lnTo>
                    <a:lnTo>
                      <a:pt x="108" y="0"/>
                    </a:lnTo>
                    <a:lnTo>
                      <a:pt x="142" y="0"/>
                    </a:lnTo>
                    <a:lnTo>
                      <a:pt x="179" y="1"/>
                    </a:lnTo>
                    <a:lnTo>
                      <a:pt x="224" y="6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545240" y="4385520"/>
                <a:ext cx="73800" cy="22320"/>
              </a:xfrm>
              <a:custGeom>
                <a:avLst/>
                <a:gdLst/>
                <a:ahLst/>
                <a:rect l="l" t="t" r="r" b="b"/>
                <a:pathLst>
                  <a:path w="1064" h="400">
                    <a:moveTo>
                      <a:pt x="212" y="6"/>
                    </a:moveTo>
                    <a:lnTo>
                      <a:pt x="232" y="9"/>
                    </a:lnTo>
                    <a:lnTo>
                      <a:pt x="251" y="12"/>
                    </a:lnTo>
                    <a:lnTo>
                      <a:pt x="269" y="15"/>
                    </a:lnTo>
                    <a:lnTo>
                      <a:pt x="285" y="17"/>
                    </a:lnTo>
                    <a:lnTo>
                      <a:pt x="300" y="19"/>
                    </a:lnTo>
                    <a:lnTo>
                      <a:pt x="315" y="21"/>
                    </a:lnTo>
                    <a:lnTo>
                      <a:pt x="328" y="23"/>
                    </a:lnTo>
                    <a:lnTo>
                      <a:pt x="341" y="24"/>
                    </a:lnTo>
                    <a:lnTo>
                      <a:pt x="353" y="26"/>
                    </a:lnTo>
                    <a:lnTo>
                      <a:pt x="366" y="28"/>
                    </a:lnTo>
                    <a:lnTo>
                      <a:pt x="377" y="29"/>
                    </a:lnTo>
                    <a:lnTo>
                      <a:pt x="390" y="31"/>
                    </a:lnTo>
                    <a:lnTo>
                      <a:pt x="402" y="32"/>
                    </a:lnTo>
                    <a:lnTo>
                      <a:pt x="415" y="34"/>
                    </a:lnTo>
                    <a:lnTo>
                      <a:pt x="426" y="36"/>
                    </a:lnTo>
                    <a:lnTo>
                      <a:pt x="441" y="37"/>
                    </a:lnTo>
                    <a:lnTo>
                      <a:pt x="455" y="39"/>
                    </a:lnTo>
                    <a:lnTo>
                      <a:pt x="471" y="42"/>
                    </a:lnTo>
                    <a:lnTo>
                      <a:pt x="488" y="44"/>
                    </a:lnTo>
                    <a:lnTo>
                      <a:pt x="507" y="46"/>
                    </a:lnTo>
                    <a:lnTo>
                      <a:pt x="527" y="49"/>
                    </a:lnTo>
                    <a:lnTo>
                      <a:pt x="549" y="52"/>
                    </a:lnTo>
                    <a:lnTo>
                      <a:pt x="573" y="55"/>
                    </a:lnTo>
                    <a:lnTo>
                      <a:pt x="599" y="58"/>
                    </a:lnTo>
                    <a:lnTo>
                      <a:pt x="627" y="62"/>
                    </a:lnTo>
                    <a:lnTo>
                      <a:pt x="657" y="66"/>
                    </a:lnTo>
                    <a:lnTo>
                      <a:pt x="690" y="70"/>
                    </a:lnTo>
                    <a:lnTo>
                      <a:pt x="726" y="76"/>
                    </a:lnTo>
                    <a:lnTo>
                      <a:pt x="765" y="81"/>
                    </a:lnTo>
                    <a:lnTo>
                      <a:pt x="807" y="87"/>
                    </a:lnTo>
                    <a:lnTo>
                      <a:pt x="852" y="93"/>
                    </a:lnTo>
                    <a:lnTo>
                      <a:pt x="901" y="99"/>
                    </a:lnTo>
                    <a:lnTo>
                      <a:pt x="936" y="105"/>
                    </a:lnTo>
                    <a:lnTo>
                      <a:pt x="966" y="112"/>
                    </a:lnTo>
                    <a:lnTo>
                      <a:pt x="992" y="119"/>
                    </a:lnTo>
                    <a:lnTo>
                      <a:pt x="1013" y="128"/>
                    </a:lnTo>
                    <a:lnTo>
                      <a:pt x="1030" y="139"/>
                    </a:lnTo>
                    <a:lnTo>
                      <a:pt x="1043" y="149"/>
                    </a:lnTo>
                    <a:lnTo>
                      <a:pt x="1052" y="160"/>
                    </a:lnTo>
                    <a:lnTo>
                      <a:pt x="1060" y="172"/>
                    </a:lnTo>
                    <a:lnTo>
                      <a:pt x="1063" y="184"/>
                    </a:lnTo>
                    <a:lnTo>
                      <a:pt x="1064" y="196"/>
                    </a:lnTo>
                    <a:lnTo>
                      <a:pt x="1063" y="209"/>
                    </a:lnTo>
                    <a:lnTo>
                      <a:pt x="1060" y="222"/>
                    </a:lnTo>
                    <a:lnTo>
                      <a:pt x="1055" y="234"/>
                    </a:lnTo>
                    <a:lnTo>
                      <a:pt x="1048" y="246"/>
                    </a:lnTo>
                    <a:lnTo>
                      <a:pt x="1041" y="259"/>
                    </a:lnTo>
                    <a:lnTo>
                      <a:pt x="1033" y="271"/>
                    </a:lnTo>
                    <a:lnTo>
                      <a:pt x="1022" y="285"/>
                    </a:lnTo>
                    <a:lnTo>
                      <a:pt x="1012" y="298"/>
                    </a:lnTo>
                    <a:lnTo>
                      <a:pt x="1000" y="311"/>
                    </a:lnTo>
                    <a:lnTo>
                      <a:pt x="988" y="325"/>
                    </a:lnTo>
                    <a:lnTo>
                      <a:pt x="974" y="338"/>
                    </a:lnTo>
                    <a:lnTo>
                      <a:pt x="960" y="349"/>
                    </a:lnTo>
                    <a:lnTo>
                      <a:pt x="944" y="360"/>
                    </a:lnTo>
                    <a:lnTo>
                      <a:pt x="927" y="370"/>
                    </a:lnTo>
                    <a:lnTo>
                      <a:pt x="907" y="379"/>
                    </a:lnTo>
                    <a:lnTo>
                      <a:pt x="885" y="387"/>
                    </a:lnTo>
                    <a:lnTo>
                      <a:pt x="861" y="393"/>
                    </a:lnTo>
                    <a:lnTo>
                      <a:pt x="834" y="397"/>
                    </a:lnTo>
                    <a:lnTo>
                      <a:pt x="805" y="399"/>
                    </a:lnTo>
                    <a:lnTo>
                      <a:pt x="774" y="400"/>
                    </a:lnTo>
                    <a:lnTo>
                      <a:pt x="738" y="398"/>
                    </a:lnTo>
                    <a:lnTo>
                      <a:pt x="701" y="394"/>
                    </a:lnTo>
                    <a:lnTo>
                      <a:pt x="678" y="391"/>
                    </a:lnTo>
                    <a:lnTo>
                      <a:pt x="658" y="389"/>
                    </a:lnTo>
                    <a:lnTo>
                      <a:pt x="640" y="386"/>
                    </a:lnTo>
                    <a:lnTo>
                      <a:pt x="625" y="384"/>
                    </a:lnTo>
                    <a:lnTo>
                      <a:pt x="611" y="383"/>
                    </a:lnTo>
                    <a:lnTo>
                      <a:pt x="597" y="380"/>
                    </a:lnTo>
                    <a:lnTo>
                      <a:pt x="582" y="378"/>
                    </a:lnTo>
                    <a:lnTo>
                      <a:pt x="566" y="376"/>
                    </a:lnTo>
                    <a:lnTo>
                      <a:pt x="549" y="374"/>
                    </a:lnTo>
                    <a:lnTo>
                      <a:pt x="528" y="371"/>
                    </a:lnTo>
                    <a:lnTo>
                      <a:pt x="503" y="367"/>
                    </a:lnTo>
                    <a:lnTo>
                      <a:pt x="474" y="364"/>
                    </a:lnTo>
                    <a:lnTo>
                      <a:pt x="440" y="359"/>
                    </a:lnTo>
                    <a:lnTo>
                      <a:pt x="401" y="354"/>
                    </a:lnTo>
                    <a:lnTo>
                      <a:pt x="354" y="347"/>
                    </a:lnTo>
                    <a:lnTo>
                      <a:pt x="299" y="340"/>
                    </a:lnTo>
                    <a:lnTo>
                      <a:pt x="263" y="334"/>
                    </a:lnTo>
                    <a:lnTo>
                      <a:pt x="229" y="327"/>
                    </a:lnTo>
                    <a:lnTo>
                      <a:pt x="199" y="318"/>
                    </a:lnTo>
                    <a:lnTo>
                      <a:pt x="171" y="308"/>
                    </a:lnTo>
                    <a:lnTo>
                      <a:pt x="147" y="298"/>
                    </a:lnTo>
                    <a:lnTo>
                      <a:pt x="125" y="286"/>
                    </a:lnTo>
                    <a:lnTo>
                      <a:pt x="105" y="274"/>
                    </a:lnTo>
                    <a:lnTo>
                      <a:pt x="89" y="261"/>
                    </a:lnTo>
                    <a:lnTo>
                      <a:pt x="74" y="247"/>
                    </a:lnTo>
                    <a:lnTo>
                      <a:pt x="61" y="232"/>
                    </a:lnTo>
                    <a:lnTo>
                      <a:pt x="49" y="218"/>
                    </a:lnTo>
                    <a:lnTo>
                      <a:pt x="40" y="203"/>
                    </a:lnTo>
                    <a:lnTo>
                      <a:pt x="32" y="187"/>
                    </a:lnTo>
                    <a:lnTo>
                      <a:pt x="24" y="172"/>
                    </a:lnTo>
                    <a:lnTo>
                      <a:pt x="18" y="156"/>
                    </a:lnTo>
                    <a:lnTo>
                      <a:pt x="13" y="141"/>
                    </a:lnTo>
                    <a:lnTo>
                      <a:pt x="9" y="127"/>
                    </a:lnTo>
                    <a:lnTo>
                      <a:pt x="5" y="114"/>
                    </a:lnTo>
                    <a:lnTo>
                      <a:pt x="2" y="100"/>
                    </a:lnTo>
                    <a:lnTo>
                      <a:pt x="0" y="87"/>
                    </a:lnTo>
                    <a:lnTo>
                      <a:pt x="0" y="72"/>
                    </a:lnTo>
                    <a:lnTo>
                      <a:pt x="2" y="60"/>
                    </a:lnTo>
                    <a:lnTo>
                      <a:pt x="7" y="47"/>
                    </a:lnTo>
                    <a:lnTo>
                      <a:pt x="14" y="36"/>
                    </a:lnTo>
                    <a:lnTo>
                      <a:pt x="24" y="26"/>
                    </a:lnTo>
                    <a:lnTo>
                      <a:pt x="38" y="17"/>
                    </a:lnTo>
                    <a:lnTo>
                      <a:pt x="56" y="9"/>
                    </a:lnTo>
                    <a:lnTo>
                      <a:pt x="77" y="4"/>
                    </a:lnTo>
                    <a:lnTo>
                      <a:pt x="103" y="1"/>
                    </a:lnTo>
                    <a:lnTo>
                      <a:pt x="134" y="0"/>
                    </a:lnTo>
                    <a:lnTo>
                      <a:pt x="170" y="2"/>
                    </a:lnTo>
                    <a:lnTo>
                      <a:pt x="212" y="6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547760" y="438552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995" h="374">
                    <a:moveTo>
                      <a:pt x="197" y="6"/>
                    </a:moveTo>
                    <a:lnTo>
                      <a:pt x="235" y="11"/>
                    </a:lnTo>
                    <a:lnTo>
                      <a:pt x="266" y="15"/>
                    </a:lnTo>
                    <a:lnTo>
                      <a:pt x="294" y="19"/>
                    </a:lnTo>
                    <a:lnTo>
                      <a:pt x="318" y="22"/>
                    </a:lnTo>
                    <a:lnTo>
                      <a:pt x="341" y="25"/>
                    </a:lnTo>
                    <a:lnTo>
                      <a:pt x="364" y="28"/>
                    </a:lnTo>
                    <a:lnTo>
                      <a:pt x="387" y="31"/>
                    </a:lnTo>
                    <a:lnTo>
                      <a:pt x="412" y="34"/>
                    </a:lnTo>
                    <a:lnTo>
                      <a:pt x="440" y="38"/>
                    </a:lnTo>
                    <a:lnTo>
                      <a:pt x="473" y="42"/>
                    </a:lnTo>
                    <a:lnTo>
                      <a:pt x="513" y="48"/>
                    </a:lnTo>
                    <a:lnTo>
                      <a:pt x="558" y="54"/>
                    </a:lnTo>
                    <a:lnTo>
                      <a:pt x="614" y="62"/>
                    </a:lnTo>
                    <a:lnTo>
                      <a:pt x="678" y="71"/>
                    </a:lnTo>
                    <a:lnTo>
                      <a:pt x="754" y="80"/>
                    </a:lnTo>
                    <a:lnTo>
                      <a:pt x="842" y="92"/>
                    </a:lnTo>
                    <a:lnTo>
                      <a:pt x="875" y="97"/>
                    </a:lnTo>
                    <a:lnTo>
                      <a:pt x="903" y="104"/>
                    </a:lnTo>
                    <a:lnTo>
                      <a:pt x="927" y="111"/>
                    </a:lnTo>
                    <a:lnTo>
                      <a:pt x="947" y="119"/>
                    </a:lnTo>
                    <a:lnTo>
                      <a:pt x="962" y="129"/>
                    </a:lnTo>
                    <a:lnTo>
                      <a:pt x="975" y="139"/>
                    </a:lnTo>
                    <a:lnTo>
                      <a:pt x="984" y="150"/>
                    </a:lnTo>
                    <a:lnTo>
                      <a:pt x="990" y="160"/>
                    </a:lnTo>
                    <a:lnTo>
                      <a:pt x="993" y="172"/>
                    </a:lnTo>
                    <a:lnTo>
                      <a:pt x="995" y="184"/>
                    </a:lnTo>
                    <a:lnTo>
                      <a:pt x="993" y="196"/>
                    </a:lnTo>
                    <a:lnTo>
                      <a:pt x="990" y="207"/>
                    </a:lnTo>
                    <a:lnTo>
                      <a:pt x="985" y="219"/>
                    </a:lnTo>
                    <a:lnTo>
                      <a:pt x="979" y="230"/>
                    </a:lnTo>
                    <a:lnTo>
                      <a:pt x="973" y="241"/>
                    </a:lnTo>
                    <a:lnTo>
                      <a:pt x="964" y="253"/>
                    </a:lnTo>
                    <a:lnTo>
                      <a:pt x="955" y="266"/>
                    </a:lnTo>
                    <a:lnTo>
                      <a:pt x="946" y="278"/>
                    </a:lnTo>
                    <a:lnTo>
                      <a:pt x="934" y="291"/>
                    </a:lnTo>
                    <a:lnTo>
                      <a:pt x="923" y="303"/>
                    </a:lnTo>
                    <a:lnTo>
                      <a:pt x="911" y="315"/>
                    </a:lnTo>
                    <a:lnTo>
                      <a:pt x="897" y="326"/>
                    </a:lnTo>
                    <a:lnTo>
                      <a:pt x="882" y="337"/>
                    </a:lnTo>
                    <a:lnTo>
                      <a:pt x="865" y="346"/>
                    </a:lnTo>
                    <a:lnTo>
                      <a:pt x="847" y="354"/>
                    </a:lnTo>
                    <a:lnTo>
                      <a:pt x="827" y="361"/>
                    </a:lnTo>
                    <a:lnTo>
                      <a:pt x="804" y="367"/>
                    </a:lnTo>
                    <a:lnTo>
                      <a:pt x="780" y="372"/>
                    </a:lnTo>
                    <a:lnTo>
                      <a:pt x="752" y="374"/>
                    </a:lnTo>
                    <a:lnTo>
                      <a:pt x="723" y="374"/>
                    </a:lnTo>
                    <a:lnTo>
                      <a:pt x="690" y="373"/>
                    </a:lnTo>
                    <a:lnTo>
                      <a:pt x="654" y="369"/>
                    </a:lnTo>
                    <a:lnTo>
                      <a:pt x="632" y="365"/>
                    </a:lnTo>
                    <a:lnTo>
                      <a:pt x="615" y="363"/>
                    </a:lnTo>
                    <a:lnTo>
                      <a:pt x="598" y="361"/>
                    </a:lnTo>
                    <a:lnTo>
                      <a:pt x="583" y="359"/>
                    </a:lnTo>
                    <a:lnTo>
                      <a:pt x="571" y="357"/>
                    </a:lnTo>
                    <a:lnTo>
                      <a:pt x="557" y="355"/>
                    </a:lnTo>
                    <a:lnTo>
                      <a:pt x="544" y="354"/>
                    </a:lnTo>
                    <a:lnTo>
                      <a:pt x="529" y="352"/>
                    </a:lnTo>
                    <a:lnTo>
                      <a:pt x="513" y="350"/>
                    </a:lnTo>
                    <a:lnTo>
                      <a:pt x="493" y="347"/>
                    </a:lnTo>
                    <a:lnTo>
                      <a:pt x="470" y="344"/>
                    </a:lnTo>
                    <a:lnTo>
                      <a:pt x="443" y="340"/>
                    </a:lnTo>
                    <a:lnTo>
                      <a:pt x="411" y="336"/>
                    </a:lnTo>
                    <a:lnTo>
                      <a:pt x="374" y="331"/>
                    </a:lnTo>
                    <a:lnTo>
                      <a:pt x="330" y="326"/>
                    </a:lnTo>
                    <a:lnTo>
                      <a:pt x="279" y="319"/>
                    </a:lnTo>
                    <a:lnTo>
                      <a:pt x="244" y="314"/>
                    </a:lnTo>
                    <a:lnTo>
                      <a:pt x="213" y="307"/>
                    </a:lnTo>
                    <a:lnTo>
                      <a:pt x="185" y="298"/>
                    </a:lnTo>
                    <a:lnTo>
                      <a:pt x="160" y="289"/>
                    </a:lnTo>
                    <a:lnTo>
                      <a:pt x="137" y="279"/>
                    </a:lnTo>
                    <a:lnTo>
                      <a:pt x="116" y="269"/>
                    </a:lnTo>
                    <a:lnTo>
                      <a:pt x="99" y="257"/>
                    </a:lnTo>
                    <a:lnTo>
                      <a:pt x="83" y="245"/>
                    </a:lnTo>
                    <a:lnTo>
                      <a:pt x="68" y="231"/>
                    </a:lnTo>
                    <a:lnTo>
                      <a:pt x="56" y="217"/>
                    </a:lnTo>
                    <a:lnTo>
                      <a:pt x="45" y="204"/>
                    </a:lnTo>
                    <a:lnTo>
                      <a:pt x="36" y="189"/>
                    </a:lnTo>
                    <a:lnTo>
                      <a:pt x="29" y="174"/>
                    </a:lnTo>
                    <a:lnTo>
                      <a:pt x="22" y="160"/>
                    </a:lnTo>
                    <a:lnTo>
                      <a:pt x="16" y="145"/>
                    </a:lnTo>
                    <a:lnTo>
                      <a:pt x="11" y="131"/>
                    </a:lnTo>
                    <a:lnTo>
                      <a:pt x="7" y="118"/>
                    </a:lnTo>
                    <a:lnTo>
                      <a:pt x="4" y="105"/>
                    </a:lnTo>
                    <a:lnTo>
                      <a:pt x="1" y="93"/>
                    </a:lnTo>
                    <a:lnTo>
                      <a:pt x="0" y="80"/>
                    </a:lnTo>
                    <a:lnTo>
                      <a:pt x="0" y="68"/>
                    </a:lnTo>
                    <a:lnTo>
                      <a:pt x="2" y="55"/>
                    </a:lnTo>
                    <a:lnTo>
                      <a:pt x="6" y="43"/>
                    </a:lnTo>
                    <a:lnTo>
                      <a:pt x="13" y="33"/>
                    </a:lnTo>
                    <a:lnTo>
                      <a:pt x="23" y="24"/>
                    </a:lnTo>
                    <a:lnTo>
                      <a:pt x="35" y="16"/>
                    </a:lnTo>
                    <a:lnTo>
                      <a:pt x="52" y="9"/>
                    </a:lnTo>
                    <a:lnTo>
                      <a:pt x="71" y="4"/>
                    </a:lnTo>
                    <a:lnTo>
                      <a:pt x="96" y="1"/>
                    </a:lnTo>
                    <a:lnTo>
                      <a:pt x="125" y="0"/>
                    </a:lnTo>
                    <a:lnTo>
                      <a:pt x="159" y="2"/>
                    </a:lnTo>
                    <a:lnTo>
                      <a:pt x="197" y="6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549200" y="4386960"/>
                <a:ext cx="63720" cy="19800"/>
              </a:xfrm>
              <a:custGeom>
                <a:avLst/>
                <a:gdLst/>
                <a:ahLst/>
                <a:rect l="l" t="t" r="r" b="b"/>
                <a:pathLst>
                  <a:path w="925" h="347">
                    <a:moveTo>
                      <a:pt x="183" y="5"/>
                    </a:moveTo>
                    <a:lnTo>
                      <a:pt x="217" y="9"/>
                    </a:lnTo>
                    <a:lnTo>
                      <a:pt x="248" y="13"/>
                    </a:lnTo>
                    <a:lnTo>
                      <a:pt x="273" y="17"/>
                    </a:lnTo>
                    <a:lnTo>
                      <a:pt x="296" y="20"/>
                    </a:lnTo>
                    <a:lnTo>
                      <a:pt x="316" y="22"/>
                    </a:lnTo>
                    <a:lnTo>
                      <a:pt x="338" y="25"/>
                    </a:lnTo>
                    <a:lnTo>
                      <a:pt x="358" y="28"/>
                    </a:lnTo>
                    <a:lnTo>
                      <a:pt x="382" y="31"/>
                    </a:lnTo>
                    <a:lnTo>
                      <a:pt x="409" y="35"/>
                    </a:lnTo>
                    <a:lnTo>
                      <a:pt x="440" y="39"/>
                    </a:lnTo>
                    <a:lnTo>
                      <a:pt x="477" y="43"/>
                    </a:lnTo>
                    <a:lnTo>
                      <a:pt x="519" y="50"/>
                    </a:lnTo>
                    <a:lnTo>
                      <a:pt x="570" y="57"/>
                    </a:lnTo>
                    <a:lnTo>
                      <a:pt x="631" y="65"/>
                    </a:lnTo>
                    <a:lnTo>
                      <a:pt x="701" y="74"/>
                    </a:lnTo>
                    <a:lnTo>
                      <a:pt x="783" y="85"/>
                    </a:lnTo>
                    <a:lnTo>
                      <a:pt x="814" y="90"/>
                    </a:lnTo>
                    <a:lnTo>
                      <a:pt x="840" y="96"/>
                    </a:lnTo>
                    <a:lnTo>
                      <a:pt x="862" y="103"/>
                    </a:lnTo>
                    <a:lnTo>
                      <a:pt x="880" y="111"/>
                    </a:lnTo>
                    <a:lnTo>
                      <a:pt x="895" y="120"/>
                    </a:lnTo>
                    <a:lnTo>
                      <a:pt x="906" y="129"/>
                    </a:lnTo>
                    <a:lnTo>
                      <a:pt x="916" y="139"/>
                    </a:lnTo>
                    <a:lnTo>
                      <a:pt x="921" y="149"/>
                    </a:lnTo>
                    <a:lnTo>
                      <a:pt x="924" y="159"/>
                    </a:lnTo>
                    <a:lnTo>
                      <a:pt x="925" y="171"/>
                    </a:lnTo>
                    <a:lnTo>
                      <a:pt x="924" y="182"/>
                    </a:lnTo>
                    <a:lnTo>
                      <a:pt x="921" y="193"/>
                    </a:lnTo>
                    <a:lnTo>
                      <a:pt x="917" y="204"/>
                    </a:lnTo>
                    <a:lnTo>
                      <a:pt x="911" y="214"/>
                    </a:lnTo>
                    <a:lnTo>
                      <a:pt x="904" y="225"/>
                    </a:lnTo>
                    <a:lnTo>
                      <a:pt x="897" y="236"/>
                    </a:lnTo>
                    <a:lnTo>
                      <a:pt x="889" y="248"/>
                    </a:lnTo>
                    <a:lnTo>
                      <a:pt x="879" y="259"/>
                    </a:lnTo>
                    <a:lnTo>
                      <a:pt x="869" y="271"/>
                    </a:lnTo>
                    <a:lnTo>
                      <a:pt x="859" y="282"/>
                    </a:lnTo>
                    <a:lnTo>
                      <a:pt x="847" y="294"/>
                    </a:lnTo>
                    <a:lnTo>
                      <a:pt x="835" y="304"/>
                    </a:lnTo>
                    <a:lnTo>
                      <a:pt x="820" y="314"/>
                    </a:lnTo>
                    <a:lnTo>
                      <a:pt x="804" y="322"/>
                    </a:lnTo>
                    <a:lnTo>
                      <a:pt x="788" y="330"/>
                    </a:lnTo>
                    <a:lnTo>
                      <a:pt x="769" y="336"/>
                    </a:lnTo>
                    <a:lnTo>
                      <a:pt x="747" y="341"/>
                    </a:lnTo>
                    <a:lnTo>
                      <a:pt x="724" y="345"/>
                    </a:lnTo>
                    <a:lnTo>
                      <a:pt x="699" y="347"/>
                    </a:lnTo>
                    <a:lnTo>
                      <a:pt x="671" y="347"/>
                    </a:lnTo>
                    <a:lnTo>
                      <a:pt x="641" y="346"/>
                    </a:lnTo>
                    <a:lnTo>
                      <a:pt x="608" y="342"/>
                    </a:lnTo>
                    <a:lnTo>
                      <a:pt x="588" y="339"/>
                    </a:lnTo>
                    <a:lnTo>
                      <a:pt x="570" y="337"/>
                    </a:lnTo>
                    <a:lnTo>
                      <a:pt x="556" y="335"/>
                    </a:lnTo>
                    <a:lnTo>
                      <a:pt x="542" y="334"/>
                    </a:lnTo>
                    <a:lnTo>
                      <a:pt x="530" y="332"/>
                    </a:lnTo>
                    <a:lnTo>
                      <a:pt x="518" y="330"/>
                    </a:lnTo>
                    <a:lnTo>
                      <a:pt x="505" y="329"/>
                    </a:lnTo>
                    <a:lnTo>
                      <a:pt x="491" y="327"/>
                    </a:lnTo>
                    <a:lnTo>
                      <a:pt x="476" y="325"/>
                    </a:lnTo>
                    <a:lnTo>
                      <a:pt x="458" y="322"/>
                    </a:lnTo>
                    <a:lnTo>
                      <a:pt x="436" y="320"/>
                    </a:lnTo>
                    <a:lnTo>
                      <a:pt x="411" y="316"/>
                    </a:lnTo>
                    <a:lnTo>
                      <a:pt x="382" y="312"/>
                    </a:lnTo>
                    <a:lnTo>
                      <a:pt x="348" y="308"/>
                    </a:lnTo>
                    <a:lnTo>
                      <a:pt x="307" y="302"/>
                    </a:lnTo>
                    <a:lnTo>
                      <a:pt x="259" y="296"/>
                    </a:lnTo>
                    <a:lnTo>
                      <a:pt x="227" y="290"/>
                    </a:lnTo>
                    <a:lnTo>
                      <a:pt x="199" y="284"/>
                    </a:lnTo>
                    <a:lnTo>
                      <a:pt x="172" y="277"/>
                    </a:lnTo>
                    <a:lnTo>
                      <a:pt x="149" y="269"/>
                    </a:lnTo>
                    <a:lnTo>
                      <a:pt x="127" y="259"/>
                    </a:lnTo>
                    <a:lnTo>
                      <a:pt x="108" y="250"/>
                    </a:lnTo>
                    <a:lnTo>
                      <a:pt x="92" y="239"/>
                    </a:lnTo>
                    <a:lnTo>
                      <a:pt x="77" y="226"/>
                    </a:lnTo>
                    <a:lnTo>
                      <a:pt x="63" y="215"/>
                    </a:lnTo>
                    <a:lnTo>
                      <a:pt x="52" y="202"/>
                    </a:lnTo>
                    <a:lnTo>
                      <a:pt x="43" y="189"/>
                    </a:lnTo>
                    <a:lnTo>
                      <a:pt x="34" y="176"/>
                    </a:lnTo>
                    <a:lnTo>
                      <a:pt x="27" y="162"/>
                    </a:lnTo>
                    <a:lnTo>
                      <a:pt x="21" y="149"/>
                    </a:lnTo>
                    <a:lnTo>
                      <a:pt x="15" y="135"/>
                    </a:lnTo>
                    <a:lnTo>
                      <a:pt x="10" y="122"/>
                    </a:lnTo>
                    <a:lnTo>
                      <a:pt x="6" y="111"/>
                    </a:lnTo>
                    <a:lnTo>
                      <a:pt x="3" y="98"/>
                    </a:lnTo>
                    <a:lnTo>
                      <a:pt x="1" y="86"/>
                    </a:lnTo>
                    <a:lnTo>
                      <a:pt x="0" y="74"/>
                    </a:lnTo>
                    <a:lnTo>
                      <a:pt x="0" y="63"/>
                    </a:lnTo>
                    <a:lnTo>
                      <a:pt x="1" y="52"/>
                    </a:lnTo>
                    <a:lnTo>
                      <a:pt x="5" y="40"/>
                    </a:lnTo>
                    <a:lnTo>
                      <a:pt x="11" y="30"/>
                    </a:lnTo>
                    <a:lnTo>
                      <a:pt x="20" y="22"/>
                    </a:lnTo>
                    <a:lnTo>
                      <a:pt x="32" y="14"/>
                    </a:lnTo>
                    <a:lnTo>
                      <a:pt x="47" y="8"/>
                    </a:lnTo>
                    <a:lnTo>
                      <a:pt x="66" y="3"/>
                    </a:lnTo>
                    <a:lnTo>
                      <a:pt x="88" y="1"/>
                    </a:lnTo>
                    <a:lnTo>
                      <a:pt x="116" y="0"/>
                    </a:lnTo>
                    <a:lnTo>
                      <a:pt x="147" y="1"/>
                    </a:lnTo>
                    <a:lnTo>
                      <a:pt x="183" y="5"/>
                    </a:lnTo>
                    <a:close/>
                  </a:path>
                </a:pathLst>
              </a:custGeom>
              <a:solidFill>
                <a:srgbClr val="4a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552440" y="4388040"/>
                <a:ext cx="59400" cy="18360"/>
              </a:xfrm>
              <a:custGeom>
                <a:avLst/>
                <a:gdLst/>
                <a:ahLst/>
                <a:rect l="l" t="t" r="r" b="b"/>
                <a:pathLst>
                  <a:path w="857" h="322">
                    <a:moveTo>
                      <a:pt x="170" y="5"/>
                    </a:moveTo>
                    <a:lnTo>
                      <a:pt x="202" y="9"/>
                    </a:lnTo>
                    <a:lnTo>
                      <a:pt x="229" y="13"/>
                    </a:lnTo>
                    <a:lnTo>
                      <a:pt x="253" y="16"/>
                    </a:lnTo>
                    <a:lnTo>
                      <a:pt x="274" y="19"/>
                    </a:lnTo>
                    <a:lnTo>
                      <a:pt x="294" y="21"/>
                    </a:lnTo>
                    <a:lnTo>
                      <a:pt x="314" y="24"/>
                    </a:lnTo>
                    <a:lnTo>
                      <a:pt x="332" y="26"/>
                    </a:lnTo>
                    <a:lnTo>
                      <a:pt x="354" y="29"/>
                    </a:lnTo>
                    <a:lnTo>
                      <a:pt x="379" y="33"/>
                    </a:lnTo>
                    <a:lnTo>
                      <a:pt x="408" y="37"/>
                    </a:lnTo>
                    <a:lnTo>
                      <a:pt x="442" y="42"/>
                    </a:lnTo>
                    <a:lnTo>
                      <a:pt x="482" y="47"/>
                    </a:lnTo>
                    <a:lnTo>
                      <a:pt x="529" y="53"/>
                    </a:lnTo>
                    <a:lnTo>
                      <a:pt x="585" y="60"/>
                    </a:lnTo>
                    <a:lnTo>
                      <a:pt x="650" y="69"/>
                    </a:lnTo>
                    <a:lnTo>
                      <a:pt x="726" y="79"/>
                    </a:lnTo>
                    <a:lnTo>
                      <a:pt x="778" y="89"/>
                    </a:lnTo>
                    <a:lnTo>
                      <a:pt x="815" y="103"/>
                    </a:lnTo>
                    <a:lnTo>
                      <a:pt x="840" y="119"/>
                    </a:lnTo>
                    <a:lnTo>
                      <a:pt x="853" y="137"/>
                    </a:lnTo>
                    <a:lnTo>
                      <a:pt x="857" y="158"/>
                    </a:lnTo>
                    <a:lnTo>
                      <a:pt x="854" y="178"/>
                    </a:lnTo>
                    <a:lnTo>
                      <a:pt x="844" y="198"/>
                    </a:lnTo>
                    <a:lnTo>
                      <a:pt x="832" y="218"/>
                    </a:lnTo>
                    <a:lnTo>
                      <a:pt x="823" y="229"/>
                    </a:lnTo>
                    <a:lnTo>
                      <a:pt x="815" y="240"/>
                    </a:lnTo>
                    <a:lnTo>
                      <a:pt x="806" y="251"/>
                    </a:lnTo>
                    <a:lnTo>
                      <a:pt x="795" y="261"/>
                    </a:lnTo>
                    <a:lnTo>
                      <a:pt x="785" y="272"/>
                    </a:lnTo>
                    <a:lnTo>
                      <a:pt x="773" y="282"/>
                    </a:lnTo>
                    <a:lnTo>
                      <a:pt x="760" y="291"/>
                    </a:lnTo>
                    <a:lnTo>
                      <a:pt x="745" y="299"/>
                    </a:lnTo>
                    <a:lnTo>
                      <a:pt x="730" y="306"/>
                    </a:lnTo>
                    <a:lnTo>
                      <a:pt x="712" y="312"/>
                    </a:lnTo>
                    <a:lnTo>
                      <a:pt x="692" y="317"/>
                    </a:lnTo>
                    <a:lnTo>
                      <a:pt x="672" y="320"/>
                    </a:lnTo>
                    <a:lnTo>
                      <a:pt x="648" y="322"/>
                    </a:lnTo>
                    <a:lnTo>
                      <a:pt x="622" y="322"/>
                    </a:lnTo>
                    <a:lnTo>
                      <a:pt x="593" y="321"/>
                    </a:lnTo>
                    <a:lnTo>
                      <a:pt x="563" y="318"/>
                    </a:lnTo>
                    <a:lnTo>
                      <a:pt x="545" y="316"/>
                    </a:lnTo>
                    <a:lnTo>
                      <a:pt x="529" y="313"/>
                    </a:lnTo>
                    <a:lnTo>
                      <a:pt x="515" y="312"/>
                    </a:lnTo>
                    <a:lnTo>
                      <a:pt x="503" y="310"/>
                    </a:lnTo>
                    <a:lnTo>
                      <a:pt x="491" y="308"/>
                    </a:lnTo>
                    <a:lnTo>
                      <a:pt x="480" y="307"/>
                    </a:lnTo>
                    <a:lnTo>
                      <a:pt x="469" y="305"/>
                    </a:lnTo>
                    <a:lnTo>
                      <a:pt x="456" y="304"/>
                    </a:lnTo>
                    <a:lnTo>
                      <a:pt x="442" y="302"/>
                    </a:lnTo>
                    <a:lnTo>
                      <a:pt x="424" y="299"/>
                    </a:lnTo>
                    <a:lnTo>
                      <a:pt x="404" y="297"/>
                    </a:lnTo>
                    <a:lnTo>
                      <a:pt x="381" y="294"/>
                    </a:lnTo>
                    <a:lnTo>
                      <a:pt x="353" y="290"/>
                    </a:lnTo>
                    <a:lnTo>
                      <a:pt x="322" y="286"/>
                    </a:lnTo>
                    <a:lnTo>
                      <a:pt x="283" y="281"/>
                    </a:lnTo>
                    <a:lnTo>
                      <a:pt x="240" y="274"/>
                    </a:lnTo>
                    <a:lnTo>
                      <a:pt x="211" y="269"/>
                    </a:lnTo>
                    <a:lnTo>
                      <a:pt x="183" y="264"/>
                    </a:lnTo>
                    <a:lnTo>
                      <a:pt x="160" y="257"/>
                    </a:lnTo>
                    <a:lnTo>
                      <a:pt x="138" y="249"/>
                    </a:lnTo>
                    <a:lnTo>
                      <a:pt x="118" y="241"/>
                    </a:lnTo>
                    <a:lnTo>
                      <a:pt x="100" y="231"/>
                    </a:lnTo>
                    <a:lnTo>
                      <a:pt x="85" y="222"/>
                    </a:lnTo>
                    <a:lnTo>
                      <a:pt x="71" y="210"/>
                    </a:lnTo>
                    <a:lnTo>
                      <a:pt x="59" y="199"/>
                    </a:lnTo>
                    <a:lnTo>
                      <a:pt x="48" y="188"/>
                    </a:lnTo>
                    <a:lnTo>
                      <a:pt x="39" y="176"/>
                    </a:lnTo>
                    <a:lnTo>
                      <a:pt x="32" y="164"/>
                    </a:lnTo>
                    <a:lnTo>
                      <a:pt x="24" y="150"/>
                    </a:lnTo>
                    <a:lnTo>
                      <a:pt x="19" y="138"/>
                    </a:lnTo>
                    <a:lnTo>
                      <a:pt x="14" y="125"/>
                    </a:lnTo>
                    <a:lnTo>
                      <a:pt x="10" y="113"/>
                    </a:lnTo>
                    <a:lnTo>
                      <a:pt x="7" y="103"/>
                    </a:lnTo>
                    <a:lnTo>
                      <a:pt x="3" y="91"/>
                    </a:lnTo>
                    <a:lnTo>
                      <a:pt x="1" y="80"/>
                    </a:lnTo>
                    <a:lnTo>
                      <a:pt x="0" y="69"/>
                    </a:lnTo>
                    <a:lnTo>
                      <a:pt x="0" y="58"/>
                    </a:lnTo>
                    <a:lnTo>
                      <a:pt x="1" y="48"/>
                    </a:lnTo>
                    <a:lnTo>
                      <a:pt x="6" y="38"/>
                    </a:lnTo>
                    <a:lnTo>
                      <a:pt x="11" y="28"/>
                    </a:lnTo>
                    <a:lnTo>
                      <a:pt x="19" y="20"/>
                    </a:lnTo>
                    <a:lnTo>
                      <a:pt x="30" y="13"/>
                    </a:lnTo>
                    <a:lnTo>
                      <a:pt x="44" y="7"/>
                    </a:lnTo>
                    <a:lnTo>
                      <a:pt x="62" y="3"/>
                    </a:lnTo>
                    <a:lnTo>
                      <a:pt x="83" y="0"/>
                    </a:lnTo>
                    <a:lnTo>
                      <a:pt x="107" y="0"/>
                    </a:lnTo>
                    <a:lnTo>
                      <a:pt x="137" y="1"/>
                    </a:lnTo>
                    <a:lnTo>
                      <a:pt x="170" y="5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553520" y="4388040"/>
                <a:ext cx="55440" cy="17280"/>
              </a:xfrm>
              <a:custGeom>
                <a:avLst/>
                <a:gdLst/>
                <a:ahLst/>
                <a:rect l="l" t="t" r="r" b="b"/>
                <a:pathLst>
                  <a:path w="790" h="297">
                    <a:moveTo>
                      <a:pt x="157" y="4"/>
                    </a:moveTo>
                    <a:lnTo>
                      <a:pt x="670" y="73"/>
                    </a:lnTo>
                    <a:lnTo>
                      <a:pt x="717" y="83"/>
                    </a:lnTo>
                    <a:lnTo>
                      <a:pt x="753" y="95"/>
                    </a:lnTo>
                    <a:lnTo>
                      <a:pt x="775" y="110"/>
                    </a:lnTo>
                    <a:lnTo>
                      <a:pt x="787" y="127"/>
                    </a:lnTo>
                    <a:lnTo>
                      <a:pt x="790" y="146"/>
                    </a:lnTo>
                    <a:lnTo>
                      <a:pt x="787" y="164"/>
                    </a:lnTo>
                    <a:lnTo>
                      <a:pt x="779" y="182"/>
                    </a:lnTo>
                    <a:lnTo>
                      <a:pt x="767" y="200"/>
                    </a:lnTo>
                    <a:lnTo>
                      <a:pt x="760" y="211"/>
                    </a:lnTo>
                    <a:lnTo>
                      <a:pt x="752" y="221"/>
                    </a:lnTo>
                    <a:lnTo>
                      <a:pt x="743" y="231"/>
                    </a:lnTo>
                    <a:lnTo>
                      <a:pt x="734" y="241"/>
                    </a:lnTo>
                    <a:lnTo>
                      <a:pt x="725" y="250"/>
                    </a:lnTo>
                    <a:lnTo>
                      <a:pt x="713" y="259"/>
                    </a:lnTo>
                    <a:lnTo>
                      <a:pt x="702" y="268"/>
                    </a:lnTo>
                    <a:lnTo>
                      <a:pt x="688" y="276"/>
                    </a:lnTo>
                    <a:lnTo>
                      <a:pt x="674" y="282"/>
                    </a:lnTo>
                    <a:lnTo>
                      <a:pt x="657" y="288"/>
                    </a:lnTo>
                    <a:lnTo>
                      <a:pt x="639" y="292"/>
                    </a:lnTo>
                    <a:lnTo>
                      <a:pt x="620" y="295"/>
                    </a:lnTo>
                    <a:lnTo>
                      <a:pt x="598" y="297"/>
                    </a:lnTo>
                    <a:lnTo>
                      <a:pt x="574" y="297"/>
                    </a:lnTo>
                    <a:lnTo>
                      <a:pt x="548" y="296"/>
                    </a:lnTo>
                    <a:lnTo>
                      <a:pt x="520" y="293"/>
                    </a:lnTo>
                    <a:lnTo>
                      <a:pt x="223" y="253"/>
                    </a:lnTo>
                    <a:lnTo>
                      <a:pt x="196" y="249"/>
                    </a:lnTo>
                    <a:lnTo>
                      <a:pt x="170" y="243"/>
                    </a:lnTo>
                    <a:lnTo>
                      <a:pt x="148" y="237"/>
                    </a:lnTo>
                    <a:lnTo>
                      <a:pt x="127" y="230"/>
                    </a:lnTo>
                    <a:lnTo>
                      <a:pt x="109" y="222"/>
                    </a:lnTo>
                    <a:lnTo>
                      <a:pt x="93" y="214"/>
                    </a:lnTo>
                    <a:lnTo>
                      <a:pt x="79" y="205"/>
                    </a:lnTo>
                    <a:lnTo>
                      <a:pt x="66" y="194"/>
                    </a:lnTo>
                    <a:lnTo>
                      <a:pt x="55" y="184"/>
                    </a:lnTo>
                    <a:lnTo>
                      <a:pt x="45" y="173"/>
                    </a:lnTo>
                    <a:lnTo>
                      <a:pt x="36" y="162"/>
                    </a:lnTo>
                    <a:lnTo>
                      <a:pt x="29" y="151"/>
                    </a:lnTo>
                    <a:lnTo>
                      <a:pt x="22" y="139"/>
                    </a:lnTo>
                    <a:lnTo>
                      <a:pt x="17" y="128"/>
                    </a:lnTo>
                    <a:lnTo>
                      <a:pt x="13" y="116"/>
                    </a:lnTo>
                    <a:lnTo>
                      <a:pt x="9" y="105"/>
                    </a:lnTo>
                    <a:lnTo>
                      <a:pt x="6" y="95"/>
                    </a:lnTo>
                    <a:lnTo>
                      <a:pt x="4" y="85"/>
                    </a:lnTo>
                    <a:lnTo>
                      <a:pt x="2" y="74"/>
                    </a:lnTo>
                    <a:lnTo>
                      <a:pt x="0" y="64"/>
                    </a:lnTo>
                    <a:lnTo>
                      <a:pt x="0" y="54"/>
                    </a:lnTo>
                    <a:lnTo>
                      <a:pt x="2" y="45"/>
                    </a:lnTo>
                    <a:lnTo>
                      <a:pt x="6" y="36"/>
                    </a:lnTo>
                    <a:lnTo>
                      <a:pt x="11" y="27"/>
                    </a:lnTo>
                    <a:lnTo>
                      <a:pt x="18" y="20"/>
                    </a:lnTo>
                    <a:lnTo>
                      <a:pt x="29" y="12"/>
                    </a:lnTo>
                    <a:lnTo>
                      <a:pt x="41" y="7"/>
                    </a:lnTo>
                    <a:lnTo>
                      <a:pt x="57" y="3"/>
                    </a:lnTo>
                    <a:lnTo>
                      <a:pt x="76" y="0"/>
                    </a:lnTo>
                    <a:lnTo>
                      <a:pt x="99" y="0"/>
                    </a:lnTo>
                    <a:lnTo>
                      <a:pt x="125" y="1"/>
                    </a:lnTo>
                    <a:lnTo>
                      <a:pt x="157" y="4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537680" y="4360320"/>
                <a:ext cx="92880" cy="29160"/>
              </a:xfrm>
              <a:custGeom>
                <a:avLst/>
                <a:gdLst/>
                <a:ahLst/>
                <a:rect l="l" t="t" r="r" b="b"/>
                <a:pathLst>
                  <a:path w="1339" h="504">
                    <a:moveTo>
                      <a:pt x="234" y="382"/>
                    </a:moveTo>
                    <a:lnTo>
                      <a:pt x="1103" y="497"/>
                    </a:lnTo>
                    <a:lnTo>
                      <a:pt x="1148" y="503"/>
                    </a:lnTo>
                    <a:lnTo>
                      <a:pt x="1187" y="504"/>
                    </a:lnTo>
                    <a:lnTo>
                      <a:pt x="1220" y="503"/>
                    </a:lnTo>
                    <a:lnTo>
                      <a:pt x="1249" y="500"/>
                    </a:lnTo>
                    <a:lnTo>
                      <a:pt x="1273" y="493"/>
                    </a:lnTo>
                    <a:lnTo>
                      <a:pt x="1293" y="484"/>
                    </a:lnTo>
                    <a:lnTo>
                      <a:pt x="1308" y="474"/>
                    </a:lnTo>
                    <a:lnTo>
                      <a:pt x="1321" y="463"/>
                    </a:lnTo>
                    <a:lnTo>
                      <a:pt x="1329" y="449"/>
                    </a:lnTo>
                    <a:lnTo>
                      <a:pt x="1334" y="434"/>
                    </a:lnTo>
                    <a:lnTo>
                      <a:pt x="1338" y="419"/>
                    </a:lnTo>
                    <a:lnTo>
                      <a:pt x="1339" y="402"/>
                    </a:lnTo>
                    <a:lnTo>
                      <a:pt x="1336" y="386"/>
                    </a:lnTo>
                    <a:lnTo>
                      <a:pt x="1333" y="368"/>
                    </a:lnTo>
                    <a:lnTo>
                      <a:pt x="1329" y="351"/>
                    </a:lnTo>
                    <a:lnTo>
                      <a:pt x="1323" y="334"/>
                    </a:lnTo>
                    <a:lnTo>
                      <a:pt x="1315" y="313"/>
                    </a:lnTo>
                    <a:lnTo>
                      <a:pt x="1306" y="294"/>
                    </a:lnTo>
                    <a:lnTo>
                      <a:pt x="1297" y="274"/>
                    </a:lnTo>
                    <a:lnTo>
                      <a:pt x="1287" y="254"/>
                    </a:lnTo>
                    <a:lnTo>
                      <a:pt x="1275" y="234"/>
                    </a:lnTo>
                    <a:lnTo>
                      <a:pt x="1262" y="215"/>
                    </a:lnTo>
                    <a:lnTo>
                      <a:pt x="1245" y="197"/>
                    </a:lnTo>
                    <a:lnTo>
                      <a:pt x="1227" y="178"/>
                    </a:lnTo>
                    <a:lnTo>
                      <a:pt x="1206" y="161"/>
                    </a:lnTo>
                    <a:lnTo>
                      <a:pt x="1182" y="145"/>
                    </a:lnTo>
                    <a:lnTo>
                      <a:pt x="1155" y="130"/>
                    </a:lnTo>
                    <a:lnTo>
                      <a:pt x="1125" y="116"/>
                    </a:lnTo>
                    <a:lnTo>
                      <a:pt x="1091" y="104"/>
                    </a:lnTo>
                    <a:lnTo>
                      <a:pt x="1052" y="93"/>
                    </a:lnTo>
                    <a:lnTo>
                      <a:pt x="1010" y="83"/>
                    </a:lnTo>
                    <a:lnTo>
                      <a:pt x="962" y="76"/>
                    </a:lnTo>
                    <a:lnTo>
                      <a:pt x="457" y="8"/>
                    </a:lnTo>
                    <a:lnTo>
                      <a:pt x="410" y="2"/>
                    </a:lnTo>
                    <a:lnTo>
                      <a:pt x="367" y="0"/>
                    </a:lnTo>
                    <a:lnTo>
                      <a:pt x="327" y="0"/>
                    </a:lnTo>
                    <a:lnTo>
                      <a:pt x="291" y="3"/>
                    </a:lnTo>
                    <a:lnTo>
                      <a:pt x="257" y="8"/>
                    </a:lnTo>
                    <a:lnTo>
                      <a:pt x="226" y="15"/>
                    </a:lnTo>
                    <a:lnTo>
                      <a:pt x="198" y="24"/>
                    </a:lnTo>
                    <a:lnTo>
                      <a:pt x="173" y="34"/>
                    </a:lnTo>
                    <a:lnTo>
                      <a:pt x="150" y="45"/>
                    </a:lnTo>
                    <a:lnTo>
                      <a:pt x="129" y="58"/>
                    </a:lnTo>
                    <a:lnTo>
                      <a:pt x="111" y="73"/>
                    </a:lnTo>
                    <a:lnTo>
                      <a:pt x="93" y="88"/>
                    </a:lnTo>
                    <a:lnTo>
                      <a:pt x="77" y="104"/>
                    </a:lnTo>
                    <a:lnTo>
                      <a:pt x="64" y="120"/>
                    </a:lnTo>
                    <a:lnTo>
                      <a:pt x="50" y="137"/>
                    </a:lnTo>
                    <a:lnTo>
                      <a:pt x="39" y="154"/>
                    </a:lnTo>
                    <a:lnTo>
                      <a:pt x="29" y="168"/>
                    </a:lnTo>
                    <a:lnTo>
                      <a:pt x="21" y="183"/>
                    </a:lnTo>
                    <a:lnTo>
                      <a:pt x="13" y="200"/>
                    </a:lnTo>
                    <a:lnTo>
                      <a:pt x="7" y="216"/>
                    </a:lnTo>
                    <a:lnTo>
                      <a:pt x="2" y="232"/>
                    </a:lnTo>
                    <a:lnTo>
                      <a:pt x="0" y="248"/>
                    </a:lnTo>
                    <a:lnTo>
                      <a:pt x="1" y="265"/>
                    </a:lnTo>
                    <a:lnTo>
                      <a:pt x="6" y="281"/>
                    </a:lnTo>
                    <a:lnTo>
                      <a:pt x="15" y="297"/>
                    </a:lnTo>
                    <a:lnTo>
                      <a:pt x="28" y="311"/>
                    </a:lnTo>
                    <a:lnTo>
                      <a:pt x="47" y="327"/>
                    </a:lnTo>
                    <a:lnTo>
                      <a:pt x="71" y="340"/>
                    </a:lnTo>
                    <a:lnTo>
                      <a:pt x="101" y="352"/>
                    </a:lnTo>
                    <a:lnTo>
                      <a:pt x="139" y="363"/>
                    </a:lnTo>
                    <a:lnTo>
                      <a:pt x="182" y="373"/>
                    </a:lnTo>
                    <a:lnTo>
                      <a:pt x="234" y="382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540560" y="4361400"/>
                <a:ext cx="87480" cy="27720"/>
              </a:xfrm>
              <a:custGeom>
                <a:avLst/>
                <a:gdLst/>
                <a:ahLst/>
                <a:rect l="l" t="t" r="r" b="b"/>
                <a:pathLst>
                  <a:path w="1268" h="477">
                    <a:moveTo>
                      <a:pt x="222" y="361"/>
                    </a:moveTo>
                    <a:lnTo>
                      <a:pt x="247" y="365"/>
                    </a:lnTo>
                    <a:lnTo>
                      <a:pt x="270" y="368"/>
                    </a:lnTo>
                    <a:lnTo>
                      <a:pt x="291" y="371"/>
                    </a:lnTo>
                    <a:lnTo>
                      <a:pt x="311" y="374"/>
                    </a:lnTo>
                    <a:lnTo>
                      <a:pt x="328" y="376"/>
                    </a:lnTo>
                    <a:lnTo>
                      <a:pt x="346" y="378"/>
                    </a:lnTo>
                    <a:lnTo>
                      <a:pt x="362" y="380"/>
                    </a:lnTo>
                    <a:lnTo>
                      <a:pt x="377" y="382"/>
                    </a:lnTo>
                    <a:lnTo>
                      <a:pt x="392" y="384"/>
                    </a:lnTo>
                    <a:lnTo>
                      <a:pt x="406" y="386"/>
                    </a:lnTo>
                    <a:lnTo>
                      <a:pt x="421" y="388"/>
                    </a:lnTo>
                    <a:lnTo>
                      <a:pt x="436" y="390"/>
                    </a:lnTo>
                    <a:lnTo>
                      <a:pt x="450" y="392"/>
                    </a:lnTo>
                    <a:lnTo>
                      <a:pt x="465" y="394"/>
                    </a:lnTo>
                    <a:lnTo>
                      <a:pt x="480" y="396"/>
                    </a:lnTo>
                    <a:lnTo>
                      <a:pt x="496" y="398"/>
                    </a:lnTo>
                    <a:lnTo>
                      <a:pt x="514" y="400"/>
                    </a:lnTo>
                    <a:lnTo>
                      <a:pt x="533" y="403"/>
                    </a:lnTo>
                    <a:lnTo>
                      <a:pt x="553" y="406"/>
                    </a:lnTo>
                    <a:lnTo>
                      <a:pt x="576" y="408"/>
                    </a:lnTo>
                    <a:lnTo>
                      <a:pt x="600" y="412"/>
                    </a:lnTo>
                    <a:lnTo>
                      <a:pt x="626" y="415"/>
                    </a:lnTo>
                    <a:lnTo>
                      <a:pt x="654" y="419"/>
                    </a:lnTo>
                    <a:lnTo>
                      <a:pt x="685" y="424"/>
                    </a:lnTo>
                    <a:lnTo>
                      <a:pt x="719" y="428"/>
                    </a:lnTo>
                    <a:lnTo>
                      <a:pt x="755" y="433"/>
                    </a:lnTo>
                    <a:lnTo>
                      <a:pt x="795" y="438"/>
                    </a:lnTo>
                    <a:lnTo>
                      <a:pt x="837" y="444"/>
                    </a:lnTo>
                    <a:lnTo>
                      <a:pt x="883" y="450"/>
                    </a:lnTo>
                    <a:lnTo>
                      <a:pt x="934" y="456"/>
                    </a:lnTo>
                    <a:lnTo>
                      <a:pt x="987" y="463"/>
                    </a:lnTo>
                    <a:lnTo>
                      <a:pt x="1045" y="471"/>
                    </a:lnTo>
                    <a:lnTo>
                      <a:pt x="1088" y="475"/>
                    </a:lnTo>
                    <a:lnTo>
                      <a:pt x="1125" y="477"/>
                    </a:lnTo>
                    <a:lnTo>
                      <a:pt x="1157" y="476"/>
                    </a:lnTo>
                    <a:lnTo>
                      <a:pt x="1184" y="473"/>
                    </a:lnTo>
                    <a:lnTo>
                      <a:pt x="1207" y="467"/>
                    </a:lnTo>
                    <a:lnTo>
                      <a:pt x="1225" y="459"/>
                    </a:lnTo>
                    <a:lnTo>
                      <a:pt x="1240" y="450"/>
                    </a:lnTo>
                    <a:lnTo>
                      <a:pt x="1251" y="438"/>
                    </a:lnTo>
                    <a:lnTo>
                      <a:pt x="1260" y="426"/>
                    </a:lnTo>
                    <a:lnTo>
                      <a:pt x="1265" y="411"/>
                    </a:lnTo>
                    <a:lnTo>
                      <a:pt x="1268" y="397"/>
                    </a:lnTo>
                    <a:lnTo>
                      <a:pt x="1268" y="381"/>
                    </a:lnTo>
                    <a:lnTo>
                      <a:pt x="1267" y="365"/>
                    </a:lnTo>
                    <a:lnTo>
                      <a:pt x="1264" y="348"/>
                    </a:lnTo>
                    <a:lnTo>
                      <a:pt x="1259" y="332"/>
                    </a:lnTo>
                    <a:lnTo>
                      <a:pt x="1254" y="316"/>
                    </a:lnTo>
                    <a:lnTo>
                      <a:pt x="1246" y="297"/>
                    </a:lnTo>
                    <a:lnTo>
                      <a:pt x="1238" y="278"/>
                    </a:lnTo>
                    <a:lnTo>
                      <a:pt x="1230" y="259"/>
                    </a:lnTo>
                    <a:lnTo>
                      <a:pt x="1219" y="241"/>
                    </a:lnTo>
                    <a:lnTo>
                      <a:pt x="1208" y="221"/>
                    </a:lnTo>
                    <a:lnTo>
                      <a:pt x="1195" y="203"/>
                    </a:lnTo>
                    <a:lnTo>
                      <a:pt x="1180" y="186"/>
                    </a:lnTo>
                    <a:lnTo>
                      <a:pt x="1163" y="168"/>
                    </a:lnTo>
                    <a:lnTo>
                      <a:pt x="1143" y="152"/>
                    </a:lnTo>
                    <a:lnTo>
                      <a:pt x="1120" y="137"/>
                    </a:lnTo>
                    <a:lnTo>
                      <a:pt x="1094" y="123"/>
                    </a:lnTo>
                    <a:lnTo>
                      <a:pt x="1065" y="109"/>
                    </a:lnTo>
                    <a:lnTo>
                      <a:pt x="1033" y="97"/>
                    </a:lnTo>
                    <a:lnTo>
                      <a:pt x="997" y="87"/>
                    </a:lnTo>
                    <a:lnTo>
                      <a:pt x="956" y="78"/>
                    </a:lnTo>
                    <a:lnTo>
                      <a:pt x="910" y="71"/>
                    </a:lnTo>
                    <a:lnTo>
                      <a:pt x="883" y="67"/>
                    </a:lnTo>
                    <a:lnTo>
                      <a:pt x="859" y="64"/>
                    </a:lnTo>
                    <a:lnTo>
                      <a:pt x="839" y="62"/>
                    </a:lnTo>
                    <a:lnTo>
                      <a:pt x="821" y="59"/>
                    </a:lnTo>
                    <a:lnTo>
                      <a:pt x="804" y="57"/>
                    </a:lnTo>
                    <a:lnTo>
                      <a:pt x="787" y="55"/>
                    </a:lnTo>
                    <a:lnTo>
                      <a:pt x="770" y="51"/>
                    </a:lnTo>
                    <a:lnTo>
                      <a:pt x="751" y="49"/>
                    </a:lnTo>
                    <a:lnTo>
                      <a:pt x="730" y="46"/>
                    </a:lnTo>
                    <a:lnTo>
                      <a:pt x="705" y="43"/>
                    </a:lnTo>
                    <a:lnTo>
                      <a:pt x="676" y="39"/>
                    </a:lnTo>
                    <a:lnTo>
                      <a:pt x="642" y="35"/>
                    </a:lnTo>
                    <a:lnTo>
                      <a:pt x="600" y="29"/>
                    </a:lnTo>
                    <a:lnTo>
                      <a:pt x="552" y="23"/>
                    </a:lnTo>
                    <a:lnTo>
                      <a:pt x="496" y="16"/>
                    </a:lnTo>
                    <a:lnTo>
                      <a:pt x="433" y="7"/>
                    </a:lnTo>
                    <a:lnTo>
                      <a:pt x="388" y="2"/>
                    </a:lnTo>
                    <a:lnTo>
                      <a:pt x="347" y="0"/>
                    </a:lnTo>
                    <a:lnTo>
                      <a:pt x="310" y="0"/>
                    </a:lnTo>
                    <a:lnTo>
                      <a:pt x="275" y="3"/>
                    </a:lnTo>
                    <a:lnTo>
                      <a:pt x="243" y="7"/>
                    </a:lnTo>
                    <a:lnTo>
                      <a:pt x="215" y="13"/>
                    </a:lnTo>
                    <a:lnTo>
                      <a:pt x="188" y="22"/>
                    </a:lnTo>
                    <a:lnTo>
                      <a:pt x="164" y="31"/>
                    </a:lnTo>
                    <a:lnTo>
                      <a:pt x="142" y="42"/>
                    </a:lnTo>
                    <a:lnTo>
                      <a:pt x="122" y="56"/>
                    </a:lnTo>
                    <a:lnTo>
                      <a:pt x="105" y="69"/>
                    </a:lnTo>
                    <a:lnTo>
                      <a:pt x="88" y="83"/>
                    </a:lnTo>
                    <a:lnTo>
                      <a:pt x="73" y="98"/>
                    </a:lnTo>
                    <a:lnTo>
                      <a:pt x="60" y="113"/>
                    </a:lnTo>
                    <a:lnTo>
                      <a:pt x="49" y="130"/>
                    </a:lnTo>
                    <a:lnTo>
                      <a:pt x="37" y="146"/>
                    </a:lnTo>
                    <a:lnTo>
                      <a:pt x="28" y="159"/>
                    </a:lnTo>
                    <a:lnTo>
                      <a:pt x="19" y="174"/>
                    </a:lnTo>
                    <a:lnTo>
                      <a:pt x="12" y="189"/>
                    </a:lnTo>
                    <a:lnTo>
                      <a:pt x="6" y="204"/>
                    </a:lnTo>
                    <a:lnTo>
                      <a:pt x="2" y="220"/>
                    </a:lnTo>
                    <a:lnTo>
                      <a:pt x="0" y="235"/>
                    </a:lnTo>
                    <a:lnTo>
                      <a:pt x="1" y="251"/>
                    </a:lnTo>
                    <a:lnTo>
                      <a:pt x="6" y="266"/>
                    </a:lnTo>
                    <a:lnTo>
                      <a:pt x="14" y="281"/>
                    </a:lnTo>
                    <a:lnTo>
                      <a:pt x="27" y="295"/>
                    </a:lnTo>
                    <a:lnTo>
                      <a:pt x="44" y="309"/>
                    </a:lnTo>
                    <a:lnTo>
                      <a:pt x="67" y="322"/>
                    </a:lnTo>
                    <a:lnTo>
                      <a:pt x="96" y="333"/>
                    </a:lnTo>
                    <a:lnTo>
                      <a:pt x="131" y="344"/>
                    </a:lnTo>
                    <a:lnTo>
                      <a:pt x="173" y="353"/>
                    </a:lnTo>
                    <a:lnTo>
                      <a:pt x="222" y="361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542000" y="4361400"/>
                <a:ext cx="84240" cy="26280"/>
              </a:xfrm>
              <a:custGeom>
                <a:avLst/>
                <a:gdLst/>
                <a:ahLst/>
                <a:rect l="l" t="t" r="r" b="b"/>
                <a:pathLst>
                  <a:path w="1201" h="452">
                    <a:moveTo>
                      <a:pt x="211" y="341"/>
                    </a:moveTo>
                    <a:lnTo>
                      <a:pt x="234" y="344"/>
                    </a:lnTo>
                    <a:lnTo>
                      <a:pt x="256" y="347"/>
                    </a:lnTo>
                    <a:lnTo>
                      <a:pt x="276" y="351"/>
                    </a:lnTo>
                    <a:lnTo>
                      <a:pt x="294" y="353"/>
                    </a:lnTo>
                    <a:lnTo>
                      <a:pt x="312" y="355"/>
                    </a:lnTo>
                    <a:lnTo>
                      <a:pt x="328" y="358"/>
                    </a:lnTo>
                    <a:lnTo>
                      <a:pt x="343" y="360"/>
                    </a:lnTo>
                    <a:lnTo>
                      <a:pt x="358" y="362"/>
                    </a:lnTo>
                    <a:lnTo>
                      <a:pt x="371" y="363"/>
                    </a:lnTo>
                    <a:lnTo>
                      <a:pt x="385" y="365"/>
                    </a:lnTo>
                    <a:lnTo>
                      <a:pt x="399" y="367"/>
                    </a:lnTo>
                    <a:lnTo>
                      <a:pt x="412" y="369"/>
                    </a:lnTo>
                    <a:lnTo>
                      <a:pt x="427" y="371"/>
                    </a:lnTo>
                    <a:lnTo>
                      <a:pt x="441" y="373"/>
                    </a:lnTo>
                    <a:lnTo>
                      <a:pt x="456" y="375"/>
                    </a:lnTo>
                    <a:lnTo>
                      <a:pt x="470" y="377"/>
                    </a:lnTo>
                    <a:lnTo>
                      <a:pt x="487" y="379"/>
                    </a:lnTo>
                    <a:lnTo>
                      <a:pt x="506" y="381"/>
                    </a:lnTo>
                    <a:lnTo>
                      <a:pt x="524" y="384"/>
                    </a:lnTo>
                    <a:lnTo>
                      <a:pt x="545" y="386"/>
                    </a:lnTo>
                    <a:lnTo>
                      <a:pt x="568" y="389"/>
                    </a:lnTo>
                    <a:lnTo>
                      <a:pt x="593" y="393"/>
                    </a:lnTo>
                    <a:lnTo>
                      <a:pt x="620" y="396"/>
                    </a:lnTo>
                    <a:lnTo>
                      <a:pt x="649" y="400"/>
                    </a:lnTo>
                    <a:lnTo>
                      <a:pt x="682" y="404"/>
                    </a:lnTo>
                    <a:lnTo>
                      <a:pt x="716" y="409"/>
                    </a:lnTo>
                    <a:lnTo>
                      <a:pt x="753" y="415"/>
                    </a:lnTo>
                    <a:lnTo>
                      <a:pt x="794" y="420"/>
                    </a:lnTo>
                    <a:lnTo>
                      <a:pt x="838" y="426"/>
                    </a:lnTo>
                    <a:lnTo>
                      <a:pt x="884" y="432"/>
                    </a:lnTo>
                    <a:lnTo>
                      <a:pt x="935" y="439"/>
                    </a:lnTo>
                    <a:lnTo>
                      <a:pt x="991" y="446"/>
                    </a:lnTo>
                    <a:lnTo>
                      <a:pt x="1030" y="450"/>
                    </a:lnTo>
                    <a:lnTo>
                      <a:pt x="1066" y="452"/>
                    </a:lnTo>
                    <a:lnTo>
                      <a:pt x="1096" y="451"/>
                    </a:lnTo>
                    <a:lnTo>
                      <a:pt x="1121" y="447"/>
                    </a:lnTo>
                    <a:lnTo>
                      <a:pt x="1143" y="442"/>
                    </a:lnTo>
                    <a:lnTo>
                      <a:pt x="1160" y="434"/>
                    </a:lnTo>
                    <a:lnTo>
                      <a:pt x="1174" y="425"/>
                    </a:lnTo>
                    <a:lnTo>
                      <a:pt x="1185" y="415"/>
                    </a:lnTo>
                    <a:lnTo>
                      <a:pt x="1193" y="402"/>
                    </a:lnTo>
                    <a:lnTo>
                      <a:pt x="1198" y="389"/>
                    </a:lnTo>
                    <a:lnTo>
                      <a:pt x="1200" y="375"/>
                    </a:lnTo>
                    <a:lnTo>
                      <a:pt x="1201" y="361"/>
                    </a:lnTo>
                    <a:lnTo>
                      <a:pt x="1199" y="345"/>
                    </a:lnTo>
                    <a:lnTo>
                      <a:pt x="1196" y="330"/>
                    </a:lnTo>
                    <a:lnTo>
                      <a:pt x="1191" y="315"/>
                    </a:lnTo>
                    <a:lnTo>
                      <a:pt x="1186" y="300"/>
                    </a:lnTo>
                    <a:lnTo>
                      <a:pt x="1179" y="281"/>
                    </a:lnTo>
                    <a:lnTo>
                      <a:pt x="1172" y="263"/>
                    </a:lnTo>
                    <a:lnTo>
                      <a:pt x="1163" y="246"/>
                    </a:lnTo>
                    <a:lnTo>
                      <a:pt x="1154" y="228"/>
                    </a:lnTo>
                    <a:lnTo>
                      <a:pt x="1144" y="209"/>
                    </a:lnTo>
                    <a:lnTo>
                      <a:pt x="1131" y="192"/>
                    </a:lnTo>
                    <a:lnTo>
                      <a:pt x="1117" y="176"/>
                    </a:lnTo>
                    <a:lnTo>
                      <a:pt x="1101" y="159"/>
                    </a:lnTo>
                    <a:lnTo>
                      <a:pt x="1082" y="144"/>
                    </a:lnTo>
                    <a:lnTo>
                      <a:pt x="1060" y="129"/>
                    </a:lnTo>
                    <a:lnTo>
                      <a:pt x="1036" y="116"/>
                    </a:lnTo>
                    <a:lnTo>
                      <a:pt x="1009" y="104"/>
                    </a:lnTo>
                    <a:lnTo>
                      <a:pt x="978" y="92"/>
                    </a:lnTo>
                    <a:lnTo>
                      <a:pt x="944" y="82"/>
                    </a:lnTo>
                    <a:lnTo>
                      <a:pt x="905" y="74"/>
                    </a:lnTo>
                    <a:lnTo>
                      <a:pt x="863" y="67"/>
                    </a:lnTo>
                    <a:lnTo>
                      <a:pt x="837" y="64"/>
                    </a:lnTo>
                    <a:lnTo>
                      <a:pt x="815" y="61"/>
                    </a:lnTo>
                    <a:lnTo>
                      <a:pt x="795" y="58"/>
                    </a:lnTo>
                    <a:lnTo>
                      <a:pt x="777" y="56"/>
                    </a:lnTo>
                    <a:lnTo>
                      <a:pt x="762" y="54"/>
                    </a:lnTo>
                    <a:lnTo>
                      <a:pt x="746" y="52"/>
                    </a:lnTo>
                    <a:lnTo>
                      <a:pt x="729" y="49"/>
                    </a:lnTo>
                    <a:lnTo>
                      <a:pt x="712" y="47"/>
                    </a:lnTo>
                    <a:lnTo>
                      <a:pt x="691" y="44"/>
                    </a:lnTo>
                    <a:lnTo>
                      <a:pt x="668" y="40"/>
                    </a:lnTo>
                    <a:lnTo>
                      <a:pt x="640" y="37"/>
                    </a:lnTo>
                    <a:lnTo>
                      <a:pt x="608" y="32"/>
                    </a:lnTo>
                    <a:lnTo>
                      <a:pt x="569" y="27"/>
                    </a:lnTo>
                    <a:lnTo>
                      <a:pt x="523" y="21"/>
                    </a:lnTo>
                    <a:lnTo>
                      <a:pt x="470" y="14"/>
                    </a:lnTo>
                    <a:lnTo>
                      <a:pt x="410" y="6"/>
                    </a:lnTo>
                    <a:lnTo>
                      <a:pt x="368" y="2"/>
                    </a:lnTo>
                    <a:lnTo>
                      <a:pt x="330" y="0"/>
                    </a:lnTo>
                    <a:lnTo>
                      <a:pt x="294" y="0"/>
                    </a:lnTo>
                    <a:lnTo>
                      <a:pt x="261" y="2"/>
                    </a:lnTo>
                    <a:lnTo>
                      <a:pt x="231" y="7"/>
                    </a:lnTo>
                    <a:lnTo>
                      <a:pt x="204" y="13"/>
                    </a:lnTo>
                    <a:lnTo>
                      <a:pt x="179" y="21"/>
                    </a:lnTo>
                    <a:lnTo>
                      <a:pt x="156" y="30"/>
                    </a:lnTo>
                    <a:lnTo>
                      <a:pt x="135" y="40"/>
                    </a:lnTo>
                    <a:lnTo>
                      <a:pt x="116" y="53"/>
                    </a:lnTo>
                    <a:lnTo>
                      <a:pt x="100" y="65"/>
                    </a:lnTo>
                    <a:lnTo>
                      <a:pt x="84" y="79"/>
                    </a:lnTo>
                    <a:lnTo>
                      <a:pt x="71" y="93"/>
                    </a:lnTo>
                    <a:lnTo>
                      <a:pt x="58" y="108"/>
                    </a:lnTo>
                    <a:lnTo>
                      <a:pt x="46" y="123"/>
                    </a:lnTo>
                    <a:lnTo>
                      <a:pt x="35" y="138"/>
                    </a:lnTo>
                    <a:lnTo>
                      <a:pt x="27" y="151"/>
                    </a:lnTo>
                    <a:lnTo>
                      <a:pt x="19" y="164"/>
                    </a:lnTo>
                    <a:lnTo>
                      <a:pt x="11" y="179"/>
                    </a:lnTo>
                    <a:lnTo>
                      <a:pt x="6" y="194"/>
                    </a:lnTo>
                    <a:lnTo>
                      <a:pt x="2" y="208"/>
                    </a:lnTo>
                    <a:lnTo>
                      <a:pt x="0" y="222"/>
                    </a:lnTo>
                    <a:lnTo>
                      <a:pt x="1" y="238"/>
                    </a:lnTo>
                    <a:lnTo>
                      <a:pt x="6" y="252"/>
                    </a:lnTo>
                    <a:lnTo>
                      <a:pt x="13" y="266"/>
                    </a:lnTo>
                    <a:lnTo>
                      <a:pt x="26" y="279"/>
                    </a:lnTo>
                    <a:lnTo>
                      <a:pt x="43" y="293"/>
                    </a:lnTo>
                    <a:lnTo>
                      <a:pt x="64" y="304"/>
                    </a:lnTo>
                    <a:lnTo>
                      <a:pt x="92" y="315"/>
                    </a:lnTo>
                    <a:lnTo>
                      <a:pt x="125" y="325"/>
                    </a:lnTo>
                    <a:lnTo>
                      <a:pt x="164" y="334"/>
                    </a:lnTo>
                    <a:lnTo>
                      <a:pt x="211" y="341"/>
                    </a:lnTo>
                    <a:close/>
                  </a:path>
                </a:pathLst>
              </a:custGeom>
              <a:solidFill>
                <a:srgbClr val="b2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45240" y="4363200"/>
                <a:ext cx="78480" cy="24840"/>
              </a:xfrm>
              <a:custGeom>
                <a:avLst/>
                <a:gdLst/>
                <a:ahLst/>
                <a:rect l="l" t="t" r="r" b="b"/>
                <a:pathLst>
                  <a:path w="1131" h="426">
                    <a:moveTo>
                      <a:pt x="198" y="322"/>
                    </a:moveTo>
                    <a:lnTo>
                      <a:pt x="220" y="325"/>
                    </a:lnTo>
                    <a:lnTo>
                      <a:pt x="241" y="328"/>
                    </a:lnTo>
                    <a:lnTo>
                      <a:pt x="259" y="330"/>
                    </a:lnTo>
                    <a:lnTo>
                      <a:pt x="277" y="333"/>
                    </a:lnTo>
                    <a:lnTo>
                      <a:pt x="294" y="335"/>
                    </a:lnTo>
                    <a:lnTo>
                      <a:pt x="308" y="337"/>
                    </a:lnTo>
                    <a:lnTo>
                      <a:pt x="323" y="340"/>
                    </a:lnTo>
                    <a:lnTo>
                      <a:pt x="336" y="342"/>
                    </a:lnTo>
                    <a:lnTo>
                      <a:pt x="350" y="343"/>
                    </a:lnTo>
                    <a:lnTo>
                      <a:pt x="362" y="345"/>
                    </a:lnTo>
                    <a:lnTo>
                      <a:pt x="376" y="347"/>
                    </a:lnTo>
                    <a:lnTo>
                      <a:pt x="388" y="348"/>
                    </a:lnTo>
                    <a:lnTo>
                      <a:pt x="402" y="350"/>
                    </a:lnTo>
                    <a:lnTo>
                      <a:pt x="416" y="352"/>
                    </a:lnTo>
                    <a:lnTo>
                      <a:pt x="428" y="354"/>
                    </a:lnTo>
                    <a:lnTo>
                      <a:pt x="444" y="356"/>
                    </a:lnTo>
                    <a:lnTo>
                      <a:pt x="459" y="358"/>
                    </a:lnTo>
                    <a:lnTo>
                      <a:pt x="476" y="360"/>
                    </a:lnTo>
                    <a:lnTo>
                      <a:pt x="495" y="362"/>
                    </a:lnTo>
                    <a:lnTo>
                      <a:pt x="514" y="365"/>
                    </a:lnTo>
                    <a:lnTo>
                      <a:pt x="535" y="368"/>
                    </a:lnTo>
                    <a:lnTo>
                      <a:pt x="558" y="371"/>
                    </a:lnTo>
                    <a:lnTo>
                      <a:pt x="584" y="374"/>
                    </a:lnTo>
                    <a:lnTo>
                      <a:pt x="611" y="378"/>
                    </a:lnTo>
                    <a:lnTo>
                      <a:pt x="641" y="382"/>
                    </a:lnTo>
                    <a:lnTo>
                      <a:pt x="674" y="386"/>
                    </a:lnTo>
                    <a:lnTo>
                      <a:pt x="709" y="391"/>
                    </a:lnTo>
                    <a:lnTo>
                      <a:pt x="747" y="396"/>
                    </a:lnTo>
                    <a:lnTo>
                      <a:pt x="788" y="402"/>
                    </a:lnTo>
                    <a:lnTo>
                      <a:pt x="833" y="408"/>
                    </a:lnTo>
                    <a:lnTo>
                      <a:pt x="881" y="414"/>
                    </a:lnTo>
                    <a:lnTo>
                      <a:pt x="933" y="421"/>
                    </a:lnTo>
                    <a:lnTo>
                      <a:pt x="970" y="425"/>
                    </a:lnTo>
                    <a:lnTo>
                      <a:pt x="1003" y="426"/>
                    </a:lnTo>
                    <a:lnTo>
                      <a:pt x="1032" y="425"/>
                    </a:lnTo>
                    <a:lnTo>
                      <a:pt x="1057" y="422"/>
                    </a:lnTo>
                    <a:lnTo>
                      <a:pt x="1076" y="417"/>
                    </a:lnTo>
                    <a:lnTo>
                      <a:pt x="1093" y="410"/>
                    </a:lnTo>
                    <a:lnTo>
                      <a:pt x="1107" y="401"/>
                    </a:lnTo>
                    <a:lnTo>
                      <a:pt x="1116" y="390"/>
                    </a:lnTo>
                    <a:lnTo>
                      <a:pt x="1123" y="379"/>
                    </a:lnTo>
                    <a:lnTo>
                      <a:pt x="1128" y="367"/>
                    </a:lnTo>
                    <a:lnTo>
                      <a:pt x="1130" y="354"/>
                    </a:lnTo>
                    <a:lnTo>
                      <a:pt x="1131" y="340"/>
                    </a:lnTo>
                    <a:lnTo>
                      <a:pt x="1129" y="325"/>
                    </a:lnTo>
                    <a:lnTo>
                      <a:pt x="1127" y="311"/>
                    </a:lnTo>
                    <a:lnTo>
                      <a:pt x="1123" y="296"/>
                    </a:lnTo>
                    <a:lnTo>
                      <a:pt x="1118" y="282"/>
                    </a:lnTo>
                    <a:lnTo>
                      <a:pt x="1112" y="264"/>
                    </a:lnTo>
                    <a:lnTo>
                      <a:pt x="1104" y="248"/>
                    </a:lnTo>
                    <a:lnTo>
                      <a:pt x="1096" y="231"/>
                    </a:lnTo>
                    <a:lnTo>
                      <a:pt x="1088" y="213"/>
                    </a:lnTo>
                    <a:lnTo>
                      <a:pt x="1077" y="197"/>
                    </a:lnTo>
                    <a:lnTo>
                      <a:pt x="1066" y="181"/>
                    </a:lnTo>
                    <a:lnTo>
                      <a:pt x="1052" y="166"/>
                    </a:lnTo>
                    <a:lnTo>
                      <a:pt x="1037" y="150"/>
                    </a:lnTo>
                    <a:lnTo>
                      <a:pt x="1019" y="135"/>
                    </a:lnTo>
                    <a:lnTo>
                      <a:pt x="999" y="122"/>
                    </a:lnTo>
                    <a:lnTo>
                      <a:pt x="976" y="109"/>
                    </a:lnTo>
                    <a:lnTo>
                      <a:pt x="950" y="98"/>
                    </a:lnTo>
                    <a:lnTo>
                      <a:pt x="921" y="86"/>
                    </a:lnTo>
                    <a:lnTo>
                      <a:pt x="889" y="77"/>
                    </a:lnTo>
                    <a:lnTo>
                      <a:pt x="853" y="69"/>
                    </a:lnTo>
                    <a:lnTo>
                      <a:pt x="812" y="63"/>
                    </a:lnTo>
                    <a:lnTo>
                      <a:pt x="787" y="60"/>
                    </a:lnTo>
                    <a:lnTo>
                      <a:pt x="766" y="57"/>
                    </a:lnTo>
                    <a:lnTo>
                      <a:pt x="749" y="55"/>
                    </a:lnTo>
                    <a:lnTo>
                      <a:pt x="732" y="52"/>
                    </a:lnTo>
                    <a:lnTo>
                      <a:pt x="717" y="50"/>
                    </a:lnTo>
                    <a:lnTo>
                      <a:pt x="703" y="49"/>
                    </a:lnTo>
                    <a:lnTo>
                      <a:pt x="687" y="47"/>
                    </a:lnTo>
                    <a:lnTo>
                      <a:pt x="670" y="44"/>
                    </a:lnTo>
                    <a:lnTo>
                      <a:pt x="651" y="42"/>
                    </a:lnTo>
                    <a:lnTo>
                      <a:pt x="629" y="39"/>
                    </a:lnTo>
                    <a:lnTo>
                      <a:pt x="603" y="36"/>
                    </a:lnTo>
                    <a:lnTo>
                      <a:pt x="572" y="32"/>
                    </a:lnTo>
                    <a:lnTo>
                      <a:pt x="535" y="26"/>
                    </a:lnTo>
                    <a:lnTo>
                      <a:pt x="493" y="20"/>
                    </a:lnTo>
                    <a:lnTo>
                      <a:pt x="443" y="14"/>
                    </a:lnTo>
                    <a:lnTo>
                      <a:pt x="385" y="6"/>
                    </a:lnTo>
                    <a:lnTo>
                      <a:pt x="346" y="2"/>
                    </a:lnTo>
                    <a:lnTo>
                      <a:pt x="309" y="0"/>
                    </a:lnTo>
                    <a:lnTo>
                      <a:pt x="276" y="0"/>
                    </a:lnTo>
                    <a:lnTo>
                      <a:pt x="245" y="2"/>
                    </a:lnTo>
                    <a:lnTo>
                      <a:pt x="217" y="6"/>
                    </a:lnTo>
                    <a:lnTo>
                      <a:pt x="192" y="12"/>
                    </a:lnTo>
                    <a:lnTo>
                      <a:pt x="168" y="19"/>
                    </a:lnTo>
                    <a:lnTo>
                      <a:pt x="147" y="28"/>
                    </a:lnTo>
                    <a:lnTo>
                      <a:pt x="127" y="38"/>
                    </a:lnTo>
                    <a:lnTo>
                      <a:pt x="110" y="49"/>
                    </a:lnTo>
                    <a:lnTo>
                      <a:pt x="94" y="61"/>
                    </a:lnTo>
                    <a:lnTo>
                      <a:pt x="79" y="74"/>
                    </a:lnTo>
                    <a:lnTo>
                      <a:pt x="66" y="87"/>
                    </a:lnTo>
                    <a:lnTo>
                      <a:pt x="54" y="102"/>
                    </a:lnTo>
                    <a:lnTo>
                      <a:pt x="44" y="116"/>
                    </a:lnTo>
                    <a:lnTo>
                      <a:pt x="34" y="130"/>
                    </a:lnTo>
                    <a:lnTo>
                      <a:pt x="25" y="142"/>
                    </a:lnTo>
                    <a:lnTo>
                      <a:pt x="18" y="156"/>
                    </a:lnTo>
                    <a:lnTo>
                      <a:pt x="12" y="169"/>
                    </a:lnTo>
                    <a:lnTo>
                      <a:pt x="6" y="182"/>
                    </a:lnTo>
                    <a:lnTo>
                      <a:pt x="2" y="196"/>
                    </a:lnTo>
                    <a:lnTo>
                      <a:pt x="0" y="210"/>
                    </a:lnTo>
                    <a:lnTo>
                      <a:pt x="1" y="224"/>
                    </a:lnTo>
                    <a:lnTo>
                      <a:pt x="6" y="238"/>
                    </a:lnTo>
                    <a:lnTo>
                      <a:pt x="13" y="251"/>
                    </a:lnTo>
                    <a:lnTo>
                      <a:pt x="24" y="263"/>
                    </a:lnTo>
                    <a:lnTo>
                      <a:pt x="40" y="275"/>
                    </a:lnTo>
                    <a:lnTo>
                      <a:pt x="60" y="287"/>
                    </a:lnTo>
                    <a:lnTo>
                      <a:pt x="86" y="298"/>
                    </a:lnTo>
                    <a:lnTo>
                      <a:pt x="117" y="307"/>
                    </a:lnTo>
                    <a:lnTo>
                      <a:pt x="154" y="315"/>
                    </a:lnTo>
                    <a:lnTo>
                      <a:pt x="198" y="322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47760" y="4363200"/>
                <a:ext cx="72720" cy="23400"/>
              </a:xfrm>
              <a:custGeom>
                <a:avLst/>
                <a:gdLst/>
                <a:ahLst/>
                <a:rect l="l" t="t" r="r" b="b"/>
                <a:pathLst>
                  <a:path w="1062" h="403">
                    <a:moveTo>
                      <a:pt x="186" y="305"/>
                    </a:moveTo>
                    <a:lnTo>
                      <a:pt x="207" y="308"/>
                    </a:lnTo>
                    <a:lnTo>
                      <a:pt x="226" y="310"/>
                    </a:lnTo>
                    <a:lnTo>
                      <a:pt x="243" y="312"/>
                    </a:lnTo>
                    <a:lnTo>
                      <a:pt x="260" y="315"/>
                    </a:lnTo>
                    <a:lnTo>
                      <a:pt x="274" y="317"/>
                    </a:lnTo>
                    <a:lnTo>
                      <a:pt x="289" y="318"/>
                    </a:lnTo>
                    <a:lnTo>
                      <a:pt x="303" y="320"/>
                    </a:lnTo>
                    <a:lnTo>
                      <a:pt x="315" y="322"/>
                    </a:lnTo>
                    <a:lnTo>
                      <a:pt x="328" y="324"/>
                    </a:lnTo>
                    <a:lnTo>
                      <a:pt x="340" y="325"/>
                    </a:lnTo>
                    <a:lnTo>
                      <a:pt x="351" y="328"/>
                    </a:lnTo>
                    <a:lnTo>
                      <a:pt x="364" y="329"/>
                    </a:lnTo>
                    <a:lnTo>
                      <a:pt x="376" y="331"/>
                    </a:lnTo>
                    <a:lnTo>
                      <a:pt x="389" y="333"/>
                    </a:lnTo>
                    <a:lnTo>
                      <a:pt x="401" y="334"/>
                    </a:lnTo>
                    <a:lnTo>
                      <a:pt x="415" y="336"/>
                    </a:lnTo>
                    <a:lnTo>
                      <a:pt x="429" y="338"/>
                    </a:lnTo>
                    <a:lnTo>
                      <a:pt x="446" y="340"/>
                    </a:lnTo>
                    <a:lnTo>
                      <a:pt x="463" y="342"/>
                    </a:lnTo>
                    <a:lnTo>
                      <a:pt x="482" y="345"/>
                    </a:lnTo>
                    <a:lnTo>
                      <a:pt x="501" y="348"/>
                    </a:lnTo>
                    <a:lnTo>
                      <a:pt x="523" y="350"/>
                    </a:lnTo>
                    <a:lnTo>
                      <a:pt x="547" y="354"/>
                    </a:lnTo>
                    <a:lnTo>
                      <a:pt x="573" y="357"/>
                    </a:lnTo>
                    <a:lnTo>
                      <a:pt x="601" y="361"/>
                    </a:lnTo>
                    <a:lnTo>
                      <a:pt x="632" y="365"/>
                    </a:lnTo>
                    <a:lnTo>
                      <a:pt x="666" y="369"/>
                    </a:lnTo>
                    <a:lnTo>
                      <a:pt x="701" y="374"/>
                    </a:lnTo>
                    <a:lnTo>
                      <a:pt x="740" y="379"/>
                    </a:lnTo>
                    <a:lnTo>
                      <a:pt x="782" y="385"/>
                    </a:lnTo>
                    <a:lnTo>
                      <a:pt x="827" y="392"/>
                    </a:lnTo>
                    <a:lnTo>
                      <a:pt x="876" y="398"/>
                    </a:lnTo>
                    <a:lnTo>
                      <a:pt x="911" y="402"/>
                    </a:lnTo>
                    <a:lnTo>
                      <a:pt x="943" y="403"/>
                    </a:lnTo>
                    <a:lnTo>
                      <a:pt x="969" y="402"/>
                    </a:lnTo>
                    <a:lnTo>
                      <a:pt x="991" y="399"/>
                    </a:lnTo>
                    <a:lnTo>
                      <a:pt x="1010" y="394"/>
                    </a:lnTo>
                    <a:lnTo>
                      <a:pt x="1026" y="386"/>
                    </a:lnTo>
                    <a:lnTo>
                      <a:pt x="1038" y="378"/>
                    </a:lnTo>
                    <a:lnTo>
                      <a:pt x="1049" y="369"/>
                    </a:lnTo>
                    <a:lnTo>
                      <a:pt x="1055" y="358"/>
                    </a:lnTo>
                    <a:lnTo>
                      <a:pt x="1059" y="347"/>
                    </a:lnTo>
                    <a:lnTo>
                      <a:pt x="1061" y="335"/>
                    </a:lnTo>
                    <a:lnTo>
                      <a:pt x="1062" y="321"/>
                    </a:lnTo>
                    <a:lnTo>
                      <a:pt x="1060" y="307"/>
                    </a:lnTo>
                    <a:lnTo>
                      <a:pt x="1058" y="294"/>
                    </a:lnTo>
                    <a:lnTo>
                      <a:pt x="1054" y="280"/>
                    </a:lnTo>
                    <a:lnTo>
                      <a:pt x="1049" y="267"/>
                    </a:lnTo>
                    <a:lnTo>
                      <a:pt x="1042" y="250"/>
                    </a:lnTo>
                    <a:lnTo>
                      <a:pt x="1036" y="235"/>
                    </a:lnTo>
                    <a:lnTo>
                      <a:pt x="1029" y="219"/>
                    </a:lnTo>
                    <a:lnTo>
                      <a:pt x="1021" y="202"/>
                    </a:lnTo>
                    <a:lnTo>
                      <a:pt x="1011" y="187"/>
                    </a:lnTo>
                    <a:lnTo>
                      <a:pt x="1001" y="172"/>
                    </a:lnTo>
                    <a:lnTo>
                      <a:pt x="988" y="157"/>
                    </a:lnTo>
                    <a:lnTo>
                      <a:pt x="974" y="143"/>
                    </a:lnTo>
                    <a:lnTo>
                      <a:pt x="957" y="128"/>
                    </a:lnTo>
                    <a:lnTo>
                      <a:pt x="938" y="116"/>
                    </a:lnTo>
                    <a:lnTo>
                      <a:pt x="916" y="104"/>
                    </a:lnTo>
                    <a:lnTo>
                      <a:pt x="893" y="93"/>
                    </a:lnTo>
                    <a:lnTo>
                      <a:pt x="866" y="83"/>
                    </a:lnTo>
                    <a:lnTo>
                      <a:pt x="834" y="73"/>
                    </a:lnTo>
                    <a:lnTo>
                      <a:pt x="800" y="66"/>
                    </a:lnTo>
                    <a:lnTo>
                      <a:pt x="762" y="60"/>
                    </a:lnTo>
                    <a:lnTo>
                      <a:pt x="740" y="57"/>
                    </a:lnTo>
                    <a:lnTo>
                      <a:pt x="720" y="55"/>
                    </a:lnTo>
                    <a:lnTo>
                      <a:pt x="702" y="52"/>
                    </a:lnTo>
                    <a:lnTo>
                      <a:pt x="687" y="50"/>
                    </a:lnTo>
                    <a:lnTo>
                      <a:pt x="673" y="49"/>
                    </a:lnTo>
                    <a:lnTo>
                      <a:pt x="658" y="47"/>
                    </a:lnTo>
                    <a:lnTo>
                      <a:pt x="644" y="45"/>
                    </a:lnTo>
                    <a:lnTo>
                      <a:pt x="628" y="43"/>
                    </a:lnTo>
                    <a:lnTo>
                      <a:pt x="611" y="41"/>
                    </a:lnTo>
                    <a:lnTo>
                      <a:pt x="590" y="38"/>
                    </a:lnTo>
                    <a:lnTo>
                      <a:pt x="565" y="34"/>
                    </a:lnTo>
                    <a:lnTo>
                      <a:pt x="536" y="31"/>
                    </a:lnTo>
                    <a:lnTo>
                      <a:pt x="501" y="26"/>
                    </a:lnTo>
                    <a:lnTo>
                      <a:pt x="462" y="21"/>
                    </a:lnTo>
                    <a:lnTo>
                      <a:pt x="415" y="13"/>
                    </a:lnTo>
                    <a:lnTo>
                      <a:pt x="361" y="6"/>
                    </a:lnTo>
                    <a:lnTo>
                      <a:pt x="323" y="2"/>
                    </a:lnTo>
                    <a:lnTo>
                      <a:pt x="290" y="0"/>
                    </a:lnTo>
                    <a:lnTo>
                      <a:pt x="258" y="1"/>
                    </a:lnTo>
                    <a:lnTo>
                      <a:pt x="230" y="3"/>
                    </a:lnTo>
                    <a:lnTo>
                      <a:pt x="203" y="7"/>
                    </a:lnTo>
                    <a:lnTo>
                      <a:pt x="179" y="12"/>
                    </a:lnTo>
                    <a:lnTo>
                      <a:pt x="157" y="20"/>
                    </a:lnTo>
                    <a:lnTo>
                      <a:pt x="137" y="28"/>
                    </a:lnTo>
                    <a:lnTo>
                      <a:pt x="118" y="38"/>
                    </a:lnTo>
                    <a:lnTo>
                      <a:pt x="102" y="48"/>
                    </a:lnTo>
                    <a:lnTo>
                      <a:pt x="87" y="59"/>
                    </a:lnTo>
                    <a:lnTo>
                      <a:pt x="74" y="71"/>
                    </a:lnTo>
                    <a:lnTo>
                      <a:pt x="61" y="85"/>
                    </a:lnTo>
                    <a:lnTo>
                      <a:pt x="50" y="98"/>
                    </a:lnTo>
                    <a:lnTo>
                      <a:pt x="40" y="111"/>
                    </a:lnTo>
                    <a:lnTo>
                      <a:pt x="31" y="124"/>
                    </a:lnTo>
                    <a:lnTo>
                      <a:pt x="24" y="135"/>
                    </a:lnTo>
                    <a:lnTo>
                      <a:pt x="16" y="148"/>
                    </a:lnTo>
                    <a:lnTo>
                      <a:pt x="10" y="160"/>
                    </a:lnTo>
                    <a:lnTo>
                      <a:pt x="5" y="173"/>
                    </a:lnTo>
                    <a:lnTo>
                      <a:pt x="1" y="186"/>
                    </a:lnTo>
                    <a:lnTo>
                      <a:pt x="0" y="199"/>
                    </a:lnTo>
                    <a:lnTo>
                      <a:pt x="1" y="212"/>
                    </a:lnTo>
                    <a:lnTo>
                      <a:pt x="4" y="225"/>
                    </a:lnTo>
                    <a:lnTo>
                      <a:pt x="11" y="237"/>
                    </a:lnTo>
                    <a:lnTo>
                      <a:pt x="22" y="249"/>
                    </a:lnTo>
                    <a:lnTo>
                      <a:pt x="37" y="261"/>
                    </a:lnTo>
                    <a:lnTo>
                      <a:pt x="56" y="272"/>
                    </a:lnTo>
                    <a:lnTo>
                      <a:pt x="80" y="282"/>
                    </a:lnTo>
                    <a:lnTo>
                      <a:pt x="110" y="291"/>
                    </a:lnTo>
                    <a:lnTo>
                      <a:pt x="144" y="299"/>
                    </a:lnTo>
                    <a:lnTo>
                      <a:pt x="186" y="305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549200" y="4364280"/>
                <a:ext cx="69480" cy="21240"/>
              </a:xfrm>
              <a:custGeom>
                <a:avLst/>
                <a:gdLst/>
                <a:ahLst/>
                <a:rect l="l" t="t" r="r" b="b"/>
                <a:pathLst>
                  <a:path w="994" h="377">
                    <a:moveTo>
                      <a:pt x="174" y="286"/>
                    </a:moveTo>
                    <a:lnTo>
                      <a:pt x="211" y="291"/>
                    </a:lnTo>
                    <a:lnTo>
                      <a:pt x="244" y="295"/>
                    </a:lnTo>
                    <a:lnTo>
                      <a:pt x="271" y="299"/>
                    </a:lnTo>
                    <a:lnTo>
                      <a:pt x="296" y="302"/>
                    </a:lnTo>
                    <a:lnTo>
                      <a:pt x="318" y="305"/>
                    </a:lnTo>
                    <a:lnTo>
                      <a:pt x="341" y="308"/>
                    </a:lnTo>
                    <a:lnTo>
                      <a:pt x="363" y="311"/>
                    </a:lnTo>
                    <a:lnTo>
                      <a:pt x="388" y="314"/>
                    </a:lnTo>
                    <a:lnTo>
                      <a:pt x="417" y="319"/>
                    </a:lnTo>
                    <a:lnTo>
                      <a:pt x="451" y="323"/>
                    </a:lnTo>
                    <a:lnTo>
                      <a:pt x="490" y="329"/>
                    </a:lnTo>
                    <a:lnTo>
                      <a:pt x="536" y="335"/>
                    </a:lnTo>
                    <a:lnTo>
                      <a:pt x="591" y="342"/>
                    </a:lnTo>
                    <a:lnTo>
                      <a:pt x="656" y="351"/>
                    </a:lnTo>
                    <a:lnTo>
                      <a:pt x="732" y="360"/>
                    </a:lnTo>
                    <a:lnTo>
                      <a:pt x="819" y="372"/>
                    </a:lnTo>
                    <a:lnTo>
                      <a:pt x="852" y="375"/>
                    </a:lnTo>
                    <a:lnTo>
                      <a:pt x="881" y="377"/>
                    </a:lnTo>
                    <a:lnTo>
                      <a:pt x="906" y="375"/>
                    </a:lnTo>
                    <a:lnTo>
                      <a:pt x="927" y="372"/>
                    </a:lnTo>
                    <a:lnTo>
                      <a:pt x="945" y="368"/>
                    </a:lnTo>
                    <a:lnTo>
                      <a:pt x="960" y="362"/>
                    </a:lnTo>
                    <a:lnTo>
                      <a:pt x="972" y="354"/>
                    </a:lnTo>
                    <a:lnTo>
                      <a:pt x="980" y="345"/>
                    </a:lnTo>
                    <a:lnTo>
                      <a:pt x="987" y="335"/>
                    </a:lnTo>
                    <a:lnTo>
                      <a:pt x="991" y="325"/>
                    </a:lnTo>
                    <a:lnTo>
                      <a:pt x="993" y="312"/>
                    </a:lnTo>
                    <a:lnTo>
                      <a:pt x="994" y="300"/>
                    </a:lnTo>
                    <a:lnTo>
                      <a:pt x="992" y="288"/>
                    </a:lnTo>
                    <a:lnTo>
                      <a:pt x="990" y="275"/>
                    </a:lnTo>
                    <a:lnTo>
                      <a:pt x="986" y="262"/>
                    </a:lnTo>
                    <a:lnTo>
                      <a:pt x="981" y="249"/>
                    </a:lnTo>
                    <a:lnTo>
                      <a:pt x="976" y="234"/>
                    </a:lnTo>
                    <a:lnTo>
                      <a:pt x="970" y="220"/>
                    </a:lnTo>
                    <a:lnTo>
                      <a:pt x="963" y="205"/>
                    </a:lnTo>
                    <a:lnTo>
                      <a:pt x="955" y="189"/>
                    </a:lnTo>
                    <a:lnTo>
                      <a:pt x="946" y="175"/>
                    </a:lnTo>
                    <a:lnTo>
                      <a:pt x="936" y="161"/>
                    </a:lnTo>
                    <a:lnTo>
                      <a:pt x="924" y="147"/>
                    </a:lnTo>
                    <a:lnTo>
                      <a:pt x="911" y="134"/>
                    </a:lnTo>
                    <a:lnTo>
                      <a:pt x="895" y="120"/>
                    </a:lnTo>
                    <a:lnTo>
                      <a:pt x="877" y="108"/>
                    </a:lnTo>
                    <a:lnTo>
                      <a:pt x="858" y="97"/>
                    </a:lnTo>
                    <a:lnTo>
                      <a:pt x="835" y="87"/>
                    </a:lnTo>
                    <a:lnTo>
                      <a:pt x="809" y="78"/>
                    </a:lnTo>
                    <a:lnTo>
                      <a:pt x="781" y="69"/>
                    </a:lnTo>
                    <a:lnTo>
                      <a:pt x="748" y="62"/>
                    </a:lnTo>
                    <a:lnTo>
                      <a:pt x="713" y="56"/>
                    </a:lnTo>
                    <a:lnTo>
                      <a:pt x="691" y="53"/>
                    </a:lnTo>
                    <a:lnTo>
                      <a:pt x="673" y="51"/>
                    </a:lnTo>
                    <a:lnTo>
                      <a:pt x="658" y="48"/>
                    </a:lnTo>
                    <a:lnTo>
                      <a:pt x="643" y="46"/>
                    </a:lnTo>
                    <a:lnTo>
                      <a:pt x="630" y="45"/>
                    </a:lnTo>
                    <a:lnTo>
                      <a:pt x="617" y="43"/>
                    </a:lnTo>
                    <a:lnTo>
                      <a:pt x="604" y="41"/>
                    </a:lnTo>
                    <a:lnTo>
                      <a:pt x="588" y="39"/>
                    </a:lnTo>
                    <a:lnTo>
                      <a:pt x="571" y="37"/>
                    </a:lnTo>
                    <a:lnTo>
                      <a:pt x="552" y="34"/>
                    </a:lnTo>
                    <a:lnTo>
                      <a:pt x="529" y="31"/>
                    </a:lnTo>
                    <a:lnTo>
                      <a:pt x="502" y="28"/>
                    </a:lnTo>
                    <a:lnTo>
                      <a:pt x="469" y="24"/>
                    </a:lnTo>
                    <a:lnTo>
                      <a:pt x="432" y="19"/>
                    </a:lnTo>
                    <a:lnTo>
                      <a:pt x="388" y="13"/>
                    </a:lnTo>
                    <a:lnTo>
                      <a:pt x="338" y="5"/>
                    </a:lnTo>
                    <a:lnTo>
                      <a:pt x="304" y="1"/>
                    </a:lnTo>
                    <a:lnTo>
                      <a:pt x="272" y="0"/>
                    </a:lnTo>
                    <a:lnTo>
                      <a:pt x="243" y="0"/>
                    </a:lnTo>
                    <a:lnTo>
                      <a:pt x="215" y="2"/>
                    </a:lnTo>
                    <a:lnTo>
                      <a:pt x="190" y="7"/>
                    </a:lnTo>
                    <a:lnTo>
                      <a:pt x="169" y="12"/>
                    </a:lnTo>
                    <a:lnTo>
                      <a:pt x="148" y="18"/>
                    </a:lnTo>
                    <a:lnTo>
                      <a:pt x="129" y="26"/>
                    </a:lnTo>
                    <a:lnTo>
                      <a:pt x="111" y="35"/>
                    </a:lnTo>
                    <a:lnTo>
                      <a:pt x="96" y="44"/>
                    </a:lnTo>
                    <a:lnTo>
                      <a:pt x="82" y="55"/>
                    </a:lnTo>
                    <a:lnTo>
                      <a:pt x="70" y="66"/>
                    </a:lnTo>
                    <a:lnTo>
                      <a:pt x="58" y="79"/>
                    </a:lnTo>
                    <a:lnTo>
                      <a:pt x="48" y="91"/>
                    </a:lnTo>
                    <a:lnTo>
                      <a:pt x="38" y="103"/>
                    </a:lnTo>
                    <a:lnTo>
                      <a:pt x="29" y="116"/>
                    </a:lnTo>
                    <a:lnTo>
                      <a:pt x="22" y="127"/>
                    </a:lnTo>
                    <a:lnTo>
                      <a:pt x="16" y="139"/>
                    </a:lnTo>
                    <a:lnTo>
                      <a:pt x="9" y="150"/>
                    </a:lnTo>
                    <a:lnTo>
                      <a:pt x="4" y="162"/>
                    </a:lnTo>
                    <a:lnTo>
                      <a:pt x="1" y="174"/>
                    </a:lnTo>
                    <a:lnTo>
                      <a:pt x="0" y="186"/>
                    </a:lnTo>
                    <a:lnTo>
                      <a:pt x="1" y="199"/>
                    </a:lnTo>
                    <a:lnTo>
                      <a:pt x="4" y="211"/>
                    </a:lnTo>
                    <a:lnTo>
                      <a:pt x="10" y="223"/>
                    </a:lnTo>
                    <a:lnTo>
                      <a:pt x="21" y="234"/>
                    </a:lnTo>
                    <a:lnTo>
                      <a:pt x="34" y="244"/>
                    </a:lnTo>
                    <a:lnTo>
                      <a:pt x="53" y="255"/>
                    </a:lnTo>
                    <a:lnTo>
                      <a:pt x="75" y="265"/>
                    </a:lnTo>
                    <a:lnTo>
                      <a:pt x="103" y="273"/>
                    </a:lnTo>
                    <a:lnTo>
                      <a:pt x="135" y="280"/>
                    </a:lnTo>
                    <a:lnTo>
                      <a:pt x="174" y="286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552440" y="4365360"/>
                <a:ext cx="63720" cy="19800"/>
              </a:xfrm>
              <a:custGeom>
                <a:avLst/>
                <a:gdLst/>
                <a:ahLst/>
                <a:rect l="l" t="t" r="r" b="b"/>
                <a:pathLst>
                  <a:path w="926" h="350">
                    <a:moveTo>
                      <a:pt x="163" y="266"/>
                    </a:moveTo>
                    <a:lnTo>
                      <a:pt x="197" y="270"/>
                    </a:lnTo>
                    <a:lnTo>
                      <a:pt x="227" y="274"/>
                    </a:lnTo>
                    <a:lnTo>
                      <a:pt x="252" y="278"/>
                    </a:lnTo>
                    <a:lnTo>
                      <a:pt x="275" y="281"/>
                    </a:lnTo>
                    <a:lnTo>
                      <a:pt x="297" y="283"/>
                    </a:lnTo>
                    <a:lnTo>
                      <a:pt x="318" y="286"/>
                    </a:lnTo>
                    <a:lnTo>
                      <a:pt x="339" y="289"/>
                    </a:lnTo>
                    <a:lnTo>
                      <a:pt x="363" y="292"/>
                    </a:lnTo>
                    <a:lnTo>
                      <a:pt x="389" y="296"/>
                    </a:lnTo>
                    <a:lnTo>
                      <a:pt x="420" y="300"/>
                    </a:lnTo>
                    <a:lnTo>
                      <a:pt x="456" y="305"/>
                    </a:lnTo>
                    <a:lnTo>
                      <a:pt x="500" y="311"/>
                    </a:lnTo>
                    <a:lnTo>
                      <a:pt x="551" y="318"/>
                    </a:lnTo>
                    <a:lnTo>
                      <a:pt x="611" y="326"/>
                    </a:lnTo>
                    <a:lnTo>
                      <a:pt x="681" y="335"/>
                    </a:lnTo>
                    <a:lnTo>
                      <a:pt x="763" y="346"/>
                    </a:lnTo>
                    <a:lnTo>
                      <a:pt x="794" y="349"/>
                    </a:lnTo>
                    <a:lnTo>
                      <a:pt x="820" y="350"/>
                    </a:lnTo>
                    <a:lnTo>
                      <a:pt x="844" y="349"/>
                    </a:lnTo>
                    <a:lnTo>
                      <a:pt x="864" y="347"/>
                    </a:lnTo>
                    <a:lnTo>
                      <a:pt x="881" y="342"/>
                    </a:lnTo>
                    <a:lnTo>
                      <a:pt x="894" y="336"/>
                    </a:lnTo>
                    <a:lnTo>
                      <a:pt x="905" y="329"/>
                    </a:lnTo>
                    <a:lnTo>
                      <a:pt x="913" y="321"/>
                    </a:lnTo>
                    <a:lnTo>
                      <a:pt x="919" y="312"/>
                    </a:lnTo>
                    <a:lnTo>
                      <a:pt x="923" y="301"/>
                    </a:lnTo>
                    <a:lnTo>
                      <a:pt x="924" y="290"/>
                    </a:lnTo>
                    <a:lnTo>
                      <a:pt x="926" y="279"/>
                    </a:lnTo>
                    <a:lnTo>
                      <a:pt x="924" y="267"/>
                    </a:lnTo>
                    <a:lnTo>
                      <a:pt x="921" y="255"/>
                    </a:lnTo>
                    <a:lnTo>
                      <a:pt x="918" y="244"/>
                    </a:lnTo>
                    <a:lnTo>
                      <a:pt x="914" y="231"/>
                    </a:lnTo>
                    <a:lnTo>
                      <a:pt x="909" y="217"/>
                    </a:lnTo>
                    <a:lnTo>
                      <a:pt x="904" y="204"/>
                    </a:lnTo>
                    <a:lnTo>
                      <a:pt x="896" y="190"/>
                    </a:lnTo>
                    <a:lnTo>
                      <a:pt x="890" y="175"/>
                    </a:lnTo>
                    <a:lnTo>
                      <a:pt x="882" y="162"/>
                    </a:lnTo>
                    <a:lnTo>
                      <a:pt x="872" y="149"/>
                    </a:lnTo>
                    <a:lnTo>
                      <a:pt x="861" y="136"/>
                    </a:lnTo>
                    <a:lnTo>
                      <a:pt x="848" y="123"/>
                    </a:lnTo>
                    <a:lnTo>
                      <a:pt x="834" y="111"/>
                    </a:lnTo>
                    <a:lnTo>
                      <a:pt x="817" y="100"/>
                    </a:lnTo>
                    <a:lnTo>
                      <a:pt x="799" y="89"/>
                    </a:lnTo>
                    <a:lnTo>
                      <a:pt x="778" y="80"/>
                    </a:lnTo>
                    <a:lnTo>
                      <a:pt x="754" y="71"/>
                    </a:lnTo>
                    <a:lnTo>
                      <a:pt x="727" y="64"/>
                    </a:lnTo>
                    <a:lnTo>
                      <a:pt x="698" y="57"/>
                    </a:lnTo>
                    <a:lnTo>
                      <a:pt x="664" y="51"/>
                    </a:lnTo>
                    <a:lnTo>
                      <a:pt x="645" y="48"/>
                    </a:lnTo>
                    <a:lnTo>
                      <a:pt x="627" y="46"/>
                    </a:lnTo>
                    <a:lnTo>
                      <a:pt x="612" y="44"/>
                    </a:lnTo>
                    <a:lnTo>
                      <a:pt x="599" y="43"/>
                    </a:lnTo>
                    <a:lnTo>
                      <a:pt x="586" y="41"/>
                    </a:lnTo>
                    <a:lnTo>
                      <a:pt x="575" y="39"/>
                    </a:lnTo>
                    <a:lnTo>
                      <a:pt x="561" y="38"/>
                    </a:lnTo>
                    <a:lnTo>
                      <a:pt x="548" y="36"/>
                    </a:lnTo>
                    <a:lnTo>
                      <a:pt x="532" y="34"/>
                    </a:lnTo>
                    <a:lnTo>
                      <a:pt x="514" y="31"/>
                    </a:lnTo>
                    <a:lnTo>
                      <a:pt x="493" y="29"/>
                    </a:lnTo>
                    <a:lnTo>
                      <a:pt x="468" y="25"/>
                    </a:lnTo>
                    <a:lnTo>
                      <a:pt x="438" y="21"/>
                    </a:lnTo>
                    <a:lnTo>
                      <a:pt x="403" y="17"/>
                    </a:lnTo>
                    <a:lnTo>
                      <a:pt x="363" y="11"/>
                    </a:lnTo>
                    <a:lnTo>
                      <a:pt x="316" y="5"/>
                    </a:lnTo>
                    <a:lnTo>
                      <a:pt x="283" y="2"/>
                    </a:lnTo>
                    <a:lnTo>
                      <a:pt x="254" y="0"/>
                    </a:lnTo>
                    <a:lnTo>
                      <a:pt x="226" y="0"/>
                    </a:lnTo>
                    <a:lnTo>
                      <a:pt x="201" y="2"/>
                    </a:lnTo>
                    <a:lnTo>
                      <a:pt x="178" y="6"/>
                    </a:lnTo>
                    <a:lnTo>
                      <a:pt x="158" y="11"/>
                    </a:lnTo>
                    <a:lnTo>
                      <a:pt x="139" y="17"/>
                    </a:lnTo>
                    <a:lnTo>
                      <a:pt x="121" y="24"/>
                    </a:lnTo>
                    <a:lnTo>
                      <a:pt x="105" y="32"/>
                    </a:lnTo>
                    <a:lnTo>
                      <a:pt x="91" y="41"/>
                    </a:lnTo>
                    <a:lnTo>
                      <a:pt x="77" y="50"/>
                    </a:lnTo>
                    <a:lnTo>
                      <a:pt x="66" y="62"/>
                    </a:lnTo>
                    <a:lnTo>
                      <a:pt x="56" y="73"/>
                    </a:lnTo>
                    <a:lnTo>
                      <a:pt x="45" y="84"/>
                    </a:lnTo>
                    <a:lnTo>
                      <a:pt x="37" y="95"/>
                    </a:lnTo>
                    <a:lnTo>
                      <a:pt x="28" y="107"/>
                    </a:lnTo>
                    <a:lnTo>
                      <a:pt x="22" y="118"/>
                    </a:lnTo>
                    <a:lnTo>
                      <a:pt x="15" y="128"/>
                    </a:lnTo>
                    <a:lnTo>
                      <a:pt x="10" y="139"/>
                    </a:lnTo>
                    <a:lnTo>
                      <a:pt x="6" y="150"/>
                    </a:lnTo>
                    <a:lnTo>
                      <a:pt x="2" y="162"/>
                    </a:lnTo>
                    <a:lnTo>
                      <a:pt x="0" y="173"/>
                    </a:lnTo>
                    <a:lnTo>
                      <a:pt x="1" y="185"/>
                    </a:lnTo>
                    <a:lnTo>
                      <a:pt x="5" y="196"/>
                    </a:lnTo>
                    <a:lnTo>
                      <a:pt x="11" y="207"/>
                    </a:lnTo>
                    <a:lnTo>
                      <a:pt x="20" y="217"/>
                    </a:lnTo>
                    <a:lnTo>
                      <a:pt x="33" y="227"/>
                    </a:lnTo>
                    <a:lnTo>
                      <a:pt x="49" y="236"/>
                    </a:lnTo>
                    <a:lnTo>
                      <a:pt x="71" y="246"/>
                    </a:lnTo>
                    <a:lnTo>
                      <a:pt x="96" y="253"/>
                    </a:lnTo>
                    <a:lnTo>
                      <a:pt x="127" y="260"/>
                    </a:lnTo>
                    <a:lnTo>
                      <a:pt x="163" y="266"/>
                    </a:lnTo>
                    <a:close/>
                  </a:path>
                </a:pathLst>
              </a:custGeom>
              <a:solidFill>
                <a:srgbClr val="d6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554960" y="4365360"/>
                <a:ext cx="59400" cy="18360"/>
              </a:xfrm>
              <a:custGeom>
                <a:avLst/>
                <a:gdLst/>
                <a:ahLst/>
                <a:rect l="l" t="t" r="r" b="b"/>
                <a:pathLst>
                  <a:path w="856" h="325">
                    <a:moveTo>
                      <a:pt x="151" y="246"/>
                    </a:moveTo>
                    <a:lnTo>
                      <a:pt x="183" y="250"/>
                    </a:lnTo>
                    <a:lnTo>
                      <a:pt x="210" y="254"/>
                    </a:lnTo>
                    <a:lnTo>
                      <a:pt x="234" y="257"/>
                    </a:lnTo>
                    <a:lnTo>
                      <a:pt x="256" y="260"/>
                    </a:lnTo>
                    <a:lnTo>
                      <a:pt x="275" y="263"/>
                    </a:lnTo>
                    <a:lnTo>
                      <a:pt x="293" y="265"/>
                    </a:lnTo>
                    <a:lnTo>
                      <a:pt x="314" y="268"/>
                    </a:lnTo>
                    <a:lnTo>
                      <a:pt x="336" y="271"/>
                    </a:lnTo>
                    <a:lnTo>
                      <a:pt x="360" y="274"/>
                    </a:lnTo>
                    <a:lnTo>
                      <a:pt x="389" y="278"/>
                    </a:lnTo>
                    <a:lnTo>
                      <a:pt x="423" y="283"/>
                    </a:lnTo>
                    <a:lnTo>
                      <a:pt x="463" y="288"/>
                    </a:lnTo>
                    <a:lnTo>
                      <a:pt x="510" y="295"/>
                    </a:lnTo>
                    <a:lnTo>
                      <a:pt x="566" y="302"/>
                    </a:lnTo>
                    <a:lnTo>
                      <a:pt x="630" y="311"/>
                    </a:lnTo>
                    <a:lnTo>
                      <a:pt x="706" y="321"/>
                    </a:lnTo>
                    <a:lnTo>
                      <a:pt x="759" y="325"/>
                    </a:lnTo>
                    <a:lnTo>
                      <a:pt x="800" y="321"/>
                    </a:lnTo>
                    <a:lnTo>
                      <a:pt x="828" y="312"/>
                    </a:lnTo>
                    <a:lnTo>
                      <a:pt x="846" y="298"/>
                    </a:lnTo>
                    <a:lnTo>
                      <a:pt x="854" y="279"/>
                    </a:lnTo>
                    <a:lnTo>
                      <a:pt x="856" y="258"/>
                    </a:lnTo>
                    <a:lnTo>
                      <a:pt x="853" y="237"/>
                    </a:lnTo>
                    <a:lnTo>
                      <a:pt x="846" y="214"/>
                    </a:lnTo>
                    <a:lnTo>
                      <a:pt x="841" y="201"/>
                    </a:lnTo>
                    <a:lnTo>
                      <a:pt x="835" y="189"/>
                    </a:lnTo>
                    <a:lnTo>
                      <a:pt x="830" y="176"/>
                    </a:lnTo>
                    <a:lnTo>
                      <a:pt x="823" y="162"/>
                    </a:lnTo>
                    <a:lnTo>
                      <a:pt x="816" y="150"/>
                    </a:lnTo>
                    <a:lnTo>
                      <a:pt x="806" y="138"/>
                    </a:lnTo>
                    <a:lnTo>
                      <a:pt x="797" y="126"/>
                    </a:lnTo>
                    <a:lnTo>
                      <a:pt x="785" y="114"/>
                    </a:lnTo>
                    <a:lnTo>
                      <a:pt x="772" y="103"/>
                    </a:lnTo>
                    <a:lnTo>
                      <a:pt x="756" y="92"/>
                    </a:lnTo>
                    <a:lnTo>
                      <a:pt x="739" y="83"/>
                    </a:lnTo>
                    <a:lnTo>
                      <a:pt x="720" y="74"/>
                    </a:lnTo>
                    <a:lnTo>
                      <a:pt x="697" y="66"/>
                    </a:lnTo>
                    <a:lnTo>
                      <a:pt x="673" y="59"/>
                    </a:lnTo>
                    <a:lnTo>
                      <a:pt x="645" y="53"/>
                    </a:lnTo>
                    <a:lnTo>
                      <a:pt x="615" y="48"/>
                    </a:lnTo>
                    <a:lnTo>
                      <a:pt x="596" y="46"/>
                    </a:lnTo>
                    <a:lnTo>
                      <a:pt x="580" y="44"/>
                    </a:lnTo>
                    <a:lnTo>
                      <a:pt x="567" y="41"/>
                    </a:lnTo>
                    <a:lnTo>
                      <a:pt x="554" y="39"/>
                    </a:lnTo>
                    <a:lnTo>
                      <a:pt x="543" y="38"/>
                    </a:lnTo>
                    <a:lnTo>
                      <a:pt x="531" y="36"/>
                    </a:lnTo>
                    <a:lnTo>
                      <a:pt x="520" y="35"/>
                    </a:lnTo>
                    <a:lnTo>
                      <a:pt x="508" y="33"/>
                    </a:lnTo>
                    <a:lnTo>
                      <a:pt x="493" y="31"/>
                    </a:lnTo>
                    <a:lnTo>
                      <a:pt x="475" y="29"/>
                    </a:lnTo>
                    <a:lnTo>
                      <a:pt x="456" y="27"/>
                    </a:lnTo>
                    <a:lnTo>
                      <a:pt x="433" y="24"/>
                    </a:lnTo>
                    <a:lnTo>
                      <a:pt x="405" y="20"/>
                    </a:lnTo>
                    <a:lnTo>
                      <a:pt x="372" y="16"/>
                    </a:lnTo>
                    <a:lnTo>
                      <a:pt x="334" y="11"/>
                    </a:lnTo>
                    <a:lnTo>
                      <a:pt x="290" y="5"/>
                    </a:lnTo>
                    <a:lnTo>
                      <a:pt x="262" y="2"/>
                    </a:lnTo>
                    <a:lnTo>
                      <a:pt x="234" y="0"/>
                    </a:lnTo>
                    <a:lnTo>
                      <a:pt x="209" y="0"/>
                    </a:lnTo>
                    <a:lnTo>
                      <a:pt x="186" y="2"/>
                    </a:lnTo>
                    <a:lnTo>
                      <a:pt x="164" y="5"/>
                    </a:lnTo>
                    <a:lnTo>
                      <a:pt x="145" y="10"/>
                    </a:lnTo>
                    <a:lnTo>
                      <a:pt x="128" y="15"/>
                    </a:lnTo>
                    <a:lnTo>
                      <a:pt x="111" y="22"/>
                    </a:lnTo>
                    <a:lnTo>
                      <a:pt x="97" y="29"/>
                    </a:lnTo>
                    <a:lnTo>
                      <a:pt x="83" y="38"/>
                    </a:lnTo>
                    <a:lnTo>
                      <a:pt x="72" y="48"/>
                    </a:lnTo>
                    <a:lnTo>
                      <a:pt x="60" y="57"/>
                    </a:lnTo>
                    <a:lnTo>
                      <a:pt x="51" y="68"/>
                    </a:lnTo>
                    <a:lnTo>
                      <a:pt x="41" y="78"/>
                    </a:lnTo>
                    <a:lnTo>
                      <a:pt x="33" y="89"/>
                    </a:lnTo>
                    <a:lnTo>
                      <a:pt x="26" y="100"/>
                    </a:lnTo>
                    <a:lnTo>
                      <a:pt x="19" y="110"/>
                    </a:lnTo>
                    <a:lnTo>
                      <a:pt x="13" y="120"/>
                    </a:lnTo>
                    <a:lnTo>
                      <a:pt x="8" y="130"/>
                    </a:lnTo>
                    <a:lnTo>
                      <a:pt x="4" y="140"/>
                    </a:lnTo>
                    <a:lnTo>
                      <a:pt x="2" y="150"/>
                    </a:lnTo>
                    <a:lnTo>
                      <a:pt x="0" y="160"/>
                    </a:lnTo>
                    <a:lnTo>
                      <a:pt x="1" y="172"/>
                    </a:lnTo>
                    <a:lnTo>
                      <a:pt x="4" y="182"/>
                    </a:lnTo>
                    <a:lnTo>
                      <a:pt x="9" y="192"/>
                    </a:lnTo>
                    <a:lnTo>
                      <a:pt x="18" y="201"/>
                    </a:lnTo>
                    <a:lnTo>
                      <a:pt x="30" y="210"/>
                    </a:lnTo>
                    <a:lnTo>
                      <a:pt x="46" y="219"/>
                    </a:lnTo>
                    <a:lnTo>
                      <a:pt x="65" y="227"/>
                    </a:lnTo>
                    <a:lnTo>
                      <a:pt x="89" y="235"/>
                    </a:lnTo>
                    <a:lnTo>
                      <a:pt x="117" y="241"/>
                    </a:lnTo>
                    <a:lnTo>
                      <a:pt x="151" y="246"/>
                    </a:lnTo>
                    <a:close/>
                  </a:path>
                </a:pathLst>
              </a:custGeom>
              <a:solidFill>
                <a:srgbClr val="e3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556760" y="4366800"/>
                <a:ext cx="55080" cy="16920"/>
              </a:xfrm>
              <a:custGeom>
                <a:avLst/>
                <a:gdLst/>
                <a:ahLst/>
                <a:rect l="l" t="t" r="r" b="b"/>
                <a:pathLst>
                  <a:path w="790" h="299">
                    <a:moveTo>
                      <a:pt x="138" y="227"/>
                    </a:moveTo>
                    <a:lnTo>
                      <a:pt x="651" y="296"/>
                    </a:lnTo>
                    <a:lnTo>
                      <a:pt x="700" y="299"/>
                    </a:lnTo>
                    <a:lnTo>
                      <a:pt x="737" y="296"/>
                    </a:lnTo>
                    <a:lnTo>
                      <a:pt x="763" y="288"/>
                    </a:lnTo>
                    <a:lnTo>
                      <a:pt x="779" y="274"/>
                    </a:lnTo>
                    <a:lnTo>
                      <a:pt x="788" y="257"/>
                    </a:lnTo>
                    <a:lnTo>
                      <a:pt x="790" y="239"/>
                    </a:lnTo>
                    <a:lnTo>
                      <a:pt x="787" y="219"/>
                    </a:lnTo>
                    <a:lnTo>
                      <a:pt x="781" y="198"/>
                    </a:lnTo>
                    <a:lnTo>
                      <a:pt x="776" y="186"/>
                    </a:lnTo>
                    <a:lnTo>
                      <a:pt x="771" y="175"/>
                    </a:lnTo>
                    <a:lnTo>
                      <a:pt x="766" y="163"/>
                    </a:lnTo>
                    <a:lnTo>
                      <a:pt x="760" y="150"/>
                    </a:lnTo>
                    <a:lnTo>
                      <a:pt x="752" y="139"/>
                    </a:lnTo>
                    <a:lnTo>
                      <a:pt x="744" y="127"/>
                    </a:lnTo>
                    <a:lnTo>
                      <a:pt x="735" y="116"/>
                    </a:lnTo>
                    <a:lnTo>
                      <a:pt x="724" y="106"/>
                    </a:lnTo>
                    <a:lnTo>
                      <a:pt x="712" y="96"/>
                    </a:lnTo>
                    <a:lnTo>
                      <a:pt x="698" y="85"/>
                    </a:lnTo>
                    <a:lnTo>
                      <a:pt x="682" y="76"/>
                    </a:lnTo>
                    <a:lnTo>
                      <a:pt x="664" y="68"/>
                    </a:lnTo>
                    <a:lnTo>
                      <a:pt x="643" y="61"/>
                    </a:lnTo>
                    <a:lnTo>
                      <a:pt x="621" y="54"/>
                    </a:lnTo>
                    <a:lnTo>
                      <a:pt x="595" y="48"/>
                    </a:lnTo>
                    <a:lnTo>
                      <a:pt x="567" y="44"/>
                    </a:lnTo>
                    <a:lnTo>
                      <a:pt x="269" y="4"/>
                    </a:lnTo>
                    <a:lnTo>
                      <a:pt x="241" y="1"/>
                    </a:lnTo>
                    <a:lnTo>
                      <a:pt x="217" y="0"/>
                    </a:lnTo>
                    <a:lnTo>
                      <a:pt x="194" y="0"/>
                    </a:lnTo>
                    <a:lnTo>
                      <a:pt x="172" y="2"/>
                    </a:lnTo>
                    <a:lnTo>
                      <a:pt x="152" y="4"/>
                    </a:lnTo>
                    <a:lnTo>
                      <a:pt x="134" y="8"/>
                    </a:lnTo>
                    <a:lnTo>
                      <a:pt x="118" y="14"/>
                    </a:lnTo>
                    <a:lnTo>
                      <a:pt x="103" y="20"/>
                    </a:lnTo>
                    <a:lnTo>
                      <a:pt x="89" y="27"/>
                    </a:lnTo>
                    <a:lnTo>
                      <a:pt x="77" y="35"/>
                    </a:lnTo>
                    <a:lnTo>
                      <a:pt x="66" y="44"/>
                    </a:lnTo>
                    <a:lnTo>
                      <a:pt x="55" y="52"/>
                    </a:lnTo>
                    <a:lnTo>
                      <a:pt x="46" y="62"/>
                    </a:lnTo>
                    <a:lnTo>
                      <a:pt x="38" y="71"/>
                    </a:lnTo>
                    <a:lnTo>
                      <a:pt x="30" y="81"/>
                    </a:lnTo>
                    <a:lnTo>
                      <a:pt x="23" y="91"/>
                    </a:lnTo>
                    <a:lnTo>
                      <a:pt x="18" y="100"/>
                    </a:lnTo>
                    <a:lnTo>
                      <a:pt x="13" y="109"/>
                    </a:lnTo>
                    <a:lnTo>
                      <a:pt x="7" y="119"/>
                    </a:lnTo>
                    <a:lnTo>
                      <a:pt x="4" y="128"/>
                    </a:lnTo>
                    <a:lnTo>
                      <a:pt x="1" y="138"/>
                    </a:lnTo>
                    <a:lnTo>
                      <a:pt x="0" y="147"/>
                    </a:lnTo>
                    <a:lnTo>
                      <a:pt x="1" y="158"/>
                    </a:lnTo>
                    <a:lnTo>
                      <a:pt x="4" y="167"/>
                    </a:lnTo>
                    <a:lnTo>
                      <a:pt x="9" y="177"/>
                    </a:lnTo>
                    <a:lnTo>
                      <a:pt x="17" y="185"/>
                    </a:lnTo>
                    <a:lnTo>
                      <a:pt x="28" y="194"/>
                    </a:lnTo>
                    <a:lnTo>
                      <a:pt x="42" y="202"/>
                    </a:lnTo>
                    <a:lnTo>
                      <a:pt x="60" y="209"/>
                    </a:lnTo>
                    <a:lnTo>
                      <a:pt x="82" y="215"/>
                    </a:lnTo>
                    <a:lnTo>
                      <a:pt x="108" y="222"/>
                    </a:lnTo>
                    <a:lnTo>
                      <a:pt x="138" y="227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623720" y="4317840"/>
                <a:ext cx="44640" cy="6480"/>
              </a:xfrm>
              <a:custGeom>
                <a:avLst/>
                <a:gdLst/>
                <a:ahLst/>
                <a:rect l="l" t="t" r="r" b="b"/>
                <a:pathLst>
                  <a:path w="642" h="131">
                    <a:moveTo>
                      <a:pt x="0" y="39"/>
                    </a:moveTo>
                    <a:lnTo>
                      <a:pt x="133" y="0"/>
                    </a:lnTo>
                    <a:lnTo>
                      <a:pt x="620" y="89"/>
                    </a:lnTo>
                    <a:lnTo>
                      <a:pt x="642" y="131"/>
                    </a:lnTo>
                    <a:lnTo>
                      <a:pt x="128" y="33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623720" y="4319280"/>
                <a:ext cx="44640" cy="6480"/>
              </a:xfrm>
              <a:custGeom>
                <a:avLst/>
                <a:gdLst/>
                <a:ahLst/>
                <a:rect l="l" t="t" r="r" b="b"/>
                <a:pathLst>
                  <a:path w="642" h="121">
                    <a:moveTo>
                      <a:pt x="0" y="6"/>
                    </a:moveTo>
                    <a:lnTo>
                      <a:pt x="94" y="27"/>
                    </a:lnTo>
                    <a:lnTo>
                      <a:pt x="602" y="121"/>
                    </a:lnTo>
                    <a:lnTo>
                      <a:pt x="642" y="98"/>
                    </a:lnTo>
                    <a:lnTo>
                      <a:pt x="12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552440" y="43707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1" y="343"/>
                    </a:moveTo>
                    <a:lnTo>
                      <a:pt x="409" y="8"/>
                    </a:lnTo>
                    <a:lnTo>
                      <a:pt x="420" y="1"/>
                    </a:lnTo>
                    <a:lnTo>
                      <a:pt x="431" y="0"/>
                    </a:lnTo>
                    <a:lnTo>
                      <a:pt x="440" y="2"/>
                    </a:lnTo>
                    <a:lnTo>
                      <a:pt x="448" y="9"/>
                    </a:lnTo>
                    <a:lnTo>
                      <a:pt x="453" y="18"/>
                    </a:lnTo>
                    <a:lnTo>
                      <a:pt x="455" y="27"/>
                    </a:lnTo>
                    <a:lnTo>
                      <a:pt x="452" y="37"/>
                    </a:lnTo>
                    <a:lnTo>
                      <a:pt x="445" y="47"/>
                    </a:lnTo>
                    <a:lnTo>
                      <a:pt x="45" y="383"/>
                    </a:lnTo>
                    <a:lnTo>
                      <a:pt x="35" y="389"/>
                    </a:lnTo>
                    <a:lnTo>
                      <a:pt x="24" y="390"/>
                    </a:lnTo>
                    <a:lnTo>
                      <a:pt x="14" y="388"/>
                    </a:lnTo>
                    <a:lnTo>
                      <a:pt x="6" y="381"/>
                    </a:lnTo>
                    <a:lnTo>
                      <a:pt x="1" y="372"/>
                    </a:lnTo>
                    <a:lnTo>
                      <a:pt x="0" y="363"/>
                    </a:lnTo>
                    <a:lnTo>
                      <a:pt x="2" y="353"/>
                    </a:lnTo>
                    <a:lnTo>
                      <a:pt x="11" y="343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552440" y="43707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1" y="343"/>
                    </a:moveTo>
                    <a:lnTo>
                      <a:pt x="410" y="7"/>
                    </a:lnTo>
                    <a:lnTo>
                      <a:pt x="421" y="1"/>
                    </a:lnTo>
                    <a:lnTo>
                      <a:pt x="431" y="0"/>
                    </a:lnTo>
                    <a:lnTo>
                      <a:pt x="441" y="2"/>
                    </a:lnTo>
                    <a:lnTo>
                      <a:pt x="449" y="8"/>
                    </a:lnTo>
                    <a:lnTo>
                      <a:pt x="454" y="18"/>
                    </a:lnTo>
                    <a:lnTo>
                      <a:pt x="455" y="27"/>
                    </a:lnTo>
                    <a:lnTo>
                      <a:pt x="453" y="37"/>
                    </a:lnTo>
                    <a:lnTo>
                      <a:pt x="445" y="47"/>
                    </a:lnTo>
                    <a:lnTo>
                      <a:pt x="46" y="382"/>
                    </a:lnTo>
                    <a:lnTo>
                      <a:pt x="35" y="389"/>
                    </a:lnTo>
                    <a:lnTo>
                      <a:pt x="24" y="390"/>
                    </a:lnTo>
                    <a:lnTo>
                      <a:pt x="15" y="388"/>
                    </a:lnTo>
                    <a:lnTo>
                      <a:pt x="6" y="380"/>
                    </a:lnTo>
                    <a:lnTo>
                      <a:pt x="2" y="372"/>
                    </a:lnTo>
                    <a:lnTo>
                      <a:pt x="0" y="363"/>
                    </a:lnTo>
                    <a:lnTo>
                      <a:pt x="3" y="353"/>
                    </a:lnTo>
                    <a:lnTo>
                      <a:pt x="11" y="34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552440" y="4372200"/>
                <a:ext cx="30240" cy="21240"/>
              </a:xfrm>
              <a:custGeom>
                <a:avLst/>
                <a:gdLst/>
                <a:ahLst/>
                <a:rect l="l" t="t" r="r" b="b"/>
                <a:pathLst>
                  <a:path w="433" h="369">
                    <a:moveTo>
                      <a:pt x="11" y="330"/>
                    </a:moveTo>
                    <a:lnTo>
                      <a:pt x="394" y="8"/>
                    </a:lnTo>
                    <a:lnTo>
                      <a:pt x="404" y="2"/>
                    </a:lnTo>
                    <a:lnTo>
                      <a:pt x="414" y="0"/>
                    </a:lnTo>
                    <a:lnTo>
                      <a:pt x="422" y="1"/>
                    </a:lnTo>
                    <a:lnTo>
                      <a:pt x="428" y="6"/>
                    </a:lnTo>
                    <a:lnTo>
                      <a:pt x="431" y="12"/>
                    </a:lnTo>
                    <a:lnTo>
                      <a:pt x="433" y="20"/>
                    </a:lnTo>
                    <a:lnTo>
                      <a:pt x="428" y="29"/>
                    </a:lnTo>
                    <a:lnTo>
                      <a:pt x="421" y="38"/>
                    </a:lnTo>
                    <a:lnTo>
                      <a:pt x="38" y="360"/>
                    </a:lnTo>
                    <a:lnTo>
                      <a:pt x="28" y="366"/>
                    </a:lnTo>
                    <a:lnTo>
                      <a:pt x="18" y="369"/>
                    </a:lnTo>
                    <a:lnTo>
                      <a:pt x="10" y="367"/>
                    </a:lnTo>
                    <a:lnTo>
                      <a:pt x="4" y="362"/>
                    </a:lnTo>
                    <a:lnTo>
                      <a:pt x="1" y="356"/>
                    </a:lnTo>
                    <a:lnTo>
                      <a:pt x="0" y="348"/>
                    </a:lnTo>
                    <a:lnTo>
                      <a:pt x="4" y="339"/>
                    </a:lnTo>
                    <a:lnTo>
                      <a:pt x="11" y="330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563960" y="437868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1" y="28"/>
                    </a:moveTo>
                    <a:lnTo>
                      <a:pt x="25" y="116"/>
                    </a:lnTo>
                    <a:lnTo>
                      <a:pt x="0" y="88"/>
                    </a:lnTo>
                    <a:lnTo>
                      <a:pt x="106" y="0"/>
                    </a:lnTo>
                    <a:lnTo>
                      <a:pt x="131" y="28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568280" y="437364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455" h="389">
                    <a:moveTo>
                      <a:pt x="11" y="342"/>
                    </a:moveTo>
                    <a:lnTo>
                      <a:pt x="409" y="7"/>
                    </a:lnTo>
                    <a:lnTo>
                      <a:pt x="420" y="1"/>
                    </a:lnTo>
                    <a:lnTo>
                      <a:pt x="431" y="0"/>
                    </a:lnTo>
                    <a:lnTo>
                      <a:pt x="440" y="2"/>
                    </a:lnTo>
                    <a:lnTo>
                      <a:pt x="448" y="8"/>
                    </a:lnTo>
                    <a:lnTo>
                      <a:pt x="453" y="17"/>
                    </a:lnTo>
                    <a:lnTo>
                      <a:pt x="455" y="26"/>
                    </a:lnTo>
                    <a:lnTo>
                      <a:pt x="452" y="37"/>
                    </a:lnTo>
                    <a:lnTo>
                      <a:pt x="445" y="47"/>
                    </a:lnTo>
                    <a:lnTo>
                      <a:pt x="45" y="382"/>
                    </a:lnTo>
                    <a:lnTo>
                      <a:pt x="35" y="388"/>
                    </a:lnTo>
                    <a:lnTo>
                      <a:pt x="24" y="389"/>
                    </a:lnTo>
                    <a:lnTo>
                      <a:pt x="14" y="387"/>
                    </a:lnTo>
                    <a:lnTo>
                      <a:pt x="6" y="380"/>
                    </a:lnTo>
                    <a:lnTo>
                      <a:pt x="1" y="372"/>
                    </a:lnTo>
                    <a:lnTo>
                      <a:pt x="0" y="363"/>
                    </a:lnTo>
                    <a:lnTo>
                      <a:pt x="2" y="353"/>
                    </a:lnTo>
                    <a:lnTo>
                      <a:pt x="11" y="342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568280" y="437220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455" h="389">
                    <a:moveTo>
                      <a:pt x="11" y="342"/>
                    </a:moveTo>
                    <a:lnTo>
                      <a:pt x="410" y="7"/>
                    </a:lnTo>
                    <a:lnTo>
                      <a:pt x="421" y="1"/>
                    </a:lnTo>
                    <a:lnTo>
                      <a:pt x="431" y="0"/>
                    </a:lnTo>
                    <a:lnTo>
                      <a:pt x="441" y="2"/>
                    </a:lnTo>
                    <a:lnTo>
                      <a:pt x="449" y="8"/>
                    </a:lnTo>
                    <a:lnTo>
                      <a:pt x="454" y="17"/>
                    </a:lnTo>
                    <a:lnTo>
                      <a:pt x="455" y="26"/>
                    </a:lnTo>
                    <a:lnTo>
                      <a:pt x="453" y="36"/>
                    </a:lnTo>
                    <a:lnTo>
                      <a:pt x="445" y="47"/>
                    </a:lnTo>
                    <a:lnTo>
                      <a:pt x="46" y="382"/>
                    </a:lnTo>
                    <a:lnTo>
                      <a:pt x="35" y="388"/>
                    </a:lnTo>
                    <a:lnTo>
                      <a:pt x="24" y="389"/>
                    </a:lnTo>
                    <a:lnTo>
                      <a:pt x="15" y="387"/>
                    </a:lnTo>
                    <a:lnTo>
                      <a:pt x="6" y="380"/>
                    </a:lnTo>
                    <a:lnTo>
                      <a:pt x="2" y="372"/>
                    </a:lnTo>
                    <a:lnTo>
                      <a:pt x="0" y="363"/>
                    </a:lnTo>
                    <a:lnTo>
                      <a:pt x="3" y="352"/>
                    </a:lnTo>
                    <a:lnTo>
                      <a:pt x="11" y="342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568280" y="4373640"/>
                <a:ext cx="30600" cy="20880"/>
              </a:xfrm>
              <a:custGeom>
                <a:avLst/>
                <a:gdLst/>
                <a:ahLst/>
                <a:rect l="l" t="t" r="r" b="b"/>
                <a:pathLst>
                  <a:path w="432" h="369">
                    <a:moveTo>
                      <a:pt x="11" y="330"/>
                    </a:moveTo>
                    <a:lnTo>
                      <a:pt x="394" y="8"/>
                    </a:lnTo>
                    <a:lnTo>
                      <a:pt x="404" y="2"/>
                    </a:lnTo>
                    <a:lnTo>
                      <a:pt x="414" y="0"/>
                    </a:lnTo>
                    <a:lnTo>
                      <a:pt x="422" y="1"/>
                    </a:lnTo>
                    <a:lnTo>
                      <a:pt x="428" y="6"/>
                    </a:lnTo>
                    <a:lnTo>
                      <a:pt x="431" y="12"/>
                    </a:lnTo>
                    <a:lnTo>
                      <a:pt x="432" y="20"/>
                    </a:lnTo>
                    <a:lnTo>
                      <a:pt x="428" y="30"/>
                    </a:lnTo>
                    <a:lnTo>
                      <a:pt x="421" y="39"/>
                    </a:lnTo>
                    <a:lnTo>
                      <a:pt x="38" y="361"/>
                    </a:lnTo>
                    <a:lnTo>
                      <a:pt x="28" y="367"/>
                    </a:lnTo>
                    <a:lnTo>
                      <a:pt x="18" y="369"/>
                    </a:lnTo>
                    <a:lnTo>
                      <a:pt x="10" y="368"/>
                    </a:lnTo>
                    <a:lnTo>
                      <a:pt x="4" y="363"/>
                    </a:lnTo>
                    <a:lnTo>
                      <a:pt x="1" y="357"/>
                    </a:lnTo>
                    <a:lnTo>
                      <a:pt x="0" y="349"/>
                    </a:lnTo>
                    <a:lnTo>
                      <a:pt x="4" y="340"/>
                    </a:lnTo>
                    <a:lnTo>
                      <a:pt x="11" y="330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578360" y="4381560"/>
                <a:ext cx="10080" cy="648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0" y="29"/>
                    </a:moveTo>
                    <a:lnTo>
                      <a:pt x="25" y="117"/>
                    </a:lnTo>
                    <a:lnTo>
                      <a:pt x="0" y="89"/>
                    </a:lnTo>
                    <a:lnTo>
                      <a:pt x="105" y="0"/>
                    </a:lnTo>
                    <a:lnTo>
                      <a:pt x="130" y="2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582680" y="437472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0" y="343"/>
                    </a:moveTo>
                    <a:lnTo>
                      <a:pt x="410" y="8"/>
                    </a:lnTo>
                    <a:lnTo>
                      <a:pt x="420" y="1"/>
                    </a:lnTo>
                    <a:lnTo>
                      <a:pt x="431" y="0"/>
                    </a:lnTo>
                    <a:lnTo>
                      <a:pt x="441" y="2"/>
                    </a:lnTo>
                    <a:lnTo>
                      <a:pt x="448" y="9"/>
                    </a:lnTo>
                    <a:lnTo>
                      <a:pt x="453" y="18"/>
                    </a:lnTo>
                    <a:lnTo>
                      <a:pt x="455" y="27"/>
                    </a:lnTo>
                    <a:lnTo>
                      <a:pt x="452" y="37"/>
                    </a:lnTo>
                    <a:lnTo>
                      <a:pt x="445" y="47"/>
                    </a:lnTo>
                    <a:lnTo>
                      <a:pt x="44" y="383"/>
                    </a:lnTo>
                    <a:lnTo>
                      <a:pt x="34" y="389"/>
                    </a:lnTo>
                    <a:lnTo>
                      <a:pt x="24" y="390"/>
                    </a:lnTo>
                    <a:lnTo>
                      <a:pt x="13" y="388"/>
                    </a:lnTo>
                    <a:lnTo>
                      <a:pt x="6" y="381"/>
                    </a:lnTo>
                    <a:lnTo>
                      <a:pt x="1" y="372"/>
                    </a:lnTo>
                    <a:lnTo>
                      <a:pt x="0" y="363"/>
                    </a:lnTo>
                    <a:lnTo>
                      <a:pt x="2" y="353"/>
                    </a:lnTo>
                    <a:lnTo>
                      <a:pt x="10" y="343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582680" y="437472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0" y="343"/>
                    </a:moveTo>
                    <a:lnTo>
                      <a:pt x="411" y="7"/>
                    </a:lnTo>
                    <a:lnTo>
                      <a:pt x="421" y="1"/>
                    </a:lnTo>
                    <a:lnTo>
                      <a:pt x="431" y="0"/>
                    </a:lnTo>
                    <a:lnTo>
                      <a:pt x="442" y="2"/>
                    </a:lnTo>
                    <a:lnTo>
                      <a:pt x="449" y="8"/>
                    </a:lnTo>
                    <a:lnTo>
                      <a:pt x="454" y="18"/>
                    </a:lnTo>
                    <a:lnTo>
                      <a:pt x="455" y="27"/>
                    </a:lnTo>
                    <a:lnTo>
                      <a:pt x="453" y="37"/>
                    </a:lnTo>
                    <a:lnTo>
                      <a:pt x="445" y="47"/>
                    </a:lnTo>
                    <a:lnTo>
                      <a:pt x="45" y="382"/>
                    </a:lnTo>
                    <a:lnTo>
                      <a:pt x="34" y="389"/>
                    </a:lnTo>
                    <a:lnTo>
                      <a:pt x="24" y="390"/>
                    </a:lnTo>
                    <a:lnTo>
                      <a:pt x="14" y="387"/>
                    </a:lnTo>
                    <a:lnTo>
                      <a:pt x="6" y="380"/>
                    </a:lnTo>
                    <a:lnTo>
                      <a:pt x="2" y="372"/>
                    </a:lnTo>
                    <a:lnTo>
                      <a:pt x="0" y="363"/>
                    </a:lnTo>
                    <a:lnTo>
                      <a:pt x="3" y="353"/>
                    </a:lnTo>
                    <a:lnTo>
                      <a:pt x="10" y="34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584480" y="4374720"/>
                <a:ext cx="28800" cy="21240"/>
              </a:xfrm>
              <a:custGeom>
                <a:avLst/>
                <a:gdLst/>
                <a:ahLst/>
                <a:rect l="l" t="t" r="r" b="b"/>
                <a:pathLst>
                  <a:path w="434" h="369">
                    <a:moveTo>
                      <a:pt x="11" y="331"/>
                    </a:moveTo>
                    <a:lnTo>
                      <a:pt x="395" y="9"/>
                    </a:lnTo>
                    <a:lnTo>
                      <a:pt x="406" y="3"/>
                    </a:lnTo>
                    <a:lnTo>
                      <a:pt x="415" y="0"/>
                    </a:lnTo>
                    <a:lnTo>
                      <a:pt x="424" y="2"/>
                    </a:lnTo>
                    <a:lnTo>
                      <a:pt x="430" y="7"/>
                    </a:lnTo>
                    <a:lnTo>
                      <a:pt x="433" y="13"/>
                    </a:lnTo>
                    <a:lnTo>
                      <a:pt x="434" y="21"/>
                    </a:lnTo>
                    <a:lnTo>
                      <a:pt x="430" y="30"/>
                    </a:lnTo>
                    <a:lnTo>
                      <a:pt x="423" y="39"/>
                    </a:lnTo>
                    <a:lnTo>
                      <a:pt x="39" y="361"/>
                    </a:lnTo>
                    <a:lnTo>
                      <a:pt x="28" y="367"/>
                    </a:lnTo>
                    <a:lnTo>
                      <a:pt x="19" y="369"/>
                    </a:lnTo>
                    <a:lnTo>
                      <a:pt x="10" y="368"/>
                    </a:lnTo>
                    <a:lnTo>
                      <a:pt x="4" y="363"/>
                    </a:lnTo>
                    <a:lnTo>
                      <a:pt x="1" y="357"/>
                    </a:lnTo>
                    <a:lnTo>
                      <a:pt x="0" y="349"/>
                    </a:lnTo>
                    <a:lnTo>
                      <a:pt x="4" y="340"/>
                    </a:lnTo>
                    <a:lnTo>
                      <a:pt x="11" y="331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594560" y="43830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130" h="116">
                    <a:moveTo>
                      <a:pt x="130" y="28"/>
                    </a:moveTo>
                    <a:lnTo>
                      <a:pt x="25" y="116"/>
                    </a:lnTo>
                    <a:lnTo>
                      <a:pt x="0" y="88"/>
                    </a:lnTo>
                    <a:lnTo>
                      <a:pt x="105" y="0"/>
                    </a:lnTo>
                    <a:lnTo>
                      <a:pt x="130" y="28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82240" y="4646520"/>
                <a:ext cx="146880" cy="22320"/>
              </a:xfrm>
              <a:custGeom>
                <a:avLst/>
                <a:gdLst/>
                <a:ahLst/>
                <a:rect l="l" t="t" r="r" b="b"/>
                <a:pathLst>
                  <a:path w="2120" h="395">
                    <a:moveTo>
                      <a:pt x="111" y="0"/>
                    </a:moveTo>
                    <a:lnTo>
                      <a:pt x="2030" y="180"/>
                    </a:lnTo>
                    <a:lnTo>
                      <a:pt x="2051" y="184"/>
                    </a:lnTo>
                    <a:lnTo>
                      <a:pt x="2069" y="191"/>
                    </a:lnTo>
                    <a:lnTo>
                      <a:pt x="2084" y="201"/>
                    </a:lnTo>
                    <a:lnTo>
                      <a:pt x="2096" y="212"/>
                    </a:lnTo>
                    <a:lnTo>
                      <a:pt x="2106" y="227"/>
                    </a:lnTo>
                    <a:lnTo>
                      <a:pt x="2114" y="243"/>
                    </a:lnTo>
                    <a:lnTo>
                      <a:pt x="2118" y="259"/>
                    </a:lnTo>
                    <a:lnTo>
                      <a:pt x="2120" y="276"/>
                    </a:lnTo>
                    <a:lnTo>
                      <a:pt x="2119" y="300"/>
                    </a:lnTo>
                    <a:lnTo>
                      <a:pt x="2115" y="322"/>
                    </a:lnTo>
                    <a:lnTo>
                      <a:pt x="2105" y="342"/>
                    </a:lnTo>
                    <a:lnTo>
                      <a:pt x="2094" y="362"/>
                    </a:lnTo>
                    <a:lnTo>
                      <a:pt x="2077" y="377"/>
                    </a:lnTo>
                    <a:lnTo>
                      <a:pt x="2059" y="388"/>
                    </a:lnTo>
                    <a:lnTo>
                      <a:pt x="2035" y="394"/>
                    </a:lnTo>
                    <a:lnTo>
                      <a:pt x="2009" y="395"/>
                    </a:lnTo>
                    <a:lnTo>
                      <a:pt x="90" y="215"/>
                    </a:lnTo>
                    <a:lnTo>
                      <a:pt x="67" y="211"/>
                    </a:lnTo>
                    <a:lnTo>
                      <a:pt x="47" y="202"/>
                    </a:lnTo>
                    <a:lnTo>
                      <a:pt x="30" y="190"/>
                    </a:lnTo>
                    <a:lnTo>
                      <a:pt x="18" y="175"/>
                    </a:lnTo>
                    <a:lnTo>
                      <a:pt x="9" y="157"/>
                    </a:lnTo>
                    <a:lnTo>
                      <a:pt x="2" y="138"/>
                    </a:lnTo>
                    <a:lnTo>
                      <a:pt x="0" y="118"/>
                    </a:lnTo>
                    <a:lnTo>
                      <a:pt x="0" y="98"/>
                    </a:lnTo>
                    <a:lnTo>
                      <a:pt x="3" y="77"/>
                    </a:lnTo>
                    <a:lnTo>
                      <a:pt x="11" y="59"/>
                    </a:lnTo>
                    <a:lnTo>
                      <a:pt x="20" y="42"/>
                    </a:lnTo>
                    <a:lnTo>
                      <a:pt x="32" y="26"/>
                    </a:lnTo>
                    <a:lnTo>
                      <a:pt x="48" y="14"/>
                    </a:lnTo>
                    <a:lnTo>
                      <a:pt x="66" y="5"/>
                    </a:lnTo>
                    <a:lnTo>
                      <a:pt x="87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83680" y="4647960"/>
                <a:ext cx="145440" cy="20880"/>
              </a:xfrm>
              <a:custGeom>
                <a:avLst/>
                <a:gdLst/>
                <a:ahLst/>
                <a:rect l="l" t="t" r="r" b="b"/>
                <a:pathLst>
                  <a:path w="2105" h="379">
                    <a:moveTo>
                      <a:pt x="108" y="0"/>
                    </a:moveTo>
                    <a:lnTo>
                      <a:pt x="165" y="5"/>
                    </a:lnTo>
                    <a:lnTo>
                      <a:pt x="218" y="10"/>
                    </a:lnTo>
                    <a:lnTo>
                      <a:pt x="267" y="15"/>
                    </a:lnTo>
                    <a:lnTo>
                      <a:pt x="312" y="19"/>
                    </a:lnTo>
                    <a:lnTo>
                      <a:pt x="354" y="23"/>
                    </a:lnTo>
                    <a:lnTo>
                      <a:pt x="393" y="26"/>
                    </a:lnTo>
                    <a:lnTo>
                      <a:pt x="430" y="31"/>
                    </a:lnTo>
                    <a:lnTo>
                      <a:pt x="466" y="34"/>
                    </a:lnTo>
                    <a:lnTo>
                      <a:pt x="500" y="37"/>
                    </a:lnTo>
                    <a:lnTo>
                      <a:pt x="534" y="40"/>
                    </a:lnTo>
                    <a:lnTo>
                      <a:pt x="567" y="43"/>
                    </a:lnTo>
                    <a:lnTo>
                      <a:pt x="601" y="46"/>
                    </a:lnTo>
                    <a:lnTo>
                      <a:pt x="634" y="49"/>
                    </a:lnTo>
                    <a:lnTo>
                      <a:pt x="670" y="53"/>
                    </a:lnTo>
                    <a:lnTo>
                      <a:pt x="706" y="56"/>
                    </a:lnTo>
                    <a:lnTo>
                      <a:pt x="745" y="59"/>
                    </a:lnTo>
                    <a:lnTo>
                      <a:pt x="786" y="63"/>
                    </a:lnTo>
                    <a:lnTo>
                      <a:pt x="830" y="67"/>
                    </a:lnTo>
                    <a:lnTo>
                      <a:pt x="878" y="72"/>
                    </a:lnTo>
                    <a:lnTo>
                      <a:pt x="929" y="76"/>
                    </a:lnTo>
                    <a:lnTo>
                      <a:pt x="984" y="82"/>
                    </a:lnTo>
                    <a:lnTo>
                      <a:pt x="1044" y="87"/>
                    </a:lnTo>
                    <a:lnTo>
                      <a:pt x="1111" y="94"/>
                    </a:lnTo>
                    <a:lnTo>
                      <a:pt x="1182" y="101"/>
                    </a:lnTo>
                    <a:lnTo>
                      <a:pt x="1260" y="108"/>
                    </a:lnTo>
                    <a:lnTo>
                      <a:pt x="1343" y="116"/>
                    </a:lnTo>
                    <a:lnTo>
                      <a:pt x="1435" y="125"/>
                    </a:lnTo>
                    <a:lnTo>
                      <a:pt x="1533" y="134"/>
                    </a:lnTo>
                    <a:lnTo>
                      <a:pt x="1641" y="144"/>
                    </a:lnTo>
                    <a:lnTo>
                      <a:pt x="1756" y="156"/>
                    </a:lnTo>
                    <a:lnTo>
                      <a:pt x="1881" y="167"/>
                    </a:lnTo>
                    <a:lnTo>
                      <a:pt x="2015" y="180"/>
                    </a:lnTo>
                    <a:lnTo>
                      <a:pt x="2036" y="183"/>
                    </a:lnTo>
                    <a:lnTo>
                      <a:pt x="2054" y="190"/>
                    </a:lnTo>
                    <a:lnTo>
                      <a:pt x="2068" y="199"/>
                    </a:lnTo>
                    <a:lnTo>
                      <a:pt x="2081" y="210"/>
                    </a:lnTo>
                    <a:lnTo>
                      <a:pt x="2091" y="224"/>
                    </a:lnTo>
                    <a:lnTo>
                      <a:pt x="2098" y="238"/>
                    </a:lnTo>
                    <a:lnTo>
                      <a:pt x="2103" y="253"/>
                    </a:lnTo>
                    <a:lnTo>
                      <a:pt x="2105" y="269"/>
                    </a:lnTo>
                    <a:lnTo>
                      <a:pt x="2105" y="291"/>
                    </a:lnTo>
                    <a:lnTo>
                      <a:pt x="2099" y="311"/>
                    </a:lnTo>
                    <a:lnTo>
                      <a:pt x="2092" y="330"/>
                    </a:lnTo>
                    <a:lnTo>
                      <a:pt x="2080" y="348"/>
                    </a:lnTo>
                    <a:lnTo>
                      <a:pt x="2064" y="362"/>
                    </a:lnTo>
                    <a:lnTo>
                      <a:pt x="2044" y="373"/>
                    </a:lnTo>
                    <a:lnTo>
                      <a:pt x="2021" y="379"/>
                    </a:lnTo>
                    <a:lnTo>
                      <a:pt x="1995" y="379"/>
                    </a:lnTo>
                    <a:lnTo>
                      <a:pt x="1938" y="374"/>
                    </a:lnTo>
                    <a:lnTo>
                      <a:pt x="1885" y="369"/>
                    </a:lnTo>
                    <a:lnTo>
                      <a:pt x="1837" y="364"/>
                    </a:lnTo>
                    <a:lnTo>
                      <a:pt x="1791" y="360"/>
                    </a:lnTo>
                    <a:lnTo>
                      <a:pt x="1750" y="356"/>
                    </a:lnTo>
                    <a:lnTo>
                      <a:pt x="1710" y="352"/>
                    </a:lnTo>
                    <a:lnTo>
                      <a:pt x="1673" y="349"/>
                    </a:lnTo>
                    <a:lnTo>
                      <a:pt x="1637" y="345"/>
                    </a:lnTo>
                    <a:lnTo>
                      <a:pt x="1603" y="342"/>
                    </a:lnTo>
                    <a:lnTo>
                      <a:pt x="1570" y="339"/>
                    </a:lnTo>
                    <a:lnTo>
                      <a:pt x="1537" y="336"/>
                    </a:lnTo>
                    <a:lnTo>
                      <a:pt x="1503" y="331"/>
                    </a:lnTo>
                    <a:lnTo>
                      <a:pt x="1470" y="328"/>
                    </a:lnTo>
                    <a:lnTo>
                      <a:pt x="1435" y="325"/>
                    </a:lnTo>
                    <a:lnTo>
                      <a:pt x="1398" y="322"/>
                    </a:lnTo>
                    <a:lnTo>
                      <a:pt x="1360" y="318"/>
                    </a:lnTo>
                    <a:lnTo>
                      <a:pt x="1319" y="314"/>
                    </a:lnTo>
                    <a:lnTo>
                      <a:pt x="1275" y="310"/>
                    </a:lnTo>
                    <a:lnTo>
                      <a:pt x="1228" y="306"/>
                    </a:lnTo>
                    <a:lnTo>
                      <a:pt x="1176" y="301"/>
                    </a:lnTo>
                    <a:lnTo>
                      <a:pt x="1121" y="296"/>
                    </a:lnTo>
                    <a:lnTo>
                      <a:pt x="1061" y="290"/>
                    </a:lnTo>
                    <a:lnTo>
                      <a:pt x="994" y="284"/>
                    </a:lnTo>
                    <a:lnTo>
                      <a:pt x="924" y="278"/>
                    </a:lnTo>
                    <a:lnTo>
                      <a:pt x="846" y="269"/>
                    </a:lnTo>
                    <a:lnTo>
                      <a:pt x="761" y="262"/>
                    </a:lnTo>
                    <a:lnTo>
                      <a:pt x="670" y="253"/>
                    </a:lnTo>
                    <a:lnTo>
                      <a:pt x="570" y="244"/>
                    </a:lnTo>
                    <a:lnTo>
                      <a:pt x="463" y="234"/>
                    </a:lnTo>
                    <a:lnTo>
                      <a:pt x="347" y="224"/>
                    </a:lnTo>
                    <a:lnTo>
                      <a:pt x="222" y="211"/>
                    </a:lnTo>
                    <a:lnTo>
                      <a:pt x="88" y="199"/>
                    </a:lnTo>
                    <a:lnTo>
                      <a:pt x="65" y="195"/>
                    </a:lnTo>
                    <a:lnTo>
                      <a:pt x="45" y="187"/>
                    </a:lnTo>
                    <a:lnTo>
                      <a:pt x="30" y="176"/>
                    </a:lnTo>
                    <a:lnTo>
                      <a:pt x="17" y="162"/>
                    </a:lnTo>
                    <a:lnTo>
                      <a:pt x="8" y="145"/>
                    </a:lnTo>
                    <a:lnTo>
                      <a:pt x="2" y="128"/>
                    </a:lnTo>
                    <a:lnTo>
                      <a:pt x="0" y="110"/>
                    </a:lnTo>
                    <a:lnTo>
                      <a:pt x="0" y="91"/>
                    </a:lnTo>
                    <a:lnTo>
                      <a:pt x="3" y="72"/>
                    </a:lnTo>
                    <a:lnTo>
                      <a:pt x="10" y="55"/>
                    </a:lnTo>
                    <a:lnTo>
                      <a:pt x="18" y="39"/>
                    </a:lnTo>
                    <a:lnTo>
                      <a:pt x="31" y="24"/>
                    </a:lnTo>
                    <a:lnTo>
                      <a:pt x="46" y="13"/>
                    </a:lnTo>
                    <a:lnTo>
                      <a:pt x="64" y="4"/>
                    </a:lnTo>
                    <a:lnTo>
                      <a:pt x="85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83680" y="4647960"/>
                <a:ext cx="145440" cy="20880"/>
              </a:xfrm>
              <a:custGeom>
                <a:avLst/>
                <a:gdLst/>
                <a:ahLst/>
                <a:rect l="l" t="t" r="r" b="b"/>
                <a:pathLst>
                  <a:path w="2092" h="362">
                    <a:moveTo>
                      <a:pt x="107" y="0"/>
                    </a:moveTo>
                    <a:lnTo>
                      <a:pt x="164" y="5"/>
                    </a:lnTo>
                    <a:lnTo>
                      <a:pt x="216" y="10"/>
                    </a:lnTo>
                    <a:lnTo>
                      <a:pt x="265" y="14"/>
                    </a:lnTo>
                    <a:lnTo>
                      <a:pt x="310" y="20"/>
                    </a:lnTo>
                    <a:lnTo>
                      <a:pt x="351" y="23"/>
                    </a:lnTo>
                    <a:lnTo>
                      <a:pt x="391" y="27"/>
                    </a:lnTo>
                    <a:lnTo>
                      <a:pt x="428" y="30"/>
                    </a:lnTo>
                    <a:lnTo>
                      <a:pt x="464" y="34"/>
                    </a:lnTo>
                    <a:lnTo>
                      <a:pt x="497" y="37"/>
                    </a:lnTo>
                    <a:lnTo>
                      <a:pt x="530" y="40"/>
                    </a:lnTo>
                    <a:lnTo>
                      <a:pt x="564" y="43"/>
                    </a:lnTo>
                    <a:lnTo>
                      <a:pt x="597" y="46"/>
                    </a:lnTo>
                    <a:lnTo>
                      <a:pt x="631" y="49"/>
                    </a:lnTo>
                    <a:lnTo>
                      <a:pt x="666" y="52"/>
                    </a:lnTo>
                    <a:lnTo>
                      <a:pt x="702" y="55"/>
                    </a:lnTo>
                    <a:lnTo>
                      <a:pt x="741" y="59"/>
                    </a:lnTo>
                    <a:lnTo>
                      <a:pt x="781" y="63"/>
                    </a:lnTo>
                    <a:lnTo>
                      <a:pt x="825" y="67"/>
                    </a:lnTo>
                    <a:lnTo>
                      <a:pt x="872" y="71"/>
                    </a:lnTo>
                    <a:lnTo>
                      <a:pt x="924" y="76"/>
                    </a:lnTo>
                    <a:lnTo>
                      <a:pt x="979" y="82"/>
                    </a:lnTo>
                    <a:lnTo>
                      <a:pt x="1038" y="88"/>
                    </a:lnTo>
                    <a:lnTo>
                      <a:pt x="1104" y="94"/>
                    </a:lnTo>
                    <a:lnTo>
                      <a:pt x="1175" y="100"/>
                    </a:lnTo>
                    <a:lnTo>
                      <a:pt x="1253" y="108"/>
                    </a:lnTo>
                    <a:lnTo>
                      <a:pt x="1335" y="115"/>
                    </a:lnTo>
                    <a:lnTo>
                      <a:pt x="1425" y="124"/>
                    </a:lnTo>
                    <a:lnTo>
                      <a:pt x="1524" y="133"/>
                    </a:lnTo>
                    <a:lnTo>
                      <a:pt x="1630" y="144"/>
                    </a:lnTo>
                    <a:lnTo>
                      <a:pt x="1746" y="155"/>
                    </a:lnTo>
                    <a:lnTo>
                      <a:pt x="1870" y="167"/>
                    </a:lnTo>
                    <a:lnTo>
                      <a:pt x="2003" y="179"/>
                    </a:lnTo>
                    <a:lnTo>
                      <a:pt x="2023" y="182"/>
                    </a:lnTo>
                    <a:lnTo>
                      <a:pt x="2040" y="188"/>
                    </a:lnTo>
                    <a:lnTo>
                      <a:pt x="2056" y="197"/>
                    </a:lnTo>
                    <a:lnTo>
                      <a:pt x="2069" y="208"/>
                    </a:lnTo>
                    <a:lnTo>
                      <a:pt x="2078" y="220"/>
                    </a:lnTo>
                    <a:lnTo>
                      <a:pt x="2085" y="233"/>
                    </a:lnTo>
                    <a:lnTo>
                      <a:pt x="2090" y="247"/>
                    </a:lnTo>
                    <a:lnTo>
                      <a:pt x="2092" y="262"/>
                    </a:lnTo>
                    <a:lnTo>
                      <a:pt x="2092" y="282"/>
                    </a:lnTo>
                    <a:lnTo>
                      <a:pt x="2087" y="301"/>
                    </a:lnTo>
                    <a:lnTo>
                      <a:pt x="2080" y="318"/>
                    </a:lnTo>
                    <a:lnTo>
                      <a:pt x="2067" y="335"/>
                    </a:lnTo>
                    <a:lnTo>
                      <a:pt x="2052" y="348"/>
                    </a:lnTo>
                    <a:lnTo>
                      <a:pt x="2033" y="357"/>
                    </a:lnTo>
                    <a:lnTo>
                      <a:pt x="2011" y="362"/>
                    </a:lnTo>
                    <a:lnTo>
                      <a:pt x="1985" y="362"/>
                    </a:lnTo>
                    <a:lnTo>
                      <a:pt x="1928" y="357"/>
                    </a:lnTo>
                    <a:lnTo>
                      <a:pt x="1876" y="352"/>
                    </a:lnTo>
                    <a:lnTo>
                      <a:pt x="1827" y="347"/>
                    </a:lnTo>
                    <a:lnTo>
                      <a:pt x="1782" y="343"/>
                    </a:lnTo>
                    <a:lnTo>
                      <a:pt x="1741" y="339"/>
                    </a:lnTo>
                    <a:lnTo>
                      <a:pt x="1701" y="335"/>
                    </a:lnTo>
                    <a:lnTo>
                      <a:pt x="1665" y="332"/>
                    </a:lnTo>
                    <a:lnTo>
                      <a:pt x="1629" y="329"/>
                    </a:lnTo>
                    <a:lnTo>
                      <a:pt x="1595" y="324"/>
                    </a:lnTo>
                    <a:lnTo>
                      <a:pt x="1562" y="321"/>
                    </a:lnTo>
                    <a:lnTo>
                      <a:pt x="1528" y="318"/>
                    </a:lnTo>
                    <a:lnTo>
                      <a:pt x="1496" y="315"/>
                    </a:lnTo>
                    <a:lnTo>
                      <a:pt x="1462" y="312"/>
                    </a:lnTo>
                    <a:lnTo>
                      <a:pt x="1427" y="309"/>
                    </a:lnTo>
                    <a:lnTo>
                      <a:pt x="1391" y="305"/>
                    </a:lnTo>
                    <a:lnTo>
                      <a:pt x="1353" y="302"/>
                    </a:lnTo>
                    <a:lnTo>
                      <a:pt x="1312" y="298"/>
                    </a:lnTo>
                    <a:lnTo>
                      <a:pt x="1269" y="294"/>
                    </a:lnTo>
                    <a:lnTo>
                      <a:pt x="1221" y="289"/>
                    </a:lnTo>
                    <a:lnTo>
                      <a:pt x="1170" y="285"/>
                    </a:lnTo>
                    <a:lnTo>
                      <a:pt x="1115" y="280"/>
                    </a:lnTo>
                    <a:lnTo>
                      <a:pt x="1055" y="274"/>
                    </a:lnTo>
                    <a:lnTo>
                      <a:pt x="989" y="268"/>
                    </a:lnTo>
                    <a:lnTo>
                      <a:pt x="919" y="261"/>
                    </a:lnTo>
                    <a:lnTo>
                      <a:pt x="842" y="254"/>
                    </a:lnTo>
                    <a:lnTo>
                      <a:pt x="757" y="246"/>
                    </a:lnTo>
                    <a:lnTo>
                      <a:pt x="667" y="238"/>
                    </a:lnTo>
                    <a:lnTo>
                      <a:pt x="568" y="229"/>
                    </a:lnTo>
                    <a:lnTo>
                      <a:pt x="462" y="219"/>
                    </a:lnTo>
                    <a:lnTo>
                      <a:pt x="346" y="208"/>
                    </a:lnTo>
                    <a:lnTo>
                      <a:pt x="222" y="196"/>
                    </a:lnTo>
                    <a:lnTo>
                      <a:pt x="89" y="184"/>
                    </a:lnTo>
                    <a:lnTo>
                      <a:pt x="66" y="180"/>
                    </a:lnTo>
                    <a:lnTo>
                      <a:pt x="47" y="172"/>
                    </a:lnTo>
                    <a:lnTo>
                      <a:pt x="31" y="162"/>
                    </a:lnTo>
                    <a:lnTo>
                      <a:pt x="18" y="149"/>
                    </a:lnTo>
                    <a:lnTo>
                      <a:pt x="9" y="133"/>
                    </a:lnTo>
                    <a:lnTo>
                      <a:pt x="3" y="117"/>
                    </a:lnTo>
                    <a:lnTo>
                      <a:pt x="0" y="100"/>
                    </a:lnTo>
                    <a:lnTo>
                      <a:pt x="0" y="83"/>
                    </a:lnTo>
                    <a:lnTo>
                      <a:pt x="3" y="65"/>
                    </a:lnTo>
                    <a:lnTo>
                      <a:pt x="9" y="50"/>
                    </a:lnTo>
                    <a:lnTo>
                      <a:pt x="18" y="35"/>
                    </a:lnTo>
                    <a:lnTo>
                      <a:pt x="31" y="22"/>
                    </a:lnTo>
                    <a:lnTo>
                      <a:pt x="46" y="11"/>
                    </a:lnTo>
                    <a:lnTo>
                      <a:pt x="63" y="4"/>
                    </a:lnTo>
                    <a:lnTo>
                      <a:pt x="84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b5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83680" y="4647960"/>
                <a:ext cx="144000" cy="19800"/>
              </a:xfrm>
              <a:custGeom>
                <a:avLst/>
                <a:gdLst/>
                <a:ahLst/>
                <a:rect l="l" t="t" r="r" b="b"/>
                <a:pathLst>
                  <a:path w="2080" h="345">
                    <a:moveTo>
                      <a:pt x="106" y="0"/>
                    </a:moveTo>
                    <a:lnTo>
                      <a:pt x="162" y="5"/>
                    </a:lnTo>
                    <a:lnTo>
                      <a:pt x="215" y="11"/>
                    </a:lnTo>
                    <a:lnTo>
                      <a:pt x="263" y="15"/>
                    </a:lnTo>
                    <a:lnTo>
                      <a:pt x="308" y="19"/>
                    </a:lnTo>
                    <a:lnTo>
                      <a:pt x="350" y="23"/>
                    </a:lnTo>
                    <a:lnTo>
                      <a:pt x="388" y="26"/>
                    </a:lnTo>
                    <a:lnTo>
                      <a:pt x="426" y="30"/>
                    </a:lnTo>
                    <a:lnTo>
                      <a:pt x="460" y="33"/>
                    </a:lnTo>
                    <a:lnTo>
                      <a:pt x="494" y="36"/>
                    </a:lnTo>
                    <a:lnTo>
                      <a:pt x="528" y="39"/>
                    </a:lnTo>
                    <a:lnTo>
                      <a:pt x="560" y="42"/>
                    </a:lnTo>
                    <a:lnTo>
                      <a:pt x="593" y="45"/>
                    </a:lnTo>
                    <a:lnTo>
                      <a:pt x="626" y="48"/>
                    </a:lnTo>
                    <a:lnTo>
                      <a:pt x="661" y="51"/>
                    </a:lnTo>
                    <a:lnTo>
                      <a:pt x="697" y="55"/>
                    </a:lnTo>
                    <a:lnTo>
                      <a:pt x="736" y="58"/>
                    </a:lnTo>
                    <a:lnTo>
                      <a:pt x="776" y="62"/>
                    </a:lnTo>
                    <a:lnTo>
                      <a:pt x="820" y="66"/>
                    </a:lnTo>
                    <a:lnTo>
                      <a:pt x="867" y="70"/>
                    </a:lnTo>
                    <a:lnTo>
                      <a:pt x="917" y="76"/>
                    </a:lnTo>
                    <a:lnTo>
                      <a:pt x="972" y="81"/>
                    </a:lnTo>
                    <a:lnTo>
                      <a:pt x="1031" y="86"/>
                    </a:lnTo>
                    <a:lnTo>
                      <a:pt x="1097" y="92"/>
                    </a:lnTo>
                    <a:lnTo>
                      <a:pt x="1168" y="99"/>
                    </a:lnTo>
                    <a:lnTo>
                      <a:pt x="1244" y="106"/>
                    </a:lnTo>
                    <a:lnTo>
                      <a:pt x="1326" y="114"/>
                    </a:lnTo>
                    <a:lnTo>
                      <a:pt x="1416" y="122"/>
                    </a:lnTo>
                    <a:lnTo>
                      <a:pt x="1514" y="132"/>
                    </a:lnTo>
                    <a:lnTo>
                      <a:pt x="1620" y="142"/>
                    </a:lnTo>
                    <a:lnTo>
                      <a:pt x="1734" y="153"/>
                    </a:lnTo>
                    <a:lnTo>
                      <a:pt x="1858" y="165"/>
                    </a:lnTo>
                    <a:lnTo>
                      <a:pt x="1990" y="177"/>
                    </a:lnTo>
                    <a:lnTo>
                      <a:pt x="2009" y="180"/>
                    </a:lnTo>
                    <a:lnTo>
                      <a:pt x="2027" y="186"/>
                    </a:lnTo>
                    <a:lnTo>
                      <a:pt x="2043" y="194"/>
                    </a:lnTo>
                    <a:lnTo>
                      <a:pt x="2055" y="204"/>
                    </a:lnTo>
                    <a:lnTo>
                      <a:pt x="2065" y="215"/>
                    </a:lnTo>
                    <a:lnTo>
                      <a:pt x="2072" y="227"/>
                    </a:lnTo>
                    <a:lnTo>
                      <a:pt x="2077" y="240"/>
                    </a:lnTo>
                    <a:lnTo>
                      <a:pt x="2080" y="254"/>
                    </a:lnTo>
                    <a:lnTo>
                      <a:pt x="2080" y="272"/>
                    </a:lnTo>
                    <a:lnTo>
                      <a:pt x="2076" y="289"/>
                    </a:lnTo>
                    <a:lnTo>
                      <a:pt x="2068" y="305"/>
                    </a:lnTo>
                    <a:lnTo>
                      <a:pt x="2056" y="320"/>
                    </a:lnTo>
                    <a:lnTo>
                      <a:pt x="2041" y="332"/>
                    </a:lnTo>
                    <a:lnTo>
                      <a:pt x="2022" y="341"/>
                    </a:lnTo>
                    <a:lnTo>
                      <a:pt x="1999" y="345"/>
                    </a:lnTo>
                    <a:lnTo>
                      <a:pt x="1973" y="345"/>
                    </a:lnTo>
                    <a:lnTo>
                      <a:pt x="1917" y="340"/>
                    </a:lnTo>
                    <a:lnTo>
                      <a:pt x="1865" y="335"/>
                    </a:lnTo>
                    <a:lnTo>
                      <a:pt x="1817" y="330"/>
                    </a:lnTo>
                    <a:lnTo>
                      <a:pt x="1772" y="326"/>
                    </a:lnTo>
                    <a:lnTo>
                      <a:pt x="1731" y="322"/>
                    </a:lnTo>
                    <a:lnTo>
                      <a:pt x="1692" y="319"/>
                    </a:lnTo>
                    <a:lnTo>
                      <a:pt x="1655" y="314"/>
                    </a:lnTo>
                    <a:lnTo>
                      <a:pt x="1620" y="311"/>
                    </a:lnTo>
                    <a:lnTo>
                      <a:pt x="1586" y="308"/>
                    </a:lnTo>
                    <a:lnTo>
                      <a:pt x="1554" y="304"/>
                    </a:lnTo>
                    <a:lnTo>
                      <a:pt x="1520" y="301"/>
                    </a:lnTo>
                    <a:lnTo>
                      <a:pt x="1488" y="298"/>
                    </a:lnTo>
                    <a:lnTo>
                      <a:pt x="1454" y="295"/>
                    </a:lnTo>
                    <a:lnTo>
                      <a:pt x="1419" y="292"/>
                    </a:lnTo>
                    <a:lnTo>
                      <a:pt x="1383" y="289"/>
                    </a:lnTo>
                    <a:lnTo>
                      <a:pt x="1346" y="285"/>
                    </a:lnTo>
                    <a:lnTo>
                      <a:pt x="1305" y="281"/>
                    </a:lnTo>
                    <a:lnTo>
                      <a:pt x="1262" y="277"/>
                    </a:lnTo>
                    <a:lnTo>
                      <a:pt x="1215" y="273"/>
                    </a:lnTo>
                    <a:lnTo>
                      <a:pt x="1164" y="268"/>
                    </a:lnTo>
                    <a:lnTo>
                      <a:pt x="1109" y="263"/>
                    </a:lnTo>
                    <a:lnTo>
                      <a:pt x="1050" y="258"/>
                    </a:lnTo>
                    <a:lnTo>
                      <a:pt x="984" y="251"/>
                    </a:lnTo>
                    <a:lnTo>
                      <a:pt x="915" y="244"/>
                    </a:lnTo>
                    <a:lnTo>
                      <a:pt x="838" y="237"/>
                    </a:lnTo>
                    <a:lnTo>
                      <a:pt x="754" y="230"/>
                    </a:lnTo>
                    <a:lnTo>
                      <a:pt x="664" y="221"/>
                    </a:lnTo>
                    <a:lnTo>
                      <a:pt x="566" y="213"/>
                    </a:lnTo>
                    <a:lnTo>
                      <a:pt x="460" y="203"/>
                    </a:lnTo>
                    <a:lnTo>
                      <a:pt x="345" y="191"/>
                    </a:lnTo>
                    <a:lnTo>
                      <a:pt x="222" y="180"/>
                    </a:lnTo>
                    <a:lnTo>
                      <a:pt x="89" y="168"/>
                    </a:lnTo>
                    <a:lnTo>
                      <a:pt x="67" y="164"/>
                    </a:lnTo>
                    <a:lnTo>
                      <a:pt x="48" y="157"/>
                    </a:lnTo>
                    <a:lnTo>
                      <a:pt x="31" y="147"/>
                    </a:lnTo>
                    <a:lnTo>
                      <a:pt x="19" y="135"/>
                    </a:lnTo>
                    <a:lnTo>
                      <a:pt x="9" y="121"/>
                    </a:lnTo>
                    <a:lnTo>
                      <a:pt x="3" y="106"/>
                    </a:lnTo>
                    <a:lnTo>
                      <a:pt x="0" y="91"/>
                    </a:lnTo>
                    <a:lnTo>
                      <a:pt x="0" y="75"/>
                    </a:lnTo>
                    <a:lnTo>
                      <a:pt x="3" y="59"/>
                    </a:lnTo>
                    <a:lnTo>
                      <a:pt x="9" y="44"/>
                    </a:lnTo>
                    <a:lnTo>
                      <a:pt x="19" y="31"/>
                    </a:lnTo>
                    <a:lnTo>
                      <a:pt x="30" y="19"/>
                    </a:lnTo>
                    <a:lnTo>
                      <a:pt x="46" y="9"/>
                    </a:lnTo>
                    <a:lnTo>
                      <a:pt x="62" y="3"/>
                    </a:lnTo>
                    <a:lnTo>
                      <a:pt x="83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bf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85480" y="4649400"/>
                <a:ext cx="142560" cy="18360"/>
              </a:xfrm>
              <a:custGeom>
                <a:avLst/>
                <a:gdLst/>
                <a:ahLst/>
                <a:rect l="l" t="t" r="r" b="b"/>
                <a:pathLst>
                  <a:path w="2067" h="328">
                    <a:moveTo>
                      <a:pt x="104" y="0"/>
                    </a:moveTo>
                    <a:lnTo>
                      <a:pt x="161" y="6"/>
                    </a:lnTo>
                    <a:lnTo>
                      <a:pt x="213" y="11"/>
                    </a:lnTo>
                    <a:lnTo>
                      <a:pt x="260" y="15"/>
                    </a:lnTo>
                    <a:lnTo>
                      <a:pt x="305" y="19"/>
                    </a:lnTo>
                    <a:lnTo>
                      <a:pt x="347" y="23"/>
                    </a:lnTo>
                    <a:lnTo>
                      <a:pt x="385" y="26"/>
                    </a:lnTo>
                    <a:lnTo>
                      <a:pt x="422" y="30"/>
                    </a:lnTo>
                    <a:lnTo>
                      <a:pt x="457" y="33"/>
                    </a:lnTo>
                    <a:lnTo>
                      <a:pt x="490" y="36"/>
                    </a:lnTo>
                    <a:lnTo>
                      <a:pt x="524" y="39"/>
                    </a:lnTo>
                    <a:lnTo>
                      <a:pt x="556" y="42"/>
                    </a:lnTo>
                    <a:lnTo>
                      <a:pt x="588" y="45"/>
                    </a:lnTo>
                    <a:lnTo>
                      <a:pt x="623" y="48"/>
                    </a:lnTo>
                    <a:lnTo>
                      <a:pt x="657" y="51"/>
                    </a:lnTo>
                    <a:lnTo>
                      <a:pt x="692" y="54"/>
                    </a:lnTo>
                    <a:lnTo>
                      <a:pt x="731" y="58"/>
                    </a:lnTo>
                    <a:lnTo>
                      <a:pt x="770" y="62"/>
                    </a:lnTo>
                    <a:lnTo>
                      <a:pt x="814" y="67"/>
                    </a:lnTo>
                    <a:lnTo>
                      <a:pt x="860" y="71"/>
                    </a:lnTo>
                    <a:lnTo>
                      <a:pt x="911" y="76"/>
                    </a:lnTo>
                    <a:lnTo>
                      <a:pt x="965" y="81"/>
                    </a:lnTo>
                    <a:lnTo>
                      <a:pt x="1024" y="86"/>
                    </a:lnTo>
                    <a:lnTo>
                      <a:pt x="1089" y="92"/>
                    </a:lnTo>
                    <a:lnTo>
                      <a:pt x="1160" y="99"/>
                    </a:lnTo>
                    <a:lnTo>
                      <a:pt x="1236" y="106"/>
                    </a:lnTo>
                    <a:lnTo>
                      <a:pt x="1317" y="113"/>
                    </a:lnTo>
                    <a:lnTo>
                      <a:pt x="1407" y="122"/>
                    </a:lnTo>
                    <a:lnTo>
                      <a:pt x="1504" y="132"/>
                    </a:lnTo>
                    <a:lnTo>
                      <a:pt x="1609" y="142"/>
                    </a:lnTo>
                    <a:lnTo>
                      <a:pt x="1723" y="152"/>
                    </a:lnTo>
                    <a:lnTo>
                      <a:pt x="1845" y="164"/>
                    </a:lnTo>
                    <a:lnTo>
                      <a:pt x="1976" y="176"/>
                    </a:lnTo>
                    <a:lnTo>
                      <a:pt x="1996" y="179"/>
                    </a:lnTo>
                    <a:lnTo>
                      <a:pt x="2014" y="184"/>
                    </a:lnTo>
                    <a:lnTo>
                      <a:pt x="2028" y="192"/>
                    </a:lnTo>
                    <a:lnTo>
                      <a:pt x="2041" y="201"/>
                    </a:lnTo>
                    <a:lnTo>
                      <a:pt x="2051" y="211"/>
                    </a:lnTo>
                    <a:lnTo>
                      <a:pt x="2059" y="222"/>
                    </a:lnTo>
                    <a:lnTo>
                      <a:pt x="2064" y="234"/>
                    </a:lnTo>
                    <a:lnTo>
                      <a:pt x="2067" y="246"/>
                    </a:lnTo>
                    <a:lnTo>
                      <a:pt x="2067" y="263"/>
                    </a:lnTo>
                    <a:lnTo>
                      <a:pt x="2063" y="279"/>
                    </a:lnTo>
                    <a:lnTo>
                      <a:pt x="2054" y="293"/>
                    </a:lnTo>
                    <a:lnTo>
                      <a:pt x="2043" y="306"/>
                    </a:lnTo>
                    <a:lnTo>
                      <a:pt x="2028" y="317"/>
                    </a:lnTo>
                    <a:lnTo>
                      <a:pt x="2010" y="324"/>
                    </a:lnTo>
                    <a:lnTo>
                      <a:pt x="1987" y="328"/>
                    </a:lnTo>
                    <a:lnTo>
                      <a:pt x="1962" y="328"/>
                    </a:lnTo>
                    <a:lnTo>
                      <a:pt x="1906" y="323"/>
                    </a:lnTo>
                    <a:lnTo>
                      <a:pt x="1854" y="318"/>
                    </a:lnTo>
                    <a:lnTo>
                      <a:pt x="1806" y="314"/>
                    </a:lnTo>
                    <a:lnTo>
                      <a:pt x="1762" y="308"/>
                    </a:lnTo>
                    <a:lnTo>
                      <a:pt x="1720" y="305"/>
                    </a:lnTo>
                    <a:lnTo>
                      <a:pt x="1682" y="301"/>
                    </a:lnTo>
                    <a:lnTo>
                      <a:pt x="1646" y="297"/>
                    </a:lnTo>
                    <a:lnTo>
                      <a:pt x="1610" y="294"/>
                    </a:lnTo>
                    <a:lnTo>
                      <a:pt x="1577" y="291"/>
                    </a:lnTo>
                    <a:lnTo>
                      <a:pt x="1544" y="288"/>
                    </a:lnTo>
                    <a:lnTo>
                      <a:pt x="1511" y="285"/>
                    </a:lnTo>
                    <a:lnTo>
                      <a:pt x="1478" y="282"/>
                    </a:lnTo>
                    <a:lnTo>
                      <a:pt x="1446" y="279"/>
                    </a:lnTo>
                    <a:lnTo>
                      <a:pt x="1410" y="276"/>
                    </a:lnTo>
                    <a:lnTo>
                      <a:pt x="1375" y="272"/>
                    </a:lnTo>
                    <a:lnTo>
                      <a:pt x="1337" y="269"/>
                    </a:lnTo>
                    <a:lnTo>
                      <a:pt x="1297" y="265"/>
                    </a:lnTo>
                    <a:lnTo>
                      <a:pt x="1254" y="261"/>
                    </a:lnTo>
                    <a:lnTo>
                      <a:pt x="1208" y="257"/>
                    </a:lnTo>
                    <a:lnTo>
                      <a:pt x="1157" y="252"/>
                    </a:lnTo>
                    <a:lnTo>
                      <a:pt x="1103" y="246"/>
                    </a:lnTo>
                    <a:lnTo>
                      <a:pt x="1044" y="240"/>
                    </a:lnTo>
                    <a:lnTo>
                      <a:pt x="980" y="234"/>
                    </a:lnTo>
                    <a:lnTo>
                      <a:pt x="909" y="228"/>
                    </a:lnTo>
                    <a:lnTo>
                      <a:pt x="833" y="221"/>
                    </a:lnTo>
                    <a:lnTo>
                      <a:pt x="750" y="213"/>
                    </a:lnTo>
                    <a:lnTo>
                      <a:pt x="660" y="205"/>
                    </a:lnTo>
                    <a:lnTo>
                      <a:pt x="563" y="196"/>
                    </a:lnTo>
                    <a:lnTo>
                      <a:pt x="458" y="186"/>
                    </a:lnTo>
                    <a:lnTo>
                      <a:pt x="344" y="175"/>
                    </a:lnTo>
                    <a:lnTo>
                      <a:pt x="222" y="164"/>
                    </a:lnTo>
                    <a:lnTo>
                      <a:pt x="90" y="152"/>
                    </a:lnTo>
                    <a:lnTo>
                      <a:pt x="67" y="148"/>
                    </a:lnTo>
                    <a:lnTo>
                      <a:pt x="48" y="142"/>
                    </a:lnTo>
                    <a:lnTo>
                      <a:pt x="31" y="133"/>
                    </a:lnTo>
                    <a:lnTo>
                      <a:pt x="19" y="121"/>
                    </a:lnTo>
                    <a:lnTo>
                      <a:pt x="10" y="109"/>
                    </a:lnTo>
                    <a:lnTo>
                      <a:pt x="3" y="96"/>
                    </a:lnTo>
                    <a:lnTo>
                      <a:pt x="0" y="82"/>
                    </a:lnTo>
                    <a:lnTo>
                      <a:pt x="0" y="68"/>
                    </a:lnTo>
                    <a:lnTo>
                      <a:pt x="3" y="53"/>
                    </a:lnTo>
                    <a:lnTo>
                      <a:pt x="9" y="40"/>
                    </a:lnTo>
                    <a:lnTo>
                      <a:pt x="18" y="28"/>
                    </a:lnTo>
                    <a:lnTo>
                      <a:pt x="29" y="17"/>
                    </a:lnTo>
                    <a:lnTo>
                      <a:pt x="44" y="9"/>
                    </a:lnTo>
                    <a:lnTo>
                      <a:pt x="62" y="3"/>
                    </a:lnTo>
                    <a:lnTo>
                      <a:pt x="81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c9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85480" y="4649400"/>
                <a:ext cx="142560" cy="18360"/>
              </a:xfrm>
              <a:custGeom>
                <a:avLst/>
                <a:gdLst/>
                <a:ahLst/>
                <a:rect l="l" t="t" r="r" b="b"/>
                <a:pathLst>
                  <a:path w="2053" h="312">
                    <a:moveTo>
                      <a:pt x="103" y="1"/>
                    </a:moveTo>
                    <a:lnTo>
                      <a:pt x="1963" y="175"/>
                    </a:lnTo>
                    <a:lnTo>
                      <a:pt x="1983" y="179"/>
                    </a:lnTo>
                    <a:lnTo>
                      <a:pt x="2001" y="184"/>
                    </a:lnTo>
                    <a:lnTo>
                      <a:pt x="2015" y="190"/>
                    </a:lnTo>
                    <a:lnTo>
                      <a:pt x="2028" y="198"/>
                    </a:lnTo>
                    <a:lnTo>
                      <a:pt x="2038" y="208"/>
                    </a:lnTo>
                    <a:lnTo>
                      <a:pt x="2045" y="218"/>
                    </a:lnTo>
                    <a:lnTo>
                      <a:pt x="2051" y="228"/>
                    </a:lnTo>
                    <a:lnTo>
                      <a:pt x="2053" y="240"/>
                    </a:lnTo>
                    <a:lnTo>
                      <a:pt x="2053" y="254"/>
                    </a:lnTo>
                    <a:lnTo>
                      <a:pt x="2049" y="268"/>
                    </a:lnTo>
                    <a:lnTo>
                      <a:pt x="2041" y="280"/>
                    </a:lnTo>
                    <a:lnTo>
                      <a:pt x="2030" y="291"/>
                    </a:lnTo>
                    <a:lnTo>
                      <a:pt x="2015" y="302"/>
                    </a:lnTo>
                    <a:lnTo>
                      <a:pt x="1996" y="308"/>
                    </a:lnTo>
                    <a:lnTo>
                      <a:pt x="1975" y="312"/>
                    </a:lnTo>
                    <a:lnTo>
                      <a:pt x="1950" y="311"/>
                    </a:lnTo>
                    <a:lnTo>
                      <a:pt x="89" y="136"/>
                    </a:lnTo>
                    <a:lnTo>
                      <a:pt x="66" y="132"/>
                    </a:lnTo>
                    <a:lnTo>
                      <a:pt x="47" y="126"/>
                    </a:lnTo>
                    <a:lnTo>
                      <a:pt x="32" y="118"/>
                    </a:lnTo>
                    <a:lnTo>
                      <a:pt x="19" y="107"/>
                    </a:lnTo>
                    <a:lnTo>
                      <a:pt x="10" y="96"/>
                    </a:lnTo>
                    <a:lnTo>
                      <a:pt x="3" y="84"/>
                    </a:lnTo>
                    <a:lnTo>
                      <a:pt x="0" y="72"/>
                    </a:lnTo>
                    <a:lnTo>
                      <a:pt x="0" y="59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6" y="24"/>
                    </a:lnTo>
                    <a:lnTo>
                      <a:pt x="28" y="15"/>
                    </a:lnTo>
                    <a:lnTo>
                      <a:pt x="42" y="8"/>
                    </a:lnTo>
                    <a:lnTo>
                      <a:pt x="60" y="3"/>
                    </a:lnTo>
                    <a:lnTo>
                      <a:pt x="80" y="0"/>
                    </a:lnTo>
                    <a:lnTo>
                      <a:pt x="103" y="1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3760" y="464004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521" h="298">
                    <a:moveTo>
                      <a:pt x="55" y="298"/>
                    </a:moveTo>
                    <a:lnTo>
                      <a:pt x="57" y="283"/>
                    </a:lnTo>
                    <a:lnTo>
                      <a:pt x="56" y="259"/>
                    </a:lnTo>
                    <a:lnTo>
                      <a:pt x="52" y="237"/>
                    </a:lnTo>
                    <a:lnTo>
                      <a:pt x="45" y="215"/>
                    </a:lnTo>
                    <a:lnTo>
                      <a:pt x="37" y="193"/>
                    </a:lnTo>
                    <a:lnTo>
                      <a:pt x="27" y="172"/>
                    </a:lnTo>
                    <a:lnTo>
                      <a:pt x="17" y="149"/>
                    </a:lnTo>
                    <a:lnTo>
                      <a:pt x="9" y="128"/>
                    </a:lnTo>
                    <a:lnTo>
                      <a:pt x="0" y="107"/>
                    </a:lnTo>
                    <a:lnTo>
                      <a:pt x="16" y="0"/>
                    </a:lnTo>
                    <a:lnTo>
                      <a:pt x="468" y="45"/>
                    </a:lnTo>
                    <a:lnTo>
                      <a:pt x="458" y="141"/>
                    </a:lnTo>
                    <a:lnTo>
                      <a:pt x="466" y="160"/>
                    </a:lnTo>
                    <a:lnTo>
                      <a:pt x="477" y="178"/>
                    </a:lnTo>
                    <a:lnTo>
                      <a:pt x="487" y="197"/>
                    </a:lnTo>
                    <a:lnTo>
                      <a:pt x="498" y="216"/>
                    </a:lnTo>
                    <a:lnTo>
                      <a:pt x="507" y="234"/>
                    </a:lnTo>
                    <a:lnTo>
                      <a:pt x="514" y="253"/>
                    </a:lnTo>
                    <a:lnTo>
                      <a:pt x="519" y="272"/>
                    </a:lnTo>
                    <a:lnTo>
                      <a:pt x="521" y="293"/>
                    </a:lnTo>
                    <a:lnTo>
                      <a:pt x="519" y="298"/>
                    </a:lnTo>
                    <a:lnTo>
                      <a:pt x="486" y="298"/>
                    </a:lnTo>
                    <a:lnTo>
                      <a:pt x="489" y="278"/>
                    </a:lnTo>
                    <a:lnTo>
                      <a:pt x="489" y="263"/>
                    </a:lnTo>
                    <a:lnTo>
                      <a:pt x="487" y="250"/>
                    </a:lnTo>
                    <a:lnTo>
                      <a:pt x="484" y="238"/>
                    </a:lnTo>
                    <a:lnTo>
                      <a:pt x="479" y="225"/>
                    </a:lnTo>
                    <a:lnTo>
                      <a:pt x="472" y="213"/>
                    </a:lnTo>
                    <a:lnTo>
                      <a:pt x="464" y="199"/>
                    </a:lnTo>
                    <a:lnTo>
                      <a:pt x="454" y="186"/>
                    </a:lnTo>
                    <a:lnTo>
                      <a:pt x="443" y="172"/>
                    </a:lnTo>
                    <a:lnTo>
                      <a:pt x="42" y="131"/>
                    </a:lnTo>
                    <a:lnTo>
                      <a:pt x="55" y="147"/>
                    </a:lnTo>
                    <a:lnTo>
                      <a:pt x="67" y="163"/>
                    </a:lnTo>
                    <a:lnTo>
                      <a:pt x="76" y="178"/>
                    </a:lnTo>
                    <a:lnTo>
                      <a:pt x="83" y="193"/>
                    </a:lnTo>
                    <a:lnTo>
                      <a:pt x="89" y="208"/>
                    </a:lnTo>
                    <a:lnTo>
                      <a:pt x="92" y="225"/>
                    </a:lnTo>
                    <a:lnTo>
                      <a:pt x="93" y="243"/>
                    </a:lnTo>
                    <a:lnTo>
                      <a:pt x="93" y="262"/>
                    </a:lnTo>
                    <a:lnTo>
                      <a:pt x="91" y="282"/>
                    </a:lnTo>
                    <a:lnTo>
                      <a:pt x="87" y="298"/>
                    </a:lnTo>
                    <a:lnTo>
                      <a:pt x="55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489440" y="4657320"/>
                <a:ext cx="39240" cy="16920"/>
              </a:xfrm>
              <a:custGeom>
                <a:avLst/>
                <a:gdLst/>
                <a:ahLst/>
                <a:rect l="l" t="t" r="r" b="b"/>
                <a:pathLst>
                  <a:path w="570" h="297">
                    <a:moveTo>
                      <a:pt x="106" y="0"/>
                    </a:moveTo>
                    <a:lnTo>
                      <a:pt x="105" y="5"/>
                    </a:lnTo>
                    <a:lnTo>
                      <a:pt x="99" y="24"/>
                    </a:lnTo>
                    <a:lnTo>
                      <a:pt x="91" y="44"/>
                    </a:lnTo>
                    <a:lnTo>
                      <a:pt x="80" y="62"/>
                    </a:lnTo>
                    <a:lnTo>
                      <a:pt x="68" y="80"/>
                    </a:lnTo>
                    <a:lnTo>
                      <a:pt x="56" y="98"/>
                    </a:lnTo>
                    <a:lnTo>
                      <a:pt x="45" y="117"/>
                    </a:lnTo>
                    <a:lnTo>
                      <a:pt x="36" y="135"/>
                    </a:lnTo>
                    <a:lnTo>
                      <a:pt x="0" y="247"/>
                    </a:lnTo>
                    <a:lnTo>
                      <a:pt x="474" y="297"/>
                    </a:lnTo>
                    <a:lnTo>
                      <a:pt x="494" y="177"/>
                    </a:lnTo>
                    <a:lnTo>
                      <a:pt x="505" y="154"/>
                    </a:lnTo>
                    <a:lnTo>
                      <a:pt x="516" y="132"/>
                    </a:lnTo>
                    <a:lnTo>
                      <a:pt x="529" y="110"/>
                    </a:lnTo>
                    <a:lnTo>
                      <a:pt x="541" y="87"/>
                    </a:lnTo>
                    <a:lnTo>
                      <a:pt x="553" y="65"/>
                    </a:lnTo>
                    <a:lnTo>
                      <a:pt x="562" y="42"/>
                    </a:lnTo>
                    <a:lnTo>
                      <a:pt x="568" y="18"/>
                    </a:lnTo>
                    <a:lnTo>
                      <a:pt x="570" y="0"/>
                    </a:lnTo>
                    <a:lnTo>
                      <a:pt x="537" y="0"/>
                    </a:lnTo>
                    <a:lnTo>
                      <a:pt x="537" y="4"/>
                    </a:lnTo>
                    <a:lnTo>
                      <a:pt x="530" y="27"/>
                    </a:lnTo>
                    <a:lnTo>
                      <a:pt x="521" y="52"/>
                    </a:lnTo>
                    <a:lnTo>
                      <a:pt x="509" y="74"/>
                    </a:lnTo>
                    <a:lnTo>
                      <a:pt x="499" y="97"/>
                    </a:lnTo>
                    <a:lnTo>
                      <a:pt x="488" y="121"/>
                    </a:lnTo>
                    <a:lnTo>
                      <a:pt x="479" y="143"/>
                    </a:lnTo>
                    <a:lnTo>
                      <a:pt x="474" y="167"/>
                    </a:lnTo>
                    <a:lnTo>
                      <a:pt x="82" y="125"/>
                    </a:lnTo>
                    <a:lnTo>
                      <a:pt x="91" y="108"/>
                    </a:lnTo>
                    <a:lnTo>
                      <a:pt x="100" y="87"/>
                    </a:lnTo>
                    <a:lnTo>
                      <a:pt x="111" y="67"/>
                    </a:lnTo>
                    <a:lnTo>
                      <a:pt x="120" y="46"/>
                    </a:lnTo>
                    <a:lnTo>
                      <a:pt x="129" y="24"/>
                    </a:lnTo>
                    <a:lnTo>
                      <a:pt x="137" y="4"/>
                    </a:lnTo>
                    <a:lnTo>
                      <a:pt x="138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585560" y="4649400"/>
                <a:ext cx="34920" cy="16920"/>
              </a:xfrm>
              <a:custGeom>
                <a:avLst/>
                <a:gdLst/>
                <a:ahLst/>
                <a:rect l="l" t="t" r="r" b="b"/>
                <a:pathLst>
                  <a:path w="506" h="289">
                    <a:moveTo>
                      <a:pt x="52" y="289"/>
                    </a:moveTo>
                    <a:lnTo>
                      <a:pt x="54" y="275"/>
                    </a:lnTo>
                    <a:lnTo>
                      <a:pt x="53" y="253"/>
                    </a:lnTo>
                    <a:lnTo>
                      <a:pt x="50" y="230"/>
                    </a:lnTo>
                    <a:lnTo>
                      <a:pt x="43" y="209"/>
                    </a:lnTo>
                    <a:lnTo>
                      <a:pt x="35" y="188"/>
                    </a:lnTo>
                    <a:lnTo>
                      <a:pt x="26" y="166"/>
                    </a:lnTo>
                    <a:lnTo>
                      <a:pt x="17" y="146"/>
                    </a:lnTo>
                    <a:lnTo>
                      <a:pt x="7" y="125"/>
                    </a:lnTo>
                    <a:lnTo>
                      <a:pt x="0" y="103"/>
                    </a:lnTo>
                    <a:lnTo>
                      <a:pt x="14" y="0"/>
                    </a:lnTo>
                    <a:lnTo>
                      <a:pt x="456" y="43"/>
                    </a:lnTo>
                    <a:lnTo>
                      <a:pt x="445" y="137"/>
                    </a:lnTo>
                    <a:lnTo>
                      <a:pt x="454" y="155"/>
                    </a:lnTo>
                    <a:lnTo>
                      <a:pt x="463" y="173"/>
                    </a:lnTo>
                    <a:lnTo>
                      <a:pt x="473" y="191"/>
                    </a:lnTo>
                    <a:lnTo>
                      <a:pt x="484" y="209"/>
                    </a:lnTo>
                    <a:lnTo>
                      <a:pt x="492" y="227"/>
                    </a:lnTo>
                    <a:lnTo>
                      <a:pt x="499" y="246"/>
                    </a:lnTo>
                    <a:lnTo>
                      <a:pt x="505" y="265"/>
                    </a:lnTo>
                    <a:lnTo>
                      <a:pt x="506" y="284"/>
                    </a:lnTo>
                    <a:lnTo>
                      <a:pt x="505" y="289"/>
                    </a:lnTo>
                    <a:lnTo>
                      <a:pt x="473" y="289"/>
                    </a:lnTo>
                    <a:lnTo>
                      <a:pt x="475" y="270"/>
                    </a:lnTo>
                    <a:lnTo>
                      <a:pt x="475" y="257"/>
                    </a:lnTo>
                    <a:lnTo>
                      <a:pt x="473" y="244"/>
                    </a:lnTo>
                    <a:lnTo>
                      <a:pt x="470" y="231"/>
                    </a:lnTo>
                    <a:lnTo>
                      <a:pt x="465" y="219"/>
                    </a:lnTo>
                    <a:lnTo>
                      <a:pt x="458" y="207"/>
                    </a:lnTo>
                    <a:lnTo>
                      <a:pt x="451" y="194"/>
                    </a:lnTo>
                    <a:lnTo>
                      <a:pt x="441" y="180"/>
                    </a:lnTo>
                    <a:lnTo>
                      <a:pt x="431" y="166"/>
                    </a:lnTo>
                    <a:lnTo>
                      <a:pt x="39" y="128"/>
                    </a:lnTo>
                    <a:lnTo>
                      <a:pt x="53" y="144"/>
                    </a:lnTo>
                    <a:lnTo>
                      <a:pt x="64" y="158"/>
                    </a:lnTo>
                    <a:lnTo>
                      <a:pt x="73" y="172"/>
                    </a:lnTo>
                    <a:lnTo>
                      <a:pt x="80" y="188"/>
                    </a:lnTo>
                    <a:lnTo>
                      <a:pt x="85" y="202"/>
                    </a:lnTo>
                    <a:lnTo>
                      <a:pt x="88" y="218"/>
                    </a:lnTo>
                    <a:lnTo>
                      <a:pt x="89" y="235"/>
                    </a:lnTo>
                    <a:lnTo>
                      <a:pt x="89" y="255"/>
                    </a:lnTo>
                    <a:lnTo>
                      <a:pt x="87" y="273"/>
                    </a:lnTo>
                    <a:lnTo>
                      <a:pt x="83" y="289"/>
                    </a:lnTo>
                    <a:lnTo>
                      <a:pt x="52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581240" y="4666320"/>
                <a:ext cx="39240" cy="15840"/>
              </a:xfrm>
              <a:custGeom>
                <a:avLst/>
                <a:gdLst/>
                <a:ahLst/>
                <a:rect l="l" t="t" r="r" b="b"/>
                <a:pathLst>
                  <a:path w="555" h="289">
                    <a:moveTo>
                      <a:pt x="102" y="0"/>
                    </a:moveTo>
                    <a:lnTo>
                      <a:pt x="101" y="5"/>
                    </a:lnTo>
                    <a:lnTo>
                      <a:pt x="96" y="25"/>
                    </a:lnTo>
                    <a:lnTo>
                      <a:pt x="87" y="43"/>
                    </a:lnTo>
                    <a:lnTo>
                      <a:pt x="77" y="61"/>
                    </a:lnTo>
                    <a:lnTo>
                      <a:pt x="67" y="79"/>
                    </a:lnTo>
                    <a:lnTo>
                      <a:pt x="55" y="97"/>
                    </a:lnTo>
                    <a:lnTo>
                      <a:pt x="44" y="114"/>
                    </a:lnTo>
                    <a:lnTo>
                      <a:pt x="34" y="132"/>
                    </a:lnTo>
                    <a:lnTo>
                      <a:pt x="0" y="240"/>
                    </a:lnTo>
                    <a:lnTo>
                      <a:pt x="460" y="289"/>
                    </a:lnTo>
                    <a:lnTo>
                      <a:pt x="481" y="172"/>
                    </a:lnTo>
                    <a:lnTo>
                      <a:pt x="491" y="150"/>
                    </a:lnTo>
                    <a:lnTo>
                      <a:pt x="503" y="128"/>
                    </a:lnTo>
                    <a:lnTo>
                      <a:pt x="515" y="107"/>
                    </a:lnTo>
                    <a:lnTo>
                      <a:pt x="527" y="85"/>
                    </a:lnTo>
                    <a:lnTo>
                      <a:pt x="537" y="63"/>
                    </a:lnTo>
                    <a:lnTo>
                      <a:pt x="546" y="41"/>
                    </a:lnTo>
                    <a:lnTo>
                      <a:pt x="553" y="19"/>
                    </a:lnTo>
                    <a:lnTo>
                      <a:pt x="555" y="0"/>
                    </a:lnTo>
                    <a:lnTo>
                      <a:pt x="523" y="0"/>
                    </a:lnTo>
                    <a:lnTo>
                      <a:pt x="522" y="4"/>
                    </a:lnTo>
                    <a:lnTo>
                      <a:pt x="515" y="28"/>
                    </a:lnTo>
                    <a:lnTo>
                      <a:pt x="506" y="50"/>
                    </a:lnTo>
                    <a:lnTo>
                      <a:pt x="495" y="72"/>
                    </a:lnTo>
                    <a:lnTo>
                      <a:pt x="484" y="96"/>
                    </a:lnTo>
                    <a:lnTo>
                      <a:pt x="474" y="117"/>
                    </a:lnTo>
                    <a:lnTo>
                      <a:pt x="465" y="140"/>
                    </a:lnTo>
                    <a:lnTo>
                      <a:pt x="460" y="162"/>
                    </a:lnTo>
                    <a:lnTo>
                      <a:pt x="79" y="122"/>
                    </a:lnTo>
                    <a:lnTo>
                      <a:pt x="87" y="105"/>
                    </a:lnTo>
                    <a:lnTo>
                      <a:pt x="97" y="86"/>
                    </a:lnTo>
                    <a:lnTo>
                      <a:pt x="107" y="66"/>
                    </a:lnTo>
                    <a:lnTo>
                      <a:pt x="117" y="45"/>
                    </a:lnTo>
                    <a:lnTo>
                      <a:pt x="125" y="25"/>
                    </a:lnTo>
                    <a:lnTo>
                      <a:pt x="132" y="4"/>
                    </a:lnTo>
                    <a:lnTo>
                      <a:pt x="133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473600" y="4673160"/>
                <a:ext cx="190440" cy="98280"/>
              </a:xfrm>
              <a:custGeom>
                <a:avLst/>
                <a:gdLst/>
                <a:ahLst/>
                <a:rect l="l" t="t" r="r" b="b"/>
                <a:pathLst>
                  <a:path w="2736" h="1695">
                    <a:moveTo>
                      <a:pt x="28" y="0"/>
                    </a:moveTo>
                    <a:lnTo>
                      <a:pt x="2296" y="228"/>
                    </a:lnTo>
                    <a:lnTo>
                      <a:pt x="2309" y="230"/>
                    </a:lnTo>
                    <a:lnTo>
                      <a:pt x="2323" y="234"/>
                    </a:lnTo>
                    <a:lnTo>
                      <a:pt x="2336" y="239"/>
                    </a:lnTo>
                    <a:lnTo>
                      <a:pt x="2350" y="246"/>
                    </a:lnTo>
                    <a:lnTo>
                      <a:pt x="2361" y="255"/>
                    </a:lnTo>
                    <a:lnTo>
                      <a:pt x="2372" y="265"/>
                    </a:lnTo>
                    <a:lnTo>
                      <a:pt x="2379" y="276"/>
                    </a:lnTo>
                    <a:lnTo>
                      <a:pt x="2384" y="288"/>
                    </a:lnTo>
                    <a:lnTo>
                      <a:pt x="2734" y="1523"/>
                    </a:lnTo>
                    <a:lnTo>
                      <a:pt x="2736" y="1536"/>
                    </a:lnTo>
                    <a:lnTo>
                      <a:pt x="2736" y="1551"/>
                    </a:lnTo>
                    <a:lnTo>
                      <a:pt x="2734" y="1566"/>
                    </a:lnTo>
                    <a:lnTo>
                      <a:pt x="2730" y="1581"/>
                    </a:lnTo>
                    <a:lnTo>
                      <a:pt x="2724" y="1595"/>
                    </a:lnTo>
                    <a:lnTo>
                      <a:pt x="2716" y="1610"/>
                    </a:lnTo>
                    <a:lnTo>
                      <a:pt x="2707" y="1624"/>
                    </a:lnTo>
                    <a:lnTo>
                      <a:pt x="2697" y="1638"/>
                    </a:lnTo>
                    <a:lnTo>
                      <a:pt x="2685" y="1650"/>
                    </a:lnTo>
                    <a:lnTo>
                      <a:pt x="2673" y="1661"/>
                    </a:lnTo>
                    <a:lnTo>
                      <a:pt x="2659" y="1671"/>
                    </a:lnTo>
                    <a:lnTo>
                      <a:pt x="2646" y="1681"/>
                    </a:lnTo>
                    <a:lnTo>
                      <a:pt x="2631" y="1687"/>
                    </a:lnTo>
                    <a:lnTo>
                      <a:pt x="2616" y="1692"/>
                    </a:lnTo>
                    <a:lnTo>
                      <a:pt x="2602" y="1695"/>
                    </a:lnTo>
                    <a:lnTo>
                      <a:pt x="2587" y="1695"/>
                    </a:lnTo>
                    <a:lnTo>
                      <a:pt x="534" y="1558"/>
                    </a:lnTo>
                    <a:lnTo>
                      <a:pt x="510" y="1554"/>
                    </a:lnTo>
                    <a:lnTo>
                      <a:pt x="485" y="1549"/>
                    </a:lnTo>
                    <a:lnTo>
                      <a:pt x="461" y="1542"/>
                    </a:lnTo>
                    <a:lnTo>
                      <a:pt x="437" y="1533"/>
                    </a:lnTo>
                    <a:lnTo>
                      <a:pt x="414" y="1522"/>
                    </a:lnTo>
                    <a:lnTo>
                      <a:pt x="392" y="1509"/>
                    </a:lnTo>
                    <a:lnTo>
                      <a:pt x="369" y="1495"/>
                    </a:lnTo>
                    <a:lnTo>
                      <a:pt x="348" y="1479"/>
                    </a:lnTo>
                    <a:lnTo>
                      <a:pt x="328" y="1462"/>
                    </a:lnTo>
                    <a:lnTo>
                      <a:pt x="309" y="1444"/>
                    </a:lnTo>
                    <a:lnTo>
                      <a:pt x="293" y="1424"/>
                    </a:lnTo>
                    <a:lnTo>
                      <a:pt x="278" y="1404"/>
                    </a:lnTo>
                    <a:lnTo>
                      <a:pt x="266" y="1383"/>
                    </a:lnTo>
                    <a:lnTo>
                      <a:pt x="254" y="1360"/>
                    </a:lnTo>
                    <a:lnTo>
                      <a:pt x="246" y="1338"/>
                    </a:lnTo>
                    <a:lnTo>
                      <a:pt x="241" y="1316"/>
                    </a:lnTo>
                    <a:lnTo>
                      <a:pt x="0" y="33"/>
                    </a:lnTo>
                    <a:lnTo>
                      <a:pt x="0" y="28"/>
                    </a:lnTo>
                    <a:lnTo>
                      <a:pt x="1" y="22"/>
                    </a:lnTo>
                    <a:lnTo>
                      <a:pt x="4" y="17"/>
                    </a:lnTo>
                    <a:lnTo>
                      <a:pt x="9" y="11"/>
                    </a:lnTo>
                    <a:lnTo>
                      <a:pt x="13" y="6"/>
                    </a:lnTo>
                    <a:lnTo>
                      <a:pt x="18" y="3"/>
                    </a:lnTo>
                    <a:lnTo>
                      <a:pt x="23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495560" y="4664160"/>
                <a:ext cx="27360" cy="5040"/>
              </a:xfrm>
              <a:custGeom>
                <a:avLst/>
                <a:gdLst/>
                <a:ahLst/>
                <a:rect l="l" t="t" r="r" b="b"/>
                <a:pathLst>
                  <a:path w="394" h="97">
                    <a:moveTo>
                      <a:pt x="392" y="97"/>
                    </a:moveTo>
                    <a:lnTo>
                      <a:pt x="392" y="83"/>
                    </a:lnTo>
                    <a:lnTo>
                      <a:pt x="393" y="69"/>
                    </a:lnTo>
                    <a:lnTo>
                      <a:pt x="393" y="55"/>
                    </a:lnTo>
                    <a:lnTo>
                      <a:pt x="394" y="40"/>
                    </a:lnTo>
                    <a:lnTo>
                      <a:pt x="8" y="0"/>
                    </a:lnTo>
                    <a:lnTo>
                      <a:pt x="5" y="16"/>
                    </a:lnTo>
                    <a:lnTo>
                      <a:pt x="3" y="31"/>
                    </a:lnTo>
                    <a:lnTo>
                      <a:pt x="2" y="48"/>
                    </a:lnTo>
                    <a:lnTo>
                      <a:pt x="0" y="64"/>
                    </a:lnTo>
                    <a:lnTo>
                      <a:pt x="392" y="97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2" h="36">
                    <a:moveTo>
                      <a:pt x="392" y="33"/>
                    </a:moveTo>
                    <a:lnTo>
                      <a:pt x="392" y="34"/>
                    </a:lnTo>
                    <a:lnTo>
                      <a:pt x="392" y="34"/>
                    </a:lnTo>
                    <a:lnTo>
                      <a:pt x="392" y="35"/>
                    </a:lnTo>
                    <a:lnTo>
                      <a:pt x="392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2" y="33"/>
                    </a:lnTo>
                    <a:close/>
                  </a:path>
                </a:pathLst>
              </a:custGeom>
              <a:solidFill>
                <a:srgbClr val="57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2" h="36">
                    <a:moveTo>
                      <a:pt x="392" y="33"/>
                    </a:moveTo>
                    <a:lnTo>
                      <a:pt x="392" y="34"/>
                    </a:lnTo>
                    <a:lnTo>
                      <a:pt x="392" y="34"/>
                    </a:lnTo>
                    <a:lnTo>
                      <a:pt x="392" y="35"/>
                    </a:lnTo>
                    <a:lnTo>
                      <a:pt x="392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2" y="33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2" h="36">
                    <a:moveTo>
                      <a:pt x="392" y="33"/>
                    </a:moveTo>
                    <a:lnTo>
                      <a:pt x="392" y="34"/>
                    </a:lnTo>
                    <a:lnTo>
                      <a:pt x="392" y="34"/>
                    </a:lnTo>
                    <a:lnTo>
                      <a:pt x="392" y="35"/>
                    </a:lnTo>
                    <a:lnTo>
                      <a:pt x="392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2" y="33"/>
                    </a:lnTo>
                    <a:close/>
                  </a:path>
                </a:pathLst>
              </a:cu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7">
                    <a:moveTo>
                      <a:pt x="393" y="33"/>
                    </a:moveTo>
                    <a:lnTo>
                      <a:pt x="394" y="34"/>
                    </a:ln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9">
                    <a:moveTo>
                      <a:pt x="394" y="34"/>
                    </a:moveTo>
                    <a:lnTo>
                      <a:pt x="394" y="35"/>
                    </a:lnTo>
                    <a:lnTo>
                      <a:pt x="394" y="36"/>
                    </a:lnTo>
                    <a:lnTo>
                      <a:pt x="394" y="38"/>
                    </a:lnTo>
                    <a:lnTo>
                      <a:pt x="394" y="39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4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495560" y="466920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69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495560" y="466920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6b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5" h="39">
                    <a:moveTo>
                      <a:pt x="395" y="35"/>
                    </a:moveTo>
                    <a:lnTo>
                      <a:pt x="395" y="36"/>
                    </a:lnTo>
                    <a:lnTo>
                      <a:pt x="395" y="37"/>
                    </a:lnTo>
                    <a:lnTo>
                      <a:pt x="395" y="38"/>
                    </a:lnTo>
                    <a:lnTo>
                      <a:pt x="395" y="39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95" y="35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5" y="35"/>
                    </a:moveTo>
                    <a:lnTo>
                      <a:pt x="395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5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7d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495560" y="467064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7f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495560" y="467064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9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397" y="3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7">
                    <a:moveTo>
                      <a:pt x="397" y="34"/>
                    </a:moveTo>
                    <a:lnTo>
                      <a:pt x="397" y="35"/>
                    </a:lnTo>
                    <a:lnTo>
                      <a:pt x="397" y="35"/>
                    </a:lnTo>
                    <a:lnTo>
                      <a:pt x="397" y="36"/>
                    </a:lnTo>
                    <a:lnTo>
                      <a:pt x="397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87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7">
                    <a:moveTo>
                      <a:pt x="397" y="34"/>
                    </a:moveTo>
                    <a:lnTo>
                      <a:pt x="397" y="35"/>
                    </a:lnTo>
                    <a:lnTo>
                      <a:pt x="397" y="35"/>
                    </a:lnTo>
                    <a:lnTo>
                      <a:pt x="397" y="36"/>
                    </a:lnTo>
                    <a:lnTo>
                      <a:pt x="397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7">
                    <a:moveTo>
                      <a:pt x="397" y="34"/>
                    </a:moveTo>
                    <a:lnTo>
                      <a:pt x="397" y="35"/>
                    </a:lnTo>
                    <a:lnTo>
                      <a:pt x="397" y="35"/>
                    </a:lnTo>
                    <a:lnTo>
                      <a:pt x="397" y="36"/>
                    </a:lnTo>
                    <a:lnTo>
                      <a:pt x="397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8" h="38">
                    <a:moveTo>
                      <a:pt x="397" y="34"/>
                    </a:moveTo>
                    <a:lnTo>
                      <a:pt x="398" y="35"/>
                    </a:lnTo>
                    <a:lnTo>
                      <a:pt x="398" y="36"/>
                    </a:lnTo>
                    <a:lnTo>
                      <a:pt x="398" y="37"/>
                    </a:lnTo>
                    <a:lnTo>
                      <a:pt x="398" y="3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94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495560" y="467172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8" h="36">
                    <a:moveTo>
                      <a:pt x="398" y="34"/>
                    </a:moveTo>
                    <a:lnTo>
                      <a:pt x="398" y="34"/>
                    </a:lnTo>
                    <a:lnTo>
                      <a:pt x="398" y="35"/>
                    </a:lnTo>
                    <a:lnTo>
                      <a:pt x="398" y="35"/>
                    </a:lnTo>
                    <a:lnTo>
                      <a:pt x="398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4"/>
                    </a:lnTo>
                    <a:close/>
                  </a:path>
                </a:pathLst>
              </a:custGeom>
              <a:solidFill>
                <a:srgbClr val="96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495560" y="467172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8" h="36">
                    <a:moveTo>
                      <a:pt x="398" y="33"/>
                    </a:moveTo>
                    <a:lnTo>
                      <a:pt x="398" y="34"/>
                    </a:lnTo>
                    <a:lnTo>
                      <a:pt x="398" y="34"/>
                    </a:lnTo>
                    <a:lnTo>
                      <a:pt x="398" y="35"/>
                    </a:lnTo>
                    <a:lnTo>
                      <a:pt x="398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3"/>
                    </a:lnTo>
                    <a:close/>
                  </a:path>
                </a:pathLst>
              </a:custGeom>
              <a:solidFill>
                <a:srgbClr val="99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9" h="37">
                    <a:moveTo>
                      <a:pt x="398" y="33"/>
                    </a:moveTo>
                    <a:lnTo>
                      <a:pt x="399" y="34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3"/>
                    </a:lnTo>
                    <a:close/>
                  </a:path>
                </a:pathLst>
              </a:custGeom>
              <a:solidFill>
                <a:srgbClr val="9b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8" h="38">
                    <a:moveTo>
                      <a:pt x="398" y="34"/>
                    </a:moveTo>
                    <a:lnTo>
                      <a:pt x="398" y="36"/>
                    </a:lnTo>
                    <a:lnTo>
                      <a:pt x="398" y="36"/>
                    </a:lnTo>
                    <a:lnTo>
                      <a:pt x="398" y="37"/>
                    </a:lnTo>
                    <a:lnTo>
                      <a:pt x="398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4"/>
                    </a:lnTo>
                    <a:close/>
                  </a:path>
                </a:pathLst>
              </a:custGeom>
              <a:solidFill>
                <a:srgbClr val="a1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9" h="39">
                    <a:moveTo>
                      <a:pt x="398" y="35"/>
                    </a:moveTo>
                    <a:lnTo>
                      <a:pt x="399" y="36"/>
                    </a:lnTo>
                    <a:lnTo>
                      <a:pt x="399" y="37"/>
                    </a:lnTo>
                    <a:lnTo>
                      <a:pt x="399" y="38"/>
                    </a:lnTo>
                    <a:lnTo>
                      <a:pt x="399" y="39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5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9" h="38">
                    <a:moveTo>
                      <a:pt x="399" y="35"/>
                    </a:moveTo>
                    <a:lnTo>
                      <a:pt x="399" y="36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399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0" h="38">
                    <a:moveTo>
                      <a:pt x="399" y="35"/>
                    </a:moveTo>
                    <a:lnTo>
                      <a:pt x="400" y="36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ab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495560" y="467316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399" h="38">
                    <a:moveTo>
                      <a:pt x="399" y="35"/>
                    </a:moveTo>
                    <a:lnTo>
                      <a:pt x="399" y="36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399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495560" y="467316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400" h="38">
                    <a:moveTo>
                      <a:pt x="399" y="35"/>
                    </a:moveTo>
                    <a:lnTo>
                      <a:pt x="400" y="36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b0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9">
                    <a:moveTo>
                      <a:pt x="400" y="35"/>
                    </a:move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401" y="39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5"/>
                    </a:lnTo>
                    <a:close/>
                  </a:path>
                </a:pathLst>
              </a:custGeom>
              <a:solidFill>
                <a:srgbClr val="b5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0" h="39">
                    <a:moveTo>
                      <a:pt x="400" y="35"/>
                    </a:move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400" y="3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5"/>
                    </a:lnTo>
                    <a:close/>
                  </a:path>
                </a:pathLst>
              </a:custGeom>
              <a:solidFill>
                <a:srgbClr val="b8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9">
                    <a:moveTo>
                      <a:pt x="400" y="36"/>
                    </a:moveTo>
                    <a:lnTo>
                      <a:pt x="400" y="37"/>
                    </a:lnTo>
                    <a:lnTo>
                      <a:pt x="401" y="37"/>
                    </a:lnTo>
                    <a:lnTo>
                      <a:pt x="401" y="38"/>
                    </a:lnTo>
                    <a:lnTo>
                      <a:pt x="401" y="3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6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9">
                    <a:moveTo>
                      <a:pt x="401" y="36"/>
                    </a:moveTo>
                    <a:lnTo>
                      <a:pt x="401" y="37"/>
                    </a:lnTo>
                    <a:lnTo>
                      <a:pt x="401" y="37"/>
                    </a:lnTo>
                    <a:lnTo>
                      <a:pt x="401" y="38"/>
                    </a:lnTo>
                    <a:lnTo>
                      <a:pt x="401" y="39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401" y="36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8">
                    <a:moveTo>
                      <a:pt x="400" y="35"/>
                    </a:moveTo>
                    <a:lnTo>
                      <a:pt x="401" y="36"/>
                    </a:lnTo>
                    <a:lnTo>
                      <a:pt x="401" y="36"/>
                    </a:lnTo>
                    <a:lnTo>
                      <a:pt x="401" y="37"/>
                    </a:lnTo>
                    <a:lnTo>
                      <a:pt x="401" y="3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5"/>
                    </a:lnTo>
                    <a:close/>
                  </a:path>
                </a:pathLst>
              </a:custGeom>
              <a:solidFill>
                <a:srgbClr val="c2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495560" y="467460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402" h="38">
                    <a:moveTo>
                      <a:pt x="401" y="34"/>
                    </a:moveTo>
                    <a:lnTo>
                      <a:pt x="401" y="35"/>
                    </a:lnTo>
                    <a:lnTo>
                      <a:pt x="402" y="36"/>
                    </a:lnTo>
                    <a:lnTo>
                      <a:pt x="402" y="37"/>
                    </a:lnTo>
                    <a:lnTo>
                      <a:pt x="402" y="38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495560" y="467460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402" h="37">
                    <a:moveTo>
                      <a:pt x="401" y="34"/>
                    </a:moveTo>
                    <a:lnTo>
                      <a:pt x="401" y="35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402" y="37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495560" y="46746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7">
                    <a:moveTo>
                      <a:pt x="401" y="34"/>
                    </a:moveTo>
                    <a:lnTo>
                      <a:pt x="401" y="35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401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495560" y="46746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2" h="37">
                    <a:moveTo>
                      <a:pt x="401" y="34"/>
                    </a:moveTo>
                    <a:lnTo>
                      <a:pt x="402" y="35"/>
                    </a:lnTo>
                    <a:lnTo>
                      <a:pt x="402" y="35"/>
                    </a:lnTo>
                    <a:lnTo>
                      <a:pt x="402" y="36"/>
                    </a:lnTo>
                    <a:lnTo>
                      <a:pt x="402" y="37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f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495560" y="46746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2" h="38">
                    <a:moveTo>
                      <a:pt x="401" y="34"/>
                    </a:moveTo>
                    <a:lnTo>
                      <a:pt x="402" y="35"/>
                    </a:lnTo>
                    <a:lnTo>
                      <a:pt x="402" y="36"/>
                    </a:lnTo>
                    <a:lnTo>
                      <a:pt x="402" y="37"/>
                    </a:lnTo>
                    <a:lnTo>
                      <a:pt x="402" y="38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495560" y="467460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4" h="98">
                    <a:moveTo>
                      <a:pt x="401" y="34"/>
                    </a:moveTo>
                    <a:lnTo>
                      <a:pt x="406" y="51"/>
                    </a:lnTo>
                    <a:lnTo>
                      <a:pt x="412" y="66"/>
                    </a:lnTo>
                    <a:lnTo>
                      <a:pt x="418" y="82"/>
                    </a:lnTo>
                    <a:lnTo>
                      <a:pt x="424" y="98"/>
                    </a:lnTo>
                    <a:lnTo>
                      <a:pt x="22" y="64"/>
                    </a:lnTo>
                    <a:lnTo>
                      <a:pt x="15" y="48"/>
                    </a:lnTo>
                    <a:lnTo>
                      <a:pt x="9" y="31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587000" y="4670640"/>
                <a:ext cx="27720" cy="6480"/>
              </a:xfrm>
              <a:custGeom>
                <a:avLst/>
                <a:gdLst/>
                <a:ahLst/>
                <a:rect l="l" t="t" r="r" b="b"/>
                <a:pathLst>
                  <a:path w="393" h="96">
                    <a:moveTo>
                      <a:pt x="391" y="96"/>
                    </a:moveTo>
                    <a:lnTo>
                      <a:pt x="391" y="82"/>
                    </a:lnTo>
                    <a:lnTo>
                      <a:pt x="392" y="69"/>
                    </a:lnTo>
                    <a:lnTo>
                      <a:pt x="392" y="55"/>
                    </a:lnTo>
                    <a:lnTo>
                      <a:pt x="393" y="40"/>
                    </a:lnTo>
                    <a:lnTo>
                      <a:pt x="7" y="0"/>
                    </a:lnTo>
                    <a:lnTo>
                      <a:pt x="5" y="16"/>
                    </a:lnTo>
                    <a:lnTo>
                      <a:pt x="4" y="31"/>
                    </a:lnTo>
                    <a:lnTo>
                      <a:pt x="2" y="47"/>
                    </a:lnTo>
                    <a:lnTo>
                      <a:pt x="0" y="64"/>
                    </a:lnTo>
                    <a:lnTo>
                      <a:pt x="391" y="96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587000" y="467460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1" h="35">
                    <a:moveTo>
                      <a:pt x="391" y="32"/>
                    </a:moveTo>
                    <a:lnTo>
                      <a:pt x="391" y="33"/>
                    </a:lnTo>
                    <a:lnTo>
                      <a:pt x="391" y="33"/>
                    </a:lnTo>
                    <a:lnTo>
                      <a:pt x="391" y="34"/>
                    </a:lnTo>
                    <a:lnTo>
                      <a:pt x="39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1" y="32"/>
                    </a:lnTo>
                    <a:close/>
                  </a:path>
                </a:pathLst>
              </a:custGeom>
              <a:solidFill>
                <a:srgbClr val="57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587000" y="467460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1" h="35">
                    <a:moveTo>
                      <a:pt x="391" y="32"/>
                    </a:moveTo>
                    <a:lnTo>
                      <a:pt x="391" y="33"/>
                    </a:lnTo>
                    <a:lnTo>
                      <a:pt x="391" y="33"/>
                    </a:lnTo>
                    <a:lnTo>
                      <a:pt x="391" y="34"/>
                    </a:lnTo>
                    <a:lnTo>
                      <a:pt x="39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1" y="32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587000" y="467460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1" h="35">
                    <a:moveTo>
                      <a:pt x="391" y="32"/>
                    </a:moveTo>
                    <a:lnTo>
                      <a:pt x="391" y="33"/>
                    </a:lnTo>
                    <a:lnTo>
                      <a:pt x="391" y="33"/>
                    </a:lnTo>
                    <a:lnTo>
                      <a:pt x="391" y="34"/>
                    </a:lnTo>
                    <a:lnTo>
                      <a:pt x="39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1" y="32"/>
                    </a:lnTo>
                    <a:close/>
                  </a:path>
                </a:pathLst>
              </a:cu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587000" y="467568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3" h="35">
                    <a:moveTo>
                      <a:pt x="392" y="32"/>
                    </a:moveTo>
                    <a:lnTo>
                      <a:pt x="392" y="33"/>
                    </a:lnTo>
                    <a:lnTo>
                      <a:pt x="393" y="33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92" y="32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587000" y="467568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3" h="37">
                    <a:moveTo>
                      <a:pt x="393" y="32"/>
                    </a:moveTo>
                    <a:lnTo>
                      <a:pt x="393" y="33"/>
                    </a:lnTo>
                    <a:lnTo>
                      <a:pt x="393" y="34"/>
                    </a:lnTo>
                    <a:lnTo>
                      <a:pt x="393" y="36"/>
                    </a:lnTo>
                    <a:lnTo>
                      <a:pt x="393" y="3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2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587000" y="467568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3" h="36">
                    <a:moveTo>
                      <a:pt x="393" y="33"/>
                    </a:moveTo>
                    <a:lnTo>
                      <a:pt x="393" y="34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393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9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3" h="36">
                    <a:moveTo>
                      <a:pt x="393" y="33"/>
                    </a:moveTo>
                    <a:lnTo>
                      <a:pt x="393" y="34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393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3" h="36">
                    <a:moveTo>
                      <a:pt x="393" y="33"/>
                    </a:moveTo>
                    <a:lnTo>
                      <a:pt x="393" y="34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393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b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4" h="37">
                    <a:moveTo>
                      <a:pt x="394" y="33"/>
                    </a:move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4" h="36">
                    <a:moveTo>
                      <a:pt x="394" y="33"/>
                    </a:moveTo>
                    <a:lnTo>
                      <a:pt x="394" y="34"/>
                    </a:ln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587000" y="467712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4" h="36">
                    <a:moveTo>
                      <a:pt x="394" y="33"/>
                    </a:moveTo>
                    <a:lnTo>
                      <a:pt x="394" y="34"/>
                    </a:ln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587000" y="467712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4" y="33"/>
                    </a:moveTo>
                    <a:lnTo>
                      <a:pt x="395" y="34"/>
                    </a:ln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d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587000" y="467712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5" h="37">
                    <a:moveTo>
                      <a:pt x="395" y="33"/>
                    </a:move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395" y="3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3"/>
                    </a:lnTo>
                    <a:close/>
                  </a:path>
                </a:pathLst>
              </a:custGeom>
              <a:solidFill>
                <a:srgbClr val="7f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5" y="33"/>
                    </a:moveTo>
                    <a:lnTo>
                      <a:pt x="395" y="34"/>
                    </a:ln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3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5" y="33"/>
                    </a:moveTo>
                    <a:lnTo>
                      <a:pt x="395" y="34"/>
                    </a:ln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3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6" h="35">
                    <a:moveTo>
                      <a:pt x="395" y="32"/>
                    </a:moveTo>
                    <a:lnTo>
                      <a:pt x="395" y="33"/>
                    </a:lnTo>
                    <a:lnTo>
                      <a:pt x="396" y="33"/>
                    </a:lnTo>
                    <a:lnTo>
                      <a:pt x="396" y="34"/>
                    </a:lnTo>
                    <a:lnTo>
                      <a:pt x="396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2"/>
                    </a:lnTo>
                    <a:close/>
                  </a:path>
                </a:pathLst>
              </a:custGeom>
              <a:solidFill>
                <a:srgbClr val="87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6" h="36">
                    <a:moveTo>
                      <a:pt x="396" y="32"/>
                    </a:moveTo>
                    <a:lnTo>
                      <a:pt x="396" y="33"/>
                    </a:lnTo>
                    <a:lnTo>
                      <a:pt x="396" y="34"/>
                    </a:lnTo>
                    <a:lnTo>
                      <a:pt x="396" y="35"/>
                    </a:lnTo>
                    <a:lnTo>
                      <a:pt x="396" y="3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2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587000" y="467856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6" h="35">
                    <a:moveTo>
                      <a:pt x="396" y="32"/>
                    </a:moveTo>
                    <a:lnTo>
                      <a:pt x="396" y="33"/>
                    </a:lnTo>
                    <a:lnTo>
                      <a:pt x="396" y="33"/>
                    </a:lnTo>
                    <a:lnTo>
                      <a:pt x="396" y="34"/>
                    </a:lnTo>
                    <a:lnTo>
                      <a:pt x="396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2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587000" y="467856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6" y="32"/>
                    </a:moveTo>
                    <a:lnTo>
                      <a:pt x="396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2"/>
                    </a:lnTo>
                    <a:close/>
                  </a:path>
                </a:pathLst>
              </a:custGeom>
              <a:solidFill>
                <a:srgbClr val="94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587000" y="467856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7" y="32"/>
                    </a:moveTo>
                    <a:lnTo>
                      <a:pt x="397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96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7" y="32"/>
                    </a:moveTo>
                    <a:lnTo>
                      <a:pt x="397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99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8" h="36">
                    <a:moveTo>
                      <a:pt x="397" y="32"/>
                    </a:moveTo>
                    <a:lnTo>
                      <a:pt x="398" y="33"/>
                    </a:lnTo>
                    <a:lnTo>
                      <a:pt x="398" y="34"/>
                    </a:lnTo>
                    <a:lnTo>
                      <a:pt x="398" y="35"/>
                    </a:lnTo>
                    <a:lnTo>
                      <a:pt x="398" y="3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9b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7" y="32"/>
                    </a:moveTo>
                    <a:lnTo>
                      <a:pt x="397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a1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9" h="36">
                    <a:moveTo>
                      <a:pt x="397" y="32"/>
                    </a:moveTo>
                    <a:lnTo>
                      <a:pt x="397" y="33"/>
                    </a:lnTo>
                    <a:lnTo>
                      <a:pt x="399" y="33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587000" y="468000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9" h="36">
                    <a:moveTo>
                      <a:pt x="399" y="33"/>
                    </a:moveTo>
                    <a:lnTo>
                      <a:pt x="399" y="34"/>
                    </a:lnTo>
                    <a:lnTo>
                      <a:pt x="399" y="34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3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587000" y="468000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399" y="33"/>
                    </a:moveTo>
                    <a:lnTo>
                      <a:pt x="399" y="34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3"/>
                    </a:lnTo>
                    <a:close/>
                  </a:path>
                </a:pathLst>
              </a:custGeom>
              <a:solidFill>
                <a:srgbClr val="ab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399" h="37">
                    <a:moveTo>
                      <a:pt x="399" y="33"/>
                    </a:moveTo>
                    <a:lnTo>
                      <a:pt x="399" y="34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3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399" y="34"/>
                    </a:moveTo>
                    <a:lnTo>
                      <a:pt x="399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b0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400" y="34"/>
                    </a:moveTo>
                    <a:lnTo>
                      <a:pt x="400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4"/>
                    </a:lnTo>
                    <a:close/>
                  </a:path>
                </a:pathLst>
              </a:custGeom>
              <a:solidFill>
                <a:srgbClr val="b5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0" h="38">
                    <a:moveTo>
                      <a:pt x="399" y="34"/>
                    </a:move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b8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1" h="37">
                    <a:moveTo>
                      <a:pt x="400" y="34"/>
                    </a:moveTo>
                    <a:lnTo>
                      <a:pt x="400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1" y="37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4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587000" y="468108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400" y="34"/>
                    </a:moveTo>
                    <a:lnTo>
                      <a:pt x="400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4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587000" y="468108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401" h="36">
                    <a:moveTo>
                      <a:pt x="400" y="33"/>
                    </a:moveTo>
                    <a:lnTo>
                      <a:pt x="400" y="34"/>
                    </a:lnTo>
                    <a:lnTo>
                      <a:pt x="401" y="34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3"/>
                    </a:lnTo>
                    <a:close/>
                  </a:path>
                </a:pathLst>
              </a:custGeom>
              <a:solidFill>
                <a:srgbClr val="c2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2" h="37">
                    <a:moveTo>
                      <a:pt x="401" y="33"/>
                    </a:moveTo>
                    <a:lnTo>
                      <a:pt x="401" y="34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402" y="3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401" y="33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1" h="35">
                    <a:moveTo>
                      <a:pt x="401" y="32"/>
                    </a:moveTo>
                    <a:lnTo>
                      <a:pt x="401" y="33"/>
                    </a:lnTo>
                    <a:lnTo>
                      <a:pt x="401" y="33"/>
                    </a:lnTo>
                    <a:lnTo>
                      <a:pt x="401" y="34"/>
                    </a:lnTo>
                    <a:lnTo>
                      <a:pt x="401" y="3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1" h="35">
                    <a:moveTo>
                      <a:pt x="400" y="32"/>
                    </a:moveTo>
                    <a:lnTo>
                      <a:pt x="401" y="33"/>
                    </a:lnTo>
                    <a:lnTo>
                      <a:pt x="401" y="33"/>
                    </a:lnTo>
                    <a:lnTo>
                      <a:pt x="401" y="34"/>
                    </a:lnTo>
                    <a:lnTo>
                      <a:pt x="40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2"/>
                    </a:lnTo>
                    <a:close/>
                  </a:path>
                </a:pathLst>
              </a:custGeom>
              <a:solidFill>
                <a:srgbClr val="c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2" h="35">
                    <a:moveTo>
                      <a:pt x="401" y="32"/>
                    </a:moveTo>
                    <a:lnTo>
                      <a:pt x="401" y="33"/>
                    </a:lnTo>
                    <a:lnTo>
                      <a:pt x="402" y="33"/>
                    </a:lnTo>
                    <a:lnTo>
                      <a:pt x="402" y="34"/>
                    </a:lnTo>
                    <a:lnTo>
                      <a:pt x="402" y="3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cf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587000" y="468252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402" h="36">
                    <a:moveTo>
                      <a:pt x="401" y="32"/>
                    </a:moveTo>
                    <a:lnTo>
                      <a:pt x="401" y="33"/>
                    </a:lnTo>
                    <a:lnTo>
                      <a:pt x="402" y="34"/>
                    </a:lnTo>
                    <a:lnTo>
                      <a:pt x="402" y="35"/>
                    </a:lnTo>
                    <a:lnTo>
                      <a:pt x="402" y="3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587000" y="4682520"/>
                <a:ext cx="30600" cy="5400"/>
              </a:xfrm>
              <a:custGeom>
                <a:avLst/>
                <a:gdLst/>
                <a:ahLst/>
                <a:rect l="l" t="t" r="r" b="b"/>
                <a:pathLst>
                  <a:path w="424" h="97">
                    <a:moveTo>
                      <a:pt x="401" y="32"/>
                    </a:moveTo>
                    <a:lnTo>
                      <a:pt x="405" y="49"/>
                    </a:lnTo>
                    <a:lnTo>
                      <a:pt x="411" y="65"/>
                    </a:lnTo>
                    <a:lnTo>
                      <a:pt x="417" y="81"/>
                    </a:lnTo>
                    <a:lnTo>
                      <a:pt x="424" y="97"/>
                    </a:lnTo>
                    <a:lnTo>
                      <a:pt x="22" y="63"/>
                    </a:lnTo>
                    <a:lnTo>
                      <a:pt x="15" y="47"/>
                    </a:lnTo>
                    <a:lnTo>
                      <a:pt x="9" y="31"/>
                    </a:lnTo>
                    <a:lnTo>
                      <a:pt x="4" y="16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499880" y="4678560"/>
                <a:ext cx="116280" cy="23400"/>
              </a:xfrm>
              <a:custGeom>
                <a:avLst/>
                <a:gdLst/>
                <a:ahLst/>
                <a:rect l="l" t="t" r="r" b="b"/>
                <a:pathLst>
                  <a:path w="1699" h="422">
                    <a:moveTo>
                      <a:pt x="0" y="0"/>
                    </a:moveTo>
                    <a:lnTo>
                      <a:pt x="1672" y="166"/>
                    </a:lnTo>
                    <a:lnTo>
                      <a:pt x="1697" y="342"/>
                    </a:lnTo>
                    <a:lnTo>
                      <a:pt x="1699" y="363"/>
                    </a:lnTo>
                    <a:lnTo>
                      <a:pt x="1690" y="380"/>
                    </a:lnTo>
                    <a:lnTo>
                      <a:pt x="1676" y="394"/>
                    </a:lnTo>
                    <a:lnTo>
                      <a:pt x="1656" y="405"/>
                    </a:lnTo>
                    <a:lnTo>
                      <a:pt x="1632" y="414"/>
                    </a:lnTo>
                    <a:lnTo>
                      <a:pt x="1606" y="419"/>
                    </a:lnTo>
                    <a:lnTo>
                      <a:pt x="1580" y="422"/>
                    </a:lnTo>
                    <a:lnTo>
                      <a:pt x="1556" y="422"/>
                    </a:lnTo>
                    <a:lnTo>
                      <a:pt x="258" y="316"/>
                    </a:lnTo>
                    <a:lnTo>
                      <a:pt x="243" y="315"/>
                    </a:lnTo>
                    <a:lnTo>
                      <a:pt x="226" y="312"/>
                    </a:lnTo>
                    <a:lnTo>
                      <a:pt x="210" y="309"/>
                    </a:lnTo>
                    <a:lnTo>
                      <a:pt x="193" y="305"/>
                    </a:lnTo>
                    <a:lnTo>
                      <a:pt x="175" y="300"/>
                    </a:lnTo>
                    <a:lnTo>
                      <a:pt x="159" y="294"/>
                    </a:lnTo>
                    <a:lnTo>
                      <a:pt x="141" y="287"/>
                    </a:lnTo>
                    <a:lnTo>
                      <a:pt x="125" y="279"/>
                    </a:lnTo>
                    <a:lnTo>
                      <a:pt x="110" y="271"/>
                    </a:lnTo>
                    <a:lnTo>
                      <a:pt x="95" y="262"/>
                    </a:lnTo>
                    <a:lnTo>
                      <a:pt x="82" y="252"/>
                    </a:lnTo>
                    <a:lnTo>
                      <a:pt x="70" y="241"/>
                    </a:lnTo>
                    <a:lnTo>
                      <a:pt x="60" y="229"/>
                    </a:lnTo>
                    <a:lnTo>
                      <a:pt x="51" y="216"/>
                    </a:lnTo>
                    <a:lnTo>
                      <a:pt x="45" y="203"/>
                    </a:lnTo>
                    <a:lnTo>
                      <a:pt x="41" y="1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498080" y="4678560"/>
                <a:ext cx="118080" cy="25200"/>
              </a:xfrm>
              <a:custGeom>
                <a:avLst/>
                <a:gdLst/>
                <a:ahLst/>
                <a:rect l="l" t="t" r="r" b="b"/>
                <a:pathLst>
                  <a:path w="1698" h="423">
                    <a:moveTo>
                      <a:pt x="0" y="0"/>
                    </a:moveTo>
                    <a:lnTo>
                      <a:pt x="1671" y="167"/>
                    </a:lnTo>
                    <a:lnTo>
                      <a:pt x="1696" y="342"/>
                    </a:lnTo>
                    <a:lnTo>
                      <a:pt x="1698" y="363"/>
                    </a:lnTo>
                    <a:lnTo>
                      <a:pt x="1690" y="380"/>
                    </a:lnTo>
                    <a:lnTo>
                      <a:pt x="1675" y="394"/>
                    </a:lnTo>
                    <a:lnTo>
                      <a:pt x="1656" y="405"/>
                    </a:lnTo>
                    <a:lnTo>
                      <a:pt x="1632" y="415"/>
                    </a:lnTo>
                    <a:lnTo>
                      <a:pt x="1606" y="420"/>
                    </a:lnTo>
                    <a:lnTo>
                      <a:pt x="1580" y="423"/>
                    </a:lnTo>
                    <a:lnTo>
                      <a:pt x="1556" y="423"/>
                    </a:lnTo>
                    <a:lnTo>
                      <a:pt x="258" y="316"/>
                    </a:lnTo>
                    <a:lnTo>
                      <a:pt x="242" y="315"/>
                    </a:lnTo>
                    <a:lnTo>
                      <a:pt x="226" y="312"/>
                    </a:lnTo>
                    <a:lnTo>
                      <a:pt x="209" y="309"/>
                    </a:lnTo>
                    <a:lnTo>
                      <a:pt x="192" y="305"/>
                    </a:lnTo>
                    <a:lnTo>
                      <a:pt x="175" y="300"/>
                    </a:lnTo>
                    <a:lnTo>
                      <a:pt x="158" y="295"/>
                    </a:lnTo>
                    <a:lnTo>
                      <a:pt x="140" y="288"/>
                    </a:lnTo>
                    <a:lnTo>
                      <a:pt x="125" y="279"/>
                    </a:lnTo>
                    <a:lnTo>
                      <a:pt x="109" y="271"/>
                    </a:lnTo>
                    <a:lnTo>
                      <a:pt x="95" y="262"/>
                    </a:lnTo>
                    <a:lnTo>
                      <a:pt x="81" y="252"/>
                    </a:lnTo>
                    <a:lnTo>
                      <a:pt x="70" y="241"/>
                    </a:lnTo>
                    <a:lnTo>
                      <a:pt x="59" y="230"/>
                    </a:lnTo>
                    <a:lnTo>
                      <a:pt x="51" y="216"/>
                    </a:lnTo>
                    <a:lnTo>
                      <a:pt x="45" y="203"/>
                    </a:lnTo>
                    <a:lnTo>
                      <a:pt x="40" y="1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479360" y="4677120"/>
                <a:ext cx="178920" cy="90000"/>
              </a:xfrm>
              <a:custGeom>
                <a:avLst/>
                <a:gdLst/>
                <a:ahLst/>
                <a:rect l="l" t="t" r="r" b="b"/>
                <a:pathLst>
                  <a:path w="2576" h="1564">
                    <a:moveTo>
                      <a:pt x="24" y="0"/>
                    </a:moveTo>
                    <a:lnTo>
                      <a:pt x="142" y="11"/>
                    </a:lnTo>
                    <a:lnTo>
                      <a:pt x="153" y="14"/>
                    </a:lnTo>
                    <a:lnTo>
                      <a:pt x="165" y="19"/>
                    </a:lnTo>
                    <a:lnTo>
                      <a:pt x="174" y="28"/>
                    </a:lnTo>
                    <a:lnTo>
                      <a:pt x="184" y="37"/>
                    </a:lnTo>
                    <a:lnTo>
                      <a:pt x="191" y="49"/>
                    </a:lnTo>
                    <a:lnTo>
                      <a:pt x="197" y="61"/>
                    </a:lnTo>
                    <a:lnTo>
                      <a:pt x="202" y="74"/>
                    </a:lnTo>
                    <a:lnTo>
                      <a:pt x="205" y="86"/>
                    </a:lnTo>
                    <a:lnTo>
                      <a:pt x="235" y="241"/>
                    </a:lnTo>
                    <a:lnTo>
                      <a:pt x="241" y="263"/>
                    </a:lnTo>
                    <a:lnTo>
                      <a:pt x="250" y="283"/>
                    </a:lnTo>
                    <a:lnTo>
                      <a:pt x="262" y="301"/>
                    </a:lnTo>
                    <a:lnTo>
                      <a:pt x="276" y="320"/>
                    </a:lnTo>
                    <a:lnTo>
                      <a:pt x="294" y="336"/>
                    </a:lnTo>
                    <a:lnTo>
                      <a:pt x="313" y="350"/>
                    </a:lnTo>
                    <a:lnTo>
                      <a:pt x="333" y="364"/>
                    </a:lnTo>
                    <a:lnTo>
                      <a:pt x="355" y="377"/>
                    </a:lnTo>
                    <a:lnTo>
                      <a:pt x="379" y="388"/>
                    </a:lnTo>
                    <a:lnTo>
                      <a:pt x="403" y="397"/>
                    </a:lnTo>
                    <a:lnTo>
                      <a:pt x="428" y="406"/>
                    </a:lnTo>
                    <a:lnTo>
                      <a:pt x="453" y="413"/>
                    </a:lnTo>
                    <a:lnTo>
                      <a:pt x="479" y="419"/>
                    </a:lnTo>
                    <a:lnTo>
                      <a:pt x="504" y="424"/>
                    </a:lnTo>
                    <a:lnTo>
                      <a:pt x="528" y="428"/>
                    </a:lnTo>
                    <a:lnTo>
                      <a:pt x="552" y="430"/>
                    </a:lnTo>
                    <a:lnTo>
                      <a:pt x="1901" y="540"/>
                    </a:lnTo>
                    <a:lnTo>
                      <a:pt x="1913" y="540"/>
                    </a:lnTo>
                    <a:lnTo>
                      <a:pt x="1927" y="540"/>
                    </a:lnTo>
                    <a:lnTo>
                      <a:pt x="1941" y="538"/>
                    </a:lnTo>
                    <a:lnTo>
                      <a:pt x="1956" y="535"/>
                    </a:lnTo>
                    <a:lnTo>
                      <a:pt x="1970" y="531"/>
                    </a:lnTo>
                    <a:lnTo>
                      <a:pt x="1985" y="526"/>
                    </a:lnTo>
                    <a:lnTo>
                      <a:pt x="2000" y="520"/>
                    </a:lnTo>
                    <a:lnTo>
                      <a:pt x="2013" y="513"/>
                    </a:lnTo>
                    <a:lnTo>
                      <a:pt x="2026" y="506"/>
                    </a:lnTo>
                    <a:lnTo>
                      <a:pt x="2037" y="497"/>
                    </a:lnTo>
                    <a:lnTo>
                      <a:pt x="2046" y="488"/>
                    </a:lnTo>
                    <a:lnTo>
                      <a:pt x="2055" y="479"/>
                    </a:lnTo>
                    <a:lnTo>
                      <a:pt x="2061" y="469"/>
                    </a:lnTo>
                    <a:lnTo>
                      <a:pt x="2065" y="459"/>
                    </a:lnTo>
                    <a:lnTo>
                      <a:pt x="2066" y="448"/>
                    </a:lnTo>
                    <a:lnTo>
                      <a:pt x="2065" y="436"/>
                    </a:lnTo>
                    <a:lnTo>
                      <a:pt x="2013" y="246"/>
                    </a:lnTo>
                    <a:lnTo>
                      <a:pt x="2013" y="240"/>
                    </a:lnTo>
                    <a:lnTo>
                      <a:pt x="2014" y="234"/>
                    </a:lnTo>
                    <a:lnTo>
                      <a:pt x="2018" y="229"/>
                    </a:lnTo>
                    <a:lnTo>
                      <a:pt x="2022" y="223"/>
                    </a:lnTo>
                    <a:lnTo>
                      <a:pt x="2029" y="219"/>
                    </a:lnTo>
                    <a:lnTo>
                      <a:pt x="2035" y="216"/>
                    </a:lnTo>
                    <a:lnTo>
                      <a:pt x="2041" y="214"/>
                    </a:lnTo>
                    <a:lnTo>
                      <a:pt x="2047" y="213"/>
                    </a:lnTo>
                    <a:lnTo>
                      <a:pt x="2112" y="218"/>
                    </a:lnTo>
                    <a:lnTo>
                      <a:pt x="2131" y="220"/>
                    </a:lnTo>
                    <a:lnTo>
                      <a:pt x="2150" y="223"/>
                    </a:lnTo>
                    <a:lnTo>
                      <a:pt x="2170" y="228"/>
                    </a:lnTo>
                    <a:lnTo>
                      <a:pt x="2189" y="234"/>
                    </a:lnTo>
                    <a:lnTo>
                      <a:pt x="2207" y="242"/>
                    </a:lnTo>
                    <a:lnTo>
                      <a:pt x="2222" y="254"/>
                    </a:lnTo>
                    <a:lnTo>
                      <a:pt x="2234" y="267"/>
                    </a:lnTo>
                    <a:lnTo>
                      <a:pt x="2241" y="282"/>
                    </a:lnTo>
                    <a:lnTo>
                      <a:pt x="2575" y="1471"/>
                    </a:lnTo>
                    <a:lnTo>
                      <a:pt x="2576" y="1487"/>
                    </a:lnTo>
                    <a:lnTo>
                      <a:pt x="2572" y="1503"/>
                    </a:lnTo>
                    <a:lnTo>
                      <a:pt x="2564" y="1518"/>
                    </a:lnTo>
                    <a:lnTo>
                      <a:pt x="2552" y="1533"/>
                    </a:lnTo>
                    <a:lnTo>
                      <a:pt x="2536" y="1545"/>
                    </a:lnTo>
                    <a:lnTo>
                      <a:pt x="2521" y="1556"/>
                    </a:lnTo>
                    <a:lnTo>
                      <a:pt x="2504" y="1562"/>
                    </a:lnTo>
                    <a:lnTo>
                      <a:pt x="2488" y="1564"/>
                    </a:lnTo>
                    <a:lnTo>
                      <a:pt x="452" y="1426"/>
                    </a:lnTo>
                    <a:lnTo>
                      <a:pt x="436" y="1423"/>
                    </a:lnTo>
                    <a:lnTo>
                      <a:pt x="421" y="1421"/>
                    </a:lnTo>
                    <a:lnTo>
                      <a:pt x="405" y="1417"/>
                    </a:lnTo>
                    <a:lnTo>
                      <a:pt x="389" y="1412"/>
                    </a:lnTo>
                    <a:lnTo>
                      <a:pt x="373" y="1407"/>
                    </a:lnTo>
                    <a:lnTo>
                      <a:pt x="357" y="1400"/>
                    </a:lnTo>
                    <a:lnTo>
                      <a:pt x="342" y="1392"/>
                    </a:lnTo>
                    <a:lnTo>
                      <a:pt x="328" y="1384"/>
                    </a:lnTo>
                    <a:lnTo>
                      <a:pt x="314" y="1374"/>
                    </a:lnTo>
                    <a:lnTo>
                      <a:pt x="301" y="1364"/>
                    </a:lnTo>
                    <a:lnTo>
                      <a:pt x="290" y="1352"/>
                    </a:lnTo>
                    <a:lnTo>
                      <a:pt x="279" y="1341"/>
                    </a:lnTo>
                    <a:lnTo>
                      <a:pt x="270" y="1328"/>
                    </a:lnTo>
                    <a:lnTo>
                      <a:pt x="263" y="1315"/>
                    </a:lnTo>
                    <a:lnTo>
                      <a:pt x="258" y="1302"/>
                    </a:lnTo>
                    <a:lnTo>
                      <a:pt x="253" y="1287"/>
                    </a:lnTo>
                    <a:lnTo>
                      <a:pt x="0" y="46"/>
                    </a:lnTo>
                    <a:lnTo>
                      <a:pt x="0" y="32"/>
                    </a:lnTo>
                    <a:lnTo>
                      <a:pt x="5" y="17"/>
                    </a:lnTo>
                    <a:lnTo>
                      <a:pt x="13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482240" y="4685040"/>
                <a:ext cx="168480" cy="80640"/>
              </a:xfrm>
              <a:custGeom>
                <a:avLst/>
                <a:gdLst/>
                <a:ahLst/>
                <a:rect l="l" t="t" r="r" b="b"/>
                <a:pathLst>
                  <a:path w="2422" h="1413">
                    <a:moveTo>
                      <a:pt x="24" y="0"/>
                    </a:moveTo>
                    <a:lnTo>
                      <a:pt x="77" y="0"/>
                    </a:lnTo>
                    <a:lnTo>
                      <a:pt x="87" y="21"/>
                    </a:lnTo>
                    <a:lnTo>
                      <a:pt x="94" y="47"/>
                    </a:lnTo>
                    <a:lnTo>
                      <a:pt x="101" y="76"/>
                    </a:lnTo>
                    <a:lnTo>
                      <a:pt x="106" y="102"/>
                    </a:lnTo>
                    <a:lnTo>
                      <a:pt x="124" y="184"/>
                    </a:lnTo>
                    <a:lnTo>
                      <a:pt x="130" y="205"/>
                    </a:lnTo>
                    <a:lnTo>
                      <a:pt x="142" y="225"/>
                    </a:lnTo>
                    <a:lnTo>
                      <a:pt x="156" y="245"/>
                    </a:lnTo>
                    <a:lnTo>
                      <a:pt x="175" y="263"/>
                    </a:lnTo>
                    <a:lnTo>
                      <a:pt x="197" y="280"/>
                    </a:lnTo>
                    <a:lnTo>
                      <a:pt x="221" y="296"/>
                    </a:lnTo>
                    <a:lnTo>
                      <a:pt x="247" y="311"/>
                    </a:lnTo>
                    <a:lnTo>
                      <a:pt x="274" y="324"/>
                    </a:lnTo>
                    <a:lnTo>
                      <a:pt x="303" y="336"/>
                    </a:lnTo>
                    <a:lnTo>
                      <a:pt x="332" y="347"/>
                    </a:lnTo>
                    <a:lnTo>
                      <a:pt x="362" y="356"/>
                    </a:lnTo>
                    <a:lnTo>
                      <a:pt x="392" y="364"/>
                    </a:lnTo>
                    <a:lnTo>
                      <a:pt x="421" y="372"/>
                    </a:lnTo>
                    <a:lnTo>
                      <a:pt x="449" y="377"/>
                    </a:lnTo>
                    <a:lnTo>
                      <a:pt x="476" y="381"/>
                    </a:lnTo>
                    <a:lnTo>
                      <a:pt x="500" y="384"/>
                    </a:lnTo>
                    <a:lnTo>
                      <a:pt x="1861" y="481"/>
                    </a:lnTo>
                    <a:lnTo>
                      <a:pt x="1893" y="483"/>
                    </a:lnTo>
                    <a:lnTo>
                      <a:pt x="1921" y="481"/>
                    </a:lnTo>
                    <a:lnTo>
                      <a:pt x="1946" y="477"/>
                    </a:lnTo>
                    <a:lnTo>
                      <a:pt x="1968" y="471"/>
                    </a:lnTo>
                    <a:lnTo>
                      <a:pt x="1987" y="462"/>
                    </a:lnTo>
                    <a:lnTo>
                      <a:pt x="2002" y="451"/>
                    </a:lnTo>
                    <a:lnTo>
                      <a:pt x="2015" y="439"/>
                    </a:lnTo>
                    <a:lnTo>
                      <a:pt x="2025" y="425"/>
                    </a:lnTo>
                    <a:lnTo>
                      <a:pt x="2034" y="410"/>
                    </a:lnTo>
                    <a:lnTo>
                      <a:pt x="2040" y="396"/>
                    </a:lnTo>
                    <a:lnTo>
                      <a:pt x="2044" y="380"/>
                    </a:lnTo>
                    <a:lnTo>
                      <a:pt x="2046" y="364"/>
                    </a:lnTo>
                    <a:lnTo>
                      <a:pt x="2047" y="349"/>
                    </a:lnTo>
                    <a:lnTo>
                      <a:pt x="2046" y="335"/>
                    </a:lnTo>
                    <a:lnTo>
                      <a:pt x="2045" y="322"/>
                    </a:lnTo>
                    <a:lnTo>
                      <a:pt x="2042" y="310"/>
                    </a:lnTo>
                    <a:lnTo>
                      <a:pt x="2015" y="217"/>
                    </a:lnTo>
                    <a:lnTo>
                      <a:pt x="2015" y="211"/>
                    </a:lnTo>
                    <a:lnTo>
                      <a:pt x="2016" y="206"/>
                    </a:lnTo>
                    <a:lnTo>
                      <a:pt x="2019" y="200"/>
                    </a:lnTo>
                    <a:lnTo>
                      <a:pt x="2022" y="195"/>
                    </a:lnTo>
                    <a:lnTo>
                      <a:pt x="2027" y="190"/>
                    </a:lnTo>
                    <a:lnTo>
                      <a:pt x="2033" y="187"/>
                    </a:lnTo>
                    <a:lnTo>
                      <a:pt x="2038" y="185"/>
                    </a:lnTo>
                    <a:lnTo>
                      <a:pt x="2044" y="184"/>
                    </a:lnTo>
                    <a:lnTo>
                      <a:pt x="2102" y="189"/>
                    </a:lnTo>
                    <a:lnTo>
                      <a:pt x="2118" y="191"/>
                    </a:lnTo>
                    <a:lnTo>
                      <a:pt x="2130" y="193"/>
                    </a:lnTo>
                    <a:lnTo>
                      <a:pt x="2140" y="197"/>
                    </a:lnTo>
                    <a:lnTo>
                      <a:pt x="2147" y="202"/>
                    </a:lnTo>
                    <a:lnTo>
                      <a:pt x="2152" y="209"/>
                    </a:lnTo>
                    <a:lnTo>
                      <a:pt x="2156" y="218"/>
                    </a:lnTo>
                    <a:lnTo>
                      <a:pt x="2161" y="230"/>
                    </a:lnTo>
                    <a:lnTo>
                      <a:pt x="2166" y="246"/>
                    </a:lnTo>
                    <a:lnTo>
                      <a:pt x="2418" y="1270"/>
                    </a:lnTo>
                    <a:lnTo>
                      <a:pt x="2421" y="1287"/>
                    </a:lnTo>
                    <a:lnTo>
                      <a:pt x="2422" y="1309"/>
                    </a:lnTo>
                    <a:lnTo>
                      <a:pt x="2421" y="1333"/>
                    </a:lnTo>
                    <a:lnTo>
                      <a:pt x="2418" y="1358"/>
                    </a:lnTo>
                    <a:lnTo>
                      <a:pt x="2411" y="1380"/>
                    </a:lnTo>
                    <a:lnTo>
                      <a:pt x="2403" y="1398"/>
                    </a:lnTo>
                    <a:lnTo>
                      <a:pt x="2392" y="1409"/>
                    </a:lnTo>
                    <a:lnTo>
                      <a:pt x="2377" y="1413"/>
                    </a:lnTo>
                    <a:lnTo>
                      <a:pt x="418" y="1286"/>
                    </a:lnTo>
                    <a:lnTo>
                      <a:pt x="402" y="1284"/>
                    </a:lnTo>
                    <a:lnTo>
                      <a:pt x="386" y="1281"/>
                    </a:lnTo>
                    <a:lnTo>
                      <a:pt x="371" y="1277"/>
                    </a:lnTo>
                    <a:lnTo>
                      <a:pt x="355" y="1272"/>
                    </a:lnTo>
                    <a:lnTo>
                      <a:pt x="340" y="1265"/>
                    </a:lnTo>
                    <a:lnTo>
                      <a:pt x="325" y="1257"/>
                    </a:lnTo>
                    <a:lnTo>
                      <a:pt x="310" y="1249"/>
                    </a:lnTo>
                    <a:lnTo>
                      <a:pt x="296" y="1239"/>
                    </a:lnTo>
                    <a:lnTo>
                      <a:pt x="283" y="1228"/>
                    </a:lnTo>
                    <a:lnTo>
                      <a:pt x="271" y="1217"/>
                    </a:lnTo>
                    <a:lnTo>
                      <a:pt x="259" y="1205"/>
                    </a:lnTo>
                    <a:lnTo>
                      <a:pt x="249" y="1193"/>
                    </a:lnTo>
                    <a:lnTo>
                      <a:pt x="241" y="1180"/>
                    </a:lnTo>
                    <a:lnTo>
                      <a:pt x="233" y="1166"/>
                    </a:lnTo>
                    <a:lnTo>
                      <a:pt x="228" y="1152"/>
                    </a:lnTo>
                    <a:lnTo>
                      <a:pt x="224" y="1138"/>
                    </a:lnTo>
                    <a:lnTo>
                      <a:pt x="0" y="45"/>
                    </a:lnTo>
                    <a:lnTo>
                      <a:pt x="0" y="31"/>
                    </a:lnTo>
                    <a:lnTo>
                      <a:pt x="4" y="16"/>
                    </a:lnTo>
                    <a:lnTo>
                      <a:pt x="13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486560" y="4475520"/>
                <a:ext cx="156960" cy="172440"/>
              </a:xfrm>
              <a:custGeom>
                <a:avLst/>
                <a:gdLst/>
                <a:ahLst/>
                <a:rect l="l" t="t" r="r" b="b"/>
                <a:pathLst>
                  <a:path w="2283" h="2991">
                    <a:moveTo>
                      <a:pt x="208" y="0"/>
                    </a:moveTo>
                    <a:lnTo>
                      <a:pt x="0" y="2553"/>
                    </a:lnTo>
                    <a:lnTo>
                      <a:pt x="0" y="2574"/>
                    </a:lnTo>
                    <a:lnTo>
                      <a:pt x="2" y="2594"/>
                    </a:lnTo>
                    <a:lnTo>
                      <a:pt x="6" y="2614"/>
                    </a:lnTo>
                    <a:lnTo>
                      <a:pt x="14" y="2635"/>
                    </a:lnTo>
                    <a:lnTo>
                      <a:pt x="22" y="2655"/>
                    </a:lnTo>
                    <a:lnTo>
                      <a:pt x="32" y="2674"/>
                    </a:lnTo>
                    <a:lnTo>
                      <a:pt x="45" y="2694"/>
                    </a:lnTo>
                    <a:lnTo>
                      <a:pt x="58" y="2712"/>
                    </a:lnTo>
                    <a:lnTo>
                      <a:pt x="73" y="2729"/>
                    </a:lnTo>
                    <a:lnTo>
                      <a:pt x="89" y="2744"/>
                    </a:lnTo>
                    <a:lnTo>
                      <a:pt x="106" y="2760"/>
                    </a:lnTo>
                    <a:lnTo>
                      <a:pt x="124" y="2772"/>
                    </a:lnTo>
                    <a:lnTo>
                      <a:pt x="143" y="2782"/>
                    </a:lnTo>
                    <a:lnTo>
                      <a:pt x="161" y="2791"/>
                    </a:lnTo>
                    <a:lnTo>
                      <a:pt x="181" y="2797"/>
                    </a:lnTo>
                    <a:lnTo>
                      <a:pt x="201" y="2800"/>
                    </a:lnTo>
                    <a:lnTo>
                      <a:pt x="1845" y="2990"/>
                    </a:lnTo>
                    <a:lnTo>
                      <a:pt x="1864" y="2991"/>
                    </a:lnTo>
                    <a:lnTo>
                      <a:pt x="1883" y="2988"/>
                    </a:lnTo>
                    <a:lnTo>
                      <a:pt x="1901" y="2984"/>
                    </a:lnTo>
                    <a:lnTo>
                      <a:pt x="1919" y="2977"/>
                    </a:lnTo>
                    <a:lnTo>
                      <a:pt x="1938" y="2968"/>
                    </a:lnTo>
                    <a:lnTo>
                      <a:pt x="1954" y="2957"/>
                    </a:lnTo>
                    <a:lnTo>
                      <a:pt x="1971" y="2944"/>
                    </a:lnTo>
                    <a:lnTo>
                      <a:pt x="1988" y="2929"/>
                    </a:lnTo>
                    <a:lnTo>
                      <a:pt x="2002" y="2913"/>
                    </a:lnTo>
                    <a:lnTo>
                      <a:pt x="2015" y="2897"/>
                    </a:lnTo>
                    <a:lnTo>
                      <a:pt x="2027" y="2879"/>
                    </a:lnTo>
                    <a:lnTo>
                      <a:pt x="2038" y="2860"/>
                    </a:lnTo>
                    <a:lnTo>
                      <a:pt x="2046" y="2842"/>
                    </a:lnTo>
                    <a:lnTo>
                      <a:pt x="2053" y="2824"/>
                    </a:lnTo>
                    <a:lnTo>
                      <a:pt x="2059" y="2804"/>
                    </a:lnTo>
                    <a:lnTo>
                      <a:pt x="2061" y="2786"/>
                    </a:lnTo>
                    <a:lnTo>
                      <a:pt x="2283" y="256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485480" y="4475520"/>
                <a:ext cx="15840" cy="147240"/>
              </a:xfrm>
              <a:custGeom>
                <a:avLst/>
                <a:gdLst/>
                <a:ahLst/>
                <a:rect l="l" t="t" r="r" b="b"/>
                <a:pathLst>
                  <a:path w="225" h="2555">
                    <a:moveTo>
                      <a:pt x="16" y="2554"/>
                    </a:moveTo>
                    <a:lnTo>
                      <a:pt x="16" y="2555"/>
                    </a:lnTo>
                    <a:lnTo>
                      <a:pt x="225" y="2"/>
                    </a:lnTo>
                    <a:lnTo>
                      <a:pt x="208" y="0"/>
                    </a:lnTo>
                    <a:lnTo>
                      <a:pt x="0" y="2553"/>
                    </a:lnTo>
                    <a:lnTo>
                      <a:pt x="0" y="2554"/>
                    </a:lnTo>
                    <a:lnTo>
                      <a:pt x="0" y="2553"/>
                    </a:lnTo>
                    <a:lnTo>
                      <a:pt x="0" y="2554"/>
                    </a:lnTo>
                    <a:lnTo>
                      <a:pt x="0" y="2554"/>
                    </a:lnTo>
                    <a:lnTo>
                      <a:pt x="16" y="25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485480" y="46227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16" y="20"/>
                    </a:moveTo>
                    <a:lnTo>
                      <a:pt x="16" y="21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485480" y="46242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19"/>
                    </a:moveTo>
                    <a:lnTo>
                      <a:pt x="19" y="20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485480" y="4625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21" y="19"/>
                    </a:moveTo>
                    <a:lnTo>
                      <a:pt x="21" y="20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486560" y="4626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23" y="21"/>
                    </a:moveTo>
                    <a:lnTo>
                      <a:pt x="24" y="21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486560" y="4628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23" y="19"/>
                    </a:moveTo>
                    <a:lnTo>
                      <a:pt x="23" y="20"/>
                    </a:lnTo>
                    <a:lnTo>
                      <a:pt x="15" y="0"/>
                    </a:lnTo>
                    <a:lnTo>
                      <a:pt x="0" y="6"/>
                    </a:lnTo>
                    <a:lnTo>
                      <a:pt x="9" y="26"/>
                    </a:lnTo>
                    <a:lnTo>
                      <a:pt x="9" y="27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7"/>
                    </a:lnTo>
                    <a:lnTo>
                      <a:pt x="2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486560" y="46296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19"/>
                    </a:moveTo>
                    <a:lnTo>
                      <a:pt x="25" y="19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2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488360" y="4629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26" y="18"/>
                    </a:moveTo>
                    <a:lnTo>
                      <a:pt x="27" y="19"/>
                    </a:lnTo>
                    <a:lnTo>
                      <a:pt x="15" y="0"/>
                    </a:lnTo>
                    <a:lnTo>
                      <a:pt x="0" y="8"/>
                    </a:lnTo>
                    <a:lnTo>
                      <a:pt x="13" y="28"/>
                    </a:lnTo>
                    <a:lnTo>
                      <a:pt x="14" y="29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4" y="29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7469280" y="4328640"/>
              <a:ext cx="180360" cy="434160"/>
              <a:chOff x="7469280" y="4328640"/>
              <a:chExt cx="180360" cy="434160"/>
            </a:xfrm>
          </p:grpSpPr>
          <p:sp>
            <p:nvSpPr>
              <p:cNvPr id="1136" name=""/>
              <p:cNvSpPr/>
              <p:nvPr/>
            </p:nvSpPr>
            <p:spPr>
              <a:xfrm>
                <a:off x="7489440" y="46306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6" y="19"/>
                    </a:moveTo>
                    <a:lnTo>
                      <a:pt x="26" y="19"/>
                    </a:lnTo>
                    <a:lnTo>
                      <a:pt x="12" y="0"/>
                    </a:lnTo>
                    <a:lnTo>
                      <a:pt x="0" y="11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489440" y="46321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7" y="16"/>
                    </a:moveTo>
                    <a:lnTo>
                      <a:pt x="27" y="17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490880" y="4633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7" y="15"/>
                    </a:moveTo>
                    <a:lnTo>
                      <a:pt x="28" y="15"/>
                    </a:lnTo>
                    <a:lnTo>
                      <a:pt x="12" y="0"/>
                    </a:lnTo>
                    <a:lnTo>
                      <a:pt x="0" y="12"/>
                    </a:lnTo>
                    <a:lnTo>
                      <a:pt x="15" y="27"/>
                    </a:lnTo>
                    <a:lnTo>
                      <a:pt x="16" y="27"/>
                    </a:lnTo>
                    <a:lnTo>
                      <a:pt x="15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492680" y="4633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9" y="14"/>
                    </a:moveTo>
                    <a:lnTo>
                      <a:pt x="29" y="16"/>
                    </a:lnTo>
                    <a:lnTo>
                      <a:pt x="11" y="0"/>
                    </a:lnTo>
                    <a:lnTo>
                      <a:pt x="0" y="12"/>
                    </a:lnTo>
                    <a:lnTo>
                      <a:pt x="18" y="28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9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493760" y="46346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7" y="13"/>
                    </a:moveTo>
                    <a:lnTo>
                      <a:pt x="28" y="13"/>
                    </a:lnTo>
                    <a:lnTo>
                      <a:pt x="11" y="0"/>
                    </a:lnTo>
                    <a:lnTo>
                      <a:pt x="0" y="15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493760" y="46360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27" y="10"/>
                    </a:moveTo>
                    <a:lnTo>
                      <a:pt x="27" y="10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2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495560" y="46360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25" y="8"/>
                    </a:moveTo>
                    <a:lnTo>
                      <a:pt x="27" y="9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18" y="23"/>
                    </a:lnTo>
                    <a:lnTo>
                      <a:pt x="20" y="24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20" y="24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497000" y="46360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3" y="6"/>
                    </a:moveTo>
                    <a:lnTo>
                      <a:pt x="24" y="6"/>
                    </a:lnTo>
                    <a:lnTo>
                      <a:pt x="5" y="0"/>
                    </a:lnTo>
                    <a:lnTo>
                      <a:pt x="0" y="16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498080" y="4637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22" y="3"/>
                    </a:moveTo>
                    <a:lnTo>
                      <a:pt x="22" y="3"/>
                    </a:lnTo>
                    <a:lnTo>
                      <a:pt x="2" y="0"/>
                    </a:lnTo>
                    <a:lnTo>
                      <a:pt x="0" y="16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499880" y="4637160"/>
                <a:ext cx="114840" cy="11880"/>
              </a:xfrm>
              <a:custGeom>
                <a:avLst/>
                <a:gdLst/>
                <a:ahLst/>
                <a:rect l="l" t="t" r="r" b="b"/>
                <a:pathLst>
                  <a:path w="1646" h="206">
                    <a:moveTo>
                      <a:pt x="1645" y="190"/>
                    </a:moveTo>
                    <a:lnTo>
                      <a:pt x="1646" y="190"/>
                    </a:lnTo>
                    <a:lnTo>
                      <a:pt x="2" y="0"/>
                    </a:lnTo>
                    <a:lnTo>
                      <a:pt x="0" y="16"/>
                    </a:lnTo>
                    <a:lnTo>
                      <a:pt x="1644" y="206"/>
                    </a:lnTo>
                    <a:lnTo>
                      <a:pt x="1645" y="206"/>
                    </a:lnTo>
                    <a:lnTo>
                      <a:pt x="1644" y="206"/>
                    </a:lnTo>
                    <a:lnTo>
                      <a:pt x="1644" y="206"/>
                    </a:lnTo>
                    <a:lnTo>
                      <a:pt x="1645" y="206"/>
                    </a:lnTo>
                    <a:lnTo>
                      <a:pt x="1645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614720" y="4647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8" y="1"/>
                    </a:moveTo>
                    <a:lnTo>
                      <a:pt x="19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614720" y="4647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8" y="0"/>
                    </a:moveTo>
                    <a:lnTo>
                      <a:pt x="19" y="0"/>
                    </a:lnTo>
                    <a:lnTo>
                      <a:pt x="0" y="3"/>
                    </a:lnTo>
                    <a:lnTo>
                      <a:pt x="2" y="19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616520" y="4647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17" y="1"/>
                    </a:moveTo>
                    <a:lnTo>
                      <a:pt x="18" y="0"/>
                    </a:lnTo>
                    <a:lnTo>
                      <a:pt x="0" y="4"/>
                    </a:lnTo>
                    <a:lnTo>
                      <a:pt x="4" y="20"/>
                    </a:lnTo>
                    <a:lnTo>
                      <a:pt x="22" y="16"/>
                    </a:lnTo>
                    <a:lnTo>
                      <a:pt x="24" y="15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4" y="15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617960" y="4647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17" y="0"/>
                    </a:moveTo>
                    <a:lnTo>
                      <a:pt x="18" y="0"/>
                    </a:lnTo>
                    <a:lnTo>
                      <a:pt x="0" y="7"/>
                    </a:lnTo>
                    <a:lnTo>
                      <a:pt x="7" y="21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619040" y="4646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18" y="0"/>
                    </a:moveTo>
                    <a:lnTo>
                      <a:pt x="19" y="0"/>
                    </a:lnTo>
                    <a:lnTo>
                      <a:pt x="0" y="9"/>
                    </a:lnTo>
                    <a:lnTo>
                      <a:pt x="8" y="23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620840" y="46465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6" y="1"/>
                    </a:moveTo>
                    <a:lnTo>
                      <a:pt x="16" y="0"/>
                    </a:lnTo>
                    <a:lnTo>
                      <a:pt x="0" y="11"/>
                    </a:lnTo>
                    <a:lnTo>
                      <a:pt x="10" y="25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621920" y="4645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7" y="0"/>
                    </a:moveTo>
                    <a:lnTo>
                      <a:pt x="17" y="0"/>
                    </a:lnTo>
                    <a:lnTo>
                      <a:pt x="0" y="14"/>
                    </a:lnTo>
                    <a:lnTo>
                      <a:pt x="11" y="2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621920" y="46436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6" y="1"/>
                    </a:moveTo>
                    <a:lnTo>
                      <a:pt x="17" y="0"/>
                    </a:lnTo>
                    <a:lnTo>
                      <a:pt x="0" y="14"/>
                    </a:lnTo>
                    <a:lnTo>
                      <a:pt x="10" y="27"/>
                    </a:lnTo>
                    <a:lnTo>
                      <a:pt x="27" y="12"/>
                    </a:lnTo>
                    <a:lnTo>
                      <a:pt x="28" y="11"/>
                    </a:lnTo>
                    <a:lnTo>
                      <a:pt x="27" y="12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623720" y="46436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4" y="0"/>
                    </a:moveTo>
                    <a:lnTo>
                      <a:pt x="14" y="0"/>
                    </a:lnTo>
                    <a:lnTo>
                      <a:pt x="0" y="16"/>
                    </a:lnTo>
                    <a:lnTo>
                      <a:pt x="12" y="26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625160" y="4642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2" y="1"/>
                    </a:moveTo>
                    <a:lnTo>
                      <a:pt x="13" y="0"/>
                    </a:lnTo>
                    <a:lnTo>
                      <a:pt x="0" y="16"/>
                    </a:lnTo>
                    <a:lnTo>
                      <a:pt x="13" y="26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5" y="10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625160" y="46414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2" y="0"/>
                    </a:moveTo>
                    <a:lnTo>
                      <a:pt x="12" y="0"/>
                    </a:lnTo>
                    <a:lnTo>
                      <a:pt x="0" y="19"/>
                    </a:lnTo>
                    <a:lnTo>
                      <a:pt x="14" y="27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626600" y="4641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10" y="1"/>
                    </a:moveTo>
                    <a:lnTo>
                      <a:pt x="10" y="0"/>
                    </a:lnTo>
                    <a:lnTo>
                      <a:pt x="0" y="18"/>
                    </a:lnTo>
                    <a:lnTo>
                      <a:pt x="15" y="27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626600" y="46396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9" y="0"/>
                    </a:moveTo>
                    <a:lnTo>
                      <a:pt x="9" y="0"/>
                    </a:lnTo>
                    <a:lnTo>
                      <a:pt x="0" y="18"/>
                    </a:lnTo>
                    <a:lnTo>
                      <a:pt x="15" y="24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28040" y="463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6" y="1"/>
                    </a:moveTo>
                    <a:lnTo>
                      <a:pt x="7" y="0"/>
                    </a:lnTo>
                    <a:lnTo>
                      <a:pt x="0" y="18"/>
                    </a:lnTo>
                    <a:lnTo>
                      <a:pt x="14" y="24"/>
                    </a:lnTo>
                    <a:lnTo>
                      <a:pt x="22" y="6"/>
                    </a:lnTo>
                    <a:lnTo>
                      <a:pt x="23" y="5"/>
                    </a:lnTo>
                    <a:lnTo>
                      <a:pt x="22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28040" y="4637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5" y="1"/>
                    </a:moveTo>
                    <a:lnTo>
                      <a:pt x="5" y="0"/>
                    </a:lnTo>
                    <a:lnTo>
                      <a:pt x="0" y="20"/>
                    </a:lnTo>
                    <a:lnTo>
                      <a:pt x="17" y="24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628040" y="46360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2" y="0"/>
                    </a:moveTo>
                    <a:lnTo>
                      <a:pt x="2" y="0"/>
                    </a:lnTo>
                    <a:lnTo>
                      <a:pt x="0" y="18"/>
                    </a:lnTo>
                    <a:lnTo>
                      <a:pt x="17" y="20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628040" y="4490280"/>
                <a:ext cx="17280" cy="146880"/>
              </a:xfrm>
              <a:custGeom>
                <a:avLst/>
                <a:gdLst/>
                <a:ahLst/>
                <a:rect l="l" t="t" r="r" b="b"/>
                <a:pathLst>
                  <a:path w="241" h="2539">
                    <a:moveTo>
                      <a:pt x="230" y="16"/>
                    </a:moveTo>
                    <a:lnTo>
                      <a:pt x="223" y="7"/>
                    </a:lnTo>
                    <a:lnTo>
                      <a:pt x="0" y="2537"/>
                    </a:lnTo>
                    <a:lnTo>
                      <a:pt x="17" y="2539"/>
                    </a:lnTo>
                    <a:lnTo>
                      <a:pt x="240" y="9"/>
                    </a:lnTo>
                    <a:lnTo>
                      <a:pt x="232" y="0"/>
                    </a:lnTo>
                    <a:lnTo>
                      <a:pt x="240" y="9"/>
                    </a:lnTo>
                    <a:lnTo>
                      <a:pt x="241" y="1"/>
                    </a:lnTo>
                    <a:lnTo>
                      <a:pt x="232" y="0"/>
                    </a:lnTo>
                    <a:lnTo>
                      <a:pt x="23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499880" y="4475520"/>
                <a:ext cx="144000" cy="15840"/>
              </a:xfrm>
              <a:custGeom>
                <a:avLst/>
                <a:gdLst/>
                <a:ahLst/>
                <a:rect l="l" t="t" r="r" b="b"/>
                <a:pathLst>
                  <a:path w="2084" h="273">
                    <a:moveTo>
                      <a:pt x="17" y="10"/>
                    </a:moveTo>
                    <a:lnTo>
                      <a:pt x="7" y="17"/>
                    </a:lnTo>
                    <a:lnTo>
                      <a:pt x="2082" y="273"/>
                    </a:lnTo>
                    <a:lnTo>
                      <a:pt x="2084" y="257"/>
                    </a:lnTo>
                    <a:lnTo>
                      <a:pt x="9" y="1"/>
                    </a:lnTo>
                    <a:lnTo>
                      <a:pt x="0" y="8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0" y="8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499880" y="4426560"/>
                <a:ext cx="149760" cy="74160"/>
              </a:xfrm>
              <a:custGeom>
                <a:avLst/>
                <a:gdLst/>
                <a:ahLst/>
                <a:rect l="l" t="t" r="r" b="b"/>
                <a:pathLst>
                  <a:path w="2173" h="1286">
                    <a:moveTo>
                      <a:pt x="281" y="1"/>
                    </a:moveTo>
                    <a:lnTo>
                      <a:pt x="1996" y="215"/>
                    </a:lnTo>
                    <a:lnTo>
                      <a:pt x="2016" y="219"/>
                    </a:lnTo>
                    <a:lnTo>
                      <a:pt x="2035" y="225"/>
                    </a:lnTo>
                    <a:lnTo>
                      <a:pt x="2053" y="232"/>
                    </a:lnTo>
                    <a:lnTo>
                      <a:pt x="2070" y="241"/>
                    </a:lnTo>
                    <a:lnTo>
                      <a:pt x="2086" y="251"/>
                    </a:lnTo>
                    <a:lnTo>
                      <a:pt x="2102" y="263"/>
                    </a:lnTo>
                    <a:lnTo>
                      <a:pt x="2115" y="276"/>
                    </a:lnTo>
                    <a:lnTo>
                      <a:pt x="2128" y="291"/>
                    </a:lnTo>
                    <a:lnTo>
                      <a:pt x="2139" y="306"/>
                    </a:lnTo>
                    <a:lnTo>
                      <a:pt x="2148" y="322"/>
                    </a:lnTo>
                    <a:lnTo>
                      <a:pt x="2157" y="339"/>
                    </a:lnTo>
                    <a:lnTo>
                      <a:pt x="2164" y="358"/>
                    </a:lnTo>
                    <a:lnTo>
                      <a:pt x="2168" y="377"/>
                    </a:lnTo>
                    <a:lnTo>
                      <a:pt x="2172" y="395"/>
                    </a:lnTo>
                    <a:lnTo>
                      <a:pt x="2173" y="416"/>
                    </a:lnTo>
                    <a:lnTo>
                      <a:pt x="2172" y="435"/>
                    </a:lnTo>
                    <a:lnTo>
                      <a:pt x="2114" y="1115"/>
                    </a:lnTo>
                    <a:lnTo>
                      <a:pt x="2111" y="1134"/>
                    </a:lnTo>
                    <a:lnTo>
                      <a:pt x="2107" y="1154"/>
                    </a:lnTo>
                    <a:lnTo>
                      <a:pt x="2099" y="1171"/>
                    </a:lnTo>
                    <a:lnTo>
                      <a:pt x="2091" y="1188"/>
                    </a:lnTo>
                    <a:lnTo>
                      <a:pt x="2081" y="1205"/>
                    </a:lnTo>
                    <a:lnTo>
                      <a:pt x="2068" y="1219"/>
                    </a:lnTo>
                    <a:lnTo>
                      <a:pt x="2055" y="1232"/>
                    </a:lnTo>
                    <a:lnTo>
                      <a:pt x="2040" y="1244"/>
                    </a:lnTo>
                    <a:lnTo>
                      <a:pt x="2025" y="1255"/>
                    </a:lnTo>
                    <a:lnTo>
                      <a:pt x="2008" y="1264"/>
                    </a:lnTo>
                    <a:lnTo>
                      <a:pt x="1990" y="1273"/>
                    </a:lnTo>
                    <a:lnTo>
                      <a:pt x="1971" y="1279"/>
                    </a:lnTo>
                    <a:lnTo>
                      <a:pt x="1953" y="1283"/>
                    </a:lnTo>
                    <a:lnTo>
                      <a:pt x="1933" y="1286"/>
                    </a:lnTo>
                    <a:lnTo>
                      <a:pt x="1913" y="1286"/>
                    </a:lnTo>
                    <a:lnTo>
                      <a:pt x="1893" y="1285"/>
                    </a:lnTo>
                    <a:lnTo>
                      <a:pt x="178" y="1070"/>
                    </a:lnTo>
                    <a:lnTo>
                      <a:pt x="159" y="1066"/>
                    </a:lnTo>
                    <a:lnTo>
                      <a:pt x="140" y="1061"/>
                    </a:lnTo>
                    <a:lnTo>
                      <a:pt x="122" y="1054"/>
                    </a:lnTo>
                    <a:lnTo>
                      <a:pt x="105" y="1045"/>
                    </a:lnTo>
                    <a:lnTo>
                      <a:pt x="89" y="1035"/>
                    </a:lnTo>
                    <a:lnTo>
                      <a:pt x="73" y="1023"/>
                    </a:lnTo>
                    <a:lnTo>
                      <a:pt x="60" y="1009"/>
                    </a:lnTo>
                    <a:lnTo>
                      <a:pt x="47" y="995"/>
                    </a:lnTo>
                    <a:lnTo>
                      <a:pt x="36" y="979"/>
                    </a:lnTo>
                    <a:lnTo>
                      <a:pt x="25" y="963"/>
                    </a:lnTo>
                    <a:lnTo>
                      <a:pt x="17" y="945"/>
                    </a:lnTo>
                    <a:lnTo>
                      <a:pt x="11" y="927"/>
                    </a:lnTo>
                    <a:lnTo>
                      <a:pt x="6" y="909"/>
                    </a:lnTo>
                    <a:lnTo>
                      <a:pt x="3" y="889"/>
                    </a:lnTo>
                    <a:lnTo>
                      <a:pt x="0" y="870"/>
                    </a:lnTo>
                    <a:lnTo>
                      <a:pt x="2" y="850"/>
                    </a:lnTo>
                    <a:lnTo>
                      <a:pt x="60" y="170"/>
                    </a:lnTo>
                    <a:lnTo>
                      <a:pt x="63" y="150"/>
                    </a:lnTo>
                    <a:lnTo>
                      <a:pt x="67" y="131"/>
                    </a:lnTo>
                    <a:lnTo>
                      <a:pt x="74" y="114"/>
                    </a:lnTo>
                    <a:lnTo>
                      <a:pt x="83" y="97"/>
                    </a:lnTo>
                    <a:lnTo>
                      <a:pt x="93" y="81"/>
                    </a:lnTo>
                    <a:lnTo>
                      <a:pt x="106" y="66"/>
                    </a:lnTo>
                    <a:lnTo>
                      <a:pt x="119" y="53"/>
                    </a:lnTo>
                    <a:lnTo>
                      <a:pt x="134" y="41"/>
                    </a:lnTo>
                    <a:lnTo>
                      <a:pt x="150" y="30"/>
                    </a:lnTo>
                    <a:lnTo>
                      <a:pt x="167" y="20"/>
                    </a:lnTo>
                    <a:lnTo>
                      <a:pt x="185" y="13"/>
                    </a:lnTo>
                    <a:lnTo>
                      <a:pt x="203" y="7"/>
                    </a:lnTo>
                    <a:lnTo>
                      <a:pt x="222" y="3"/>
                    </a:lnTo>
                    <a:lnTo>
                      <a:pt x="242" y="0"/>
                    </a:lnTo>
                    <a:lnTo>
                      <a:pt x="262" y="0"/>
                    </a:lnTo>
                    <a:lnTo>
                      <a:pt x="28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502760" y="4428000"/>
                <a:ext cx="144000" cy="69840"/>
              </a:xfrm>
              <a:custGeom>
                <a:avLst/>
                <a:gdLst/>
                <a:ahLst/>
                <a:rect l="l" t="t" r="r" b="b"/>
                <a:pathLst>
                  <a:path w="2082" h="1221">
                    <a:moveTo>
                      <a:pt x="258" y="1"/>
                    </a:moveTo>
                    <a:lnTo>
                      <a:pt x="1930" y="211"/>
                    </a:lnTo>
                    <a:lnTo>
                      <a:pt x="1966" y="219"/>
                    </a:lnTo>
                    <a:lnTo>
                      <a:pt x="1997" y="235"/>
                    </a:lnTo>
                    <a:lnTo>
                      <a:pt x="2025" y="257"/>
                    </a:lnTo>
                    <a:lnTo>
                      <a:pt x="2047" y="284"/>
                    </a:lnTo>
                    <a:lnTo>
                      <a:pt x="2065" y="315"/>
                    </a:lnTo>
                    <a:lnTo>
                      <a:pt x="2076" y="351"/>
                    </a:lnTo>
                    <a:lnTo>
                      <a:pt x="2082" y="388"/>
                    </a:lnTo>
                    <a:lnTo>
                      <a:pt x="2082" y="425"/>
                    </a:lnTo>
                    <a:lnTo>
                      <a:pt x="2022" y="1048"/>
                    </a:lnTo>
                    <a:lnTo>
                      <a:pt x="2019" y="1067"/>
                    </a:lnTo>
                    <a:lnTo>
                      <a:pt x="2015" y="1085"/>
                    </a:lnTo>
                    <a:lnTo>
                      <a:pt x="2009" y="1102"/>
                    </a:lnTo>
                    <a:lnTo>
                      <a:pt x="2000" y="1119"/>
                    </a:lnTo>
                    <a:lnTo>
                      <a:pt x="1990" y="1135"/>
                    </a:lnTo>
                    <a:lnTo>
                      <a:pt x="1979" y="1150"/>
                    </a:lnTo>
                    <a:lnTo>
                      <a:pt x="1967" y="1163"/>
                    </a:lnTo>
                    <a:lnTo>
                      <a:pt x="1953" y="1176"/>
                    </a:lnTo>
                    <a:lnTo>
                      <a:pt x="1938" y="1187"/>
                    </a:lnTo>
                    <a:lnTo>
                      <a:pt x="1922" y="1197"/>
                    </a:lnTo>
                    <a:lnTo>
                      <a:pt x="1907" y="1206"/>
                    </a:lnTo>
                    <a:lnTo>
                      <a:pt x="1889" y="1212"/>
                    </a:lnTo>
                    <a:lnTo>
                      <a:pt x="1871" y="1217"/>
                    </a:lnTo>
                    <a:lnTo>
                      <a:pt x="1854" y="1220"/>
                    </a:lnTo>
                    <a:lnTo>
                      <a:pt x="1835" y="1221"/>
                    </a:lnTo>
                    <a:lnTo>
                      <a:pt x="1816" y="1220"/>
                    </a:lnTo>
                    <a:lnTo>
                      <a:pt x="183" y="1025"/>
                    </a:lnTo>
                    <a:lnTo>
                      <a:pt x="165" y="1022"/>
                    </a:lnTo>
                    <a:lnTo>
                      <a:pt x="146" y="1017"/>
                    </a:lnTo>
                    <a:lnTo>
                      <a:pt x="128" y="1011"/>
                    </a:lnTo>
                    <a:lnTo>
                      <a:pt x="110" y="1004"/>
                    </a:lnTo>
                    <a:lnTo>
                      <a:pt x="95" y="994"/>
                    </a:lnTo>
                    <a:lnTo>
                      <a:pt x="79" y="984"/>
                    </a:lnTo>
                    <a:lnTo>
                      <a:pt x="65" y="973"/>
                    </a:lnTo>
                    <a:lnTo>
                      <a:pt x="51" y="960"/>
                    </a:lnTo>
                    <a:lnTo>
                      <a:pt x="39" y="947"/>
                    </a:lnTo>
                    <a:lnTo>
                      <a:pt x="28" y="932"/>
                    </a:lnTo>
                    <a:lnTo>
                      <a:pt x="19" y="916"/>
                    </a:lnTo>
                    <a:lnTo>
                      <a:pt x="12" y="900"/>
                    </a:lnTo>
                    <a:lnTo>
                      <a:pt x="5" y="883"/>
                    </a:lnTo>
                    <a:lnTo>
                      <a:pt x="2" y="865"/>
                    </a:lnTo>
                    <a:lnTo>
                      <a:pt x="0" y="847"/>
                    </a:lnTo>
                    <a:lnTo>
                      <a:pt x="1" y="828"/>
                    </a:lnTo>
                    <a:lnTo>
                      <a:pt x="62" y="159"/>
                    </a:lnTo>
                    <a:lnTo>
                      <a:pt x="65" y="139"/>
                    </a:lnTo>
                    <a:lnTo>
                      <a:pt x="69" y="122"/>
                    </a:lnTo>
                    <a:lnTo>
                      <a:pt x="74" y="105"/>
                    </a:lnTo>
                    <a:lnTo>
                      <a:pt x="82" y="89"/>
                    </a:lnTo>
                    <a:lnTo>
                      <a:pt x="91" y="74"/>
                    </a:lnTo>
                    <a:lnTo>
                      <a:pt x="101" y="60"/>
                    </a:lnTo>
                    <a:lnTo>
                      <a:pt x="113" y="48"/>
                    </a:lnTo>
                    <a:lnTo>
                      <a:pt x="125" y="37"/>
                    </a:lnTo>
                    <a:lnTo>
                      <a:pt x="139" y="27"/>
                    </a:lnTo>
                    <a:lnTo>
                      <a:pt x="154" y="19"/>
                    </a:lnTo>
                    <a:lnTo>
                      <a:pt x="170" y="11"/>
                    </a:lnTo>
                    <a:lnTo>
                      <a:pt x="185" y="6"/>
                    </a:lnTo>
                    <a:lnTo>
                      <a:pt x="203" y="2"/>
                    </a:lnTo>
                    <a:lnTo>
                      <a:pt x="221" y="0"/>
                    </a:lnTo>
                    <a:lnTo>
                      <a:pt x="240" y="0"/>
                    </a:lnTo>
                    <a:lnTo>
                      <a:pt x="258" y="1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501320" y="4429080"/>
                <a:ext cx="145440" cy="70200"/>
              </a:xfrm>
              <a:custGeom>
                <a:avLst/>
                <a:gdLst/>
                <a:ahLst/>
                <a:rect l="l" t="t" r="r" b="b"/>
                <a:pathLst>
                  <a:path w="2105" h="1234">
                    <a:moveTo>
                      <a:pt x="263" y="1"/>
                    </a:moveTo>
                    <a:lnTo>
                      <a:pt x="1933" y="210"/>
                    </a:lnTo>
                    <a:lnTo>
                      <a:pt x="1952" y="213"/>
                    </a:lnTo>
                    <a:lnTo>
                      <a:pt x="1971" y="218"/>
                    </a:lnTo>
                    <a:lnTo>
                      <a:pt x="1987" y="225"/>
                    </a:lnTo>
                    <a:lnTo>
                      <a:pt x="2004" y="234"/>
                    </a:lnTo>
                    <a:lnTo>
                      <a:pt x="2020" y="245"/>
                    </a:lnTo>
                    <a:lnTo>
                      <a:pt x="2034" y="256"/>
                    </a:lnTo>
                    <a:lnTo>
                      <a:pt x="2048" y="269"/>
                    </a:lnTo>
                    <a:lnTo>
                      <a:pt x="2060" y="283"/>
                    </a:lnTo>
                    <a:lnTo>
                      <a:pt x="2071" y="298"/>
                    </a:lnTo>
                    <a:lnTo>
                      <a:pt x="2081" y="314"/>
                    </a:lnTo>
                    <a:lnTo>
                      <a:pt x="2089" y="331"/>
                    </a:lnTo>
                    <a:lnTo>
                      <a:pt x="2095" y="348"/>
                    </a:lnTo>
                    <a:lnTo>
                      <a:pt x="2101" y="366"/>
                    </a:lnTo>
                    <a:lnTo>
                      <a:pt x="2104" y="385"/>
                    </a:lnTo>
                    <a:lnTo>
                      <a:pt x="2105" y="404"/>
                    </a:lnTo>
                    <a:lnTo>
                      <a:pt x="2105" y="423"/>
                    </a:lnTo>
                    <a:lnTo>
                      <a:pt x="2057" y="1067"/>
                    </a:lnTo>
                    <a:lnTo>
                      <a:pt x="2055" y="1086"/>
                    </a:lnTo>
                    <a:lnTo>
                      <a:pt x="2050" y="1104"/>
                    </a:lnTo>
                    <a:lnTo>
                      <a:pt x="2043" y="1122"/>
                    </a:lnTo>
                    <a:lnTo>
                      <a:pt x="2035" y="1138"/>
                    </a:lnTo>
                    <a:lnTo>
                      <a:pt x="2025" y="1153"/>
                    </a:lnTo>
                    <a:lnTo>
                      <a:pt x="2012" y="1168"/>
                    </a:lnTo>
                    <a:lnTo>
                      <a:pt x="2000" y="1182"/>
                    </a:lnTo>
                    <a:lnTo>
                      <a:pt x="1985" y="1193"/>
                    </a:lnTo>
                    <a:lnTo>
                      <a:pt x="1970" y="1204"/>
                    </a:lnTo>
                    <a:lnTo>
                      <a:pt x="1953" y="1213"/>
                    </a:lnTo>
                    <a:lnTo>
                      <a:pt x="1935" y="1220"/>
                    </a:lnTo>
                    <a:lnTo>
                      <a:pt x="1918" y="1226"/>
                    </a:lnTo>
                    <a:lnTo>
                      <a:pt x="1899" y="1230"/>
                    </a:lnTo>
                    <a:lnTo>
                      <a:pt x="1880" y="1234"/>
                    </a:lnTo>
                    <a:lnTo>
                      <a:pt x="1861" y="1234"/>
                    </a:lnTo>
                    <a:lnTo>
                      <a:pt x="1843" y="1233"/>
                    </a:lnTo>
                    <a:lnTo>
                      <a:pt x="171" y="1023"/>
                    </a:lnTo>
                    <a:lnTo>
                      <a:pt x="153" y="1020"/>
                    </a:lnTo>
                    <a:lnTo>
                      <a:pt x="134" y="1015"/>
                    </a:lnTo>
                    <a:lnTo>
                      <a:pt x="117" y="1008"/>
                    </a:lnTo>
                    <a:lnTo>
                      <a:pt x="101" y="999"/>
                    </a:lnTo>
                    <a:lnTo>
                      <a:pt x="85" y="989"/>
                    </a:lnTo>
                    <a:lnTo>
                      <a:pt x="70" y="977"/>
                    </a:lnTo>
                    <a:lnTo>
                      <a:pt x="57" y="964"/>
                    </a:lnTo>
                    <a:lnTo>
                      <a:pt x="44" y="950"/>
                    </a:lnTo>
                    <a:lnTo>
                      <a:pt x="34" y="935"/>
                    </a:lnTo>
                    <a:lnTo>
                      <a:pt x="24" y="918"/>
                    </a:lnTo>
                    <a:lnTo>
                      <a:pt x="15" y="902"/>
                    </a:lnTo>
                    <a:lnTo>
                      <a:pt x="9" y="884"/>
                    </a:lnTo>
                    <a:lnTo>
                      <a:pt x="4" y="866"/>
                    </a:lnTo>
                    <a:lnTo>
                      <a:pt x="1" y="847"/>
                    </a:lnTo>
                    <a:lnTo>
                      <a:pt x="0" y="828"/>
                    </a:lnTo>
                    <a:lnTo>
                      <a:pt x="0" y="809"/>
                    </a:lnTo>
                    <a:lnTo>
                      <a:pt x="48" y="165"/>
                    </a:lnTo>
                    <a:lnTo>
                      <a:pt x="50" y="146"/>
                    </a:lnTo>
                    <a:lnTo>
                      <a:pt x="55" y="129"/>
                    </a:lnTo>
                    <a:lnTo>
                      <a:pt x="61" y="111"/>
                    </a:lnTo>
                    <a:lnTo>
                      <a:pt x="69" y="94"/>
                    </a:lnTo>
                    <a:lnTo>
                      <a:pt x="80" y="79"/>
                    </a:lnTo>
                    <a:lnTo>
                      <a:pt x="91" y="65"/>
                    </a:lnTo>
                    <a:lnTo>
                      <a:pt x="105" y="51"/>
                    </a:lnTo>
                    <a:lnTo>
                      <a:pt x="119" y="40"/>
                    </a:lnTo>
                    <a:lnTo>
                      <a:pt x="135" y="29"/>
                    </a:lnTo>
                    <a:lnTo>
                      <a:pt x="152" y="20"/>
                    </a:lnTo>
                    <a:lnTo>
                      <a:pt x="169" y="13"/>
                    </a:lnTo>
                    <a:lnTo>
                      <a:pt x="187" y="7"/>
                    </a:lnTo>
                    <a:lnTo>
                      <a:pt x="206" y="3"/>
                    </a:lnTo>
                    <a:lnTo>
                      <a:pt x="224" y="0"/>
                    </a:lnTo>
                    <a:lnTo>
                      <a:pt x="243" y="0"/>
                    </a:lnTo>
                    <a:lnTo>
                      <a:pt x="263" y="1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504200" y="449280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0" h="403">
                    <a:moveTo>
                      <a:pt x="107" y="1"/>
                    </a:moveTo>
                    <a:lnTo>
                      <a:pt x="509" y="50"/>
                    </a:lnTo>
                    <a:lnTo>
                      <a:pt x="526" y="54"/>
                    </a:lnTo>
                    <a:lnTo>
                      <a:pt x="543" y="61"/>
                    </a:lnTo>
                    <a:lnTo>
                      <a:pt x="557" y="71"/>
                    </a:lnTo>
                    <a:lnTo>
                      <a:pt x="569" y="83"/>
                    </a:lnTo>
                    <a:lnTo>
                      <a:pt x="578" y="97"/>
                    </a:lnTo>
                    <a:lnTo>
                      <a:pt x="586" y="113"/>
                    </a:lnTo>
                    <a:lnTo>
                      <a:pt x="590" y="130"/>
                    </a:lnTo>
                    <a:lnTo>
                      <a:pt x="590" y="148"/>
                    </a:lnTo>
                    <a:lnTo>
                      <a:pt x="577" y="294"/>
                    </a:lnTo>
                    <a:lnTo>
                      <a:pt x="574" y="312"/>
                    </a:lnTo>
                    <a:lnTo>
                      <a:pt x="568" y="333"/>
                    </a:lnTo>
                    <a:lnTo>
                      <a:pt x="559" y="352"/>
                    </a:lnTo>
                    <a:lnTo>
                      <a:pt x="545" y="369"/>
                    </a:lnTo>
                    <a:lnTo>
                      <a:pt x="527" y="386"/>
                    </a:lnTo>
                    <a:lnTo>
                      <a:pt x="507" y="397"/>
                    </a:lnTo>
                    <a:lnTo>
                      <a:pt x="481" y="403"/>
                    </a:lnTo>
                    <a:lnTo>
                      <a:pt x="451" y="403"/>
                    </a:lnTo>
                    <a:lnTo>
                      <a:pt x="121" y="362"/>
                    </a:lnTo>
                    <a:lnTo>
                      <a:pt x="89" y="355"/>
                    </a:lnTo>
                    <a:lnTo>
                      <a:pt x="63" y="342"/>
                    </a:lnTo>
                    <a:lnTo>
                      <a:pt x="41" y="326"/>
                    </a:lnTo>
                    <a:lnTo>
                      <a:pt x="25" y="306"/>
                    </a:lnTo>
                    <a:lnTo>
                      <a:pt x="12" y="285"/>
                    </a:lnTo>
                    <a:lnTo>
                      <a:pt x="4" y="263"/>
                    </a:lnTo>
                    <a:lnTo>
                      <a:pt x="0" y="242"/>
                    </a:lnTo>
                    <a:lnTo>
                      <a:pt x="0" y="223"/>
                    </a:lnTo>
                    <a:lnTo>
                      <a:pt x="11" y="77"/>
                    </a:lnTo>
                    <a:lnTo>
                      <a:pt x="14" y="59"/>
                    </a:lnTo>
                    <a:lnTo>
                      <a:pt x="21" y="43"/>
                    </a:lnTo>
                    <a:lnTo>
                      <a:pt x="30" y="30"/>
                    </a:lnTo>
                    <a:lnTo>
                      <a:pt x="43" y="19"/>
                    </a:lnTo>
                    <a:lnTo>
                      <a:pt x="56" y="10"/>
                    </a:lnTo>
                    <a:lnTo>
                      <a:pt x="72" y="3"/>
                    </a:lnTo>
                    <a:lnTo>
                      <a:pt x="89" y="0"/>
                    </a:lnTo>
                    <a:lnTo>
                      <a:pt x="10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504200" y="449280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0" y="0"/>
                    </a:moveTo>
                    <a:lnTo>
                      <a:pt x="476" y="46"/>
                    </a:lnTo>
                    <a:lnTo>
                      <a:pt x="493" y="49"/>
                    </a:lnTo>
                    <a:lnTo>
                      <a:pt x="508" y="57"/>
                    </a:lnTo>
                    <a:lnTo>
                      <a:pt x="521" y="66"/>
                    </a:lnTo>
                    <a:lnTo>
                      <a:pt x="533" y="77"/>
                    </a:lnTo>
                    <a:lnTo>
                      <a:pt x="542" y="90"/>
                    </a:lnTo>
                    <a:lnTo>
                      <a:pt x="548" y="104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1" y="271"/>
                    </a:lnTo>
                    <a:lnTo>
                      <a:pt x="538" y="288"/>
                    </a:lnTo>
                    <a:lnTo>
                      <a:pt x="532" y="307"/>
                    </a:lnTo>
                    <a:lnTo>
                      <a:pt x="523" y="325"/>
                    </a:lnTo>
                    <a:lnTo>
                      <a:pt x="510" y="341"/>
                    </a:lnTo>
                    <a:lnTo>
                      <a:pt x="494" y="355"/>
                    </a:lnTo>
                    <a:lnTo>
                      <a:pt x="474" y="366"/>
                    </a:lnTo>
                    <a:lnTo>
                      <a:pt x="451" y="372"/>
                    </a:lnTo>
                    <a:lnTo>
                      <a:pt x="423" y="372"/>
                    </a:lnTo>
                    <a:lnTo>
                      <a:pt x="113" y="333"/>
                    </a:lnTo>
                    <a:lnTo>
                      <a:pt x="84" y="326"/>
                    </a:lnTo>
                    <a:lnTo>
                      <a:pt x="59" y="315"/>
                    </a:lnTo>
                    <a:lnTo>
                      <a:pt x="39" y="300"/>
                    </a:lnTo>
                    <a:lnTo>
                      <a:pt x="23" y="281"/>
                    </a:lnTo>
                    <a:lnTo>
                      <a:pt x="11" y="262"/>
                    </a:lnTo>
                    <a:lnTo>
                      <a:pt x="4" y="242"/>
                    </a:lnTo>
                    <a:lnTo>
                      <a:pt x="0" y="222"/>
                    </a:lnTo>
                    <a:lnTo>
                      <a:pt x="0" y="205"/>
                    </a:lnTo>
                    <a:lnTo>
                      <a:pt x="10" y="70"/>
                    </a:lnTo>
                    <a:lnTo>
                      <a:pt x="13" y="54"/>
                    </a:lnTo>
                    <a:lnTo>
                      <a:pt x="19" y="39"/>
                    </a:lnTo>
                    <a:lnTo>
                      <a:pt x="29" y="27"/>
                    </a:lnTo>
                    <a:lnTo>
                      <a:pt x="40" y="16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505640" y="4492800"/>
                <a:ext cx="36000" cy="1980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0"/>
                    </a:moveTo>
                    <a:lnTo>
                      <a:pt x="463" y="44"/>
                    </a:lnTo>
                    <a:lnTo>
                      <a:pt x="480" y="49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8" y="73"/>
                    </a:lnTo>
                    <a:lnTo>
                      <a:pt x="527" y="84"/>
                    </a:lnTo>
                    <a:lnTo>
                      <a:pt x="534" y="97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7" y="247"/>
                    </a:lnTo>
                    <a:lnTo>
                      <a:pt x="524" y="262"/>
                    </a:lnTo>
                    <a:lnTo>
                      <a:pt x="519" y="278"/>
                    </a:lnTo>
                    <a:lnTo>
                      <a:pt x="510" y="295"/>
                    </a:lnTo>
                    <a:lnTo>
                      <a:pt x="498" y="310"/>
                    </a:lnTo>
                    <a:lnTo>
                      <a:pt x="482" y="322"/>
                    </a:lnTo>
                    <a:lnTo>
                      <a:pt x="463" y="331"/>
                    </a:lnTo>
                    <a:lnTo>
                      <a:pt x="439" y="336"/>
                    </a:lnTo>
                    <a:lnTo>
                      <a:pt x="412" y="335"/>
                    </a:lnTo>
                    <a:lnTo>
                      <a:pt x="111" y="299"/>
                    </a:lnTo>
                    <a:lnTo>
                      <a:pt x="83" y="292"/>
                    </a:lnTo>
                    <a:lnTo>
                      <a:pt x="59" y="281"/>
                    </a:lnTo>
                    <a:lnTo>
                      <a:pt x="39" y="268"/>
                    </a:lnTo>
                    <a:lnTo>
                      <a:pt x="24" y="251"/>
                    </a:lnTo>
                    <a:lnTo>
                      <a:pt x="12" y="234"/>
                    </a:lnTo>
                    <a:lnTo>
                      <a:pt x="4" y="215"/>
                    </a:lnTo>
                    <a:lnTo>
                      <a:pt x="1" y="198"/>
                    </a:lnTo>
                    <a:lnTo>
                      <a:pt x="0" y="182"/>
                    </a:lnTo>
                    <a:lnTo>
                      <a:pt x="10" y="61"/>
                    </a:lnTo>
                    <a:lnTo>
                      <a:pt x="13" y="47"/>
                    </a:lnTo>
                    <a:lnTo>
                      <a:pt x="19" y="33"/>
                    </a:lnTo>
                    <a:lnTo>
                      <a:pt x="27" y="23"/>
                    </a:lnTo>
                    <a:lnTo>
                      <a:pt x="37" y="13"/>
                    </a:lnTo>
                    <a:lnTo>
                      <a:pt x="50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505640" y="449388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3" y="43"/>
                    </a:lnTo>
                    <a:lnTo>
                      <a:pt x="458" y="47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7" y="70"/>
                    </a:lnTo>
                    <a:lnTo>
                      <a:pt x="505" y="81"/>
                    </a:lnTo>
                    <a:lnTo>
                      <a:pt x="511" y="93"/>
                    </a:lnTo>
                    <a:lnTo>
                      <a:pt x="515" y="107"/>
                    </a:lnTo>
                    <a:lnTo>
                      <a:pt x="515" y="121"/>
                    </a:lnTo>
                    <a:lnTo>
                      <a:pt x="505" y="236"/>
                    </a:lnTo>
                    <a:lnTo>
                      <a:pt x="502" y="251"/>
                    </a:lnTo>
                    <a:lnTo>
                      <a:pt x="497" y="266"/>
                    </a:lnTo>
                    <a:lnTo>
                      <a:pt x="488" y="281"/>
                    </a:lnTo>
                    <a:lnTo>
                      <a:pt x="477" y="296"/>
                    </a:lnTo>
                    <a:lnTo>
                      <a:pt x="461" y="308"/>
                    </a:lnTo>
                    <a:lnTo>
                      <a:pt x="444" y="317"/>
                    </a:lnTo>
                    <a:lnTo>
                      <a:pt x="421" y="321"/>
                    </a:lnTo>
                    <a:lnTo>
                      <a:pt x="396" y="321"/>
                    </a:lnTo>
                    <a:lnTo>
                      <a:pt x="106" y="285"/>
                    </a:lnTo>
                    <a:lnTo>
                      <a:pt x="79" y="279"/>
                    </a:lnTo>
                    <a:lnTo>
                      <a:pt x="57" y="269"/>
                    </a:lnTo>
                    <a:lnTo>
                      <a:pt x="38" y="256"/>
                    </a:lnTo>
                    <a:lnTo>
                      <a:pt x="23" y="240"/>
                    </a:lnTo>
                    <a:lnTo>
                      <a:pt x="12" y="223"/>
                    </a:lnTo>
                    <a:lnTo>
                      <a:pt x="5" y="206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10" y="59"/>
                    </a:lnTo>
                    <a:lnTo>
                      <a:pt x="13" y="46"/>
                    </a:lnTo>
                    <a:lnTo>
                      <a:pt x="18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594560" y="4502160"/>
                <a:ext cx="40320" cy="22320"/>
              </a:xfrm>
              <a:custGeom>
                <a:avLst/>
                <a:gdLst/>
                <a:ahLst/>
                <a:rect l="l" t="t" r="r" b="b"/>
                <a:pathLst>
                  <a:path w="590" h="402">
                    <a:moveTo>
                      <a:pt x="108" y="1"/>
                    </a:moveTo>
                    <a:lnTo>
                      <a:pt x="509" y="50"/>
                    </a:lnTo>
                    <a:lnTo>
                      <a:pt x="527" y="54"/>
                    </a:lnTo>
                    <a:lnTo>
                      <a:pt x="543" y="61"/>
                    </a:lnTo>
                    <a:lnTo>
                      <a:pt x="558" y="70"/>
                    </a:lnTo>
                    <a:lnTo>
                      <a:pt x="570" y="82"/>
                    </a:lnTo>
                    <a:lnTo>
                      <a:pt x="580" y="97"/>
                    </a:lnTo>
                    <a:lnTo>
                      <a:pt x="586" y="113"/>
                    </a:lnTo>
                    <a:lnTo>
                      <a:pt x="590" y="129"/>
                    </a:lnTo>
                    <a:lnTo>
                      <a:pt x="590" y="147"/>
                    </a:lnTo>
                    <a:lnTo>
                      <a:pt x="579" y="294"/>
                    </a:lnTo>
                    <a:lnTo>
                      <a:pt x="576" y="312"/>
                    </a:lnTo>
                    <a:lnTo>
                      <a:pt x="569" y="332"/>
                    </a:lnTo>
                    <a:lnTo>
                      <a:pt x="559" y="352"/>
                    </a:lnTo>
                    <a:lnTo>
                      <a:pt x="545" y="369"/>
                    </a:lnTo>
                    <a:lnTo>
                      <a:pt x="528" y="384"/>
                    </a:lnTo>
                    <a:lnTo>
                      <a:pt x="507" y="396"/>
                    </a:lnTo>
                    <a:lnTo>
                      <a:pt x="481" y="402"/>
                    </a:lnTo>
                    <a:lnTo>
                      <a:pt x="452" y="402"/>
                    </a:lnTo>
                    <a:lnTo>
                      <a:pt x="121" y="361"/>
                    </a:lnTo>
                    <a:lnTo>
                      <a:pt x="90" y="354"/>
                    </a:lnTo>
                    <a:lnTo>
                      <a:pt x="64" y="342"/>
                    </a:lnTo>
                    <a:lnTo>
                      <a:pt x="42" y="325"/>
                    </a:lnTo>
                    <a:lnTo>
                      <a:pt x="25" y="305"/>
                    </a:lnTo>
                    <a:lnTo>
                      <a:pt x="13" y="285"/>
                    </a:lnTo>
                    <a:lnTo>
                      <a:pt x="4" y="262"/>
                    </a:lnTo>
                    <a:lnTo>
                      <a:pt x="0" y="242"/>
                    </a:lnTo>
                    <a:lnTo>
                      <a:pt x="0" y="223"/>
                    </a:lnTo>
                    <a:lnTo>
                      <a:pt x="13" y="76"/>
                    </a:lnTo>
                    <a:lnTo>
                      <a:pt x="16" y="59"/>
                    </a:lnTo>
                    <a:lnTo>
                      <a:pt x="22" y="43"/>
                    </a:lnTo>
                    <a:lnTo>
                      <a:pt x="31" y="30"/>
                    </a:lnTo>
                    <a:lnTo>
                      <a:pt x="43" y="18"/>
                    </a:lnTo>
                    <a:lnTo>
                      <a:pt x="57" y="9"/>
                    </a:lnTo>
                    <a:lnTo>
                      <a:pt x="73" y="3"/>
                    </a:lnTo>
                    <a:lnTo>
                      <a:pt x="90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596000" y="4502160"/>
                <a:ext cx="37800" cy="2088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1" y="0"/>
                    </a:moveTo>
                    <a:lnTo>
                      <a:pt x="476" y="47"/>
                    </a:lnTo>
                    <a:lnTo>
                      <a:pt x="493" y="50"/>
                    </a:lnTo>
                    <a:lnTo>
                      <a:pt x="509" y="57"/>
                    </a:lnTo>
                    <a:lnTo>
                      <a:pt x="522" y="66"/>
                    </a:lnTo>
                    <a:lnTo>
                      <a:pt x="534" y="78"/>
                    </a:lnTo>
                    <a:lnTo>
                      <a:pt x="543" y="91"/>
                    </a:lnTo>
                    <a:lnTo>
                      <a:pt x="549" y="105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2" y="272"/>
                    </a:lnTo>
                    <a:lnTo>
                      <a:pt x="539" y="289"/>
                    </a:lnTo>
                    <a:lnTo>
                      <a:pt x="533" y="307"/>
                    </a:lnTo>
                    <a:lnTo>
                      <a:pt x="523" y="326"/>
                    </a:lnTo>
                    <a:lnTo>
                      <a:pt x="511" y="342"/>
                    </a:lnTo>
                    <a:lnTo>
                      <a:pt x="494" y="356"/>
                    </a:lnTo>
                    <a:lnTo>
                      <a:pt x="474" y="366"/>
                    </a:lnTo>
                    <a:lnTo>
                      <a:pt x="451" y="372"/>
                    </a:lnTo>
                    <a:lnTo>
                      <a:pt x="423" y="372"/>
                    </a:lnTo>
                    <a:lnTo>
                      <a:pt x="113" y="334"/>
                    </a:lnTo>
                    <a:lnTo>
                      <a:pt x="84" y="327"/>
                    </a:lnTo>
                    <a:lnTo>
                      <a:pt x="60" y="315"/>
                    </a:lnTo>
                    <a:lnTo>
                      <a:pt x="40" y="300"/>
                    </a:lnTo>
                    <a:lnTo>
                      <a:pt x="24" y="282"/>
                    </a:lnTo>
                    <a:lnTo>
                      <a:pt x="12" y="263"/>
                    </a:lnTo>
                    <a:lnTo>
                      <a:pt x="5" y="242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11" y="70"/>
                    </a:lnTo>
                    <a:lnTo>
                      <a:pt x="14" y="54"/>
                    </a:lnTo>
                    <a:lnTo>
                      <a:pt x="21" y="40"/>
                    </a:lnTo>
                    <a:lnTo>
                      <a:pt x="29" y="28"/>
                    </a:lnTo>
                    <a:lnTo>
                      <a:pt x="40" y="17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596000" y="4502160"/>
                <a:ext cx="37800" cy="19800"/>
              </a:xfrm>
              <a:custGeom>
                <a:avLst/>
                <a:gdLst/>
                <a:ahLst/>
                <a:rect l="l" t="t" r="r" b="b"/>
                <a:pathLst>
                  <a:path w="538" h="337">
                    <a:moveTo>
                      <a:pt x="97" y="0"/>
                    </a:moveTo>
                    <a:lnTo>
                      <a:pt x="463" y="45"/>
                    </a:lnTo>
                    <a:lnTo>
                      <a:pt x="480" y="49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8" y="74"/>
                    </a:lnTo>
                    <a:lnTo>
                      <a:pt x="528" y="85"/>
                    </a:lnTo>
                    <a:lnTo>
                      <a:pt x="534" y="98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7"/>
                    </a:lnTo>
                    <a:lnTo>
                      <a:pt x="525" y="263"/>
                    </a:lnTo>
                    <a:lnTo>
                      <a:pt x="519" y="279"/>
                    </a:lnTo>
                    <a:lnTo>
                      <a:pt x="510" y="295"/>
                    </a:lnTo>
                    <a:lnTo>
                      <a:pt x="499" y="309"/>
                    </a:lnTo>
                    <a:lnTo>
                      <a:pt x="483" y="323"/>
                    </a:lnTo>
                    <a:lnTo>
                      <a:pt x="463" y="332"/>
                    </a:lnTo>
                    <a:lnTo>
                      <a:pt x="440" y="337"/>
                    </a:lnTo>
                    <a:lnTo>
                      <a:pt x="413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40" y="269"/>
                    </a:lnTo>
                    <a:lnTo>
                      <a:pt x="24" y="251"/>
                    </a:lnTo>
                    <a:lnTo>
                      <a:pt x="13" y="234"/>
                    </a:lnTo>
                    <a:lnTo>
                      <a:pt x="4" y="216"/>
                    </a:lnTo>
                    <a:lnTo>
                      <a:pt x="1" y="199"/>
                    </a:lnTo>
                    <a:lnTo>
                      <a:pt x="0" y="182"/>
                    </a:lnTo>
                    <a:lnTo>
                      <a:pt x="11" y="61"/>
                    </a:lnTo>
                    <a:lnTo>
                      <a:pt x="14" y="47"/>
                    </a:lnTo>
                    <a:lnTo>
                      <a:pt x="19" y="34"/>
                    </a:lnTo>
                    <a:lnTo>
                      <a:pt x="27" y="24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597440" y="45032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5" h="322">
                    <a:moveTo>
                      <a:pt x="92" y="0"/>
                    </a:moveTo>
                    <a:lnTo>
                      <a:pt x="442" y="43"/>
                    </a:lnTo>
                    <a:lnTo>
                      <a:pt x="457" y="47"/>
                    </a:lnTo>
                    <a:lnTo>
                      <a:pt x="472" y="52"/>
                    </a:lnTo>
                    <a:lnTo>
                      <a:pt x="485" y="60"/>
                    </a:lnTo>
                    <a:lnTo>
                      <a:pt x="496" y="71"/>
                    </a:lnTo>
                    <a:lnTo>
                      <a:pt x="504" y="82"/>
                    </a:lnTo>
                    <a:lnTo>
                      <a:pt x="511" y="94"/>
                    </a:lnTo>
                    <a:lnTo>
                      <a:pt x="515" y="107"/>
                    </a:lnTo>
                    <a:lnTo>
                      <a:pt x="515" y="121"/>
                    </a:lnTo>
                    <a:lnTo>
                      <a:pt x="505" y="236"/>
                    </a:lnTo>
                    <a:lnTo>
                      <a:pt x="502" y="252"/>
                    </a:lnTo>
                    <a:lnTo>
                      <a:pt x="497" y="267"/>
                    </a:lnTo>
                    <a:lnTo>
                      <a:pt x="489" y="282"/>
                    </a:lnTo>
                    <a:lnTo>
                      <a:pt x="476" y="296"/>
                    </a:lnTo>
                    <a:lnTo>
                      <a:pt x="462" y="308"/>
                    </a:lnTo>
                    <a:lnTo>
                      <a:pt x="443" y="318"/>
                    </a:lnTo>
                    <a:lnTo>
                      <a:pt x="421" y="322"/>
                    </a:lnTo>
                    <a:lnTo>
                      <a:pt x="395" y="322"/>
                    </a:lnTo>
                    <a:lnTo>
                      <a:pt x="106" y="286"/>
                    </a:lnTo>
                    <a:lnTo>
                      <a:pt x="79" y="280"/>
                    </a:lnTo>
                    <a:lnTo>
                      <a:pt x="56" y="270"/>
                    </a:lnTo>
                    <a:lnTo>
                      <a:pt x="37" y="257"/>
                    </a:lnTo>
                    <a:lnTo>
                      <a:pt x="23" y="240"/>
                    </a:lnTo>
                    <a:lnTo>
                      <a:pt x="11" y="223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4"/>
                    </a:lnTo>
                    <a:lnTo>
                      <a:pt x="9" y="59"/>
                    </a:lnTo>
                    <a:lnTo>
                      <a:pt x="12" y="46"/>
                    </a:lnTo>
                    <a:lnTo>
                      <a:pt x="17" y="34"/>
                    </a:lnTo>
                    <a:lnTo>
                      <a:pt x="26" y="23"/>
                    </a:lnTo>
                    <a:lnTo>
                      <a:pt x="35" y="14"/>
                    </a:lnTo>
                    <a:lnTo>
                      <a:pt x="47" y="7"/>
                    </a:lnTo>
                    <a:lnTo>
                      <a:pt x="61" y="3"/>
                    </a:lnTo>
                    <a:lnTo>
                      <a:pt x="77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549560" y="4496760"/>
                <a:ext cx="40320" cy="23400"/>
              </a:xfrm>
              <a:custGeom>
                <a:avLst/>
                <a:gdLst/>
                <a:ahLst/>
                <a:rect l="l" t="t" r="r" b="b"/>
                <a:pathLst>
                  <a:path w="591" h="401">
                    <a:moveTo>
                      <a:pt x="109" y="0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3" y="61"/>
                    </a:lnTo>
                    <a:lnTo>
                      <a:pt x="557" y="70"/>
                    </a:lnTo>
                    <a:lnTo>
                      <a:pt x="570" y="82"/>
                    </a:lnTo>
                    <a:lnTo>
                      <a:pt x="579" y="96"/>
                    </a:lnTo>
                    <a:lnTo>
                      <a:pt x="586" y="112"/>
                    </a:lnTo>
                    <a:lnTo>
                      <a:pt x="589" y="129"/>
                    </a:lnTo>
                    <a:lnTo>
                      <a:pt x="591" y="146"/>
                    </a:lnTo>
                    <a:lnTo>
                      <a:pt x="578" y="292"/>
                    </a:lnTo>
                    <a:lnTo>
                      <a:pt x="575" y="311"/>
                    </a:lnTo>
                    <a:lnTo>
                      <a:pt x="569" y="331"/>
                    </a:lnTo>
                    <a:lnTo>
                      <a:pt x="558" y="350"/>
                    </a:lnTo>
                    <a:lnTo>
                      <a:pt x="545" y="368"/>
                    </a:lnTo>
                    <a:lnTo>
                      <a:pt x="527" y="384"/>
                    </a:lnTo>
                    <a:lnTo>
                      <a:pt x="506" y="395"/>
                    </a:lnTo>
                    <a:lnTo>
                      <a:pt x="480" y="401"/>
                    </a:lnTo>
                    <a:lnTo>
                      <a:pt x="451" y="401"/>
                    </a:lnTo>
                    <a:lnTo>
                      <a:pt x="122" y="361"/>
                    </a:lnTo>
                    <a:lnTo>
                      <a:pt x="91" y="353"/>
                    </a:lnTo>
                    <a:lnTo>
                      <a:pt x="65" y="340"/>
                    </a:lnTo>
                    <a:lnTo>
                      <a:pt x="43" y="324"/>
                    </a:lnTo>
                    <a:lnTo>
                      <a:pt x="26" y="305"/>
                    </a:lnTo>
                    <a:lnTo>
                      <a:pt x="14" y="283"/>
                    </a:lnTo>
                    <a:lnTo>
                      <a:pt x="6" y="261"/>
                    </a:lnTo>
                    <a:lnTo>
                      <a:pt x="2" y="241"/>
                    </a:lnTo>
                    <a:lnTo>
                      <a:pt x="0" y="221"/>
                    </a:lnTo>
                    <a:lnTo>
                      <a:pt x="13" y="75"/>
                    </a:lnTo>
                    <a:lnTo>
                      <a:pt x="16" y="58"/>
                    </a:lnTo>
                    <a:lnTo>
                      <a:pt x="22" y="42"/>
                    </a:lnTo>
                    <a:lnTo>
                      <a:pt x="32" y="28"/>
                    </a:lnTo>
                    <a:lnTo>
                      <a:pt x="44" y="17"/>
                    </a:lnTo>
                    <a:lnTo>
                      <a:pt x="58" y="8"/>
                    </a:lnTo>
                    <a:lnTo>
                      <a:pt x="73" y="2"/>
                    </a:lnTo>
                    <a:lnTo>
                      <a:pt x="90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550640" y="4497840"/>
                <a:ext cx="37800" cy="21240"/>
              </a:xfrm>
              <a:custGeom>
                <a:avLst/>
                <a:gdLst/>
                <a:ahLst/>
                <a:rect l="l" t="t" r="r" b="b"/>
                <a:pathLst>
                  <a:path w="553" h="372">
                    <a:moveTo>
                      <a:pt x="102" y="1"/>
                    </a:moveTo>
                    <a:lnTo>
                      <a:pt x="477" y="47"/>
                    </a:lnTo>
                    <a:lnTo>
                      <a:pt x="493" y="51"/>
                    </a:lnTo>
                    <a:lnTo>
                      <a:pt x="508" y="57"/>
                    </a:lnTo>
                    <a:lnTo>
                      <a:pt x="522" y="66"/>
                    </a:lnTo>
                    <a:lnTo>
                      <a:pt x="533" y="77"/>
                    </a:lnTo>
                    <a:lnTo>
                      <a:pt x="542" y="90"/>
                    </a:lnTo>
                    <a:lnTo>
                      <a:pt x="549" y="105"/>
                    </a:lnTo>
                    <a:lnTo>
                      <a:pt x="553" y="121"/>
                    </a:lnTo>
                    <a:lnTo>
                      <a:pt x="553" y="137"/>
                    </a:lnTo>
                    <a:lnTo>
                      <a:pt x="541" y="272"/>
                    </a:lnTo>
                    <a:lnTo>
                      <a:pt x="538" y="290"/>
                    </a:lnTo>
                    <a:lnTo>
                      <a:pt x="533" y="307"/>
                    </a:lnTo>
                    <a:lnTo>
                      <a:pt x="524" y="325"/>
                    </a:lnTo>
                    <a:lnTo>
                      <a:pt x="511" y="342"/>
                    </a:lnTo>
                    <a:lnTo>
                      <a:pt x="494" y="356"/>
                    </a:lnTo>
                    <a:lnTo>
                      <a:pt x="475" y="367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5" y="334"/>
                    </a:lnTo>
                    <a:lnTo>
                      <a:pt x="85" y="327"/>
                    </a:lnTo>
                    <a:lnTo>
                      <a:pt x="61" y="316"/>
                    </a:lnTo>
                    <a:lnTo>
                      <a:pt x="41" y="301"/>
                    </a:lnTo>
                    <a:lnTo>
                      <a:pt x="25" y="283"/>
                    </a:lnTo>
                    <a:lnTo>
                      <a:pt x="13" y="262"/>
                    </a:lnTo>
                    <a:lnTo>
                      <a:pt x="5" y="243"/>
                    </a:lnTo>
                    <a:lnTo>
                      <a:pt x="1" y="223"/>
                    </a:lnTo>
                    <a:lnTo>
                      <a:pt x="0" y="205"/>
                    </a:lnTo>
                    <a:lnTo>
                      <a:pt x="12" y="70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7"/>
                    </a:lnTo>
                    <a:lnTo>
                      <a:pt x="41" y="17"/>
                    </a:lnTo>
                    <a:lnTo>
                      <a:pt x="54" y="9"/>
                    </a:lnTo>
                    <a:lnTo>
                      <a:pt x="69" y="3"/>
                    </a:lnTo>
                    <a:lnTo>
                      <a:pt x="85" y="0"/>
                    </a:lnTo>
                    <a:lnTo>
                      <a:pt x="102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550640" y="4497840"/>
                <a:ext cx="37800" cy="19800"/>
              </a:xfrm>
              <a:custGeom>
                <a:avLst/>
                <a:gdLst/>
                <a:ahLst/>
                <a:rect l="l" t="t" r="r" b="b"/>
                <a:pathLst>
                  <a:path w="535" h="337">
                    <a:moveTo>
                      <a:pt x="95" y="1"/>
                    </a:moveTo>
                    <a:lnTo>
                      <a:pt x="461" y="46"/>
                    </a:lnTo>
                    <a:lnTo>
                      <a:pt x="477" y="49"/>
                    </a:lnTo>
                    <a:lnTo>
                      <a:pt x="492" y="55"/>
                    </a:lnTo>
                    <a:lnTo>
                      <a:pt x="505" y="63"/>
                    </a:lnTo>
                    <a:lnTo>
                      <a:pt x="517" y="73"/>
                    </a:lnTo>
                    <a:lnTo>
                      <a:pt x="526" y="84"/>
                    </a:lnTo>
                    <a:lnTo>
                      <a:pt x="532" y="98"/>
                    </a:lnTo>
                    <a:lnTo>
                      <a:pt x="535" y="112"/>
                    </a:lnTo>
                    <a:lnTo>
                      <a:pt x="535" y="127"/>
                    </a:lnTo>
                    <a:lnTo>
                      <a:pt x="526" y="248"/>
                    </a:lnTo>
                    <a:lnTo>
                      <a:pt x="523" y="263"/>
                    </a:lnTo>
                    <a:lnTo>
                      <a:pt x="518" y="280"/>
                    </a:lnTo>
                    <a:lnTo>
                      <a:pt x="508" y="296"/>
                    </a:lnTo>
                    <a:lnTo>
                      <a:pt x="496" y="310"/>
                    </a:lnTo>
                    <a:lnTo>
                      <a:pt x="480" y="322"/>
                    </a:lnTo>
                    <a:lnTo>
                      <a:pt x="461" y="332"/>
                    </a:lnTo>
                    <a:lnTo>
                      <a:pt x="438" y="337"/>
                    </a:lnTo>
                    <a:lnTo>
                      <a:pt x="411" y="337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8" y="282"/>
                    </a:lnTo>
                    <a:lnTo>
                      <a:pt x="38" y="268"/>
                    </a:lnTo>
                    <a:lnTo>
                      <a:pt x="22" y="251"/>
                    </a:lnTo>
                    <a:lnTo>
                      <a:pt x="11" y="234"/>
                    </a:lnTo>
                    <a:lnTo>
                      <a:pt x="4" y="216"/>
                    </a:lnTo>
                    <a:lnTo>
                      <a:pt x="0" y="198"/>
                    </a:lnTo>
                    <a:lnTo>
                      <a:pt x="0" y="183"/>
                    </a:lnTo>
                    <a:lnTo>
                      <a:pt x="9" y="62"/>
                    </a:lnTo>
                    <a:lnTo>
                      <a:pt x="12" y="48"/>
                    </a:lnTo>
                    <a:lnTo>
                      <a:pt x="17" y="35"/>
                    </a:lnTo>
                    <a:lnTo>
                      <a:pt x="26" y="23"/>
                    </a:lnTo>
                    <a:lnTo>
                      <a:pt x="37" y="14"/>
                    </a:lnTo>
                    <a:lnTo>
                      <a:pt x="49" y="7"/>
                    </a:lnTo>
                    <a:lnTo>
                      <a:pt x="63" y="2"/>
                    </a:lnTo>
                    <a:lnTo>
                      <a:pt x="79" y="0"/>
                    </a:lnTo>
                    <a:lnTo>
                      <a:pt x="95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552440" y="4497840"/>
                <a:ext cx="34560" cy="18360"/>
              </a:xfrm>
              <a:custGeom>
                <a:avLst/>
                <a:gdLst/>
                <a:ahLst/>
                <a:rect l="l" t="t" r="r" b="b"/>
                <a:pathLst>
                  <a:path w="514" h="322">
                    <a:moveTo>
                      <a:pt x="93" y="0"/>
                    </a:moveTo>
                    <a:lnTo>
                      <a:pt x="441" y="44"/>
                    </a:lnTo>
                    <a:lnTo>
                      <a:pt x="457" y="47"/>
                    </a:lnTo>
                    <a:lnTo>
                      <a:pt x="471" y="53"/>
                    </a:lnTo>
                    <a:lnTo>
                      <a:pt x="484" y="61"/>
                    </a:lnTo>
                    <a:lnTo>
                      <a:pt x="495" y="70"/>
                    </a:lnTo>
                    <a:lnTo>
                      <a:pt x="504" y="81"/>
                    </a:lnTo>
                    <a:lnTo>
                      <a:pt x="510" y="95"/>
                    </a:lnTo>
                    <a:lnTo>
                      <a:pt x="514" y="108"/>
                    </a:lnTo>
                    <a:lnTo>
                      <a:pt x="514" y="122"/>
                    </a:lnTo>
                    <a:lnTo>
                      <a:pt x="505" y="237"/>
                    </a:lnTo>
                    <a:lnTo>
                      <a:pt x="502" y="252"/>
                    </a:lnTo>
                    <a:lnTo>
                      <a:pt x="496" y="267"/>
                    </a:lnTo>
                    <a:lnTo>
                      <a:pt x="488" y="283"/>
                    </a:lnTo>
                    <a:lnTo>
                      <a:pt x="477" y="297"/>
                    </a:lnTo>
                    <a:lnTo>
                      <a:pt x="461" y="308"/>
                    </a:lnTo>
                    <a:lnTo>
                      <a:pt x="443" y="317"/>
                    </a:lnTo>
                    <a:lnTo>
                      <a:pt x="420" y="322"/>
                    </a:lnTo>
                    <a:lnTo>
                      <a:pt x="395" y="321"/>
                    </a:lnTo>
                    <a:lnTo>
                      <a:pt x="107" y="286"/>
                    </a:lnTo>
                    <a:lnTo>
                      <a:pt x="80" y="280"/>
                    </a:lnTo>
                    <a:lnTo>
                      <a:pt x="57" y="270"/>
                    </a:lnTo>
                    <a:lnTo>
                      <a:pt x="38" y="256"/>
                    </a:lnTo>
                    <a:lnTo>
                      <a:pt x="23" y="241"/>
                    </a:lnTo>
                    <a:lnTo>
                      <a:pt x="11" y="224"/>
                    </a:lnTo>
                    <a:lnTo>
                      <a:pt x="4" y="207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10" y="60"/>
                    </a:lnTo>
                    <a:lnTo>
                      <a:pt x="14" y="46"/>
                    </a:lnTo>
                    <a:lnTo>
                      <a:pt x="19" y="34"/>
                    </a:lnTo>
                    <a:lnTo>
                      <a:pt x="27" y="23"/>
                    </a:lnTo>
                    <a:lnTo>
                      <a:pt x="36" y="13"/>
                    </a:lnTo>
                    <a:lnTo>
                      <a:pt x="49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495560" y="4568400"/>
                <a:ext cx="40320" cy="22320"/>
              </a:xfrm>
              <a:custGeom>
                <a:avLst/>
                <a:gdLst/>
                <a:ahLst/>
                <a:rect l="l" t="t" r="r" b="b"/>
                <a:pathLst>
                  <a:path w="591" h="402">
                    <a:moveTo>
                      <a:pt x="108" y="1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3" y="61"/>
                    </a:lnTo>
                    <a:lnTo>
                      <a:pt x="557" y="70"/>
                    </a:lnTo>
                    <a:lnTo>
                      <a:pt x="570" y="82"/>
                    </a:lnTo>
                    <a:lnTo>
                      <a:pt x="579" y="96"/>
                    </a:lnTo>
                    <a:lnTo>
                      <a:pt x="586" y="113"/>
                    </a:lnTo>
                    <a:lnTo>
                      <a:pt x="590" y="129"/>
                    </a:lnTo>
                    <a:lnTo>
                      <a:pt x="591" y="147"/>
                    </a:lnTo>
                    <a:lnTo>
                      <a:pt x="578" y="294"/>
                    </a:lnTo>
                    <a:lnTo>
                      <a:pt x="575" y="312"/>
                    </a:lnTo>
                    <a:lnTo>
                      <a:pt x="569" y="332"/>
                    </a:lnTo>
                    <a:lnTo>
                      <a:pt x="558" y="351"/>
                    </a:lnTo>
                    <a:lnTo>
                      <a:pt x="545" y="369"/>
                    </a:lnTo>
                    <a:lnTo>
                      <a:pt x="527" y="385"/>
                    </a:lnTo>
                    <a:lnTo>
                      <a:pt x="506" y="396"/>
                    </a:lnTo>
                    <a:lnTo>
                      <a:pt x="480" y="402"/>
                    </a:lnTo>
                    <a:lnTo>
                      <a:pt x="451" y="402"/>
                    </a:lnTo>
                    <a:lnTo>
                      <a:pt x="120" y="362"/>
                    </a:lnTo>
                    <a:lnTo>
                      <a:pt x="89" y="354"/>
                    </a:lnTo>
                    <a:lnTo>
                      <a:pt x="64" y="341"/>
                    </a:lnTo>
                    <a:lnTo>
                      <a:pt x="42" y="325"/>
                    </a:lnTo>
                    <a:lnTo>
                      <a:pt x="26" y="306"/>
                    </a:lnTo>
                    <a:lnTo>
                      <a:pt x="13" y="284"/>
                    </a:lnTo>
                    <a:lnTo>
                      <a:pt x="5" y="262"/>
                    </a:lnTo>
                    <a:lnTo>
                      <a:pt x="1" y="242"/>
                    </a:lnTo>
                    <a:lnTo>
                      <a:pt x="0" y="222"/>
                    </a:lnTo>
                    <a:lnTo>
                      <a:pt x="12" y="76"/>
                    </a:lnTo>
                    <a:lnTo>
                      <a:pt x="15" y="59"/>
                    </a:lnTo>
                    <a:lnTo>
                      <a:pt x="21" y="42"/>
                    </a:lnTo>
                    <a:lnTo>
                      <a:pt x="31" y="29"/>
                    </a:lnTo>
                    <a:lnTo>
                      <a:pt x="43" y="18"/>
                    </a:lnTo>
                    <a:lnTo>
                      <a:pt x="57" y="9"/>
                    </a:lnTo>
                    <a:lnTo>
                      <a:pt x="72" y="3"/>
                    </a:lnTo>
                    <a:lnTo>
                      <a:pt x="89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497000" y="4568400"/>
                <a:ext cx="39240" cy="22320"/>
              </a:xfrm>
              <a:custGeom>
                <a:avLst/>
                <a:gdLst/>
                <a:ahLst/>
                <a:rect l="l" t="t" r="r" b="b"/>
                <a:pathLst>
                  <a:path w="554" h="372">
                    <a:moveTo>
                      <a:pt x="101" y="0"/>
                    </a:moveTo>
                    <a:lnTo>
                      <a:pt x="478" y="47"/>
                    </a:lnTo>
                    <a:lnTo>
                      <a:pt x="495" y="50"/>
                    </a:lnTo>
                    <a:lnTo>
                      <a:pt x="509" y="57"/>
                    </a:lnTo>
                    <a:lnTo>
                      <a:pt x="523" y="66"/>
                    </a:lnTo>
                    <a:lnTo>
                      <a:pt x="534" y="77"/>
                    </a:lnTo>
                    <a:lnTo>
                      <a:pt x="543" y="90"/>
                    </a:lnTo>
                    <a:lnTo>
                      <a:pt x="550" y="105"/>
                    </a:lnTo>
                    <a:lnTo>
                      <a:pt x="554" y="120"/>
                    </a:lnTo>
                    <a:lnTo>
                      <a:pt x="554" y="136"/>
                    </a:lnTo>
                    <a:lnTo>
                      <a:pt x="542" y="271"/>
                    </a:lnTo>
                    <a:lnTo>
                      <a:pt x="539" y="289"/>
                    </a:lnTo>
                    <a:lnTo>
                      <a:pt x="533" y="307"/>
                    </a:lnTo>
                    <a:lnTo>
                      <a:pt x="525" y="325"/>
                    </a:lnTo>
                    <a:lnTo>
                      <a:pt x="512" y="342"/>
                    </a:lnTo>
                    <a:lnTo>
                      <a:pt x="496" y="356"/>
                    </a:lnTo>
                    <a:lnTo>
                      <a:pt x="476" y="366"/>
                    </a:lnTo>
                    <a:lnTo>
                      <a:pt x="453" y="372"/>
                    </a:lnTo>
                    <a:lnTo>
                      <a:pt x="425" y="372"/>
                    </a:lnTo>
                    <a:lnTo>
                      <a:pt x="115" y="333"/>
                    </a:lnTo>
                    <a:lnTo>
                      <a:pt x="86" y="326"/>
                    </a:lnTo>
                    <a:lnTo>
                      <a:pt x="61" y="315"/>
                    </a:lnTo>
                    <a:lnTo>
                      <a:pt x="41" y="300"/>
                    </a:lnTo>
                    <a:lnTo>
                      <a:pt x="25" y="282"/>
                    </a:lnTo>
                    <a:lnTo>
                      <a:pt x="13" y="262"/>
                    </a:lnTo>
                    <a:lnTo>
                      <a:pt x="5" y="242"/>
                    </a:lnTo>
                    <a:lnTo>
                      <a:pt x="1" y="223"/>
                    </a:lnTo>
                    <a:lnTo>
                      <a:pt x="0" y="205"/>
                    </a:lnTo>
                    <a:lnTo>
                      <a:pt x="12" y="70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7"/>
                    </a:lnTo>
                    <a:lnTo>
                      <a:pt x="41" y="16"/>
                    </a:lnTo>
                    <a:lnTo>
                      <a:pt x="54" y="8"/>
                    </a:lnTo>
                    <a:lnTo>
                      <a:pt x="69" y="2"/>
                    </a:lnTo>
                    <a:lnTo>
                      <a:pt x="85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498080" y="4569480"/>
                <a:ext cx="36360" cy="18360"/>
              </a:xfrm>
              <a:custGeom>
                <a:avLst/>
                <a:gdLst/>
                <a:ahLst/>
                <a:rect l="l" t="t" r="r" b="b"/>
                <a:pathLst>
                  <a:path w="538" h="337">
                    <a:moveTo>
                      <a:pt x="96" y="0"/>
                    </a:moveTo>
                    <a:lnTo>
                      <a:pt x="463" y="45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9" y="73"/>
                    </a:lnTo>
                    <a:lnTo>
                      <a:pt x="527" y="84"/>
                    </a:lnTo>
                    <a:lnTo>
                      <a:pt x="533" y="98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7"/>
                    </a:lnTo>
                    <a:lnTo>
                      <a:pt x="525" y="262"/>
                    </a:lnTo>
                    <a:lnTo>
                      <a:pt x="520" y="279"/>
                    </a:lnTo>
                    <a:lnTo>
                      <a:pt x="511" y="295"/>
                    </a:lnTo>
                    <a:lnTo>
                      <a:pt x="498" y="310"/>
                    </a:lnTo>
                    <a:lnTo>
                      <a:pt x="482" y="322"/>
                    </a:lnTo>
                    <a:lnTo>
                      <a:pt x="463" y="331"/>
                    </a:lnTo>
                    <a:lnTo>
                      <a:pt x="440" y="337"/>
                    </a:lnTo>
                    <a:lnTo>
                      <a:pt x="413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39" y="268"/>
                    </a:lnTo>
                    <a:lnTo>
                      <a:pt x="24" y="251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1" y="198"/>
                    </a:lnTo>
                    <a:lnTo>
                      <a:pt x="0" y="182"/>
                    </a:lnTo>
                    <a:lnTo>
                      <a:pt x="10" y="61"/>
                    </a:lnTo>
                    <a:lnTo>
                      <a:pt x="13" y="47"/>
                    </a:lnTo>
                    <a:lnTo>
                      <a:pt x="18" y="34"/>
                    </a:lnTo>
                    <a:lnTo>
                      <a:pt x="27" y="23"/>
                    </a:lnTo>
                    <a:lnTo>
                      <a:pt x="38" y="13"/>
                    </a:lnTo>
                    <a:lnTo>
                      <a:pt x="51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498080" y="4569480"/>
                <a:ext cx="3636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2" y="43"/>
                    </a:lnTo>
                    <a:lnTo>
                      <a:pt x="458" y="47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6" y="70"/>
                    </a:lnTo>
                    <a:lnTo>
                      <a:pt x="505" y="82"/>
                    </a:lnTo>
                    <a:lnTo>
                      <a:pt x="511" y="94"/>
                    </a:lnTo>
                    <a:lnTo>
                      <a:pt x="515" y="107"/>
                    </a:lnTo>
                    <a:lnTo>
                      <a:pt x="515" y="121"/>
                    </a:lnTo>
                    <a:lnTo>
                      <a:pt x="506" y="236"/>
                    </a:lnTo>
                    <a:lnTo>
                      <a:pt x="503" y="251"/>
                    </a:lnTo>
                    <a:lnTo>
                      <a:pt x="497" y="267"/>
                    </a:lnTo>
                    <a:lnTo>
                      <a:pt x="489" y="282"/>
                    </a:lnTo>
                    <a:lnTo>
                      <a:pt x="478" y="296"/>
                    </a:lnTo>
                    <a:lnTo>
                      <a:pt x="462" y="308"/>
                    </a:lnTo>
                    <a:lnTo>
                      <a:pt x="444" y="317"/>
                    </a:lnTo>
                    <a:lnTo>
                      <a:pt x="422" y="321"/>
                    </a:lnTo>
                    <a:lnTo>
                      <a:pt x="397" y="321"/>
                    </a:lnTo>
                    <a:lnTo>
                      <a:pt x="107" y="286"/>
                    </a:lnTo>
                    <a:lnTo>
                      <a:pt x="80" y="280"/>
                    </a:lnTo>
                    <a:lnTo>
                      <a:pt x="57" y="270"/>
                    </a:lnTo>
                    <a:lnTo>
                      <a:pt x="39" y="256"/>
                    </a:lnTo>
                    <a:lnTo>
                      <a:pt x="23" y="240"/>
                    </a:lnTo>
                    <a:lnTo>
                      <a:pt x="12" y="224"/>
                    </a:lnTo>
                    <a:lnTo>
                      <a:pt x="4" y="207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9" y="59"/>
                    </a:lnTo>
                    <a:lnTo>
                      <a:pt x="13" y="46"/>
                    </a:lnTo>
                    <a:lnTo>
                      <a:pt x="18" y="34"/>
                    </a:lnTo>
                    <a:lnTo>
                      <a:pt x="26" y="23"/>
                    </a:lnTo>
                    <a:lnTo>
                      <a:pt x="35" y="13"/>
                    </a:lnTo>
                    <a:lnTo>
                      <a:pt x="48" y="6"/>
                    </a:lnTo>
                    <a:lnTo>
                      <a:pt x="61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495560" y="4596120"/>
                <a:ext cx="28800" cy="16920"/>
              </a:xfrm>
              <a:custGeom>
                <a:avLst/>
                <a:gdLst/>
                <a:ahLst/>
                <a:rect l="l" t="t" r="r" b="b"/>
                <a:pathLst>
                  <a:path w="408" h="287">
                    <a:moveTo>
                      <a:pt x="71" y="0"/>
                    </a:moveTo>
                    <a:lnTo>
                      <a:pt x="351" y="34"/>
                    </a:lnTo>
                    <a:lnTo>
                      <a:pt x="364" y="37"/>
                    </a:lnTo>
                    <a:lnTo>
                      <a:pt x="375" y="41"/>
                    </a:lnTo>
                    <a:lnTo>
                      <a:pt x="386" y="48"/>
                    </a:lnTo>
                    <a:lnTo>
                      <a:pt x="394" y="56"/>
                    </a:lnTo>
                    <a:lnTo>
                      <a:pt x="401" y="65"/>
                    </a:lnTo>
                    <a:lnTo>
                      <a:pt x="405" y="74"/>
                    </a:lnTo>
                    <a:lnTo>
                      <a:pt x="408" y="85"/>
                    </a:lnTo>
                    <a:lnTo>
                      <a:pt x="408" y="96"/>
                    </a:lnTo>
                    <a:lnTo>
                      <a:pt x="403" y="163"/>
                    </a:lnTo>
                    <a:lnTo>
                      <a:pt x="401" y="178"/>
                    </a:lnTo>
                    <a:lnTo>
                      <a:pt x="395" y="197"/>
                    </a:lnTo>
                    <a:lnTo>
                      <a:pt x="386" y="219"/>
                    </a:lnTo>
                    <a:lnTo>
                      <a:pt x="371" y="241"/>
                    </a:lnTo>
                    <a:lnTo>
                      <a:pt x="353" y="261"/>
                    </a:lnTo>
                    <a:lnTo>
                      <a:pt x="329" y="277"/>
                    </a:lnTo>
                    <a:lnTo>
                      <a:pt x="301" y="286"/>
                    </a:lnTo>
                    <a:lnTo>
                      <a:pt x="267" y="287"/>
                    </a:lnTo>
                    <a:lnTo>
                      <a:pt x="122" y="270"/>
                    </a:lnTo>
                    <a:lnTo>
                      <a:pt x="92" y="261"/>
                    </a:lnTo>
                    <a:lnTo>
                      <a:pt x="66" y="245"/>
                    </a:lnTo>
                    <a:lnTo>
                      <a:pt x="44" y="223"/>
                    </a:lnTo>
                    <a:lnTo>
                      <a:pt x="28" y="199"/>
                    </a:lnTo>
                    <a:lnTo>
                      <a:pt x="14" y="174"/>
                    </a:lnTo>
                    <a:lnTo>
                      <a:pt x="6" y="149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7" y="35"/>
                    </a:lnTo>
                    <a:lnTo>
                      <a:pt x="12" y="26"/>
                    </a:lnTo>
                    <a:lnTo>
                      <a:pt x="18" y="17"/>
                    </a:lnTo>
                    <a:lnTo>
                      <a:pt x="27" y="10"/>
                    </a:lnTo>
                    <a:lnTo>
                      <a:pt x="36" y="5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497000" y="4597560"/>
                <a:ext cx="25920" cy="14400"/>
              </a:xfrm>
              <a:custGeom>
                <a:avLst/>
                <a:gdLst/>
                <a:ahLst/>
                <a:rect l="l" t="t" r="r" b="b"/>
                <a:pathLst>
                  <a:path w="380" h="266">
                    <a:moveTo>
                      <a:pt x="68" y="0"/>
                    </a:moveTo>
                    <a:lnTo>
                      <a:pt x="327" y="31"/>
                    </a:lnTo>
                    <a:lnTo>
                      <a:pt x="338" y="33"/>
                    </a:lnTo>
                    <a:lnTo>
                      <a:pt x="349" y="39"/>
                    </a:lnTo>
                    <a:lnTo>
                      <a:pt x="358" y="44"/>
                    </a:lnTo>
                    <a:lnTo>
                      <a:pt x="366" y="51"/>
                    </a:lnTo>
                    <a:lnTo>
                      <a:pt x="373" y="60"/>
                    </a:lnTo>
                    <a:lnTo>
                      <a:pt x="377" y="69"/>
                    </a:lnTo>
                    <a:lnTo>
                      <a:pt x="380" y="79"/>
                    </a:lnTo>
                    <a:lnTo>
                      <a:pt x="380" y="89"/>
                    </a:lnTo>
                    <a:lnTo>
                      <a:pt x="375" y="151"/>
                    </a:lnTo>
                    <a:lnTo>
                      <a:pt x="373" y="165"/>
                    </a:lnTo>
                    <a:lnTo>
                      <a:pt x="367" y="182"/>
                    </a:lnTo>
                    <a:lnTo>
                      <a:pt x="358" y="202"/>
                    </a:lnTo>
                    <a:lnTo>
                      <a:pt x="346" y="223"/>
                    </a:lnTo>
                    <a:lnTo>
                      <a:pt x="328" y="242"/>
                    </a:lnTo>
                    <a:lnTo>
                      <a:pt x="307" y="257"/>
                    </a:lnTo>
                    <a:lnTo>
                      <a:pt x="280" y="265"/>
                    </a:lnTo>
                    <a:lnTo>
                      <a:pt x="249" y="266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2" y="227"/>
                    </a:lnTo>
                    <a:lnTo>
                      <a:pt x="42" y="206"/>
                    </a:lnTo>
                    <a:lnTo>
                      <a:pt x="26" y="184"/>
                    </a:lnTo>
                    <a:lnTo>
                      <a:pt x="14" y="160"/>
                    </a:lnTo>
                    <a:lnTo>
                      <a:pt x="5" y="137"/>
                    </a:lnTo>
                    <a:lnTo>
                      <a:pt x="1" y="118"/>
                    </a:lnTo>
                    <a:lnTo>
                      <a:pt x="0" y="105"/>
                    </a:lnTo>
                    <a:lnTo>
                      <a:pt x="5" y="44"/>
                    </a:lnTo>
                    <a:lnTo>
                      <a:pt x="7" y="33"/>
                    </a:lnTo>
                    <a:lnTo>
                      <a:pt x="11" y="23"/>
                    </a:lnTo>
                    <a:lnTo>
                      <a:pt x="18" y="16"/>
                    </a:lnTo>
                    <a:lnTo>
                      <a:pt x="26" y="9"/>
                    </a:lnTo>
                    <a:lnTo>
                      <a:pt x="34" y="4"/>
                    </a:lnTo>
                    <a:lnTo>
                      <a:pt x="45" y="1"/>
                    </a:lnTo>
                    <a:lnTo>
                      <a:pt x="56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497000" y="459756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3" h="233">
                    <a:moveTo>
                      <a:pt x="63" y="0"/>
                    </a:moveTo>
                    <a:lnTo>
                      <a:pt x="311" y="30"/>
                    </a:lnTo>
                    <a:lnTo>
                      <a:pt x="323" y="32"/>
                    </a:lnTo>
                    <a:lnTo>
                      <a:pt x="333" y="37"/>
                    </a:lnTo>
                    <a:lnTo>
                      <a:pt x="342" y="42"/>
                    </a:lnTo>
                    <a:lnTo>
                      <a:pt x="350" y="48"/>
                    </a:lnTo>
                    <a:lnTo>
                      <a:pt x="356" y="56"/>
                    </a:lnTo>
                    <a:lnTo>
                      <a:pt x="360" y="64"/>
                    </a:lnTo>
                    <a:lnTo>
                      <a:pt x="363" y="72"/>
                    </a:lnTo>
                    <a:lnTo>
                      <a:pt x="363" y="81"/>
                    </a:lnTo>
                    <a:lnTo>
                      <a:pt x="359" y="135"/>
                    </a:lnTo>
                    <a:lnTo>
                      <a:pt x="357" y="146"/>
                    </a:lnTo>
                    <a:lnTo>
                      <a:pt x="352" y="162"/>
                    </a:lnTo>
                    <a:lnTo>
                      <a:pt x="344" y="179"/>
                    </a:lnTo>
                    <a:lnTo>
                      <a:pt x="332" y="196"/>
                    </a:lnTo>
                    <a:lnTo>
                      <a:pt x="315" y="212"/>
                    </a:lnTo>
                    <a:lnTo>
                      <a:pt x="296" y="225"/>
                    </a:lnTo>
                    <a:lnTo>
                      <a:pt x="270" y="233"/>
                    </a:lnTo>
                    <a:lnTo>
                      <a:pt x="239" y="233"/>
                    </a:lnTo>
                    <a:lnTo>
                      <a:pt x="110" y="216"/>
                    </a:lnTo>
                    <a:lnTo>
                      <a:pt x="83" y="209"/>
                    </a:lnTo>
                    <a:lnTo>
                      <a:pt x="60" y="196"/>
                    </a:lnTo>
                    <a:lnTo>
                      <a:pt x="41" y="179"/>
                    </a:lnTo>
                    <a:lnTo>
                      <a:pt x="25" y="159"/>
                    </a:lnTo>
                    <a:lnTo>
                      <a:pt x="14" y="138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0"/>
                    </a:lnTo>
                    <a:lnTo>
                      <a:pt x="4" y="37"/>
                    </a:lnTo>
                    <a:lnTo>
                      <a:pt x="6" y="28"/>
                    </a:lnTo>
                    <a:lnTo>
                      <a:pt x="11" y="20"/>
                    </a:lnTo>
                    <a:lnTo>
                      <a:pt x="16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41" y="1"/>
                    </a:lnTo>
                    <a:lnTo>
                      <a:pt x="51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498080" y="4597560"/>
                <a:ext cx="21960" cy="11880"/>
              </a:xfrm>
              <a:custGeom>
                <a:avLst/>
                <a:gdLst/>
                <a:ahLst/>
                <a:rect l="l" t="t" r="r" b="b"/>
                <a:pathLst>
                  <a:path w="331" h="212">
                    <a:moveTo>
                      <a:pt x="58" y="1"/>
                    </a:moveTo>
                    <a:lnTo>
                      <a:pt x="285" y="29"/>
                    </a:lnTo>
                    <a:lnTo>
                      <a:pt x="294" y="31"/>
                    </a:lnTo>
                    <a:lnTo>
                      <a:pt x="304" y="34"/>
                    </a:lnTo>
                    <a:lnTo>
                      <a:pt x="312" y="39"/>
                    </a:lnTo>
                    <a:lnTo>
                      <a:pt x="319" y="45"/>
                    </a:lnTo>
                    <a:lnTo>
                      <a:pt x="324" y="51"/>
                    </a:lnTo>
                    <a:lnTo>
                      <a:pt x="329" y="59"/>
                    </a:lnTo>
                    <a:lnTo>
                      <a:pt x="331" y="66"/>
                    </a:lnTo>
                    <a:lnTo>
                      <a:pt x="331" y="74"/>
                    </a:lnTo>
                    <a:lnTo>
                      <a:pt x="326" y="123"/>
                    </a:lnTo>
                    <a:lnTo>
                      <a:pt x="324" y="133"/>
                    </a:lnTo>
                    <a:lnTo>
                      <a:pt x="320" y="148"/>
                    </a:lnTo>
                    <a:lnTo>
                      <a:pt x="313" y="163"/>
                    </a:lnTo>
                    <a:lnTo>
                      <a:pt x="301" y="179"/>
                    </a:lnTo>
                    <a:lnTo>
                      <a:pt x="287" y="193"/>
                    </a:lnTo>
                    <a:lnTo>
                      <a:pt x="268" y="205"/>
                    </a:lnTo>
                    <a:lnTo>
                      <a:pt x="245" y="212"/>
                    </a:lnTo>
                    <a:lnTo>
                      <a:pt x="217" y="212"/>
                    </a:lnTo>
                    <a:lnTo>
                      <a:pt x="102" y="197"/>
                    </a:lnTo>
                    <a:lnTo>
                      <a:pt x="77" y="191"/>
                    </a:lnTo>
                    <a:lnTo>
                      <a:pt x="55" y="179"/>
                    </a:lnTo>
                    <a:lnTo>
                      <a:pt x="37" y="163"/>
                    </a:lnTo>
                    <a:lnTo>
                      <a:pt x="24" y="144"/>
                    </a:lnTo>
                    <a:lnTo>
                      <a:pt x="12" y="126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2"/>
                    </a:lnTo>
                    <a:lnTo>
                      <a:pt x="4" y="35"/>
                    </a:lnTo>
                    <a:lnTo>
                      <a:pt x="6" y="27"/>
                    </a:lnTo>
                    <a:lnTo>
                      <a:pt x="9" y="19"/>
                    </a:lnTo>
                    <a:lnTo>
                      <a:pt x="14" y="13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8" y="1"/>
                    </a:lnTo>
                    <a:lnTo>
                      <a:pt x="48" y="0"/>
                    </a:lnTo>
                    <a:lnTo>
                      <a:pt x="58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596000" y="4606920"/>
                <a:ext cx="27720" cy="16920"/>
              </a:xfrm>
              <a:custGeom>
                <a:avLst/>
                <a:gdLst/>
                <a:ahLst/>
                <a:rect l="l" t="t" r="r" b="b"/>
                <a:pathLst>
                  <a:path w="409" h="286">
                    <a:moveTo>
                      <a:pt x="72" y="0"/>
                    </a:moveTo>
                    <a:lnTo>
                      <a:pt x="351" y="33"/>
                    </a:lnTo>
                    <a:lnTo>
                      <a:pt x="363" y="36"/>
                    </a:lnTo>
                    <a:lnTo>
                      <a:pt x="374" y="40"/>
                    </a:lnTo>
                    <a:lnTo>
                      <a:pt x="385" y="47"/>
                    </a:lnTo>
                    <a:lnTo>
                      <a:pt x="394" y="55"/>
                    </a:lnTo>
                    <a:lnTo>
                      <a:pt x="400" y="64"/>
                    </a:lnTo>
                    <a:lnTo>
                      <a:pt x="406" y="74"/>
                    </a:lnTo>
                    <a:lnTo>
                      <a:pt x="409" y="84"/>
                    </a:lnTo>
                    <a:lnTo>
                      <a:pt x="409" y="95"/>
                    </a:lnTo>
                    <a:lnTo>
                      <a:pt x="404" y="162"/>
                    </a:lnTo>
                    <a:lnTo>
                      <a:pt x="400" y="177"/>
                    </a:lnTo>
                    <a:lnTo>
                      <a:pt x="395" y="196"/>
                    </a:lnTo>
                    <a:lnTo>
                      <a:pt x="385" y="218"/>
                    </a:lnTo>
                    <a:lnTo>
                      <a:pt x="371" y="240"/>
                    </a:lnTo>
                    <a:lnTo>
                      <a:pt x="353" y="260"/>
                    </a:lnTo>
                    <a:lnTo>
                      <a:pt x="330" y="276"/>
                    </a:lnTo>
                    <a:lnTo>
                      <a:pt x="301" y="285"/>
                    </a:lnTo>
                    <a:lnTo>
                      <a:pt x="266" y="286"/>
                    </a:lnTo>
                    <a:lnTo>
                      <a:pt x="123" y="269"/>
                    </a:lnTo>
                    <a:lnTo>
                      <a:pt x="92" y="260"/>
                    </a:lnTo>
                    <a:lnTo>
                      <a:pt x="66" y="244"/>
                    </a:lnTo>
                    <a:lnTo>
                      <a:pt x="45" y="222"/>
                    </a:lnTo>
                    <a:lnTo>
                      <a:pt x="27" y="198"/>
                    </a:lnTo>
                    <a:lnTo>
                      <a:pt x="14" y="172"/>
                    </a:lnTo>
                    <a:lnTo>
                      <a:pt x="5" y="148"/>
                    </a:lnTo>
                    <a:lnTo>
                      <a:pt x="1" y="127"/>
                    </a:lnTo>
                    <a:lnTo>
                      <a:pt x="0" y="112"/>
                    </a:lnTo>
                    <a:lnTo>
                      <a:pt x="5" y="46"/>
                    </a:lnTo>
                    <a:lnTo>
                      <a:pt x="7" y="35"/>
                    </a:lnTo>
                    <a:lnTo>
                      <a:pt x="11" y="26"/>
                    </a:lnTo>
                    <a:lnTo>
                      <a:pt x="18" y="17"/>
                    </a:lnTo>
                    <a:lnTo>
                      <a:pt x="26" y="10"/>
                    </a:lnTo>
                    <a:lnTo>
                      <a:pt x="36" y="5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597440" y="460692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80" h="267">
                    <a:moveTo>
                      <a:pt x="67" y="0"/>
                    </a:moveTo>
                    <a:lnTo>
                      <a:pt x="327" y="31"/>
                    </a:lnTo>
                    <a:lnTo>
                      <a:pt x="339" y="33"/>
                    </a:lnTo>
                    <a:lnTo>
                      <a:pt x="349" y="38"/>
                    </a:lnTo>
                    <a:lnTo>
                      <a:pt x="358" y="44"/>
                    </a:lnTo>
                    <a:lnTo>
                      <a:pt x="367" y="51"/>
                    </a:lnTo>
                    <a:lnTo>
                      <a:pt x="373" y="60"/>
                    </a:lnTo>
                    <a:lnTo>
                      <a:pt x="377" y="69"/>
                    </a:lnTo>
                    <a:lnTo>
                      <a:pt x="380" y="79"/>
                    </a:lnTo>
                    <a:lnTo>
                      <a:pt x="380" y="89"/>
                    </a:lnTo>
                    <a:lnTo>
                      <a:pt x="375" y="151"/>
                    </a:lnTo>
                    <a:lnTo>
                      <a:pt x="373" y="164"/>
                    </a:lnTo>
                    <a:lnTo>
                      <a:pt x="368" y="183"/>
                    </a:lnTo>
                    <a:lnTo>
                      <a:pt x="358" y="203"/>
                    </a:lnTo>
                    <a:lnTo>
                      <a:pt x="346" y="223"/>
                    </a:lnTo>
                    <a:lnTo>
                      <a:pt x="328" y="243"/>
                    </a:lnTo>
                    <a:lnTo>
                      <a:pt x="307" y="258"/>
                    </a:lnTo>
                    <a:lnTo>
                      <a:pt x="280" y="266"/>
                    </a:lnTo>
                    <a:lnTo>
                      <a:pt x="249" y="267"/>
                    </a:lnTo>
                    <a:lnTo>
                      <a:pt x="115" y="250"/>
                    </a:lnTo>
                    <a:lnTo>
                      <a:pt x="87" y="242"/>
                    </a:lnTo>
                    <a:lnTo>
                      <a:pt x="63" y="228"/>
                    </a:lnTo>
                    <a:lnTo>
                      <a:pt x="42" y="207"/>
                    </a:lnTo>
                    <a:lnTo>
                      <a:pt x="26" y="185"/>
                    </a:lnTo>
                    <a:lnTo>
                      <a:pt x="14" y="160"/>
                    </a:lnTo>
                    <a:lnTo>
                      <a:pt x="6" y="138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6" y="44"/>
                    </a:lnTo>
                    <a:lnTo>
                      <a:pt x="8" y="33"/>
                    </a:lnTo>
                    <a:lnTo>
                      <a:pt x="12" y="24"/>
                    </a:lnTo>
                    <a:lnTo>
                      <a:pt x="18" y="16"/>
                    </a:lnTo>
                    <a:lnTo>
                      <a:pt x="25" y="9"/>
                    </a:lnTo>
                    <a:lnTo>
                      <a:pt x="35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597440" y="4606920"/>
                <a:ext cx="24480" cy="14400"/>
              </a:xfrm>
              <a:custGeom>
                <a:avLst/>
                <a:gdLst/>
                <a:ahLst/>
                <a:rect l="l" t="t" r="r" b="b"/>
                <a:pathLst>
                  <a:path w="365" h="233">
                    <a:moveTo>
                      <a:pt x="64" y="1"/>
                    </a:moveTo>
                    <a:lnTo>
                      <a:pt x="313" y="31"/>
                    </a:lnTo>
                    <a:lnTo>
                      <a:pt x="324" y="33"/>
                    </a:lnTo>
                    <a:lnTo>
                      <a:pt x="333" y="37"/>
                    </a:lnTo>
                    <a:lnTo>
                      <a:pt x="343" y="42"/>
                    </a:lnTo>
                    <a:lnTo>
                      <a:pt x="351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5" y="72"/>
                    </a:lnTo>
                    <a:lnTo>
                      <a:pt x="365" y="81"/>
                    </a:lnTo>
                    <a:lnTo>
                      <a:pt x="360" y="135"/>
                    </a:lnTo>
                    <a:lnTo>
                      <a:pt x="358" y="146"/>
                    </a:lnTo>
                    <a:lnTo>
                      <a:pt x="353" y="161"/>
                    </a:lnTo>
                    <a:lnTo>
                      <a:pt x="345" y="179"/>
                    </a:lnTo>
                    <a:lnTo>
                      <a:pt x="332" y="197"/>
                    </a:lnTo>
                    <a:lnTo>
                      <a:pt x="317" y="213"/>
                    </a:lnTo>
                    <a:lnTo>
                      <a:pt x="296" y="225"/>
                    </a:lnTo>
                    <a:lnTo>
                      <a:pt x="270" y="233"/>
                    </a:lnTo>
                    <a:lnTo>
                      <a:pt x="240" y="233"/>
                    </a:lnTo>
                    <a:lnTo>
                      <a:pt x="112" y="216"/>
                    </a:lnTo>
                    <a:lnTo>
                      <a:pt x="85" y="209"/>
                    </a:lnTo>
                    <a:lnTo>
                      <a:pt x="62" y="196"/>
                    </a:lnTo>
                    <a:lnTo>
                      <a:pt x="42" y="179"/>
                    </a:lnTo>
                    <a:lnTo>
                      <a:pt x="26" y="158"/>
                    </a:lnTo>
                    <a:lnTo>
                      <a:pt x="15" y="138"/>
                    </a:lnTo>
                    <a:lnTo>
                      <a:pt x="7" y="119"/>
                    </a:lnTo>
                    <a:lnTo>
                      <a:pt x="1" y="102"/>
                    </a:lnTo>
                    <a:lnTo>
                      <a:pt x="0" y="91"/>
                    </a:lnTo>
                    <a:lnTo>
                      <a:pt x="6" y="37"/>
                    </a:lnTo>
                    <a:lnTo>
                      <a:pt x="8" y="28"/>
                    </a:lnTo>
                    <a:lnTo>
                      <a:pt x="12" y="21"/>
                    </a:lnTo>
                    <a:lnTo>
                      <a:pt x="17" y="14"/>
                    </a:lnTo>
                    <a:lnTo>
                      <a:pt x="24" y="8"/>
                    </a:lnTo>
                    <a:lnTo>
                      <a:pt x="33" y="4"/>
                    </a:lnTo>
                    <a:lnTo>
                      <a:pt x="42" y="2"/>
                    </a:lnTo>
                    <a:lnTo>
                      <a:pt x="52" y="0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597440" y="4608000"/>
                <a:ext cx="23400" cy="11880"/>
              </a:xfrm>
              <a:custGeom>
                <a:avLst/>
                <a:gdLst/>
                <a:ahLst/>
                <a:rect l="l" t="t" r="r" b="b"/>
                <a:pathLst>
                  <a:path w="331" h="211">
                    <a:moveTo>
                      <a:pt x="58" y="0"/>
                    </a:moveTo>
                    <a:lnTo>
                      <a:pt x="284" y="28"/>
                    </a:lnTo>
                    <a:lnTo>
                      <a:pt x="293" y="30"/>
                    </a:lnTo>
                    <a:lnTo>
                      <a:pt x="303" y="34"/>
                    </a:lnTo>
                    <a:lnTo>
                      <a:pt x="311" y="39"/>
                    </a:lnTo>
                    <a:lnTo>
                      <a:pt x="318" y="44"/>
                    </a:lnTo>
                    <a:lnTo>
                      <a:pt x="324" y="51"/>
                    </a:lnTo>
                    <a:lnTo>
                      <a:pt x="328" y="58"/>
                    </a:lnTo>
                    <a:lnTo>
                      <a:pt x="331" y="66"/>
                    </a:lnTo>
                    <a:lnTo>
                      <a:pt x="331" y="74"/>
                    </a:lnTo>
                    <a:lnTo>
                      <a:pt x="327" y="122"/>
                    </a:lnTo>
                    <a:lnTo>
                      <a:pt x="325" y="132"/>
                    </a:lnTo>
                    <a:lnTo>
                      <a:pt x="321" y="146"/>
                    </a:lnTo>
                    <a:lnTo>
                      <a:pt x="312" y="163"/>
                    </a:lnTo>
                    <a:lnTo>
                      <a:pt x="302" y="179"/>
                    </a:lnTo>
                    <a:lnTo>
                      <a:pt x="287" y="193"/>
                    </a:lnTo>
                    <a:lnTo>
                      <a:pt x="269" y="204"/>
                    </a:lnTo>
                    <a:lnTo>
                      <a:pt x="246" y="211"/>
                    </a:lnTo>
                    <a:lnTo>
                      <a:pt x="218" y="211"/>
                    </a:lnTo>
                    <a:lnTo>
                      <a:pt x="101" y="197"/>
                    </a:lnTo>
                    <a:lnTo>
                      <a:pt x="76" y="190"/>
                    </a:lnTo>
                    <a:lnTo>
                      <a:pt x="55" y="178"/>
                    </a:lnTo>
                    <a:lnTo>
                      <a:pt x="37" y="163"/>
                    </a:lnTo>
                    <a:lnTo>
                      <a:pt x="24" y="144"/>
                    </a:lnTo>
                    <a:lnTo>
                      <a:pt x="13" y="126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2"/>
                    </a:lnTo>
                    <a:lnTo>
                      <a:pt x="4" y="34"/>
                    </a:lnTo>
                    <a:lnTo>
                      <a:pt x="6" y="25"/>
                    </a:lnTo>
                    <a:lnTo>
                      <a:pt x="9" y="19"/>
                    </a:lnTo>
                    <a:lnTo>
                      <a:pt x="15" y="13"/>
                    </a:lnTo>
                    <a:lnTo>
                      <a:pt x="22" y="7"/>
                    </a:lnTo>
                    <a:lnTo>
                      <a:pt x="29" y="4"/>
                    </a:lnTo>
                    <a:lnTo>
                      <a:pt x="39" y="1"/>
                    </a:lnTo>
                    <a:lnTo>
                      <a:pt x="4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562520" y="4602960"/>
                <a:ext cx="28800" cy="16920"/>
              </a:xfrm>
              <a:custGeom>
                <a:avLst/>
                <a:gdLst/>
                <a:ahLst/>
                <a:rect l="l" t="t" r="r" b="b"/>
                <a:pathLst>
                  <a:path w="409" h="287">
                    <a:moveTo>
                      <a:pt x="72" y="1"/>
                    </a:moveTo>
                    <a:lnTo>
                      <a:pt x="351" y="34"/>
                    </a:lnTo>
                    <a:lnTo>
                      <a:pt x="363" y="37"/>
                    </a:lnTo>
                    <a:lnTo>
                      <a:pt x="375" y="41"/>
                    </a:lnTo>
                    <a:lnTo>
                      <a:pt x="385" y="48"/>
                    </a:lnTo>
                    <a:lnTo>
                      <a:pt x="393" y="56"/>
                    </a:lnTo>
                    <a:lnTo>
                      <a:pt x="401" y="65"/>
                    </a:lnTo>
                    <a:lnTo>
                      <a:pt x="406" y="75"/>
                    </a:lnTo>
                    <a:lnTo>
                      <a:pt x="409" y="85"/>
                    </a:lnTo>
                    <a:lnTo>
                      <a:pt x="409" y="96"/>
                    </a:lnTo>
                    <a:lnTo>
                      <a:pt x="403" y="163"/>
                    </a:lnTo>
                    <a:lnTo>
                      <a:pt x="401" y="178"/>
                    </a:lnTo>
                    <a:lnTo>
                      <a:pt x="394" y="197"/>
                    </a:lnTo>
                    <a:lnTo>
                      <a:pt x="385" y="219"/>
                    </a:lnTo>
                    <a:lnTo>
                      <a:pt x="371" y="241"/>
                    </a:lnTo>
                    <a:lnTo>
                      <a:pt x="353" y="261"/>
                    </a:lnTo>
                    <a:lnTo>
                      <a:pt x="329" y="277"/>
                    </a:lnTo>
                    <a:lnTo>
                      <a:pt x="301" y="286"/>
                    </a:lnTo>
                    <a:lnTo>
                      <a:pt x="266" y="287"/>
                    </a:lnTo>
                    <a:lnTo>
                      <a:pt x="124" y="270"/>
                    </a:lnTo>
                    <a:lnTo>
                      <a:pt x="93" y="261"/>
                    </a:lnTo>
                    <a:lnTo>
                      <a:pt x="67" y="245"/>
                    </a:lnTo>
                    <a:lnTo>
                      <a:pt x="45" y="223"/>
                    </a:lnTo>
                    <a:lnTo>
                      <a:pt x="28" y="199"/>
                    </a:lnTo>
                    <a:lnTo>
                      <a:pt x="15" y="174"/>
                    </a:lnTo>
                    <a:lnTo>
                      <a:pt x="6" y="149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6" y="46"/>
                    </a:lnTo>
                    <a:lnTo>
                      <a:pt x="8" y="35"/>
                    </a:lnTo>
                    <a:lnTo>
                      <a:pt x="13" y="26"/>
                    </a:lnTo>
                    <a:lnTo>
                      <a:pt x="19" y="17"/>
                    </a:lnTo>
                    <a:lnTo>
                      <a:pt x="27" y="10"/>
                    </a:lnTo>
                    <a:lnTo>
                      <a:pt x="38" y="5"/>
                    </a:lnTo>
                    <a:lnTo>
                      <a:pt x="48" y="2"/>
                    </a:lnTo>
                    <a:lnTo>
                      <a:pt x="59" y="0"/>
                    </a:lnTo>
                    <a:lnTo>
                      <a:pt x="7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563960" y="4604040"/>
                <a:ext cx="25920" cy="14400"/>
              </a:xfrm>
              <a:custGeom>
                <a:avLst/>
                <a:gdLst/>
                <a:ahLst/>
                <a:rect l="l" t="t" r="r" b="b"/>
                <a:pathLst>
                  <a:path w="377" h="266">
                    <a:moveTo>
                      <a:pt x="66" y="0"/>
                    </a:moveTo>
                    <a:lnTo>
                      <a:pt x="324" y="31"/>
                    </a:lnTo>
                    <a:lnTo>
                      <a:pt x="336" y="33"/>
                    </a:lnTo>
                    <a:lnTo>
                      <a:pt x="346" y="38"/>
                    </a:lnTo>
                    <a:lnTo>
                      <a:pt x="355" y="44"/>
                    </a:lnTo>
                    <a:lnTo>
                      <a:pt x="364" y="51"/>
                    </a:lnTo>
                    <a:lnTo>
                      <a:pt x="370" y="60"/>
                    </a:lnTo>
                    <a:lnTo>
                      <a:pt x="375" y="69"/>
                    </a:lnTo>
                    <a:lnTo>
                      <a:pt x="377" y="79"/>
                    </a:lnTo>
                    <a:lnTo>
                      <a:pt x="377" y="89"/>
                    </a:lnTo>
                    <a:lnTo>
                      <a:pt x="373" y="151"/>
                    </a:lnTo>
                    <a:lnTo>
                      <a:pt x="371" y="165"/>
                    </a:lnTo>
                    <a:lnTo>
                      <a:pt x="365" y="183"/>
                    </a:lnTo>
                    <a:lnTo>
                      <a:pt x="357" y="203"/>
                    </a:lnTo>
                    <a:lnTo>
                      <a:pt x="343" y="223"/>
                    </a:lnTo>
                    <a:lnTo>
                      <a:pt x="326" y="243"/>
                    </a:lnTo>
                    <a:lnTo>
                      <a:pt x="305" y="257"/>
                    </a:lnTo>
                    <a:lnTo>
                      <a:pt x="278" y="266"/>
                    </a:lnTo>
                    <a:lnTo>
                      <a:pt x="246" y="266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1" y="227"/>
                    </a:lnTo>
                    <a:lnTo>
                      <a:pt x="41" y="207"/>
                    </a:lnTo>
                    <a:lnTo>
                      <a:pt x="26" y="184"/>
                    </a:lnTo>
                    <a:lnTo>
                      <a:pt x="13" y="160"/>
                    </a:lnTo>
                    <a:lnTo>
                      <a:pt x="5" y="138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3"/>
                    </a:lnTo>
                    <a:lnTo>
                      <a:pt x="11" y="24"/>
                    </a:lnTo>
                    <a:lnTo>
                      <a:pt x="17" y="16"/>
                    </a:lnTo>
                    <a:lnTo>
                      <a:pt x="25" y="9"/>
                    </a:lnTo>
                    <a:lnTo>
                      <a:pt x="34" y="4"/>
                    </a:lnTo>
                    <a:lnTo>
                      <a:pt x="43" y="1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563960" y="460404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3" h="233">
                    <a:moveTo>
                      <a:pt x="62" y="1"/>
                    </a:moveTo>
                    <a:lnTo>
                      <a:pt x="311" y="31"/>
                    </a:lnTo>
                    <a:lnTo>
                      <a:pt x="322" y="33"/>
                    </a:lnTo>
                    <a:lnTo>
                      <a:pt x="332" y="37"/>
                    </a:lnTo>
                    <a:lnTo>
                      <a:pt x="341" y="43"/>
                    </a:lnTo>
                    <a:lnTo>
                      <a:pt x="349" y="49"/>
                    </a:lnTo>
                    <a:lnTo>
                      <a:pt x="356" y="56"/>
                    </a:lnTo>
                    <a:lnTo>
                      <a:pt x="360" y="64"/>
                    </a:lnTo>
                    <a:lnTo>
                      <a:pt x="363" y="72"/>
                    </a:lnTo>
                    <a:lnTo>
                      <a:pt x="363" y="81"/>
                    </a:lnTo>
                    <a:lnTo>
                      <a:pt x="359" y="135"/>
                    </a:lnTo>
                    <a:lnTo>
                      <a:pt x="357" y="146"/>
                    </a:lnTo>
                    <a:lnTo>
                      <a:pt x="351" y="161"/>
                    </a:lnTo>
                    <a:lnTo>
                      <a:pt x="343" y="179"/>
                    </a:lnTo>
                    <a:lnTo>
                      <a:pt x="331" y="197"/>
                    </a:lnTo>
                    <a:lnTo>
                      <a:pt x="315" y="213"/>
                    </a:lnTo>
                    <a:lnTo>
                      <a:pt x="294" y="226"/>
                    </a:lnTo>
                    <a:lnTo>
                      <a:pt x="268" y="233"/>
                    </a:lnTo>
                    <a:lnTo>
                      <a:pt x="238" y="233"/>
                    </a:lnTo>
                    <a:lnTo>
                      <a:pt x="111" y="216"/>
                    </a:lnTo>
                    <a:lnTo>
                      <a:pt x="84" y="209"/>
                    </a:lnTo>
                    <a:lnTo>
                      <a:pt x="60" y="196"/>
                    </a:lnTo>
                    <a:lnTo>
                      <a:pt x="40" y="179"/>
                    </a:lnTo>
                    <a:lnTo>
                      <a:pt x="25" y="158"/>
                    </a:lnTo>
                    <a:lnTo>
                      <a:pt x="13" y="138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4" y="36"/>
                    </a:lnTo>
                    <a:lnTo>
                      <a:pt x="6" y="28"/>
                    </a:lnTo>
                    <a:lnTo>
                      <a:pt x="10" y="20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40" y="2"/>
                    </a:lnTo>
                    <a:lnTo>
                      <a:pt x="51" y="0"/>
                    </a:lnTo>
                    <a:lnTo>
                      <a:pt x="62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565400" y="4604040"/>
                <a:ext cx="21600" cy="12960"/>
              </a:xfrm>
              <a:custGeom>
                <a:avLst/>
                <a:gdLst/>
                <a:ahLst/>
                <a:rect l="l" t="t" r="r" b="b"/>
                <a:pathLst>
                  <a:path w="330" h="211">
                    <a:moveTo>
                      <a:pt x="58" y="0"/>
                    </a:moveTo>
                    <a:lnTo>
                      <a:pt x="283" y="27"/>
                    </a:lnTo>
                    <a:lnTo>
                      <a:pt x="293" y="30"/>
                    </a:lnTo>
                    <a:lnTo>
                      <a:pt x="302" y="34"/>
                    </a:lnTo>
                    <a:lnTo>
                      <a:pt x="310" y="39"/>
                    </a:lnTo>
                    <a:lnTo>
                      <a:pt x="318" y="44"/>
                    </a:lnTo>
                    <a:lnTo>
                      <a:pt x="323" y="51"/>
                    </a:lnTo>
                    <a:lnTo>
                      <a:pt x="327" y="58"/>
                    </a:lnTo>
                    <a:lnTo>
                      <a:pt x="329" y="66"/>
                    </a:lnTo>
                    <a:lnTo>
                      <a:pt x="330" y="74"/>
                    </a:lnTo>
                    <a:lnTo>
                      <a:pt x="326" y="122"/>
                    </a:lnTo>
                    <a:lnTo>
                      <a:pt x="324" y="132"/>
                    </a:lnTo>
                    <a:lnTo>
                      <a:pt x="320" y="146"/>
                    </a:lnTo>
                    <a:lnTo>
                      <a:pt x="311" y="163"/>
                    </a:lnTo>
                    <a:lnTo>
                      <a:pt x="301" y="179"/>
                    </a:lnTo>
                    <a:lnTo>
                      <a:pt x="286" y="193"/>
                    </a:lnTo>
                    <a:lnTo>
                      <a:pt x="268" y="204"/>
                    </a:lnTo>
                    <a:lnTo>
                      <a:pt x="245" y="211"/>
                    </a:lnTo>
                    <a:lnTo>
                      <a:pt x="217" y="211"/>
                    </a:lnTo>
                    <a:lnTo>
                      <a:pt x="101" y="197"/>
                    </a:lnTo>
                    <a:lnTo>
                      <a:pt x="76" y="190"/>
                    </a:lnTo>
                    <a:lnTo>
                      <a:pt x="55" y="178"/>
                    </a:lnTo>
                    <a:lnTo>
                      <a:pt x="38" y="163"/>
                    </a:lnTo>
                    <a:lnTo>
                      <a:pt x="23" y="144"/>
                    </a:lnTo>
                    <a:lnTo>
                      <a:pt x="13" y="125"/>
                    </a:lnTo>
                    <a:lnTo>
                      <a:pt x="5" y="108"/>
                    </a:lnTo>
                    <a:lnTo>
                      <a:pt x="1" y="93"/>
                    </a:lnTo>
                    <a:lnTo>
                      <a:pt x="0" y="82"/>
                    </a:lnTo>
                    <a:lnTo>
                      <a:pt x="4" y="34"/>
                    </a:lnTo>
                    <a:lnTo>
                      <a:pt x="7" y="25"/>
                    </a:lnTo>
                    <a:lnTo>
                      <a:pt x="10" y="18"/>
                    </a:lnTo>
                    <a:lnTo>
                      <a:pt x="15" y="12"/>
                    </a:lnTo>
                    <a:lnTo>
                      <a:pt x="22" y="7"/>
                    </a:lnTo>
                    <a:lnTo>
                      <a:pt x="29" y="3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529040" y="460008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410" h="287">
                    <a:moveTo>
                      <a:pt x="72" y="0"/>
                    </a:moveTo>
                    <a:lnTo>
                      <a:pt x="352" y="34"/>
                    </a:lnTo>
                    <a:lnTo>
                      <a:pt x="365" y="37"/>
                    </a:lnTo>
                    <a:lnTo>
                      <a:pt x="376" y="41"/>
                    </a:lnTo>
                    <a:lnTo>
                      <a:pt x="386" y="48"/>
                    </a:lnTo>
                    <a:lnTo>
                      <a:pt x="395" y="56"/>
                    </a:lnTo>
                    <a:lnTo>
                      <a:pt x="402" y="65"/>
                    </a:lnTo>
                    <a:lnTo>
                      <a:pt x="407" y="74"/>
                    </a:lnTo>
                    <a:lnTo>
                      <a:pt x="410" y="85"/>
                    </a:lnTo>
                    <a:lnTo>
                      <a:pt x="410" y="96"/>
                    </a:lnTo>
                    <a:lnTo>
                      <a:pt x="404" y="163"/>
                    </a:lnTo>
                    <a:lnTo>
                      <a:pt x="402" y="178"/>
                    </a:lnTo>
                    <a:lnTo>
                      <a:pt x="396" y="197"/>
                    </a:lnTo>
                    <a:lnTo>
                      <a:pt x="386" y="219"/>
                    </a:lnTo>
                    <a:lnTo>
                      <a:pt x="372" y="241"/>
                    </a:lnTo>
                    <a:lnTo>
                      <a:pt x="354" y="261"/>
                    </a:lnTo>
                    <a:lnTo>
                      <a:pt x="330" y="277"/>
                    </a:lnTo>
                    <a:lnTo>
                      <a:pt x="302" y="286"/>
                    </a:lnTo>
                    <a:lnTo>
                      <a:pt x="268" y="287"/>
                    </a:lnTo>
                    <a:lnTo>
                      <a:pt x="123" y="270"/>
                    </a:lnTo>
                    <a:lnTo>
                      <a:pt x="93" y="261"/>
                    </a:lnTo>
                    <a:lnTo>
                      <a:pt x="67" y="245"/>
                    </a:lnTo>
                    <a:lnTo>
                      <a:pt x="45" y="223"/>
                    </a:lnTo>
                    <a:lnTo>
                      <a:pt x="28" y="199"/>
                    </a:lnTo>
                    <a:lnTo>
                      <a:pt x="15" y="174"/>
                    </a:lnTo>
                    <a:lnTo>
                      <a:pt x="7" y="149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7" y="46"/>
                    </a:lnTo>
                    <a:lnTo>
                      <a:pt x="9" y="35"/>
                    </a:lnTo>
                    <a:lnTo>
                      <a:pt x="13" y="26"/>
                    </a:lnTo>
                    <a:lnTo>
                      <a:pt x="19" y="17"/>
                    </a:lnTo>
                    <a:lnTo>
                      <a:pt x="27" y="10"/>
                    </a:lnTo>
                    <a:lnTo>
                      <a:pt x="38" y="5"/>
                    </a:lnTo>
                    <a:lnTo>
                      <a:pt x="48" y="1"/>
                    </a:lnTo>
                    <a:lnTo>
                      <a:pt x="6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530120" y="460008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79" h="266">
                    <a:moveTo>
                      <a:pt x="66" y="0"/>
                    </a:moveTo>
                    <a:lnTo>
                      <a:pt x="326" y="31"/>
                    </a:lnTo>
                    <a:lnTo>
                      <a:pt x="337" y="33"/>
                    </a:lnTo>
                    <a:lnTo>
                      <a:pt x="347" y="39"/>
                    </a:lnTo>
                    <a:lnTo>
                      <a:pt x="357" y="44"/>
                    </a:lnTo>
                    <a:lnTo>
                      <a:pt x="365" y="51"/>
                    </a:lnTo>
                    <a:lnTo>
                      <a:pt x="371" y="60"/>
                    </a:lnTo>
                    <a:lnTo>
                      <a:pt x="377" y="69"/>
                    </a:lnTo>
                    <a:lnTo>
                      <a:pt x="379" y="79"/>
                    </a:lnTo>
                    <a:lnTo>
                      <a:pt x="379" y="89"/>
                    </a:lnTo>
                    <a:lnTo>
                      <a:pt x="373" y="151"/>
                    </a:lnTo>
                    <a:lnTo>
                      <a:pt x="371" y="165"/>
                    </a:lnTo>
                    <a:lnTo>
                      <a:pt x="366" y="182"/>
                    </a:lnTo>
                    <a:lnTo>
                      <a:pt x="357" y="202"/>
                    </a:lnTo>
                    <a:lnTo>
                      <a:pt x="344" y="223"/>
                    </a:lnTo>
                    <a:lnTo>
                      <a:pt x="328" y="242"/>
                    </a:lnTo>
                    <a:lnTo>
                      <a:pt x="306" y="257"/>
                    </a:lnTo>
                    <a:lnTo>
                      <a:pt x="280" y="265"/>
                    </a:lnTo>
                    <a:lnTo>
                      <a:pt x="248" y="266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1" y="227"/>
                    </a:lnTo>
                    <a:lnTo>
                      <a:pt x="41" y="207"/>
                    </a:lnTo>
                    <a:lnTo>
                      <a:pt x="26" y="184"/>
                    </a:lnTo>
                    <a:lnTo>
                      <a:pt x="13" y="161"/>
                    </a:lnTo>
                    <a:lnTo>
                      <a:pt x="5" y="138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3"/>
                    </a:lnTo>
                    <a:lnTo>
                      <a:pt x="11" y="23"/>
                    </a:lnTo>
                    <a:lnTo>
                      <a:pt x="18" y="16"/>
                    </a:lnTo>
                    <a:lnTo>
                      <a:pt x="25" y="9"/>
                    </a:lnTo>
                    <a:lnTo>
                      <a:pt x="34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530120" y="46000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4" h="233">
                    <a:moveTo>
                      <a:pt x="62" y="0"/>
                    </a:moveTo>
                    <a:lnTo>
                      <a:pt x="312" y="31"/>
                    </a:lnTo>
                    <a:lnTo>
                      <a:pt x="324" y="33"/>
                    </a:lnTo>
                    <a:lnTo>
                      <a:pt x="333" y="37"/>
                    </a:lnTo>
                    <a:lnTo>
                      <a:pt x="342" y="42"/>
                    </a:lnTo>
                    <a:lnTo>
                      <a:pt x="351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4" y="72"/>
                    </a:lnTo>
                    <a:lnTo>
                      <a:pt x="364" y="81"/>
                    </a:lnTo>
                    <a:lnTo>
                      <a:pt x="359" y="135"/>
                    </a:lnTo>
                    <a:lnTo>
                      <a:pt x="357" y="146"/>
                    </a:lnTo>
                    <a:lnTo>
                      <a:pt x="353" y="162"/>
                    </a:lnTo>
                    <a:lnTo>
                      <a:pt x="344" y="179"/>
                    </a:lnTo>
                    <a:lnTo>
                      <a:pt x="332" y="196"/>
                    </a:lnTo>
                    <a:lnTo>
                      <a:pt x="315" y="212"/>
                    </a:lnTo>
                    <a:lnTo>
                      <a:pt x="295" y="225"/>
                    </a:lnTo>
                    <a:lnTo>
                      <a:pt x="269" y="233"/>
                    </a:lnTo>
                    <a:lnTo>
                      <a:pt x="239" y="233"/>
                    </a:lnTo>
                    <a:lnTo>
                      <a:pt x="110" y="216"/>
                    </a:lnTo>
                    <a:lnTo>
                      <a:pt x="83" y="209"/>
                    </a:lnTo>
                    <a:lnTo>
                      <a:pt x="60" y="196"/>
                    </a:lnTo>
                    <a:lnTo>
                      <a:pt x="40" y="179"/>
                    </a:lnTo>
                    <a:lnTo>
                      <a:pt x="25" y="158"/>
                    </a:lnTo>
                    <a:lnTo>
                      <a:pt x="13" y="138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4" y="36"/>
                    </a:lnTo>
                    <a:lnTo>
                      <a:pt x="6" y="28"/>
                    </a:lnTo>
                    <a:lnTo>
                      <a:pt x="10" y="20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40" y="1"/>
                    </a:lnTo>
                    <a:lnTo>
                      <a:pt x="51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531920" y="4601520"/>
                <a:ext cx="21600" cy="11880"/>
              </a:xfrm>
              <a:custGeom>
                <a:avLst/>
                <a:gdLst/>
                <a:ahLst/>
                <a:rect l="l" t="t" r="r" b="b"/>
                <a:pathLst>
                  <a:path w="329" h="212">
                    <a:moveTo>
                      <a:pt x="57" y="0"/>
                    </a:moveTo>
                    <a:lnTo>
                      <a:pt x="284" y="28"/>
                    </a:lnTo>
                    <a:lnTo>
                      <a:pt x="293" y="30"/>
                    </a:lnTo>
                    <a:lnTo>
                      <a:pt x="302" y="34"/>
                    </a:lnTo>
                    <a:lnTo>
                      <a:pt x="311" y="38"/>
                    </a:lnTo>
                    <a:lnTo>
                      <a:pt x="318" y="44"/>
                    </a:lnTo>
                    <a:lnTo>
                      <a:pt x="323" y="51"/>
                    </a:lnTo>
                    <a:lnTo>
                      <a:pt x="327" y="58"/>
                    </a:lnTo>
                    <a:lnTo>
                      <a:pt x="329" y="65"/>
                    </a:lnTo>
                    <a:lnTo>
                      <a:pt x="329" y="73"/>
                    </a:lnTo>
                    <a:lnTo>
                      <a:pt x="325" y="122"/>
                    </a:lnTo>
                    <a:lnTo>
                      <a:pt x="323" y="132"/>
                    </a:lnTo>
                    <a:lnTo>
                      <a:pt x="319" y="146"/>
                    </a:lnTo>
                    <a:lnTo>
                      <a:pt x="312" y="162"/>
                    </a:lnTo>
                    <a:lnTo>
                      <a:pt x="301" y="178"/>
                    </a:lnTo>
                    <a:lnTo>
                      <a:pt x="286" y="193"/>
                    </a:lnTo>
                    <a:lnTo>
                      <a:pt x="268" y="204"/>
                    </a:lnTo>
                    <a:lnTo>
                      <a:pt x="245" y="212"/>
                    </a:lnTo>
                    <a:lnTo>
                      <a:pt x="217" y="212"/>
                    </a:lnTo>
                    <a:lnTo>
                      <a:pt x="100" y="197"/>
                    </a:lnTo>
                    <a:lnTo>
                      <a:pt x="75" y="190"/>
                    </a:lnTo>
                    <a:lnTo>
                      <a:pt x="54" y="178"/>
                    </a:lnTo>
                    <a:lnTo>
                      <a:pt x="36" y="163"/>
                    </a:lnTo>
                    <a:lnTo>
                      <a:pt x="22" y="143"/>
                    </a:lnTo>
                    <a:lnTo>
                      <a:pt x="12" y="125"/>
                    </a:lnTo>
                    <a:lnTo>
                      <a:pt x="5" y="107"/>
                    </a:lnTo>
                    <a:lnTo>
                      <a:pt x="1" y="93"/>
                    </a:lnTo>
                    <a:lnTo>
                      <a:pt x="0" y="81"/>
                    </a:lnTo>
                    <a:lnTo>
                      <a:pt x="4" y="34"/>
                    </a:lnTo>
                    <a:lnTo>
                      <a:pt x="5" y="25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20" y="7"/>
                    </a:lnTo>
                    <a:lnTo>
                      <a:pt x="28" y="3"/>
                    </a:lnTo>
                    <a:lnTo>
                      <a:pt x="37" y="1"/>
                    </a:lnTo>
                    <a:lnTo>
                      <a:pt x="46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493760" y="4615920"/>
                <a:ext cx="27720" cy="15840"/>
              </a:xfrm>
              <a:custGeom>
                <a:avLst/>
                <a:gdLst/>
                <a:ahLst/>
                <a:rect l="l" t="t" r="r" b="b"/>
                <a:pathLst>
                  <a:path w="410" h="288">
                    <a:moveTo>
                      <a:pt x="72" y="0"/>
                    </a:moveTo>
                    <a:lnTo>
                      <a:pt x="352" y="35"/>
                    </a:lnTo>
                    <a:lnTo>
                      <a:pt x="365" y="37"/>
                    </a:lnTo>
                    <a:lnTo>
                      <a:pt x="376" y="42"/>
                    </a:lnTo>
                    <a:lnTo>
                      <a:pt x="387" y="48"/>
                    </a:lnTo>
                    <a:lnTo>
                      <a:pt x="395" y="55"/>
                    </a:lnTo>
                    <a:lnTo>
                      <a:pt x="402" y="64"/>
                    </a:lnTo>
                    <a:lnTo>
                      <a:pt x="407" y="74"/>
                    </a:lnTo>
                    <a:lnTo>
                      <a:pt x="410" y="85"/>
                    </a:lnTo>
                    <a:lnTo>
                      <a:pt x="410" y="96"/>
                    </a:lnTo>
                    <a:lnTo>
                      <a:pt x="404" y="163"/>
                    </a:lnTo>
                    <a:lnTo>
                      <a:pt x="402" y="177"/>
                    </a:lnTo>
                    <a:lnTo>
                      <a:pt x="396" y="196"/>
                    </a:lnTo>
                    <a:lnTo>
                      <a:pt x="387" y="219"/>
                    </a:lnTo>
                    <a:lnTo>
                      <a:pt x="372" y="240"/>
                    </a:lnTo>
                    <a:lnTo>
                      <a:pt x="354" y="261"/>
                    </a:lnTo>
                    <a:lnTo>
                      <a:pt x="330" y="277"/>
                    </a:lnTo>
                    <a:lnTo>
                      <a:pt x="302" y="287"/>
                    </a:lnTo>
                    <a:lnTo>
                      <a:pt x="268" y="288"/>
                    </a:lnTo>
                    <a:lnTo>
                      <a:pt x="124" y="270"/>
                    </a:lnTo>
                    <a:lnTo>
                      <a:pt x="93" y="260"/>
                    </a:lnTo>
                    <a:lnTo>
                      <a:pt x="67" y="245"/>
                    </a:lnTo>
                    <a:lnTo>
                      <a:pt x="45" y="223"/>
                    </a:lnTo>
                    <a:lnTo>
                      <a:pt x="29" y="198"/>
                    </a:lnTo>
                    <a:lnTo>
                      <a:pt x="15" y="173"/>
                    </a:lnTo>
                    <a:lnTo>
                      <a:pt x="7" y="149"/>
                    </a:lnTo>
                    <a:lnTo>
                      <a:pt x="1" y="128"/>
                    </a:lnTo>
                    <a:lnTo>
                      <a:pt x="0" y="113"/>
                    </a:lnTo>
                    <a:lnTo>
                      <a:pt x="7" y="47"/>
                    </a:lnTo>
                    <a:lnTo>
                      <a:pt x="9" y="36"/>
                    </a:lnTo>
                    <a:lnTo>
                      <a:pt x="13" y="27"/>
                    </a:lnTo>
                    <a:lnTo>
                      <a:pt x="19" y="18"/>
                    </a:lnTo>
                    <a:lnTo>
                      <a:pt x="27" y="10"/>
                    </a:lnTo>
                    <a:lnTo>
                      <a:pt x="38" y="5"/>
                    </a:lnTo>
                    <a:lnTo>
                      <a:pt x="48" y="1"/>
                    </a:lnTo>
                    <a:lnTo>
                      <a:pt x="6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495560" y="4615920"/>
                <a:ext cx="25920" cy="15840"/>
              </a:xfrm>
              <a:custGeom>
                <a:avLst/>
                <a:gdLst/>
                <a:ahLst/>
                <a:rect l="l" t="t" r="r" b="b"/>
                <a:pathLst>
                  <a:path w="379" h="268">
                    <a:moveTo>
                      <a:pt x="67" y="0"/>
                    </a:moveTo>
                    <a:lnTo>
                      <a:pt x="326" y="33"/>
                    </a:lnTo>
                    <a:lnTo>
                      <a:pt x="337" y="35"/>
                    </a:lnTo>
                    <a:lnTo>
                      <a:pt x="348" y="39"/>
                    </a:lnTo>
                    <a:lnTo>
                      <a:pt x="357" y="45"/>
                    </a:lnTo>
                    <a:lnTo>
                      <a:pt x="365" y="52"/>
                    </a:lnTo>
                    <a:lnTo>
                      <a:pt x="371" y="60"/>
                    </a:lnTo>
                    <a:lnTo>
                      <a:pt x="377" y="70"/>
                    </a:lnTo>
                    <a:lnTo>
                      <a:pt x="379" y="80"/>
                    </a:lnTo>
                    <a:lnTo>
                      <a:pt x="379" y="90"/>
                    </a:lnTo>
                    <a:lnTo>
                      <a:pt x="374" y="152"/>
                    </a:lnTo>
                    <a:lnTo>
                      <a:pt x="371" y="165"/>
                    </a:lnTo>
                    <a:lnTo>
                      <a:pt x="366" y="183"/>
                    </a:lnTo>
                    <a:lnTo>
                      <a:pt x="357" y="204"/>
                    </a:lnTo>
                    <a:lnTo>
                      <a:pt x="344" y="224"/>
                    </a:lnTo>
                    <a:lnTo>
                      <a:pt x="328" y="243"/>
                    </a:lnTo>
                    <a:lnTo>
                      <a:pt x="306" y="259"/>
                    </a:lnTo>
                    <a:lnTo>
                      <a:pt x="280" y="267"/>
                    </a:lnTo>
                    <a:lnTo>
                      <a:pt x="248" y="268"/>
                    </a:lnTo>
                    <a:lnTo>
                      <a:pt x="114" y="251"/>
                    </a:lnTo>
                    <a:lnTo>
                      <a:pt x="86" y="243"/>
                    </a:lnTo>
                    <a:lnTo>
                      <a:pt x="61" y="228"/>
                    </a:lnTo>
                    <a:lnTo>
                      <a:pt x="42" y="208"/>
                    </a:lnTo>
                    <a:lnTo>
                      <a:pt x="26" y="185"/>
                    </a:lnTo>
                    <a:lnTo>
                      <a:pt x="13" y="161"/>
                    </a:lnTo>
                    <a:lnTo>
                      <a:pt x="5" y="139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4"/>
                    </a:lnTo>
                    <a:lnTo>
                      <a:pt x="11" y="25"/>
                    </a:lnTo>
                    <a:lnTo>
                      <a:pt x="18" y="17"/>
                    </a:lnTo>
                    <a:lnTo>
                      <a:pt x="25" y="10"/>
                    </a:lnTo>
                    <a:lnTo>
                      <a:pt x="34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495560" y="461592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4" h="233">
                    <a:moveTo>
                      <a:pt x="62" y="1"/>
                    </a:moveTo>
                    <a:lnTo>
                      <a:pt x="312" y="32"/>
                    </a:lnTo>
                    <a:lnTo>
                      <a:pt x="324" y="34"/>
                    </a:lnTo>
                    <a:lnTo>
                      <a:pt x="333" y="38"/>
                    </a:lnTo>
                    <a:lnTo>
                      <a:pt x="342" y="43"/>
                    </a:lnTo>
                    <a:lnTo>
                      <a:pt x="351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4" y="73"/>
                    </a:lnTo>
                    <a:lnTo>
                      <a:pt x="364" y="82"/>
                    </a:lnTo>
                    <a:lnTo>
                      <a:pt x="359" y="136"/>
                    </a:lnTo>
                    <a:lnTo>
                      <a:pt x="357" y="147"/>
                    </a:lnTo>
                    <a:lnTo>
                      <a:pt x="353" y="162"/>
                    </a:lnTo>
                    <a:lnTo>
                      <a:pt x="344" y="179"/>
                    </a:lnTo>
                    <a:lnTo>
                      <a:pt x="332" y="198"/>
                    </a:lnTo>
                    <a:lnTo>
                      <a:pt x="315" y="214"/>
                    </a:lnTo>
                    <a:lnTo>
                      <a:pt x="296" y="226"/>
                    </a:lnTo>
                    <a:lnTo>
                      <a:pt x="270" y="233"/>
                    </a:lnTo>
                    <a:lnTo>
                      <a:pt x="239" y="233"/>
                    </a:lnTo>
                    <a:lnTo>
                      <a:pt x="110" y="218"/>
                    </a:lnTo>
                    <a:lnTo>
                      <a:pt x="83" y="211"/>
                    </a:lnTo>
                    <a:lnTo>
                      <a:pt x="60" y="197"/>
                    </a:lnTo>
                    <a:lnTo>
                      <a:pt x="41" y="179"/>
                    </a:lnTo>
                    <a:lnTo>
                      <a:pt x="25" y="159"/>
                    </a:lnTo>
                    <a:lnTo>
                      <a:pt x="14" y="139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2"/>
                    </a:lnTo>
                    <a:lnTo>
                      <a:pt x="4" y="38"/>
                    </a:lnTo>
                    <a:lnTo>
                      <a:pt x="6" y="29"/>
                    </a:lnTo>
                    <a:lnTo>
                      <a:pt x="10" y="22"/>
                    </a:lnTo>
                    <a:lnTo>
                      <a:pt x="16" y="15"/>
                    </a:lnTo>
                    <a:lnTo>
                      <a:pt x="23" y="9"/>
                    </a:lnTo>
                    <a:lnTo>
                      <a:pt x="31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62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495560" y="461736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330" h="211">
                    <a:moveTo>
                      <a:pt x="57" y="0"/>
                    </a:moveTo>
                    <a:lnTo>
                      <a:pt x="284" y="28"/>
                    </a:lnTo>
                    <a:lnTo>
                      <a:pt x="293" y="30"/>
                    </a:lnTo>
                    <a:lnTo>
                      <a:pt x="302" y="33"/>
                    </a:lnTo>
                    <a:lnTo>
                      <a:pt x="311" y="38"/>
                    </a:lnTo>
                    <a:lnTo>
                      <a:pt x="318" y="43"/>
                    </a:lnTo>
                    <a:lnTo>
                      <a:pt x="323" y="50"/>
                    </a:lnTo>
                    <a:lnTo>
                      <a:pt x="327" y="58"/>
                    </a:lnTo>
                    <a:lnTo>
                      <a:pt x="330" y="66"/>
                    </a:lnTo>
                    <a:lnTo>
                      <a:pt x="330" y="74"/>
                    </a:lnTo>
                    <a:lnTo>
                      <a:pt x="326" y="122"/>
                    </a:lnTo>
                    <a:lnTo>
                      <a:pt x="324" y="132"/>
                    </a:lnTo>
                    <a:lnTo>
                      <a:pt x="320" y="146"/>
                    </a:lnTo>
                    <a:lnTo>
                      <a:pt x="312" y="162"/>
                    </a:lnTo>
                    <a:lnTo>
                      <a:pt x="301" y="178"/>
                    </a:lnTo>
                    <a:lnTo>
                      <a:pt x="287" y="193"/>
                    </a:lnTo>
                    <a:lnTo>
                      <a:pt x="268" y="204"/>
                    </a:lnTo>
                    <a:lnTo>
                      <a:pt x="245" y="211"/>
                    </a:lnTo>
                    <a:lnTo>
                      <a:pt x="217" y="211"/>
                    </a:lnTo>
                    <a:lnTo>
                      <a:pt x="101" y="197"/>
                    </a:lnTo>
                    <a:lnTo>
                      <a:pt x="76" y="190"/>
                    </a:lnTo>
                    <a:lnTo>
                      <a:pt x="54" y="177"/>
                    </a:lnTo>
                    <a:lnTo>
                      <a:pt x="36" y="162"/>
                    </a:lnTo>
                    <a:lnTo>
                      <a:pt x="23" y="144"/>
                    </a:lnTo>
                    <a:lnTo>
                      <a:pt x="12" y="126"/>
                    </a:lnTo>
                    <a:lnTo>
                      <a:pt x="5" y="107"/>
                    </a:lnTo>
                    <a:lnTo>
                      <a:pt x="1" y="93"/>
                    </a:lnTo>
                    <a:lnTo>
                      <a:pt x="0" y="82"/>
                    </a:lnTo>
                    <a:lnTo>
                      <a:pt x="4" y="33"/>
                    </a:lnTo>
                    <a:lnTo>
                      <a:pt x="5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20" y="7"/>
                    </a:lnTo>
                    <a:lnTo>
                      <a:pt x="28" y="4"/>
                    </a:lnTo>
                    <a:lnTo>
                      <a:pt x="37" y="1"/>
                    </a:lnTo>
                    <a:lnTo>
                      <a:pt x="46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594560" y="462672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409" h="288">
                    <a:moveTo>
                      <a:pt x="72" y="0"/>
                    </a:moveTo>
                    <a:lnTo>
                      <a:pt x="351" y="35"/>
                    </a:lnTo>
                    <a:lnTo>
                      <a:pt x="364" y="38"/>
                    </a:lnTo>
                    <a:lnTo>
                      <a:pt x="375" y="42"/>
                    </a:lnTo>
                    <a:lnTo>
                      <a:pt x="386" y="48"/>
                    </a:lnTo>
                    <a:lnTo>
                      <a:pt x="394" y="56"/>
                    </a:lnTo>
                    <a:lnTo>
                      <a:pt x="401" y="65"/>
                    </a:lnTo>
                    <a:lnTo>
                      <a:pt x="406" y="74"/>
                    </a:lnTo>
                    <a:lnTo>
                      <a:pt x="409" y="85"/>
                    </a:lnTo>
                    <a:lnTo>
                      <a:pt x="409" y="97"/>
                    </a:lnTo>
                    <a:lnTo>
                      <a:pt x="404" y="164"/>
                    </a:lnTo>
                    <a:lnTo>
                      <a:pt x="401" y="178"/>
                    </a:lnTo>
                    <a:lnTo>
                      <a:pt x="395" y="197"/>
                    </a:lnTo>
                    <a:lnTo>
                      <a:pt x="386" y="220"/>
                    </a:lnTo>
                    <a:lnTo>
                      <a:pt x="371" y="241"/>
                    </a:lnTo>
                    <a:lnTo>
                      <a:pt x="354" y="261"/>
                    </a:lnTo>
                    <a:lnTo>
                      <a:pt x="330" y="278"/>
                    </a:lnTo>
                    <a:lnTo>
                      <a:pt x="302" y="287"/>
                    </a:lnTo>
                    <a:lnTo>
                      <a:pt x="267" y="288"/>
                    </a:lnTo>
                    <a:lnTo>
                      <a:pt x="123" y="270"/>
                    </a:lnTo>
                    <a:lnTo>
                      <a:pt x="92" y="261"/>
                    </a:lnTo>
                    <a:lnTo>
                      <a:pt x="66" y="245"/>
                    </a:lnTo>
                    <a:lnTo>
                      <a:pt x="44" y="224"/>
                    </a:lnTo>
                    <a:lnTo>
                      <a:pt x="28" y="199"/>
                    </a:lnTo>
                    <a:lnTo>
                      <a:pt x="14" y="174"/>
                    </a:lnTo>
                    <a:lnTo>
                      <a:pt x="6" y="150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7" y="36"/>
                    </a:lnTo>
                    <a:lnTo>
                      <a:pt x="12" y="27"/>
                    </a:lnTo>
                    <a:lnTo>
                      <a:pt x="18" y="17"/>
                    </a:lnTo>
                    <a:lnTo>
                      <a:pt x="27" y="10"/>
                    </a:lnTo>
                    <a:lnTo>
                      <a:pt x="36" y="5"/>
                    </a:lnTo>
                    <a:lnTo>
                      <a:pt x="48" y="1"/>
                    </a:lnTo>
                    <a:lnTo>
                      <a:pt x="59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594560" y="4626720"/>
                <a:ext cx="25920" cy="15840"/>
              </a:xfrm>
              <a:custGeom>
                <a:avLst/>
                <a:gdLst/>
                <a:ahLst/>
                <a:rect l="l" t="t" r="r" b="b"/>
                <a:pathLst>
                  <a:path w="379" h="267">
                    <a:moveTo>
                      <a:pt x="67" y="0"/>
                    </a:moveTo>
                    <a:lnTo>
                      <a:pt x="326" y="32"/>
                    </a:lnTo>
                    <a:lnTo>
                      <a:pt x="337" y="34"/>
                    </a:lnTo>
                    <a:lnTo>
                      <a:pt x="348" y="39"/>
                    </a:lnTo>
                    <a:lnTo>
                      <a:pt x="357" y="44"/>
                    </a:lnTo>
                    <a:lnTo>
                      <a:pt x="366" y="51"/>
                    </a:lnTo>
                    <a:lnTo>
                      <a:pt x="372" y="60"/>
                    </a:lnTo>
                    <a:lnTo>
                      <a:pt x="376" y="69"/>
                    </a:lnTo>
                    <a:lnTo>
                      <a:pt x="379" y="80"/>
                    </a:lnTo>
                    <a:lnTo>
                      <a:pt x="379" y="90"/>
                    </a:lnTo>
                    <a:lnTo>
                      <a:pt x="374" y="152"/>
                    </a:lnTo>
                    <a:lnTo>
                      <a:pt x="372" y="165"/>
                    </a:lnTo>
                    <a:lnTo>
                      <a:pt x="367" y="182"/>
                    </a:lnTo>
                    <a:lnTo>
                      <a:pt x="357" y="203"/>
                    </a:lnTo>
                    <a:lnTo>
                      <a:pt x="345" y="223"/>
                    </a:lnTo>
                    <a:lnTo>
                      <a:pt x="327" y="242"/>
                    </a:lnTo>
                    <a:lnTo>
                      <a:pt x="306" y="257"/>
                    </a:lnTo>
                    <a:lnTo>
                      <a:pt x="279" y="266"/>
                    </a:lnTo>
                    <a:lnTo>
                      <a:pt x="248" y="267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2" y="227"/>
                    </a:lnTo>
                    <a:lnTo>
                      <a:pt x="41" y="207"/>
                    </a:lnTo>
                    <a:lnTo>
                      <a:pt x="25" y="184"/>
                    </a:lnTo>
                    <a:lnTo>
                      <a:pt x="14" y="160"/>
                    </a:lnTo>
                    <a:lnTo>
                      <a:pt x="5" y="137"/>
                    </a:lnTo>
                    <a:lnTo>
                      <a:pt x="1" y="118"/>
                    </a:lnTo>
                    <a:lnTo>
                      <a:pt x="0" y="105"/>
                    </a:lnTo>
                    <a:lnTo>
                      <a:pt x="4" y="44"/>
                    </a:lnTo>
                    <a:lnTo>
                      <a:pt x="7" y="34"/>
                    </a:lnTo>
                    <a:lnTo>
                      <a:pt x="11" y="24"/>
                    </a:lnTo>
                    <a:lnTo>
                      <a:pt x="17" y="17"/>
                    </a:lnTo>
                    <a:lnTo>
                      <a:pt x="25" y="9"/>
                    </a:lnTo>
                    <a:lnTo>
                      <a:pt x="34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594560" y="4626720"/>
                <a:ext cx="25920" cy="12960"/>
              </a:xfrm>
              <a:custGeom>
                <a:avLst/>
                <a:gdLst/>
                <a:ahLst/>
                <a:rect l="l" t="t" r="r" b="b"/>
                <a:pathLst>
                  <a:path w="363" h="233">
                    <a:moveTo>
                      <a:pt x="63" y="0"/>
                    </a:moveTo>
                    <a:lnTo>
                      <a:pt x="311" y="31"/>
                    </a:lnTo>
                    <a:lnTo>
                      <a:pt x="323" y="33"/>
                    </a:lnTo>
                    <a:lnTo>
                      <a:pt x="333" y="37"/>
                    </a:lnTo>
                    <a:lnTo>
                      <a:pt x="343" y="42"/>
                    </a:lnTo>
                    <a:lnTo>
                      <a:pt x="350" y="48"/>
                    </a:lnTo>
                    <a:lnTo>
                      <a:pt x="356" y="56"/>
                    </a:lnTo>
                    <a:lnTo>
                      <a:pt x="360" y="64"/>
                    </a:lnTo>
                    <a:lnTo>
                      <a:pt x="363" y="72"/>
                    </a:lnTo>
                    <a:lnTo>
                      <a:pt x="363" y="82"/>
                    </a:lnTo>
                    <a:lnTo>
                      <a:pt x="359" y="135"/>
                    </a:lnTo>
                    <a:lnTo>
                      <a:pt x="357" y="147"/>
                    </a:lnTo>
                    <a:lnTo>
                      <a:pt x="352" y="162"/>
                    </a:lnTo>
                    <a:lnTo>
                      <a:pt x="344" y="179"/>
                    </a:lnTo>
                    <a:lnTo>
                      <a:pt x="332" y="196"/>
                    </a:lnTo>
                    <a:lnTo>
                      <a:pt x="316" y="213"/>
                    </a:lnTo>
                    <a:lnTo>
                      <a:pt x="296" y="225"/>
                    </a:lnTo>
                    <a:lnTo>
                      <a:pt x="270" y="233"/>
                    </a:lnTo>
                    <a:lnTo>
                      <a:pt x="240" y="233"/>
                    </a:lnTo>
                    <a:lnTo>
                      <a:pt x="111" y="217"/>
                    </a:lnTo>
                    <a:lnTo>
                      <a:pt x="84" y="210"/>
                    </a:lnTo>
                    <a:lnTo>
                      <a:pt x="61" y="196"/>
                    </a:lnTo>
                    <a:lnTo>
                      <a:pt x="41" y="179"/>
                    </a:lnTo>
                    <a:lnTo>
                      <a:pt x="25" y="159"/>
                    </a:lnTo>
                    <a:lnTo>
                      <a:pt x="14" y="138"/>
                    </a:lnTo>
                    <a:lnTo>
                      <a:pt x="6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4" y="37"/>
                    </a:lnTo>
                    <a:lnTo>
                      <a:pt x="7" y="29"/>
                    </a:lnTo>
                    <a:lnTo>
                      <a:pt x="11" y="21"/>
                    </a:lnTo>
                    <a:lnTo>
                      <a:pt x="16" y="14"/>
                    </a:lnTo>
                    <a:lnTo>
                      <a:pt x="23" y="8"/>
                    </a:lnTo>
                    <a:lnTo>
                      <a:pt x="32" y="4"/>
                    </a:lnTo>
                    <a:lnTo>
                      <a:pt x="41" y="1"/>
                    </a:lnTo>
                    <a:lnTo>
                      <a:pt x="51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596000" y="4628160"/>
                <a:ext cx="23040" cy="11520"/>
              </a:xfrm>
              <a:custGeom>
                <a:avLst/>
                <a:gdLst/>
                <a:ahLst/>
                <a:rect l="l" t="t" r="r" b="b"/>
                <a:pathLst>
                  <a:path w="330" h="213">
                    <a:moveTo>
                      <a:pt x="57" y="1"/>
                    </a:moveTo>
                    <a:lnTo>
                      <a:pt x="284" y="29"/>
                    </a:lnTo>
                    <a:lnTo>
                      <a:pt x="293" y="31"/>
                    </a:lnTo>
                    <a:lnTo>
                      <a:pt x="303" y="34"/>
                    </a:lnTo>
                    <a:lnTo>
                      <a:pt x="311" y="39"/>
                    </a:lnTo>
                    <a:lnTo>
                      <a:pt x="318" y="45"/>
                    </a:lnTo>
                    <a:lnTo>
                      <a:pt x="324" y="51"/>
                    </a:lnTo>
                    <a:lnTo>
                      <a:pt x="328" y="59"/>
                    </a:lnTo>
                    <a:lnTo>
                      <a:pt x="330" y="67"/>
                    </a:lnTo>
                    <a:lnTo>
                      <a:pt x="330" y="75"/>
                    </a:lnTo>
                    <a:lnTo>
                      <a:pt x="326" y="123"/>
                    </a:lnTo>
                    <a:lnTo>
                      <a:pt x="324" y="134"/>
                    </a:lnTo>
                    <a:lnTo>
                      <a:pt x="319" y="148"/>
                    </a:lnTo>
                    <a:lnTo>
                      <a:pt x="312" y="163"/>
                    </a:lnTo>
                    <a:lnTo>
                      <a:pt x="301" y="179"/>
                    </a:lnTo>
                    <a:lnTo>
                      <a:pt x="286" y="195"/>
                    </a:lnTo>
                    <a:lnTo>
                      <a:pt x="267" y="206"/>
                    </a:lnTo>
                    <a:lnTo>
                      <a:pt x="245" y="213"/>
                    </a:lnTo>
                    <a:lnTo>
                      <a:pt x="216" y="213"/>
                    </a:lnTo>
                    <a:lnTo>
                      <a:pt x="101" y="198"/>
                    </a:lnTo>
                    <a:lnTo>
                      <a:pt x="76" y="192"/>
                    </a:lnTo>
                    <a:lnTo>
                      <a:pt x="54" y="179"/>
                    </a:lnTo>
                    <a:lnTo>
                      <a:pt x="36" y="163"/>
                    </a:lnTo>
                    <a:lnTo>
                      <a:pt x="23" y="145"/>
                    </a:lnTo>
                    <a:lnTo>
                      <a:pt x="12" y="126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3"/>
                    </a:lnTo>
                    <a:lnTo>
                      <a:pt x="3" y="35"/>
                    </a:lnTo>
                    <a:lnTo>
                      <a:pt x="5" y="27"/>
                    </a:lnTo>
                    <a:lnTo>
                      <a:pt x="8" y="20"/>
                    </a:lnTo>
                    <a:lnTo>
                      <a:pt x="13" y="14"/>
                    </a:lnTo>
                    <a:lnTo>
                      <a:pt x="21" y="9"/>
                    </a:lnTo>
                    <a:lnTo>
                      <a:pt x="28" y="5"/>
                    </a:lnTo>
                    <a:lnTo>
                      <a:pt x="37" y="1"/>
                    </a:lnTo>
                    <a:lnTo>
                      <a:pt x="47" y="0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561080" y="4622760"/>
                <a:ext cx="27720" cy="16920"/>
              </a:xfrm>
              <a:custGeom>
                <a:avLst/>
                <a:gdLst/>
                <a:ahLst/>
                <a:rect l="l" t="t" r="r" b="b"/>
                <a:pathLst>
                  <a:path w="408" h="288">
                    <a:moveTo>
                      <a:pt x="72" y="0"/>
                    </a:moveTo>
                    <a:lnTo>
                      <a:pt x="350" y="35"/>
                    </a:lnTo>
                    <a:lnTo>
                      <a:pt x="362" y="38"/>
                    </a:lnTo>
                    <a:lnTo>
                      <a:pt x="374" y="42"/>
                    </a:lnTo>
                    <a:lnTo>
                      <a:pt x="384" y="48"/>
                    </a:lnTo>
                    <a:lnTo>
                      <a:pt x="393" y="56"/>
                    </a:lnTo>
                    <a:lnTo>
                      <a:pt x="400" y="65"/>
                    </a:lnTo>
                    <a:lnTo>
                      <a:pt x="405" y="74"/>
                    </a:lnTo>
                    <a:lnTo>
                      <a:pt x="408" y="86"/>
                    </a:lnTo>
                    <a:lnTo>
                      <a:pt x="408" y="97"/>
                    </a:lnTo>
                    <a:lnTo>
                      <a:pt x="403" y="164"/>
                    </a:lnTo>
                    <a:lnTo>
                      <a:pt x="400" y="178"/>
                    </a:lnTo>
                    <a:lnTo>
                      <a:pt x="394" y="197"/>
                    </a:lnTo>
                    <a:lnTo>
                      <a:pt x="384" y="220"/>
                    </a:lnTo>
                    <a:lnTo>
                      <a:pt x="370" y="241"/>
                    </a:lnTo>
                    <a:lnTo>
                      <a:pt x="352" y="261"/>
                    </a:lnTo>
                    <a:lnTo>
                      <a:pt x="329" y="278"/>
                    </a:lnTo>
                    <a:lnTo>
                      <a:pt x="301" y="287"/>
                    </a:lnTo>
                    <a:lnTo>
                      <a:pt x="266" y="288"/>
                    </a:lnTo>
                    <a:lnTo>
                      <a:pt x="123" y="270"/>
                    </a:lnTo>
                    <a:lnTo>
                      <a:pt x="93" y="261"/>
                    </a:lnTo>
                    <a:lnTo>
                      <a:pt x="67" y="245"/>
                    </a:lnTo>
                    <a:lnTo>
                      <a:pt x="45" y="224"/>
                    </a:lnTo>
                    <a:lnTo>
                      <a:pt x="27" y="199"/>
                    </a:lnTo>
                    <a:lnTo>
                      <a:pt x="15" y="174"/>
                    </a:lnTo>
                    <a:lnTo>
                      <a:pt x="5" y="150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7" y="36"/>
                    </a:lnTo>
                    <a:lnTo>
                      <a:pt x="13" y="27"/>
                    </a:lnTo>
                    <a:lnTo>
                      <a:pt x="19" y="17"/>
                    </a:lnTo>
                    <a:lnTo>
                      <a:pt x="27" y="10"/>
                    </a:lnTo>
                    <a:lnTo>
                      <a:pt x="36" y="5"/>
                    </a:lnTo>
                    <a:lnTo>
                      <a:pt x="48" y="1"/>
                    </a:lnTo>
                    <a:lnTo>
                      <a:pt x="59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561080" y="4622760"/>
                <a:ext cx="25920" cy="15840"/>
              </a:xfrm>
              <a:custGeom>
                <a:avLst/>
                <a:gdLst/>
                <a:ahLst/>
                <a:rect l="l" t="t" r="r" b="b"/>
                <a:pathLst>
                  <a:path w="378" h="268">
                    <a:moveTo>
                      <a:pt x="66" y="0"/>
                    </a:moveTo>
                    <a:lnTo>
                      <a:pt x="325" y="33"/>
                    </a:lnTo>
                    <a:lnTo>
                      <a:pt x="337" y="35"/>
                    </a:lnTo>
                    <a:lnTo>
                      <a:pt x="347" y="40"/>
                    </a:lnTo>
                    <a:lnTo>
                      <a:pt x="356" y="45"/>
                    </a:lnTo>
                    <a:lnTo>
                      <a:pt x="365" y="52"/>
                    </a:lnTo>
                    <a:lnTo>
                      <a:pt x="371" y="60"/>
                    </a:lnTo>
                    <a:lnTo>
                      <a:pt x="375" y="69"/>
                    </a:lnTo>
                    <a:lnTo>
                      <a:pt x="378" y="80"/>
                    </a:lnTo>
                    <a:lnTo>
                      <a:pt x="378" y="91"/>
                    </a:lnTo>
                    <a:lnTo>
                      <a:pt x="373" y="153"/>
                    </a:lnTo>
                    <a:lnTo>
                      <a:pt x="371" y="166"/>
                    </a:lnTo>
                    <a:lnTo>
                      <a:pt x="366" y="183"/>
                    </a:lnTo>
                    <a:lnTo>
                      <a:pt x="356" y="204"/>
                    </a:lnTo>
                    <a:lnTo>
                      <a:pt x="344" y="224"/>
                    </a:lnTo>
                    <a:lnTo>
                      <a:pt x="326" y="243"/>
                    </a:lnTo>
                    <a:lnTo>
                      <a:pt x="305" y="258"/>
                    </a:lnTo>
                    <a:lnTo>
                      <a:pt x="278" y="267"/>
                    </a:lnTo>
                    <a:lnTo>
                      <a:pt x="247" y="268"/>
                    </a:lnTo>
                    <a:lnTo>
                      <a:pt x="114" y="251"/>
                    </a:lnTo>
                    <a:lnTo>
                      <a:pt x="86" y="243"/>
                    </a:lnTo>
                    <a:lnTo>
                      <a:pt x="62" y="228"/>
                    </a:lnTo>
                    <a:lnTo>
                      <a:pt x="41" y="208"/>
                    </a:lnTo>
                    <a:lnTo>
                      <a:pt x="26" y="185"/>
                    </a:lnTo>
                    <a:lnTo>
                      <a:pt x="13" y="161"/>
                    </a:lnTo>
                    <a:lnTo>
                      <a:pt x="5" y="139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5"/>
                    </a:lnTo>
                    <a:lnTo>
                      <a:pt x="7" y="35"/>
                    </a:lnTo>
                    <a:lnTo>
                      <a:pt x="11" y="25"/>
                    </a:lnTo>
                    <a:lnTo>
                      <a:pt x="17" y="18"/>
                    </a:lnTo>
                    <a:lnTo>
                      <a:pt x="24" y="10"/>
                    </a:lnTo>
                    <a:lnTo>
                      <a:pt x="34" y="5"/>
                    </a:lnTo>
                    <a:lnTo>
                      <a:pt x="43" y="2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561080" y="4622760"/>
                <a:ext cx="25920" cy="14400"/>
              </a:xfrm>
              <a:custGeom>
                <a:avLst/>
                <a:gdLst/>
                <a:ahLst/>
                <a:rect l="l" t="t" r="r" b="b"/>
                <a:pathLst>
                  <a:path w="363" h="232">
                    <a:moveTo>
                      <a:pt x="63" y="0"/>
                    </a:moveTo>
                    <a:lnTo>
                      <a:pt x="311" y="31"/>
                    </a:lnTo>
                    <a:lnTo>
                      <a:pt x="322" y="33"/>
                    </a:lnTo>
                    <a:lnTo>
                      <a:pt x="332" y="37"/>
                    </a:lnTo>
                    <a:lnTo>
                      <a:pt x="341" y="42"/>
                    </a:lnTo>
                    <a:lnTo>
                      <a:pt x="349" y="48"/>
                    </a:lnTo>
                    <a:lnTo>
                      <a:pt x="355" y="55"/>
                    </a:lnTo>
                    <a:lnTo>
                      <a:pt x="360" y="63"/>
                    </a:lnTo>
                    <a:lnTo>
                      <a:pt x="363" y="71"/>
                    </a:lnTo>
                    <a:lnTo>
                      <a:pt x="363" y="81"/>
                    </a:lnTo>
                    <a:lnTo>
                      <a:pt x="359" y="135"/>
                    </a:lnTo>
                    <a:lnTo>
                      <a:pt x="356" y="147"/>
                    </a:lnTo>
                    <a:lnTo>
                      <a:pt x="351" y="162"/>
                    </a:lnTo>
                    <a:lnTo>
                      <a:pt x="343" y="179"/>
                    </a:lnTo>
                    <a:lnTo>
                      <a:pt x="330" y="196"/>
                    </a:lnTo>
                    <a:lnTo>
                      <a:pt x="315" y="213"/>
                    </a:lnTo>
                    <a:lnTo>
                      <a:pt x="294" y="225"/>
                    </a:lnTo>
                    <a:lnTo>
                      <a:pt x="268" y="232"/>
                    </a:lnTo>
                    <a:lnTo>
                      <a:pt x="238" y="232"/>
                    </a:lnTo>
                    <a:lnTo>
                      <a:pt x="111" y="217"/>
                    </a:lnTo>
                    <a:lnTo>
                      <a:pt x="84" y="210"/>
                    </a:lnTo>
                    <a:lnTo>
                      <a:pt x="61" y="196"/>
                    </a:lnTo>
                    <a:lnTo>
                      <a:pt x="41" y="178"/>
                    </a:lnTo>
                    <a:lnTo>
                      <a:pt x="26" y="159"/>
                    </a:lnTo>
                    <a:lnTo>
                      <a:pt x="14" y="139"/>
                    </a:lnTo>
                    <a:lnTo>
                      <a:pt x="6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5" y="37"/>
                    </a:lnTo>
                    <a:lnTo>
                      <a:pt x="7" y="29"/>
                    </a:lnTo>
                    <a:lnTo>
                      <a:pt x="11" y="21"/>
                    </a:lnTo>
                    <a:lnTo>
                      <a:pt x="16" y="15"/>
                    </a:lnTo>
                    <a:lnTo>
                      <a:pt x="23" y="8"/>
                    </a:lnTo>
                    <a:lnTo>
                      <a:pt x="32" y="4"/>
                    </a:lnTo>
                    <a:lnTo>
                      <a:pt x="41" y="1"/>
                    </a:lnTo>
                    <a:lnTo>
                      <a:pt x="52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562520" y="462384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330" h="212">
                    <a:moveTo>
                      <a:pt x="58" y="1"/>
                    </a:moveTo>
                    <a:lnTo>
                      <a:pt x="283" y="29"/>
                    </a:lnTo>
                    <a:lnTo>
                      <a:pt x="293" y="31"/>
                    </a:lnTo>
                    <a:lnTo>
                      <a:pt x="302" y="34"/>
                    </a:lnTo>
                    <a:lnTo>
                      <a:pt x="310" y="39"/>
                    </a:lnTo>
                    <a:lnTo>
                      <a:pt x="318" y="45"/>
                    </a:lnTo>
                    <a:lnTo>
                      <a:pt x="323" y="51"/>
                    </a:lnTo>
                    <a:lnTo>
                      <a:pt x="327" y="59"/>
                    </a:lnTo>
                    <a:lnTo>
                      <a:pt x="330" y="67"/>
                    </a:lnTo>
                    <a:lnTo>
                      <a:pt x="330" y="75"/>
                    </a:lnTo>
                    <a:lnTo>
                      <a:pt x="326" y="123"/>
                    </a:lnTo>
                    <a:lnTo>
                      <a:pt x="324" y="134"/>
                    </a:lnTo>
                    <a:lnTo>
                      <a:pt x="320" y="147"/>
                    </a:lnTo>
                    <a:lnTo>
                      <a:pt x="311" y="163"/>
                    </a:lnTo>
                    <a:lnTo>
                      <a:pt x="301" y="179"/>
                    </a:lnTo>
                    <a:lnTo>
                      <a:pt x="286" y="194"/>
                    </a:lnTo>
                    <a:lnTo>
                      <a:pt x="268" y="205"/>
                    </a:lnTo>
                    <a:lnTo>
                      <a:pt x="245" y="212"/>
                    </a:lnTo>
                    <a:lnTo>
                      <a:pt x="217" y="212"/>
                    </a:lnTo>
                    <a:lnTo>
                      <a:pt x="101" y="198"/>
                    </a:lnTo>
                    <a:lnTo>
                      <a:pt x="76" y="192"/>
                    </a:lnTo>
                    <a:lnTo>
                      <a:pt x="55" y="179"/>
                    </a:lnTo>
                    <a:lnTo>
                      <a:pt x="38" y="163"/>
                    </a:lnTo>
                    <a:lnTo>
                      <a:pt x="24" y="145"/>
                    </a:lnTo>
                    <a:lnTo>
                      <a:pt x="13" y="127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3"/>
                    </a:lnTo>
                    <a:lnTo>
                      <a:pt x="4" y="35"/>
                    </a:lnTo>
                    <a:lnTo>
                      <a:pt x="6" y="27"/>
                    </a:lnTo>
                    <a:lnTo>
                      <a:pt x="10" y="20"/>
                    </a:lnTo>
                    <a:lnTo>
                      <a:pt x="15" y="14"/>
                    </a:lnTo>
                    <a:lnTo>
                      <a:pt x="22" y="9"/>
                    </a:lnTo>
                    <a:lnTo>
                      <a:pt x="29" y="5"/>
                    </a:lnTo>
                    <a:lnTo>
                      <a:pt x="39" y="1"/>
                    </a:lnTo>
                    <a:lnTo>
                      <a:pt x="48" y="0"/>
                    </a:lnTo>
                    <a:lnTo>
                      <a:pt x="58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527600" y="461988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409" h="288">
                    <a:moveTo>
                      <a:pt x="71" y="0"/>
                    </a:moveTo>
                    <a:lnTo>
                      <a:pt x="351" y="35"/>
                    </a:lnTo>
                    <a:lnTo>
                      <a:pt x="363" y="38"/>
                    </a:lnTo>
                    <a:lnTo>
                      <a:pt x="375" y="42"/>
                    </a:lnTo>
                    <a:lnTo>
                      <a:pt x="385" y="48"/>
                    </a:lnTo>
                    <a:lnTo>
                      <a:pt x="394" y="56"/>
                    </a:lnTo>
                    <a:lnTo>
                      <a:pt x="401" y="65"/>
                    </a:lnTo>
                    <a:lnTo>
                      <a:pt x="406" y="74"/>
                    </a:lnTo>
                    <a:lnTo>
                      <a:pt x="409" y="86"/>
                    </a:lnTo>
                    <a:lnTo>
                      <a:pt x="409" y="97"/>
                    </a:lnTo>
                    <a:lnTo>
                      <a:pt x="404" y="163"/>
                    </a:lnTo>
                    <a:lnTo>
                      <a:pt x="401" y="177"/>
                    </a:lnTo>
                    <a:lnTo>
                      <a:pt x="395" y="197"/>
                    </a:lnTo>
                    <a:lnTo>
                      <a:pt x="385" y="219"/>
                    </a:lnTo>
                    <a:lnTo>
                      <a:pt x="372" y="241"/>
                    </a:lnTo>
                    <a:lnTo>
                      <a:pt x="353" y="261"/>
                    </a:lnTo>
                    <a:lnTo>
                      <a:pt x="329" y="278"/>
                    </a:lnTo>
                    <a:lnTo>
                      <a:pt x="301" y="287"/>
                    </a:lnTo>
                    <a:lnTo>
                      <a:pt x="267" y="288"/>
                    </a:lnTo>
                    <a:lnTo>
                      <a:pt x="123" y="270"/>
                    </a:lnTo>
                    <a:lnTo>
                      <a:pt x="92" y="261"/>
                    </a:lnTo>
                    <a:lnTo>
                      <a:pt x="66" y="245"/>
                    </a:lnTo>
                    <a:lnTo>
                      <a:pt x="45" y="224"/>
                    </a:lnTo>
                    <a:lnTo>
                      <a:pt x="27" y="199"/>
                    </a:lnTo>
                    <a:lnTo>
                      <a:pt x="15" y="174"/>
                    </a:lnTo>
                    <a:lnTo>
                      <a:pt x="5" y="150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8" y="36"/>
                    </a:lnTo>
                    <a:lnTo>
                      <a:pt x="12" y="27"/>
                    </a:lnTo>
                    <a:lnTo>
                      <a:pt x="18" y="17"/>
                    </a:lnTo>
                    <a:lnTo>
                      <a:pt x="26" y="10"/>
                    </a:lnTo>
                    <a:lnTo>
                      <a:pt x="37" y="5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527600" y="461988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380" h="268">
                    <a:moveTo>
                      <a:pt x="66" y="0"/>
                    </a:moveTo>
                    <a:lnTo>
                      <a:pt x="326" y="33"/>
                    </a:lnTo>
                    <a:lnTo>
                      <a:pt x="338" y="35"/>
                    </a:lnTo>
                    <a:lnTo>
                      <a:pt x="348" y="40"/>
                    </a:lnTo>
                    <a:lnTo>
                      <a:pt x="358" y="45"/>
                    </a:lnTo>
                    <a:lnTo>
                      <a:pt x="366" y="52"/>
                    </a:lnTo>
                    <a:lnTo>
                      <a:pt x="372" y="60"/>
                    </a:lnTo>
                    <a:lnTo>
                      <a:pt x="376" y="69"/>
                    </a:lnTo>
                    <a:lnTo>
                      <a:pt x="380" y="80"/>
                    </a:lnTo>
                    <a:lnTo>
                      <a:pt x="380" y="91"/>
                    </a:lnTo>
                    <a:lnTo>
                      <a:pt x="374" y="152"/>
                    </a:lnTo>
                    <a:lnTo>
                      <a:pt x="372" y="165"/>
                    </a:lnTo>
                    <a:lnTo>
                      <a:pt x="367" y="183"/>
                    </a:lnTo>
                    <a:lnTo>
                      <a:pt x="358" y="204"/>
                    </a:lnTo>
                    <a:lnTo>
                      <a:pt x="345" y="224"/>
                    </a:lnTo>
                    <a:lnTo>
                      <a:pt x="328" y="243"/>
                    </a:lnTo>
                    <a:lnTo>
                      <a:pt x="306" y="259"/>
                    </a:lnTo>
                    <a:lnTo>
                      <a:pt x="280" y="267"/>
                    </a:lnTo>
                    <a:lnTo>
                      <a:pt x="247" y="268"/>
                    </a:lnTo>
                    <a:lnTo>
                      <a:pt x="114" y="251"/>
                    </a:lnTo>
                    <a:lnTo>
                      <a:pt x="86" y="243"/>
                    </a:lnTo>
                    <a:lnTo>
                      <a:pt x="61" y="228"/>
                    </a:lnTo>
                    <a:lnTo>
                      <a:pt x="41" y="208"/>
                    </a:lnTo>
                    <a:lnTo>
                      <a:pt x="26" y="185"/>
                    </a:lnTo>
                    <a:lnTo>
                      <a:pt x="13" y="161"/>
                    </a:lnTo>
                    <a:lnTo>
                      <a:pt x="5" y="139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4"/>
                    </a:lnTo>
                    <a:lnTo>
                      <a:pt x="11" y="25"/>
                    </a:lnTo>
                    <a:lnTo>
                      <a:pt x="17" y="17"/>
                    </a:lnTo>
                    <a:lnTo>
                      <a:pt x="25" y="11"/>
                    </a:lnTo>
                    <a:lnTo>
                      <a:pt x="34" y="5"/>
                    </a:lnTo>
                    <a:lnTo>
                      <a:pt x="43" y="2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529040" y="46198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4" h="233">
                    <a:moveTo>
                      <a:pt x="63" y="1"/>
                    </a:moveTo>
                    <a:lnTo>
                      <a:pt x="312" y="32"/>
                    </a:lnTo>
                    <a:lnTo>
                      <a:pt x="323" y="34"/>
                    </a:lnTo>
                    <a:lnTo>
                      <a:pt x="333" y="38"/>
                    </a:lnTo>
                    <a:lnTo>
                      <a:pt x="342" y="43"/>
                    </a:lnTo>
                    <a:lnTo>
                      <a:pt x="350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4" y="72"/>
                    </a:lnTo>
                    <a:lnTo>
                      <a:pt x="364" y="82"/>
                    </a:lnTo>
                    <a:lnTo>
                      <a:pt x="360" y="137"/>
                    </a:lnTo>
                    <a:lnTo>
                      <a:pt x="358" y="148"/>
                    </a:lnTo>
                    <a:lnTo>
                      <a:pt x="353" y="163"/>
                    </a:lnTo>
                    <a:lnTo>
                      <a:pt x="344" y="180"/>
                    </a:lnTo>
                    <a:lnTo>
                      <a:pt x="332" y="198"/>
                    </a:lnTo>
                    <a:lnTo>
                      <a:pt x="316" y="214"/>
                    </a:lnTo>
                    <a:lnTo>
                      <a:pt x="295" y="226"/>
                    </a:lnTo>
                    <a:lnTo>
                      <a:pt x="269" y="233"/>
                    </a:lnTo>
                    <a:lnTo>
                      <a:pt x="239" y="233"/>
                    </a:lnTo>
                    <a:lnTo>
                      <a:pt x="111" y="218"/>
                    </a:lnTo>
                    <a:lnTo>
                      <a:pt x="84" y="211"/>
                    </a:lnTo>
                    <a:lnTo>
                      <a:pt x="60" y="198"/>
                    </a:lnTo>
                    <a:lnTo>
                      <a:pt x="41" y="179"/>
                    </a:lnTo>
                    <a:lnTo>
                      <a:pt x="26" y="160"/>
                    </a:lnTo>
                    <a:lnTo>
                      <a:pt x="13" y="140"/>
                    </a:lnTo>
                    <a:lnTo>
                      <a:pt x="5" y="120"/>
                    </a:lnTo>
                    <a:lnTo>
                      <a:pt x="1" y="104"/>
                    </a:lnTo>
                    <a:lnTo>
                      <a:pt x="0" y="92"/>
                    </a:lnTo>
                    <a:lnTo>
                      <a:pt x="5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5" y="15"/>
                    </a:lnTo>
                    <a:lnTo>
                      <a:pt x="23" y="9"/>
                    </a:lnTo>
                    <a:lnTo>
                      <a:pt x="31" y="5"/>
                    </a:lnTo>
                    <a:lnTo>
                      <a:pt x="41" y="2"/>
                    </a:lnTo>
                    <a:lnTo>
                      <a:pt x="52" y="0"/>
                    </a:lnTo>
                    <a:lnTo>
                      <a:pt x="63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529040" y="4619880"/>
                <a:ext cx="23400" cy="12960"/>
              </a:xfrm>
              <a:custGeom>
                <a:avLst/>
                <a:gdLst/>
                <a:ahLst/>
                <a:rect l="l" t="t" r="r" b="b"/>
                <a:pathLst>
                  <a:path w="331" h="211">
                    <a:moveTo>
                      <a:pt x="58" y="0"/>
                    </a:moveTo>
                    <a:lnTo>
                      <a:pt x="285" y="28"/>
                    </a:lnTo>
                    <a:lnTo>
                      <a:pt x="294" y="30"/>
                    </a:lnTo>
                    <a:lnTo>
                      <a:pt x="303" y="33"/>
                    </a:lnTo>
                    <a:lnTo>
                      <a:pt x="312" y="38"/>
                    </a:lnTo>
                    <a:lnTo>
                      <a:pt x="319" y="43"/>
                    </a:lnTo>
                    <a:lnTo>
                      <a:pt x="324" y="50"/>
                    </a:lnTo>
                    <a:lnTo>
                      <a:pt x="328" y="57"/>
                    </a:lnTo>
                    <a:lnTo>
                      <a:pt x="330" y="66"/>
                    </a:lnTo>
                    <a:lnTo>
                      <a:pt x="331" y="74"/>
                    </a:lnTo>
                    <a:lnTo>
                      <a:pt x="327" y="122"/>
                    </a:lnTo>
                    <a:lnTo>
                      <a:pt x="325" y="132"/>
                    </a:lnTo>
                    <a:lnTo>
                      <a:pt x="321" y="146"/>
                    </a:lnTo>
                    <a:lnTo>
                      <a:pt x="313" y="162"/>
                    </a:lnTo>
                    <a:lnTo>
                      <a:pt x="302" y="178"/>
                    </a:lnTo>
                    <a:lnTo>
                      <a:pt x="288" y="193"/>
                    </a:lnTo>
                    <a:lnTo>
                      <a:pt x="269" y="204"/>
                    </a:lnTo>
                    <a:lnTo>
                      <a:pt x="246" y="211"/>
                    </a:lnTo>
                    <a:lnTo>
                      <a:pt x="218" y="211"/>
                    </a:lnTo>
                    <a:lnTo>
                      <a:pt x="101" y="197"/>
                    </a:lnTo>
                    <a:lnTo>
                      <a:pt x="76" y="191"/>
                    </a:lnTo>
                    <a:lnTo>
                      <a:pt x="56" y="178"/>
                    </a:lnTo>
                    <a:lnTo>
                      <a:pt x="38" y="162"/>
                    </a:lnTo>
                    <a:lnTo>
                      <a:pt x="23" y="144"/>
                    </a:lnTo>
                    <a:lnTo>
                      <a:pt x="13" y="126"/>
                    </a:lnTo>
                    <a:lnTo>
                      <a:pt x="6" y="107"/>
                    </a:lnTo>
                    <a:lnTo>
                      <a:pt x="1" y="93"/>
                    </a:lnTo>
                    <a:lnTo>
                      <a:pt x="0" y="82"/>
                    </a:lnTo>
                    <a:lnTo>
                      <a:pt x="5" y="34"/>
                    </a:lnTo>
                    <a:lnTo>
                      <a:pt x="7" y="26"/>
                    </a:lnTo>
                    <a:lnTo>
                      <a:pt x="10" y="19"/>
                    </a:lnTo>
                    <a:lnTo>
                      <a:pt x="15" y="13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587000" y="457776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1" h="402">
                    <a:moveTo>
                      <a:pt x="108" y="1"/>
                    </a:moveTo>
                    <a:lnTo>
                      <a:pt x="510" y="50"/>
                    </a:lnTo>
                    <a:lnTo>
                      <a:pt x="527" y="54"/>
                    </a:lnTo>
                    <a:lnTo>
                      <a:pt x="544" y="61"/>
                    </a:lnTo>
                    <a:lnTo>
                      <a:pt x="558" y="70"/>
                    </a:lnTo>
                    <a:lnTo>
                      <a:pt x="570" y="83"/>
                    </a:lnTo>
                    <a:lnTo>
                      <a:pt x="579" y="97"/>
                    </a:lnTo>
                    <a:lnTo>
                      <a:pt x="587" y="113"/>
                    </a:lnTo>
                    <a:lnTo>
                      <a:pt x="591" y="129"/>
                    </a:lnTo>
                    <a:lnTo>
                      <a:pt x="591" y="148"/>
                    </a:lnTo>
                    <a:lnTo>
                      <a:pt x="578" y="294"/>
                    </a:lnTo>
                    <a:lnTo>
                      <a:pt x="575" y="312"/>
                    </a:lnTo>
                    <a:lnTo>
                      <a:pt x="569" y="333"/>
                    </a:lnTo>
                    <a:lnTo>
                      <a:pt x="559" y="352"/>
                    </a:lnTo>
                    <a:lnTo>
                      <a:pt x="545" y="369"/>
                    </a:lnTo>
                    <a:lnTo>
                      <a:pt x="528" y="385"/>
                    </a:lnTo>
                    <a:lnTo>
                      <a:pt x="508" y="397"/>
                    </a:lnTo>
                    <a:lnTo>
                      <a:pt x="482" y="402"/>
                    </a:lnTo>
                    <a:lnTo>
                      <a:pt x="453" y="402"/>
                    </a:lnTo>
                    <a:lnTo>
                      <a:pt x="122" y="361"/>
                    </a:lnTo>
                    <a:lnTo>
                      <a:pt x="90" y="354"/>
                    </a:lnTo>
                    <a:lnTo>
                      <a:pt x="64" y="342"/>
                    </a:lnTo>
                    <a:lnTo>
                      <a:pt x="43" y="326"/>
                    </a:lnTo>
                    <a:lnTo>
                      <a:pt x="26" y="305"/>
                    </a:lnTo>
                    <a:lnTo>
                      <a:pt x="13" y="285"/>
                    </a:lnTo>
                    <a:lnTo>
                      <a:pt x="5" y="263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12" y="77"/>
                    </a:lnTo>
                    <a:lnTo>
                      <a:pt x="15" y="59"/>
                    </a:lnTo>
                    <a:lnTo>
                      <a:pt x="22" y="43"/>
                    </a:lnTo>
                    <a:lnTo>
                      <a:pt x="31" y="30"/>
                    </a:lnTo>
                    <a:lnTo>
                      <a:pt x="44" y="19"/>
                    </a:lnTo>
                    <a:lnTo>
                      <a:pt x="57" y="10"/>
                    </a:lnTo>
                    <a:lnTo>
                      <a:pt x="73" y="3"/>
                    </a:lnTo>
                    <a:lnTo>
                      <a:pt x="90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588800" y="4577760"/>
                <a:ext cx="37800" cy="22320"/>
              </a:xfrm>
              <a:custGeom>
                <a:avLst/>
                <a:gdLst/>
                <a:ahLst/>
                <a:rect l="l" t="t" r="r" b="b"/>
                <a:pathLst>
                  <a:path w="553" h="372">
                    <a:moveTo>
                      <a:pt x="102" y="0"/>
                    </a:moveTo>
                    <a:lnTo>
                      <a:pt x="477" y="46"/>
                    </a:lnTo>
                    <a:lnTo>
                      <a:pt x="494" y="49"/>
                    </a:lnTo>
                    <a:lnTo>
                      <a:pt x="508" y="57"/>
                    </a:lnTo>
                    <a:lnTo>
                      <a:pt x="522" y="66"/>
                    </a:lnTo>
                    <a:lnTo>
                      <a:pt x="533" y="77"/>
                    </a:lnTo>
                    <a:lnTo>
                      <a:pt x="543" y="90"/>
                    </a:lnTo>
                    <a:lnTo>
                      <a:pt x="549" y="104"/>
                    </a:lnTo>
                    <a:lnTo>
                      <a:pt x="553" y="120"/>
                    </a:lnTo>
                    <a:lnTo>
                      <a:pt x="553" y="136"/>
                    </a:lnTo>
                    <a:lnTo>
                      <a:pt x="542" y="271"/>
                    </a:lnTo>
                    <a:lnTo>
                      <a:pt x="539" y="288"/>
                    </a:lnTo>
                    <a:lnTo>
                      <a:pt x="533" y="307"/>
                    </a:lnTo>
                    <a:lnTo>
                      <a:pt x="524" y="325"/>
                    </a:lnTo>
                    <a:lnTo>
                      <a:pt x="512" y="341"/>
                    </a:lnTo>
                    <a:lnTo>
                      <a:pt x="495" y="355"/>
                    </a:lnTo>
                    <a:lnTo>
                      <a:pt x="475" y="366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4" y="333"/>
                    </a:lnTo>
                    <a:lnTo>
                      <a:pt x="85" y="326"/>
                    </a:lnTo>
                    <a:lnTo>
                      <a:pt x="60" y="315"/>
                    </a:lnTo>
                    <a:lnTo>
                      <a:pt x="40" y="299"/>
                    </a:lnTo>
                    <a:lnTo>
                      <a:pt x="25" y="281"/>
                    </a:lnTo>
                    <a:lnTo>
                      <a:pt x="12" y="262"/>
                    </a:lnTo>
                    <a:lnTo>
                      <a:pt x="5" y="242"/>
                    </a:lnTo>
                    <a:lnTo>
                      <a:pt x="1" y="222"/>
                    </a:lnTo>
                    <a:lnTo>
                      <a:pt x="0" y="205"/>
                    </a:lnTo>
                    <a:lnTo>
                      <a:pt x="11" y="70"/>
                    </a:lnTo>
                    <a:lnTo>
                      <a:pt x="14" y="53"/>
                    </a:lnTo>
                    <a:lnTo>
                      <a:pt x="20" y="39"/>
                    </a:lnTo>
                    <a:lnTo>
                      <a:pt x="29" y="27"/>
                    </a:lnTo>
                    <a:lnTo>
                      <a:pt x="40" y="16"/>
                    </a:lnTo>
                    <a:lnTo>
                      <a:pt x="54" y="8"/>
                    </a:lnTo>
                    <a:lnTo>
                      <a:pt x="68" y="2"/>
                    </a:lnTo>
                    <a:lnTo>
                      <a:pt x="85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588800" y="4578840"/>
                <a:ext cx="37800" cy="1836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0"/>
                    </a:moveTo>
                    <a:lnTo>
                      <a:pt x="463" y="44"/>
                    </a:lnTo>
                    <a:lnTo>
                      <a:pt x="480" y="48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8" y="73"/>
                    </a:lnTo>
                    <a:lnTo>
                      <a:pt x="528" y="84"/>
                    </a:lnTo>
                    <a:lnTo>
                      <a:pt x="534" y="97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7"/>
                    </a:lnTo>
                    <a:lnTo>
                      <a:pt x="524" y="262"/>
                    </a:lnTo>
                    <a:lnTo>
                      <a:pt x="519" y="278"/>
                    </a:lnTo>
                    <a:lnTo>
                      <a:pt x="510" y="294"/>
                    </a:lnTo>
                    <a:lnTo>
                      <a:pt x="498" y="309"/>
                    </a:lnTo>
                    <a:lnTo>
                      <a:pt x="482" y="322"/>
                    </a:lnTo>
                    <a:lnTo>
                      <a:pt x="463" y="331"/>
                    </a:lnTo>
                    <a:lnTo>
                      <a:pt x="439" y="336"/>
                    </a:lnTo>
                    <a:lnTo>
                      <a:pt x="412" y="335"/>
                    </a:lnTo>
                    <a:lnTo>
                      <a:pt x="111" y="299"/>
                    </a:lnTo>
                    <a:lnTo>
                      <a:pt x="83" y="292"/>
                    </a:lnTo>
                    <a:lnTo>
                      <a:pt x="59" y="281"/>
                    </a:lnTo>
                    <a:lnTo>
                      <a:pt x="39" y="268"/>
                    </a:lnTo>
                    <a:lnTo>
                      <a:pt x="24" y="251"/>
                    </a:lnTo>
                    <a:lnTo>
                      <a:pt x="12" y="233"/>
                    </a:lnTo>
                    <a:lnTo>
                      <a:pt x="4" y="215"/>
                    </a:lnTo>
                    <a:lnTo>
                      <a:pt x="0" y="198"/>
                    </a:lnTo>
                    <a:lnTo>
                      <a:pt x="0" y="182"/>
                    </a:lnTo>
                    <a:lnTo>
                      <a:pt x="9" y="61"/>
                    </a:lnTo>
                    <a:lnTo>
                      <a:pt x="12" y="46"/>
                    </a:lnTo>
                    <a:lnTo>
                      <a:pt x="18" y="33"/>
                    </a:lnTo>
                    <a:lnTo>
                      <a:pt x="26" y="23"/>
                    </a:lnTo>
                    <a:lnTo>
                      <a:pt x="37" y="13"/>
                    </a:lnTo>
                    <a:lnTo>
                      <a:pt x="50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589880" y="45788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4" h="321">
                    <a:moveTo>
                      <a:pt x="92" y="0"/>
                    </a:moveTo>
                    <a:lnTo>
                      <a:pt x="443" y="42"/>
                    </a:lnTo>
                    <a:lnTo>
                      <a:pt x="458" y="47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6" y="70"/>
                    </a:lnTo>
                    <a:lnTo>
                      <a:pt x="504" y="81"/>
                    </a:lnTo>
                    <a:lnTo>
                      <a:pt x="510" y="93"/>
                    </a:lnTo>
                    <a:lnTo>
                      <a:pt x="514" y="107"/>
                    </a:lnTo>
                    <a:lnTo>
                      <a:pt x="514" y="121"/>
                    </a:lnTo>
                    <a:lnTo>
                      <a:pt x="505" y="236"/>
                    </a:lnTo>
                    <a:lnTo>
                      <a:pt x="502" y="251"/>
                    </a:lnTo>
                    <a:lnTo>
                      <a:pt x="497" y="266"/>
                    </a:lnTo>
                    <a:lnTo>
                      <a:pt x="488" y="281"/>
                    </a:lnTo>
                    <a:lnTo>
                      <a:pt x="477" y="296"/>
                    </a:lnTo>
                    <a:lnTo>
                      <a:pt x="461" y="308"/>
                    </a:lnTo>
                    <a:lnTo>
                      <a:pt x="444" y="317"/>
                    </a:lnTo>
                    <a:lnTo>
                      <a:pt x="421" y="321"/>
                    </a:lnTo>
                    <a:lnTo>
                      <a:pt x="396" y="321"/>
                    </a:lnTo>
                    <a:lnTo>
                      <a:pt x="107" y="285"/>
                    </a:lnTo>
                    <a:lnTo>
                      <a:pt x="79" y="279"/>
                    </a:lnTo>
                    <a:lnTo>
                      <a:pt x="57" y="269"/>
                    </a:lnTo>
                    <a:lnTo>
                      <a:pt x="38" y="256"/>
                    </a:lnTo>
                    <a:lnTo>
                      <a:pt x="23" y="240"/>
                    </a:lnTo>
                    <a:lnTo>
                      <a:pt x="12" y="222"/>
                    </a:lnTo>
                    <a:lnTo>
                      <a:pt x="5" y="205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10" y="59"/>
                    </a:lnTo>
                    <a:lnTo>
                      <a:pt x="13" y="46"/>
                    </a:lnTo>
                    <a:lnTo>
                      <a:pt x="18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6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542000" y="4572360"/>
                <a:ext cx="40320" cy="23760"/>
              </a:xfrm>
              <a:custGeom>
                <a:avLst/>
                <a:gdLst/>
                <a:ahLst/>
                <a:rect l="l" t="t" r="r" b="b"/>
                <a:pathLst>
                  <a:path w="589" h="402">
                    <a:moveTo>
                      <a:pt x="107" y="0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2" y="61"/>
                    </a:lnTo>
                    <a:lnTo>
                      <a:pt x="556" y="70"/>
                    </a:lnTo>
                    <a:lnTo>
                      <a:pt x="568" y="82"/>
                    </a:lnTo>
                    <a:lnTo>
                      <a:pt x="578" y="97"/>
                    </a:lnTo>
                    <a:lnTo>
                      <a:pt x="585" y="112"/>
                    </a:lnTo>
                    <a:lnTo>
                      <a:pt x="589" y="129"/>
                    </a:lnTo>
                    <a:lnTo>
                      <a:pt x="589" y="146"/>
                    </a:lnTo>
                    <a:lnTo>
                      <a:pt x="578" y="293"/>
                    </a:lnTo>
                    <a:lnTo>
                      <a:pt x="575" y="311"/>
                    </a:lnTo>
                    <a:lnTo>
                      <a:pt x="568" y="331"/>
                    </a:lnTo>
                    <a:lnTo>
                      <a:pt x="558" y="351"/>
                    </a:lnTo>
                    <a:lnTo>
                      <a:pt x="544" y="368"/>
                    </a:lnTo>
                    <a:lnTo>
                      <a:pt x="527" y="384"/>
                    </a:lnTo>
                    <a:lnTo>
                      <a:pt x="506" y="395"/>
                    </a:lnTo>
                    <a:lnTo>
                      <a:pt x="480" y="402"/>
                    </a:lnTo>
                    <a:lnTo>
                      <a:pt x="452" y="402"/>
                    </a:lnTo>
                    <a:lnTo>
                      <a:pt x="121" y="361"/>
                    </a:lnTo>
                    <a:lnTo>
                      <a:pt x="90" y="354"/>
                    </a:lnTo>
                    <a:lnTo>
                      <a:pt x="64" y="341"/>
                    </a:lnTo>
                    <a:lnTo>
                      <a:pt x="42" y="324"/>
                    </a:lnTo>
                    <a:lnTo>
                      <a:pt x="25" y="305"/>
                    </a:lnTo>
                    <a:lnTo>
                      <a:pt x="13" y="284"/>
                    </a:lnTo>
                    <a:lnTo>
                      <a:pt x="4" y="261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2" y="75"/>
                    </a:lnTo>
                    <a:lnTo>
                      <a:pt x="15" y="58"/>
                    </a:lnTo>
                    <a:lnTo>
                      <a:pt x="21" y="43"/>
                    </a:lnTo>
                    <a:lnTo>
                      <a:pt x="30" y="29"/>
                    </a:lnTo>
                    <a:lnTo>
                      <a:pt x="43" y="17"/>
                    </a:lnTo>
                    <a:lnTo>
                      <a:pt x="56" y="8"/>
                    </a:lnTo>
                    <a:lnTo>
                      <a:pt x="72" y="2"/>
                    </a:lnTo>
                    <a:lnTo>
                      <a:pt x="9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542000" y="457380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551" h="372">
                    <a:moveTo>
                      <a:pt x="101" y="1"/>
                    </a:moveTo>
                    <a:lnTo>
                      <a:pt x="476" y="47"/>
                    </a:lnTo>
                    <a:lnTo>
                      <a:pt x="492" y="51"/>
                    </a:lnTo>
                    <a:lnTo>
                      <a:pt x="508" y="57"/>
                    </a:lnTo>
                    <a:lnTo>
                      <a:pt x="521" y="66"/>
                    </a:lnTo>
                    <a:lnTo>
                      <a:pt x="533" y="78"/>
                    </a:lnTo>
                    <a:lnTo>
                      <a:pt x="542" y="91"/>
                    </a:lnTo>
                    <a:lnTo>
                      <a:pt x="548" y="105"/>
                    </a:lnTo>
                    <a:lnTo>
                      <a:pt x="551" y="121"/>
                    </a:lnTo>
                    <a:lnTo>
                      <a:pt x="551" y="138"/>
                    </a:lnTo>
                    <a:lnTo>
                      <a:pt x="541" y="273"/>
                    </a:lnTo>
                    <a:lnTo>
                      <a:pt x="538" y="290"/>
                    </a:lnTo>
                    <a:lnTo>
                      <a:pt x="532" y="307"/>
                    </a:lnTo>
                    <a:lnTo>
                      <a:pt x="522" y="326"/>
                    </a:lnTo>
                    <a:lnTo>
                      <a:pt x="510" y="342"/>
                    </a:lnTo>
                    <a:lnTo>
                      <a:pt x="493" y="356"/>
                    </a:lnTo>
                    <a:lnTo>
                      <a:pt x="473" y="367"/>
                    </a:lnTo>
                    <a:lnTo>
                      <a:pt x="452" y="372"/>
                    </a:lnTo>
                    <a:lnTo>
                      <a:pt x="423" y="372"/>
                    </a:lnTo>
                    <a:lnTo>
                      <a:pt x="113" y="335"/>
                    </a:lnTo>
                    <a:lnTo>
                      <a:pt x="84" y="328"/>
                    </a:lnTo>
                    <a:lnTo>
                      <a:pt x="59" y="316"/>
                    </a:lnTo>
                    <a:lnTo>
                      <a:pt x="39" y="301"/>
                    </a:lnTo>
                    <a:lnTo>
                      <a:pt x="24" y="283"/>
                    </a:lnTo>
                    <a:lnTo>
                      <a:pt x="11" y="263"/>
                    </a:lnTo>
                    <a:lnTo>
                      <a:pt x="4" y="243"/>
                    </a:lnTo>
                    <a:lnTo>
                      <a:pt x="0" y="223"/>
                    </a:lnTo>
                    <a:lnTo>
                      <a:pt x="0" y="206"/>
                    </a:lnTo>
                    <a:lnTo>
                      <a:pt x="11" y="70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8"/>
                    </a:lnTo>
                    <a:lnTo>
                      <a:pt x="41" y="18"/>
                    </a:lnTo>
                    <a:lnTo>
                      <a:pt x="53" y="9"/>
                    </a:lnTo>
                    <a:lnTo>
                      <a:pt x="68" y="3"/>
                    </a:lnTo>
                    <a:lnTo>
                      <a:pt x="84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543440" y="4573800"/>
                <a:ext cx="36000" cy="19800"/>
              </a:xfrm>
              <a:custGeom>
                <a:avLst/>
                <a:gdLst/>
                <a:ahLst/>
                <a:rect l="l" t="t" r="r" b="b"/>
                <a:pathLst>
                  <a:path w="537" h="337">
                    <a:moveTo>
                      <a:pt x="97" y="1"/>
                    </a:moveTo>
                    <a:lnTo>
                      <a:pt x="462" y="46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6" y="63"/>
                    </a:lnTo>
                    <a:lnTo>
                      <a:pt x="517" y="74"/>
                    </a:lnTo>
                    <a:lnTo>
                      <a:pt x="527" y="85"/>
                    </a:lnTo>
                    <a:lnTo>
                      <a:pt x="533" y="98"/>
                    </a:lnTo>
                    <a:lnTo>
                      <a:pt x="537" y="112"/>
                    </a:lnTo>
                    <a:lnTo>
                      <a:pt x="537" y="127"/>
                    </a:lnTo>
                    <a:lnTo>
                      <a:pt x="527" y="248"/>
                    </a:lnTo>
                    <a:lnTo>
                      <a:pt x="524" y="264"/>
                    </a:lnTo>
                    <a:lnTo>
                      <a:pt x="518" y="280"/>
                    </a:lnTo>
                    <a:lnTo>
                      <a:pt x="509" y="296"/>
                    </a:lnTo>
                    <a:lnTo>
                      <a:pt x="498" y="310"/>
                    </a:lnTo>
                    <a:lnTo>
                      <a:pt x="482" y="323"/>
                    </a:lnTo>
                    <a:lnTo>
                      <a:pt x="462" y="333"/>
                    </a:lnTo>
                    <a:lnTo>
                      <a:pt x="440" y="337"/>
                    </a:lnTo>
                    <a:lnTo>
                      <a:pt x="413" y="337"/>
                    </a:lnTo>
                    <a:lnTo>
                      <a:pt x="112" y="299"/>
                    </a:lnTo>
                    <a:lnTo>
                      <a:pt x="84" y="293"/>
                    </a:lnTo>
                    <a:lnTo>
                      <a:pt x="60" y="282"/>
                    </a:lnTo>
                    <a:lnTo>
                      <a:pt x="40" y="269"/>
                    </a:lnTo>
                    <a:lnTo>
                      <a:pt x="24" y="251"/>
                    </a:lnTo>
                    <a:lnTo>
                      <a:pt x="13" y="234"/>
                    </a:lnTo>
                    <a:lnTo>
                      <a:pt x="4" y="216"/>
                    </a:lnTo>
                    <a:lnTo>
                      <a:pt x="1" y="199"/>
                    </a:lnTo>
                    <a:lnTo>
                      <a:pt x="0" y="183"/>
                    </a:lnTo>
                    <a:lnTo>
                      <a:pt x="11" y="62"/>
                    </a:lnTo>
                    <a:lnTo>
                      <a:pt x="14" y="48"/>
                    </a:lnTo>
                    <a:lnTo>
                      <a:pt x="19" y="35"/>
                    </a:lnTo>
                    <a:lnTo>
                      <a:pt x="27" y="24"/>
                    </a:lnTo>
                    <a:lnTo>
                      <a:pt x="38" y="15"/>
                    </a:lnTo>
                    <a:lnTo>
                      <a:pt x="50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543440" y="457380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514" h="323">
                    <a:moveTo>
                      <a:pt x="92" y="0"/>
                    </a:moveTo>
                    <a:lnTo>
                      <a:pt x="441" y="44"/>
                    </a:lnTo>
                    <a:lnTo>
                      <a:pt x="457" y="47"/>
                    </a:lnTo>
                    <a:lnTo>
                      <a:pt x="471" y="53"/>
                    </a:lnTo>
                    <a:lnTo>
                      <a:pt x="484" y="61"/>
                    </a:lnTo>
                    <a:lnTo>
                      <a:pt x="495" y="71"/>
                    </a:lnTo>
                    <a:lnTo>
                      <a:pt x="503" y="82"/>
                    </a:lnTo>
                    <a:lnTo>
                      <a:pt x="510" y="95"/>
                    </a:lnTo>
                    <a:lnTo>
                      <a:pt x="514" y="108"/>
                    </a:lnTo>
                    <a:lnTo>
                      <a:pt x="514" y="122"/>
                    </a:lnTo>
                    <a:lnTo>
                      <a:pt x="504" y="237"/>
                    </a:lnTo>
                    <a:lnTo>
                      <a:pt x="501" y="253"/>
                    </a:lnTo>
                    <a:lnTo>
                      <a:pt x="496" y="268"/>
                    </a:lnTo>
                    <a:lnTo>
                      <a:pt x="488" y="283"/>
                    </a:lnTo>
                    <a:lnTo>
                      <a:pt x="475" y="297"/>
                    </a:lnTo>
                    <a:lnTo>
                      <a:pt x="461" y="308"/>
                    </a:lnTo>
                    <a:lnTo>
                      <a:pt x="442" y="318"/>
                    </a:lnTo>
                    <a:lnTo>
                      <a:pt x="421" y="323"/>
                    </a:lnTo>
                    <a:lnTo>
                      <a:pt x="395" y="322"/>
                    </a:lnTo>
                    <a:lnTo>
                      <a:pt x="106" y="286"/>
                    </a:lnTo>
                    <a:lnTo>
                      <a:pt x="79" y="280"/>
                    </a:lnTo>
                    <a:lnTo>
                      <a:pt x="56" y="270"/>
                    </a:lnTo>
                    <a:lnTo>
                      <a:pt x="37" y="257"/>
                    </a:lnTo>
                    <a:lnTo>
                      <a:pt x="23" y="241"/>
                    </a:lnTo>
                    <a:lnTo>
                      <a:pt x="11" y="224"/>
                    </a:lnTo>
                    <a:lnTo>
                      <a:pt x="4" y="207"/>
                    </a:lnTo>
                    <a:lnTo>
                      <a:pt x="0" y="191"/>
                    </a:lnTo>
                    <a:lnTo>
                      <a:pt x="0" y="175"/>
                    </a:lnTo>
                    <a:lnTo>
                      <a:pt x="9" y="60"/>
                    </a:lnTo>
                    <a:lnTo>
                      <a:pt x="12" y="46"/>
                    </a:lnTo>
                    <a:lnTo>
                      <a:pt x="17" y="34"/>
                    </a:lnTo>
                    <a:lnTo>
                      <a:pt x="26" y="23"/>
                    </a:lnTo>
                    <a:lnTo>
                      <a:pt x="35" y="14"/>
                    </a:lnTo>
                    <a:lnTo>
                      <a:pt x="48" y="7"/>
                    </a:lnTo>
                    <a:lnTo>
                      <a:pt x="61" y="3"/>
                    </a:lnTo>
                    <a:lnTo>
                      <a:pt x="77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501320" y="4518000"/>
                <a:ext cx="40680" cy="21960"/>
              </a:xfrm>
              <a:custGeom>
                <a:avLst/>
                <a:gdLst/>
                <a:ahLst/>
                <a:rect l="l" t="t" r="r" b="b"/>
                <a:pathLst>
                  <a:path w="590" h="401">
                    <a:moveTo>
                      <a:pt x="108" y="0"/>
                    </a:moveTo>
                    <a:lnTo>
                      <a:pt x="509" y="48"/>
                    </a:lnTo>
                    <a:lnTo>
                      <a:pt x="527" y="52"/>
                    </a:lnTo>
                    <a:lnTo>
                      <a:pt x="544" y="60"/>
                    </a:lnTo>
                    <a:lnTo>
                      <a:pt x="558" y="70"/>
                    </a:lnTo>
                    <a:lnTo>
                      <a:pt x="571" y="82"/>
                    </a:lnTo>
                    <a:lnTo>
                      <a:pt x="580" y="96"/>
                    </a:lnTo>
                    <a:lnTo>
                      <a:pt x="586" y="111"/>
                    </a:lnTo>
                    <a:lnTo>
                      <a:pt x="590" y="129"/>
                    </a:lnTo>
                    <a:lnTo>
                      <a:pt x="590" y="146"/>
                    </a:lnTo>
                    <a:lnTo>
                      <a:pt x="579" y="292"/>
                    </a:lnTo>
                    <a:lnTo>
                      <a:pt x="576" y="311"/>
                    </a:lnTo>
                    <a:lnTo>
                      <a:pt x="570" y="331"/>
                    </a:lnTo>
                    <a:lnTo>
                      <a:pt x="559" y="350"/>
                    </a:lnTo>
                    <a:lnTo>
                      <a:pt x="546" y="367"/>
                    </a:lnTo>
                    <a:lnTo>
                      <a:pt x="528" y="384"/>
                    </a:lnTo>
                    <a:lnTo>
                      <a:pt x="507" y="395"/>
                    </a:lnTo>
                    <a:lnTo>
                      <a:pt x="481" y="401"/>
                    </a:lnTo>
                    <a:lnTo>
                      <a:pt x="452" y="401"/>
                    </a:lnTo>
                    <a:lnTo>
                      <a:pt x="121" y="360"/>
                    </a:lnTo>
                    <a:lnTo>
                      <a:pt x="90" y="353"/>
                    </a:lnTo>
                    <a:lnTo>
                      <a:pt x="64" y="340"/>
                    </a:lnTo>
                    <a:lnTo>
                      <a:pt x="42" y="324"/>
                    </a:lnTo>
                    <a:lnTo>
                      <a:pt x="25" y="304"/>
                    </a:lnTo>
                    <a:lnTo>
                      <a:pt x="13" y="283"/>
                    </a:lnTo>
                    <a:lnTo>
                      <a:pt x="5" y="261"/>
                    </a:lnTo>
                    <a:lnTo>
                      <a:pt x="0" y="240"/>
                    </a:lnTo>
                    <a:lnTo>
                      <a:pt x="0" y="221"/>
                    </a:lnTo>
                    <a:lnTo>
                      <a:pt x="13" y="75"/>
                    </a:lnTo>
                    <a:lnTo>
                      <a:pt x="16" y="57"/>
                    </a:lnTo>
                    <a:lnTo>
                      <a:pt x="22" y="42"/>
                    </a:lnTo>
                    <a:lnTo>
                      <a:pt x="32" y="28"/>
                    </a:lnTo>
                    <a:lnTo>
                      <a:pt x="43" y="17"/>
                    </a:lnTo>
                    <a:lnTo>
                      <a:pt x="57" y="8"/>
                    </a:lnTo>
                    <a:lnTo>
                      <a:pt x="72" y="2"/>
                    </a:lnTo>
                    <a:lnTo>
                      <a:pt x="90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502760" y="4518000"/>
                <a:ext cx="37440" cy="20880"/>
              </a:xfrm>
              <a:custGeom>
                <a:avLst/>
                <a:gdLst/>
                <a:ahLst/>
                <a:rect l="l" t="t" r="r" b="b"/>
                <a:pathLst>
                  <a:path w="553" h="372">
                    <a:moveTo>
                      <a:pt x="101" y="1"/>
                    </a:moveTo>
                    <a:lnTo>
                      <a:pt x="477" y="47"/>
                    </a:lnTo>
                    <a:lnTo>
                      <a:pt x="493" y="51"/>
                    </a:lnTo>
                    <a:lnTo>
                      <a:pt x="509" y="57"/>
                    </a:lnTo>
                    <a:lnTo>
                      <a:pt x="523" y="66"/>
                    </a:lnTo>
                    <a:lnTo>
                      <a:pt x="534" y="77"/>
                    </a:lnTo>
                    <a:lnTo>
                      <a:pt x="543" y="90"/>
                    </a:lnTo>
                    <a:lnTo>
                      <a:pt x="550" y="104"/>
                    </a:lnTo>
                    <a:lnTo>
                      <a:pt x="553" y="120"/>
                    </a:lnTo>
                    <a:lnTo>
                      <a:pt x="553" y="136"/>
                    </a:lnTo>
                    <a:lnTo>
                      <a:pt x="542" y="272"/>
                    </a:lnTo>
                    <a:lnTo>
                      <a:pt x="539" y="289"/>
                    </a:lnTo>
                    <a:lnTo>
                      <a:pt x="533" y="307"/>
                    </a:lnTo>
                    <a:lnTo>
                      <a:pt x="524" y="325"/>
                    </a:lnTo>
                    <a:lnTo>
                      <a:pt x="511" y="341"/>
                    </a:lnTo>
                    <a:lnTo>
                      <a:pt x="494" y="356"/>
                    </a:lnTo>
                    <a:lnTo>
                      <a:pt x="475" y="367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4" y="334"/>
                    </a:lnTo>
                    <a:lnTo>
                      <a:pt x="84" y="327"/>
                    </a:lnTo>
                    <a:lnTo>
                      <a:pt x="59" y="316"/>
                    </a:lnTo>
                    <a:lnTo>
                      <a:pt x="40" y="301"/>
                    </a:lnTo>
                    <a:lnTo>
                      <a:pt x="24" y="282"/>
                    </a:lnTo>
                    <a:lnTo>
                      <a:pt x="12" y="262"/>
                    </a:lnTo>
                    <a:lnTo>
                      <a:pt x="4" y="243"/>
                    </a:lnTo>
                    <a:lnTo>
                      <a:pt x="0" y="222"/>
                    </a:lnTo>
                    <a:lnTo>
                      <a:pt x="0" y="205"/>
                    </a:lnTo>
                    <a:lnTo>
                      <a:pt x="12" y="70"/>
                    </a:lnTo>
                    <a:lnTo>
                      <a:pt x="15" y="54"/>
                    </a:lnTo>
                    <a:lnTo>
                      <a:pt x="21" y="39"/>
                    </a:lnTo>
                    <a:lnTo>
                      <a:pt x="29" y="27"/>
                    </a:lnTo>
                    <a:lnTo>
                      <a:pt x="41" y="17"/>
                    </a:lnTo>
                    <a:lnTo>
                      <a:pt x="53" y="9"/>
                    </a:lnTo>
                    <a:lnTo>
                      <a:pt x="68" y="3"/>
                    </a:lnTo>
                    <a:lnTo>
                      <a:pt x="84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502760" y="4519440"/>
                <a:ext cx="37440" cy="1836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0"/>
                    </a:moveTo>
                    <a:lnTo>
                      <a:pt x="464" y="46"/>
                    </a:lnTo>
                    <a:lnTo>
                      <a:pt x="480" y="49"/>
                    </a:lnTo>
                    <a:lnTo>
                      <a:pt x="495" y="55"/>
                    </a:lnTo>
                    <a:lnTo>
                      <a:pt x="507" y="63"/>
                    </a:lnTo>
                    <a:lnTo>
                      <a:pt x="519" y="73"/>
                    </a:lnTo>
                    <a:lnTo>
                      <a:pt x="528" y="84"/>
                    </a:lnTo>
                    <a:lnTo>
                      <a:pt x="534" y="97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8"/>
                    </a:lnTo>
                    <a:lnTo>
                      <a:pt x="525" y="263"/>
                    </a:lnTo>
                    <a:lnTo>
                      <a:pt x="520" y="279"/>
                    </a:lnTo>
                    <a:lnTo>
                      <a:pt x="510" y="296"/>
                    </a:lnTo>
                    <a:lnTo>
                      <a:pt x="499" y="310"/>
                    </a:lnTo>
                    <a:lnTo>
                      <a:pt x="483" y="322"/>
                    </a:lnTo>
                    <a:lnTo>
                      <a:pt x="464" y="332"/>
                    </a:lnTo>
                    <a:lnTo>
                      <a:pt x="441" y="336"/>
                    </a:lnTo>
                    <a:lnTo>
                      <a:pt x="414" y="336"/>
                    </a:lnTo>
                    <a:lnTo>
                      <a:pt x="112" y="299"/>
                    </a:lnTo>
                    <a:lnTo>
                      <a:pt x="84" y="293"/>
                    </a:lnTo>
                    <a:lnTo>
                      <a:pt x="60" y="281"/>
                    </a:lnTo>
                    <a:lnTo>
                      <a:pt x="40" y="268"/>
                    </a:lnTo>
                    <a:lnTo>
                      <a:pt x="24" y="251"/>
                    </a:lnTo>
                    <a:lnTo>
                      <a:pt x="13" y="234"/>
                    </a:lnTo>
                    <a:lnTo>
                      <a:pt x="5" y="215"/>
                    </a:lnTo>
                    <a:lnTo>
                      <a:pt x="1" y="198"/>
                    </a:lnTo>
                    <a:lnTo>
                      <a:pt x="0" y="183"/>
                    </a:lnTo>
                    <a:lnTo>
                      <a:pt x="11" y="62"/>
                    </a:lnTo>
                    <a:lnTo>
                      <a:pt x="14" y="48"/>
                    </a:lnTo>
                    <a:lnTo>
                      <a:pt x="19" y="34"/>
                    </a:lnTo>
                    <a:lnTo>
                      <a:pt x="27" y="23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1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504200" y="45194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2" y="44"/>
                    </a:lnTo>
                    <a:lnTo>
                      <a:pt x="458" y="47"/>
                    </a:lnTo>
                    <a:lnTo>
                      <a:pt x="472" y="53"/>
                    </a:lnTo>
                    <a:lnTo>
                      <a:pt x="485" y="61"/>
                    </a:lnTo>
                    <a:lnTo>
                      <a:pt x="496" y="70"/>
                    </a:lnTo>
                    <a:lnTo>
                      <a:pt x="505" y="81"/>
                    </a:lnTo>
                    <a:lnTo>
                      <a:pt x="511" y="94"/>
                    </a:lnTo>
                    <a:lnTo>
                      <a:pt x="515" y="108"/>
                    </a:lnTo>
                    <a:lnTo>
                      <a:pt x="515" y="122"/>
                    </a:lnTo>
                    <a:lnTo>
                      <a:pt x="506" y="237"/>
                    </a:lnTo>
                    <a:lnTo>
                      <a:pt x="503" y="251"/>
                    </a:lnTo>
                    <a:lnTo>
                      <a:pt x="497" y="266"/>
                    </a:lnTo>
                    <a:lnTo>
                      <a:pt x="489" y="282"/>
                    </a:lnTo>
                    <a:lnTo>
                      <a:pt x="477" y="296"/>
                    </a:lnTo>
                    <a:lnTo>
                      <a:pt x="462" y="308"/>
                    </a:lnTo>
                    <a:lnTo>
                      <a:pt x="443" y="317"/>
                    </a:lnTo>
                    <a:lnTo>
                      <a:pt x="421" y="321"/>
                    </a:lnTo>
                    <a:lnTo>
                      <a:pt x="395" y="321"/>
                    </a:lnTo>
                    <a:lnTo>
                      <a:pt x="106" y="286"/>
                    </a:lnTo>
                    <a:lnTo>
                      <a:pt x="79" y="279"/>
                    </a:lnTo>
                    <a:lnTo>
                      <a:pt x="56" y="269"/>
                    </a:lnTo>
                    <a:lnTo>
                      <a:pt x="37" y="256"/>
                    </a:lnTo>
                    <a:lnTo>
                      <a:pt x="23" y="241"/>
                    </a:lnTo>
                    <a:lnTo>
                      <a:pt x="11" y="224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9" y="59"/>
                    </a:lnTo>
                    <a:lnTo>
                      <a:pt x="12" y="46"/>
                    </a:lnTo>
                    <a:lnTo>
                      <a:pt x="18" y="34"/>
                    </a:lnTo>
                    <a:lnTo>
                      <a:pt x="26" y="22"/>
                    </a:lnTo>
                    <a:lnTo>
                      <a:pt x="35" y="13"/>
                    </a:lnTo>
                    <a:lnTo>
                      <a:pt x="48" y="6"/>
                    </a:lnTo>
                    <a:lnTo>
                      <a:pt x="61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591680" y="4527000"/>
                <a:ext cx="40320" cy="22320"/>
              </a:xfrm>
              <a:custGeom>
                <a:avLst/>
                <a:gdLst/>
                <a:ahLst/>
                <a:rect l="l" t="t" r="r" b="b"/>
                <a:pathLst>
                  <a:path w="590" h="402">
                    <a:moveTo>
                      <a:pt x="108" y="0"/>
                    </a:moveTo>
                    <a:lnTo>
                      <a:pt x="509" y="49"/>
                    </a:lnTo>
                    <a:lnTo>
                      <a:pt x="526" y="53"/>
                    </a:lnTo>
                    <a:lnTo>
                      <a:pt x="543" y="60"/>
                    </a:lnTo>
                    <a:lnTo>
                      <a:pt x="557" y="70"/>
                    </a:lnTo>
                    <a:lnTo>
                      <a:pt x="570" y="82"/>
                    </a:lnTo>
                    <a:lnTo>
                      <a:pt x="579" y="97"/>
                    </a:lnTo>
                    <a:lnTo>
                      <a:pt x="586" y="112"/>
                    </a:lnTo>
                    <a:lnTo>
                      <a:pt x="590" y="129"/>
                    </a:lnTo>
                    <a:lnTo>
                      <a:pt x="590" y="147"/>
                    </a:lnTo>
                    <a:lnTo>
                      <a:pt x="578" y="293"/>
                    </a:lnTo>
                    <a:lnTo>
                      <a:pt x="575" y="311"/>
                    </a:lnTo>
                    <a:lnTo>
                      <a:pt x="569" y="332"/>
                    </a:lnTo>
                    <a:lnTo>
                      <a:pt x="559" y="351"/>
                    </a:lnTo>
                    <a:lnTo>
                      <a:pt x="545" y="368"/>
                    </a:lnTo>
                    <a:lnTo>
                      <a:pt x="527" y="384"/>
                    </a:lnTo>
                    <a:lnTo>
                      <a:pt x="506" y="396"/>
                    </a:lnTo>
                    <a:lnTo>
                      <a:pt x="480" y="402"/>
                    </a:lnTo>
                    <a:lnTo>
                      <a:pt x="451" y="402"/>
                    </a:lnTo>
                    <a:lnTo>
                      <a:pt x="120" y="361"/>
                    </a:lnTo>
                    <a:lnTo>
                      <a:pt x="89" y="354"/>
                    </a:lnTo>
                    <a:lnTo>
                      <a:pt x="63" y="341"/>
                    </a:lnTo>
                    <a:lnTo>
                      <a:pt x="41" y="324"/>
                    </a:lnTo>
                    <a:lnTo>
                      <a:pt x="25" y="305"/>
                    </a:lnTo>
                    <a:lnTo>
                      <a:pt x="12" y="284"/>
                    </a:lnTo>
                    <a:lnTo>
                      <a:pt x="4" y="261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2" y="75"/>
                    </a:lnTo>
                    <a:lnTo>
                      <a:pt x="15" y="58"/>
                    </a:lnTo>
                    <a:lnTo>
                      <a:pt x="22" y="43"/>
                    </a:lnTo>
                    <a:lnTo>
                      <a:pt x="31" y="29"/>
                    </a:lnTo>
                    <a:lnTo>
                      <a:pt x="43" y="17"/>
                    </a:lnTo>
                    <a:lnTo>
                      <a:pt x="57" y="8"/>
                    </a:lnTo>
                    <a:lnTo>
                      <a:pt x="73" y="2"/>
                    </a:lnTo>
                    <a:lnTo>
                      <a:pt x="89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593120" y="4527000"/>
                <a:ext cx="39240" cy="21240"/>
              </a:xfrm>
              <a:custGeom>
                <a:avLst/>
                <a:gdLst/>
                <a:ahLst/>
                <a:rect l="l" t="t" r="r" b="b"/>
                <a:pathLst>
                  <a:path w="554" h="372">
                    <a:moveTo>
                      <a:pt x="101" y="1"/>
                    </a:moveTo>
                    <a:lnTo>
                      <a:pt x="478" y="47"/>
                    </a:lnTo>
                    <a:lnTo>
                      <a:pt x="495" y="51"/>
                    </a:lnTo>
                    <a:lnTo>
                      <a:pt x="509" y="57"/>
                    </a:lnTo>
                    <a:lnTo>
                      <a:pt x="523" y="66"/>
                    </a:lnTo>
                    <a:lnTo>
                      <a:pt x="534" y="78"/>
                    </a:lnTo>
                    <a:lnTo>
                      <a:pt x="544" y="91"/>
                    </a:lnTo>
                    <a:lnTo>
                      <a:pt x="550" y="105"/>
                    </a:lnTo>
                    <a:lnTo>
                      <a:pt x="554" y="120"/>
                    </a:lnTo>
                    <a:lnTo>
                      <a:pt x="554" y="137"/>
                    </a:lnTo>
                    <a:lnTo>
                      <a:pt x="543" y="273"/>
                    </a:lnTo>
                    <a:lnTo>
                      <a:pt x="539" y="290"/>
                    </a:lnTo>
                    <a:lnTo>
                      <a:pt x="533" y="307"/>
                    </a:lnTo>
                    <a:lnTo>
                      <a:pt x="524" y="326"/>
                    </a:lnTo>
                    <a:lnTo>
                      <a:pt x="511" y="342"/>
                    </a:lnTo>
                    <a:lnTo>
                      <a:pt x="495" y="356"/>
                    </a:lnTo>
                    <a:lnTo>
                      <a:pt x="475" y="367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5" y="335"/>
                    </a:lnTo>
                    <a:lnTo>
                      <a:pt x="86" y="328"/>
                    </a:lnTo>
                    <a:lnTo>
                      <a:pt x="61" y="317"/>
                    </a:lnTo>
                    <a:lnTo>
                      <a:pt x="41" y="300"/>
                    </a:lnTo>
                    <a:lnTo>
                      <a:pt x="25" y="282"/>
                    </a:lnTo>
                    <a:lnTo>
                      <a:pt x="13" y="263"/>
                    </a:lnTo>
                    <a:lnTo>
                      <a:pt x="6" y="242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12" y="71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30" y="28"/>
                    </a:lnTo>
                    <a:lnTo>
                      <a:pt x="41" y="18"/>
                    </a:lnTo>
                    <a:lnTo>
                      <a:pt x="53" y="10"/>
                    </a:lnTo>
                    <a:lnTo>
                      <a:pt x="68" y="3"/>
                    </a:lnTo>
                    <a:lnTo>
                      <a:pt x="85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594560" y="452844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38" h="337">
                    <a:moveTo>
                      <a:pt x="96" y="0"/>
                    </a:moveTo>
                    <a:lnTo>
                      <a:pt x="463" y="46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8" y="63"/>
                    </a:lnTo>
                    <a:lnTo>
                      <a:pt x="519" y="74"/>
                    </a:lnTo>
                    <a:lnTo>
                      <a:pt x="527" y="85"/>
                    </a:lnTo>
                    <a:lnTo>
                      <a:pt x="534" y="98"/>
                    </a:lnTo>
                    <a:lnTo>
                      <a:pt x="538" y="112"/>
                    </a:lnTo>
                    <a:lnTo>
                      <a:pt x="538" y="127"/>
                    </a:lnTo>
                    <a:lnTo>
                      <a:pt x="528" y="247"/>
                    </a:lnTo>
                    <a:lnTo>
                      <a:pt x="525" y="263"/>
                    </a:lnTo>
                    <a:lnTo>
                      <a:pt x="519" y="279"/>
                    </a:lnTo>
                    <a:lnTo>
                      <a:pt x="511" y="295"/>
                    </a:lnTo>
                    <a:lnTo>
                      <a:pt x="498" y="310"/>
                    </a:lnTo>
                    <a:lnTo>
                      <a:pt x="483" y="323"/>
                    </a:lnTo>
                    <a:lnTo>
                      <a:pt x="463" y="333"/>
                    </a:lnTo>
                    <a:lnTo>
                      <a:pt x="440" y="337"/>
                    </a:lnTo>
                    <a:lnTo>
                      <a:pt x="413" y="337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39" y="269"/>
                    </a:lnTo>
                    <a:lnTo>
                      <a:pt x="24" y="252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1" y="199"/>
                    </a:lnTo>
                    <a:lnTo>
                      <a:pt x="0" y="183"/>
                    </a:lnTo>
                    <a:lnTo>
                      <a:pt x="10" y="62"/>
                    </a:lnTo>
                    <a:lnTo>
                      <a:pt x="13" y="48"/>
                    </a:lnTo>
                    <a:lnTo>
                      <a:pt x="18" y="35"/>
                    </a:lnTo>
                    <a:lnTo>
                      <a:pt x="27" y="24"/>
                    </a:lnTo>
                    <a:lnTo>
                      <a:pt x="38" y="15"/>
                    </a:lnTo>
                    <a:lnTo>
                      <a:pt x="51" y="8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594560" y="452844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2" y="43"/>
                    </a:lnTo>
                    <a:lnTo>
                      <a:pt x="458" y="46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7" y="70"/>
                    </a:lnTo>
                    <a:lnTo>
                      <a:pt x="505" y="81"/>
                    </a:lnTo>
                    <a:lnTo>
                      <a:pt x="511" y="93"/>
                    </a:lnTo>
                    <a:lnTo>
                      <a:pt x="515" y="106"/>
                    </a:lnTo>
                    <a:lnTo>
                      <a:pt x="515" y="121"/>
                    </a:lnTo>
                    <a:lnTo>
                      <a:pt x="506" y="236"/>
                    </a:lnTo>
                    <a:lnTo>
                      <a:pt x="503" y="251"/>
                    </a:lnTo>
                    <a:lnTo>
                      <a:pt x="498" y="266"/>
                    </a:lnTo>
                    <a:lnTo>
                      <a:pt x="489" y="281"/>
                    </a:lnTo>
                    <a:lnTo>
                      <a:pt x="478" y="295"/>
                    </a:lnTo>
                    <a:lnTo>
                      <a:pt x="462" y="308"/>
                    </a:lnTo>
                    <a:lnTo>
                      <a:pt x="444" y="317"/>
                    </a:lnTo>
                    <a:lnTo>
                      <a:pt x="422" y="321"/>
                    </a:lnTo>
                    <a:lnTo>
                      <a:pt x="396" y="321"/>
                    </a:lnTo>
                    <a:lnTo>
                      <a:pt x="107" y="285"/>
                    </a:lnTo>
                    <a:lnTo>
                      <a:pt x="80" y="279"/>
                    </a:lnTo>
                    <a:lnTo>
                      <a:pt x="56" y="269"/>
                    </a:lnTo>
                    <a:lnTo>
                      <a:pt x="38" y="256"/>
                    </a:lnTo>
                    <a:lnTo>
                      <a:pt x="23" y="240"/>
                    </a:lnTo>
                    <a:lnTo>
                      <a:pt x="12" y="223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4"/>
                    </a:lnTo>
                    <a:lnTo>
                      <a:pt x="10" y="59"/>
                    </a:lnTo>
                    <a:lnTo>
                      <a:pt x="13" y="45"/>
                    </a:lnTo>
                    <a:lnTo>
                      <a:pt x="18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546320" y="4521960"/>
                <a:ext cx="40320" cy="23400"/>
              </a:xfrm>
              <a:custGeom>
                <a:avLst/>
                <a:gdLst/>
                <a:ahLst/>
                <a:rect l="l" t="t" r="r" b="b"/>
                <a:pathLst>
                  <a:path w="589" h="401">
                    <a:moveTo>
                      <a:pt x="107" y="0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2" y="61"/>
                    </a:lnTo>
                    <a:lnTo>
                      <a:pt x="556" y="70"/>
                    </a:lnTo>
                    <a:lnTo>
                      <a:pt x="568" y="82"/>
                    </a:lnTo>
                    <a:lnTo>
                      <a:pt x="578" y="96"/>
                    </a:lnTo>
                    <a:lnTo>
                      <a:pt x="585" y="113"/>
                    </a:lnTo>
                    <a:lnTo>
                      <a:pt x="589" y="129"/>
                    </a:lnTo>
                    <a:lnTo>
                      <a:pt x="589" y="147"/>
                    </a:lnTo>
                    <a:lnTo>
                      <a:pt x="577" y="294"/>
                    </a:lnTo>
                    <a:lnTo>
                      <a:pt x="573" y="312"/>
                    </a:lnTo>
                    <a:lnTo>
                      <a:pt x="567" y="331"/>
                    </a:lnTo>
                    <a:lnTo>
                      <a:pt x="557" y="351"/>
                    </a:lnTo>
                    <a:lnTo>
                      <a:pt x="543" y="369"/>
                    </a:lnTo>
                    <a:lnTo>
                      <a:pt x="527" y="384"/>
                    </a:lnTo>
                    <a:lnTo>
                      <a:pt x="506" y="395"/>
                    </a:lnTo>
                    <a:lnTo>
                      <a:pt x="480" y="401"/>
                    </a:lnTo>
                    <a:lnTo>
                      <a:pt x="451" y="401"/>
                    </a:lnTo>
                    <a:lnTo>
                      <a:pt x="121" y="361"/>
                    </a:lnTo>
                    <a:lnTo>
                      <a:pt x="90" y="354"/>
                    </a:lnTo>
                    <a:lnTo>
                      <a:pt x="64" y="341"/>
                    </a:lnTo>
                    <a:lnTo>
                      <a:pt x="42" y="325"/>
                    </a:lnTo>
                    <a:lnTo>
                      <a:pt x="25" y="305"/>
                    </a:lnTo>
                    <a:lnTo>
                      <a:pt x="13" y="284"/>
                    </a:lnTo>
                    <a:lnTo>
                      <a:pt x="4" y="262"/>
                    </a:lnTo>
                    <a:lnTo>
                      <a:pt x="0" y="242"/>
                    </a:lnTo>
                    <a:lnTo>
                      <a:pt x="0" y="222"/>
                    </a:lnTo>
                    <a:lnTo>
                      <a:pt x="12" y="76"/>
                    </a:lnTo>
                    <a:lnTo>
                      <a:pt x="15" y="59"/>
                    </a:lnTo>
                    <a:lnTo>
                      <a:pt x="21" y="43"/>
                    </a:lnTo>
                    <a:lnTo>
                      <a:pt x="30" y="29"/>
                    </a:lnTo>
                    <a:lnTo>
                      <a:pt x="43" y="17"/>
                    </a:lnTo>
                    <a:lnTo>
                      <a:pt x="56" y="8"/>
                    </a:lnTo>
                    <a:lnTo>
                      <a:pt x="72" y="2"/>
                    </a:lnTo>
                    <a:lnTo>
                      <a:pt x="9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547760" y="4523040"/>
                <a:ext cx="37800" cy="21240"/>
              </a:xfrm>
              <a:custGeom>
                <a:avLst/>
                <a:gdLst/>
                <a:ahLst/>
                <a:rect l="l" t="t" r="r" b="b"/>
                <a:pathLst>
                  <a:path w="551" h="372">
                    <a:moveTo>
                      <a:pt x="101" y="0"/>
                    </a:moveTo>
                    <a:lnTo>
                      <a:pt x="475" y="47"/>
                    </a:lnTo>
                    <a:lnTo>
                      <a:pt x="492" y="50"/>
                    </a:lnTo>
                    <a:lnTo>
                      <a:pt x="507" y="57"/>
                    </a:lnTo>
                    <a:lnTo>
                      <a:pt x="520" y="66"/>
                    </a:lnTo>
                    <a:lnTo>
                      <a:pt x="532" y="77"/>
                    </a:lnTo>
                    <a:lnTo>
                      <a:pt x="541" y="91"/>
                    </a:lnTo>
                    <a:lnTo>
                      <a:pt x="547" y="105"/>
                    </a:lnTo>
                    <a:lnTo>
                      <a:pt x="551" y="120"/>
                    </a:lnTo>
                    <a:lnTo>
                      <a:pt x="551" y="136"/>
                    </a:lnTo>
                    <a:lnTo>
                      <a:pt x="540" y="271"/>
                    </a:lnTo>
                    <a:lnTo>
                      <a:pt x="537" y="289"/>
                    </a:lnTo>
                    <a:lnTo>
                      <a:pt x="532" y="307"/>
                    </a:lnTo>
                    <a:lnTo>
                      <a:pt x="522" y="325"/>
                    </a:lnTo>
                    <a:lnTo>
                      <a:pt x="510" y="342"/>
                    </a:lnTo>
                    <a:lnTo>
                      <a:pt x="493" y="356"/>
                    </a:lnTo>
                    <a:lnTo>
                      <a:pt x="473" y="366"/>
                    </a:lnTo>
                    <a:lnTo>
                      <a:pt x="450" y="372"/>
                    </a:lnTo>
                    <a:lnTo>
                      <a:pt x="422" y="372"/>
                    </a:lnTo>
                    <a:lnTo>
                      <a:pt x="113" y="333"/>
                    </a:lnTo>
                    <a:lnTo>
                      <a:pt x="84" y="326"/>
                    </a:lnTo>
                    <a:lnTo>
                      <a:pt x="59" y="315"/>
                    </a:lnTo>
                    <a:lnTo>
                      <a:pt x="39" y="300"/>
                    </a:lnTo>
                    <a:lnTo>
                      <a:pt x="24" y="282"/>
                    </a:lnTo>
                    <a:lnTo>
                      <a:pt x="11" y="262"/>
                    </a:lnTo>
                    <a:lnTo>
                      <a:pt x="4" y="242"/>
                    </a:lnTo>
                    <a:lnTo>
                      <a:pt x="0" y="223"/>
                    </a:lnTo>
                    <a:lnTo>
                      <a:pt x="0" y="205"/>
                    </a:lnTo>
                    <a:lnTo>
                      <a:pt x="10" y="69"/>
                    </a:lnTo>
                    <a:lnTo>
                      <a:pt x="13" y="54"/>
                    </a:lnTo>
                    <a:lnTo>
                      <a:pt x="20" y="40"/>
                    </a:lnTo>
                    <a:lnTo>
                      <a:pt x="28" y="27"/>
                    </a:lnTo>
                    <a:lnTo>
                      <a:pt x="39" y="16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547760" y="4523040"/>
                <a:ext cx="37800" cy="19800"/>
              </a:xfrm>
              <a:custGeom>
                <a:avLst/>
                <a:gdLst/>
                <a:ahLst/>
                <a:rect l="l" t="t" r="r" b="b"/>
                <a:pathLst>
                  <a:path w="537" h="337">
                    <a:moveTo>
                      <a:pt x="97" y="1"/>
                    </a:moveTo>
                    <a:lnTo>
                      <a:pt x="462" y="46"/>
                    </a:lnTo>
                    <a:lnTo>
                      <a:pt x="479" y="50"/>
                    </a:lnTo>
                    <a:lnTo>
                      <a:pt x="493" y="56"/>
                    </a:lnTo>
                    <a:lnTo>
                      <a:pt x="506" y="64"/>
                    </a:lnTo>
                    <a:lnTo>
                      <a:pt x="517" y="74"/>
                    </a:lnTo>
                    <a:lnTo>
                      <a:pt x="527" y="86"/>
                    </a:lnTo>
                    <a:lnTo>
                      <a:pt x="533" y="99"/>
                    </a:lnTo>
                    <a:lnTo>
                      <a:pt x="537" y="113"/>
                    </a:lnTo>
                    <a:lnTo>
                      <a:pt x="537" y="127"/>
                    </a:lnTo>
                    <a:lnTo>
                      <a:pt x="527" y="248"/>
                    </a:lnTo>
                    <a:lnTo>
                      <a:pt x="524" y="263"/>
                    </a:lnTo>
                    <a:lnTo>
                      <a:pt x="518" y="280"/>
                    </a:lnTo>
                    <a:lnTo>
                      <a:pt x="509" y="296"/>
                    </a:lnTo>
                    <a:lnTo>
                      <a:pt x="498" y="310"/>
                    </a:lnTo>
                    <a:lnTo>
                      <a:pt x="481" y="322"/>
                    </a:lnTo>
                    <a:lnTo>
                      <a:pt x="462" y="333"/>
                    </a:lnTo>
                    <a:lnTo>
                      <a:pt x="438" y="337"/>
                    </a:lnTo>
                    <a:lnTo>
                      <a:pt x="411" y="337"/>
                    </a:lnTo>
                    <a:lnTo>
                      <a:pt x="111" y="300"/>
                    </a:lnTo>
                    <a:lnTo>
                      <a:pt x="83" y="294"/>
                    </a:lnTo>
                    <a:lnTo>
                      <a:pt x="59" y="283"/>
                    </a:lnTo>
                    <a:lnTo>
                      <a:pt x="40" y="270"/>
                    </a:lnTo>
                    <a:lnTo>
                      <a:pt x="24" y="252"/>
                    </a:lnTo>
                    <a:lnTo>
                      <a:pt x="13" y="235"/>
                    </a:lnTo>
                    <a:lnTo>
                      <a:pt x="4" y="217"/>
                    </a:lnTo>
                    <a:lnTo>
                      <a:pt x="0" y="199"/>
                    </a:lnTo>
                    <a:lnTo>
                      <a:pt x="0" y="183"/>
                    </a:lnTo>
                    <a:lnTo>
                      <a:pt x="9" y="62"/>
                    </a:lnTo>
                    <a:lnTo>
                      <a:pt x="13" y="48"/>
                    </a:lnTo>
                    <a:lnTo>
                      <a:pt x="18" y="35"/>
                    </a:lnTo>
                    <a:lnTo>
                      <a:pt x="26" y="24"/>
                    </a:lnTo>
                    <a:lnTo>
                      <a:pt x="38" y="14"/>
                    </a:lnTo>
                    <a:lnTo>
                      <a:pt x="50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549560" y="45230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3" h="322">
                    <a:moveTo>
                      <a:pt x="91" y="1"/>
                    </a:moveTo>
                    <a:lnTo>
                      <a:pt x="441" y="44"/>
                    </a:lnTo>
                    <a:lnTo>
                      <a:pt x="456" y="47"/>
                    </a:lnTo>
                    <a:lnTo>
                      <a:pt x="471" y="53"/>
                    </a:lnTo>
                    <a:lnTo>
                      <a:pt x="483" y="61"/>
                    </a:lnTo>
                    <a:lnTo>
                      <a:pt x="494" y="70"/>
                    </a:lnTo>
                    <a:lnTo>
                      <a:pt x="502" y="83"/>
                    </a:lnTo>
                    <a:lnTo>
                      <a:pt x="508" y="95"/>
                    </a:lnTo>
                    <a:lnTo>
                      <a:pt x="513" y="108"/>
                    </a:lnTo>
                    <a:lnTo>
                      <a:pt x="513" y="122"/>
                    </a:lnTo>
                    <a:lnTo>
                      <a:pt x="503" y="237"/>
                    </a:lnTo>
                    <a:lnTo>
                      <a:pt x="500" y="252"/>
                    </a:lnTo>
                    <a:lnTo>
                      <a:pt x="495" y="268"/>
                    </a:lnTo>
                    <a:lnTo>
                      <a:pt x="487" y="283"/>
                    </a:lnTo>
                    <a:lnTo>
                      <a:pt x="475" y="297"/>
                    </a:lnTo>
                    <a:lnTo>
                      <a:pt x="460" y="309"/>
                    </a:lnTo>
                    <a:lnTo>
                      <a:pt x="442" y="318"/>
                    </a:lnTo>
                    <a:lnTo>
                      <a:pt x="419" y="322"/>
                    </a:lnTo>
                    <a:lnTo>
                      <a:pt x="394" y="322"/>
                    </a:lnTo>
                    <a:lnTo>
                      <a:pt x="106" y="287"/>
                    </a:lnTo>
                    <a:lnTo>
                      <a:pt x="79" y="281"/>
                    </a:lnTo>
                    <a:lnTo>
                      <a:pt x="56" y="271"/>
                    </a:lnTo>
                    <a:lnTo>
                      <a:pt x="37" y="257"/>
                    </a:lnTo>
                    <a:lnTo>
                      <a:pt x="22" y="241"/>
                    </a:lnTo>
                    <a:lnTo>
                      <a:pt x="11" y="224"/>
                    </a:lnTo>
                    <a:lnTo>
                      <a:pt x="4" y="207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9" y="60"/>
                    </a:lnTo>
                    <a:lnTo>
                      <a:pt x="12" y="46"/>
                    </a:lnTo>
                    <a:lnTo>
                      <a:pt x="17" y="34"/>
                    </a:lnTo>
                    <a:lnTo>
                      <a:pt x="26" y="24"/>
                    </a:lnTo>
                    <a:lnTo>
                      <a:pt x="35" y="14"/>
                    </a:lnTo>
                    <a:lnTo>
                      <a:pt x="47" y="7"/>
                    </a:lnTo>
                    <a:lnTo>
                      <a:pt x="61" y="3"/>
                    </a:lnTo>
                    <a:lnTo>
                      <a:pt x="76" y="0"/>
                    </a:lnTo>
                    <a:lnTo>
                      <a:pt x="91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498080" y="454320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0" h="401">
                    <a:moveTo>
                      <a:pt x="108" y="0"/>
                    </a:moveTo>
                    <a:lnTo>
                      <a:pt x="509" y="49"/>
                    </a:lnTo>
                    <a:lnTo>
                      <a:pt x="527" y="54"/>
                    </a:lnTo>
                    <a:lnTo>
                      <a:pt x="543" y="61"/>
                    </a:lnTo>
                    <a:lnTo>
                      <a:pt x="558" y="70"/>
                    </a:lnTo>
                    <a:lnTo>
                      <a:pt x="570" y="82"/>
                    </a:lnTo>
                    <a:lnTo>
                      <a:pt x="580" y="96"/>
                    </a:lnTo>
                    <a:lnTo>
                      <a:pt x="586" y="111"/>
                    </a:lnTo>
                    <a:lnTo>
                      <a:pt x="590" y="129"/>
                    </a:lnTo>
                    <a:lnTo>
                      <a:pt x="590" y="146"/>
                    </a:lnTo>
                    <a:lnTo>
                      <a:pt x="579" y="293"/>
                    </a:lnTo>
                    <a:lnTo>
                      <a:pt x="575" y="312"/>
                    </a:lnTo>
                    <a:lnTo>
                      <a:pt x="569" y="331"/>
                    </a:lnTo>
                    <a:lnTo>
                      <a:pt x="559" y="350"/>
                    </a:lnTo>
                    <a:lnTo>
                      <a:pt x="545" y="369"/>
                    </a:lnTo>
                    <a:lnTo>
                      <a:pt x="528" y="384"/>
                    </a:lnTo>
                    <a:lnTo>
                      <a:pt x="507" y="395"/>
                    </a:lnTo>
                    <a:lnTo>
                      <a:pt x="481" y="401"/>
                    </a:lnTo>
                    <a:lnTo>
                      <a:pt x="452" y="401"/>
                    </a:lnTo>
                    <a:lnTo>
                      <a:pt x="121" y="360"/>
                    </a:lnTo>
                    <a:lnTo>
                      <a:pt x="89" y="353"/>
                    </a:lnTo>
                    <a:lnTo>
                      <a:pt x="63" y="340"/>
                    </a:lnTo>
                    <a:lnTo>
                      <a:pt x="42" y="324"/>
                    </a:lnTo>
                    <a:lnTo>
                      <a:pt x="25" y="305"/>
                    </a:lnTo>
                    <a:lnTo>
                      <a:pt x="12" y="283"/>
                    </a:lnTo>
                    <a:lnTo>
                      <a:pt x="4" y="262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2" y="76"/>
                    </a:lnTo>
                    <a:lnTo>
                      <a:pt x="16" y="59"/>
                    </a:lnTo>
                    <a:lnTo>
                      <a:pt x="22" y="42"/>
                    </a:lnTo>
                    <a:lnTo>
                      <a:pt x="31" y="29"/>
                    </a:lnTo>
                    <a:lnTo>
                      <a:pt x="44" y="17"/>
                    </a:lnTo>
                    <a:lnTo>
                      <a:pt x="57" y="8"/>
                    </a:lnTo>
                    <a:lnTo>
                      <a:pt x="73" y="2"/>
                    </a:lnTo>
                    <a:lnTo>
                      <a:pt x="89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499880" y="4543200"/>
                <a:ext cx="37800" cy="2232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1" y="0"/>
                    </a:moveTo>
                    <a:lnTo>
                      <a:pt x="477" y="47"/>
                    </a:lnTo>
                    <a:lnTo>
                      <a:pt x="494" y="50"/>
                    </a:lnTo>
                    <a:lnTo>
                      <a:pt x="509" y="57"/>
                    </a:lnTo>
                    <a:lnTo>
                      <a:pt x="522" y="66"/>
                    </a:lnTo>
                    <a:lnTo>
                      <a:pt x="534" y="77"/>
                    </a:lnTo>
                    <a:lnTo>
                      <a:pt x="543" y="90"/>
                    </a:lnTo>
                    <a:lnTo>
                      <a:pt x="549" y="105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2" y="271"/>
                    </a:lnTo>
                    <a:lnTo>
                      <a:pt x="539" y="289"/>
                    </a:lnTo>
                    <a:lnTo>
                      <a:pt x="532" y="307"/>
                    </a:lnTo>
                    <a:lnTo>
                      <a:pt x="523" y="325"/>
                    </a:lnTo>
                    <a:lnTo>
                      <a:pt x="511" y="341"/>
                    </a:lnTo>
                    <a:lnTo>
                      <a:pt x="494" y="356"/>
                    </a:lnTo>
                    <a:lnTo>
                      <a:pt x="474" y="366"/>
                    </a:lnTo>
                    <a:lnTo>
                      <a:pt x="451" y="372"/>
                    </a:lnTo>
                    <a:lnTo>
                      <a:pt x="423" y="372"/>
                    </a:lnTo>
                    <a:lnTo>
                      <a:pt x="114" y="333"/>
                    </a:lnTo>
                    <a:lnTo>
                      <a:pt x="85" y="326"/>
                    </a:lnTo>
                    <a:lnTo>
                      <a:pt x="60" y="315"/>
                    </a:lnTo>
                    <a:lnTo>
                      <a:pt x="40" y="300"/>
                    </a:lnTo>
                    <a:lnTo>
                      <a:pt x="25" y="281"/>
                    </a:lnTo>
                    <a:lnTo>
                      <a:pt x="12" y="262"/>
                    </a:lnTo>
                    <a:lnTo>
                      <a:pt x="5" y="242"/>
                    </a:lnTo>
                    <a:lnTo>
                      <a:pt x="1" y="222"/>
                    </a:lnTo>
                    <a:lnTo>
                      <a:pt x="0" y="205"/>
                    </a:lnTo>
                    <a:lnTo>
                      <a:pt x="11" y="69"/>
                    </a:lnTo>
                    <a:lnTo>
                      <a:pt x="14" y="54"/>
                    </a:lnTo>
                    <a:lnTo>
                      <a:pt x="20" y="40"/>
                    </a:lnTo>
                    <a:lnTo>
                      <a:pt x="29" y="26"/>
                    </a:lnTo>
                    <a:lnTo>
                      <a:pt x="40" y="16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499880" y="4544640"/>
                <a:ext cx="37800" cy="1800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1"/>
                    </a:moveTo>
                    <a:lnTo>
                      <a:pt x="463" y="46"/>
                    </a:lnTo>
                    <a:lnTo>
                      <a:pt x="480" y="50"/>
                    </a:lnTo>
                    <a:lnTo>
                      <a:pt x="494" y="56"/>
                    </a:lnTo>
                    <a:lnTo>
                      <a:pt x="508" y="64"/>
                    </a:lnTo>
                    <a:lnTo>
                      <a:pt x="519" y="74"/>
                    </a:lnTo>
                    <a:lnTo>
                      <a:pt x="528" y="85"/>
                    </a:lnTo>
                    <a:lnTo>
                      <a:pt x="534" y="99"/>
                    </a:lnTo>
                    <a:lnTo>
                      <a:pt x="538" y="113"/>
                    </a:lnTo>
                    <a:lnTo>
                      <a:pt x="538" y="127"/>
                    </a:lnTo>
                    <a:lnTo>
                      <a:pt x="529" y="248"/>
                    </a:lnTo>
                    <a:lnTo>
                      <a:pt x="526" y="263"/>
                    </a:lnTo>
                    <a:lnTo>
                      <a:pt x="519" y="279"/>
                    </a:lnTo>
                    <a:lnTo>
                      <a:pt x="511" y="296"/>
                    </a:lnTo>
                    <a:lnTo>
                      <a:pt x="498" y="310"/>
                    </a:lnTo>
                    <a:lnTo>
                      <a:pt x="483" y="322"/>
                    </a:lnTo>
                    <a:lnTo>
                      <a:pt x="463" y="332"/>
                    </a:lnTo>
                    <a:lnTo>
                      <a:pt x="440" y="336"/>
                    </a:lnTo>
                    <a:lnTo>
                      <a:pt x="413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3"/>
                    </a:lnTo>
                    <a:lnTo>
                      <a:pt x="40" y="268"/>
                    </a:lnTo>
                    <a:lnTo>
                      <a:pt x="24" y="252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1" y="198"/>
                    </a:lnTo>
                    <a:lnTo>
                      <a:pt x="0" y="183"/>
                    </a:lnTo>
                    <a:lnTo>
                      <a:pt x="10" y="62"/>
                    </a:lnTo>
                    <a:lnTo>
                      <a:pt x="14" y="48"/>
                    </a:lnTo>
                    <a:lnTo>
                      <a:pt x="19" y="35"/>
                    </a:lnTo>
                    <a:lnTo>
                      <a:pt x="27" y="23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501320" y="454464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516" h="322">
                    <a:moveTo>
                      <a:pt x="93" y="1"/>
                    </a:moveTo>
                    <a:lnTo>
                      <a:pt x="443" y="44"/>
                    </a:lnTo>
                    <a:lnTo>
                      <a:pt x="458" y="47"/>
                    </a:lnTo>
                    <a:lnTo>
                      <a:pt x="473" y="53"/>
                    </a:lnTo>
                    <a:lnTo>
                      <a:pt x="485" y="61"/>
                    </a:lnTo>
                    <a:lnTo>
                      <a:pt x="497" y="70"/>
                    </a:lnTo>
                    <a:lnTo>
                      <a:pt x="505" y="81"/>
                    </a:lnTo>
                    <a:lnTo>
                      <a:pt x="511" y="95"/>
                    </a:lnTo>
                    <a:lnTo>
                      <a:pt x="516" y="108"/>
                    </a:lnTo>
                    <a:lnTo>
                      <a:pt x="516" y="122"/>
                    </a:lnTo>
                    <a:lnTo>
                      <a:pt x="506" y="237"/>
                    </a:lnTo>
                    <a:lnTo>
                      <a:pt x="503" y="252"/>
                    </a:lnTo>
                    <a:lnTo>
                      <a:pt x="498" y="267"/>
                    </a:lnTo>
                    <a:lnTo>
                      <a:pt x="490" y="283"/>
                    </a:lnTo>
                    <a:lnTo>
                      <a:pt x="477" y="297"/>
                    </a:lnTo>
                    <a:lnTo>
                      <a:pt x="463" y="309"/>
                    </a:lnTo>
                    <a:lnTo>
                      <a:pt x="444" y="317"/>
                    </a:lnTo>
                    <a:lnTo>
                      <a:pt x="422" y="322"/>
                    </a:lnTo>
                    <a:lnTo>
                      <a:pt x="396" y="322"/>
                    </a:lnTo>
                    <a:lnTo>
                      <a:pt x="108" y="287"/>
                    </a:lnTo>
                    <a:lnTo>
                      <a:pt x="81" y="281"/>
                    </a:lnTo>
                    <a:lnTo>
                      <a:pt x="57" y="270"/>
                    </a:lnTo>
                    <a:lnTo>
                      <a:pt x="38" y="257"/>
                    </a:lnTo>
                    <a:lnTo>
                      <a:pt x="23" y="241"/>
                    </a:lnTo>
                    <a:lnTo>
                      <a:pt x="12" y="224"/>
                    </a:lnTo>
                    <a:lnTo>
                      <a:pt x="5" y="206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10" y="60"/>
                    </a:lnTo>
                    <a:lnTo>
                      <a:pt x="13" y="46"/>
                    </a:lnTo>
                    <a:lnTo>
                      <a:pt x="18" y="34"/>
                    </a:lnTo>
                    <a:lnTo>
                      <a:pt x="27" y="22"/>
                    </a:lnTo>
                    <a:lnTo>
                      <a:pt x="36" y="13"/>
                    </a:lnTo>
                    <a:lnTo>
                      <a:pt x="48" y="7"/>
                    </a:lnTo>
                    <a:lnTo>
                      <a:pt x="62" y="2"/>
                    </a:lnTo>
                    <a:lnTo>
                      <a:pt x="78" y="0"/>
                    </a:lnTo>
                    <a:lnTo>
                      <a:pt x="93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589880" y="455220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1" h="402">
                    <a:moveTo>
                      <a:pt x="108" y="0"/>
                    </a:moveTo>
                    <a:lnTo>
                      <a:pt x="509" y="50"/>
                    </a:lnTo>
                    <a:lnTo>
                      <a:pt x="527" y="54"/>
                    </a:lnTo>
                    <a:lnTo>
                      <a:pt x="543" y="61"/>
                    </a:lnTo>
                    <a:lnTo>
                      <a:pt x="558" y="70"/>
                    </a:lnTo>
                    <a:lnTo>
                      <a:pt x="571" y="83"/>
                    </a:lnTo>
                    <a:lnTo>
                      <a:pt x="580" y="97"/>
                    </a:lnTo>
                    <a:lnTo>
                      <a:pt x="587" y="112"/>
                    </a:lnTo>
                    <a:lnTo>
                      <a:pt x="590" y="129"/>
                    </a:lnTo>
                    <a:lnTo>
                      <a:pt x="591" y="147"/>
                    </a:lnTo>
                    <a:lnTo>
                      <a:pt x="579" y="293"/>
                    </a:lnTo>
                    <a:lnTo>
                      <a:pt x="576" y="311"/>
                    </a:lnTo>
                    <a:lnTo>
                      <a:pt x="569" y="332"/>
                    </a:lnTo>
                    <a:lnTo>
                      <a:pt x="559" y="351"/>
                    </a:lnTo>
                    <a:lnTo>
                      <a:pt x="546" y="368"/>
                    </a:lnTo>
                    <a:lnTo>
                      <a:pt x="528" y="384"/>
                    </a:lnTo>
                    <a:lnTo>
                      <a:pt x="507" y="396"/>
                    </a:lnTo>
                    <a:lnTo>
                      <a:pt x="481" y="402"/>
                    </a:lnTo>
                    <a:lnTo>
                      <a:pt x="452" y="402"/>
                    </a:lnTo>
                    <a:lnTo>
                      <a:pt x="122" y="361"/>
                    </a:lnTo>
                    <a:lnTo>
                      <a:pt x="91" y="354"/>
                    </a:lnTo>
                    <a:lnTo>
                      <a:pt x="65" y="341"/>
                    </a:lnTo>
                    <a:lnTo>
                      <a:pt x="43" y="325"/>
                    </a:lnTo>
                    <a:lnTo>
                      <a:pt x="26" y="305"/>
                    </a:lnTo>
                    <a:lnTo>
                      <a:pt x="14" y="284"/>
                    </a:lnTo>
                    <a:lnTo>
                      <a:pt x="5" y="263"/>
                    </a:lnTo>
                    <a:lnTo>
                      <a:pt x="1" y="241"/>
                    </a:lnTo>
                    <a:lnTo>
                      <a:pt x="0" y="223"/>
                    </a:lnTo>
                    <a:lnTo>
                      <a:pt x="13" y="75"/>
                    </a:lnTo>
                    <a:lnTo>
                      <a:pt x="16" y="58"/>
                    </a:lnTo>
                    <a:lnTo>
                      <a:pt x="22" y="43"/>
                    </a:lnTo>
                    <a:lnTo>
                      <a:pt x="31" y="29"/>
                    </a:lnTo>
                    <a:lnTo>
                      <a:pt x="44" y="18"/>
                    </a:lnTo>
                    <a:lnTo>
                      <a:pt x="58" y="8"/>
                    </a:lnTo>
                    <a:lnTo>
                      <a:pt x="73" y="2"/>
                    </a:lnTo>
                    <a:lnTo>
                      <a:pt x="90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589880" y="4552200"/>
                <a:ext cx="39240" cy="22320"/>
              </a:xfrm>
              <a:custGeom>
                <a:avLst/>
                <a:gdLst/>
                <a:ahLst/>
                <a:rect l="l" t="t" r="r" b="b"/>
                <a:pathLst>
                  <a:path w="554" h="373">
                    <a:moveTo>
                      <a:pt x="101" y="2"/>
                    </a:moveTo>
                    <a:lnTo>
                      <a:pt x="478" y="48"/>
                    </a:lnTo>
                    <a:lnTo>
                      <a:pt x="494" y="51"/>
                    </a:lnTo>
                    <a:lnTo>
                      <a:pt x="509" y="58"/>
                    </a:lnTo>
                    <a:lnTo>
                      <a:pt x="522" y="67"/>
                    </a:lnTo>
                    <a:lnTo>
                      <a:pt x="534" y="78"/>
                    </a:lnTo>
                    <a:lnTo>
                      <a:pt x="543" y="91"/>
                    </a:lnTo>
                    <a:lnTo>
                      <a:pt x="549" y="105"/>
                    </a:lnTo>
                    <a:lnTo>
                      <a:pt x="554" y="121"/>
                    </a:lnTo>
                    <a:lnTo>
                      <a:pt x="554" y="138"/>
                    </a:lnTo>
                    <a:lnTo>
                      <a:pt x="542" y="273"/>
                    </a:lnTo>
                    <a:lnTo>
                      <a:pt x="539" y="290"/>
                    </a:lnTo>
                    <a:lnTo>
                      <a:pt x="534" y="307"/>
                    </a:lnTo>
                    <a:lnTo>
                      <a:pt x="524" y="326"/>
                    </a:lnTo>
                    <a:lnTo>
                      <a:pt x="512" y="342"/>
                    </a:lnTo>
                    <a:lnTo>
                      <a:pt x="495" y="356"/>
                    </a:lnTo>
                    <a:lnTo>
                      <a:pt x="476" y="367"/>
                    </a:lnTo>
                    <a:lnTo>
                      <a:pt x="453" y="373"/>
                    </a:lnTo>
                    <a:lnTo>
                      <a:pt x="425" y="373"/>
                    </a:lnTo>
                    <a:lnTo>
                      <a:pt x="114" y="335"/>
                    </a:lnTo>
                    <a:lnTo>
                      <a:pt x="85" y="328"/>
                    </a:lnTo>
                    <a:lnTo>
                      <a:pt x="60" y="317"/>
                    </a:lnTo>
                    <a:lnTo>
                      <a:pt x="41" y="301"/>
                    </a:lnTo>
                    <a:lnTo>
                      <a:pt x="25" y="283"/>
                    </a:lnTo>
                    <a:lnTo>
                      <a:pt x="12" y="263"/>
                    </a:lnTo>
                    <a:lnTo>
                      <a:pt x="5" y="243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11" y="71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8"/>
                    </a:lnTo>
                    <a:lnTo>
                      <a:pt x="41" y="18"/>
                    </a:lnTo>
                    <a:lnTo>
                      <a:pt x="54" y="10"/>
                    </a:lnTo>
                    <a:lnTo>
                      <a:pt x="69" y="4"/>
                    </a:lnTo>
                    <a:lnTo>
                      <a:pt x="84" y="0"/>
                    </a:lnTo>
                    <a:lnTo>
                      <a:pt x="101" y="2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591680" y="455400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1"/>
                    </a:moveTo>
                    <a:lnTo>
                      <a:pt x="463" y="45"/>
                    </a:lnTo>
                    <a:lnTo>
                      <a:pt x="480" y="49"/>
                    </a:lnTo>
                    <a:lnTo>
                      <a:pt x="495" y="55"/>
                    </a:lnTo>
                    <a:lnTo>
                      <a:pt x="508" y="64"/>
                    </a:lnTo>
                    <a:lnTo>
                      <a:pt x="520" y="74"/>
                    </a:lnTo>
                    <a:lnTo>
                      <a:pt x="529" y="85"/>
                    </a:lnTo>
                    <a:lnTo>
                      <a:pt x="535" y="98"/>
                    </a:lnTo>
                    <a:lnTo>
                      <a:pt x="538" y="112"/>
                    </a:lnTo>
                    <a:lnTo>
                      <a:pt x="538" y="127"/>
                    </a:lnTo>
                    <a:lnTo>
                      <a:pt x="529" y="248"/>
                    </a:lnTo>
                    <a:lnTo>
                      <a:pt x="526" y="263"/>
                    </a:lnTo>
                    <a:lnTo>
                      <a:pt x="521" y="279"/>
                    </a:lnTo>
                    <a:lnTo>
                      <a:pt x="511" y="295"/>
                    </a:lnTo>
                    <a:lnTo>
                      <a:pt x="499" y="310"/>
                    </a:lnTo>
                    <a:lnTo>
                      <a:pt x="483" y="322"/>
                    </a:lnTo>
                    <a:lnTo>
                      <a:pt x="463" y="332"/>
                    </a:lnTo>
                    <a:lnTo>
                      <a:pt x="440" y="336"/>
                    </a:lnTo>
                    <a:lnTo>
                      <a:pt x="413" y="336"/>
                    </a:lnTo>
                    <a:lnTo>
                      <a:pt x="113" y="298"/>
                    </a:lnTo>
                    <a:lnTo>
                      <a:pt x="85" y="292"/>
                    </a:lnTo>
                    <a:lnTo>
                      <a:pt x="60" y="282"/>
                    </a:lnTo>
                    <a:lnTo>
                      <a:pt x="40" y="268"/>
                    </a:lnTo>
                    <a:lnTo>
                      <a:pt x="24" y="252"/>
                    </a:lnTo>
                    <a:lnTo>
                      <a:pt x="13" y="233"/>
                    </a:lnTo>
                    <a:lnTo>
                      <a:pt x="5" y="216"/>
                    </a:lnTo>
                    <a:lnTo>
                      <a:pt x="1" y="198"/>
                    </a:lnTo>
                    <a:lnTo>
                      <a:pt x="0" y="183"/>
                    </a:lnTo>
                    <a:lnTo>
                      <a:pt x="11" y="62"/>
                    </a:lnTo>
                    <a:lnTo>
                      <a:pt x="14" y="47"/>
                    </a:lnTo>
                    <a:lnTo>
                      <a:pt x="19" y="34"/>
                    </a:lnTo>
                    <a:lnTo>
                      <a:pt x="27" y="23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591680" y="455400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515" h="322">
                    <a:moveTo>
                      <a:pt x="92" y="1"/>
                    </a:moveTo>
                    <a:lnTo>
                      <a:pt x="442" y="43"/>
                    </a:lnTo>
                    <a:lnTo>
                      <a:pt x="458" y="46"/>
                    </a:lnTo>
                    <a:lnTo>
                      <a:pt x="472" y="53"/>
                    </a:lnTo>
                    <a:lnTo>
                      <a:pt x="485" y="61"/>
                    </a:lnTo>
                    <a:lnTo>
                      <a:pt x="496" y="70"/>
                    </a:lnTo>
                    <a:lnTo>
                      <a:pt x="504" y="81"/>
                    </a:lnTo>
                    <a:lnTo>
                      <a:pt x="511" y="94"/>
                    </a:lnTo>
                    <a:lnTo>
                      <a:pt x="515" y="107"/>
                    </a:lnTo>
                    <a:lnTo>
                      <a:pt x="515" y="122"/>
                    </a:lnTo>
                    <a:lnTo>
                      <a:pt x="506" y="237"/>
                    </a:lnTo>
                    <a:lnTo>
                      <a:pt x="502" y="252"/>
                    </a:lnTo>
                    <a:lnTo>
                      <a:pt x="497" y="267"/>
                    </a:lnTo>
                    <a:lnTo>
                      <a:pt x="489" y="282"/>
                    </a:lnTo>
                    <a:lnTo>
                      <a:pt x="477" y="296"/>
                    </a:lnTo>
                    <a:lnTo>
                      <a:pt x="462" y="309"/>
                    </a:lnTo>
                    <a:lnTo>
                      <a:pt x="444" y="317"/>
                    </a:lnTo>
                    <a:lnTo>
                      <a:pt x="421" y="322"/>
                    </a:lnTo>
                    <a:lnTo>
                      <a:pt x="396" y="322"/>
                    </a:lnTo>
                    <a:lnTo>
                      <a:pt x="107" y="286"/>
                    </a:lnTo>
                    <a:lnTo>
                      <a:pt x="80" y="280"/>
                    </a:lnTo>
                    <a:lnTo>
                      <a:pt x="57" y="270"/>
                    </a:lnTo>
                    <a:lnTo>
                      <a:pt x="38" y="257"/>
                    </a:lnTo>
                    <a:lnTo>
                      <a:pt x="23" y="241"/>
                    </a:lnTo>
                    <a:lnTo>
                      <a:pt x="11" y="223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9" y="60"/>
                    </a:lnTo>
                    <a:lnTo>
                      <a:pt x="12" y="45"/>
                    </a:lnTo>
                    <a:lnTo>
                      <a:pt x="17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7"/>
                    </a:lnTo>
                    <a:lnTo>
                      <a:pt x="61" y="2"/>
                    </a:lnTo>
                    <a:lnTo>
                      <a:pt x="77" y="0"/>
                    </a:lnTo>
                    <a:lnTo>
                      <a:pt x="92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543440" y="4547160"/>
                <a:ext cx="40680" cy="23400"/>
              </a:xfrm>
              <a:custGeom>
                <a:avLst/>
                <a:gdLst/>
                <a:ahLst/>
                <a:rect l="l" t="t" r="r" b="b"/>
                <a:pathLst>
                  <a:path w="589" h="401">
                    <a:moveTo>
                      <a:pt x="107" y="0"/>
                    </a:moveTo>
                    <a:lnTo>
                      <a:pt x="507" y="49"/>
                    </a:lnTo>
                    <a:lnTo>
                      <a:pt x="525" y="53"/>
                    </a:lnTo>
                    <a:lnTo>
                      <a:pt x="542" y="60"/>
                    </a:lnTo>
                    <a:lnTo>
                      <a:pt x="555" y="69"/>
                    </a:lnTo>
                    <a:lnTo>
                      <a:pt x="568" y="81"/>
                    </a:lnTo>
                    <a:lnTo>
                      <a:pt x="577" y="96"/>
                    </a:lnTo>
                    <a:lnTo>
                      <a:pt x="585" y="112"/>
                    </a:lnTo>
                    <a:lnTo>
                      <a:pt x="589" y="128"/>
                    </a:lnTo>
                    <a:lnTo>
                      <a:pt x="589" y="146"/>
                    </a:lnTo>
                    <a:lnTo>
                      <a:pt x="576" y="293"/>
                    </a:lnTo>
                    <a:lnTo>
                      <a:pt x="573" y="311"/>
                    </a:lnTo>
                    <a:lnTo>
                      <a:pt x="567" y="331"/>
                    </a:lnTo>
                    <a:lnTo>
                      <a:pt x="557" y="351"/>
                    </a:lnTo>
                    <a:lnTo>
                      <a:pt x="544" y="368"/>
                    </a:lnTo>
                    <a:lnTo>
                      <a:pt x="526" y="384"/>
                    </a:lnTo>
                    <a:lnTo>
                      <a:pt x="505" y="395"/>
                    </a:lnTo>
                    <a:lnTo>
                      <a:pt x="479" y="401"/>
                    </a:lnTo>
                    <a:lnTo>
                      <a:pt x="450" y="401"/>
                    </a:lnTo>
                    <a:lnTo>
                      <a:pt x="120" y="361"/>
                    </a:lnTo>
                    <a:lnTo>
                      <a:pt x="89" y="354"/>
                    </a:lnTo>
                    <a:lnTo>
                      <a:pt x="63" y="340"/>
                    </a:lnTo>
                    <a:lnTo>
                      <a:pt x="41" y="324"/>
                    </a:lnTo>
                    <a:lnTo>
                      <a:pt x="25" y="305"/>
                    </a:lnTo>
                    <a:lnTo>
                      <a:pt x="12" y="284"/>
                    </a:lnTo>
                    <a:lnTo>
                      <a:pt x="4" y="261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1" y="75"/>
                    </a:lnTo>
                    <a:lnTo>
                      <a:pt x="14" y="58"/>
                    </a:lnTo>
                    <a:lnTo>
                      <a:pt x="20" y="43"/>
                    </a:lnTo>
                    <a:lnTo>
                      <a:pt x="30" y="28"/>
                    </a:lnTo>
                    <a:lnTo>
                      <a:pt x="42" y="17"/>
                    </a:lnTo>
                    <a:lnTo>
                      <a:pt x="56" y="8"/>
                    </a:lnTo>
                    <a:lnTo>
                      <a:pt x="71" y="2"/>
                    </a:lnTo>
                    <a:lnTo>
                      <a:pt x="89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545240" y="4548600"/>
                <a:ext cx="37440" cy="2088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1" y="1"/>
                    </a:moveTo>
                    <a:lnTo>
                      <a:pt x="476" y="47"/>
                    </a:lnTo>
                    <a:lnTo>
                      <a:pt x="493" y="51"/>
                    </a:lnTo>
                    <a:lnTo>
                      <a:pt x="508" y="57"/>
                    </a:lnTo>
                    <a:lnTo>
                      <a:pt x="521" y="66"/>
                    </a:lnTo>
                    <a:lnTo>
                      <a:pt x="533" y="77"/>
                    </a:lnTo>
                    <a:lnTo>
                      <a:pt x="541" y="91"/>
                    </a:lnTo>
                    <a:lnTo>
                      <a:pt x="548" y="105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0" y="273"/>
                    </a:lnTo>
                    <a:lnTo>
                      <a:pt x="537" y="290"/>
                    </a:lnTo>
                    <a:lnTo>
                      <a:pt x="532" y="307"/>
                    </a:lnTo>
                    <a:lnTo>
                      <a:pt x="523" y="325"/>
                    </a:lnTo>
                    <a:lnTo>
                      <a:pt x="510" y="342"/>
                    </a:lnTo>
                    <a:lnTo>
                      <a:pt x="494" y="356"/>
                    </a:lnTo>
                    <a:lnTo>
                      <a:pt x="474" y="367"/>
                    </a:lnTo>
                    <a:lnTo>
                      <a:pt x="451" y="372"/>
                    </a:lnTo>
                    <a:lnTo>
                      <a:pt x="424" y="372"/>
                    </a:lnTo>
                    <a:lnTo>
                      <a:pt x="114" y="335"/>
                    </a:lnTo>
                    <a:lnTo>
                      <a:pt x="85" y="327"/>
                    </a:lnTo>
                    <a:lnTo>
                      <a:pt x="60" y="315"/>
                    </a:lnTo>
                    <a:lnTo>
                      <a:pt x="40" y="300"/>
                    </a:lnTo>
                    <a:lnTo>
                      <a:pt x="24" y="282"/>
                    </a:lnTo>
                    <a:lnTo>
                      <a:pt x="12" y="262"/>
                    </a:lnTo>
                    <a:lnTo>
                      <a:pt x="5" y="242"/>
                    </a:lnTo>
                    <a:lnTo>
                      <a:pt x="0" y="223"/>
                    </a:lnTo>
                    <a:lnTo>
                      <a:pt x="0" y="206"/>
                    </a:lnTo>
                    <a:lnTo>
                      <a:pt x="11" y="70"/>
                    </a:lnTo>
                    <a:lnTo>
                      <a:pt x="14" y="54"/>
                    </a:lnTo>
                    <a:lnTo>
                      <a:pt x="20" y="40"/>
                    </a:lnTo>
                    <a:lnTo>
                      <a:pt x="30" y="28"/>
                    </a:lnTo>
                    <a:lnTo>
                      <a:pt x="41" y="16"/>
                    </a:lnTo>
                    <a:lnTo>
                      <a:pt x="53" y="8"/>
                    </a:lnTo>
                    <a:lnTo>
                      <a:pt x="68" y="3"/>
                    </a:lnTo>
                    <a:lnTo>
                      <a:pt x="85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546320" y="4548600"/>
                <a:ext cx="36000" cy="19800"/>
              </a:xfrm>
              <a:custGeom>
                <a:avLst/>
                <a:gdLst/>
                <a:ahLst/>
                <a:rect l="l" t="t" r="r" b="b"/>
                <a:pathLst>
                  <a:path w="537" h="337">
                    <a:moveTo>
                      <a:pt x="96" y="0"/>
                    </a:moveTo>
                    <a:lnTo>
                      <a:pt x="462" y="46"/>
                    </a:lnTo>
                    <a:lnTo>
                      <a:pt x="478" y="49"/>
                    </a:lnTo>
                    <a:lnTo>
                      <a:pt x="493" y="55"/>
                    </a:lnTo>
                    <a:lnTo>
                      <a:pt x="505" y="63"/>
                    </a:lnTo>
                    <a:lnTo>
                      <a:pt x="517" y="73"/>
                    </a:lnTo>
                    <a:lnTo>
                      <a:pt x="526" y="85"/>
                    </a:lnTo>
                    <a:lnTo>
                      <a:pt x="532" y="98"/>
                    </a:lnTo>
                    <a:lnTo>
                      <a:pt x="537" y="112"/>
                    </a:lnTo>
                    <a:lnTo>
                      <a:pt x="537" y="126"/>
                    </a:lnTo>
                    <a:lnTo>
                      <a:pt x="526" y="247"/>
                    </a:lnTo>
                    <a:lnTo>
                      <a:pt x="523" y="263"/>
                    </a:lnTo>
                    <a:lnTo>
                      <a:pt x="518" y="279"/>
                    </a:lnTo>
                    <a:lnTo>
                      <a:pt x="509" y="295"/>
                    </a:lnTo>
                    <a:lnTo>
                      <a:pt x="497" y="310"/>
                    </a:lnTo>
                    <a:lnTo>
                      <a:pt x="480" y="322"/>
                    </a:lnTo>
                    <a:lnTo>
                      <a:pt x="462" y="332"/>
                    </a:lnTo>
                    <a:lnTo>
                      <a:pt x="438" y="337"/>
                    </a:lnTo>
                    <a:lnTo>
                      <a:pt x="412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39" y="269"/>
                    </a:lnTo>
                    <a:lnTo>
                      <a:pt x="24" y="251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0" y="198"/>
                    </a:lnTo>
                    <a:lnTo>
                      <a:pt x="0" y="183"/>
                    </a:lnTo>
                    <a:lnTo>
                      <a:pt x="9" y="61"/>
                    </a:lnTo>
                    <a:lnTo>
                      <a:pt x="12" y="47"/>
                    </a:lnTo>
                    <a:lnTo>
                      <a:pt x="18" y="34"/>
                    </a:lnTo>
                    <a:lnTo>
                      <a:pt x="27" y="24"/>
                    </a:lnTo>
                    <a:lnTo>
                      <a:pt x="37" y="13"/>
                    </a:lnTo>
                    <a:lnTo>
                      <a:pt x="50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546320" y="454860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13" h="322">
                    <a:moveTo>
                      <a:pt x="93" y="0"/>
                    </a:moveTo>
                    <a:lnTo>
                      <a:pt x="441" y="43"/>
                    </a:lnTo>
                    <a:lnTo>
                      <a:pt x="457" y="47"/>
                    </a:lnTo>
                    <a:lnTo>
                      <a:pt x="472" y="52"/>
                    </a:lnTo>
                    <a:lnTo>
                      <a:pt x="484" y="60"/>
                    </a:lnTo>
                    <a:lnTo>
                      <a:pt x="496" y="71"/>
                    </a:lnTo>
                    <a:lnTo>
                      <a:pt x="504" y="82"/>
                    </a:lnTo>
                    <a:lnTo>
                      <a:pt x="510" y="94"/>
                    </a:lnTo>
                    <a:lnTo>
                      <a:pt x="513" y="107"/>
                    </a:lnTo>
                    <a:lnTo>
                      <a:pt x="513" y="121"/>
                    </a:lnTo>
                    <a:lnTo>
                      <a:pt x="504" y="237"/>
                    </a:lnTo>
                    <a:lnTo>
                      <a:pt x="501" y="251"/>
                    </a:lnTo>
                    <a:lnTo>
                      <a:pt x="496" y="267"/>
                    </a:lnTo>
                    <a:lnTo>
                      <a:pt x="487" y="282"/>
                    </a:lnTo>
                    <a:lnTo>
                      <a:pt x="476" y="296"/>
                    </a:lnTo>
                    <a:lnTo>
                      <a:pt x="460" y="308"/>
                    </a:lnTo>
                    <a:lnTo>
                      <a:pt x="442" y="318"/>
                    </a:lnTo>
                    <a:lnTo>
                      <a:pt x="420" y="322"/>
                    </a:lnTo>
                    <a:lnTo>
                      <a:pt x="396" y="322"/>
                    </a:lnTo>
                    <a:lnTo>
                      <a:pt x="106" y="286"/>
                    </a:lnTo>
                    <a:lnTo>
                      <a:pt x="79" y="280"/>
                    </a:lnTo>
                    <a:lnTo>
                      <a:pt x="56" y="270"/>
                    </a:lnTo>
                    <a:lnTo>
                      <a:pt x="38" y="257"/>
                    </a:lnTo>
                    <a:lnTo>
                      <a:pt x="23" y="241"/>
                    </a:lnTo>
                    <a:lnTo>
                      <a:pt x="12" y="224"/>
                    </a:lnTo>
                    <a:lnTo>
                      <a:pt x="4" y="207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10" y="59"/>
                    </a:lnTo>
                    <a:lnTo>
                      <a:pt x="13" y="46"/>
                    </a:lnTo>
                    <a:lnTo>
                      <a:pt x="18" y="34"/>
                    </a:lnTo>
                    <a:lnTo>
                      <a:pt x="26" y="23"/>
                    </a:lnTo>
                    <a:lnTo>
                      <a:pt x="36" y="14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521480" y="4497840"/>
                <a:ext cx="3960" cy="10800"/>
              </a:xfrm>
              <a:custGeom>
                <a:avLst/>
                <a:gdLst/>
                <a:ahLst/>
                <a:rect l="l" t="t" r="r" b="b"/>
                <a:pathLst>
                  <a:path w="51" h="184">
                    <a:moveTo>
                      <a:pt x="37" y="184"/>
                    </a:moveTo>
                    <a:lnTo>
                      <a:pt x="19" y="182"/>
                    </a:lnTo>
                    <a:lnTo>
                      <a:pt x="32" y="19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51" y="6"/>
                    </a:lnTo>
                    <a:lnTo>
                      <a:pt x="37" y="184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509960" y="4523040"/>
                <a:ext cx="7200" cy="3600"/>
              </a:xfrm>
              <a:custGeom>
                <a:avLst/>
                <a:gdLst/>
                <a:ahLst/>
                <a:rect l="l" t="t" r="r" b="b"/>
                <a:pathLst>
                  <a:path w="95" h="74">
                    <a:moveTo>
                      <a:pt x="0" y="74"/>
                    </a:moveTo>
                    <a:lnTo>
                      <a:pt x="70" y="0"/>
                    </a:lnTo>
                    <a:lnTo>
                      <a:pt x="95" y="3"/>
                    </a:lnTo>
                    <a:lnTo>
                      <a:pt x="88" y="74"/>
                    </a:lnTo>
                    <a:lnTo>
                      <a:pt x="68" y="74"/>
                    </a:lnTo>
                    <a:lnTo>
                      <a:pt x="72" y="21"/>
                    </a:lnTo>
                    <a:lnTo>
                      <a:pt x="23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508520" y="4527000"/>
                <a:ext cx="10080" cy="6480"/>
              </a:xfrm>
              <a:custGeom>
                <a:avLst/>
                <a:gdLst/>
                <a:ahLst/>
                <a:rect l="l" t="t" r="r" b="b"/>
                <a:pathLst>
                  <a:path w="147" h="108">
                    <a:moveTo>
                      <a:pt x="40" y="0"/>
                    </a:moveTo>
                    <a:lnTo>
                      <a:pt x="1" y="42"/>
                    </a:lnTo>
                    <a:lnTo>
                      <a:pt x="0" y="57"/>
                    </a:lnTo>
                    <a:lnTo>
                      <a:pt x="101" y="69"/>
                    </a:lnTo>
                    <a:lnTo>
                      <a:pt x="98" y="105"/>
                    </a:lnTo>
                    <a:lnTo>
                      <a:pt x="120" y="108"/>
                    </a:lnTo>
                    <a:lnTo>
                      <a:pt x="122" y="72"/>
                    </a:lnTo>
                    <a:lnTo>
                      <a:pt x="146" y="75"/>
                    </a:lnTo>
                    <a:lnTo>
                      <a:pt x="147" y="60"/>
                    </a:lnTo>
                    <a:lnTo>
                      <a:pt x="124" y="57"/>
                    </a:lnTo>
                    <a:lnTo>
                      <a:pt x="128" y="0"/>
                    </a:lnTo>
                    <a:lnTo>
                      <a:pt x="108" y="0"/>
                    </a:lnTo>
                    <a:lnTo>
                      <a:pt x="102" y="54"/>
                    </a:lnTo>
                    <a:lnTo>
                      <a:pt x="23" y="44"/>
                    </a:lnTo>
                    <a:lnTo>
                      <a:pt x="63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507080" y="454716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127" h="183">
                    <a:moveTo>
                      <a:pt x="25" y="183"/>
                    </a:moveTo>
                    <a:lnTo>
                      <a:pt x="0" y="180"/>
                    </a:lnTo>
                    <a:lnTo>
                      <a:pt x="101" y="30"/>
                    </a:lnTo>
                    <a:lnTo>
                      <a:pt x="5" y="18"/>
                    </a:lnTo>
                    <a:lnTo>
                      <a:pt x="6" y="0"/>
                    </a:lnTo>
                    <a:lnTo>
                      <a:pt x="127" y="15"/>
                    </a:lnTo>
                    <a:lnTo>
                      <a:pt x="126" y="31"/>
                    </a:lnTo>
                    <a:lnTo>
                      <a:pt x="25" y="18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597440" y="4581360"/>
                <a:ext cx="12960" cy="5400"/>
              </a:xfrm>
              <a:custGeom>
                <a:avLst/>
                <a:gdLst/>
                <a:ahLst/>
                <a:rect l="l" t="t" r="r" b="b"/>
                <a:pathLst>
                  <a:path w="186" h="89">
                    <a:moveTo>
                      <a:pt x="40" y="89"/>
                    </a:moveTo>
                    <a:lnTo>
                      <a:pt x="53" y="69"/>
                    </a:lnTo>
                    <a:lnTo>
                      <a:pt x="0" y="62"/>
                    </a:lnTo>
                    <a:lnTo>
                      <a:pt x="6" y="48"/>
                    </a:lnTo>
                    <a:lnTo>
                      <a:pt x="59" y="54"/>
                    </a:lnTo>
                    <a:lnTo>
                      <a:pt x="90" y="0"/>
                    </a:lnTo>
                    <a:lnTo>
                      <a:pt x="109" y="2"/>
                    </a:lnTo>
                    <a:lnTo>
                      <a:pt x="79" y="57"/>
                    </a:lnTo>
                    <a:lnTo>
                      <a:pt x="118" y="63"/>
                    </a:lnTo>
                    <a:lnTo>
                      <a:pt x="150" y="7"/>
                    </a:lnTo>
                    <a:lnTo>
                      <a:pt x="168" y="9"/>
                    </a:lnTo>
                    <a:lnTo>
                      <a:pt x="137" y="65"/>
                    </a:lnTo>
                    <a:lnTo>
                      <a:pt x="186" y="71"/>
                    </a:lnTo>
                    <a:lnTo>
                      <a:pt x="179" y="84"/>
                    </a:lnTo>
                    <a:lnTo>
                      <a:pt x="131" y="78"/>
                    </a:lnTo>
                    <a:lnTo>
                      <a:pt x="125" y="89"/>
                    </a:lnTo>
                    <a:lnTo>
                      <a:pt x="105" y="89"/>
                    </a:lnTo>
                    <a:lnTo>
                      <a:pt x="111" y="76"/>
                    </a:lnTo>
                    <a:lnTo>
                      <a:pt x="72" y="71"/>
                    </a:lnTo>
                    <a:lnTo>
                      <a:pt x="61" y="89"/>
                    </a:lnTo>
                    <a:lnTo>
                      <a:pt x="40" y="89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96000" y="4586760"/>
                <a:ext cx="12960" cy="5040"/>
              </a:xfrm>
              <a:custGeom>
                <a:avLst/>
                <a:gdLst/>
                <a:ahLst/>
                <a:rect l="l" t="t" r="r" b="b"/>
                <a:pathLst>
                  <a:path w="186" h="89">
                    <a:moveTo>
                      <a:pt x="61" y="0"/>
                    </a:moveTo>
                    <a:lnTo>
                      <a:pt x="55" y="11"/>
                    </a:lnTo>
                    <a:lnTo>
                      <a:pt x="6" y="5"/>
                    </a:lnTo>
                    <a:lnTo>
                      <a:pt x="0" y="17"/>
                    </a:lnTo>
                    <a:lnTo>
                      <a:pt x="49" y="23"/>
                    </a:lnTo>
                    <a:lnTo>
                      <a:pt x="18" y="79"/>
                    </a:lnTo>
                    <a:lnTo>
                      <a:pt x="37" y="81"/>
                    </a:lnTo>
                    <a:lnTo>
                      <a:pt x="69" y="26"/>
                    </a:lnTo>
                    <a:lnTo>
                      <a:pt x="109" y="30"/>
                    </a:lnTo>
                    <a:lnTo>
                      <a:pt x="78" y="86"/>
                    </a:lnTo>
                    <a:lnTo>
                      <a:pt x="98" y="89"/>
                    </a:lnTo>
                    <a:lnTo>
                      <a:pt x="129" y="34"/>
                    </a:lnTo>
                    <a:lnTo>
                      <a:pt x="180" y="40"/>
                    </a:lnTo>
                    <a:lnTo>
                      <a:pt x="186" y="27"/>
                    </a:lnTo>
                    <a:lnTo>
                      <a:pt x="134" y="20"/>
                    </a:lnTo>
                    <a:lnTo>
                      <a:pt x="146" y="0"/>
                    </a:lnTo>
                    <a:lnTo>
                      <a:pt x="126" y="0"/>
                    </a:lnTo>
                    <a:lnTo>
                      <a:pt x="116" y="18"/>
                    </a:lnTo>
                    <a:lnTo>
                      <a:pt x="75" y="13"/>
                    </a:lnTo>
                    <a:lnTo>
                      <a:pt x="82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557840" y="4502160"/>
                <a:ext cx="11880" cy="1044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159" y="192"/>
                    </a:moveTo>
                    <a:lnTo>
                      <a:pt x="0" y="173"/>
                    </a:lnTo>
                    <a:lnTo>
                      <a:pt x="1" y="156"/>
                    </a:lnTo>
                    <a:lnTo>
                      <a:pt x="97" y="106"/>
                    </a:lnTo>
                    <a:lnTo>
                      <a:pt x="104" y="103"/>
                    </a:lnTo>
                    <a:lnTo>
                      <a:pt x="110" y="99"/>
                    </a:lnTo>
                    <a:lnTo>
                      <a:pt x="115" y="96"/>
                    </a:lnTo>
                    <a:lnTo>
                      <a:pt x="120" y="93"/>
                    </a:lnTo>
                    <a:lnTo>
                      <a:pt x="124" y="91"/>
                    </a:lnTo>
                    <a:lnTo>
                      <a:pt x="128" y="88"/>
                    </a:lnTo>
                    <a:lnTo>
                      <a:pt x="131" y="84"/>
                    </a:lnTo>
                    <a:lnTo>
                      <a:pt x="134" y="82"/>
                    </a:lnTo>
                    <a:lnTo>
                      <a:pt x="138" y="78"/>
                    </a:lnTo>
                    <a:lnTo>
                      <a:pt x="141" y="73"/>
                    </a:lnTo>
                    <a:lnTo>
                      <a:pt x="143" y="68"/>
                    </a:lnTo>
                    <a:lnTo>
                      <a:pt x="144" y="63"/>
                    </a:lnTo>
                    <a:lnTo>
                      <a:pt x="144" y="55"/>
                    </a:lnTo>
                    <a:lnTo>
                      <a:pt x="141" y="48"/>
                    </a:lnTo>
                    <a:lnTo>
                      <a:pt x="137" y="41"/>
                    </a:lnTo>
                    <a:lnTo>
                      <a:pt x="131" y="34"/>
                    </a:lnTo>
                    <a:lnTo>
                      <a:pt x="126" y="31"/>
                    </a:lnTo>
                    <a:lnTo>
                      <a:pt x="123" y="29"/>
                    </a:lnTo>
                    <a:lnTo>
                      <a:pt x="119" y="25"/>
                    </a:lnTo>
                    <a:lnTo>
                      <a:pt x="114" y="23"/>
                    </a:lnTo>
                    <a:lnTo>
                      <a:pt x="109" y="22"/>
                    </a:lnTo>
                    <a:lnTo>
                      <a:pt x="104" y="20"/>
                    </a:lnTo>
                    <a:lnTo>
                      <a:pt x="98" y="19"/>
                    </a:lnTo>
                    <a:lnTo>
                      <a:pt x="92" y="18"/>
                    </a:lnTo>
                    <a:lnTo>
                      <a:pt x="86" y="17"/>
                    </a:lnTo>
                    <a:lnTo>
                      <a:pt x="81" y="17"/>
                    </a:lnTo>
                    <a:lnTo>
                      <a:pt x="75" y="17"/>
                    </a:lnTo>
                    <a:lnTo>
                      <a:pt x="70" y="18"/>
                    </a:lnTo>
                    <a:lnTo>
                      <a:pt x="65" y="19"/>
                    </a:lnTo>
                    <a:lnTo>
                      <a:pt x="61" y="20"/>
                    </a:lnTo>
                    <a:lnTo>
                      <a:pt x="57" y="22"/>
                    </a:lnTo>
                    <a:lnTo>
                      <a:pt x="53" y="24"/>
                    </a:lnTo>
                    <a:lnTo>
                      <a:pt x="45" y="30"/>
                    </a:lnTo>
                    <a:lnTo>
                      <a:pt x="41" y="36"/>
                    </a:lnTo>
                    <a:lnTo>
                      <a:pt x="38" y="44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6" y="53"/>
                    </a:lnTo>
                    <a:lnTo>
                      <a:pt x="36" y="53"/>
                    </a:lnTo>
                    <a:lnTo>
                      <a:pt x="36" y="54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5" y="56"/>
                    </a:lnTo>
                    <a:lnTo>
                      <a:pt x="35" y="56"/>
                    </a:lnTo>
                    <a:lnTo>
                      <a:pt x="9" y="53"/>
                    </a:lnTo>
                    <a:lnTo>
                      <a:pt x="9" y="51"/>
                    </a:lnTo>
                    <a:lnTo>
                      <a:pt x="12" y="38"/>
                    </a:lnTo>
                    <a:lnTo>
                      <a:pt x="17" y="28"/>
                    </a:lnTo>
                    <a:lnTo>
                      <a:pt x="26" y="18"/>
                    </a:lnTo>
                    <a:lnTo>
                      <a:pt x="36" y="10"/>
                    </a:lnTo>
                    <a:lnTo>
                      <a:pt x="42" y="7"/>
                    </a:lnTo>
                    <a:lnTo>
                      <a:pt x="48" y="4"/>
                    </a:lnTo>
                    <a:lnTo>
                      <a:pt x="56" y="2"/>
                    </a:lnTo>
                    <a:lnTo>
                      <a:pt x="63" y="1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1"/>
                    </a:lnTo>
                    <a:lnTo>
                      <a:pt x="104" y="2"/>
                    </a:lnTo>
                    <a:lnTo>
                      <a:pt x="112" y="4"/>
                    </a:lnTo>
                    <a:lnTo>
                      <a:pt x="119" y="6"/>
                    </a:lnTo>
                    <a:lnTo>
                      <a:pt x="125" y="9"/>
                    </a:lnTo>
                    <a:lnTo>
                      <a:pt x="133" y="12"/>
                    </a:lnTo>
                    <a:lnTo>
                      <a:pt x="139" y="15"/>
                    </a:lnTo>
                    <a:lnTo>
                      <a:pt x="145" y="19"/>
                    </a:lnTo>
                    <a:lnTo>
                      <a:pt x="150" y="24"/>
                    </a:lnTo>
                    <a:lnTo>
                      <a:pt x="159" y="34"/>
                    </a:lnTo>
                    <a:lnTo>
                      <a:pt x="165" y="44"/>
                    </a:lnTo>
                    <a:lnTo>
                      <a:pt x="168" y="54"/>
                    </a:lnTo>
                    <a:lnTo>
                      <a:pt x="169" y="66"/>
                    </a:lnTo>
                    <a:lnTo>
                      <a:pt x="168" y="73"/>
                    </a:lnTo>
                    <a:lnTo>
                      <a:pt x="166" y="79"/>
                    </a:lnTo>
                    <a:lnTo>
                      <a:pt x="163" y="85"/>
                    </a:lnTo>
                    <a:lnTo>
                      <a:pt x="158" y="92"/>
                    </a:lnTo>
                    <a:lnTo>
                      <a:pt x="155" y="95"/>
                    </a:lnTo>
                    <a:lnTo>
                      <a:pt x="151" y="97"/>
                    </a:lnTo>
                    <a:lnTo>
                      <a:pt x="147" y="100"/>
                    </a:lnTo>
                    <a:lnTo>
                      <a:pt x="144" y="103"/>
                    </a:lnTo>
                    <a:lnTo>
                      <a:pt x="139" y="106"/>
                    </a:lnTo>
                    <a:lnTo>
                      <a:pt x="135" y="109"/>
                    </a:lnTo>
                    <a:lnTo>
                      <a:pt x="130" y="111"/>
                    </a:lnTo>
                    <a:lnTo>
                      <a:pt x="124" y="114"/>
                    </a:lnTo>
                    <a:lnTo>
                      <a:pt x="34" y="160"/>
                    </a:lnTo>
                    <a:lnTo>
                      <a:pt x="160" y="175"/>
                    </a:lnTo>
                    <a:lnTo>
                      <a:pt x="159" y="192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554960" y="4527000"/>
                <a:ext cx="11880" cy="10800"/>
              </a:xfrm>
              <a:custGeom>
                <a:avLst/>
                <a:gdLst/>
                <a:ahLst/>
                <a:rect l="l" t="t" r="r" b="b"/>
                <a:pathLst>
                  <a:path w="173" h="190">
                    <a:moveTo>
                      <a:pt x="0" y="120"/>
                    </a:moveTo>
                    <a:lnTo>
                      <a:pt x="25" y="123"/>
                    </a:lnTo>
                    <a:lnTo>
                      <a:pt x="26" y="131"/>
                    </a:lnTo>
                    <a:lnTo>
                      <a:pt x="29" y="140"/>
                    </a:lnTo>
                    <a:lnTo>
                      <a:pt x="34" y="148"/>
                    </a:lnTo>
                    <a:lnTo>
                      <a:pt x="42" y="155"/>
                    </a:lnTo>
                    <a:lnTo>
                      <a:pt x="46" y="158"/>
                    </a:lnTo>
                    <a:lnTo>
                      <a:pt x="51" y="161"/>
                    </a:lnTo>
                    <a:lnTo>
                      <a:pt x="55" y="164"/>
                    </a:lnTo>
                    <a:lnTo>
                      <a:pt x="60" y="166"/>
                    </a:lnTo>
                    <a:lnTo>
                      <a:pt x="66" y="168"/>
                    </a:lnTo>
                    <a:lnTo>
                      <a:pt x="71" y="169"/>
                    </a:lnTo>
                    <a:lnTo>
                      <a:pt x="76" y="170"/>
                    </a:lnTo>
                    <a:lnTo>
                      <a:pt x="82" y="171"/>
                    </a:lnTo>
                    <a:lnTo>
                      <a:pt x="88" y="172"/>
                    </a:lnTo>
                    <a:lnTo>
                      <a:pt x="95" y="172"/>
                    </a:lnTo>
                    <a:lnTo>
                      <a:pt x="101" y="172"/>
                    </a:lnTo>
                    <a:lnTo>
                      <a:pt x="107" y="171"/>
                    </a:lnTo>
                    <a:lnTo>
                      <a:pt x="112" y="170"/>
                    </a:lnTo>
                    <a:lnTo>
                      <a:pt x="118" y="168"/>
                    </a:lnTo>
                    <a:lnTo>
                      <a:pt x="123" y="166"/>
                    </a:lnTo>
                    <a:lnTo>
                      <a:pt x="128" y="164"/>
                    </a:lnTo>
                    <a:lnTo>
                      <a:pt x="136" y="158"/>
                    </a:lnTo>
                    <a:lnTo>
                      <a:pt x="143" y="151"/>
                    </a:lnTo>
                    <a:lnTo>
                      <a:pt x="146" y="143"/>
                    </a:lnTo>
                    <a:lnTo>
                      <a:pt x="148" y="133"/>
                    </a:lnTo>
                    <a:lnTo>
                      <a:pt x="148" y="124"/>
                    </a:lnTo>
                    <a:lnTo>
                      <a:pt x="146" y="115"/>
                    </a:lnTo>
                    <a:lnTo>
                      <a:pt x="140" y="107"/>
                    </a:lnTo>
                    <a:lnTo>
                      <a:pt x="133" y="100"/>
                    </a:lnTo>
                    <a:lnTo>
                      <a:pt x="128" y="96"/>
                    </a:lnTo>
                    <a:lnTo>
                      <a:pt x="124" y="93"/>
                    </a:lnTo>
                    <a:lnTo>
                      <a:pt x="119" y="90"/>
                    </a:lnTo>
                    <a:lnTo>
                      <a:pt x="113" y="88"/>
                    </a:lnTo>
                    <a:lnTo>
                      <a:pt x="107" y="86"/>
                    </a:lnTo>
                    <a:lnTo>
                      <a:pt x="101" y="84"/>
                    </a:lnTo>
                    <a:lnTo>
                      <a:pt x="94" y="83"/>
                    </a:lnTo>
                    <a:lnTo>
                      <a:pt x="86" y="82"/>
                    </a:lnTo>
                    <a:lnTo>
                      <a:pt x="79" y="81"/>
                    </a:lnTo>
                    <a:lnTo>
                      <a:pt x="72" y="81"/>
                    </a:lnTo>
                    <a:lnTo>
                      <a:pt x="64" y="82"/>
                    </a:lnTo>
                    <a:lnTo>
                      <a:pt x="57" y="83"/>
                    </a:lnTo>
                    <a:lnTo>
                      <a:pt x="51" y="85"/>
                    </a:lnTo>
                    <a:lnTo>
                      <a:pt x="45" y="88"/>
                    </a:lnTo>
                    <a:lnTo>
                      <a:pt x="38" y="92"/>
                    </a:lnTo>
                    <a:lnTo>
                      <a:pt x="33" y="96"/>
                    </a:lnTo>
                    <a:lnTo>
                      <a:pt x="15" y="87"/>
                    </a:lnTo>
                    <a:lnTo>
                      <a:pt x="44" y="0"/>
                    </a:lnTo>
                    <a:lnTo>
                      <a:pt x="161" y="15"/>
                    </a:lnTo>
                    <a:lnTo>
                      <a:pt x="159" y="33"/>
                    </a:lnTo>
                    <a:lnTo>
                      <a:pt x="63" y="22"/>
                    </a:lnTo>
                    <a:lnTo>
                      <a:pt x="47" y="69"/>
                    </a:lnTo>
                    <a:lnTo>
                      <a:pt x="52" y="67"/>
                    </a:lnTo>
                    <a:lnTo>
                      <a:pt x="58" y="66"/>
                    </a:lnTo>
                    <a:lnTo>
                      <a:pt x="63" y="65"/>
                    </a:lnTo>
                    <a:lnTo>
                      <a:pt x="69" y="64"/>
                    </a:lnTo>
                    <a:lnTo>
                      <a:pt x="75" y="63"/>
                    </a:lnTo>
                    <a:lnTo>
                      <a:pt x="81" y="63"/>
                    </a:lnTo>
                    <a:lnTo>
                      <a:pt x="87" y="63"/>
                    </a:lnTo>
                    <a:lnTo>
                      <a:pt x="93" y="64"/>
                    </a:lnTo>
                    <a:lnTo>
                      <a:pt x="102" y="65"/>
                    </a:lnTo>
                    <a:lnTo>
                      <a:pt x="111" y="67"/>
                    </a:lnTo>
                    <a:lnTo>
                      <a:pt x="120" y="70"/>
                    </a:lnTo>
                    <a:lnTo>
                      <a:pt x="127" y="72"/>
                    </a:lnTo>
                    <a:lnTo>
                      <a:pt x="134" y="77"/>
                    </a:lnTo>
                    <a:lnTo>
                      <a:pt x="141" y="81"/>
                    </a:lnTo>
                    <a:lnTo>
                      <a:pt x="148" y="85"/>
                    </a:lnTo>
                    <a:lnTo>
                      <a:pt x="153" y="90"/>
                    </a:lnTo>
                    <a:lnTo>
                      <a:pt x="162" y="100"/>
                    </a:lnTo>
                    <a:lnTo>
                      <a:pt x="170" y="112"/>
                    </a:lnTo>
                    <a:lnTo>
                      <a:pt x="173" y="124"/>
                    </a:lnTo>
                    <a:lnTo>
                      <a:pt x="173" y="138"/>
                    </a:lnTo>
                    <a:lnTo>
                      <a:pt x="171" y="150"/>
                    </a:lnTo>
                    <a:lnTo>
                      <a:pt x="164" y="161"/>
                    </a:lnTo>
                    <a:lnTo>
                      <a:pt x="156" y="171"/>
                    </a:lnTo>
                    <a:lnTo>
                      <a:pt x="145" y="179"/>
                    </a:lnTo>
                    <a:lnTo>
                      <a:pt x="137" y="182"/>
                    </a:lnTo>
                    <a:lnTo>
                      <a:pt x="130" y="185"/>
                    </a:lnTo>
                    <a:lnTo>
                      <a:pt x="123" y="187"/>
                    </a:lnTo>
                    <a:lnTo>
                      <a:pt x="114" y="189"/>
                    </a:lnTo>
                    <a:lnTo>
                      <a:pt x="107" y="190"/>
                    </a:lnTo>
                    <a:lnTo>
                      <a:pt x="99" y="190"/>
                    </a:lnTo>
                    <a:lnTo>
                      <a:pt x="89" y="190"/>
                    </a:lnTo>
                    <a:lnTo>
                      <a:pt x="81" y="189"/>
                    </a:lnTo>
                    <a:lnTo>
                      <a:pt x="73" y="188"/>
                    </a:lnTo>
                    <a:lnTo>
                      <a:pt x="64" y="186"/>
                    </a:lnTo>
                    <a:lnTo>
                      <a:pt x="56" y="184"/>
                    </a:lnTo>
                    <a:lnTo>
                      <a:pt x="49" y="181"/>
                    </a:lnTo>
                    <a:lnTo>
                      <a:pt x="43" y="178"/>
                    </a:lnTo>
                    <a:lnTo>
                      <a:pt x="35" y="174"/>
                    </a:lnTo>
                    <a:lnTo>
                      <a:pt x="29" y="170"/>
                    </a:lnTo>
                    <a:lnTo>
                      <a:pt x="23" y="166"/>
                    </a:lnTo>
                    <a:lnTo>
                      <a:pt x="12" y="156"/>
                    </a:lnTo>
                    <a:lnTo>
                      <a:pt x="5" y="145"/>
                    </a:lnTo>
                    <a:lnTo>
                      <a:pt x="1" y="132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553520" y="4552200"/>
                <a:ext cx="10080" cy="2520"/>
              </a:xfrm>
              <a:custGeom>
                <a:avLst/>
                <a:gdLst/>
                <a:ahLst/>
                <a:rect l="l" t="t" r="r" b="b"/>
                <a:pathLst>
                  <a:path w="140" h="45">
                    <a:moveTo>
                      <a:pt x="0" y="45"/>
                    </a:moveTo>
                    <a:lnTo>
                      <a:pt x="0" y="44"/>
                    </a:lnTo>
                    <a:lnTo>
                      <a:pt x="0" y="38"/>
                    </a:lnTo>
                    <a:lnTo>
                      <a:pt x="3" y="29"/>
                    </a:lnTo>
                    <a:lnTo>
                      <a:pt x="8" y="22"/>
                    </a:lnTo>
                    <a:lnTo>
                      <a:pt x="14" y="15"/>
                    </a:lnTo>
                    <a:lnTo>
                      <a:pt x="23" y="8"/>
                    </a:lnTo>
                    <a:lnTo>
                      <a:pt x="30" y="5"/>
                    </a:lnTo>
                    <a:lnTo>
                      <a:pt x="35" y="3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3" y="1"/>
                    </a:lnTo>
                    <a:lnTo>
                      <a:pt x="81" y="2"/>
                    </a:lnTo>
                    <a:lnTo>
                      <a:pt x="88" y="3"/>
                    </a:lnTo>
                    <a:lnTo>
                      <a:pt x="95" y="5"/>
                    </a:lnTo>
                    <a:lnTo>
                      <a:pt x="101" y="7"/>
                    </a:lnTo>
                    <a:lnTo>
                      <a:pt x="107" y="11"/>
                    </a:lnTo>
                    <a:lnTo>
                      <a:pt x="113" y="14"/>
                    </a:lnTo>
                    <a:lnTo>
                      <a:pt x="118" y="17"/>
                    </a:lnTo>
                    <a:lnTo>
                      <a:pt x="123" y="21"/>
                    </a:lnTo>
                    <a:lnTo>
                      <a:pt x="132" y="29"/>
                    </a:lnTo>
                    <a:lnTo>
                      <a:pt x="137" y="37"/>
                    </a:lnTo>
                    <a:lnTo>
                      <a:pt x="140" y="45"/>
                    </a:lnTo>
                    <a:lnTo>
                      <a:pt x="115" y="45"/>
                    </a:lnTo>
                    <a:lnTo>
                      <a:pt x="115" y="45"/>
                    </a:lnTo>
                    <a:lnTo>
                      <a:pt x="113" y="39"/>
                    </a:lnTo>
                    <a:lnTo>
                      <a:pt x="110" y="34"/>
                    </a:lnTo>
                    <a:lnTo>
                      <a:pt x="105" y="30"/>
                    </a:lnTo>
                    <a:lnTo>
                      <a:pt x="101" y="28"/>
                    </a:lnTo>
                    <a:lnTo>
                      <a:pt x="98" y="25"/>
                    </a:lnTo>
                    <a:lnTo>
                      <a:pt x="94" y="24"/>
                    </a:lnTo>
                    <a:lnTo>
                      <a:pt x="91" y="22"/>
                    </a:lnTo>
                    <a:lnTo>
                      <a:pt x="87" y="21"/>
                    </a:lnTo>
                    <a:lnTo>
                      <a:pt x="83" y="20"/>
                    </a:lnTo>
                    <a:lnTo>
                      <a:pt x="78" y="19"/>
                    </a:lnTo>
                    <a:lnTo>
                      <a:pt x="73" y="19"/>
                    </a:lnTo>
                    <a:lnTo>
                      <a:pt x="69" y="18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8"/>
                    </a:lnTo>
                    <a:lnTo>
                      <a:pt x="51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1" y="23"/>
                    </a:lnTo>
                    <a:lnTo>
                      <a:pt x="35" y="26"/>
                    </a:lnTo>
                    <a:lnTo>
                      <a:pt x="31" y="30"/>
                    </a:lnTo>
                    <a:lnTo>
                      <a:pt x="27" y="34"/>
                    </a:lnTo>
                    <a:lnTo>
                      <a:pt x="26" y="39"/>
                    </a:lnTo>
                    <a:lnTo>
                      <a:pt x="26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553520" y="4555080"/>
                <a:ext cx="10080" cy="5400"/>
              </a:xfrm>
              <a:custGeom>
                <a:avLst/>
                <a:gdLst/>
                <a:ahLst/>
                <a:rect l="l" t="t" r="r" b="b"/>
                <a:pathLst>
                  <a:path w="160" h="83">
                    <a:moveTo>
                      <a:pt x="0" y="83"/>
                    </a:moveTo>
                    <a:lnTo>
                      <a:pt x="0" y="74"/>
                    </a:lnTo>
                    <a:lnTo>
                      <a:pt x="1" y="67"/>
                    </a:lnTo>
                    <a:lnTo>
                      <a:pt x="3" y="60"/>
                    </a:lnTo>
                    <a:lnTo>
                      <a:pt x="6" y="54"/>
                    </a:lnTo>
                    <a:lnTo>
                      <a:pt x="10" y="49"/>
                    </a:lnTo>
                    <a:lnTo>
                      <a:pt x="12" y="46"/>
                    </a:lnTo>
                    <a:lnTo>
                      <a:pt x="15" y="44"/>
                    </a:lnTo>
                    <a:lnTo>
                      <a:pt x="20" y="42"/>
                    </a:lnTo>
                    <a:lnTo>
                      <a:pt x="23" y="40"/>
                    </a:lnTo>
                    <a:lnTo>
                      <a:pt x="27" y="38"/>
                    </a:lnTo>
                    <a:lnTo>
                      <a:pt x="32" y="36"/>
                    </a:lnTo>
                    <a:lnTo>
                      <a:pt x="36" y="34"/>
                    </a:lnTo>
                    <a:lnTo>
                      <a:pt x="41" y="32"/>
                    </a:lnTo>
                    <a:lnTo>
                      <a:pt x="41" y="32"/>
                    </a:lnTo>
                    <a:lnTo>
                      <a:pt x="35" y="28"/>
                    </a:lnTo>
                    <a:lnTo>
                      <a:pt x="30" y="23"/>
                    </a:lnTo>
                    <a:lnTo>
                      <a:pt x="26" y="18"/>
                    </a:lnTo>
                    <a:lnTo>
                      <a:pt x="22" y="14"/>
                    </a:lnTo>
                    <a:lnTo>
                      <a:pt x="20" y="9"/>
                    </a:lnTo>
                    <a:lnTo>
                      <a:pt x="17" y="4"/>
                    </a:lnTo>
                    <a:lnTo>
                      <a:pt x="16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5" y="6"/>
                    </a:lnTo>
                    <a:lnTo>
                      <a:pt x="48" y="11"/>
                    </a:lnTo>
                    <a:lnTo>
                      <a:pt x="53" y="16"/>
                    </a:lnTo>
                    <a:lnTo>
                      <a:pt x="58" y="20"/>
                    </a:lnTo>
                    <a:lnTo>
                      <a:pt x="65" y="23"/>
                    </a:lnTo>
                    <a:lnTo>
                      <a:pt x="73" y="27"/>
                    </a:lnTo>
                    <a:lnTo>
                      <a:pt x="82" y="28"/>
                    </a:lnTo>
                    <a:lnTo>
                      <a:pt x="87" y="29"/>
                    </a:lnTo>
                    <a:lnTo>
                      <a:pt x="92" y="29"/>
                    </a:lnTo>
                    <a:lnTo>
                      <a:pt x="98" y="29"/>
                    </a:lnTo>
                    <a:lnTo>
                      <a:pt x="102" y="29"/>
                    </a:lnTo>
                    <a:lnTo>
                      <a:pt x="106" y="28"/>
                    </a:lnTo>
                    <a:lnTo>
                      <a:pt x="110" y="27"/>
                    </a:lnTo>
                    <a:lnTo>
                      <a:pt x="114" y="25"/>
                    </a:lnTo>
                    <a:lnTo>
                      <a:pt x="117" y="24"/>
                    </a:lnTo>
                    <a:lnTo>
                      <a:pt x="123" y="21"/>
                    </a:lnTo>
                    <a:lnTo>
                      <a:pt x="127" y="17"/>
                    </a:lnTo>
                    <a:lnTo>
                      <a:pt x="130" y="12"/>
                    </a:lnTo>
                    <a:lnTo>
                      <a:pt x="131" y="6"/>
                    </a:lnTo>
                    <a:lnTo>
                      <a:pt x="131" y="0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7" y="9"/>
                    </a:lnTo>
                    <a:lnTo>
                      <a:pt x="156" y="15"/>
                    </a:lnTo>
                    <a:lnTo>
                      <a:pt x="154" y="20"/>
                    </a:lnTo>
                    <a:lnTo>
                      <a:pt x="151" y="25"/>
                    </a:lnTo>
                    <a:lnTo>
                      <a:pt x="148" y="30"/>
                    </a:lnTo>
                    <a:lnTo>
                      <a:pt x="143" y="34"/>
                    </a:lnTo>
                    <a:lnTo>
                      <a:pt x="138" y="37"/>
                    </a:lnTo>
                    <a:lnTo>
                      <a:pt x="132" y="40"/>
                    </a:lnTo>
                    <a:lnTo>
                      <a:pt x="125" y="42"/>
                    </a:lnTo>
                    <a:lnTo>
                      <a:pt x="134" y="47"/>
                    </a:lnTo>
                    <a:lnTo>
                      <a:pt x="141" y="53"/>
                    </a:lnTo>
                    <a:lnTo>
                      <a:pt x="149" y="59"/>
                    </a:lnTo>
                    <a:lnTo>
                      <a:pt x="154" y="65"/>
                    </a:lnTo>
                    <a:lnTo>
                      <a:pt x="157" y="71"/>
                    </a:lnTo>
                    <a:lnTo>
                      <a:pt x="159" y="78"/>
                    </a:lnTo>
                    <a:lnTo>
                      <a:pt x="160" y="83"/>
                    </a:lnTo>
                    <a:lnTo>
                      <a:pt x="135" y="83"/>
                    </a:lnTo>
                    <a:lnTo>
                      <a:pt x="135" y="83"/>
                    </a:lnTo>
                    <a:lnTo>
                      <a:pt x="133" y="75"/>
                    </a:lnTo>
                    <a:lnTo>
                      <a:pt x="130" y="68"/>
                    </a:lnTo>
                    <a:lnTo>
                      <a:pt x="124" y="61"/>
                    </a:lnTo>
                    <a:lnTo>
                      <a:pt x="119" y="58"/>
                    </a:lnTo>
                    <a:lnTo>
                      <a:pt x="115" y="55"/>
                    </a:lnTo>
                    <a:lnTo>
                      <a:pt x="111" y="53"/>
                    </a:lnTo>
                    <a:lnTo>
                      <a:pt x="106" y="51"/>
                    </a:lnTo>
                    <a:lnTo>
                      <a:pt x="101" y="49"/>
                    </a:lnTo>
                    <a:lnTo>
                      <a:pt x="96" y="47"/>
                    </a:lnTo>
                    <a:lnTo>
                      <a:pt x="90" y="46"/>
                    </a:lnTo>
                    <a:lnTo>
                      <a:pt x="84" y="45"/>
                    </a:lnTo>
                    <a:lnTo>
                      <a:pt x="78" y="44"/>
                    </a:lnTo>
                    <a:lnTo>
                      <a:pt x="72" y="44"/>
                    </a:lnTo>
                    <a:lnTo>
                      <a:pt x="65" y="45"/>
                    </a:lnTo>
                    <a:lnTo>
                      <a:pt x="60" y="45"/>
                    </a:lnTo>
                    <a:lnTo>
                      <a:pt x="55" y="46"/>
                    </a:lnTo>
                    <a:lnTo>
                      <a:pt x="50" y="48"/>
                    </a:lnTo>
                    <a:lnTo>
                      <a:pt x="45" y="49"/>
                    </a:lnTo>
                    <a:lnTo>
                      <a:pt x="40" y="51"/>
                    </a:lnTo>
                    <a:lnTo>
                      <a:pt x="33" y="56"/>
                    </a:lnTo>
                    <a:lnTo>
                      <a:pt x="29" y="62"/>
                    </a:lnTo>
                    <a:lnTo>
                      <a:pt x="26" y="70"/>
                    </a:lnTo>
                    <a:lnTo>
                      <a:pt x="24" y="78"/>
                    </a:lnTo>
                    <a:lnTo>
                      <a:pt x="24" y="8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553520" y="4560480"/>
                <a:ext cx="10080" cy="2160"/>
              </a:xfrm>
              <a:custGeom>
                <a:avLst/>
                <a:gdLst/>
                <a:ahLst/>
                <a:rect l="l" t="t" r="r" b="b"/>
                <a:pathLst>
                  <a:path w="160" h="59">
                    <a:moveTo>
                      <a:pt x="0" y="0"/>
                    </a:moveTo>
                    <a:lnTo>
                      <a:pt x="0" y="2"/>
                    </a:lnTo>
                    <a:lnTo>
                      <a:pt x="3" y="14"/>
                    </a:lnTo>
                    <a:lnTo>
                      <a:pt x="9" y="24"/>
                    </a:lnTo>
                    <a:lnTo>
                      <a:pt x="17" y="34"/>
                    </a:lnTo>
                    <a:lnTo>
                      <a:pt x="24" y="39"/>
                    </a:lnTo>
                    <a:lnTo>
                      <a:pt x="30" y="43"/>
                    </a:lnTo>
                    <a:lnTo>
                      <a:pt x="36" y="47"/>
                    </a:lnTo>
                    <a:lnTo>
                      <a:pt x="42" y="50"/>
                    </a:lnTo>
                    <a:lnTo>
                      <a:pt x="50" y="53"/>
                    </a:lnTo>
                    <a:lnTo>
                      <a:pt x="57" y="55"/>
                    </a:lnTo>
                    <a:lnTo>
                      <a:pt x="64" y="57"/>
                    </a:lnTo>
                    <a:lnTo>
                      <a:pt x="73" y="58"/>
                    </a:lnTo>
                    <a:lnTo>
                      <a:pt x="82" y="59"/>
                    </a:lnTo>
                    <a:lnTo>
                      <a:pt x="90" y="59"/>
                    </a:lnTo>
                    <a:lnTo>
                      <a:pt x="99" y="59"/>
                    </a:lnTo>
                    <a:lnTo>
                      <a:pt x="107" y="57"/>
                    </a:lnTo>
                    <a:lnTo>
                      <a:pt x="114" y="56"/>
                    </a:lnTo>
                    <a:lnTo>
                      <a:pt x="122" y="54"/>
                    </a:lnTo>
                    <a:lnTo>
                      <a:pt x="129" y="51"/>
                    </a:lnTo>
                    <a:lnTo>
                      <a:pt x="135" y="48"/>
                    </a:lnTo>
                    <a:lnTo>
                      <a:pt x="145" y="41"/>
                    </a:lnTo>
                    <a:lnTo>
                      <a:pt x="153" y="32"/>
                    </a:lnTo>
                    <a:lnTo>
                      <a:pt x="158" y="22"/>
                    </a:lnTo>
                    <a:lnTo>
                      <a:pt x="160" y="10"/>
                    </a:lnTo>
                    <a:lnTo>
                      <a:pt x="160" y="2"/>
                    </a:lnTo>
                    <a:lnTo>
                      <a:pt x="160" y="0"/>
                    </a:lnTo>
                    <a:lnTo>
                      <a:pt x="135" y="0"/>
                    </a:lnTo>
                    <a:lnTo>
                      <a:pt x="135" y="9"/>
                    </a:lnTo>
                    <a:lnTo>
                      <a:pt x="133" y="17"/>
                    </a:lnTo>
                    <a:lnTo>
                      <a:pt x="130" y="23"/>
                    </a:lnTo>
                    <a:lnTo>
                      <a:pt x="125" y="30"/>
                    </a:lnTo>
                    <a:lnTo>
                      <a:pt x="117" y="35"/>
                    </a:lnTo>
                    <a:lnTo>
                      <a:pt x="112" y="37"/>
                    </a:lnTo>
                    <a:lnTo>
                      <a:pt x="108" y="39"/>
                    </a:lnTo>
                    <a:lnTo>
                      <a:pt x="103" y="40"/>
                    </a:lnTo>
                    <a:lnTo>
                      <a:pt x="98" y="40"/>
                    </a:lnTo>
                    <a:lnTo>
                      <a:pt x="92" y="41"/>
                    </a:lnTo>
                    <a:lnTo>
                      <a:pt x="86" y="41"/>
                    </a:lnTo>
                    <a:lnTo>
                      <a:pt x="81" y="41"/>
                    </a:lnTo>
                    <a:lnTo>
                      <a:pt x="75" y="40"/>
                    </a:lnTo>
                    <a:lnTo>
                      <a:pt x="70" y="39"/>
                    </a:lnTo>
                    <a:lnTo>
                      <a:pt x="64" y="38"/>
                    </a:lnTo>
                    <a:lnTo>
                      <a:pt x="59" y="37"/>
                    </a:lnTo>
                    <a:lnTo>
                      <a:pt x="54" y="35"/>
                    </a:lnTo>
                    <a:lnTo>
                      <a:pt x="50" y="33"/>
                    </a:lnTo>
                    <a:lnTo>
                      <a:pt x="45" y="31"/>
                    </a:lnTo>
                    <a:lnTo>
                      <a:pt x="41" y="28"/>
                    </a:lnTo>
                    <a:lnTo>
                      <a:pt x="37" y="25"/>
                    </a:lnTo>
                    <a:lnTo>
                      <a:pt x="31" y="19"/>
                    </a:lnTo>
                    <a:lnTo>
                      <a:pt x="26" y="12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550640" y="4577760"/>
                <a:ext cx="11880" cy="5400"/>
              </a:xfrm>
              <a:custGeom>
                <a:avLst/>
                <a:gdLst/>
                <a:ahLst/>
                <a:rect l="l" t="t" r="r" b="b"/>
                <a:pathLst>
                  <a:path w="176" h="93">
                    <a:moveTo>
                      <a:pt x="0" y="93"/>
                    </a:moveTo>
                    <a:lnTo>
                      <a:pt x="3" y="57"/>
                    </a:lnTo>
                    <a:lnTo>
                      <a:pt x="4" y="49"/>
                    </a:lnTo>
                    <a:lnTo>
                      <a:pt x="5" y="42"/>
                    </a:lnTo>
                    <a:lnTo>
                      <a:pt x="6" y="36"/>
                    </a:lnTo>
                    <a:lnTo>
                      <a:pt x="9" y="31"/>
                    </a:lnTo>
                    <a:lnTo>
                      <a:pt x="11" y="27"/>
                    </a:lnTo>
                    <a:lnTo>
                      <a:pt x="14" y="24"/>
                    </a:lnTo>
                    <a:lnTo>
                      <a:pt x="17" y="20"/>
                    </a:lnTo>
                    <a:lnTo>
                      <a:pt x="21" y="17"/>
                    </a:lnTo>
                    <a:lnTo>
                      <a:pt x="24" y="14"/>
                    </a:lnTo>
                    <a:lnTo>
                      <a:pt x="28" y="12"/>
                    </a:lnTo>
                    <a:lnTo>
                      <a:pt x="33" y="10"/>
                    </a:lnTo>
                    <a:lnTo>
                      <a:pt x="36" y="8"/>
                    </a:lnTo>
                    <a:lnTo>
                      <a:pt x="40" y="6"/>
                    </a:lnTo>
                    <a:lnTo>
                      <a:pt x="44" y="4"/>
                    </a:lnTo>
                    <a:lnTo>
                      <a:pt x="49" y="3"/>
                    </a:lnTo>
                    <a:lnTo>
                      <a:pt x="53" y="2"/>
                    </a:lnTo>
                    <a:lnTo>
                      <a:pt x="59" y="1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4" y="1"/>
                    </a:lnTo>
                    <a:lnTo>
                      <a:pt x="104" y="2"/>
                    </a:lnTo>
                    <a:lnTo>
                      <a:pt x="114" y="4"/>
                    </a:lnTo>
                    <a:lnTo>
                      <a:pt x="122" y="7"/>
                    </a:lnTo>
                    <a:lnTo>
                      <a:pt x="130" y="10"/>
                    </a:lnTo>
                    <a:lnTo>
                      <a:pt x="138" y="13"/>
                    </a:lnTo>
                    <a:lnTo>
                      <a:pt x="145" y="17"/>
                    </a:lnTo>
                    <a:lnTo>
                      <a:pt x="151" y="21"/>
                    </a:lnTo>
                    <a:lnTo>
                      <a:pt x="156" y="26"/>
                    </a:lnTo>
                    <a:lnTo>
                      <a:pt x="166" y="37"/>
                    </a:lnTo>
                    <a:lnTo>
                      <a:pt x="173" y="49"/>
                    </a:lnTo>
                    <a:lnTo>
                      <a:pt x="176" y="62"/>
                    </a:lnTo>
                    <a:lnTo>
                      <a:pt x="176" y="78"/>
                    </a:lnTo>
                    <a:lnTo>
                      <a:pt x="175" y="93"/>
                    </a:lnTo>
                    <a:lnTo>
                      <a:pt x="149" y="93"/>
                    </a:lnTo>
                    <a:lnTo>
                      <a:pt x="151" y="72"/>
                    </a:lnTo>
                    <a:lnTo>
                      <a:pt x="151" y="61"/>
                    </a:lnTo>
                    <a:lnTo>
                      <a:pt x="149" y="52"/>
                    </a:lnTo>
                    <a:lnTo>
                      <a:pt x="144" y="43"/>
                    </a:lnTo>
                    <a:lnTo>
                      <a:pt x="138" y="36"/>
                    </a:lnTo>
                    <a:lnTo>
                      <a:pt x="133" y="33"/>
                    </a:lnTo>
                    <a:lnTo>
                      <a:pt x="129" y="30"/>
                    </a:lnTo>
                    <a:lnTo>
                      <a:pt x="124" y="27"/>
                    </a:lnTo>
                    <a:lnTo>
                      <a:pt x="119" y="25"/>
                    </a:lnTo>
                    <a:lnTo>
                      <a:pt x="113" y="23"/>
                    </a:lnTo>
                    <a:lnTo>
                      <a:pt x="106" y="21"/>
                    </a:lnTo>
                    <a:lnTo>
                      <a:pt x="100" y="19"/>
                    </a:lnTo>
                    <a:lnTo>
                      <a:pt x="93" y="18"/>
                    </a:lnTo>
                    <a:lnTo>
                      <a:pt x="86" y="17"/>
                    </a:lnTo>
                    <a:lnTo>
                      <a:pt x="79" y="17"/>
                    </a:lnTo>
                    <a:lnTo>
                      <a:pt x="73" y="17"/>
                    </a:lnTo>
                    <a:lnTo>
                      <a:pt x="68" y="18"/>
                    </a:lnTo>
                    <a:lnTo>
                      <a:pt x="62" y="19"/>
                    </a:lnTo>
                    <a:lnTo>
                      <a:pt x="56" y="21"/>
                    </a:lnTo>
                    <a:lnTo>
                      <a:pt x="52" y="23"/>
                    </a:lnTo>
                    <a:lnTo>
                      <a:pt x="47" y="25"/>
                    </a:lnTo>
                    <a:lnTo>
                      <a:pt x="40" y="31"/>
                    </a:lnTo>
                    <a:lnTo>
                      <a:pt x="35" y="38"/>
                    </a:lnTo>
                    <a:lnTo>
                      <a:pt x="30" y="46"/>
                    </a:lnTo>
                    <a:lnTo>
                      <a:pt x="28" y="56"/>
                    </a:lnTo>
                    <a:lnTo>
                      <a:pt x="25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550640" y="4583160"/>
                <a:ext cx="11880" cy="5040"/>
              </a:xfrm>
              <a:custGeom>
                <a:avLst/>
                <a:gdLst/>
                <a:ahLst/>
                <a:rect l="l" t="t" r="r" b="b"/>
                <a:pathLst>
                  <a:path w="177" h="94">
                    <a:moveTo>
                      <a:pt x="2" y="0"/>
                    </a:moveTo>
                    <a:lnTo>
                      <a:pt x="1" y="16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2" y="42"/>
                    </a:lnTo>
                    <a:lnTo>
                      <a:pt x="4" y="47"/>
                    </a:lnTo>
                    <a:lnTo>
                      <a:pt x="5" y="52"/>
                    </a:lnTo>
                    <a:lnTo>
                      <a:pt x="8" y="57"/>
                    </a:lnTo>
                    <a:lnTo>
                      <a:pt x="12" y="61"/>
                    </a:lnTo>
                    <a:lnTo>
                      <a:pt x="15" y="64"/>
                    </a:lnTo>
                    <a:lnTo>
                      <a:pt x="18" y="67"/>
                    </a:lnTo>
                    <a:lnTo>
                      <a:pt x="22" y="70"/>
                    </a:lnTo>
                    <a:lnTo>
                      <a:pt x="25" y="73"/>
                    </a:lnTo>
                    <a:lnTo>
                      <a:pt x="29" y="76"/>
                    </a:lnTo>
                    <a:lnTo>
                      <a:pt x="33" y="78"/>
                    </a:lnTo>
                    <a:lnTo>
                      <a:pt x="38" y="80"/>
                    </a:lnTo>
                    <a:lnTo>
                      <a:pt x="43" y="82"/>
                    </a:lnTo>
                    <a:lnTo>
                      <a:pt x="47" y="84"/>
                    </a:lnTo>
                    <a:lnTo>
                      <a:pt x="51" y="86"/>
                    </a:lnTo>
                    <a:lnTo>
                      <a:pt x="55" y="88"/>
                    </a:lnTo>
                    <a:lnTo>
                      <a:pt x="61" y="89"/>
                    </a:lnTo>
                    <a:lnTo>
                      <a:pt x="66" y="90"/>
                    </a:lnTo>
                    <a:lnTo>
                      <a:pt x="71" y="91"/>
                    </a:lnTo>
                    <a:lnTo>
                      <a:pt x="76" y="92"/>
                    </a:lnTo>
                    <a:lnTo>
                      <a:pt x="81" y="93"/>
                    </a:lnTo>
                    <a:lnTo>
                      <a:pt x="88" y="94"/>
                    </a:lnTo>
                    <a:lnTo>
                      <a:pt x="93" y="94"/>
                    </a:lnTo>
                    <a:lnTo>
                      <a:pt x="98" y="94"/>
                    </a:lnTo>
                    <a:lnTo>
                      <a:pt x="103" y="94"/>
                    </a:lnTo>
                    <a:lnTo>
                      <a:pt x="108" y="94"/>
                    </a:lnTo>
                    <a:lnTo>
                      <a:pt x="114" y="93"/>
                    </a:lnTo>
                    <a:lnTo>
                      <a:pt x="118" y="92"/>
                    </a:lnTo>
                    <a:lnTo>
                      <a:pt x="123" y="91"/>
                    </a:lnTo>
                    <a:lnTo>
                      <a:pt x="128" y="90"/>
                    </a:lnTo>
                    <a:lnTo>
                      <a:pt x="132" y="89"/>
                    </a:lnTo>
                    <a:lnTo>
                      <a:pt x="138" y="88"/>
                    </a:lnTo>
                    <a:lnTo>
                      <a:pt x="142" y="86"/>
                    </a:lnTo>
                    <a:lnTo>
                      <a:pt x="146" y="84"/>
                    </a:lnTo>
                    <a:lnTo>
                      <a:pt x="150" y="82"/>
                    </a:lnTo>
                    <a:lnTo>
                      <a:pt x="154" y="80"/>
                    </a:lnTo>
                    <a:lnTo>
                      <a:pt x="157" y="77"/>
                    </a:lnTo>
                    <a:lnTo>
                      <a:pt x="160" y="74"/>
                    </a:lnTo>
                    <a:lnTo>
                      <a:pt x="164" y="70"/>
                    </a:lnTo>
                    <a:lnTo>
                      <a:pt x="166" y="66"/>
                    </a:lnTo>
                    <a:lnTo>
                      <a:pt x="169" y="61"/>
                    </a:lnTo>
                    <a:lnTo>
                      <a:pt x="170" y="57"/>
                    </a:lnTo>
                    <a:lnTo>
                      <a:pt x="172" y="51"/>
                    </a:lnTo>
                    <a:lnTo>
                      <a:pt x="173" y="45"/>
                    </a:lnTo>
                    <a:lnTo>
                      <a:pt x="173" y="38"/>
                    </a:lnTo>
                    <a:lnTo>
                      <a:pt x="177" y="0"/>
                    </a:lnTo>
                    <a:lnTo>
                      <a:pt x="151" y="0"/>
                    </a:lnTo>
                    <a:lnTo>
                      <a:pt x="148" y="39"/>
                    </a:lnTo>
                    <a:lnTo>
                      <a:pt x="146" y="49"/>
                    </a:lnTo>
                    <a:lnTo>
                      <a:pt x="143" y="57"/>
                    </a:lnTo>
                    <a:lnTo>
                      <a:pt x="136" y="64"/>
                    </a:lnTo>
                    <a:lnTo>
                      <a:pt x="129" y="70"/>
                    </a:lnTo>
                    <a:lnTo>
                      <a:pt x="125" y="72"/>
                    </a:lnTo>
                    <a:lnTo>
                      <a:pt x="120" y="74"/>
                    </a:lnTo>
                    <a:lnTo>
                      <a:pt x="115" y="75"/>
                    </a:lnTo>
                    <a:lnTo>
                      <a:pt x="109" y="76"/>
                    </a:lnTo>
                    <a:lnTo>
                      <a:pt x="103" y="76"/>
                    </a:lnTo>
                    <a:lnTo>
                      <a:pt x="97" y="76"/>
                    </a:lnTo>
                    <a:lnTo>
                      <a:pt x="90" y="76"/>
                    </a:lnTo>
                    <a:lnTo>
                      <a:pt x="82" y="75"/>
                    </a:lnTo>
                    <a:lnTo>
                      <a:pt x="75" y="74"/>
                    </a:lnTo>
                    <a:lnTo>
                      <a:pt x="69" y="73"/>
                    </a:lnTo>
                    <a:lnTo>
                      <a:pt x="63" y="71"/>
                    </a:lnTo>
                    <a:lnTo>
                      <a:pt x="57" y="70"/>
                    </a:lnTo>
                    <a:lnTo>
                      <a:pt x="52" y="67"/>
                    </a:lnTo>
                    <a:lnTo>
                      <a:pt x="47" y="65"/>
                    </a:lnTo>
                    <a:lnTo>
                      <a:pt x="43" y="62"/>
                    </a:lnTo>
                    <a:lnTo>
                      <a:pt x="39" y="59"/>
                    </a:lnTo>
                    <a:lnTo>
                      <a:pt x="32" y="52"/>
                    </a:lnTo>
                    <a:lnTo>
                      <a:pt x="28" y="43"/>
                    </a:lnTo>
                    <a:lnTo>
                      <a:pt x="25" y="33"/>
                    </a:lnTo>
                    <a:lnTo>
                      <a:pt x="25" y="22"/>
                    </a:lnTo>
                    <a:lnTo>
                      <a:pt x="2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601760" y="450612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161" h="187">
                    <a:moveTo>
                      <a:pt x="24" y="123"/>
                    </a:moveTo>
                    <a:lnTo>
                      <a:pt x="24" y="124"/>
                    </a:lnTo>
                    <a:lnTo>
                      <a:pt x="24" y="132"/>
                    </a:lnTo>
                    <a:lnTo>
                      <a:pt x="27" y="140"/>
                    </a:lnTo>
                    <a:lnTo>
                      <a:pt x="32" y="147"/>
                    </a:lnTo>
                    <a:lnTo>
                      <a:pt x="38" y="153"/>
                    </a:lnTo>
                    <a:lnTo>
                      <a:pt x="42" y="156"/>
                    </a:lnTo>
                    <a:lnTo>
                      <a:pt x="45" y="159"/>
                    </a:lnTo>
                    <a:lnTo>
                      <a:pt x="50" y="161"/>
                    </a:lnTo>
                    <a:lnTo>
                      <a:pt x="55" y="163"/>
                    </a:lnTo>
                    <a:lnTo>
                      <a:pt x="60" y="165"/>
                    </a:lnTo>
                    <a:lnTo>
                      <a:pt x="65" y="166"/>
                    </a:lnTo>
                    <a:lnTo>
                      <a:pt x="70" y="167"/>
                    </a:lnTo>
                    <a:lnTo>
                      <a:pt x="75" y="168"/>
                    </a:lnTo>
                    <a:lnTo>
                      <a:pt x="82" y="169"/>
                    </a:lnTo>
                    <a:lnTo>
                      <a:pt x="87" y="169"/>
                    </a:lnTo>
                    <a:lnTo>
                      <a:pt x="93" y="169"/>
                    </a:lnTo>
                    <a:lnTo>
                      <a:pt x="98" y="168"/>
                    </a:lnTo>
                    <a:lnTo>
                      <a:pt x="104" y="168"/>
                    </a:lnTo>
                    <a:lnTo>
                      <a:pt x="109" y="166"/>
                    </a:lnTo>
                    <a:lnTo>
                      <a:pt x="113" y="164"/>
                    </a:lnTo>
                    <a:lnTo>
                      <a:pt x="118" y="162"/>
                    </a:lnTo>
                    <a:lnTo>
                      <a:pt x="125" y="157"/>
                    </a:lnTo>
                    <a:lnTo>
                      <a:pt x="131" y="151"/>
                    </a:lnTo>
                    <a:lnTo>
                      <a:pt x="135" y="143"/>
                    </a:lnTo>
                    <a:lnTo>
                      <a:pt x="136" y="135"/>
                    </a:lnTo>
                    <a:lnTo>
                      <a:pt x="136" y="125"/>
                    </a:lnTo>
                    <a:lnTo>
                      <a:pt x="134" y="116"/>
                    </a:lnTo>
                    <a:lnTo>
                      <a:pt x="128" y="109"/>
                    </a:lnTo>
                    <a:lnTo>
                      <a:pt x="121" y="102"/>
                    </a:lnTo>
                    <a:lnTo>
                      <a:pt x="117" y="99"/>
                    </a:lnTo>
                    <a:lnTo>
                      <a:pt x="113" y="96"/>
                    </a:lnTo>
                    <a:lnTo>
                      <a:pt x="108" y="94"/>
                    </a:lnTo>
                    <a:lnTo>
                      <a:pt x="102" y="92"/>
                    </a:lnTo>
                    <a:lnTo>
                      <a:pt x="95" y="90"/>
                    </a:lnTo>
                    <a:lnTo>
                      <a:pt x="89" y="88"/>
                    </a:lnTo>
                    <a:lnTo>
                      <a:pt x="82" y="86"/>
                    </a:lnTo>
                    <a:lnTo>
                      <a:pt x="73" y="85"/>
                    </a:lnTo>
                    <a:lnTo>
                      <a:pt x="71" y="85"/>
                    </a:lnTo>
                    <a:lnTo>
                      <a:pt x="69" y="84"/>
                    </a:lnTo>
                    <a:lnTo>
                      <a:pt x="67" y="84"/>
                    </a:lnTo>
                    <a:lnTo>
                      <a:pt x="66" y="84"/>
                    </a:lnTo>
                    <a:lnTo>
                      <a:pt x="65" y="84"/>
                    </a:lnTo>
                    <a:lnTo>
                      <a:pt x="64" y="84"/>
                    </a:lnTo>
                    <a:lnTo>
                      <a:pt x="63" y="85"/>
                    </a:lnTo>
                    <a:lnTo>
                      <a:pt x="62" y="85"/>
                    </a:lnTo>
                    <a:lnTo>
                      <a:pt x="63" y="70"/>
                    </a:lnTo>
                    <a:lnTo>
                      <a:pt x="64" y="70"/>
                    </a:lnTo>
                    <a:lnTo>
                      <a:pt x="65" y="70"/>
                    </a:lnTo>
                    <a:lnTo>
                      <a:pt x="66" y="70"/>
                    </a:lnTo>
                    <a:lnTo>
                      <a:pt x="67" y="70"/>
                    </a:lnTo>
                    <a:lnTo>
                      <a:pt x="68" y="70"/>
                    </a:lnTo>
                    <a:lnTo>
                      <a:pt x="70" y="70"/>
                    </a:lnTo>
                    <a:lnTo>
                      <a:pt x="72" y="72"/>
                    </a:lnTo>
                    <a:lnTo>
                      <a:pt x="74" y="72"/>
                    </a:lnTo>
                    <a:lnTo>
                      <a:pt x="81" y="73"/>
                    </a:lnTo>
                    <a:lnTo>
                      <a:pt x="86" y="73"/>
                    </a:lnTo>
                    <a:lnTo>
                      <a:pt x="91" y="73"/>
                    </a:lnTo>
                    <a:lnTo>
                      <a:pt x="96" y="73"/>
                    </a:lnTo>
                    <a:lnTo>
                      <a:pt x="100" y="73"/>
                    </a:lnTo>
                    <a:lnTo>
                      <a:pt x="106" y="72"/>
                    </a:lnTo>
                    <a:lnTo>
                      <a:pt x="109" y="70"/>
                    </a:lnTo>
                    <a:lnTo>
                      <a:pt x="113" y="69"/>
                    </a:lnTo>
                    <a:lnTo>
                      <a:pt x="118" y="66"/>
                    </a:lnTo>
                    <a:lnTo>
                      <a:pt x="122" y="62"/>
                    </a:lnTo>
                    <a:lnTo>
                      <a:pt x="124" y="56"/>
                    </a:lnTo>
                    <a:lnTo>
                      <a:pt x="125" y="50"/>
                    </a:lnTo>
                    <a:lnTo>
                      <a:pt x="125" y="44"/>
                    </a:lnTo>
                    <a:lnTo>
                      <a:pt x="124" y="39"/>
                    </a:lnTo>
                    <a:lnTo>
                      <a:pt x="121" y="35"/>
                    </a:lnTo>
                    <a:lnTo>
                      <a:pt x="117" y="30"/>
                    </a:lnTo>
                    <a:lnTo>
                      <a:pt x="112" y="25"/>
                    </a:lnTo>
                    <a:lnTo>
                      <a:pt x="106" y="22"/>
                    </a:lnTo>
                    <a:lnTo>
                      <a:pt x="98" y="20"/>
                    </a:lnTo>
                    <a:lnTo>
                      <a:pt x="90" y="19"/>
                    </a:lnTo>
                    <a:lnTo>
                      <a:pt x="82" y="18"/>
                    </a:lnTo>
                    <a:lnTo>
                      <a:pt x="74" y="18"/>
                    </a:lnTo>
                    <a:lnTo>
                      <a:pt x="67" y="20"/>
                    </a:lnTo>
                    <a:lnTo>
                      <a:pt x="61" y="22"/>
                    </a:lnTo>
                    <a:lnTo>
                      <a:pt x="56" y="25"/>
                    </a:lnTo>
                    <a:lnTo>
                      <a:pt x="53" y="30"/>
                    </a:lnTo>
                    <a:lnTo>
                      <a:pt x="49" y="35"/>
                    </a:lnTo>
                    <a:lnTo>
                      <a:pt x="47" y="41"/>
                    </a:lnTo>
                    <a:lnTo>
                      <a:pt x="23" y="38"/>
                    </a:lnTo>
                    <a:lnTo>
                      <a:pt x="25" y="28"/>
                    </a:lnTo>
                    <a:lnTo>
                      <a:pt x="30" y="20"/>
                    </a:lnTo>
                    <a:lnTo>
                      <a:pt x="36" y="14"/>
                    </a:lnTo>
                    <a:lnTo>
                      <a:pt x="44" y="7"/>
                    </a:lnTo>
                    <a:lnTo>
                      <a:pt x="49" y="5"/>
                    </a:lnTo>
                    <a:lnTo>
                      <a:pt x="55" y="3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92" y="1"/>
                    </a:lnTo>
                    <a:lnTo>
                      <a:pt x="98" y="2"/>
                    </a:lnTo>
                    <a:lnTo>
                      <a:pt x="105" y="3"/>
                    </a:lnTo>
                    <a:lnTo>
                      <a:pt x="110" y="5"/>
                    </a:lnTo>
                    <a:lnTo>
                      <a:pt x="116" y="7"/>
                    </a:lnTo>
                    <a:lnTo>
                      <a:pt x="121" y="10"/>
                    </a:lnTo>
                    <a:lnTo>
                      <a:pt x="126" y="13"/>
                    </a:lnTo>
                    <a:lnTo>
                      <a:pt x="132" y="16"/>
                    </a:lnTo>
                    <a:lnTo>
                      <a:pt x="136" y="19"/>
                    </a:lnTo>
                    <a:lnTo>
                      <a:pt x="144" y="27"/>
                    </a:lnTo>
                    <a:lnTo>
                      <a:pt x="149" y="35"/>
                    </a:lnTo>
                    <a:lnTo>
                      <a:pt x="151" y="43"/>
                    </a:lnTo>
                    <a:lnTo>
                      <a:pt x="152" y="51"/>
                    </a:lnTo>
                    <a:lnTo>
                      <a:pt x="151" y="56"/>
                    </a:lnTo>
                    <a:lnTo>
                      <a:pt x="150" y="61"/>
                    </a:lnTo>
                    <a:lnTo>
                      <a:pt x="147" y="65"/>
                    </a:lnTo>
                    <a:lnTo>
                      <a:pt x="144" y="70"/>
                    </a:lnTo>
                    <a:lnTo>
                      <a:pt x="141" y="74"/>
                    </a:lnTo>
                    <a:lnTo>
                      <a:pt x="136" y="76"/>
                    </a:lnTo>
                    <a:lnTo>
                      <a:pt x="131" y="79"/>
                    </a:lnTo>
                    <a:lnTo>
                      <a:pt x="124" y="82"/>
                    </a:lnTo>
                    <a:lnTo>
                      <a:pt x="134" y="87"/>
                    </a:lnTo>
                    <a:lnTo>
                      <a:pt x="142" y="93"/>
                    </a:lnTo>
                    <a:lnTo>
                      <a:pt x="148" y="99"/>
                    </a:lnTo>
                    <a:lnTo>
                      <a:pt x="153" y="106"/>
                    </a:lnTo>
                    <a:lnTo>
                      <a:pt x="158" y="113"/>
                    </a:lnTo>
                    <a:lnTo>
                      <a:pt x="160" y="120"/>
                    </a:lnTo>
                    <a:lnTo>
                      <a:pt x="161" y="128"/>
                    </a:lnTo>
                    <a:lnTo>
                      <a:pt x="161" y="138"/>
                    </a:lnTo>
                    <a:lnTo>
                      <a:pt x="159" y="149"/>
                    </a:lnTo>
                    <a:lnTo>
                      <a:pt x="153" y="160"/>
                    </a:lnTo>
                    <a:lnTo>
                      <a:pt x="146" y="169"/>
                    </a:lnTo>
                    <a:lnTo>
                      <a:pt x="136" y="176"/>
                    </a:lnTo>
                    <a:lnTo>
                      <a:pt x="130" y="179"/>
                    </a:lnTo>
                    <a:lnTo>
                      <a:pt x="122" y="182"/>
                    </a:lnTo>
                    <a:lnTo>
                      <a:pt x="115" y="184"/>
                    </a:lnTo>
                    <a:lnTo>
                      <a:pt x="108" y="185"/>
                    </a:lnTo>
                    <a:lnTo>
                      <a:pt x="100" y="187"/>
                    </a:lnTo>
                    <a:lnTo>
                      <a:pt x="92" y="187"/>
                    </a:lnTo>
                    <a:lnTo>
                      <a:pt x="84" y="187"/>
                    </a:lnTo>
                    <a:lnTo>
                      <a:pt x="75" y="186"/>
                    </a:lnTo>
                    <a:lnTo>
                      <a:pt x="66" y="185"/>
                    </a:lnTo>
                    <a:lnTo>
                      <a:pt x="58" y="183"/>
                    </a:lnTo>
                    <a:lnTo>
                      <a:pt x="49" y="181"/>
                    </a:lnTo>
                    <a:lnTo>
                      <a:pt x="42" y="178"/>
                    </a:lnTo>
                    <a:lnTo>
                      <a:pt x="36" y="175"/>
                    </a:lnTo>
                    <a:lnTo>
                      <a:pt x="30" y="172"/>
                    </a:lnTo>
                    <a:lnTo>
                      <a:pt x="23" y="168"/>
                    </a:lnTo>
                    <a:lnTo>
                      <a:pt x="18" y="164"/>
                    </a:lnTo>
                    <a:lnTo>
                      <a:pt x="10" y="155"/>
                    </a:lnTo>
                    <a:lnTo>
                      <a:pt x="4" y="144"/>
                    </a:lnTo>
                    <a:lnTo>
                      <a:pt x="0" y="132"/>
                    </a:lnTo>
                    <a:lnTo>
                      <a:pt x="0" y="120"/>
                    </a:lnTo>
                    <a:lnTo>
                      <a:pt x="24" y="12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598880" y="453240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171" h="121">
                    <a:moveTo>
                      <a:pt x="1" y="121"/>
                    </a:moveTo>
                    <a:lnTo>
                      <a:pt x="0" y="111"/>
                    </a:lnTo>
                    <a:lnTo>
                      <a:pt x="1" y="106"/>
                    </a:lnTo>
                    <a:lnTo>
                      <a:pt x="3" y="100"/>
                    </a:lnTo>
                    <a:lnTo>
                      <a:pt x="6" y="94"/>
                    </a:lnTo>
                    <a:lnTo>
                      <a:pt x="10" y="88"/>
                    </a:lnTo>
                    <a:lnTo>
                      <a:pt x="14" y="81"/>
                    </a:lnTo>
                    <a:lnTo>
                      <a:pt x="21" y="75"/>
                    </a:lnTo>
                    <a:lnTo>
                      <a:pt x="28" y="68"/>
                    </a:lnTo>
                    <a:lnTo>
                      <a:pt x="35" y="61"/>
                    </a:lnTo>
                    <a:lnTo>
                      <a:pt x="36" y="60"/>
                    </a:lnTo>
                    <a:lnTo>
                      <a:pt x="37" y="58"/>
                    </a:lnTo>
                    <a:lnTo>
                      <a:pt x="38" y="57"/>
                    </a:lnTo>
                    <a:lnTo>
                      <a:pt x="39" y="56"/>
                    </a:lnTo>
                    <a:lnTo>
                      <a:pt x="104" y="0"/>
                    </a:lnTo>
                    <a:lnTo>
                      <a:pt x="135" y="3"/>
                    </a:lnTo>
                    <a:lnTo>
                      <a:pt x="70" y="62"/>
                    </a:lnTo>
                    <a:lnTo>
                      <a:pt x="74" y="61"/>
                    </a:lnTo>
                    <a:lnTo>
                      <a:pt x="77" y="61"/>
                    </a:lnTo>
                    <a:lnTo>
                      <a:pt x="81" y="61"/>
                    </a:lnTo>
                    <a:lnTo>
                      <a:pt x="84" y="62"/>
                    </a:lnTo>
                    <a:lnTo>
                      <a:pt x="88" y="62"/>
                    </a:lnTo>
                    <a:lnTo>
                      <a:pt x="91" y="62"/>
                    </a:lnTo>
                    <a:lnTo>
                      <a:pt x="94" y="62"/>
                    </a:lnTo>
                    <a:lnTo>
                      <a:pt x="98" y="62"/>
                    </a:lnTo>
                    <a:lnTo>
                      <a:pt x="106" y="63"/>
                    </a:lnTo>
                    <a:lnTo>
                      <a:pt x="114" y="65"/>
                    </a:lnTo>
                    <a:lnTo>
                      <a:pt x="122" y="67"/>
                    </a:lnTo>
                    <a:lnTo>
                      <a:pt x="129" y="70"/>
                    </a:lnTo>
                    <a:lnTo>
                      <a:pt x="135" y="73"/>
                    </a:lnTo>
                    <a:lnTo>
                      <a:pt x="141" y="77"/>
                    </a:lnTo>
                    <a:lnTo>
                      <a:pt x="148" y="81"/>
                    </a:lnTo>
                    <a:lnTo>
                      <a:pt x="153" y="86"/>
                    </a:lnTo>
                    <a:lnTo>
                      <a:pt x="162" y="96"/>
                    </a:lnTo>
                    <a:lnTo>
                      <a:pt x="168" y="107"/>
                    </a:lnTo>
                    <a:lnTo>
                      <a:pt x="171" y="119"/>
                    </a:lnTo>
                    <a:lnTo>
                      <a:pt x="171" y="121"/>
                    </a:lnTo>
                    <a:lnTo>
                      <a:pt x="148" y="121"/>
                    </a:lnTo>
                    <a:lnTo>
                      <a:pt x="148" y="120"/>
                    </a:lnTo>
                    <a:lnTo>
                      <a:pt x="144" y="111"/>
                    </a:lnTo>
                    <a:lnTo>
                      <a:pt x="140" y="103"/>
                    </a:lnTo>
                    <a:lnTo>
                      <a:pt x="133" y="96"/>
                    </a:lnTo>
                    <a:lnTo>
                      <a:pt x="129" y="93"/>
                    </a:lnTo>
                    <a:lnTo>
                      <a:pt x="124" y="90"/>
                    </a:lnTo>
                    <a:lnTo>
                      <a:pt x="119" y="87"/>
                    </a:lnTo>
                    <a:lnTo>
                      <a:pt x="114" y="85"/>
                    </a:lnTo>
                    <a:lnTo>
                      <a:pt x="109" y="83"/>
                    </a:lnTo>
                    <a:lnTo>
                      <a:pt x="103" y="82"/>
                    </a:lnTo>
                    <a:lnTo>
                      <a:pt x="97" y="81"/>
                    </a:lnTo>
                    <a:lnTo>
                      <a:pt x="90" y="80"/>
                    </a:lnTo>
                    <a:lnTo>
                      <a:pt x="90" y="80"/>
                    </a:lnTo>
                    <a:lnTo>
                      <a:pt x="84" y="79"/>
                    </a:lnTo>
                    <a:lnTo>
                      <a:pt x="78" y="79"/>
                    </a:lnTo>
                    <a:lnTo>
                      <a:pt x="72" y="79"/>
                    </a:lnTo>
                    <a:lnTo>
                      <a:pt x="66" y="79"/>
                    </a:lnTo>
                    <a:lnTo>
                      <a:pt x="60" y="80"/>
                    </a:lnTo>
                    <a:lnTo>
                      <a:pt x="55" y="81"/>
                    </a:lnTo>
                    <a:lnTo>
                      <a:pt x="50" y="83"/>
                    </a:lnTo>
                    <a:lnTo>
                      <a:pt x="45" y="85"/>
                    </a:lnTo>
                    <a:lnTo>
                      <a:pt x="36" y="91"/>
                    </a:lnTo>
                    <a:lnTo>
                      <a:pt x="30" y="97"/>
                    </a:lnTo>
                    <a:lnTo>
                      <a:pt x="27" y="105"/>
                    </a:lnTo>
                    <a:lnTo>
                      <a:pt x="25" y="114"/>
                    </a:lnTo>
                    <a:lnTo>
                      <a:pt x="25" y="121"/>
                    </a:lnTo>
                    <a:lnTo>
                      <a:pt x="1" y="12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598880" y="4539240"/>
                <a:ext cx="12600" cy="3600"/>
              </a:xfrm>
              <a:custGeom>
                <a:avLst/>
                <a:gdLst/>
                <a:ahLst/>
                <a:rect l="l" t="t" r="r" b="b"/>
                <a:pathLst>
                  <a:path w="172" h="61">
                    <a:moveTo>
                      <a:pt x="0" y="0"/>
                    </a:moveTo>
                    <a:lnTo>
                      <a:pt x="0" y="3"/>
                    </a:lnTo>
                    <a:lnTo>
                      <a:pt x="3" y="14"/>
                    </a:lnTo>
                    <a:lnTo>
                      <a:pt x="10" y="25"/>
                    </a:lnTo>
                    <a:lnTo>
                      <a:pt x="21" y="35"/>
                    </a:lnTo>
                    <a:lnTo>
                      <a:pt x="26" y="40"/>
                    </a:lnTo>
                    <a:lnTo>
                      <a:pt x="32" y="44"/>
                    </a:lnTo>
                    <a:lnTo>
                      <a:pt x="39" y="48"/>
                    </a:lnTo>
                    <a:lnTo>
                      <a:pt x="47" y="51"/>
                    </a:lnTo>
                    <a:lnTo>
                      <a:pt x="54" y="55"/>
                    </a:lnTo>
                    <a:lnTo>
                      <a:pt x="62" y="57"/>
                    </a:lnTo>
                    <a:lnTo>
                      <a:pt x="71" y="59"/>
                    </a:lnTo>
                    <a:lnTo>
                      <a:pt x="80" y="60"/>
                    </a:lnTo>
                    <a:lnTo>
                      <a:pt x="89" y="61"/>
                    </a:lnTo>
                    <a:lnTo>
                      <a:pt x="98" y="61"/>
                    </a:lnTo>
                    <a:lnTo>
                      <a:pt x="106" y="61"/>
                    </a:lnTo>
                    <a:lnTo>
                      <a:pt x="114" y="60"/>
                    </a:lnTo>
                    <a:lnTo>
                      <a:pt x="123" y="59"/>
                    </a:lnTo>
                    <a:lnTo>
                      <a:pt x="130" y="57"/>
                    </a:lnTo>
                    <a:lnTo>
                      <a:pt x="137" y="54"/>
                    </a:lnTo>
                    <a:lnTo>
                      <a:pt x="143" y="50"/>
                    </a:lnTo>
                    <a:lnTo>
                      <a:pt x="155" y="42"/>
                    </a:lnTo>
                    <a:lnTo>
                      <a:pt x="163" y="33"/>
                    </a:lnTo>
                    <a:lnTo>
                      <a:pt x="168" y="23"/>
                    </a:lnTo>
                    <a:lnTo>
                      <a:pt x="172" y="10"/>
                    </a:lnTo>
                    <a:lnTo>
                      <a:pt x="170" y="0"/>
                    </a:lnTo>
                    <a:lnTo>
                      <a:pt x="147" y="0"/>
                    </a:lnTo>
                    <a:lnTo>
                      <a:pt x="147" y="8"/>
                    </a:lnTo>
                    <a:lnTo>
                      <a:pt x="144" y="16"/>
                    </a:lnTo>
                    <a:lnTo>
                      <a:pt x="141" y="24"/>
                    </a:lnTo>
                    <a:lnTo>
                      <a:pt x="135" y="30"/>
                    </a:lnTo>
                    <a:lnTo>
                      <a:pt x="127" y="36"/>
                    </a:lnTo>
                    <a:lnTo>
                      <a:pt x="122" y="38"/>
                    </a:lnTo>
                    <a:lnTo>
                      <a:pt x="117" y="40"/>
                    </a:lnTo>
                    <a:lnTo>
                      <a:pt x="112" y="41"/>
                    </a:lnTo>
                    <a:lnTo>
                      <a:pt x="107" y="42"/>
                    </a:lnTo>
                    <a:lnTo>
                      <a:pt x="101" y="42"/>
                    </a:lnTo>
                    <a:lnTo>
                      <a:pt x="96" y="42"/>
                    </a:lnTo>
                    <a:lnTo>
                      <a:pt x="90" y="42"/>
                    </a:lnTo>
                    <a:lnTo>
                      <a:pt x="84" y="42"/>
                    </a:lnTo>
                    <a:lnTo>
                      <a:pt x="78" y="41"/>
                    </a:lnTo>
                    <a:lnTo>
                      <a:pt x="72" y="39"/>
                    </a:lnTo>
                    <a:lnTo>
                      <a:pt x="65" y="37"/>
                    </a:lnTo>
                    <a:lnTo>
                      <a:pt x="59" y="35"/>
                    </a:lnTo>
                    <a:lnTo>
                      <a:pt x="54" y="33"/>
                    </a:lnTo>
                    <a:lnTo>
                      <a:pt x="49" y="30"/>
                    </a:lnTo>
                    <a:lnTo>
                      <a:pt x="45" y="27"/>
                    </a:lnTo>
                    <a:lnTo>
                      <a:pt x="40" y="24"/>
                    </a:lnTo>
                    <a:lnTo>
                      <a:pt x="32" y="17"/>
                    </a:lnTo>
                    <a:lnTo>
                      <a:pt x="27" y="9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597440" y="4556160"/>
                <a:ext cx="11880" cy="3960"/>
              </a:xfrm>
              <a:custGeom>
                <a:avLst/>
                <a:gdLst/>
                <a:ahLst/>
                <a:rect l="l" t="t" r="r" b="b"/>
                <a:pathLst>
                  <a:path w="171" h="59">
                    <a:moveTo>
                      <a:pt x="0" y="59"/>
                    </a:moveTo>
                    <a:lnTo>
                      <a:pt x="0" y="49"/>
                    </a:lnTo>
                    <a:lnTo>
                      <a:pt x="2" y="37"/>
                    </a:lnTo>
                    <a:lnTo>
                      <a:pt x="7" y="26"/>
                    </a:lnTo>
                    <a:lnTo>
                      <a:pt x="15" y="17"/>
                    </a:lnTo>
                    <a:lnTo>
                      <a:pt x="28" y="9"/>
                    </a:lnTo>
                    <a:lnTo>
                      <a:pt x="34" y="6"/>
                    </a:lnTo>
                    <a:lnTo>
                      <a:pt x="41" y="4"/>
                    </a:lnTo>
                    <a:lnTo>
                      <a:pt x="49" y="2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82" y="0"/>
                    </a:lnTo>
                    <a:lnTo>
                      <a:pt x="91" y="1"/>
                    </a:lnTo>
                    <a:lnTo>
                      <a:pt x="100" y="2"/>
                    </a:lnTo>
                    <a:lnTo>
                      <a:pt x="109" y="4"/>
                    </a:lnTo>
                    <a:lnTo>
                      <a:pt x="116" y="6"/>
                    </a:lnTo>
                    <a:lnTo>
                      <a:pt x="125" y="9"/>
                    </a:lnTo>
                    <a:lnTo>
                      <a:pt x="131" y="12"/>
                    </a:lnTo>
                    <a:lnTo>
                      <a:pt x="138" y="15"/>
                    </a:lnTo>
                    <a:lnTo>
                      <a:pt x="144" y="19"/>
                    </a:lnTo>
                    <a:lnTo>
                      <a:pt x="151" y="24"/>
                    </a:lnTo>
                    <a:lnTo>
                      <a:pt x="161" y="34"/>
                    </a:lnTo>
                    <a:lnTo>
                      <a:pt x="167" y="45"/>
                    </a:lnTo>
                    <a:lnTo>
                      <a:pt x="171" y="57"/>
                    </a:lnTo>
                    <a:lnTo>
                      <a:pt x="171" y="59"/>
                    </a:lnTo>
                    <a:lnTo>
                      <a:pt x="146" y="59"/>
                    </a:lnTo>
                    <a:lnTo>
                      <a:pt x="146" y="59"/>
                    </a:lnTo>
                    <a:lnTo>
                      <a:pt x="143" y="50"/>
                    </a:lnTo>
                    <a:lnTo>
                      <a:pt x="139" y="42"/>
                    </a:lnTo>
                    <a:lnTo>
                      <a:pt x="131" y="35"/>
                    </a:lnTo>
                    <a:lnTo>
                      <a:pt x="127" y="31"/>
                    </a:lnTo>
                    <a:lnTo>
                      <a:pt x="121" y="28"/>
                    </a:lnTo>
                    <a:lnTo>
                      <a:pt x="116" y="25"/>
                    </a:lnTo>
                    <a:lnTo>
                      <a:pt x="111" y="23"/>
                    </a:lnTo>
                    <a:lnTo>
                      <a:pt x="105" y="21"/>
                    </a:lnTo>
                    <a:lnTo>
                      <a:pt x="100" y="19"/>
                    </a:lnTo>
                    <a:lnTo>
                      <a:pt x="93" y="18"/>
                    </a:lnTo>
                    <a:lnTo>
                      <a:pt x="87" y="17"/>
                    </a:lnTo>
                    <a:lnTo>
                      <a:pt x="81" y="16"/>
                    </a:lnTo>
                    <a:lnTo>
                      <a:pt x="75" y="16"/>
                    </a:lnTo>
                    <a:lnTo>
                      <a:pt x="69" y="17"/>
                    </a:lnTo>
                    <a:lnTo>
                      <a:pt x="64" y="17"/>
                    </a:lnTo>
                    <a:lnTo>
                      <a:pt x="58" y="19"/>
                    </a:lnTo>
                    <a:lnTo>
                      <a:pt x="53" y="20"/>
                    </a:lnTo>
                    <a:lnTo>
                      <a:pt x="49" y="22"/>
                    </a:lnTo>
                    <a:lnTo>
                      <a:pt x="43" y="24"/>
                    </a:lnTo>
                    <a:lnTo>
                      <a:pt x="36" y="29"/>
                    </a:lnTo>
                    <a:lnTo>
                      <a:pt x="30" y="35"/>
                    </a:lnTo>
                    <a:lnTo>
                      <a:pt x="26" y="43"/>
                    </a:lnTo>
                    <a:lnTo>
                      <a:pt x="24" y="52"/>
                    </a:lnTo>
                    <a:lnTo>
                      <a:pt x="24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597440" y="4560480"/>
                <a:ext cx="11880" cy="6480"/>
              </a:xfrm>
              <a:custGeom>
                <a:avLst/>
                <a:gdLst/>
                <a:ahLst/>
                <a:rect l="l" t="t" r="r" b="b"/>
                <a:pathLst>
                  <a:path w="171" h="122">
                    <a:moveTo>
                      <a:pt x="0" y="0"/>
                    </a:moveTo>
                    <a:lnTo>
                      <a:pt x="0" y="3"/>
                    </a:lnTo>
                    <a:lnTo>
                      <a:pt x="3" y="15"/>
                    </a:lnTo>
                    <a:lnTo>
                      <a:pt x="9" y="26"/>
                    </a:lnTo>
                    <a:lnTo>
                      <a:pt x="17" y="36"/>
                    </a:lnTo>
                    <a:lnTo>
                      <a:pt x="23" y="40"/>
                    </a:lnTo>
                    <a:lnTo>
                      <a:pt x="29" y="44"/>
                    </a:lnTo>
                    <a:lnTo>
                      <a:pt x="35" y="48"/>
                    </a:lnTo>
                    <a:lnTo>
                      <a:pt x="42" y="51"/>
                    </a:lnTo>
                    <a:lnTo>
                      <a:pt x="50" y="54"/>
                    </a:lnTo>
                    <a:lnTo>
                      <a:pt x="57" y="57"/>
                    </a:lnTo>
                    <a:lnTo>
                      <a:pt x="65" y="59"/>
                    </a:lnTo>
                    <a:lnTo>
                      <a:pt x="74" y="60"/>
                    </a:lnTo>
                    <a:lnTo>
                      <a:pt x="78" y="60"/>
                    </a:lnTo>
                    <a:lnTo>
                      <a:pt x="81" y="60"/>
                    </a:lnTo>
                    <a:lnTo>
                      <a:pt x="84" y="61"/>
                    </a:lnTo>
                    <a:lnTo>
                      <a:pt x="87" y="61"/>
                    </a:lnTo>
                    <a:lnTo>
                      <a:pt x="90" y="61"/>
                    </a:lnTo>
                    <a:lnTo>
                      <a:pt x="93" y="60"/>
                    </a:lnTo>
                    <a:lnTo>
                      <a:pt x="97" y="60"/>
                    </a:lnTo>
                    <a:lnTo>
                      <a:pt x="102" y="60"/>
                    </a:lnTo>
                    <a:lnTo>
                      <a:pt x="35" y="117"/>
                    </a:lnTo>
                    <a:lnTo>
                      <a:pt x="67" y="122"/>
                    </a:lnTo>
                    <a:lnTo>
                      <a:pt x="132" y="66"/>
                    </a:lnTo>
                    <a:lnTo>
                      <a:pt x="133" y="65"/>
                    </a:lnTo>
                    <a:lnTo>
                      <a:pt x="135" y="64"/>
                    </a:lnTo>
                    <a:lnTo>
                      <a:pt x="136" y="62"/>
                    </a:lnTo>
                    <a:lnTo>
                      <a:pt x="137" y="61"/>
                    </a:lnTo>
                    <a:lnTo>
                      <a:pt x="144" y="53"/>
                    </a:lnTo>
                    <a:lnTo>
                      <a:pt x="152" y="46"/>
                    </a:lnTo>
                    <a:lnTo>
                      <a:pt x="157" y="40"/>
                    </a:lnTo>
                    <a:lnTo>
                      <a:pt x="162" y="33"/>
                    </a:lnTo>
                    <a:lnTo>
                      <a:pt x="166" y="27"/>
                    </a:lnTo>
                    <a:lnTo>
                      <a:pt x="168" y="21"/>
                    </a:lnTo>
                    <a:lnTo>
                      <a:pt x="170" y="15"/>
                    </a:lnTo>
                    <a:lnTo>
                      <a:pt x="171" y="10"/>
                    </a:lnTo>
                    <a:lnTo>
                      <a:pt x="171" y="0"/>
                    </a:lnTo>
                    <a:lnTo>
                      <a:pt x="146" y="0"/>
                    </a:lnTo>
                    <a:lnTo>
                      <a:pt x="146" y="9"/>
                    </a:lnTo>
                    <a:lnTo>
                      <a:pt x="144" y="17"/>
                    </a:lnTo>
                    <a:lnTo>
                      <a:pt x="141" y="24"/>
                    </a:lnTo>
                    <a:lnTo>
                      <a:pt x="134" y="30"/>
                    </a:lnTo>
                    <a:lnTo>
                      <a:pt x="126" y="36"/>
                    </a:lnTo>
                    <a:lnTo>
                      <a:pt x="120" y="38"/>
                    </a:lnTo>
                    <a:lnTo>
                      <a:pt x="116" y="40"/>
                    </a:lnTo>
                    <a:lnTo>
                      <a:pt x="111" y="41"/>
                    </a:lnTo>
                    <a:lnTo>
                      <a:pt x="105" y="42"/>
                    </a:lnTo>
                    <a:lnTo>
                      <a:pt x="100" y="43"/>
                    </a:lnTo>
                    <a:lnTo>
                      <a:pt x="93" y="43"/>
                    </a:lnTo>
                    <a:lnTo>
                      <a:pt x="87" y="43"/>
                    </a:lnTo>
                    <a:lnTo>
                      <a:pt x="81" y="42"/>
                    </a:lnTo>
                    <a:lnTo>
                      <a:pt x="74" y="41"/>
                    </a:lnTo>
                    <a:lnTo>
                      <a:pt x="67" y="40"/>
                    </a:lnTo>
                    <a:lnTo>
                      <a:pt x="62" y="38"/>
                    </a:lnTo>
                    <a:lnTo>
                      <a:pt x="57" y="36"/>
                    </a:lnTo>
                    <a:lnTo>
                      <a:pt x="52" y="34"/>
                    </a:lnTo>
                    <a:lnTo>
                      <a:pt x="48" y="31"/>
                    </a:lnTo>
                    <a:lnTo>
                      <a:pt x="43" y="28"/>
                    </a:lnTo>
                    <a:lnTo>
                      <a:pt x="39" y="25"/>
                    </a:lnTo>
                    <a:lnTo>
                      <a:pt x="32" y="18"/>
                    </a:lnTo>
                    <a:lnTo>
                      <a:pt x="27" y="11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514280" y="4577760"/>
                <a:ext cx="15840" cy="2520"/>
              </a:xfrm>
              <a:custGeom>
                <a:avLst/>
                <a:gdLst/>
                <a:ahLst/>
                <a:rect l="l" t="t" r="r" b="b"/>
                <a:pathLst>
                  <a:path w="230" h="61">
                    <a:moveTo>
                      <a:pt x="226" y="61"/>
                    </a:moveTo>
                    <a:lnTo>
                      <a:pt x="0" y="34"/>
                    </a:lnTo>
                    <a:lnTo>
                      <a:pt x="3" y="0"/>
                    </a:lnTo>
                    <a:lnTo>
                      <a:pt x="230" y="28"/>
                    </a:lnTo>
                    <a:lnTo>
                      <a:pt x="226" y="6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515720" y="4573800"/>
                <a:ext cx="11880" cy="10440"/>
              </a:xfrm>
              <a:custGeom>
                <a:avLst/>
                <a:gdLst/>
                <a:ahLst/>
                <a:rect l="l" t="t" r="r" b="b"/>
                <a:pathLst>
                  <a:path w="172" h="186">
                    <a:moveTo>
                      <a:pt x="26" y="186"/>
                    </a:moveTo>
                    <a:lnTo>
                      <a:pt x="172" y="23"/>
                    </a:lnTo>
                    <a:lnTo>
                      <a:pt x="146" y="0"/>
                    </a:lnTo>
                    <a:lnTo>
                      <a:pt x="0" y="164"/>
                    </a:lnTo>
                    <a:lnTo>
                      <a:pt x="26" y="186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517520" y="45723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147" h="213">
                    <a:moveTo>
                      <a:pt x="117" y="213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147" y="196"/>
                    </a:lnTo>
                    <a:lnTo>
                      <a:pt x="117" y="21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482240" y="4728600"/>
                <a:ext cx="7200" cy="23400"/>
              </a:xfrm>
              <a:custGeom>
                <a:avLst/>
                <a:gdLst/>
                <a:ahLst/>
                <a:rect l="l" t="t" r="r" b="b"/>
                <a:pathLst>
                  <a:path w="111" h="412">
                    <a:moveTo>
                      <a:pt x="111" y="412"/>
                    </a:moveTo>
                    <a:lnTo>
                      <a:pt x="98" y="410"/>
                    </a:lnTo>
                    <a:lnTo>
                      <a:pt x="84" y="399"/>
                    </a:lnTo>
                    <a:lnTo>
                      <a:pt x="69" y="382"/>
                    </a:lnTo>
                    <a:lnTo>
                      <a:pt x="54" y="358"/>
                    </a:lnTo>
                    <a:lnTo>
                      <a:pt x="41" y="329"/>
                    </a:lnTo>
                    <a:lnTo>
                      <a:pt x="28" y="295"/>
                    </a:lnTo>
                    <a:lnTo>
                      <a:pt x="17" y="257"/>
                    </a:lnTo>
                    <a:lnTo>
                      <a:pt x="8" y="215"/>
                    </a:lnTo>
                    <a:lnTo>
                      <a:pt x="3" y="174"/>
                    </a:lnTo>
                    <a:lnTo>
                      <a:pt x="0" y="134"/>
                    </a:lnTo>
                    <a:lnTo>
                      <a:pt x="0" y="99"/>
                    </a:lnTo>
                    <a:lnTo>
                      <a:pt x="3" y="67"/>
                    </a:lnTo>
                    <a:lnTo>
                      <a:pt x="7" y="41"/>
                    </a:lnTo>
                    <a:lnTo>
                      <a:pt x="15" y="19"/>
                    </a:lnTo>
                    <a:lnTo>
                      <a:pt x="24" y="6"/>
                    </a:lnTo>
                    <a:lnTo>
                      <a:pt x="35" y="0"/>
                    </a:lnTo>
                    <a:lnTo>
                      <a:pt x="111" y="412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482240" y="4726080"/>
                <a:ext cx="7200" cy="23400"/>
              </a:xfrm>
              <a:custGeom>
                <a:avLst/>
                <a:gdLst/>
                <a:ahLst/>
                <a:rect l="l" t="t" r="r" b="b"/>
                <a:pathLst>
                  <a:path w="111" h="412">
                    <a:moveTo>
                      <a:pt x="111" y="412"/>
                    </a:moveTo>
                    <a:lnTo>
                      <a:pt x="98" y="410"/>
                    </a:lnTo>
                    <a:lnTo>
                      <a:pt x="84" y="400"/>
                    </a:lnTo>
                    <a:lnTo>
                      <a:pt x="69" y="382"/>
                    </a:lnTo>
                    <a:lnTo>
                      <a:pt x="54" y="358"/>
                    </a:lnTo>
                    <a:lnTo>
                      <a:pt x="41" y="330"/>
                    </a:lnTo>
                    <a:lnTo>
                      <a:pt x="28" y="295"/>
                    </a:lnTo>
                    <a:lnTo>
                      <a:pt x="17" y="257"/>
                    </a:lnTo>
                    <a:lnTo>
                      <a:pt x="8" y="216"/>
                    </a:lnTo>
                    <a:lnTo>
                      <a:pt x="3" y="174"/>
                    </a:lnTo>
                    <a:lnTo>
                      <a:pt x="0" y="134"/>
                    </a:lnTo>
                    <a:lnTo>
                      <a:pt x="0" y="99"/>
                    </a:lnTo>
                    <a:lnTo>
                      <a:pt x="3" y="67"/>
                    </a:lnTo>
                    <a:lnTo>
                      <a:pt x="7" y="41"/>
                    </a:lnTo>
                    <a:lnTo>
                      <a:pt x="15" y="20"/>
                    </a:lnTo>
                    <a:lnTo>
                      <a:pt x="24" y="6"/>
                    </a:lnTo>
                    <a:lnTo>
                      <a:pt x="35" y="0"/>
                    </a:lnTo>
                    <a:lnTo>
                      <a:pt x="111" y="412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525800" y="4328640"/>
                <a:ext cx="21600" cy="5400"/>
              </a:xfrm>
              <a:custGeom>
                <a:avLst/>
                <a:gdLst/>
                <a:ahLst/>
                <a:rect l="l" t="t" r="r" b="b"/>
                <a:pathLst>
                  <a:path w="312" h="92">
                    <a:moveTo>
                      <a:pt x="32" y="0"/>
                    </a:moveTo>
                    <a:lnTo>
                      <a:pt x="290" y="37"/>
                    </a:lnTo>
                    <a:lnTo>
                      <a:pt x="300" y="41"/>
                    </a:lnTo>
                    <a:lnTo>
                      <a:pt x="308" y="48"/>
                    </a:lnTo>
                    <a:lnTo>
                      <a:pt x="312" y="57"/>
                    </a:lnTo>
                    <a:lnTo>
                      <a:pt x="312" y="68"/>
                    </a:lnTo>
                    <a:lnTo>
                      <a:pt x="312" y="68"/>
                    </a:lnTo>
                    <a:lnTo>
                      <a:pt x="310" y="73"/>
                    </a:lnTo>
                    <a:lnTo>
                      <a:pt x="308" y="78"/>
                    </a:lnTo>
                    <a:lnTo>
                      <a:pt x="305" y="83"/>
                    </a:lnTo>
                    <a:lnTo>
                      <a:pt x="300" y="87"/>
                    </a:lnTo>
                    <a:lnTo>
                      <a:pt x="295" y="90"/>
                    </a:lnTo>
                    <a:lnTo>
                      <a:pt x="290" y="91"/>
                    </a:lnTo>
                    <a:lnTo>
                      <a:pt x="285" y="92"/>
                    </a:lnTo>
                    <a:lnTo>
                      <a:pt x="280" y="92"/>
                    </a:lnTo>
                    <a:lnTo>
                      <a:pt x="22" y="54"/>
                    </a:lnTo>
                    <a:lnTo>
                      <a:pt x="11" y="51"/>
                    </a:lnTo>
                    <a:lnTo>
                      <a:pt x="4" y="44"/>
                    </a:lnTo>
                    <a:lnTo>
                      <a:pt x="0" y="3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4" y="13"/>
                    </a:lnTo>
                    <a:lnTo>
                      <a:pt x="7" y="9"/>
                    </a:lnTo>
                    <a:lnTo>
                      <a:pt x="11" y="5"/>
                    </a:lnTo>
                    <a:lnTo>
                      <a:pt x="16" y="2"/>
                    </a:lnTo>
                    <a:lnTo>
                      <a:pt x="22" y="1"/>
                    </a:lnTo>
                    <a:lnTo>
                      <a:pt x="27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475040" y="4345560"/>
                <a:ext cx="17280" cy="140400"/>
              </a:xfrm>
              <a:custGeom>
                <a:avLst/>
                <a:gdLst/>
                <a:ahLst/>
                <a:rect l="l" t="t" r="r" b="b"/>
                <a:pathLst>
                  <a:path w="264" h="2453">
                    <a:moveTo>
                      <a:pt x="221" y="1"/>
                    </a:moveTo>
                    <a:lnTo>
                      <a:pt x="221" y="1"/>
                    </a:lnTo>
                    <a:lnTo>
                      <a:pt x="233" y="19"/>
                    </a:lnTo>
                    <a:lnTo>
                      <a:pt x="242" y="53"/>
                    </a:lnTo>
                    <a:lnTo>
                      <a:pt x="250" y="97"/>
                    </a:lnTo>
                    <a:lnTo>
                      <a:pt x="257" y="145"/>
                    </a:lnTo>
                    <a:lnTo>
                      <a:pt x="261" y="196"/>
                    </a:lnTo>
                    <a:lnTo>
                      <a:pt x="263" y="244"/>
                    </a:lnTo>
                    <a:lnTo>
                      <a:pt x="264" y="284"/>
                    </a:lnTo>
                    <a:lnTo>
                      <a:pt x="263" y="311"/>
                    </a:lnTo>
                    <a:lnTo>
                      <a:pt x="122" y="2228"/>
                    </a:lnTo>
                    <a:lnTo>
                      <a:pt x="119" y="2255"/>
                    </a:lnTo>
                    <a:lnTo>
                      <a:pt x="113" y="2290"/>
                    </a:lnTo>
                    <a:lnTo>
                      <a:pt x="104" y="2330"/>
                    </a:lnTo>
                    <a:lnTo>
                      <a:pt x="93" y="2370"/>
                    </a:lnTo>
                    <a:lnTo>
                      <a:pt x="81" y="2407"/>
                    </a:lnTo>
                    <a:lnTo>
                      <a:pt x="67" y="2437"/>
                    </a:lnTo>
                    <a:lnTo>
                      <a:pt x="54" y="2453"/>
                    </a:lnTo>
                    <a:lnTo>
                      <a:pt x="41" y="2453"/>
                    </a:lnTo>
                    <a:lnTo>
                      <a:pt x="41" y="2453"/>
                    </a:lnTo>
                    <a:lnTo>
                      <a:pt x="30" y="2433"/>
                    </a:lnTo>
                    <a:lnTo>
                      <a:pt x="19" y="2399"/>
                    </a:lnTo>
                    <a:lnTo>
                      <a:pt x="12" y="2353"/>
                    </a:lnTo>
                    <a:lnTo>
                      <a:pt x="7" y="2302"/>
                    </a:lnTo>
                    <a:lnTo>
                      <a:pt x="3" y="2251"/>
                    </a:lnTo>
                    <a:lnTo>
                      <a:pt x="1" y="2202"/>
                    </a:lnTo>
                    <a:lnTo>
                      <a:pt x="0" y="2161"/>
                    </a:lnTo>
                    <a:lnTo>
                      <a:pt x="1" y="2133"/>
                    </a:lnTo>
                    <a:lnTo>
                      <a:pt x="141" y="214"/>
                    </a:lnTo>
                    <a:lnTo>
                      <a:pt x="144" y="189"/>
                    </a:lnTo>
                    <a:lnTo>
                      <a:pt x="150" y="155"/>
                    </a:lnTo>
                    <a:lnTo>
                      <a:pt x="160" y="116"/>
                    </a:lnTo>
                    <a:lnTo>
                      <a:pt x="170" y="77"/>
                    </a:lnTo>
                    <a:lnTo>
                      <a:pt x="183" y="43"/>
                    </a:lnTo>
                    <a:lnTo>
                      <a:pt x="195" y="15"/>
                    </a:lnTo>
                    <a:lnTo>
                      <a:pt x="209" y="0"/>
                    </a:lnTo>
                    <a:lnTo>
                      <a:pt x="221" y="1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472160" y="4345560"/>
                <a:ext cx="18720" cy="141840"/>
              </a:xfrm>
              <a:custGeom>
                <a:avLst/>
                <a:gdLst/>
                <a:ahLst/>
                <a:rect l="l" t="t" r="r" b="b"/>
                <a:pathLst>
                  <a:path w="265" h="2453">
                    <a:moveTo>
                      <a:pt x="222" y="1"/>
                    </a:moveTo>
                    <a:lnTo>
                      <a:pt x="222" y="1"/>
                    </a:lnTo>
                    <a:lnTo>
                      <a:pt x="234" y="19"/>
                    </a:lnTo>
                    <a:lnTo>
                      <a:pt x="243" y="53"/>
                    </a:lnTo>
                    <a:lnTo>
                      <a:pt x="251" y="97"/>
                    </a:lnTo>
                    <a:lnTo>
                      <a:pt x="257" y="146"/>
                    </a:lnTo>
                    <a:lnTo>
                      <a:pt x="262" y="196"/>
                    </a:lnTo>
                    <a:lnTo>
                      <a:pt x="264" y="244"/>
                    </a:lnTo>
                    <a:lnTo>
                      <a:pt x="265" y="284"/>
                    </a:lnTo>
                    <a:lnTo>
                      <a:pt x="264" y="311"/>
                    </a:lnTo>
                    <a:lnTo>
                      <a:pt x="123" y="2229"/>
                    </a:lnTo>
                    <a:lnTo>
                      <a:pt x="120" y="2256"/>
                    </a:lnTo>
                    <a:lnTo>
                      <a:pt x="114" y="2290"/>
                    </a:lnTo>
                    <a:lnTo>
                      <a:pt x="105" y="2331"/>
                    </a:lnTo>
                    <a:lnTo>
                      <a:pt x="94" y="2372"/>
                    </a:lnTo>
                    <a:lnTo>
                      <a:pt x="82" y="2408"/>
                    </a:lnTo>
                    <a:lnTo>
                      <a:pt x="69" y="2437"/>
                    </a:lnTo>
                    <a:lnTo>
                      <a:pt x="56" y="2453"/>
                    </a:lnTo>
                    <a:lnTo>
                      <a:pt x="43" y="2453"/>
                    </a:lnTo>
                    <a:lnTo>
                      <a:pt x="43" y="2453"/>
                    </a:lnTo>
                    <a:lnTo>
                      <a:pt x="32" y="2434"/>
                    </a:lnTo>
                    <a:lnTo>
                      <a:pt x="21" y="2399"/>
                    </a:lnTo>
                    <a:lnTo>
                      <a:pt x="14" y="2354"/>
                    </a:lnTo>
                    <a:lnTo>
                      <a:pt x="8" y="2304"/>
                    </a:lnTo>
                    <a:lnTo>
                      <a:pt x="4" y="2251"/>
                    </a:lnTo>
                    <a:lnTo>
                      <a:pt x="1" y="2202"/>
                    </a:lnTo>
                    <a:lnTo>
                      <a:pt x="0" y="2161"/>
                    </a:lnTo>
                    <a:lnTo>
                      <a:pt x="1" y="2133"/>
                    </a:lnTo>
                    <a:lnTo>
                      <a:pt x="143" y="216"/>
                    </a:lnTo>
                    <a:lnTo>
                      <a:pt x="146" y="190"/>
                    </a:lnTo>
                    <a:lnTo>
                      <a:pt x="152" y="156"/>
                    </a:lnTo>
                    <a:lnTo>
                      <a:pt x="161" y="117"/>
                    </a:lnTo>
                    <a:lnTo>
                      <a:pt x="171" y="78"/>
                    </a:lnTo>
                    <a:lnTo>
                      <a:pt x="184" y="43"/>
                    </a:lnTo>
                    <a:lnTo>
                      <a:pt x="196" y="16"/>
                    </a:lnTo>
                    <a:lnTo>
                      <a:pt x="210" y="0"/>
                    </a:lnTo>
                    <a:lnTo>
                      <a:pt x="222" y="1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482240" y="4372200"/>
                <a:ext cx="7200" cy="42480"/>
              </a:xfrm>
              <a:custGeom>
                <a:avLst/>
                <a:gdLst/>
                <a:ahLst/>
                <a:rect l="l" t="t" r="r" b="b"/>
                <a:pathLst>
                  <a:path w="114" h="755">
                    <a:moveTo>
                      <a:pt x="114" y="0"/>
                    </a:moveTo>
                    <a:lnTo>
                      <a:pt x="13" y="356"/>
                    </a:lnTo>
                    <a:lnTo>
                      <a:pt x="0" y="538"/>
                    </a:lnTo>
                    <a:lnTo>
                      <a:pt x="59" y="755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475040" y="437364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4" h="754">
                    <a:moveTo>
                      <a:pt x="114" y="0"/>
                    </a:moveTo>
                    <a:lnTo>
                      <a:pt x="13" y="356"/>
                    </a:lnTo>
                    <a:lnTo>
                      <a:pt x="0" y="538"/>
                    </a:lnTo>
                    <a:lnTo>
                      <a:pt x="59" y="7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477920" y="442368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5" h="754">
                    <a:moveTo>
                      <a:pt x="115" y="0"/>
                    </a:moveTo>
                    <a:lnTo>
                      <a:pt x="13" y="355"/>
                    </a:lnTo>
                    <a:lnTo>
                      <a:pt x="0" y="538"/>
                    </a:lnTo>
                    <a:lnTo>
                      <a:pt x="59" y="75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477920" y="442368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5" h="754">
                    <a:moveTo>
                      <a:pt x="115" y="0"/>
                    </a:moveTo>
                    <a:lnTo>
                      <a:pt x="13" y="355"/>
                    </a:lnTo>
                    <a:lnTo>
                      <a:pt x="0" y="538"/>
                    </a:lnTo>
                    <a:lnTo>
                      <a:pt x="59" y="75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469280" y="442656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4" h="753">
                    <a:moveTo>
                      <a:pt x="114" y="0"/>
                    </a:moveTo>
                    <a:lnTo>
                      <a:pt x="12" y="355"/>
                    </a:lnTo>
                    <a:lnTo>
                      <a:pt x="0" y="537"/>
                    </a:lnTo>
                    <a:lnTo>
                      <a:pt x="59" y="753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469280" y="444636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47" h="86">
                    <a:moveTo>
                      <a:pt x="145" y="30"/>
                    </a:moveTo>
                    <a:lnTo>
                      <a:pt x="0" y="86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30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475040" y="4393440"/>
                <a:ext cx="10080" cy="3600"/>
              </a:xfrm>
              <a:custGeom>
                <a:avLst/>
                <a:gdLst/>
                <a:ahLst/>
                <a:rect l="l" t="t" r="r" b="b"/>
                <a:pathLst>
                  <a:path w="146" h="85">
                    <a:moveTo>
                      <a:pt x="144" y="29"/>
                    </a:moveTo>
                    <a:lnTo>
                      <a:pt x="0" y="85"/>
                    </a:lnTo>
                    <a:lnTo>
                      <a:pt x="2" y="55"/>
                    </a:lnTo>
                    <a:lnTo>
                      <a:pt x="146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469280" y="4444920"/>
                <a:ext cx="10080" cy="5400"/>
              </a:xfrm>
              <a:custGeom>
                <a:avLst/>
                <a:gdLst/>
                <a:ahLst/>
                <a:rect l="l" t="t" r="r" b="b"/>
                <a:pathLst>
                  <a:path w="147" h="86">
                    <a:moveTo>
                      <a:pt x="145" y="30"/>
                    </a:moveTo>
                    <a:lnTo>
                      <a:pt x="0" y="86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3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475040" y="43920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6" h="86">
                    <a:moveTo>
                      <a:pt x="144" y="30"/>
                    </a:moveTo>
                    <a:lnTo>
                      <a:pt x="0" y="86"/>
                    </a:lnTo>
                    <a:lnTo>
                      <a:pt x="2" y="56"/>
                    </a:lnTo>
                    <a:lnTo>
                      <a:pt x="146" y="0"/>
                    </a:lnTo>
                    <a:lnTo>
                      <a:pt x="144" y="3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469280" y="4450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6" h="85">
                    <a:moveTo>
                      <a:pt x="144" y="29"/>
                    </a:moveTo>
                    <a:lnTo>
                      <a:pt x="0" y="85"/>
                    </a:lnTo>
                    <a:lnTo>
                      <a:pt x="2" y="56"/>
                    </a:lnTo>
                    <a:lnTo>
                      <a:pt x="146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473600" y="4398840"/>
                <a:ext cx="9720" cy="3600"/>
              </a:xfrm>
              <a:custGeom>
                <a:avLst/>
                <a:gdLst/>
                <a:ahLst/>
                <a:rect l="l" t="t" r="r" b="b"/>
                <a:pathLst>
                  <a:path w="147" h="85">
                    <a:moveTo>
                      <a:pt x="145" y="29"/>
                    </a:moveTo>
                    <a:lnTo>
                      <a:pt x="0" y="85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29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469280" y="4450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6" h="85">
                    <a:moveTo>
                      <a:pt x="144" y="29"/>
                    </a:moveTo>
                    <a:lnTo>
                      <a:pt x="0" y="85"/>
                    </a:lnTo>
                    <a:lnTo>
                      <a:pt x="2" y="55"/>
                    </a:lnTo>
                    <a:lnTo>
                      <a:pt x="146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473600" y="4397400"/>
                <a:ext cx="9720" cy="5400"/>
              </a:xfrm>
              <a:custGeom>
                <a:avLst/>
                <a:gdLst/>
                <a:ahLst/>
                <a:rect l="l" t="t" r="r" b="b"/>
                <a:pathLst>
                  <a:path w="147" h="85">
                    <a:moveTo>
                      <a:pt x="145" y="29"/>
                    </a:moveTo>
                    <a:lnTo>
                      <a:pt x="0" y="85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2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563960" y="4756320"/>
                <a:ext cx="12960" cy="5400"/>
              </a:xfrm>
              <a:custGeom>
                <a:avLst/>
                <a:gdLst/>
                <a:ahLst/>
                <a:rect l="l" t="t" r="r" b="b"/>
                <a:pathLst>
                  <a:path w="196" h="104">
                    <a:moveTo>
                      <a:pt x="0" y="99"/>
                    </a:moveTo>
                    <a:lnTo>
                      <a:pt x="114" y="12"/>
                    </a:lnTo>
                    <a:lnTo>
                      <a:pt x="121" y="7"/>
                    </a:lnTo>
                    <a:lnTo>
                      <a:pt x="131" y="4"/>
                    </a:lnTo>
                    <a:lnTo>
                      <a:pt x="140" y="1"/>
                    </a:lnTo>
                    <a:lnTo>
                      <a:pt x="149" y="0"/>
                    </a:lnTo>
                    <a:lnTo>
                      <a:pt x="159" y="0"/>
                    </a:lnTo>
                    <a:lnTo>
                      <a:pt x="168" y="1"/>
                    </a:lnTo>
                    <a:lnTo>
                      <a:pt x="178" y="3"/>
                    </a:lnTo>
                    <a:lnTo>
                      <a:pt x="186" y="6"/>
                    </a:lnTo>
                    <a:lnTo>
                      <a:pt x="193" y="14"/>
                    </a:lnTo>
                    <a:lnTo>
                      <a:pt x="196" y="26"/>
                    </a:lnTo>
                    <a:lnTo>
                      <a:pt x="196" y="38"/>
                    </a:lnTo>
                    <a:lnTo>
                      <a:pt x="191" y="47"/>
                    </a:lnTo>
                    <a:lnTo>
                      <a:pt x="126" y="104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574040" y="475632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97" h="104">
                    <a:moveTo>
                      <a:pt x="0" y="99"/>
                    </a:moveTo>
                    <a:lnTo>
                      <a:pt x="113" y="12"/>
                    </a:lnTo>
                    <a:lnTo>
                      <a:pt x="121" y="7"/>
                    </a:lnTo>
                    <a:lnTo>
                      <a:pt x="130" y="4"/>
                    </a:lnTo>
                    <a:lnTo>
                      <a:pt x="139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8" y="1"/>
                    </a:lnTo>
                    <a:lnTo>
                      <a:pt x="178" y="3"/>
                    </a:lnTo>
                    <a:lnTo>
                      <a:pt x="186" y="6"/>
                    </a:lnTo>
                    <a:lnTo>
                      <a:pt x="193" y="14"/>
                    </a:lnTo>
                    <a:lnTo>
                      <a:pt x="197" y="26"/>
                    </a:lnTo>
                    <a:lnTo>
                      <a:pt x="197" y="38"/>
                    </a:lnTo>
                    <a:lnTo>
                      <a:pt x="191" y="48"/>
                    </a:lnTo>
                    <a:lnTo>
                      <a:pt x="125" y="104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566840" y="4757760"/>
                <a:ext cx="10080" cy="3600"/>
              </a:xfrm>
              <a:custGeom>
                <a:avLst/>
                <a:gdLst/>
                <a:ahLst/>
                <a:rect l="l" t="t" r="r" b="b"/>
                <a:pathLst>
                  <a:path w="143" h="76">
                    <a:moveTo>
                      <a:pt x="0" y="72"/>
                    </a:moveTo>
                    <a:lnTo>
                      <a:pt x="83" y="8"/>
                    </a:lnTo>
                    <a:lnTo>
                      <a:pt x="88" y="5"/>
                    </a:lnTo>
                    <a:lnTo>
                      <a:pt x="94" y="2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9" y="2"/>
                    </a:lnTo>
                    <a:lnTo>
                      <a:pt x="135" y="4"/>
                    </a:lnTo>
                    <a:lnTo>
                      <a:pt x="140" y="10"/>
                    </a:lnTo>
                    <a:lnTo>
                      <a:pt x="143" y="18"/>
                    </a:lnTo>
                    <a:lnTo>
                      <a:pt x="142" y="28"/>
                    </a:lnTo>
                    <a:lnTo>
                      <a:pt x="139" y="35"/>
                    </a:lnTo>
                    <a:lnTo>
                      <a:pt x="91" y="76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578360" y="4757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5" h="76">
                    <a:moveTo>
                      <a:pt x="0" y="72"/>
                    </a:moveTo>
                    <a:lnTo>
                      <a:pt x="83" y="8"/>
                    </a:lnTo>
                    <a:lnTo>
                      <a:pt x="88" y="5"/>
                    </a:lnTo>
                    <a:lnTo>
                      <a:pt x="95" y="2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30" y="2"/>
                    </a:lnTo>
                    <a:lnTo>
                      <a:pt x="136" y="4"/>
                    </a:lnTo>
                    <a:lnTo>
                      <a:pt x="142" y="10"/>
                    </a:lnTo>
                    <a:lnTo>
                      <a:pt x="145" y="19"/>
                    </a:lnTo>
                    <a:lnTo>
                      <a:pt x="144" y="28"/>
                    </a:lnTo>
                    <a:lnTo>
                      <a:pt x="140" y="35"/>
                    </a:lnTo>
                    <a:lnTo>
                      <a:pt x="92" y="76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6688440" y="3884400"/>
              <a:ext cx="559080" cy="507960"/>
              <a:chOff x="6688440" y="3884400"/>
              <a:chExt cx="559080" cy="507960"/>
            </a:xfrm>
          </p:grpSpPr>
          <p:sp>
            <p:nvSpPr>
              <p:cNvPr id="1291" name=""/>
              <p:cNvSpPr/>
              <p:nvPr/>
            </p:nvSpPr>
            <p:spPr>
              <a:xfrm>
                <a:off x="6835320" y="3884400"/>
                <a:ext cx="412200" cy="338760"/>
              </a:xfrm>
              <a:custGeom>
                <a:avLst/>
                <a:gdLst/>
                <a:ahLst/>
                <a:rect l="l" t="t" r="r" b="b"/>
                <a:pathLst>
                  <a:path w="14158" h="10511">
                    <a:moveTo>
                      <a:pt x="12785" y="10511"/>
                    </a:moveTo>
                    <a:lnTo>
                      <a:pt x="13141" y="10288"/>
                    </a:lnTo>
                    <a:lnTo>
                      <a:pt x="14158" y="2771"/>
                    </a:lnTo>
                    <a:lnTo>
                      <a:pt x="486" y="0"/>
                    </a:lnTo>
                    <a:lnTo>
                      <a:pt x="0" y="0"/>
                    </a:lnTo>
                    <a:lnTo>
                      <a:pt x="41" y="265"/>
                    </a:lnTo>
                    <a:lnTo>
                      <a:pt x="11104" y="8141"/>
                    </a:lnTo>
                    <a:lnTo>
                      <a:pt x="12785" y="105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835320" y="3884400"/>
                <a:ext cx="412200" cy="338760"/>
              </a:xfrm>
              <a:custGeom>
                <a:avLst/>
                <a:gdLst/>
                <a:ahLst/>
                <a:rect l="l" t="t" r="r" b="b"/>
                <a:pathLst>
                  <a:path w="14158" h="10511">
                    <a:moveTo>
                      <a:pt x="12785" y="10511"/>
                    </a:moveTo>
                    <a:lnTo>
                      <a:pt x="13141" y="10288"/>
                    </a:lnTo>
                    <a:lnTo>
                      <a:pt x="14158" y="2771"/>
                    </a:lnTo>
                    <a:lnTo>
                      <a:pt x="486" y="0"/>
                    </a:lnTo>
                    <a:lnTo>
                      <a:pt x="0" y="0"/>
                    </a:lnTo>
                    <a:lnTo>
                      <a:pt x="41" y="265"/>
                    </a:lnTo>
                    <a:lnTo>
                      <a:pt x="11104" y="8141"/>
                    </a:lnTo>
                    <a:lnTo>
                      <a:pt x="12785" y="105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889320" y="4099680"/>
                <a:ext cx="231480" cy="71640"/>
              </a:xfrm>
              <a:custGeom>
                <a:avLst/>
                <a:gdLst/>
                <a:ahLst/>
                <a:rect l="l" t="t" r="r" b="b"/>
                <a:pathLst>
                  <a:path w="7961" h="2236">
                    <a:moveTo>
                      <a:pt x="575" y="1208"/>
                    </a:moveTo>
                    <a:lnTo>
                      <a:pt x="705" y="581"/>
                    </a:lnTo>
                    <a:lnTo>
                      <a:pt x="7920" y="2236"/>
                    </a:lnTo>
                    <a:lnTo>
                      <a:pt x="7961" y="1744"/>
                    </a:lnTo>
                    <a:lnTo>
                      <a:pt x="397" y="0"/>
                    </a:lnTo>
                    <a:lnTo>
                      <a:pt x="0" y="940"/>
                    </a:lnTo>
                    <a:lnTo>
                      <a:pt x="178" y="1254"/>
                    </a:lnTo>
                    <a:lnTo>
                      <a:pt x="575" y="1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889320" y="4099680"/>
                <a:ext cx="231480" cy="71640"/>
              </a:xfrm>
              <a:custGeom>
                <a:avLst/>
                <a:gdLst/>
                <a:ahLst/>
                <a:rect l="l" t="t" r="r" b="b"/>
                <a:pathLst>
                  <a:path w="7961" h="2236">
                    <a:moveTo>
                      <a:pt x="575" y="1208"/>
                    </a:moveTo>
                    <a:lnTo>
                      <a:pt x="705" y="581"/>
                    </a:lnTo>
                    <a:lnTo>
                      <a:pt x="7920" y="2236"/>
                    </a:lnTo>
                    <a:lnTo>
                      <a:pt x="7961" y="1744"/>
                    </a:lnTo>
                    <a:lnTo>
                      <a:pt x="397" y="0"/>
                    </a:lnTo>
                    <a:lnTo>
                      <a:pt x="0" y="940"/>
                    </a:lnTo>
                    <a:lnTo>
                      <a:pt x="178" y="1254"/>
                    </a:lnTo>
                    <a:lnTo>
                      <a:pt x="575" y="120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054200" y="4149000"/>
                <a:ext cx="12600" cy="32760"/>
              </a:xfrm>
              <a:custGeom>
                <a:avLst/>
                <a:gdLst/>
                <a:ahLst/>
                <a:rect l="l" t="t" r="r" b="b"/>
                <a:pathLst>
                  <a:path w="441" h="1028">
                    <a:moveTo>
                      <a:pt x="222" y="0"/>
                    </a:moveTo>
                    <a:lnTo>
                      <a:pt x="441" y="223"/>
                    </a:lnTo>
                    <a:lnTo>
                      <a:pt x="263" y="1028"/>
                    </a:lnTo>
                    <a:lnTo>
                      <a:pt x="0" y="986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054200" y="4149000"/>
                <a:ext cx="12600" cy="32760"/>
              </a:xfrm>
              <a:custGeom>
                <a:avLst/>
                <a:gdLst/>
                <a:ahLst/>
                <a:rect l="l" t="t" r="r" b="b"/>
                <a:pathLst>
                  <a:path w="441" h="1028">
                    <a:moveTo>
                      <a:pt x="222" y="0"/>
                    </a:moveTo>
                    <a:lnTo>
                      <a:pt x="441" y="223"/>
                    </a:lnTo>
                    <a:lnTo>
                      <a:pt x="263" y="1028"/>
                    </a:lnTo>
                    <a:lnTo>
                      <a:pt x="0" y="986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720480" y="4188600"/>
                <a:ext cx="12600" cy="25200"/>
              </a:xfrm>
              <a:custGeom>
                <a:avLst/>
                <a:gdLst/>
                <a:ahLst/>
                <a:rect l="l" t="t" r="r" b="b"/>
                <a:pathLst>
                  <a:path w="439" h="759">
                    <a:moveTo>
                      <a:pt x="0" y="0"/>
                    </a:moveTo>
                    <a:lnTo>
                      <a:pt x="0" y="759"/>
                    </a:lnTo>
                    <a:lnTo>
                      <a:pt x="439" y="492"/>
                    </a:lnTo>
                    <a:lnTo>
                      <a:pt x="220" y="1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720480" y="4188600"/>
                <a:ext cx="12600" cy="25200"/>
              </a:xfrm>
              <a:custGeom>
                <a:avLst/>
                <a:gdLst/>
                <a:ahLst/>
                <a:rect l="l" t="t" r="r" b="b"/>
                <a:pathLst>
                  <a:path w="439" h="759">
                    <a:moveTo>
                      <a:pt x="0" y="0"/>
                    </a:moveTo>
                    <a:lnTo>
                      <a:pt x="0" y="759"/>
                    </a:lnTo>
                    <a:lnTo>
                      <a:pt x="439" y="492"/>
                    </a:lnTo>
                    <a:lnTo>
                      <a:pt x="220" y="1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688440" y="4128840"/>
                <a:ext cx="519840" cy="263520"/>
              </a:xfrm>
              <a:custGeom>
                <a:avLst/>
                <a:gdLst/>
                <a:ahLst/>
                <a:rect l="l" t="t" r="r" b="b"/>
                <a:pathLst>
                  <a:path w="17827" h="8140">
                    <a:moveTo>
                      <a:pt x="41" y="4560"/>
                    </a:moveTo>
                    <a:lnTo>
                      <a:pt x="0" y="3578"/>
                    </a:lnTo>
                    <a:lnTo>
                      <a:pt x="89" y="3311"/>
                    </a:lnTo>
                    <a:lnTo>
                      <a:pt x="1325" y="2235"/>
                    </a:lnTo>
                    <a:lnTo>
                      <a:pt x="1105" y="1834"/>
                    </a:lnTo>
                    <a:lnTo>
                      <a:pt x="3139" y="177"/>
                    </a:lnTo>
                    <a:lnTo>
                      <a:pt x="3361" y="42"/>
                    </a:lnTo>
                    <a:lnTo>
                      <a:pt x="3580" y="42"/>
                    </a:lnTo>
                    <a:lnTo>
                      <a:pt x="3848" y="0"/>
                    </a:lnTo>
                    <a:lnTo>
                      <a:pt x="4115" y="42"/>
                    </a:lnTo>
                    <a:lnTo>
                      <a:pt x="4378" y="42"/>
                    </a:lnTo>
                    <a:lnTo>
                      <a:pt x="17827" y="3220"/>
                    </a:lnTo>
                    <a:lnTo>
                      <a:pt x="17827" y="4428"/>
                    </a:lnTo>
                    <a:lnTo>
                      <a:pt x="14332" y="8098"/>
                    </a:lnTo>
                    <a:lnTo>
                      <a:pt x="14243" y="8140"/>
                    </a:lnTo>
                    <a:lnTo>
                      <a:pt x="14068" y="8140"/>
                    </a:lnTo>
                    <a:lnTo>
                      <a:pt x="89" y="4741"/>
                    </a:lnTo>
                    <a:lnTo>
                      <a:pt x="41" y="456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688440" y="4128840"/>
                <a:ext cx="519840" cy="263520"/>
              </a:xfrm>
              <a:custGeom>
                <a:avLst/>
                <a:gdLst/>
                <a:ahLst/>
                <a:rect l="l" t="t" r="r" b="b"/>
                <a:pathLst>
                  <a:path w="17827" h="8140">
                    <a:moveTo>
                      <a:pt x="41" y="4560"/>
                    </a:moveTo>
                    <a:lnTo>
                      <a:pt x="0" y="3578"/>
                    </a:lnTo>
                    <a:lnTo>
                      <a:pt x="89" y="3311"/>
                    </a:lnTo>
                    <a:lnTo>
                      <a:pt x="1325" y="2235"/>
                    </a:lnTo>
                    <a:lnTo>
                      <a:pt x="1105" y="1834"/>
                    </a:lnTo>
                    <a:lnTo>
                      <a:pt x="3139" y="177"/>
                    </a:lnTo>
                    <a:lnTo>
                      <a:pt x="3361" y="42"/>
                    </a:lnTo>
                    <a:lnTo>
                      <a:pt x="3580" y="42"/>
                    </a:lnTo>
                    <a:lnTo>
                      <a:pt x="3848" y="0"/>
                    </a:lnTo>
                    <a:lnTo>
                      <a:pt x="4115" y="42"/>
                    </a:lnTo>
                    <a:lnTo>
                      <a:pt x="4378" y="42"/>
                    </a:lnTo>
                    <a:lnTo>
                      <a:pt x="17827" y="3220"/>
                    </a:lnTo>
                    <a:lnTo>
                      <a:pt x="17827" y="4428"/>
                    </a:lnTo>
                    <a:lnTo>
                      <a:pt x="14332" y="8098"/>
                    </a:lnTo>
                    <a:lnTo>
                      <a:pt x="14243" y="8140"/>
                    </a:lnTo>
                    <a:lnTo>
                      <a:pt x="14068" y="8140"/>
                    </a:lnTo>
                    <a:lnTo>
                      <a:pt x="89" y="4741"/>
                    </a:lnTo>
                    <a:lnTo>
                      <a:pt x="41" y="45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689520" y="4237560"/>
                <a:ext cx="415080" cy="122760"/>
              </a:xfrm>
              <a:custGeom>
                <a:avLst/>
                <a:gdLst/>
                <a:ahLst/>
                <a:rect l="l" t="t" r="r" b="b"/>
                <a:pathLst>
                  <a:path w="14246" h="3803">
                    <a:moveTo>
                      <a:pt x="14246" y="3580"/>
                    </a:moveTo>
                    <a:lnTo>
                      <a:pt x="89" y="0"/>
                    </a:lnTo>
                    <a:lnTo>
                      <a:pt x="0" y="265"/>
                    </a:lnTo>
                    <a:lnTo>
                      <a:pt x="14027" y="3803"/>
                    </a:lnTo>
                    <a:lnTo>
                      <a:pt x="14246" y="358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689520" y="4237560"/>
                <a:ext cx="415080" cy="122760"/>
              </a:xfrm>
              <a:custGeom>
                <a:avLst/>
                <a:gdLst/>
                <a:ahLst/>
                <a:rect l="l" t="t" r="r" b="b"/>
                <a:pathLst>
                  <a:path w="14246" h="3803">
                    <a:moveTo>
                      <a:pt x="14246" y="3580"/>
                    </a:moveTo>
                    <a:lnTo>
                      <a:pt x="89" y="0"/>
                    </a:lnTo>
                    <a:lnTo>
                      <a:pt x="0" y="265"/>
                    </a:lnTo>
                    <a:lnTo>
                      <a:pt x="14027" y="3803"/>
                    </a:lnTo>
                    <a:lnTo>
                      <a:pt x="14246" y="358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711480" y="4150440"/>
                <a:ext cx="469080" cy="191880"/>
              </a:xfrm>
              <a:custGeom>
                <a:avLst/>
                <a:gdLst/>
                <a:ahLst/>
                <a:rect l="l" t="t" r="r" b="b"/>
                <a:pathLst>
                  <a:path w="16105" h="5954">
                    <a:moveTo>
                      <a:pt x="0" y="2597"/>
                    </a:moveTo>
                    <a:lnTo>
                      <a:pt x="3143" y="0"/>
                    </a:lnTo>
                    <a:lnTo>
                      <a:pt x="16105" y="3046"/>
                    </a:lnTo>
                    <a:lnTo>
                      <a:pt x="13363" y="5954"/>
                    </a:lnTo>
                    <a:lnTo>
                      <a:pt x="0" y="259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711480" y="4150440"/>
                <a:ext cx="469080" cy="191880"/>
              </a:xfrm>
              <a:custGeom>
                <a:avLst/>
                <a:gdLst/>
                <a:ahLst/>
                <a:rect l="l" t="t" r="r" b="b"/>
                <a:pathLst>
                  <a:path w="16105" h="5954">
                    <a:moveTo>
                      <a:pt x="0" y="2597"/>
                    </a:moveTo>
                    <a:lnTo>
                      <a:pt x="3143" y="0"/>
                    </a:lnTo>
                    <a:lnTo>
                      <a:pt x="16105" y="3046"/>
                    </a:lnTo>
                    <a:lnTo>
                      <a:pt x="13363" y="5954"/>
                    </a:lnTo>
                    <a:lnTo>
                      <a:pt x="0" y="25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890760" y="4135680"/>
                <a:ext cx="225360" cy="88560"/>
              </a:xfrm>
              <a:custGeom>
                <a:avLst/>
                <a:gdLst/>
                <a:ahLst/>
                <a:rect l="l" t="t" r="r" b="b"/>
                <a:pathLst>
                  <a:path w="7742" h="2774">
                    <a:moveTo>
                      <a:pt x="0" y="314"/>
                    </a:moveTo>
                    <a:lnTo>
                      <a:pt x="401" y="0"/>
                    </a:lnTo>
                    <a:lnTo>
                      <a:pt x="2170" y="404"/>
                    </a:lnTo>
                    <a:lnTo>
                      <a:pt x="2170" y="850"/>
                    </a:lnTo>
                    <a:lnTo>
                      <a:pt x="5445" y="1608"/>
                    </a:lnTo>
                    <a:lnTo>
                      <a:pt x="5931" y="1209"/>
                    </a:lnTo>
                    <a:lnTo>
                      <a:pt x="7742" y="1608"/>
                    </a:lnTo>
                    <a:lnTo>
                      <a:pt x="7742" y="2281"/>
                    </a:lnTo>
                    <a:lnTo>
                      <a:pt x="7082" y="2774"/>
                    </a:lnTo>
                    <a:lnTo>
                      <a:pt x="137" y="896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890760" y="4135680"/>
                <a:ext cx="225360" cy="88560"/>
              </a:xfrm>
              <a:custGeom>
                <a:avLst/>
                <a:gdLst/>
                <a:ahLst/>
                <a:rect l="l" t="t" r="r" b="b"/>
                <a:pathLst>
                  <a:path w="7742" h="2774">
                    <a:moveTo>
                      <a:pt x="0" y="314"/>
                    </a:moveTo>
                    <a:lnTo>
                      <a:pt x="401" y="0"/>
                    </a:lnTo>
                    <a:lnTo>
                      <a:pt x="2170" y="404"/>
                    </a:lnTo>
                    <a:lnTo>
                      <a:pt x="2170" y="850"/>
                    </a:lnTo>
                    <a:lnTo>
                      <a:pt x="5445" y="1608"/>
                    </a:lnTo>
                    <a:lnTo>
                      <a:pt x="5931" y="1209"/>
                    </a:lnTo>
                    <a:lnTo>
                      <a:pt x="7742" y="1608"/>
                    </a:lnTo>
                    <a:lnTo>
                      <a:pt x="7742" y="2281"/>
                    </a:lnTo>
                    <a:lnTo>
                      <a:pt x="7082" y="2774"/>
                    </a:lnTo>
                    <a:lnTo>
                      <a:pt x="137" y="896"/>
                    </a:lnTo>
                    <a:lnTo>
                      <a:pt x="0" y="3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883560" y="4145040"/>
                <a:ext cx="219600" cy="82080"/>
              </a:xfrm>
              <a:custGeom>
                <a:avLst/>
                <a:gdLst/>
                <a:ahLst/>
                <a:rect l="l" t="t" r="r" b="b"/>
                <a:pathLst>
                  <a:path w="7564" h="2506">
                    <a:moveTo>
                      <a:pt x="0" y="805"/>
                    </a:moveTo>
                    <a:lnTo>
                      <a:pt x="263" y="0"/>
                    </a:lnTo>
                    <a:lnTo>
                      <a:pt x="2032" y="404"/>
                    </a:lnTo>
                    <a:lnTo>
                      <a:pt x="1948" y="805"/>
                    </a:lnTo>
                    <a:lnTo>
                      <a:pt x="5660" y="1698"/>
                    </a:lnTo>
                    <a:lnTo>
                      <a:pt x="5749" y="1294"/>
                    </a:lnTo>
                    <a:lnTo>
                      <a:pt x="7564" y="1698"/>
                    </a:lnTo>
                    <a:lnTo>
                      <a:pt x="7345" y="2506"/>
                    </a:lnTo>
                    <a:lnTo>
                      <a:pt x="0" y="80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883560" y="4145040"/>
                <a:ext cx="219600" cy="82080"/>
              </a:xfrm>
              <a:custGeom>
                <a:avLst/>
                <a:gdLst/>
                <a:ahLst/>
                <a:rect l="l" t="t" r="r" b="b"/>
                <a:pathLst>
                  <a:path w="7564" h="2506">
                    <a:moveTo>
                      <a:pt x="0" y="805"/>
                    </a:moveTo>
                    <a:lnTo>
                      <a:pt x="263" y="0"/>
                    </a:lnTo>
                    <a:lnTo>
                      <a:pt x="2032" y="404"/>
                    </a:lnTo>
                    <a:lnTo>
                      <a:pt x="1948" y="805"/>
                    </a:lnTo>
                    <a:lnTo>
                      <a:pt x="5660" y="1698"/>
                    </a:lnTo>
                    <a:lnTo>
                      <a:pt x="5749" y="1294"/>
                    </a:lnTo>
                    <a:lnTo>
                      <a:pt x="7564" y="1698"/>
                    </a:lnTo>
                    <a:lnTo>
                      <a:pt x="7345" y="2506"/>
                    </a:lnTo>
                    <a:lnTo>
                      <a:pt x="0" y="8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095960" y="4187160"/>
                <a:ext cx="20160" cy="39600"/>
              </a:xfrm>
              <a:custGeom>
                <a:avLst/>
                <a:gdLst/>
                <a:ahLst/>
                <a:rect l="l" t="t" r="r" b="b"/>
                <a:pathLst>
                  <a:path w="660" h="1212">
                    <a:moveTo>
                      <a:pt x="0" y="1212"/>
                    </a:moveTo>
                    <a:lnTo>
                      <a:pt x="174" y="404"/>
                    </a:lnTo>
                    <a:lnTo>
                      <a:pt x="660" y="0"/>
                    </a:lnTo>
                    <a:lnTo>
                      <a:pt x="660" y="721"/>
                    </a:lnTo>
                    <a:lnTo>
                      <a:pt x="0" y="121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095960" y="4187160"/>
                <a:ext cx="20160" cy="39600"/>
              </a:xfrm>
              <a:custGeom>
                <a:avLst/>
                <a:gdLst/>
                <a:ahLst/>
                <a:rect l="l" t="t" r="r" b="b"/>
                <a:pathLst>
                  <a:path w="660" h="1212">
                    <a:moveTo>
                      <a:pt x="0" y="1212"/>
                    </a:moveTo>
                    <a:lnTo>
                      <a:pt x="174" y="404"/>
                    </a:lnTo>
                    <a:lnTo>
                      <a:pt x="660" y="0"/>
                    </a:lnTo>
                    <a:lnTo>
                      <a:pt x="660" y="721"/>
                    </a:lnTo>
                    <a:lnTo>
                      <a:pt x="0" y="12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938640" y="41490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530" h="715">
                    <a:moveTo>
                      <a:pt x="0" y="715"/>
                    </a:moveTo>
                    <a:lnTo>
                      <a:pt x="89" y="314"/>
                    </a:lnTo>
                    <a:lnTo>
                      <a:pt x="530" y="0"/>
                    </a:lnTo>
                    <a:lnTo>
                      <a:pt x="530" y="446"/>
                    </a:lnTo>
                    <a:lnTo>
                      <a:pt x="0" y="71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938640" y="41490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530" h="715">
                    <a:moveTo>
                      <a:pt x="0" y="715"/>
                    </a:moveTo>
                    <a:lnTo>
                      <a:pt x="89" y="314"/>
                    </a:lnTo>
                    <a:lnTo>
                      <a:pt x="530" y="0"/>
                    </a:lnTo>
                    <a:lnTo>
                      <a:pt x="530" y="446"/>
                    </a:lnTo>
                    <a:lnTo>
                      <a:pt x="0" y="7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950160" y="4152960"/>
                <a:ext cx="106200" cy="34200"/>
              </a:xfrm>
              <a:custGeom>
                <a:avLst/>
                <a:gdLst/>
                <a:ahLst/>
                <a:rect l="l" t="t" r="r" b="b"/>
                <a:pathLst>
                  <a:path w="3673" h="1071">
                    <a:moveTo>
                      <a:pt x="3450" y="1071"/>
                    </a:moveTo>
                    <a:lnTo>
                      <a:pt x="45" y="313"/>
                    </a:lnTo>
                    <a:lnTo>
                      <a:pt x="0" y="227"/>
                    </a:lnTo>
                    <a:lnTo>
                      <a:pt x="45" y="90"/>
                    </a:lnTo>
                    <a:lnTo>
                      <a:pt x="134" y="0"/>
                    </a:lnTo>
                    <a:lnTo>
                      <a:pt x="3673" y="808"/>
                    </a:lnTo>
                    <a:lnTo>
                      <a:pt x="3450" y="10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950160" y="4152960"/>
                <a:ext cx="106200" cy="34200"/>
              </a:xfrm>
              <a:custGeom>
                <a:avLst/>
                <a:gdLst/>
                <a:ahLst/>
                <a:rect l="l" t="t" r="r" b="b"/>
                <a:pathLst>
                  <a:path w="3673" h="1071">
                    <a:moveTo>
                      <a:pt x="3450" y="1071"/>
                    </a:moveTo>
                    <a:lnTo>
                      <a:pt x="45" y="313"/>
                    </a:lnTo>
                    <a:lnTo>
                      <a:pt x="0" y="227"/>
                    </a:lnTo>
                    <a:lnTo>
                      <a:pt x="45" y="90"/>
                    </a:lnTo>
                    <a:lnTo>
                      <a:pt x="134" y="0"/>
                    </a:lnTo>
                    <a:lnTo>
                      <a:pt x="3673" y="808"/>
                    </a:lnTo>
                    <a:lnTo>
                      <a:pt x="3450" y="107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953400" y="4123800"/>
                <a:ext cx="108000" cy="55440"/>
              </a:xfrm>
              <a:custGeom>
                <a:avLst/>
                <a:gdLst/>
                <a:ahLst/>
                <a:rect l="l" t="t" r="r" b="b"/>
                <a:pathLst>
                  <a:path w="3672" h="1700">
                    <a:moveTo>
                      <a:pt x="0" y="892"/>
                    </a:moveTo>
                    <a:lnTo>
                      <a:pt x="133" y="0"/>
                    </a:lnTo>
                    <a:lnTo>
                      <a:pt x="3672" y="759"/>
                    </a:lnTo>
                    <a:lnTo>
                      <a:pt x="3583" y="1700"/>
                    </a:lnTo>
                    <a:lnTo>
                      <a:pt x="0" y="892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953400" y="4123800"/>
                <a:ext cx="108000" cy="55440"/>
              </a:xfrm>
              <a:custGeom>
                <a:avLst/>
                <a:gdLst/>
                <a:ahLst/>
                <a:rect l="l" t="t" r="r" b="b"/>
                <a:pathLst>
                  <a:path w="3672" h="1700">
                    <a:moveTo>
                      <a:pt x="0" y="892"/>
                    </a:moveTo>
                    <a:lnTo>
                      <a:pt x="133" y="0"/>
                    </a:lnTo>
                    <a:lnTo>
                      <a:pt x="3672" y="759"/>
                    </a:lnTo>
                    <a:lnTo>
                      <a:pt x="3583" y="1700"/>
                    </a:lnTo>
                    <a:lnTo>
                      <a:pt x="0" y="8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960600" y="4131720"/>
                <a:ext cx="93240" cy="38160"/>
              </a:xfrm>
              <a:custGeom>
                <a:avLst/>
                <a:gdLst/>
                <a:ahLst/>
                <a:rect l="l" t="t" r="r" b="b"/>
                <a:pathLst>
                  <a:path w="3204" h="1194">
                    <a:moveTo>
                      <a:pt x="76" y="0"/>
                    </a:moveTo>
                    <a:lnTo>
                      <a:pt x="3204" y="675"/>
                    </a:lnTo>
                    <a:lnTo>
                      <a:pt x="3153" y="1194"/>
                    </a:lnTo>
                    <a:lnTo>
                      <a:pt x="0" y="494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960600" y="4131720"/>
                <a:ext cx="93240" cy="38160"/>
              </a:xfrm>
              <a:custGeom>
                <a:avLst/>
                <a:gdLst/>
                <a:ahLst/>
                <a:rect l="l" t="t" r="r" b="b"/>
                <a:pathLst>
                  <a:path w="3204" h="1194">
                    <a:moveTo>
                      <a:pt x="76" y="0"/>
                    </a:moveTo>
                    <a:lnTo>
                      <a:pt x="3204" y="675"/>
                    </a:lnTo>
                    <a:lnTo>
                      <a:pt x="3153" y="1194"/>
                    </a:lnTo>
                    <a:lnTo>
                      <a:pt x="0" y="494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807600" y="3885480"/>
                <a:ext cx="431280" cy="337680"/>
              </a:xfrm>
              <a:custGeom>
                <a:avLst/>
                <a:gdLst/>
                <a:ahLst/>
                <a:rect l="l" t="t" r="r" b="b"/>
                <a:pathLst>
                  <a:path w="14773" h="10469">
                    <a:moveTo>
                      <a:pt x="2786" y="8143"/>
                    </a:moveTo>
                    <a:lnTo>
                      <a:pt x="1413" y="7830"/>
                    </a:lnTo>
                    <a:lnTo>
                      <a:pt x="0" y="7249"/>
                    </a:lnTo>
                    <a:lnTo>
                      <a:pt x="927" y="0"/>
                    </a:lnTo>
                    <a:lnTo>
                      <a:pt x="14773" y="2819"/>
                    </a:lnTo>
                    <a:lnTo>
                      <a:pt x="13712" y="10469"/>
                    </a:lnTo>
                    <a:lnTo>
                      <a:pt x="12298" y="10378"/>
                    </a:lnTo>
                    <a:lnTo>
                      <a:pt x="10569" y="10068"/>
                    </a:lnTo>
                    <a:lnTo>
                      <a:pt x="10439" y="9438"/>
                    </a:lnTo>
                    <a:lnTo>
                      <a:pt x="10569" y="8412"/>
                    </a:lnTo>
                    <a:lnTo>
                      <a:pt x="3228" y="6754"/>
                    </a:lnTo>
                    <a:lnTo>
                      <a:pt x="3050" y="7604"/>
                    </a:lnTo>
                    <a:lnTo>
                      <a:pt x="3050" y="7876"/>
                    </a:lnTo>
                    <a:lnTo>
                      <a:pt x="2827" y="8099"/>
                    </a:lnTo>
                    <a:lnTo>
                      <a:pt x="2786" y="814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807600" y="3885480"/>
                <a:ext cx="431280" cy="337680"/>
              </a:xfrm>
              <a:custGeom>
                <a:avLst/>
                <a:gdLst/>
                <a:ahLst/>
                <a:rect l="l" t="t" r="r" b="b"/>
                <a:pathLst>
                  <a:path w="14773" h="10469">
                    <a:moveTo>
                      <a:pt x="2786" y="8143"/>
                    </a:moveTo>
                    <a:lnTo>
                      <a:pt x="1413" y="7830"/>
                    </a:lnTo>
                    <a:lnTo>
                      <a:pt x="0" y="7249"/>
                    </a:lnTo>
                    <a:lnTo>
                      <a:pt x="927" y="0"/>
                    </a:lnTo>
                    <a:lnTo>
                      <a:pt x="14773" y="2819"/>
                    </a:lnTo>
                    <a:lnTo>
                      <a:pt x="13712" y="10469"/>
                    </a:lnTo>
                    <a:lnTo>
                      <a:pt x="12298" y="10378"/>
                    </a:lnTo>
                    <a:lnTo>
                      <a:pt x="10569" y="10068"/>
                    </a:lnTo>
                    <a:lnTo>
                      <a:pt x="10439" y="9438"/>
                    </a:lnTo>
                    <a:lnTo>
                      <a:pt x="10569" y="8412"/>
                    </a:lnTo>
                    <a:lnTo>
                      <a:pt x="3228" y="6754"/>
                    </a:lnTo>
                    <a:lnTo>
                      <a:pt x="3050" y="7604"/>
                    </a:lnTo>
                    <a:lnTo>
                      <a:pt x="3050" y="7876"/>
                    </a:lnTo>
                    <a:lnTo>
                      <a:pt x="2827" y="8099"/>
                    </a:lnTo>
                    <a:lnTo>
                      <a:pt x="2786" y="81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3800" y="4092120"/>
                <a:ext cx="76680" cy="38160"/>
              </a:xfrm>
              <a:custGeom>
                <a:avLst/>
                <a:gdLst/>
                <a:ahLst/>
                <a:rect l="l" t="t" r="r" b="b"/>
                <a:pathLst>
                  <a:path w="2657" h="1198">
                    <a:moveTo>
                      <a:pt x="86" y="0"/>
                    </a:moveTo>
                    <a:lnTo>
                      <a:pt x="2657" y="547"/>
                    </a:lnTo>
                    <a:lnTo>
                      <a:pt x="2530" y="1198"/>
                    </a:lnTo>
                    <a:lnTo>
                      <a:pt x="0" y="67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823800" y="4092120"/>
                <a:ext cx="76680" cy="38160"/>
              </a:xfrm>
              <a:custGeom>
                <a:avLst/>
                <a:gdLst/>
                <a:ahLst/>
                <a:rect l="l" t="t" r="r" b="b"/>
                <a:pathLst>
                  <a:path w="2657" h="1198">
                    <a:moveTo>
                      <a:pt x="86" y="0"/>
                    </a:moveTo>
                    <a:lnTo>
                      <a:pt x="2657" y="547"/>
                    </a:lnTo>
                    <a:lnTo>
                      <a:pt x="2530" y="1198"/>
                    </a:lnTo>
                    <a:lnTo>
                      <a:pt x="0" y="672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112160" y="4164840"/>
                <a:ext cx="82800" cy="42120"/>
              </a:xfrm>
              <a:custGeom>
                <a:avLst/>
                <a:gdLst/>
                <a:ahLst/>
                <a:rect l="l" t="t" r="r" b="b"/>
                <a:pathLst>
                  <a:path w="2831" h="1347">
                    <a:moveTo>
                      <a:pt x="106" y="0"/>
                    </a:moveTo>
                    <a:lnTo>
                      <a:pt x="2831" y="585"/>
                    </a:lnTo>
                    <a:lnTo>
                      <a:pt x="2742" y="1347"/>
                    </a:lnTo>
                    <a:lnTo>
                      <a:pt x="0" y="775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112160" y="4164840"/>
                <a:ext cx="82800" cy="42120"/>
              </a:xfrm>
              <a:custGeom>
                <a:avLst/>
                <a:gdLst/>
                <a:ahLst/>
                <a:rect l="l" t="t" r="r" b="b"/>
                <a:pathLst>
                  <a:path w="2831" h="1347">
                    <a:moveTo>
                      <a:pt x="106" y="0"/>
                    </a:moveTo>
                    <a:lnTo>
                      <a:pt x="2831" y="585"/>
                    </a:lnTo>
                    <a:lnTo>
                      <a:pt x="2742" y="1347"/>
                    </a:lnTo>
                    <a:lnTo>
                      <a:pt x="0" y="775"/>
                    </a:lnTo>
                    <a:lnTo>
                      <a:pt x="1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826680" y="3905280"/>
                <a:ext cx="391680" cy="262080"/>
              </a:xfrm>
              <a:custGeom>
                <a:avLst/>
                <a:gdLst/>
                <a:ahLst/>
                <a:rect l="l" t="t" r="r" b="b"/>
                <a:pathLst>
                  <a:path w="13445" h="8130">
                    <a:moveTo>
                      <a:pt x="1232" y="2513"/>
                    </a:moveTo>
                    <a:lnTo>
                      <a:pt x="1462" y="2538"/>
                    </a:lnTo>
                    <a:lnTo>
                      <a:pt x="1691" y="2513"/>
                    </a:lnTo>
                    <a:lnTo>
                      <a:pt x="1948" y="2462"/>
                    </a:lnTo>
                    <a:lnTo>
                      <a:pt x="2153" y="2305"/>
                    </a:lnTo>
                    <a:lnTo>
                      <a:pt x="2283" y="2128"/>
                    </a:lnTo>
                    <a:lnTo>
                      <a:pt x="2307" y="1999"/>
                    </a:lnTo>
                    <a:lnTo>
                      <a:pt x="2358" y="1814"/>
                    </a:lnTo>
                    <a:lnTo>
                      <a:pt x="2331" y="1452"/>
                    </a:lnTo>
                    <a:lnTo>
                      <a:pt x="2256" y="1191"/>
                    </a:lnTo>
                    <a:lnTo>
                      <a:pt x="2129" y="1009"/>
                    </a:lnTo>
                    <a:lnTo>
                      <a:pt x="1999" y="881"/>
                    </a:lnTo>
                    <a:lnTo>
                      <a:pt x="1872" y="804"/>
                    </a:lnTo>
                    <a:lnTo>
                      <a:pt x="1718" y="752"/>
                    </a:lnTo>
                    <a:lnTo>
                      <a:pt x="1486" y="672"/>
                    </a:lnTo>
                    <a:lnTo>
                      <a:pt x="616" y="495"/>
                    </a:lnTo>
                    <a:lnTo>
                      <a:pt x="667" y="0"/>
                    </a:lnTo>
                    <a:lnTo>
                      <a:pt x="13445" y="2580"/>
                    </a:lnTo>
                    <a:lnTo>
                      <a:pt x="12736" y="8130"/>
                    </a:lnTo>
                    <a:lnTo>
                      <a:pt x="0" y="5341"/>
                    </a:lnTo>
                    <a:lnTo>
                      <a:pt x="359" y="2361"/>
                    </a:lnTo>
                    <a:lnTo>
                      <a:pt x="1232" y="2513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826680" y="3905280"/>
                <a:ext cx="391680" cy="262080"/>
              </a:xfrm>
              <a:custGeom>
                <a:avLst/>
                <a:gdLst/>
                <a:ahLst/>
                <a:rect l="l" t="t" r="r" b="b"/>
                <a:pathLst>
                  <a:path w="13445" h="8130">
                    <a:moveTo>
                      <a:pt x="1232" y="2513"/>
                    </a:moveTo>
                    <a:lnTo>
                      <a:pt x="1462" y="2538"/>
                    </a:lnTo>
                    <a:lnTo>
                      <a:pt x="1691" y="2513"/>
                    </a:lnTo>
                    <a:lnTo>
                      <a:pt x="1948" y="2462"/>
                    </a:lnTo>
                    <a:lnTo>
                      <a:pt x="2153" y="2305"/>
                    </a:lnTo>
                    <a:lnTo>
                      <a:pt x="2283" y="2128"/>
                    </a:lnTo>
                    <a:lnTo>
                      <a:pt x="2307" y="1999"/>
                    </a:lnTo>
                    <a:lnTo>
                      <a:pt x="2358" y="1814"/>
                    </a:lnTo>
                    <a:lnTo>
                      <a:pt x="2331" y="1452"/>
                    </a:lnTo>
                    <a:lnTo>
                      <a:pt x="2256" y="1191"/>
                    </a:lnTo>
                    <a:lnTo>
                      <a:pt x="2129" y="1009"/>
                    </a:lnTo>
                    <a:lnTo>
                      <a:pt x="1999" y="881"/>
                    </a:lnTo>
                    <a:lnTo>
                      <a:pt x="1872" y="804"/>
                    </a:lnTo>
                    <a:lnTo>
                      <a:pt x="1718" y="752"/>
                    </a:lnTo>
                    <a:lnTo>
                      <a:pt x="1486" y="672"/>
                    </a:lnTo>
                    <a:lnTo>
                      <a:pt x="616" y="495"/>
                    </a:lnTo>
                    <a:lnTo>
                      <a:pt x="667" y="0"/>
                    </a:lnTo>
                    <a:lnTo>
                      <a:pt x="13445" y="2580"/>
                    </a:lnTo>
                    <a:lnTo>
                      <a:pt x="12736" y="8130"/>
                    </a:lnTo>
                    <a:lnTo>
                      <a:pt x="0" y="5341"/>
                    </a:lnTo>
                    <a:lnTo>
                      <a:pt x="359" y="2361"/>
                    </a:lnTo>
                    <a:lnTo>
                      <a:pt x="1232" y="25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906600" y="3949200"/>
                <a:ext cx="284040" cy="183960"/>
              </a:xfrm>
              <a:custGeom>
                <a:avLst/>
                <a:gdLst/>
                <a:ahLst/>
                <a:rect l="l" t="t" r="r" b="b"/>
                <a:pathLst>
                  <a:path w="9776" h="5683">
                    <a:moveTo>
                      <a:pt x="0" y="3667"/>
                    </a:moveTo>
                    <a:lnTo>
                      <a:pt x="530" y="0"/>
                    </a:lnTo>
                    <a:lnTo>
                      <a:pt x="9776" y="1787"/>
                    </a:lnTo>
                    <a:lnTo>
                      <a:pt x="9245" y="5683"/>
                    </a:lnTo>
                    <a:lnTo>
                      <a:pt x="0" y="36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906600" y="3949200"/>
                <a:ext cx="284040" cy="183960"/>
              </a:xfrm>
              <a:custGeom>
                <a:avLst/>
                <a:gdLst/>
                <a:ahLst/>
                <a:rect l="l" t="t" r="r" b="b"/>
                <a:pathLst>
                  <a:path w="9776" h="5683">
                    <a:moveTo>
                      <a:pt x="0" y="3667"/>
                    </a:moveTo>
                    <a:lnTo>
                      <a:pt x="530" y="0"/>
                    </a:lnTo>
                    <a:lnTo>
                      <a:pt x="9776" y="1787"/>
                    </a:lnTo>
                    <a:lnTo>
                      <a:pt x="9245" y="5683"/>
                    </a:lnTo>
                    <a:lnTo>
                      <a:pt x="0" y="36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922800" y="3965040"/>
                <a:ext cx="252000" cy="153360"/>
              </a:xfrm>
              <a:custGeom>
                <a:avLst/>
                <a:gdLst/>
                <a:ahLst/>
                <a:rect l="l" t="t" r="r" b="b"/>
                <a:pathLst>
                  <a:path w="8670" h="4742">
                    <a:moveTo>
                      <a:pt x="398" y="0"/>
                    </a:moveTo>
                    <a:lnTo>
                      <a:pt x="8670" y="1609"/>
                    </a:lnTo>
                    <a:lnTo>
                      <a:pt x="8273" y="4742"/>
                    </a:lnTo>
                    <a:lnTo>
                      <a:pt x="0" y="2953"/>
                    </a:lnTo>
                    <a:lnTo>
                      <a:pt x="398" y="0"/>
                    </a:lnTo>
                    <a:close/>
                  </a:path>
                </a:pathLst>
              </a:custGeom>
              <a:solidFill>
                <a:srgbClr val="00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922800" y="3965040"/>
                <a:ext cx="252000" cy="153360"/>
              </a:xfrm>
              <a:custGeom>
                <a:avLst/>
                <a:gdLst/>
                <a:ahLst/>
                <a:rect l="l" t="t" r="r" b="b"/>
                <a:pathLst>
                  <a:path w="8670" h="4742">
                    <a:moveTo>
                      <a:pt x="398" y="0"/>
                    </a:moveTo>
                    <a:lnTo>
                      <a:pt x="8670" y="1609"/>
                    </a:lnTo>
                    <a:lnTo>
                      <a:pt x="8273" y="4742"/>
                    </a:lnTo>
                    <a:lnTo>
                      <a:pt x="0" y="2953"/>
                    </a:lnTo>
                    <a:lnTo>
                      <a:pt x="398" y="0"/>
                    </a:lnTo>
                  </a:path>
                </a:pathLst>
              </a:custGeom>
              <a:noFill/>
              <a:ln w="0">
                <a:solidFill>
                  <a:srgbClr val="00a1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789960" y="4160880"/>
                <a:ext cx="29160" cy="18360"/>
              </a:xfrm>
              <a:custGeom>
                <a:avLst/>
                <a:gdLst/>
                <a:ahLst/>
                <a:rect l="l" t="t" r="r" b="b"/>
                <a:pathLst>
                  <a:path w="993" h="561">
                    <a:moveTo>
                      <a:pt x="0" y="415"/>
                    </a:moveTo>
                    <a:lnTo>
                      <a:pt x="473" y="0"/>
                    </a:lnTo>
                    <a:lnTo>
                      <a:pt x="993" y="115"/>
                    </a:lnTo>
                    <a:lnTo>
                      <a:pt x="586" y="561"/>
                    </a:lnTo>
                    <a:lnTo>
                      <a:pt x="0" y="41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789960" y="4160880"/>
                <a:ext cx="29160" cy="18360"/>
              </a:xfrm>
              <a:custGeom>
                <a:avLst/>
                <a:gdLst/>
                <a:ahLst/>
                <a:rect l="l" t="t" r="r" b="b"/>
                <a:pathLst>
                  <a:path w="993" h="561">
                    <a:moveTo>
                      <a:pt x="0" y="415"/>
                    </a:moveTo>
                    <a:lnTo>
                      <a:pt x="473" y="0"/>
                    </a:lnTo>
                    <a:lnTo>
                      <a:pt x="993" y="115"/>
                    </a:lnTo>
                    <a:lnTo>
                      <a:pt x="586" y="561"/>
                    </a:lnTo>
                    <a:lnTo>
                      <a:pt x="0" y="4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775560" y="417672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85" h="608">
                    <a:moveTo>
                      <a:pt x="458" y="0"/>
                    </a:moveTo>
                    <a:lnTo>
                      <a:pt x="1185" y="177"/>
                    </a:lnTo>
                    <a:lnTo>
                      <a:pt x="822" y="608"/>
                    </a:lnTo>
                    <a:lnTo>
                      <a:pt x="0" y="399"/>
                    </a:lnTo>
                    <a:lnTo>
                      <a:pt x="458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775560" y="417672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85" h="608">
                    <a:moveTo>
                      <a:pt x="458" y="0"/>
                    </a:moveTo>
                    <a:lnTo>
                      <a:pt x="1185" y="177"/>
                    </a:lnTo>
                    <a:lnTo>
                      <a:pt x="822" y="608"/>
                    </a:lnTo>
                    <a:lnTo>
                      <a:pt x="0" y="399"/>
                    </a:lnTo>
                    <a:lnTo>
                      <a:pt x="4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759720" y="4192560"/>
                <a:ext cx="44640" cy="22320"/>
              </a:xfrm>
              <a:custGeom>
                <a:avLst/>
                <a:gdLst/>
                <a:ahLst/>
                <a:rect l="l" t="t" r="r" b="b"/>
                <a:pathLst>
                  <a:path w="1530" h="686">
                    <a:moveTo>
                      <a:pt x="441" y="0"/>
                    </a:moveTo>
                    <a:lnTo>
                      <a:pt x="1530" y="257"/>
                    </a:lnTo>
                    <a:lnTo>
                      <a:pt x="1185" y="686"/>
                    </a:lnTo>
                    <a:lnTo>
                      <a:pt x="0" y="401"/>
                    </a:lnTo>
                    <a:lnTo>
                      <a:pt x="441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759720" y="4192560"/>
                <a:ext cx="44640" cy="22320"/>
              </a:xfrm>
              <a:custGeom>
                <a:avLst/>
                <a:gdLst/>
                <a:ahLst/>
                <a:rect l="l" t="t" r="r" b="b"/>
                <a:pathLst>
                  <a:path w="1530" h="686">
                    <a:moveTo>
                      <a:pt x="441" y="0"/>
                    </a:moveTo>
                    <a:lnTo>
                      <a:pt x="1530" y="257"/>
                    </a:lnTo>
                    <a:lnTo>
                      <a:pt x="1185" y="686"/>
                    </a:lnTo>
                    <a:lnTo>
                      <a:pt x="0" y="401"/>
                    </a:lnTo>
                    <a:lnTo>
                      <a:pt x="44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742080" y="420732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84" h="610">
                    <a:moveTo>
                      <a:pt x="503" y="0"/>
                    </a:moveTo>
                    <a:lnTo>
                      <a:pt x="1184" y="177"/>
                    </a:lnTo>
                    <a:lnTo>
                      <a:pt x="725" y="610"/>
                    </a:lnTo>
                    <a:lnTo>
                      <a:pt x="0" y="400"/>
                    </a:lnTo>
                    <a:lnTo>
                      <a:pt x="50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742080" y="420732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84" h="610">
                    <a:moveTo>
                      <a:pt x="503" y="0"/>
                    </a:moveTo>
                    <a:lnTo>
                      <a:pt x="1184" y="177"/>
                    </a:lnTo>
                    <a:lnTo>
                      <a:pt x="725" y="610"/>
                    </a:lnTo>
                    <a:lnTo>
                      <a:pt x="0" y="400"/>
                    </a:lnTo>
                    <a:lnTo>
                      <a:pt x="50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724440" y="4221720"/>
                <a:ext cx="33120" cy="18360"/>
              </a:xfrm>
              <a:custGeom>
                <a:avLst/>
                <a:gdLst/>
                <a:ahLst/>
                <a:rect l="l" t="t" r="r" b="b"/>
                <a:pathLst>
                  <a:path w="1150" h="575">
                    <a:moveTo>
                      <a:pt x="520" y="0"/>
                    </a:moveTo>
                    <a:lnTo>
                      <a:pt x="1150" y="161"/>
                    </a:lnTo>
                    <a:lnTo>
                      <a:pt x="647" y="575"/>
                    </a:lnTo>
                    <a:lnTo>
                      <a:pt x="0" y="428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724440" y="4221720"/>
                <a:ext cx="33120" cy="18360"/>
              </a:xfrm>
              <a:custGeom>
                <a:avLst/>
                <a:gdLst/>
                <a:ahLst/>
                <a:rect l="l" t="t" r="r" b="b"/>
                <a:pathLst>
                  <a:path w="1150" h="575">
                    <a:moveTo>
                      <a:pt x="520" y="0"/>
                    </a:moveTo>
                    <a:lnTo>
                      <a:pt x="1150" y="161"/>
                    </a:lnTo>
                    <a:lnTo>
                      <a:pt x="647" y="575"/>
                    </a:lnTo>
                    <a:lnTo>
                      <a:pt x="0" y="428"/>
                    </a:lnTo>
                    <a:lnTo>
                      <a:pt x="5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747840" y="422820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63" h="606">
                    <a:moveTo>
                      <a:pt x="0" y="414"/>
                    </a:moveTo>
                    <a:lnTo>
                      <a:pt x="503" y="0"/>
                    </a:lnTo>
                    <a:lnTo>
                      <a:pt x="1163" y="174"/>
                    </a:lnTo>
                    <a:lnTo>
                      <a:pt x="752" y="606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747840" y="422820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63" h="606">
                    <a:moveTo>
                      <a:pt x="0" y="414"/>
                    </a:moveTo>
                    <a:lnTo>
                      <a:pt x="503" y="0"/>
                    </a:lnTo>
                    <a:lnTo>
                      <a:pt x="1163" y="174"/>
                    </a:lnTo>
                    <a:lnTo>
                      <a:pt x="752" y="606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768360" y="4215240"/>
                <a:ext cx="33480" cy="18360"/>
              </a:xfrm>
              <a:custGeom>
                <a:avLst/>
                <a:gdLst/>
                <a:ahLst/>
                <a:rect l="l" t="t" r="r" b="b"/>
                <a:pathLst>
                  <a:path w="1150" h="606">
                    <a:moveTo>
                      <a:pt x="410" y="0"/>
                    </a:moveTo>
                    <a:lnTo>
                      <a:pt x="1150" y="178"/>
                    </a:lnTo>
                    <a:lnTo>
                      <a:pt x="773" y="606"/>
                    </a:lnTo>
                    <a:lnTo>
                      <a:pt x="0" y="414"/>
                    </a:lnTo>
                    <a:lnTo>
                      <a:pt x="41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768360" y="4215240"/>
                <a:ext cx="33480" cy="18360"/>
              </a:xfrm>
              <a:custGeom>
                <a:avLst/>
                <a:gdLst/>
                <a:ahLst/>
                <a:rect l="l" t="t" r="r" b="b"/>
                <a:pathLst>
                  <a:path w="1150" h="606">
                    <a:moveTo>
                      <a:pt x="410" y="0"/>
                    </a:moveTo>
                    <a:lnTo>
                      <a:pt x="1150" y="178"/>
                    </a:lnTo>
                    <a:lnTo>
                      <a:pt x="773" y="606"/>
                    </a:lnTo>
                    <a:lnTo>
                      <a:pt x="0" y="414"/>
                    </a:lnTo>
                    <a:lnTo>
                      <a:pt x="4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772680" y="423504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68" h="606">
                    <a:moveTo>
                      <a:pt x="394" y="0"/>
                    </a:moveTo>
                    <a:lnTo>
                      <a:pt x="1168" y="192"/>
                    </a:lnTo>
                    <a:lnTo>
                      <a:pt x="744" y="606"/>
                    </a:lnTo>
                    <a:lnTo>
                      <a:pt x="0" y="432"/>
                    </a:lnTo>
                    <a:lnTo>
                      <a:pt x="394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772680" y="423504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68" h="606">
                    <a:moveTo>
                      <a:pt x="394" y="0"/>
                    </a:moveTo>
                    <a:lnTo>
                      <a:pt x="1168" y="192"/>
                    </a:lnTo>
                    <a:lnTo>
                      <a:pt x="744" y="606"/>
                    </a:lnTo>
                    <a:lnTo>
                      <a:pt x="0" y="432"/>
                    </a:lnTo>
                    <a:lnTo>
                      <a:pt x="39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798960" y="424296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97" h="619">
                    <a:moveTo>
                      <a:pt x="0" y="428"/>
                    </a:moveTo>
                    <a:lnTo>
                      <a:pt x="472" y="0"/>
                    </a:lnTo>
                    <a:lnTo>
                      <a:pt x="1197" y="188"/>
                    </a:lnTo>
                    <a:lnTo>
                      <a:pt x="773" y="619"/>
                    </a:lnTo>
                    <a:lnTo>
                      <a:pt x="0" y="42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798960" y="424296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97" h="619">
                    <a:moveTo>
                      <a:pt x="0" y="428"/>
                    </a:moveTo>
                    <a:lnTo>
                      <a:pt x="472" y="0"/>
                    </a:lnTo>
                    <a:lnTo>
                      <a:pt x="1197" y="188"/>
                    </a:lnTo>
                    <a:lnTo>
                      <a:pt x="773" y="619"/>
                    </a:lnTo>
                    <a:lnTo>
                      <a:pt x="0" y="4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823800" y="4249800"/>
                <a:ext cx="173160" cy="57960"/>
              </a:xfrm>
              <a:custGeom>
                <a:avLst/>
                <a:gdLst/>
                <a:ahLst/>
                <a:rect l="l" t="t" r="r" b="b"/>
                <a:pathLst>
                  <a:path w="5907" h="1800">
                    <a:moveTo>
                      <a:pt x="5907" y="1389"/>
                    </a:moveTo>
                    <a:lnTo>
                      <a:pt x="458" y="0"/>
                    </a:lnTo>
                    <a:lnTo>
                      <a:pt x="0" y="414"/>
                    </a:lnTo>
                    <a:lnTo>
                      <a:pt x="5558" y="1800"/>
                    </a:lnTo>
                    <a:lnTo>
                      <a:pt x="5907" y="138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823800" y="4249800"/>
                <a:ext cx="173160" cy="57960"/>
              </a:xfrm>
              <a:custGeom>
                <a:avLst/>
                <a:gdLst/>
                <a:ahLst/>
                <a:rect l="l" t="t" r="r" b="b"/>
                <a:pathLst>
                  <a:path w="5907" h="1800">
                    <a:moveTo>
                      <a:pt x="5907" y="1389"/>
                    </a:moveTo>
                    <a:lnTo>
                      <a:pt x="458" y="0"/>
                    </a:lnTo>
                    <a:lnTo>
                      <a:pt x="0" y="414"/>
                    </a:lnTo>
                    <a:lnTo>
                      <a:pt x="5558" y="1800"/>
                    </a:lnTo>
                    <a:lnTo>
                      <a:pt x="5907" y="13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822000" y="4228200"/>
                <a:ext cx="29160" cy="21240"/>
              </a:xfrm>
              <a:custGeom>
                <a:avLst/>
                <a:gdLst/>
                <a:ahLst/>
                <a:rect l="l" t="t" r="r" b="b"/>
                <a:pathLst>
                  <a:path w="1023" h="624">
                    <a:moveTo>
                      <a:pt x="0" y="433"/>
                    </a:moveTo>
                    <a:lnTo>
                      <a:pt x="377" y="0"/>
                    </a:lnTo>
                    <a:lnTo>
                      <a:pt x="1023" y="161"/>
                    </a:lnTo>
                    <a:lnTo>
                      <a:pt x="691" y="624"/>
                    </a:lnTo>
                    <a:lnTo>
                      <a:pt x="0" y="43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822000" y="4228200"/>
                <a:ext cx="29160" cy="21240"/>
              </a:xfrm>
              <a:custGeom>
                <a:avLst/>
                <a:gdLst/>
                <a:ahLst/>
                <a:rect l="l" t="t" r="r" b="b"/>
                <a:pathLst>
                  <a:path w="1023" h="624">
                    <a:moveTo>
                      <a:pt x="0" y="433"/>
                    </a:moveTo>
                    <a:lnTo>
                      <a:pt x="377" y="0"/>
                    </a:lnTo>
                    <a:lnTo>
                      <a:pt x="1023" y="161"/>
                    </a:lnTo>
                    <a:lnTo>
                      <a:pt x="691" y="624"/>
                    </a:lnTo>
                    <a:lnTo>
                      <a:pt x="0" y="4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828120" y="42098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22">
                    <a:moveTo>
                      <a:pt x="0" y="417"/>
                    </a:moveTo>
                    <a:lnTo>
                      <a:pt x="301" y="0"/>
                    </a:lnTo>
                    <a:lnTo>
                      <a:pt x="1040" y="177"/>
                    </a:lnTo>
                    <a:lnTo>
                      <a:pt x="743" y="622"/>
                    </a:lnTo>
                    <a:lnTo>
                      <a:pt x="0" y="41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828120" y="42098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22">
                    <a:moveTo>
                      <a:pt x="0" y="417"/>
                    </a:moveTo>
                    <a:lnTo>
                      <a:pt x="301" y="0"/>
                    </a:lnTo>
                    <a:lnTo>
                      <a:pt x="1040" y="177"/>
                    </a:lnTo>
                    <a:lnTo>
                      <a:pt x="743" y="622"/>
                    </a:lnTo>
                    <a:lnTo>
                      <a:pt x="0" y="4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833880" y="41925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2" h="606">
                    <a:moveTo>
                      <a:pt x="0" y="431"/>
                    </a:moveTo>
                    <a:lnTo>
                      <a:pt x="345" y="0"/>
                    </a:lnTo>
                    <a:lnTo>
                      <a:pt x="1072" y="174"/>
                    </a:lnTo>
                    <a:lnTo>
                      <a:pt x="756" y="606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833880" y="41925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2" h="606">
                    <a:moveTo>
                      <a:pt x="0" y="431"/>
                    </a:moveTo>
                    <a:lnTo>
                      <a:pt x="345" y="0"/>
                    </a:lnTo>
                    <a:lnTo>
                      <a:pt x="1072" y="174"/>
                    </a:lnTo>
                    <a:lnTo>
                      <a:pt x="756" y="606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839640" y="41738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22">
                    <a:moveTo>
                      <a:pt x="0" y="462"/>
                    </a:moveTo>
                    <a:lnTo>
                      <a:pt x="363" y="0"/>
                    </a:lnTo>
                    <a:lnTo>
                      <a:pt x="1058" y="160"/>
                    </a:lnTo>
                    <a:lnTo>
                      <a:pt x="725" y="622"/>
                    </a:lnTo>
                    <a:lnTo>
                      <a:pt x="0" y="46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839640" y="41738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22">
                    <a:moveTo>
                      <a:pt x="0" y="462"/>
                    </a:moveTo>
                    <a:lnTo>
                      <a:pt x="363" y="0"/>
                    </a:lnTo>
                    <a:lnTo>
                      <a:pt x="1058" y="160"/>
                    </a:lnTo>
                    <a:lnTo>
                      <a:pt x="725" y="622"/>
                    </a:lnTo>
                    <a:lnTo>
                      <a:pt x="0" y="4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814800" y="41673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3" h="592">
                    <a:moveTo>
                      <a:pt x="0" y="432"/>
                    </a:moveTo>
                    <a:lnTo>
                      <a:pt x="411" y="0"/>
                    </a:lnTo>
                    <a:lnTo>
                      <a:pt x="1023" y="160"/>
                    </a:lnTo>
                    <a:lnTo>
                      <a:pt x="660" y="592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814800" y="41673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3" h="592">
                    <a:moveTo>
                      <a:pt x="0" y="432"/>
                    </a:moveTo>
                    <a:lnTo>
                      <a:pt x="411" y="0"/>
                    </a:lnTo>
                    <a:lnTo>
                      <a:pt x="1023" y="160"/>
                    </a:lnTo>
                    <a:lnTo>
                      <a:pt x="660" y="592"/>
                    </a:lnTo>
                    <a:lnTo>
                      <a:pt x="0" y="4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809040" y="41860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574">
                    <a:moveTo>
                      <a:pt x="0" y="414"/>
                    </a:moveTo>
                    <a:lnTo>
                      <a:pt x="376" y="0"/>
                    </a:lnTo>
                    <a:lnTo>
                      <a:pt x="1040" y="156"/>
                    </a:lnTo>
                    <a:lnTo>
                      <a:pt x="691" y="574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809040" y="41860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574">
                    <a:moveTo>
                      <a:pt x="0" y="414"/>
                    </a:moveTo>
                    <a:lnTo>
                      <a:pt x="376" y="0"/>
                    </a:lnTo>
                    <a:lnTo>
                      <a:pt x="1040" y="156"/>
                    </a:lnTo>
                    <a:lnTo>
                      <a:pt x="691" y="574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801840" y="420300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1" h="574">
                    <a:moveTo>
                      <a:pt x="0" y="414"/>
                    </a:moveTo>
                    <a:lnTo>
                      <a:pt x="363" y="0"/>
                    </a:lnTo>
                    <a:lnTo>
                      <a:pt x="1041" y="160"/>
                    </a:lnTo>
                    <a:lnTo>
                      <a:pt x="681" y="574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801840" y="420300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1" h="574">
                    <a:moveTo>
                      <a:pt x="0" y="414"/>
                    </a:moveTo>
                    <a:lnTo>
                      <a:pt x="363" y="0"/>
                    </a:lnTo>
                    <a:lnTo>
                      <a:pt x="1041" y="160"/>
                    </a:lnTo>
                    <a:lnTo>
                      <a:pt x="681" y="574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794640" y="42217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606">
                    <a:moveTo>
                      <a:pt x="0" y="446"/>
                    </a:moveTo>
                    <a:lnTo>
                      <a:pt x="410" y="0"/>
                    </a:lnTo>
                    <a:lnTo>
                      <a:pt x="1040" y="174"/>
                    </a:lnTo>
                    <a:lnTo>
                      <a:pt x="629" y="606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794640" y="42217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606">
                    <a:moveTo>
                      <a:pt x="0" y="446"/>
                    </a:moveTo>
                    <a:lnTo>
                      <a:pt x="410" y="0"/>
                    </a:lnTo>
                    <a:lnTo>
                      <a:pt x="1040" y="174"/>
                    </a:lnTo>
                    <a:lnTo>
                      <a:pt x="629" y="606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846840" y="423648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37">
                    <a:moveTo>
                      <a:pt x="0" y="446"/>
                    </a:moveTo>
                    <a:lnTo>
                      <a:pt x="332" y="0"/>
                    </a:lnTo>
                    <a:lnTo>
                      <a:pt x="1041" y="174"/>
                    </a:lnTo>
                    <a:lnTo>
                      <a:pt x="757" y="637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846840" y="423648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37">
                    <a:moveTo>
                      <a:pt x="0" y="446"/>
                    </a:moveTo>
                    <a:lnTo>
                      <a:pt x="332" y="0"/>
                    </a:lnTo>
                    <a:lnTo>
                      <a:pt x="1041" y="174"/>
                    </a:lnTo>
                    <a:lnTo>
                      <a:pt x="757" y="637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854040" y="42177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06">
                    <a:moveTo>
                      <a:pt x="0" y="443"/>
                    </a:moveTo>
                    <a:lnTo>
                      <a:pt x="347" y="0"/>
                    </a:lnTo>
                    <a:lnTo>
                      <a:pt x="1058" y="160"/>
                    </a:lnTo>
                    <a:lnTo>
                      <a:pt x="757" y="606"/>
                    </a:lnTo>
                    <a:lnTo>
                      <a:pt x="0" y="44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854040" y="42177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06">
                    <a:moveTo>
                      <a:pt x="0" y="443"/>
                    </a:moveTo>
                    <a:lnTo>
                      <a:pt x="347" y="0"/>
                    </a:lnTo>
                    <a:lnTo>
                      <a:pt x="1058" y="160"/>
                    </a:lnTo>
                    <a:lnTo>
                      <a:pt x="757" y="606"/>
                    </a:lnTo>
                    <a:lnTo>
                      <a:pt x="0" y="4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860160" y="4199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5" h="606">
                    <a:moveTo>
                      <a:pt x="0" y="414"/>
                    </a:moveTo>
                    <a:lnTo>
                      <a:pt x="319" y="0"/>
                    </a:lnTo>
                    <a:lnTo>
                      <a:pt x="1045" y="161"/>
                    </a:lnTo>
                    <a:lnTo>
                      <a:pt x="761" y="606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860160" y="4199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5" h="606">
                    <a:moveTo>
                      <a:pt x="0" y="414"/>
                    </a:moveTo>
                    <a:lnTo>
                      <a:pt x="319" y="0"/>
                    </a:lnTo>
                    <a:lnTo>
                      <a:pt x="1045" y="161"/>
                    </a:lnTo>
                    <a:lnTo>
                      <a:pt x="761" y="606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865920" y="418068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09" h="621">
                    <a:moveTo>
                      <a:pt x="0" y="459"/>
                    </a:moveTo>
                    <a:lnTo>
                      <a:pt x="301" y="0"/>
                    </a:lnTo>
                    <a:lnTo>
                      <a:pt x="1009" y="174"/>
                    </a:lnTo>
                    <a:lnTo>
                      <a:pt x="711" y="621"/>
                    </a:lnTo>
                    <a:lnTo>
                      <a:pt x="0" y="45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865920" y="418068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09" h="621">
                    <a:moveTo>
                      <a:pt x="0" y="459"/>
                    </a:moveTo>
                    <a:lnTo>
                      <a:pt x="301" y="0"/>
                    </a:lnTo>
                    <a:lnTo>
                      <a:pt x="1009" y="174"/>
                    </a:lnTo>
                    <a:lnTo>
                      <a:pt x="711" y="621"/>
                    </a:lnTo>
                    <a:lnTo>
                      <a:pt x="0" y="4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874560" y="424296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46"/>
                    </a:moveTo>
                    <a:lnTo>
                      <a:pt x="345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874560" y="424296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46"/>
                    </a:moveTo>
                    <a:lnTo>
                      <a:pt x="345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880680" y="42256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54" h="605">
                    <a:moveTo>
                      <a:pt x="0" y="431"/>
                    </a:moveTo>
                    <a:lnTo>
                      <a:pt x="394" y="0"/>
                    </a:lnTo>
                    <a:lnTo>
                      <a:pt x="1054" y="142"/>
                    </a:lnTo>
                    <a:lnTo>
                      <a:pt x="739" y="605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880680" y="42256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54" h="605">
                    <a:moveTo>
                      <a:pt x="0" y="431"/>
                    </a:moveTo>
                    <a:lnTo>
                      <a:pt x="394" y="0"/>
                    </a:lnTo>
                    <a:lnTo>
                      <a:pt x="1054" y="142"/>
                    </a:lnTo>
                    <a:lnTo>
                      <a:pt x="739" y="605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886080" y="4207320"/>
                <a:ext cx="30600" cy="18000"/>
              </a:xfrm>
              <a:custGeom>
                <a:avLst/>
                <a:gdLst/>
                <a:ahLst/>
                <a:rect l="l" t="t" r="r" b="b"/>
                <a:pathLst>
                  <a:path w="1010" h="575">
                    <a:moveTo>
                      <a:pt x="0" y="431"/>
                    </a:moveTo>
                    <a:lnTo>
                      <a:pt x="346" y="0"/>
                    </a:lnTo>
                    <a:lnTo>
                      <a:pt x="1010" y="160"/>
                    </a:lnTo>
                    <a:lnTo>
                      <a:pt x="661" y="575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886080" y="4207320"/>
                <a:ext cx="30600" cy="18000"/>
              </a:xfrm>
              <a:custGeom>
                <a:avLst/>
                <a:gdLst/>
                <a:ahLst/>
                <a:rect l="l" t="t" r="r" b="b"/>
                <a:pathLst>
                  <a:path w="1010" h="575">
                    <a:moveTo>
                      <a:pt x="0" y="431"/>
                    </a:moveTo>
                    <a:lnTo>
                      <a:pt x="346" y="0"/>
                    </a:lnTo>
                    <a:lnTo>
                      <a:pt x="1010" y="160"/>
                    </a:lnTo>
                    <a:lnTo>
                      <a:pt x="661" y="575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892200" y="418716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54">
                    <a:moveTo>
                      <a:pt x="0" y="480"/>
                    </a:moveTo>
                    <a:lnTo>
                      <a:pt x="332" y="0"/>
                    </a:lnTo>
                    <a:lnTo>
                      <a:pt x="1040" y="191"/>
                    </a:lnTo>
                    <a:lnTo>
                      <a:pt x="729" y="654"/>
                    </a:lnTo>
                    <a:lnTo>
                      <a:pt x="0" y="48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892200" y="418716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54">
                    <a:moveTo>
                      <a:pt x="0" y="480"/>
                    </a:moveTo>
                    <a:lnTo>
                      <a:pt x="332" y="0"/>
                    </a:lnTo>
                    <a:lnTo>
                      <a:pt x="1040" y="191"/>
                    </a:lnTo>
                    <a:lnTo>
                      <a:pt x="729" y="654"/>
                    </a:lnTo>
                    <a:lnTo>
                      <a:pt x="0" y="4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900840" y="425088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979" h="641">
                    <a:moveTo>
                      <a:pt x="0" y="463"/>
                    </a:moveTo>
                    <a:lnTo>
                      <a:pt x="298" y="0"/>
                    </a:lnTo>
                    <a:lnTo>
                      <a:pt x="979" y="178"/>
                    </a:lnTo>
                    <a:lnTo>
                      <a:pt x="692" y="64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900840" y="425088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979" h="641">
                    <a:moveTo>
                      <a:pt x="0" y="463"/>
                    </a:moveTo>
                    <a:lnTo>
                      <a:pt x="298" y="0"/>
                    </a:lnTo>
                    <a:lnTo>
                      <a:pt x="979" y="178"/>
                    </a:lnTo>
                    <a:lnTo>
                      <a:pt x="692" y="641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906600" y="423216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10" h="609">
                    <a:moveTo>
                      <a:pt x="0" y="432"/>
                    </a:moveTo>
                    <a:lnTo>
                      <a:pt x="318" y="0"/>
                    </a:lnTo>
                    <a:lnTo>
                      <a:pt x="1010" y="163"/>
                    </a:lnTo>
                    <a:lnTo>
                      <a:pt x="711" y="609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906600" y="423216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10" h="609">
                    <a:moveTo>
                      <a:pt x="0" y="432"/>
                    </a:moveTo>
                    <a:lnTo>
                      <a:pt x="318" y="0"/>
                    </a:lnTo>
                    <a:lnTo>
                      <a:pt x="1010" y="163"/>
                    </a:lnTo>
                    <a:lnTo>
                      <a:pt x="711" y="609"/>
                    </a:lnTo>
                    <a:lnTo>
                      <a:pt x="0" y="4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912720" y="4213800"/>
                <a:ext cx="27720" cy="18000"/>
              </a:xfrm>
              <a:custGeom>
                <a:avLst/>
                <a:gdLst/>
                <a:ahLst/>
                <a:rect l="l" t="t" r="r" b="b"/>
                <a:pathLst>
                  <a:path w="976" h="589">
                    <a:moveTo>
                      <a:pt x="0" y="433"/>
                    </a:moveTo>
                    <a:lnTo>
                      <a:pt x="312" y="0"/>
                    </a:lnTo>
                    <a:lnTo>
                      <a:pt x="976" y="161"/>
                    </a:lnTo>
                    <a:lnTo>
                      <a:pt x="691" y="589"/>
                    </a:lnTo>
                    <a:lnTo>
                      <a:pt x="0" y="43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912720" y="4213800"/>
                <a:ext cx="27720" cy="18000"/>
              </a:xfrm>
              <a:custGeom>
                <a:avLst/>
                <a:gdLst/>
                <a:ahLst/>
                <a:rect l="l" t="t" r="r" b="b"/>
                <a:pathLst>
                  <a:path w="976" h="589">
                    <a:moveTo>
                      <a:pt x="0" y="433"/>
                    </a:moveTo>
                    <a:lnTo>
                      <a:pt x="312" y="0"/>
                    </a:lnTo>
                    <a:lnTo>
                      <a:pt x="976" y="161"/>
                    </a:lnTo>
                    <a:lnTo>
                      <a:pt x="691" y="589"/>
                    </a:lnTo>
                    <a:lnTo>
                      <a:pt x="0" y="4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918120" y="419400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969" h="623">
                    <a:moveTo>
                      <a:pt x="0" y="463"/>
                    </a:moveTo>
                    <a:lnTo>
                      <a:pt x="363" y="0"/>
                    </a:lnTo>
                    <a:lnTo>
                      <a:pt x="969" y="160"/>
                    </a:lnTo>
                    <a:lnTo>
                      <a:pt x="645" y="623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18120" y="419400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969" h="623">
                    <a:moveTo>
                      <a:pt x="0" y="463"/>
                    </a:moveTo>
                    <a:lnTo>
                      <a:pt x="363" y="0"/>
                    </a:lnTo>
                    <a:lnTo>
                      <a:pt x="969" y="160"/>
                    </a:lnTo>
                    <a:lnTo>
                      <a:pt x="645" y="623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25680" y="425736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1010" h="623">
                    <a:moveTo>
                      <a:pt x="0" y="446"/>
                    </a:moveTo>
                    <a:lnTo>
                      <a:pt x="316" y="0"/>
                    </a:lnTo>
                    <a:lnTo>
                      <a:pt x="1010" y="174"/>
                    </a:lnTo>
                    <a:lnTo>
                      <a:pt x="712" y="623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925680" y="425736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1010" h="623">
                    <a:moveTo>
                      <a:pt x="0" y="446"/>
                    </a:moveTo>
                    <a:lnTo>
                      <a:pt x="316" y="0"/>
                    </a:lnTo>
                    <a:lnTo>
                      <a:pt x="1010" y="174"/>
                    </a:lnTo>
                    <a:lnTo>
                      <a:pt x="712" y="623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931440" y="42390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6">
                    <a:moveTo>
                      <a:pt x="0" y="442"/>
                    </a:moveTo>
                    <a:lnTo>
                      <a:pt x="329" y="0"/>
                    </a:lnTo>
                    <a:lnTo>
                      <a:pt x="1009" y="174"/>
                    </a:lnTo>
                    <a:lnTo>
                      <a:pt x="691" y="606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931440" y="42390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6">
                    <a:moveTo>
                      <a:pt x="0" y="442"/>
                    </a:moveTo>
                    <a:lnTo>
                      <a:pt x="329" y="0"/>
                    </a:lnTo>
                    <a:lnTo>
                      <a:pt x="1009" y="174"/>
                    </a:lnTo>
                    <a:lnTo>
                      <a:pt x="691" y="606"/>
                    </a:lnTo>
                    <a:lnTo>
                      <a:pt x="0" y="4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935760" y="42206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2" h="605">
                    <a:moveTo>
                      <a:pt x="0" y="441"/>
                    </a:moveTo>
                    <a:lnTo>
                      <a:pt x="317" y="0"/>
                    </a:lnTo>
                    <a:lnTo>
                      <a:pt x="1022" y="157"/>
                    </a:lnTo>
                    <a:lnTo>
                      <a:pt x="711" y="605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935760" y="42206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2" h="605">
                    <a:moveTo>
                      <a:pt x="0" y="441"/>
                    </a:moveTo>
                    <a:lnTo>
                      <a:pt x="317" y="0"/>
                    </a:lnTo>
                    <a:lnTo>
                      <a:pt x="1022" y="157"/>
                    </a:lnTo>
                    <a:lnTo>
                      <a:pt x="711" y="605"/>
                    </a:lnTo>
                    <a:lnTo>
                      <a:pt x="0" y="4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941880" y="420084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1" h="652">
                    <a:moveTo>
                      <a:pt x="0" y="478"/>
                    </a:moveTo>
                    <a:lnTo>
                      <a:pt x="359" y="0"/>
                    </a:lnTo>
                    <a:lnTo>
                      <a:pt x="1071" y="174"/>
                    </a:lnTo>
                    <a:lnTo>
                      <a:pt x="739" y="652"/>
                    </a:lnTo>
                    <a:lnTo>
                      <a:pt x="0" y="4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941880" y="420084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1" h="652">
                    <a:moveTo>
                      <a:pt x="0" y="478"/>
                    </a:moveTo>
                    <a:lnTo>
                      <a:pt x="359" y="0"/>
                    </a:lnTo>
                    <a:lnTo>
                      <a:pt x="1071" y="174"/>
                    </a:lnTo>
                    <a:lnTo>
                      <a:pt x="739" y="652"/>
                    </a:lnTo>
                    <a:lnTo>
                      <a:pt x="0" y="4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951960" y="426564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31"/>
                    </a:moveTo>
                    <a:lnTo>
                      <a:pt x="301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951960" y="426564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31"/>
                    </a:moveTo>
                    <a:lnTo>
                      <a:pt x="301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956280" y="424584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1" h="622">
                    <a:moveTo>
                      <a:pt x="0" y="431"/>
                    </a:moveTo>
                    <a:lnTo>
                      <a:pt x="311" y="0"/>
                    </a:lnTo>
                    <a:lnTo>
                      <a:pt x="1071" y="177"/>
                    </a:lnTo>
                    <a:lnTo>
                      <a:pt x="722" y="622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956280" y="424584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1" h="622">
                    <a:moveTo>
                      <a:pt x="0" y="431"/>
                    </a:moveTo>
                    <a:lnTo>
                      <a:pt x="311" y="0"/>
                    </a:lnTo>
                    <a:lnTo>
                      <a:pt x="1071" y="177"/>
                    </a:lnTo>
                    <a:lnTo>
                      <a:pt x="722" y="622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962040" y="42271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8" h="619">
                    <a:moveTo>
                      <a:pt x="0" y="428"/>
                    </a:moveTo>
                    <a:lnTo>
                      <a:pt x="332" y="0"/>
                    </a:lnTo>
                    <a:lnTo>
                      <a:pt x="1088" y="156"/>
                    </a:lnTo>
                    <a:lnTo>
                      <a:pt x="756" y="619"/>
                    </a:lnTo>
                    <a:lnTo>
                      <a:pt x="0" y="42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962040" y="42271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8" h="619">
                    <a:moveTo>
                      <a:pt x="0" y="428"/>
                    </a:moveTo>
                    <a:lnTo>
                      <a:pt x="332" y="0"/>
                    </a:lnTo>
                    <a:lnTo>
                      <a:pt x="1088" y="156"/>
                    </a:lnTo>
                    <a:lnTo>
                      <a:pt x="756" y="619"/>
                    </a:lnTo>
                    <a:lnTo>
                      <a:pt x="0" y="4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967800" y="420840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63"/>
                    </a:moveTo>
                    <a:lnTo>
                      <a:pt x="366" y="0"/>
                    </a:lnTo>
                    <a:lnTo>
                      <a:pt x="1040" y="160"/>
                    </a:lnTo>
                    <a:lnTo>
                      <a:pt x="664" y="637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967800" y="420840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63"/>
                    </a:moveTo>
                    <a:lnTo>
                      <a:pt x="366" y="0"/>
                    </a:lnTo>
                    <a:lnTo>
                      <a:pt x="1040" y="160"/>
                    </a:lnTo>
                    <a:lnTo>
                      <a:pt x="664" y="637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978240" y="427212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32"/>
                    </a:moveTo>
                    <a:lnTo>
                      <a:pt x="332" y="0"/>
                    </a:lnTo>
                    <a:lnTo>
                      <a:pt x="1041" y="178"/>
                    </a:lnTo>
                    <a:lnTo>
                      <a:pt x="691" y="606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978240" y="427212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32"/>
                    </a:moveTo>
                    <a:lnTo>
                      <a:pt x="332" y="0"/>
                    </a:lnTo>
                    <a:lnTo>
                      <a:pt x="1041" y="178"/>
                    </a:lnTo>
                    <a:lnTo>
                      <a:pt x="691" y="606"/>
                    </a:lnTo>
                    <a:lnTo>
                      <a:pt x="0" y="4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984000" y="4253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55" h="605">
                    <a:moveTo>
                      <a:pt x="0" y="431"/>
                    </a:moveTo>
                    <a:lnTo>
                      <a:pt x="301" y="0"/>
                    </a:lnTo>
                    <a:lnTo>
                      <a:pt x="1055" y="159"/>
                    </a:lnTo>
                    <a:lnTo>
                      <a:pt x="679" y="605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984000" y="4253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55" h="605">
                    <a:moveTo>
                      <a:pt x="0" y="431"/>
                    </a:moveTo>
                    <a:lnTo>
                      <a:pt x="301" y="0"/>
                    </a:lnTo>
                    <a:lnTo>
                      <a:pt x="1055" y="159"/>
                    </a:lnTo>
                    <a:lnTo>
                      <a:pt x="679" y="605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989760" y="4235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24">
                    <a:moveTo>
                      <a:pt x="0" y="450"/>
                    </a:moveTo>
                    <a:lnTo>
                      <a:pt x="328" y="0"/>
                    </a:lnTo>
                    <a:lnTo>
                      <a:pt x="1041" y="164"/>
                    </a:lnTo>
                    <a:lnTo>
                      <a:pt x="709" y="624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989760" y="4235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24">
                    <a:moveTo>
                      <a:pt x="0" y="450"/>
                    </a:moveTo>
                    <a:lnTo>
                      <a:pt x="328" y="0"/>
                    </a:lnTo>
                    <a:lnTo>
                      <a:pt x="1041" y="164"/>
                    </a:lnTo>
                    <a:lnTo>
                      <a:pt x="709" y="624"/>
                    </a:lnTo>
                    <a:lnTo>
                      <a:pt x="0" y="4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994440" y="4215240"/>
                <a:ext cx="30240" cy="21240"/>
              </a:xfrm>
              <a:custGeom>
                <a:avLst/>
                <a:gdLst/>
                <a:ahLst/>
                <a:rect l="l" t="t" r="r" b="b"/>
                <a:pathLst>
                  <a:path w="1058" h="654">
                    <a:moveTo>
                      <a:pt x="0" y="495"/>
                    </a:moveTo>
                    <a:lnTo>
                      <a:pt x="380" y="0"/>
                    </a:lnTo>
                    <a:lnTo>
                      <a:pt x="1058" y="177"/>
                    </a:lnTo>
                    <a:lnTo>
                      <a:pt x="695" y="654"/>
                    </a:lnTo>
                    <a:lnTo>
                      <a:pt x="0" y="49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994440" y="4215240"/>
                <a:ext cx="30240" cy="21240"/>
              </a:xfrm>
              <a:custGeom>
                <a:avLst/>
                <a:gdLst/>
                <a:ahLst/>
                <a:rect l="l" t="t" r="r" b="b"/>
                <a:pathLst>
                  <a:path w="1058" h="654">
                    <a:moveTo>
                      <a:pt x="0" y="495"/>
                    </a:moveTo>
                    <a:lnTo>
                      <a:pt x="380" y="0"/>
                    </a:lnTo>
                    <a:lnTo>
                      <a:pt x="1058" y="177"/>
                    </a:lnTo>
                    <a:lnTo>
                      <a:pt x="695" y="654"/>
                    </a:lnTo>
                    <a:lnTo>
                      <a:pt x="0" y="49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005960" y="42800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71" h="620">
                    <a:moveTo>
                      <a:pt x="0" y="428"/>
                    </a:moveTo>
                    <a:lnTo>
                      <a:pt x="346" y="0"/>
                    </a:lnTo>
                    <a:lnTo>
                      <a:pt x="1071" y="188"/>
                    </a:lnTo>
                    <a:lnTo>
                      <a:pt x="757" y="620"/>
                    </a:lnTo>
                    <a:lnTo>
                      <a:pt x="0" y="42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005960" y="42800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71" h="620">
                    <a:moveTo>
                      <a:pt x="0" y="428"/>
                    </a:moveTo>
                    <a:lnTo>
                      <a:pt x="346" y="0"/>
                    </a:lnTo>
                    <a:lnTo>
                      <a:pt x="1071" y="188"/>
                    </a:lnTo>
                    <a:lnTo>
                      <a:pt x="757" y="620"/>
                    </a:lnTo>
                    <a:lnTo>
                      <a:pt x="0" y="4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994440" y="4297320"/>
                <a:ext cx="32040" cy="18000"/>
              </a:xfrm>
              <a:custGeom>
                <a:avLst/>
                <a:gdLst/>
                <a:ahLst/>
                <a:rect l="l" t="t" r="r" b="b"/>
                <a:pathLst>
                  <a:path w="1103" h="592">
                    <a:moveTo>
                      <a:pt x="0" y="415"/>
                    </a:moveTo>
                    <a:lnTo>
                      <a:pt x="333" y="0"/>
                    </a:lnTo>
                    <a:lnTo>
                      <a:pt x="1103" y="192"/>
                    </a:lnTo>
                    <a:lnTo>
                      <a:pt x="740" y="592"/>
                    </a:lnTo>
                    <a:lnTo>
                      <a:pt x="0" y="41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994440" y="4297320"/>
                <a:ext cx="32040" cy="18000"/>
              </a:xfrm>
              <a:custGeom>
                <a:avLst/>
                <a:gdLst/>
                <a:ahLst/>
                <a:rect l="l" t="t" r="r" b="b"/>
                <a:pathLst>
                  <a:path w="1103" h="592">
                    <a:moveTo>
                      <a:pt x="0" y="415"/>
                    </a:moveTo>
                    <a:lnTo>
                      <a:pt x="333" y="0"/>
                    </a:lnTo>
                    <a:lnTo>
                      <a:pt x="1103" y="192"/>
                    </a:lnTo>
                    <a:lnTo>
                      <a:pt x="740" y="592"/>
                    </a:lnTo>
                    <a:lnTo>
                      <a:pt x="0" y="4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020360" y="43052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1194" h="605">
                    <a:moveTo>
                      <a:pt x="0" y="427"/>
                    </a:moveTo>
                    <a:lnTo>
                      <a:pt x="376" y="0"/>
                    </a:lnTo>
                    <a:lnTo>
                      <a:pt x="1194" y="187"/>
                    </a:lnTo>
                    <a:lnTo>
                      <a:pt x="818" y="605"/>
                    </a:lnTo>
                    <a:lnTo>
                      <a:pt x="0" y="42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020360" y="43052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1194" h="605">
                    <a:moveTo>
                      <a:pt x="0" y="427"/>
                    </a:moveTo>
                    <a:lnTo>
                      <a:pt x="376" y="0"/>
                    </a:lnTo>
                    <a:lnTo>
                      <a:pt x="1194" y="187"/>
                    </a:lnTo>
                    <a:lnTo>
                      <a:pt x="818" y="605"/>
                    </a:lnTo>
                    <a:lnTo>
                      <a:pt x="0" y="4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033680" y="4289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8" h="624">
                    <a:moveTo>
                      <a:pt x="0" y="419"/>
                    </a:moveTo>
                    <a:lnTo>
                      <a:pt x="342" y="0"/>
                    </a:lnTo>
                    <a:lnTo>
                      <a:pt x="1078" y="161"/>
                    </a:lnTo>
                    <a:lnTo>
                      <a:pt x="770" y="624"/>
                    </a:lnTo>
                    <a:lnTo>
                      <a:pt x="0" y="41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033680" y="4289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8" h="624">
                    <a:moveTo>
                      <a:pt x="0" y="419"/>
                    </a:moveTo>
                    <a:lnTo>
                      <a:pt x="342" y="0"/>
                    </a:lnTo>
                    <a:lnTo>
                      <a:pt x="1078" y="161"/>
                    </a:lnTo>
                    <a:lnTo>
                      <a:pt x="770" y="624"/>
                    </a:lnTo>
                    <a:lnTo>
                      <a:pt x="0" y="4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010280" y="4261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4" h="641">
                    <a:moveTo>
                      <a:pt x="0" y="448"/>
                    </a:moveTo>
                    <a:lnTo>
                      <a:pt x="379" y="0"/>
                    </a:lnTo>
                    <a:lnTo>
                      <a:pt x="1074" y="178"/>
                    </a:lnTo>
                    <a:lnTo>
                      <a:pt x="725" y="641"/>
                    </a:lnTo>
                    <a:lnTo>
                      <a:pt x="0" y="44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010280" y="4261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4" h="641">
                    <a:moveTo>
                      <a:pt x="0" y="448"/>
                    </a:moveTo>
                    <a:lnTo>
                      <a:pt x="379" y="0"/>
                    </a:lnTo>
                    <a:lnTo>
                      <a:pt x="1074" y="178"/>
                    </a:lnTo>
                    <a:lnTo>
                      <a:pt x="725" y="641"/>
                    </a:lnTo>
                    <a:lnTo>
                      <a:pt x="0" y="4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016040" y="424152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5" h="623">
                    <a:moveTo>
                      <a:pt x="1075" y="174"/>
                    </a:moveTo>
                    <a:lnTo>
                      <a:pt x="681" y="623"/>
                    </a:lnTo>
                    <a:lnTo>
                      <a:pt x="0" y="463"/>
                    </a:lnTo>
                    <a:lnTo>
                      <a:pt x="301" y="0"/>
                    </a:lnTo>
                    <a:lnTo>
                      <a:pt x="1075" y="17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016040" y="424152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5" h="623">
                    <a:moveTo>
                      <a:pt x="1075" y="174"/>
                    </a:moveTo>
                    <a:lnTo>
                      <a:pt x="681" y="623"/>
                    </a:lnTo>
                    <a:lnTo>
                      <a:pt x="0" y="463"/>
                    </a:lnTo>
                    <a:lnTo>
                      <a:pt x="301" y="0"/>
                    </a:lnTo>
                    <a:lnTo>
                      <a:pt x="1075" y="1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021800" y="422172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1088" h="668">
                    <a:moveTo>
                      <a:pt x="0" y="512"/>
                    </a:moveTo>
                    <a:lnTo>
                      <a:pt x="393" y="0"/>
                    </a:lnTo>
                    <a:lnTo>
                      <a:pt x="1088" y="174"/>
                    </a:lnTo>
                    <a:lnTo>
                      <a:pt x="739" y="668"/>
                    </a:lnTo>
                    <a:lnTo>
                      <a:pt x="0" y="5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021800" y="422172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1088" h="668">
                    <a:moveTo>
                      <a:pt x="0" y="512"/>
                    </a:moveTo>
                    <a:lnTo>
                      <a:pt x="393" y="0"/>
                    </a:lnTo>
                    <a:lnTo>
                      <a:pt x="1088" y="174"/>
                    </a:lnTo>
                    <a:lnTo>
                      <a:pt x="739" y="668"/>
                    </a:lnTo>
                    <a:lnTo>
                      <a:pt x="0" y="5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038000" y="42681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58" h="624">
                    <a:moveTo>
                      <a:pt x="0" y="463"/>
                    </a:moveTo>
                    <a:lnTo>
                      <a:pt x="366" y="0"/>
                    </a:lnTo>
                    <a:lnTo>
                      <a:pt x="1058" y="160"/>
                    </a:lnTo>
                    <a:lnTo>
                      <a:pt x="695" y="624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038000" y="42681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58" h="624">
                    <a:moveTo>
                      <a:pt x="0" y="463"/>
                    </a:moveTo>
                    <a:lnTo>
                      <a:pt x="366" y="0"/>
                    </a:lnTo>
                    <a:lnTo>
                      <a:pt x="1058" y="160"/>
                    </a:lnTo>
                    <a:lnTo>
                      <a:pt x="695" y="624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043760" y="4249800"/>
                <a:ext cx="28800" cy="180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46"/>
                    </a:moveTo>
                    <a:lnTo>
                      <a:pt x="379" y="0"/>
                    </a:lnTo>
                    <a:lnTo>
                      <a:pt x="1041" y="160"/>
                    </a:lnTo>
                    <a:lnTo>
                      <a:pt x="694" y="606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043760" y="4249800"/>
                <a:ext cx="28800" cy="180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46"/>
                    </a:moveTo>
                    <a:lnTo>
                      <a:pt x="379" y="0"/>
                    </a:lnTo>
                    <a:lnTo>
                      <a:pt x="1041" y="160"/>
                    </a:lnTo>
                    <a:lnTo>
                      <a:pt x="694" y="606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048080" y="423000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6" h="651">
                    <a:moveTo>
                      <a:pt x="0" y="477"/>
                    </a:moveTo>
                    <a:lnTo>
                      <a:pt x="346" y="0"/>
                    </a:lnTo>
                    <a:lnTo>
                      <a:pt x="1076" y="192"/>
                    </a:lnTo>
                    <a:lnTo>
                      <a:pt x="743" y="651"/>
                    </a:lnTo>
                    <a:lnTo>
                      <a:pt x="0" y="47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048080" y="423000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6" h="651">
                    <a:moveTo>
                      <a:pt x="0" y="477"/>
                    </a:moveTo>
                    <a:lnTo>
                      <a:pt x="346" y="0"/>
                    </a:lnTo>
                    <a:lnTo>
                      <a:pt x="1076" y="192"/>
                    </a:lnTo>
                    <a:lnTo>
                      <a:pt x="743" y="651"/>
                    </a:lnTo>
                    <a:lnTo>
                      <a:pt x="0" y="4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048080" y="4311720"/>
                <a:ext cx="33120" cy="19800"/>
              </a:xfrm>
              <a:custGeom>
                <a:avLst/>
                <a:gdLst/>
                <a:ahLst/>
                <a:rect l="l" t="t" r="r" b="b"/>
                <a:pathLst>
                  <a:path w="1151" h="605">
                    <a:moveTo>
                      <a:pt x="0" y="414"/>
                    </a:moveTo>
                    <a:lnTo>
                      <a:pt x="377" y="0"/>
                    </a:lnTo>
                    <a:lnTo>
                      <a:pt x="1151" y="204"/>
                    </a:lnTo>
                    <a:lnTo>
                      <a:pt x="770" y="605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048080" y="4311720"/>
                <a:ext cx="33120" cy="19800"/>
              </a:xfrm>
              <a:custGeom>
                <a:avLst/>
                <a:gdLst/>
                <a:ahLst/>
                <a:rect l="l" t="t" r="r" b="b"/>
                <a:pathLst>
                  <a:path w="1151" h="605">
                    <a:moveTo>
                      <a:pt x="0" y="414"/>
                    </a:moveTo>
                    <a:lnTo>
                      <a:pt x="377" y="0"/>
                    </a:lnTo>
                    <a:lnTo>
                      <a:pt x="1151" y="204"/>
                    </a:lnTo>
                    <a:lnTo>
                      <a:pt x="770" y="605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059600" y="42958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9" h="623">
                    <a:moveTo>
                      <a:pt x="0" y="431"/>
                    </a:moveTo>
                    <a:lnTo>
                      <a:pt x="362" y="0"/>
                    </a:lnTo>
                    <a:lnTo>
                      <a:pt x="1089" y="177"/>
                    </a:lnTo>
                    <a:lnTo>
                      <a:pt x="774" y="623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059600" y="42958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9" h="623">
                    <a:moveTo>
                      <a:pt x="0" y="431"/>
                    </a:moveTo>
                    <a:lnTo>
                      <a:pt x="362" y="0"/>
                    </a:lnTo>
                    <a:lnTo>
                      <a:pt x="1089" y="177"/>
                    </a:lnTo>
                    <a:lnTo>
                      <a:pt x="774" y="623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065720" y="42760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103" h="623">
                    <a:moveTo>
                      <a:pt x="0" y="463"/>
                    </a:moveTo>
                    <a:lnTo>
                      <a:pt x="378" y="0"/>
                    </a:lnTo>
                    <a:lnTo>
                      <a:pt x="1103" y="160"/>
                    </a:lnTo>
                    <a:lnTo>
                      <a:pt x="710" y="623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065720" y="42760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103" h="623">
                    <a:moveTo>
                      <a:pt x="0" y="463"/>
                    </a:moveTo>
                    <a:lnTo>
                      <a:pt x="378" y="0"/>
                    </a:lnTo>
                    <a:lnTo>
                      <a:pt x="1103" y="160"/>
                    </a:lnTo>
                    <a:lnTo>
                      <a:pt x="710" y="623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070040" y="425628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7" h="574">
                    <a:moveTo>
                      <a:pt x="0" y="429"/>
                    </a:moveTo>
                    <a:lnTo>
                      <a:pt x="377" y="0"/>
                    </a:lnTo>
                    <a:lnTo>
                      <a:pt x="1007" y="126"/>
                    </a:lnTo>
                    <a:lnTo>
                      <a:pt x="630" y="574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070040" y="425628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7" h="574">
                    <a:moveTo>
                      <a:pt x="0" y="429"/>
                    </a:moveTo>
                    <a:lnTo>
                      <a:pt x="377" y="0"/>
                    </a:lnTo>
                    <a:lnTo>
                      <a:pt x="1007" y="126"/>
                    </a:lnTo>
                    <a:lnTo>
                      <a:pt x="630" y="574"/>
                    </a:lnTo>
                    <a:lnTo>
                      <a:pt x="0" y="4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074360" y="431964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53" h="620">
                    <a:moveTo>
                      <a:pt x="0" y="414"/>
                    </a:moveTo>
                    <a:lnTo>
                      <a:pt x="362" y="0"/>
                    </a:lnTo>
                    <a:lnTo>
                      <a:pt x="1153" y="187"/>
                    </a:lnTo>
                    <a:lnTo>
                      <a:pt x="790" y="620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074360" y="431964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53" h="620">
                    <a:moveTo>
                      <a:pt x="0" y="414"/>
                    </a:moveTo>
                    <a:lnTo>
                      <a:pt x="362" y="0"/>
                    </a:lnTo>
                    <a:lnTo>
                      <a:pt x="1153" y="187"/>
                    </a:lnTo>
                    <a:lnTo>
                      <a:pt x="790" y="620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087320" y="4302360"/>
                <a:ext cx="34920" cy="21240"/>
              </a:xfrm>
              <a:custGeom>
                <a:avLst/>
                <a:gdLst/>
                <a:ahLst/>
                <a:rect l="l" t="t" r="r" b="b"/>
                <a:pathLst>
                  <a:path w="1215" h="668">
                    <a:moveTo>
                      <a:pt x="0" y="445"/>
                    </a:moveTo>
                    <a:lnTo>
                      <a:pt x="363" y="0"/>
                    </a:lnTo>
                    <a:lnTo>
                      <a:pt x="1215" y="236"/>
                    </a:lnTo>
                    <a:lnTo>
                      <a:pt x="852" y="668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087320" y="4302360"/>
                <a:ext cx="34920" cy="21240"/>
              </a:xfrm>
              <a:custGeom>
                <a:avLst/>
                <a:gdLst/>
                <a:ahLst/>
                <a:rect l="l" t="t" r="r" b="b"/>
                <a:pathLst>
                  <a:path w="1215" h="668">
                    <a:moveTo>
                      <a:pt x="0" y="445"/>
                    </a:moveTo>
                    <a:lnTo>
                      <a:pt x="363" y="0"/>
                    </a:lnTo>
                    <a:lnTo>
                      <a:pt x="1215" y="236"/>
                    </a:lnTo>
                    <a:lnTo>
                      <a:pt x="852" y="668"/>
                    </a:lnTo>
                    <a:lnTo>
                      <a:pt x="0" y="4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093440" y="426276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9" h="575">
                    <a:moveTo>
                      <a:pt x="0" y="445"/>
                    </a:moveTo>
                    <a:lnTo>
                      <a:pt x="393" y="0"/>
                    </a:lnTo>
                    <a:lnTo>
                      <a:pt x="1009" y="142"/>
                    </a:lnTo>
                    <a:lnTo>
                      <a:pt x="599" y="57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093440" y="426276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9" h="575">
                    <a:moveTo>
                      <a:pt x="0" y="445"/>
                    </a:moveTo>
                    <a:lnTo>
                      <a:pt x="393" y="0"/>
                    </a:lnTo>
                    <a:lnTo>
                      <a:pt x="1009" y="142"/>
                    </a:lnTo>
                    <a:lnTo>
                      <a:pt x="599" y="575"/>
                    </a:lnTo>
                    <a:lnTo>
                      <a:pt x="0" y="4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088760" y="4270680"/>
                <a:ext cx="61200" cy="35640"/>
              </a:xfrm>
              <a:custGeom>
                <a:avLst/>
                <a:gdLst/>
                <a:ahLst/>
                <a:rect l="l" t="t" r="r" b="b"/>
                <a:pathLst>
                  <a:path w="2112" h="1135">
                    <a:moveTo>
                      <a:pt x="0" y="850"/>
                    </a:moveTo>
                    <a:lnTo>
                      <a:pt x="411" y="400"/>
                    </a:lnTo>
                    <a:lnTo>
                      <a:pt x="900" y="530"/>
                    </a:lnTo>
                    <a:lnTo>
                      <a:pt x="1389" y="0"/>
                    </a:lnTo>
                    <a:lnTo>
                      <a:pt x="2112" y="163"/>
                    </a:lnTo>
                    <a:lnTo>
                      <a:pt x="1232" y="1135"/>
                    </a:lnTo>
                    <a:lnTo>
                      <a:pt x="0" y="85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088760" y="4270680"/>
                <a:ext cx="61200" cy="35640"/>
              </a:xfrm>
              <a:custGeom>
                <a:avLst/>
                <a:gdLst/>
                <a:ahLst/>
                <a:rect l="l" t="t" r="r" b="b"/>
                <a:pathLst>
                  <a:path w="2112" h="1135">
                    <a:moveTo>
                      <a:pt x="0" y="850"/>
                    </a:moveTo>
                    <a:lnTo>
                      <a:pt x="411" y="400"/>
                    </a:lnTo>
                    <a:lnTo>
                      <a:pt x="900" y="530"/>
                    </a:lnTo>
                    <a:lnTo>
                      <a:pt x="1389" y="0"/>
                    </a:lnTo>
                    <a:lnTo>
                      <a:pt x="2112" y="163"/>
                    </a:lnTo>
                    <a:lnTo>
                      <a:pt x="1232" y="1135"/>
                    </a:lnTo>
                    <a:lnTo>
                      <a:pt x="0" y="8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123680" y="425088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1417" h="686">
                    <a:moveTo>
                      <a:pt x="0" y="463"/>
                    </a:moveTo>
                    <a:lnTo>
                      <a:pt x="393" y="0"/>
                    </a:lnTo>
                    <a:lnTo>
                      <a:pt x="1417" y="227"/>
                    </a:lnTo>
                    <a:lnTo>
                      <a:pt x="993" y="686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123680" y="425088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1417" h="686">
                    <a:moveTo>
                      <a:pt x="0" y="463"/>
                    </a:moveTo>
                    <a:lnTo>
                      <a:pt x="393" y="0"/>
                    </a:lnTo>
                    <a:lnTo>
                      <a:pt x="1417" y="227"/>
                    </a:lnTo>
                    <a:lnTo>
                      <a:pt x="993" y="686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074360" y="423648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09" h="638">
                    <a:moveTo>
                      <a:pt x="0" y="477"/>
                    </a:moveTo>
                    <a:lnTo>
                      <a:pt x="366" y="0"/>
                    </a:lnTo>
                    <a:lnTo>
                      <a:pt x="1009" y="178"/>
                    </a:lnTo>
                    <a:lnTo>
                      <a:pt x="633" y="638"/>
                    </a:lnTo>
                    <a:lnTo>
                      <a:pt x="0" y="47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074360" y="423648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09" h="638">
                    <a:moveTo>
                      <a:pt x="0" y="477"/>
                    </a:moveTo>
                    <a:lnTo>
                      <a:pt x="366" y="0"/>
                    </a:lnTo>
                    <a:lnTo>
                      <a:pt x="1009" y="178"/>
                    </a:lnTo>
                    <a:lnTo>
                      <a:pt x="633" y="638"/>
                    </a:lnTo>
                    <a:lnTo>
                      <a:pt x="0" y="4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099200" y="42444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7">
                    <a:moveTo>
                      <a:pt x="0" y="450"/>
                    </a:moveTo>
                    <a:lnTo>
                      <a:pt x="380" y="0"/>
                    </a:lnTo>
                    <a:lnTo>
                      <a:pt x="1009" y="161"/>
                    </a:lnTo>
                    <a:lnTo>
                      <a:pt x="633" y="607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099200" y="42444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7">
                    <a:moveTo>
                      <a:pt x="0" y="450"/>
                    </a:moveTo>
                    <a:lnTo>
                      <a:pt x="380" y="0"/>
                    </a:lnTo>
                    <a:lnTo>
                      <a:pt x="1009" y="161"/>
                    </a:lnTo>
                    <a:lnTo>
                      <a:pt x="633" y="607"/>
                    </a:lnTo>
                    <a:lnTo>
                      <a:pt x="0" y="4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107840" y="4253400"/>
                <a:ext cx="100440" cy="126720"/>
              </a:xfrm>
              <a:custGeom>
                <a:avLst/>
                <a:gdLst/>
                <a:ahLst/>
                <a:rect l="l" t="t" r="r" b="b"/>
                <a:pathLst>
                  <a:path w="3451" h="3938">
                    <a:moveTo>
                      <a:pt x="3451" y="0"/>
                    </a:moveTo>
                    <a:lnTo>
                      <a:pt x="445" y="3179"/>
                    </a:lnTo>
                    <a:lnTo>
                      <a:pt x="445" y="3488"/>
                    </a:lnTo>
                    <a:lnTo>
                      <a:pt x="0" y="39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690960" y="4261320"/>
                <a:ext cx="406440" cy="117720"/>
              </a:xfrm>
              <a:custGeom>
                <a:avLst/>
                <a:gdLst/>
                <a:ahLst/>
                <a:rect l="l" t="t" r="r" b="b"/>
                <a:pathLst>
                  <a:path w="13979" h="3669">
                    <a:moveTo>
                      <a:pt x="0" y="0"/>
                    </a:moveTo>
                    <a:lnTo>
                      <a:pt x="13846" y="3446"/>
                    </a:lnTo>
                    <a:lnTo>
                      <a:pt x="13979" y="3446"/>
                    </a:lnTo>
                    <a:lnTo>
                      <a:pt x="13979" y="36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720480" y="4156920"/>
                <a:ext cx="454680" cy="96480"/>
              </a:xfrm>
              <a:custGeom>
                <a:avLst/>
                <a:gdLst/>
                <a:ahLst/>
                <a:rect l="l" t="t" r="r" b="b"/>
                <a:pathLst>
                  <a:path w="15572" h="2997">
                    <a:moveTo>
                      <a:pt x="0" y="2415"/>
                    </a:moveTo>
                    <a:lnTo>
                      <a:pt x="2921" y="0"/>
                    </a:lnTo>
                    <a:lnTo>
                      <a:pt x="15572" y="29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845400" y="3927600"/>
                <a:ext cx="360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844320" y="3934440"/>
                <a:ext cx="4356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842520" y="3943800"/>
                <a:ext cx="4824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842520" y="3953160"/>
                <a:ext cx="49320" cy="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841440" y="3960720"/>
                <a:ext cx="4788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839640" y="3969000"/>
                <a:ext cx="43920" cy="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838200" y="3975480"/>
                <a:ext cx="3312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7807320" y="3864960"/>
              <a:ext cx="624600" cy="590760"/>
              <a:chOff x="7807320" y="3864960"/>
              <a:chExt cx="624600" cy="590760"/>
            </a:xfrm>
          </p:grpSpPr>
          <p:grpSp>
            <p:nvGrpSpPr>
              <p:cNvPr id="1468" name=""/>
              <p:cNvGrpSpPr/>
              <p:nvPr/>
            </p:nvGrpSpPr>
            <p:grpSpPr>
              <a:xfrm>
                <a:off x="7951320" y="3864960"/>
                <a:ext cx="480600" cy="433080"/>
                <a:chOff x="7951320" y="3864960"/>
                <a:chExt cx="480600" cy="43308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7951320" y="3868560"/>
                  <a:ext cx="473040" cy="429480"/>
                </a:xfrm>
                <a:custGeom>
                  <a:avLst/>
                  <a:gdLst/>
                  <a:ahLst/>
                  <a:rect l="l" t="t" r="r" b="b"/>
                  <a:pathLst>
                    <a:path w="1947" h="1946">
                      <a:moveTo>
                        <a:pt x="0" y="866"/>
                      </a:moveTo>
                      <a:lnTo>
                        <a:pt x="425" y="40"/>
                      </a:lnTo>
                      <a:lnTo>
                        <a:pt x="443" y="11"/>
                      </a:lnTo>
                      <a:lnTo>
                        <a:pt x="459" y="0"/>
                      </a:lnTo>
                      <a:lnTo>
                        <a:pt x="482" y="4"/>
                      </a:lnTo>
                      <a:lnTo>
                        <a:pt x="503" y="11"/>
                      </a:lnTo>
                      <a:lnTo>
                        <a:pt x="1947" y="1121"/>
                      </a:lnTo>
                      <a:lnTo>
                        <a:pt x="1383" y="1946"/>
                      </a:lnTo>
                      <a:lnTo>
                        <a:pt x="0" y="86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8287920" y="4103280"/>
                  <a:ext cx="144000" cy="194760"/>
                </a:xfrm>
                <a:custGeom>
                  <a:avLst/>
                  <a:gdLst/>
                  <a:ahLst/>
                  <a:rect l="l" t="t" r="r" b="b"/>
                  <a:pathLst>
                    <a:path w="597" h="884">
                      <a:moveTo>
                        <a:pt x="596" y="27"/>
                      </a:moveTo>
                      <a:lnTo>
                        <a:pt x="70" y="808"/>
                      </a:lnTo>
                      <a:lnTo>
                        <a:pt x="0" y="884"/>
                      </a:lnTo>
                      <a:lnTo>
                        <a:pt x="571" y="41"/>
                      </a:lnTo>
                      <a:lnTo>
                        <a:pt x="589" y="0"/>
                      </a:lnTo>
                      <a:lnTo>
                        <a:pt x="597" y="14"/>
                      </a:lnTo>
                      <a:lnTo>
                        <a:pt x="596" y="27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997760" y="3901680"/>
                  <a:ext cx="378720" cy="347040"/>
                </a:xfrm>
                <a:custGeom>
                  <a:avLst/>
                  <a:gdLst/>
                  <a:ahLst/>
                  <a:rect l="l" t="t" r="r" b="b"/>
                  <a:pathLst>
                    <a:path w="1560" h="1572">
                      <a:moveTo>
                        <a:pt x="399" y="1"/>
                      </a:moveTo>
                      <a:lnTo>
                        <a:pt x="424" y="0"/>
                      </a:lnTo>
                      <a:lnTo>
                        <a:pt x="443" y="7"/>
                      </a:lnTo>
                      <a:lnTo>
                        <a:pt x="1544" y="841"/>
                      </a:lnTo>
                      <a:lnTo>
                        <a:pt x="1558" y="859"/>
                      </a:lnTo>
                      <a:lnTo>
                        <a:pt x="1560" y="880"/>
                      </a:lnTo>
                      <a:lnTo>
                        <a:pt x="1547" y="908"/>
                      </a:lnTo>
                      <a:lnTo>
                        <a:pt x="1103" y="1551"/>
                      </a:lnTo>
                      <a:lnTo>
                        <a:pt x="1084" y="1572"/>
                      </a:lnTo>
                      <a:lnTo>
                        <a:pt x="1051" y="1572"/>
                      </a:lnTo>
                      <a:lnTo>
                        <a:pt x="9" y="773"/>
                      </a:lnTo>
                      <a:lnTo>
                        <a:pt x="0" y="752"/>
                      </a:lnTo>
                      <a:lnTo>
                        <a:pt x="3" y="727"/>
                      </a:lnTo>
                      <a:lnTo>
                        <a:pt x="372" y="33"/>
                      </a:lnTo>
                      <a:lnTo>
                        <a:pt x="384" y="16"/>
                      </a:lnTo>
                      <a:lnTo>
                        <a:pt x="399" y="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8064720" y="3864960"/>
                  <a:ext cx="366840" cy="250200"/>
                </a:xfrm>
                <a:custGeom>
                  <a:avLst/>
                  <a:gdLst/>
                  <a:ahLst/>
                  <a:rect l="l" t="t" r="r" b="b"/>
                  <a:pathLst>
                    <a:path w="1515" h="1131">
                      <a:moveTo>
                        <a:pt x="0" y="14"/>
                      </a:moveTo>
                      <a:lnTo>
                        <a:pt x="23" y="4"/>
                      </a:lnTo>
                      <a:lnTo>
                        <a:pt x="49" y="0"/>
                      </a:lnTo>
                      <a:lnTo>
                        <a:pt x="81" y="4"/>
                      </a:lnTo>
                      <a:lnTo>
                        <a:pt x="113" y="11"/>
                      </a:lnTo>
                      <a:lnTo>
                        <a:pt x="1497" y="1056"/>
                      </a:lnTo>
                      <a:lnTo>
                        <a:pt x="1508" y="1066"/>
                      </a:lnTo>
                      <a:lnTo>
                        <a:pt x="1515" y="1086"/>
                      </a:lnTo>
                      <a:lnTo>
                        <a:pt x="1496" y="1113"/>
                      </a:lnTo>
                      <a:lnTo>
                        <a:pt x="1476" y="113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8029800" y="3923280"/>
                  <a:ext cx="308520" cy="298080"/>
                </a:xfrm>
                <a:custGeom>
                  <a:avLst/>
                  <a:gdLst/>
                  <a:ahLst/>
                  <a:rect l="l" t="t" r="r" b="b"/>
                  <a:pathLst>
                    <a:path w="1274" h="1349">
                      <a:moveTo>
                        <a:pt x="386" y="0"/>
                      </a:moveTo>
                      <a:lnTo>
                        <a:pt x="0" y="716"/>
                      </a:lnTo>
                      <a:lnTo>
                        <a:pt x="821" y="1349"/>
                      </a:lnTo>
                      <a:lnTo>
                        <a:pt x="1274" y="674"/>
                      </a:lnTo>
                      <a:lnTo>
                        <a:pt x="38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8037000" y="3924360"/>
                  <a:ext cx="302760" cy="293040"/>
                </a:xfrm>
                <a:custGeom>
                  <a:avLst/>
                  <a:gdLst/>
                  <a:ahLst/>
                  <a:rect l="l" t="t" r="r" b="b"/>
                  <a:pathLst>
                    <a:path w="1252" h="1326">
                      <a:moveTo>
                        <a:pt x="371" y="0"/>
                      </a:moveTo>
                      <a:lnTo>
                        <a:pt x="0" y="701"/>
                      </a:lnTo>
                      <a:lnTo>
                        <a:pt x="809" y="1326"/>
                      </a:lnTo>
                      <a:lnTo>
                        <a:pt x="1252" y="670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8345880" y="4108680"/>
                  <a:ext cx="78480" cy="105840"/>
                </a:xfrm>
                <a:custGeom>
                  <a:avLst/>
                  <a:gdLst/>
                  <a:ahLst/>
                  <a:rect l="l" t="t" r="r" b="b"/>
                  <a:pathLst>
                    <a:path w="323" h="481">
                      <a:moveTo>
                        <a:pt x="0" y="473"/>
                      </a:moveTo>
                      <a:lnTo>
                        <a:pt x="15" y="481"/>
                      </a:lnTo>
                      <a:lnTo>
                        <a:pt x="310" y="46"/>
                      </a:lnTo>
                      <a:lnTo>
                        <a:pt x="323" y="24"/>
                      </a:lnTo>
                      <a:lnTo>
                        <a:pt x="311" y="17"/>
                      </a:lnTo>
                      <a:lnTo>
                        <a:pt x="287" y="0"/>
                      </a:lnTo>
                      <a:lnTo>
                        <a:pt x="245" y="61"/>
                      </a:lnTo>
                      <a:lnTo>
                        <a:pt x="269" y="81"/>
                      </a:lnTo>
                      <a:lnTo>
                        <a:pt x="0" y="47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8408520" y="411516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23" h="38">
                      <a:moveTo>
                        <a:pt x="23" y="6"/>
                      </a:moveTo>
                      <a:lnTo>
                        <a:pt x="17" y="0"/>
                      </a:lnTo>
                      <a:lnTo>
                        <a:pt x="0" y="27"/>
                      </a:lnTo>
                      <a:lnTo>
                        <a:pt x="14" y="38"/>
                      </a:lnTo>
                      <a:lnTo>
                        <a:pt x="21" y="28"/>
                      </a:lnTo>
                      <a:lnTo>
                        <a:pt x="13" y="21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7" name=""/>
                <p:cNvGrpSpPr/>
                <p:nvPr/>
              </p:nvGrpSpPr>
              <p:grpSpPr>
                <a:xfrm>
                  <a:off x="7997760" y="3868560"/>
                  <a:ext cx="72360" cy="109800"/>
                  <a:chOff x="7997760" y="3868560"/>
                  <a:chExt cx="72360" cy="109800"/>
                </a:xfrm>
              </p:grpSpPr>
              <p:sp>
                <p:nvSpPr>
                  <p:cNvPr id="1478" name=""/>
                  <p:cNvSpPr/>
                  <p:nvPr/>
                </p:nvSpPr>
                <p:spPr>
                  <a:xfrm>
                    <a:off x="7998840" y="3872160"/>
                    <a:ext cx="6948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0" h="476">
                        <a:moveTo>
                          <a:pt x="22" y="476"/>
                        </a:moveTo>
                        <a:lnTo>
                          <a:pt x="0" y="465"/>
                        </a:lnTo>
                        <a:lnTo>
                          <a:pt x="239" y="9"/>
                        </a:lnTo>
                        <a:lnTo>
                          <a:pt x="244" y="5"/>
                        </a:lnTo>
                        <a:lnTo>
                          <a:pt x="248" y="3"/>
                        </a:lnTo>
                        <a:lnTo>
                          <a:pt x="255" y="0"/>
                        </a:lnTo>
                        <a:lnTo>
                          <a:pt x="260" y="0"/>
                        </a:lnTo>
                        <a:lnTo>
                          <a:pt x="265" y="2"/>
                        </a:lnTo>
                        <a:lnTo>
                          <a:pt x="290" y="20"/>
                        </a:lnTo>
                        <a:lnTo>
                          <a:pt x="262" y="84"/>
                        </a:lnTo>
                        <a:lnTo>
                          <a:pt x="232" y="64"/>
                        </a:lnTo>
                        <a:lnTo>
                          <a:pt x="22" y="476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7997760" y="3868560"/>
                    <a:ext cx="72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497">
                        <a:moveTo>
                          <a:pt x="18" y="497"/>
                        </a:moveTo>
                        <a:lnTo>
                          <a:pt x="0" y="484"/>
                        </a:lnTo>
                        <a:lnTo>
                          <a:pt x="245" y="6"/>
                        </a:lnTo>
                        <a:lnTo>
                          <a:pt x="254" y="1"/>
                        </a:lnTo>
                        <a:lnTo>
                          <a:pt x="257" y="0"/>
                        </a:lnTo>
                        <a:lnTo>
                          <a:pt x="264" y="0"/>
                        </a:lnTo>
                        <a:lnTo>
                          <a:pt x="268" y="0"/>
                        </a:lnTo>
                        <a:lnTo>
                          <a:pt x="273" y="1"/>
                        </a:lnTo>
                        <a:lnTo>
                          <a:pt x="298" y="20"/>
                        </a:lnTo>
                        <a:lnTo>
                          <a:pt x="264" y="95"/>
                        </a:lnTo>
                        <a:lnTo>
                          <a:pt x="232" y="74"/>
                        </a:lnTo>
                        <a:lnTo>
                          <a:pt x="18" y="497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8057160" y="3876120"/>
                    <a:ext cx="72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2">
                        <a:moveTo>
                          <a:pt x="23" y="0"/>
                        </a:moveTo>
                        <a:lnTo>
                          <a:pt x="31" y="3"/>
                        </a:lnTo>
                        <a:lnTo>
                          <a:pt x="17" y="32"/>
                        </a:lnTo>
                        <a:lnTo>
                          <a:pt x="0" y="20"/>
                        </a:lnTo>
                        <a:lnTo>
                          <a:pt x="8" y="5"/>
                        </a:lnTo>
                        <a:lnTo>
                          <a:pt x="18" y="13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1" name=""/>
                <p:cNvSpPr/>
                <p:nvPr/>
              </p:nvSpPr>
              <p:spPr>
                <a:xfrm>
                  <a:off x="7986240" y="4072680"/>
                  <a:ext cx="110520" cy="81720"/>
                </a:xfrm>
                <a:custGeom>
                  <a:avLst/>
                  <a:gdLst/>
                  <a:ahLst/>
                  <a:rect l="l" t="t" r="r" b="b"/>
                  <a:pathLst>
                    <a:path w="456" h="373">
                      <a:moveTo>
                        <a:pt x="20" y="0"/>
                      </a:moveTo>
                      <a:lnTo>
                        <a:pt x="0" y="38"/>
                      </a:lnTo>
                      <a:lnTo>
                        <a:pt x="435" y="373"/>
                      </a:lnTo>
                      <a:lnTo>
                        <a:pt x="456" y="33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8121600" y="4168080"/>
                  <a:ext cx="12960" cy="12960"/>
                </a:xfrm>
                <a:custGeom>
                  <a:avLst/>
                  <a:gdLst/>
                  <a:ahLst/>
                  <a:rect l="l" t="t" r="r" b="b"/>
                  <a:pathLst>
                    <a:path w="52" h="58">
                      <a:moveTo>
                        <a:pt x="18" y="0"/>
                      </a:moveTo>
                      <a:lnTo>
                        <a:pt x="0" y="31"/>
                      </a:lnTo>
                      <a:lnTo>
                        <a:pt x="34" y="58"/>
                      </a:lnTo>
                      <a:lnTo>
                        <a:pt x="52" y="2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8142120" y="418284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53" h="58">
                      <a:moveTo>
                        <a:pt x="18" y="0"/>
                      </a:moveTo>
                      <a:lnTo>
                        <a:pt x="0" y="31"/>
                      </a:lnTo>
                      <a:lnTo>
                        <a:pt x="34" y="58"/>
                      </a:lnTo>
                      <a:lnTo>
                        <a:pt x="53" y="28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8159400" y="4196160"/>
                  <a:ext cx="12960" cy="11880"/>
                </a:xfrm>
                <a:custGeom>
                  <a:avLst/>
                  <a:gdLst/>
                  <a:ahLst/>
                  <a:rect l="l" t="t" r="r" b="b"/>
                  <a:pathLst>
                    <a:path w="53" h="58">
                      <a:moveTo>
                        <a:pt x="19" y="0"/>
                      </a:moveTo>
                      <a:lnTo>
                        <a:pt x="0" y="31"/>
                      </a:lnTo>
                      <a:lnTo>
                        <a:pt x="35" y="58"/>
                      </a:lnTo>
                      <a:lnTo>
                        <a:pt x="53" y="2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8192880" y="4218480"/>
                  <a:ext cx="62640" cy="47520"/>
                </a:xfrm>
                <a:custGeom>
                  <a:avLst/>
                  <a:gdLst/>
                  <a:ahLst/>
                  <a:rect l="l" t="t" r="r" b="b"/>
                  <a:pathLst>
                    <a:path w="258" h="213">
                      <a:moveTo>
                        <a:pt x="19" y="0"/>
                      </a:moveTo>
                      <a:lnTo>
                        <a:pt x="0" y="35"/>
                      </a:lnTo>
                      <a:lnTo>
                        <a:pt x="235" y="213"/>
                      </a:lnTo>
                      <a:lnTo>
                        <a:pt x="258" y="184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8071920" y="3866040"/>
                  <a:ext cx="359640" cy="242280"/>
                </a:xfrm>
                <a:custGeom>
                  <a:avLst/>
                  <a:gdLst/>
                  <a:ahLst/>
                  <a:rect l="l" t="t" r="r" b="b"/>
                  <a:pathLst>
                    <a:path w="1480" h="1098">
                      <a:moveTo>
                        <a:pt x="0" y="0"/>
                      </a:moveTo>
                      <a:lnTo>
                        <a:pt x="35" y="3"/>
                      </a:lnTo>
                      <a:lnTo>
                        <a:pt x="66" y="16"/>
                      </a:lnTo>
                      <a:lnTo>
                        <a:pt x="1467" y="1072"/>
                      </a:lnTo>
                      <a:lnTo>
                        <a:pt x="1477" y="1086"/>
                      </a:lnTo>
                      <a:lnTo>
                        <a:pt x="1480" y="1098"/>
                      </a:lnTo>
                    </a:path>
                  </a:pathLst>
                </a:custGeom>
                <a:noFill/>
                <a:ln w="1440">
                  <a:solidFill>
                    <a:srgbClr val="2020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7" name=""/>
              <p:cNvSpPr/>
              <p:nvPr/>
            </p:nvSpPr>
            <p:spPr>
              <a:xfrm>
                <a:off x="8139600" y="4295520"/>
                <a:ext cx="146880" cy="160200"/>
              </a:xfrm>
              <a:custGeom>
                <a:avLst/>
                <a:gdLst/>
                <a:ahLst/>
                <a:rect l="l" t="t" r="r" b="b"/>
                <a:pathLst>
                  <a:path w="607" h="728">
                    <a:moveTo>
                      <a:pt x="607" y="3"/>
                    </a:moveTo>
                    <a:lnTo>
                      <a:pt x="577" y="99"/>
                    </a:lnTo>
                    <a:lnTo>
                      <a:pt x="76" y="714"/>
                    </a:lnTo>
                    <a:lnTo>
                      <a:pt x="59" y="723"/>
                    </a:lnTo>
                    <a:lnTo>
                      <a:pt x="37" y="728"/>
                    </a:lnTo>
                    <a:lnTo>
                      <a:pt x="13" y="723"/>
                    </a:lnTo>
                    <a:lnTo>
                      <a:pt x="0" y="711"/>
                    </a:lnTo>
                    <a:lnTo>
                      <a:pt x="31" y="714"/>
                    </a:lnTo>
                    <a:lnTo>
                      <a:pt x="589" y="0"/>
                    </a:lnTo>
                    <a:lnTo>
                      <a:pt x="607" y="3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903440" y="4060800"/>
                <a:ext cx="384480" cy="290160"/>
              </a:xfrm>
              <a:custGeom>
                <a:avLst/>
                <a:gdLst/>
                <a:ahLst/>
                <a:rect l="l" t="t" r="r" b="b"/>
                <a:pathLst>
                  <a:path w="1580" h="1311">
                    <a:moveTo>
                      <a:pt x="0" y="219"/>
                    </a:moveTo>
                    <a:lnTo>
                      <a:pt x="199" y="0"/>
                    </a:lnTo>
                    <a:lnTo>
                      <a:pt x="1580" y="1075"/>
                    </a:lnTo>
                    <a:lnTo>
                      <a:pt x="1400" y="131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606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807320" y="4109760"/>
                <a:ext cx="435600" cy="344880"/>
              </a:xfrm>
              <a:custGeom>
                <a:avLst/>
                <a:gdLst/>
                <a:ahLst/>
                <a:rect l="l" t="t" r="r" b="b"/>
                <a:pathLst>
                  <a:path w="1790" h="1561">
                    <a:moveTo>
                      <a:pt x="1" y="444"/>
                    </a:moveTo>
                    <a:lnTo>
                      <a:pt x="8" y="422"/>
                    </a:lnTo>
                    <a:lnTo>
                      <a:pt x="25" y="401"/>
                    </a:lnTo>
                    <a:lnTo>
                      <a:pt x="390" y="0"/>
                    </a:lnTo>
                    <a:lnTo>
                      <a:pt x="1790" y="1096"/>
                    </a:lnTo>
                    <a:lnTo>
                      <a:pt x="1435" y="1533"/>
                    </a:lnTo>
                    <a:lnTo>
                      <a:pt x="1396" y="1561"/>
                    </a:lnTo>
                    <a:lnTo>
                      <a:pt x="1361" y="1561"/>
                    </a:lnTo>
                    <a:lnTo>
                      <a:pt x="10" y="485"/>
                    </a:lnTo>
                    <a:lnTo>
                      <a:pt x="0" y="464"/>
                    </a:lnTo>
                    <a:lnTo>
                      <a:pt x="1" y="4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8233920" y="4328640"/>
                <a:ext cx="11880" cy="118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8241120" y="4296960"/>
                <a:ext cx="29160" cy="27720"/>
              </a:xfrm>
              <a:custGeom>
                <a:avLst/>
                <a:gdLst/>
                <a:ahLst/>
                <a:rect l="l" t="t" r="r" b="b"/>
                <a:pathLst>
                  <a:path w="123" h="130">
                    <a:moveTo>
                      <a:pt x="63" y="0"/>
                    </a:moveTo>
                    <a:lnTo>
                      <a:pt x="123" y="48"/>
                    </a:lnTo>
                    <a:lnTo>
                      <a:pt x="60" y="130"/>
                    </a:lnTo>
                    <a:lnTo>
                      <a:pt x="0" y="8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2" name=""/>
              <p:cNvGrpSpPr/>
              <p:nvPr/>
            </p:nvGrpSpPr>
            <p:grpSpPr>
              <a:xfrm>
                <a:off x="7814520" y="4112640"/>
                <a:ext cx="426600" cy="336600"/>
                <a:chOff x="7814520" y="4112640"/>
                <a:chExt cx="426600" cy="336600"/>
              </a:xfrm>
            </p:grpSpPr>
            <p:sp>
              <p:nvSpPr>
                <p:cNvPr id="1493" name=""/>
                <p:cNvSpPr/>
                <p:nvPr/>
              </p:nvSpPr>
              <p:spPr>
                <a:xfrm>
                  <a:off x="7894440" y="4119120"/>
                  <a:ext cx="25920" cy="2376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7894440" y="412452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1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7916400" y="41230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7894440" y="411516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7912080" y="413244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10" h="106">
                      <a:moveTo>
                        <a:pt x="49" y="0"/>
                      </a:moveTo>
                      <a:lnTo>
                        <a:pt x="0" y="56"/>
                      </a:lnTo>
                      <a:lnTo>
                        <a:pt x="62" y="106"/>
                      </a:lnTo>
                      <a:lnTo>
                        <a:pt x="110" y="4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912080" y="413640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3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7932600" y="413496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2">
                      <a:moveTo>
                        <a:pt x="19" y="10"/>
                      </a:moveTo>
                      <a:lnTo>
                        <a:pt x="22" y="15"/>
                      </a:lnTo>
                      <a:lnTo>
                        <a:pt x="22" y="29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7912080" y="412704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49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99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7929720" y="414432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9" y="0"/>
                      </a:moveTo>
                      <a:lnTo>
                        <a:pt x="0" y="55"/>
                      </a:lnTo>
                      <a:lnTo>
                        <a:pt x="60" y="106"/>
                      </a:lnTo>
                      <a:lnTo>
                        <a:pt x="109" y="4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7929720" y="414972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20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7949880" y="414828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8" y="11"/>
                      </a:moveTo>
                      <a:lnTo>
                        <a:pt x="22" y="15"/>
                      </a:lnTo>
                      <a:lnTo>
                        <a:pt x="22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7929720" y="4140360"/>
                  <a:ext cx="24480" cy="2088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6" y="0"/>
                      </a:moveTo>
                      <a:lnTo>
                        <a:pt x="40" y="3"/>
                      </a:lnTo>
                      <a:lnTo>
                        <a:pt x="3" y="48"/>
                      </a:lnTo>
                      <a:lnTo>
                        <a:pt x="0" y="53"/>
                      </a:lnTo>
                      <a:lnTo>
                        <a:pt x="4" y="59"/>
                      </a:lnTo>
                      <a:lnTo>
                        <a:pt x="50" y="98"/>
                      </a:lnTo>
                      <a:lnTo>
                        <a:pt x="57" y="100"/>
                      </a:lnTo>
                      <a:lnTo>
                        <a:pt x="63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50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7945560" y="415620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7945560" y="416160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967160" y="41601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7947000" y="415224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4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1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7962840" y="416952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962840" y="417348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7984800" y="41724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1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7964640" y="41641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8"/>
                      </a:lnTo>
                      <a:lnTo>
                        <a:pt x="50" y="97"/>
                      </a:lnTo>
                      <a:lnTo>
                        <a:pt x="58" y="100"/>
                      </a:lnTo>
                      <a:lnTo>
                        <a:pt x="63" y="97"/>
                      </a:lnTo>
                      <a:lnTo>
                        <a:pt x="102" y="51"/>
                      </a:lnTo>
                      <a:lnTo>
                        <a:pt x="104" y="44"/>
                      </a:lnTo>
                      <a:lnTo>
                        <a:pt x="100" y="38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980480" y="418140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7980480" y="418680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8002080" y="418536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980480" y="4177440"/>
                  <a:ext cx="25920" cy="2124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7997760" y="419328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5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5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7997760" y="41986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9" y="43"/>
                      </a:lnTo>
                      <a:lnTo>
                        <a:pt x="11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8018280" y="41972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7997760" y="4189320"/>
                  <a:ext cx="25920" cy="20880"/>
                </a:xfrm>
                <a:custGeom>
                  <a:avLst/>
                  <a:gdLst/>
                  <a:ahLst/>
                  <a:rect l="l" t="t" r="r" b="b"/>
                  <a:pathLst>
                    <a:path w="104" h="99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7"/>
                      </a:lnTo>
                      <a:lnTo>
                        <a:pt x="58" y="99"/>
                      </a:lnTo>
                      <a:lnTo>
                        <a:pt x="63" y="97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8015400" y="420552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5">
                      <a:moveTo>
                        <a:pt x="49" y="0"/>
                      </a:moveTo>
                      <a:lnTo>
                        <a:pt x="0" y="54"/>
                      </a:lnTo>
                      <a:lnTo>
                        <a:pt x="62" y="105"/>
                      </a:lnTo>
                      <a:lnTo>
                        <a:pt x="109" y="45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8015400" y="421056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3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8035920" y="420912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1">
                      <a:moveTo>
                        <a:pt x="19" y="9"/>
                      </a:moveTo>
                      <a:lnTo>
                        <a:pt x="22" y="14"/>
                      </a:lnTo>
                      <a:lnTo>
                        <a:pt x="22" y="28"/>
                      </a:lnTo>
                      <a:lnTo>
                        <a:pt x="0" y="41"/>
                      </a:lnTo>
                      <a:lnTo>
                        <a:pt x="8" y="0"/>
                      </a:lnTo>
                      <a:lnTo>
                        <a:pt x="19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8015400" y="420156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3" h="98">
                      <a:moveTo>
                        <a:pt x="45" y="0"/>
                      </a:moveTo>
                      <a:lnTo>
                        <a:pt x="39" y="3"/>
                      </a:lnTo>
                      <a:lnTo>
                        <a:pt x="2" y="47"/>
                      </a:lnTo>
                      <a:lnTo>
                        <a:pt x="0" y="51"/>
                      </a:lnTo>
                      <a:lnTo>
                        <a:pt x="3" y="57"/>
                      </a:lnTo>
                      <a:lnTo>
                        <a:pt x="50" y="96"/>
                      </a:lnTo>
                      <a:lnTo>
                        <a:pt x="58" y="98"/>
                      </a:lnTo>
                      <a:lnTo>
                        <a:pt x="62" y="96"/>
                      </a:lnTo>
                      <a:lnTo>
                        <a:pt x="101" y="50"/>
                      </a:lnTo>
                      <a:lnTo>
                        <a:pt x="103" y="43"/>
                      </a:lnTo>
                      <a:lnTo>
                        <a:pt x="98" y="37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031240" y="421740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10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10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031240" y="422244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8053560" y="422136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2" h="42">
                      <a:moveTo>
                        <a:pt x="18" y="10"/>
                      </a:moveTo>
                      <a:lnTo>
                        <a:pt x="22" y="15"/>
                      </a:lnTo>
                      <a:lnTo>
                        <a:pt x="22" y="29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8033040" y="421308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5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3" y="48"/>
                      </a:lnTo>
                      <a:lnTo>
                        <a:pt x="0" y="53"/>
                      </a:lnTo>
                      <a:lnTo>
                        <a:pt x="4" y="58"/>
                      </a:lnTo>
                      <a:lnTo>
                        <a:pt x="51" y="97"/>
                      </a:lnTo>
                      <a:lnTo>
                        <a:pt x="58" y="100"/>
                      </a:lnTo>
                      <a:lnTo>
                        <a:pt x="64" y="97"/>
                      </a:lnTo>
                      <a:lnTo>
                        <a:pt x="102" y="51"/>
                      </a:lnTo>
                      <a:lnTo>
                        <a:pt x="105" y="44"/>
                      </a:lnTo>
                      <a:lnTo>
                        <a:pt x="100" y="38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8048880" y="423072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8048880" y="42357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8070480" y="423288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8048880" y="422532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8" h="100">
                      <a:moveTo>
                        <a:pt x="47" y="0"/>
                      </a:moveTo>
                      <a:lnTo>
                        <a:pt x="41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2" y="98"/>
                      </a:lnTo>
                      <a:lnTo>
                        <a:pt x="60" y="100"/>
                      </a:lnTo>
                      <a:lnTo>
                        <a:pt x="66" y="98"/>
                      </a:lnTo>
                      <a:lnTo>
                        <a:pt x="106" y="52"/>
                      </a:lnTo>
                      <a:lnTo>
                        <a:pt x="108" y="45"/>
                      </a:lnTo>
                      <a:lnTo>
                        <a:pt x="104" y="39"/>
                      </a:lnTo>
                      <a:lnTo>
                        <a:pt x="52" y="2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8066160" y="4242240"/>
                  <a:ext cx="26280" cy="2376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066160" y="42476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8088120" y="42465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8067960" y="423828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2" y="48"/>
                      </a:lnTo>
                      <a:lnTo>
                        <a:pt x="0" y="52"/>
                      </a:lnTo>
                      <a:lnTo>
                        <a:pt x="3" y="58"/>
                      </a:lnTo>
                      <a:lnTo>
                        <a:pt x="51" y="97"/>
                      </a:lnTo>
                      <a:lnTo>
                        <a:pt x="58" y="100"/>
                      </a:lnTo>
                      <a:lnTo>
                        <a:pt x="63" y="97"/>
                      </a:lnTo>
                      <a:lnTo>
                        <a:pt x="102" y="51"/>
                      </a:lnTo>
                      <a:lnTo>
                        <a:pt x="104" y="44"/>
                      </a:lnTo>
                      <a:lnTo>
                        <a:pt x="100" y="38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8083800" y="425448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8083800" y="425988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8105760" y="425808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8085600" y="42505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8101440" y="426744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08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8101440" y="42728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8121600" y="427140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8101440" y="4263480"/>
                  <a:ext cx="25920" cy="2088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9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8118720" y="427968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7" y="0"/>
                      </a:moveTo>
                      <a:lnTo>
                        <a:pt x="0" y="55"/>
                      </a:lnTo>
                      <a:lnTo>
                        <a:pt x="60" y="106"/>
                      </a:lnTo>
                      <a:lnTo>
                        <a:pt x="108" y="4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8118720" y="428472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8" y="44"/>
                      </a:lnTo>
                      <a:lnTo>
                        <a:pt x="10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8139240" y="42836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8118720" y="427572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4" y="0"/>
                      </a:moveTo>
                      <a:lnTo>
                        <a:pt x="39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49" y="98"/>
                      </a:lnTo>
                      <a:lnTo>
                        <a:pt x="57" y="100"/>
                      </a:lnTo>
                      <a:lnTo>
                        <a:pt x="62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49" y="2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136360" y="429264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10" h="105">
                      <a:moveTo>
                        <a:pt x="49" y="0"/>
                      </a:moveTo>
                      <a:lnTo>
                        <a:pt x="0" y="55"/>
                      </a:lnTo>
                      <a:lnTo>
                        <a:pt x="62" y="105"/>
                      </a:lnTo>
                      <a:lnTo>
                        <a:pt x="110" y="4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8136360" y="429660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3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8156880" y="429552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2">
                      <a:moveTo>
                        <a:pt x="19" y="10"/>
                      </a:moveTo>
                      <a:lnTo>
                        <a:pt x="22" y="15"/>
                      </a:lnTo>
                      <a:lnTo>
                        <a:pt x="22" y="29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136360" y="428724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99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7"/>
                      </a:lnTo>
                      <a:lnTo>
                        <a:pt x="58" y="99"/>
                      </a:lnTo>
                      <a:lnTo>
                        <a:pt x="63" y="97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99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8153640" y="430488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10" h="104">
                      <a:moveTo>
                        <a:pt x="49" y="0"/>
                      </a:moveTo>
                      <a:lnTo>
                        <a:pt x="0" y="54"/>
                      </a:lnTo>
                      <a:lnTo>
                        <a:pt x="62" y="104"/>
                      </a:lnTo>
                      <a:lnTo>
                        <a:pt x="110" y="44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8153640" y="430992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174160" y="43088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1">
                      <a:moveTo>
                        <a:pt x="19" y="9"/>
                      </a:moveTo>
                      <a:lnTo>
                        <a:pt x="22" y="14"/>
                      </a:lnTo>
                      <a:lnTo>
                        <a:pt x="22" y="28"/>
                      </a:lnTo>
                      <a:lnTo>
                        <a:pt x="0" y="41"/>
                      </a:lnTo>
                      <a:lnTo>
                        <a:pt x="8" y="0"/>
                      </a:lnTo>
                      <a:lnTo>
                        <a:pt x="19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8153640" y="43005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04" h="98">
                      <a:moveTo>
                        <a:pt x="45" y="0"/>
                      </a:moveTo>
                      <a:lnTo>
                        <a:pt x="39" y="3"/>
                      </a:lnTo>
                      <a:lnTo>
                        <a:pt x="2" y="47"/>
                      </a:lnTo>
                      <a:lnTo>
                        <a:pt x="0" y="51"/>
                      </a:lnTo>
                      <a:lnTo>
                        <a:pt x="3" y="57"/>
                      </a:lnTo>
                      <a:lnTo>
                        <a:pt x="50" y="96"/>
                      </a:lnTo>
                      <a:lnTo>
                        <a:pt x="58" y="98"/>
                      </a:lnTo>
                      <a:lnTo>
                        <a:pt x="63" y="96"/>
                      </a:lnTo>
                      <a:lnTo>
                        <a:pt x="102" y="50"/>
                      </a:lnTo>
                      <a:lnTo>
                        <a:pt x="104" y="43"/>
                      </a:lnTo>
                      <a:lnTo>
                        <a:pt x="99" y="37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8169480" y="4316400"/>
                  <a:ext cx="27720" cy="23760"/>
                </a:xfrm>
                <a:custGeom>
                  <a:avLst/>
                  <a:gdLst/>
                  <a:ahLst/>
                  <a:rect l="l" t="t" r="r" b="b"/>
                  <a:pathLst>
                    <a:path w="110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10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169480" y="432180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8191800" y="432036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8" y="11"/>
                      </a:moveTo>
                      <a:lnTo>
                        <a:pt x="22" y="16"/>
                      </a:lnTo>
                      <a:lnTo>
                        <a:pt x="22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8171280" y="431280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3" y="48"/>
                      </a:lnTo>
                      <a:lnTo>
                        <a:pt x="0" y="53"/>
                      </a:lnTo>
                      <a:lnTo>
                        <a:pt x="4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4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8187120" y="432864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8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8187120" y="433404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8209080" y="4332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0" h="42">
                      <a:moveTo>
                        <a:pt x="17" y="10"/>
                      </a:moveTo>
                      <a:lnTo>
                        <a:pt x="20" y="15"/>
                      </a:lnTo>
                      <a:lnTo>
                        <a:pt x="20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7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8188920" y="432468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4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4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51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8204760" y="434196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7" y="0"/>
                      </a:moveTo>
                      <a:lnTo>
                        <a:pt x="0" y="56"/>
                      </a:lnTo>
                      <a:lnTo>
                        <a:pt x="60" y="106"/>
                      </a:lnTo>
                      <a:lnTo>
                        <a:pt x="108" y="4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8204760" y="4345560"/>
                  <a:ext cx="3960" cy="10800"/>
                </a:xfrm>
                <a:custGeom>
                  <a:avLst/>
                  <a:gdLst/>
                  <a:ahLst/>
                  <a:rect l="l" t="t" r="r" b="b"/>
                  <a:pathLst>
                    <a:path w="18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8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8226360" y="434448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8206200" y="433656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4" y="0"/>
                      </a:moveTo>
                      <a:lnTo>
                        <a:pt x="39" y="3"/>
                      </a:lnTo>
                      <a:lnTo>
                        <a:pt x="2" y="48"/>
                      </a:lnTo>
                      <a:lnTo>
                        <a:pt x="0" y="52"/>
                      </a:lnTo>
                      <a:lnTo>
                        <a:pt x="3" y="58"/>
                      </a:lnTo>
                      <a:lnTo>
                        <a:pt x="50" y="97"/>
                      </a:lnTo>
                      <a:lnTo>
                        <a:pt x="57" y="100"/>
                      </a:lnTo>
                      <a:lnTo>
                        <a:pt x="62" y="97"/>
                      </a:lnTo>
                      <a:lnTo>
                        <a:pt x="101" y="51"/>
                      </a:lnTo>
                      <a:lnTo>
                        <a:pt x="103" y="44"/>
                      </a:lnTo>
                      <a:lnTo>
                        <a:pt x="99" y="38"/>
                      </a:lnTo>
                      <a:lnTo>
                        <a:pt x="50" y="2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9" name=""/>
                <p:cNvGrpSpPr/>
                <p:nvPr/>
              </p:nvGrpSpPr>
              <p:grpSpPr>
                <a:xfrm>
                  <a:off x="7878240" y="4132440"/>
                  <a:ext cx="26280" cy="27360"/>
                  <a:chOff x="7878240" y="4132440"/>
                  <a:chExt cx="26280" cy="27360"/>
                </a:xfrm>
              </p:grpSpPr>
              <p:sp>
                <p:nvSpPr>
                  <p:cNvPr id="1570" name=""/>
                  <p:cNvSpPr/>
                  <p:nvPr/>
                </p:nvSpPr>
                <p:spPr>
                  <a:xfrm>
                    <a:off x="7878240" y="4136400"/>
                    <a:ext cx="26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5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5"/>
                        </a:lnTo>
                        <a:lnTo>
                          <a:pt x="109" y="45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7878240" y="4141440"/>
                    <a:ext cx="43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7898400" y="414036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1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7878240" y="4132440"/>
                    <a:ext cx="262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1" y="97"/>
                        </a:lnTo>
                        <a:lnTo>
                          <a:pt x="58" y="100"/>
                        </a:lnTo>
                        <a:lnTo>
                          <a:pt x="63" y="97"/>
                        </a:lnTo>
                        <a:lnTo>
                          <a:pt x="102" y="52"/>
                        </a:lnTo>
                        <a:lnTo>
                          <a:pt x="104" y="44"/>
                        </a:lnTo>
                        <a:lnTo>
                          <a:pt x="100" y="39"/>
                        </a:lnTo>
                        <a:lnTo>
                          <a:pt x="51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4" name=""/>
                <p:cNvGrpSpPr/>
                <p:nvPr/>
              </p:nvGrpSpPr>
              <p:grpSpPr>
                <a:xfrm>
                  <a:off x="7894440" y="4144320"/>
                  <a:ext cx="27720" cy="27360"/>
                  <a:chOff x="7894440" y="4144320"/>
                  <a:chExt cx="27720" cy="27360"/>
                </a:xfrm>
              </p:grpSpPr>
              <p:sp>
                <p:nvSpPr>
                  <p:cNvPr id="1575" name=""/>
                  <p:cNvSpPr/>
                  <p:nvPr/>
                </p:nvSpPr>
                <p:spPr>
                  <a:xfrm>
                    <a:off x="7894440" y="414792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7894440" y="4153320"/>
                    <a:ext cx="5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7916040" y="415188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3">
                        <a:moveTo>
                          <a:pt x="18" y="11"/>
                        </a:moveTo>
                        <a:lnTo>
                          <a:pt x="21" y="16"/>
                        </a:lnTo>
                        <a:lnTo>
                          <a:pt x="21" y="30"/>
                        </a:lnTo>
                        <a:lnTo>
                          <a:pt x="0" y="43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7895520" y="4144320"/>
                    <a:ext cx="24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4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8" y="100"/>
                        </a:lnTo>
                        <a:lnTo>
                          <a:pt x="63" y="98"/>
                        </a:lnTo>
                        <a:lnTo>
                          <a:pt x="102" y="52"/>
                        </a:lnTo>
                        <a:lnTo>
                          <a:pt x="104" y="45"/>
                        </a:lnTo>
                        <a:lnTo>
                          <a:pt x="100" y="39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9" name=""/>
                <p:cNvGrpSpPr/>
                <p:nvPr/>
              </p:nvGrpSpPr>
              <p:grpSpPr>
                <a:xfrm>
                  <a:off x="7912080" y="4157640"/>
                  <a:ext cx="27720" cy="27360"/>
                  <a:chOff x="7912080" y="4157640"/>
                  <a:chExt cx="27720" cy="27360"/>
                </a:xfrm>
              </p:grpSpPr>
              <p:sp>
                <p:nvSpPr>
                  <p:cNvPr id="1580" name=""/>
                  <p:cNvSpPr/>
                  <p:nvPr/>
                </p:nvSpPr>
                <p:spPr>
                  <a:xfrm>
                    <a:off x="7912080" y="416124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8" y="0"/>
                        </a:moveTo>
                        <a:lnTo>
                          <a:pt x="0" y="56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>
                    <a:off x="7912080" y="416664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3">
                        <a:moveTo>
                          <a:pt x="2" y="10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3"/>
                        </a:lnTo>
                        <a:lnTo>
                          <a:pt x="11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7933680" y="4165560"/>
                    <a:ext cx="57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0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7913160" y="4157640"/>
                    <a:ext cx="244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2"/>
                        </a:lnTo>
                        <a:lnTo>
                          <a:pt x="3" y="58"/>
                        </a:lnTo>
                        <a:lnTo>
                          <a:pt x="50" y="97"/>
                        </a:lnTo>
                        <a:lnTo>
                          <a:pt x="58" y="100"/>
                        </a:lnTo>
                        <a:lnTo>
                          <a:pt x="63" y="97"/>
                        </a:lnTo>
                        <a:lnTo>
                          <a:pt x="102" y="51"/>
                        </a:lnTo>
                        <a:lnTo>
                          <a:pt x="104" y="44"/>
                        </a:lnTo>
                        <a:lnTo>
                          <a:pt x="100" y="38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84" name=""/>
                <p:cNvGrpSpPr/>
                <p:nvPr/>
              </p:nvGrpSpPr>
              <p:grpSpPr>
                <a:xfrm>
                  <a:off x="7929720" y="4169520"/>
                  <a:ext cx="25920" cy="27000"/>
                  <a:chOff x="7929720" y="4169520"/>
                  <a:chExt cx="25920" cy="27000"/>
                </a:xfrm>
              </p:grpSpPr>
              <p:sp>
                <p:nvSpPr>
                  <p:cNvPr id="1585" name=""/>
                  <p:cNvSpPr/>
                  <p:nvPr/>
                </p:nvSpPr>
                <p:spPr>
                  <a:xfrm>
                    <a:off x="7929720" y="4173120"/>
                    <a:ext cx="25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7929720" y="4178520"/>
                    <a:ext cx="39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4">
                        <a:moveTo>
                          <a:pt x="3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20" y="44"/>
                        </a:lnTo>
                        <a:lnTo>
                          <a:pt x="12" y="0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7951320" y="417708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2">
                        <a:moveTo>
                          <a:pt x="19" y="11"/>
                        </a:moveTo>
                        <a:lnTo>
                          <a:pt x="22" y="15"/>
                        </a:lnTo>
                        <a:lnTo>
                          <a:pt x="22" y="30"/>
                        </a:lnTo>
                        <a:lnTo>
                          <a:pt x="0" y="42"/>
                        </a:lnTo>
                        <a:lnTo>
                          <a:pt x="8" y="0"/>
                        </a:lnTo>
                        <a:lnTo>
                          <a:pt x="19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7930800" y="4169520"/>
                    <a:ext cx="24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00">
                        <a:moveTo>
                          <a:pt x="45" y="0"/>
                        </a:moveTo>
                        <a:lnTo>
                          <a:pt x="39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49" y="97"/>
                        </a:lnTo>
                        <a:lnTo>
                          <a:pt x="57" y="100"/>
                        </a:lnTo>
                        <a:lnTo>
                          <a:pt x="62" y="97"/>
                        </a:lnTo>
                        <a:lnTo>
                          <a:pt x="101" y="52"/>
                        </a:lnTo>
                        <a:lnTo>
                          <a:pt x="103" y="45"/>
                        </a:lnTo>
                        <a:lnTo>
                          <a:pt x="98" y="39"/>
                        </a:lnTo>
                        <a:lnTo>
                          <a:pt x="49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89" name=""/>
                <p:cNvGrpSpPr/>
                <p:nvPr/>
              </p:nvGrpSpPr>
              <p:grpSpPr>
                <a:xfrm>
                  <a:off x="7947000" y="4181400"/>
                  <a:ext cx="25920" cy="27360"/>
                  <a:chOff x="7947000" y="4181400"/>
                  <a:chExt cx="25920" cy="27360"/>
                </a:xfrm>
              </p:grpSpPr>
              <p:sp>
                <p:nvSpPr>
                  <p:cNvPr id="1590" name=""/>
                  <p:cNvSpPr/>
                  <p:nvPr/>
                </p:nvSpPr>
                <p:spPr>
                  <a:xfrm>
                    <a:off x="7947000" y="418644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6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10" y="46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7947000" y="4190400"/>
                    <a:ext cx="39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3">
                        <a:moveTo>
                          <a:pt x="2" y="10"/>
                        </a:moveTo>
                        <a:lnTo>
                          <a:pt x="0" y="18"/>
                        </a:lnTo>
                        <a:lnTo>
                          <a:pt x="0" y="31"/>
                        </a:lnTo>
                        <a:lnTo>
                          <a:pt x="20" y="43"/>
                        </a:lnTo>
                        <a:lnTo>
                          <a:pt x="12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7966800" y="418932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2">
                        <a:moveTo>
                          <a:pt x="18" y="10"/>
                        </a:moveTo>
                        <a:lnTo>
                          <a:pt x="22" y="15"/>
                        </a:lnTo>
                        <a:lnTo>
                          <a:pt x="22" y="29"/>
                        </a:lnTo>
                        <a:lnTo>
                          <a:pt x="0" y="42"/>
                        </a:lnTo>
                        <a:lnTo>
                          <a:pt x="8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7947000" y="418140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00">
                        <a:moveTo>
                          <a:pt x="46" y="0"/>
                        </a:moveTo>
                        <a:lnTo>
                          <a:pt x="40" y="4"/>
                        </a:lnTo>
                        <a:lnTo>
                          <a:pt x="3" y="49"/>
                        </a:lnTo>
                        <a:lnTo>
                          <a:pt x="0" y="53"/>
                        </a:lnTo>
                        <a:lnTo>
                          <a:pt x="4" y="59"/>
                        </a:lnTo>
                        <a:lnTo>
                          <a:pt x="51" y="98"/>
                        </a:lnTo>
                        <a:lnTo>
                          <a:pt x="58" y="100"/>
                        </a:lnTo>
                        <a:lnTo>
                          <a:pt x="64" y="98"/>
                        </a:lnTo>
                        <a:lnTo>
                          <a:pt x="102" y="52"/>
                        </a:lnTo>
                        <a:lnTo>
                          <a:pt x="105" y="45"/>
                        </a:lnTo>
                        <a:lnTo>
                          <a:pt x="100" y="39"/>
                        </a:lnTo>
                        <a:lnTo>
                          <a:pt x="51" y="3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4" name=""/>
                <p:cNvGrpSpPr/>
                <p:nvPr/>
              </p:nvGrpSpPr>
              <p:grpSpPr>
                <a:xfrm>
                  <a:off x="7964640" y="4194720"/>
                  <a:ext cx="25920" cy="25920"/>
                  <a:chOff x="7964640" y="4194720"/>
                  <a:chExt cx="25920" cy="25920"/>
                </a:xfrm>
              </p:grpSpPr>
              <p:sp>
                <p:nvSpPr>
                  <p:cNvPr id="1595" name=""/>
                  <p:cNvSpPr/>
                  <p:nvPr/>
                </p:nvSpPr>
                <p:spPr>
                  <a:xfrm>
                    <a:off x="7964640" y="419832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5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5"/>
                        </a:lnTo>
                        <a:lnTo>
                          <a:pt x="110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7964640" y="420336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2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19" y="42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7984440" y="4201200"/>
                    <a:ext cx="57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1">
                        <a:moveTo>
                          <a:pt x="18" y="10"/>
                        </a:moveTo>
                        <a:lnTo>
                          <a:pt x="22" y="15"/>
                        </a:lnTo>
                        <a:lnTo>
                          <a:pt x="22" y="29"/>
                        </a:lnTo>
                        <a:lnTo>
                          <a:pt x="0" y="41"/>
                        </a:lnTo>
                        <a:lnTo>
                          <a:pt x="8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7964640" y="4194720"/>
                    <a:ext cx="259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98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4" y="58"/>
                        </a:lnTo>
                        <a:lnTo>
                          <a:pt x="51" y="96"/>
                        </a:lnTo>
                        <a:lnTo>
                          <a:pt x="58" y="98"/>
                        </a:lnTo>
                        <a:lnTo>
                          <a:pt x="64" y="96"/>
                        </a:lnTo>
                        <a:lnTo>
                          <a:pt x="102" y="51"/>
                        </a:lnTo>
                        <a:lnTo>
                          <a:pt x="104" y="44"/>
                        </a:lnTo>
                        <a:lnTo>
                          <a:pt x="100" y="38"/>
                        </a:lnTo>
                        <a:lnTo>
                          <a:pt x="51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9" name=""/>
                <p:cNvGrpSpPr/>
                <p:nvPr/>
              </p:nvGrpSpPr>
              <p:grpSpPr>
                <a:xfrm>
                  <a:off x="7980480" y="4206600"/>
                  <a:ext cx="27720" cy="25920"/>
                  <a:chOff x="7980480" y="4206600"/>
                  <a:chExt cx="27720" cy="25920"/>
                </a:xfrm>
              </p:grpSpPr>
              <p:sp>
                <p:nvSpPr>
                  <p:cNvPr id="1600" name=""/>
                  <p:cNvSpPr/>
                  <p:nvPr/>
                </p:nvSpPr>
                <p:spPr>
                  <a:xfrm>
                    <a:off x="7980480" y="4210200"/>
                    <a:ext cx="277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5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5"/>
                        </a:lnTo>
                        <a:lnTo>
                          <a:pt x="109" y="45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7980480" y="421560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8002080" y="4213080"/>
                    <a:ext cx="5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1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7981920" y="4206600"/>
                    <a:ext cx="241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99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7"/>
                        </a:lnTo>
                        <a:lnTo>
                          <a:pt x="0" y="52"/>
                        </a:lnTo>
                        <a:lnTo>
                          <a:pt x="3" y="57"/>
                        </a:lnTo>
                        <a:lnTo>
                          <a:pt x="51" y="96"/>
                        </a:lnTo>
                        <a:lnTo>
                          <a:pt x="58" y="99"/>
                        </a:lnTo>
                        <a:lnTo>
                          <a:pt x="64" y="96"/>
                        </a:lnTo>
                        <a:lnTo>
                          <a:pt x="102" y="50"/>
                        </a:lnTo>
                        <a:lnTo>
                          <a:pt x="104" y="43"/>
                        </a:lnTo>
                        <a:lnTo>
                          <a:pt x="100" y="37"/>
                        </a:lnTo>
                        <a:lnTo>
                          <a:pt x="51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4" name=""/>
                <p:cNvGrpSpPr/>
                <p:nvPr/>
              </p:nvGrpSpPr>
              <p:grpSpPr>
                <a:xfrm>
                  <a:off x="7997760" y="4218480"/>
                  <a:ext cx="27720" cy="27360"/>
                  <a:chOff x="7997760" y="4218480"/>
                  <a:chExt cx="27720" cy="27360"/>
                </a:xfrm>
              </p:grpSpPr>
              <p:sp>
                <p:nvSpPr>
                  <p:cNvPr id="1605" name=""/>
                  <p:cNvSpPr/>
                  <p:nvPr/>
                </p:nvSpPr>
                <p:spPr>
                  <a:xfrm>
                    <a:off x="7997760" y="422208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7997760" y="422748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8019360" y="422604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3">
                        <a:moveTo>
                          <a:pt x="18" y="11"/>
                        </a:moveTo>
                        <a:lnTo>
                          <a:pt x="21" y="16"/>
                        </a:lnTo>
                        <a:lnTo>
                          <a:pt x="21" y="30"/>
                        </a:lnTo>
                        <a:lnTo>
                          <a:pt x="0" y="43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7998840" y="4218480"/>
                    <a:ext cx="244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8" y="100"/>
                        </a:lnTo>
                        <a:lnTo>
                          <a:pt x="63" y="98"/>
                        </a:lnTo>
                        <a:lnTo>
                          <a:pt x="102" y="52"/>
                        </a:lnTo>
                        <a:lnTo>
                          <a:pt x="104" y="45"/>
                        </a:lnTo>
                        <a:lnTo>
                          <a:pt x="100" y="39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9" name=""/>
                <p:cNvGrpSpPr/>
                <p:nvPr/>
              </p:nvGrpSpPr>
              <p:grpSpPr>
                <a:xfrm>
                  <a:off x="8015400" y="4230720"/>
                  <a:ext cx="25920" cy="27000"/>
                  <a:chOff x="8015400" y="4230720"/>
                  <a:chExt cx="25920" cy="27000"/>
                </a:xfrm>
              </p:grpSpPr>
              <p:sp>
                <p:nvSpPr>
                  <p:cNvPr id="1610" name=""/>
                  <p:cNvSpPr/>
                  <p:nvPr/>
                </p:nvSpPr>
                <p:spPr>
                  <a:xfrm>
                    <a:off x="8015400" y="4234320"/>
                    <a:ext cx="25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06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8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8015400" y="423936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3">
                        <a:moveTo>
                          <a:pt x="2" y="10"/>
                        </a:moveTo>
                        <a:lnTo>
                          <a:pt x="0" y="18"/>
                        </a:lnTo>
                        <a:lnTo>
                          <a:pt x="0" y="31"/>
                        </a:lnTo>
                        <a:lnTo>
                          <a:pt x="19" y="43"/>
                        </a:lnTo>
                        <a:lnTo>
                          <a:pt x="11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>
                    <a:off x="8037000" y="423828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0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8016480" y="4230720"/>
                    <a:ext cx="24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00">
                        <a:moveTo>
                          <a:pt x="45" y="0"/>
                        </a:moveTo>
                        <a:lnTo>
                          <a:pt x="40" y="4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8" y="100"/>
                        </a:lnTo>
                        <a:lnTo>
                          <a:pt x="62" y="98"/>
                        </a:lnTo>
                        <a:lnTo>
                          <a:pt x="101" y="52"/>
                        </a:lnTo>
                        <a:lnTo>
                          <a:pt x="103" y="45"/>
                        </a:lnTo>
                        <a:lnTo>
                          <a:pt x="99" y="39"/>
                        </a:lnTo>
                        <a:lnTo>
                          <a:pt x="50" y="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4" name=""/>
                <p:cNvGrpSpPr/>
                <p:nvPr/>
              </p:nvGrpSpPr>
              <p:grpSpPr>
                <a:xfrm>
                  <a:off x="8033040" y="4242240"/>
                  <a:ext cx="25920" cy="27360"/>
                  <a:chOff x="8033040" y="4242240"/>
                  <a:chExt cx="25920" cy="27360"/>
                </a:xfrm>
              </p:grpSpPr>
              <p:sp>
                <p:nvSpPr>
                  <p:cNvPr id="1615" name=""/>
                  <p:cNvSpPr/>
                  <p:nvPr/>
                </p:nvSpPr>
                <p:spPr>
                  <a:xfrm>
                    <a:off x="8033040" y="424728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5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2" y="105"/>
                        </a:lnTo>
                        <a:lnTo>
                          <a:pt x="110" y="45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8033040" y="4252680"/>
                    <a:ext cx="39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4">
                        <a:moveTo>
                          <a:pt x="3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20" y="44"/>
                        </a:lnTo>
                        <a:lnTo>
                          <a:pt x="12" y="0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8053200" y="4250160"/>
                    <a:ext cx="54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2">
                        <a:moveTo>
                          <a:pt x="19" y="11"/>
                        </a:moveTo>
                        <a:lnTo>
                          <a:pt x="22" y="15"/>
                        </a:lnTo>
                        <a:lnTo>
                          <a:pt x="22" y="29"/>
                        </a:lnTo>
                        <a:lnTo>
                          <a:pt x="0" y="42"/>
                        </a:lnTo>
                        <a:lnTo>
                          <a:pt x="8" y="0"/>
                        </a:lnTo>
                        <a:lnTo>
                          <a:pt x="19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>
                    <a:off x="8033040" y="424224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39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7"/>
                        </a:lnTo>
                        <a:lnTo>
                          <a:pt x="58" y="100"/>
                        </a:lnTo>
                        <a:lnTo>
                          <a:pt x="63" y="97"/>
                        </a:lnTo>
                        <a:lnTo>
                          <a:pt x="102" y="51"/>
                        </a:lnTo>
                        <a:lnTo>
                          <a:pt x="104" y="44"/>
                        </a:lnTo>
                        <a:lnTo>
                          <a:pt x="99" y="39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9" name=""/>
                <p:cNvGrpSpPr/>
                <p:nvPr/>
              </p:nvGrpSpPr>
              <p:grpSpPr>
                <a:xfrm>
                  <a:off x="8050320" y="4255560"/>
                  <a:ext cx="25920" cy="27360"/>
                  <a:chOff x="8050320" y="4255560"/>
                  <a:chExt cx="25920" cy="27360"/>
                </a:xfrm>
              </p:grpSpPr>
              <p:sp>
                <p:nvSpPr>
                  <p:cNvPr id="1620" name=""/>
                  <p:cNvSpPr/>
                  <p:nvPr/>
                </p:nvSpPr>
                <p:spPr>
                  <a:xfrm>
                    <a:off x="8050320" y="4259520"/>
                    <a:ext cx="25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6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10" y="46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8050320" y="426456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3">
                        <a:moveTo>
                          <a:pt x="2" y="10"/>
                        </a:moveTo>
                        <a:lnTo>
                          <a:pt x="0" y="18"/>
                        </a:lnTo>
                        <a:lnTo>
                          <a:pt x="0" y="31"/>
                        </a:lnTo>
                        <a:lnTo>
                          <a:pt x="20" y="43"/>
                        </a:lnTo>
                        <a:lnTo>
                          <a:pt x="12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8070120" y="426348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3">
                        <a:moveTo>
                          <a:pt x="19" y="11"/>
                        </a:moveTo>
                        <a:lnTo>
                          <a:pt x="22" y="16"/>
                        </a:lnTo>
                        <a:lnTo>
                          <a:pt x="22" y="30"/>
                        </a:lnTo>
                        <a:lnTo>
                          <a:pt x="0" y="43"/>
                        </a:lnTo>
                        <a:lnTo>
                          <a:pt x="8" y="0"/>
                        </a:lnTo>
                        <a:lnTo>
                          <a:pt x="19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8050320" y="425556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39" y="4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7" y="100"/>
                        </a:lnTo>
                        <a:lnTo>
                          <a:pt x="63" y="98"/>
                        </a:lnTo>
                        <a:lnTo>
                          <a:pt x="101" y="52"/>
                        </a:lnTo>
                        <a:lnTo>
                          <a:pt x="104" y="45"/>
                        </a:lnTo>
                        <a:lnTo>
                          <a:pt x="99" y="39"/>
                        </a:lnTo>
                        <a:lnTo>
                          <a:pt x="50" y="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4" name=""/>
                <p:cNvGrpSpPr/>
                <p:nvPr/>
              </p:nvGrpSpPr>
              <p:grpSpPr>
                <a:xfrm>
                  <a:off x="8067960" y="4267440"/>
                  <a:ext cx="27360" cy="28440"/>
                  <a:chOff x="8067960" y="4267440"/>
                  <a:chExt cx="27360" cy="28440"/>
                </a:xfrm>
              </p:grpSpPr>
              <p:sp>
                <p:nvSpPr>
                  <p:cNvPr id="1625" name=""/>
                  <p:cNvSpPr/>
                  <p:nvPr/>
                </p:nvSpPr>
                <p:spPr>
                  <a:xfrm>
                    <a:off x="8067960" y="4272480"/>
                    <a:ext cx="273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10">
                        <a:moveTo>
                          <a:pt x="48" y="0"/>
                        </a:moveTo>
                        <a:lnTo>
                          <a:pt x="0" y="57"/>
                        </a:lnTo>
                        <a:lnTo>
                          <a:pt x="62" y="110"/>
                        </a:lnTo>
                        <a:lnTo>
                          <a:pt x="110" y="47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8067960" y="4277520"/>
                    <a:ext cx="54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8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1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8089560" y="4276440"/>
                    <a:ext cx="54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5">
                        <a:moveTo>
                          <a:pt x="18" y="12"/>
                        </a:moveTo>
                        <a:lnTo>
                          <a:pt x="21" y="17"/>
                        </a:lnTo>
                        <a:lnTo>
                          <a:pt x="21" y="31"/>
                        </a:lnTo>
                        <a:lnTo>
                          <a:pt x="0" y="45"/>
                        </a:lnTo>
                        <a:lnTo>
                          <a:pt x="7" y="0"/>
                        </a:lnTo>
                        <a:lnTo>
                          <a:pt x="18" y="12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8069040" y="4267440"/>
                    <a:ext cx="244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05">
                        <a:moveTo>
                          <a:pt x="45" y="0"/>
                        </a:moveTo>
                        <a:lnTo>
                          <a:pt x="39" y="3"/>
                        </a:lnTo>
                        <a:lnTo>
                          <a:pt x="2" y="50"/>
                        </a:lnTo>
                        <a:lnTo>
                          <a:pt x="0" y="55"/>
                        </a:lnTo>
                        <a:lnTo>
                          <a:pt x="3" y="61"/>
                        </a:lnTo>
                        <a:lnTo>
                          <a:pt x="50" y="102"/>
                        </a:lnTo>
                        <a:lnTo>
                          <a:pt x="59" y="105"/>
                        </a:lnTo>
                        <a:lnTo>
                          <a:pt x="64" y="102"/>
                        </a:lnTo>
                        <a:lnTo>
                          <a:pt x="103" y="54"/>
                        </a:lnTo>
                        <a:lnTo>
                          <a:pt x="105" y="47"/>
                        </a:lnTo>
                        <a:lnTo>
                          <a:pt x="101" y="41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9" name=""/>
                <p:cNvGrpSpPr/>
                <p:nvPr/>
              </p:nvGrpSpPr>
              <p:grpSpPr>
                <a:xfrm>
                  <a:off x="8086680" y="4280760"/>
                  <a:ext cx="95400" cy="79920"/>
                  <a:chOff x="8086680" y="4280760"/>
                  <a:chExt cx="95400" cy="79920"/>
                </a:xfrm>
              </p:grpSpPr>
              <p:grpSp>
                <p:nvGrpSpPr>
                  <p:cNvPr id="1630" name=""/>
                  <p:cNvGrpSpPr/>
                  <p:nvPr/>
                </p:nvGrpSpPr>
                <p:grpSpPr>
                  <a:xfrm>
                    <a:off x="8086680" y="4280760"/>
                    <a:ext cx="25920" cy="28440"/>
                    <a:chOff x="8086680" y="4280760"/>
                    <a:chExt cx="25920" cy="28440"/>
                  </a:xfrm>
                </p:grpSpPr>
                <p:sp>
                  <p:nvSpPr>
                    <p:cNvPr id="1631" name=""/>
                    <p:cNvSpPr/>
                    <p:nvPr/>
                  </p:nvSpPr>
                  <p:spPr>
                    <a:xfrm>
                      <a:off x="8086680" y="428580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09">
                          <a:moveTo>
                            <a:pt x="49" y="0"/>
                          </a:moveTo>
                          <a:lnTo>
                            <a:pt x="0" y="57"/>
                          </a:lnTo>
                          <a:lnTo>
                            <a:pt x="63" y="109"/>
                          </a:lnTo>
                          <a:lnTo>
                            <a:pt x="112" y="48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2" name=""/>
                    <p:cNvSpPr/>
                    <p:nvPr/>
                  </p:nvSpPr>
                  <p:spPr>
                    <a:xfrm>
                      <a:off x="8086680" y="429084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3" y="12"/>
                          </a:moveTo>
                          <a:lnTo>
                            <a:pt x="0" y="19"/>
                          </a:lnTo>
                          <a:lnTo>
                            <a:pt x="0" y="33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3" name=""/>
                    <p:cNvSpPr/>
                    <p:nvPr/>
                  </p:nvSpPr>
                  <p:spPr>
                    <a:xfrm>
                      <a:off x="8106840" y="4288680"/>
                      <a:ext cx="540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5">
                          <a:moveTo>
                            <a:pt x="18" y="12"/>
                          </a:moveTo>
                          <a:lnTo>
                            <a:pt x="22" y="17"/>
                          </a:lnTo>
                          <a:lnTo>
                            <a:pt x="22" y="32"/>
                          </a:lnTo>
                          <a:lnTo>
                            <a:pt x="0" y="45"/>
                          </a:lnTo>
                          <a:lnTo>
                            <a:pt x="7" y="0"/>
                          </a:lnTo>
                          <a:lnTo>
                            <a:pt x="18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4" name=""/>
                    <p:cNvSpPr/>
                    <p:nvPr/>
                  </p:nvSpPr>
                  <p:spPr>
                    <a:xfrm>
                      <a:off x="8086680" y="428076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4">
                          <a:moveTo>
                            <a:pt x="45" y="0"/>
                          </a:moveTo>
                          <a:lnTo>
                            <a:pt x="39" y="3"/>
                          </a:lnTo>
                          <a:lnTo>
                            <a:pt x="2" y="50"/>
                          </a:lnTo>
                          <a:lnTo>
                            <a:pt x="0" y="55"/>
                          </a:lnTo>
                          <a:lnTo>
                            <a:pt x="3" y="61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1" y="41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35" name=""/>
                  <p:cNvGrpSpPr/>
                  <p:nvPr/>
                </p:nvGrpSpPr>
                <p:grpSpPr>
                  <a:xfrm>
                    <a:off x="8103960" y="4293720"/>
                    <a:ext cx="25920" cy="28440"/>
                    <a:chOff x="8103960" y="4293720"/>
                    <a:chExt cx="25920" cy="28440"/>
                  </a:xfrm>
                </p:grpSpPr>
                <p:sp>
                  <p:nvSpPr>
                    <p:cNvPr id="1636" name=""/>
                    <p:cNvSpPr/>
                    <p:nvPr/>
                  </p:nvSpPr>
                  <p:spPr>
                    <a:xfrm>
                      <a:off x="8103960" y="4297680"/>
                      <a:ext cx="2592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1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7" name=""/>
                    <p:cNvSpPr/>
                    <p:nvPr/>
                  </p:nvSpPr>
                  <p:spPr>
                    <a:xfrm>
                      <a:off x="8103960" y="430416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3" y="12"/>
                          </a:moveTo>
                          <a:lnTo>
                            <a:pt x="0" y="20"/>
                          </a:lnTo>
                          <a:lnTo>
                            <a:pt x="0" y="32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8" name=""/>
                    <p:cNvSpPr/>
                    <p:nvPr/>
                  </p:nvSpPr>
                  <p:spPr>
                    <a:xfrm>
                      <a:off x="8124120" y="430164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42">
                          <a:moveTo>
                            <a:pt x="20" y="11"/>
                          </a:moveTo>
                          <a:lnTo>
                            <a:pt x="23" y="15"/>
                          </a:lnTo>
                          <a:lnTo>
                            <a:pt x="23" y="30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20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9" name=""/>
                    <p:cNvSpPr/>
                    <p:nvPr/>
                  </p:nvSpPr>
                  <p:spPr>
                    <a:xfrm>
                      <a:off x="8103960" y="4293720"/>
                      <a:ext cx="25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4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51"/>
                          </a:lnTo>
                          <a:lnTo>
                            <a:pt x="0" y="56"/>
                          </a:lnTo>
                          <a:lnTo>
                            <a:pt x="3" y="63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3" y="55"/>
                          </a:lnTo>
                          <a:lnTo>
                            <a:pt x="105" y="48"/>
                          </a:lnTo>
                          <a:lnTo>
                            <a:pt x="101" y="42"/>
                          </a:lnTo>
                          <a:lnTo>
                            <a:pt x="51" y="3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40" name=""/>
                  <p:cNvGrpSpPr/>
                  <p:nvPr/>
                </p:nvGrpSpPr>
                <p:grpSpPr>
                  <a:xfrm>
                    <a:off x="8121240" y="4307040"/>
                    <a:ext cx="25920" cy="27360"/>
                    <a:chOff x="8121240" y="4307040"/>
                    <a:chExt cx="25920" cy="27360"/>
                  </a:xfrm>
                </p:grpSpPr>
                <p:sp>
                  <p:nvSpPr>
                    <p:cNvPr id="1641" name=""/>
                    <p:cNvSpPr/>
                    <p:nvPr/>
                  </p:nvSpPr>
                  <p:spPr>
                    <a:xfrm>
                      <a:off x="8121240" y="431100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8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2" name=""/>
                    <p:cNvSpPr/>
                    <p:nvPr/>
                  </p:nvSpPr>
                  <p:spPr>
                    <a:xfrm>
                      <a:off x="8121240" y="4316040"/>
                      <a:ext cx="396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2" y="11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3" name=""/>
                    <p:cNvSpPr/>
                    <p:nvPr/>
                  </p:nvSpPr>
                  <p:spPr>
                    <a:xfrm>
                      <a:off x="8141400" y="431496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43">
                          <a:moveTo>
                            <a:pt x="20" y="10"/>
                          </a:moveTo>
                          <a:lnTo>
                            <a:pt x="23" y="15"/>
                          </a:lnTo>
                          <a:lnTo>
                            <a:pt x="23" y="30"/>
                          </a:lnTo>
                          <a:lnTo>
                            <a:pt x="0" y="43"/>
                          </a:lnTo>
                          <a:lnTo>
                            <a:pt x="9" y="0"/>
                          </a:lnTo>
                          <a:lnTo>
                            <a:pt x="20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4" name=""/>
                    <p:cNvSpPr/>
                    <p:nvPr/>
                  </p:nvSpPr>
                  <p:spPr>
                    <a:xfrm>
                      <a:off x="8121240" y="430704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04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49"/>
                          </a:lnTo>
                          <a:lnTo>
                            <a:pt x="0" y="54"/>
                          </a:lnTo>
                          <a:lnTo>
                            <a:pt x="3" y="61"/>
                          </a:lnTo>
                          <a:lnTo>
                            <a:pt x="51" y="101"/>
                          </a:lnTo>
                          <a:lnTo>
                            <a:pt x="59" y="104"/>
                          </a:lnTo>
                          <a:lnTo>
                            <a:pt x="64" y="101"/>
                          </a:lnTo>
                          <a:lnTo>
                            <a:pt x="104" y="53"/>
                          </a:lnTo>
                          <a:lnTo>
                            <a:pt x="106" y="46"/>
                          </a:lnTo>
                          <a:lnTo>
                            <a:pt x="101" y="40"/>
                          </a:lnTo>
                          <a:lnTo>
                            <a:pt x="51" y="2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45" name=""/>
                  <p:cNvGrpSpPr/>
                  <p:nvPr/>
                </p:nvGrpSpPr>
                <p:grpSpPr>
                  <a:xfrm>
                    <a:off x="8138880" y="4318920"/>
                    <a:ext cx="25920" cy="28440"/>
                    <a:chOff x="8138880" y="4318920"/>
                    <a:chExt cx="25920" cy="28440"/>
                  </a:xfrm>
                </p:grpSpPr>
                <p:sp>
                  <p:nvSpPr>
                    <p:cNvPr id="1646" name=""/>
                    <p:cNvSpPr/>
                    <p:nvPr/>
                  </p:nvSpPr>
                  <p:spPr>
                    <a:xfrm>
                      <a:off x="8138880" y="432396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7" name=""/>
                    <p:cNvSpPr/>
                    <p:nvPr/>
                  </p:nvSpPr>
                  <p:spPr>
                    <a:xfrm>
                      <a:off x="8138880" y="432900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6">
                          <a:moveTo>
                            <a:pt x="2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1" y="46"/>
                          </a:lnTo>
                          <a:lnTo>
                            <a:pt x="12" y="0"/>
                          </a:lnTo>
                          <a:lnTo>
                            <a:pt x="2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8" name=""/>
                    <p:cNvSpPr/>
                    <p:nvPr/>
                  </p:nvSpPr>
                  <p:spPr>
                    <a:xfrm>
                      <a:off x="8160480" y="43279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4">
                          <a:moveTo>
                            <a:pt x="19" y="11"/>
                          </a:moveTo>
                          <a:lnTo>
                            <a:pt x="22" y="16"/>
                          </a:lnTo>
                          <a:lnTo>
                            <a:pt x="22" y="31"/>
                          </a:lnTo>
                          <a:lnTo>
                            <a:pt x="0" y="44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9" name=""/>
                    <p:cNvSpPr/>
                    <p:nvPr/>
                  </p:nvSpPr>
                  <p:spPr>
                    <a:xfrm>
                      <a:off x="8138880" y="431892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04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50"/>
                          </a:lnTo>
                          <a:lnTo>
                            <a:pt x="0" y="56"/>
                          </a:lnTo>
                          <a:lnTo>
                            <a:pt x="3" y="62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4" y="54"/>
                          </a:lnTo>
                          <a:lnTo>
                            <a:pt x="106" y="47"/>
                          </a:lnTo>
                          <a:lnTo>
                            <a:pt x="101" y="41"/>
                          </a:lnTo>
                          <a:lnTo>
                            <a:pt x="51" y="3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0" name=""/>
                  <p:cNvGrpSpPr/>
                  <p:nvPr/>
                </p:nvGrpSpPr>
                <p:grpSpPr>
                  <a:xfrm>
                    <a:off x="8156160" y="4332240"/>
                    <a:ext cx="25920" cy="28440"/>
                    <a:chOff x="8156160" y="4332240"/>
                    <a:chExt cx="25920" cy="28440"/>
                  </a:xfrm>
                </p:grpSpPr>
                <p:sp>
                  <p:nvSpPr>
                    <p:cNvPr id="1651" name=""/>
                    <p:cNvSpPr/>
                    <p:nvPr/>
                  </p:nvSpPr>
                  <p:spPr>
                    <a:xfrm>
                      <a:off x="8156160" y="4335840"/>
                      <a:ext cx="259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2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2" name=""/>
                    <p:cNvSpPr/>
                    <p:nvPr/>
                  </p:nvSpPr>
                  <p:spPr>
                    <a:xfrm>
                      <a:off x="8156160" y="43423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6">
                          <a:moveTo>
                            <a:pt x="2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1" y="46"/>
                          </a:lnTo>
                          <a:lnTo>
                            <a:pt x="13" y="0"/>
                          </a:lnTo>
                          <a:lnTo>
                            <a:pt x="2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3" name=""/>
                    <p:cNvSpPr/>
                    <p:nvPr/>
                  </p:nvSpPr>
                  <p:spPr>
                    <a:xfrm>
                      <a:off x="8177760" y="434016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5">
                          <a:moveTo>
                            <a:pt x="19" y="11"/>
                          </a:moveTo>
                          <a:lnTo>
                            <a:pt x="22" y="17"/>
                          </a:lnTo>
                          <a:lnTo>
                            <a:pt x="22" y="31"/>
                          </a:lnTo>
                          <a:lnTo>
                            <a:pt x="0" y="45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4" name=""/>
                    <p:cNvSpPr/>
                    <p:nvPr/>
                  </p:nvSpPr>
                  <p:spPr>
                    <a:xfrm>
                      <a:off x="8156160" y="433224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103">
                          <a:moveTo>
                            <a:pt x="47" y="0"/>
                          </a:moveTo>
                          <a:lnTo>
                            <a:pt x="41" y="3"/>
                          </a:lnTo>
                          <a:lnTo>
                            <a:pt x="3" y="49"/>
                          </a:lnTo>
                          <a:lnTo>
                            <a:pt x="0" y="55"/>
                          </a:lnTo>
                          <a:lnTo>
                            <a:pt x="4" y="61"/>
                          </a:lnTo>
                          <a:lnTo>
                            <a:pt x="52" y="101"/>
                          </a:lnTo>
                          <a:lnTo>
                            <a:pt x="59" y="103"/>
                          </a:lnTo>
                          <a:lnTo>
                            <a:pt x="65" y="101"/>
                          </a:lnTo>
                          <a:lnTo>
                            <a:pt x="105" y="54"/>
                          </a:lnTo>
                          <a:lnTo>
                            <a:pt x="107" y="46"/>
                          </a:lnTo>
                          <a:lnTo>
                            <a:pt x="102" y="40"/>
                          </a:lnTo>
                          <a:lnTo>
                            <a:pt x="52" y="2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55" name=""/>
                <p:cNvSpPr/>
                <p:nvPr/>
              </p:nvSpPr>
              <p:spPr>
                <a:xfrm>
                  <a:off x="8177040" y="4348440"/>
                  <a:ext cx="37800" cy="35640"/>
                </a:xfrm>
                <a:custGeom>
                  <a:avLst/>
                  <a:gdLst/>
                  <a:ahLst/>
                  <a:rect l="l" t="t" r="r" b="b"/>
                  <a:pathLst>
                    <a:path w="157" h="156">
                      <a:moveTo>
                        <a:pt x="48" y="0"/>
                      </a:moveTo>
                      <a:lnTo>
                        <a:pt x="0" y="58"/>
                      </a:lnTo>
                      <a:lnTo>
                        <a:pt x="109" y="156"/>
                      </a:lnTo>
                      <a:lnTo>
                        <a:pt x="157" y="91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8177040" y="435384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1" y="11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7" y="41"/>
                      </a:lnTo>
                      <a:lnTo>
                        <a:pt x="11" y="0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8207640" y="43642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16" y="11"/>
                      </a:moveTo>
                      <a:lnTo>
                        <a:pt x="18" y="16"/>
                      </a:lnTo>
                      <a:lnTo>
                        <a:pt x="18" y="28"/>
                      </a:lnTo>
                      <a:lnTo>
                        <a:pt x="0" y="41"/>
                      </a:lnTo>
                      <a:lnTo>
                        <a:pt x="6" y="0"/>
                      </a:lnTo>
                      <a:lnTo>
                        <a:pt x="16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8177040" y="4345560"/>
                  <a:ext cx="34920" cy="31680"/>
                </a:xfrm>
                <a:custGeom>
                  <a:avLst/>
                  <a:gdLst/>
                  <a:ahLst/>
                  <a:rect l="l" t="t" r="r" b="b"/>
                  <a:pathLst>
                    <a:path w="146" h="141">
                      <a:moveTo>
                        <a:pt x="42" y="0"/>
                      </a:moveTo>
                      <a:lnTo>
                        <a:pt x="36" y="3"/>
                      </a:lnTo>
                      <a:lnTo>
                        <a:pt x="2" y="45"/>
                      </a:lnTo>
                      <a:lnTo>
                        <a:pt x="0" y="50"/>
                      </a:lnTo>
                      <a:lnTo>
                        <a:pt x="3" y="56"/>
                      </a:lnTo>
                      <a:lnTo>
                        <a:pt x="102" y="141"/>
                      </a:lnTo>
                      <a:lnTo>
                        <a:pt x="107" y="141"/>
                      </a:lnTo>
                      <a:lnTo>
                        <a:pt x="114" y="140"/>
                      </a:lnTo>
                      <a:lnTo>
                        <a:pt x="146" y="97"/>
                      </a:lnTo>
                      <a:lnTo>
                        <a:pt x="146" y="90"/>
                      </a:lnTo>
                      <a:lnTo>
                        <a:pt x="143" y="83"/>
                      </a:lnTo>
                      <a:lnTo>
                        <a:pt x="47" y="2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9" name=""/>
                <p:cNvGrpSpPr/>
                <p:nvPr/>
              </p:nvGrpSpPr>
              <p:grpSpPr>
                <a:xfrm>
                  <a:off x="7885800" y="4165560"/>
                  <a:ext cx="286200" cy="214560"/>
                  <a:chOff x="7885800" y="4165560"/>
                  <a:chExt cx="286200" cy="214560"/>
                </a:xfrm>
              </p:grpSpPr>
              <p:grpSp>
                <p:nvGrpSpPr>
                  <p:cNvPr id="1660" name=""/>
                  <p:cNvGrpSpPr/>
                  <p:nvPr/>
                </p:nvGrpSpPr>
                <p:grpSpPr>
                  <a:xfrm>
                    <a:off x="7885800" y="4165560"/>
                    <a:ext cx="197640" cy="148680"/>
                    <a:chOff x="7885800" y="4165560"/>
                    <a:chExt cx="197640" cy="148680"/>
                  </a:xfrm>
                </p:grpSpPr>
                <p:grpSp>
                  <p:nvGrpSpPr>
                    <p:cNvPr id="1661" name=""/>
                    <p:cNvGrpSpPr/>
                    <p:nvPr/>
                  </p:nvGrpSpPr>
                  <p:grpSpPr>
                    <a:xfrm>
                      <a:off x="7885800" y="4165560"/>
                      <a:ext cx="26280" cy="27000"/>
                      <a:chOff x="7885800" y="4165560"/>
                      <a:chExt cx="26280" cy="27000"/>
                    </a:xfrm>
                  </p:grpSpPr>
                  <p:sp>
                    <p:nvSpPr>
                      <p:cNvPr id="1662" name=""/>
                      <p:cNvSpPr/>
                      <p:nvPr/>
                    </p:nvSpPr>
                    <p:spPr>
                      <a:xfrm>
                        <a:off x="7885800" y="4169160"/>
                        <a:ext cx="2628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3" name=""/>
                      <p:cNvSpPr/>
                      <p:nvPr/>
                    </p:nvSpPr>
                    <p:spPr>
                      <a:xfrm>
                        <a:off x="7885800" y="417420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4" name=""/>
                      <p:cNvSpPr/>
                      <p:nvPr/>
                    </p:nvSpPr>
                    <p:spPr>
                      <a:xfrm>
                        <a:off x="7907760" y="41731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5" name=""/>
                      <p:cNvSpPr/>
                      <p:nvPr/>
                    </p:nvSpPr>
                    <p:spPr>
                      <a:xfrm>
                        <a:off x="7887240" y="4165560"/>
                        <a:ext cx="244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66" name=""/>
                    <p:cNvGrpSpPr/>
                    <p:nvPr/>
                  </p:nvGrpSpPr>
                  <p:grpSpPr>
                    <a:xfrm>
                      <a:off x="7903080" y="4177080"/>
                      <a:ext cx="26280" cy="27360"/>
                      <a:chOff x="7903080" y="4177080"/>
                      <a:chExt cx="26280" cy="27360"/>
                    </a:xfrm>
                  </p:grpSpPr>
                  <p:sp>
                    <p:nvSpPr>
                      <p:cNvPr id="1667" name=""/>
                      <p:cNvSpPr/>
                      <p:nvPr/>
                    </p:nvSpPr>
                    <p:spPr>
                      <a:xfrm>
                        <a:off x="7903080" y="4180680"/>
                        <a:ext cx="262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8" name=""/>
                      <p:cNvSpPr/>
                      <p:nvPr/>
                    </p:nvSpPr>
                    <p:spPr>
                      <a:xfrm>
                        <a:off x="7903080" y="418608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9" name=""/>
                      <p:cNvSpPr/>
                      <p:nvPr/>
                    </p:nvSpPr>
                    <p:spPr>
                      <a:xfrm>
                        <a:off x="7923240" y="418500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0" name=""/>
                      <p:cNvSpPr/>
                      <p:nvPr/>
                    </p:nvSpPr>
                    <p:spPr>
                      <a:xfrm>
                        <a:off x="7903080" y="417708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71" name=""/>
                    <p:cNvGrpSpPr/>
                    <p:nvPr/>
                  </p:nvGrpSpPr>
                  <p:grpSpPr>
                    <a:xfrm>
                      <a:off x="7920720" y="4188960"/>
                      <a:ext cx="26280" cy="27360"/>
                      <a:chOff x="7920720" y="4188960"/>
                      <a:chExt cx="26280" cy="27360"/>
                    </a:xfrm>
                  </p:grpSpPr>
                  <p:sp>
                    <p:nvSpPr>
                      <p:cNvPr id="1672" name=""/>
                      <p:cNvSpPr/>
                      <p:nvPr/>
                    </p:nvSpPr>
                    <p:spPr>
                      <a:xfrm>
                        <a:off x="7920720" y="419400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4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4"/>
                            </a:lnTo>
                            <a:lnTo>
                              <a:pt x="108" y="45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3" name=""/>
                      <p:cNvSpPr/>
                      <p:nvPr/>
                    </p:nvSpPr>
                    <p:spPr>
                      <a:xfrm>
                        <a:off x="7920720" y="419940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4" name=""/>
                      <p:cNvSpPr/>
                      <p:nvPr/>
                    </p:nvSpPr>
                    <p:spPr>
                      <a:xfrm>
                        <a:off x="7940880" y="41965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2">
                            <a:moveTo>
                              <a:pt x="17" y="11"/>
                            </a:moveTo>
                            <a:lnTo>
                              <a:pt x="20" y="15"/>
                            </a:lnTo>
                            <a:lnTo>
                              <a:pt x="20" y="29"/>
                            </a:lnTo>
                            <a:lnTo>
                              <a:pt x="0" y="42"/>
                            </a:lnTo>
                            <a:lnTo>
                              <a:pt x="6" y="0"/>
                            </a:lnTo>
                            <a:lnTo>
                              <a:pt x="17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5" name=""/>
                      <p:cNvSpPr/>
                      <p:nvPr/>
                    </p:nvSpPr>
                    <p:spPr>
                      <a:xfrm>
                        <a:off x="7920720" y="41889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99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6"/>
                            </a:lnTo>
                            <a:lnTo>
                              <a:pt x="58" y="99"/>
                            </a:lnTo>
                            <a:lnTo>
                              <a:pt x="63" y="96"/>
                            </a:lnTo>
                            <a:lnTo>
                              <a:pt x="101" y="52"/>
                            </a:lnTo>
                            <a:lnTo>
                              <a:pt x="103" y="44"/>
                            </a:lnTo>
                            <a:lnTo>
                              <a:pt x="99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76" name=""/>
                    <p:cNvGrpSpPr/>
                    <p:nvPr/>
                  </p:nvGrpSpPr>
                  <p:grpSpPr>
                    <a:xfrm>
                      <a:off x="7936920" y="4202280"/>
                      <a:ext cx="27720" cy="25920"/>
                      <a:chOff x="7936920" y="4202280"/>
                      <a:chExt cx="27720" cy="25920"/>
                    </a:xfrm>
                  </p:grpSpPr>
                  <p:sp>
                    <p:nvSpPr>
                      <p:cNvPr id="1677" name=""/>
                      <p:cNvSpPr/>
                      <p:nvPr/>
                    </p:nvSpPr>
                    <p:spPr>
                      <a:xfrm>
                        <a:off x="7936920" y="4205880"/>
                        <a:ext cx="277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5">
                            <a:moveTo>
                              <a:pt x="47" y="0"/>
                            </a:moveTo>
                            <a:lnTo>
                              <a:pt x="0" y="54"/>
                            </a:lnTo>
                            <a:lnTo>
                              <a:pt x="60" y="105"/>
                            </a:lnTo>
                            <a:lnTo>
                              <a:pt x="108" y="45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8" name=""/>
                      <p:cNvSpPr/>
                      <p:nvPr/>
                    </p:nvSpPr>
                    <p:spPr>
                      <a:xfrm>
                        <a:off x="7936920" y="42112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8" y="44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9" name=""/>
                      <p:cNvSpPr/>
                      <p:nvPr/>
                    </p:nvSpPr>
                    <p:spPr>
                      <a:xfrm>
                        <a:off x="7958520" y="4209840"/>
                        <a:ext cx="57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1">
                            <a:moveTo>
                              <a:pt x="18" y="10"/>
                            </a:moveTo>
                            <a:lnTo>
                              <a:pt x="21" y="14"/>
                            </a:lnTo>
                            <a:lnTo>
                              <a:pt x="21" y="29"/>
                            </a:lnTo>
                            <a:lnTo>
                              <a:pt x="0" y="41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0" name=""/>
                      <p:cNvSpPr/>
                      <p:nvPr/>
                    </p:nvSpPr>
                    <p:spPr>
                      <a:xfrm>
                        <a:off x="7938000" y="4202280"/>
                        <a:ext cx="244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99">
                            <a:moveTo>
                              <a:pt x="44" y="0"/>
                            </a:moveTo>
                            <a:lnTo>
                              <a:pt x="39" y="4"/>
                            </a:lnTo>
                            <a:lnTo>
                              <a:pt x="2" y="47"/>
                            </a:lnTo>
                            <a:lnTo>
                              <a:pt x="0" y="52"/>
                            </a:lnTo>
                            <a:lnTo>
                              <a:pt x="3" y="58"/>
                            </a:lnTo>
                            <a:lnTo>
                              <a:pt x="49" y="96"/>
                            </a:lnTo>
                            <a:lnTo>
                              <a:pt x="57" y="99"/>
                            </a:lnTo>
                            <a:lnTo>
                              <a:pt x="62" y="96"/>
                            </a:lnTo>
                            <a:lnTo>
                              <a:pt x="101" y="51"/>
                            </a:lnTo>
                            <a:lnTo>
                              <a:pt x="103" y="44"/>
                            </a:lnTo>
                            <a:lnTo>
                              <a:pt x="99" y="38"/>
                            </a:lnTo>
                            <a:lnTo>
                              <a:pt x="49" y="2"/>
                            </a:lnTo>
                            <a:lnTo>
                              <a:pt x="44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81" name=""/>
                    <p:cNvGrpSpPr/>
                    <p:nvPr/>
                  </p:nvGrpSpPr>
                  <p:grpSpPr>
                    <a:xfrm>
                      <a:off x="7954200" y="4214160"/>
                      <a:ext cx="25920" cy="27000"/>
                      <a:chOff x="7954200" y="4214160"/>
                      <a:chExt cx="25920" cy="27000"/>
                    </a:xfrm>
                  </p:grpSpPr>
                  <p:sp>
                    <p:nvSpPr>
                      <p:cNvPr id="1682" name=""/>
                      <p:cNvSpPr/>
                      <p:nvPr/>
                    </p:nvSpPr>
                    <p:spPr>
                      <a:xfrm>
                        <a:off x="7954200" y="421776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9" y="0"/>
                            </a:moveTo>
                            <a:lnTo>
                              <a:pt x="0" y="55"/>
                            </a:lnTo>
                            <a:lnTo>
                              <a:pt x="62" y="106"/>
                            </a:lnTo>
                            <a:lnTo>
                              <a:pt x="110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3" name=""/>
                      <p:cNvSpPr/>
                      <p:nvPr/>
                    </p:nvSpPr>
                    <p:spPr>
                      <a:xfrm>
                        <a:off x="7954200" y="422316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3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3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4" name=""/>
                      <p:cNvSpPr/>
                      <p:nvPr/>
                    </p:nvSpPr>
                    <p:spPr>
                      <a:xfrm>
                        <a:off x="7975800" y="42217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5" name=""/>
                      <p:cNvSpPr/>
                      <p:nvPr/>
                    </p:nvSpPr>
                    <p:spPr>
                      <a:xfrm>
                        <a:off x="7955280" y="42141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99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86" name=""/>
                    <p:cNvGrpSpPr/>
                    <p:nvPr/>
                  </p:nvGrpSpPr>
                  <p:grpSpPr>
                    <a:xfrm>
                      <a:off x="7971840" y="4226040"/>
                      <a:ext cx="25920" cy="27360"/>
                      <a:chOff x="7971840" y="4226040"/>
                      <a:chExt cx="25920" cy="27360"/>
                    </a:xfrm>
                  </p:grpSpPr>
                  <p:sp>
                    <p:nvSpPr>
                      <p:cNvPr id="1687" name=""/>
                      <p:cNvSpPr/>
                      <p:nvPr/>
                    </p:nvSpPr>
                    <p:spPr>
                      <a:xfrm>
                        <a:off x="7971840" y="423000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9" y="0"/>
                            </a:moveTo>
                            <a:lnTo>
                              <a:pt x="0" y="56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8" name=""/>
                      <p:cNvSpPr/>
                      <p:nvPr/>
                    </p:nvSpPr>
                    <p:spPr>
                      <a:xfrm>
                        <a:off x="7971840" y="423504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9" name=""/>
                      <p:cNvSpPr/>
                      <p:nvPr/>
                    </p:nvSpPr>
                    <p:spPr>
                      <a:xfrm>
                        <a:off x="7993440" y="423396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0" name=""/>
                      <p:cNvSpPr/>
                      <p:nvPr/>
                    </p:nvSpPr>
                    <p:spPr>
                      <a:xfrm>
                        <a:off x="7972920" y="422604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39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8"/>
                            </a:lnTo>
                            <a:lnTo>
                              <a:pt x="50" y="97"/>
                            </a:lnTo>
                            <a:lnTo>
                              <a:pt x="57" y="100"/>
                            </a:lnTo>
                            <a:lnTo>
                              <a:pt x="63" y="97"/>
                            </a:lnTo>
                            <a:lnTo>
                              <a:pt x="102" y="51"/>
                            </a:lnTo>
                            <a:lnTo>
                              <a:pt x="104" y="44"/>
                            </a:lnTo>
                            <a:lnTo>
                              <a:pt x="99" y="38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1" name=""/>
                    <p:cNvGrpSpPr/>
                    <p:nvPr/>
                  </p:nvGrpSpPr>
                  <p:grpSpPr>
                    <a:xfrm>
                      <a:off x="7989120" y="4237920"/>
                      <a:ext cx="25920" cy="27360"/>
                      <a:chOff x="7989120" y="4237920"/>
                      <a:chExt cx="25920" cy="27360"/>
                    </a:xfrm>
                  </p:grpSpPr>
                  <p:sp>
                    <p:nvSpPr>
                      <p:cNvPr id="1692" name=""/>
                      <p:cNvSpPr/>
                      <p:nvPr/>
                    </p:nvSpPr>
                    <p:spPr>
                      <a:xfrm>
                        <a:off x="7989120" y="424152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3" name=""/>
                      <p:cNvSpPr/>
                      <p:nvPr/>
                    </p:nvSpPr>
                    <p:spPr>
                      <a:xfrm>
                        <a:off x="7989120" y="424692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4" name=""/>
                      <p:cNvSpPr/>
                      <p:nvPr/>
                    </p:nvSpPr>
                    <p:spPr>
                      <a:xfrm>
                        <a:off x="8010720" y="424584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8" y="11"/>
                            </a:moveTo>
                            <a:lnTo>
                              <a:pt x="22" y="15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5" name=""/>
                      <p:cNvSpPr/>
                      <p:nvPr/>
                    </p:nvSpPr>
                    <p:spPr>
                      <a:xfrm>
                        <a:off x="7989120" y="423792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6" name=""/>
                    <p:cNvGrpSpPr/>
                    <p:nvPr/>
                  </p:nvGrpSpPr>
                  <p:grpSpPr>
                    <a:xfrm>
                      <a:off x="8006400" y="4251240"/>
                      <a:ext cx="26280" cy="25920"/>
                      <a:chOff x="8006400" y="4251240"/>
                      <a:chExt cx="26280" cy="25920"/>
                    </a:xfrm>
                  </p:grpSpPr>
                  <p:sp>
                    <p:nvSpPr>
                      <p:cNvPr id="1697" name=""/>
                      <p:cNvSpPr/>
                      <p:nvPr/>
                    </p:nvSpPr>
                    <p:spPr>
                      <a:xfrm>
                        <a:off x="8006400" y="425484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8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8" name=""/>
                      <p:cNvSpPr/>
                      <p:nvPr/>
                    </p:nvSpPr>
                    <p:spPr>
                      <a:xfrm>
                        <a:off x="8006400" y="426024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9" name=""/>
                      <p:cNvSpPr/>
                      <p:nvPr/>
                    </p:nvSpPr>
                    <p:spPr>
                      <a:xfrm>
                        <a:off x="8026560" y="42577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17" y="11"/>
                            </a:moveTo>
                            <a:lnTo>
                              <a:pt x="20" y="16"/>
                            </a:lnTo>
                            <a:lnTo>
                              <a:pt x="20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7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0" name=""/>
                      <p:cNvSpPr/>
                      <p:nvPr/>
                    </p:nvSpPr>
                    <p:spPr>
                      <a:xfrm>
                        <a:off x="8006400" y="4251240"/>
                        <a:ext cx="244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1" y="52"/>
                            </a:lnTo>
                            <a:lnTo>
                              <a:pt x="103" y="45"/>
                            </a:lnTo>
                            <a:lnTo>
                              <a:pt x="99" y="39"/>
                            </a:lnTo>
                            <a:lnTo>
                              <a:pt x="51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01" name=""/>
                    <p:cNvGrpSpPr/>
                    <p:nvPr/>
                  </p:nvGrpSpPr>
                  <p:grpSpPr>
                    <a:xfrm>
                      <a:off x="8022600" y="4263120"/>
                      <a:ext cx="27720" cy="27000"/>
                      <a:chOff x="8022600" y="4263120"/>
                      <a:chExt cx="27720" cy="27000"/>
                    </a:xfrm>
                  </p:grpSpPr>
                  <p:sp>
                    <p:nvSpPr>
                      <p:cNvPr id="1702" name=""/>
                      <p:cNvSpPr/>
                      <p:nvPr/>
                    </p:nvSpPr>
                    <p:spPr>
                      <a:xfrm>
                        <a:off x="8022600" y="4266720"/>
                        <a:ext cx="277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6">
                            <a:moveTo>
                              <a:pt x="47" y="0"/>
                            </a:moveTo>
                            <a:lnTo>
                              <a:pt x="0" y="56"/>
                            </a:lnTo>
                            <a:lnTo>
                              <a:pt x="60" y="106"/>
                            </a:lnTo>
                            <a:lnTo>
                              <a:pt x="108" y="46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3" name=""/>
                      <p:cNvSpPr/>
                      <p:nvPr/>
                    </p:nvSpPr>
                    <p:spPr>
                      <a:xfrm>
                        <a:off x="8022600" y="42721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4" name=""/>
                      <p:cNvSpPr/>
                      <p:nvPr/>
                    </p:nvSpPr>
                    <p:spPr>
                      <a:xfrm>
                        <a:off x="8044200" y="427068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5" name=""/>
                      <p:cNvSpPr/>
                      <p:nvPr/>
                    </p:nvSpPr>
                    <p:spPr>
                      <a:xfrm>
                        <a:off x="8023680" y="4263120"/>
                        <a:ext cx="244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4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49" y="98"/>
                            </a:lnTo>
                            <a:lnTo>
                              <a:pt x="57" y="100"/>
                            </a:lnTo>
                            <a:lnTo>
                              <a:pt x="62" y="98"/>
                            </a:lnTo>
                            <a:lnTo>
                              <a:pt x="101" y="52"/>
                            </a:lnTo>
                            <a:lnTo>
                              <a:pt x="103" y="45"/>
                            </a:lnTo>
                            <a:lnTo>
                              <a:pt x="99" y="39"/>
                            </a:lnTo>
                            <a:lnTo>
                              <a:pt x="49" y="3"/>
                            </a:lnTo>
                            <a:lnTo>
                              <a:pt x="44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06" name=""/>
                    <p:cNvGrpSpPr/>
                    <p:nvPr/>
                  </p:nvGrpSpPr>
                  <p:grpSpPr>
                    <a:xfrm>
                      <a:off x="8040240" y="4275360"/>
                      <a:ext cx="25920" cy="27000"/>
                      <a:chOff x="8040240" y="4275360"/>
                      <a:chExt cx="25920" cy="27000"/>
                    </a:xfrm>
                  </p:grpSpPr>
                  <p:sp>
                    <p:nvSpPr>
                      <p:cNvPr id="1707" name=""/>
                      <p:cNvSpPr/>
                      <p:nvPr/>
                    </p:nvSpPr>
                    <p:spPr>
                      <a:xfrm>
                        <a:off x="8040240" y="427896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8" name=""/>
                      <p:cNvSpPr/>
                      <p:nvPr/>
                    </p:nvSpPr>
                    <p:spPr>
                      <a:xfrm>
                        <a:off x="8040240" y="42840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9" name=""/>
                      <p:cNvSpPr/>
                      <p:nvPr/>
                    </p:nvSpPr>
                    <p:spPr>
                      <a:xfrm>
                        <a:off x="8061840" y="42829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0" name=""/>
                      <p:cNvSpPr/>
                      <p:nvPr/>
                    </p:nvSpPr>
                    <p:spPr>
                      <a:xfrm>
                        <a:off x="8041320" y="42753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11" name=""/>
                    <p:cNvGrpSpPr/>
                    <p:nvPr/>
                  </p:nvGrpSpPr>
                  <p:grpSpPr>
                    <a:xfrm>
                      <a:off x="8057520" y="4288320"/>
                      <a:ext cx="25920" cy="25920"/>
                      <a:chOff x="8057520" y="4288320"/>
                      <a:chExt cx="25920" cy="25920"/>
                    </a:xfrm>
                  </p:grpSpPr>
                  <p:sp>
                    <p:nvSpPr>
                      <p:cNvPr id="1712" name=""/>
                      <p:cNvSpPr/>
                      <p:nvPr/>
                    </p:nvSpPr>
                    <p:spPr>
                      <a:xfrm>
                        <a:off x="8057520" y="429192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5">
                            <a:moveTo>
                              <a:pt x="48" y="0"/>
                            </a:moveTo>
                            <a:lnTo>
                              <a:pt x="0" y="56"/>
                            </a:lnTo>
                            <a:lnTo>
                              <a:pt x="61" y="105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3" name=""/>
                      <p:cNvSpPr/>
                      <p:nvPr/>
                    </p:nvSpPr>
                    <p:spPr>
                      <a:xfrm>
                        <a:off x="8057520" y="429732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3"/>
                            </a:lnTo>
                            <a:lnTo>
                              <a:pt x="11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4" name=""/>
                      <p:cNvSpPr/>
                      <p:nvPr/>
                    </p:nvSpPr>
                    <p:spPr>
                      <a:xfrm>
                        <a:off x="8079120" y="429480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5" name=""/>
                      <p:cNvSpPr/>
                      <p:nvPr/>
                    </p:nvSpPr>
                    <p:spPr>
                      <a:xfrm>
                        <a:off x="8058600" y="4288320"/>
                        <a:ext cx="244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99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7"/>
                            </a:lnTo>
                            <a:lnTo>
                              <a:pt x="58" y="99"/>
                            </a:lnTo>
                            <a:lnTo>
                              <a:pt x="63" y="97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16" name=""/>
                  <p:cNvGrpSpPr/>
                  <p:nvPr/>
                </p:nvGrpSpPr>
                <p:grpSpPr>
                  <a:xfrm>
                    <a:off x="8076600" y="4300200"/>
                    <a:ext cx="95400" cy="79920"/>
                    <a:chOff x="8076600" y="4300200"/>
                    <a:chExt cx="95400" cy="79920"/>
                  </a:xfrm>
                </p:grpSpPr>
                <p:grpSp>
                  <p:nvGrpSpPr>
                    <p:cNvPr id="1717" name=""/>
                    <p:cNvGrpSpPr/>
                    <p:nvPr/>
                  </p:nvGrpSpPr>
                  <p:grpSpPr>
                    <a:xfrm>
                      <a:off x="8076600" y="4300200"/>
                      <a:ext cx="26280" cy="28440"/>
                      <a:chOff x="8076600" y="4300200"/>
                      <a:chExt cx="26280" cy="28440"/>
                    </a:xfrm>
                  </p:grpSpPr>
                  <p:sp>
                    <p:nvSpPr>
                      <p:cNvPr id="1718" name=""/>
                      <p:cNvSpPr/>
                      <p:nvPr/>
                    </p:nvSpPr>
                    <p:spPr>
                      <a:xfrm>
                        <a:off x="8076600" y="4304160"/>
                        <a:ext cx="2628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9">
                            <a:moveTo>
                              <a:pt x="48" y="0"/>
                            </a:moveTo>
                            <a:lnTo>
                              <a:pt x="0" y="56"/>
                            </a:lnTo>
                            <a:lnTo>
                              <a:pt x="62" y="109"/>
                            </a:lnTo>
                            <a:lnTo>
                              <a:pt x="111" y="47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9" name=""/>
                      <p:cNvSpPr/>
                      <p:nvPr/>
                    </p:nvSpPr>
                    <p:spPr>
                      <a:xfrm>
                        <a:off x="8076600" y="430920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5">
                            <a:moveTo>
                              <a:pt x="2" y="12"/>
                            </a:moveTo>
                            <a:lnTo>
                              <a:pt x="0" y="19"/>
                            </a:lnTo>
                            <a:lnTo>
                              <a:pt x="0" y="33"/>
                            </a:lnTo>
                            <a:lnTo>
                              <a:pt x="19" y="45"/>
                            </a:lnTo>
                            <a:lnTo>
                              <a:pt x="11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0" name=""/>
                      <p:cNvSpPr/>
                      <p:nvPr/>
                    </p:nvSpPr>
                    <p:spPr>
                      <a:xfrm>
                        <a:off x="8096760" y="43081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4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1"/>
                            </a:lnTo>
                            <a:lnTo>
                              <a:pt x="0" y="44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1" name=""/>
                      <p:cNvSpPr/>
                      <p:nvPr/>
                    </p:nvSpPr>
                    <p:spPr>
                      <a:xfrm>
                        <a:off x="8076600" y="4300200"/>
                        <a:ext cx="2628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03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9"/>
                            </a:lnTo>
                            <a:lnTo>
                              <a:pt x="0" y="54"/>
                            </a:lnTo>
                            <a:lnTo>
                              <a:pt x="3" y="60"/>
                            </a:lnTo>
                            <a:lnTo>
                              <a:pt x="51" y="101"/>
                            </a:lnTo>
                            <a:lnTo>
                              <a:pt x="59" y="103"/>
                            </a:lnTo>
                            <a:lnTo>
                              <a:pt x="64" y="101"/>
                            </a:lnTo>
                            <a:lnTo>
                              <a:pt x="103" y="53"/>
                            </a:lnTo>
                            <a:lnTo>
                              <a:pt x="105" y="46"/>
                            </a:lnTo>
                            <a:lnTo>
                              <a:pt x="101" y="40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22" name=""/>
                    <p:cNvGrpSpPr/>
                    <p:nvPr/>
                  </p:nvGrpSpPr>
                  <p:grpSpPr>
                    <a:xfrm>
                      <a:off x="8093880" y="4313160"/>
                      <a:ext cx="25920" cy="27360"/>
                      <a:chOff x="8093880" y="4313160"/>
                      <a:chExt cx="25920" cy="27360"/>
                    </a:xfrm>
                  </p:grpSpPr>
                  <p:sp>
                    <p:nvSpPr>
                      <p:cNvPr id="1723" name=""/>
                      <p:cNvSpPr/>
                      <p:nvPr/>
                    </p:nvSpPr>
                    <p:spPr>
                      <a:xfrm>
                        <a:off x="8093880" y="431712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11">
                            <a:moveTo>
                              <a:pt x="49" y="0"/>
                            </a:moveTo>
                            <a:lnTo>
                              <a:pt x="0" y="58"/>
                            </a:lnTo>
                            <a:lnTo>
                              <a:pt x="62" y="111"/>
                            </a:lnTo>
                            <a:lnTo>
                              <a:pt x="110" y="49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4" name=""/>
                      <p:cNvSpPr/>
                      <p:nvPr/>
                    </p:nvSpPr>
                    <p:spPr>
                      <a:xfrm>
                        <a:off x="8093880" y="432216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6"/>
                            </a:lnTo>
                            <a:lnTo>
                              <a:pt x="11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5" name=""/>
                      <p:cNvSpPr/>
                      <p:nvPr/>
                    </p:nvSpPr>
                    <p:spPr>
                      <a:xfrm>
                        <a:off x="8115480" y="43210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4">
                            <a:moveTo>
                              <a:pt x="19" y="11"/>
                            </a:moveTo>
                            <a:lnTo>
                              <a:pt x="21" y="15"/>
                            </a:lnTo>
                            <a:lnTo>
                              <a:pt x="21" y="31"/>
                            </a:lnTo>
                            <a:lnTo>
                              <a:pt x="0" y="44"/>
                            </a:lnTo>
                            <a:lnTo>
                              <a:pt x="7" y="0"/>
                            </a:lnTo>
                            <a:lnTo>
                              <a:pt x="19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6" name=""/>
                      <p:cNvSpPr/>
                      <p:nvPr/>
                    </p:nvSpPr>
                    <p:spPr>
                      <a:xfrm>
                        <a:off x="8093880" y="431316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05">
                            <a:moveTo>
                              <a:pt x="46" y="0"/>
                            </a:moveTo>
                            <a:lnTo>
                              <a:pt x="41" y="4"/>
                            </a:lnTo>
                            <a:lnTo>
                              <a:pt x="2" y="51"/>
                            </a:lnTo>
                            <a:lnTo>
                              <a:pt x="0" y="56"/>
                            </a:lnTo>
                            <a:lnTo>
                              <a:pt x="3" y="63"/>
                            </a:lnTo>
                            <a:lnTo>
                              <a:pt x="51" y="103"/>
                            </a:lnTo>
                            <a:lnTo>
                              <a:pt x="59" y="105"/>
                            </a:lnTo>
                            <a:lnTo>
                              <a:pt x="64" y="103"/>
                            </a:lnTo>
                            <a:lnTo>
                              <a:pt x="104" y="55"/>
                            </a:lnTo>
                            <a:lnTo>
                              <a:pt x="105" y="48"/>
                            </a:lnTo>
                            <a:lnTo>
                              <a:pt x="102" y="42"/>
                            </a:lnTo>
                            <a:lnTo>
                              <a:pt x="51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27" name=""/>
                    <p:cNvGrpSpPr/>
                    <p:nvPr/>
                  </p:nvGrpSpPr>
                  <p:grpSpPr>
                    <a:xfrm>
                      <a:off x="8111160" y="4325400"/>
                      <a:ext cx="25920" cy="28440"/>
                      <a:chOff x="8111160" y="4325400"/>
                      <a:chExt cx="25920" cy="28440"/>
                    </a:xfrm>
                  </p:grpSpPr>
                  <p:sp>
                    <p:nvSpPr>
                      <p:cNvPr id="1728" name=""/>
                      <p:cNvSpPr/>
                      <p:nvPr/>
                    </p:nvSpPr>
                    <p:spPr>
                      <a:xfrm>
                        <a:off x="8111160" y="433044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11">
                            <a:moveTo>
                              <a:pt x="48" y="0"/>
                            </a:moveTo>
                            <a:lnTo>
                              <a:pt x="0" y="58"/>
                            </a:lnTo>
                            <a:lnTo>
                              <a:pt x="61" y="111"/>
                            </a:lnTo>
                            <a:lnTo>
                              <a:pt x="110" y="48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9" name=""/>
                      <p:cNvSpPr/>
                      <p:nvPr/>
                    </p:nvSpPr>
                    <p:spPr>
                      <a:xfrm>
                        <a:off x="8111160" y="43354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6"/>
                            </a:lnTo>
                            <a:lnTo>
                              <a:pt x="11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0" name=""/>
                      <p:cNvSpPr/>
                      <p:nvPr/>
                    </p:nvSpPr>
                    <p:spPr>
                      <a:xfrm>
                        <a:off x="8131320" y="4333320"/>
                        <a:ext cx="540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1" name=""/>
                      <p:cNvSpPr/>
                      <p:nvPr/>
                    </p:nvSpPr>
                    <p:spPr>
                      <a:xfrm>
                        <a:off x="8111160" y="432540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05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51"/>
                            </a:lnTo>
                            <a:lnTo>
                              <a:pt x="0" y="55"/>
                            </a:lnTo>
                            <a:lnTo>
                              <a:pt x="3" y="62"/>
                            </a:lnTo>
                            <a:lnTo>
                              <a:pt x="50" y="102"/>
                            </a:lnTo>
                            <a:lnTo>
                              <a:pt x="58" y="105"/>
                            </a:lnTo>
                            <a:lnTo>
                              <a:pt x="63" y="102"/>
                            </a:lnTo>
                            <a:lnTo>
                              <a:pt x="103" y="54"/>
                            </a:lnTo>
                            <a:lnTo>
                              <a:pt x="105" y="47"/>
                            </a:lnTo>
                            <a:lnTo>
                              <a:pt x="101" y="41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32" name=""/>
                    <p:cNvGrpSpPr/>
                    <p:nvPr/>
                  </p:nvGrpSpPr>
                  <p:grpSpPr>
                    <a:xfrm>
                      <a:off x="8128800" y="4338360"/>
                      <a:ext cx="25920" cy="28440"/>
                      <a:chOff x="8128800" y="4338360"/>
                      <a:chExt cx="25920" cy="28440"/>
                    </a:xfrm>
                  </p:grpSpPr>
                  <p:sp>
                    <p:nvSpPr>
                      <p:cNvPr id="1733" name=""/>
                      <p:cNvSpPr/>
                      <p:nvPr/>
                    </p:nvSpPr>
                    <p:spPr>
                      <a:xfrm>
                        <a:off x="8128800" y="4341960"/>
                        <a:ext cx="2592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1">
                            <a:moveTo>
                              <a:pt x="50" y="0"/>
                            </a:moveTo>
                            <a:lnTo>
                              <a:pt x="0" y="58"/>
                            </a:lnTo>
                            <a:lnTo>
                              <a:pt x="63" y="111"/>
                            </a:lnTo>
                            <a:lnTo>
                              <a:pt x="112" y="48"/>
                            </a:lnTo>
                            <a:lnTo>
                              <a:pt x="50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4" name=""/>
                      <p:cNvSpPr/>
                      <p:nvPr/>
                    </p:nvSpPr>
                    <p:spPr>
                      <a:xfrm>
                        <a:off x="8128800" y="434736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6">
                            <a:moveTo>
                              <a:pt x="3" y="11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1" y="46"/>
                            </a:lnTo>
                            <a:lnTo>
                              <a:pt x="12" y="0"/>
                            </a:lnTo>
                            <a:lnTo>
                              <a:pt x="3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5" name=""/>
                      <p:cNvSpPr/>
                      <p:nvPr/>
                    </p:nvSpPr>
                    <p:spPr>
                      <a:xfrm>
                        <a:off x="8150400" y="434628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6" name=""/>
                      <p:cNvSpPr/>
                      <p:nvPr/>
                    </p:nvSpPr>
                    <p:spPr>
                      <a:xfrm>
                        <a:off x="8128800" y="4338360"/>
                        <a:ext cx="259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5">
                            <a:moveTo>
                              <a:pt x="46" y="0"/>
                            </a:moveTo>
                            <a:lnTo>
                              <a:pt x="40" y="5"/>
                            </a:lnTo>
                            <a:lnTo>
                              <a:pt x="2" y="51"/>
                            </a:lnTo>
                            <a:lnTo>
                              <a:pt x="0" y="56"/>
                            </a:lnTo>
                            <a:lnTo>
                              <a:pt x="3" y="62"/>
                            </a:lnTo>
                            <a:lnTo>
                              <a:pt x="51" y="102"/>
                            </a:lnTo>
                            <a:lnTo>
                              <a:pt x="59" y="105"/>
                            </a:lnTo>
                            <a:lnTo>
                              <a:pt x="64" y="102"/>
                            </a:lnTo>
                            <a:lnTo>
                              <a:pt x="104" y="54"/>
                            </a:lnTo>
                            <a:lnTo>
                              <a:pt x="106" y="47"/>
                            </a:lnTo>
                            <a:lnTo>
                              <a:pt x="102" y="41"/>
                            </a:lnTo>
                            <a:lnTo>
                              <a:pt x="51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37" name=""/>
                    <p:cNvGrpSpPr/>
                    <p:nvPr/>
                  </p:nvGrpSpPr>
                  <p:grpSpPr>
                    <a:xfrm>
                      <a:off x="8146080" y="4351680"/>
                      <a:ext cx="25920" cy="28440"/>
                      <a:chOff x="8146080" y="4351680"/>
                      <a:chExt cx="25920" cy="28440"/>
                    </a:xfrm>
                  </p:grpSpPr>
                  <p:sp>
                    <p:nvSpPr>
                      <p:cNvPr id="1738" name=""/>
                      <p:cNvSpPr/>
                      <p:nvPr/>
                    </p:nvSpPr>
                    <p:spPr>
                      <a:xfrm>
                        <a:off x="8146080" y="4355640"/>
                        <a:ext cx="259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0">
                            <a:moveTo>
                              <a:pt x="50" y="0"/>
                            </a:moveTo>
                            <a:lnTo>
                              <a:pt x="0" y="57"/>
                            </a:lnTo>
                            <a:lnTo>
                              <a:pt x="63" y="110"/>
                            </a:lnTo>
                            <a:lnTo>
                              <a:pt x="112" y="48"/>
                            </a:lnTo>
                            <a:lnTo>
                              <a:pt x="50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9" name=""/>
                      <p:cNvSpPr/>
                      <p:nvPr/>
                    </p:nvSpPr>
                    <p:spPr>
                      <a:xfrm>
                        <a:off x="8146080" y="436068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1" y="46"/>
                            </a:lnTo>
                            <a:lnTo>
                              <a:pt x="13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0" name=""/>
                      <p:cNvSpPr/>
                      <p:nvPr/>
                    </p:nvSpPr>
                    <p:spPr>
                      <a:xfrm>
                        <a:off x="8167680" y="435960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5">
                            <a:moveTo>
                              <a:pt x="18" y="11"/>
                            </a:moveTo>
                            <a:lnTo>
                              <a:pt x="21" y="17"/>
                            </a:lnTo>
                            <a:lnTo>
                              <a:pt x="21" y="31"/>
                            </a:lnTo>
                            <a:lnTo>
                              <a:pt x="0" y="45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1" name=""/>
                      <p:cNvSpPr/>
                      <p:nvPr/>
                    </p:nvSpPr>
                    <p:spPr>
                      <a:xfrm>
                        <a:off x="8146080" y="4351680"/>
                        <a:ext cx="259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3">
                            <a:moveTo>
                              <a:pt x="46" y="0"/>
                            </a:moveTo>
                            <a:lnTo>
                              <a:pt x="40" y="3"/>
                            </a:lnTo>
                            <a:lnTo>
                              <a:pt x="2" y="49"/>
                            </a:lnTo>
                            <a:lnTo>
                              <a:pt x="0" y="55"/>
                            </a:lnTo>
                            <a:lnTo>
                              <a:pt x="3" y="61"/>
                            </a:lnTo>
                            <a:lnTo>
                              <a:pt x="51" y="101"/>
                            </a:lnTo>
                            <a:lnTo>
                              <a:pt x="59" y="103"/>
                            </a:lnTo>
                            <a:lnTo>
                              <a:pt x="64" y="101"/>
                            </a:lnTo>
                            <a:lnTo>
                              <a:pt x="104" y="54"/>
                            </a:lnTo>
                            <a:lnTo>
                              <a:pt x="106" y="46"/>
                            </a:lnTo>
                            <a:lnTo>
                              <a:pt x="102" y="40"/>
                            </a:lnTo>
                            <a:lnTo>
                              <a:pt x="51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742" name=""/>
                <p:cNvGrpSpPr/>
                <p:nvPr/>
              </p:nvGrpSpPr>
              <p:grpSpPr>
                <a:xfrm>
                  <a:off x="7877160" y="4185360"/>
                  <a:ext cx="286200" cy="214560"/>
                  <a:chOff x="7877160" y="4185360"/>
                  <a:chExt cx="286200" cy="214560"/>
                </a:xfrm>
              </p:grpSpPr>
              <p:grpSp>
                <p:nvGrpSpPr>
                  <p:cNvPr id="1743" name=""/>
                  <p:cNvGrpSpPr/>
                  <p:nvPr/>
                </p:nvGrpSpPr>
                <p:grpSpPr>
                  <a:xfrm>
                    <a:off x="7877160" y="4185360"/>
                    <a:ext cx="197640" cy="148680"/>
                    <a:chOff x="7877160" y="4185360"/>
                    <a:chExt cx="197640" cy="148680"/>
                  </a:xfrm>
                </p:grpSpPr>
                <p:grpSp>
                  <p:nvGrpSpPr>
                    <p:cNvPr id="1744" name=""/>
                    <p:cNvGrpSpPr/>
                    <p:nvPr/>
                  </p:nvGrpSpPr>
                  <p:grpSpPr>
                    <a:xfrm>
                      <a:off x="7877160" y="4185360"/>
                      <a:ext cx="25920" cy="27000"/>
                      <a:chOff x="7877160" y="4185360"/>
                      <a:chExt cx="25920" cy="27000"/>
                    </a:xfrm>
                  </p:grpSpPr>
                  <p:sp>
                    <p:nvSpPr>
                      <p:cNvPr id="1745" name=""/>
                      <p:cNvSpPr/>
                      <p:nvPr/>
                    </p:nvSpPr>
                    <p:spPr>
                      <a:xfrm>
                        <a:off x="7877160" y="418896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4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4"/>
                            </a:lnTo>
                            <a:lnTo>
                              <a:pt x="109" y="45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6" name=""/>
                      <p:cNvSpPr/>
                      <p:nvPr/>
                    </p:nvSpPr>
                    <p:spPr>
                      <a:xfrm>
                        <a:off x="7877160" y="419436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7" name=""/>
                      <p:cNvSpPr/>
                      <p:nvPr/>
                    </p:nvSpPr>
                    <p:spPr>
                      <a:xfrm>
                        <a:off x="7898760" y="41929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1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8" name=""/>
                      <p:cNvSpPr/>
                      <p:nvPr/>
                    </p:nvSpPr>
                    <p:spPr>
                      <a:xfrm>
                        <a:off x="7878240" y="41853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7"/>
                            </a:lnTo>
                            <a:lnTo>
                              <a:pt x="58" y="100"/>
                            </a:lnTo>
                            <a:lnTo>
                              <a:pt x="63" y="97"/>
                            </a:lnTo>
                            <a:lnTo>
                              <a:pt x="102" y="52"/>
                            </a:lnTo>
                            <a:lnTo>
                              <a:pt x="104" y="44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49" name=""/>
                    <p:cNvGrpSpPr/>
                    <p:nvPr/>
                  </p:nvGrpSpPr>
                  <p:grpSpPr>
                    <a:xfrm>
                      <a:off x="7894440" y="4196880"/>
                      <a:ext cx="25920" cy="27360"/>
                      <a:chOff x="7894440" y="4196880"/>
                      <a:chExt cx="25920" cy="27360"/>
                    </a:xfrm>
                  </p:grpSpPr>
                  <p:sp>
                    <p:nvSpPr>
                      <p:cNvPr id="1750" name=""/>
                      <p:cNvSpPr/>
                      <p:nvPr/>
                    </p:nvSpPr>
                    <p:spPr>
                      <a:xfrm>
                        <a:off x="7894440" y="420084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5">
                            <a:moveTo>
                              <a:pt x="48" y="0"/>
                            </a:moveTo>
                            <a:lnTo>
                              <a:pt x="0" y="54"/>
                            </a:lnTo>
                            <a:lnTo>
                              <a:pt x="61" y="105"/>
                            </a:lnTo>
                            <a:lnTo>
                              <a:pt x="109" y="45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1" name=""/>
                      <p:cNvSpPr/>
                      <p:nvPr/>
                    </p:nvSpPr>
                    <p:spPr>
                      <a:xfrm>
                        <a:off x="7894440" y="42058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1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2" name=""/>
                      <p:cNvSpPr/>
                      <p:nvPr/>
                    </p:nvSpPr>
                    <p:spPr>
                      <a:xfrm>
                        <a:off x="7916040" y="42048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1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29"/>
                            </a:lnTo>
                            <a:lnTo>
                              <a:pt x="0" y="41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3" name=""/>
                      <p:cNvSpPr/>
                      <p:nvPr/>
                    </p:nvSpPr>
                    <p:spPr>
                      <a:xfrm>
                        <a:off x="7894440" y="419688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99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8"/>
                            </a:lnTo>
                            <a:lnTo>
                              <a:pt x="50" y="96"/>
                            </a:lnTo>
                            <a:lnTo>
                              <a:pt x="58" y="99"/>
                            </a:lnTo>
                            <a:lnTo>
                              <a:pt x="63" y="96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54" name=""/>
                    <p:cNvGrpSpPr/>
                    <p:nvPr/>
                  </p:nvGrpSpPr>
                  <p:grpSpPr>
                    <a:xfrm>
                      <a:off x="7912080" y="4210200"/>
                      <a:ext cx="25920" cy="26280"/>
                      <a:chOff x="7912080" y="4210200"/>
                      <a:chExt cx="25920" cy="26280"/>
                    </a:xfrm>
                  </p:grpSpPr>
                  <p:sp>
                    <p:nvSpPr>
                      <p:cNvPr id="1755" name=""/>
                      <p:cNvSpPr/>
                      <p:nvPr/>
                    </p:nvSpPr>
                    <p:spPr>
                      <a:xfrm>
                        <a:off x="7912080" y="421416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9" y="0"/>
                            </a:moveTo>
                            <a:lnTo>
                              <a:pt x="0" y="55"/>
                            </a:lnTo>
                            <a:lnTo>
                              <a:pt x="62" y="106"/>
                            </a:lnTo>
                            <a:lnTo>
                              <a:pt x="110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6" name=""/>
                      <p:cNvSpPr/>
                      <p:nvPr/>
                    </p:nvSpPr>
                    <p:spPr>
                      <a:xfrm>
                        <a:off x="7912080" y="42192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3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3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7" name=""/>
                      <p:cNvSpPr/>
                      <p:nvPr/>
                    </p:nvSpPr>
                    <p:spPr>
                      <a:xfrm>
                        <a:off x="7932240" y="4217040"/>
                        <a:ext cx="540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8" name=""/>
                      <p:cNvSpPr/>
                      <p:nvPr/>
                    </p:nvSpPr>
                    <p:spPr>
                      <a:xfrm>
                        <a:off x="7912080" y="4210200"/>
                        <a:ext cx="2592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99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59" name=""/>
                    <p:cNvGrpSpPr/>
                    <p:nvPr/>
                  </p:nvGrpSpPr>
                  <p:grpSpPr>
                    <a:xfrm>
                      <a:off x="7929360" y="4222080"/>
                      <a:ext cx="25920" cy="27360"/>
                      <a:chOff x="7929360" y="4222080"/>
                      <a:chExt cx="25920" cy="27360"/>
                    </a:xfrm>
                  </p:grpSpPr>
                  <p:sp>
                    <p:nvSpPr>
                      <p:cNvPr id="1760" name=""/>
                      <p:cNvSpPr/>
                      <p:nvPr/>
                    </p:nvSpPr>
                    <p:spPr>
                      <a:xfrm>
                        <a:off x="7929360" y="422568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9" y="0"/>
                            </a:moveTo>
                            <a:lnTo>
                              <a:pt x="0" y="56"/>
                            </a:lnTo>
                            <a:lnTo>
                              <a:pt x="60" y="106"/>
                            </a:lnTo>
                            <a:lnTo>
                              <a:pt x="109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1" name=""/>
                      <p:cNvSpPr/>
                      <p:nvPr/>
                    </p:nvSpPr>
                    <p:spPr>
                      <a:xfrm>
                        <a:off x="7929360" y="42310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2" name=""/>
                      <p:cNvSpPr/>
                      <p:nvPr/>
                    </p:nvSpPr>
                    <p:spPr>
                      <a:xfrm>
                        <a:off x="7949160" y="4230000"/>
                        <a:ext cx="57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8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3" name=""/>
                      <p:cNvSpPr/>
                      <p:nvPr/>
                    </p:nvSpPr>
                    <p:spPr>
                      <a:xfrm>
                        <a:off x="7929360" y="4222080"/>
                        <a:ext cx="244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6" y="0"/>
                            </a:moveTo>
                            <a:lnTo>
                              <a:pt x="40" y="3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8"/>
                            </a:lnTo>
                            <a:lnTo>
                              <a:pt x="50" y="97"/>
                            </a:lnTo>
                            <a:lnTo>
                              <a:pt x="57" y="100"/>
                            </a:lnTo>
                            <a:lnTo>
                              <a:pt x="63" y="97"/>
                            </a:lnTo>
                            <a:lnTo>
                              <a:pt x="101" y="51"/>
                            </a:lnTo>
                            <a:lnTo>
                              <a:pt x="103" y="44"/>
                            </a:lnTo>
                            <a:lnTo>
                              <a:pt x="99" y="38"/>
                            </a:lnTo>
                            <a:lnTo>
                              <a:pt x="50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64" name=""/>
                    <p:cNvGrpSpPr/>
                    <p:nvPr/>
                  </p:nvGrpSpPr>
                  <p:grpSpPr>
                    <a:xfrm>
                      <a:off x="7945200" y="4233960"/>
                      <a:ext cx="26280" cy="27000"/>
                      <a:chOff x="7945200" y="4233960"/>
                      <a:chExt cx="26280" cy="27000"/>
                    </a:xfrm>
                  </p:grpSpPr>
                  <p:sp>
                    <p:nvSpPr>
                      <p:cNvPr id="1765" name=""/>
                      <p:cNvSpPr/>
                      <p:nvPr/>
                    </p:nvSpPr>
                    <p:spPr>
                      <a:xfrm>
                        <a:off x="7945200" y="4237560"/>
                        <a:ext cx="2628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6" name=""/>
                      <p:cNvSpPr/>
                      <p:nvPr/>
                    </p:nvSpPr>
                    <p:spPr>
                      <a:xfrm>
                        <a:off x="7945200" y="424296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7" name=""/>
                      <p:cNvSpPr/>
                      <p:nvPr/>
                    </p:nvSpPr>
                    <p:spPr>
                      <a:xfrm>
                        <a:off x="7966800" y="424152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8" name=""/>
                      <p:cNvSpPr/>
                      <p:nvPr/>
                    </p:nvSpPr>
                    <p:spPr>
                      <a:xfrm>
                        <a:off x="7946640" y="42339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69" name=""/>
                    <p:cNvGrpSpPr/>
                    <p:nvPr/>
                  </p:nvGrpSpPr>
                  <p:grpSpPr>
                    <a:xfrm>
                      <a:off x="7962840" y="4246200"/>
                      <a:ext cx="26280" cy="27360"/>
                      <a:chOff x="7962840" y="4246200"/>
                      <a:chExt cx="26280" cy="27360"/>
                    </a:xfrm>
                  </p:grpSpPr>
                  <p:sp>
                    <p:nvSpPr>
                      <p:cNvPr id="1770" name=""/>
                      <p:cNvSpPr/>
                      <p:nvPr/>
                    </p:nvSpPr>
                    <p:spPr>
                      <a:xfrm>
                        <a:off x="7962840" y="425124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1" name=""/>
                      <p:cNvSpPr/>
                      <p:nvPr/>
                    </p:nvSpPr>
                    <p:spPr>
                      <a:xfrm>
                        <a:off x="7962840" y="425484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9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2" name=""/>
                      <p:cNvSpPr/>
                      <p:nvPr/>
                    </p:nvSpPr>
                    <p:spPr>
                      <a:xfrm>
                        <a:off x="7984440" y="425376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3" name=""/>
                      <p:cNvSpPr/>
                      <p:nvPr/>
                    </p:nvSpPr>
                    <p:spPr>
                      <a:xfrm>
                        <a:off x="7964280" y="4246200"/>
                        <a:ext cx="2448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4" name=""/>
                    <p:cNvGrpSpPr/>
                    <p:nvPr/>
                  </p:nvGrpSpPr>
                  <p:grpSpPr>
                    <a:xfrm>
                      <a:off x="7980120" y="4259160"/>
                      <a:ext cx="25920" cy="25920"/>
                      <a:chOff x="7980120" y="4259160"/>
                      <a:chExt cx="25920" cy="25920"/>
                    </a:xfrm>
                  </p:grpSpPr>
                  <p:sp>
                    <p:nvSpPr>
                      <p:cNvPr id="1775" name=""/>
                      <p:cNvSpPr/>
                      <p:nvPr/>
                    </p:nvSpPr>
                    <p:spPr>
                      <a:xfrm>
                        <a:off x="7980120" y="426276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6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6" name=""/>
                      <p:cNvSpPr/>
                      <p:nvPr/>
                    </p:nvSpPr>
                    <p:spPr>
                      <a:xfrm>
                        <a:off x="7980120" y="42678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7" name=""/>
                      <p:cNvSpPr/>
                      <p:nvPr/>
                    </p:nvSpPr>
                    <p:spPr>
                      <a:xfrm>
                        <a:off x="8001720" y="426564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1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8" name=""/>
                      <p:cNvSpPr/>
                      <p:nvPr/>
                    </p:nvSpPr>
                    <p:spPr>
                      <a:xfrm>
                        <a:off x="7980120" y="4259160"/>
                        <a:ext cx="2592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8"/>
                            </a:lnTo>
                            <a:lnTo>
                              <a:pt x="50" y="97"/>
                            </a:lnTo>
                            <a:lnTo>
                              <a:pt x="58" y="100"/>
                            </a:lnTo>
                            <a:lnTo>
                              <a:pt x="63" y="97"/>
                            </a:lnTo>
                            <a:lnTo>
                              <a:pt x="102" y="51"/>
                            </a:lnTo>
                            <a:lnTo>
                              <a:pt x="104" y="44"/>
                            </a:lnTo>
                            <a:lnTo>
                              <a:pt x="100" y="38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9" name=""/>
                    <p:cNvGrpSpPr/>
                    <p:nvPr/>
                  </p:nvGrpSpPr>
                  <p:grpSpPr>
                    <a:xfrm>
                      <a:off x="7997760" y="4271040"/>
                      <a:ext cx="25920" cy="27360"/>
                      <a:chOff x="7997760" y="4271040"/>
                      <a:chExt cx="25920" cy="27360"/>
                    </a:xfrm>
                  </p:grpSpPr>
                  <p:sp>
                    <p:nvSpPr>
                      <p:cNvPr id="1780" name=""/>
                      <p:cNvSpPr/>
                      <p:nvPr/>
                    </p:nvSpPr>
                    <p:spPr>
                      <a:xfrm>
                        <a:off x="7997760" y="427500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1" name=""/>
                      <p:cNvSpPr/>
                      <p:nvPr/>
                    </p:nvSpPr>
                    <p:spPr>
                      <a:xfrm>
                        <a:off x="7997760" y="428004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2" name=""/>
                      <p:cNvSpPr/>
                      <p:nvPr/>
                    </p:nvSpPr>
                    <p:spPr>
                      <a:xfrm>
                        <a:off x="8017920" y="4278960"/>
                        <a:ext cx="540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3" name=""/>
                      <p:cNvSpPr/>
                      <p:nvPr/>
                    </p:nvSpPr>
                    <p:spPr>
                      <a:xfrm>
                        <a:off x="7997760" y="4271040"/>
                        <a:ext cx="2592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4" name=""/>
                    <p:cNvGrpSpPr/>
                    <p:nvPr/>
                  </p:nvGrpSpPr>
                  <p:grpSpPr>
                    <a:xfrm>
                      <a:off x="8015400" y="4282920"/>
                      <a:ext cx="25920" cy="27360"/>
                      <a:chOff x="8015400" y="4282920"/>
                      <a:chExt cx="25920" cy="27360"/>
                    </a:xfrm>
                  </p:grpSpPr>
                  <p:sp>
                    <p:nvSpPr>
                      <p:cNvPr id="1785" name=""/>
                      <p:cNvSpPr/>
                      <p:nvPr/>
                    </p:nvSpPr>
                    <p:spPr>
                      <a:xfrm>
                        <a:off x="8015400" y="428652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5">
                            <a:moveTo>
                              <a:pt x="49" y="0"/>
                            </a:moveTo>
                            <a:lnTo>
                              <a:pt x="0" y="55"/>
                            </a:lnTo>
                            <a:lnTo>
                              <a:pt x="62" y="105"/>
                            </a:lnTo>
                            <a:lnTo>
                              <a:pt x="109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6" name=""/>
                      <p:cNvSpPr/>
                      <p:nvPr/>
                    </p:nvSpPr>
                    <p:spPr>
                      <a:xfrm>
                        <a:off x="8015400" y="42919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3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3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7" name=""/>
                      <p:cNvSpPr/>
                      <p:nvPr/>
                    </p:nvSpPr>
                    <p:spPr>
                      <a:xfrm>
                        <a:off x="8035560" y="4290480"/>
                        <a:ext cx="540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8" name=""/>
                      <p:cNvSpPr/>
                      <p:nvPr/>
                    </p:nvSpPr>
                    <p:spPr>
                      <a:xfrm>
                        <a:off x="8015400" y="428292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2" y="98"/>
                            </a:lnTo>
                            <a:lnTo>
                              <a:pt x="101" y="52"/>
                            </a:lnTo>
                            <a:lnTo>
                              <a:pt x="103" y="45"/>
                            </a:lnTo>
                            <a:lnTo>
                              <a:pt x="98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9" name=""/>
                    <p:cNvGrpSpPr/>
                    <p:nvPr/>
                  </p:nvGrpSpPr>
                  <p:grpSpPr>
                    <a:xfrm>
                      <a:off x="8031240" y="4295160"/>
                      <a:ext cx="26280" cy="27360"/>
                      <a:chOff x="8031240" y="4295160"/>
                      <a:chExt cx="26280" cy="27360"/>
                    </a:xfrm>
                  </p:grpSpPr>
                  <p:sp>
                    <p:nvSpPr>
                      <p:cNvPr id="1790" name=""/>
                      <p:cNvSpPr/>
                      <p:nvPr/>
                    </p:nvSpPr>
                    <p:spPr>
                      <a:xfrm>
                        <a:off x="8031240" y="430020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4">
                            <a:moveTo>
                              <a:pt x="48" y="0"/>
                            </a:moveTo>
                            <a:lnTo>
                              <a:pt x="0" y="54"/>
                            </a:lnTo>
                            <a:lnTo>
                              <a:pt x="61" y="104"/>
                            </a:lnTo>
                            <a:lnTo>
                              <a:pt x="110" y="44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1" name=""/>
                      <p:cNvSpPr/>
                      <p:nvPr/>
                    </p:nvSpPr>
                    <p:spPr>
                      <a:xfrm>
                        <a:off x="8031240" y="430524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2">
                            <a:moveTo>
                              <a:pt x="2" y="11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2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2" name=""/>
                      <p:cNvSpPr/>
                      <p:nvPr/>
                    </p:nvSpPr>
                    <p:spPr>
                      <a:xfrm>
                        <a:off x="8053200" y="43027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1">
                            <a:moveTo>
                              <a:pt x="18" y="11"/>
                            </a:moveTo>
                            <a:lnTo>
                              <a:pt x="22" y="15"/>
                            </a:lnTo>
                            <a:lnTo>
                              <a:pt x="22" y="28"/>
                            </a:lnTo>
                            <a:lnTo>
                              <a:pt x="0" y="41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3" name=""/>
                      <p:cNvSpPr/>
                      <p:nvPr/>
                    </p:nvSpPr>
                    <p:spPr>
                      <a:xfrm>
                        <a:off x="8032680" y="42951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98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7"/>
                            </a:lnTo>
                            <a:lnTo>
                              <a:pt x="51" y="96"/>
                            </a:lnTo>
                            <a:lnTo>
                              <a:pt x="58" y="98"/>
                            </a:lnTo>
                            <a:lnTo>
                              <a:pt x="64" y="96"/>
                            </a:lnTo>
                            <a:lnTo>
                              <a:pt x="102" y="51"/>
                            </a:lnTo>
                            <a:lnTo>
                              <a:pt x="105" y="44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94" name=""/>
                    <p:cNvGrpSpPr/>
                    <p:nvPr/>
                  </p:nvGrpSpPr>
                  <p:grpSpPr>
                    <a:xfrm>
                      <a:off x="8048520" y="4308120"/>
                      <a:ext cx="26280" cy="25920"/>
                      <a:chOff x="8048520" y="4308120"/>
                      <a:chExt cx="26280" cy="25920"/>
                    </a:xfrm>
                  </p:grpSpPr>
                  <p:sp>
                    <p:nvSpPr>
                      <p:cNvPr id="1795" name=""/>
                      <p:cNvSpPr/>
                      <p:nvPr/>
                    </p:nvSpPr>
                    <p:spPr>
                      <a:xfrm>
                        <a:off x="8048520" y="431172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6" name=""/>
                      <p:cNvSpPr/>
                      <p:nvPr/>
                    </p:nvSpPr>
                    <p:spPr>
                      <a:xfrm>
                        <a:off x="8048520" y="431712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7" name=""/>
                      <p:cNvSpPr/>
                      <p:nvPr/>
                    </p:nvSpPr>
                    <p:spPr>
                      <a:xfrm>
                        <a:off x="8070120" y="431568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8" name=""/>
                      <p:cNvSpPr/>
                      <p:nvPr/>
                    </p:nvSpPr>
                    <p:spPr>
                      <a:xfrm>
                        <a:off x="8049960" y="4308120"/>
                        <a:ext cx="244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99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7"/>
                            </a:lnTo>
                            <a:lnTo>
                              <a:pt x="0" y="52"/>
                            </a:lnTo>
                            <a:lnTo>
                              <a:pt x="4" y="58"/>
                            </a:lnTo>
                            <a:lnTo>
                              <a:pt x="51" y="97"/>
                            </a:lnTo>
                            <a:lnTo>
                              <a:pt x="58" y="99"/>
                            </a:lnTo>
                            <a:lnTo>
                              <a:pt x="64" y="97"/>
                            </a:lnTo>
                            <a:lnTo>
                              <a:pt x="102" y="51"/>
                            </a:lnTo>
                            <a:lnTo>
                              <a:pt x="104" y="44"/>
                            </a:lnTo>
                            <a:lnTo>
                              <a:pt x="100" y="38"/>
                            </a:lnTo>
                            <a:lnTo>
                              <a:pt x="51" y="1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99" name=""/>
                  <p:cNvGrpSpPr/>
                  <p:nvPr/>
                </p:nvGrpSpPr>
                <p:grpSpPr>
                  <a:xfrm>
                    <a:off x="8067960" y="4320000"/>
                    <a:ext cx="95400" cy="79920"/>
                    <a:chOff x="8067960" y="4320000"/>
                    <a:chExt cx="95400" cy="79920"/>
                  </a:xfrm>
                </p:grpSpPr>
                <p:grpSp>
                  <p:nvGrpSpPr>
                    <p:cNvPr id="1800" name=""/>
                    <p:cNvGrpSpPr/>
                    <p:nvPr/>
                  </p:nvGrpSpPr>
                  <p:grpSpPr>
                    <a:xfrm>
                      <a:off x="8067960" y="4320000"/>
                      <a:ext cx="25920" cy="28440"/>
                      <a:chOff x="8067960" y="4320000"/>
                      <a:chExt cx="25920" cy="28440"/>
                    </a:xfrm>
                  </p:grpSpPr>
                  <p:sp>
                    <p:nvSpPr>
                      <p:cNvPr id="1801" name=""/>
                      <p:cNvSpPr/>
                      <p:nvPr/>
                    </p:nvSpPr>
                    <p:spPr>
                      <a:xfrm>
                        <a:off x="8067960" y="4323960"/>
                        <a:ext cx="259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1">
                            <a:moveTo>
                              <a:pt x="49" y="0"/>
                            </a:moveTo>
                            <a:lnTo>
                              <a:pt x="0" y="58"/>
                            </a:lnTo>
                            <a:lnTo>
                              <a:pt x="62" y="111"/>
                            </a:lnTo>
                            <a:lnTo>
                              <a:pt x="112" y="49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2" name=""/>
                      <p:cNvSpPr/>
                      <p:nvPr/>
                    </p:nvSpPr>
                    <p:spPr>
                      <a:xfrm>
                        <a:off x="8067960" y="433044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5">
                            <a:moveTo>
                              <a:pt x="2" y="12"/>
                            </a:moveTo>
                            <a:lnTo>
                              <a:pt x="0" y="19"/>
                            </a:lnTo>
                            <a:lnTo>
                              <a:pt x="0" y="33"/>
                            </a:lnTo>
                            <a:lnTo>
                              <a:pt x="20" y="45"/>
                            </a:lnTo>
                            <a:lnTo>
                              <a:pt x="12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3" name=""/>
                      <p:cNvSpPr/>
                      <p:nvPr/>
                    </p:nvSpPr>
                    <p:spPr>
                      <a:xfrm>
                        <a:off x="8089560" y="432792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5">
                            <a:moveTo>
                              <a:pt x="19" y="12"/>
                            </a:moveTo>
                            <a:lnTo>
                              <a:pt x="23" y="16"/>
                            </a:lnTo>
                            <a:lnTo>
                              <a:pt x="23" y="32"/>
                            </a:lnTo>
                            <a:lnTo>
                              <a:pt x="0" y="45"/>
                            </a:lnTo>
                            <a:lnTo>
                              <a:pt x="8" y="0"/>
                            </a:lnTo>
                            <a:lnTo>
                              <a:pt x="19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4" name=""/>
                      <p:cNvSpPr/>
                      <p:nvPr/>
                    </p:nvSpPr>
                    <p:spPr>
                      <a:xfrm>
                        <a:off x="8067960" y="432000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5">
                            <a:moveTo>
                              <a:pt x="46" y="0"/>
                            </a:moveTo>
                            <a:lnTo>
                              <a:pt x="40" y="4"/>
                            </a:lnTo>
                            <a:lnTo>
                              <a:pt x="3" y="51"/>
                            </a:lnTo>
                            <a:lnTo>
                              <a:pt x="0" y="56"/>
                            </a:lnTo>
                            <a:lnTo>
                              <a:pt x="4" y="62"/>
                            </a:lnTo>
                            <a:lnTo>
                              <a:pt x="52" y="103"/>
                            </a:lnTo>
                            <a:lnTo>
                              <a:pt x="59" y="105"/>
                            </a:lnTo>
                            <a:lnTo>
                              <a:pt x="65" y="103"/>
                            </a:lnTo>
                            <a:lnTo>
                              <a:pt x="103" y="55"/>
                            </a:lnTo>
                            <a:lnTo>
                              <a:pt x="106" y="47"/>
                            </a:lnTo>
                            <a:lnTo>
                              <a:pt x="101" y="42"/>
                            </a:lnTo>
                            <a:lnTo>
                              <a:pt x="52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5" name=""/>
                    <p:cNvGrpSpPr/>
                    <p:nvPr/>
                  </p:nvGrpSpPr>
                  <p:grpSpPr>
                    <a:xfrm>
                      <a:off x="8085240" y="4333320"/>
                      <a:ext cx="25920" cy="28440"/>
                      <a:chOff x="8085240" y="4333320"/>
                      <a:chExt cx="25920" cy="28440"/>
                    </a:xfrm>
                  </p:grpSpPr>
                  <p:sp>
                    <p:nvSpPr>
                      <p:cNvPr id="1806" name=""/>
                      <p:cNvSpPr/>
                      <p:nvPr/>
                    </p:nvSpPr>
                    <p:spPr>
                      <a:xfrm>
                        <a:off x="8085240" y="4336920"/>
                        <a:ext cx="2592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1">
                            <a:moveTo>
                              <a:pt x="50" y="0"/>
                            </a:moveTo>
                            <a:lnTo>
                              <a:pt x="0" y="58"/>
                            </a:lnTo>
                            <a:lnTo>
                              <a:pt x="62" y="111"/>
                            </a:lnTo>
                            <a:lnTo>
                              <a:pt x="112" y="48"/>
                            </a:lnTo>
                            <a:lnTo>
                              <a:pt x="50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7" name=""/>
                      <p:cNvSpPr/>
                      <p:nvPr/>
                    </p:nvSpPr>
                    <p:spPr>
                      <a:xfrm>
                        <a:off x="8085240" y="434196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0" y="46"/>
                            </a:lnTo>
                            <a:lnTo>
                              <a:pt x="12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8" name=""/>
                      <p:cNvSpPr/>
                      <p:nvPr/>
                    </p:nvSpPr>
                    <p:spPr>
                      <a:xfrm>
                        <a:off x="8106840" y="43408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3">
                            <a:moveTo>
                              <a:pt x="20" y="10"/>
                            </a:moveTo>
                            <a:lnTo>
                              <a:pt x="23" y="15"/>
                            </a:lnTo>
                            <a:lnTo>
                              <a:pt x="23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20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9" name=""/>
                      <p:cNvSpPr/>
                      <p:nvPr/>
                    </p:nvSpPr>
                    <p:spPr>
                      <a:xfrm>
                        <a:off x="8085240" y="4333320"/>
                        <a:ext cx="259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" h="105">
                            <a:moveTo>
                              <a:pt x="47" y="0"/>
                            </a:moveTo>
                            <a:lnTo>
                              <a:pt x="41" y="4"/>
                            </a:lnTo>
                            <a:lnTo>
                              <a:pt x="3" y="51"/>
                            </a:lnTo>
                            <a:lnTo>
                              <a:pt x="0" y="56"/>
                            </a:lnTo>
                            <a:lnTo>
                              <a:pt x="4" y="63"/>
                            </a:lnTo>
                            <a:lnTo>
                              <a:pt x="52" y="103"/>
                            </a:lnTo>
                            <a:lnTo>
                              <a:pt x="59" y="105"/>
                            </a:lnTo>
                            <a:lnTo>
                              <a:pt x="65" y="103"/>
                            </a:lnTo>
                            <a:lnTo>
                              <a:pt x="105" y="54"/>
                            </a:lnTo>
                            <a:lnTo>
                              <a:pt x="107" y="47"/>
                            </a:lnTo>
                            <a:lnTo>
                              <a:pt x="102" y="41"/>
                            </a:lnTo>
                            <a:lnTo>
                              <a:pt x="52" y="3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10" name=""/>
                    <p:cNvGrpSpPr/>
                    <p:nvPr/>
                  </p:nvGrpSpPr>
                  <p:grpSpPr>
                    <a:xfrm>
                      <a:off x="8102520" y="4345200"/>
                      <a:ext cx="25920" cy="28440"/>
                      <a:chOff x="8102520" y="4345200"/>
                      <a:chExt cx="25920" cy="28440"/>
                    </a:xfrm>
                  </p:grpSpPr>
                  <p:sp>
                    <p:nvSpPr>
                      <p:cNvPr id="1811" name=""/>
                      <p:cNvSpPr/>
                      <p:nvPr/>
                    </p:nvSpPr>
                    <p:spPr>
                      <a:xfrm>
                        <a:off x="8102520" y="435024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10">
                            <a:moveTo>
                              <a:pt x="49" y="0"/>
                            </a:moveTo>
                            <a:lnTo>
                              <a:pt x="0" y="58"/>
                            </a:lnTo>
                            <a:lnTo>
                              <a:pt x="62" y="110"/>
                            </a:lnTo>
                            <a:lnTo>
                              <a:pt x="111" y="48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2" name=""/>
                      <p:cNvSpPr/>
                      <p:nvPr/>
                    </p:nvSpPr>
                    <p:spPr>
                      <a:xfrm>
                        <a:off x="8102520" y="435564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5">
                            <a:moveTo>
                              <a:pt x="2" y="11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5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3" name=""/>
                      <p:cNvSpPr/>
                      <p:nvPr/>
                    </p:nvSpPr>
                    <p:spPr>
                      <a:xfrm>
                        <a:off x="8124120" y="43542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3">
                            <a:moveTo>
                              <a:pt x="19" y="10"/>
                            </a:moveTo>
                            <a:lnTo>
                              <a:pt x="23" y="15"/>
                            </a:lnTo>
                            <a:lnTo>
                              <a:pt x="23" y="30"/>
                            </a:lnTo>
                            <a:lnTo>
                              <a:pt x="0" y="43"/>
                            </a:lnTo>
                            <a:lnTo>
                              <a:pt x="9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4" name=""/>
                      <p:cNvSpPr/>
                      <p:nvPr/>
                    </p:nvSpPr>
                    <p:spPr>
                      <a:xfrm>
                        <a:off x="8102520" y="434520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5">
                            <a:moveTo>
                              <a:pt x="46" y="0"/>
                            </a:moveTo>
                            <a:lnTo>
                              <a:pt x="41" y="3"/>
                            </a:lnTo>
                            <a:lnTo>
                              <a:pt x="2" y="50"/>
                            </a:lnTo>
                            <a:lnTo>
                              <a:pt x="0" y="55"/>
                            </a:lnTo>
                            <a:lnTo>
                              <a:pt x="4" y="62"/>
                            </a:lnTo>
                            <a:lnTo>
                              <a:pt x="52" y="102"/>
                            </a:lnTo>
                            <a:lnTo>
                              <a:pt x="59" y="105"/>
                            </a:lnTo>
                            <a:lnTo>
                              <a:pt x="65" y="102"/>
                            </a:lnTo>
                            <a:lnTo>
                              <a:pt x="103" y="54"/>
                            </a:lnTo>
                            <a:lnTo>
                              <a:pt x="106" y="47"/>
                            </a:lnTo>
                            <a:lnTo>
                              <a:pt x="101" y="41"/>
                            </a:lnTo>
                            <a:lnTo>
                              <a:pt x="52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15" name=""/>
                    <p:cNvGrpSpPr/>
                    <p:nvPr/>
                  </p:nvGrpSpPr>
                  <p:grpSpPr>
                    <a:xfrm>
                      <a:off x="8119800" y="4358160"/>
                      <a:ext cx="26280" cy="28440"/>
                      <a:chOff x="8119800" y="4358160"/>
                      <a:chExt cx="26280" cy="28440"/>
                    </a:xfrm>
                  </p:grpSpPr>
                  <p:sp>
                    <p:nvSpPr>
                      <p:cNvPr id="1816" name=""/>
                      <p:cNvSpPr/>
                      <p:nvPr/>
                    </p:nvSpPr>
                    <p:spPr>
                      <a:xfrm>
                        <a:off x="8119800" y="4363200"/>
                        <a:ext cx="2628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10">
                            <a:moveTo>
                              <a:pt x="48" y="0"/>
                            </a:moveTo>
                            <a:lnTo>
                              <a:pt x="0" y="57"/>
                            </a:lnTo>
                            <a:lnTo>
                              <a:pt x="61" y="110"/>
                            </a:lnTo>
                            <a:lnTo>
                              <a:pt x="111" y="48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7" name=""/>
                      <p:cNvSpPr/>
                      <p:nvPr/>
                    </p:nvSpPr>
                    <p:spPr>
                      <a:xfrm>
                        <a:off x="8119800" y="4368600"/>
                        <a:ext cx="432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6">
                            <a:moveTo>
                              <a:pt x="1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6"/>
                            </a:lnTo>
                            <a:lnTo>
                              <a:pt x="11" y="0"/>
                            </a:lnTo>
                            <a:lnTo>
                              <a:pt x="1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8" name=""/>
                      <p:cNvSpPr/>
                      <p:nvPr/>
                    </p:nvSpPr>
                    <p:spPr>
                      <a:xfrm>
                        <a:off x="8141760" y="436716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4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1"/>
                            </a:lnTo>
                            <a:lnTo>
                              <a:pt x="0" y="44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9" name=""/>
                      <p:cNvSpPr/>
                      <p:nvPr/>
                    </p:nvSpPr>
                    <p:spPr>
                      <a:xfrm>
                        <a:off x="8119800" y="4358160"/>
                        <a:ext cx="262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4">
                            <a:moveTo>
                              <a:pt x="46" y="0"/>
                            </a:moveTo>
                            <a:lnTo>
                              <a:pt x="41" y="4"/>
                            </a:lnTo>
                            <a:lnTo>
                              <a:pt x="2" y="50"/>
                            </a:lnTo>
                            <a:lnTo>
                              <a:pt x="0" y="56"/>
                            </a:lnTo>
                            <a:lnTo>
                              <a:pt x="3" y="62"/>
                            </a:lnTo>
                            <a:lnTo>
                              <a:pt x="52" y="102"/>
                            </a:lnTo>
                            <a:lnTo>
                              <a:pt x="59" y="104"/>
                            </a:lnTo>
                            <a:lnTo>
                              <a:pt x="65" y="102"/>
                            </a:lnTo>
                            <a:lnTo>
                              <a:pt x="104" y="54"/>
                            </a:lnTo>
                            <a:lnTo>
                              <a:pt x="106" y="47"/>
                            </a:lnTo>
                            <a:lnTo>
                              <a:pt x="102" y="41"/>
                            </a:lnTo>
                            <a:lnTo>
                              <a:pt x="52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20" name=""/>
                    <p:cNvGrpSpPr/>
                    <p:nvPr/>
                  </p:nvGrpSpPr>
                  <p:grpSpPr>
                    <a:xfrm>
                      <a:off x="8137080" y="4371480"/>
                      <a:ext cx="26280" cy="28440"/>
                      <a:chOff x="8137080" y="4371480"/>
                      <a:chExt cx="26280" cy="28440"/>
                    </a:xfrm>
                  </p:grpSpPr>
                  <p:sp>
                    <p:nvSpPr>
                      <p:cNvPr id="1821" name=""/>
                      <p:cNvSpPr/>
                      <p:nvPr/>
                    </p:nvSpPr>
                    <p:spPr>
                      <a:xfrm>
                        <a:off x="8137080" y="4375440"/>
                        <a:ext cx="2628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0">
                            <a:moveTo>
                              <a:pt x="49" y="0"/>
                            </a:moveTo>
                            <a:lnTo>
                              <a:pt x="0" y="57"/>
                            </a:lnTo>
                            <a:lnTo>
                              <a:pt x="62" y="110"/>
                            </a:lnTo>
                            <a:lnTo>
                              <a:pt x="112" y="48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2" name=""/>
                      <p:cNvSpPr/>
                      <p:nvPr/>
                    </p:nvSpPr>
                    <p:spPr>
                      <a:xfrm>
                        <a:off x="8137080" y="438192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0" y="46"/>
                            </a:lnTo>
                            <a:lnTo>
                              <a:pt x="13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3" name=""/>
                      <p:cNvSpPr/>
                      <p:nvPr/>
                    </p:nvSpPr>
                    <p:spPr>
                      <a:xfrm>
                        <a:off x="8158680" y="4379400"/>
                        <a:ext cx="432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5">
                            <a:moveTo>
                              <a:pt x="18" y="11"/>
                            </a:moveTo>
                            <a:lnTo>
                              <a:pt x="22" y="17"/>
                            </a:lnTo>
                            <a:lnTo>
                              <a:pt x="22" y="31"/>
                            </a:lnTo>
                            <a:lnTo>
                              <a:pt x="0" y="45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4" name=""/>
                      <p:cNvSpPr/>
                      <p:nvPr/>
                    </p:nvSpPr>
                    <p:spPr>
                      <a:xfrm>
                        <a:off x="8137080" y="4371480"/>
                        <a:ext cx="262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3">
                            <a:moveTo>
                              <a:pt x="46" y="0"/>
                            </a:moveTo>
                            <a:lnTo>
                              <a:pt x="41" y="3"/>
                            </a:lnTo>
                            <a:lnTo>
                              <a:pt x="2" y="49"/>
                            </a:lnTo>
                            <a:lnTo>
                              <a:pt x="0" y="55"/>
                            </a:lnTo>
                            <a:lnTo>
                              <a:pt x="3" y="61"/>
                            </a:lnTo>
                            <a:lnTo>
                              <a:pt x="52" y="101"/>
                            </a:lnTo>
                            <a:lnTo>
                              <a:pt x="59" y="103"/>
                            </a:lnTo>
                            <a:lnTo>
                              <a:pt x="65" y="101"/>
                            </a:lnTo>
                            <a:lnTo>
                              <a:pt x="104" y="54"/>
                            </a:lnTo>
                            <a:lnTo>
                              <a:pt x="106" y="46"/>
                            </a:lnTo>
                            <a:lnTo>
                              <a:pt x="102" y="40"/>
                            </a:lnTo>
                            <a:lnTo>
                              <a:pt x="52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825" name=""/>
                <p:cNvSpPr/>
                <p:nvPr/>
              </p:nvSpPr>
              <p:spPr>
                <a:xfrm>
                  <a:off x="7848000" y="4168080"/>
                  <a:ext cx="39240" cy="33120"/>
                </a:xfrm>
                <a:custGeom>
                  <a:avLst/>
                  <a:gdLst/>
                  <a:ahLst/>
                  <a:rect l="l" t="t" r="r" b="b"/>
                  <a:pathLst>
                    <a:path w="168" h="150">
                      <a:moveTo>
                        <a:pt x="51" y="0"/>
                      </a:moveTo>
                      <a:lnTo>
                        <a:pt x="0" y="57"/>
                      </a:lnTo>
                      <a:lnTo>
                        <a:pt x="115" y="150"/>
                      </a:lnTo>
                      <a:lnTo>
                        <a:pt x="168" y="8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7848000" y="4173480"/>
                  <a:ext cx="3960" cy="7560"/>
                </a:xfrm>
                <a:custGeom>
                  <a:avLst/>
                  <a:gdLst/>
                  <a:ahLst/>
                  <a:rect l="l" t="t" r="r" b="b"/>
                  <a:pathLst>
                    <a:path w="19" h="39">
                      <a:moveTo>
                        <a:pt x="1" y="10"/>
                      </a:moveTo>
                      <a:lnTo>
                        <a:pt x="0" y="17"/>
                      </a:lnTo>
                      <a:lnTo>
                        <a:pt x="0" y="30"/>
                      </a:lnTo>
                      <a:lnTo>
                        <a:pt x="19" y="39"/>
                      </a:lnTo>
                      <a:lnTo>
                        <a:pt x="11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7880040" y="41828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1" h="39">
                      <a:moveTo>
                        <a:pt x="19" y="10"/>
                      </a:moveTo>
                      <a:lnTo>
                        <a:pt x="21" y="14"/>
                      </a:lnTo>
                      <a:lnTo>
                        <a:pt x="21" y="27"/>
                      </a:lnTo>
                      <a:lnTo>
                        <a:pt x="0" y="39"/>
                      </a:lnTo>
                      <a:lnTo>
                        <a:pt x="7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7846200" y="4165560"/>
                  <a:ext cx="37800" cy="28800"/>
                </a:xfrm>
                <a:custGeom>
                  <a:avLst/>
                  <a:gdLst/>
                  <a:ahLst/>
                  <a:rect l="l" t="t" r="r" b="b"/>
                  <a:pathLst>
                    <a:path w="156" h="134">
                      <a:moveTo>
                        <a:pt x="43" y="0"/>
                      </a:moveTo>
                      <a:lnTo>
                        <a:pt x="39" y="3"/>
                      </a:lnTo>
                      <a:lnTo>
                        <a:pt x="2" y="44"/>
                      </a:lnTo>
                      <a:lnTo>
                        <a:pt x="0" y="47"/>
                      </a:lnTo>
                      <a:lnTo>
                        <a:pt x="3" y="53"/>
                      </a:lnTo>
                      <a:lnTo>
                        <a:pt x="107" y="134"/>
                      </a:lnTo>
                      <a:lnTo>
                        <a:pt x="113" y="134"/>
                      </a:lnTo>
                      <a:lnTo>
                        <a:pt x="120" y="133"/>
                      </a:lnTo>
                      <a:lnTo>
                        <a:pt x="156" y="93"/>
                      </a:lnTo>
                      <a:lnTo>
                        <a:pt x="156" y="86"/>
                      </a:lnTo>
                      <a:lnTo>
                        <a:pt x="152" y="79"/>
                      </a:lnTo>
                      <a:lnTo>
                        <a:pt x="49" y="1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9" name=""/>
                <p:cNvGrpSpPr/>
                <p:nvPr/>
              </p:nvGrpSpPr>
              <p:grpSpPr>
                <a:xfrm>
                  <a:off x="7871040" y="4208040"/>
                  <a:ext cx="197640" cy="150120"/>
                  <a:chOff x="7871040" y="4208040"/>
                  <a:chExt cx="197640" cy="150120"/>
                </a:xfrm>
              </p:grpSpPr>
              <p:grpSp>
                <p:nvGrpSpPr>
                  <p:cNvPr id="1830" name=""/>
                  <p:cNvGrpSpPr/>
                  <p:nvPr/>
                </p:nvGrpSpPr>
                <p:grpSpPr>
                  <a:xfrm>
                    <a:off x="7871040" y="4208040"/>
                    <a:ext cx="26280" cy="27000"/>
                    <a:chOff x="7871040" y="4208040"/>
                    <a:chExt cx="26280" cy="27000"/>
                  </a:xfrm>
                </p:grpSpPr>
                <p:sp>
                  <p:nvSpPr>
                    <p:cNvPr id="1831" name=""/>
                    <p:cNvSpPr/>
                    <p:nvPr/>
                  </p:nvSpPr>
                  <p:spPr>
                    <a:xfrm>
                      <a:off x="7871040" y="4211640"/>
                      <a:ext cx="2628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2" name=""/>
                    <p:cNvSpPr/>
                    <p:nvPr/>
                  </p:nvSpPr>
                  <p:spPr>
                    <a:xfrm>
                      <a:off x="7871040" y="4217040"/>
                      <a:ext cx="432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3" name=""/>
                    <p:cNvSpPr/>
                    <p:nvPr/>
                  </p:nvSpPr>
                  <p:spPr>
                    <a:xfrm>
                      <a:off x="7891200" y="421560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3">
                          <a:moveTo>
                            <a:pt x="18" y="11"/>
                          </a:moveTo>
                          <a:lnTo>
                            <a:pt x="21" y="15"/>
                          </a:lnTo>
                          <a:lnTo>
                            <a:pt x="21" y="30"/>
                          </a:lnTo>
                          <a:lnTo>
                            <a:pt x="0" y="43"/>
                          </a:lnTo>
                          <a:lnTo>
                            <a:pt x="7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4" name=""/>
                    <p:cNvSpPr/>
                    <p:nvPr/>
                  </p:nvSpPr>
                  <p:spPr>
                    <a:xfrm>
                      <a:off x="7871040" y="4208040"/>
                      <a:ext cx="262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99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7"/>
                          </a:lnTo>
                          <a:lnTo>
                            <a:pt x="0" y="52"/>
                          </a:lnTo>
                          <a:lnTo>
                            <a:pt x="3" y="58"/>
                          </a:lnTo>
                          <a:lnTo>
                            <a:pt x="51" y="97"/>
                          </a:lnTo>
                          <a:lnTo>
                            <a:pt x="58" y="99"/>
                          </a:lnTo>
                          <a:lnTo>
                            <a:pt x="64" y="97"/>
                          </a:lnTo>
                          <a:lnTo>
                            <a:pt x="102" y="51"/>
                          </a:lnTo>
                          <a:lnTo>
                            <a:pt x="104" y="44"/>
                          </a:lnTo>
                          <a:lnTo>
                            <a:pt x="100" y="38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35" name=""/>
                  <p:cNvGrpSpPr/>
                  <p:nvPr/>
                </p:nvGrpSpPr>
                <p:grpSpPr>
                  <a:xfrm>
                    <a:off x="7888320" y="4219560"/>
                    <a:ext cx="26280" cy="27360"/>
                    <a:chOff x="7888320" y="4219560"/>
                    <a:chExt cx="26280" cy="27360"/>
                  </a:xfrm>
                </p:grpSpPr>
                <p:sp>
                  <p:nvSpPr>
                    <p:cNvPr id="1836" name=""/>
                    <p:cNvSpPr/>
                    <p:nvPr/>
                  </p:nvSpPr>
                  <p:spPr>
                    <a:xfrm>
                      <a:off x="7888320" y="4223520"/>
                      <a:ext cx="2628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7" name=""/>
                    <p:cNvSpPr/>
                    <p:nvPr/>
                  </p:nvSpPr>
                  <p:spPr>
                    <a:xfrm>
                      <a:off x="7888320" y="4228560"/>
                      <a:ext cx="432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3">
                          <a:moveTo>
                            <a:pt x="2" y="10"/>
                          </a:moveTo>
                          <a:lnTo>
                            <a:pt x="0" y="18"/>
                          </a:lnTo>
                          <a:lnTo>
                            <a:pt x="0" y="31"/>
                          </a:lnTo>
                          <a:lnTo>
                            <a:pt x="19" y="43"/>
                          </a:lnTo>
                          <a:lnTo>
                            <a:pt x="12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8" name=""/>
                    <p:cNvSpPr/>
                    <p:nvPr/>
                  </p:nvSpPr>
                  <p:spPr>
                    <a:xfrm>
                      <a:off x="7908480" y="422748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3">
                          <a:moveTo>
                            <a:pt x="18" y="11"/>
                          </a:moveTo>
                          <a:lnTo>
                            <a:pt x="21" y="16"/>
                          </a:lnTo>
                          <a:lnTo>
                            <a:pt x="21" y="30"/>
                          </a:lnTo>
                          <a:lnTo>
                            <a:pt x="0" y="43"/>
                          </a:lnTo>
                          <a:lnTo>
                            <a:pt x="7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9" name=""/>
                    <p:cNvSpPr/>
                    <p:nvPr/>
                  </p:nvSpPr>
                  <p:spPr>
                    <a:xfrm>
                      <a:off x="7888320" y="4219560"/>
                      <a:ext cx="262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8"/>
                          </a:lnTo>
                          <a:lnTo>
                            <a:pt x="58" y="100"/>
                          </a:lnTo>
                          <a:lnTo>
                            <a:pt x="63" y="98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100" y="39"/>
                          </a:lnTo>
                          <a:lnTo>
                            <a:pt x="50" y="3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40" name=""/>
                  <p:cNvGrpSpPr/>
                  <p:nvPr/>
                </p:nvGrpSpPr>
                <p:grpSpPr>
                  <a:xfrm>
                    <a:off x="7904520" y="4232880"/>
                    <a:ext cx="27720" cy="26280"/>
                    <a:chOff x="7904520" y="4232880"/>
                    <a:chExt cx="27720" cy="26280"/>
                  </a:xfrm>
                </p:grpSpPr>
                <p:sp>
                  <p:nvSpPr>
                    <p:cNvPr id="1841" name=""/>
                    <p:cNvSpPr/>
                    <p:nvPr/>
                  </p:nvSpPr>
                  <p:spPr>
                    <a:xfrm>
                      <a:off x="7904520" y="4236840"/>
                      <a:ext cx="277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6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2" name=""/>
                    <p:cNvSpPr/>
                    <p:nvPr/>
                  </p:nvSpPr>
                  <p:spPr>
                    <a:xfrm>
                      <a:off x="7904520" y="424188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1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3" name=""/>
                    <p:cNvSpPr/>
                    <p:nvPr/>
                  </p:nvSpPr>
                  <p:spPr>
                    <a:xfrm>
                      <a:off x="7926120" y="4239360"/>
                      <a:ext cx="576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2">
                          <a:moveTo>
                            <a:pt x="18" y="11"/>
                          </a:moveTo>
                          <a:lnTo>
                            <a:pt x="21" y="15"/>
                          </a:lnTo>
                          <a:lnTo>
                            <a:pt x="21" y="29"/>
                          </a:lnTo>
                          <a:lnTo>
                            <a:pt x="0" y="42"/>
                          </a:lnTo>
                          <a:lnTo>
                            <a:pt x="7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4" name=""/>
                    <p:cNvSpPr/>
                    <p:nvPr/>
                  </p:nvSpPr>
                  <p:spPr>
                    <a:xfrm>
                      <a:off x="7905600" y="4232880"/>
                      <a:ext cx="2448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3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8"/>
                          </a:lnTo>
                          <a:lnTo>
                            <a:pt x="50" y="97"/>
                          </a:lnTo>
                          <a:lnTo>
                            <a:pt x="58" y="100"/>
                          </a:lnTo>
                          <a:lnTo>
                            <a:pt x="63" y="97"/>
                          </a:lnTo>
                          <a:lnTo>
                            <a:pt x="102" y="51"/>
                          </a:lnTo>
                          <a:lnTo>
                            <a:pt x="104" y="44"/>
                          </a:lnTo>
                          <a:lnTo>
                            <a:pt x="100" y="38"/>
                          </a:lnTo>
                          <a:lnTo>
                            <a:pt x="50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45" name=""/>
                  <p:cNvGrpSpPr/>
                  <p:nvPr/>
                </p:nvGrpSpPr>
                <p:grpSpPr>
                  <a:xfrm>
                    <a:off x="7922160" y="4244760"/>
                    <a:ext cx="25920" cy="27360"/>
                    <a:chOff x="7922160" y="4244760"/>
                    <a:chExt cx="25920" cy="27360"/>
                  </a:xfrm>
                </p:grpSpPr>
                <p:sp>
                  <p:nvSpPr>
                    <p:cNvPr id="1846" name=""/>
                    <p:cNvSpPr/>
                    <p:nvPr/>
                  </p:nvSpPr>
                  <p:spPr>
                    <a:xfrm>
                      <a:off x="7922160" y="424836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9" y="0"/>
                          </a:moveTo>
                          <a:lnTo>
                            <a:pt x="0" y="55"/>
                          </a:lnTo>
                          <a:lnTo>
                            <a:pt x="62" y="106"/>
                          </a:lnTo>
                          <a:lnTo>
                            <a:pt x="109" y="46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7" name=""/>
                    <p:cNvSpPr/>
                    <p:nvPr/>
                  </p:nvSpPr>
                  <p:spPr>
                    <a:xfrm>
                      <a:off x="7922160" y="42537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4">
                          <a:moveTo>
                            <a:pt x="3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20" y="44"/>
                          </a:lnTo>
                          <a:lnTo>
                            <a:pt x="12" y="0"/>
                          </a:lnTo>
                          <a:lnTo>
                            <a:pt x="3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8" name=""/>
                    <p:cNvSpPr/>
                    <p:nvPr/>
                  </p:nvSpPr>
                  <p:spPr>
                    <a:xfrm>
                      <a:off x="7943760" y="425268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1"/>
                          </a:moveTo>
                          <a:lnTo>
                            <a:pt x="22" y="16"/>
                          </a:lnTo>
                          <a:lnTo>
                            <a:pt x="22" y="30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9" name=""/>
                    <p:cNvSpPr/>
                    <p:nvPr/>
                  </p:nvSpPr>
                  <p:spPr>
                    <a:xfrm>
                      <a:off x="7923240" y="4244760"/>
                      <a:ext cx="2448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00">
                          <a:moveTo>
                            <a:pt x="45" y="0"/>
                          </a:moveTo>
                          <a:lnTo>
                            <a:pt x="39" y="3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8"/>
                          </a:lnTo>
                          <a:lnTo>
                            <a:pt x="58" y="100"/>
                          </a:lnTo>
                          <a:lnTo>
                            <a:pt x="63" y="98"/>
                          </a:lnTo>
                          <a:lnTo>
                            <a:pt x="101" y="52"/>
                          </a:lnTo>
                          <a:lnTo>
                            <a:pt x="103" y="45"/>
                          </a:lnTo>
                          <a:lnTo>
                            <a:pt x="98" y="39"/>
                          </a:lnTo>
                          <a:lnTo>
                            <a:pt x="50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0" name=""/>
                  <p:cNvGrpSpPr/>
                  <p:nvPr/>
                </p:nvGrpSpPr>
                <p:grpSpPr>
                  <a:xfrm>
                    <a:off x="7939440" y="4257000"/>
                    <a:ext cx="25920" cy="27000"/>
                    <a:chOff x="7939440" y="4257000"/>
                    <a:chExt cx="25920" cy="27000"/>
                  </a:xfrm>
                </p:grpSpPr>
                <p:sp>
                  <p:nvSpPr>
                    <p:cNvPr id="1851" name=""/>
                    <p:cNvSpPr/>
                    <p:nvPr/>
                  </p:nvSpPr>
                  <p:spPr>
                    <a:xfrm>
                      <a:off x="7939440" y="426060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6"/>
                          </a:lnTo>
                          <a:lnTo>
                            <a:pt x="60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2" name=""/>
                    <p:cNvSpPr/>
                    <p:nvPr/>
                  </p:nvSpPr>
                  <p:spPr>
                    <a:xfrm>
                      <a:off x="7939440" y="426600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3">
                          <a:moveTo>
                            <a:pt x="2" y="10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3"/>
                          </a:lnTo>
                          <a:lnTo>
                            <a:pt x="11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3" name=""/>
                    <p:cNvSpPr/>
                    <p:nvPr/>
                  </p:nvSpPr>
                  <p:spPr>
                    <a:xfrm>
                      <a:off x="7961040" y="42645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8" y="10"/>
                          </a:moveTo>
                          <a:lnTo>
                            <a:pt x="22" y="15"/>
                          </a:lnTo>
                          <a:lnTo>
                            <a:pt x="22" y="29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8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4" name=""/>
                    <p:cNvSpPr/>
                    <p:nvPr/>
                  </p:nvSpPr>
                  <p:spPr>
                    <a:xfrm>
                      <a:off x="7940520" y="4257000"/>
                      <a:ext cx="244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00">
                          <a:moveTo>
                            <a:pt x="44" y="0"/>
                          </a:moveTo>
                          <a:lnTo>
                            <a:pt x="38" y="4"/>
                          </a:lnTo>
                          <a:lnTo>
                            <a:pt x="2" y="49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49" y="98"/>
                          </a:lnTo>
                          <a:lnTo>
                            <a:pt x="56" y="100"/>
                          </a:lnTo>
                          <a:lnTo>
                            <a:pt x="62" y="98"/>
                          </a:lnTo>
                          <a:lnTo>
                            <a:pt x="100" y="52"/>
                          </a:lnTo>
                          <a:lnTo>
                            <a:pt x="103" y="45"/>
                          </a:lnTo>
                          <a:lnTo>
                            <a:pt x="98" y="39"/>
                          </a:lnTo>
                          <a:lnTo>
                            <a:pt x="49" y="3"/>
                          </a:lnTo>
                          <a:lnTo>
                            <a:pt x="44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5" name=""/>
                  <p:cNvGrpSpPr/>
                  <p:nvPr/>
                </p:nvGrpSpPr>
                <p:grpSpPr>
                  <a:xfrm>
                    <a:off x="7957080" y="4268520"/>
                    <a:ext cx="25920" cy="27360"/>
                    <a:chOff x="7957080" y="4268520"/>
                    <a:chExt cx="25920" cy="27360"/>
                  </a:xfrm>
                </p:grpSpPr>
                <p:sp>
                  <p:nvSpPr>
                    <p:cNvPr id="1856" name=""/>
                    <p:cNvSpPr/>
                    <p:nvPr/>
                  </p:nvSpPr>
                  <p:spPr>
                    <a:xfrm>
                      <a:off x="7957080" y="427356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105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5"/>
                          </a:lnTo>
                          <a:lnTo>
                            <a:pt x="110" y="45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7" name=""/>
                    <p:cNvSpPr/>
                    <p:nvPr/>
                  </p:nvSpPr>
                  <p:spPr>
                    <a:xfrm>
                      <a:off x="7957080" y="42789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8" name=""/>
                    <p:cNvSpPr/>
                    <p:nvPr/>
                  </p:nvSpPr>
                  <p:spPr>
                    <a:xfrm>
                      <a:off x="7978680" y="427644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8" y="11"/>
                          </a:moveTo>
                          <a:lnTo>
                            <a:pt x="22" y="15"/>
                          </a:lnTo>
                          <a:lnTo>
                            <a:pt x="22" y="29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9" name=""/>
                    <p:cNvSpPr/>
                    <p:nvPr/>
                  </p:nvSpPr>
                  <p:spPr>
                    <a:xfrm>
                      <a:off x="7957080" y="426852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3"/>
                          </a:lnTo>
                          <a:lnTo>
                            <a:pt x="3" y="48"/>
                          </a:lnTo>
                          <a:lnTo>
                            <a:pt x="0" y="53"/>
                          </a:lnTo>
                          <a:lnTo>
                            <a:pt x="4" y="59"/>
                          </a:lnTo>
                          <a:lnTo>
                            <a:pt x="51" y="97"/>
                          </a:lnTo>
                          <a:lnTo>
                            <a:pt x="58" y="100"/>
                          </a:lnTo>
                          <a:lnTo>
                            <a:pt x="64" y="97"/>
                          </a:lnTo>
                          <a:lnTo>
                            <a:pt x="102" y="51"/>
                          </a:lnTo>
                          <a:lnTo>
                            <a:pt x="104" y="44"/>
                          </a:lnTo>
                          <a:lnTo>
                            <a:pt x="100" y="39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60" name=""/>
                  <p:cNvGrpSpPr/>
                  <p:nvPr/>
                </p:nvGrpSpPr>
                <p:grpSpPr>
                  <a:xfrm>
                    <a:off x="7974000" y="4282200"/>
                    <a:ext cx="26280" cy="25920"/>
                    <a:chOff x="7974000" y="4282200"/>
                    <a:chExt cx="26280" cy="25920"/>
                  </a:xfrm>
                </p:grpSpPr>
                <p:sp>
                  <p:nvSpPr>
                    <p:cNvPr id="1861" name=""/>
                    <p:cNvSpPr/>
                    <p:nvPr/>
                  </p:nvSpPr>
                  <p:spPr>
                    <a:xfrm>
                      <a:off x="7974000" y="4285800"/>
                      <a:ext cx="262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5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5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2" name=""/>
                    <p:cNvSpPr/>
                    <p:nvPr/>
                  </p:nvSpPr>
                  <p:spPr>
                    <a:xfrm>
                      <a:off x="7974000" y="4290840"/>
                      <a:ext cx="43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3" name=""/>
                    <p:cNvSpPr/>
                    <p:nvPr/>
                  </p:nvSpPr>
                  <p:spPr>
                    <a:xfrm>
                      <a:off x="7994160" y="428976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3">
                          <a:moveTo>
                            <a:pt x="18" y="11"/>
                          </a:moveTo>
                          <a:lnTo>
                            <a:pt x="21" y="16"/>
                          </a:lnTo>
                          <a:lnTo>
                            <a:pt x="21" y="30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4" name=""/>
                    <p:cNvSpPr/>
                    <p:nvPr/>
                  </p:nvSpPr>
                  <p:spPr>
                    <a:xfrm>
                      <a:off x="7974000" y="4282200"/>
                      <a:ext cx="2628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1" y="98"/>
                          </a:lnTo>
                          <a:lnTo>
                            <a:pt x="58" y="100"/>
                          </a:lnTo>
                          <a:lnTo>
                            <a:pt x="64" y="98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100" y="39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65" name=""/>
                  <p:cNvGrpSpPr/>
                  <p:nvPr/>
                </p:nvGrpSpPr>
                <p:grpSpPr>
                  <a:xfrm>
                    <a:off x="7990200" y="4293720"/>
                    <a:ext cx="27720" cy="25920"/>
                    <a:chOff x="7990200" y="4293720"/>
                    <a:chExt cx="27720" cy="25920"/>
                  </a:xfrm>
                </p:grpSpPr>
                <p:sp>
                  <p:nvSpPr>
                    <p:cNvPr id="1866" name=""/>
                    <p:cNvSpPr/>
                    <p:nvPr/>
                  </p:nvSpPr>
                  <p:spPr>
                    <a:xfrm>
                      <a:off x="7990200" y="4297680"/>
                      <a:ext cx="277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5">
                          <a:moveTo>
                            <a:pt x="48" y="0"/>
                          </a:moveTo>
                          <a:lnTo>
                            <a:pt x="0" y="54"/>
                          </a:lnTo>
                          <a:lnTo>
                            <a:pt x="61" y="105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7" name=""/>
                    <p:cNvSpPr/>
                    <p:nvPr/>
                  </p:nvSpPr>
                  <p:spPr>
                    <a:xfrm>
                      <a:off x="7990200" y="430272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2">
                          <a:moveTo>
                            <a:pt x="2" y="10"/>
                          </a:moveTo>
                          <a:lnTo>
                            <a:pt x="0" y="18"/>
                          </a:lnTo>
                          <a:lnTo>
                            <a:pt x="0" y="30"/>
                          </a:lnTo>
                          <a:lnTo>
                            <a:pt x="19" y="42"/>
                          </a:lnTo>
                          <a:lnTo>
                            <a:pt x="12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8" name=""/>
                    <p:cNvSpPr/>
                    <p:nvPr/>
                  </p:nvSpPr>
                  <p:spPr>
                    <a:xfrm>
                      <a:off x="8011800" y="430164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1">
                          <a:moveTo>
                            <a:pt x="18" y="10"/>
                          </a:moveTo>
                          <a:lnTo>
                            <a:pt x="21" y="15"/>
                          </a:lnTo>
                          <a:lnTo>
                            <a:pt x="21" y="29"/>
                          </a:lnTo>
                          <a:lnTo>
                            <a:pt x="0" y="41"/>
                          </a:lnTo>
                          <a:lnTo>
                            <a:pt x="7" y="0"/>
                          </a:lnTo>
                          <a:lnTo>
                            <a:pt x="18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9" name=""/>
                    <p:cNvSpPr/>
                    <p:nvPr/>
                  </p:nvSpPr>
                  <p:spPr>
                    <a:xfrm>
                      <a:off x="7991280" y="4293720"/>
                      <a:ext cx="2448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99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9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7"/>
                          </a:lnTo>
                          <a:lnTo>
                            <a:pt x="58" y="99"/>
                          </a:lnTo>
                          <a:lnTo>
                            <a:pt x="63" y="97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100" y="39"/>
                          </a:lnTo>
                          <a:lnTo>
                            <a:pt x="50" y="3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70" name=""/>
                  <p:cNvGrpSpPr/>
                  <p:nvPr/>
                </p:nvGrpSpPr>
                <p:grpSpPr>
                  <a:xfrm>
                    <a:off x="8007840" y="4305960"/>
                    <a:ext cx="25920" cy="27360"/>
                    <a:chOff x="8007840" y="4305960"/>
                    <a:chExt cx="25920" cy="27360"/>
                  </a:xfrm>
                </p:grpSpPr>
                <p:sp>
                  <p:nvSpPr>
                    <p:cNvPr id="1871" name=""/>
                    <p:cNvSpPr/>
                    <p:nvPr/>
                  </p:nvSpPr>
                  <p:spPr>
                    <a:xfrm>
                      <a:off x="8007840" y="430956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8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2" name=""/>
                    <p:cNvSpPr/>
                    <p:nvPr/>
                  </p:nvSpPr>
                  <p:spPr>
                    <a:xfrm>
                      <a:off x="8007840" y="43149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3">
                          <a:moveTo>
                            <a:pt x="2" y="10"/>
                          </a:moveTo>
                          <a:lnTo>
                            <a:pt x="0" y="19"/>
                          </a:lnTo>
                          <a:lnTo>
                            <a:pt x="0" y="31"/>
                          </a:lnTo>
                          <a:lnTo>
                            <a:pt x="19" y="43"/>
                          </a:lnTo>
                          <a:lnTo>
                            <a:pt x="11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3" name=""/>
                    <p:cNvSpPr/>
                    <p:nvPr/>
                  </p:nvSpPr>
                  <p:spPr>
                    <a:xfrm>
                      <a:off x="8029440" y="43135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2">
                          <a:moveTo>
                            <a:pt x="17" y="10"/>
                          </a:moveTo>
                          <a:lnTo>
                            <a:pt x="20" y="15"/>
                          </a:lnTo>
                          <a:lnTo>
                            <a:pt x="20" y="29"/>
                          </a:lnTo>
                          <a:lnTo>
                            <a:pt x="0" y="42"/>
                          </a:lnTo>
                          <a:lnTo>
                            <a:pt x="6" y="0"/>
                          </a:lnTo>
                          <a:lnTo>
                            <a:pt x="17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4" name=""/>
                    <p:cNvSpPr/>
                    <p:nvPr/>
                  </p:nvSpPr>
                  <p:spPr>
                    <a:xfrm>
                      <a:off x="8008920" y="4305960"/>
                      <a:ext cx="244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98">
                          <a:moveTo>
                            <a:pt x="45" y="0"/>
                          </a:moveTo>
                          <a:lnTo>
                            <a:pt x="40" y="3"/>
                          </a:lnTo>
                          <a:lnTo>
                            <a:pt x="2" y="47"/>
                          </a:lnTo>
                          <a:lnTo>
                            <a:pt x="0" y="51"/>
                          </a:lnTo>
                          <a:lnTo>
                            <a:pt x="3" y="57"/>
                          </a:lnTo>
                          <a:lnTo>
                            <a:pt x="50" y="96"/>
                          </a:lnTo>
                          <a:lnTo>
                            <a:pt x="58" y="98"/>
                          </a:lnTo>
                          <a:lnTo>
                            <a:pt x="63" y="96"/>
                          </a:lnTo>
                          <a:lnTo>
                            <a:pt x="101" y="50"/>
                          </a:lnTo>
                          <a:lnTo>
                            <a:pt x="103" y="43"/>
                          </a:lnTo>
                          <a:lnTo>
                            <a:pt x="99" y="37"/>
                          </a:lnTo>
                          <a:lnTo>
                            <a:pt x="50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75" name=""/>
                  <p:cNvGrpSpPr/>
                  <p:nvPr/>
                </p:nvGrpSpPr>
                <p:grpSpPr>
                  <a:xfrm>
                    <a:off x="8025480" y="4317840"/>
                    <a:ext cx="25920" cy="27000"/>
                    <a:chOff x="8025480" y="4317840"/>
                    <a:chExt cx="25920" cy="27000"/>
                  </a:xfrm>
                </p:grpSpPr>
                <p:sp>
                  <p:nvSpPr>
                    <p:cNvPr id="1876" name=""/>
                    <p:cNvSpPr/>
                    <p:nvPr/>
                  </p:nvSpPr>
                  <p:spPr>
                    <a:xfrm>
                      <a:off x="8025480" y="432144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7" name=""/>
                    <p:cNvSpPr/>
                    <p:nvPr/>
                  </p:nvSpPr>
                  <p:spPr>
                    <a:xfrm>
                      <a:off x="8025480" y="432684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4">
                          <a:moveTo>
                            <a:pt x="3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20" y="44"/>
                          </a:lnTo>
                          <a:lnTo>
                            <a:pt x="12" y="0"/>
                          </a:lnTo>
                          <a:lnTo>
                            <a:pt x="3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8" name=""/>
                    <p:cNvSpPr/>
                    <p:nvPr/>
                  </p:nvSpPr>
                  <p:spPr>
                    <a:xfrm>
                      <a:off x="8047080" y="432540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9" y="11"/>
                          </a:moveTo>
                          <a:lnTo>
                            <a:pt x="22" y="15"/>
                          </a:lnTo>
                          <a:lnTo>
                            <a:pt x="22" y="30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9" name=""/>
                    <p:cNvSpPr/>
                    <p:nvPr/>
                  </p:nvSpPr>
                  <p:spPr>
                    <a:xfrm>
                      <a:off x="8026560" y="4317840"/>
                      <a:ext cx="244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00">
                          <a:moveTo>
                            <a:pt x="44" y="0"/>
                          </a:moveTo>
                          <a:lnTo>
                            <a:pt x="38" y="3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49" y="97"/>
                          </a:lnTo>
                          <a:lnTo>
                            <a:pt x="57" y="100"/>
                          </a:lnTo>
                          <a:lnTo>
                            <a:pt x="62" y="97"/>
                          </a:lnTo>
                          <a:lnTo>
                            <a:pt x="101" y="52"/>
                          </a:lnTo>
                          <a:lnTo>
                            <a:pt x="103" y="45"/>
                          </a:lnTo>
                          <a:lnTo>
                            <a:pt x="98" y="39"/>
                          </a:lnTo>
                          <a:lnTo>
                            <a:pt x="49" y="2"/>
                          </a:lnTo>
                          <a:lnTo>
                            <a:pt x="44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0" name=""/>
                  <p:cNvGrpSpPr/>
                  <p:nvPr/>
                </p:nvGrpSpPr>
                <p:grpSpPr>
                  <a:xfrm>
                    <a:off x="8042760" y="4331160"/>
                    <a:ext cx="25920" cy="27000"/>
                    <a:chOff x="8042760" y="4331160"/>
                    <a:chExt cx="25920" cy="27000"/>
                  </a:xfrm>
                </p:grpSpPr>
                <p:sp>
                  <p:nvSpPr>
                    <p:cNvPr id="1881" name=""/>
                    <p:cNvSpPr/>
                    <p:nvPr/>
                  </p:nvSpPr>
                  <p:spPr>
                    <a:xfrm>
                      <a:off x="8042760" y="433476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106">
                          <a:moveTo>
                            <a:pt x="49" y="0"/>
                          </a:moveTo>
                          <a:lnTo>
                            <a:pt x="0" y="55"/>
                          </a:lnTo>
                          <a:lnTo>
                            <a:pt x="62" y="106"/>
                          </a:lnTo>
                          <a:lnTo>
                            <a:pt x="110" y="46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2" name=""/>
                    <p:cNvSpPr/>
                    <p:nvPr/>
                  </p:nvSpPr>
                  <p:spPr>
                    <a:xfrm>
                      <a:off x="8042760" y="434016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3">
                          <a:moveTo>
                            <a:pt x="2" y="10"/>
                          </a:moveTo>
                          <a:lnTo>
                            <a:pt x="0" y="18"/>
                          </a:lnTo>
                          <a:lnTo>
                            <a:pt x="0" y="31"/>
                          </a:lnTo>
                          <a:lnTo>
                            <a:pt x="20" y="43"/>
                          </a:lnTo>
                          <a:lnTo>
                            <a:pt x="12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3" name=""/>
                    <p:cNvSpPr/>
                    <p:nvPr/>
                  </p:nvSpPr>
                  <p:spPr>
                    <a:xfrm>
                      <a:off x="8064360" y="43387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9" y="10"/>
                          </a:moveTo>
                          <a:lnTo>
                            <a:pt x="22" y="15"/>
                          </a:lnTo>
                          <a:lnTo>
                            <a:pt x="22" y="29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4" name=""/>
                    <p:cNvSpPr/>
                    <p:nvPr/>
                  </p:nvSpPr>
                  <p:spPr>
                    <a:xfrm>
                      <a:off x="8042760" y="4331160"/>
                      <a:ext cx="2592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39" y="4"/>
                          </a:lnTo>
                          <a:lnTo>
                            <a:pt x="2" y="49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8"/>
                          </a:lnTo>
                          <a:lnTo>
                            <a:pt x="58" y="100"/>
                          </a:lnTo>
                          <a:lnTo>
                            <a:pt x="63" y="98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99" y="39"/>
                          </a:lnTo>
                          <a:lnTo>
                            <a:pt x="50" y="3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85" name=""/>
                <p:cNvGrpSpPr/>
                <p:nvPr/>
              </p:nvGrpSpPr>
              <p:grpSpPr>
                <a:xfrm>
                  <a:off x="8060760" y="4343040"/>
                  <a:ext cx="96840" cy="79920"/>
                  <a:chOff x="8060760" y="4343040"/>
                  <a:chExt cx="96840" cy="79920"/>
                </a:xfrm>
              </p:grpSpPr>
              <p:grpSp>
                <p:nvGrpSpPr>
                  <p:cNvPr id="1886" name=""/>
                  <p:cNvGrpSpPr/>
                  <p:nvPr/>
                </p:nvGrpSpPr>
                <p:grpSpPr>
                  <a:xfrm>
                    <a:off x="8060760" y="4343040"/>
                    <a:ext cx="27000" cy="28440"/>
                    <a:chOff x="8060760" y="4343040"/>
                    <a:chExt cx="27000" cy="28440"/>
                  </a:xfrm>
                </p:grpSpPr>
                <p:sp>
                  <p:nvSpPr>
                    <p:cNvPr id="1887" name=""/>
                    <p:cNvSpPr/>
                    <p:nvPr/>
                  </p:nvSpPr>
                  <p:spPr>
                    <a:xfrm>
                      <a:off x="8060760" y="4347000"/>
                      <a:ext cx="2700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49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8" name=""/>
                    <p:cNvSpPr/>
                    <p:nvPr/>
                  </p:nvSpPr>
                  <p:spPr>
                    <a:xfrm>
                      <a:off x="8060760" y="435348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3" y="12"/>
                          </a:moveTo>
                          <a:lnTo>
                            <a:pt x="0" y="19"/>
                          </a:lnTo>
                          <a:lnTo>
                            <a:pt x="0" y="33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9" name=""/>
                    <p:cNvSpPr/>
                    <p:nvPr/>
                  </p:nvSpPr>
                  <p:spPr>
                    <a:xfrm>
                      <a:off x="8082000" y="4350960"/>
                      <a:ext cx="540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5">
                          <a:moveTo>
                            <a:pt x="18" y="12"/>
                          </a:moveTo>
                          <a:lnTo>
                            <a:pt x="22" y="17"/>
                          </a:lnTo>
                          <a:lnTo>
                            <a:pt x="22" y="32"/>
                          </a:lnTo>
                          <a:lnTo>
                            <a:pt x="0" y="45"/>
                          </a:lnTo>
                          <a:lnTo>
                            <a:pt x="7" y="0"/>
                          </a:lnTo>
                          <a:lnTo>
                            <a:pt x="18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0" name=""/>
                    <p:cNvSpPr/>
                    <p:nvPr/>
                  </p:nvSpPr>
                  <p:spPr>
                    <a:xfrm>
                      <a:off x="8061840" y="4343040"/>
                      <a:ext cx="241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4">
                          <a:moveTo>
                            <a:pt x="45" y="0"/>
                          </a:moveTo>
                          <a:lnTo>
                            <a:pt x="39" y="3"/>
                          </a:lnTo>
                          <a:lnTo>
                            <a:pt x="2" y="50"/>
                          </a:lnTo>
                          <a:lnTo>
                            <a:pt x="0" y="55"/>
                          </a:lnTo>
                          <a:lnTo>
                            <a:pt x="3" y="61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1" y="41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1" name=""/>
                  <p:cNvGrpSpPr/>
                  <p:nvPr/>
                </p:nvGrpSpPr>
                <p:grpSpPr>
                  <a:xfrm>
                    <a:off x="8079480" y="4356360"/>
                    <a:ext cx="25920" cy="28440"/>
                    <a:chOff x="8079480" y="4356360"/>
                    <a:chExt cx="25920" cy="28440"/>
                  </a:xfrm>
                </p:grpSpPr>
                <p:sp>
                  <p:nvSpPr>
                    <p:cNvPr id="1892" name=""/>
                    <p:cNvSpPr/>
                    <p:nvPr/>
                  </p:nvSpPr>
                  <p:spPr>
                    <a:xfrm>
                      <a:off x="8079480" y="4359960"/>
                      <a:ext cx="259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3" name=""/>
                    <p:cNvSpPr/>
                    <p:nvPr/>
                  </p:nvSpPr>
                  <p:spPr>
                    <a:xfrm>
                      <a:off x="8079480" y="4365000"/>
                      <a:ext cx="396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6">
                          <a:moveTo>
                            <a:pt x="3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0" y="46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4" name=""/>
                    <p:cNvSpPr/>
                    <p:nvPr/>
                  </p:nvSpPr>
                  <p:spPr>
                    <a:xfrm>
                      <a:off x="8099640" y="436392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4">
                          <a:moveTo>
                            <a:pt x="19" y="11"/>
                          </a:moveTo>
                          <a:lnTo>
                            <a:pt x="22" y="16"/>
                          </a:lnTo>
                          <a:lnTo>
                            <a:pt x="22" y="31"/>
                          </a:lnTo>
                          <a:lnTo>
                            <a:pt x="0" y="44"/>
                          </a:lnTo>
                          <a:lnTo>
                            <a:pt x="7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5" name=""/>
                    <p:cNvSpPr/>
                    <p:nvPr/>
                  </p:nvSpPr>
                  <p:spPr>
                    <a:xfrm>
                      <a:off x="8079480" y="4356360"/>
                      <a:ext cx="25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04">
                          <a:moveTo>
                            <a:pt x="46" y="0"/>
                          </a:moveTo>
                          <a:lnTo>
                            <a:pt x="40" y="3"/>
                          </a:lnTo>
                          <a:lnTo>
                            <a:pt x="2" y="50"/>
                          </a:lnTo>
                          <a:lnTo>
                            <a:pt x="0" y="55"/>
                          </a:lnTo>
                          <a:lnTo>
                            <a:pt x="3" y="62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4" y="54"/>
                          </a:lnTo>
                          <a:lnTo>
                            <a:pt x="106" y="47"/>
                          </a:lnTo>
                          <a:lnTo>
                            <a:pt x="102" y="41"/>
                          </a:lnTo>
                          <a:lnTo>
                            <a:pt x="51" y="2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6" name=""/>
                  <p:cNvGrpSpPr/>
                  <p:nvPr/>
                </p:nvGrpSpPr>
                <p:grpSpPr>
                  <a:xfrm>
                    <a:off x="8096760" y="4369680"/>
                    <a:ext cx="25920" cy="27000"/>
                    <a:chOff x="8096760" y="4369680"/>
                    <a:chExt cx="25920" cy="27000"/>
                  </a:xfrm>
                </p:grpSpPr>
                <p:sp>
                  <p:nvSpPr>
                    <p:cNvPr id="1897" name=""/>
                    <p:cNvSpPr/>
                    <p:nvPr/>
                  </p:nvSpPr>
                  <p:spPr>
                    <a:xfrm>
                      <a:off x="8096760" y="437328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11">
                          <a:moveTo>
                            <a:pt x="50" y="0"/>
                          </a:moveTo>
                          <a:lnTo>
                            <a:pt x="0" y="58"/>
                          </a:lnTo>
                          <a:lnTo>
                            <a:pt x="63" y="111"/>
                          </a:lnTo>
                          <a:lnTo>
                            <a:pt x="111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8" name=""/>
                    <p:cNvSpPr/>
                    <p:nvPr/>
                  </p:nvSpPr>
                  <p:spPr>
                    <a:xfrm>
                      <a:off x="8096760" y="4378320"/>
                      <a:ext cx="396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6">
                          <a:moveTo>
                            <a:pt x="3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0" y="46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9" name=""/>
                    <p:cNvSpPr/>
                    <p:nvPr/>
                  </p:nvSpPr>
                  <p:spPr>
                    <a:xfrm>
                      <a:off x="8116920" y="437724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0"/>
                          </a:moveTo>
                          <a:lnTo>
                            <a:pt x="22" y="15"/>
                          </a:lnTo>
                          <a:lnTo>
                            <a:pt x="22" y="30"/>
                          </a:lnTo>
                          <a:lnTo>
                            <a:pt x="0" y="43"/>
                          </a:lnTo>
                          <a:lnTo>
                            <a:pt x="9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0" name=""/>
                    <p:cNvSpPr/>
                    <p:nvPr/>
                  </p:nvSpPr>
                  <p:spPr>
                    <a:xfrm>
                      <a:off x="8096760" y="436968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5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51"/>
                          </a:lnTo>
                          <a:lnTo>
                            <a:pt x="0" y="56"/>
                          </a:lnTo>
                          <a:lnTo>
                            <a:pt x="3" y="63"/>
                          </a:lnTo>
                          <a:lnTo>
                            <a:pt x="51" y="103"/>
                          </a:lnTo>
                          <a:lnTo>
                            <a:pt x="59" y="105"/>
                          </a:lnTo>
                          <a:lnTo>
                            <a:pt x="64" y="103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0" y="41"/>
                          </a:lnTo>
                          <a:lnTo>
                            <a:pt x="51" y="3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01" name=""/>
                  <p:cNvGrpSpPr/>
                  <p:nvPr/>
                </p:nvGrpSpPr>
                <p:grpSpPr>
                  <a:xfrm>
                    <a:off x="8114400" y="4381200"/>
                    <a:ext cx="25920" cy="28440"/>
                    <a:chOff x="8114400" y="4381200"/>
                    <a:chExt cx="25920" cy="28440"/>
                  </a:xfrm>
                </p:grpSpPr>
                <p:sp>
                  <p:nvSpPr>
                    <p:cNvPr id="1902" name=""/>
                    <p:cNvSpPr/>
                    <p:nvPr/>
                  </p:nvSpPr>
                  <p:spPr>
                    <a:xfrm>
                      <a:off x="8114400" y="438624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9">
                          <a:moveTo>
                            <a:pt x="49" y="0"/>
                          </a:moveTo>
                          <a:lnTo>
                            <a:pt x="0" y="58"/>
                          </a:lnTo>
                          <a:lnTo>
                            <a:pt x="62" y="109"/>
                          </a:lnTo>
                          <a:lnTo>
                            <a:pt x="111" y="48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3" name=""/>
                    <p:cNvSpPr/>
                    <p:nvPr/>
                  </p:nvSpPr>
                  <p:spPr>
                    <a:xfrm>
                      <a:off x="8114400" y="439164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6">
                          <a:moveTo>
                            <a:pt x="2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1" y="46"/>
                          </a:lnTo>
                          <a:lnTo>
                            <a:pt x="12" y="0"/>
                          </a:lnTo>
                          <a:lnTo>
                            <a:pt x="2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4" name=""/>
                    <p:cNvSpPr/>
                    <p:nvPr/>
                  </p:nvSpPr>
                  <p:spPr>
                    <a:xfrm>
                      <a:off x="8136000" y="439020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0"/>
                          </a:moveTo>
                          <a:lnTo>
                            <a:pt x="22" y="15"/>
                          </a:lnTo>
                          <a:lnTo>
                            <a:pt x="22" y="30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5" name=""/>
                    <p:cNvSpPr/>
                    <p:nvPr/>
                  </p:nvSpPr>
                  <p:spPr>
                    <a:xfrm>
                      <a:off x="8114400" y="438120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5">
                          <a:moveTo>
                            <a:pt x="45" y="0"/>
                          </a:moveTo>
                          <a:lnTo>
                            <a:pt x="39" y="5"/>
                          </a:lnTo>
                          <a:lnTo>
                            <a:pt x="2" y="51"/>
                          </a:lnTo>
                          <a:lnTo>
                            <a:pt x="0" y="57"/>
                          </a:lnTo>
                          <a:lnTo>
                            <a:pt x="3" y="62"/>
                          </a:lnTo>
                          <a:lnTo>
                            <a:pt x="50" y="102"/>
                          </a:lnTo>
                          <a:lnTo>
                            <a:pt x="58" y="105"/>
                          </a:lnTo>
                          <a:lnTo>
                            <a:pt x="63" y="102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0" y="41"/>
                          </a:lnTo>
                          <a:lnTo>
                            <a:pt x="50" y="4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06" name=""/>
                  <p:cNvGrpSpPr/>
                  <p:nvPr/>
                </p:nvGrpSpPr>
                <p:grpSpPr>
                  <a:xfrm>
                    <a:off x="8131680" y="4394520"/>
                    <a:ext cx="25920" cy="28440"/>
                    <a:chOff x="8131680" y="4394520"/>
                    <a:chExt cx="25920" cy="28440"/>
                  </a:xfrm>
                </p:grpSpPr>
                <p:sp>
                  <p:nvSpPr>
                    <p:cNvPr id="1907" name=""/>
                    <p:cNvSpPr/>
                    <p:nvPr/>
                  </p:nvSpPr>
                  <p:spPr>
                    <a:xfrm>
                      <a:off x="8131680" y="4398480"/>
                      <a:ext cx="2592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09">
                          <a:moveTo>
                            <a:pt x="50" y="0"/>
                          </a:moveTo>
                          <a:lnTo>
                            <a:pt x="0" y="56"/>
                          </a:lnTo>
                          <a:lnTo>
                            <a:pt x="62" y="109"/>
                          </a:lnTo>
                          <a:lnTo>
                            <a:pt x="112" y="47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8" name=""/>
                    <p:cNvSpPr/>
                    <p:nvPr/>
                  </p:nvSpPr>
                  <p:spPr>
                    <a:xfrm>
                      <a:off x="8131680" y="44049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4">
                          <a:moveTo>
                            <a:pt x="2" y="11"/>
                          </a:moveTo>
                          <a:lnTo>
                            <a:pt x="0" y="18"/>
                          </a:lnTo>
                          <a:lnTo>
                            <a:pt x="0" y="31"/>
                          </a:lnTo>
                          <a:lnTo>
                            <a:pt x="21" y="44"/>
                          </a:lnTo>
                          <a:lnTo>
                            <a:pt x="13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9" name=""/>
                    <p:cNvSpPr/>
                    <p:nvPr/>
                  </p:nvSpPr>
                  <p:spPr>
                    <a:xfrm>
                      <a:off x="8153280" y="440244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0"/>
                          </a:moveTo>
                          <a:lnTo>
                            <a:pt x="22" y="16"/>
                          </a:lnTo>
                          <a:lnTo>
                            <a:pt x="22" y="29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0" name=""/>
                    <p:cNvSpPr/>
                    <p:nvPr/>
                  </p:nvSpPr>
                  <p:spPr>
                    <a:xfrm>
                      <a:off x="8131680" y="4394520"/>
                      <a:ext cx="25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102">
                          <a:moveTo>
                            <a:pt x="47" y="0"/>
                          </a:moveTo>
                          <a:lnTo>
                            <a:pt x="41" y="4"/>
                          </a:lnTo>
                          <a:lnTo>
                            <a:pt x="3" y="49"/>
                          </a:lnTo>
                          <a:lnTo>
                            <a:pt x="0" y="54"/>
                          </a:lnTo>
                          <a:lnTo>
                            <a:pt x="4" y="60"/>
                          </a:lnTo>
                          <a:lnTo>
                            <a:pt x="52" y="100"/>
                          </a:lnTo>
                          <a:lnTo>
                            <a:pt x="59" y="102"/>
                          </a:lnTo>
                          <a:lnTo>
                            <a:pt x="65" y="100"/>
                          </a:lnTo>
                          <a:lnTo>
                            <a:pt x="105" y="54"/>
                          </a:lnTo>
                          <a:lnTo>
                            <a:pt x="107" y="46"/>
                          </a:lnTo>
                          <a:lnTo>
                            <a:pt x="102" y="40"/>
                          </a:lnTo>
                          <a:lnTo>
                            <a:pt x="52" y="2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11" name=""/>
                <p:cNvSpPr/>
                <p:nvPr/>
              </p:nvSpPr>
              <p:spPr>
                <a:xfrm>
                  <a:off x="8050320" y="436824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2" h="111">
                      <a:moveTo>
                        <a:pt x="49" y="0"/>
                      </a:moveTo>
                      <a:lnTo>
                        <a:pt x="0" y="58"/>
                      </a:lnTo>
                      <a:lnTo>
                        <a:pt x="63" y="111"/>
                      </a:lnTo>
                      <a:lnTo>
                        <a:pt x="112" y="48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8050320" y="437364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4">
                      <a:moveTo>
                        <a:pt x="3" y="12"/>
                      </a:moveTo>
                      <a:lnTo>
                        <a:pt x="0" y="19"/>
                      </a:lnTo>
                      <a:lnTo>
                        <a:pt x="0" y="33"/>
                      </a:lnTo>
                      <a:lnTo>
                        <a:pt x="20" y="44"/>
                      </a:lnTo>
                      <a:lnTo>
                        <a:pt x="12" y="0"/>
                      </a:lnTo>
                      <a:lnTo>
                        <a:pt x="3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8072280" y="43722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23" h="44">
                      <a:moveTo>
                        <a:pt x="19" y="11"/>
                      </a:moveTo>
                      <a:lnTo>
                        <a:pt x="23" y="16"/>
                      </a:lnTo>
                      <a:lnTo>
                        <a:pt x="23" y="31"/>
                      </a:lnTo>
                      <a:lnTo>
                        <a:pt x="0" y="44"/>
                      </a:lnTo>
                      <a:lnTo>
                        <a:pt x="8" y="0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8050320" y="436428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5" h="105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51"/>
                      </a:lnTo>
                      <a:lnTo>
                        <a:pt x="0" y="55"/>
                      </a:lnTo>
                      <a:lnTo>
                        <a:pt x="3" y="61"/>
                      </a:lnTo>
                      <a:lnTo>
                        <a:pt x="51" y="102"/>
                      </a:lnTo>
                      <a:lnTo>
                        <a:pt x="59" y="105"/>
                      </a:lnTo>
                      <a:lnTo>
                        <a:pt x="64" y="102"/>
                      </a:lnTo>
                      <a:lnTo>
                        <a:pt x="103" y="54"/>
                      </a:lnTo>
                      <a:lnTo>
                        <a:pt x="105" y="47"/>
                      </a:lnTo>
                      <a:lnTo>
                        <a:pt x="100" y="41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8067960" y="4381560"/>
                  <a:ext cx="27360" cy="25200"/>
                </a:xfrm>
                <a:custGeom>
                  <a:avLst/>
                  <a:gdLst/>
                  <a:ahLst/>
                  <a:rect l="l" t="t" r="r" b="b"/>
                  <a:pathLst>
                    <a:path w="112" h="110">
                      <a:moveTo>
                        <a:pt x="50" y="0"/>
                      </a:moveTo>
                      <a:lnTo>
                        <a:pt x="0" y="58"/>
                      </a:lnTo>
                      <a:lnTo>
                        <a:pt x="63" y="110"/>
                      </a:lnTo>
                      <a:lnTo>
                        <a:pt x="112" y="48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8067960" y="438696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5">
                      <a:moveTo>
                        <a:pt x="3" y="11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20" y="45"/>
                      </a:lnTo>
                      <a:lnTo>
                        <a:pt x="12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8089560" y="438552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3" h="43">
                      <a:moveTo>
                        <a:pt x="20" y="10"/>
                      </a:moveTo>
                      <a:lnTo>
                        <a:pt x="23" y="15"/>
                      </a:lnTo>
                      <a:lnTo>
                        <a:pt x="23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20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8069400" y="437760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6" h="105">
                      <a:moveTo>
                        <a:pt x="46" y="0"/>
                      </a:moveTo>
                      <a:lnTo>
                        <a:pt x="40" y="3"/>
                      </a:lnTo>
                      <a:lnTo>
                        <a:pt x="2" y="50"/>
                      </a:lnTo>
                      <a:lnTo>
                        <a:pt x="0" y="55"/>
                      </a:lnTo>
                      <a:lnTo>
                        <a:pt x="3" y="62"/>
                      </a:lnTo>
                      <a:lnTo>
                        <a:pt x="51" y="102"/>
                      </a:lnTo>
                      <a:lnTo>
                        <a:pt x="59" y="105"/>
                      </a:lnTo>
                      <a:lnTo>
                        <a:pt x="64" y="102"/>
                      </a:lnTo>
                      <a:lnTo>
                        <a:pt x="104" y="54"/>
                      </a:lnTo>
                      <a:lnTo>
                        <a:pt x="106" y="47"/>
                      </a:lnTo>
                      <a:lnTo>
                        <a:pt x="102" y="41"/>
                      </a:lnTo>
                      <a:lnTo>
                        <a:pt x="51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8085600" y="4394880"/>
                  <a:ext cx="27360" cy="23760"/>
                </a:xfrm>
                <a:custGeom>
                  <a:avLst/>
                  <a:gdLst/>
                  <a:ahLst/>
                  <a:rect l="l" t="t" r="r" b="b"/>
                  <a:pathLst>
                    <a:path w="112" h="109">
                      <a:moveTo>
                        <a:pt x="50" y="0"/>
                      </a:moveTo>
                      <a:lnTo>
                        <a:pt x="0" y="57"/>
                      </a:lnTo>
                      <a:lnTo>
                        <a:pt x="63" y="109"/>
                      </a:lnTo>
                      <a:lnTo>
                        <a:pt x="112" y="48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8085600" y="44002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5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20" y="45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8107200" y="43988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3" h="43">
                      <a:moveTo>
                        <a:pt x="20" y="11"/>
                      </a:moveTo>
                      <a:lnTo>
                        <a:pt x="23" y="15"/>
                      </a:lnTo>
                      <a:lnTo>
                        <a:pt x="23" y="31"/>
                      </a:lnTo>
                      <a:lnTo>
                        <a:pt x="0" y="43"/>
                      </a:lnTo>
                      <a:lnTo>
                        <a:pt x="9" y="0"/>
                      </a:lnTo>
                      <a:lnTo>
                        <a:pt x="20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8086680" y="4389480"/>
                  <a:ext cx="24480" cy="23400"/>
                </a:xfrm>
                <a:custGeom>
                  <a:avLst/>
                  <a:gdLst/>
                  <a:ahLst/>
                  <a:rect l="l" t="t" r="r" b="b"/>
                  <a:pathLst>
                    <a:path w="107" h="103">
                      <a:moveTo>
                        <a:pt x="47" y="0"/>
                      </a:moveTo>
                      <a:lnTo>
                        <a:pt x="41" y="3"/>
                      </a:lnTo>
                      <a:lnTo>
                        <a:pt x="3" y="50"/>
                      </a:lnTo>
                      <a:lnTo>
                        <a:pt x="0" y="55"/>
                      </a:lnTo>
                      <a:lnTo>
                        <a:pt x="4" y="62"/>
                      </a:lnTo>
                      <a:lnTo>
                        <a:pt x="52" y="101"/>
                      </a:lnTo>
                      <a:lnTo>
                        <a:pt x="60" y="103"/>
                      </a:lnTo>
                      <a:lnTo>
                        <a:pt x="65" y="101"/>
                      </a:lnTo>
                      <a:lnTo>
                        <a:pt x="105" y="54"/>
                      </a:lnTo>
                      <a:lnTo>
                        <a:pt x="107" y="47"/>
                      </a:lnTo>
                      <a:lnTo>
                        <a:pt x="102" y="41"/>
                      </a:lnTo>
                      <a:lnTo>
                        <a:pt x="52" y="2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8102880" y="4408200"/>
                  <a:ext cx="27360" cy="23400"/>
                </a:xfrm>
                <a:custGeom>
                  <a:avLst/>
                  <a:gdLst/>
                  <a:ahLst/>
                  <a:rect l="l" t="t" r="r" b="b"/>
                  <a:pathLst>
                    <a:path w="111" h="110">
                      <a:moveTo>
                        <a:pt x="50" y="0"/>
                      </a:moveTo>
                      <a:lnTo>
                        <a:pt x="0" y="57"/>
                      </a:lnTo>
                      <a:lnTo>
                        <a:pt x="63" y="110"/>
                      </a:lnTo>
                      <a:lnTo>
                        <a:pt x="111" y="47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8102880" y="4412160"/>
                  <a:ext cx="5400" cy="10440"/>
                </a:xfrm>
                <a:custGeom>
                  <a:avLst/>
                  <a:gdLst/>
                  <a:ahLst/>
                  <a:rect l="l" t="t" r="r" b="b"/>
                  <a:pathLst>
                    <a:path w="21" h="46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21" y="46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8124840" y="441072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9" y="10"/>
                      </a:moveTo>
                      <a:lnTo>
                        <a:pt x="22" y="15"/>
                      </a:lnTo>
                      <a:lnTo>
                        <a:pt x="22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8104320" y="440280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6" h="104">
                      <a:moveTo>
                        <a:pt x="47" y="0"/>
                      </a:moveTo>
                      <a:lnTo>
                        <a:pt x="41" y="5"/>
                      </a:lnTo>
                      <a:lnTo>
                        <a:pt x="3" y="50"/>
                      </a:lnTo>
                      <a:lnTo>
                        <a:pt x="0" y="56"/>
                      </a:lnTo>
                      <a:lnTo>
                        <a:pt x="4" y="61"/>
                      </a:lnTo>
                      <a:lnTo>
                        <a:pt x="52" y="101"/>
                      </a:lnTo>
                      <a:lnTo>
                        <a:pt x="60" y="104"/>
                      </a:lnTo>
                      <a:lnTo>
                        <a:pt x="65" y="101"/>
                      </a:lnTo>
                      <a:lnTo>
                        <a:pt x="104" y="53"/>
                      </a:lnTo>
                      <a:lnTo>
                        <a:pt x="106" y="46"/>
                      </a:lnTo>
                      <a:lnTo>
                        <a:pt x="101" y="40"/>
                      </a:lnTo>
                      <a:lnTo>
                        <a:pt x="52" y="4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8120160" y="442008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1" h="111">
                      <a:moveTo>
                        <a:pt x="48" y="0"/>
                      </a:moveTo>
                      <a:lnTo>
                        <a:pt x="0" y="58"/>
                      </a:lnTo>
                      <a:lnTo>
                        <a:pt x="61" y="111"/>
                      </a:lnTo>
                      <a:lnTo>
                        <a:pt x="111" y="4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8120160" y="4425480"/>
                  <a:ext cx="4320" cy="10440"/>
                </a:xfrm>
                <a:custGeom>
                  <a:avLst/>
                  <a:gdLst/>
                  <a:ahLst/>
                  <a:rect l="l" t="t" r="r" b="b"/>
                  <a:pathLst>
                    <a:path w="19" h="46">
                      <a:moveTo>
                        <a:pt x="1" y="11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19" y="46"/>
                      </a:lnTo>
                      <a:lnTo>
                        <a:pt x="12" y="0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8142120" y="442404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8" y="10"/>
                      </a:moveTo>
                      <a:lnTo>
                        <a:pt x="22" y="16"/>
                      </a:lnTo>
                      <a:lnTo>
                        <a:pt x="22" y="30"/>
                      </a:lnTo>
                      <a:lnTo>
                        <a:pt x="0" y="44"/>
                      </a:lnTo>
                      <a:lnTo>
                        <a:pt x="8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8121600" y="44161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7" h="104">
                      <a:moveTo>
                        <a:pt x="46" y="0"/>
                      </a:moveTo>
                      <a:lnTo>
                        <a:pt x="41" y="4"/>
                      </a:lnTo>
                      <a:lnTo>
                        <a:pt x="2" y="50"/>
                      </a:lnTo>
                      <a:lnTo>
                        <a:pt x="0" y="55"/>
                      </a:lnTo>
                      <a:lnTo>
                        <a:pt x="4" y="61"/>
                      </a:lnTo>
                      <a:lnTo>
                        <a:pt x="52" y="101"/>
                      </a:lnTo>
                      <a:lnTo>
                        <a:pt x="59" y="104"/>
                      </a:lnTo>
                      <a:lnTo>
                        <a:pt x="65" y="101"/>
                      </a:lnTo>
                      <a:lnTo>
                        <a:pt x="104" y="54"/>
                      </a:lnTo>
                      <a:lnTo>
                        <a:pt x="107" y="46"/>
                      </a:lnTo>
                      <a:lnTo>
                        <a:pt x="102" y="40"/>
                      </a:lnTo>
                      <a:lnTo>
                        <a:pt x="52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7834680" y="421200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48" y="0"/>
                      </a:moveTo>
                      <a:lnTo>
                        <a:pt x="0" y="58"/>
                      </a:lnTo>
                      <a:lnTo>
                        <a:pt x="62" y="110"/>
                      </a:lnTo>
                      <a:lnTo>
                        <a:pt x="110" y="4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7834680" y="421740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8"/>
                      </a:lnTo>
                      <a:lnTo>
                        <a:pt x="0" y="33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7856640" y="421596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22" h="45">
                      <a:moveTo>
                        <a:pt x="18" y="12"/>
                      </a:moveTo>
                      <a:lnTo>
                        <a:pt x="22" y="17"/>
                      </a:lnTo>
                      <a:lnTo>
                        <a:pt x="22" y="32"/>
                      </a:lnTo>
                      <a:lnTo>
                        <a:pt x="0" y="45"/>
                      </a:lnTo>
                      <a:lnTo>
                        <a:pt x="7" y="0"/>
                      </a:lnTo>
                      <a:lnTo>
                        <a:pt x="18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7836480" y="420804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9"/>
                      </a:lnTo>
                      <a:lnTo>
                        <a:pt x="0" y="54"/>
                      </a:lnTo>
                      <a:lnTo>
                        <a:pt x="3" y="60"/>
                      </a:lnTo>
                      <a:lnTo>
                        <a:pt x="52" y="101"/>
                      </a:lnTo>
                      <a:lnTo>
                        <a:pt x="59" y="104"/>
                      </a:lnTo>
                      <a:lnTo>
                        <a:pt x="65" y="101"/>
                      </a:lnTo>
                      <a:lnTo>
                        <a:pt x="102" y="53"/>
                      </a:lnTo>
                      <a:lnTo>
                        <a:pt x="104" y="46"/>
                      </a:lnTo>
                      <a:lnTo>
                        <a:pt x="100" y="40"/>
                      </a:lnTo>
                      <a:lnTo>
                        <a:pt x="52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7852320" y="422532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1" h="110">
                      <a:moveTo>
                        <a:pt x="49" y="0"/>
                      </a:moveTo>
                      <a:lnTo>
                        <a:pt x="0" y="57"/>
                      </a:lnTo>
                      <a:lnTo>
                        <a:pt x="62" y="110"/>
                      </a:lnTo>
                      <a:lnTo>
                        <a:pt x="111" y="48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7852320" y="423072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6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19" y="46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7874280" y="422892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9" y="11"/>
                      </a:moveTo>
                      <a:lnTo>
                        <a:pt x="22" y="16"/>
                      </a:lnTo>
                      <a:lnTo>
                        <a:pt x="22" y="31"/>
                      </a:lnTo>
                      <a:lnTo>
                        <a:pt x="0" y="44"/>
                      </a:lnTo>
                      <a:lnTo>
                        <a:pt x="7" y="0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7853760" y="422136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6" h="104">
                      <a:moveTo>
                        <a:pt x="46" y="0"/>
                      </a:moveTo>
                      <a:lnTo>
                        <a:pt x="41" y="3"/>
                      </a:lnTo>
                      <a:lnTo>
                        <a:pt x="2" y="50"/>
                      </a:lnTo>
                      <a:lnTo>
                        <a:pt x="0" y="55"/>
                      </a:lnTo>
                      <a:lnTo>
                        <a:pt x="3" y="62"/>
                      </a:lnTo>
                      <a:lnTo>
                        <a:pt x="52" y="102"/>
                      </a:lnTo>
                      <a:lnTo>
                        <a:pt x="59" y="104"/>
                      </a:lnTo>
                      <a:lnTo>
                        <a:pt x="64" y="102"/>
                      </a:lnTo>
                      <a:lnTo>
                        <a:pt x="104" y="54"/>
                      </a:lnTo>
                      <a:lnTo>
                        <a:pt x="106" y="47"/>
                      </a:lnTo>
                      <a:lnTo>
                        <a:pt x="102" y="41"/>
                      </a:lnTo>
                      <a:lnTo>
                        <a:pt x="52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7869960" y="4238280"/>
                  <a:ext cx="27720" cy="23400"/>
                </a:xfrm>
                <a:custGeom>
                  <a:avLst/>
                  <a:gdLst/>
                  <a:ahLst/>
                  <a:rect l="l" t="t" r="r" b="b"/>
                  <a:pathLst>
                    <a:path w="111" h="111">
                      <a:moveTo>
                        <a:pt x="49" y="0"/>
                      </a:moveTo>
                      <a:lnTo>
                        <a:pt x="0" y="58"/>
                      </a:lnTo>
                      <a:lnTo>
                        <a:pt x="62" y="111"/>
                      </a:lnTo>
                      <a:lnTo>
                        <a:pt x="111" y="49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7869960" y="424368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19" h="46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19" y="46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7891560" y="424224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9" y="11"/>
                      </a:moveTo>
                      <a:lnTo>
                        <a:pt x="22" y="15"/>
                      </a:lnTo>
                      <a:lnTo>
                        <a:pt x="22" y="31"/>
                      </a:lnTo>
                      <a:lnTo>
                        <a:pt x="0" y="44"/>
                      </a:lnTo>
                      <a:lnTo>
                        <a:pt x="8" y="0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7871040" y="4232880"/>
                  <a:ext cx="26280" cy="23760"/>
                </a:xfrm>
                <a:custGeom>
                  <a:avLst/>
                  <a:gdLst/>
                  <a:ahLst/>
                  <a:rect l="l" t="t" r="r" b="b"/>
                  <a:pathLst>
                    <a:path w="106" h="105">
                      <a:moveTo>
                        <a:pt x="46" y="0"/>
                      </a:moveTo>
                      <a:lnTo>
                        <a:pt x="41" y="4"/>
                      </a:lnTo>
                      <a:lnTo>
                        <a:pt x="2" y="51"/>
                      </a:lnTo>
                      <a:lnTo>
                        <a:pt x="0" y="56"/>
                      </a:lnTo>
                      <a:lnTo>
                        <a:pt x="3" y="63"/>
                      </a:lnTo>
                      <a:lnTo>
                        <a:pt x="51" y="103"/>
                      </a:lnTo>
                      <a:lnTo>
                        <a:pt x="59" y="105"/>
                      </a:lnTo>
                      <a:lnTo>
                        <a:pt x="64" y="103"/>
                      </a:lnTo>
                      <a:lnTo>
                        <a:pt x="104" y="54"/>
                      </a:lnTo>
                      <a:lnTo>
                        <a:pt x="106" y="47"/>
                      </a:lnTo>
                      <a:lnTo>
                        <a:pt x="102" y="42"/>
                      </a:lnTo>
                      <a:lnTo>
                        <a:pt x="51" y="3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3" name=""/>
                <p:cNvGrpSpPr/>
                <p:nvPr/>
              </p:nvGrpSpPr>
              <p:grpSpPr>
                <a:xfrm>
                  <a:off x="7887240" y="4246560"/>
                  <a:ext cx="27720" cy="28800"/>
                  <a:chOff x="7887240" y="4246560"/>
                  <a:chExt cx="27720" cy="28800"/>
                </a:xfrm>
              </p:grpSpPr>
              <p:sp>
                <p:nvSpPr>
                  <p:cNvPr id="1944" name=""/>
                  <p:cNvSpPr/>
                  <p:nvPr/>
                </p:nvSpPr>
                <p:spPr>
                  <a:xfrm>
                    <a:off x="7887240" y="425160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11">
                        <a:moveTo>
                          <a:pt x="49" y="0"/>
                        </a:moveTo>
                        <a:lnTo>
                          <a:pt x="0" y="58"/>
                        </a:lnTo>
                        <a:lnTo>
                          <a:pt x="62" y="111"/>
                        </a:lnTo>
                        <a:lnTo>
                          <a:pt x="111" y="48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5" name=""/>
                  <p:cNvSpPr/>
                  <p:nvPr/>
                </p:nvSpPr>
                <p:spPr>
                  <a:xfrm>
                    <a:off x="7887240" y="425664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6">
                        <a:moveTo>
                          <a:pt x="2" y="12"/>
                        </a:moveTo>
                        <a:lnTo>
                          <a:pt x="0" y="20"/>
                        </a:lnTo>
                        <a:lnTo>
                          <a:pt x="0" y="33"/>
                        </a:lnTo>
                        <a:lnTo>
                          <a:pt x="20" y="46"/>
                        </a:lnTo>
                        <a:lnTo>
                          <a:pt x="12" y="0"/>
                        </a:lnTo>
                        <a:lnTo>
                          <a:pt x="2" y="12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>
                    <a:off x="7908840" y="4254120"/>
                    <a:ext cx="576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3">
                        <a:moveTo>
                          <a:pt x="18" y="10"/>
                        </a:moveTo>
                        <a:lnTo>
                          <a:pt x="21" y="15"/>
                        </a:lnTo>
                        <a:lnTo>
                          <a:pt x="21" y="30"/>
                        </a:lnTo>
                        <a:lnTo>
                          <a:pt x="0" y="43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>
                    <a:off x="7888320" y="4246560"/>
                    <a:ext cx="26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105">
                        <a:moveTo>
                          <a:pt x="46" y="0"/>
                        </a:moveTo>
                        <a:lnTo>
                          <a:pt x="41" y="5"/>
                        </a:lnTo>
                        <a:lnTo>
                          <a:pt x="2" y="51"/>
                        </a:lnTo>
                        <a:lnTo>
                          <a:pt x="0" y="57"/>
                        </a:lnTo>
                        <a:lnTo>
                          <a:pt x="3" y="63"/>
                        </a:lnTo>
                        <a:lnTo>
                          <a:pt x="51" y="103"/>
                        </a:lnTo>
                        <a:lnTo>
                          <a:pt x="59" y="105"/>
                        </a:lnTo>
                        <a:lnTo>
                          <a:pt x="64" y="103"/>
                        </a:lnTo>
                        <a:lnTo>
                          <a:pt x="104" y="54"/>
                        </a:lnTo>
                        <a:lnTo>
                          <a:pt x="106" y="47"/>
                        </a:lnTo>
                        <a:lnTo>
                          <a:pt x="102" y="41"/>
                        </a:lnTo>
                        <a:lnTo>
                          <a:pt x="51" y="4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8" name=""/>
                <p:cNvGrpSpPr/>
                <p:nvPr/>
              </p:nvGrpSpPr>
              <p:grpSpPr>
                <a:xfrm>
                  <a:off x="7904880" y="4259880"/>
                  <a:ext cx="27720" cy="28440"/>
                  <a:chOff x="7904880" y="4259880"/>
                  <a:chExt cx="27720" cy="28440"/>
                </a:xfrm>
              </p:grpSpPr>
              <p:sp>
                <p:nvSpPr>
                  <p:cNvPr id="1949" name=""/>
                  <p:cNvSpPr/>
                  <p:nvPr/>
                </p:nvSpPr>
                <p:spPr>
                  <a:xfrm>
                    <a:off x="7904880" y="4263480"/>
                    <a:ext cx="27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11">
                        <a:moveTo>
                          <a:pt x="49" y="0"/>
                        </a:moveTo>
                        <a:lnTo>
                          <a:pt x="0" y="58"/>
                        </a:lnTo>
                        <a:lnTo>
                          <a:pt x="62" y="111"/>
                        </a:lnTo>
                        <a:lnTo>
                          <a:pt x="111" y="48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0" name=""/>
                  <p:cNvSpPr/>
                  <p:nvPr/>
                </p:nvSpPr>
                <p:spPr>
                  <a:xfrm>
                    <a:off x="7904880" y="4268520"/>
                    <a:ext cx="540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6">
                        <a:moveTo>
                          <a:pt x="2" y="11"/>
                        </a:moveTo>
                        <a:lnTo>
                          <a:pt x="0" y="20"/>
                        </a:lnTo>
                        <a:lnTo>
                          <a:pt x="0" y="33"/>
                        </a:lnTo>
                        <a:lnTo>
                          <a:pt x="20" y="46"/>
                        </a:lnTo>
                        <a:lnTo>
                          <a:pt x="13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1" name=""/>
                  <p:cNvSpPr/>
                  <p:nvPr/>
                </p:nvSpPr>
                <p:spPr>
                  <a:xfrm>
                    <a:off x="7926480" y="4267440"/>
                    <a:ext cx="576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4">
                        <a:moveTo>
                          <a:pt x="18" y="10"/>
                        </a:moveTo>
                        <a:lnTo>
                          <a:pt x="21" y="16"/>
                        </a:lnTo>
                        <a:lnTo>
                          <a:pt x="21" y="30"/>
                        </a:lnTo>
                        <a:lnTo>
                          <a:pt x="0" y="44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2" name=""/>
                  <p:cNvSpPr/>
                  <p:nvPr/>
                </p:nvSpPr>
                <p:spPr>
                  <a:xfrm>
                    <a:off x="7905960" y="4259880"/>
                    <a:ext cx="26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104">
                        <a:moveTo>
                          <a:pt x="46" y="0"/>
                        </a:moveTo>
                        <a:lnTo>
                          <a:pt x="41" y="4"/>
                        </a:lnTo>
                        <a:lnTo>
                          <a:pt x="2" y="50"/>
                        </a:lnTo>
                        <a:lnTo>
                          <a:pt x="0" y="55"/>
                        </a:lnTo>
                        <a:lnTo>
                          <a:pt x="3" y="61"/>
                        </a:lnTo>
                        <a:lnTo>
                          <a:pt x="51" y="101"/>
                        </a:lnTo>
                        <a:lnTo>
                          <a:pt x="59" y="104"/>
                        </a:lnTo>
                        <a:lnTo>
                          <a:pt x="64" y="101"/>
                        </a:lnTo>
                        <a:lnTo>
                          <a:pt x="104" y="54"/>
                        </a:lnTo>
                        <a:lnTo>
                          <a:pt x="106" y="46"/>
                        </a:lnTo>
                        <a:lnTo>
                          <a:pt x="102" y="40"/>
                        </a:lnTo>
                        <a:lnTo>
                          <a:pt x="51" y="3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3" name=""/>
                <p:cNvGrpSpPr/>
                <p:nvPr/>
              </p:nvGrpSpPr>
              <p:grpSpPr>
                <a:xfrm>
                  <a:off x="7922160" y="4274280"/>
                  <a:ext cx="136440" cy="105840"/>
                  <a:chOff x="7922160" y="4274280"/>
                  <a:chExt cx="136440" cy="105840"/>
                </a:xfrm>
              </p:grpSpPr>
              <p:sp>
                <p:nvSpPr>
                  <p:cNvPr id="1954" name=""/>
                  <p:cNvSpPr/>
                  <p:nvPr/>
                </p:nvSpPr>
                <p:spPr>
                  <a:xfrm>
                    <a:off x="7922160" y="4274280"/>
                    <a:ext cx="13644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564" h="477">
                        <a:moveTo>
                          <a:pt x="53" y="0"/>
                        </a:moveTo>
                        <a:lnTo>
                          <a:pt x="0" y="72"/>
                        </a:lnTo>
                        <a:lnTo>
                          <a:pt x="510" y="477"/>
                        </a:lnTo>
                        <a:lnTo>
                          <a:pt x="564" y="403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5" name=""/>
                  <p:cNvSpPr/>
                  <p:nvPr/>
                </p:nvSpPr>
                <p:spPr>
                  <a:xfrm>
                    <a:off x="7925040" y="4274280"/>
                    <a:ext cx="1332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550" h="467">
                        <a:moveTo>
                          <a:pt x="52" y="0"/>
                        </a:moveTo>
                        <a:lnTo>
                          <a:pt x="0" y="69"/>
                        </a:lnTo>
                        <a:lnTo>
                          <a:pt x="498" y="467"/>
                        </a:lnTo>
                        <a:lnTo>
                          <a:pt x="550" y="392"/>
                        </a:lnTo>
                        <a:lnTo>
                          <a:pt x="5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6" name=""/>
                <p:cNvGrpSpPr/>
                <p:nvPr/>
              </p:nvGrpSpPr>
              <p:grpSpPr>
                <a:xfrm>
                  <a:off x="8146440" y="4441320"/>
                  <a:ext cx="7200" cy="7560"/>
                  <a:chOff x="8146440" y="4441320"/>
                  <a:chExt cx="7200" cy="7560"/>
                </a:xfrm>
              </p:grpSpPr>
              <p:sp>
                <p:nvSpPr>
                  <p:cNvPr id="1957" name=""/>
                  <p:cNvSpPr/>
                  <p:nvPr/>
                </p:nvSpPr>
                <p:spPr>
                  <a:xfrm>
                    <a:off x="8146440" y="4441320"/>
                    <a:ext cx="72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3">
                        <a:moveTo>
                          <a:pt x="20" y="0"/>
                        </a:moveTo>
                        <a:lnTo>
                          <a:pt x="0" y="24"/>
                        </a:lnTo>
                        <a:lnTo>
                          <a:pt x="10" y="33"/>
                        </a:lnTo>
                        <a:lnTo>
                          <a:pt x="31" y="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8146440" y="4443840"/>
                    <a:ext cx="39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1" y="0"/>
                        </a:moveTo>
                        <a:lnTo>
                          <a:pt x="0" y="14"/>
                        </a:lnTo>
                        <a:lnTo>
                          <a:pt x="6" y="20"/>
                        </a:lnTo>
                        <a:lnTo>
                          <a:pt x="18" y="5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9" name=""/>
                <p:cNvGrpSpPr/>
                <p:nvPr/>
              </p:nvGrpSpPr>
              <p:grpSpPr>
                <a:xfrm>
                  <a:off x="7814520" y="4197240"/>
                  <a:ext cx="8640" cy="7920"/>
                  <a:chOff x="7814520" y="4197240"/>
                  <a:chExt cx="8640" cy="7920"/>
                </a:xfrm>
              </p:grpSpPr>
              <p:sp>
                <p:nvSpPr>
                  <p:cNvPr id="1960" name=""/>
                  <p:cNvSpPr/>
                  <p:nvPr/>
                </p:nvSpPr>
                <p:spPr>
                  <a:xfrm>
                    <a:off x="7814520" y="4197240"/>
                    <a:ext cx="86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3">
                        <a:moveTo>
                          <a:pt x="20" y="0"/>
                        </a:moveTo>
                        <a:lnTo>
                          <a:pt x="0" y="23"/>
                        </a:lnTo>
                        <a:lnTo>
                          <a:pt x="10" y="33"/>
                        </a:lnTo>
                        <a:lnTo>
                          <a:pt x="31" y="8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1" name=""/>
                  <p:cNvSpPr/>
                  <p:nvPr/>
                </p:nvSpPr>
                <p:spPr>
                  <a:xfrm>
                    <a:off x="7815960" y="4199760"/>
                    <a:ext cx="39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1" y="0"/>
                        </a:moveTo>
                        <a:lnTo>
                          <a:pt x="0" y="15"/>
                        </a:lnTo>
                        <a:lnTo>
                          <a:pt x="6" y="20"/>
                        </a:lnTo>
                        <a:lnTo>
                          <a:pt x="18" y="5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2" name=""/>
                <p:cNvSpPr/>
                <p:nvPr/>
              </p:nvSpPr>
              <p:spPr>
                <a:xfrm>
                  <a:off x="7826400" y="4112640"/>
                  <a:ext cx="414720" cy="336600"/>
                </a:xfrm>
                <a:custGeom>
                  <a:avLst/>
                  <a:gdLst/>
                  <a:ahLst/>
                  <a:rect l="l" t="t" r="r" b="b"/>
                  <a:pathLst>
                    <a:path w="1714" h="1521">
                      <a:moveTo>
                        <a:pt x="328" y="0"/>
                      </a:moveTo>
                      <a:lnTo>
                        <a:pt x="0" y="358"/>
                      </a:lnTo>
                      <a:lnTo>
                        <a:pt x="81" y="418"/>
                      </a:lnTo>
                      <a:lnTo>
                        <a:pt x="7" y="499"/>
                      </a:lnTo>
                      <a:lnTo>
                        <a:pt x="1277" y="1521"/>
                      </a:lnTo>
                      <a:lnTo>
                        <a:pt x="1348" y="1429"/>
                      </a:lnTo>
                      <a:lnTo>
                        <a:pt x="1387" y="1464"/>
                      </a:lnTo>
                      <a:lnTo>
                        <a:pt x="1714" y="107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7831800" y="4183920"/>
                  <a:ext cx="49320" cy="35640"/>
                </a:xfrm>
                <a:custGeom>
                  <a:avLst/>
                  <a:gdLst/>
                  <a:ahLst/>
                  <a:rect l="l" t="t" r="r" b="b"/>
                  <a:pathLst>
                    <a:path w="204" h="162">
                      <a:moveTo>
                        <a:pt x="62" y="0"/>
                      </a:moveTo>
                      <a:lnTo>
                        <a:pt x="0" y="61"/>
                      </a:lnTo>
                      <a:lnTo>
                        <a:pt x="139" y="162"/>
                      </a:lnTo>
                      <a:lnTo>
                        <a:pt x="204" y="95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7831800" y="418932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" y="10"/>
                      </a:moveTo>
                      <a:lnTo>
                        <a:pt x="0" y="18"/>
                      </a:lnTo>
                      <a:lnTo>
                        <a:pt x="0" y="33"/>
                      </a:lnTo>
                      <a:lnTo>
                        <a:pt x="22" y="43"/>
                      </a:lnTo>
                      <a:lnTo>
                        <a:pt x="13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7871040" y="419976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5" h="41">
                      <a:moveTo>
                        <a:pt x="23" y="11"/>
                      </a:moveTo>
                      <a:lnTo>
                        <a:pt x="25" y="15"/>
                      </a:lnTo>
                      <a:lnTo>
                        <a:pt x="25" y="29"/>
                      </a:lnTo>
                      <a:lnTo>
                        <a:pt x="0" y="41"/>
                      </a:lnTo>
                      <a:lnTo>
                        <a:pt x="8" y="0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7830360" y="4181400"/>
                  <a:ext cx="46440" cy="31680"/>
                </a:xfrm>
                <a:custGeom>
                  <a:avLst/>
                  <a:gdLst/>
                  <a:ahLst/>
                  <a:rect l="l" t="t" r="r" b="b"/>
                  <a:pathLst>
                    <a:path w="189" h="145">
                      <a:moveTo>
                        <a:pt x="52" y="0"/>
                      </a:moveTo>
                      <a:lnTo>
                        <a:pt x="47" y="2"/>
                      </a:lnTo>
                      <a:lnTo>
                        <a:pt x="2" y="47"/>
                      </a:lnTo>
                      <a:lnTo>
                        <a:pt x="0" y="51"/>
                      </a:lnTo>
                      <a:lnTo>
                        <a:pt x="3" y="58"/>
                      </a:lnTo>
                      <a:lnTo>
                        <a:pt x="130" y="145"/>
                      </a:lnTo>
                      <a:lnTo>
                        <a:pt x="136" y="145"/>
                      </a:lnTo>
                      <a:lnTo>
                        <a:pt x="146" y="143"/>
                      </a:lnTo>
                      <a:lnTo>
                        <a:pt x="189" y="101"/>
                      </a:lnTo>
                      <a:lnTo>
                        <a:pt x="189" y="93"/>
                      </a:lnTo>
                      <a:lnTo>
                        <a:pt x="184" y="86"/>
                      </a:lnTo>
                      <a:lnTo>
                        <a:pt x="61" y="1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7859520" y="415368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135" h="103">
                      <a:moveTo>
                        <a:pt x="59" y="0"/>
                      </a:moveTo>
                      <a:lnTo>
                        <a:pt x="0" y="53"/>
                      </a:lnTo>
                      <a:lnTo>
                        <a:pt x="75" y="103"/>
                      </a:lnTo>
                      <a:lnTo>
                        <a:pt x="135" y="45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7859520" y="415872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5" h="41">
                      <a:moveTo>
                        <a:pt x="2" y="10"/>
                      </a:moveTo>
                      <a:lnTo>
                        <a:pt x="0" y="17"/>
                      </a:lnTo>
                      <a:lnTo>
                        <a:pt x="0" y="29"/>
                      </a:lnTo>
                      <a:lnTo>
                        <a:pt x="25" y="41"/>
                      </a:lnTo>
                      <a:lnTo>
                        <a:pt x="15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7885800" y="4157640"/>
                  <a:ext cx="7560" cy="9000"/>
                </a:xfrm>
                <a:custGeom>
                  <a:avLst/>
                  <a:gdLst/>
                  <a:ahLst/>
                  <a:rect l="l" t="t" r="r" b="b"/>
                  <a:pathLst>
                    <a:path w="27" h="41">
                      <a:moveTo>
                        <a:pt x="23" y="9"/>
                      </a:moveTo>
                      <a:lnTo>
                        <a:pt x="27" y="15"/>
                      </a:lnTo>
                      <a:lnTo>
                        <a:pt x="27" y="28"/>
                      </a:lnTo>
                      <a:lnTo>
                        <a:pt x="0" y="41"/>
                      </a:lnTo>
                      <a:lnTo>
                        <a:pt x="10" y="0"/>
                      </a:lnTo>
                      <a:lnTo>
                        <a:pt x="23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7860960" y="4149720"/>
                  <a:ext cx="30600" cy="20880"/>
                </a:xfrm>
                <a:custGeom>
                  <a:avLst/>
                  <a:gdLst/>
                  <a:ahLst/>
                  <a:rect l="l" t="t" r="r" b="b"/>
                  <a:pathLst>
                    <a:path w="129" h="94">
                      <a:moveTo>
                        <a:pt x="56" y="0"/>
                      </a:moveTo>
                      <a:lnTo>
                        <a:pt x="49" y="2"/>
                      </a:lnTo>
                      <a:lnTo>
                        <a:pt x="3" y="44"/>
                      </a:lnTo>
                      <a:lnTo>
                        <a:pt x="0" y="50"/>
                      </a:lnTo>
                      <a:lnTo>
                        <a:pt x="4" y="55"/>
                      </a:lnTo>
                      <a:lnTo>
                        <a:pt x="62" y="92"/>
                      </a:lnTo>
                      <a:lnTo>
                        <a:pt x="72" y="94"/>
                      </a:lnTo>
                      <a:lnTo>
                        <a:pt x="78" y="92"/>
                      </a:lnTo>
                      <a:lnTo>
                        <a:pt x="127" y="49"/>
                      </a:lnTo>
                      <a:lnTo>
                        <a:pt x="129" y="41"/>
                      </a:lnTo>
                      <a:lnTo>
                        <a:pt x="124" y="36"/>
                      </a:lnTo>
                      <a:lnTo>
                        <a:pt x="62" y="1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8166960" y="4369680"/>
                  <a:ext cx="36000" cy="31320"/>
                </a:xfrm>
                <a:custGeom>
                  <a:avLst/>
                  <a:gdLst/>
                  <a:ahLst/>
                  <a:rect l="l" t="t" r="r" b="b"/>
                  <a:pathLst>
                    <a:path w="149" h="145">
                      <a:moveTo>
                        <a:pt x="46" y="0"/>
                      </a:moveTo>
                      <a:lnTo>
                        <a:pt x="0" y="54"/>
                      </a:lnTo>
                      <a:lnTo>
                        <a:pt x="103" y="145"/>
                      </a:lnTo>
                      <a:lnTo>
                        <a:pt x="149" y="85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8166960" y="43736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6" h="39">
                      <a:moveTo>
                        <a:pt x="1" y="10"/>
                      </a:moveTo>
                      <a:lnTo>
                        <a:pt x="0" y="17"/>
                      </a:lnTo>
                      <a:lnTo>
                        <a:pt x="0" y="29"/>
                      </a:lnTo>
                      <a:lnTo>
                        <a:pt x="16" y="39"/>
                      </a:lnTo>
                      <a:lnTo>
                        <a:pt x="11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8196120" y="4384080"/>
                  <a:ext cx="3960" cy="7920"/>
                </a:xfrm>
                <a:custGeom>
                  <a:avLst/>
                  <a:gdLst/>
                  <a:ahLst/>
                  <a:rect l="l" t="t" r="r" b="b"/>
                  <a:pathLst>
                    <a:path w="19" h="38">
                      <a:moveTo>
                        <a:pt x="17" y="10"/>
                      </a:moveTo>
                      <a:lnTo>
                        <a:pt x="19" y="14"/>
                      </a:lnTo>
                      <a:lnTo>
                        <a:pt x="19" y="26"/>
                      </a:lnTo>
                      <a:lnTo>
                        <a:pt x="0" y="38"/>
                      </a:lnTo>
                      <a:lnTo>
                        <a:pt x="7" y="0"/>
                      </a:lnTo>
                      <a:lnTo>
                        <a:pt x="17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8168400" y="4365720"/>
                  <a:ext cx="30600" cy="30600"/>
                </a:xfrm>
                <a:custGeom>
                  <a:avLst/>
                  <a:gdLst/>
                  <a:ahLst/>
                  <a:rect l="l" t="t" r="r" b="b"/>
                  <a:pathLst>
                    <a:path w="128" h="137">
                      <a:moveTo>
                        <a:pt x="36" y="0"/>
                      </a:moveTo>
                      <a:lnTo>
                        <a:pt x="33" y="2"/>
                      </a:lnTo>
                      <a:lnTo>
                        <a:pt x="2" y="44"/>
                      </a:lnTo>
                      <a:lnTo>
                        <a:pt x="0" y="49"/>
                      </a:lnTo>
                      <a:lnTo>
                        <a:pt x="3" y="55"/>
                      </a:lnTo>
                      <a:lnTo>
                        <a:pt x="88" y="137"/>
                      </a:lnTo>
                      <a:lnTo>
                        <a:pt x="94" y="137"/>
                      </a:lnTo>
                      <a:lnTo>
                        <a:pt x="99" y="136"/>
                      </a:lnTo>
                      <a:lnTo>
                        <a:pt x="128" y="95"/>
                      </a:lnTo>
                      <a:lnTo>
                        <a:pt x="128" y="88"/>
                      </a:lnTo>
                      <a:lnTo>
                        <a:pt x="125" y="81"/>
                      </a:lnTo>
                      <a:lnTo>
                        <a:pt x="41" y="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8149680" y="4412160"/>
                  <a:ext cx="23040" cy="20880"/>
                </a:xfrm>
                <a:custGeom>
                  <a:avLst/>
                  <a:gdLst/>
                  <a:ahLst/>
                  <a:rect l="l" t="t" r="r" b="b"/>
                  <a:pathLst>
                    <a:path w="98" h="98">
                      <a:moveTo>
                        <a:pt x="43" y="0"/>
                      </a:moveTo>
                      <a:lnTo>
                        <a:pt x="0" y="51"/>
                      </a:lnTo>
                      <a:lnTo>
                        <a:pt x="55" y="98"/>
                      </a:lnTo>
                      <a:lnTo>
                        <a:pt x="98" y="43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8149680" y="4417200"/>
                  <a:ext cx="3960" cy="7920"/>
                </a:xfrm>
                <a:custGeom>
                  <a:avLst/>
                  <a:gdLst/>
                  <a:ahLst/>
                  <a:rect l="l" t="t" r="r" b="b"/>
                  <a:pathLst>
                    <a:path w="17" h="40">
                      <a:moveTo>
                        <a:pt x="1" y="10"/>
                      </a:moveTo>
                      <a:lnTo>
                        <a:pt x="0" y="17"/>
                      </a:lnTo>
                      <a:lnTo>
                        <a:pt x="0" y="28"/>
                      </a:lnTo>
                      <a:lnTo>
                        <a:pt x="17" y="40"/>
                      </a:lnTo>
                      <a:lnTo>
                        <a:pt x="11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8168400" y="44146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8" h="40">
                      <a:moveTo>
                        <a:pt x="16" y="9"/>
                      </a:moveTo>
                      <a:lnTo>
                        <a:pt x="18" y="15"/>
                      </a:lnTo>
                      <a:lnTo>
                        <a:pt x="18" y="27"/>
                      </a:lnTo>
                      <a:lnTo>
                        <a:pt x="0" y="40"/>
                      </a:lnTo>
                      <a:lnTo>
                        <a:pt x="6" y="0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8149680" y="4408200"/>
                  <a:ext cx="23040" cy="19800"/>
                </a:xfrm>
                <a:custGeom>
                  <a:avLst/>
                  <a:gdLst/>
                  <a:ahLst/>
                  <a:rect l="l" t="t" r="r" b="b"/>
                  <a:pathLst>
                    <a:path w="95" h="92">
                      <a:moveTo>
                        <a:pt x="41" y="0"/>
                      </a:moveTo>
                      <a:lnTo>
                        <a:pt x="37" y="2"/>
                      </a:lnTo>
                      <a:lnTo>
                        <a:pt x="3" y="43"/>
                      </a:lnTo>
                      <a:lnTo>
                        <a:pt x="0" y="48"/>
                      </a:lnTo>
                      <a:lnTo>
                        <a:pt x="4" y="54"/>
                      </a:lnTo>
                      <a:lnTo>
                        <a:pt x="47" y="89"/>
                      </a:lnTo>
                      <a:lnTo>
                        <a:pt x="53" y="92"/>
                      </a:lnTo>
                      <a:lnTo>
                        <a:pt x="57" y="89"/>
                      </a:lnTo>
                      <a:lnTo>
                        <a:pt x="93" y="47"/>
                      </a:lnTo>
                      <a:lnTo>
                        <a:pt x="95" y="40"/>
                      </a:lnTo>
                      <a:lnTo>
                        <a:pt x="91" y="35"/>
                      </a:lnTo>
                      <a:lnTo>
                        <a:pt x="47" y="1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9" name=""/>
              <p:cNvGrpSpPr/>
              <p:nvPr/>
            </p:nvGrpSpPr>
            <p:grpSpPr>
              <a:xfrm>
                <a:off x="8133480" y="4206600"/>
                <a:ext cx="135000" cy="120240"/>
                <a:chOff x="8133480" y="4206600"/>
                <a:chExt cx="135000" cy="120240"/>
              </a:xfrm>
            </p:grpSpPr>
            <p:sp>
              <p:nvSpPr>
                <p:cNvPr id="1980" name=""/>
                <p:cNvSpPr/>
                <p:nvPr/>
              </p:nvSpPr>
              <p:spPr>
                <a:xfrm>
                  <a:off x="8220960" y="4291200"/>
                  <a:ext cx="19800" cy="22320"/>
                </a:xfrm>
                <a:prstGeom prst="ellipse">
                  <a:avLst/>
                </a:prstGeom>
                <a:solidFill>
                  <a:srgbClr val="c0c0c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1" name=""/>
                <p:cNvGrpSpPr/>
                <p:nvPr/>
              </p:nvGrpSpPr>
              <p:grpSpPr>
                <a:xfrm>
                  <a:off x="8133480" y="4206600"/>
                  <a:ext cx="49320" cy="37080"/>
                  <a:chOff x="8133480" y="4206600"/>
                  <a:chExt cx="49320" cy="37080"/>
                </a:xfrm>
              </p:grpSpPr>
              <p:grpSp>
                <p:nvGrpSpPr>
                  <p:cNvPr id="1982" name=""/>
                  <p:cNvGrpSpPr/>
                  <p:nvPr/>
                </p:nvGrpSpPr>
                <p:grpSpPr>
                  <a:xfrm>
                    <a:off x="8133480" y="4206600"/>
                    <a:ext cx="49320" cy="37080"/>
                    <a:chOff x="8133480" y="4206600"/>
                    <a:chExt cx="49320" cy="37080"/>
                  </a:xfrm>
                </p:grpSpPr>
                <p:sp>
                  <p:nvSpPr>
                    <p:cNvPr id="1983" name=""/>
                    <p:cNvSpPr/>
                    <p:nvPr/>
                  </p:nvSpPr>
                  <p:spPr>
                    <a:xfrm>
                      <a:off x="8133480" y="4206600"/>
                      <a:ext cx="4932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172">
                          <a:moveTo>
                            <a:pt x="40" y="2"/>
                          </a:moveTo>
                          <a:lnTo>
                            <a:pt x="195" y="126"/>
                          </a:lnTo>
                          <a:lnTo>
                            <a:pt x="202" y="145"/>
                          </a:lnTo>
                          <a:lnTo>
                            <a:pt x="195" y="162"/>
                          </a:lnTo>
                          <a:lnTo>
                            <a:pt x="179" y="172"/>
                          </a:lnTo>
                          <a:lnTo>
                            <a:pt x="163" y="172"/>
                          </a:lnTo>
                          <a:lnTo>
                            <a:pt x="10" y="49"/>
                          </a:lnTo>
                          <a:lnTo>
                            <a:pt x="0" y="34"/>
                          </a:lnTo>
                          <a:lnTo>
                            <a:pt x="2" y="15"/>
                          </a:lnTo>
                          <a:lnTo>
                            <a:pt x="18" y="1"/>
                          </a:lnTo>
                          <a:lnTo>
                            <a:pt x="34" y="0"/>
                          </a:lnTo>
                          <a:lnTo>
                            <a:pt x="40" y="2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4" name=""/>
                    <p:cNvSpPr/>
                    <p:nvPr/>
                  </p:nvSpPr>
                  <p:spPr>
                    <a:xfrm flipV="1">
                      <a:off x="8142120" y="4211280"/>
                      <a:ext cx="540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5" name=""/>
                    <p:cNvSpPr/>
                    <p:nvPr/>
                  </p:nvSpPr>
                  <p:spPr>
                    <a:xfrm flipV="1">
                      <a:off x="8146440" y="4214160"/>
                      <a:ext cx="540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6" name=""/>
                    <p:cNvSpPr/>
                    <p:nvPr/>
                  </p:nvSpPr>
                  <p:spPr>
                    <a:xfrm flipV="1">
                      <a:off x="8149320" y="4216680"/>
                      <a:ext cx="7200" cy="1044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7" name=""/>
                  <p:cNvGrpSpPr/>
                  <p:nvPr/>
                </p:nvGrpSpPr>
                <p:grpSpPr>
                  <a:xfrm>
                    <a:off x="8155080" y="4220640"/>
                    <a:ext cx="16920" cy="16920"/>
                    <a:chOff x="8155080" y="4220640"/>
                    <a:chExt cx="16920" cy="16920"/>
                  </a:xfrm>
                </p:grpSpPr>
                <p:sp>
                  <p:nvSpPr>
                    <p:cNvPr id="1988" name=""/>
                    <p:cNvSpPr/>
                    <p:nvPr/>
                  </p:nvSpPr>
                  <p:spPr>
                    <a:xfrm flipV="1">
                      <a:off x="8155080" y="4220640"/>
                      <a:ext cx="576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9" name=""/>
                    <p:cNvSpPr/>
                    <p:nvPr/>
                  </p:nvSpPr>
                  <p:spPr>
                    <a:xfrm flipV="1">
                      <a:off x="8157960" y="4221720"/>
                      <a:ext cx="684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0" name=""/>
                    <p:cNvSpPr/>
                    <p:nvPr/>
                  </p:nvSpPr>
                  <p:spPr>
                    <a:xfrm flipV="1">
                      <a:off x="8163720" y="4227480"/>
                      <a:ext cx="8280" cy="1008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1" name=""/>
                    <p:cNvSpPr/>
                    <p:nvPr/>
                  </p:nvSpPr>
                  <p:spPr>
                    <a:xfrm flipV="1">
                      <a:off x="8168040" y="4229640"/>
                      <a:ext cx="396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92" name=""/>
                <p:cNvSpPr/>
                <p:nvPr/>
              </p:nvSpPr>
              <p:spPr>
                <a:xfrm>
                  <a:off x="8145000" y="4263480"/>
                  <a:ext cx="7200" cy="6480"/>
                </a:xfrm>
                <a:prstGeom prst="ellipse">
                  <a:avLst/>
                </a:prstGeom>
                <a:solidFill>
                  <a:srgbClr val="ff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8169480" y="4280400"/>
                  <a:ext cx="7200" cy="7920"/>
                </a:xfrm>
                <a:prstGeom prst="ellipse">
                  <a:avLst/>
                </a:prstGeom>
                <a:solidFill>
                  <a:srgbClr val="ff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8194320" y="4298040"/>
                  <a:ext cx="7200" cy="7560"/>
                </a:xfrm>
                <a:prstGeom prst="ellipse">
                  <a:avLst/>
                </a:prstGeom>
                <a:solidFill>
                  <a:srgbClr val="ff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5" name=""/>
                <p:cNvGrpSpPr/>
                <p:nvPr/>
              </p:nvGrpSpPr>
              <p:grpSpPr>
                <a:xfrm>
                  <a:off x="8185680" y="4242240"/>
                  <a:ext cx="49320" cy="38160"/>
                  <a:chOff x="8185680" y="4242240"/>
                  <a:chExt cx="49320" cy="38160"/>
                </a:xfrm>
              </p:grpSpPr>
              <p:grpSp>
                <p:nvGrpSpPr>
                  <p:cNvPr id="1996" name=""/>
                  <p:cNvGrpSpPr/>
                  <p:nvPr/>
                </p:nvGrpSpPr>
                <p:grpSpPr>
                  <a:xfrm>
                    <a:off x="8185680" y="4242240"/>
                    <a:ext cx="49320" cy="38160"/>
                    <a:chOff x="8185680" y="4242240"/>
                    <a:chExt cx="49320" cy="38160"/>
                  </a:xfrm>
                </p:grpSpPr>
                <p:sp>
                  <p:nvSpPr>
                    <p:cNvPr id="1997" name=""/>
                    <p:cNvSpPr/>
                    <p:nvPr/>
                  </p:nvSpPr>
                  <p:spPr>
                    <a:xfrm>
                      <a:off x="8185680" y="4242240"/>
                      <a:ext cx="4932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173">
                          <a:moveTo>
                            <a:pt x="39" y="2"/>
                          </a:moveTo>
                          <a:lnTo>
                            <a:pt x="194" y="127"/>
                          </a:lnTo>
                          <a:lnTo>
                            <a:pt x="200" y="146"/>
                          </a:lnTo>
                          <a:lnTo>
                            <a:pt x="194" y="163"/>
                          </a:lnTo>
                          <a:lnTo>
                            <a:pt x="178" y="173"/>
                          </a:lnTo>
                          <a:lnTo>
                            <a:pt x="162" y="173"/>
                          </a:lnTo>
                          <a:lnTo>
                            <a:pt x="9" y="50"/>
                          </a:lnTo>
                          <a:lnTo>
                            <a:pt x="0" y="35"/>
                          </a:lnTo>
                          <a:lnTo>
                            <a:pt x="2" y="15"/>
                          </a:lnTo>
                          <a:lnTo>
                            <a:pt x="18" y="1"/>
                          </a:lnTo>
                          <a:lnTo>
                            <a:pt x="34" y="0"/>
                          </a:lnTo>
                          <a:lnTo>
                            <a:pt x="39" y="2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8" name=""/>
                    <p:cNvSpPr/>
                    <p:nvPr/>
                  </p:nvSpPr>
                  <p:spPr>
                    <a:xfrm flipV="1">
                      <a:off x="8193960" y="4248720"/>
                      <a:ext cx="5760" cy="792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9" name=""/>
                    <p:cNvSpPr/>
                    <p:nvPr/>
                  </p:nvSpPr>
                  <p:spPr>
                    <a:xfrm flipV="1">
                      <a:off x="8196840" y="4250880"/>
                      <a:ext cx="8640" cy="1044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0" name=""/>
                    <p:cNvSpPr/>
                    <p:nvPr/>
                  </p:nvSpPr>
                  <p:spPr>
                    <a:xfrm flipV="1">
                      <a:off x="8201160" y="4253760"/>
                      <a:ext cx="576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01" name=""/>
                  <p:cNvGrpSpPr/>
                  <p:nvPr/>
                </p:nvGrpSpPr>
                <p:grpSpPr>
                  <a:xfrm>
                    <a:off x="8205840" y="4256640"/>
                    <a:ext cx="21240" cy="19080"/>
                    <a:chOff x="8205840" y="4256640"/>
                    <a:chExt cx="21240" cy="19080"/>
                  </a:xfrm>
                </p:grpSpPr>
                <p:sp>
                  <p:nvSpPr>
                    <p:cNvPr id="2002" name=""/>
                    <p:cNvSpPr/>
                    <p:nvPr/>
                  </p:nvSpPr>
                  <p:spPr>
                    <a:xfrm flipV="1">
                      <a:off x="8205840" y="4256640"/>
                      <a:ext cx="8280" cy="1008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3" name=""/>
                    <p:cNvSpPr/>
                    <p:nvPr/>
                  </p:nvSpPr>
                  <p:spPr>
                    <a:xfrm flipV="1">
                      <a:off x="8209800" y="4258800"/>
                      <a:ext cx="540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4" name=""/>
                    <p:cNvSpPr/>
                    <p:nvPr/>
                  </p:nvSpPr>
                  <p:spPr>
                    <a:xfrm flipV="1">
                      <a:off x="8215560" y="4263840"/>
                      <a:ext cx="576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5" name=""/>
                    <p:cNvSpPr/>
                    <p:nvPr/>
                  </p:nvSpPr>
                  <p:spPr>
                    <a:xfrm flipV="1">
                      <a:off x="8218440" y="4265640"/>
                      <a:ext cx="8640" cy="1008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06" name=""/>
                <p:cNvSpPr/>
                <p:nvPr/>
              </p:nvSpPr>
              <p:spPr>
                <a:xfrm>
                  <a:off x="8239680" y="4298040"/>
                  <a:ext cx="28800" cy="28800"/>
                </a:xfrm>
                <a:custGeom>
                  <a:avLst/>
                  <a:gdLst/>
                  <a:ahLst/>
                  <a:rect l="l" t="t" r="r" b="b"/>
                  <a:pathLst>
                    <a:path w="123" h="130">
                      <a:moveTo>
                        <a:pt x="63" y="0"/>
                      </a:moveTo>
                      <a:lnTo>
                        <a:pt x="123" y="48"/>
                      </a:lnTo>
                      <a:lnTo>
                        <a:pt x="60" y="130"/>
                      </a:lnTo>
                      <a:lnTo>
                        <a:pt x="0" y="86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7" name=""/>
            <p:cNvGrpSpPr/>
            <p:nvPr/>
          </p:nvGrpSpPr>
          <p:grpSpPr>
            <a:xfrm>
              <a:off x="7524720" y="4011840"/>
              <a:ext cx="286920" cy="282240"/>
              <a:chOff x="7524720" y="4011840"/>
              <a:chExt cx="286920" cy="282240"/>
            </a:xfrm>
          </p:grpSpPr>
          <p:grpSp>
            <p:nvGrpSpPr>
              <p:cNvPr id="2008" name=""/>
              <p:cNvGrpSpPr/>
              <p:nvPr/>
            </p:nvGrpSpPr>
            <p:grpSpPr>
              <a:xfrm>
                <a:off x="7524720" y="4011840"/>
                <a:ext cx="286920" cy="183960"/>
                <a:chOff x="7524720" y="4011840"/>
                <a:chExt cx="286920" cy="183960"/>
              </a:xfrm>
            </p:grpSpPr>
            <p:sp>
              <p:nvSpPr>
                <p:cNvPr id="2009" name=""/>
                <p:cNvSpPr/>
                <p:nvPr/>
              </p:nvSpPr>
              <p:spPr>
                <a:xfrm rot="16200000">
                  <a:off x="7592400" y="3944160"/>
                  <a:ext cx="151560" cy="28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 rot="16200000">
                  <a:off x="7601760" y="3985920"/>
                  <a:ext cx="13032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 rot="16200000">
                  <a:off x="7606800" y="4030920"/>
                  <a:ext cx="12168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2" name=""/>
              <p:cNvGrpSpPr/>
              <p:nvPr/>
            </p:nvGrpSpPr>
            <p:grpSpPr>
              <a:xfrm>
                <a:off x="7577640" y="4102200"/>
                <a:ext cx="190440" cy="155520"/>
                <a:chOff x="7577640" y="4102200"/>
                <a:chExt cx="190440" cy="155520"/>
              </a:xfrm>
            </p:grpSpPr>
            <p:sp>
              <p:nvSpPr>
                <p:cNvPr id="2013" name=""/>
                <p:cNvSpPr/>
                <p:nvPr/>
              </p:nvSpPr>
              <p:spPr>
                <a:xfrm rot="16200000">
                  <a:off x="7608960" y="4070880"/>
                  <a:ext cx="12780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rot="16200000">
                  <a:off x="7616880" y="4102560"/>
                  <a:ext cx="10980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 rot="16200000">
                  <a:off x="7621920" y="4137480"/>
                  <a:ext cx="10260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6" name=""/>
              <p:cNvSpPr/>
              <p:nvPr/>
            </p:nvSpPr>
            <p:spPr>
              <a:xfrm rot="16200000">
                <a:off x="7630200" y="4164120"/>
                <a:ext cx="925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rot="16200000">
                <a:off x="7636320" y="4192200"/>
                <a:ext cx="8028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rot="16200000">
                <a:off x="7643520" y="4219560"/>
                <a:ext cx="68760" cy="7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rot="16200000">
                <a:off x="7659720" y="4235760"/>
                <a:ext cx="41040" cy="5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6685560" y="3629520"/>
              <a:ext cx="286920" cy="283680"/>
              <a:chOff x="6685560" y="3629520"/>
              <a:chExt cx="286920" cy="283680"/>
            </a:xfrm>
          </p:grpSpPr>
          <p:grpSp>
            <p:nvGrpSpPr>
              <p:cNvPr id="2021" name=""/>
              <p:cNvGrpSpPr/>
              <p:nvPr/>
            </p:nvGrpSpPr>
            <p:grpSpPr>
              <a:xfrm>
                <a:off x="6685560" y="3629520"/>
                <a:ext cx="286920" cy="185040"/>
                <a:chOff x="6685560" y="3629520"/>
                <a:chExt cx="286920" cy="185040"/>
              </a:xfrm>
            </p:grpSpPr>
            <p:sp>
              <p:nvSpPr>
                <p:cNvPr id="2022" name=""/>
                <p:cNvSpPr/>
                <p:nvPr/>
              </p:nvSpPr>
              <p:spPr>
                <a:xfrm rot="16200000">
                  <a:off x="6752880" y="3562200"/>
                  <a:ext cx="152280" cy="28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 rot="16200000">
                  <a:off x="6762240" y="3603960"/>
                  <a:ext cx="13140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 rot="16200000">
                  <a:off x="6767280" y="3649320"/>
                  <a:ext cx="12276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5" name=""/>
              <p:cNvGrpSpPr/>
              <p:nvPr/>
            </p:nvGrpSpPr>
            <p:grpSpPr>
              <a:xfrm>
                <a:off x="6738480" y="3719520"/>
                <a:ext cx="190440" cy="156960"/>
                <a:chOff x="6738480" y="3719520"/>
                <a:chExt cx="190440" cy="156960"/>
              </a:xfrm>
            </p:grpSpPr>
            <p:sp>
              <p:nvSpPr>
                <p:cNvPr id="2026" name=""/>
                <p:cNvSpPr/>
                <p:nvPr/>
              </p:nvSpPr>
              <p:spPr>
                <a:xfrm rot="16200000">
                  <a:off x="6769080" y="3688920"/>
                  <a:ext cx="12924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rot="16200000">
                  <a:off x="6777360" y="3720960"/>
                  <a:ext cx="11052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 rot="16200000">
                  <a:off x="6782400" y="3755880"/>
                  <a:ext cx="10332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9" name=""/>
              <p:cNvSpPr/>
              <p:nvPr/>
            </p:nvSpPr>
            <p:spPr>
              <a:xfrm rot="16200000">
                <a:off x="6790680" y="3782520"/>
                <a:ext cx="9324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rot="16200000">
                <a:off x="6796800" y="3810600"/>
                <a:ext cx="8064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rot="16200000">
                <a:off x="6804000" y="3838320"/>
                <a:ext cx="69480" cy="7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rot="16200000">
                <a:off x="6820560" y="3854520"/>
                <a:ext cx="41040" cy="5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3" name=""/>
            <p:cNvGrpSpPr/>
            <p:nvPr/>
          </p:nvGrpSpPr>
          <p:grpSpPr>
            <a:xfrm>
              <a:off x="7454880" y="2994120"/>
              <a:ext cx="287280" cy="281160"/>
              <a:chOff x="7454880" y="2994120"/>
              <a:chExt cx="287280" cy="281160"/>
            </a:xfrm>
          </p:grpSpPr>
          <p:grpSp>
            <p:nvGrpSpPr>
              <p:cNvPr id="2034" name=""/>
              <p:cNvGrpSpPr/>
              <p:nvPr/>
            </p:nvGrpSpPr>
            <p:grpSpPr>
              <a:xfrm>
                <a:off x="7454880" y="2994120"/>
                <a:ext cx="287280" cy="183240"/>
                <a:chOff x="7454880" y="2994120"/>
                <a:chExt cx="287280" cy="183240"/>
              </a:xfrm>
            </p:grpSpPr>
            <p:sp>
              <p:nvSpPr>
                <p:cNvPr id="2035" name=""/>
                <p:cNvSpPr/>
                <p:nvPr/>
              </p:nvSpPr>
              <p:spPr>
                <a:xfrm rot="16200000">
                  <a:off x="7522920" y="2925720"/>
                  <a:ext cx="150840" cy="287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 rot="16200000">
                  <a:off x="7532280" y="2967480"/>
                  <a:ext cx="130320" cy="246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rot="16200000">
                  <a:off x="7537320" y="3012480"/>
                  <a:ext cx="12168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8" name=""/>
              <p:cNvGrpSpPr/>
              <p:nvPr/>
            </p:nvGrpSpPr>
            <p:grpSpPr>
              <a:xfrm>
                <a:off x="7507800" y="3083760"/>
                <a:ext cx="190440" cy="155520"/>
                <a:chOff x="7507800" y="3083760"/>
                <a:chExt cx="190440" cy="155520"/>
              </a:xfrm>
            </p:grpSpPr>
            <p:sp>
              <p:nvSpPr>
                <p:cNvPr id="2039" name=""/>
                <p:cNvSpPr/>
                <p:nvPr/>
              </p:nvSpPr>
              <p:spPr>
                <a:xfrm rot="16200000">
                  <a:off x="7539120" y="3052440"/>
                  <a:ext cx="12780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 rot="16200000">
                  <a:off x="7547040" y="3084120"/>
                  <a:ext cx="10980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rot="16200000">
                  <a:off x="7552080" y="3119040"/>
                  <a:ext cx="10260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2" name=""/>
              <p:cNvSpPr/>
              <p:nvPr/>
            </p:nvSpPr>
            <p:spPr>
              <a:xfrm rot="16200000">
                <a:off x="7560360" y="3145320"/>
                <a:ext cx="925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rot="16200000">
                <a:off x="7566840" y="3173760"/>
                <a:ext cx="8028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rot="16200000">
                <a:off x="7574040" y="3200760"/>
                <a:ext cx="68760" cy="8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rot="16200000">
                <a:off x="7590240" y="3216600"/>
                <a:ext cx="41040" cy="6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7944480" y="3629520"/>
              <a:ext cx="286920" cy="283680"/>
              <a:chOff x="7944480" y="3629520"/>
              <a:chExt cx="286920" cy="283680"/>
            </a:xfrm>
          </p:grpSpPr>
          <p:grpSp>
            <p:nvGrpSpPr>
              <p:cNvPr id="2047" name=""/>
              <p:cNvGrpSpPr/>
              <p:nvPr/>
            </p:nvGrpSpPr>
            <p:grpSpPr>
              <a:xfrm>
                <a:off x="7944480" y="3629520"/>
                <a:ext cx="286920" cy="185040"/>
                <a:chOff x="7944480" y="3629520"/>
                <a:chExt cx="286920" cy="185040"/>
              </a:xfrm>
            </p:grpSpPr>
            <p:sp>
              <p:nvSpPr>
                <p:cNvPr id="2048" name=""/>
                <p:cNvSpPr/>
                <p:nvPr/>
              </p:nvSpPr>
              <p:spPr>
                <a:xfrm rot="16200000">
                  <a:off x="8011800" y="3562200"/>
                  <a:ext cx="152280" cy="28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rot="16200000">
                  <a:off x="8021160" y="3603960"/>
                  <a:ext cx="13140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rot="16200000">
                  <a:off x="8026200" y="3649320"/>
                  <a:ext cx="12276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1" name=""/>
              <p:cNvGrpSpPr/>
              <p:nvPr/>
            </p:nvGrpSpPr>
            <p:grpSpPr>
              <a:xfrm>
                <a:off x="7997400" y="3719520"/>
                <a:ext cx="190440" cy="156960"/>
                <a:chOff x="7997400" y="3719520"/>
                <a:chExt cx="190440" cy="156960"/>
              </a:xfrm>
            </p:grpSpPr>
            <p:sp>
              <p:nvSpPr>
                <p:cNvPr id="2052" name=""/>
                <p:cNvSpPr/>
                <p:nvPr/>
              </p:nvSpPr>
              <p:spPr>
                <a:xfrm rot="16200000">
                  <a:off x="8028000" y="3688920"/>
                  <a:ext cx="12924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rot="16200000">
                  <a:off x="8036280" y="3720960"/>
                  <a:ext cx="11052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rot="16200000">
                  <a:off x="8041320" y="3755880"/>
                  <a:ext cx="10332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5" name=""/>
              <p:cNvSpPr/>
              <p:nvPr/>
            </p:nvSpPr>
            <p:spPr>
              <a:xfrm rot="16200000">
                <a:off x="8049600" y="3782520"/>
                <a:ext cx="9324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rot="16200000">
                <a:off x="8055720" y="3810600"/>
                <a:ext cx="8064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rot="16200000">
                <a:off x="8062920" y="3838320"/>
                <a:ext cx="69480" cy="7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rot="16200000">
                <a:off x="8079480" y="3854520"/>
                <a:ext cx="41040" cy="5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9" name=""/>
            <p:cNvSpPr/>
            <p:nvPr/>
          </p:nvSpPr>
          <p:spPr>
            <a:xfrm flipV="1">
              <a:off x="1372320" y="2164680"/>
              <a:ext cx="1188720" cy="3826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V="1">
              <a:off x="3540960" y="1973160"/>
              <a:ext cx="2307960" cy="637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331080" y="2101680"/>
              <a:ext cx="1258920" cy="14641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2" name=""/>
            <p:cNvGrpSpPr/>
            <p:nvPr/>
          </p:nvGrpSpPr>
          <p:grpSpPr>
            <a:xfrm>
              <a:off x="4379400" y="4161600"/>
              <a:ext cx="686160" cy="444960"/>
              <a:chOff x="4379400" y="4161600"/>
              <a:chExt cx="686160" cy="444960"/>
            </a:xfrm>
          </p:grpSpPr>
          <p:sp>
            <p:nvSpPr>
              <p:cNvPr id="2063" name=""/>
              <p:cNvSpPr/>
              <p:nvPr/>
            </p:nvSpPr>
            <p:spPr>
              <a:xfrm rot="20468400">
                <a:off x="4555800" y="4343400"/>
                <a:ext cx="126000" cy="13248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rot="20468400">
                <a:off x="4755600" y="428004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rot="20468400">
                <a:off x="4483080" y="4330080"/>
                <a:ext cx="204120" cy="21600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rot="20468400">
                <a:off x="4742280" y="4236120"/>
                <a:ext cx="178920" cy="14364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rot="20468400">
                <a:off x="4419720" y="4434120"/>
                <a:ext cx="72720" cy="13572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rot="20468400">
                <a:off x="4884840" y="4181760"/>
                <a:ext cx="155880" cy="1771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rot="20468400">
                <a:off x="4780440" y="4452120"/>
                <a:ext cx="52560" cy="10692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rot="20468400">
                <a:off x="4732200" y="4411080"/>
                <a:ext cx="27000" cy="536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rot="20468400">
                <a:off x="4694760" y="4382280"/>
                <a:ext cx="23400" cy="3096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rot="20468400">
                <a:off x="4665240" y="4363200"/>
                <a:ext cx="32400" cy="2016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rot="20468400">
                <a:off x="4525200" y="436284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rot="20468400">
                <a:off x="4725000" y="4299480"/>
                <a:ext cx="81000" cy="10404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rot="20468400">
                <a:off x="4452840" y="4349880"/>
                <a:ext cx="204480" cy="21672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rot="20468400">
                <a:off x="4712040" y="4256280"/>
                <a:ext cx="178200" cy="14400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rot="20468400">
                <a:off x="4399200" y="4463280"/>
                <a:ext cx="72720" cy="13500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rot="20468400">
                <a:off x="4854960" y="4202640"/>
                <a:ext cx="155160" cy="1771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4403160" y="3429000"/>
              <a:ext cx="900720" cy="860400"/>
              <a:chOff x="4403160" y="3429000"/>
              <a:chExt cx="900720" cy="860400"/>
            </a:xfrm>
          </p:grpSpPr>
          <p:grpSp>
            <p:nvGrpSpPr>
              <p:cNvPr id="2080" name=""/>
              <p:cNvGrpSpPr/>
              <p:nvPr/>
            </p:nvGrpSpPr>
            <p:grpSpPr>
              <a:xfrm>
                <a:off x="4407840" y="3429000"/>
                <a:ext cx="896040" cy="860400"/>
                <a:chOff x="4407840" y="3429000"/>
                <a:chExt cx="896040" cy="860400"/>
              </a:xfrm>
            </p:grpSpPr>
            <p:sp>
              <p:nvSpPr>
                <p:cNvPr id="2081" name=""/>
                <p:cNvSpPr/>
                <p:nvPr/>
              </p:nvSpPr>
              <p:spPr>
                <a:xfrm flipH="1" rot="19018800">
                  <a:off x="5139720" y="3599280"/>
                  <a:ext cx="112320" cy="13140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H="1" rot="19018800">
                  <a:off x="5075640" y="3469680"/>
                  <a:ext cx="191880" cy="18180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H="1" rot="18299400">
                  <a:off x="4597200" y="4133520"/>
                  <a:ext cx="41400" cy="5004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H="1" rot="18299400">
                  <a:off x="4595400" y="4152960"/>
                  <a:ext cx="9000" cy="900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H="1" rot="18299400">
                  <a:off x="4621680" y="4227480"/>
                  <a:ext cx="59400" cy="4788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H="1" rot="18299400">
                  <a:off x="4937400" y="3786120"/>
                  <a:ext cx="116280" cy="1346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H="1" rot="18299400">
                  <a:off x="4974840" y="3830760"/>
                  <a:ext cx="40320" cy="4572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H="1" rot="18299400">
                  <a:off x="4671720" y="4030920"/>
                  <a:ext cx="116280" cy="1346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H="1" rot="18299400">
                  <a:off x="4709160" y="4075560"/>
                  <a:ext cx="41400" cy="4644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H="1" rot="19018800">
                  <a:off x="4412160" y="3683880"/>
                  <a:ext cx="740880" cy="30744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H="1" rot="18299400">
                  <a:off x="4559040" y="4099680"/>
                  <a:ext cx="18360" cy="388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H="1" rot="18299400">
                  <a:off x="5093640" y="3681000"/>
                  <a:ext cx="38160" cy="3672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H="1" rot="18299400">
                  <a:off x="4600440" y="4128120"/>
                  <a:ext cx="44280" cy="3708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H="1" rot="19018800">
                  <a:off x="4448880" y="3707640"/>
                  <a:ext cx="650160" cy="26820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H="1" rot="18299400">
                  <a:off x="4658040" y="3761640"/>
                  <a:ext cx="121680" cy="7668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H="1" rot="18299400">
                  <a:off x="4766760" y="3676320"/>
                  <a:ext cx="89640" cy="8136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7" name=""/>
              <p:cNvGrpSpPr/>
              <p:nvPr/>
            </p:nvGrpSpPr>
            <p:grpSpPr>
              <a:xfrm>
                <a:off x="4403160" y="3436560"/>
                <a:ext cx="460800" cy="338040"/>
                <a:chOff x="4403160" y="3436560"/>
                <a:chExt cx="460800" cy="338040"/>
              </a:xfrm>
            </p:grpSpPr>
            <p:sp>
              <p:nvSpPr>
                <p:cNvPr id="2098" name=""/>
                <p:cNvSpPr/>
                <p:nvPr/>
              </p:nvSpPr>
              <p:spPr>
                <a:xfrm rot="20233800">
                  <a:off x="4519800" y="3579480"/>
                  <a:ext cx="86040" cy="950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rot="20233800">
                  <a:off x="4651560" y="3528360"/>
                  <a:ext cx="55080" cy="7380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rot="20233800">
                  <a:off x="4471560" y="3570480"/>
                  <a:ext cx="138960" cy="15516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rot="20233800">
                  <a:off x="4641480" y="3495600"/>
                  <a:ext cx="122040" cy="10332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rot="20233800">
                  <a:off x="4431600" y="3649680"/>
                  <a:ext cx="49680" cy="9756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rot="20233800">
                  <a:off x="4737240" y="3452040"/>
                  <a:ext cx="106200" cy="12744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rot="20233800">
                  <a:off x="4679280" y="3650400"/>
                  <a:ext cx="36000" cy="7668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rot="20233800">
                  <a:off x="4642200" y="3623400"/>
                  <a:ext cx="18360" cy="385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 rot="20233800">
                  <a:off x="4613760" y="3604680"/>
                  <a:ext cx="15840" cy="2196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 rot="20233800">
                  <a:off x="4592520" y="3591720"/>
                  <a:ext cx="21960" cy="1440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 rot="20233800">
                  <a:off x="4500000" y="3594240"/>
                  <a:ext cx="85320" cy="9648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 rot="20233800">
                  <a:off x="4632120" y="3543480"/>
                  <a:ext cx="55080" cy="7488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 rot="20233800">
                  <a:off x="4452120" y="3586320"/>
                  <a:ext cx="139320" cy="15588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 rot="20233800">
                  <a:off x="4621680" y="3510720"/>
                  <a:ext cx="121680" cy="10368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 rot="20233800">
                  <a:off x="4419720" y="3671280"/>
                  <a:ext cx="49680" cy="9720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 rot="20233800">
                  <a:off x="4717800" y="3467880"/>
                  <a:ext cx="105840" cy="12744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4" name=""/>
            <p:cNvGrpSpPr/>
            <p:nvPr/>
          </p:nvGrpSpPr>
          <p:grpSpPr>
            <a:xfrm>
              <a:off x="1628280" y="5050800"/>
              <a:ext cx="1080360" cy="911880"/>
              <a:chOff x="1628280" y="5050800"/>
              <a:chExt cx="1080360" cy="911880"/>
            </a:xfrm>
          </p:grpSpPr>
          <p:sp>
            <p:nvSpPr>
              <p:cNvPr id="2115" name=""/>
              <p:cNvSpPr/>
              <p:nvPr/>
            </p:nvSpPr>
            <p:spPr>
              <a:xfrm flipH="1" rot="19621200">
                <a:off x="2501640" y="5301000"/>
                <a:ext cx="128520" cy="142560"/>
              </a:xfrm>
              <a:custGeom>
                <a:avLst/>
                <a:gdLst/>
                <a:ahLst/>
                <a:rect l="l" t="t" r="r" b="b"/>
                <a:pathLst>
                  <a:path w="873" h="1095">
                    <a:moveTo>
                      <a:pt x="836" y="163"/>
                    </a:moveTo>
                    <a:lnTo>
                      <a:pt x="861" y="187"/>
                    </a:lnTo>
                    <a:lnTo>
                      <a:pt x="873" y="211"/>
                    </a:lnTo>
                    <a:lnTo>
                      <a:pt x="867" y="230"/>
                    </a:lnTo>
                    <a:lnTo>
                      <a:pt x="855" y="248"/>
                    </a:lnTo>
                    <a:lnTo>
                      <a:pt x="830" y="260"/>
                    </a:lnTo>
                    <a:lnTo>
                      <a:pt x="800" y="266"/>
                    </a:lnTo>
                    <a:lnTo>
                      <a:pt x="764" y="260"/>
                    </a:lnTo>
                    <a:lnTo>
                      <a:pt x="733" y="248"/>
                    </a:lnTo>
                    <a:lnTo>
                      <a:pt x="594" y="193"/>
                    </a:lnTo>
                    <a:lnTo>
                      <a:pt x="473" y="181"/>
                    </a:lnTo>
                    <a:lnTo>
                      <a:pt x="370" y="205"/>
                    </a:lnTo>
                    <a:lnTo>
                      <a:pt x="285" y="266"/>
                    </a:lnTo>
                    <a:lnTo>
                      <a:pt x="236" y="339"/>
                    </a:lnTo>
                    <a:lnTo>
                      <a:pt x="218" y="423"/>
                    </a:lnTo>
                    <a:lnTo>
                      <a:pt x="230" y="502"/>
                    </a:lnTo>
                    <a:lnTo>
                      <a:pt x="291" y="575"/>
                    </a:lnTo>
                    <a:lnTo>
                      <a:pt x="333" y="617"/>
                    </a:lnTo>
                    <a:lnTo>
                      <a:pt x="333" y="647"/>
                    </a:lnTo>
                    <a:lnTo>
                      <a:pt x="309" y="659"/>
                    </a:lnTo>
                    <a:lnTo>
                      <a:pt x="267" y="684"/>
                    </a:lnTo>
                    <a:lnTo>
                      <a:pt x="170" y="768"/>
                    </a:lnTo>
                    <a:lnTo>
                      <a:pt x="133" y="847"/>
                    </a:lnTo>
                    <a:lnTo>
                      <a:pt x="145" y="908"/>
                    </a:lnTo>
                    <a:lnTo>
                      <a:pt x="200" y="944"/>
                    </a:lnTo>
                    <a:lnTo>
                      <a:pt x="267" y="968"/>
                    </a:lnTo>
                    <a:lnTo>
                      <a:pt x="345" y="962"/>
                    </a:lnTo>
                    <a:lnTo>
                      <a:pt x="406" y="932"/>
                    </a:lnTo>
                    <a:lnTo>
                      <a:pt x="448" y="871"/>
                    </a:lnTo>
                    <a:lnTo>
                      <a:pt x="485" y="823"/>
                    </a:lnTo>
                    <a:lnTo>
                      <a:pt x="539" y="805"/>
                    </a:lnTo>
                    <a:lnTo>
                      <a:pt x="582" y="823"/>
                    </a:lnTo>
                    <a:lnTo>
                      <a:pt x="588" y="883"/>
                    </a:lnTo>
                    <a:lnTo>
                      <a:pt x="570" y="932"/>
                    </a:lnTo>
                    <a:lnTo>
                      <a:pt x="533" y="986"/>
                    </a:lnTo>
                    <a:lnTo>
                      <a:pt x="485" y="1035"/>
                    </a:lnTo>
                    <a:lnTo>
                      <a:pt x="418" y="1071"/>
                    </a:lnTo>
                    <a:lnTo>
                      <a:pt x="345" y="1095"/>
                    </a:lnTo>
                    <a:lnTo>
                      <a:pt x="261" y="1095"/>
                    </a:lnTo>
                    <a:lnTo>
                      <a:pt x="170" y="1071"/>
                    </a:lnTo>
                    <a:lnTo>
                      <a:pt x="67" y="1017"/>
                    </a:lnTo>
                    <a:lnTo>
                      <a:pt x="36" y="986"/>
                    </a:lnTo>
                    <a:lnTo>
                      <a:pt x="12" y="938"/>
                    </a:lnTo>
                    <a:lnTo>
                      <a:pt x="0" y="883"/>
                    </a:lnTo>
                    <a:lnTo>
                      <a:pt x="0" y="829"/>
                    </a:lnTo>
                    <a:lnTo>
                      <a:pt x="12" y="774"/>
                    </a:lnTo>
                    <a:lnTo>
                      <a:pt x="42" y="720"/>
                    </a:lnTo>
                    <a:lnTo>
                      <a:pt x="97" y="678"/>
                    </a:lnTo>
                    <a:lnTo>
                      <a:pt x="164" y="653"/>
                    </a:lnTo>
                    <a:lnTo>
                      <a:pt x="109" y="611"/>
                    </a:lnTo>
                    <a:lnTo>
                      <a:pt x="67" y="557"/>
                    </a:lnTo>
                    <a:lnTo>
                      <a:pt x="36" y="496"/>
                    </a:lnTo>
                    <a:lnTo>
                      <a:pt x="24" y="423"/>
                    </a:lnTo>
                    <a:lnTo>
                      <a:pt x="24" y="351"/>
                    </a:lnTo>
                    <a:lnTo>
                      <a:pt x="36" y="278"/>
                    </a:lnTo>
                    <a:lnTo>
                      <a:pt x="60" y="211"/>
                    </a:lnTo>
                    <a:lnTo>
                      <a:pt x="103" y="145"/>
                    </a:lnTo>
                    <a:lnTo>
                      <a:pt x="151" y="90"/>
                    </a:lnTo>
                    <a:lnTo>
                      <a:pt x="218" y="48"/>
                    </a:lnTo>
                    <a:lnTo>
                      <a:pt x="291" y="18"/>
                    </a:lnTo>
                    <a:lnTo>
                      <a:pt x="382" y="0"/>
                    </a:lnTo>
                    <a:lnTo>
                      <a:pt x="479" y="6"/>
                    </a:lnTo>
                    <a:lnTo>
                      <a:pt x="588" y="30"/>
                    </a:lnTo>
                    <a:lnTo>
                      <a:pt x="709" y="84"/>
                    </a:lnTo>
                    <a:lnTo>
                      <a:pt x="836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H="1" rot="19621200">
                <a:off x="2452680" y="5156640"/>
                <a:ext cx="219600" cy="196560"/>
              </a:xfrm>
              <a:custGeom>
                <a:avLst/>
                <a:gdLst/>
                <a:ahLst/>
                <a:rect l="l" t="t" r="r" b="b"/>
                <a:pathLst>
                  <a:path w="1492" h="1513">
                    <a:moveTo>
                      <a:pt x="716" y="442"/>
                    </a:moveTo>
                    <a:lnTo>
                      <a:pt x="758" y="248"/>
                    </a:lnTo>
                    <a:lnTo>
                      <a:pt x="849" y="109"/>
                    </a:lnTo>
                    <a:lnTo>
                      <a:pt x="976" y="24"/>
                    </a:lnTo>
                    <a:lnTo>
                      <a:pt x="1110" y="0"/>
                    </a:lnTo>
                    <a:lnTo>
                      <a:pt x="1249" y="24"/>
                    </a:lnTo>
                    <a:lnTo>
                      <a:pt x="1364" y="97"/>
                    </a:lnTo>
                    <a:lnTo>
                      <a:pt x="1455" y="218"/>
                    </a:lnTo>
                    <a:lnTo>
                      <a:pt x="1492" y="387"/>
                    </a:lnTo>
                    <a:lnTo>
                      <a:pt x="1480" y="442"/>
                    </a:lnTo>
                    <a:lnTo>
                      <a:pt x="1455" y="454"/>
                    </a:lnTo>
                    <a:lnTo>
                      <a:pt x="1425" y="430"/>
                    </a:lnTo>
                    <a:lnTo>
                      <a:pt x="1407" y="387"/>
                    </a:lnTo>
                    <a:lnTo>
                      <a:pt x="1364" y="254"/>
                    </a:lnTo>
                    <a:lnTo>
                      <a:pt x="1286" y="176"/>
                    </a:lnTo>
                    <a:lnTo>
                      <a:pt x="1189" y="139"/>
                    </a:lnTo>
                    <a:lnTo>
                      <a:pt x="1080" y="145"/>
                    </a:lnTo>
                    <a:lnTo>
                      <a:pt x="976" y="194"/>
                    </a:lnTo>
                    <a:lnTo>
                      <a:pt x="898" y="284"/>
                    </a:lnTo>
                    <a:lnTo>
                      <a:pt x="861" y="412"/>
                    </a:lnTo>
                    <a:lnTo>
                      <a:pt x="873" y="581"/>
                    </a:lnTo>
                    <a:lnTo>
                      <a:pt x="867" y="623"/>
                    </a:lnTo>
                    <a:lnTo>
                      <a:pt x="843" y="636"/>
                    </a:lnTo>
                    <a:lnTo>
                      <a:pt x="801" y="630"/>
                    </a:lnTo>
                    <a:lnTo>
                      <a:pt x="764" y="611"/>
                    </a:lnTo>
                    <a:lnTo>
                      <a:pt x="637" y="539"/>
                    </a:lnTo>
                    <a:lnTo>
                      <a:pt x="510" y="527"/>
                    </a:lnTo>
                    <a:lnTo>
                      <a:pt x="407" y="563"/>
                    </a:lnTo>
                    <a:lnTo>
                      <a:pt x="322" y="642"/>
                    </a:lnTo>
                    <a:lnTo>
                      <a:pt x="267" y="751"/>
                    </a:lnTo>
                    <a:lnTo>
                      <a:pt x="255" y="878"/>
                    </a:lnTo>
                    <a:lnTo>
                      <a:pt x="291" y="1011"/>
                    </a:lnTo>
                    <a:lnTo>
                      <a:pt x="388" y="1138"/>
                    </a:lnTo>
                    <a:lnTo>
                      <a:pt x="413" y="1180"/>
                    </a:lnTo>
                    <a:lnTo>
                      <a:pt x="394" y="1205"/>
                    </a:lnTo>
                    <a:lnTo>
                      <a:pt x="352" y="1223"/>
                    </a:lnTo>
                    <a:lnTo>
                      <a:pt x="304" y="1223"/>
                    </a:lnTo>
                    <a:lnTo>
                      <a:pt x="213" y="1211"/>
                    </a:lnTo>
                    <a:lnTo>
                      <a:pt x="158" y="1229"/>
                    </a:lnTo>
                    <a:lnTo>
                      <a:pt x="140" y="1265"/>
                    </a:lnTo>
                    <a:lnTo>
                      <a:pt x="146" y="1307"/>
                    </a:lnTo>
                    <a:lnTo>
                      <a:pt x="170" y="1350"/>
                    </a:lnTo>
                    <a:lnTo>
                      <a:pt x="219" y="1392"/>
                    </a:lnTo>
                    <a:lnTo>
                      <a:pt x="267" y="1416"/>
                    </a:lnTo>
                    <a:lnTo>
                      <a:pt x="328" y="1422"/>
                    </a:lnTo>
                    <a:lnTo>
                      <a:pt x="346" y="1422"/>
                    </a:lnTo>
                    <a:lnTo>
                      <a:pt x="364" y="1435"/>
                    </a:lnTo>
                    <a:lnTo>
                      <a:pt x="370" y="1447"/>
                    </a:lnTo>
                    <a:lnTo>
                      <a:pt x="370" y="1465"/>
                    </a:lnTo>
                    <a:lnTo>
                      <a:pt x="358" y="1489"/>
                    </a:lnTo>
                    <a:lnTo>
                      <a:pt x="328" y="1501"/>
                    </a:lnTo>
                    <a:lnTo>
                      <a:pt x="279" y="1513"/>
                    </a:lnTo>
                    <a:lnTo>
                      <a:pt x="207" y="1513"/>
                    </a:lnTo>
                    <a:lnTo>
                      <a:pt x="146" y="1495"/>
                    </a:lnTo>
                    <a:lnTo>
                      <a:pt x="91" y="1459"/>
                    </a:lnTo>
                    <a:lnTo>
                      <a:pt x="43" y="1404"/>
                    </a:lnTo>
                    <a:lnTo>
                      <a:pt x="13" y="1338"/>
                    </a:lnTo>
                    <a:lnTo>
                      <a:pt x="0" y="1271"/>
                    </a:lnTo>
                    <a:lnTo>
                      <a:pt x="13" y="1205"/>
                    </a:lnTo>
                    <a:lnTo>
                      <a:pt x="55" y="1144"/>
                    </a:lnTo>
                    <a:lnTo>
                      <a:pt x="140" y="1096"/>
                    </a:lnTo>
                    <a:lnTo>
                      <a:pt x="73" y="987"/>
                    </a:lnTo>
                    <a:lnTo>
                      <a:pt x="43" y="853"/>
                    </a:lnTo>
                    <a:lnTo>
                      <a:pt x="55" y="708"/>
                    </a:lnTo>
                    <a:lnTo>
                      <a:pt x="110" y="569"/>
                    </a:lnTo>
                    <a:lnTo>
                      <a:pt x="200" y="454"/>
                    </a:lnTo>
                    <a:lnTo>
                      <a:pt x="334" y="381"/>
                    </a:lnTo>
                    <a:lnTo>
                      <a:pt x="504" y="369"/>
                    </a:lnTo>
                    <a:lnTo>
                      <a:pt x="716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H="1" rot="18901800">
                <a:off x="1794600" y="57870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21" h="418">
                    <a:moveTo>
                      <a:pt x="79" y="243"/>
                    </a:moveTo>
                    <a:lnTo>
                      <a:pt x="67" y="309"/>
                    </a:lnTo>
                    <a:lnTo>
                      <a:pt x="85" y="345"/>
                    </a:lnTo>
                    <a:lnTo>
                      <a:pt x="115" y="345"/>
                    </a:lnTo>
                    <a:lnTo>
                      <a:pt x="146" y="321"/>
                    </a:lnTo>
                    <a:lnTo>
                      <a:pt x="158" y="285"/>
                    </a:lnTo>
                    <a:lnTo>
                      <a:pt x="158" y="261"/>
                    </a:lnTo>
                    <a:lnTo>
                      <a:pt x="140" y="237"/>
                    </a:lnTo>
                    <a:lnTo>
                      <a:pt x="127" y="218"/>
                    </a:lnTo>
                    <a:lnTo>
                      <a:pt x="121" y="194"/>
                    </a:lnTo>
                    <a:lnTo>
                      <a:pt x="133" y="164"/>
                    </a:lnTo>
                    <a:lnTo>
                      <a:pt x="152" y="134"/>
                    </a:lnTo>
                    <a:lnTo>
                      <a:pt x="170" y="109"/>
                    </a:lnTo>
                    <a:lnTo>
                      <a:pt x="152" y="73"/>
                    </a:lnTo>
                    <a:lnTo>
                      <a:pt x="170" y="25"/>
                    </a:lnTo>
                    <a:lnTo>
                      <a:pt x="218" y="0"/>
                    </a:lnTo>
                    <a:lnTo>
                      <a:pt x="279" y="13"/>
                    </a:lnTo>
                    <a:lnTo>
                      <a:pt x="321" y="67"/>
                    </a:lnTo>
                    <a:lnTo>
                      <a:pt x="309" y="115"/>
                    </a:lnTo>
                    <a:lnTo>
                      <a:pt x="273" y="152"/>
                    </a:lnTo>
                    <a:lnTo>
                      <a:pt x="230" y="152"/>
                    </a:lnTo>
                    <a:lnTo>
                      <a:pt x="218" y="170"/>
                    </a:lnTo>
                    <a:lnTo>
                      <a:pt x="200" y="188"/>
                    </a:lnTo>
                    <a:lnTo>
                      <a:pt x="194" y="212"/>
                    </a:lnTo>
                    <a:lnTo>
                      <a:pt x="212" y="237"/>
                    </a:lnTo>
                    <a:lnTo>
                      <a:pt x="237" y="267"/>
                    </a:lnTo>
                    <a:lnTo>
                      <a:pt x="243" y="303"/>
                    </a:lnTo>
                    <a:lnTo>
                      <a:pt x="230" y="339"/>
                    </a:lnTo>
                    <a:lnTo>
                      <a:pt x="212" y="370"/>
                    </a:lnTo>
                    <a:lnTo>
                      <a:pt x="182" y="400"/>
                    </a:lnTo>
                    <a:lnTo>
                      <a:pt x="140" y="418"/>
                    </a:lnTo>
                    <a:lnTo>
                      <a:pt x="103" y="418"/>
                    </a:lnTo>
                    <a:lnTo>
                      <a:pt x="61" y="406"/>
                    </a:lnTo>
                    <a:lnTo>
                      <a:pt x="6" y="352"/>
                    </a:lnTo>
                    <a:lnTo>
                      <a:pt x="0" y="297"/>
                    </a:lnTo>
                    <a:lnTo>
                      <a:pt x="24" y="261"/>
                    </a:lnTo>
                    <a:lnTo>
                      <a:pt x="79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H="1" rot="18901800">
                <a:off x="1793520" y="580464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18" y="66"/>
                    </a:moveTo>
                    <a:lnTo>
                      <a:pt x="30" y="72"/>
                    </a:lnTo>
                    <a:lnTo>
                      <a:pt x="49" y="72"/>
                    </a:lnTo>
                    <a:lnTo>
                      <a:pt x="61" y="66"/>
                    </a:lnTo>
                    <a:lnTo>
                      <a:pt x="67" y="60"/>
                    </a:lnTo>
                    <a:lnTo>
                      <a:pt x="73" y="48"/>
                    </a:lnTo>
                    <a:lnTo>
                      <a:pt x="73" y="30"/>
                    </a:lnTo>
                    <a:lnTo>
                      <a:pt x="67" y="18"/>
                    </a:lnTo>
                    <a:lnTo>
                      <a:pt x="55" y="6"/>
                    </a:lnTo>
                    <a:lnTo>
                      <a:pt x="43" y="0"/>
                    </a:lnTo>
                    <a:lnTo>
                      <a:pt x="30" y="0"/>
                    </a:lnTo>
                    <a:lnTo>
                      <a:pt x="18" y="6"/>
                    </a:lnTo>
                    <a:lnTo>
                      <a:pt x="6" y="18"/>
                    </a:lnTo>
                    <a:lnTo>
                      <a:pt x="0" y="30"/>
                    </a:lnTo>
                    <a:lnTo>
                      <a:pt x="0" y="48"/>
                    </a:lnTo>
                    <a:lnTo>
                      <a:pt x="6" y="60"/>
                    </a:lnTo>
                    <a:lnTo>
                      <a:pt x="18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 rot="18901800">
                <a:off x="1800360" y="5894640"/>
                <a:ext cx="67680" cy="51480"/>
              </a:xfrm>
              <a:custGeom>
                <a:avLst/>
                <a:gdLst/>
                <a:ahLst/>
                <a:rect l="l" t="t" r="r" b="b"/>
                <a:pathLst>
                  <a:path w="461" h="400">
                    <a:moveTo>
                      <a:pt x="30" y="67"/>
                    </a:moveTo>
                    <a:lnTo>
                      <a:pt x="49" y="49"/>
                    </a:lnTo>
                    <a:lnTo>
                      <a:pt x="79" y="31"/>
                    </a:lnTo>
                    <a:lnTo>
                      <a:pt x="115" y="19"/>
                    </a:lnTo>
                    <a:lnTo>
                      <a:pt x="164" y="7"/>
                    </a:lnTo>
                    <a:lnTo>
                      <a:pt x="212" y="0"/>
                    </a:lnTo>
                    <a:lnTo>
                      <a:pt x="261" y="0"/>
                    </a:lnTo>
                    <a:lnTo>
                      <a:pt x="303" y="0"/>
                    </a:lnTo>
                    <a:lnTo>
                      <a:pt x="346" y="7"/>
                    </a:lnTo>
                    <a:lnTo>
                      <a:pt x="424" y="73"/>
                    </a:lnTo>
                    <a:lnTo>
                      <a:pt x="455" y="194"/>
                    </a:lnTo>
                    <a:lnTo>
                      <a:pt x="461" y="309"/>
                    </a:lnTo>
                    <a:lnTo>
                      <a:pt x="455" y="364"/>
                    </a:lnTo>
                    <a:lnTo>
                      <a:pt x="418" y="376"/>
                    </a:lnTo>
                    <a:lnTo>
                      <a:pt x="364" y="388"/>
                    </a:lnTo>
                    <a:lnTo>
                      <a:pt x="303" y="394"/>
                    </a:lnTo>
                    <a:lnTo>
                      <a:pt x="237" y="400"/>
                    </a:lnTo>
                    <a:lnTo>
                      <a:pt x="170" y="400"/>
                    </a:lnTo>
                    <a:lnTo>
                      <a:pt x="109" y="394"/>
                    </a:lnTo>
                    <a:lnTo>
                      <a:pt x="61" y="394"/>
                    </a:lnTo>
                    <a:lnTo>
                      <a:pt x="30" y="382"/>
                    </a:lnTo>
                    <a:lnTo>
                      <a:pt x="6" y="327"/>
                    </a:lnTo>
                    <a:lnTo>
                      <a:pt x="0" y="230"/>
                    </a:lnTo>
                    <a:lnTo>
                      <a:pt x="12" y="134"/>
                    </a:lnTo>
                    <a:lnTo>
                      <a:pt x="3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H="1" rot="18901800">
                <a:off x="2236320" y="5471640"/>
                <a:ext cx="132840" cy="145440"/>
              </a:xfrm>
              <a:custGeom>
                <a:avLst/>
                <a:gdLst/>
                <a:ahLst/>
                <a:rect l="l" t="t" r="r" b="b"/>
                <a:pathLst>
                  <a:path w="903" h="1120">
                    <a:moveTo>
                      <a:pt x="455" y="1101"/>
                    </a:moveTo>
                    <a:lnTo>
                      <a:pt x="546" y="1059"/>
                    </a:lnTo>
                    <a:lnTo>
                      <a:pt x="631" y="1005"/>
                    </a:lnTo>
                    <a:lnTo>
                      <a:pt x="709" y="932"/>
                    </a:lnTo>
                    <a:lnTo>
                      <a:pt x="776" y="841"/>
                    </a:lnTo>
                    <a:lnTo>
                      <a:pt x="831" y="750"/>
                    </a:lnTo>
                    <a:lnTo>
                      <a:pt x="873" y="641"/>
                    </a:lnTo>
                    <a:lnTo>
                      <a:pt x="897" y="532"/>
                    </a:lnTo>
                    <a:lnTo>
                      <a:pt x="903" y="423"/>
                    </a:lnTo>
                    <a:lnTo>
                      <a:pt x="897" y="320"/>
                    </a:lnTo>
                    <a:lnTo>
                      <a:pt x="867" y="224"/>
                    </a:lnTo>
                    <a:lnTo>
                      <a:pt x="825" y="145"/>
                    </a:lnTo>
                    <a:lnTo>
                      <a:pt x="770" y="78"/>
                    </a:lnTo>
                    <a:lnTo>
                      <a:pt x="703" y="36"/>
                    </a:lnTo>
                    <a:lnTo>
                      <a:pt x="624" y="6"/>
                    </a:lnTo>
                    <a:lnTo>
                      <a:pt x="540" y="0"/>
                    </a:lnTo>
                    <a:lnTo>
                      <a:pt x="449" y="18"/>
                    </a:lnTo>
                    <a:lnTo>
                      <a:pt x="358" y="54"/>
                    </a:lnTo>
                    <a:lnTo>
                      <a:pt x="273" y="115"/>
                    </a:lnTo>
                    <a:lnTo>
                      <a:pt x="200" y="181"/>
                    </a:lnTo>
                    <a:lnTo>
                      <a:pt x="133" y="272"/>
                    </a:lnTo>
                    <a:lnTo>
                      <a:pt x="79" y="369"/>
                    </a:lnTo>
                    <a:lnTo>
                      <a:pt x="36" y="472"/>
                    </a:lnTo>
                    <a:lnTo>
                      <a:pt x="6" y="581"/>
                    </a:lnTo>
                    <a:lnTo>
                      <a:pt x="0" y="690"/>
                    </a:lnTo>
                    <a:lnTo>
                      <a:pt x="12" y="799"/>
                    </a:lnTo>
                    <a:lnTo>
                      <a:pt x="36" y="889"/>
                    </a:lnTo>
                    <a:lnTo>
                      <a:pt x="79" y="974"/>
                    </a:lnTo>
                    <a:lnTo>
                      <a:pt x="133" y="1035"/>
                    </a:lnTo>
                    <a:lnTo>
                      <a:pt x="200" y="1083"/>
                    </a:lnTo>
                    <a:lnTo>
                      <a:pt x="279" y="1107"/>
                    </a:lnTo>
                    <a:lnTo>
                      <a:pt x="364" y="1120"/>
                    </a:lnTo>
                    <a:lnTo>
                      <a:pt x="455" y="1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H="1" rot="18901800">
                <a:off x="2278440" y="5519880"/>
                <a:ext cx="46080" cy="49320"/>
              </a:xfrm>
              <a:custGeom>
                <a:avLst/>
                <a:gdLst/>
                <a:ahLst/>
                <a:rect l="l" t="t" r="r" b="b"/>
                <a:pathLst>
                  <a:path w="315" h="381">
                    <a:moveTo>
                      <a:pt x="158" y="375"/>
                    </a:moveTo>
                    <a:lnTo>
                      <a:pt x="218" y="345"/>
                    </a:lnTo>
                    <a:lnTo>
                      <a:pt x="267" y="284"/>
                    </a:lnTo>
                    <a:lnTo>
                      <a:pt x="303" y="218"/>
                    </a:lnTo>
                    <a:lnTo>
                      <a:pt x="315" y="139"/>
                    </a:lnTo>
                    <a:lnTo>
                      <a:pt x="303" y="73"/>
                    </a:lnTo>
                    <a:lnTo>
                      <a:pt x="267" y="24"/>
                    </a:lnTo>
                    <a:lnTo>
                      <a:pt x="218" y="0"/>
                    </a:lnTo>
                    <a:lnTo>
                      <a:pt x="158" y="0"/>
                    </a:lnTo>
                    <a:lnTo>
                      <a:pt x="97" y="30"/>
                    </a:lnTo>
                    <a:lnTo>
                      <a:pt x="43" y="85"/>
                    </a:lnTo>
                    <a:lnTo>
                      <a:pt x="12" y="157"/>
                    </a:lnTo>
                    <a:lnTo>
                      <a:pt x="0" y="236"/>
                    </a:lnTo>
                    <a:lnTo>
                      <a:pt x="12" y="303"/>
                    </a:lnTo>
                    <a:lnTo>
                      <a:pt x="43" y="357"/>
                    </a:lnTo>
                    <a:lnTo>
                      <a:pt x="97" y="381"/>
                    </a:lnTo>
                    <a:lnTo>
                      <a:pt x="158" y="3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H="1" rot="18901800">
                <a:off x="1888560" y="5694120"/>
                <a:ext cx="132840" cy="145440"/>
              </a:xfrm>
              <a:custGeom>
                <a:avLst/>
                <a:gdLst/>
                <a:ahLst/>
                <a:rect l="l" t="t" r="r" b="b"/>
                <a:pathLst>
                  <a:path w="903" h="1120">
                    <a:moveTo>
                      <a:pt x="455" y="1102"/>
                    </a:moveTo>
                    <a:lnTo>
                      <a:pt x="546" y="1066"/>
                    </a:lnTo>
                    <a:lnTo>
                      <a:pt x="631" y="1011"/>
                    </a:lnTo>
                    <a:lnTo>
                      <a:pt x="703" y="939"/>
                    </a:lnTo>
                    <a:lnTo>
                      <a:pt x="770" y="854"/>
                    </a:lnTo>
                    <a:lnTo>
                      <a:pt x="825" y="757"/>
                    </a:lnTo>
                    <a:lnTo>
                      <a:pt x="867" y="648"/>
                    </a:lnTo>
                    <a:lnTo>
                      <a:pt x="897" y="539"/>
                    </a:lnTo>
                    <a:lnTo>
                      <a:pt x="903" y="430"/>
                    </a:lnTo>
                    <a:lnTo>
                      <a:pt x="891" y="321"/>
                    </a:lnTo>
                    <a:lnTo>
                      <a:pt x="867" y="230"/>
                    </a:lnTo>
                    <a:lnTo>
                      <a:pt x="825" y="146"/>
                    </a:lnTo>
                    <a:lnTo>
                      <a:pt x="770" y="85"/>
                    </a:lnTo>
                    <a:lnTo>
                      <a:pt x="703" y="37"/>
                    </a:lnTo>
                    <a:lnTo>
                      <a:pt x="625" y="13"/>
                    </a:lnTo>
                    <a:lnTo>
                      <a:pt x="540" y="0"/>
                    </a:lnTo>
                    <a:lnTo>
                      <a:pt x="449" y="19"/>
                    </a:lnTo>
                    <a:lnTo>
                      <a:pt x="358" y="55"/>
                    </a:lnTo>
                    <a:lnTo>
                      <a:pt x="273" y="115"/>
                    </a:lnTo>
                    <a:lnTo>
                      <a:pt x="200" y="188"/>
                    </a:lnTo>
                    <a:lnTo>
                      <a:pt x="134" y="273"/>
                    </a:lnTo>
                    <a:lnTo>
                      <a:pt x="79" y="370"/>
                    </a:lnTo>
                    <a:lnTo>
                      <a:pt x="37" y="479"/>
                    </a:lnTo>
                    <a:lnTo>
                      <a:pt x="6" y="588"/>
                    </a:lnTo>
                    <a:lnTo>
                      <a:pt x="0" y="697"/>
                    </a:lnTo>
                    <a:lnTo>
                      <a:pt x="12" y="805"/>
                    </a:lnTo>
                    <a:lnTo>
                      <a:pt x="37" y="896"/>
                    </a:lnTo>
                    <a:lnTo>
                      <a:pt x="79" y="981"/>
                    </a:lnTo>
                    <a:lnTo>
                      <a:pt x="134" y="1042"/>
                    </a:lnTo>
                    <a:lnTo>
                      <a:pt x="200" y="1090"/>
                    </a:lnTo>
                    <a:lnTo>
                      <a:pt x="279" y="1114"/>
                    </a:lnTo>
                    <a:lnTo>
                      <a:pt x="364" y="1120"/>
                    </a:lnTo>
                    <a:lnTo>
                      <a:pt x="455" y="1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H="1" rot="18901800">
                <a:off x="1931760" y="5742360"/>
                <a:ext cx="47520" cy="50400"/>
              </a:xfrm>
              <a:custGeom>
                <a:avLst/>
                <a:gdLst/>
                <a:ahLst/>
                <a:rect l="l" t="t" r="r" b="b"/>
                <a:pathLst>
                  <a:path w="321" h="387">
                    <a:moveTo>
                      <a:pt x="164" y="387"/>
                    </a:moveTo>
                    <a:lnTo>
                      <a:pt x="224" y="351"/>
                    </a:lnTo>
                    <a:lnTo>
                      <a:pt x="273" y="296"/>
                    </a:lnTo>
                    <a:lnTo>
                      <a:pt x="309" y="224"/>
                    </a:lnTo>
                    <a:lnTo>
                      <a:pt x="321" y="145"/>
                    </a:lnTo>
                    <a:lnTo>
                      <a:pt x="309" y="78"/>
                    </a:lnTo>
                    <a:lnTo>
                      <a:pt x="273" y="24"/>
                    </a:lnTo>
                    <a:lnTo>
                      <a:pt x="224" y="0"/>
                    </a:lnTo>
                    <a:lnTo>
                      <a:pt x="158" y="6"/>
                    </a:lnTo>
                    <a:lnTo>
                      <a:pt x="97" y="36"/>
                    </a:lnTo>
                    <a:lnTo>
                      <a:pt x="49" y="96"/>
                    </a:lnTo>
                    <a:lnTo>
                      <a:pt x="12" y="163"/>
                    </a:lnTo>
                    <a:lnTo>
                      <a:pt x="0" y="242"/>
                    </a:lnTo>
                    <a:lnTo>
                      <a:pt x="12" y="308"/>
                    </a:lnTo>
                    <a:lnTo>
                      <a:pt x="49" y="363"/>
                    </a:lnTo>
                    <a:lnTo>
                      <a:pt x="97" y="387"/>
                    </a:lnTo>
                    <a:lnTo>
                      <a:pt x="164" y="3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H="1" rot="19621200">
                <a:off x="1650240" y="5325480"/>
                <a:ext cx="846000" cy="332280"/>
              </a:xfrm>
              <a:custGeom>
                <a:avLst/>
                <a:gdLst/>
                <a:ahLst/>
                <a:rect l="l" t="t" r="r" b="b"/>
                <a:pathLst>
                  <a:path w="2763" h="1174">
                    <a:moveTo>
                      <a:pt x="2327" y="374"/>
                    </a:moveTo>
                    <a:lnTo>
                      <a:pt x="2529" y="452"/>
                    </a:lnTo>
                    <a:lnTo>
                      <a:pt x="2661" y="527"/>
                    </a:lnTo>
                    <a:lnTo>
                      <a:pt x="2668" y="560"/>
                    </a:lnTo>
                    <a:lnTo>
                      <a:pt x="2665" y="591"/>
                    </a:lnTo>
                    <a:lnTo>
                      <a:pt x="2662" y="615"/>
                    </a:lnTo>
                    <a:lnTo>
                      <a:pt x="2659" y="641"/>
                    </a:lnTo>
                    <a:lnTo>
                      <a:pt x="2662" y="655"/>
                    </a:lnTo>
                    <a:lnTo>
                      <a:pt x="2672" y="663"/>
                    </a:lnTo>
                    <a:lnTo>
                      <a:pt x="2711" y="676"/>
                    </a:lnTo>
                    <a:lnTo>
                      <a:pt x="2740" y="705"/>
                    </a:lnTo>
                    <a:lnTo>
                      <a:pt x="2757" y="740"/>
                    </a:lnTo>
                    <a:lnTo>
                      <a:pt x="2763" y="778"/>
                    </a:lnTo>
                    <a:lnTo>
                      <a:pt x="2760" y="820"/>
                    </a:lnTo>
                    <a:lnTo>
                      <a:pt x="2751" y="860"/>
                    </a:lnTo>
                    <a:lnTo>
                      <a:pt x="2728" y="896"/>
                    </a:lnTo>
                    <a:lnTo>
                      <a:pt x="2701" y="921"/>
                    </a:lnTo>
                    <a:lnTo>
                      <a:pt x="2732" y="956"/>
                    </a:lnTo>
                    <a:lnTo>
                      <a:pt x="2747" y="999"/>
                    </a:lnTo>
                    <a:lnTo>
                      <a:pt x="2748" y="1047"/>
                    </a:lnTo>
                    <a:lnTo>
                      <a:pt x="2732" y="1092"/>
                    </a:lnTo>
                    <a:lnTo>
                      <a:pt x="2696" y="1130"/>
                    </a:lnTo>
                    <a:lnTo>
                      <a:pt x="2644" y="1151"/>
                    </a:lnTo>
                    <a:lnTo>
                      <a:pt x="2575" y="1154"/>
                    </a:lnTo>
                    <a:lnTo>
                      <a:pt x="2486" y="1127"/>
                    </a:lnTo>
                    <a:lnTo>
                      <a:pt x="2485" y="1105"/>
                    </a:lnTo>
                    <a:lnTo>
                      <a:pt x="2485" y="1076"/>
                    </a:lnTo>
                    <a:lnTo>
                      <a:pt x="2483" y="1045"/>
                    </a:lnTo>
                    <a:lnTo>
                      <a:pt x="2482" y="1010"/>
                    </a:lnTo>
                    <a:lnTo>
                      <a:pt x="2474" y="980"/>
                    </a:lnTo>
                    <a:lnTo>
                      <a:pt x="2460" y="949"/>
                    </a:lnTo>
                    <a:lnTo>
                      <a:pt x="2436" y="922"/>
                    </a:lnTo>
                    <a:lnTo>
                      <a:pt x="2406" y="898"/>
                    </a:lnTo>
                    <a:lnTo>
                      <a:pt x="2348" y="878"/>
                    </a:lnTo>
                    <a:lnTo>
                      <a:pt x="2286" y="874"/>
                    </a:lnTo>
                    <a:lnTo>
                      <a:pt x="2221" y="884"/>
                    </a:lnTo>
                    <a:lnTo>
                      <a:pt x="2154" y="907"/>
                    </a:lnTo>
                    <a:lnTo>
                      <a:pt x="2091" y="948"/>
                    </a:lnTo>
                    <a:lnTo>
                      <a:pt x="2029" y="998"/>
                    </a:lnTo>
                    <a:lnTo>
                      <a:pt x="1977" y="1061"/>
                    </a:lnTo>
                    <a:lnTo>
                      <a:pt x="1932" y="1137"/>
                    </a:lnTo>
                    <a:lnTo>
                      <a:pt x="1908" y="1152"/>
                    </a:lnTo>
                    <a:lnTo>
                      <a:pt x="1889" y="1159"/>
                    </a:lnTo>
                    <a:lnTo>
                      <a:pt x="1875" y="1157"/>
                    </a:lnTo>
                    <a:lnTo>
                      <a:pt x="1859" y="1148"/>
                    </a:lnTo>
                    <a:lnTo>
                      <a:pt x="1846" y="1137"/>
                    </a:lnTo>
                    <a:lnTo>
                      <a:pt x="1834" y="1126"/>
                    </a:lnTo>
                    <a:lnTo>
                      <a:pt x="1821" y="1118"/>
                    </a:lnTo>
                    <a:lnTo>
                      <a:pt x="1804" y="1114"/>
                    </a:lnTo>
                    <a:lnTo>
                      <a:pt x="1791" y="1117"/>
                    </a:lnTo>
                    <a:lnTo>
                      <a:pt x="1775" y="1125"/>
                    </a:lnTo>
                    <a:lnTo>
                      <a:pt x="1755" y="1132"/>
                    </a:lnTo>
                    <a:lnTo>
                      <a:pt x="1735" y="1142"/>
                    </a:lnTo>
                    <a:lnTo>
                      <a:pt x="1715" y="1153"/>
                    </a:lnTo>
                    <a:lnTo>
                      <a:pt x="1695" y="1160"/>
                    </a:lnTo>
                    <a:lnTo>
                      <a:pt x="1676" y="1168"/>
                    </a:lnTo>
                    <a:lnTo>
                      <a:pt x="1658" y="1169"/>
                    </a:lnTo>
                    <a:lnTo>
                      <a:pt x="1640" y="1168"/>
                    </a:lnTo>
                    <a:lnTo>
                      <a:pt x="1623" y="1163"/>
                    </a:lnTo>
                    <a:lnTo>
                      <a:pt x="1610" y="1154"/>
                    </a:lnTo>
                    <a:lnTo>
                      <a:pt x="1597" y="1143"/>
                    </a:lnTo>
                    <a:lnTo>
                      <a:pt x="1585" y="1135"/>
                    </a:lnTo>
                    <a:lnTo>
                      <a:pt x="1569" y="1126"/>
                    </a:lnTo>
                    <a:lnTo>
                      <a:pt x="1552" y="1120"/>
                    </a:lnTo>
                    <a:lnTo>
                      <a:pt x="1529" y="1118"/>
                    </a:lnTo>
                    <a:lnTo>
                      <a:pt x="1510" y="1120"/>
                    </a:lnTo>
                    <a:lnTo>
                      <a:pt x="1495" y="1125"/>
                    </a:lnTo>
                    <a:lnTo>
                      <a:pt x="1482" y="1131"/>
                    </a:lnTo>
                    <a:lnTo>
                      <a:pt x="1467" y="1139"/>
                    </a:lnTo>
                    <a:lnTo>
                      <a:pt x="1454" y="1148"/>
                    </a:lnTo>
                    <a:lnTo>
                      <a:pt x="1440" y="1154"/>
                    </a:lnTo>
                    <a:lnTo>
                      <a:pt x="1424" y="1159"/>
                    </a:lnTo>
                    <a:lnTo>
                      <a:pt x="1406" y="1161"/>
                    </a:lnTo>
                    <a:lnTo>
                      <a:pt x="1386" y="1160"/>
                    </a:lnTo>
                    <a:lnTo>
                      <a:pt x="1372" y="1157"/>
                    </a:lnTo>
                    <a:lnTo>
                      <a:pt x="1358" y="1151"/>
                    </a:lnTo>
                    <a:lnTo>
                      <a:pt x="1344" y="1146"/>
                    </a:lnTo>
                    <a:lnTo>
                      <a:pt x="1331" y="1140"/>
                    </a:lnTo>
                    <a:lnTo>
                      <a:pt x="1317" y="1135"/>
                    </a:lnTo>
                    <a:lnTo>
                      <a:pt x="1297" y="1130"/>
                    </a:lnTo>
                    <a:lnTo>
                      <a:pt x="1271" y="1125"/>
                    </a:lnTo>
                    <a:lnTo>
                      <a:pt x="1244" y="1128"/>
                    </a:lnTo>
                    <a:lnTo>
                      <a:pt x="1222" y="1132"/>
                    </a:lnTo>
                    <a:lnTo>
                      <a:pt x="1205" y="1140"/>
                    </a:lnTo>
                    <a:lnTo>
                      <a:pt x="1190" y="1146"/>
                    </a:lnTo>
                    <a:lnTo>
                      <a:pt x="1176" y="1152"/>
                    </a:lnTo>
                    <a:lnTo>
                      <a:pt x="1161" y="1154"/>
                    </a:lnTo>
                    <a:lnTo>
                      <a:pt x="1141" y="1150"/>
                    </a:lnTo>
                    <a:lnTo>
                      <a:pt x="1117" y="1136"/>
                    </a:lnTo>
                    <a:lnTo>
                      <a:pt x="1122" y="1112"/>
                    </a:lnTo>
                    <a:lnTo>
                      <a:pt x="1123" y="1084"/>
                    </a:lnTo>
                    <a:lnTo>
                      <a:pt x="1120" y="1058"/>
                    </a:lnTo>
                    <a:lnTo>
                      <a:pt x="1112" y="1028"/>
                    </a:lnTo>
                    <a:lnTo>
                      <a:pt x="1100" y="999"/>
                    </a:lnTo>
                    <a:lnTo>
                      <a:pt x="1085" y="974"/>
                    </a:lnTo>
                    <a:lnTo>
                      <a:pt x="1068" y="953"/>
                    </a:lnTo>
                    <a:lnTo>
                      <a:pt x="1049" y="935"/>
                    </a:lnTo>
                    <a:lnTo>
                      <a:pt x="1012" y="914"/>
                    </a:lnTo>
                    <a:lnTo>
                      <a:pt x="968" y="896"/>
                    </a:lnTo>
                    <a:lnTo>
                      <a:pt x="916" y="889"/>
                    </a:lnTo>
                    <a:lnTo>
                      <a:pt x="859" y="894"/>
                    </a:lnTo>
                    <a:lnTo>
                      <a:pt x="794" y="915"/>
                    </a:lnTo>
                    <a:lnTo>
                      <a:pt x="725" y="960"/>
                    </a:lnTo>
                    <a:lnTo>
                      <a:pt x="650" y="1027"/>
                    </a:lnTo>
                    <a:lnTo>
                      <a:pt x="574" y="1129"/>
                    </a:lnTo>
                    <a:lnTo>
                      <a:pt x="549" y="1132"/>
                    </a:lnTo>
                    <a:lnTo>
                      <a:pt x="507" y="1135"/>
                    </a:lnTo>
                    <a:lnTo>
                      <a:pt x="459" y="1134"/>
                    </a:lnTo>
                    <a:lnTo>
                      <a:pt x="405" y="1134"/>
                    </a:lnTo>
                    <a:lnTo>
                      <a:pt x="356" y="1133"/>
                    </a:lnTo>
                    <a:lnTo>
                      <a:pt x="311" y="1132"/>
                    </a:lnTo>
                    <a:lnTo>
                      <a:pt x="282" y="1132"/>
                    </a:lnTo>
                    <a:lnTo>
                      <a:pt x="266" y="1131"/>
                    </a:lnTo>
                    <a:lnTo>
                      <a:pt x="254" y="1146"/>
                    </a:lnTo>
                    <a:lnTo>
                      <a:pt x="228" y="1157"/>
                    </a:lnTo>
                    <a:lnTo>
                      <a:pt x="187" y="1166"/>
                    </a:lnTo>
                    <a:lnTo>
                      <a:pt x="144" y="1172"/>
                    </a:lnTo>
                    <a:lnTo>
                      <a:pt x="99" y="1174"/>
                    </a:lnTo>
                    <a:lnTo>
                      <a:pt x="58" y="1171"/>
                    </a:lnTo>
                    <a:lnTo>
                      <a:pt x="24" y="1164"/>
                    </a:lnTo>
                    <a:lnTo>
                      <a:pt x="6" y="1149"/>
                    </a:lnTo>
                    <a:lnTo>
                      <a:pt x="0" y="1111"/>
                    </a:lnTo>
                    <a:lnTo>
                      <a:pt x="0" y="1054"/>
                    </a:lnTo>
                    <a:lnTo>
                      <a:pt x="8" y="997"/>
                    </a:lnTo>
                    <a:lnTo>
                      <a:pt x="25" y="960"/>
                    </a:lnTo>
                    <a:lnTo>
                      <a:pt x="35" y="956"/>
                    </a:lnTo>
                    <a:lnTo>
                      <a:pt x="47" y="953"/>
                    </a:lnTo>
                    <a:lnTo>
                      <a:pt x="62" y="951"/>
                    </a:lnTo>
                    <a:lnTo>
                      <a:pt x="80" y="952"/>
                    </a:lnTo>
                    <a:lnTo>
                      <a:pt x="98" y="952"/>
                    </a:lnTo>
                    <a:lnTo>
                      <a:pt x="115" y="953"/>
                    </a:lnTo>
                    <a:lnTo>
                      <a:pt x="134" y="954"/>
                    </a:lnTo>
                    <a:lnTo>
                      <a:pt x="147" y="957"/>
                    </a:lnTo>
                    <a:lnTo>
                      <a:pt x="173" y="880"/>
                    </a:lnTo>
                    <a:lnTo>
                      <a:pt x="187" y="806"/>
                    </a:lnTo>
                    <a:lnTo>
                      <a:pt x="196" y="737"/>
                    </a:lnTo>
                    <a:lnTo>
                      <a:pt x="208" y="671"/>
                    </a:lnTo>
                    <a:lnTo>
                      <a:pt x="229" y="615"/>
                    </a:lnTo>
                    <a:lnTo>
                      <a:pt x="267" y="569"/>
                    </a:lnTo>
                    <a:lnTo>
                      <a:pt x="328" y="533"/>
                    </a:lnTo>
                    <a:lnTo>
                      <a:pt x="419" y="513"/>
                    </a:lnTo>
                    <a:lnTo>
                      <a:pt x="483" y="491"/>
                    </a:lnTo>
                    <a:lnTo>
                      <a:pt x="541" y="446"/>
                    </a:lnTo>
                    <a:lnTo>
                      <a:pt x="590" y="386"/>
                    </a:lnTo>
                    <a:lnTo>
                      <a:pt x="638" y="318"/>
                    </a:lnTo>
                    <a:lnTo>
                      <a:pt x="681" y="248"/>
                    </a:lnTo>
                    <a:lnTo>
                      <a:pt x="719" y="182"/>
                    </a:lnTo>
                    <a:lnTo>
                      <a:pt x="752" y="126"/>
                    </a:lnTo>
                    <a:lnTo>
                      <a:pt x="784" y="89"/>
                    </a:lnTo>
                    <a:lnTo>
                      <a:pt x="805" y="77"/>
                    </a:lnTo>
                    <a:lnTo>
                      <a:pt x="832" y="63"/>
                    </a:lnTo>
                    <a:lnTo>
                      <a:pt x="865" y="49"/>
                    </a:lnTo>
                    <a:lnTo>
                      <a:pt x="906" y="38"/>
                    </a:lnTo>
                    <a:lnTo>
                      <a:pt x="950" y="27"/>
                    </a:lnTo>
                    <a:lnTo>
                      <a:pt x="1000" y="17"/>
                    </a:lnTo>
                    <a:lnTo>
                      <a:pt x="1052" y="11"/>
                    </a:lnTo>
                    <a:lnTo>
                      <a:pt x="1107" y="5"/>
                    </a:lnTo>
                    <a:lnTo>
                      <a:pt x="1167" y="0"/>
                    </a:lnTo>
                    <a:lnTo>
                      <a:pt x="1229" y="1"/>
                    </a:lnTo>
                    <a:lnTo>
                      <a:pt x="1292" y="3"/>
                    </a:lnTo>
                    <a:lnTo>
                      <a:pt x="1359" y="11"/>
                    </a:lnTo>
                    <a:lnTo>
                      <a:pt x="1422" y="18"/>
                    </a:lnTo>
                    <a:lnTo>
                      <a:pt x="1488" y="31"/>
                    </a:lnTo>
                    <a:lnTo>
                      <a:pt x="1555" y="50"/>
                    </a:lnTo>
                    <a:lnTo>
                      <a:pt x="1619" y="72"/>
                    </a:lnTo>
                    <a:lnTo>
                      <a:pt x="1648" y="89"/>
                    </a:lnTo>
                    <a:lnTo>
                      <a:pt x="1671" y="120"/>
                    </a:lnTo>
                    <a:lnTo>
                      <a:pt x="1690" y="157"/>
                    </a:lnTo>
                    <a:lnTo>
                      <a:pt x="1710" y="198"/>
                    </a:lnTo>
                    <a:lnTo>
                      <a:pt x="1730" y="242"/>
                    </a:lnTo>
                    <a:lnTo>
                      <a:pt x="1756" y="287"/>
                    </a:lnTo>
                    <a:lnTo>
                      <a:pt x="1792" y="326"/>
                    </a:lnTo>
                    <a:lnTo>
                      <a:pt x="1835" y="360"/>
                    </a:lnTo>
                    <a:lnTo>
                      <a:pt x="1857" y="364"/>
                    </a:lnTo>
                    <a:lnTo>
                      <a:pt x="1884" y="353"/>
                    </a:lnTo>
                    <a:lnTo>
                      <a:pt x="2138" y="3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H="1" rot="18901800">
                <a:off x="1761120" y="5742000"/>
                <a:ext cx="21240" cy="42480"/>
              </a:xfrm>
              <a:custGeom>
                <a:avLst/>
                <a:gdLst/>
                <a:ahLst/>
                <a:rect l="l" t="t" r="r" b="b"/>
                <a:pathLst>
                  <a:path w="145" h="327">
                    <a:moveTo>
                      <a:pt x="78" y="327"/>
                    </a:moveTo>
                    <a:lnTo>
                      <a:pt x="109" y="315"/>
                    </a:lnTo>
                    <a:lnTo>
                      <a:pt x="133" y="285"/>
                    </a:lnTo>
                    <a:lnTo>
                      <a:pt x="145" y="230"/>
                    </a:lnTo>
                    <a:lnTo>
                      <a:pt x="145" y="170"/>
                    </a:lnTo>
                    <a:lnTo>
                      <a:pt x="133" y="103"/>
                    </a:lnTo>
                    <a:lnTo>
                      <a:pt x="115" y="55"/>
                    </a:lnTo>
                    <a:lnTo>
                      <a:pt x="91" y="18"/>
                    </a:lnTo>
                    <a:lnTo>
                      <a:pt x="66" y="0"/>
                    </a:lnTo>
                    <a:lnTo>
                      <a:pt x="36" y="12"/>
                    </a:lnTo>
                    <a:lnTo>
                      <a:pt x="18" y="49"/>
                    </a:lnTo>
                    <a:lnTo>
                      <a:pt x="0" y="97"/>
                    </a:lnTo>
                    <a:lnTo>
                      <a:pt x="0" y="158"/>
                    </a:lnTo>
                    <a:lnTo>
                      <a:pt x="6" y="224"/>
                    </a:lnTo>
                    <a:lnTo>
                      <a:pt x="24" y="279"/>
                    </a:lnTo>
                    <a:lnTo>
                      <a:pt x="48" y="315"/>
                    </a:lnTo>
                    <a:lnTo>
                      <a:pt x="78" y="3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H="1" rot="18901800">
                <a:off x="2445840" y="5376600"/>
                <a:ext cx="43920" cy="39600"/>
              </a:xfrm>
              <a:custGeom>
                <a:avLst/>
                <a:gdLst/>
                <a:ahLst/>
                <a:rect l="l" t="t" r="r" b="b"/>
                <a:pathLst>
                  <a:path w="297" h="308">
                    <a:moveTo>
                      <a:pt x="0" y="97"/>
                    </a:moveTo>
                    <a:lnTo>
                      <a:pt x="0" y="60"/>
                    </a:lnTo>
                    <a:lnTo>
                      <a:pt x="18" y="42"/>
                    </a:lnTo>
                    <a:lnTo>
                      <a:pt x="42" y="30"/>
                    </a:lnTo>
                    <a:lnTo>
                      <a:pt x="79" y="24"/>
                    </a:lnTo>
                    <a:lnTo>
                      <a:pt x="121" y="24"/>
                    </a:lnTo>
                    <a:lnTo>
                      <a:pt x="163" y="18"/>
                    </a:lnTo>
                    <a:lnTo>
                      <a:pt x="206" y="12"/>
                    </a:lnTo>
                    <a:lnTo>
                      <a:pt x="248" y="0"/>
                    </a:lnTo>
                    <a:lnTo>
                      <a:pt x="260" y="48"/>
                    </a:lnTo>
                    <a:lnTo>
                      <a:pt x="272" y="97"/>
                    </a:lnTo>
                    <a:lnTo>
                      <a:pt x="291" y="151"/>
                    </a:lnTo>
                    <a:lnTo>
                      <a:pt x="297" y="212"/>
                    </a:lnTo>
                    <a:lnTo>
                      <a:pt x="279" y="242"/>
                    </a:lnTo>
                    <a:lnTo>
                      <a:pt x="248" y="266"/>
                    </a:lnTo>
                    <a:lnTo>
                      <a:pt x="218" y="284"/>
                    </a:lnTo>
                    <a:lnTo>
                      <a:pt x="182" y="296"/>
                    </a:lnTo>
                    <a:lnTo>
                      <a:pt x="145" y="308"/>
                    </a:lnTo>
                    <a:lnTo>
                      <a:pt x="109" y="308"/>
                    </a:lnTo>
                    <a:lnTo>
                      <a:pt x="79" y="308"/>
                    </a:lnTo>
                    <a:lnTo>
                      <a:pt x="60" y="302"/>
                    </a:lnTo>
                    <a:lnTo>
                      <a:pt x="36" y="272"/>
                    </a:lnTo>
                    <a:lnTo>
                      <a:pt x="18" y="218"/>
                    </a:lnTo>
                    <a:lnTo>
                      <a:pt x="6" y="15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H="1" rot="18901800">
                <a:off x="1801800" y="5781960"/>
                <a:ext cx="50760" cy="40680"/>
              </a:xfrm>
              <a:custGeom>
                <a:avLst/>
                <a:gdLst/>
                <a:ahLst/>
                <a:rect l="l" t="t" r="r" b="b"/>
                <a:pathLst>
                  <a:path w="346" h="314">
                    <a:moveTo>
                      <a:pt x="339" y="0"/>
                    </a:moveTo>
                    <a:lnTo>
                      <a:pt x="346" y="66"/>
                    </a:lnTo>
                    <a:lnTo>
                      <a:pt x="346" y="127"/>
                    </a:lnTo>
                    <a:lnTo>
                      <a:pt x="327" y="181"/>
                    </a:lnTo>
                    <a:lnTo>
                      <a:pt x="297" y="230"/>
                    </a:lnTo>
                    <a:lnTo>
                      <a:pt x="255" y="266"/>
                    </a:lnTo>
                    <a:lnTo>
                      <a:pt x="206" y="296"/>
                    </a:lnTo>
                    <a:lnTo>
                      <a:pt x="146" y="314"/>
                    </a:lnTo>
                    <a:lnTo>
                      <a:pt x="79" y="314"/>
                    </a:lnTo>
                    <a:lnTo>
                      <a:pt x="18" y="290"/>
                    </a:lnTo>
                    <a:lnTo>
                      <a:pt x="0" y="230"/>
                    </a:lnTo>
                    <a:lnTo>
                      <a:pt x="6" y="169"/>
                    </a:lnTo>
                    <a:lnTo>
                      <a:pt x="42" y="121"/>
                    </a:lnTo>
                    <a:lnTo>
                      <a:pt x="67" y="109"/>
                    </a:lnTo>
                    <a:lnTo>
                      <a:pt x="85" y="109"/>
                    </a:lnTo>
                    <a:lnTo>
                      <a:pt x="103" y="109"/>
                    </a:lnTo>
                    <a:lnTo>
                      <a:pt x="121" y="109"/>
                    </a:lnTo>
                    <a:lnTo>
                      <a:pt x="152" y="103"/>
                    </a:lnTo>
                    <a:lnTo>
                      <a:pt x="194" y="84"/>
                    </a:lnTo>
                    <a:lnTo>
                      <a:pt x="255" y="54"/>
                    </a:lnTo>
                    <a:lnTo>
                      <a:pt x="33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H="1" rot="19621200">
                <a:off x="1689840" y="5349960"/>
                <a:ext cx="743040" cy="289800"/>
              </a:xfrm>
              <a:custGeom>
                <a:avLst/>
                <a:gdLst/>
                <a:ahLst/>
                <a:rect l="l" t="t" r="r" b="b"/>
                <a:pathLst>
                  <a:path w="5048" h="2234">
                    <a:moveTo>
                      <a:pt x="4336" y="770"/>
                    </a:moveTo>
                    <a:lnTo>
                      <a:pt x="3559" y="747"/>
                    </a:lnTo>
                    <a:lnTo>
                      <a:pt x="3481" y="799"/>
                    </a:lnTo>
                    <a:lnTo>
                      <a:pt x="3382" y="827"/>
                    </a:lnTo>
                    <a:lnTo>
                      <a:pt x="3328" y="816"/>
                    </a:lnTo>
                    <a:lnTo>
                      <a:pt x="3282" y="775"/>
                    </a:lnTo>
                    <a:lnTo>
                      <a:pt x="3245" y="711"/>
                    </a:lnTo>
                    <a:lnTo>
                      <a:pt x="3207" y="630"/>
                    </a:lnTo>
                    <a:lnTo>
                      <a:pt x="3169" y="547"/>
                    </a:lnTo>
                    <a:lnTo>
                      <a:pt x="3130" y="470"/>
                    </a:lnTo>
                    <a:lnTo>
                      <a:pt x="3081" y="404"/>
                    </a:lnTo>
                    <a:lnTo>
                      <a:pt x="3016" y="360"/>
                    </a:lnTo>
                    <a:lnTo>
                      <a:pt x="2991" y="335"/>
                    </a:lnTo>
                    <a:lnTo>
                      <a:pt x="2968" y="300"/>
                    </a:lnTo>
                    <a:lnTo>
                      <a:pt x="2945" y="258"/>
                    </a:lnTo>
                    <a:lnTo>
                      <a:pt x="2924" y="210"/>
                    </a:lnTo>
                    <a:lnTo>
                      <a:pt x="2892" y="160"/>
                    </a:lnTo>
                    <a:lnTo>
                      <a:pt x="2850" y="120"/>
                    </a:lnTo>
                    <a:lnTo>
                      <a:pt x="2801" y="85"/>
                    </a:lnTo>
                    <a:lnTo>
                      <a:pt x="2731" y="70"/>
                    </a:lnTo>
                    <a:lnTo>
                      <a:pt x="2652" y="60"/>
                    </a:lnTo>
                    <a:lnTo>
                      <a:pt x="2562" y="47"/>
                    </a:lnTo>
                    <a:lnTo>
                      <a:pt x="2467" y="27"/>
                    </a:lnTo>
                    <a:lnTo>
                      <a:pt x="2371" y="12"/>
                    </a:lnTo>
                    <a:lnTo>
                      <a:pt x="2274" y="4"/>
                    </a:lnTo>
                    <a:lnTo>
                      <a:pt x="2169" y="0"/>
                    </a:lnTo>
                    <a:lnTo>
                      <a:pt x="2068" y="9"/>
                    </a:lnTo>
                    <a:lnTo>
                      <a:pt x="1969" y="38"/>
                    </a:lnTo>
                    <a:lnTo>
                      <a:pt x="1897" y="54"/>
                    </a:lnTo>
                    <a:lnTo>
                      <a:pt x="1815" y="61"/>
                    </a:lnTo>
                    <a:lnTo>
                      <a:pt x="1729" y="61"/>
                    </a:lnTo>
                    <a:lnTo>
                      <a:pt x="1635" y="66"/>
                    </a:lnTo>
                    <a:lnTo>
                      <a:pt x="1541" y="71"/>
                    </a:lnTo>
                    <a:lnTo>
                      <a:pt x="1449" y="94"/>
                    </a:lnTo>
                    <a:lnTo>
                      <a:pt x="1362" y="126"/>
                    </a:lnTo>
                    <a:lnTo>
                      <a:pt x="1287" y="184"/>
                    </a:lnTo>
                    <a:lnTo>
                      <a:pt x="1211" y="279"/>
                    </a:lnTo>
                    <a:lnTo>
                      <a:pt x="1145" y="383"/>
                    </a:lnTo>
                    <a:lnTo>
                      <a:pt x="1091" y="495"/>
                    </a:lnTo>
                    <a:lnTo>
                      <a:pt x="1038" y="601"/>
                    </a:lnTo>
                    <a:lnTo>
                      <a:pt x="996" y="710"/>
                    </a:lnTo>
                    <a:lnTo>
                      <a:pt x="952" y="799"/>
                    </a:lnTo>
                    <a:lnTo>
                      <a:pt x="910" y="878"/>
                    </a:lnTo>
                    <a:lnTo>
                      <a:pt x="864" y="923"/>
                    </a:lnTo>
                    <a:lnTo>
                      <a:pt x="735" y="1007"/>
                    </a:lnTo>
                    <a:lnTo>
                      <a:pt x="628" y="1071"/>
                    </a:lnTo>
                    <a:lnTo>
                      <a:pt x="528" y="1106"/>
                    </a:lnTo>
                    <a:lnTo>
                      <a:pt x="447" y="1132"/>
                    </a:lnTo>
                    <a:lnTo>
                      <a:pt x="382" y="1149"/>
                    </a:lnTo>
                    <a:lnTo>
                      <a:pt x="322" y="1167"/>
                    </a:lnTo>
                    <a:lnTo>
                      <a:pt x="280" y="1189"/>
                    </a:lnTo>
                    <a:lnTo>
                      <a:pt x="248" y="1225"/>
                    </a:lnTo>
                    <a:lnTo>
                      <a:pt x="210" y="1286"/>
                    </a:lnTo>
                    <a:lnTo>
                      <a:pt x="155" y="1373"/>
                    </a:lnTo>
                    <a:lnTo>
                      <a:pt x="104" y="1492"/>
                    </a:lnTo>
                    <a:lnTo>
                      <a:pt x="89" y="1619"/>
                    </a:lnTo>
                    <a:lnTo>
                      <a:pt x="77" y="1740"/>
                    </a:lnTo>
                    <a:lnTo>
                      <a:pt x="30" y="1842"/>
                    </a:lnTo>
                    <a:lnTo>
                      <a:pt x="0" y="1922"/>
                    </a:lnTo>
                    <a:lnTo>
                      <a:pt x="29" y="1965"/>
                    </a:lnTo>
                    <a:lnTo>
                      <a:pt x="99" y="2011"/>
                    </a:lnTo>
                    <a:lnTo>
                      <a:pt x="138" y="2063"/>
                    </a:lnTo>
                    <a:lnTo>
                      <a:pt x="145" y="2119"/>
                    </a:lnTo>
                    <a:lnTo>
                      <a:pt x="140" y="2168"/>
                    </a:lnTo>
                    <a:lnTo>
                      <a:pt x="149" y="2183"/>
                    </a:lnTo>
                    <a:lnTo>
                      <a:pt x="180" y="2189"/>
                    </a:lnTo>
                    <a:lnTo>
                      <a:pt x="221" y="2198"/>
                    </a:lnTo>
                    <a:lnTo>
                      <a:pt x="270" y="2201"/>
                    </a:lnTo>
                    <a:lnTo>
                      <a:pt x="326" y="2201"/>
                    </a:lnTo>
                    <a:lnTo>
                      <a:pt x="377" y="2193"/>
                    </a:lnTo>
                    <a:lnTo>
                      <a:pt x="419" y="2172"/>
                    </a:lnTo>
                    <a:lnTo>
                      <a:pt x="450" y="2141"/>
                    </a:lnTo>
                    <a:lnTo>
                      <a:pt x="495" y="2076"/>
                    </a:lnTo>
                    <a:lnTo>
                      <a:pt x="544" y="2018"/>
                    </a:lnTo>
                    <a:lnTo>
                      <a:pt x="604" y="1970"/>
                    </a:lnTo>
                    <a:lnTo>
                      <a:pt x="670" y="1921"/>
                    </a:lnTo>
                    <a:lnTo>
                      <a:pt x="742" y="1875"/>
                    </a:lnTo>
                    <a:lnTo>
                      <a:pt x="812" y="1834"/>
                    </a:lnTo>
                    <a:lnTo>
                      <a:pt x="888" y="1801"/>
                    </a:lnTo>
                    <a:lnTo>
                      <a:pt x="968" y="1775"/>
                    </a:lnTo>
                    <a:lnTo>
                      <a:pt x="1053" y="1749"/>
                    </a:lnTo>
                    <a:lnTo>
                      <a:pt x="1132" y="1729"/>
                    </a:lnTo>
                    <a:lnTo>
                      <a:pt x="1216" y="1716"/>
                    </a:lnTo>
                    <a:lnTo>
                      <a:pt x="1298" y="1708"/>
                    </a:lnTo>
                    <a:lnTo>
                      <a:pt x="1379" y="1707"/>
                    </a:lnTo>
                    <a:lnTo>
                      <a:pt x="1458" y="1712"/>
                    </a:lnTo>
                    <a:lnTo>
                      <a:pt x="1531" y="1721"/>
                    </a:lnTo>
                    <a:lnTo>
                      <a:pt x="1602" y="1736"/>
                    </a:lnTo>
                    <a:lnTo>
                      <a:pt x="1660" y="1755"/>
                    </a:lnTo>
                    <a:lnTo>
                      <a:pt x="1718" y="1773"/>
                    </a:lnTo>
                    <a:lnTo>
                      <a:pt x="1768" y="1802"/>
                    </a:lnTo>
                    <a:lnTo>
                      <a:pt x="1814" y="1844"/>
                    </a:lnTo>
                    <a:lnTo>
                      <a:pt x="1859" y="1896"/>
                    </a:lnTo>
                    <a:lnTo>
                      <a:pt x="1906" y="1967"/>
                    </a:lnTo>
                    <a:lnTo>
                      <a:pt x="1943" y="2056"/>
                    </a:lnTo>
                    <a:lnTo>
                      <a:pt x="1975" y="2168"/>
                    </a:lnTo>
                    <a:lnTo>
                      <a:pt x="1999" y="2204"/>
                    </a:lnTo>
                    <a:lnTo>
                      <a:pt x="2036" y="2199"/>
                    </a:lnTo>
                    <a:lnTo>
                      <a:pt x="2093" y="2169"/>
                    </a:lnTo>
                    <a:lnTo>
                      <a:pt x="2156" y="2132"/>
                    </a:lnTo>
                    <a:lnTo>
                      <a:pt x="2231" y="2099"/>
                    </a:lnTo>
                    <a:lnTo>
                      <a:pt x="2315" y="2086"/>
                    </a:lnTo>
                    <a:lnTo>
                      <a:pt x="2403" y="2111"/>
                    </a:lnTo>
                    <a:lnTo>
                      <a:pt x="2498" y="2186"/>
                    </a:lnTo>
                    <a:lnTo>
                      <a:pt x="2535" y="2212"/>
                    </a:lnTo>
                    <a:lnTo>
                      <a:pt x="2579" y="2216"/>
                    </a:lnTo>
                    <a:lnTo>
                      <a:pt x="2614" y="2192"/>
                    </a:lnTo>
                    <a:lnTo>
                      <a:pt x="2651" y="2163"/>
                    </a:lnTo>
                    <a:lnTo>
                      <a:pt x="2692" y="2122"/>
                    </a:lnTo>
                    <a:lnTo>
                      <a:pt x="2728" y="2093"/>
                    </a:lnTo>
                    <a:lnTo>
                      <a:pt x="2776" y="2072"/>
                    </a:lnTo>
                    <a:lnTo>
                      <a:pt x="2826" y="2071"/>
                    </a:lnTo>
                    <a:lnTo>
                      <a:pt x="2878" y="2088"/>
                    </a:lnTo>
                    <a:lnTo>
                      <a:pt x="2916" y="2114"/>
                    </a:lnTo>
                    <a:lnTo>
                      <a:pt x="2935" y="2143"/>
                    </a:lnTo>
                    <a:lnTo>
                      <a:pt x="2947" y="2170"/>
                    </a:lnTo>
                    <a:lnTo>
                      <a:pt x="2961" y="2199"/>
                    </a:lnTo>
                    <a:lnTo>
                      <a:pt x="2974" y="2220"/>
                    </a:lnTo>
                    <a:lnTo>
                      <a:pt x="2997" y="2231"/>
                    </a:lnTo>
                    <a:lnTo>
                      <a:pt x="3039" y="2234"/>
                    </a:lnTo>
                    <a:lnTo>
                      <a:pt x="3078" y="2230"/>
                    </a:lnTo>
                    <a:lnTo>
                      <a:pt x="3119" y="2207"/>
                    </a:lnTo>
                    <a:lnTo>
                      <a:pt x="3169" y="2180"/>
                    </a:lnTo>
                    <a:lnTo>
                      <a:pt x="3220" y="2142"/>
                    </a:lnTo>
                    <a:lnTo>
                      <a:pt x="3264" y="2108"/>
                    </a:lnTo>
                    <a:lnTo>
                      <a:pt x="3310" y="2068"/>
                    </a:lnTo>
                    <a:lnTo>
                      <a:pt x="3349" y="2033"/>
                    </a:lnTo>
                    <a:lnTo>
                      <a:pt x="3378" y="2008"/>
                    </a:lnTo>
                    <a:lnTo>
                      <a:pt x="3450" y="1937"/>
                    </a:lnTo>
                    <a:lnTo>
                      <a:pt x="3524" y="1879"/>
                    </a:lnTo>
                    <a:lnTo>
                      <a:pt x="3591" y="1824"/>
                    </a:lnTo>
                    <a:lnTo>
                      <a:pt x="3662" y="1784"/>
                    </a:lnTo>
                    <a:lnTo>
                      <a:pt x="3725" y="1748"/>
                    </a:lnTo>
                    <a:lnTo>
                      <a:pt x="3792" y="1725"/>
                    </a:lnTo>
                    <a:lnTo>
                      <a:pt x="3845" y="1706"/>
                    </a:lnTo>
                    <a:lnTo>
                      <a:pt x="3906" y="1687"/>
                    </a:lnTo>
                    <a:lnTo>
                      <a:pt x="3950" y="1678"/>
                    </a:lnTo>
                    <a:lnTo>
                      <a:pt x="4034" y="1665"/>
                    </a:lnTo>
                    <a:lnTo>
                      <a:pt x="4148" y="1652"/>
                    </a:lnTo>
                    <a:lnTo>
                      <a:pt x="4280" y="1649"/>
                    </a:lnTo>
                    <a:lnTo>
                      <a:pt x="4424" y="1667"/>
                    </a:lnTo>
                    <a:lnTo>
                      <a:pt x="4564" y="1709"/>
                    </a:lnTo>
                    <a:lnTo>
                      <a:pt x="4690" y="1786"/>
                    </a:lnTo>
                    <a:lnTo>
                      <a:pt x="4794" y="1907"/>
                    </a:lnTo>
                    <a:lnTo>
                      <a:pt x="4825" y="1939"/>
                    </a:lnTo>
                    <a:lnTo>
                      <a:pt x="4864" y="1959"/>
                    </a:lnTo>
                    <a:lnTo>
                      <a:pt x="4913" y="1963"/>
                    </a:lnTo>
                    <a:lnTo>
                      <a:pt x="4964" y="1956"/>
                    </a:lnTo>
                    <a:lnTo>
                      <a:pt x="5005" y="1940"/>
                    </a:lnTo>
                    <a:lnTo>
                      <a:pt x="5035" y="1915"/>
                    </a:lnTo>
                    <a:lnTo>
                      <a:pt x="5042" y="1879"/>
                    </a:lnTo>
                    <a:lnTo>
                      <a:pt x="5020" y="1838"/>
                    </a:lnTo>
                    <a:lnTo>
                      <a:pt x="4981" y="1761"/>
                    </a:lnTo>
                    <a:lnTo>
                      <a:pt x="4978" y="1686"/>
                    </a:lnTo>
                    <a:lnTo>
                      <a:pt x="4993" y="1615"/>
                    </a:lnTo>
                    <a:lnTo>
                      <a:pt x="5016" y="1539"/>
                    </a:lnTo>
                    <a:lnTo>
                      <a:pt x="5035" y="1475"/>
                    </a:lnTo>
                    <a:lnTo>
                      <a:pt x="5048" y="1416"/>
                    </a:lnTo>
                    <a:lnTo>
                      <a:pt x="5034" y="1364"/>
                    </a:lnTo>
                    <a:lnTo>
                      <a:pt x="4980" y="1327"/>
                    </a:lnTo>
                    <a:lnTo>
                      <a:pt x="4984" y="1162"/>
                    </a:lnTo>
                    <a:lnTo>
                      <a:pt x="4961" y="1064"/>
                    </a:lnTo>
                    <a:lnTo>
                      <a:pt x="4922" y="1018"/>
                    </a:lnTo>
                  </a:path>
                </a:pathLst>
              </a:custGeom>
              <a:solidFill>
                <a:srgbClr val="f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H="1" rot="18901800">
                <a:off x="1940760" y="5398560"/>
                <a:ext cx="138960" cy="82440"/>
              </a:xfrm>
              <a:custGeom>
                <a:avLst/>
                <a:gdLst/>
                <a:ahLst/>
                <a:rect l="l" t="t" r="r" b="b"/>
                <a:pathLst>
                  <a:path w="945" h="636">
                    <a:moveTo>
                      <a:pt x="945" y="436"/>
                    </a:moveTo>
                    <a:lnTo>
                      <a:pt x="909" y="454"/>
                    </a:lnTo>
                    <a:lnTo>
                      <a:pt x="824" y="490"/>
                    </a:lnTo>
                    <a:lnTo>
                      <a:pt x="709" y="527"/>
                    </a:lnTo>
                    <a:lnTo>
                      <a:pt x="570" y="563"/>
                    </a:lnTo>
                    <a:lnTo>
                      <a:pt x="430" y="599"/>
                    </a:lnTo>
                    <a:lnTo>
                      <a:pt x="297" y="624"/>
                    </a:lnTo>
                    <a:lnTo>
                      <a:pt x="194" y="636"/>
                    </a:lnTo>
                    <a:lnTo>
                      <a:pt x="127" y="630"/>
                    </a:lnTo>
                    <a:lnTo>
                      <a:pt x="85" y="545"/>
                    </a:lnTo>
                    <a:lnTo>
                      <a:pt x="36" y="369"/>
                    </a:lnTo>
                    <a:lnTo>
                      <a:pt x="6" y="188"/>
                    </a:lnTo>
                    <a:lnTo>
                      <a:pt x="0" y="91"/>
                    </a:lnTo>
                    <a:lnTo>
                      <a:pt x="30" y="79"/>
                    </a:lnTo>
                    <a:lnTo>
                      <a:pt x="78" y="61"/>
                    </a:lnTo>
                    <a:lnTo>
                      <a:pt x="151" y="49"/>
                    </a:lnTo>
                    <a:lnTo>
                      <a:pt x="236" y="30"/>
                    </a:lnTo>
                    <a:lnTo>
                      <a:pt x="315" y="18"/>
                    </a:lnTo>
                    <a:lnTo>
                      <a:pt x="388" y="6"/>
                    </a:lnTo>
                    <a:lnTo>
                      <a:pt x="448" y="0"/>
                    </a:lnTo>
                    <a:lnTo>
                      <a:pt x="479" y="0"/>
                    </a:lnTo>
                    <a:lnTo>
                      <a:pt x="515" y="18"/>
                    </a:lnTo>
                    <a:lnTo>
                      <a:pt x="576" y="61"/>
                    </a:lnTo>
                    <a:lnTo>
                      <a:pt x="654" y="127"/>
                    </a:lnTo>
                    <a:lnTo>
                      <a:pt x="739" y="200"/>
                    </a:lnTo>
                    <a:lnTo>
                      <a:pt x="824" y="279"/>
                    </a:lnTo>
                    <a:lnTo>
                      <a:pt x="891" y="345"/>
                    </a:lnTo>
                    <a:lnTo>
                      <a:pt x="933" y="400"/>
                    </a:lnTo>
                    <a:lnTo>
                      <a:pt x="945" y="4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H="1" rot="18901800">
                <a:off x="2079720" y="5321160"/>
                <a:ext cx="102600" cy="88200"/>
              </a:xfrm>
              <a:custGeom>
                <a:avLst/>
                <a:gdLst/>
                <a:ahLst/>
                <a:rect l="l" t="t" r="r" b="b"/>
                <a:pathLst>
                  <a:path w="697" h="678">
                    <a:moveTo>
                      <a:pt x="546" y="6"/>
                    </a:moveTo>
                    <a:lnTo>
                      <a:pt x="588" y="79"/>
                    </a:lnTo>
                    <a:lnTo>
                      <a:pt x="631" y="230"/>
                    </a:lnTo>
                    <a:lnTo>
                      <a:pt x="667" y="381"/>
                    </a:lnTo>
                    <a:lnTo>
                      <a:pt x="697" y="478"/>
                    </a:lnTo>
                    <a:lnTo>
                      <a:pt x="679" y="502"/>
                    </a:lnTo>
                    <a:lnTo>
                      <a:pt x="607" y="539"/>
                    </a:lnTo>
                    <a:lnTo>
                      <a:pt x="503" y="575"/>
                    </a:lnTo>
                    <a:lnTo>
                      <a:pt x="376" y="611"/>
                    </a:lnTo>
                    <a:lnTo>
                      <a:pt x="249" y="648"/>
                    </a:lnTo>
                    <a:lnTo>
                      <a:pt x="134" y="666"/>
                    </a:lnTo>
                    <a:lnTo>
                      <a:pt x="49" y="678"/>
                    </a:lnTo>
                    <a:lnTo>
                      <a:pt x="12" y="666"/>
                    </a:lnTo>
                    <a:lnTo>
                      <a:pt x="0" y="551"/>
                    </a:lnTo>
                    <a:lnTo>
                      <a:pt x="12" y="363"/>
                    </a:lnTo>
                    <a:lnTo>
                      <a:pt x="55" y="182"/>
                    </a:lnTo>
                    <a:lnTo>
                      <a:pt x="140" y="85"/>
                    </a:lnTo>
                    <a:lnTo>
                      <a:pt x="194" y="73"/>
                    </a:lnTo>
                    <a:lnTo>
                      <a:pt x="255" y="54"/>
                    </a:lnTo>
                    <a:lnTo>
                      <a:pt x="316" y="42"/>
                    </a:lnTo>
                    <a:lnTo>
                      <a:pt x="376" y="24"/>
                    </a:lnTo>
                    <a:lnTo>
                      <a:pt x="431" y="12"/>
                    </a:lnTo>
                    <a:lnTo>
                      <a:pt x="479" y="6"/>
                    </a:lnTo>
                    <a:lnTo>
                      <a:pt x="516" y="0"/>
                    </a:lnTo>
                    <a:lnTo>
                      <a:pt x="54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1" name=""/>
              <p:cNvGrpSpPr/>
              <p:nvPr/>
            </p:nvGrpSpPr>
            <p:grpSpPr>
              <a:xfrm>
                <a:off x="1936800" y="5050800"/>
                <a:ext cx="327240" cy="327960"/>
                <a:chOff x="1936800" y="5050800"/>
                <a:chExt cx="327240" cy="327960"/>
              </a:xfrm>
            </p:grpSpPr>
            <p:sp>
              <p:nvSpPr>
                <p:cNvPr id="2132" name=""/>
                <p:cNvSpPr/>
                <p:nvPr/>
              </p:nvSpPr>
              <p:spPr>
                <a:xfrm flipH="1" rot="18406800">
                  <a:off x="2095200" y="5126760"/>
                  <a:ext cx="68400" cy="716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 flipH="1" rot="18406800">
                  <a:off x="2037600" y="5212440"/>
                  <a:ext cx="43920" cy="5580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 flipH="1" rot="18406800">
                  <a:off x="2093400" y="5091120"/>
                  <a:ext cx="110520" cy="11664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 flipH="1" rot="18406800">
                  <a:off x="1992960" y="5216040"/>
                  <a:ext cx="96840" cy="7776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 flipH="1" rot="18406800">
                  <a:off x="2184480" y="5056920"/>
                  <a:ext cx="39240" cy="7344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H="1" rot="18406800">
                  <a:off x="1957680" y="5268600"/>
                  <a:ext cx="84240" cy="9576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 flipH="1" rot="18406800">
                  <a:off x="2133360" y="5245920"/>
                  <a:ext cx="28440" cy="5796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flipH="1" rot="18406800">
                  <a:off x="2114640" y="5218560"/>
                  <a:ext cx="14760" cy="2916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 flipH="1" rot="18406800">
                  <a:off x="2102040" y="5197320"/>
                  <a:ext cx="12600" cy="1656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 flipH="1" rot="18406800">
                  <a:off x="2090880" y="5183280"/>
                  <a:ext cx="17640" cy="1080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 flipH="1" rot="18406800">
                  <a:off x="2110320" y="5113800"/>
                  <a:ext cx="68040" cy="7272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H="1" rot="18406800">
                  <a:off x="2052720" y="5200200"/>
                  <a:ext cx="43920" cy="5652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 flipH="1" rot="18406800">
                  <a:off x="2109240" y="5078880"/>
                  <a:ext cx="110520" cy="11736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 flipH="1" rot="18406800">
                  <a:off x="2008440" y="5203800"/>
                  <a:ext cx="96840" cy="781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 flipH="1" rot="18406800">
                  <a:off x="2203200" y="5051520"/>
                  <a:ext cx="39240" cy="7308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 flipH="1" rot="18406800">
                  <a:off x="1973160" y="5256360"/>
                  <a:ext cx="84240" cy="9576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48" name=""/>
            <p:cNvGrpSpPr/>
            <p:nvPr/>
          </p:nvGrpSpPr>
          <p:grpSpPr>
            <a:xfrm>
              <a:off x="5838120" y="2401200"/>
              <a:ext cx="771480" cy="738000"/>
              <a:chOff x="5838120" y="2401200"/>
              <a:chExt cx="771480" cy="738000"/>
            </a:xfrm>
          </p:grpSpPr>
          <p:grpSp>
            <p:nvGrpSpPr>
              <p:cNvPr id="2149" name=""/>
              <p:cNvGrpSpPr/>
              <p:nvPr/>
            </p:nvGrpSpPr>
            <p:grpSpPr>
              <a:xfrm>
                <a:off x="5842080" y="2401200"/>
                <a:ext cx="767520" cy="738000"/>
                <a:chOff x="5842080" y="2401200"/>
                <a:chExt cx="767520" cy="738000"/>
              </a:xfrm>
            </p:grpSpPr>
            <p:sp>
              <p:nvSpPr>
                <p:cNvPr id="2150" name=""/>
                <p:cNvSpPr/>
                <p:nvPr/>
              </p:nvSpPr>
              <p:spPr>
                <a:xfrm flipH="1" rot="19018800">
                  <a:off x="6468840" y="2547000"/>
                  <a:ext cx="96120" cy="11268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 flipH="1" rot="19018800">
                  <a:off x="6413760" y="2436120"/>
                  <a:ext cx="164520" cy="15588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 flipH="1" rot="18299400">
                  <a:off x="6004080" y="3004560"/>
                  <a:ext cx="35280" cy="4320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 flipH="1" rot="18299400">
                  <a:off x="6001920" y="3021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 flipH="1" rot="18299400">
                  <a:off x="6024600" y="3085560"/>
                  <a:ext cx="50760" cy="4140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 flipH="1" rot="18299400">
                  <a:off x="6295320" y="2707200"/>
                  <a:ext cx="99360" cy="11520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 flipH="1" rot="18299400">
                  <a:off x="6327000" y="2745360"/>
                  <a:ext cx="34560" cy="3924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H="1" rot="18299400">
                  <a:off x="6067800" y="2917080"/>
                  <a:ext cx="99360" cy="11520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 flipH="1" rot="18299400">
                  <a:off x="6099840" y="2954880"/>
                  <a:ext cx="35280" cy="3960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 flipH="1" rot="19018800">
                  <a:off x="5846400" y="2619000"/>
                  <a:ext cx="634680" cy="26352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 flipH="1" rot="18299400">
                  <a:off x="5970600" y="2976120"/>
                  <a:ext cx="15840" cy="334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 flipH="1" rot="18299400">
                  <a:off x="6429600" y="2617200"/>
                  <a:ext cx="32760" cy="3168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 flipH="1" rot="18299400">
                  <a:off x="6006960" y="3000240"/>
                  <a:ext cx="38160" cy="3204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 flipH="1" rot="19018800">
                  <a:off x="5876640" y="2639880"/>
                  <a:ext cx="557280" cy="23004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 flipH="1" rot="18299400">
                  <a:off x="6055920" y="2685960"/>
                  <a:ext cx="104040" cy="6552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 flipH="1" rot="18299400">
                  <a:off x="6149520" y="2612160"/>
                  <a:ext cx="76680" cy="6984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6" name=""/>
              <p:cNvGrpSpPr/>
              <p:nvPr/>
            </p:nvGrpSpPr>
            <p:grpSpPr>
              <a:xfrm>
                <a:off x="5838120" y="2406960"/>
                <a:ext cx="394920" cy="289440"/>
                <a:chOff x="5838120" y="2406960"/>
                <a:chExt cx="394920" cy="289440"/>
              </a:xfrm>
            </p:grpSpPr>
            <p:sp>
              <p:nvSpPr>
                <p:cNvPr id="2167" name=""/>
                <p:cNvSpPr/>
                <p:nvPr/>
              </p:nvSpPr>
              <p:spPr>
                <a:xfrm rot="20233800">
                  <a:off x="5937840" y="2529720"/>
                  <a:ext cx="73800" cy="8172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 rot="20233800">
                  <a:off x="6050880" y="2485440"/>
                  <a:ext cx="47160" cy="6336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 rot="20233800">
                  <a:off x="5896800" y="252216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 rot="20233800">
                  <a:off x="6042240" y="2457360"/>
                  <a:ext cx="104400" cy="8856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 rot="20233800">
                  <a:off x="5862600" y="2590200"/>
                  <a:ext cx="42480" cy="8352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 rot="20233800">
                  <a:off x="6123960" y="2420280"/>
                  <a:ext cx="91080" cy="10908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 rot="20233800">
                  <a:off x="6074640" y="2590560"/>
                  <a:ext cx="30600" cy="6588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 rot="20233800">
                  <a:off x="6042960" y="2567160"/>
                  <a:ext cx="15840" cy="331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rot="20233800">
                  <a:off x="6018840" y="2550600"/>
                  <a:ext cx="13680" cy="1908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 rot="20233800">
                  <a:off x="6000120" y="2540160"/>
                  <a:ext cx="18720" cy="1224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 rot="20233800">
                  <a:off x="5920920" y="2541960"/>
                  <a:ext cx="73080" cy="8280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 rot="20233800">
                  <a:off x="6034320" y="2498400"/>
                  <a:ext cx="47160" cy="6444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 rot="20233800">
                  <a:off x="5879880" y="2535120"/>
                  <a:ext cx="119160" cy="13356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 rot="20233800">
                  <a:off x="6025320" y="2470320"/>
                  <a:ext cx="104040" cy="889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 rot="20233800">
                  <a:off x="5852520" y="2608200"/>
                  <a:ext cx="42480" cy="8316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 rot="20233800">
                  <a:off x="6107400" y="2433240"/>
                  <a:ext cx="90720" cy="10908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83" name=""/>
            <p:cNvGrpSpPr/>
            <p:nvPr/>
          </p:nvGrpSpPr>
          <p:grpSpPr>
            <a:xfrm>
              <a:off x="6684120" y="1904760"/>
              <a:ext cx="643680" cy="614520"/>
              <a:chOff x="6684120" y="1904760"/>
              <a:chExt cx="643680" cy="614520"/>
            </a:xfrm>
          </p:grpSpPr>
          <p:grpSp>
            <p:nvGrpSpPr>
              <p:cNvPr id="2184" name=""/>
              <p:cNvGrpSpPr/>
              <p:nvPr/>
            </p:nvGrpSpPr>
            <p:grpSpPr>
              <a:xfrm>
                <a:off x="6688080" y="1904760"/>
                <a:ext cx="639720" cy="614520"/>
                <a:chOff x="6688080" y="1904760"/>
                <a:chExt cx="639720" cy="614520"/>
              </a:xfrm>
            </p:grpSpPr>
            <p:sp>
              <p:nvSpPr>
                <p:cNvPr id="2185" name=""/>
                <p:cNvSpPr/>
                <p:nvPr/>
              </p:nvSpPr>
              <p:spPr>
                <a:xfrm flipH="1" rot="19018800">
                  <a:off x="7210800" y="2026080"/>
                  <a:ext cx="80280" cy="9432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 flipH="1" rot="19018800">
                  <a:off x="7164360" y="1933920"/>
                  <a:ext cx="137160" cy="13032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 flipH="1" rot="18299400">
                  <a:off x="6823440" y="2408040"/>
                  <a:ext cx="29520" cy="3600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 flipH="1" rot="18299400">
                  <a:off x="6821280" y="2421360"/>
                  <a:ext cx="6480" cy="576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 flipH="1" rot="18299400">
                  <a:off x="6840720" y="2475360"/>
                  <a:ext cx="41760" cy="3420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H="1" rot="18299400">
                  <a:off x="7065720" y="2160000"/>
                  <a:ext cx="82800" cy="9648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 flipH="1" rot="18299400">
                  <a:off x="7092720" y="2191680"/>
                  <a:ext cx="28800" cy="3276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 flipH="1" rot="18299400">
                  <a:off x="6876360" y="2334960"/>
                  <a:ext cx="82800" cy="9648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 flipH="1" rot="18299400">
                  <a:off x="6904080" y="2366280"/>
                  <a:ext cx="29160" cy="3312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 flipH="1" rot="19018800">
                  <a:off x="6691680" y="2085840"/>
                  <a:ext cx="528480" cy="22032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 flipH="1" rot="18299400">
                  <a:off x="6795720" y="2383560"/>
                  <a:ext cx="13320" cy="280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 flipH="1" rot="18299400">
                  <a:off x="7178040" y="2085120"/>
                  <a:ext cx="27000" cy="2628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 flipH="1" rot="18299400">
                  <a:off x="6825960" y="2403720"/>
                  <a:ext cx="31680" cy="2736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 flipH="1" rot="19018800">
                  <a:off x="6716880" y="2103120"/>
                  <a:ext cx="464040" cy="19224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 flipH="1" rot="18299400">
                  <a:off x="6866640" y="2141640"/>
                  <a:ext cx="86760" cy="5472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 flipH="1" rot="18299400">
                  <a:off x="6944040" y="2080440"/>
                  <a:ext cx="63720" cy="5832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1" name=""/>
              <p:cNvGrpSpPr/>
              <p:nvPr/>
            </p:nvGrpSpPr>
            <p:grpSpPr>
              <a:xfrm>
                <a:off x="6684120" y="1909080"/>
                <a:ext cx="328680" cy="241920"/>
                <a:chOff x="6684120" y="1909080"/>
                <a:chExt cx="328680" cy="241920"/>
              </a:xfrm>
            </p:grpSpPr>
            <p:sp>
              <p:nvSpPr>
                <p:cNvPr id="2202" name=""/>
                <p:cNvSpPr/>
                <p:nvPr/>
              </p:nvSpPr>
              <p:spPr>
                <a:xfrm rot="20233800">
                  <a:off x="6767280" y="2010960"/>
                  <a:ext cx="61200" cy="6840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 rot="20233800">
                  <a:off x="6861600" y="1974960"/>
                  <a:ext cx="39240" cy="5292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 rot="20233800">
                  <a:off x="6733440" y="2004480"/>
                  <a:ext cx="99360" cy="11160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 rot="20233800">
                  <a:off x="6854040" y="1951200"/>
                  <a:ext cx="87120" cy="7416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 rot="20233800">
                  <a:off x="6705000" y="2061360"/>
                  <a:ext cx="35280" cy="6984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 rot="20233800">
                  <a:off x="6922080" y="1919880"/>
                  <a:ext cx="75600" cy="9144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 rot="20233800">
                  <a:off x="6881040" y="2062440"/>
                  <a:ext cx="25560" cy="5508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 rot="20233800">
                  <a:off x="6855120" y="2043000"/>
                  <a:ext cx="12960" cy="277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 rot="20233800">
                  <a:off x="6834600" y="2028960"/>
                  <a:ext cx="11520" cy="1584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 rot="20233800">
                  <a:off x="6819480" y="2020320"/>
                  <a:ext cx="15840" cy="1044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 rot="20233800">
                  <a:off x="6753600" y="2021400"/>
                  <a:ext cx="60840" cy="6912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 rot="20233800">
                  <a:off x="6847920" y="1985400"/>
                  <a:ext cx="39240" cy="5364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 rot="20233800">
                  <a:off x="6719040" y="2016000"/>
                  <a:ext cx="99360" cy="11196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 rot="20233800">
                  <a:off x="6840360" y="1962000"/>
                  <a:ext cx="86760" cy="745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 rot="20233800">
                  <a:off x="6696000" y="2076840"/>
                  <a:ext cx="35280" cy="6984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 rot="20233800">
                  <a:off x="6908400" y="1931040"/>
                  <a:ext cx="75600" cy="9144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18" name=""/>
            <p:cNvGrpSpPr/>
            <p:nvPr/>
          </p:nvGrpSpPr>
          <p:grpSpPr>
            <a:xfrm>
              <a:off x="6626880" y="2401920"/>
              <a:ext cx="740880" cy="748080"/>
              <a:chOff x="6626880" y="2401920"/>
              <a:chExt cx="740880" cy="748080"/>
            </a:xfrm>
          </p:grpSpPr>
          <p:grpSp>
            <p:nvGrpSpPr>
              <p:cNvPr id="2219" name=""/>
              <p:cNvGrpSpPr/>
              <p:nvPr/>
            </p:nvGrpSpPr>
            <p:grpSpPr>
              <a:xfrm>
                <a:off x="6652080" y="2427480"/>
                <a:ext cx="715680" cy="722520"/>
                <a:chOff x="6652080" y="2427480"/>
                <a:chExt cx="715680" cy="722520"/>
              </a:xfrm>
            </p:grpSpPr>
            <p:sp>
              <p:nvSpPr>
                <p:cNvPr id="2220" name=""/>
                <p:cNvSpPr/>
                <p:nvPr/>
              </p:nvSpPr>
              <p:spPr>
                <a:xfrm rot="18900000">
                  <a:off x="6811920" y="3007440"/>
                  <a:ext cx="88200" cy="12348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 rot="18900000">
                  <a:off x="6690240" y="2951280"/>
                  <a:ext cx="150120" cy="17064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 rot="19619400">
                  <a:off x="7237080" y="2603520"/>
                  <a:ext cx="32040" cy="4752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 rot="19619400">
                  <a:off x="7247880" y="2607120"/>
                  <a:ext cx="7200" cy="828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 rot="19619400">
                  <a:off x="7312680" y="2643120"/>
                  <a:ext cx="46080" cy="4500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rot="19619400">
                  <a:off x="6963840" y="2853720"/>
                  <a:ext cx="90720" cy="12672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rot="19619400">
                  <a:off x="6993360" y="2895480"/>
                  <a:ext cx="31680" cy="4356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rot="19619400">
                  <a:off x="7162200" y="2652840"/>
                  <a:ext cx="90720" cy="12672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 rot="19619400">
                  <a:off x="7191360" y="2694960"/>
                  <a:ext cx="32040" cy="4428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rot="18900000">
                  <a:off x="6695280" y="2589480"/>
                  <a:ext cx="578880" cy="28908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 rot="19619400">
                  <a:off x="7209720" y="2561760"/>
                  <a:ext cx="14400" cy="3672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 rot="19619400">
                  <a:off x="6867000" y="2984400"/>
                  <a:ext cx="29880" cy="3492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rot="19619400">
                  <a:off x="7226640" y="2612880"/>
                  <a:ext cx="34200" cy="3528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 rot="18900000">
                  <a:off x="6734160" y="2600280"/>
                  <a:ext cx="507960" cy="25236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 rot="19619400">
                  <a:off x="6901200" y="2639160"/>
                  <a:ext cx="95040" cy="7164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 rot="19619400">
                  <a:off x="6846840" y="2706840"/>
                  <a:ext cx="69840" cy="7632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6" name=""/>
              <p:cNvGrpSpPr/>
              <p:nvPr/>
            </p:nvGrpSpPr>
            <p:grpSpPr>
              <a:xfrm>
                <a:off x="6626880" y="2401920"/>
                <a:ext cx="297720" cy="360000"/>
                <a:chOff x="6626880" y="2401920"/>
                <a:chExt cx="297720" cy="360000"/>
              </a:xfrm>
            </p:grpSpPr>
            <p:sp>
              <p:nvSpPr>
                <p:cNvPr id="2237" name=""/>
                <p:cNvSpPr/>
                <p:nvPr/>
              </p:nvSpPr>
              <p:spPr>
                <a:xfrm flipH="1" rot="17685000">
                  <a:off x="6760080" y="2481120"/>
                  <a:ext cx="66960" cy="896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 flipH="1" rot="17685000">
                  <a:off x="6717960" y="2579760"/>
                  <a:ext cx="43200" cy="6948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 flipH="1" rot="17685000">
                  <a:off x="6757920" y="2437200"/>
                  <a:ext cx="108720" cy="14580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 flipH="1" rot="17685000">
                  <a:off x="6676200" y="2582640"/>
                  <a:ext cx="95400" cy="9720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 flipH="1" rot="17685000">
                  <a:off x="6836400" y="2400120"/>
                  <a:ext cx="38520" cy="9180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 flipH="1" rot="17685000">
                  <a:off x="6657120" y="2639160"/>
                  <a:ext cx="82800" cy="11952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 flipH="1" rot="17685000">
                  <a:off x="6839280" y="2603880"/>
                  <a:ext cx="28080" cy="7236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 flipH="1" rot="17685000">
                  <a:off x="6802920" y="2580120"/>
                  <a:ext cx="14400" cy="367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 flipH="1" rot="17685000">
                  <a:off x="6777720" y="2562120"/>
                  <a:ext cx="12600" cy="2088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 flipH="1" rot="17685000">
                  <a:off x="6760800" y="2549520"/>
                  <a:ext cx="17280" cy="1332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 flipH="1" rot="17685000">
                  <a:off x="6773040" y="2465640"/>
                  <a:ext cx="66600" cy="9036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 flipH="1" rot="17685000">
                  <a:off x="6732000" y="2564640"/>
                  <a:ext cx="43200" cy="7056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 flipH="1" rot="17685000">
                  <a:off x="6771960" y="2422800"/>
                  <a:ext cx="108720" cy="14652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flipH="1" rot="17685000">
                  <a:off x="6690240" y="2567880"/>
                  <a:ext cx="95040" cy="979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 flipH="1" rot="17685000">
                  <a:off x="6855480" y="2392560"/>
                  <a:ext cx="38520" cy="9180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 flipH="1" rot="17685000">
                  <a:off x="6670800" y="2625120"/>
                  <a:ext cx="82800" cy="11952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53" name=""/>
            <p:cNvGrpSpPr/>
            <p:nvPr/>
          </p:nvGrpSpPr>
          <p:grpSpPr>
            <a:xfrm>
              <a:off x="3750120" y="4798800"/>
              <a:ext cx="686160" cy="444960"/>
              <a:chOff x="3750120" y="4798800"/>
              <a:chExt cx="686160" cy="444960"/>
            </a:xfrm>
          </p:grpSpPr>
          <p:sp>
            <p:nvSpPr>
              <p:cNvPr id="2254" name=""/>
              <p:cNvSpPr/>
              <p:nvPr/>
            </p:nvSpPr>
            <p:spPr>
              <a:xfrm rot="20468400">
                <a:off x="3926520" y="4980600"/>
                <a:ext cx="126000" cy="13248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rot="20468400">
                <a:off x="4126320" y="491724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rot="20468400">
                <a:off x="3853800" y="4967280"/>
                <a:ext cx="204120" cy="21600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rot="20468400">
                <a:off x="4113000" y="4873320"/>
                <a:ext cx="178920" cy="14364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rot="20468400">
                <a:off x="3790440" y="5071320"/>
                <a:ext cx="72720" cy="13572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rot="20468400">
                <a:off x="4255560" y="4818960"/>
                <a:ext cx="155880" cy="1771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rot="20468400">
                <a:off x="4151160" y="5089320"/>
                <a:ext cx="52560" cy="10692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rot="20468400">
                <a:off x="4102920" y="5048280"/>
                <a:ext cx="27000" cy="536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rot="20468400">
                <a:off x="4065480" y="5019480"/>
                <a:ext cx="23400" cy="3096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rot="20468400">
                <a:off x="4035960" y="5000400"/>
                <a:ext cx="32400" cy="2016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rot="20468400">
                <a:off x="3895920" y="500004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20468400">
                <a:off x="4095720" y="4936680"/>
                <a:ext cx="81000" cy="10404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20468400">
                <a:off x="3823560" y="4987080"/>
                <a:ext cx="204480" cy="21672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20468400">
                <a:off x="4082760" y="4893480"/>
                <a:ext cx="178200" cy="14400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20468400">
                <a:off x="3769920" y="5100480"/>
                <a:ext cx="72720" cy="13500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20468400">
                <a:off x="4225680" y="4839840"/>
                <a:ext cx="155160" cy="1771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0" name=""/>
            <p:cNvGrpSpPr/>
            <p:nvPr/>
          </p:nvGrpSpPr>
          <p:grpSpPr>
            <a:xfrm>
              <a:off x="3322080" y="4100400"/>
              <a:ext cx="553680" cy="399600"/>
              <a:chOff x="3322080" y="4100400"/>
              <a:chExt cx="553680" cy="399600"/>
            </a:xfrm>
          </p:grpSpPr>
          <p:sp>
            <p:nvSpPr>
              <p:cNvPr id="2271" name=""/>
              <p:cNvSpPr/>
              <p:nvPr/>
            </p:nvSpPr>
            <p:spPr>
              <a:xfrm rot="20468400">
                <a:off x="3463560" y="4253040"/>
                <a:ext cx="100800" cy="13248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20468400">
                <a:off x="3622320" y="4202640"/>
                <a:ext cx="64800" cy="1029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20468400">
                <a:off x="3406680" y="4236840"/>
                <a:ext cx="163080" cy="21600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20468400">
                <a:off x="3610800" y="4160880"/>
                <a:ext cx="143280" cy="14364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20468400">
                <a:off x="3357000" y="4331880"/>
                <a:ext cx="58320" cy="13572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20468400">
                <a:off x="3726000" y="4115520"/>
                <a:ext cx="124560" cy="1771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20468400">
                <a:off x="3652920" y="4371480"/>
                <a:ext cx="42120" cy="10692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20468400">
                <a:off x="3609000" y="4328280"/>
                <a:ext cx="21600" cy="536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20468400">
                <a:off x="3575880" y="4297680"/>
                <a:ext cx="18720" cy="3096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20468400">
                <a:off x="3550680" y="4277520"/>
                <a:ext cx="25920" cy="2016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20468400">
                <a:off x="3440160" y="4270320"/>
                <a:ext cx="100080" cy="13428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20468400">
                <a:off x="3598920" y="4219560"/>
                <a:ext cx="64800" cy="10404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20468400">
                <a:off x="3382920" y="4254840"/>
                <a:ext cx="163440" cy="21672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20468400">
                <a:off x="3587760" y="4178880"/>
                <a:ext cx="142560" cy="14400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20468400">
                <a:off x="3342240" y="4358880"/>
                <a:ext cx="58320" cy="13500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20468400">
                <a:off x="3702600" y="4133880"/>
                <a:ext cx="124200" cy="1771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volution of Number of Subscriber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288" name="GSM-SubscribersFeb01" descr=""/>
          <p:cNvPicPr/>
          <p:nvPr/>
        </p:nvPicPr>
        <p:blipFill>
          <a:blip r:embed="rId1"/>
          <a:stretch/>
        </p:blipFill>
        <p:spPr>
          <a:xfrm>
            <a:off x="0" y="1487520"/>
            <a:ext cx="5029200" cy="2811600"/>
          </a:xfrm>
          <a:prstGeom prst="rect">
            <a:avLst/>
          </a:prstGeom>
          <a:ln w="0">
            <a:noFill/>
          </a:ln>
        </p:spPr>
      </p:pic>
      <p:pic>
        <p:nvPicPr>
          <p:cNvPr id="2289" name="GSM-SubscribersDec00" descr=""/>
          <p:cNvPicPr/>
          <p:nvPr/>
        </p:nvPicPr>
        <p:blipFill>
          <a:blip r:embed="rId2"/>
          <a:stretch/>
        </p:blipFill>
        <p:spPr>
          <a:xfrm>
            <a:off x="4800600" y="1608120"/>
            <a:ext cx="3809880" cy="2498760"/>
          </a:xfrm>
          <a:prstGeom prst="rect">
            <a:avLst/>
          </a:prstGeom>
          <a:ln w="0">
            <a:noFill/>
          </a:ln>
        </p:spPr>
      </p:pic>
      <p:sp>
        <p:nvSpPr>
          <p:cNvPr id="2290" name=""/>
          <p:cNvSpPr/>
          <p:nvPr/>
        </p:nvSpPr>
        <p:spPr>
          <a:xfrm>
            <a:off x="377640" y="5005440"/>
            <a:ext cx="61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from Sourc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C World Cellular Database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ww.emc-database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M World Association (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gsm.or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gsmworld.com/membership/ass_sub_sta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5563800" y="393876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SM subscri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294120" y="416736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ellular subscribers (analogue, CDMA, GSM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236520" y="4578480"/>
            <a:ext cx="790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ch 2003: Total(1.160B), GSM (825M), US: Total: 140M, CDMA: 6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ireless Communic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wireless communic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frequency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dustrial, Scientific and Medical frequency 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versus Mob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we have wired-mobile node or wireless-fixed no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6" name=""/>
          <p:cNvGrpSpPr/>
          <p:nvPr/>
        </p:nvGrpSpPr>
        <p:grpSpPr>
          <a:xfrm>
            <a:off x="44280" y="2948040"/>
            <a:ext cx="8902440" cy="2039760"/>
            <a:chOff x="44280" y="2948040"/>
            <a:chExt cx="8902440" cy="2039760"/>
          </a:xfrm>
        </p:grpSpPr>
        <p:sp>
          <p:nvSpPr>
            <p:cNvPr id="2297" name=""/>
            <p:cNvSpPr/>
            <p:nvPr/>
          </p:nvSpPr>
          <p:spPr>
            <a:xfrm>
              <a:off x="44280" y="3758760"/>
              <a:ext cx="826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 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58280" y="3585600"/>
              <a:ext cx="845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74264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29392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51792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96664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19100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841500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06956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35356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5828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80228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68084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90520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12920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57792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215000" y="3758760"/>
              <a:ext cx="91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 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 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478960" y="3758760"/>
              <a:ext cx="82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3668400" y="3758760"/>
              <a:ext cx="89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840920" y="3758760"/>
              <a:ext cx="99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 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104880" y="3758760"/>
              <a:ext cx="91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T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279200" y="3758760"/>
              <a:ext cx="99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 T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7503480" y="4680720"/>
              <a:ext cx="117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isible l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58280" y="4380120"/>
              <a:ext cx="84535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74264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29392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51792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6664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19100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841500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06956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35356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5828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80228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68084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0520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12920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57792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820800" y="4608720"/>
              <a:ext cx="55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L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826280" y="46087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411640" y="4608720"/>
              <a:ext cx="48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981880" y="460872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576600" y="46087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169520" y="4608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829400" y="46087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425200" y="46087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360840" y="46087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ra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8519040" y="46087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45" name=""/>
            <p:cNvCxnSpPr>
              <a:stCxn id="2329" idx="0"/>
              <a:endCxn id="2331" idx="0"/>
            </p:cNvCxnSpPr>
            <p:nvPr/>
          </p:nvCxnSpPr>
          <p:spPr>
            <a:xfrm>
              <a:off x="457920" y="4585680"/>
              <a:ext cx="1222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46" name=""/>
            <p:cNvCxnSpPr>
              <a:stCxn id="2331" idx="1"/>
              <a:endCxn id="2322" idx="0"/>
            </p:cNvCxnSpPr>
            <p:nvPr/>
          </p:nvCxnSpPr>
          <p:spPr>
            <a:xfrm>
              <a:off x="1680480" y="458568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47" name=""/>
            <p:cNvCxnSpPr>
              <a:stCxn id="2322" idx="1"/>
              <a:endCxn id="2332" idx="0"/>
            </p:cNvCxnSpPr>
            <p:nvPr/>
          </p:nvCxnSpPr>
          <p:spPr>
            <a:xfrm>
              <a:off x="2293560" y="4585680"/>
              <a:ext cx="61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48" name=""/>
            <p:cNvCxnSpPr>
              <a:stCxn id="2332" idx="1"/>
              <a:endCxn id="2323" idx="0"/>
            </p:cNvCxnSpPr>
            <p:nvPr/>
          </p:nvCxnSpPr>
          <p:spPr>
            <a:xfrm>
              <a:off x="2905200" y="458568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49" name=""/>
            <p:cNvCxnSpPr>
              <a:stCxn id="2323" idx="1"/>
              <a:endCxn id="2333" idx="0"/>
            </p:cNvCxnSpPr>
            <p:nvPr/>
          </p:nvCxnSpPr>
          <p:spPr>
            <a:xfrm>
              <a:off x="3517560" y="4585680"/>
              <a:ext cx="61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0" name=""/>
            <p:cNvCxnSpPr>
              <a:stCxn id="2333" idx="1"/>
              <a:endCxn id="2321" idx="0"/>
            </p:cNvCxnSpPr>
            <p:nvPr/>
          </p:nvCxnSpPr>
          <p:spPr>
            <a:xfrm>
              <a:off x="4128840" y="458568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1" name=""/>
            <p:cNvCxnSpPr>
              <a:stCxn id="2321" idx="1"/>
              <a:endCxn id="2328" idx="0"/>
            </p:cNvCxnSpPr>
            <p:nvPr/>
          </p:nvCxnSpPr>
          <p:spPr>
            <a:xfrm>
              <a:off x="4742280" y="4585680"/>
              <a:ext cx="61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2" name=""/>
            <p:cNvCxnSpPr>
              <a:stCxn id="2328" idx="1"/>
              <a:endCxn id="2324" idx="0"/>
            </p:cNvCxnSpPr>
            <p:nvPr/>
          </p:nvCxnSpPr>
          <p:spPr>
            <a:xfrm>
              <a:off x="5353560" y="458568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3" name=""/>
            <p:cNvCxnSpPr>
              <a:stCxn id="2324" idx="1"/>
              <a:endCxn id="2354" idx="0"/>
            </p:cNvCxnSpPr>
            <p:nvPr/>
          </p:nvCxnSpPr>
          <p:spPr>
            <a:xfrm>
              <a:off x="5966640" y="4585680"/>
              <a:ext cx="187776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55" name=""/>
            <p:cNvSpPr/>
            <p:nvPr/>
          </p:nvSpPr>
          <p:spPr>
            <a:xfrm>
              <a:off x="8180280" y="4464360"/>
              <a:ext cx="144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843680" y="444312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57" name=""/>
            <p:cNvCxnSpPr>
              <a:stCxn id="2356" idx="1"/>
              <a:endCxn id="2355" idx="0"/>
            </p:cNvCxnSpPr>
            <p:nvPr/>
          </p:nvCxnSpPr>
          <p:spPr>
            <a:xfrm>
              <a:off x="7843320" y="4587120"/>
              <a:ext cx="338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8" name=""/>
            <p:cNvCxnSpPr>
              <a:endCxn id="2355" idx="1"/>
            </p:cNvCxnSpPr>
            <p:nvPr/>
          </p:nvCxnSpPr>
          <p:spPr>
            <a:xfrm flipH="1" flipV="1">
              <a:off x="8181360" y="4587120"/>
              <a:ext cx="75492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9" name=""/>
            <p:cNvCxnSpPr>
              <a:stCxn id="2307" idx="0"/>
            </p:cNvCxnSpPr>
            <p:nvPr/>
          </p:nvCxnSpPr>
          <p:spPr>
            <a:xfrm>
              <a:off x="458280" y="3380760"/>
              <a:ext cx="350928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60" name=""/>
            <p:cNvSpPr/>
            <p:nvPr/>
          </p:nvSpPr>
          <p:spPr>
            <a:xfrm>
              <a:off x="1069560" y="32364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129200" y="32364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2" name=""/>
            <p:cNvCxnSpPr>
              <a:stCxn id="2360" idx="0"/>
            </p:cNvCxnSpPr>
            <p:nvPr/>
          </p:nvCxnSpPr>
          <p:spPr>
            <a:xfrm>
              <a:off x="1069200" y="3236400"/>
              <a:ext cx="34196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63" name=""/>
            <p:cNvCxnSpPr/>
            <p:nvPr/>
          </p:nvCxnSpPr>
          <p:spPr>
            <a:xfrm>
              <a:off x="7668720" y="3380760"/>
              <a:ext cx="58068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64" name=""/>
            <p:cNvSpPr/>
            <p:nvPr/>
          </p:nvSpPr>
          <p:spPr>
            <a:xfrm>
              <a:off x="7085160" y="3021480"/>
              <a:ext cx="175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tical transmi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933560" y="2948040"/>
              <a:ext cx="10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ax c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27080" y="2948040"/>
              <a:ext cx="101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wisted pa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7" name=""/>
            <p:cNvCxnSpPr>
              <a:stCxn id="2303" idx="0"/>
              <a:endCxn id="2325" idx="0"/>
            </p:cNvCxnSpPr>
            <p:nvPr/>
          </p:nvCxnSpPr>
          <p:spPr>
            <a:xfrm>
              <a:off x="7190640" y="3791520"/>
              <a:ext cx="1080" cy="38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68" name=""/>
            <p:cNvSpPr/>
            <p:nvPr/>
          </p:nvSpPr>
          <p:spPr>
            <a:xfrm flipH="1">
              <a:off x="147960" y="4581720"/>
              <a:ext cx="331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H="1">
              <a:off x="127080" y="3381120"/>
              <a:ext cx="331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ttributes of Wireless &amp; Mobile Communication Syste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130320" y="1412640"/>
            <a:ext cx="853416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bandwidth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equencies have to be coordinated, useful frequencies are almost all occup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cast medium: requires efficient access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 link quality (noise, disconnection, interfere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latency, higher jitter (cellula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 setup time:  several hundred milliseco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/bit interlea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terogeneous air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: easier snoo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and terminal location is a dynamic system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ed of mobile impact wireless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: easier spoof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abi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battery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storag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all dimensions (limited user interfac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assification of Wireless Personal Communic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151920" y="1488960"/>
            <a:ext cx="853452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ity sc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a house or building: cordless telephone, W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a campus, city: (cellular radio, WLAN, wide area wireless data, radio paging, extended cordl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out the world: cellular radio, paging, satellite-based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m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way 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through all-IP networks and voice-over-IP with multiple physical lay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ireless Systems: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st, Present and Fu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85800" y="207000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95520" y="4392720"/>
            <a:ext cx="1870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reless Area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85800" y="292752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85800" y="350028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d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685800" y="506412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2933640" y="506412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313240" y="506412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2933640" y="187956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2933640" y="232560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2933640" y="423540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2933640" y="468144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933640" y="277164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2933640" y="3216240"/>
            <a:ext cx="16509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PA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2933640" y="375588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d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5257800" y="1523880"/>
            <a:ext cx="1650960" cy="33732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tell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5313240" y="210024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-tier 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5378400" y="362916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-tier 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flipV="1">
            <a:off x="2338560" y="194292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2338560" y="2262240"/>
            <a:ext cx="59508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2338560" y="315288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 flipV="1">
            <a:off x="2338560" y="2835000"/>
            <a:ext cx="59508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2338560" y="3598920"/>
            <a:ext cx="59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338560" y="372600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2338560" y="4618080"/>
            <a:ext cx="59508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 flipV="1">
            <a:off x="2338560" y="429876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2338560" y="5191200"/>
            <a:ext cx="59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4584600" y="5191200"/>
            <a:ext cx="72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4584600" y="2006640"/>
            <a:ext cx="728640" cy="25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4584600" y="2452680"/>
            <a:ext cx="793800" cy="12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584600" y="2898720"/>
            <a:ext cx="793800" cy="82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584600" y="3471840"/>
            <a:ext cx="793800" cy="3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 flipV="1">
            <a:off x="4584600" y="3854520"/>
            <a:ext cx="793800" cy="6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5180040" y="2006640"/>
            <a:ext cx="1982880" cy="2038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5257800" y="5715000"/>
            <a:ext cx="1752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so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5243400" y="3560760"/>
            <a:ext cx="1982880" cy="1943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7306200" y="42688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hot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7361640" y="25812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el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3:54:47Z</dcterms:created>
  <dc:creator>TestUser</dc:creator>
  <dc:description/>
  <dc:language>en-US</dc:language>
  <cp:lastModifiedBy>G. Noubir</cp:lastModifiedBy>
  <dcterms:modified xsi:type="dcterms:W3CDTF">2003-03-25T00:17:53Z</dcterms:modified>
  <cp:revision>767</cp:revision>
  <dc:subject/>
  <dc:title>Computer Networks: Theory, Modeling, and Analysis</dc:title>
</cp:coreProperties>
</file>