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314120-E75D-45A4-9F4A-5229DB6B3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ce: A transmitter produces 50W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 in dBm: 47dBm, in dBW: 17dB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 at 100m: -24.5dBm, at 10km: -64.5dBm? (40dB diffe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actic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computed from meas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 in Tokyo area by Okum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se models use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s on building height, number of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F single floor, MF: multiple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BER and understand how the BER varies =&gt; fa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ired network we try to understand the reasons fo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take an IEEE802.11 card you can always monitor the SNR from the config soft. You don’t have that for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c/f =&gt; 10Km, 1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f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Maxwell electro-magnet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10cm for 3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ttering used in rad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on a valley/highway/cells is not very usef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of radiated power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iller Dipo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antenn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orized antenn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use dBi or d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i0, L, th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electric field you can get the power density =&gt; voltage applied to your antenna =&gt; received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s is the intrinsic impedence of free space = 120pi = 3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3 (Vant, R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ce: find the far field distance for an antenna with maximum dimension 1m at f=900MHz =&gt; 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1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2, </a:t>
            </a:r>
            <a:fld id="{E09DFC21-B7A4-43EB-873D-8567CC70D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Network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dio Propa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Space L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 = Path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 (dB) = 10 lo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reference measure is available at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ar-fiel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dB loss every time the distance is dou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-2GHz are 1m for indoor and 100m-1Km for out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287960" y="1936800"/>
                <a:ext cx="16491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π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95640" y="3524400"/>
                <a:ext cx="4144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B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t xml:space="preserve">W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73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factors in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lute signal level, external noise, internal noise (tx/rx eq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capacity depends on Signal Noise Ratio S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F (upto 30MH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ise in the propagation medium predo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VHF (from 30MHz - abov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 and Rx noise (amplification at receiver) predomin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 of external noise: galactic, atmospheric,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ssive load induces no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k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k = 1.38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emperature (290K), B: band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anten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k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lactic: from sun and stars (15MHz to 100MH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ospheric due to lightening (significant for frequencies below 20MH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 made noise: power lines, industrial equipment and machinery, fluorescent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dio Propa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scale path loss + small-scale f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scale path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door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di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into account terrain profile (e.g., mountains, hills, large building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oor propagation (inside build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s covered are much smaller and the environment is mor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ing interest due to PCS and 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ied as line-of-sight (LOS) or obstructed (O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-scale fading: multi-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Loss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-distance path loss model: average path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-normal shadowing (signal level at a specific distance have Gaussian distrib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9440" y="2111400"/>
                <a:ext cx="3494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3870360" y="2135160"/>
            <a:ext cx="4074840" cy="2125800"/>
            <a:chOff x="3870360" y="2135160"/>
            <a:chExt cx="4074840" cy="2125800"/>
          </a:xfrm>
        </p:grpSpPr>
        <p:grpSp>
          <p:nvGrpSpPr>
            <p:cNvPr id="86" name=""/>
            <p:cNvGrpSpPr/>
            <p:nvPr/>
          </p:nvGrpSpPr>
          <p:grpSpPr>
            <a:xfrm>
              <a:off x="3875400" y="2137320"/>
              <a:ext cx="4063320" cy="2121120"/>
              <a:chOff x="3875400" y="2137320"/>
              <a:chExt cx="4063320" cy="21211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875400" y="2137320"/>
                <a:ext cx="2126520" cy="302760"/>
                <a:chOff x="3875400" y="2137320"/>
                <a:chExt cx="2126520" cy="30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875400" y="21373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3875400" y="2137320"/>
                  <a:ext cx="2126160" cy="302760"/>
                  <a:chOff x="3875400" y="2137320"/>
                  <a:chExt cx="2126160" cy="3027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3953880" y="21373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nviron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875400" y="21373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" name=""/>
              <p:cNvGrpSpPr/>
              <p:nvPr/>
            </p:nvGrpSpPr>
            <p:grpSpPr>
              <a:xfrm>
                <a:off x="6002280" y="2137320"/>
                <a:ext cx="1936440" cy="302760"/>
                <a:chOff x="6002280" y="2137320"/>
                <a:chExt cx="1936440" cy="302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080760" y="21373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th Loss Exponent 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002280" y="21373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3875400" y="2440080"/>
                <a:ext cx="2126520" cy="302760"/>
                <a:chOff x="3875400" y="2440080"/>
                <a:chExt cx="2126520" cy="302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875400" y="244008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3875400" y="2440080"/>
                  <a:ext cx="2126160" cy="302760"/>
                  <a:chOff x="3875400" y="2440080"/>
                  <a:chExt cx="2126160" cy="3027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953880" y="244008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ree sp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875400" y="244008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6002280" y="2440080"/>
                <a:ext cx="1936440" cy="302760"/>
                <a:chOff x="6002280" y="2440080"/>
                <a:chExt cx="1936440" cy="302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080760" y="244008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002280" y="244008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875400" y="2743200"/>
                <a:ext cx="2126520" cy="302760"/>
                <a:chOff x="3875400" y="2743200"/>
                <a:chExt cx="2126520" cy="3027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875400" y="274320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" name=""/>
                <p:cNvGrpSpPr/>
                <p:nvPr/>
              </p:nvGrpSpPr>
              <p:grpSpPr>
                <a:xfrm>
                  <a:off x="3875400" y="2743200"/>
                  <a:ext cx="2126160" cy="302760"/>
                  <a:chOff x="3875400" y="2743200"/>
                  <a:chExt cx="2126160" cy="3027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3953880" y="274320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Urban area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875400" y="274320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6002280" y="2743200"/>
                <a:ext cx="1936440" cy="302760"/>
                <a:chOff x="6002280" y="2743200"/>
                <a:chExt cx="1936440" cy="302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080760" y="274320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7 to 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002280" y="274320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875400" y="3046320"/>
                <a:ext cx="2126520" cy="302760"/>
                <a:chOff x="3875400" y="3046320"/>
                <a:chExt cx="2126520" cy="302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875400" y="30463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875400" y="3046320"/>
                  <a:ext cx="2126160" cy="302760"/>
                  <a:chOff x="3875400" y="3046320"/>
                  <a:chExt cx="2126160" cy="3027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953880" y="30463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hadowed urban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875400" y="30463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6002280" y="3046320"/>
                <a:ext cx="1936440" cy="302760"/>
                <a:chOff x="6002280" y="3046320"/>
                <a:chExt cx="1936440" cy="3027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080760" y="30463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to 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002280" y="30463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875400" y="3349440"/>
                <a:ext cx="2126520" cy="303120"/>
                <a:chOff x="3875400" y="3349440"/>
                <a:chExt cx="2126520" cy="3031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875400" y="3349440"/>
                  <a:ext cx="2126520" cy="3031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3875400" y="3349440"/>
                  <a:ext cx="2126160" cy="303120"/>
                  <a:chOff x="3875400" y="3349440"/>
                  <a:chExt cx="2126160" cy="3031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3953880" y="3349440"/>
                    <a:ext cx="1968840" cy="30312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 building L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3875400" y="3349440"/>
                    <a:ext cx="2126160" cy="30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"/>
              <p:cNvGrpSpPr/>
              <p:nvPr/>
            </p:nvGrpSpPr>
            <p:grpSpPr>
              <a:xfrm>
                <a:off x="6002280" y="3349440"/>
                <a:ext cx="1936440" cy="303120"/>
                <a:chOff x="6002280" y="3349440"/>
                <a:chExt cx="1936440" cy="303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080760" y="3349440"/>
                  <a:ext cx="17794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to 1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002280" y="3349440"/>
                  <a:ext cx="19364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875400" y="3652560"/>
                <a:ext cx="2126520" cy="302760"/>
                <a:chOff x="3875400" y="3652560"/>
                <a:chExt cx="2126520" cy="302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875400" y="365256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3875400" y="3652560"/>
                  <a:ext cx="2126160" cy="302760"/>
                  <a:chOff x="3875400" y="3652560"/>
                  <a:chExt cx="2126160" cy="3027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3953880" y="365256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build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875400" y="365256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6002280" y="3652560"/>
                <a:ext cx="1936440" cy="302760"/>
                <a:chOff x="6002280" y="3652560"/>
                <a:chExt cx="1936440" cy="3027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080760" y="365256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to 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002280" y="365256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875400" y="3955680"/>
                <a:ext cx="2126520" cy="302760"/>
                <a:chOff x="3875400" y="3955680"/>
                <a:chExt cx="2126520" cy="3027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875400" y="395568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3875400" y="3955680"/>
                  <a:ext cx="2126160" cy="302760"/>
                  <a:chOff x="3875400" y="3955680"/>
                  <a:chExt cx="2126160" cy="3027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3953880" y="395568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factor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875400" y="395568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6002280" y="3955680"/>
                <a:ext cx="1936440" cy="302760"/>
                <a:chOff x="6002280" y="3955680"/>
                <a:chExt cx="1936440" cy="3027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080760" y="395568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to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002280" y="395568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3870360" y="2135160"/>
              <a:ext cx="4074840" cy="2125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15920" y="5487840"/>
                <a:ext cx="40878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494240" y="5473800"/>
                <a:ext cx="30240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Loss Models of Outd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umura-Hata empiric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150MHz to 1500 MHz. For urban ar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req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S heigh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obile heigh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S-MS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small to medium sized c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large c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uburban ar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rural ar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41360" y="2365200"/>
                <a:ext cx="8432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500120" y="3530520"/>
                <a:ext cx="5330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278000" y="4181400"/>
                <a:ext cx="62992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4952880"/>
                <a:ext cx="31273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514680" y="5700600"/>
                <a:ext cx="5052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Path Loss Mode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-COST Extension of Okumura-Hata to PCS (f&gt;1500MHz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dB (medium and suburban), 3dB (metropolit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fish and Bertoni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effect of diffraction on roof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2440" y="2476440"/>
                <a:ext cx="87724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Loss Models for Ind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807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losses (same floor with soft of hard part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estimation of path loss for each material at working 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losses between fl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estimates of 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sson Multiple breakpoint mod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reakpoints, range of path-loss: [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-distance path lo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pend on surrounding environment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 a normal random variable with standard deviatio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nuation factor model (average path l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FAF (dB) = P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s penetration: depends on building height, number of window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tracing using Geographical Information System (GIS)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5840" y="369720"/>
            <a:ext cx="806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all Scale Fading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path f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reflections from various objects: multiple path =&gt; multiple phase shi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strength may vary by as much as 30-40dB in hostile environments when the receiver moves by only a frac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change in signal strength over a small travel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frequency modulation due to varying Doppler shifts on different multi-path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dispersion (echoes) caused by multipath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all Scale Fading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propagation: multiple version of the signal with different shifts that may add or sub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of the mobile: the relative speed between the mobile and BS results in random frequency modulation due to different incidence angles of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of surround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bandwidth of the signal versus channel bandwidth (coherence bandwid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fading x short-term fadi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ture foc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propagation and anten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it important to learn about propagation and physical layer issu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ding 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pler shif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angle between the radio wave propagation axis and the mobile traj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crossing rate (LC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number of times per second that the signal envelope crosses the level in a positive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R and level crossing duration are important for estimating fading rate and duration =&gt; designing error control c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level)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Doppler shif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fade dur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398600" y="4881600"/>
                <a:ext cx="2496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ρ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476520" y="5091120"/>
                <a:ext cx="15512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t Error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Rate (BER): rate of bi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BER is very important: it determines the packet loss (Frame Error Rate: 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Rate is a function of the received energy per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path loss statistics allows to estimate the 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non’s Theorem (AWGN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hannel with a given SNR has maximum capac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g (1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N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exist a coding scheme that allows to achieve the channe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ib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73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bel Un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unit describing transmission gain (loss) and relative p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B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bels above or below 1W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BW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bels above or below 1Milliwat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Bm) = 10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1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10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ics of Radio-waves Propa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wave propag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waves: electromagnetic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 energy: electrical field (E) and magnetic field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and H are sinusoidal functions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gnal is attenuated and affected by the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the link between the guided part and the free space: coupl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pos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ssion: efficiently transform the electrical signal into radiated electromagnetic wave (radio/microwa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ption: efficiently accept the received radiated energy and convert it to an electrical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agation Me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wa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30KHz to 300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wave: travels in contact with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OfSight (LOS), Reflection, diffraction, scattering (buildings, hills, vege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inant propagation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ospheric wave: refraction (bending) in the low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ospheric: reflection on the ionosphere (upto 4000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sical Propagation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eived power is a combination of three physics mechanism [Rappaport96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: Occurs when a radio wave propagating in one medium impinges upon another medium: partial reflection + partial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 incident energy is ref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elect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partial reflection and partial transmission in the second 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raction: Occurs when the radio path is obstructed with a surface that has sharp irregularities (ed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: knife-edge and multiple knife-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ttering: Occurs when the medium consists of small objects (vs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cted energy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ug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rfaces is spread out (diffused) in all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urface is rough if: protuberance 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8 s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en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reference antenna (isotropic radiato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 in space radiating with equal power in al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with equal power are located on a sphere with the antenna in th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antennas exhibit directive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 omnidirectional (dipole) or directional (pencil b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 anten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pole (or Hertzian dipole) of leng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4 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 antennas may be more usefu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ver a highway, valley, satellite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enna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density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nna Gain (in dB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wrDirection/AllRadiatedPw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physical antenna effective ape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Isotropic Radiated Power: comp. to ref. 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Radiated Power: comp. to half-wave 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P = EIRP – 2.15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powe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03480" y="5219640"/>
                <a:ext cx="18050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antenna vs. directed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field (Fraunhofer regi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 beyond the far-field distanc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largest physical linear dimension of the ant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ole (in far-fiel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den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recei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16480" y="3094200"/>
                <a:ext cx="327312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82800" y="4525920"/>
                <a:ext cx="5626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RP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803680" y="5367240"/>
                <a:ext cx="3871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1-04-27T21:35:32Z</dcterms:modified>
  <cp:revision>830</cp:revision>
  <dc:subject/>
  <dc:title>Computer Networks: Theory, Modeling, and Analysis</dc:title>
</cp:coreProperties>
</file>